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4060-F478-4063-91E0-116F9110A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D12E-E9E8-4E77-9AC6-855BE0783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7B7C-977A-4CAB-9102-C4C4094E2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0D68-F538-47BC-863A-D2E14416F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3DE9-D527-42A9-8280-F41DDE953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7BEE-811F-4D51-963C-48DF7CA6B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5AF9-3851-4623-8BE6-168113203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3D0E-C708-4905-80FF-DD301FEB3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40D1-DFD3-441A-A9FC-C8249120F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D0B9-5B36-4238-B535-DC65A97CF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EF96-1B03-40CB-9F61-E621E0299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628F-1768-4D7E-9A80-C066F14B4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8F0B-10D1-472E-AF30-82D2B0417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C5D5-4670-4D8C-BCBE-8E52FED07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0B7B-9A97-4BB1-85FA-D599087DF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4D1C-4078-4A1E-A1DC-DA36645B6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BFD7-E357-464E-8956-78E396360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D4E0-029D-4AFA-B6DE-3C3089CD0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9B95-A5EE-4222-9D9D-FFB9DA62A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ABF5-2A37-4495-9BD8-F5E3C5A6D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816-9F7E-4DAE-B2D8-F8EFE0BF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08B-473C-451A-8686-A5D880D7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9F71B-5842-4097-BB1D-C99F1BD5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89542-366D-4FFC-B75D-F9A320B4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11A04-BA48-4023-B778-94C3106C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D55B0-6320-4896-8376-303ED7B2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B3E60-CF47-4BE3-9E38-ABD7F635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175FE-DFEF-409D-AD49-9FDE540D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4576E-C6F4-483F-8129-4DC66B41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1FC78-D1DA-4AC9-B861-A9A6429A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51864-1D48-4717-AC06-7997F0D8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9D3F3-61C1-47F1-9C37-FA02F766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76EB-5E26-4953-922E-BE83A6D2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FE103-7C04-4336-AF33-94A43477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0C055-6E89-4352-B9FF-48AA3B66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F010F-6A11-4C94-94C2-B236FCA1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7532C-782F-4FD6-8B03-E19B8F6E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B4D86-130E-445C-8718-D06C83A9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1674F-EEF0-4B9D-98FF-6F1BD8D7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A1474-9982-49CF-8EC1-3555D6CA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2080F-F134-4D4B-B7DF-02B818F3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B3259-4C5B-45B2-A96A-D6D5CAD8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BD1E5-40BD-4D82-B134-9A100CE3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2501-7B0F-446D-8316-D8AA1474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AE84E-0E1D-4881-8327-1F11558F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A693-27CD-4029-AFC8-C2BBA351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4213-2A69-4943-B0BD-2DBADB3A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F7AB-E0D9-4B72-A0DD-31FBF994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A391-D914-4AED-9EDC-52E5BE69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991D-9362-4BDB-872B-A784D9CF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21E6-1EA6-4971-BE6F-D6B3958C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D093-4C9B-4D6A-9155-6A314229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42B-AAAE-48C3-B6CB-0E9086A2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93CF-28E8-4B0F-8CCD-325135DB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4D14-824A-426E-B922-38A04E19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4275-6071-4E62-A7AF-DAC13AB8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0939-7C30-40D1-B2F8-AD4F06BA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7A9C-8F54-4DEA-99DC-59000D8E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07B2D-68D0-4DD7-9BF4-02F1F594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8CAB0-180B-4D36-A7F9-AFD450A4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EB6B7-339C-429E-8991-A2E347CB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0D887-846C-4F53-AF24-42CFEACD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898CD-CCDE-478F-ABFB-C8C05471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785-E7E0-4197-A5CD-8F04A8FF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A1F64-7382-49B8-A3CC-B1548DB4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E9B44-98F7-475E-A741-126E654B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3A129-1523-469E-9320-264DDC25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E6091-E22A-4556-A794-A68E06A2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4B88C-28FD-46A3-A91B-F0787FD8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0B9F8-5952-4D4A-BB4F-3D179542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C511A-4947-4C8E-8537-AC43781E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FF149-1839-4982-9464-9BDD3A05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9A4BB-9F21-41FB-89AE-4B1088F6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1DB28-DD1D-464D-8FEC-66DC5D16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76F-5CCC-45D3-9EA1-B27FB4C4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2A47A-DDB4-4DF7-94C4-F43EB7E4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EB253-22D7-4704-8BDA-1C84F2A8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EBF18-8990-46EA-919F-B688EFC5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B3F35-8170-41CD-AA8B-DFC54374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092AF-7B24-463F-A59A-CF3ED1A1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E1681-AE7A-43CB-B093-2A4B367C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C43EA-05FD-4126-BC52-BCF8DFC3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86B87-A276-481B-8E01-41CA6030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6DB48-7BC0-4FF7-BE4B-7989C249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BD33F-AEE3-4131-881A-917CC4D6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403-5786-46B2-B799-D8A69D42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74989-E502-4A1E-82EA-A1A7BBF4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97366-E468-400A-961D-62CEE7B1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BB067-3724-412E-88DC-58EFEB5F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95FCF-2DD8-4327-8375-A53972EF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C3CF3-C9B1-4DCC-9DA1-9EEA228C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C5EE0-77CF-4B29-A874-BDCE8E5E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A535E-9E73-4678-8A3D-46622C0C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C6E36-2B4E-4DC3-894C-88600F40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8D586-CB99-46A4-ACBD-38B65CF7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37A9E-D4BF-4C64-8243-9331A6B1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A80C-A23D-42C2-A3AE-6731306F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5ADE6-6C55-4DAD-B8D3-85C45337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9703F-A7A5-4434-B705-B4D64D72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9DAEB-459C-481B-9DC2-6BA69795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BE37B-837D-43CD-AA09-B12B380E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98FF6-4EF6-4DEF-BAD7-35635FE2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F338B-1D6F-45FE-9CF4-F4FEBBAA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6CEEF-4142-4362-9864-5A4C59EE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9E728-CCCF-49FC-AAA6-A921D168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5C5B2-96C3-49BB-B33F-D9230243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759AE-5AD4-443E-B946-D3A59328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0A3-A200-4FB4-B93F-FF2B834C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582E5-FA53-4946-8D73-3A16A6D5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9FDDA-A82C-4F8B-9570-5DD5DC23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2E2DD-03E9-4281-8FA7-69A2E56C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D07DB-E829-46DA-8FC4-B54A0541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7D640-2854-46B2-A4D7-CD385B6C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7BD86-5B18-4D2C-A6A0-002C5F96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DD4AF-1F05-4AFD-B41D-F6CCA65D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9E44C-D5B8-4836-B8EC-E28B3450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0B061-6D65-4BC4-A03F-6E774DEB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25462-A417-4B5F-8540-0152CD2E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B1B-7010-4310-A31C-2B7E517F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7631A-58F8-4531-9064-007C7A54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1CB99-DDA7-4D7D-ACDD-46E935CA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8E750-55C4-471E-A564-07E586CA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5D0F9-6543-4E61-A68C-D15701BE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972D7-41D3-491B-89D9-F918C33C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C3492-2247-44A5-B3B7-C324467D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10F14-3B2D-4F4F-8B5D-3D205B2B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220D1-02D8-41BD-A386-5E6E5B6B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4C015-F87F-4F93-B91A-562FB58F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77C49-328F-426A-851C-C55DD84F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2675-6474-4E8A-8DCF-4A16F50B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DB06A-C7E8-43E5-8A93-5C6304CB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E49D9-00AB-42E2-9CD2-A2248C3F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711E0-7FEA-4108-A7CB-6CE73622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D0F11-E8A9-41A5-A7A2-88815809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70407-1BD2-4C25-8533-FAF51508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7F172-1B7A-4871-9D7C-87CE9372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F7F98-FED2-457B-882D-C2CB367C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3FF7B-1C86-4EE3-B3BA-13775C30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DA7A5-94EB-4797-A145-2F2D0D50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91F92-7757-42A0-A52B-E9CE9AD4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011C-A21C-408A-B8C0-125065814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Untitled-2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8346-AB4E-4A6F-819A-512410B89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B9C4-B54C-44A1-82C1-9BC04B66D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B919-8F4A-4888-BA32-B57C8C951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C006-F86C-4331-A6D3-F0D97F7FC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61A4-2F0E-4CFF-96A9-8D560B241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B50C-BC69-444E-90AC-F770A6154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AC7D-7DC3-434F-B558-173ED43BE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5438-B981-42DE-8FFC-BD378C92D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72CF-1C2E-4016-9F61-CBA093855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2: Quadratic Equations and Problem Solv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ober 21, 200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quadratic equatio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+bx+c=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solve for x, what are you finding on the grap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y=0, aka the x-inter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labeled parabola"/>
          <p:cNvPicPr/>
          <p:nvPr/>
        </p:nvPicPr>
        <p:blipFill>
          <a:blip r:embed="rId1"/>
          <a:stretch/>
        </p:blipFill>
        <p:spPr>
          <a:xfrm>
            <a:off x="5638680" y="2209680"/>
            <a:ext cx="2793960" cy="2867040"/>
          </a:xfrm>
          <a:prstGeom prst="rect">
            <a:avLst/>
          </a:prstGeom>
          <a:ln w="0">
            <a:noFill/>
          </a:ln>
        </p:spPr>
      </p:pic>
      <p:sp>
        <p:nvSpPr>
          <p:cNvPr id="442" name="SMARTPenAnnotation1109"/>
          <p:cNvSpPr/>
          <p:nvPr/>
        </p:nvSpPr>
        <p:spPr>
          <a:xfrm>
            <a:off x="6243480" y="3471840"/>
            <a:ext cx="171720" cy="90360"/>
          </a:xfrm>
          <a:custGeom>
            <a:avLst/>
            <a:gdLst>
              <a:gd name="textAreaLeft" fmla="*/ 0 w 171720"/>
              <a:gd name="textAreaRight" fmla="*/ 171720 w 1717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71384" h="90479">
                <a:moveTo>
                  <a:pt x="119980" y="34175"/>
                </a:moveTo>
                <a:lnTo>
                  <a:pt x="111761" y="34175"/>
                </a:lnTo>
                <a:lnTo>
                  <a:pt x="109025" y="31635"/>
                </a:lnTo>
                <a:lnTo>
                  <a:pt x="102942" y="25707"/>
                </a:lnTo>
                <a:lnTo>
                  <a:pt x="98316" y="25634"/>
                </a:lnTo>
                <a:lnTo>
                  <a:pt x="96012" y="24671"/>
                </a:lnTo>
                <a:lnTo>
                  <a:pt x="93524" y="23077"/>
                </a:lnTo>
                <a:lnTo>
                  <a:pt x="86149" y="17384"/>
                </a:lnTo>
                <a:lnTo>
                  <a:pt x="81275" y="17135"/>
                </a:lnTo>
                <a:lnTo>
                  <a:pt x="61625" y="17033"/>
                </a:lnTo>
                <a:lnTo>
                  <a:pt x="34723" y="17030"/>
                </a:lnTo>
                <a:lnTo>
                  <a:pt x="31923" y="19570"/>
                </a:lnTo>
                <a:lnTo>
                  <a:pt x="26048" y="25250"/>
                </a:lnTo>
                <a:lnTo>
                  <a:pt x="18334" y="32952"/>
                </a:lnTo>
                <a:lnTo>
                  <a:pt x="17926" y="34313"/>
                </a:lnTo>
                <a:lnTo>
                  <a:pt x="17654" y="36172"/>
                </a:lnTo>
                <a:lnTo>
                  <a:pt x="17472" y="38364"/>
                </a:lnTo>
                <a:lnTo>
                  <a:pt x="17352" y="40777"/>
                </a:lnTo>
                <a:lnTo>
                  <a:pt x="17142" y="49744"/>
                </a:lnTo>
                <a:lnTo>
                  <a:pt x="17119" y="55404"/>
                </a:lnTo>
                <a:lnTo>
                  <a:pt x="18069" y="56900"/>
                </a:lnTo>
                <a:lnTo>
                  <a:pt x="19654" y="57897"/>
                </a:lnTo>
                <a:lnTo>
                  <a:pt x="21664" y="58562"/>
                </a:lnTo>
                <a:lnTo>
                  <a:pt x="23004" y="59958"/>
                </a:lnTo>
                <a:lnTo>
                  <a:pt x="23897" y="61842"/>
                </a:lnTo>
                <a:lnTo>
                  <a:pt x="24492" y="64049"/>
                </a:lnTo>
                <a:lnTo>
                  <a:pt x="25842" y="65521"/>
                </a:lnTo>
                <a:lnTo>
                  <a:pt x="27693" y="66503"/>
                </a:lnTo>
                <a:lnTo>
                  <a:pt x="29881" y="67157"/>
                </a:lnTo>
                <a:lnTo>
                  <a:pt x="31339" y="68546"/>
                </a:lnTo>
                <a:lnTo>
                  <a:pt x="32311" y="70424"/>
                </a:lnTo>
                <a:lnTo>
                  <a:pt x="32959" y="72628"/>
                </a:lnTo>
                <a:lnTo>
                  <a:pt x="34344" y="74098"/>
                </a:lnTo>
                <a:lnTo>
                  <a:pt x="36219" y="75078"/>
                </a:lnTo>
                <a:lnTo>
                  <a:pt x="40843" y="76167"/>
                </a:lnTo>
                <a:lnTo>
                  <a:pt x="46073" y="76650"/>
                </a:lnTo>
                <a:lnTo>
                  <a:pt x="47849" y="77732"/>
                </a:lnTo>
                <a:lnTo>
                  <a:pt x="49033" y="79406"/>
                </a:lnTo>
                <a:lnTo>
                  <a:pt x="49821" y="81474"/>
                </a:lnTo>
                <a:lnTo>
                  <a:pt x="51300" y="82852"/>
                </a:lnTo>
                <a:lnTo>
                  <a:pt x="53238" y="83772"/>
                </a:lnTo>
                <a:lnTo>
                  <a:pt x="57932" y="84793"/>
                </a:lnTo>
                <a:lnTo>
                  <a:pt x="63193" y="85247"/>
                </a:lnTo>
                <a:lnTo>
                  <a:pt x="65930" y="86320"/>
                </a:lnTo>
                <a:lnTo>
                  <a:pt x="68707" y="87989"/>
                </a:lnTo>
                <a:lnTo>
                  <a:pt x="71510" y="90053"/>
                </a:lnTo>
                <a:lnTo>
                  <a:pt x="74332" y="90478"/>
                </a:lnTo>
                <a:lnTo>
                  <a:pt x="77166" y="89807"/>
                </a:lnTo>
                <a:lnTo>
                  <a:pt x="80007" y="88408"/>
                </a:lnTo>
                <a:lnTo>
                  <a:pt x="82854" y="87476"/>
                </a:lnTo>
                <a:lnTo>
                  <a:pt x="85704" y="86854"/>
                </a:lnTo>
                <a:lnTo>
                  <a:pt x="88557" y="86439"/>
                </a:lnTo>
                <a:lnTo>
                  <a:pt x="91411" y="86163"/>
                </a:lnTo>
                <a:lnTo>
                  <a:pt x="94267" y="85979"/>
                </a:lnTo>
                <a:lnTo>
                  <a:pt x="97123" y="85856"/>
                </a:lnTo>
                <a:lnTo>
                  <a:pt x="102837" y="85719"/>
                </a:lnTo>
                <a:lnTo>
                  <a:pt x="114265" y="85632"/>
                </a:lnTo>
                <a:lnTo>
                  <a:pt x="117123" y="84672"/>
                </a:lnTo>
                <a:lnTo>
                  <a:pt x="119980" y="83080"/>
                </a:lnTo>
                <a:lnTo>
                  <a:pt x="126859" y="78231"/>
                </a:lnTo>
                <a:lnTo>
                  <a:pt x="129329" y="77833"/>
                </a:lnTo>
                <a:lnTo>
                  <a:pt x="132880" y="77568"/>
                </a:lnTo>
                <a:lnTo>
                  <a:pt x="137153" y="77391"/>
                </a:lnTo>
                <a:lnTo>
                  <a:pt x="140001" y="76321"/>
                </a:lnTo>
                <a:lnTo>
                  <a:pt x="141900" y="74655"/>
                </a:lnTo>
                <a:lnTo>
                  <a:pt x="143166" y="72591"/>
                </a:lnTo>
                <a:lnTo>
                  <a:pt x="144962" y="71216"/>
                </a:lnTo>
                <a:lnTo>
                  <a:pt x="147112" y="70299"/>
                </a:lnTo>
                <a:lnTo>
                  <a:pt x="149498" y="69688"/>
                </a:lnTo>
                <a:lnTo>
                  <a:pt x="152042" y="68328"/>
                </a:lnTo>
                <a:lnTo>
                  <a:pt x="154689" y="66469"/>
                </a:lnTo>
                <a:lnTo>
                  <a:pt x="161232" y="61191"/>
                </a:lnTo>
                <a:lnTo>
                  <a:pt x="161769" y="59806"/>
                </a:lnTo>
                <a:lnTo>
                  <a:pt x="162127" y="57930"/>
                </a:lnTo>
                <a:lnTo>
                  <a:pt x="162365" y="55727"/>
                </a:lnTo>
                <a:lnTo>
                  <a:pt x="163477" y="53305"/>
                </a:lnTo>
                <a:lnTo>
                  <a:pt x="165170" y="50738"/>
                </a:lnTo>
                <a:lnTo>
                  <a:pt x="167252" y="48075"/>
                </a:lnTo>
                <a:lnTo>
                  <a:pt x="168640" y="45347"/>
                </a:lnTo>
                <a:lnTo>
                  <a:pt x="169565" y="42575"/>
                </a:lnTo>
                <a:lnTo>
                  <a:pt x="171049" y="35834"/>
                </a:lnTo>
                <a:lnTo>
                  <a:pt x="171171" y="34329"/>
                </a:lnTo>
                <a:lnTo>
                  <a:pt x="171253" y="32373"/>
                </a:lnTo>
                <a:lnTo>
                  <a:pt x="171383" y="26940"/>
                </a:lnTo>
                <a:lnTo>
                  <a:pt x="170441" y="25542"/>
                </a:lnTo>
                <a:lnTo>
                  <a:pt x="168861" y="23657"/>
                </a:lnTo>
                <a:lnTo>
                  <a:pt x="164031" y="18339"/>
                </a:lnTo>
                <a:lnTo>
                  <a:pt x="158644" y="12867"/>
                </a:lnTo>
                <a:lnTo>
                  <a:pt x="156234" y="11397"/>
                </a:lnTo>
                <a:lnTo>
                  <a:pt x="151015" y="9764"/>
                </a:lnTo>
                <a:lnTo>
                  <a:pt x="148290" y="8376"/>
                </a:lnTo>
                <a:lnTo>
                  <a:pt x="145521" y="6498"/>
                </a:lnTo>
                <a:lnTo>
                  <a:pt x="142723" y="4294"/>
                </a:lnTo>
                <a:lnTo>
                  <a:pt x="139905" y="2824"/>
                </a:lnTo>
                <a:lnTo>
                  <a:pt x="137073" y="1845"/>
                </a:lnTo>
                <a:lnTo>
                  <a:pt x="134233" y="1191"/>
                </a:lnTo>
                <a:lnTo>
                  <a:pt x="131387" y="756"/>
                </a:lnTo>
                <a:lnTo>
                  <a:pt x="128537" y="466"/>
                </a:lnTo>
                <a:lnTo>
                  <a:pt x="125685" y="272"/>
                </a:lnTo>
                <a:lnTo>
                  <a:pt x="121878" y="143"/>
                </a:lnTo>
                <a:lnTo>
                  <a:pt x="112569" y="0"/>
                </a:lnTo>
                <a:lnTo>
                  <a:pt x="108372" y="914"/>
                </a:lnTo>
                <a:lnTo>
                  <a:pt x="104621" y="2476"/>
                </a:lnTo>
                <a:lnTo>
                  <a:pt x="101168" y="4470"/>
                </a:lnTo>
                <a:lnTo>
                  <a:pt x="96961" y="5799"/>
                </a:lnTo>
                <a:lnTo>
                  <a:pt x="92252" y="6685"/>
                </a:lnTo>
                <a:lnTo>
                  <a:pt x="87207" y="7276"/>
                </a:lnTo>
                <a:lnTo>
                  <a:pt x="81939" y="8622"/>
                </a:lnTo>
                <a:lnTo>
                  <a:pt x="76522" y="10472"/>
                </a:lnTo>
                <a:lnTo>
                  <a:pt x="71005" y="12659"/>
                </a:lnTo>
                <a:lnTo>
                  <a:pt x="66375" y="14116"/>
                </a:lnTo>
                <a:lnTo>
                  <a:pt x="62336" y="15087"/>
                </a:lnTo>
                <a:lnTo>
                  <a:pt x="58690" y="15735"/>
                </a:lnTo>
                <a:lnTo>
                  <a:pt x="55308" y="16167"/>
                </a:lnTo>
                <a:lnTo>
                  <a:pt x="52101" y="16455"/>
                </a:lnTo>
                <a:lnTo>
                  <a:pt x="49009" y="16646"/>
                </a:lnTo>
                <a:lnTo>
                  <a:pt x="45996" y="17727"/>
                </a:lnTo>
                <a:lnTo>
                  <a:pt x="43035" y="19399"/>
                </a:lnTo>
                <a:lnTo>
                  <a:pt x="40108" y="21467"/>
                </a:lnTo>
                <a:lnTo>
                  <a:pt x="37205" y="22846"/>
                </a:lnTo>
                <a:lnTo>
                  <a:pt x="34317" y="23765"/>
                </a:lnTo>
                <a:lnTo>
                  <a:pt x="31439" y="24377"/>
                </a:lnTo>
                <a:lnTo>
                  <a:pt x="28568" y="25738"/>
                </a:lnTo>
                <a:lnTo>
                  <a:pt x="25701" y="27598"/>
                </a:lnTo>
                <a:lnTo>
                  <a:pt x="22837" y="29791"/>
                </a:lnTo>
                <a:lnTo>
                  <a:pt x="19976" y="31252"/>
                </a:lnTo>
                <a:lnTo>
                  <a:pt x="17115" y="32226"/>
                </a:lnTo>
                <a:lnTo>
                  <a:pt x="14256" y="32876"/>
                </a:lnTo>
                <a:lnTo>
                  <a:pt x="12350" y="34262"/>
                </a:lnTo>
                <a:lnTo>
                  <a:pt x="11079" y="36138"/>
                </a:lnTo>
                <a:lnTo>
                  <a:pt x="10232" y="38341"/>
                </a:lnTo>
                <a:lnTo>
                  <a:pt x="8715" y="39810"/>
                </a:lnTo>
                <a:lnTo>
                  <a:pt x="6751" y="40789"/>
                </a:lnTo>
                <a:lnTo>
                  <a:pt x="4489" y="41442"/>
                </a:lnTo>
                <a:lnTo>
                  <a:pt x="2981" y="42830"/>
                </a:lnTo>
                <a:lnTo>
                  <a:pt x="1976" y="44707"/>
                </a:lnTo>
                <a:lnTo>
                  <a:pt x="362" y="50014"/>
                </a:lnTo>
                <a:lnTo>
                  <a:pt x="230" y="51402"/>
                </a:lnTo>
                <a:lnTo>
                  <a:pt x="142" y="53279"/>
                </a:lnTo>
                <a:lnTo>
                  <a:pt x="44" y="57906"/>
                </a:lnTo>
                <a:lnTo>
                  <a:pt x="0" y="63137"/>
                </a:lnTo>
                <a:lnTo>
                  <a:pt x="941" y="64913"/>
                </a:lnTo>
                <a:lnTo>
                  <a:pt x="2520" y="66097"/>
                </a:lnTo>
                <a:lnTo>
                  <a:pt x="7349" y="67997"/>
                </a:lnTo>
                <a:lnTo>
                  <a:pt x="10549" y="70797"/>
                </a:lnTo>
                <a:lnTo>
                  <a:pt x="12736" y="72877"/>
                </a:lnTo>
                <a:lnTo>
                  <a:pt x="15147" y="74264"/>
                </a:lnTo>
                <a:lnTo>
                  <a:pt x="20365" y="75805"/>
                </a:lnTo>
                <a:lnTo>
                  <a:pt x="23090" y="76216"/>
                </a:lnTo>
                <a:lnTo>
                  <a:pt x="25860" y="76490"/>
                </a:lnTo>
                <a:lnTo>
                  <a:pt x="28658" y="76672"/>
                </a:lnTo>
                <a:lnTo>
                  <a:pt x="31476" y="77747"/>
                </a:lnTo>
                <a:lnTo>
                  <a:pt x="34307" y="79415"/>
                </a:lnTo>
                <a:lnTo>
                  <a:pt x="37147" y="81480"/>
                </a:lnTo>
                <a:lnTo>
                  <a:pt x="39993" y="82857"/>
                </a:lnTo>
                <a:lnTo>
                  <a:pt x="42843" y="83774"/>
                </a:lnTo>
                <a:lnTo>
                  <a:pt x="45696" y="84386"/>
                </a:lnTo>
                <a:lnTo>
                  <a:pt x="49502" y="84795"/>
                </a:lnTo>
                <a:lnTo>
                  <a:pt x="53945" y="85066"/>
                </a:lnTo>
                <a:lnTo>
                  <a:pt x="63009" y="85368"/>
                </a:lnTo>
                <a:lnTo>
                  <a:pt x="70212" y="85503"/>
                </a:lnTo>
                <a:lnTo>
                  <a:pt x="73466" y="84586"/>
                </a:lnTo>
                <a:lnTo>
                  <a:pt x="76589" y="83023"/>
                </a:lnTo>
                <a:lnTo>
                  <a:pt x="79622" y="81027"/>
                </a:lnTo>
                <a:lnTo>
                  <a:pt x="82597" y="79697"/>
                </a:lnTo>
                <a:lnTo>
                  <a:pt x="85533" y="78811"/>
                </a:lnTo>
                <a:lnTo>
                  <a:pt x="88443" y="78220"/>
                </a:lnTo>
                <a:lnTo>
                  <a:pt x="91336" y="77826"/>
                </a:lnTo>
                <a:lnTo>
                  <a:pt x="94216" y="77563"/>
                </a:lnTo>
                <a:lnTo>
                  <a:pt x="97089" y="77388"/>
                </a:lnTo>
                <a:lnTo>
                  <a:pt x="102822" y="77193"/>
                </a:lnTo>
                <a:lnTo>
                  <a:pt x="105683" y="77142"/>
                </a:lnTo>
                <a:lnTo>
                  <a:pt x="107591" y="76154"/>
                </a:lnTo>
                <a:lnTo>
                  <a:pt x="108864" y="74544"/>
                </a:lnTo>
                <a:lnTo>
                  <a:pt x="109712" y="72517"/>
                </a:lnTo>
                <a:lnTo>
                  <a:pt x="111230" y="71167"/>
                </a:lnTo>
                <a:lnTo>
                  <a:pt x="113194" y="70266"/>
                </a:lnTo>
                <a:lnTo>
                  <a:pt x="115456" y="69666"/>
                </a:lnTo>
                <a:lnTo>
                  <a:pt x="117916" y="68313"/>
                </a:lnTo>
                <a:lnTo>
                  <a:pt x="120510" y="66459"/>
                </a:lnTo>
                <a:lnTo>
                  <a:pt x="126964" y="61190"/>
                </a:lnTo>
                <a:lnTo>
                  <a:pt x="127494" y="59805"/>
                </a:lnTo>
                <a:lnTo>
                  <a:pt x="127847" y="57929"/>
                </a:lnTo>
                <a:lnTo>
                  <a:pt x="128082" y="55726"/>
                </a:lnTo>
                <a:lnTo>
                  <a:pt x="128239" y="53305"/>
                </a:lnTo>
                <a:lnTo>
                  <a:pt x="128343" y="50738"/>
                </a:lnTo>
                <a:lnTo>
                  <a:pt x="128413" y="48075"/>
                </a:lnTo>
                <a:lnTo>
                  <a:pt x="127507" y="46299"/>
                </a:lnTo>
                <a:lnTo>
                  <a:pt x="125950" y="45115"/>
                </a:lnTo>
                <a:lnTo>
                  <a:pt x="123960" y="44326"/>
                </a:lnTo>
                <a:lnTo>
                  <a:pt x="121681" y="42847"/>
                </a:lnTo>
                <a:lnTo>
                  <a:pt x="119209" y="40909"/>
                </a:lnTo>
                <a:lnTo>
                  <a:pt x="116608" y="38664"/>
                </a:lnTo>
                <a:lnTo>
                  <a:pt x="114875" y="36215"/>
                </a:lnTo>
                <a:lnTo>
                  <a:pt x="113719" y="33630"/>
                </a:lnTo>
                <a:lnTo>
                  <a:pt x="112948" y="30955"/>
                </a:lnTo>
                <a:lnTo>
                  <a:pt x="111482" y="29170"/>
                </a:lnTo>
                <a:lnTo>
                  <a:pt x="109552" y="27981"/>
                </a:lnTo>
                <a:lnTo>
                  <a:pt x="107313" y="27188"/>
                </a:lnTo>
                <a:lnTo>
                  <a:pt x="103916" y="25707"/>
                </a:lnTo>
                <a:lnTo>
                  <a:pt x="95060" y="21522"/>
                </a:lnTo>
                <a:lnTo>
                  <a:pt x="90985" y="20024"/>
                </a:lnTo>
                <a:lnTo>
                  <a:pt x="87315" y="19026"/>
                </a:lnTo>
                <a:lnTo>
                  <a:pt x="83916" y="18361"/>
                </a:lnTo>
                <a:lnTo>
                  <a:pt x="80697" y="17917"/>
                </a:lnTo>
                <a:lnTo>
                  <a:pt x="77599" y="17622"/>
                </a:lnTo>
                <a:lnTo>
                  <a:pt x="74581" y="17425"/>
                </a:lnTo>
                <a:lnTo>
                  <a:pt x="70664" y="17293"/>
                </a:lnTo>
                <a:lnTo>
                  <a:pt x="53230" y="17082"/>
                </a:lnTo>
                <a:lnTo>
                  <a:pt x="30238" y="17031"/>
                </a:lnTo>
                <a:lnTo>
                  <a:pt x="27767" y="17983"/>
                </a:lnTo>
                <a:lnTo>
                  <a:pt x="25167" y="19571"/>
                </a:lnTo>
                <a:lnTo>
                  <a:pt x="22481" y="21581"/>
                </a:lnTo>
                <a:lnTo>
                  <a:pt x="19739" y="22922"/>
                </a:lnTo>
                <a:lnTo>
                  <a:pt x="16957" y="23815"/>
                </a:lnTo>
                <a:lnTo>
                  <a:pt x="14151" y="24411"/>
                </a:lnTo>
                <a:lnTo>
                  <a:pt x="12280" y="25761"/>
                </a:lnTo>
                <a:lnTo>
                  <a:pt x="11032" y="27613"/>
                </a:lnTo>
                <a:lnTo>
                  <a:pt x="10201" y="29800"/>
                </a:lnTo>
                <a:lnTo>
                  <a:pt x="9646" y="32211"/>
                </a:lnTo>
                <a:lnTo>
                  <a:pt x="9277" y="34771"/>
                </a:lnTo>
                <a:lnTo>
                  <a:pt x="8683" y="41172"/>
                </a:lnTo>
                <a:lnTo>
                  <a:pt x="8635" y="42650"/>
                </a:lnTo>
                <a:lnTo>
                  <a:pt x="8581" y="46832"/>
                </a:lnTo>
                <a:lnTo>
                  <a:pt x="9519" y="49280"/>
                </a:lnTo>
                <a:lnTo>
                  <a:pt x="11097" y="51865"/>
                </a:lnTo>
                <a:lnTo>
                  <a:pt x="13101" y="54541"/>
                </a:lnTo>
                <a:lnTo>
                  <a:pt x="14437" y="57277"/>
                </a:lnTo>
                <a:lnTo>
                  <a:pt x="15328" y="60054"/>
                </a:lnTo>
                <a:lnTo>
                  <a:pt x="15922" y="62858"/>
                </a:lnTo>
                <a:lnTo>
                  <a:pt x="17271" y="64727"/>
                </a:lnTo>
                <a:lnTo>
                  <a:pt x="19122" y="65973"/>
                </a:lnTo>
                <a:lnTo>
                  <a:pt x="23719" y="67357"/>
                </a:lnTo>
                <a:lnTo>
                  <a:pt x="28938" y="67973"/>
                </a:lnTo>
                <a:lnTo>
                  <a:pt x="31662" y="69090"/>
                </a:lnTo>
                <a:lnTo>
                  <a:pt x="34432" y="70786"/>
                </a:lnTo>
                <a:lnTo>
                  <a:pt x="37231" y="72870"/>
                </a:lnTo>
                <a:lnTo>
                  <a:pt x="40049" y="74259"/>
                </a:lnTo>
                <a:lnTo>
                  <a:pt x="42880" y="75185"/>
                </a:lnTo>
                <a:lnTo>
                  <a:pt x="45720" y="75803"/>
                </a:lnTo>
                <a:lnTo>
                  <a:pt x="48566" y="76214"/>
                </a:lnTo>
                <a:lnTo>
                  <a:pt x="51416" y="76489"/>
                </a:lnTo>
                <a:lnTo>
                  <a:pt x="54268" y="76672"/>
                </a:lnTo>
                <a:lnTo>
                  <a:pt x="58075" y="75841"/>
                </a:lnTo>
                <a:lnTo>
                  <a:pt x="62517" y="74335"/>
                </a:lnTo>
                <a:lnTo>
                  <a:pt x="67384" y="72378"/>
                </a:lnTo>
                <a:lnTo>
                  <a:pt x="71581" y="71074"/>
                </a:lnTo>
                <a:lnTo>
                  <a:pt x="75332" y="70204"/>
                </a:lnTo>
                <a:lnTo>
                  <a:pt x="78785" y="69625"/>
                </a:lnTo>
                <a:lnTo>
                  <a:pt x="82039" y="68285"/>
                </a:lnTo>
                <a:lnTo>
                  <a:pt x="85161" y="66441"/>
                </a:lnTo>
                <a:lnTo>
                  <a:pt x="88194" y="64258"/>
                </a:lnTo>
                <a:lnTo>
                  <a:pt x="91170" y="62803"/>
                </a:lnTo>
                <a:lnTo>
                  <a:pt x="94105" y="61833"/>
                </a:lnTo>
                <a:lnTo>
                  <a:pt x="97016" y="61186"/>
                </a:lnTo>
                <a:lnTo>
                  <a:pt x="99908" y="59802"/>
                </a:lnTo>
                <a:lnTo>
                  <a:pt x="102789" y="57927"/>
                </a:lnTo>
                <a:lnTo>
                  <a:pt x="109705" y="52625"/>
                </a:lnTo>
                <a:lnTo>
                  <a:pt x="111225" y="51238"/>
                </a:lnTo>
                <a:lnTo>
                  <a:pt x="118639" y="44054"/>
                </a:lnTo>
                <a:lnTo>
                  <a:pt x="119086" y="42666"/>
                </a:lnTo>
                <a:lnTo>
                  <a:pt x="119384" y="40788"/>
                </a:lnTo>
                <a:lnTo>
                  <a:pt x="119583" y="38584"/>
                </a:lnTo>
                <a:lnTo>
                  <a:pt x="118763" y="36162"/>
                </a:lnTo>
                <a:lnTo>
                  <a:pt x="117263" y="33595"/>
                </a:lnTo>
                <a:lnTo>
                  <a:pt x="112564" y="27181"/>
                </a:lnTo>
                <a:lnTo>
                  <a:pt x="111226" y="25702"/>
                </a:lnTo>
                <a:lnTo>
                  <a:pt x="107199" y="21520"/>
                </a:lnTo>
                <a:lnTo>
                  <a:pt x="104792" y="20023"/>
                </a:lnTo>
                <a:lnTo>
                  <a:pt x="99578" y="18360"/>
                </a:lnTo>
                <a:lnTo>
                  <a:pt x="96853" y="17917"/>
                </a:lnTo>
                <a:lnTo>
                  <a:pt x="94084" y="17621"/>
                </a:lnTo>
                <a:lnTo>
                  <a:pt x="91287" y="17424"/>
                </a:lnTo>
                <a:lnTo>
                  <a:pt x="88469" y="17293"/>
                </a:lnTo>
                <a:lnTo>
                  <a:pt x="82798" y="17147"/>
                </a:lnTo>
                <a:lnTo>
                  <a:pt x="69699" y="17065"/>
                </a:lnTo>
                <a:lnTo>
                  <a:pt x="65504" y="18006"/>
                </a:lnTo>
                <a:lnTo>
                  <a:pt x="61755" y="19585"/>
                </a:lnTo>
                <a:lnTo>
                  <a:pt x="58303" y="21591"/>
                </a:lnTo>
                <a:lnTo>
                  <a:pt x="55050" y="22929"/>
                </a:lnTo>
                <a:lnTo>
                  <a:pt x="51928" y="23820"/>
                </a:lnTo>
                <a:lnTo>
                  <a:pt x="48895" y="24414"/>
                </a:lnTo>
                <a:lnTo>
                  <a:pt x="45920" y="24810"/>
                </a:lnTo>
                <a:lnTo>
                  <a:pt x="42984" y="25075"/>
                </a:lnTo>
                <a:lnTo>
                  <a:pt x="40074" y="25251"/>
                </a:lnTo>
                <a:lnTo>
                  <a:pt x="37182" y="26320"/>
                </a:lnTo>
                <a:lnTo>
                  <a:pt x="34302" y="27986"/>
                </a:lnTo>
                <a:lnTo>
                  <a:pt x="31429" y="30049"/>
                </a:lnTo>
                <a:lnTo>
                  <a:pt x="29513" y="32377"/>
                </a:lnTo>
                <a:lnTo>
                  <a:pt x="28237" y="34881"/>
                </a:lnTo>
                <a:lnTo>
                  <a:pt x="27385" y="37503"/>
                </a:lnTo>
                <a:lnTo>
                  <a:pt x="25865" y="39251"/>
                </a:lnTo>
                <a:lnTo>
                  <a:pt x="23899" y="40417"/>
                </a:lnTo>
                <a:lnTo>
                  <a:pt x="21637" y="41194"/>
                </a:lnTo>
                <a:lnTo>
                  <a:pt x="20127" y="42664"/>
                </a:lnTo>
                <a:lnTo>
                  <a:pt x="19122" y="44597"/>
                </a:lnTo>
                <a:lnTo>
                  <a:pt x="17145" y="51204"/>
                </a:lnTo>
                <a:lnTo>
                  <a:pt x="21671" y="51285"/>
                </a:lnTo>
                <a:lnTo>
                  <a:pt x="24494" y="51310"/>
                </a:lnTo>
                <a:lnTo>
                  <a:pt x="27694" y="48776"/>
                </a:lnTo>
                <a:lnTo>
                  <a:pt x="29881" y="46766"/>
                </a:lnTo>
                <a:lnTo>
                  <a:pt x="32292" y="45427"/>
                </a:lnTo>
                <a:lnTo>
                  <a:pt x="37510" y="43939"/>
                </a:lnTo>
                <a:lnTo>
                  <a:pt x="40235" y="42589"/>
                </a:lnTo>
                <a:lnTo>
                  <a:pt x="43004" y="40737"/>
                </a:lnTo>
                <a:lnTo>
                  <a:pt x="45803" y="38549"/>
                </a:lnTo>
                <a:lnTo>
                  <a:pt x="47668" y="36139"/>
                </a:lnTo>
                <a:lnTo>
                  <a:pt x="48913" y="33579"/>
                </a:lnTo>
                <a:lnTo>
                  <a:pt x="49741" y="30920"/>
                </a:lnTo>
                <a:lnTo>
                  <a:pt x="51247" y="28195"/>
                </a:lnTo>
                <a:lnTo>
                  <a:pt x="53203" y="25426"/>
                </a:lnTo>
                <a:lnTo>
                  <a:pt x="55460" y="22627"/>
                </a:lnTo>
                <a:lnTo>
                  <a:pt x="57916" y="20762"/>
                </a:lnTo>
                <a:lnTo>
                  <a:pt x="60507" y="19518"/>
                </a:lnTo>
                <a:lnTo>
                  <a:pt x="63186" y="18689"/>
                </a:lnTo>
                <a:lnTo>
                  <a:pt x="64972" y="17184"/>
                </a:lnTo>
                <a:lnTo>
                  <a:pt x="66163" y="15227"/>
                </a:lnTo>
                <a:lnTo>
                  <a:pt x="68545" y="84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1110"/>
          <p:cNvSpPr/>
          <p:nvPr/>
        </p:nvSpPr>
        <p:spPr>
          <a:xfrm>
            <a:off x="7237440" y="3475080"/>
            <a:ext cx="128520" cy="82440"/>
          </a:xfrm>
          <a:custGeom>
            <a:avLst/>
            <a:gdLst>
              <a:gd name="textAreaLeft" fmla="*/ 0 w 128520"/>
              <a:gd name="textAreaRight" fmla="*/ 128880 w 12852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28518" h="82016">
                <a:moveTo>
                  <a:pt x="102835" y="30580"/>
                </a:moveTo>
                <a:lnTo>
                  <a:pt x="102835" y="22112"/>
                </a:lnTo>
                <a:lnTo>
                  <a:pt x="100295" y="22054"/>
                </a:lnTo>
                <a:lnTo>
                  <a:pt x="98284" y="22039"/>
                </a:lnTo>
                <a:lnTo>
                  <a:pt x="96943" y="21076"/>
                </a:lnTo>
                <a:lnTo>
                  <a:pt x="96050" y="19482"/>
                </a:lnTo>
                <a:lnTo>
                  <a:pt x="95454" y="17466"/>
                </a:lnTo>
                <a:lnTo>
                  <a:pt x="94105" y="16123"/>
                </a:lnTo>
                <a:lnTo>
                  <a:pt x="92252" y="15226"/>
                </a:lnTo>
                <a:lnTo>
                  <a:pt x="90066" y="14629"/>
                </a:lnTo>
                <a:lnTo>
                  <a:pt x="87654" y="14232"/>
                </a:lnTo>
                <a:lnTo>
                  <a:pt x="85095" y="13966"/>
                </a:lnTo>
                <a:lnTo>
                  <a:pt x="82436" y="13789"/>
                </a:lnTo>
                <a:lnTo>
                  <a:pt x="79710" y="13671"/>
                </a:lnTo>
                <a:lnTo>
                  <a:pt x="74142" y="13540"/>
                </a:lnTo>
                <a:lnTo>
                  <a:pt x="39969" y="13436"/>
                </a:lnTo>
                <a:lnTo>
                  <a:pt x="38065" y="14388"/>
                </a:lnTo>
                <a:lnTo>
                  <a:pt x="36794" y="15976"/>
                </a:lnTo>
                <a:lnTo>
                  <a:pt x="35948" y="17986"/>
                </a:lnTo>
                <a:lnTo>
                  <a:pt x="34432" y="19327"/>
                </a:lnTo>
                <a:lnTo>
                  <a:pt x="32468" y="20220"/>
                </a:lnTo>
                <a:lnTo>
                  <a:pt x="30206" y="20816"/>
                </a:lnTo>
                <a:lnTo>
                  <a:pt x="28698" y="22166"/>
                </a:lnTo>
                <a:lnTo>
                  <a:pt x="27693" y="24018"/>
                </a:lnTo>
                <a:lnTo>
                  <a:pt x="27022" y="26205"/>
                </a:lnTo>
                <a:lnTo>
                  <a:pt x="25624" y="27664"/>
                </a:lnTo>
                <a:lnTo>
                  <a:pt x="23739" y="28636"/>
                </a:lnTo>
                <a:lnTo>
                  <a:pt x="21529" y="29284"/>
                </a:lnTo>
                <a:lnTo>
                  <a:pt x="19103" y="30669"/>
                </a:lnTo>
                <a:lnTo>
                  <a:pt x="16534" y="32544"/>
                </a:lnTo>
                <a:lnTo>
                  <a:pt x="10117" y="37847"/>
                </a:lnTo>
                <a:lnTo>
                  <a:pt x="8638" y="39235"/>
                </a:lnTo>
                <a:lnTo>
                  <a:pt x="4454" y="43317"/>
                </a:lnTo>
                <a:lnTo>
                  <a:pt x="2958" y="45739"/>
                </a:lnTo>
                <a:lnTo>
                  <a:pt x="1961" y="48306"/>
                </a:lnTo>
                <a:lnTo>
                  <a:pt x="359" y="54719"/>
                </a:lnTo>
                <a:lnTo>
                  <a:pt x="228" y="56198"/>
                </a:lnTo>
                <a:lnTo>
                  <a:pt x="140" y="58136"/>
                </a:lnTo>
                <a:lnTo>
                  <a:pt x="43" y="62830"/>
                </a:lnTo>
                <a:lnTo>
                  <a:pt x="0" y="68091"/>
                </a:lnTo>
                <a:lnTo>
                  <a:pt x="941" y="69875"/>
                </a:lnTo>
                <a:lnTo>
                  <a:pt x="2521" y="71064"/>
                </a:lnTo>
                <a:lnTo>
                  <a:pt x="4526" y="71857"/>
                </a:lnTo>
                <a:lnTo>
                  <a:pt x="5863" y="73338"/>
                </a:lnTo>
                <a:lnTo>
                  <a:pt x="6755" y="75278"/>
                </a:lnTo>
                <a:lnTo>
                  <a:pt x="7349" y="77524"/>
                </a:lnTo>
                <a:lnTo>
                  <a:pt x="8698" y="79021"/>
                </a:lnTo>
                <a:lnTo>
                  <a:pt x="10549" y="80019"/>
                </a:lnTo>
                <a:lnTo>
                  <a:pt x="12736" y="80684"/>
                </a:lnTo>
                <a:lnTo>
                  <a:pt x="15147" y="81128"/>
                </a:lnTo>
                <a:lnTo>
                  <a:pt x="17706" y="81424"/>
                </a:lnTo>
                <a:lnTo>
                  <a:pt x="20365" y="81621"/>
                </a:lnTo>
                <a:lnTo>
                  <a:pt x="23090" y="81752"/>
                </a:lnTo>
                <a:lnTo>
                  <a:pt x="32597" y="81981"/>
                </a:lnTo>
                <a:lnTo>
                  <a:pt x="78710" y="82015"/>
                </a:lnTo>
                <a:lnTo>
                  <a:pt x="81989" y="81062"/>
                </a:lnTo>
                <a:lnTo>
                  <a:pt x="85128" y="79475"/>
                </a:lnTo>
                <a:lnTo>
                  <a:pt x="88173" y="77465"/>
                </a:lnTo>
                <a:lnTo>
                  <a:pt x="92108" y="75171"/>
                </a:lnTo>
                <a:lnTo>
                  <a:pt x="96636" y="72690"/>
                </a:lnTo>
                <a:lnTo>
                  <a:pt x="101560" y="70084"/>
                </a:lnTo>
                <a:lnTo>
                  <a:pt x="105795" y="68346"/>
                </a:lnTo>
                <a:lnTo>
                  <a:pt x="109571" y="67187"/>
                </a:lnTo>
                <a:lnTo>
                  <a:pt x="117924" y="65328"/>
                </a:lnTo>
                <a:lnTo>
                  <a:pt x="119562" y="64223"/>
                </a:lnTo>
                <a:lnTo>
                  <a:pt x="121607" y="62534"/>
                </a:lnTo>
                <a:lnTo>
                  <a:pt x="123922" y="60455"/>
                </a:lnTo>
                <a:lnTo>
                  <a:pt x="125466" y="58116"/>
                </a:lnTo>
                <a:lnTo>
                  <a:pt x="126494" y="55605"/>
                </a:lnTo>
                <a:lnTo>
                  <a:pt x="127180" y="52978"/>
                </a:lnTo>
                <a:lnTo>
                  <a:pt x="127638" y="50275"/>
                </a:lnTo>
                <a:lnTo>
                  <a:pt x="127943" y="47520"/>
                </a:lnTo>
                <a:lnTo>
                  <a:pt x="128432" y="40805"/>
                </a:lnTo>
                <a:lnTo>
                  <a:pt x="128499" y="37347"/>
                </a:lnTo>
                <a:lnTo>
                  <a:pt x="128517" y="35092"/>
                </a:lnTo>
                <a:lnTo>
                  <a:pt x="127576" y="33588"/>
                </a:lnTo>
                <a:lnTo>
                  <a:pt x="125997" y="32585"/>
                </a:lnTo>
                <a:lnTo>
                  <a:pt x="123991" y="31917"/>
                </a:lnTo>
                <a:lnTo>
                  <a:pt x="122654" y="30519"/>
                </a:lnTo>
                <a:lnTo>
                  <a:pt x="121763" y="28634"/>
                </a:lnTo>
                <a:lnTo>
                  <a:pt x="121169" y="26425"/>
                </a:lnTo>
                <a:lnTo>
                  <a:pt x="119820" y="24953"/>
                </a:lnTo>
                <a:lnTo>
                  <a:pt x="117968" y="23971"/>
                </a:lnTo>
                <a:lnTo>
                  <a:pt x="115781" y="23316"/>
                </a:lnTo>
                <a:lnTo>
                  <a:pt x="114324" y="21928"/>
                </a:lnTo>
                <a:lnTo>
                  <a:pt x="113351" y="20049"/>
                </a:lnTo>
                <a:lnTo>
                  <a:pt x="112704" y="17844"/>
                </a:lnTo>
                <a:lnTo>
                  <a:pt x="111319" y="16375"/>
                </a:lnTo>
                <a:lnTo>
                  <a:pt x="109444" y="15395"/>
                </a:lnTo>
                <a:lnTo>
                  <a:pt x="107241" y="14742"/>
                </a:lnTo>
                <a:lnTo>
                  <a:pt x="104820" y="13354"/>
                </a:lnTo>
                <a:lnTo>
                  <a:pt x="102253" y="11476"/>
                </a:lnTo>
                <a:lnTo>
                  <a:pt x="99590" y="9271"/>
                </a:lnTo>
                <a:lnTo>
                  <a:pt x="96862" y="7802"/>
                </a:lnTo>
                <a:lnTo>
                  <a:pt x="94090" y="6822"/>
                </a:lnTo>
                <a:lnTo>
                  <a:pt x="91290" y="6169"/>
                </a:lnTo>
                <a:lnTo>
                  <a:pt x="88471" y="5734"/>
                </a:lnTo>
                <a:lnTo>
                  <a:pt x="85639" y="5443"/>
                </a:lnTo>
                <a:lnTo>
                  <a:pt x="82799" y="5250"/>
                </a:lnTo>
                <a:lnTo>
                  <a:pt x="79952" y="4168"/>
                </a:lnTo>
                <a:lnTo>
                  <a:pt x="77102" y="2495"/>
                </a:lnTo>
                <a:lnTo>
                  <a:pt x="74250" y="427"/>
                </a:lnTo>
                <a:lnTo>
                  <a:pt x="71396" y="0"/>
                </a:lnTo>
                <a:lnTo>
                  <a:pt x="68541" y="668"/>
                </a:lnTo>
                <a:lnTo>
                  <a:pt x="65685" y="2066"/>
                </a:lnTo>
                <a:lnTo>
                  <a:pt x="62828" y="2999"/>
                </a:lnTo>
                <a:lnTo>
                  <a:pt x="59971" y="3620"/>
                </a:lnTo>
                <a:lnTo>
                  <a:pt x="53093" y="4617"/>
                </a:lnTo>
                <a:lnTo>
                  <a:pt x="49613" y="4753"/>
                </a:lnTo>
                <a:lnTo>
                  <a:pt x="47351" y="4790"/>
                </a:lnTo>
                <a:lnTo>
                  <a:pt x="45843" y="5767"/>
                </a:lnTo>
                <a:lnTo>
                  <a:pt x="44838" y="7370"/>
                </a:lnTo>
                <a:lnTo>
                  <a:pt x="43225" y="12237"/>
                </a:lnTo>
                <a:lnTo>
                  <a:pt x="42140" y="13589"/>
                </a:lnTo>
                <a:lnTo>
                  <a:pt x="40464" y="15443"/>
                </a:lnTo>
                <a:lnTo>
                  <a:pt x="38394" y="17631"/>
                </a:lnTo>
                <a:lnTo>
                  <a:pt x="37015" y="20042"/>
                </a:lnTo>
                <a:lnTo>
                  <a:pt x="36094" y="22602"/>
                </a:lnTo>
                <a:lnTo>
                  <a:pt x="34619" y="29004"/>
                </a:lnTo>
                <a:lnTo>
                  <a:pt x="34498" y="30482"/>
                </a:lnTo>
                <a:lnTo>
                  <a:pt x="34417" y="32420"/>
                </a:lnTo>
                <a:lnTo>
                  <a:pt x="34327" y="37113"/>
                </a:lnTo>
                <a:lnTo>
                  <a:pt x="34288" y="42374"/>
                </a:lnTo>
                <a:lnTo>
                  <a:pt x="35229" y="45110"/>
                </a:lnTo>
                <a:lnTo>
                  <a:pt x="36809" y="47887"/>
                </a:lnTo>
                <a:lnTo>
                  <a:pt x="41639" y="54636"/>
                </a:lnTo>
                <a:lnTo>
                  <a:pt x="42988" y="56143"/>
                </a:lnTo>
                <a:lnTo>
                  <a:pt x="47026" y="60356"/>
                </a:lnTo>
                <a:lnTo>
                  <a:pt x="54655" y="68083"/>
                </a:lnTo>
                <a:lnTo>
                  <a:pt x="57380" y="69870"/>
                </a:lnTo>
                <a:lnTo>
                  <a:pt x="60150" y="71061"/>
                </a:lnTo>
                <a:lnTo>
                  <a:pt x="62948" y="71855"/>
                </a:lnTo>
                <a:lnTo>
                  <a:pt x="65766" y="72384"/>
                </a:lnTo>
                <a:lnTo>
                  <a:pt x="68597" y="72737"/>
                </a:lnTo>
                <a:lnTo>
                  <a:pt x="71437" y="72972"/>
                </a:lnTo>
                <a:lnTo>
                  <a:pt x="74284" y="74081"/>
                </a:lnTo>
                <a:lnTo>
                  <a:pt x="77133" y="75774"/>
                </a:lnTo>
                <a:lnTo>
                  <a:pt x="83999" y="80783"/>
                </a:lnTo>
                <a:lnTo>
                  <a:pt x="87479" y="81467"/>
                </a:lnTo>
                <a:lnTo>
                  <a:pt x="89740" y="81650"/>
                </a:lnTo>
                <a:lnTo>
                  <a:pt x="92200" y="80819"/>
                </a:lnTo>
                <a:lnTo>
                  <a:pt x="94792" y="79313"/>
                </a:lnTo>
                <a:lnTo>
                  <a:pt x="97474" y="77356"/>
                </a:lnTo>
                <a:lnTo>
                  <a:pt x="100213" y="76052"/>
                </a:lnTo>
                <a:lnTo>
                  <a:pt x="102992" y="75182"/>
                </a:lnTo>
                <a:lnTo>
                  <a:pt x="105797" y="74602"/>
                </a:lnTo>
                <a:lnTo>
                  <a:pt x="107668" y="73263"/>
                </a:lnTo>
                <a:lnTo>
                  <a:pt x="108914" y="71418"/>
                </a:lnTo>
                <a:lnTo>
                  <a:pt x="109745" y="69235"/>
                </a:lnTo>
                <a:lnTo>
                  <a:pt x="111252" y="67780"/>
                </a:lnTo>
                <a:lnTo>
                  <a:pt x="113209" y="66810"/>
                </a:lnTo>
                <a:lnTo>
                  <a:pt x="115466" y="66164"/>
                </a:lnTo>
                <a:lnTo>
                  <a:pt x="116970" y="64780"/>
                </a:lnTo>
                <a:lnTo>
                  <a:pt x="117974" y="62905"/>
                </a:lnTo>
                <a:lnTo>
                  <a:pt x="118643" y="60702"/>
                </a:lnTo>
                <a:lnTo>
                  <a:pt x="119089" y="58282"/>
                </a:lnTo>
                <a:lnTo>
                  <a:pt x="119385" y="55715"/>
                </a:lnTo>
                <a:lnTo>
                  <a:pt x="119584" y="53052"/>
                </a:lnTo>
                <a:lnTo>
                  <a:pt x="119716" y="50324"/>
                </a:lnTo>
                <a:lnTo>
                  <a:pt x="119863" y="44753"/>
                </a:lnTo>
                <a:lnTo>
                  <a:pt x="119945" y="36261"/>
                </a:lnTo>
                <a:lnTo>
                  <a:pt x="119004" y="34368"/>
                </a:lnTo>
                <a:lnTo>
                  <a:pt x="117424" y="33105"/>
                </a:lnTo>
                <a:lnTo>
                  <a:pt x="115419" y="32263"/>
                </a:lnTo>
                <a:lnTo>
                  <a:pt x="114082" y="30750"/>
                </a:lnTo>
                <a:lnTo>
                  <a:pt x="113190" y="28788"/>
                </a:lnTo>
                <a:lnTo>
                  <a:pt x="112596" y="26528"/>
                </a:lnTo>
                <a:lnTo>
                  <a:pt x="111247" y="25021"/>
                </a:lnTo>
                <a:lnTo>
                  <a:pt x="109395" y="24017"/>
                </a:lnTo>
                <a:lnTo>
                  <a:pt x="107209" y="23347"/>
                </a:lnTo>
                <a:lnTo>
                  <a:pt x="104798" y="21948"/>
                </a:lnTo>
                <a:lnTo>
                  <a:pt x="102239" y="20063"/>
                </a:lnTo>
                <a:lnTo>
                  <a:pt x="99580" y="17854"/>
                </a:lnTo>
                <a:lnTo>
                  <a:pt x="96855" y="16381"/>
                </a:lnTo>
                <a:lnTo>
                  <a:pt x="94086" y="15399"/>
                </a:lnTo>
                <a:lnTo>
                  <a:pt x="91287" y="14744"/>
                </a:lnTo>
                <a:lnTo>
                  <a:pt x="87517" y="14308"/>
                </a:lnTo>
                <a:lnTo>
                  <a:pt x="83098" y="14017"/>
                </a:lnTo>
                <a:lnTo>
                  <a:pt x="74060" y="13694"/>
                </a:lnTo>
                <a:lnTo>
                  <a:pt x="63618" y="13512"/>
                </a:lnTo>
                <a:lnTo>
                  <a:pt x="57465" y="13469"/>
                </a:lnTo>
                <a:lnTo>
                  <a:pt x="54491" y="14410"/>
                </a:lnTo>
                <a:lnTo>
                  <a:pt x="51556" y="15990"/>
                </a:lnTo>
                <a:lnTo>
                  <a:pt x="48646" y="17996"/>
                </a:lnTo>
                <a:lnTo>
                  <a:pt x="45754" y="19333"/>
                </a:lnTo>
                <a:lnTo>
                  <a:pt x="42874" y="20225"/>
                </a:lnTo>
                <a:lnTo>
                  <a:pt x="35958" y="21656"/>
                </a:lnTo>
                <a:lnTo>
                  <a:pt x="32472" y="21851"/>
                </a:lnTo>
                <a:lnTo>
                  <a:pt x="30209" y="21903"/>
                </a:lnTo>
                <a:lnTo>
                  <a:pt x="28700" y="22890"/>
                </a:lnTo>
                <a:lnTo>
                  <a:pt x="27694" y="24501"/>
                </a:lnTo>
                <a:lnTo>
                  <a:pt x="26080" y="29379"/>
                </a:lnTo>
                <a:lnTo>
                  <a:pt x="24995" y="30732"/>
                </a:lnTo>
                <a:lnTo>
                  <a:pt x="23319" y="32586"/>
                </a:lnTo>
                <a:lnTo>
                  <a:pt x="18337" y="37856"/>
                </a:lnTo>
                <a:lnTo>
                  <a:pt x="17928" y="39240"/>
                </a:lnTo>
                <a:lnTo>
                  <a:pt x="17655" y="41116"/>
                </a:lnTo>
                <a:lnTo>
                  <a:pt x="17110" y="4772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1111"/>
          <p:cNvSpPr/>
          <p:nvPr/>
        </p:nvSpPr>
        <p:spPr>
          <a:xfrm>
            <a:off x="2378160" y="4621320"/>
            <a:ext cx="307800" cy="461880"/>
          </a:xfrm>
          <a:custGeom>
            <a:avLst/>
            <a:gdLst>
              <a:gd name="textAreaLeft" fmla="*/ 0 w 307800"/>
              <a:gd name="textAreaRight" fmla="*/ 308160 w 3078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308612" h="462916">
                <a:moveTo>
                  <a:pt x="0" y="0"/>
                </a:moveTo>
                <a:lnTo>
                  <a:pt x="7381" y="0"/>
                </a:lnTo>
                <a:lnTo>
                  <a:pt x="15849" y="7381"/>
                </a:lnTo>
                <a:lnTo>
                  <a:pt x="21312" y="12770"/>
                </a:lnTo>
                <a:lnTo>
                  <a:pt x="22781" y="15181"/>
                </a:lnTo>
                <a:lnTo>
                  <a:pt x="25800" y="23125"/>
                </a:lnTo>
                <a:lnTo>
                  <a:pt x="34871" y="36883"/>
                </a:lnTo>
                <a:lnTo>
                  <a:pt x="40264" y="46872"/>
                </a:lnTo>
                <a:lnTo>
                  <a:pt x="45835" y="57663"/>
                </a:lnTo>
                <a:lnTo>
                  <a:pt x="48947" y="68808"/>
                </a:lnTo>
                <a:lnTo>
                  <a:pt x="49776" y="74447"/>
                </a:lnTo>
                <a:lnTo>
                  <a:pt x="53238" y="83253"/>
                </a:lnTo>
                <a:lnTo>
                  <a:pt x="55495" y="86934"/>
                </a:lnTo>
                <a:lnTo>
                  <a:pt x="58002" y="96105"/>
                </a:lnTo>
                <a:lnTo>
                  <a:pt x="58671" y="101218"/>
                </a:lnTo>
                <a:lnTo>
                  <a:pt x="64494" y="114518"/>
                </a:lnTo>
                <a:lnTo>
                  <a:pt x="72479" y="129002"/>
                </a:lnTo>
                <a:lnTo>
                  <a:pt x="82330" y="147866"/>
                </a:lnTo>
                <a:lnTo>
                  <a:pt x="97085" y="177070"/>
                </a:lnTo>
                <a:lnTo>
                  <a:pt x="105379" y="188553"/>
                </a:lnTo>
                <a:lnTo>
                  <a:pt x="110258" y="194282"/>
                </a:lnTo>
                <a:lnTo>
                  <a:pt x="115415" y="200959"/>
                </a:lnTo>
                <a:lnTo>
                  <a:pt x="120759" y="208268"/>
                </a:lnTo>
                <a:lnTo>
                  <a:pt x="126226" y="215997"/>
                </a:lnTo>
                <a:lnTo>
                  <a:pt x="134841" y="229667"/>
                </a:lnTo>
                <a:lnTo>
                  <a:pt x="142797" y="242092"/>
                </a:lnTo>
                <a:lnTo>
                  <a:pt x="147586" y="248072"/>
                </a:lnTo>
                <a:lnTo>
                  <a:pt x="152683" y="253964"/>
                </a:lnTo>
                <a:lnTo>
                  <a:pt x="157986" y="259797"/>
                </a:lnTo>
                <a:lnTo>
                  <a:pt x="168959" y="271358"/>
                </a:lnTo>
                <a:lnTo>
                  <a:pt x="177646" y="285386"/>
                </a:lnTo>
                <a:lnTo>
                  <a:pt x="181296" y="293127"/>
                </a:lnTo>
                <a:lnTo>
                  <a:pt x="190431" y="306809"/>
                </a:lnTo>
                <a:lnTo>
                  <a:pt x="195534" y="313124"/>
                </a:lnTo>
                <a:lnTo>
                  <a:pt x="200841" y="319239"/>
                </a:lnTo>
                <a:lnTo>
                  <a:pt x="206284" y="325221"/>
                </a:lnTo>
                <a:lnTo>
                  <a:pt x="211818" y="331114"/>
                </a:lnTo>
                <a:lnTo>
                  <a:pt x="220507" y="342742"/>
                </a:lnTo>
                <a:lnTo>
                  <a:pt x="227543" y="354260"/>
                </a:lnTo>
                <a:lnTo>
                  <a:pt x="233846" y="365729"/>
                </a:lnTo>
                <a:lnTo>
                  <a:pt x="242362" y="374636"/>
                </a:lnTo>
                <a:lnTo>
                  <a:pt x="247300" y="378345"/>
                </a:lnTo>
                <a:lnTo>
                  <a:pt x="255326" y="387546"/>
                </a:lnTo>
                <a:lnTo>
                  <a:pt x="262069" y="397033"/>
                </a:lnTo>
                <a:lnTo>
                  <a:pt x="270267" y="407729"/>
                </a:lnTo>
                <a:lnTo>
                  <a:pt x="272519" y="413940"/>
                </a:lnTo>
                <a:lnTo>
                  <a:pt x="275024" y="416931"/>
                </a:lnTo>
                <a:lnTo>
                  <a:pt x="282888" y="422793"/>
                </a:lnTo>
                <a:lnTo>
                  <a:pt x="285747" y="426642"/>
                </a:lnTo>
                <a:lnTo>
                  <a:pt x="287653" y="431113"/>
                </a:lnTo>
                <a:lnTo>
                  <a:pt x="288924" y="435999"/>
                </a:lnTo>
                <a:lnTo>
                  <a:pt x="292876" y="443967"/>
                </a:lnTo>
                <a:lnTo>
                  <a:pt x="301949" y="455972"/>
                </a:lnTo>
                <a:lnTo>
                  <a:pt x="308609" y="462913"/>
                </a:lnTo>
                <a:lnTo>
                  <a:pt x="308609" y="462914"/>
                </a:lnTo>
                <a:lnTo>
                  <a:pt x="308611" y="46291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1112"/>
          <p:cNvSpPr/>
          <p:nvPr/>
        </p:nvSpPr>
        <p:spPr>
          <a:xfrm>
            <a:off x="2351160" y="4621320"/>
            <a:ext cx="299880" cy="479160"/>
          </a:xfrm>
          <a:custGeom>
            <a:avLst/>
            <a:gdLst>
              <a:gd name="textAreaLeft" fmla="*/ 0 w 299880"/>
              <a:gd name="textAreaRight" fmla="*/ 300240 w 299880"/>
              <a:gd name="textAreaTop" fmla="*/ 0 h 479160"/>
              <a:gd name="textAreaBottom" fmla="*/ 479520 h 479160"/>
            </a:gdLst>
            <a:ahLst/>
            <a:rect l="textAreaLeft" t="textAreaTop" r="textAreaRight" b="textAreaBottom"/>
            <a:pathLst>
              <a:path w="300038" h="480061">
                <a:moveTo>
                  <a:pt x="300037" y="0"/>
                </a:moveTo>
                <a:lnTo>
                  <a:pt x="291474" y="0"/>
                </a:lnTo>
                <a:lnTo>
                  <a:pt x="291468" y="4551"/>
                </a:lnTo>
                <a:lnTo>
                  <a:pt x="289562" y="6844"/>
                </a:lnTo>
                <a:lnTo>
                  <a:pt x="282364" y="11932"/>
                </a:lnTo>
                <a:lnTo>
                  <a:pt x="275355" y="19908"/>
                </a:lnTo>
                <a:lnTo>
                  <a:pt x="269065" y="29803"/>
                </a:lnTo>
                <a:lnTo>
                  <a:pt x="263094" y="40551"/>
                </a:lnTo>
                <a:lnTo>
                  <a:pt x="257266" y="54218"/>
                </a:lnTo>
                <a:lnTo>
                  <a:pt x="250548" y="68864"/>
                </a:lnTo>
                <a:lnTo>
                  <a:pt x="241212" y="81724"/>
                </a:lnTo>
                <a:lnTo>
                  <a:pt x="236056" y="87820"/>
                </a:lnTo>
                <a:lnTo>
                  <a:pt x="230713" y="93789"/>
                </a:lnTo>
                <a:lnTo>
                  <a:pt x="225246" y="99674"/>
                </a:lnTo>
                <a:lnTo>
                  <a:pt x="216632" y="113832"/>
                </a:lnTo>
                <a:lnTo>
                  <a:pt x="213001" y="121608"/>
                </a:lnTo>
                <a:lnTo>
                  <a:pt x="208676" y="129650"/>
                </a:lnTo>
                <a:lnTo>
                  <a:pt x="203887" y="137868"/>
                </a:lnTo>
                <a:lnTo>
                  <a:pt x="198790" y="146204"/>
                </a:lnTo>
                <a:lnTo>
                  <a:pt x="193486" y="153667"/>
                </a:lnTo>
                <a:lnTo>
                  <a:pt x="188046" y="160547"/>
                </a:lnTo>
                <a:lnTo>
                  <a:pt x="182514" y="167039"/>
                </a:lnTo>
                <a:lnTo>
                  <a:pt x="173827" y="181872"/>
                </a:lnTo>
                <a:lnTo>
                  <a:pt x="170177" y="189828"/>
                </a:lnTo>
                <a:lnTo>
                  <a:pt x="165839" y="197990"/>
                </a:lnTo>
                <a:lnTo>
                  <a:pt x="161042" y="206288"/>
                </a:lnTo>
                <a:lnTo>
                  <a:pt x="155939" y="214678"/>
                </a:lnTo>
                <a:lnTo>
                  <a:pt x="145188" y="231620"/>
                </a:lnTo>
                <a:lnTo>
                  <a:pt x="139655" y="240138"/>
                </a:lnTo>
                <a:lnTo>
                  <a:pt x="135013" y="248675"/>
                </a:lnTo>
                <a:lnTo>
                  <a:pt x="130966" y="257223"/>
                </a:lnTo>
                <a:lnTo>
                  <a:pt x="127316" y="265780"/>
                </a:lnTo>
                <a:lnTo>
                  <a:pt x="123930" y="274342"/>
                </a:lnTo>
                <a:lnTo>
                  <a:pt x="117628" y="291475"/>
                </a:lnTo>
                <a:lnTo>
                  <a:pt x="109111" y="306074"/>
                </a:lnTo>
                <a:lnTo>
                  <a:pt x="99929" y="319866"/>
                </a:lnTo>
                <a:lnTo>
                  <a:pt x="96147" y="327544"/>
                </a:lnTo>
                <a:lnTo>
                  <a:pt x="92673" y="335520"/>
                </a:lnTo>
                <a:lnTo>
                  <a:pt x="86273" y="349463"/>
                </a:lnTo>
                <a:lnTo>
                  <a:pt x="74403" y="373935"/>
                </a:lnTo>
                <a:lnTo>
                  <a:pt x="66088" y="385586"/>
                </a:lnTo>
                <a:lnTo>
                  <a:pt x="56995" y="397114"/>
                </a:lnTo>
                <a:lnTo>
                  <a:pt x="49779" y="408588"/>
                </a:lnTo>
                <a:lnTo>
                  <a:pt x="43396" y="420037"/>
                </a:lnTo>
                <a:lnTo>
                  <a:pt x="38337" y="430523"/>
                </a:lnTo>
                <a:lnTo>
                  <a:pt x="36089" y="438359"/>
                </a:lnTo>
                <a:lnTo>
                  <a:pt x="34823" y="452676"/>
                </a:lnTo>
                <a:lnTo>
                  <a:pt x="33693" y="457041"/>
                </a:lnTo>
                <a:lnTo>
                  <a:pt x="29897" y="464432"/>
                </a:lnTo>
                <a:lnTo>
                  <a:pt x="27551" y="466784"/>
                </a:lnTo>
                <a:lnTo>
                  <a:pt x="25035" y="468352"/>
                </a:lnTo>
                <a:lnTo>
                  <a:pt x="22405" y="469397"/>
                </a:lnTo>
                <a:lnTo>
                  <a:pt x="20652" y="471047"/>
                </a:lnTo>
                <a:lnTo>
                  <a:pt x="19483" y="473098"/>
                </a:lnTo>
                <a:lnTo>
                  <a:pt x="18703" y="475419"/>
                </a:lnTo>
                <a:lnTo>
                  <a:pt x="17232" y="476966"/>
                </a:lnTo>
                <a:lnTo>
                  <a:pt x="15298" y="477998"/>
                </a:lnTo>
                <a:lnTo>
                  <a:pt x="8966" y="479940"/>
                </a:lnTo>
                <a:lnTo>
                  <a:pt x="0" y="4800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1113"/>
          <p:cNvSpPr/>
          <p:nvPr/>
        </p:nvSpPr>
        <p:spPr>
          <a:xfrm>
            <a:off x="3089160" y="4714920"/>
            <a:ext cx="93600" cy="282600"/>
          </a:xfrm>
          <a:custGeom>
            <a:avLst/>
            <a:gdLst>
              <a:gd name="textAreaLeft" fmla="*/ 0 w 93600"/>
              <a:gd name="textAreaRight" fmla="*/ 93960 w 93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94295" h="282889">
                <a:moveTo>
                  <a:pt x="8569" y="0"/>
                </a:moveTo>
                <a:lnTo>
                  <a:pt x="6" y="0"/>
                </a:lnTo>
                <a:lnTo>
                  <a:pt x="0" y="4551"/>
                </a:lnTo>
                <a:lnTo>
                  <a:pt x="951" y="5891"/>
                </a:lnTo>
                <a:lnTo>
                  <a:pt x="2538" y="6785"/>
                </a:lnTo>
                <a:lnTo>
                  <a:pt x="4549" y="7381"/>
                </a:lnTo>
                <a:lnTo>
                  <a:pt x="6841" y="8730"/>
                </a:lnTo>
                <a:lnTo>
                  <a:pt x="9322" y="10583"/>
                </a:lnTo>
                <a:lnTo>
                  <a:pt x="11929" y="12770"/>
                </a:lnTo>
                <a:lnTo>
                  <a:pt x="13667" y="16133"/>
                </a:lnTo>
                <a:lnTo>
                  <a:pt x="15597" y="24950"/>
                </a:lnTo>
                <a:lnTo>
                  <a:pt x="17065" y="29016"/>
                </a:lnTo>
                <a:lnTo>
                  <a:pt x="18996" y="32679"/>
                </a:lnTo>
                <a:lnTo>
                  <a:pt x="21235" y="36073"/>
                </a:lnTo>
                <a:lnTo>
                  <a:pt x="22728" y="40241"/>
                </a:lnTo>
                <a:lnTo>
                  <a:pt x="23724" y="44925"/>
                </a:lnTo>
                <a:lnTo>
                  <a:pt x="24387" y="49952"/>
                </a:lnTo>
                <a:lnTo>
                  <a:pt x="25782" y="55209"/>
                </a:lnTo>
                <a:lnTo>
                  <a:pt x="27665" y="60618"/>
                </a:lnTo>
                <a:lnTo>
                  <a:pt x="29872" y="66129"/>
                </a:lnTo>
                <a:lnTo>
                  <a:pt x="31344" y="71709"/>
                </a:lnTo>
                <a:lnTo>
                  <a:pt x="32325" y="77333"/>
                </a:lnTo>
                <a:lnTo>
                  <a:pt x="32979" y="82987"/>
                </a:lnTo>
                <a:lnTo>
                  <a:pt x="34367" y="89615"/>
                </a:lnTo>
                <a:lnTo>
                  <a:pt x="36246" y="96891"/>
                </a:lnTo>
                <a:lnTo>
                  <a:pt x="38450" y="104599"/>
                </a:lnTo>
                <a:lnTo>
                  <a:pt x="39920" y="111642"/>
                </a:lnTo>
                <a:lnTo>
                  <a:pt x="40900" y="118243"/>
                </a:lnTo>
                <a:lnTo>
                  <a:pt x="41553" y="124549"/>
                </a:lnTo>
                <a:lnTo>
                  <a:pt x="42941" y="131610"/>
                </a:lnTo>
                <a:lnTo>
                  <a:pt x="44819" y="139174"/>
                </a:lnTo>
                <a:lnTo>
                  <a:pt x="47023" y="147076"/>
                </a:lnTo>
                <a:lnTo>
                  <a:pt x="49445" y="154247"/>
                </a:lnTo>
                <a:lnTo>
                  <a:pt x="52013" y="160934"/>
                </a:lnTo>
                <a:lnTo>
                  <a:pt x="54676" y="167297"/>
                </a:lnTo>
                <a:lnTo>
                  <a:pt x="56453" y="173444"/>
                </a:lnTo>
                <a:lnTo>
                  <a:pt x="57637" y="179447"/>
                </a:lnTo>
                <a:lnTo>
                  <a:pt x="58426" y="185353"/>
                </a:lnTo>
                <a:lnTo>
                  <a:pt x="59904" y="191196"/>
                </a:lnTo>
                <a:lnTo>
                  <a:pt x="61843" y="196996"/>
                </a:lnTo>
                <a:lnTo>
                  <a:pt x="64088" y="202768"/>
                </a:lnTo>
                <a:lnTo>
                  <a:pt x="66537" y="208521"/>
                </a:lnTo>
                <a:lnTo>
                  <a:pt x="71798" y="219993"/>
                </a:lnTo>
                <a:lnTo>
                  <a:pt x="73582" y="224767"/>
                </a:lnTo>
                <a:lnTo>
                  <a:pt x="75564" y="232611"/>
                </a:lnTo>
                <a:lnTo>
                  <a:pt x="76092" y="236989"/>
                </a:lnTo>
                <a:lnTo>
                  <a:pt x="76445" y="241813"/>
                </a:lnTo>
                <a:lnTo>
                  <a:pt x="76680" y="246934"/>
                </a:lnTo>
                <a:lnTo>
                  <a:pt x="77789" y="251300"/>
                </a:lnTo>
                <a:lnTo>
                  <a:pt x="79481" y="255163"/>
                </a:lnTo>
                <a:lnTo>
                  <a:pt x="81561" y="258691"/>
                </a:lnTo>
                <a:lnTo>
                  <a:pt x="83873" y="265151"/>
                </a:lnTo>
                <a:lnTo>
                  <a:pt x="84900" y="271198"/>
                </a:lnTo>
                <a:lnTo>
                  <a:pt x="85357" y="277060"/>
                </a:lnTo>
                <a:lnTo>
                  <a:pt x="86431" y="279004"/>
                </a:lnTo>
                <a:lnTo>
                  <a:pt x="88100" y="280300"/>
                </a:lnTo>
                <a:lnTo>
                  <a:pt x="94263" y="282879"/>
                </a:lnTo>
                <a:lnTo>
                  <a:pt x="94285" y="282888"/>
                </a:lnTo>
                <a:lnTo>
                  <a:pt x="94294" y="2743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1114"/>
          <p:cNvSpPr/>
          <p:nvPr/>
        </p:nvSpPr>
        <p:spPr>
          <a:xfrm>
            <a:off x="3036960" y="4525920"/>
            <a:ext cx="27000" cy="17640"/>
          </a:xfrm>
          <a:custGeom>
            <a:avLst/>
            <a:gdLst>
              <a:gd name="textAreaLeft" fmla="*/ 0 w 27000"/>
              <a:gd name="textAreaRight" fmla="*/ 27360 w 27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5718" h="17147">
                <a:moveTo>
                  <a:pt x="25717" y="17146"/>
                </a:moveTo>
                <a:lnTo>
                  <a:pt x="21167" y="17146"/>
                </a:lnTo>
                <a:lnTo>
                  <a:pt x="18874" y="16193"/>
                </a:lnTo>
                <a:lnTo>
                  <a:pt x="16393" y="14606"/>
                </a:lnTo>
                <a:lnTo>
                  <a:pt x="10117" y="9765"/>
                </a:lnTo>
                <a:lnTo>
                  <a:pt x="8650" y="9367"/>
                </a:lnTo>
                <a:lnTo>
                  <a:pt x="6719" y="9103"/>
                </a:lnTo>
                <a:lnTo>
                  <a:pt x="4479" y="8926"/>
                </a:lnTo>
                <a:lnTo>
                  <a:pt x="2986" y="7856"/>
                </a:lnTo>
                <a:lnTo>
                  <a:pt x="1991" y="619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1115"/>
          <p:cNvSpPr/>
          <p:nvPr/>
        </p:nvSpPr>
        <p:spPr>
          <a:xfrm>
            <a:off x="3363840" y="4621320"/>
            <a:ext cx="368280" cy="368280"/>
          </a:xfrm>
          <a:custGeom>
            <a:avLst/>
            <a:gdLst>
              <a:gd name="textAreaLeft" fmla="*/ 0 w 368280"/>
              <a:gd name="textAreaRight" fmla="*/ 368640 w 3682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368619" h="368065">
                <a:moveTo>
                  <a:pt x="0" y="16992"/>
                </a:moveTo>
                <a:lnTo>
                  <a:pt x="0" y="37143"/>
                </a:lnTo>
                <a:lnTo>
                  <a:pt x="2540" y="45316"/>
                </a:lnTo>
                <a:lnTo>
                  <a:pt x="5891" y="55298"/>
                </a:lnTo>
                <a:lnTo>
                  <a:pt x="7381" y="66084"/>
                </a:lnTo>
                <a:lnTo>
                  <a:pt x="8043" y="77228"/>
                </a:lnTo>
                <a:lnTo>
                  <a:pt x="8219" y="82867"/>
                </a:lnTo>
                <a:lnTo>
                  <a:pt x="10955" y="94213"/>
                </a:lnTo>
                <a:lnTo>
                  <a:pt x="13019" y="99905"/>
                </a:lnTo>
                <a:lnTo>
                  <a:pt x="14394" y="106558"/>
                </a:lnTo>
                <a:lnTo>
                  <a:pt x="15311" y="113850"/>
                </a:lnTo>
                <a:lnTo>
                  <a:pt x="15922" y="121569"/>
                </a:lnTo>
                <a:lnTo>
                  <a:pt x="17282" y="129573"/>
                </a:lnTo>
                <a:lnTo>
                  <a:pt x="19142" y="137766"/>
                </a:lnTo>
                <a:lnTo>
                  <a:pt x="21334" y="146086"/>
                </a:lnTo>
                <a:lnTo>
                  <a:pt x="22795" y="153537"/>
                </a:lnTo>
                <a:lnTo>
                  <a:pt x="23769" y="160409"/>
                </a:lnTo>
                <a:lnTo>
                  <a:pt x="24418" y="166896"/>
                </a:lnTo>
                <a:lnTo>
                  <a:pt x="25804" y="174078"/>
                </a:lnTo>
                <a:lnTo>
                  <a:pt x="27680" y="181724"/>
                </a:lnTo>
                <a:lnTo>
                  <a:pt x="29883" y="189678"/>
                </a:lnTo>
                <a:lnTo>
                  <a:pt x="34872" y="206137"/>
                </a:lnTo>
                <a:lnTo>
                  <a:pt x="37535" y="214526"/>
                </a:lnTo>
                <a:lnTo>
                  <a:pt x="39311" y="222024"/>
                </a:lnTo>
                <a:lnTo>
                  <a:pt x="40495" y="228928"/>
                </a:lnTo>
                <a:lnTo>
                  <a:pt x="41284" y="235435"/>
                </a:lnTo>
                <a:lnTo>
                  <a:pt x="42763" y="241678"/>
                </a:lnTo>
                <a:lnTo>
                  <a:pt x="44701" y="247745"/>
                </a:lnTo>
                <a:lnTo>
                  <a:pt x="46946" y="253696"/>
                </a:lnTo>
                <a:lnTo>
                  <a:pt x="48442" y="259567"/>
                </a:lnTo>
                <a:lnTo>
                  <a:pt x="49440" y="265386"/>
                </a:lnTo>
                <a:lnTo>
                  <a:pt x="50105" y="271171"/>
                </a:lnTo>
                <a:lnTo>
                  <a:pt x="51500" y="276932"/>
                </a:lnTo>
                <a:lnTo>
                  <a:pt x="55592" y="288413"/>
                </a:lnTo>
                <a:lnTo>
                  <a:pt x="58045" y="297327"/>
                </a:lnTo>
                <a:lnTo>
                  <a:pt x="59426" y="307699"/>
                </a:lnTo>
                <a:lnTo>
                  <a:pt x="59620" y="310809"/>
                </a:lnTo>
                <a:lnTo>
                  <a:pt x="60701" y="312883"/>
                </a:lnTo>
                <a:lnTo>
                  <a:pt x="62375" y="314265"/>
                </a:lnTo>
                <a:lnTo>
                  <a:pt x="64444" y="315187"/>
                </a:lnTo>
                <a:lnTo>
                  <a:pt x="65822" y="316753"/>
                </a:lnTo>
                <a:lnTo>
                  <a:pt x="66741" y="318751"/>
                </a:lnTo>
                <a:lnTo>
                  <a:pt x="68548" y="325483"/>
                </a:lnTo>
                <a:lnTo>
                  <a:pt x="64020" y="321016"/>
                </a:lnTo>
                <a:lnTo>
                  <a:pt x="62682" y="318735"/>
                </a:lnTo>
                <a:lnTo>
                  <a:pt x="61196" y="313660"/>
                </a:lnTo>
                <a:lnTo>
                  <a:pt x="60360" y="305448"/>
                </a:lnTo>
                <a:lnTo>
                  <a:pt x="57624" y="297277"/>
                </a:lnTo>
                <a:lnTo>
                  <a:pt x="54186" y="287296"/>
                </a:lnTo>
                <a:lnTo>
                  <a:pt x="52657" y="276510"/>
                </a:lnTo>
                <a:lnTo>
                  <a:pt x="52250" y="270014"/>
                </a:lnTo>
                <a:lnTo>
                  <a:pt x="51797" y="255176"/>
                </a:lnTo>
                <a:lnTo>
                  <a:pt x="50724" y="247219"/>
                </a:lnTo>
                <a:lnTo>
                  <a:pt x="49056" y="239057"/>
                </a:lnTo>
                <a:lnTo>
                  <a:pt x="46991" y="230758"/>
                </a:lnTo>
                <a:lnTo>
                  <a:pt x="45615" y="222367"/>
                </a:lnTo>
                <a:lnTo>
                  <a:pt x="44698" y="213917"/>
                </a:lnTo>
                <a:lnTo>
                  <a:pt x="44086" y="205425"/>
                </a:lnTo>
                <a:lnTo>
                  <a:pt x="44631" y="196906"/>
                </a:lnTo>
                <a:lnTo>
                  <a:pt x="45946" y="188370"/>
                </a:lnTo>
                <a:lnTo>
                  <a:pt x="47776" y="179821"/>
                </a:lnTo>
                <a:lnTo>
                  <a:pt x="48996" y="170312"/>
                </a:lnTo>
                <a:lnTo>
                  <a:pt x="49809" y="160163"/>
                </a:lnTo>
                <a:lnTo>
                  <a:pt x="50351" y="149587"/>
                </a:lnTo>
                <a:lnTo>
                  <a:pt x="51665" y="139679"/>
                </a:lnTo>
                <a:lnTo>
                  <a:pt x="53493" y="130216"/>
                </a:lnTo>
                <a:lnTo>
                  <a:pt x="55665" y="121050"/>
                </a:lnTo>
                <a:lnTo>
                  <a:pt x="58065" y="113034"/>
                </a:lnTo>
                <a:lnTo>
                  <a:pt x="60617" y="105785"/>
                </a:lnTo>
                <a:lnTo>
                  <a:pt x="63271" y="99047"/>
                </a:lnTo>
                <a:lnTo>
                  <a:pt x="68761" y="83941"/>
                </a:lnTo>
                <a:lnTo>
                  <a:pt x="71558" y="75912"/>
                </a:lnTo>
                <a:lnTo>
                  <a:pt x="75328" y="68655"/>
                </a:lnTo>
                <a:lnTo>
                  <a:pt x="79746" y="61911"/>
                </a:lnTo>
                <a:lnTo>
                  <a:pt x="84597" y="55511"/>
                </a:lnTo>
                <a:lnTo>
                  <a:pt x="88783" y="49339"/>
                </a:lnTo>
                <a:lnTo>
                  <a:pt x="92526" y="43319"/>
                </a:lnTo>
                <a:lnTo>
                  <a:pt x="99225" y="32503"/>
                </a:lnTo>
                <a:lnTo>
                  <a:pt x="105377" y="24521"/>
                </a:lnTo>
                <a:lnTo>
                  <a:pt x="113827" y="17798"/>
                </a:lnTo>
                <a:lnTo>
                  <a:pt x="123933" y="11635"/>
                </a:lnTo>
                <a:lnTo>
                  <a:pt x="134774" y="5721"/>
                </a:lnTo>
                <a:lnTo>
                  <a:pt x="143402" y="2458"/>
                </a:lnTo>
                <a:lnTo>
                  <a:pt x="151365" y="1008"/>
                </a:lnTo>
                <a:lnTo>
                  <a:pt x="161253" y="363"/>
                </a:lnTo>
                <a:lnTo>
                  <a:pt x="169458" y="76"/>
                </a:lnTo>
                <a:lnTo>
                  <a:pt x="172980" y="0"/>
                </a:lnTo>
                <a:lnTo>
                  <a:pt x="181972" y="2455"/>
                </a:lnTo>
                <a:lnTo>
                  <a:pt x="192319" y="6721"/>
                </a:lnTo>
                <a:lnTo>
                  <a:pt x="203268" y="11792"/>
                </a:lnTo>
                <a:lnTo>
                  <a:pt x="207902" y="15430"/>
                </a:lnTo>
                <a:lnTo>
                  <a:pt x="215591" y="24553"/>
                </a:lnTo>
                <a:lnTo>
                  <a:pt x="222183" y="34957"/>
                </a:lnTo>
                <a:lnTo>
                  <a:pt x="225274" y="40399"/>
                </a:lnTo>
                <a:lnTo>
                  <a:pt x="228288" y="46884"/>
                </a:lnTo>
                <a:lnTo>
                  <a:pt x="231250" y="54065"/>
                </a:lnTo>
                <a:lnTo>
                  <a:pt x="234177" y="61710"/>
                </a:lnTo>
                <a:lnTo>
                  <a:pt x="237080" y="68712"/>
                </a:lnTo>
                <a:lnTo>
                  <a:pt x="239968" y="75284"/>
                </a:lnTo>
                <a:lnTo>
                  <a:pt x="242847" y="81571"/>
                </a:lnTo>
                <a:lnTo>
                  <a:pt x="244765" y="88620"/>
                </a:lnTo>
                <a:lnTo>
                  <a:pt x="246044" y="96176"/>
                </a:lnTo>
                <a:lnTo>
                  <a:pt x="246897" y="104072"/>
                </a:lnTo>
                <a:lnTo>
                  <a:pt x="248418" y="113145"/>
                </a:lnTo>
                <a:lnTo>
                  <a:pt x="250384" y="123004"/>
                </a:lnTo>
                <a:lnTo>
                  <a:pt x="252648" y="133387"/>
                </a:lnTo>
                <a:lnTo>
                  <a:pt x="254157" y="143166"/>
                </a:lnTo>
                <a:lnTo>
                  <a:pt x="255163" y="152543"/>
                </a:lnTo>
                <a:lnTo>
                  <a:pt x="255834" y="161652"/>
                </a:lnTo>
                <a:lnTo>
                  <a:pt x="256281" y="170582"/>
                </a:lnTo>
                <a:lnTo>
                  <a:pt x="256777" y="188124"/>
                </a:lnTo>
                <a:lnTo>
                  <a:pt x="257057" y="214065"/>
                </a:lnTo>
                <a:lnTo>
                  <a:pt x="258049" y="221717"/>
                </a:lnTo>
                <a:lnTo>
                  <a:pt x="259663" y="228723"/>
                </a:lnTo>
                <a:lnTo>
                  <a:pt x="261691" y="235298"/>
                </a:lnTo>
                <a:lnTo>
                  <a:pt x="263043" y="242540"/>
                </a:lnTo>
                <a:lnTo>
                  <a:pt x="263945" y="250225"/>
                </a:lnTo>
                <a:lnTo>
                  <a:pt x="264546" y="258206"/>
                </a:lnTo>
                <a:lnTo>
                  <a:pt x="264946" y="266384"/>
                </a:lnTo>
                <a:lnTo>
                  <a:pt x="265392" y="283090"/>
                </a:lnTo>
                <a:lnTo>
                  <a:pt x="266463" y="289641"/>
                </a:lnTo>
                <a:lnTo>
                  <a:pt x="270193" y="299460"/>
                </a:lnTo>
                <a:lnTo>
                  <a:pt x="272485" y="309538"/>
                </a:lnTo>
                <a:lnTo>
                  <a:pt x="273505" y="320368"/>
                </a:lnTo>
                <a:lnTo>
                  <a:pt x="273957" y="331531"/>
                </a:lnTo>
                <a:lnTo>
                  <a:pt x="275031" y="336222"/>
                </a:lnTo>
                <a:lnTo>
                  <a:pt x="278764" y="343975"/>
                </a:lnTo>
                <a:lnTo>
                  <a:pt x="286220" y="353694"/>
                </a:lnTo>
                <a:lnTo>
                  <a:pt x="288921" y="355760"/>
                </a:lnTo>
                <a:lnTo>
                  <a:pt x="297273" y="359621"/>
                </a:lnTo>
                <a:lnTo>
                  <a:pt x="305780" y="365421"/>
                </a:lnTo>
                <a:lnTo>
                  <a:pt x="311480" y="367112"/>
                </a:lnTo>
                <a:lnTo>
                  <a:pt x="320044" y="368064"/>
                </a:lnTo>
                <a:lnTo>
                  <a:pt x="322900" y="367245"/>
                </a:lnTo>
                <a:lnTo>
                  <a:pt x="328614" y="363795"/>
                </a:lnTo>
                <a:lnTo>
                  <a:pt x="336868" y="356547"/>
                </a:lnTo>
                <a:lnTo>
                  <a:pt x="345934" y="346975"/>
                </a:lnTo>
                <a:lnTo>
                  <a:pt x="356394" y="331829"/>
                </a:lnTo>
                <a:lnTo>
                  <a:pt x="359515" y="327848"/>
                </a:lnTo>
                <a:lnTo>
                  <a:pt x="368618" y="3170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1116"/>
          <p:cNvSpPr/>
          <p:nvPr/>
        </p:nvSpPr>
        <p:spPr>
          <a:xfrm>
            <a:off x="3808440" y="4406760"/>
            <a:ext cx="112680" cy="565200"/>
          </a:xfrm>
          <a:custGeom>
            <a:avLst/>
            <a:gdLst>
              <a:gd name="textAreaLeft" fmla="*/ 0 w 112680"/>
              <a:gd name="textAreaRight" fmla="*/ 113040 w 11268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11443" h="565198">
                <a:moveTo>
                  <a:pt x="0" y="17105"/>
                </a:moveTo>
                <a:lnTo>
                  <a:pt x="0" y="1504"/>
                </a:lnTo>
                <a:lnTo>
                  <a:pt x="953" y="989"/>
                </a:lnTo>
                <a:lnTo>
                  <a:pt x="2540" y="646"/>
                </a:lnTo>
                <a:lnTo>
                  <a:pt x="8219" y="0"/>
                </a:lnTo>
                <a:lnTo>
                  <a:pt x="8559" y="17329"/>
                </a:lnTo>
                <a:lnTo>
                  <a:pt x="8563" y="20112"/>
                </a:lnTo>
                <a:lnTo>
                  <a:pt x="11108" y="30824"/>
                </a:lnTo>
                <a:lnTo>
                  <a:pt x="14463" y="44157"/>
                </a:lnTo>
                <a:lnTo>
                  <a:pt x="15952" y="56433"/>
                </a:lnTo>
                <a:lnTo>
                  <a:pt x="16615" y="70779"/>
                </a:lnTo>
                <a:lnTo>
                  <a:pt x="17862" y="86680"/>
                </a:lnTo>
                <a:lnTo>
                  <a:pt x="19528" y="94921"/>
                </a:lnTo>
                <a:lnTo>
                  <a:pt x="22967" y="111697"/>
                </a:lnTo>
                <a:lnTo>
                  <a:pt x="24495" y="128679"/>
                </a:lnTo>
                <a:lnTo>
                  <a:pt x="27714" y="145751"/>
                </a:lnTo>
                <a:lnTo>
                  <a:pt x="37542" y="184544"/>
                </a:lnTo>
                <a:lnTo>
                  <a:pt x="39316" y="195406"/>
                </a:lnTo>
                <a:lnTo>
                  <a:pt x="40498" y="206457"/>
                </a:lnTo>
                <a:lnTo>
                  <a:pt x="41286" y="217635"/>
                </a:lnTo>
                <a:lnTo>
                  <a:pt x="42764" y="228896"/>
                </a:lnTo>
                <a:lnTo>
                  <a:pt x="44702" y="240214"/>
                </a:lnTo>
                <a:lnTo>
                  <a:pt x="46946" y="251569"/>
                </a:lnTo>
                <a:lnTo>
                  <a:pt x="51980" y="274346"/>
                </a:lnTo>
                <a:lnTo>
                  <a:pt x="54656" y="285754"/>
                </a:lnTo>
                <a:lnTo>
                  <a:pt x="56439" y="296217"/>
                </a:lnTo>
                <a:lnTo>
                  <a:pt x="57629" y="306049"/>
                </a:lnTo>
                <a:lnTo>
                  <a:pt x="58422" y="315462"/>
                </a:lnTo>
                <a:lnTo>
                  <a:pt x="59903" y="326499"/>
                </a:lnTo>
                <a:lnTo>
                  <a:pt x="61843" y="338620"/>
                </a:lnTo>
                <a:lnTo>
                  <a:pt x="64089" y="351463"/>
                </a:lnTo>
                <a:lnTo>
                  <a:pt x="66538" y="362883"/>
                </a:lnTo>
                <a:lnTo>
                  <a:pt x="69124" y="373354"/>
                </a:lnTo>
                <a:lnTo>
                  <a:pt x="77314" y="404282"/>
                </a:lnTo>
                <a:lnTo>
                  <a:pt x="80117" y="415241"/>
                </a:lnTo>
                <a:lnTo>
                  <a:pt x="81987" y="425403"/>
                </a:lnTo>
                <a:lnTo>
                  <a:pt x="83233" y="435037"/>
                </a:lnTo>
                <a:lnTo>
                  <a:pt x="84063" y="444316"/>
                </a:lnTo>
                <a:lnTo>
                  <a:pt x="85569" y="454312"/>
                </a:lnTo>
                <a:lnTo>
                  <a:pt x="87526" y="464786"/>
                </a:lnTo>
                <a:lnTo>
                  <a:pt x="89784" y="475579"/>
                </a:lnTo>
                <a:lnTo>
                  <a:pt x="92241" y="484679"/>
                </a:lnTo>
                <a:lnTo>
                  <a:pt x="94831" y="492651"/>
                </a:lnTo>
                <a:lnTo>
                  <a:pt x="97511" y="499871"/>
                </a:lnTo>
                <a:lnTo>
                  <a:pt x="100488" y="512972"/>
                </a:lnTo>
                <a:lnTo>
                  <a:pt x="102764" y="525145"/>
                </a:lnTo>
                <a:lnTo>
                  <a:pt x="104704" y="531059"/>
                </a:lnTo>
                <a:lnTo>
                  <a:pt x="106951" y="536906"/>
                </a:lnTo>
                <a:lnTo>
                  <a:pt x="110111" y="549685"/>
                </a:lnTo>
                <a:lnTo>
                  <a:pt x="111408" y="565197"/>
                </a:lnTo>
                <a:lnTo>
                  <a:pt x="111442" y="5571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1117"/>
          <p:cNvSpPr/>
          <p:nvPr/>
        </p:nvSpPr>
        <p:spPr>
          <a:xfrm>
            <a:off x="3724200" y="4603680"/>
            <a:ext cx="333360" cy="68400"/>
          </a:xfrm>
          <a:custGeom>
            <a:avLst/>
            <a:gdLst>
              <a:gd name="textAreaLeft" fmla="*/ 0 w 333360"/>
              <a:gd name="textAreaRight" fmla="*/ 333720 w 333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33976" h="68581">
                <a:moveTo>
                  <a:pt x="8220" y="68580"/>
                </a:moveTo>
                <a:lnTo>
                  <a:pt x="0" y="68580"/>
                </a:lnTo>
                <a:lnTo>
                  <a:pt x="20049" y="68580"/>
                </a:lnTo>
                <a:lnTo>
                  <a:pt x="22773" y="67628"/>
                </a:lnTo>
                <a:lnTo>
                  <a:pt x="25542" y="66040"/>
                </a:lnTo>
                <a:lnTo>
                  <a:pt x="28340" y="64030"/>
                </a:lnTo>
                <a:lnTo>
                  <a:pt x="33064" y="62688"/>
                </a:lnTo>
                <a:lnTo>
                  <a:pt x="39070" y="61795"/>
                </a:lnTo>
                <a:lnTo>
                  <a:pt x="45931" y="61199"/>
                </a:lnTo>
                <a:lnTo>
                  <a:pt x="52411" y="59850"/>
                </a:lnTo>
                <a:lnTo>
                  <a:pt x="58635" y="57997"/>
                </a:lnTo>
                <a:lnTo>
                  <a:pt x="64690" y="55810"/>
                </a:lnTo>
                <a:lnTo>
                  <a:pt x="71584" y="54351"/>
                </a:lnTo>
                <a:lnTo>
                  <a:pt x="79038" y="53379"/>
                </a:lnTo>
                <a:lnTo>
                  <a:pt x="86864" y="52732"/>
                </a:lnTo>
                <a:lnTo>
                  <a:pt x="94939" y="51347"/>
                </a:lnTo>
                <a:lnTo>
                  <a:pt x="103180" y="49471"/>
                </a:lnTo>
                <a:lnTo>
                  <a:pt x="141489" y="39617"/>
                </a:lnTo>
                <a:lnTo>
                  <a:pt x="150405" y="36889"/>
                </a:lnTo>
                <a:lnTo>
                  <a:pt x="158255" y="34118"/>
                </a:lnTo>
                <a:lnTo>
                  <a:pt x="165393" y="31318"/>
                </a:lnTo>
                <a:lnTo>
                  <a:pt x="173962" y="29451"/>
                </a:lnTo>
                <a:lnTo>
                  <a:pt x="183485" y="28206"/>
                </a:lnTo>
                <a:lnTo>
                  <a:pt x="193643" y="27377"/>
                </a:lnTo>
                <a:lnTo>
                  <a:pt x="203273" y="25871"/>
                </a:lnTo>
                <a:lnTo>
                  <a:pt x="212550" y="23915"/>
                </a:lnTo>
                <a:lnTo>
                  <a:pt x="221592" y="21658"/>
                </a:lnTo>
                <a:lnTo>
                  <a:pt x="230478" y="20154"/>
                </a:lnTo>
                <a:lnTo>
                  <a:pt x="239259" y="19151"/>
                </a:lnTo>
                <a:lnTo>
                  <a:pt x="247971" y="18482"/>
                </a:lnTo>
                <a:lnTo>
                  <a:pt x="256636" y="17084"/>
                </a:lnTo>
                <a:lnTo>
                  <a:pt x="265271" y="15200"/>
                </a:lnTo>
                <a:lnTo>
                  <a:pt x="273884" y="12991"/>
                </a:lnTo>
                <a:lnTo>
                  <a:pt x="281532" y="11518"/>
                </a:lnTo>
                <a:lnTo>
                  <a:pt x="288536" y="10536"/>
                </a:lnTo>
                <a:lnTo>
                  <a:pt x="295109" y="9882"/>
                </a:lnTo>
                <a:lnTo>
                  <a:pt x="301397" y="8493"/>
                </a:lnTo>
                <a:lnTo>
                  <a:pt x="307494" y="6615"/>
                </a:lnTo>
                <a:lnTo>
                  <a:pt x="313463" y="4410"/>
                </a:lnTo>
                <a:lnTo>
                  <a:pt x="318396" y="2940"/>
                </a:lnTo>
                <a:lnTo>
                  <a:pt x="322636" y="1960"/>
                </a:lnTo>
                <a:lnTo>
                  <a:pt x="33397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1118"/>
          <p:cNvSpPr/>
          <p:nvPr/>
        </p:nvSpPr>
        <p:spPr>
          <a:xfrm>
            <a:off x="4065480" y="4568760"/>
            <a:ext cx="266760" cy="358920"/>
          </a:xfrm>
          <a:custGeom>
            <a:avLst/>
            <a:gdLst>
              <a:gd name="textAreaLeft" fmla="*/ 0 w 266760"/>
              <a:gd name="textAreaRight" fmla="*/ 267120 w 2667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65749" h="358648">
                <a:moveTo>
                  <a:pt x="0" y="111399"/>
                </a:moveTo>
                <a:lnTo>
                  <a:pt x="0" y="119618"/>
                </a:lnTo>
                <a:lnTo>
                  <a:pt x="4551" y="119866"/>
                </a:lnTo>
                <a:lnTo>
                  <a:pt x="6844" y="120854"/>
                </a:lnTo>
                <a:lnTo>
                  <a:pt x="14622" y="125842"/>
                </a:lnTo>
                <a:lnTo>
                  <a:pt x="20151" y="127343"/>
                </a:lnTo>
                <a:lnTo>
                  <a:pt x="25784" y="128010"/>
                </a:lnTo>
                <a:lnTo>
                  <a:pt x="32414" y="128307"/>
                </a:lnTo>
                <a:lnTo>
                  <a:pt x="52193" y="128497"/>
                </a:lnTo>
                <a:lnTo>
                  <a:pt x="79552" y="128541"/>
                </a:lnTo>
                <a:lnTo>
                  <a:pt x="83515" y="127589"/>
                </a:lnTo>
                <a:lnTo>
                  <a:pt x="88062" y="126002"/>
                </a:lnTo>
                <a:lnTo>
                  <a:pt x="92998" y="123992"/>
                </a:lnTo>
                <a:lnTo>
                  <a:pt x="98193" y="121699"/>
                </a:lnTo>
                <a:lnTo>
                  <a:pt x="109047" y="116612"/>
                </a:lnTo>
                <a:lnTo>
                  <a:pt x="142916" y="99925"/>
                </a:lnTo>
                <a:lnTo>
                  <a:pt x="147665" y="97082"/>
                </a:lnTo>
                <a:lnTo>
                  <a:pt x="155481" y="91383"/>
                </a:lnTo>
                <a:lnTo>
                  <a:pt x="162130" y="85675"/>
                </a:lnTo>
                <a:lnTo>
                  <a:pt x="169213" y="79011"/>
                </a:lnTo>
                <a:lnTo>
                  <a:pt x="178711" y="69699"/>
                </a:lnTo>
                <a:lnTo>
                  <a:pt x="184202" y="61750"/>
                </a:lnTo>
                <a:lnTo>
                  <a:pt x="187595" y="54090"/>
                </a:lnTo>
                <a:lnTo>
                  <a:pt x="192278" y="44336"/>
                </a:lnTo>
                <a:lnTo>
                  <a:pt x="194995" y="36191"/>
                </a:lnTo>
                <a:lnTo>
                  <a:pt x="196524" y="26250"/>
                </a:lnTo>
                <a:lnTo>
                  <a:pt x="196739" y="23200"/>
                </a:lnTo>
                <a:lnTo>
                  <a:pt x="195929" y="20215"/>
                </a:lnTo>
                <a:lnTo>
                  <a:pt x="191191" y="11462"/>
                </a:lnTo>
                <a:lnTo>
                  <a:pt x="189749" y="5705"/>
                </a:lnTo>
                <a:lnTo>
                  <a:pt x="187460" y="3789"/>
                </a:lnTo>
                <a:lnTo>
                  <a:pt x="184028" y="2511"/>
                </a:lnTo>
                <a:lnTo>
                  <a:pt x="176088" y="1092"/>
                </a:lnTo>
                <a:lnTo>
                  <a:pt x="169384" y="461"/>
                </a:lnTo>
                <a:lnTo>
                  <a:pt x="163229" y="181"/>
                </a:lnTo>
                <a:lnTo>
                  <a:pt x="156367" y="56"/>
                </a:lnTo>
                <a:lnTo>
                  <a:pt x="146966" y="0"/>
                </a:lnTo>
                <a:lnTo>
                  <a:pt x="141793" y="938"/>
                </a:lnTo>
                <a:lnTo>
                  <a:pt x="136438" y="2516"/>
                </a:lnTo>
                <a:lnTo>
                  <a:pt x="130964" y="4520"/>
                </a:lnTo>
                <a:lnTo>
                  <a:pt x="125409" y="6809"/>
                </a:lnTo>
                <a:lnTo>
                  <a:pt x="119801" y="9287"/>
                </a:lnTo>
                <a:lnTo>
                  <a:pt x="114158" y="11892"/>
                </a:lnTo>
                <a:lnTo>
                  <a:pt x="109442" y="15534"/>
                </a:lnTo>
                <a:lnTo>
                  <a:pt x="101663" y="24659"/>
                </a:lnTo>
                <a:lnTo>
                  <a:pt x="97303" y="29760"/>
                </a:lnTo>
                <a:lnTo>
                  <a:pt x="92491" y="35065"/>
                </a:lnTo>
                <a:lnTo>
                  <a:pt x="87378" y="40507"/>
                </a:lnTo>
                <a:lnTo>
                  <a:pt x="83017" y="46993"/>
                </a:lnTo>
                <a:lnTo>
                  <a:pt x="79157" y="54174"/>
                </a:lnTo>
                <a:lnTo>
                  <a:pt x="75631" y="61819"/>
                </a:lnTo>
                <a:lnTo>
                  <a:pt x="72329" y="69773"/>
                </a:lnTo>
                <a:lnTo>
                  <a:pt x="69174" y="77933"/>
                </a:lnTo>
                <a:lnTo>
                  <a:pt x="66118" y="86231"/>
                </a:lnTo>
                <a:lnTo>
                  <a:pt x="63129" y="93668"/>
                </a:lnTo>
                <a:lnTo>
                  <a:pt x="60183" y="100531"/>
                </a:lnTo>
                <a:lnTo>
                  <a:pt x="57267" y="107011"/>
                </a:lnTo>
                <a:lnTo>
                  <a:pt x="55323" y="114188"/>
                </a:lnTo>
                <a:lnTo>
                  <a:pt x="54027" y="121831"/>
                </a:lnTo>
                <a:lnTo>
                  <a:pt x="53163" y="129784"/>
                </a:lnTo>
                <a:lnTo>
                  <a:pt x="52587" y="137943"/>
                </a:lnTo>
                <a:lnTo>
                  <a:pt x="52203" y="146240"/>
                </a:lnTo>
                <a:lnTo>
                  <a:pt x="51776" y="164031"/>
                </a:lnTo>
                <a:lnTo>
                  <a:pt x="51449" y="239642"/>
                </a:lnTo>
                <a:lnTo>
                  <a:pt x="52397" y="247377"/>
                </a:lnTo>
                <a:lnTo>
                  <a:pt x="53981" y="254438"/>
                </a:lnTo>
                <a:lnTo>
                  <a:pt x="58281" y="268317"/>
                </a:lnTo>
                <a:lnTo>
                  <a:pt x="63368" y="284010"/>
                </a:lnTo>
                <a:lnTo>
                  <a:pt x="66058" y="291243"/>
                </a:lnTo>
                <a:lnTo>
                  <a:pt x="68803" y="297970"/>
                </a:lnTo>
                <a:lnTo>
                  <a:pt x="71587" y="304359"/>
                </a:lnTo>
                <a:lnTo>
                  <a:pt x="77219" y="316539"/>
                </a:lnTo>
                <a:lnTo>
                  <a:pt x="80054" y="322454"/>
                </a:lnTo>
                <a:lnTo>
                  <a:pt x="83850" y="327350"/>
                </a:lnTo>
                <a:lnTo>
                  <a:pt x="88285" y="331566"/>
                </a:lnTo>
                <a:lnTo>
                  <a:pt x="93146" y="335330"/>
                </a:lnTo>
                <a:lnTo>
                  <a:pt x="101088" y="342051"/>
                </a:lnTo>
                <a:lnTo>
                  <a:pt x="104540" y="345177"/>
                </a:lnTo>
                <a:lnTo>
                  <a:pt x="108746" y="347261"/>
                </a:lnTo>
                <a:lnTo>
                  <a:pt x="113455" y="348650"/>
                </a:lnTo>
                <a:lnTo>
                  <a:pt x="118499" y="349576"/>
                </a:lnTo>
                <a:lnTo>
                  <a:pt x="126644" y="353145"/>
                </a:lnTo>
                <a:lnTo>
                  <a:pt x="130149" y="355431"/>
                </a:lnTo>
                <a:lnTo>
                  <a:pt x="134391" y="356954"/>
                </a:lnTo>
                <a:lnTo>
                  <a:pt x="139124" y="357970"/>
                </a:lnTo>
                <a:lnTo>
                  <a:pt x="144184" y="358647"/>
                </a:lnTo>
                <a:lnTo>
                  <a:pt x="149463" y="358146"/>
                </a:lnTo>
                <a:lnTo>
                  <a:pt x="154887" y="356859"/>
                </a:lnTo>
                <a:lnTo>
                  <a:pt x="160408" y="355049"/>
                </a:lnTo>
                <a:lnTo>
                  <a:pt x="165994" y="352890"/>
                </a:lnTo>
                <a:lnTo>
                  <a:pt x="171623" y="350498"/>
                </a:lnTo>
                <a:lnTo>
                  <a:pt x="182957" y="345300"/>
                </a:lnTo>
                <a:lnTo>
                  <a:pt x="194344" y="339815"/>
                </a:lnTo>
                <a:lnTo>
                  <a:pt x="200048" y="336066"/>
                </a:lnTo>
                <a:lnTo>
                  <a:pt x="205755" y="331662"/>
                </a:lnTo>
                <a:lnTo>
                  <a:pt x="211465" y="326821"/>
                </a:lnTo>
                <a:lnTo>
                  <a:pt x="217177" y="321689"/>
                </a:lnTo>
                <a:lnTo>
                  <a:pt x="228603" y="310906"/>
                </a:lnTo>
                <a:lnTo>
                  <a:pt x="233365" y="305363"/>
                </a:lnTo>
                <a:lnTo>
                  <a:pt x="237491" y="299763"/>
                </a:lnTo>
                <a:lnTo>
                  <a:pt x="241195" y="294125"/>
                </a:lnTo>
                <a:lnTo>
                  <a:pt x="245569" y="289414"/>
                </a:lnTo>
                <a:lnTo>
                  <a:pt x="250390" y="285320"/>
                </a:lnTo>
                <a:lnTo>
                  <a:pt x="265748" y="2742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1119"/>
          <p:cNvSpPr/>
          <p:nvPr/>
        </p:nvSpPr>
        <p:spPr>
          <a:xfrm>
            <a:off x="4383000" y="4564080"/>
            <a:ext cx="239760" cy="365040"/>
          </a:xfrm>
          <a:custGeom>
            <a:avLst/>
            <a:gdLst>
              <a:gd name="textAreaLeft" fmla="*/ 0 w 239760"/>
              <a:gd name="textAreaRight" fmla="*/ 240120 w 2397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40000" h="364381">
                <a:moveTo>
                  <a:pt x="8542" y="21642"/>
                </a:moveTo>
                <a:lnTo>
                  <a:pt x="8542" y="13423"/>
                </a:lnTo>
                <a:lnTo>
                  <a:pt x="1161" y="13100"/>
                </a:lnTo>
                <a:lnTo>
                  <a:pt x="764" y="14043"/>
                </a:lnTo>
                <a:lnTo>
                  <a:pt x="74" y="25004"/>
                </a:lnTo>
                <a:lnTo>
                  <a:pt x="0" y="33222"/>
                </a:lnTo>
                <a:lnTo>
                  <a:pt x="2523" y="41394"/>
                </a:lnTo>
                <a:lnTo>
                  <a:pt x="6819" y="51375"/>
                </a:lnTo>
                <a:lnTo>
                  <a:pt x="11904" y="62162"/>
                </a:lnTo>
                <a:lnTo>
                  <a:pt x="14799" y="73306"/>
                </a:lnTo>
                <a:lnTo>
                  <a:pt x="17038" y="84609"/>
                </a:lnTo>
                <a:lnTo>
                  <a:pt x="21208" y="95982"/>
                </a:lnTo>
                <a:lnTo>
                  <a:pt x="26236" y="109927"/>
                </a:lnTo>
                <a:lnTo>
                  <a:pt x="37226" y="142163"/>
                </a:lnTo>
                <a:lnTo>
                  <a:pt x="40047" y="151519"/>
                </a:lnTo>
                <a:lnTo>
                  <a:pt x="48569" y="181938"/>
                </a:lnTo>
                <a:lnTo>
                  <a:pt x="57126" y="210425"/>
                </a:lnTo>
                <a:lnTo>
                  <a:pt x="65694" y="241620"/>
                </a:lnTo>
                <a:lnTo>
                  <a:pt x="71408" y="260380"/>
                </a:lnTo>
                <a:lnTo>
                  <a:pt x="74265" y="268430"/>
                </a:lnTo>
                <a:lnTo>
                  <a:pt x="77122" y="275703"/>
                </a:lnTo>
                <a:lnTo>
                  <a:pt x="79980" y="282456"/>
                </a:lnTo>
                <a:lnTo>
                  <a:pt x="85694" y="295040"/>
                </a:lnTo>
                <a:lnTo>
                  <a:pt x="94267" y="312834"/>
                </a:lnTo>
                <a:lnTo>
                  <a:pt x="97124" y="318640"/>
                </a:lnTo>
                <a:lnTo>
                  <a:pt x="99029" y="324415"/>
                </a:lnTo>
                <a:lnTo>
                  <a:pt x="100300" y="330171"/>
                </a:lnTo>
                <a:lnTo>
                  <a:pt x="101711" y="340693"/>
                </a:lnTo>
                <a:lnTo>
                  <a:pt x="102505" y="351973"/>
                </a:lnTo>
                <a:lnTo>
                  <a:pt x="102836" y="364380"/>
                </a:lnTo>
                <a:lnTo>
                  <a:pt x="98287" y="359943"/>
                </a:lnTo>
                <a:lnTo>
                  <a:pt x="96948" y="357666"/>
                </a:lnTo>
                <a:lnTo>
                  <a:pt x="94108" y="348958"/>
                </a:lnTo>
                <a:lnTo>
                  <a:pt x="90069" y="339836"/>
                </a:lnTo>
                <a:lnTo>
                  <a:pt x="87659" y="333784"/>
                </a:lnTo>
                <a:lnTo>
                  <a:pt x="82440" y="319440"/>
                </a:lnTo>
                <a:lnTo>
                  <a:pt x="74147" y="295298"/>
                </a:lnTo>
                <a:lnTo>
                  <a:pt x="72281" y="286947"/>
                </a:lnTo>
                <a:lnTo>
                  <a:pt x="71038" y="278522"/>
                </a:lnTo>
                <a:lnTo>
                  <a:pt x="70208" y="270048"/>
                </a:lnTo>
                <a:lnTo>
                  <a:pt x="68703" y="260589"/>
                </a:lnTo>
                <a:lnTo>
                  <a:pt x="66746" y="250473"/>
                </a:lnTo>
                <a:lnTo>
                  <a:pt x="64490" y="239918"/>
                </a:lnTo>
                <a:lnTo>
                  <a:pt x="62986" y="229072"/>
                </a:lnTo>
                <a:lnTo>
                  <a:pt x="61983" y="218031"/>
                </a:lnTo>
                <a:lnTo>
                  <a:pt x="61315" y="206861"/>
                </a:lnTo>
                <a:lnTo>
                  <a:pt x="60572" y="184289"/>
                </a:lnTo>
                <a:lnTo>
                  <a:pt x="60373" y="172936"/>
                </a:lnTo>
                <a:lnTo>
                  <a:pt x="61194" y="162510"/>
                </a:lnTo>
                <a:lnTo>
                  <a:pt x="62693" y="152701"/>
                </a:lnTo>
                <a:lnTo>
                  <a:pt x="64645" y="143305"/>
                </a:lnTo>
                <a:lnTo>
                  <a:pt x="69354" y="122704"/>
                </a:lnTo>
                <a:lnTo>
                  <a:pt x="71944" y="111877"/>
                </a:lnTo>
                <a:lnTo>
                  <a:pt x="74622" y="102754"/>
                </a:lnTo>
                <a:lnTo>
                  <a:pt x="77360" y="94766"/>
                </a:lnTo>
                <a:lnTo>
                  <a:pt x="80138" y="87537"/>
                </a:lnTo>
                <a:lnTo>
                  <a:pt x="83896" y="79859"/>
                </a:lnTo>
                <a:lnTo>
                  <a:pt x="88306" y="71884"/>
                </a:lnTo>
                <a:lnTo>
                  <a:pt x="93150" y="63709"/>
                </a:lnTo>
                <a:lnTo>
                  <a:pt x="97332" y="56354"/>
                </a:lnTo>
                <a:lnTo>
                  <a:pt x="104520" y="43102"/>
                </a:lnTo>
                <a:lnTo>
                  <a:pt x="113921" y="24932"/>
                </a:lnTo>
                <a:lnTo>
                  <a:pt x="117847" y="20025"/>
                </a:lnTo>
                <a:lnTo>
                  <a:pt x="122369" y="15802"/>
                </a:lnTo>
                <a:lnTo>
                  <a:pt x="127290" y="12034"/>
                </a:lnTo>
                <a:lnTo>
                  <a:pt x="132475" y="9521"/>
                </a:lnTo>
                <a:lnTo>
                  <a:pt x="137836" y="7847"/>
                </a:lnTo>
                <a:lnTo>
                  <a:pt x="143316" y="6730"/>
                </a:lnTo>
                <a:lnTo>
                  <a:pt x="149826" y="5033"/>
                </a:lnTo>
                <a:lnTo>
                  <a:pt x="157024" y="2949"/>
                </a:lnTo>
                <a:lnTo>
                  <a:pt x="164680" y="608"/>
                </a:lnTo>
                <a:lnTo>
                  <a:pt x="171689" y="0"/>
                </a:lnTo>
                <a:lnTo>
                  <a:pt x="178266" y="546"/>
                </a:lnTo>
                <a:lnTo>
                  <a:pt x="184557" y="1863"/>
                </a:lnTo>
                <a:lnTo>
                  <a:pt x="190655" y="3693"/>
                </a:lnTo>
                <a:lnTo>
                  <a:pt x="196626" y="5866"/>
                </a:lnTo>
                <a:lnTo>
                  <a:pt x="202511" y="8268"/>
                </a:lnTo>
                <a:lnTo>
                  <a:pt x="208340" y="10821"/>
                </a:lnTo>
                <a:lnTo>
                  <a:pt x="219896" y="16197"/>
                </a:lnTo>
                <a:lnTo>
                  <a:pt x="224692" y="18965"/>
                </a:lnTo>
                <a:lnTo>
                  <a:pt x="228842" y="21763"/>
                </a:lnTo>
                <a:lnTo>
                  <a:pt x="239999" y="3021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1120"/>
          <p:cNvSpPr/>
          <p:nvPr/>
        </p:nvSpPr>
        <p:spPr>
          <a:xfrm>
            <a:off x="4657680" y="4562640"/>
            <a:ext cx="385920" cy="280800"/>
          </a:xfrm>
          <a:custGeom>
            <a:avLst/>
            <a:gdLst>
              <a:gd name="textAreaLeft" fmla="*/ 0 w 385920"/>
              <a:gd name="textAreaRight" fmla="*/ 386280 w 38592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85719" h="281388">
                <a:moveTo>
                  <a:pt x="128543" y="32830"/>
                </a:moveTo>
                <a:lnTo>
                  <a:pt x="115524" y="19811"/>
                </a:lnTo>
                <a:lnTo>
                  <a:pt x="114149" y="17483"/>
                </a:lnTo>
                <a:lnTo>
                  <a:pt x="111942" y="9443"/>
                </a:lnTo>
                <a:lnTo>
                  <a:pt x="111505" y="7572"/>
                </a:lnTo>
                <a:lnTo>
                  <a:pt x="99636" y="7203"/>
                </a:lnTo>
                <a:lnTo>
                  <a:pt x="96646" y="7152"/>
                </a:lnTo>
                <a:lnTo>
                  <a:pt x="85860" y="11675"/>
                </a:lnTo>
                <a:lnTo>
                  <a:pt x="75151" y="19047"/>
                </a:lnTo>
                <a:lnTo>
                  <a:pt x="65944" y="27265"/>
                </a:lnTo>
                <a:lnTo>
                  <a:pt x="52634" y="40282"/>
                </a:lnTo>
                <a:lnTo>
                  <a:pt x="47181" y="48207"/>
                </a:lnTo>
                <a:lnTo>
                  <a:pt x="45727" y="51654"/>
                </a:lnTo>
                <a:lnTo>
                  <a:pt x="42852" y="55857"/>
                </a:lnTo>
                <a:lnTo>
                  <a:pt x="39031" y="60564"/>
                </a:lnTo>
                <a:lnTo>
                  <a:pt x="34578" y="65606"/>
                </a:lnTo>
                <a:lnTo>
                  <a:pt x="30657" y="70873"/>
                </a:lnTo>
                <a:lnTo>
                  <a:pt x="27091" y="76289"/>
                </a:lnTo>
                <a:lnTo>
                  <a:pt x="23761" y="81805"/>
                </a:lnTo>
                <a:lnTo>
                  <a:pt x="20588" y="88340"/>
                </a:lnTo>
                <a:lnTo>
                  <a:pt x="17521" y="95554"/>
                </a:lnTo>
                <a:lnTo>
                  <a:pt x="14523" y="103221"/>
                </a:lnTo>
                <a:lnTo>
                  <a:pt x="11572" y="110237"/>
                </a:lnTo>
                <a:lnTo>
                  <a:pt x="5754" y="123113"/>
                </a:lnTo>
                <a:lnTo>
                  <a:pt x="3821" y="130166"/>
                </a:lnTo>
                <a:lnTo>
                  <a:pt x="2532" y="137726"/>
                </a:lnTo>
                <a:lnTo>
                  <a:pt x="1674" y="145622"/>
                </a:lnTo>
                <a:lnTo>
                  <a:pt x="1101" y="152793"/>
                </a:lnTo>
                <a:lnTo>
                  <a:pt x="719" y="159477"/>
                </a:lnTo>
                <a:lnTo>
                  <a:pt x="464" y="165839"/>
                </a:lnTo>
                <a:lnTo>
                  <a:pt x="182" y="180527"/>
                </a:lnTo>
                <a:lnTo>
                  <a:pt x="0" y="208690"/>
                </a:lnTo>
                <a:lnTo>
                  <a:pt x="938" y="214840"/>
                </a:lnTo>
                <a:lnTo>
                  <a:pt x="2515" y="220845"/>
                </a:lnTo>
                <a:lnTo>
                  <a:pt x="4520" y="226753"/>
                </a:lnTo>
                <a:lnTo>
                  <a:pt x="6808" y="232597"/>
                </a:lnTo>
                <a:lnTo>
                  <a:pt x="9287" y="238398"/>
                </a:lnTo>
                <a:lnTo>
                  <a:pt x="11891" y="244170"/>
                </a:lnTo>
                <a:lnTo>
                  <a:pt x="14580" y="248971"/>
                </a:lnTo>
                <a:lnTo>
                  <a:pt x="20108" y="256845"/>
                </a:lnTo>
                <a:lnTo>
                  <a:pt x="28280" y="263520"/>
                </a:lnTo>
                <a:lnTo>
                  <a:pt x="37309" y="269661"/>
                </a:lnTo>
                <a:lnTo>
                  <a:pt x="47747" y="277521"/>
                </a:lnTo>
                <a:lnTo>
                  <a:pt x="53899" y="279694"/>
                </a:lnTo>
                <a:lnTo>
                  <a:pt x="64888" y="280660"/>
                </a:lnTo>
                <a:lnTo>
                  <a:pt x="82060" y="281203"/>
                </a:lnTo>
                <a:lnTo>
                  <a:pt x="98260" y="281365"/>
                </a:lnTo>
                <a:lnTo>
                  <a:pt x="105497" y="281387"/>
                </a:lnTo>
                <a:lnTo>
                  <a:pt x="112226" y="280450"/>
                </a:lnTo>
                <a:lnTo>
                  <a:pt x="118618" y="278872"/>
                </a:lnTo>
                <a:lnTo>
                  <a:pt x="124784" y="276868"/>
                </a:lnTo>
                <a:lnTo>
                  <a:pt x="136715" y="269561"/>
                </a:lnTo>
                <a:lnTo>
                  <a:pt x="148367" y="260916"/>
                </a:lnTo>
                <a:lnTo>
                  <a:pt x="181648" y="240042"/>
                </a:lnTo>
                <a:lnTo>
                  <a:pt x="188711" y="234789"/>
                </a:lnTo>
                <a:lnTo>
                  <a:pt x="195325" y="229382"/>
                </a:lnTo>
                <a:lnTo>
                  <a:pt x="201639" y="223872"/>
                </a:lnTo>
                <a:lnTo>
                  <a:pt x="207754" y="217341"/>
                </a:lnTo>
                <a:lnTo>
                  <a:pt x="213735" y="210130"/>
                </a:lnTo>
                <a:lnTo>
                  <a:pt x="219628" y="202465"/>
                </a:lnTo>
                <a:lnTo>
                  <a:pt x="225461" y="194497"/>
                </a:lnTo>
                <a:lnTo>
                  <a:pt x="237023" y="178025"/>
                </a:lnTo>
                <a:lnTo>
                  <a:pt x="241821" y="170583"/>
                </a:lnTo>
                <a:lnTo>
                  <a:pt x="245971" y="163718"/>
                </a:lnTo>
                <a:lnTo>
                  <a:pt x="249691" y="157236"/>
                </a:lnTo>
                <a:lnTo>
                  <a:pt x="254076" y="150057"/>
                </a:lnTo>
                <a:lnTo>
                  <a:pt x="264028" y="134461"/>
                </a:lnTo>
                <a:lnTo>
                  <a:pt x="267444" y="126302"/>
                </a:lnTo>
                <a:lnTo>
                  <a:pt x="269721" y="118004"/>
                </a:lnTo>
                <a:lnTo>
                  <a:pt x="271239" y="109615"/>
                </a:lnTo>
                <a:lnTo>
                  <a:pt x="273204" y="102117"/>
                </a:lnTo>
                <a:lnTo>
                  <a:pt x="275466" y="95214"/>
                </a:lnTo>
                <a:lnTo>
                  <a:pt x="277927" y="88707"/>
                </a:lnTo>
                <a:lnTo>
                  <a:pt x="283201" y="73857"/>
                </a:lnTo>
                <a:lnTo>
                  <a:pt x="285941" y="65896"/>
                </a:lnTo>
                <a:lnTo>
                  <a:pt x="287767" y="58684"/>
                </a:lnTo>
                <a:lnTo>
                  <a:pt x="288986" y="51971"/>
                </a:lnTo>
                <a:lnTo>
                  <a:pt x="289797" y="45591"/>
                </a:lnTo>
                <a:lnTo>
                  <a:pt x="289386" y="40384"/>
                </a:lnTo>
                <a:lnTo>
                  <a:pt x="288159" y="35961"/>
                </a:lnTo>
                <a:lnTo>
                  <a:pt x="286389" y="32060"/>
                </a:lnTo>
                <a:lnTo>
                  <a:pt x="285208" y="27554"/>
                </a:lnTo>
                <a:lnTo>
                  <a:pt x="284422" y="22645"/>
                </a:lnTo>
                <a:lnTo>
                  <a:pt x="283897" y="17467"/>
                </a:lnTo>
                <a:lnTo>
                  <a:pt x="282595" y="14015"/>
                </a:lnTo>
                <a:lnTo>
                  <a:pt x="280774" y="11714"/>
                </a:lnTo>
                <a:lnTo>
                  <a:pt x="271121" y="5936"/>
                </a:lnTo>
                <a:lnTo>
                  <a:pt x="259894" y="0"/>
                </a:lnTo>
                <a:lnTo>
                  <a:pt x="257068" y="466"/>
                </a:lnTo>
                <a:lnTo>
                  <a:pt x="248848" y="3523"/>
                </a:lnTo>
                <a:lnTo>
                  <a:pt x="238060" y="6049"/>
                </a:lnTo>
                <a:lnTo>
                  <a:pt x="234892" y="8308"/>
                </a:lnTo>
                <a:lnTo>
                  <a:pt x="228832" y="15899"/>
                </a:lnTo>
                <a:lnTo>
                  <a:pt x="224930" y="20590"/>
                </a:lnTo>
                <a:lnTo>
                  <a:pt x="220423" y="25622"/>
                </a:lnTo>
                <a:lnTo>
                  <a:pt x="215514" y="30882"/>
                </a:lnTo>
                <a:lnTo>
                  <a:pt x="211289" y="36294"/>
                </a:lnTo>
                <a:lnTo>
                  <a:pt x="207520" y="41807"/>
                </a:lnTo>
                <a:lnTo>
                  <a:pt x="204054" y="47387"/>
                </a:lnTo>
                <a:lnTo>
                  <a:pt x="200791" y="53012"/>
                </a:lnTo>
                <a:lnTo>
                  <a:pt x="194626" y="64342"/>
                </a:lnTo>
                <a:lnTo>
                  <a:pt x="185800" y="81431"/>
                </a:lnTo>
                <a:lnTo>
                  <a:pt x="182906" y="88090"/>
                </a:lnTo>
                <a:lnTo>
                  <a:pt x="180026" y="95388"/>
                </a:lnTo>
                <a:lnTo>
                  <a:pt x="177152" y="103110"/>
                </a:lnTo>
                <a:lnTo>
                  <a:pt x="175237" y="110163"/>
                </a:lnTo>
                <a:lnTo>
                  <a:pt x="173960" y="116770"/>
                </a:lnTo>
                <a:lnTo>
                  <a:pt x="173108" y="123080"/>
                </a:lnTo>
                <a:lnTo>
                  <a:pt x="172541" y="129192"/>
                </a:lnTo>
                <a:lnTo>
                  <a:pt x="172162" y="135171"/>
                </a:lnTo>
                <a:lnTo>
                  <a:pt x="171742" y="146894"/>
                </a:lnTo>
                <a:lnTo>
                  <a:pt x="171555" y="158455"/>
                </a:lnTo>
                <a:lnTo>
                  <a:pt x="172458" y="164205"/>
                </a:lnTo>
                <a:lnTo>
                  <a:pt x="174012" y="169943"/>
                </a:lnTo>
                <a:lnTo>
                  <a:pt x="176001" y="175673"/>
                </a:lnTo>
                <a:lnTo>
                  <a:pt x="178279" y="181399"/>
                </a:lnTo>
                <a:lnTo>
                  <a:pt x="180750" y="187121"/>
                </a:lnTo>
                <a:lnTo>
                  <a:pt x="186036" y="198559"/>
                </a:lnTo>
                <a:lnTo>
                  <a:pt x="191560" y="209992"/>
                </a:lnTo>
                <a:lnTo>
                  <a:pt x="194367" y="214755"/>
                </a:lnTo>
                <a:lnTo>
                  <a:pt x="200026" y="222588"/>
                </a:lnTo>
                <a:lnTo>
                  <a:pt x="208256" y="229244"/>
                </a:lnTo>
                <a:lnTo>
                  <a:pt x="217311" y="235377"/>
                </a:lnTo>
                <a:lnTo>
                  <a:pt x="224511" y="241278"/>
                </a:lnTo>
                <a:lnTo>
                  <a:pt x="233425" y="247076"/>
                </a:lnTo>
                <a:lnTo>
                  <a:pt x="238470" y="249956"/>
                </a:lnTo>
                <a:lnTo>
                  <a:pt x="249155" y="253155"/>
                </a:lnTo>
                <a:lnTo>
                  <a:pt x="260253" y="254577"/>
                </a:lnTo>
                <a:lnTo>
                  <a:pt x="271536" y="255209"/>
                </a:lnTo>
                <a:lnTo>
                  <a:pt x="282900" y="258030"/>
                </a:lnTo>
                <a:lnTo>
                  <a:pt x="288598" y="260115"/>
                </a:lnTo>
                <a:lnTo>
                  <a:pt x="293349" y="260553"/>
                </a:lnTo>
                <a:lnTo>
                  <a:pt x="297468" y="259893"/>
                </a:lnTo>
                <a:lnTo>
                  <a:pt x="301168" y="258500"/>
                </a:lnTo>
                <a:lnTo>
                  <a:pt x="312898" y="256952"/>
                </a:lnTo>
                <a:lnTo>
                  <a:pt x="320025" y="256540"/>
                </a:lnTo>
                <a:lnTo>
                  <a:pt x="330486" y="253541"/>
                </a:lnTo>
                <a:lnTo>
                  <a:pt x="340216" y="249034"/>
                </a:lnTo>
                <a:lnTo>
                  <a:pt x="346811" y="246498"/>
                </a:lnTo>
                <a:lnTo>
                  <a:pt x="354065" y="243855"/>
                </a:lnTo>
                <a:lnTo>
                  <a:pt x="364665" y="238378"/>
                </a:lnTo>
                <a:lnTo>
                  <a:pt x="375988" y="229941"/>
                </a:lnTo>
                <a:lnTo>
                  <a:pt x="385718" y="2214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1121"/>
          <p:cNvSpPr/>
          <p:nvPr/>
        </p:nvSpPr>
        <p:spPr>
          <a:xfrm>
            <a:off x="5078520" y="4518000"/>
            <a:ext cx="85680" cy="658800"/>
          </a:xfrm>
          <a:custGeom>
            <a:avLst/>
            <a:gdLst>
              <a:gd name="textAreaLeft" fmla="*/ 0 w 85680"/>
              <a:gd name="textAreaRight" fmla="*/ 86040 w 8568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85336" h="659565">
                <a:moveTo>
                  <a:pt x="33903" y="0"/>
                </a:moveTo>
                <a:lnTo>
                  <a:pt x="26522" y="7381"/>
                </a:lnTo>
                <a:lnTo>
                  <a:pt x="24614" y="22025"/>
                </a:lnTo>
                <a:lnTo>
                  <a:pt x="22948" y="27066"/>
                </a:lnTo>
                <a:lnTo>
                  <a:pt x="20884" y="32332"/>
                </a:lnTo>
                <a:lnTo>
                  <a:pt x="18592" y="43262"/>
                </a:lnTo>
                <a:lnTo>
                  <a:pt x="16620" y="55423"/>
                </a:lnTo>
                <a:lnTo>
                  <a:pt x="14761" y="62666"/>
                </a:lnTo>
                <a:lnTo>
                  <a:pt x="12570" y="70352"/>
                </a:lnTo>
                <a:lnTo>
                  <a:pt x="10134" y="86513"/>
                </a:lnTo>
                <a:lnTo>
                  <a:pt x="8099" y="104173"/>
                </a:lnTo>
                <a:lnTo>
                  <a:pt x="6223" y="114216"/>
                </a:lnTo>
                <a:lnTo>
                  <a:pt x="4019" y="124722"/>
                </a:lnTo>
                <a:lnTo>
                  <a:pt x="1572" y="144014"/>
                </a:lnTo>
                <a:lnTo>
                  <a:pt x="484" y="163066"/>
                </a:lnTo>
                <a:lnTo>
                  <a:pt x="0" y="184234"/>
                </a:lnTo>
                <a:lnTo>
                  <a:pt x="824" y="195213"/>
                </a:lnTo>
                <a:lnTo>
                  <a:pt x="2325" y="206342"/>
                </a:lnTo>
                <a:lnTo>
                  <a:pt x="4279" y="217571"/>
                </a:lnTo>
                <a:lnTo>
                  <a:pt x="5581" y="228868"/>
                </a:lnTo>
                <a:lnTo>
                  <a:pt x="6449" y="240209"/>
                </a:lnTo>
                <a:lnTo>
                  <a:pt x="7027" y="251579"/>
                </a:lnTo>
                <a:lnTo>
                  <a:pt x="8366" y="262969"/>
                </a:lnTo>
                <a:lnTo>
                  <a:pt x="10211" y="274373"/>
                </a:lnTo>
                <a:lnTo>
                  <a:pt x="12393" y="285785"/>
                </a:lnTo>
                <a:lnTo>
                  <a:pt x="17358" y="308626"/>
                </a:lnTo>
                <a:lnTo>
                  <a:pt x="31125" y="365762"/>
                </a:lnTo>
                <a:lnTo>
                  <a:pt x="53908" y="457200"/>
                </a:lnTo>
                <a:lnTo>
                  <a:pt x="55812" y="468630"/>
                </a:lnTo>
                <a:lnTo>
                  <a:pt x="57082" y="480060"/>
                </a:lnTo>
                <a:lnTo>
                  <a:pt x="57928" y="491490"/>
                </a:lnTo>
                <a:lnTo>
                  <a:pt x="59445" y="501968"/>
                </a:lnTo>
                <a:lnTo>
                  <a:pt x="61408" y="511810"/>
                </a:lnTo>
                <a:lnTo>
                  <a:pt x="63670" y="521230"/>
                </a:lnTo>
                <a:lnTo>
                  <a:pt x="66183" y="539315"/>
                </a:lnTo>
                <a:lnTo>
                  <a:pt x="68252" y="556878"/>
                </a:lnTo>
                <a:lnTo>
                  <a:pt x="70137" y="565562"/>
                </a:lnTo>
                <a:lnTo>
                  <a:pt x="72347" y="574209"/>
                </a:lnTo>
                <a:lnTo>
                  <a:pt x="74802" y="591437"/>
                </a:lnTo>
                <a:lnTo>
                  <a:pt x="75893" y="607666"/>
                </a:lnTo>
                <a:lnTo>
                  <a:pt x="76378" y="621229"/>
                </a:lnTo>
                <a:lnTo>
                  <a:pt x="77459" y="626560"/>
                </a:lnTo>
                <a:lnTo>
                  <a:pt x="79133" y="631067"/>
                </a:lnTo>
                <a:lnTo>
                  <a:pt x="81201" y="635024"/>
                </a:lnTo>
                <a:lnTo>
                  <a:pt x="83500" y="641960"/>
                </a:lnTo>
                <a:lnTo>
                  <a:pt x="85306" y="659564"/>
                </a:lnTo>
                <a:lnTo>
                  <a:pt x="85335" y="648105"/>
                </a:lnTo>
                <a:lnTo>
                  <a:pt x="84384" y="645430"/>
                </a:lnTo>
                <a:lnTo>
                  <a:pt x="82797" y="642694"/>
                </a:lnTo>
                <a:lnTo>
                  <a:pt x="76765" y="63436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1122"/>
          <p:cNvSpPr/>
          <p:nvPr/>
        </p:nvSpPr>
        <p:spPr>
          <a:xfrm>
            <a:off x="5060880" y="4518000"/>
            <a:ext cx="244440" cy="325440"/>
          </a:xfrm>
          <a:custGeom>
            <a:avLst/>
            <a:gdLst>
              <a:gd name="textAreaLeft" fmla="*/ 0 w 244440"/>
              <a:gd name="textAreaRight" fmla="*/ 244800 w 24444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244535" h="325708">
                <a:moveTo>
                  <a:pt x="0" y="68545"/>
                </a:moveTo>
                <a:lnTo>
                  <a:pt x="0" y="47307"/>
                </a:lnTo>
                <a:lnTo>
                  <a:pt x="953" y="44861"/>
                </a:lnTo>
                <a:lnTo>
                  <a:pt x="6844" y="36869"/>
                </a:lnTo>
                <a:lnTo>
                  <a:pt x="11932" y="31289"/>
                </a:lnTo>
                <a:lnTo>
                  <a:pt x="15574" y="28468"/>
                </a:lnTo>
                <a:lnTo>
                  <a:pt x="19908" y="25634"/>
                </a:lnTo>
                <a:lnTo>
                  <a:pt x="24702" y="22793"/>
                </a:lnTo>
                <a:lnTo>
                  <a:pt x="29803" y="19946"/>
                </a:lnTo>
                <a:lnTo>
                  <a:pt x="40551" y="14243"/>
                </a:lnTo>
                <a:lnTo>
                  <a:pt x="46084" y="12341"/>
                </a:lnTo>
                <a:lnTo>
                  <a:pt x="51678" y="11073"/>
                </a:lnTo>
                <a:lnTo>
                  <a:pt x="57312" y="10228"/>
                </a:lnTo>
                <a:lnTo>
                  <a:pt x="63925" y="8712"/>
                </a:lnTo>
                <a:lnTo>
                  <a:pt x="71192" y="6749"/>
                </a:lnTo>
                <a:lnTo>
                  <a:pt x="78894" y="4488"/>
                </a:lnTo>
                <a:lnTo>
                  <a:pt x="85933" y="2980"/>
                </a:lnTo>
                <a:lnTo>
                  <a:pt x="92532" y="1975"/>
                </a:lnTo>
                <a:lnTo>
                  <a:pt x="98836" y="1305"/>
                </a:lnTo>
                <a:lnTo>
                  <a:pt x="105895" y="859"/>
                </a:lnTo>
                <a:lnTo>
                  <a:pt x="113459" y="560"/>
                </a:lnTo>
                <a:lnTo>
                  <a:pt x="129484" y="230"/>
                </a:lnTo>
                <a:lnTo>
                  <a:pt x="167017" y="0"/>
                </a:lnTo>
                <a:lnTo>
                  <a:pt x="173258" y="941"/>
                </a:lnTo>
                <a:lnTo>
                  <a:pt x="179322" y="2520"/>
                </a:lnTo>
                <a:lnTo>
                  <a:pt x="185271" y="4526"/>
                </a:lnTo>
                <a:lnTo>
                  <a:pt x="191142" y="7768"/>
                </a:lnTo>
                <a:lnTo>
                  <a:pt x="196960" y="11835"/>
                </a:lnTo>
                <a:lnTo>
                  <a:pt x="202744" y="16451"/>
                </a:lnTo>
                <a:lnTo>
                  <a:pt x="208505" y="20481"/>
                </a:lnTo>
                <a:lnTo>
                  <a:pt x="214251" y="24120"/>
                </a:lnTo>
                <a:lnTo>
                  <a:pt x="219987" y="27498"/>
                </a:lnTo>
                <a:lnTo>
                  <a:pt x="224763" y="31655"/>
                </a:lnTo>
                <a:lnTo>
                  <a:pt x="228899" y="36332"/>
                </a:lnTo>
                <a:lnTo>
                  <a:pt x="232610" y="41355"/>
                </a:lnTo>
                <a:lnTo>
                  <a:pt x="235083" y="46608"/>
                </a:lnTo>
                <a:lnTo>
                  <a:pt x="236732" y="52015"/>
                </a:lnTo>
                <a:lnTo>
                  <a:pt x="237831" y="57526"/>
                </a:lnTo>
                <a:lnTo>
                  <a:pt x="239517" y="63103"/>
                </a:lnTo>
                <a:lnTo>
                  <a:pt x="241593" y="68728"/>
                </a:lnTo>
                <a:lnTo>
                  <a:pt x="243930" y="74381"/>
                </a:lnTo>
                <a:lnTo>
                  <a:pt x="244534" y="81009"/>
                </a:lnTo>
                <a:lnTo>
                  <a:pt x="243986" y="88284"/>
                </a:lnTo>
                <a:lnTo>
                  <a:pt x="242667" y="95993"/>
                </a:lnTo>
                <a:lnTo>
                  <a:pt x="241788" y="103988"/>
                </a:lnTo>
                <a:lnTo>
                  <a:pt x="241202" y="112176"/>
                </a:lnTo>
                <a:lnTo>
                  <a:pt x="240811" y="120493"/>
                </a:lnTo>
                <a:lnTo>
                  <a:pt x="239598" y="128894"/>
                </a:lnTo>
                <a:lnTo>
                  <a:pt x="237837" y="137353"/>
                </a:lnTo>
                <a:lnTo>
                  <a:pt x="235711" y="145849"/>
                </a:lnTo>
                <a:lnTo>
                  <a:pt x="232388" y="154372"/>
                </a:lnTo>
                <a:lnTo>
                  <a:pt x="228268" y="162910"/>
                </a:lnTo>
                <a:lnTo>
                  <a:pt x="223616" y="171460"/>
                </a:lnTo>
                <a:lnTo>
                  <a:pt x="218610" y="180017"/>
                </a:lnTo>
                <a:lnTo>
                  <a:pt x="207967" y="197146"/>
                </a:lnTo>
                <a:lnTo>
                  <a:pt x="201510" y="205714"/>
                </a:lnTo>
                <a:lnTo>
                  <a:pt x="194347" y="214283"/>
                </a:lnTo>
                <a:lnTo>
                  <a:pt x="186715" y="222854"/>
                </a:lnTo>
                <a:lnTo>
                  <a:pt x="179722" y="231425"/>
                </a:lnTo>
                <a:lnTo>
                  <a:pt x="173155" y="239997"/>
                </a:lnTo>
                <a:lnTo>
                  <a:pt x="166871" y="248569"/>
                </a:lnTo>
                <a:lnTo>
                  <a:pt x="160778" y="256188"/>
                </a:lnTo>
                <a:lnTo>
                  <a:pt x="154810" y="263173"/>
                </a:lnTo>
                <a:lnTo>
                  <a:pt x="148927" y="269735"/>
                </a:lnTo>
                <a:lnTo>
                  <a:pt x="137310" y="282105"/>
                </a:lnTo>
                <a:lnTo>
                  <a:pt x="131545" y="288071"/>
                </a:lnTo>
                <a:lnTo>
                  <a:pt x="125797" y="293001"/>
                </a:lnTo>
                <a:lnTo>
                  <a:pt x="120059" y="297240"/>
                </a:lnTo>
                <a:lnTo>
                  <a:pt x="114330" y="301018"/>
                </a:lnTo>
                <a:lnTo>
                  <a:pt x="109557" y="304490"/>
                </a:lnTo>
                <a:lnTo>
                  <a:pt x="105423" y="307756"/>
                </a:lnTo>
                <a:lnTo>
                  <a:pt x="101715" y="310887"/>
                </a:lnTo>
                <a:lnTo>
                  <a:pt x="97338" y="313926"/>
                </a:lnTo>
                <a:lnTo>
                  <a:pt x="92514" y="316905"/>
                </a:lnTo>
                <a:lnTo>
                  <a:pt x="87394" y="319844"/>
                </a:lnTo>
                <a:lnTo>
                  <a:pt x="83027" y="321802"/>
                </a:lnTo>
                <a:lnTo>
                  <a:pt x="75636" y="323979"/>
                </a:lnTo>
                <a:lnTo>
                  <a:pt x="69176" y="324946"/>
                </a:lnTo>
                <a:lnTo>
                  <a:pt x="61818" y="325567"/>
                </a:lnTo>
                <a:lnTo>
                  <a:pt x="54474" y="325690"/>
                </a:lnTo>
                <a:lnTo>
                  <a:pt x="52786" y="325707"/>
                </a:lnTo>
                <a:lnTo>
                  <a:pt x="45810" y="319826"/>
                </a:lnTo>
                <a:lnTo>
                  <a:pt x="42863" y="3171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1123"/>
          <p:cNvSpPr/>
          <p:nvPr/>
        </p:nvSpPr>
        <p:spPr>
          <a:xfrm>
            <a:off x="5386320" y="4295880"/>
            <a:ext cx="111240" cy="555480"/>
          </a:xfrm>
          <a:custGeom>
            <a:avLst/>
            <a:gdLst>
              <a:gd name="textAreaLeft" fmla="*/ 0 w 111240"/>
              <a:gd name="textAreaRight" fmla="*/ 111600 w 11124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111441" h="556861">
                <a:moveTo>
                  <a:pt x="0" y="8220"/>
                </a:moveTo>
                <a:lnTo>
                  <a:pt x="0" y="0"/>
                </a:lnTo>
                <a:lnTo>
                  <a:pt x="2540" y="2344"/>
                </a:lnTo>
                <a:lnTo>
                  <a:pt x="4551" y="4303"/>
                </a:lnTo>
                <a:lnTo>
                  <a:pt x="6844" y="5608"/>
                </a:lnTo>
                <a:lnTo>
                  <a:pt x="9325" y="6479"/>
                </a:lnTo>
                <a:lnTo>
                  <a:pt x="11931" y="7059"/>
                </a:lnTo>
                <a:lnTo>
                  <a:pt x="14622" y="8399"/>
                </a:lnTo>
                <a:lnTo>
                  <a:pt x="17368" y="10244"/>
                </a:lnTo>
                <a:lnTo>
                  <a:pt x="20151" y="12427"/>
                </a:lnTo>
                <a:lnTo>
                  <a:pt x="22959" y="15787"/>
                </a:lnTo>
                <a:lnTo>
                  <a:pt x="25784" y="19932"/>
                </a:lnTo>
                <a:lnTo>
                  <a:pt x="28619" y="24600"/>
                </a:lnTo>
                <a:lnTo>
                  <a:pt x="31770" y="37407"/>
                </a:lnTo>
                <a:lnTo>
                  <a:pt x="34123" y="51672"/>
                </a:lnTo>
                <a:lnTo>
                  <a:pt x="36083" y="58143"/>
                </a:lnTo>
                <a:lnTo>
                  <a:pt x="40802" y="71365"/>
                </a:lnTo>
                <a:lnTo>
                  <a:pt x="46075" y="86767"/>
                </a:lnTo>
                <a:lnTo>
                  <a:pt x="49053" y="103137"/>
                </a:lnTo>
                <a:lnTo>
                  <a:pt x="51329" y="119938"/>
                </a:lnTo>
                <a:lnTo>
                  <a:pt x="53269" y="128418"/>
                </a:lnTo>
                <a:lnTo>
                  <a:pt x="80042" y="234114"/>
                </a:lnTo>
                <a:lnTo>
                  <a:pt x="81936" y="245493"/>
                </a:lnTo>
                <a:lnTo>
                  <a:pt x="83200" y="256890"/>
                </a:lnTo>
                <a:lnTo>
                  <a:pt x="84041" y="268297"/>
                </a:lnTo>
                <a:lnTo>
                  <a:pt x="85555" y="279712"/>
                </a:lnTo>
                <a:lnTo>
                  <a:pt x="87516" y="291132"/>
                </a:lnTo>
                <a:lnTo>
                  <a:pt x="89777" y="302555"/>
                </a:lnTo>
                <a:lnTo>
                  <a:pt x="94829" y="325408"/>
                </a:lnTo>
                <a:lnTo>
                  <a:pt x="97509" y="336836"/>
                </a:lnTo>
                <a:lnTo>
                  <a:pt x="99296" y="348265"/>
                </a:lnTo>
                <a:lnTo>
                  <a:pt x="100487" y="359694"/>
                </a:lnTo>
                <a:lnTo>
                  <a:pt x="101281" y="371123"/>
                </a:lnTo>
                <a:lnTo>
                  <a:pt x="101811" y="382553"/>
                </a:lnTo>
                <a:lnTo>
                  <a:pt x="102400" y="405412"/>
                </a:lnTo>
                <a:lnTo>
                  <a:pt x="103509" y="415890"/>
                </a:lnTo>
                <a:lnTo>
                  <a:pt x="105201" y="425732"/>
                </a:lnTo>
                <a:lnTo>
                  <a:pt x="107281" y="435151"/>
                </a:lnTo>
                <a:lnTo>
                  <a:pt x="108668" y="445241"/>
                </a:lnTo>
                <a:lnTo>
                  <a:pt x="109593" y="455777"/>
                </a:lnTo>
                <a:lnTo>
                  <a:pt x="110620" y="475739"/>
                </a:lnTo>
                <a:lnTo>
                  <a:pt x="111077" y="490961"/>
                </a:lnTo>
                <a:lnTo>
                  <a:pt x="111428" y="538314"/>
                </a:lnTo>
                <a:lnTo>
                  <a:pt x="111440" y="550868"/>
                </a:lnTo>
                <a:lnTo>
                  <a:pt x="110488" y="552865"/>
                </a:lnTo>
                <a:lnTo>
                  <a:pt x="108901" y="554197"/>
                </a:lnTo>
                <a:lnTo>
                  <a:pt x="102870" y="556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1124"/>
          <p:cNvSpPr/>
          <p:nvPr/>
        </p:nvSpPr>
        <p:spPr>
          <a:xfrm>
            <a:off x="5335560" y="4508640"/>
            <a:ext cx="351000" cy="77760"/>
          </a:xfrm>
          <a:custGeom>
            <a:avLst/>
            <a:gdLst>
              <a:gd name="textAreaLeft" fmla="*/ 0 w 351000"/>
              <a:gd name="textAreaRight" fmla="*/ 351360 w 3510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51474" h="77153">
                <a:moveTo>
                  <a:pt x="0" y="77152"/>
                </a:moveTo>
                <a:lnTo>
                  <a:pt x="0" y="64133"/>
                </a:lnTo>
                <a:lnTo>
                  <a:pt x="953" y="62758"/>
                </a:lnTo>
                <a:lnTo>
                  <a:pt x="2540" y="61841"/>
                </a:lnTo>
                <a:lnTo>
                  <a:pt x="4551" y="61230"/>
                </a:lnTo>
                <a:lnTo>
                  <a:pt x="6844" y="59869"/>
                </a:lnTo>
                <a:lnTo>
                  <a:pt x="9325" y="58011"/>
                </a:lnTo>
                <a:lnTo>
                  <a:pt x="11932" y="55819"/>
                </a:lnTo>
                <a:lnTo>
                  <a:pt x="15574" y="54357"/>
                </a:lnTo>
                <a:lnTo>
                  <a:pt x="24702" y="52733"/>
                </a:lnTo>
                <a:lnTo>
                  <a:pt x="29803" y="51348"/>
                </a:lnTo>
                <a:lnTo>
                  <a:pt x="35109" y="49472"/>
                </a:lnTo>
                <a:lnTo>
                  <a:pt x="40551" y="47269"/>
                </a:lnTo>
                <a:lnTo>
                  <a:pt x="47036" y="45800"/>
                </a:lnTo>
                <a:lnTo>
                  <a:pt x="54217" y="44821"/>
                </a:lnTo>
                <a:lnTo>
                  <a:pt x="61863" y="44168"/>
                </a:lnTo>
                <a:lnTo>
                  <a:pt x="68864" y="42780"/>
                </a:lnTo>
                <a:lnTo>
                  <a:pt x="75437" y="40903"/>
                </a:lnTo>
                <a:lnTo>
                  <a:pt x="81724" y="38698"/>
                </a:lnTo>
                <a:lnTo>
                  <a:pt x="89725" y="36276"/>
                </a:lnTo>
                <a:lnTo>
                  <a:pt x="108776" y="31045"/>
                </a:lnTo>
                <a:lnTo>
                  <a:pt x="117284" y="28317"/>
                </a:lnTo>
                <a:lnTo>
                  <a:pt x="124862" y="25545"/>
                </a:lnTo>
                <a:lnTo>
                  <a:pt x="131819" y="22744"/>
                </a:lnTo>
                <a:lnTo>
                  <a:pt x="139314" y="20878"/>
                </a:lnTo>
                <a:lnTo>
                  <a:pt x="147169" y="19633"/>
                </a:lnTo>
                <a:lnTo>
                  <a:pt x="155262" y="18804"/>
                </a:lnTo>
                <a:lnTo>
                  <a:pt x="163516" y="17298"/>
                </a:lnTo>
                <a:lnTo>
                  <a:pt x="171875" y="15342"/>
                </a:lnTo>
                <a:lnTo>
                  <a:pt x="180306" y="13085"/>
                </a:lnTo>
                <a:lnTo>
                  <a:pt x="188784" y="11581"/>
                </a:lnTo>
                <a:lnTo>
                  <a:pt x="197294" y="10578"/>
                </a:lnTo>
                <a:lnTo>
                  <a:pt x="205824" y="9910"/>
                </a:lnTo>
                <a:lnTo>
                  <a:pt x="213416" y="9463"/>
                </a:lnTo>
                <a:lnTo>
                  <a:pt x="226932" y="8968"/>
                </a:lnTo>
                <a:lnTo>
                  <a:pt x="233203" y="7884"/>
                </a:lnTo>
                <a:lnTo>
                  <a:pt x="239289" y="6208"/>
                </a:lnTo>
                <a:lnTo>
                  <a:pt x="245251" y="4139"/>
                </a:lnTo>
                <a:lnTo>
                  <a:pt x="252083" y="2759"/>
                </a:lnTo>
                <a:lnTo>
                  <a:pt x="259496" y="1839"/>
                </a:lnTo>
                <a:lnTo>
                  <a:pt x="267295" y="1226"/>
                </a:lnTo>
                <a:lnTo>
                  <a:pt x="274399" y="818"/>
                </a:lnTo>
                <a:lnTo>
                  <a:pt x="287372" y="363"/>
                </a:lnTo>
                <a:lnTo>
                  <a:pt x="311223" y="71"/>
                </a:lnTo>
                <a:lnTo>
                  <a:pt x="35147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1125"/>
          <p:cNvSpPr/>
          <p:nvPr/>
        </p:nvSpPr>
        <p:spPr>
          <a:xfrm>
            <a:off x="5764320" y="4422600"/>
            <a:ext cx="282600" cy="335160"/>
          </a:xfrm>
          <a:custGeom>
            <a:avLst/>
            <a:gdLst>
              <a:gd name="textAreaLeft" fmla="*/ 0 w 282600"/>
              <a:gd name="textAreaRight" fmla="*/ 282960 w 2826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82729" h="333825">
                <a:moveTo>
                  <a:pt x="231457" y="8571"/>
                </a:moveTo>
                <a:lnTo>
                  <a:pt x="231457" y="352"/>
                </a:lnTo>
                <a:lnTo>
                  <a:pt x="222727" y="20"/>
                </a:lnTo>
                <a:lnTo>
                  <a:pt x="190833" y="0"/>
                </a:lnTo>
                <a:lnTo>
                  <a:pt x="186277" y="952"/>
                </a:lnTo>
                <a:lnTo>
                  <a:pt x="178675" y="4550"/>
                </a:lnTo>
                <a:lnTo>
                  <a:pt x="174362" y="5890"/>
                </a:lnTo>
                <a:lnTo>
                  <a:pt x="169581" y="6784"/>
                </a:lnTo>
                <a:lnTo>
                  <a:pt x="164489" y="7380"/>
                </a:lnTo>
                <a:lnTo>
                  <a:pt x="159189" y="8729"/>
                </a:lnTo>
                <a:lnTo>
                  <a:pt x="153751" y="10581"/>
                </a:lnTo>
                <a:lnTo>
                  <a:pt x="148221" y="12769"/>
                </a:lnTo>
                <a:lnTo>
                  <a:pt x="134456" y="17740"/>
                </a:lnTo>
                <a:lnTo>
                  <a:pt x="126785" y="20399"/>
                </a:lnTo>
                <a:lnTo>
                  <a:pt x="119766" y="24076"/>
                </a:lnTo>
                <a:lnTo>
                  <a:pt x="113181" y="28433"/>
                </a:lnTo>
                <a:lnTo>
                  <a:pt x="106887" y="33242"/>
                </a:lnTo>
                <a:lnTo>
                  <a:pt x="100785" y="37401"/>
                </a:lnTo>
                <a:lnTo>
                  <a:pt x="94813" y="41126"/>
                </a:lnTo>
                <a:lnTo>
                  <a:pt x="88926" y="44562"/>
                </a:lnTo>
                <a:lnTo>
                  <a:pt x="83096" y="48757"/>
                </a:lnTo>
                <a:lnTo>
                  <a:pt x="77305" y="53459"/>
                </a:lnTo>
                <a:lnTo>
                  <a:pt x="71539" y="58499"/>
                </a:lnTo>
                <a:lnTo>
                  <a:pt x="65790" y="62812"/>
                </a:lnTo>
                <a:lnTo>
                  <a:pt x="60053" y="66639"/>
                </a:lnTo>
                <a:lnTo>
                  <a:pt x="54323" y="70143"/>
                </a:lnTo>
                <a:lnTo>
                  <a:pt x="48598" y="73431"/>
                </a:lnTo>
                <a:lnTo>
                  <a:pt x="37157" y="79625"/>
                </a:lnTo>
                <a:lnTo>
                  <a:pt x="32391" y="83563"/>
                </a:lnTo>
                <a:lnTo>
                  <a:pt x="24556" y="93018"/>
                </a:lnTo>
                <a:lnTo>
                  <a:pt x="17899" y="101031"/>
                </a:lnTo>
                <a:lnTo>
                  <a:pt x="11765" y="107767"/>
                </a:lnTo>
                <a:lnTo>
                  <a:pt x="5864" y="113935"/>
                </a:lnTo>
                <a:lnTo>
                  <a:pt x="3910" y="116914"/>
                </a:lnTo>
                <a:lnTo>
                  <a:pt x="1738" y="122764"/>
                </a:lnTo>
                <a:lnTo>
                  <a:pt x="515" y="131412"/>
                </a:lnTo>
                <a:lnTo>
                  <a:pt x="153" y="140007"/>
                </a:lnTo>
                <a:lnTo>
                  <a:pt x="1054" y="141915"/>
                </a:lnTo>
                <a:lnTo>
                  <a:pt x="2608" y="143187"/>
                </a:lnTo>
                <a:lnTo>
                  <a:pt x="4596" y="144035"/>
                </a:lnTo>
                <a:lnTo>
                  <a:pt x="11945" y="145228"/>
                </a:lnTo>
                <a:lnTo>
                  <a:pt x="19914" y="148048"/>
                </a:lnTo>
                <a:lnTo>
                  <a:pt x="24706" y="150133"/>
                </a:lnTo>
                <a:lnTo>
                  <a:pt x="29806" y="151523"/>
                </a:lnTo>
                <a:lnTo>
                  <a:pt x="35110" y="152450"/>
                </a:lnTo>
                <a:lnTo>
                  <a:pt x="40552" y="153068"/>
                </a:lnTo>
                <a:lnTo>
                  <a:pt x="46085" y="154432"/>
                </a:lnTo>
                <a:lnTo>
                  <a:pt x="51678" y="156295"/>
                </a:lnTo>
                <a:lnTo>
                  <a:pt x="57313" y="158488"/>
                </a:lnTo>
                <a:lnTo>
                  <a:pt x="63925" y="159951"/>
                </a:lnTo>
                <a:lnTo>
                  <a:pt x="71192" y="160926"/>
                </a:lnTo>
                <a:lnTo>
                  <a:pt x="78894" y="161576"/>
                </a:lnTo>
                <a:lnTo>
                  <a:pt x="86886" y="162010"/>
                </a:lnTo>
                <a:lnTo>
                  <a:pt x="103386" y="162491"/>
                </a:lnTo>
                <a:lnTo>
                  <a:pt x="111786" y="163572"/>
                </a:lnTo>
                <a:lnTo>
                  <a:pt x="120244" y="165245"/>
                </a:lnTo>
                <a:lnTo>
                  <a:pt x="128740" y="167313"/>
                </a:lnTo>
                <a:lnTo>
                  <a:pt x="138214" y="168691"/>
                </a:lnTo>
                <a:lnTo>
                  <a:pt x="148341" y="169610"/>
                </a:lnTo>
                <a:lnTo>
                  <a:pt x="158902" y="170223"/>
                </a:lnTo>
                <a:lnTo>
                  <a:pt x="168799" y="171584"/>
                </a:lnTo>
                <a:lnTo>
                  <a:pt x="178256" y="173444"/>
                </a:lnTo>
                <a:lnTo>
                  <a:pt x="187417" y="175636"/>
                </a:lnTo>
                <a:lnTo>
                  <a:pt x="195429" y="178051"/>
                </a:lnTo>
                <a:lnTo>
                  <a:pt x="202677" y="180613"/>
                </a:lnTo>
                <a:lnTo>
                  <a:pt x="209413" y="183273"/>
                </a:lnTo>
                <a:lnTo>
                  <a:pt x="224517" y="188769"/>
                </a:lnTo>
                <a:lnTo>
                  <a:pt x="232546" y="191568"/>
                </a:lnTo>
                <a:lnTo>
                  <a:pt x="239803" y="194387"/>
                </a:lnTo>
                <a:lnTo>
                  <a:pt x="246546" y="197218"/>
                </a:lnTo>
                <a:lnTo>
                  <a:pt x="252947" y="200059"/>
                </a:lnTo>
                <a:lnTo>
                  <a:pt x="258166" y="202904"/>
                </a:lnTo>
                <a:lnTo>
                  <a:pt x="266506" y="208607"/>
                </a:lnTo>
                <a:lnTo>
                  <a:pt x="273387" y="216856"/>
                </a:lnTo>
                <a:lnTo>
                  <a:pt x="276556" y="221722"/>
                </a:lnTo>
                <a:lnTo>
                  <a:pt x="278668" y="226872"/>
                </a:lnTo>
                <a:lnTo>
                  <a:pt x="280076" y="232210"/>
                </a:lnTo>
                <a:lnTo>
                  <a:pt x="281641" y="242268"/>
                </a:lnTo>
                <a:lnTo>
                  <a:pt x="282336" y="249914"/>
                </a:lnTo>
                <a:lnTo>
                  <a:pt x="282728" y="259574"/>
                </a:lnTo>
                <a:lnTo>
                  <a:pt x="280280" y="268083"/>
                </a:lnTo>
                <a:lnTo>
                  <a:pt x="276016" y="277262"/>
                </a:lnTo>
                <a:lnTo>
                  <a:pt x="270946" y="284517"/>
                </a:lnTo>
                <a:lnTo>
                  <a:pt x="262978" y="290916"/>
                </a:lnTo>
                <a:lnTo>
                  <a:pt x="258186" y="293956"/>
                </a:lnTo>
                <a:lnTo>
                  <a:pt x="253087" y="296936"/>
                </a:lnTo>
                <a:lnTo>
                  <a:pt x="247782" y="299874"/>
                </a:lnTo>
                <a:lnTo>
                  <a:pt x="242340" y="302786"/>
                </a:lnTo>
                <a:lnTo>
                  <a:pt x="235855" y="305679"/>
                </a:lnTo>
                <a:lnTo>
                  <a:pt x="228675" y="308561"/>
                </a:lnTo>
                <a:lnTo>
                  <a:pt x="213076" y="314302"/>
                </a:lnTo>
                <a:lnTo>
                  <a:pt x="196618" y="320030"/>
                </a:lnTo>
                <a:lnTo>
                  <a:pt x="189181" y="322890"/>
                </a:lnTo>
                <a:lnTo>
                  <a:pt x="182318" y="325749"/>
                </a:lnTo>
                <a:lnTo>
                  <a:pt x="175838" y="328608"/>
                </a:lnTo>
                <a:lnTo>
                  <a:pt x="168660" y="330514"/>
                </a:lnTo>
                <a:lnTo>
                  <a:pt x="161018" y="331785"/>
                </a:lnTo>
                <a:lnTo>
                  <a:pt x="153065" y="332632"/>
                </a:lnTo>
                <a:lnTo>
                  <a:pt x="145859" y="333197"/>
                </a:lnTo>
                <a:lnTo>
                  <a:pt x="139149" y="333573"/>
                </a:lnTo>
                <a:lnTo>
                  <a:pt x="132771" y="333824"/>
                </a:lnTo>
                <a:lnTo>
                  <a:pt x="125661" y="333039"/>
                </a:lnTo>
                <a:lnTo>
                  <a:pt x="118064" y="331563"/>
                </a:lnTo>
                <a:lnTo>
                  <a:pt x="110142" y="329627"/>
                </a:lnTo>
                <a:lnTo>
                  <a:pt x="102956" y="328336"/>
                </a:lnTo>
                <a:lnTo>
                  <a:pt x="96259" y="327475"/>
                </a:lnTo>
                <a:lnTo>
                  <a:pt x="89891" y="326901"/>
                </a:lnTo>
                <a:lnTo>
                  <a:pt x="83740" y="325566"/>
                </a:lnTo>
                <a:lnTo>
                  <a:pt x="77734" y="323724"/>
                </a:lnTo>
                <a:lnTo>
                  <a:pt x="71825" y="321543"/>
                </a:lnTo>
                <a:lnTo>
                  <a:pt x="65981" y="319136"/>
                </a:lnTo>
                <a:lnTo>
                  <a:pt x="60180" y="316580"/>
                </a:lnTo>
                <a:lnTo>
                  <a:pt x="54407" y="313923"/>
                </a:lnTo>
                <a:lnTo>
                  <a:pt x="48654" y="312151"/>
                </a:lnTo>
                <a:lnTo>
                  <a:pt x="42914" y="310970"/>
                </a:lnTo>
                <a:lnTo>
                  <a:pt x="37182" y="310183"/>
                </a:lnTo>
                <a:lnTo>
                  <a:pt x="32408" y="308706"/>
                </a:lnTo>
                <a:lnTo>
                  <a:pt x="24563" y="304524"/>
                </a:lnTo>
                <a:lnTo>
                  <a:pt x="17902" y="302031"/>
                </a:lnTo>
                <a:lnTo>
                  <a:pt x="14793" y="301366"/>
                </a:lnTo>
                <a:lnTo>
                  <a:pt x="8797" y="298087"/>
                </a:lnTo>
                <a:lnTo>
                  <a:pt x="0" y="29146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ving by factor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the equation in the form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+bx+c=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 into the form (x+m)(x+n)=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ing when a=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iamond and the squ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PenAnnotation1105"/>
          <p:cNvSpPr/>
          <p:nvPr/>
        </p:nvSpPr>
        <p:spPr>
          <a:xfrm>
            <a:off x="4786200" y="3429000"/>
            <a:ext cx="446040" cy="249120"/>
          </a:xfrm>
          <a:custGeom>
            <a:avLst/>
            <a:gdLst>
              <a:gd name="textAreaLeft" fmla="*/ 0 w 446040"/>
              <a:gd name="textAreaRight" fmla="*/ 446400 w 4460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445771" h="248437">
                <a:moveTo>
                  <a:pt x="0" y="137112"/>
                </a:moveTo>
                <a:lnTo>
                  <a:pt x="0" y="145331"/>
                </a:lnTo>
                <a:lnTo>
                  <a:pt x="4551" y="150130"/>
                </a:lnTo>
                <a:lnTo>
                  <a:pt x="5892" y="152458"/>
                </a:lnTo>
                <a:lnTo>
                  <a:pt x="7381" y="157585"/>
                </a:lnTo>
                <a:lnTo>
                  <a:pt x="10583" y="163038"/>
                </a:lnTo>
                <a:lnTo>
                  <a:pt x="12770" y="165826"/>
                </a:lnTo>
                <a:lnTo>
                  <a:pt x="15201" y="171464"/>
                </a:lnTo>
                <a:lnTo>
                  <a:pt x="15849" y="174301"/>
                </a:lnTo>
                <a:lnTo>
                  <a:pt x="17233" y="176192"/>
                </a:lnTo>
                <a:lnTo>
                  <a:pt x="19109" y="177452"/>
                </a:lnTo>
                <a:lnTo>
                  <a:pt x="21312" y="178293"/>
                </a:lnTo>
                <a:lnTo>
                  <a:pt x="22781" y="179806"/>
                </a:lnTo>
                <a:lnTo>
                  <a:pt x="23759" y="181767"/>
                </a:lnTo>
                <a:lnTo>
                  <a:pt x="24412" y="184027"/>
                </a:lnTo>
                <a:lnTo>
                  <a:pt x="27677" y="189078"/>
                </a:lnTo>
                <a:lnTo>
                  <a:pt x="32304" y="194498"/>
                </a:lnTo>
                <a:lnTo>
                  <a:pt x="37535" y="200082"/>
                </a:lnTo>
                <a:lnTo>
                  <a:pt x="39311" y="202904"/>
                </a:lnTo>
                <a:lnTo>
                  <a:pt x="41284" y="208580"/>
                </a:lnTo>
                <a:lnTo>
                  <a:pt x="44701" y="214278"/>
                </a:lnTo>
                <a:lnTo>
                  <a:pt x="49394" y="219985"/>
                </a:lnTo>
                <a:lnTo>
                  <a:pt x="54656" y="225697"/>
                </a:lnTo>
                <a:lnTo>
                  <a:pt x="62973" y="234267"/>
                </a:lnTo>
                <a:lnTo>
                  <a:pt x="65794" y="236172"/>
                </a:lnTo>
                <a:lnTo>
                  <a:pt x="74316" y="239805"/>
                </a:lnTo>
                <a:lnTo>
                  <a:pt x="82874" y="245538"/>
                </a:lnTo>
                <a:lnTo>
                  <a:pt x="88585" y="247214"/>
                </a:lnTo>
                <a:lnTo>
                  <a:pt x="100966" y="248289"/>
                </a:lnTo>
                <a:lnTo>
                  <a:pt x="110278" y="248436"/>
                </a:lnTo>
                <a:lnTo>
                  <a:pt x="114477" y="247523"/>
                </a:lnTo>
                <a:lnTo>
                  <a:pt x="121681" y="243968"/>
                </a:lnTo>
                <a:lnTo>
                  <a:pt x="131092" y="236612"/>
                </a:lnTo>
                <a:lnTo>
                  <a:pt x="135019" y="232973"/>
                </a:lnTo>
                <a:lnTo>
                  <a:pt x="144464" y="223849"/>
                </a:lnTo>
                <a:lnTo>
                  <a:pt x="150602" y="218749"/>
                </a:lnTo>
                <a:lnTo>
                  <a:pt x="157551" y="213444"/>
                </a:lnTo>
                <a:lnTo>
                  <a:pt x="165041" y="208002"/>
                </a:lnTo>
                <a:lnTo>
                  <a:pt x="180985" y="196876"/>
                </a:lnTo>
                <a:lnTo>
                  <a:pt x="189237" y="191242"/>
                </a:lnTo>
                <a:lnTo>
                  <a:pt x="197595" y="184629"/>
                </a:lnTo>
                <a:lnTo>
                  <a:pt x="206025" y="177362"/>
                </a:lnTo>
                <a:lnTo>
                  <a:pt x="214502" y="169660"/>
                </a:lnTo>
                <a:lnTo>
                  <a:pt x="231542" y="153483"/>
                </a:lnTo>
                <a:lnTo>
                  <a:pt x="240087" y="145168"/>
                </a:lnTo>
                <a:lnTo>
                  <a:pt x="249593" y="136768"/>
                </a:lnTo>
                <a:lnTo>
                  <a:pt x="259740" y="128310"/>
                </a:lnTo>
                <a:lnTo>
                  <a:pt x="270315" y="119814"/>
                </a:lnTo>
                <a:lnTo>
                  <a:pt x="280222" y="111292"/>
                </a:lnTo>
                <a:lnTo>
                  <a:pt x="289685" y="102754"/>
                </a:lnTo>
                <a:lnTo>
                  <a:pt x="298851" y="94204"/>
                </a:lnTo>
                <a:lnTo>
                  <a:pt x="307819" y="86599"/>
                </a:lnTo>
                <a:lnTo>
                  <a:pt x="316655" y="79624"/>
                </a:lnTo>
                <a:lnTo>
                  <a:pt x="325403" y="73069"/>
                </a:lnTo>
                <a:lnTo>
                  <a:pt x="333141" y="65841"/>
                </a:lnTo>
                <a:lnTo>
                  <a:pt x="340204" y="58166"/>
                </a:lnTo>
                <a:lnTo>
                  <a:pt x="346817" y="50191"/>
                </a:lnTo>
                <a:lnTo>
                  <a:pt x="353132" y="42969"/>
                </a:lnTo>
                <a:lnTo>
                  <a:pt x="359246" y="36250"/>
                </a:lnTo>
                <a:lnTo>
                  <a:pt x="365228" y="29866"/>
                </a:lnTo>
                <a:lnTo>
                  <a:pt x="371120" y="24657"/>
                </a:lnTo>
                <a:lnTo>
                  <a:pt x="376953" y="20232"/>
                </a:lnTo>
                <a:lnTo>
                  <a:pt x="388515" y="12775"/>
                </a:lnTo>
                <a:lnTo>
                  <a:pt x="400003" y="6286"/>
                </a:lnTo>
                <a:lnTo>
                  <a:pt x="408919" y="2767"/>
                </a:lnTo>
                <a:lnTo>
                  <a:pt x="419294" y="786"/>
                </a:lnTo>
                <a:lnTo>
                  <a:pt x="431333" y="116"/>
                </a:lnTo>
                <a:lnTo>
                  <a:pt x="440011" y="0"/>
                </a:lnTo>
                <a:lnTo>
                  <a:pt x="441930" y="937"/>
                </a:lnTo>
                <a:lnTo>
                  <a:pt x="443211" y="2513"/>
                </a:lnTo>
                <a:lnTo>
                  <a:pt x="445770" y="85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PenAnnotation1106"/>
          <p:cNvSpPr/>
          <p:nvPr/>
        </p:nvSpPr>
        <p:spPr>
          <a:xfrm>
            <a:off x="3389400" y="3832200"/>
            <a:ext cx="471240" cy="392040"/>
          </a:xfrm>
          <a:custGeom>
            <a:avLst/>
            <a:gdLst>
              <a:gd name="textAreaLeft" fmla="*/ 0 w 471240"/>
              <a:gd name="textAreaRight" fmla="*/ 471600 w 47124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471384" h="393027">
                <a:moveTo>
                  <a:pt x="8468" y="291465"/>
                </a:moveTo>
                <a:lnTo>
                  <a:pt x="0" y="291465"/>
                </a:lnTo>
                <a:lnTo>
                  <a:pt x="4477" y="291465"/>
                </a:lnTo>
                <a:lnTo>
                  <a:pt x="6760" y="292418"/>
                </a:lnTo>
                <a:lnTo>
                  <a:pt x="11836" y="296016"/>
                </a:lnTo>
                <a:lnTo>
                  <a:pt x="13571" y="298309"/>
                </a:lnTo>
                <a:lnTo>
                  <a:pt x="14728" y="300790"/>
                </a:lnTo>
                <a:lnTo>
                  <a:pt x="15499" y="303397"/>
                </a:lnTo>
                <a:lnTo>
                  <a:pt x="16965" y="305135"/>
                </a:lnTo>
                <a:lnTo>
                  <a:pt x="18895" y="306293"/>
                </a:lnTo>
                <a:lnTo>
                  <a:pt x="21135" y="307065"/>
                </a:lnTo>
                <a:lnTo>
                  <a:pt x="22628" y="308533"/>
                </a:lnTo>
                <a:lnTo>
                  <a:pt x="23622" y="310464"/>
                </a:lnTo>
                <a:lnTo>
                  <a:pt x="24286" y="312703"/>
                </a:lnTo>
                <a:lnTo>
                  <a:pt x="27563" y="317732"/>
                </a:lnTo>
                <a:lnTo>
                  <a:pt x="29770" y="320406"/>
                </a:lnTo>
                <a:lnTo>
                  <a:pt x="31243" y="323142"/>
                </a:lnTo>
                <a:lnTo>
                  <a:pt x="34266" y="331543"/>
                </a:lnTo>
                <a:lnTo>
                  <a:pt x="40771" y="340064"/>
                </a:lnTo>
                <a:lnTo>
                  <a:pt x="46002" y="345767"/>
                </a:lnTo>
                <a:lnTo>
                  <a:pt x="47779" y="348621"/>
                </a:lnTo>
                <a:lnTo>
                  <a:pt x="51230" y="357190"/>
                </a:lnTo>
                <a:lnTo>
                  <a:pt x="60448" y="368618"/>
                </a:lnTo>
                <a:lnTo>
                  <a:pt x="66890" y="375497"/>
                </a:lnTo>
                <a:lnTo>
                  <a:pt x="79945" y="382747"/>
                </a:lnTo>
                <a:lnTo>
                  <a:pt x="83098" y="384422"/>
                </a:lnTo>
                <a:lnTo>
                  <a:pt x="91966" y="391389"/>
                </a:lnTo>
                <a:lnTo>
                  <a:pt x="97331" y="393026"/>
                </a:lnTo>
                <a:lnTo>
                  <a:pt x="100095" y="392510"/>
                </a:lnTo>
                <a:lnTo>
                  <a:pt x="108536" y="388185"/>
                </a:lnTo>
                <a:lnTo>
                  <a:pt x="122461" y="383701"/>
                </a:lnTo>
                <a:lnTo>
                  <a:pt x="132474" y="379132"/>
                </a:lnTo>
                <a:lnTo>
                  <a:pt x="143274" y="373925"/>
                </a:lnTo>
                <a:lnTo>
                  <a:pt x="147869" y="370251"/>
                </a:lnTo>
                <a:lnTo>
                  <a:pt x="155514" y="361089"/>
                </a:lnTo>
                <a:lnTo>
                  <a:pt x="164627" y="350667"/>
                </a:lnTo>
                <a:lnTo>
                  <a:pt x="175027" y="338732"/>
                </a:lnTo>
                <a:lnTo>
                  <a:pt x="180468" y="331549"/>
                </a:lnTo>
                <a:lnTo>
                  <a:pt x="185999" y="323903"/>
                </a:lnTo>
                <a:lnTo>
                  <a:pt x="193497" y="315947"/>
                </a:lnTo>
                <a:lnTo>
                  <a:pt x="202306" y="307787"/>
                </a:lnTo>
                <a:lnTo>
                  <a:pt x="211988" y="299489"/>
                </a:lnTo>
                <a:lnTo>
                  <a:pt x="220348" y="291099"/>
                </a:lnTo>
                <a:lnTo>
                  <a:pt x="227826" y="282649"/>
                </a:lnTo>
                <a:lnTo>
                  <a:pt x="234717" y="274158"/>
                </a:lnTo>
                <a:lnTo>
                  <a:pt x="243121" y="264687"/>
                </a:lnTo>
                <a:lnTo>
                  <a:pt x="262618" y="244003"/>
                </a:lnTo>
                <a:lnTo>
                  <a:pt x="271246" y="233154"/>
                </a:lnTo>
                <a:lnTo>
                  <a:pt x="278903" y="222111"/>
                </a:lnTo>
                <a:lnTo>
                  <a:pt x="285913" y="210939"/>
                </a:lnTo>
                <a:lnTo>
                  <a:pt x="293444" y="200634"/>
                </a:lnTo>
                <a:lnTo>
                  <a:pt x="301322" y="190906"/>
                </a:lnTo>
                <a:lnTo>
                  <a:pt x="309432" y="181563"/>
                </a:lnTo>
                <a:lnTo>
                  <a:pt x="318648" y="171524"/>
                </a:lnTo>
                <a:lnTo>
                  <a:pt x="339048" y="150211"/>
                </a:lnTo>
                <a:lnTo>
                  <a:pt x="347917" y="140145"/>
                </a:lnTo>
                <a:lnTo>
                  <a:pt x="355735" y="130578"/>
                </a:lnTo>
                <a:lnTo>
                  <a:pt x="362852" y="121342"/>
                </a:lnTo>
                <a:lnTo>
                  <a:pt x="370454" y="112327"/>
                </a:lnTo>
                <a:lnTo>
                  <a:pt x="378379" y="103460"/>
                </a:lnTo>
                <a:lnTo>
                  <a:pt x="386521" y="94691"/>
                </a:lnTo>
                <a:lnTo>
                  <a:pt x="393853" y="85987"/>
                </a:lnTo>
                <a:lnTo>
                  <a:pt x="400646" y="77327"/>
                </a:lnTo>
                <a:lnTo>
                  <a:pt x="407080" y="68697"/>
                </a:lnTo>
                <a:lnTo>
                  <a:pt x="413274" y="61038"/>
                </a:lnTo>
                <a:lnTo>
                  <a:pt x="419309" y="54027"/>
                </a:lnTo>
                <a:lnTo>
                  <a:pt x="425237" y="47448"/>
                </a:lnTo>
                <a:lnTo>
                  <a:pt x="436903" y="35058"/>
                </a:lnTo>
                <a:lnTo>
                  <a:pt x="455365" y="16133"/>
                </a:lnTo>
                <a:lnTo>
                  <a:pt x="458799" y="13612"/>
                </a:lnTo>
                <a:lnTo>
                  <a:pt x="465155" y="10813"/>
                </a:lnTo>
                <a:lnTo>
                  <a:pt x="467231" y="9113"/>
                </a:lnTo>
                <a:lnTo>
                  <a:pt x="468615" y="7028"/>
                </a:lnTo>
                <a:lnTo>
                  <a:pt x="47138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PenAnnotation1107"/>
          <p:cNvSpPr/>
          <p:nvPr/>
        </p:nvSpPr>
        <p:spPr>
          <a:xfrm>
            <a:off x="3860640" y="3832200"/>
            <a:ext cx="1800" cy="360"/>
          </a:xfrm>
          <a:custGeom>
            <a:avLst/>
            <a:gdLst>
              <a:gd name="textAreaLeft" fmla="*/ 0 w 1800"/>
              <a:gd name="textAreaRight" fmla="*/ 2160 w 18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1" h="1">
                <a:moveTo>
                  <a:pt x="0" y="0"/>
                </a:moveTo>
                <a:lnTo>
                  <a:pt x="254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MARTPenAnnotation1108"/>
          <p:cNvSpPr/>
          <p:nvPr/>
        </p:nvSpPr>
        <p:spPr>
          <a:xfrm>
            <a:off x="6243480" y="4311720"/>
            <a:ext cx="549360" cy="384120"/>
          </a:xfrm>
          <a:custGeom>
            <a:avLst/>
            <a:gdLst>
              <a:gd name="textAreaLeft" fmla="*/ 0 w 549360"/>
              <a:gd name="textAreaRight" fmla="*/ 549720 w 54936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548641" h="384538">
                <a:moveTo>
                  <a:pt x="0" y="351473"/>
                </a:moveTo>
                <a:lnTo>
                  <a:pt x="41733" y="351473"/>
                </a:lnTo>
                <a:lnTo>
                  <a:pt x="52203" y="354013"/>
                </a:lnTo>
                <a:lnTo>
                  <a:pt x="68807" y="360798"/>
                </a:lnTo>
                <a:lnTo>
                  <a:pt x="80111" y="365142"/>
                </a:lnTo>
                <a:lnTo>
                  <a:pt x="97185" y="368540"/>
                </a:lnTo>
                <a:lnTo>
                  <a:pt x="113357" y="374204"/>
                </a:lnTo>
                <a:lnTo>
                  <a:pt x="127837" y="376601"/>
                </a:lnTo>
                <a:lnTo>
                  <a:pt x="130945" y="376797"/>
                </a:lnTo>
                <a:lnTo>
                  <a:pt x="133969" y="377881"/>
                </a:lnTo>
                <a:lnTo>
                  <a:pt x="139869" y="381624"/>
                </a:lnTo>
                <a:lnTo>
                  <a:pt x="148207" y="383923"/>
                </a:lnTo>
                <a:lnTo>
                  <a:pt x="153097" y="384537"/>
                </a:lnTo>
                <a:lnTo>
                  <a:pt x="156357" y="383993"/>
                </a:lnTo>
                <a:lnTo>
                  <a:pt x="158531" y="382678"/>
                </a:lnTo>
                <a:lnTo>
                  <a:pt x="159980" y="380848"/>
                </a:lnTo>
                <a:lnTo>
                  <a:pt x="178606" y="368347"/>
                </a:lnTo>
                <a:lnTo>
                  <a:pt x="181936" y="365580"/>
                </a:lnTo>
                <a:lnTo>
                  <a:pt x="190715" y="354885"/>
                </a:lnTo>
                <a:lnTo>
                  <a:pt x="195723" y="348033"/>
                </a:lnTo>
                <a:lnTo>
                  <a:pt x="206368" y="332799"/>
                </a:lnTo>
                <a:lnTo>
                  <a:pt x="211874" y="324736"/>
                </a:lnTo>
                <a:lnTo>
                  <a:pt x="219354" y="315551"/>
                </a:lnTo>
                <a:lnTo>
                  <a:pt x="228151" y="305617"/>
                </a:lnTo>
                <a:lnTo>
                  <a:pt x="237826" y="295185"/>
                </a:lnTo>
                <a:lnTo>
                  <a:pt x="247133" y="284420"/>
                </a:lnTo>
                <a:lnTo>
                  <a:pt x="256196" y="273433"/>
                </a:lnTo>
                <a:lnTo>
                  <a:pt x="265095" y="262299"/>
                </a:lnTo>
                <a:lnTo>
                  <a:pt x="274837" y="251066"/>
                </a:lnTo>
                <a:lnTo>
                  <a:pt x="285142" y="239767"/>
                </a:lnTo>
                <a:lnTo>
                  <a:pt x="295822" y="228425"/>
                </a:lnTo>
                <a:lnTo>
                  <a:pt x="306753" y="216101"/>
                </a:lnTo>
                <a:lnTo>
                  <a:pt x="329057" y="189707"/>
                </a:lnTo>
                <a:lnTo>
                  <a:pt x="340339" y="176954"/>
                </a:lnTo>
                <a:lnTo>
                  <a:pt x="363034" y="152624"/>
                </a:lnTo>
                <a:lnTo>
                  <a:pt x="375373" y="140802"/>
                </a:lnTo>
                <a:lnTo>
                  <a:pt x="388362" y="129110"/>
                </a:lnTo>
                <a:lnTo>
                  <a:pt x="401782" y="117506"/>
                </a:lnTo>
                <a:lnTo>
                  <a:pt x="413588" y="105960"/>
                </a:lnTo>
                <a:lnTo>
                  <a:pt x="424315" y="94452"/>
                </a:lnTo>
                <a:lnTo>
                  <a:pt x="434325" y="82971"/>
                </a:lnTo>
                <a:lnTo>
                  <a:pt x="444807" y="72459"/>
                </a:lnTo>
                <a:lnTo>
                  <a:pt x="455606" y="62594"/>
                </a:lnTo>
                <a:lnTo>
                  <a:pt x="466615" y="53159"/>
                </a:lnTo>
                <a:lnTo>
                  <a:pt x="476811" y="44964"/>
                </a:lnTo>
                <a:lnTo>
                  <a:pt x="486467" y="37596"/>
                </a:lnTo>
                <a:lnTo>
                  <a:pt x="495761" y="30779"/>
                </a:lnTo>
                <a:lnTo>
                  <a:pt x="511168" y="20665"/>
                </a:lnTo>
                <a:lnTo>
                  <a:pt x="524366" y="12994"/>
                </a:lnTo>
                <a:lnTo>
                  <a:pt x="5486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ing when a=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+bx+c=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are looking for two numbers that add to be b and multiply to be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10x+16=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2x-15=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PenAnnotation1047"/>
          <p:cNvSpPr/>
          <p:nvPr/>
        </p:nvSpPr>
        <p:spPr>
          <a:xfrm>
            <a:off x="6372360" y="1638360"/>
            <a:ext cx="556920" cy="350640"/>
          </a:xfrm>
          <a:custGeom>
            <a:avLst/>
            <a:gdLst>
              <a:gd name="textAreaLeft" fmla="*/ 0 w 556920"/>
              <a:gd name="textAreaRight" fmla="*/ 557280 w 55692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557213" h="351074">
                <a:moveTo>
                  <a:pt x="0" y="33890"/>
                </a:moveTo>
                <a:lnTo>
                  <a:pt x="0" y="54290"/>
                </a:lnTo>
                <a:lnTo>
                  <a:pt x="952" y="57015"/>
                </a:lnTo>
                <a:lnTo>
                  <a:pt x="5891" y="65401"/>
                </a:lnTo>
                <a:lnTo>
                  <a:pt x="8730" y="73918"/>
                </a:lnTo>
                <a:lnTo>
                  <a:pt x="12770" y="79620"/>
                </a:lnTo>
                <a:lnTo>
                  <a:pt x="14228" y="83427"/>
                </a:lnTo>
                <a:lnTo>
                  <a:pt x="15849" y="92736"/>
                </a:lnTo>
                <a:lnTo>
                  <a:pt x="19109" y="103224"/>
                </a:lnTo>
                <a:lnTo>
                  <a:pt x="21311" y="108688"/>
                </a:lnTo>
                <a:lnTo>
                  <a:pt x="23733" y="114235"/>
                </a:lnTo>
                <a:lnTo>
                  <a:pt x="28962" y="125479"/>
                </a:lnTo>
                <a:lnTo>
                  <a:pt x="30738" y="131144"/>
                </a:lnTo>
                <a:lnTo>
                  <a:pt x="31922" y="136826"/>
                </a:lnTo>
                <a:lnTo>
                  <a:pt x="32711" y="142519"/>
                </a:lnTo>
                <a:lnTo>
                  <a:pt x="34190" y="148219"/>
                </a:lnTo>
                <a:lnTo>
                  <a:pt x="36128" y="153925"/>
                </a:lnTo>
                <a:lnTo>
                  <a:pt x="38373" y="159633"/>
                </a:lnTo>
                <a:lnTo>
                  <a:pt x="39869" y="165344"/>
                </a:lnTo>
                <a:lnTo>
                  <a:pt x="40867" y="171056"/>
                </a:lnTo>
                <a:lnTo>
                  <a:pt x="41532" y="176769"/>
                </a:lnTo>
                <a:lnTo>
                  <a:pt x="42928" y="182483"/>
                </a:lnTo>
                <a:lnTo>
                  <a:pt x="44811" y="188197"/>
                </a:lnTo>
                <a:lnTo>
                  <a:pt x="47018" y="193911"/>
                </a:lnTo>
                <a:lnTo>
                  <a:pt x="48491" y="199626"/>
                </a:lnTo>
                <a:lnTo>
                  <a:pt x="49472" y="205341"/>
                </a:lnTo>
                <a:lnTo>
                  <a:pt x="50126" y="211056"/>
                </a:lnTo>
                <a:lnTo>
                  <a:pt x="53393" y="219945"/>
                </a:lnTo>
                <a:lnTo>
                  <a:pt x="55598" y="223649"/>
                </a:lnTo>
                <a:lnTo>
                  <a:pt x="58048" y="232845"/>
                </a:lnTo>
                <a:lnTo>
                  <a:pt x="60088" y="243282"/>
                </a:lnTo>
                <a:lnTo>
                  <a:pt x="61967" y="248732"/>
                </a:lnTo>
                <a:lnTo>
                  <a:pt x="65640" y="258915"/>
                </a:lnTo>
                <a:lnTo>
                  <a:pt x="67274" y="266616"/>
                </a:lnTo>
                <a:lnTo>
                  <a:pt x="70539" y="273214"/>
                </a:lnTo>
                <a:lnTo>
                  <a:pt x="77733" y="282283"/>
                </a:lnTo>
                <a:lnTo>
                  <a:pt x="87563" y="292834"/>
                </a:lnTo>
                <a:lnTo>
                  <a:pt x="92967" y="298294"/>
                </a:lnTo>
                <a:lnTo>
                  <a:pt x="93410" y="299694"/>
                </a:lnTo>
                <a:lnTo>
                  <a:pt x="94180" y="306900"/>
                </a:lnTo>
                <a:lnTo>
                  <a:pt x="95172" y="307337"/>
                </a:lnTo>
                <a:lnTo>
                  <a:pt x="98814" y="307822"/>
                </a:lnTo>
                <a:lnTo>
                  <a:pt x="100165" y="306999"/>
                </a:lnTo>
                <a:lnTo>
                  <a:pt x="101067" y="305498"/>
                </a:lnTo>
                <a:lnTo>
                  <a:pt x="101668" y="303544"/>
                </a:lnTo>
                <a:lnTo>
                  <a:pt x="101116" y="302242"/>
                </a:lnTo>
                <a:lnTo>
                  <a:pt x="99796" y="301374"/>
                </a:lnTo>
                <a:lnTo>
                  <a:pt x="97963" y="300795"/>
                </a:lnTo>
                <a:lnTo>
                  <a:pt x="96741" y="299457"/>
                </a:lnTo>
                <a:lnTo>
                  <a:pt x="95926" y="297612"/>
                </a:lnTo>
                <a:lnTo>
                  <a:pt x="95021" y="293022"/>
                </a:lnTo>
                <a:lnTo>
                  <a:pt x="94619" y="287807"/>
                </a:lnTo>
                <a:lnTo>
                  <a:pt x="91900" y="279775"/>
                </a:lnTo>
                <a:lnTo>
                  <a:pt x="87517" y="269855"/>
                </a:lnTo>
                <a:lnTo>
                  <a:pt x="82394" y="259096"/>
                </a:lnTo>
                <a:lnTo>
                  <a:pt x="80647" y="252607"/>
                </a:lnTo>
                <a:lnTo>
                  <a:pt x="79482" y="245424"/>
                </a:lnTo>
                <a:lnTo>
                  <a:pt x="78705" y="237778"/>
                </a:lnTo>
                <a:lnTo>
                  <a:pt x="77235" y="230775"/>
                </a:lnTo>
                <a:lnTo>
                  <a:pt x="75302" y="224202"/>
                </a:lnTo>
                <a:lnTo>
                  <a:pt x="73061" y="217915"/>
                </a:lnTo>
                <a:lnTo>
                  <a:pt x="71568" y="211818"/>
                </a:lnTo>
                <a:lnTo>
                  <a:pt x="70572" y="205849"/>
                </a:lnTo>
                <a:lnTo>
                  <a:pt x="69908" y="199964"/>
                </a:lnTo>
                <a:lnTo>
                  <a:pt x="69465" y="193184"/>
                </a:lnTo>
                <a:lnTo>
                  <a:pt x="69170" y="185806"/>
                </a:lnTo>
                <a:lnTo>
                  <a:pt x="68973" y="178030"/>
                </a:lnTo>
                <a:lnTo>
                  <a:pt x="67890" y="170941"/>
                </a:lnTo>
                <a:lnTo>
                  <a:pt x="66214" y="164310"/>
                </a:lnTo>
                <a:lnTo>
                  <a:pt x="64145" y="157984"/>
                </a:lnTo>
                <a:lnTo>
                  <a:pt x="63718" y="151862"/>
                </a:lnTo>
                <a:lnTo>
                  <a:pt x="64386" y="145875"/>
                </a:lnTo>
                <a:lnTo>
                  <a:pt x="65784" y="139979"/>
                </a:lnTo>
                <a:lnTo>
                  <a:pt x="66716" y="133191"/>
                </a:lnTo>
                <a:lnTo>
                  <a:pt x="67337" y="125808"/>
                </a:lnTo>
                <a:lnTo>
                  <a:pt x="67751" y="118029"/>
                </a:lnTo>
                <a:lnTo>
                  <a:pt x="68980" y="110938"/>
                </a:lnTo>
                <a:lnTo>
                  <a:pt x="70751" y="104305"/>
                </a:lnTo>
                <a:lnTo>
                  <a:pt x="72885" y="97978"/>
                </a:lnTo>
                <a:lnTo>
                  <a:pt x="75260" y="91856"/>
                </a:lnTo>
                <a:lnTo>
                  <a:pt x="77796" y="85869"/>
                </a:lnTo>
                <a:lnTo>
                  <a:pt x="80439" y="79973"/>
                </a:lnTo>
                <a:lnTo>
                  <a:pt x="82201" y="74137"/>
                </a:lnTo>
                <a:lnTo>
                  <a:pt x="83375" y="68341"/>
                </a:lnTo>
                <a:lnTo>
                  <a:pt x="84158" y="62573"/>
                </a:lnTo>
                <a:lnTo>
                  <a:pt x="86586" y="57774"/>
                </a:lnTo>
                <a:lnTo>
                  <a:pt x="90109" y="53623"/>
                </a:lnTo>
                <a:lnTo>
                  <a:pt x="98150" y="45518"/>
                </a:lnTo>
                <a:lnTo>
                  <a:pt x="104900" y="35565"/>
                </a:lnTo>
                <a:lnTo>
                  <a:pt x="113614" y="27332"/>
                </a:lnTo>
                <a:lnTo>
                  <a:pt x="126691" y="17342"/>
                </a:lnTo>
                <a:lnTo>
                  <a:pt x="130180" y="14286"/>
                </a:lnTo>
                <a:lnTo>
                  <a:pt x="134412" y="12248"/>
                </a:lnTo>
                <a:lnTo>
                  <a:pt x="149469" y="8428"/>
                </a:lnTo>
                <a:lnTo>
                  <a:pt x="165043" y="2639"/>
                </a:lnTo>
                <a:lnTo>
                  <a:pt x="177065" y="501"/>
                </a:lnTo>
                <a:lnTo>
                  <a:pt x="186963" y="0"/>
                </a:lnTo>
                <a:lnTo>
                  <a:pt x="197712" y="2318"/>
                </a:lnTo>
                <a:lnTo>
                  <a:pt x="211933" y="6438"/>
                </a:lnTo>
                <a:lnTo>
                  <a:pt x="215584" y="7016"/>
                </a:lnTo>
                <a:lnTo>
                  <a:pt x="224720" y="12739"/>
                </a:lnTo>
                <a:lnTo>
                  <a:pt x="234177" y="20679"/>
                </a:lnTo>
                <a:lnTo>
                  <a:pt x="241556" y="27384"/>
                </a:lnTo>
                <a:lnTo>
                  <a:pt x="248011" y="36078"/>
                </a:lnTo>
                <a:lnTo>
                  <a:pt x="251066" y="41064"/>
                </a:lnTo>
                <a:lnTo>
                  <a:pt x="253102" y="47245"/>
                </a:lnTo>
                <a:lnTo>
                  <a:pt x="254459" y="54223"/>
                </a:lnTo>
                <a:lnTo>
                  <a:pt x="255365" y="61733"/>
                </a:lnTo>
                <a:lnTo>
                  <a:pt x="257873" y="68645"/>
                </a:lnTo>
                <a:lnTo>
                  <a:pt x="261450" y="75157"/>
                </a:lnTo>
                <a:lnTo>
                  <a:pt x="265740" y="81404"/>
                </a:lnTo>
                <a:lnTo>
                  <a:pt x="268599" y="88426"/>
                </a:lnTo>
                <a:lnTo>
                  <a:pt x="270506" y="95965"/>
                </a:lnTo>
                <a:lnTo>
                  <a:pt x="271777" y="103848"/>
                </a:lnTo>
                <a:lnTo>
                  <a:pt x="273577" y="111009"/>
                </a:lnTo>
                <a:lnTo>
                  <a:pt x="275730" y="117688"/>
                </a:lnTo>
                <a:lnTo>
                  <a:pt x="278117" y="124045"/>
                </a:lnTo>
                <a:lnTo>
                  <a:pt x="279709" y="130188"/>
                </a:lnTo>
                <a:lnTo>
                  <a:pt x="280770" y="136189"/>
                </a:lnTo>
                <a:lnTo>
                  <a:pt x="281477" y="142094"/>
                </a:lnTo>
                <a:lnTo>
                  <a:pt x="282902" y="147936"/>
                </a:lnTo>
                <a:lnTo>
                  <a:pt x="284803" y="153736"/>
                </a:lnTo>
                <a:lnTo>
                  <a:pt x="287023" y="159507"/>
                </a:lnTo>
                <a:lnTo>
                  <a:pt x="288504" y="166212"/>
                </a:lnTo>
                <a:lnTo>
                  <a:pt x="289491" y="173540"/>
                </a:lnTo>
                <a:lnTo>
                  <a:pt x="290148" y="181283"/>
                </a:lnTo>
                <a:lnTo>
                  <a:pt x="291540" y="188349"/>
                </a:lnTo>
                <a:lnTo>
                  <a:pt x="293420" y="194965"/>
                </a:lnTo>
                <a:lnTo>
                  <a:pt x="295626" y="201281"/>
                </a:lnTo>
                <a:lnTo>
                  <a:pt x="298077" y="210839"/>
                </a:lnTo>
                <a:lnTo>
                  <a:pt x="299166" y="219214"/>
                </a:lnTo>
                <a:lnTo>
                  <a:pt x="299650" y="229286"/>
                </a:lnTo>
                <a:lnTo>
                  <a:pt x="302405" y="240113"/>
                </a:lnTo>
                <a:lnTo>
                  <a:pt x="305852" y="250322"/>
                </a:lnTo>
                <a:lnTo>
                  <a:pt x="307384" y="258035"/>
                </a:lnTo>
                <a:lnTo>
                  <a:pt x="308247" y="267732"/>
                </a:lnTo>
                <a:lnTo>
                  <a:pt x="308538" y="278589"/>
                </a:lnTo>
                <a:lnTo>
                  <a:pt x="308609" y="282489"/>
                </a:lnTo>
                <a:lnTo>
                  <a:pt x="308609" y="277941"/>
                </a:lnTo>
                <a:lnTo>
                  <a:pt x="306070" y="270627"/>
                </a:lnTo>
                <a:lnTo>
                  <a:pt x="301766" y="261979"/>
                </a:lnTo>
                <a:lnTo>
                  <a:pt x="296678" y="254960"/>
                </a:lnTo>
                <a:lnTo>
                  <a:pt x="294940" y="250803"/>
                </a:lnTo>
                <a:lnTo>
                  <a:pt x="293009" y="241103"/>
                </a:lnTo>
                <a:lnTo>
                  <a:pt x="289611" y="230442"/>
                </a:lnTo>
                <a:lnTo>
                  <a:pt x="287371" y="224932"/>
                </a:lnTo>
                <a:lnTo>
                  <a:pt x="285879" y="219354"/>
                </a:lnTo>
                <a:lnTo>
                  <a:pt x="284883" y="213730"/>
                </a:lnTo>
                <a:lnTo>
                  <a:pt x="284219" y="208076"/>
                </a:lnTo>
                <a:lnTo>
                  <a:pt x="283777" y="202401"/>
                </a:lnTo>
                <a:lnTo>
                  <a:pt x="283482" y="196714"/>
                </a:lnTo>
                <a:lnTo>
                  <a:pt x="283285" y="191016"/>
                </a:lnTo>
                <a:lnTo>
                  <a:pt x="284107" y="185314"/>
                </a:lnTo>
                <a:lnTo>
                  <a:pt x="285607" y="179606"/>
                </a:lnTo>
                <a:lnTo>
                  <a:pt x="287559" y="173897"/>
                </a:lnTo>
                <a:lnTo>
                  <a:pt x="288861" y="168185"/>
                </a:lnTo>
                <a:lnTo>
                  <a:pt x="289729" y="162473"/>
                </a:lnTo>
                <a:lnTo>
                  <a:pt x="290307" y="156759"/>
                </a:lnTo>
                <a:lnTo>
                  <a:pt x="291645" y="151045"/>
                </a:lnTo>
                <a:lnTo>
                  <a:pt x="293490" y="145331"/>
                </a:lnTo>
                <a:lnTo>
                  <a:pt x="295673" y="139616"/>
                </a:lnTo>
                <a:lnTo>
                  <a:pt x="297127" y="133902"/>
                </a:lnTo>
                <a:lnTo>
                  <a:pt x="298098" y="128187"/>
                </a:lnTo>
                <a:lnTo>
                  <a:pt x="298743" y="122472"/>
                </a:lnTo>
                <a:lnTo>
                  <a:pt x="300128" y="116757"/>
                </a:lnTo>
                <a:lnTo>
                  <a:pt x="302002" y="111042"/>
                </a:lnTo>
                <a:lnTo>
                  <a:pt x="306626" y="100565"/>
                </a:lnTo>
                <a:lnTo>
                  <a:pt x="314583" y="88359"/>
                </a:lnTo>
                <a:lnTo>
                  <a:pt x="320154" y="78418"/>
                </a:lnTo>
                <a:lnTo>
                  <a:pt x="328345" y="70190"/>
                </a:lnTo>
                <a:lnTo>
                  <a:pt x="341128" y="60203"/>
                </a:lnTo>
                <a:lnTo>
                  <a:pt x="350947" y="51211"/>
                </a:lnTo>
                <a:lnTo>
                  <a:pt x="357906" y="45398"/>
                </a:lnTo>
                <a:lnTo>
                  <a:pt x="371581" y="37723"/>
                </a:lnTo>
                <a:lnTo>
                  <a:pt x="378824" y="35594"/>
                </a:lnTo>
                <a:lnTo>
                  <a:pt x="392808" y="34395"/>
                </a:lnTo>
                <a:lnTo>
                  <a:pt x="404466" y="34040"/>
                </a:lnTo>
                <a:lnTo>
                  <a:pt x="407756" y="34942"/>
                </a:lnTo>
                <a:lnTo>
                  <a:pt x="417890" y="39811"/>
                </a:lnTo>
                <a:lnTo>
                  <a:pt x="427346" y="41284"/>
                </a:lnTo>
                <a:lnTo>
                  <a:pt x="431582" y="43582"/>
                </a:lnTo>
                <a:lnTo>
                  <a:pt x="438829" y="51215"/>
                </a:lnTo>
                <a:lnTo>
                  <a:pt x="448264" y="61672"/>
                </a:lnTo>
                <a:lnTo>
                  <a:pt x="461643" y="70802"/>
                </a:lnTo>
                <a:lnTo>
                  <a:pt x="464924" y="74691"/>
                </a:lnTo>
                <a:lnTo>
                  <a:pt x="467112" y="79188"/>
                </a:lnTo>
                <a:lnTo>
                  <a:pt x="468571" y="84091"/>
                </a:lnTo>
                <a:lnTo>
                  <a:pt x="471447" y="90218"/>
                </a:lnTo>
                <a:lnTo>
                  <a:pt x="475271" y="97159"/>
                </a:lnTo>
                <a:lnTo>
                  <a:pt x="479724" y="104645"/>
                </a:lnTo>
                <a:lnTo>
                  <a:pt x="483646" y="111540"/>
                </a:lnTo>
                <a:lnTo>
                  <a:pt x="490543" y="124281"/>
                </a:lnTo>
                <a:lnTo>
                  <a:pt x="493716" y="131298"/>
                </a:lnTo>
                <a:lnTo>
                  <a:pt x="496785" y="138834"/>
                </a:lnTo>
                <a:lnTo>
                  <a:pt x="499782" y="146715"/>
                </a:lnTo>
                <a:lnTo>
                  <a:pt x="502733" y="153874"/>
                </a:lnTo>
                <a:lnTo>
                  <a:pt x="505652" y="160552"/>
                </a:lnTo>
                <a:lnTo>
                  <a:pt x="508551" y="166909"/>
                </a:lnTo>
                <a:lnTo>
                  <a:pt x="510484" y="174004"/>
                </a:lnTo>
                <a:lnTo>
                  <a:pt x="511773" y="181592"/>
                </a:lnTo>
                <a:lnTo>
                  <a:pt x="512632" y="189508"/>
                </a:lnTo>
                <a:lnTo>
                  <a:pt x="514157" y="197643"/>
                </a:lnTo>
                <a:lnTo>
                  <a:pt x="516126" y="205923"/>
                </a:lnTo>
                <a:lnTo>
                  <a:pt x="518391" y="214301"/>
                </a:lnTo>
                <a:lnTo>
                  <a:pt x="520855" y="221792"/>
                </a:lnTo>
                <a:lnTo>
                  <a:pt x="523448" y="228691"/>
                </a:lnTo>
                <a:lnTo>
                  <a:pt x="526130" y="235195"/>
                </a:lnTo>
                <a:lnTo>
                  <a:pt x="527918" y="241435"/>
                </a:lnTo>
                <a:lnTo>
                  <a:pt x="529111" y="247501"/>
                </a:lnTo>
                <a:lnTo>
                  <a:pt x="529905" y="253450"/>
                </a:lnTo>
                <a:lnTo>
                  <a:pt x="531387" y="259321"/>
                </a:lnTo>
                <a:lnTo>
                  <a:pt x="533328" y="265140"/>
                </a:lnTo>
                <a:lnTo>
                  <a:pt x="535574" y="270924"/>
                </a:lnTo>
                <a:lnTo>
                  <a:pt x="537072" y="276685"/>
                </a:lnTo>
                <a:lnTo>
                  <a:pt x="538071" y="282431"/>
                </a:lnTo>
                <a:lnTo>
                  <a:pt x="538736" y="288167"/>
                </a:lnTo>
                <a:lnTo>
                  <a:pt x="542015" y="297079"/>
                </a:lnTo>
                <a:lnTo>
                  <a:pt x="544224" y="300790"/>
                </a:lnTo>
                <a:lnTo>
                  <a:pt x="546677" y="309992"/>
                </a:lnTo>
                <a:lnTo>
                  <a:pt x="547768" y="319480"/>
                </a:lnTo>
                <a:lnTo>
                  <a:pt x="548252" y="326871"/>
                </a:lnTo>
                <a:lnTo>
                  <a:pt x="549334" y="330176"/>
                </a:lnTo>
                <a:lnTo>
                  <a:pt x="555986" y="340689"/>
                </a:lnTo>
                <a:lnTo>
                  <a:pt x="556667" y="344235"/>
                </a:lnTo>
                <a:lnTo>
                  <a:pt x="557212" y="3510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PenAnnotation1048"/>
          <p:cNvSpPr/>
          <p:nvPr/>
        </p:nvSpPr>
        <p:spPr>
          <a:xfrm>
            <a:off x="6954840" y="1792440"/>
            <a:ext cx="325440" cy="33120"/>
          </a:xfrm>
          <a:custGeom>
            <a:avLst/>
            <a:gdLst>
              <a:gd name="textAreaLeft" fmla="*/ 0 w 325440"/>
              <a:gd name="textAreaRight" fmla="*/ 325440 w 3254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25744" h="33931">
                <a:moveTo>
                  <a:pt x="17134" y="25361"/>
                </a:moveTo>
                <a:lnTo>
                  <a:pt x="29" y="25361"/>
                </a:lnTo>
                <a:lnTo>
                  <a:pt x="0" y="29911"/>
                </a:lnTo>
                <a:lnTo>
                  <a:pt x="949" y="31252"/>
                </a:lnTo>
                <a:lnTo>
                  <a:pt x="2534" y="32146"/>
                </a:lnTo>
                <a:lnTo>
                  <a:pt x="6835" y="33139"/>
                </a:lnTo>
                <a:lnTo>
                  <a:pt x="15564" y="33698"/>
                </a:lnTo>
                <a:lnTo>
                  <a:pt x="35989" y="33902"/>
                </a:lnTo>
                <a:lnTo>
                  <a:pt x="66113" y="33930"/>
                </a:lnTo>
                <a:lnTo>
                  <a:pt x="71694" y="32979"/>
                </a:lnTo>
                <a:lnTo>
                  <a:pt x="77320" y="31392"/>
                </a:lnTo>
                <a:lnTo>
                  <a:pt x="82975" y="29381"/>
                </a:lnTo>
                <a:lnTo>
                  <a:pt x="88650" y="28041"/>
                </a:lnTo>
                <a:lnTo>
                  <a:pt x="94339" y="27148"/>
                </a:lnTo>
                <a:lnTo>
                  <a:pt x="100036" y="26552"/>
                </a:lnTo>
                <a:lnTo>
                  <a:pt x="106692" y="26155"/>
                </a:lnTo>
                <a:lnTo>
                  <a:pt x="121708" y="25714"/>
                </a:lnTo>
                <a:lnTo>
                  <a:pt x="129712" y="24643"/>
                </a:lnTo>
                <a:lnTo>
                  <a:pt x="137906" y="22978"/>
                </a:lnTo>
                <a:lnTo>
                  <a:pt x="146226" y="20914"/>
                </a:lnTo>
                <a:lnTo>
                  <a:pt x="154630" y="18586"/>
                </a:lnTo>
                <a:lnTo>
                  <a:pt x="171588" y="13460"/>
                </a:lnTo>
                <a:lnTo>
                  <a:pt x="180111" y="11712"/>
                </a:lnTo>
                <a:lnTo>
                  <a:pt x="188650" y="10546"/>
                </a:lnTo>
                <a:lnTo>
                  <a:pt x="197200" y="9769"/>
                </a:lnTo>
                <a:lnTo>
                  <a:pt x="204806" y="9251"/>
                </a:lnTo>
                <a:lnTo>
                  <a:pt x="211781" y="8906"/>
                </a:lnTo>
                <a:lnTo>
                  <a:pt x="225563" y="8522"/>
                </a:lnTo>
                <a:lnTo>
                  <a:pt x="241214" y="8352"/>
                </a:lnTo>
                <a:lnTo>
                  <a:pt x="248436" y="7354"/>
                </a:lnTo>
                <a:lnTo>
                  <a:pt x="255155" y="5736"/>
                </a:lnTo>
                <a:lnTo>
                  <a:pt x="261540" y="3705"/>
                </a:lnTo>
                <a:lnTo>
                  <a:pt x="267701" y="2351"/>
                </a:lnTo>
                <a:lnTo>
                  <a:pt x="273714" y="1448"/>
                </a:lnTo>
                <a:lnTo>
                  <a:pt x="279627" y="847"/>
                </a:lnTo>
                <a:lnTo>
                  <a:pt x="288737" y="178"/>
                </a:lnTo>
                <a:lnTo>
                  <a:pt x="292500" y="0"/>
                </a:lnTo>
                <a:lnTo>
                  <a:pt x="295961" y="833"/>
                </a:lnTo>
                <a:lnTo>
                  <a:pt x="299221" y="2342"/>
                </a:lnTo>
                <a:lnTo>
                  <a:pt x="302347" y="4300"/>
                </a:lnTo>
                <a:lnTo>
                  <a:pt x="305383" y="5605"/>
                </a:lnTo>
                <a:lnTo>
                  <a:pt x="308361" y="6475"/>
                </a:lnTo>
                <a:lnTo>
                  <a:pt x="315431" y="7872"/>
                </a:lnTo>
                <a:lnTo>
                  <a:pt x="325567" y="8212"/>
                </a:lnTo>
                <a:lnTo>
                  <a:pt x="325743" y="8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PenAnnotation1049"/>
          <p:cNvSpPr/>
          <p:nvPr/>
        </p:nvSpPr>
        <p:spPr>
          <a:xfrm>
            <a:off x="7075440" y="1655640"/>
            <a:ext cx="119160" cy="338400"/>
          </a:xfrm>
          <a:custGeom>
            <a:avLst/>
            <a:gdLst>
              <a:gd name="textAreaLeft" fmla="*/ 0 w 119160"/>
              <a:gd name="textAreaRight" fmla="*/ 119520 w 1191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120016" h="337738">
                <a:moveTo>
                  <a:pt x="0" y="7380"/>
                </a:moveTo>
                <a:lnTo>
                  <a:pt x="0" y="0"/>
                </a:lnTo>
                <a:lnTo>
                  <a:pt x="0" y="6294"/>
                </a:lnTo>
                <a:lnTo>
                  <a:pt x="2541" y="9438"/>
                </a:lnTo>
                <a:lnTo>
                  <a:pt x="4552" y="11609"/>
                </a:lnTo>
                <a:lnTo>
                  <a:pt x="5892" y="14010"/>
                </a:lnTo>
                <a:lnTo>
                  <a:pt x="7382" y="19217"/>
                </a:lnTo>
                <a:lnTo>
                  <a:pt x="8044" y="27246"/>
                </a:lnTo>
                <a:lnTo>
                  <a:pt x="8221" y="32054"/>
                </a:lnTo>
                <a:lnTo>
                  <a:pt x="9290" y="36212"/>
                </a:lnTo>
                <a:lnTo>
                  <a:pt x="13020" y="43372"/>
                </a:lnTo>
                <a:lnTo>
                  <a:pt x="15347" y="47567"/>
                </a:lnTo>
                <a:lnTo>
                  <a:pt x="20473" y="57309"/>
                </a:lnTo>
                <a:lnTo>
                  <a:pt x="23388" y="65448"/>
                </a:lnTo>
                <a:lnTo>
                  <a:pt x="25635" y="74146"/>
                </a:lnTo>
                <a:lnTo>
                  <a:pt x="29808" y="87537"/>
                </a:lnTo>
                <a:lnTo>
                  <a:pt x="31302" y="94155"/>
                </a:lnTo>
                <a:lnTo>
                  <a:pt x="32298" y="100473"/>
                </a:lnTo>
                <a:lnTo>
                  <a:pt x="32962" y="106590"/>
                </a:lnTo>
                <a:lnTo>
                  <a:pt x="34358" y="112572"/>
                </a:lnTo>
                <a:lnTo>
                  <a:pt x="36240" y="118466"/>
                </a:lnTo>
                <a:lnTo>
                  <a:pt x="38448" y="124300"/>
                </a:lnTo>
                <a:lnTo>
                  <a:pt x="40872" y="130094"/>
                </a:lnTo>
                <a:lnTo>
                  <a:pt x="43441" y="135862"/>
                </a:lnTo>
                <a:lnTo>
                  <a:pt x="48834" y="147351"/>
                </a:lnTo>
                <a:lnTo>
                  <a:pt x="54408" y="158807"/>
                </a:lnTo>
                <a:lnTo>
                  <a:pt x="57227" y="165482"/>
                </a:lnTo>
                <a:lnTo>
                  <a:pt x="60059" y="172789"/>
                </a:lnTo>
                <a:lnTo>
                  <a:pt x="62900" y="180518"/>
                </a:lnTo>
                <a:lnTo>
                  <a:pt x="65746" y="187575"/>
                </a:lnTo>
                <a:lnTo>
                  <a:pt x="68596" y="194185"/>
                </a:lnTo>
                <a:lnTo>
                  <a:pt x="74302" y="206610"/>
                </a:lnTo>
                <a:lnTo>
                  <a:pt x="80013" y="218482"/>
                </a:lnTo>
                <a:lnTo>
                  <a:pt x="81918" y="224315"/>
                </a:lnTo>
                <a:lnTo>
                  <a:pt x="83187" y="230108"/>
                </a:lnTo>
                <a:lnTo>
                  <a:pt x="84033" y="235876"/>
                </a:lnTo>
                <a:lnTo>
                  <a:pt x="85550" y="241626"/>
                </a:lnTo>
                <a:lnTo>
                  <a:pt x="87513" y="247364"/>
                </a:lnTo>
                <a:lnTo>
                  <a:pt x="89775" y="253095"/>
                </a:lnTo>
                <a:lnTo>
                  <a:pt x="92235" y="258820"/>
                </a:lnTo>
                <a:lnTo>
                  <a:pt x="97509" y="270262"/>
                </a:lnTo>
                <a:lnTo>
                  <a:pt x="105833" y="287413"/>
                </a:lnTo>
                <a:lnTo>
                  <a:pt x="108950" y="296304"/>
                </a:lnTo>
                <a:lnTo>
                  <a:pt x="110704" y="306665"/>
                </a:lnTo>
                <a:lnTo>
                  <a:pt x="111224" y="315767"/>
                </a:lnTo>
                <a:lnTo>
                  <a:pt x="111378" y="324497"/>
                </a:lnTo>
                <a:lnTo>
                  <a:pt x="111430" y="331429"/>
                </a:lnTo>
                <a:lnTo>
                  <a:pt x="113978" y="334917"/>
                </a:lnTo>
                <a:lnTo>
                  <a:pt x="115990" y="337181"/>
                </a:lnTo>
                <a:lnTo>
                  <a:pt x="117332" y="337737"/>
                </a:lnTo>
                <a:lnTo>
                  <a:pt x="118226" y="337156"/>
                </a:lnTo>
                <a:lnTo>
                  <a:pt x="120015" y="3331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PenAnnotation1050"/>
          <p:cNvSpPr/>
          <p:nvPr/>
        </p:nvSpPr>
        <p:spPr>
          <a:xfrm>
            <a:off x="7358040" y="1681200"/>
            <a:ext cx="436680" cy="272880"/>
          </a:xfrm>
          <a:custGeom>
            <a:avLst/>
            <a:gdLst>
              <a:gd name="textAreaLeft" fmla="*/ 0 w 436680"/>
              <a:gd name="textAreaRight" fmla="*/ 437040 w 43668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437198" h="273800">
                <a:moveTo>
                  <a:pt x="0" y="16639"/>
                </a:moveTo>
                <a:lnTo>
                  <a:pt x="0" y="8171"/>
                </a:lnTo>
                <a:lnTo>
                  <a:pt x="7381" y="15456"/>
                </a:lnTo>
                <a:lnTo>
                  <a:pt x="12771" y="20839"/>
                </a:lnTo>
                <a:lnTo>
                  <a:pt x="14229" y="23249"/>
                </a:lnTo>
                <a:lnTo>
                  <a:pt x="17234" y="32144"/>
                </a:lnTo>
                <a:lnTo>
                  <a:pt x="19109" y="36500"/>
                </a:lnTo>
                <a:lnTo>
                  <a:pt x="23733" y="46421"/>
                </a:lnTo>
                <a:lnTo>
                  <a:pt x="28963" y="57180"/>
                </a:lnTo>
                <a:lnTo>
                  <a:pt x="30739" y="62716"/>
                </a:lnTo>
                <a:lnTo>
                  <a:pt x="31922" y="68312"/>
                </a:lnTo>
                <a:lnTo>
                  <a:pt x="32712" y="73948"/>
                </a:lnTo>
                <a:lnTo>
                  <a:pt x="34191" y="79610"/>
                </a:lnTo>
                <a:lnTo>
                  <a:pt x="36129" y="85289"/>
                </a:lnTo>
                <a:lnTo>
                  <a:pt x="38374" y="90981"/>
                </a:lnTo>
                <a:lnTo>
                  <a:pt x="40822" y="96680"/>
                </a:lnTo>
                <a:lnTo>
                  <a:pt x="46083" y="108093"/>
                </a:lnTo>
                <a:lnTo>
                  <a:pt x="54401" y="125228"/>
                </a:lnTo>
                <a:lnTo>
                  <a:pt x="57222" y="131894"/>
                </a:lnTo>
                <a:lnTo>
                  <a:pt x="60056" y="139195"/>
                </a:lnTo>
                <a:lnTo>
                  <a:pt x="62897" y="146921"/>
                </a:lnTo>
                <a:lnTo>
                  <a:pt x="65744" y="153976"/>
                </a:lnTo>
                <a:lnTo>
                  <a:pt x="68595" y="160584"/>
                </a:lnTo>
                <a:lnTo>
                  <a:pt x="71447" y="166895"/>
                </a:lnTo>
                <a:lnTo>
                  <a:pt x="73349" y="173007"/>
                </a:lnTo>
                <a:lnTo>
                  <a:pt x="74617" y="178987"/>
                </a:lnTo>
                <a:lnTo>
                  <a:pt x="75462" y="184878"/>
                </a:lnTo>
                <a:lnTo>
                  <a:pt x="76978" y="190711"/>
                </a:lnTo>
                <a:lnTo>
                  <a:pt x="78942" y="196504"/>
                </a:lnTo>
                <a:lnTo>
                  <a:pt x="81203" y="202271"/>
                </a:lnTo>
                <a:lnTo>
                  <a:pt x="82710" y="208021"/>
                </a:lnTo>
                <a:lnTo>
                  <a:pt x="83715" y="213760"/>
                </a:lnTo>
                <a:lnTo>
                  <a:pt x="84385" y="219490"/>
                </a:lnTo>
                <a:lnTo>
                  <a:pt x="85784" y="224263"/>
                </a:lnTo>
                <a:lnTo>
                  <a:pt x="89878" y="232106"/>
                </a:lnTo>
                <a:lnTo>
                  <a:pt x="92304" y="236484"/>
                </a:lnTo>
                <a:lnTo>
                  <a:pt x="97539" y="246427"/>
                </a:lnTo>
                <a:lnTo>
                  <a:pt x="100501" y="254657"/>
                </a:lnTo>
                <a:lnTo>
                  <a:pt x="101291" y="258185"/>
                </a:lnTo>
                <a:lnTo>
                  <a:pt x="104708" y="264645"/>
                </a:lnTo>
                <a:lnTo>
                  <a:pt x="111049" y="273277"/>
                </a:lnTo>
                <a:lnTo>
                  <a:pt x="116304" y="273708"/>
                </a:lnTo>
                <a:lnTo>
                  <a:pt x="112271" y="273799"/>
                </a:lnTo>
                <a:lnTo>
                  <a:pt x="111995" y="272852"/>
                </a:lnTo>
                <a:lnTo>
                  <a:pt x="111552" y="264487"/>
                </a:lnTo>
                <a:lnTo>
                  <a:pt x="111515" y="261881"/>
                </a:lnTo>
                <a:lnTo>
                  <a:pt x="110538" y="259191"/>
                </a:lnTo>
                <a:lnTo>
                  <a:pt x="106914" y="253662"/>
                </a:lnTo>
                <a:lnTo>
                  <a:pt x="102127" y="245490"/>
                </a:lnTo>
                <a:lnTo>
                  <a:pt x="99517" y="240644"/>
                </a:lnTo>
                <a:lnTo>
                  <a:pt x="97778" y="235508"/>
                </a:lnTo>
                <a:lnTo>
                  <a:pt x="96617" y="230179"/>
                </a:lnTo>
                <a:lnTo>
                  <a:pt x="95845" y="224721"/>
                </a:lnTo>
                <a:lnTo>
                  <a:pt x="95329" y="219178"/>
                </a:lnTo>
                <a:lnTo>
                  <a:pt x="94985" y="213577"/>
                </a:lnTo>
                <a:lnTo>
                  <a:pt x="94756" y="207938"/>
                </a:lnTo>
                <a:lnTo>
                  <a:pt x="94501" y="194053"/>
                </a:lnTo>
                <a:lnTo>
                  <a:pt x="94338" y="166407"/>
                </a:lnTo>
                <a:lnTo>
                  <a:pt x="93372" y="160299"/>
                </a:lnTo>
                <a:lnTo>
                  <a:pt x="91776" y="154322"/>
                </a:lnTo>
                <a:lnTo>
                  <a:pt x="89759" y="148433"/>
                </a:lnTo>
                <a:lnTo>
                  <a:pt x="89367" y="141649"/>
                </a:lnTo>
                <a:lnTo>
                  <a:pt x="90058" y="134269"/>
                </a:lnTo>
                <a:lnTo>
                  <a:pt x="91471" y="126491"/>
                </a:lnTo>
                <a:lnTo>
                  <a:pt x="93366" y="119401"/>
                </a:lnTo>
                <a:lnTo>
                  <a:pt x="95582" y="112769"/>
                </a:lnTo>
                <a:lnTo>
                  <a:pt x="98011" y="106443"/>
                </a:lnTo>
                <a:lnTo>
                  <a:pt x="100583" y="100321"/>
                </a:lnTo>
                <a:lnTo>
                  <a:pt x="103250" y="94334"/>
                </a:lnTo>
                <a:lnTo>
                  <a:pt x="105981" y="88438"/>
                </a:lnTo>
                <a:lnTo>
                  <a:pt x="108754" y="81650"/>
                </a:lnTo>
                <a:lnTo>
                  <a:pt x="111555" y="74267"/>
                </a:lnTo>
                <a:lnTo>
                  <a:pt x="114375" y="66488"/>
                </a:lnTo>
                <a:lnTo>
                  <a:pt x="118160" y="59396"/>
                </a:lnTo>
                <a:lnTo>
                  <a:pt x="122588" y="52764"/>
                </a:lnTo>
                <a:lnTo>
                  <a:pt x="127446" y="46437"/>
                </a:lnTo>
                <a:lnTo>
                  <a:pt x="132589" y="41267"/>
                </a:lnTo>
                <a:lnTo>
                  <a:pt x="143383" y="32982"/>
                </a:lnTo>
                <a:lnTo>
                  <a:pt x="154531" y="26125"/>
                </a:lnTo>
                <a:lnTo>
                  <a:pt x="165836" y="19902"/>
                </a:lnTo>
                <a:lnTo>
                  <a:pt x="177209" y="13961"/>
                </a:lnTo>
                <a:lnTo>
                  <a:pt x="183862" y="11044"/>
                </a:lnTo>
                <a:lnTo>
                  <a:pt x="191155" y="8146"/>
                </a:lnTo>
                <a:lnTo>
                  <a:pt x="198874" y="5262"/>
                </a:lnTo>
                <a:lnTo>
                  <a:pt x="212531" y="2057"/>
                </a:lnTo>
                <a:lnTo>
                  <a:pt x="223999" y="633"/>
                </a:lnTo>
                <a:lnTo>
                  <a:pt x="232270" y="0"/>
                </a:lnTo>
                <a:lnTo>
                  <a:pt x="241661" y="2259"/>
                </a:lnTo>
                <a:lnTo>
                  <a:pt x="251233" y="6437"/>
                </a:lnTo>
                <a:lnTo>
                  <a:pt x="261976" y="14145"/>
                </a:lnTo>
                <a:lnTo>
                  <a:pt x="268199" y="19658"/>
                </a:lnTo>
                <a:lnTo>
                  <a:pt x="274140" y="27823"/>
                </a:lnTo>
                <a:lnTo>
                  <a:pt x="277058" y="32667"/>
                </a:lnTo>
                <a:lnTo>
                  <a:pt x="279955" y="37802"/>
                </a:lnTo>
                <a:lnTo>
                  <a:pt x="285715" y="48587"/>
                </a:lnTo>
                <a:lnTo>
                  <a:pt x="294312" y="65369"/>
                </a:lnTo>
                <a:lnTo>
                  <a:pt x="296221" y="71033"/>
                </a:lnTo>
                <a:lnTo>
                  <a:pt x="297493" y="76714"/>
                </a:lnTo>
                <a:lnTo>
                  <a:pt x="298341" y="82406"/>
                </a:lnTo>
                <a:lnTo>
                  <a:pt x="298907" y="89059"/>
                </a:lnTo>
                <a:lnTo>
                  <a:pt x="299283" y="96351"/>
                </a:lnTo>
                <a:lnTo>
                  <a:pt x="299534" y="104070"/>
                </a:lnTo>
                <a:lnTo>
                  <a:pt x="300655" y="111121"/>
                </a:lnTo>
                <a:lnTo>
                  <a:pt x="302354" y="117727"/>
                </a:lnTo>
                <a:lnTo>
                  <a:pt x="304440" y="124036"/>
                </a:lnTo>
                <a:lnTo>
                  <a:pt x="305829" y="131099"/>
                </a:lnTo>
                <a:lnTo>
                  <a:pt x="306756" y="138666"/>
                </a:lnTo>
                <a:lnTo>
                  <a:pt x="307374" y="146568"/>
                </a:lnTo>
                <a:lnTo>
                  <a:pt x="308739" y="153740"/>
                </a:lnTo>
                <a:lnTo>
                  <a:pt x="310601" y="160427"/>
                </a:lnTo>
                <a:lnTo>
                  <a:pt x="312795" y="166790"/>
                </a:lnTo>
                <a:lnTo>
                  <a:pt x="314258" y="172937"/>
                </a:lnTo>
                <a:lnTo>
                  <a:pt x="315233" y="178940"/>
                </a:lnTo>
                <a:lnTo>
                  <a:pt x="315882" y="184847"/>
                </a:lnTo>
                <a:lnTo>
                  <a:pt x="316316" y="190690"/>
                </a:lnTo>
                <a:lnTo>
                  <a:pt x="316605" y="196490"/>
                </a:lnTo>
                <a:lnTo>
                  <a:pt x="316798" y="202262"/>
                </a:lnTo>
                <a:lnTo>
                  <a:pt x="317878" y="208015"/>
                </a:lnTo>
                <a:lnTo>
                  <a:pt x="319552" y="213755"/>
                </a:lnTo>
                <a:lnTo>
                  <a:pt x="321619" y="219487"/>
                </a:lnTo>
                <a:lnTo>
                  <a:pt x="322998" y="224261"/>
                </a:lnTo>
                <a:lnTo>
                  <a:pt x="324530" y="232105"/>
                </a:lnTo>
                <a:lnTo>
                  <a:pt x="327751" y="238767"/>
                </a:lnTo>
                <a:lnTo>
                  <a:pt x="332357" y="244902"/>
                </a:lnTo>
                <a:lnTo>
                  <a:pt x="337579" y="250804"/>
                </a:lnTo>
                <a:lnTo>
                  <a:pt x="339353" y="253711"/>
                </a:lnTo>
                <a:lnTo>
                  <a:pt x="341323" y="259482"/>
                </a:lnTo>
                <a:lnTo>
                  <a:pt x="342802" y="261402"/>
                </a:lnTo>
                <a:lnTo>
                  <a:pt x="344739" y="262681"/>
                </a:lnTo>
                <a:lnTo>
                  <a:pt x="346984" y="263535"/>
                </a:lnTo>
                <a:lnTo>
                  <a:pt x="354694" y="269286"/>
                </a:lnTo>
                <a:lnTo>
                  <a:pt x="357430" y="269843"/>
                </a:lnTo>
                <a:lnTo>
                  <a:pt x="360207" y="269262"/>
                </a:lnTo>
                <a:lnTo>
                  <a:pt x="365832" y="267028"/>
                </a:lnTo>
                <a:lnTo>
                  <a:pt x="371508" y="266035"/>
                </a:lnTo>
                <a:lnTo>
                  <a:pt x="374354" y="264818"/>
                </a:lnTo>
                <a:lnTo>
                  <a:pt x="382912" y="259507"/>
                </a:lnTo>
                <a:lnTo>
                  <a:pt x="392432" y="256557"/>
                </a:lnTo>
                <a:lnTo>
                  <a:pt x="401744" y="252491"/>
                </a:lnTo>
                <a:lnTo>
                  <a:pt x="405942" y="249121"/>
                </a:lnTo>
                <a:lnTo>
                  <a:pt x="409694" y="244969"/>
                </a:lnTo>
                <a:lnTo>
                  <a:pt x="413147" y="240297"/>
                </a:lnTo>
                <a:lnTo>
                  <a:pt x="419523" y="232565"/>
                </a:lnTo>
                <a:lnTo>
                  <a:pt x="425532" y="225953"/>
                </a:lnTo>
                <a:lnTo>
                  <a:pt x="437197" y="2138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PenAnnotation1051"/>
          <p:cNvSpPr/>
          <p:nvPr/>
        </p:nvSpPr>
        <p:spPr>
          <a:xfrm>
            <a:off x="7821720" y="1706400"/>
            <a:ext cx="282600" cy="33480"/>
          </a:xfrm>
          <a:custGeom>
            <a:avLst/>
            <a:gdLst>
              <a:gd name="textAreaLeft" fmla="*/ 0 w 282600"/>
              <a:gd name="textAreaRight" fmla="*/ 282960 w 2826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81701" h="34282">
                <a:moveTo>
                  <a:pt x="7381" y="34281"/>
                </a:moveTo>
                <a:lnTo>
                  <a:pt x="0" y="34281"/>
                </a:lnTo>
                <a:lnTo>
                  <a:pt x="6293" y="34281"/>
                </a:lnTo>
                <a:lnTo>
                  <a:pt x="6656" y="33328"/>
                </a:lnTo>
                <a:lnTo>
                  <a:pt x="6898" y="31741"/>
                </a:lnTo>
                <a:lnTo>
                  <a:pt x="7285" y="26900"/>
                </a:lnTo>
                <a:lnTo>
                  <a:pt x="12418" y="26238"/>
                </a:lnTo>
                <a:lnTo>
                  <a:pt x="16454" y="26062"/>
                </a:lnTo>
                <a:lnTo>
                  <a:pt x="20097" y="24991"/>
                </a:lnTo>
                <a:lnTo>
                  <a:pt x="23479" y="23326"/>
                </a:lnTo>
                <a:lnTo>
                  <a:pt x="26685" y="21262"/>
                </a:lnTo>
                <a:lnTo>
                  <a:pt x="30728" y="19887"/>
                </a:lnTo>
                <a:lnTo>
                  <a:pt x="35328" y="18970"/>
                </a:lnTo>
                <a:lnTo>
                  <a:pt x="40299" y="18359"/>
                </a:lnTo>
                <a:lnTo>
                  <a:pt x="45519" y="17951"/>
                </a:lnTo>
                <a:lnTo>
                  <a:pt x="50903" y="17679"/>
                </a:lnTo>
                <a:lnTo>
                  <a:pt x="56398" y="17498"/>
                </a:lnTo>
                <a:lnTo>
                  <a:pt x="62919" y="16425"/>
                </a:lnTo>
                <a:lnTo>
                  <a:pt x="70123" y="14757"/>
                </a:lnTo>
                <a:lnTo>
                  <a:pt x="77785" y="12693"/>
                </a:lnTo>
                <a:lnTo>
                  <a:pt x="84797" y="11316"/>
                </a:lnTo>
                <a:lnTo>
                  <a:pt x="91375" y="10399"/>
                </a:lnTo>
                <a:lnTo>
                  <a:pt x="97668" y="9787"/>
                </a:lnTo>
                <a:lnTo>
                  <a:pt x="104720" y="9379"/>
                </a:lnTo>
                <a:lnTo>
                  <a:pt x="120175" y="8926"/>
                </a:lnTo>
                <a:lnTo>
                  <a:pt x="128296" y="7853"/>
                </a:lnTo>
                <a:lnTo>
                  <a:pt x="136569" y="6185"/>
                </a:lnTo>
                <a:lnTo>
                  <a:pt x="144941" y="4120"/>
                </a:lnTo>
                <a:lnTo>
                  <a:pt x="153380" y="2744"/>
                </a:lnTo>
                <a:lnTo>
                  <a:pt x="161863" y="1826"/>
                </a:lnTo>
                <a:lnTo>
                  <a:pt x="170376" y="1215"/>
                </a:lnTo>
                <a:lnTo>
                  <a:pt x="177957" y="807"/>
                </a:lnTo>
                <a:lnTo>
                  <a:pt x="191460" y="354"/>
                </a:lnTo>
                <a:lnTo>
                  <a:pt x="215651" y="63"/>
                </a:lnTo>
                <a:lnTo>
                  <a:pt x="244509" y="0"/>
                </a:lnTo>
                <a:lnTo>
                  <a:pt x="249287" y="950"/>
                </a:lnTo>
                <a:lnTo>
                  <a:pt x="253424" y="2535"/>
                </a:lnTo>
                <a:lnTo>
                  <a:pt x="257135" y="4545"/>
                </a:lnTo>
                <a:lnTo>
                  <a:pt x="260561" y="5884"/>
                </a:lnTo>
                <a:lnTo>
                  <a:pt x="263798" y="6777"/>
                </a:lnTo>
                <a:lnTo>
                  <a:pt x="269933" y="7770"/>
                </a:lnTo>
                <a:lnTo>
                  <a:pt x="277791" y="8328"/>
                </a:lnTo>
                <a:lnTo>
                  <a:pt x="279963" y="8459"/>
                </a:lnTo>
                <a:lnTo>
                  <a:pt x="280542" y="9446"/>
                </a:lnTo>
                <a:lnTo>
                  <a:pt x="280928" y="11057"/>
                </a:lnTo>
                <a:lnTo>
                  <a:pt x="281185" y="13083"/>
                </a:lnTo>
                <a:lnTo>
                  <a:pt x="281358" y="15387"/>
                </a:lnTo>
                <a:lnTo>
                  <a:pt x="281472" y="17875"/>
                </a:lnTo>
                <a:lnTo>
                  <a:pt x="281700" y="2570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PenAnnotation1052"/>
          <p:cNvSpPr/>
          <p:nvPr/>
        </p:nvSpPr>
        <p:spPr>
          <a:xfrm>
            <a:off x="7854840" y="1808280"/>
            <a:ext cx="352440" cy="34920"/>
          </a:xfrm>
          <a:custGeom>
            <a:avLst/>
            <a:gdLst>
              <a:gd name="textAreaLeft" fmla="*/ 0 w 352440"/>
              <a:gd name="textAreaRight" fmla="*/ 352800 w 35244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351474" h="34260">
                <a:moveTo>
                  <a:pt x="0" y="25717"/>
                </a:moveTo>
                <a:lnTo>
                  <a:pt x="78922" y="25717"/>
                </a:lnTo>
                <a:lnTo>
                  <a:pt x="85952" y="26670"/>
                </a:lnTo>
                <a:lnTo>
                  <a:pt x="92545" y="28258"/>
                </a:lnTo>
                <a:lnTo>
                  <a:pt x="98843" y="30268"/>
                </a:lnTo>
                <a:lnTo>
                  <a:pt x="105901" y="31609"/>
                </a:lnTo>
                <a:lnTo>
                  <a:pt x="113463" y="32503"/>
                </a:lnTo>
                <a:lnTo>
                  <a:pt x="121362" y="33098"/>
                </a:lnTo>
                <a:lnTo>
                  <a:pt x="128533" y="33496"/>
                </a:lnTo>
                <a:lnTo>
                  <a:pt x="141582" y="33937"/>
                </a:lnTo>
                <a:lnTo>
                  <a:pt x="178065" y="34244"/>
                </a:lnTo>
                <a:lnTo>
                  <a:pt x="184432" y="34259"/>
                </a:lnTo>
                <a:lnTo>
                  <a:pt x="190582" y="33317"/>
                </a:lnTo>
                <a:lnTo>
                  <a:pt x="196588" y="31736"/>
                </a:lnTo>
                <a:lnTo>
                  <a:pt x="202496" y="29730"/>
                </a:lnTo>
                <a:lnTo>
                  <a:pt x="209291" y="28392"/>
                </a:lnTo>
                <a:lnTo>
                  <a:pt x="216681" y="27501"/>
                </a:lnTo>
                <a:lnTo>
                  <a:pt x="224464" y="26906"/>
                </a:lnTo>
                <a:lnTo>
                  <a:pt x="231558" y="26510"/>
                </a:lnTo>
                <a:lnTo>
                  <a:pt x="244519" y="26070"/>
                </a:lnTo>
                <a:lnTo>
                  <a:pt x="262528" y="25822"/>
                </a:lnTo>
                <a:lnTo>
                  <a:pt x="268364" y="24835"/>
                </a:lnTo>
                <a:lnTo>
                  <a:pt x="274159" y="23224"/>
                </a:lnTo>
                <a:lnTo>
                  <a:pt x="279928" y="21198"/>
                </a:lnTo>
                <a:lnTo>
                  <a:pt x="284726" y="19847"/>
                </a:lnTo>
                <a:lnTo>
                  <a:pt x="288877" y="18946"/>
                </a:lnTo>
                <a:lnTo>
                  <a:pt x="296983" y="17946"/>
                </a:lnTo>
                <a:lnTo>
                  <a:pt x="306934" y="17501"/>
                </a:lnTo>
                <a:lnTo>
                  <a:pt x="314145" y="17251"/>
                </a:lnTo>
                <a:lnTo>
                  <a:pt x="317063" y="16263"/>
                </a:lnTo>
                <a:lnTo>
                  <a:pt x="320913" y="14652"/>
                </a:lnTo>
                <a:lnTo>
                  <a:pt x="325384" y="12625"/>
                </a:lnTo>
                <a:lnTo>
                  <a:pt x="329318" y="11275"/>
                </a:lnTo>
                <a:lnTo>
                  <a:pt x="332893" y="10374"/>
                </a:lnTo>
                <a:lnTo>
                  <a:pt x="336229" y="9773"/>
                </a:lnTo>
                <a:lnTo>
                  <a:pt x="339405" y="8421"/>
                </a:lnTo>
                <a:lnTo>
                  <a:pt x="342476" y="6566"/>
                </a:lnTo>
                <a:lnTo>
                  <a:pt x="35147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PenAnnotation1053"/>
          <p:cNvSpPr/>
          <p:nvPr/>
        </p:nvSpPr>
        <p:spPr>
          <a:xfrm>
            <a:off x="8258040" y="1517760"/>
            <a:ext cx="411120" cy="453960"/>
          </a:xfrm>
          <a:custGeom>
            <a:avLst/>
            <a:gdLst>
              <a:gd name="textAreaLeft" fmla="*/ 0 w 411120"/>
              <a:gd name="textAreaRight" fmla="*/ 411480 w 4111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410965" h="454114">
                <a:moveTo>
                  <a:pt x="51434" y="25603"/>
                </a:moveTo>
                <a:lnTo>
                  <a:pt x="51434" y="21052"/>
                </a:lnTo>
                <a:lnTo>
                  <a:pt x="50482" y="19711"/>
                </a:lnTo>
                <a:lnTo>
                  <a:pt x="48895" y="18817"/>
                </a:lnTo>
                <a:lnTo>
                  <a:pt x="46883" y="18222"/>
                </a:lnTo>
                <a:lnTo>
                  <a:pt x="45543" y="16872"/>
                </a:lnTo>
                <a:lnTo>
                  <a:pt x="44649" y="15020"/>
                </a:lnTo>
                <a:lnTo>
                  <a:pt x="43215" y="9754"/>
                </a:lnTo>
                <a:lnTo>
                  <a:pt x="42865" y="0"/>
                </a:lnTo>
                <a:lnTo>
                  <a:pt x="42862" y="20039"/>
                </a:lnTo>
                <a:lnTo>
                  <a:pt x="48754" y="38191"/>
                </a:lnTo>
                <a:lnTo>
                  <a:pt x="50244" y="48978"/>
                </a:lnTo>
                <a:lnTo>
                  <a:pt x="53445" y="62661"/>
                </a:lnTo>
                <a:lnTo>
                  <a:pt x="55633" y="70311"/>
                </a:lnTo>
                <a:lnTo>
                  <a:pt x="58063" y="83890"/>
                </a:lnTo>
                <a:lnTo>
                  <a:pt x="60096" y="97228"/>
                </a:lnTo>
                <a:lnTo>
                  <a:pt x="61971" y="104786"/>
                </a:lnTo>
                <a:lnTo>
                  <a:pt x="64174" y="112681"/>
                </a:lnTo>
                <a:lnTo>
                  <a:pt x="69161" y="129074"/>
                </a:lnTo>
                <a:lnTo>
                  <a:pt x="80125" y="162882"/>
                </a:lnTo>
                <a:lnTo>
                  <a:pt x="81992" y="172367"/>
                </a:lnTo>
                <a:lnTo>
                  <a:pt x="83236" y="182500"/>
                </a:lnTo>
                <a:lnTo>
                  <a:pt x="84066" y="193066"/>
                </a:lnTo>
                <a:lnTo>
                  <a:pt x="85571" y="202967"/>
                </a:lnTo>
                <a:lnTo>
                  <a:pt x="87527" y="212426"/>
                </a:lnTo>
                <a:lnTo>
                  <a:pt x="89784" y="221589"/>
                </a:lnTo>
                <a:lnTo>
                  <a:pt x="91289" y="230555"/>
                </a:lnTo>
                <a:lnTo>
                  <a:pt x="92291" y="239390"/>
                </a:lnTo>
                <a:lnTo>
                  <a:pt x="92960" y="248138"/>
                </a:lnTo>
                <a:lnTo>
                  <a:pt x="94359" y="255874"/>
                </a:lnTo>
                <a:lnTo>
                  <a:pt x="98452" y="269551"/>
                </a:lnTo>
                <a:lnTo>
                  <a:pt x="106112" y="292511"/>
                </a:lnTo>
                <a:lnTo>
                  <a:pt x="109073" y="306471"/>
                </a:lnTo>
                <a:lnTo>
                  <a:pt x="111342" y="319025"/>
                </a:lnTo>
                <a:lnTo>
                  <a:pt x="115525" y="330955"/>
                </a:lnTo>
                <a:lnTo>
                  <a:pt x="120560" y="342607"/>
                </a:lnTo>
                <a:lnTo>
                  <a:pt x="125020" y="354136"/>
                </a:lnTo>
                <a:lnTo>
                  <a:pt x="127002" y="365610"/>
                </a:lnTo>
                <a:lnTo>
                  <a:pt x="130423" y="374519"/>
                </a:lnTo>
                <a:lnTo>
                  <a:pt x="134166" y="381654"/>
                </a:lnTo>
                <a:lnTo>
                  <a:pt x="137224" y="391026"/>
                </a:lnTo>
                <a:lnTo>
                  <a:pt x="145722" y="402779"/>
                </a:lnTo>
                <a:lnTo>
                  <a:pt x="141179" y="398238"/>
                </a:lnTo>
                <a:lnTo>
                  <a:pt x="139838" y="395946"/>
                </a:lnTo>
                <a:lnTo>
                  <a:pt x="138351" y="390860"/>
                </a:lnTo>
                <a:lnTo>
                  <a:pt x="137512" y="378090"/>
                </a:lnTo>
                <a:lnTo>
                  <a:pt x="137264" y="362242"/>
                </a:lnTo>
                <a:lnTo>
                  <a:pt x="137169" y="335830"/>
                </a:lnTo>
                <a:lnTo>
                  <a:pt x="139703" y="325089"/>
                </a:lnTo>
                <a:lnTo>
                  <a:pt x="143053" y="313965"/>
                </a:lnTo>
                <a:lnTo>
                  <a:pt x="144541" y="302671"/>
                </a:lnTo>
                <a:lnTo>
                  <a:pt x="147743" y="291302"/>
                </a:lnTo>
                <a:lnTo>
                  <a:pt x="152341" y="279898"/>
                </a:lnTo>
                <a:lnTo>
                  <a:pt x="157560" y="268481"/>
                </a:lnTo>
                <a:lnTo>
                  <a:pt x="165852" y="255893"/>
                </a:lnTo>
                <a:lnTo>
                  <a:pt x="174042" y="249239"/>
                </a:lnTo>
                <a:lnTo>
                  <a:pt x="191903" y="237598"/>
                </a:lnTo>
                <a:lnTo>
                  <a:pt x="199373" y="232655"/>
                </a:lnTo>
                <a:lnTo>
                  <a:pt x="210212" y="224623"/>
                </a:lnTo>
                <a:lnTo>
                  <a:pt x="214437" y="221148"/>
                </a:lnTo>
                <a:lnTo>
                  <a:pt x="220110" y="218831"/>
                </a:lnTo>
                <a:lnTo>
                  <a:pt x="226750" y="217287"/>
                </a:lnTo>
                <a:lnTo>
                  <a:pt x="234035" y="216257"/>
                </a:lnTo>
                <a:lnTo>
                  <a:pt x="241748" y="214618"/>
                </a:lnTo>
                <a:lnTo>
                  <a:pt x="249748" y="212573"/>
                </a:lnTo>
                <a:lnTo>
                  <a:pt x="257939" y="210257"/>
                </a:lnTo>
                <a:lnTo>
                  <a:pt x="266255" y="208713"/>
                </a:lnTo>
                <a:lnTo>
                  <a:pt x="274659" y="207684"/>
                </a:lnTo>
                <a:lnTo>
                  <a:pt x="283118" y="206997"/>
                </a:lnTo>
                <a:lnTo>
                  <a:pt x="291615" y="207492"/>
                </a:lnTo>
                <a:lnTo>
                  <a:pt x="300138" y="208775"/>
                </a:lnTo>
                <a:lnTo>
                  <a:pt x="308677" y="210582"/>
                </a:lnTo>
                <a:lnTo>
                  <a:pt x="317227" y="211788"/>
                </a:lnTo>
                <a:lnTo>
                  <a:pt x="325785" y="212591"/>
                </a:lnTo>
                <a:lnTo>
                  <a:pt x="334347" y="213127"/>
                </a:lnTo>
                <a:lnTo>
                  <a:pt x="341960" y="215389"/>
                </a:lnTo>
                <a:lnTo>
                  <a:pt x="348941" y="218802"/>
                </a:lnTo>
                <a:lnTo>
                  <a:pt x="361777" y="226721"/>
                </a:lnTo>
                <a:lnTo>
                  <a:pt x="373832" y="233416"/>
                </a:lnTo>
                <a:lnTo>
                  <a:pt x="383000" y="242107"/>
                </a:lnTo>
                <a:lnTo>
                  <a:pt x="390249" y="252319"/>
                </a:lnTo>
                <a:lnTo>
                  <a:pt x="396646" y="263208"/>
                </a:lnTo>
                <a:lnTo>
                  <a:pt x="402664" y="274397"/>
                </a:lnTo>
                <a:lnTo>
                  <a:pt x="407561" y="285721"/>
                </a:lnTo>
                <a:lnTo>
                  <a:pt x="409738" y="297103"/>
                </a:lnTo>
                <a:lnTo>
                  <a:pt x="410706" y="308512"/>
                </a:lnTo>
                <a:lnTo>
                  <a:pt x="410964" y="314221"/>
                </a:lnTo>
                <a:lnTo>
                  <a:pt x="408711" y="325645"/>
                </a:lnTo>
                <a:lnTo>
                  <a:pt x="404534" y="337072"/>
                </a:lnTo>
                <a:lnTo>
                  <a:pt x="399503" y="348501"/>
                </a:lnTo>
                <a:lnTo>
                  <a:pt x="394092" y="359931"/>
                </a:lnTo>
                <a:lnTo>
                  <a:pt x="391316" y="365645"/>
                </a:lnTo>
                <a:lnTo>
                  <a:pt x="386607" y="370408"/>
                </a:lnTo>
                <a:lnTo>
                  <a:pt x="380610" y="374535"/>
                </a:lnTo>
                <a:lnTo>
                  <a:pt x="373755" y="378239"/>
                </a:lnTo>
                <a:lnTo>
                  <a:pt x="361059" y="387435"/>
                </a:lnTo>
                <a:lnTo>
                  <a:pt x="355006" y="392554"/>
                </a:lnTo>
                <a:lnTo>
                  <a:pt x="348113" y="396920"/>
                </a:lnTo>
                <a:lnTo>
                  <a:pt x="340660" y="400782"/>
                </a:lnTo>
                <a:lnTo>
                  <a:pt x="332833" y="404310"/>
                </a:lnTo>
                <a:lnTo>
                  <a:pt x="324760" y="407614"/>
                </a:lnTo>
                <a:lnTo>
                  <a:pt x="316519" y="410769"/>
                </a:lnTo>
                <a:lnTo>
                  <a:pt x="299742" y="416815"/>
                </a:lnTo>
                <a:lnTo>
                  <a:pt x="257136" y="431333"/>
                </a:lnTo>
                <a:lnTo>
                  <a:pt x="247624" y="433249"/>
                </a:lnTo>
                <a:lnTo>
                  <a:pt x="237473" y="434527"/>
                </a:lnTo>
                <a:lnTo>
                  <a:pt x="226894" y="435379"/>
                </a:lnTo>
                <a:lnTo>
                  <a:pt x="216034" y="436899"/>
                </a:lnTo>
                <a:lnTo>
                  <a:pt x="204982" y="438865"/>
                </a:lnTo>
                <a:lnTo>
                  <a:pt x="193805" y="441129"/>
                </a:lnTo>
                <a:lnTo>
                  <a:pt x="183495" y="442638"/>
                </a:lnTo>
                <a:lnTo>
                  <a:pt x="173766" y="443643"/>
                </a:lnTo>
                <a:lnTo>
                  <a:pt x="164421" y="444314"/>
                </a:lnTo>
                <a:lnTo>
                  <a:pt x="154382" y="445713"/>
                </a:lnTo>
                <a:lnTo>
                  <a:pt x="143879" y="447599"/>
                </a:lnTo>
                <a:lnTo>
                  <a:pt x="133066" y="449808"/>
                </a:lnTo>
                <a:lnTo>
                  <a:pt x="123001" y="451282"/>
                </a:lnTo>
                <a:lnTo>
                  <a:pt x="113432" y="452263"/>
                </a:lnTo>
                <a:lnTo>
                  <a:pt x="104196" y="452918"/>
                </a:lnTo>
                <a:lnTo>
                  <a:pt x="96135" y="453355"/>
                </a:lnTo>
                <a:lnTo>
                  <a:pt x="82097" y="453840"/>
                </a:lnTo>
                <a:lnTo>
                  <a:pt x="58932" y="454113"/>
                </a:lnTo>
                <a:lnTo>
                  <a:pt x="52622" y="453198"/>
                </a:lnTo>
                <a:lnTo>
                  <a:pt x="43074" y="449643"/>
                </a:lnTo>
                <a:lnTo>
                  <a:pt x="33113" y="447427"/>
                </a:lnTo>
                <a:lnTo>
                  <a:pt x="27790" y="446836"/>
                </a:lnTo>
                <a:lnTo>
                  <a:pt x="19336" y="443640"/>
                </a:lnTo>
                <a:lnTo>
                  <a:pt x="10698" y="438378"/>
                </a:lnTo>
                <a:lnTo>
                  <a:pt x="1378" y="429815"/>
                </a:lnTo>
                <a:lnTo>
                  <a:pt x="918" y="428428"/>
                </a:lnTo>
                <a:lnTo>
                  <a:pt x="0" y="4199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PenAnnotation1054"/>
          <p:cNvSpPr/>
          <p:nvPr/>
        </p:nvSpPr>
        <p:spPr>
          <a:xfrm>
            <a:off x="6611760" y="2135160"/>
            <a:ext cx="282600" cy="239760"/>
          </a:xfrm>
          <a:custGeom>
            <a:avLst/>
            <a:gdLst>
              <a:gd name="textAreaLeft" fmla="*/ 0 w 282600"/>
              <a:gd name="textAreaRight" fmla="*/ 282960 w 2826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82893" h="240031">
                <a:moveTo>
                  <a:pt x="0" y="0"/>
                </a:moveTo>
                <a:lnTo>
                  <a:pt x="12770" y="12770"/>
                </a:lnTo>
                <a:lnTo>
                  <a:pt x="15181" y="16133"/>
                </a:lnTo>
                <a:lnTo>
                  <a:pt x="17741" y="20281"/>
                </a:lnTo>
                <a:lnTo>
                  <a:pt x="20399" y="24951"/>
                </a:lnTo>
                <a:lnTo>
                  <a:pt x="22171" y="29969"/>
                </a:lnTo>
                <a:lnTo>
                  <a:pt x="23353" y="35219"/>
                </a:lnTo>
                <a:lnTo>
                  <a:pt x="24142" y="40624"/>
                </a:lnTo>
                <a:lnTo>
                  <a:pt x="26571" y="46133"/>
                </a:lnTo>
                <a:lnTo>
                  <a:pt x="30097" y="51710"/>
                </a:lnTo>
                <a:lnTo>
                  <a:pt x="34352" y="57334"/>
                </a:lnTo>
                <a:lnTo>
                  <a:pt x="38141" y="62987"/>
                </a:lnTo>
                <a:lnTo>
                  <a:pt x="41620" y="68662"/>
                </a:lnTo>
                <a:lnTo>
                  <a:pt x="44892" y="74349"/>
                </a:lnTo>
                <a:lnTo>
                  <a:pt x="47072" y="80999"/>
                </a:lnTo>
                <a:lnTo>
                  <a:pt x="48526" y="88289"/>
                </a:lnTo>
                <a:lnTo>
                  <a:pt x="49496" y="96007"/>
                </a:lnTo>
                <a:lnTo>
                  <a:pt x="51094" y="103057"/>
                </a:lnTo>
                <a:lnTo>
                  <a:pt x="53113" y="109662"/>
                </a:lnTo>
                <a:lnTo>
                  <a:pt x="55411" y="115971"/>
                </a:lnTo>
                <a:lnTo>
                  <a:pt x="56943" y="122081"/>
                </a:lnTo>
                <a:lnTo>
                  <a:pt x="57964" y="128060"/>
                </a:lnTo>
                <a:lnTo>
                  <a:pt x="58645" y="133951"/>
                </a:lnTo>
                <a:lnTo>
                  <a:pt x="60051" y="140736"/>
                </a:lnTo>
                <a:lnTo>
                  <a:pt x="61942" y="148116"/>
                </a:lnTo>
                <a:lnTo>
                  <a:pt x="64155" y="155894"/>
                </a:lnTo>
                <a:lnTo>
                  <a:pt x="65630" y="162985"/>
                </a:lnTo>
                <a:lnTo>
                  <a:pt x="66613" y="169616"/>
                </a:lnTo>
                <a:lnTo>
                  <a:pt x="67269" y="175943"/>
                </a:lnTo>
                <a:lnTo>
                  <a:pt x="68658" y="182065"/>
                </a:lnTo>
                <a:lnTo>
                  <a:pt x="70537" y="188052"/>
                </a:lnTo>
                <a:lnTo>
                  <a:pt x="72742" y="193948"/>
                </a:lnTo>
                <a:lnTo>
                  <a:pt x="74212" y="198831"/>
                </a:lnTo>
                <a:lnTo>
                  <a:pt x="75192" y="203039"/>
                </a:lnTo>
                <a:lnTo>
                  <a:pt x="75846" y="206797"/>
                </a:lnTo>
                <a:lnTo>
                  <a:pt x="79111" y="213512"/>
                </a:lnTo>
                <a:lnTo>
                  <a:pt x="81316" y="216637"/>
                </a:lnTo>
                <a:lnTo>
                  <a:pt x="83765" y="222648"/>
                </a:lnTo>
                <a:lnTo>
                  <a:pt x="84419" y="225585"/>
                </a:lnTo>
                <a:lnTo>
                  <a:pt x="85806" y="227542"/>
                </a:lnTo>
                <a:lnTo>
                  <a:pt x="87684" y="228847"/>
                </a:lnTo>
                <a:lnTo>
                  <a:pt x="93910" y="231305"/>
                </a:lnTo>
                <a:lnTo>
                  <a:pt x="89632" y="231412"/>
                </a:lnTo>
                <a:lnTo>
                  <a:pt x="88329" y="230475"/>
                </a:lnTo>
                <a:lnTo>
                  <a:pt x="87461" y="228897"/>
                </a:lnTo>
                <a:lnTo>
                  <a:pt x="86882" y="226893"/>
                </a:lnTo>
                <a:lnTo>
                  <a:pt x="83699" y="222127"/>
                </a:lnTo>
                <a:lnTo>
                  <a:pt x="79110" y="215880"/>
                </a:lnTo>
                <a:lnTo>
                  <a:pt x="76552" y="211548"/>
                </a:lnTo>
                <a:lnTo>
                  <a:pt x="73895" y="206754"/>
                </a:lnTo>
                <a:lnTo>
                  <a:pt x="68402" y="196348"/>
                </a:lnTo>
                <a:lnTo>
                  <a:pt x="57115" y="174146"/>
                </a:lnTo>
                <a:lnTo>
                  <a:pt x="55221" y="168485"/>
                </a:lnTo>
                <a:lnTo>
                  <a:pt x="53959" y="162806"/>
                </a:lnTo>
                <a:lnTo>
                  <a:pt x="53117" y="157115"/>
                </a:lnTo>
                <a:lnTo>
                  <a:pt x="52557" y="151416"/>
                </a:lnTo>
                <a:lnTo>
                  <a:pt x="52183" y="145711"/>
                </a:lnTo>
                <a:lnTo>
                  <a:pt x="51933" y="140003"/>
                </a:lnTo>
                <a:lnTo>
                  <a:pt x="51656" y="126041"/>
                </a:lnTo>
                <a:lnTo>
                  <a:pt x="51479" y="98346"/>
                </a:lnTo>
                <a:lnTo>
                  <a:pt x="52416" y="92234"/>
                </a:lnTo>
                <a:lnTo>
                  <a:pt x="53994" y="86254"/>
                </a:lnTo>
                <a:lnTo>
                  <a:pt x="55998" y="80363"/>
                </a:lnTo>
                <a:lnTo>
                  <a:pt x="59240" y="74530"/>
                </a:lnTo>
                <a:lnTo>
                  <a:pt x="63305" y="68737"/>
                </a:lnTo>
                <a:lnTo>
                  <a:pt x="67920" y="62970"/>
                </a:lnTo>
                <a:lnTo>
                  <a:pt x="71950" y="57220"/>
                </a:lnTo>
                <a:lnTo>
                  <a:pt x="75590" y="51482"/>
                </a:lnTo>
                <a:lnTo>
                  <a:pt x="78968" y="45751"/>
                </a:lnTo>
                <a:lnTo>
                  <a:pt x="83125" y="40978"/>
                </a:lnTo>
                <a:lnTo>
                  <a:pt x="87801" y="36844"/>
                </a:lnTo>
                <a:lnTo>
                  <a:pt x="92824" y="33135"/>
                </a:lnTo>
                <a:lnTo>
                  <a:pt x="98078" y="29710"/>
                </a:lnTo>
                <a:lnTo>
                  <a:pt x="103485" y="26474"/>
                </a:lnTo>
                <a:lnTo>
                  <a:pt x="108995" y="23364"/>
                </a:lnTo>
                <a:lnTo>
                  <a:pt x="114573" y="21291"/>
                </a:lnTo>
                <a:lnTo>
                  <a:pt x="120197" y="19909"/>
                </a:lnTo>
                <a:lnTo>
                  <a:pt x="125851" y="18988"/>
                </a:lnTo>
                <a:lnTo>
                  <a:pt x="131525" y="18374"/>
                </a:lnTo>
                <a:lnTo>
                  <a:pt x="137213" y="17964"/>
                </a:lnTo>
                <a:lnTo>
                  <a:pt x="142910" y="17691"/>
                </a:lnTo>
                <a:lnTo>
                  <a:pt x="148613" y="18462"/>
                </a:lnTo>
                <a:lnTo>
                  <a:pt x="154321" y="19928"/>
                </a:lnTo>
                <a:lnTo>
                  <a:pt x="160030" y="21858"/>
                </a:lnTo>
                <a:lnTo>
                  <a:pt x="164789" y="24097"/>
                </a:lnTo>
                <a:lnTo>
                  <a:pt x="176991" y="31799"/>
                </a:lnTo>
                <a:lnTo>
                  <a:pt x="181811" y="34534"/>
                </a:lnTo>
                <a:lnTo>
                  <a:pt x="186929" y="37310"/>
                </a:lnTo>
                <a:lnTo>
                  <a:pt x="195158" y="42935"/>
                </a:lnTo>
                <a:lnTo>
                  <a:pt x="202942" y="49562"/>
                </a:lnTo>
                <a:lnTo>
                  <a:pt x="212750" y="58858"/>
                </a:lnTo>
                <a:lnTo>
                  <a:pt x="217081" y="64003"/>
                </a:lnTo>
                <a:lnTo>
                  <a:pt x="220921" y="69339"/>
                </a:lnTo>
                <a:lnTo>
                  <a:pt x="224433" y="74801"/>
                </a:lnTo>
                <a:lnTo>
                  <a:pt x="227727" y="80347"/>
                </a:lnTo>
                <a:lnTo>
                  <a:pt x="230875" y="85950"/>
                </a:lnTo>
                <a:lnTo>
                  <a:pt x="236914" y="97255"/>
                </a:lnTo>
                <a:lnTo>
                  <a:pt x="242773" y="108629"/>
                </a:lnTo>
                <a:lnTo>
                  <a:pt x="244716" y="115282"/>
                </a:lnTo>
                <a:lnTo>
                  <a:pt x="246011" y="122575"/>
                </a:lnTo>
                <a:lnTo>
                  <a:pt x="246875" y="130294"/>
                </a:lnTo>
                <a:lnTo>
                  <a:pt x="248403" y="136393"/>
                </a:lnTo>
                <a:lnTo>
                  <a:pt x="250374" y="141411"/>
                </a:lnTo>
                <a:lnTo>
                  <a:pt x="252641" y="145709"/>
                </a:lnTo>
                <a:lnTo>
                  <a:pt x="254153" y="150479"/>
                </a:lnTo>
                <a:lnTo>
                  <a:pt x="255159" y="155565"/>
                </a:lnTo>
                <a:lnTo>
                  <a:pt x="255831" y="160860"/>
                </a:lnTo>
                <a:lnTo>
                  <a:pt x="257231" y="166295"/>
                </a:lnTo>
                <a:lnTo>
                  <a:pt x="259118" y="171823"/>
                </a:lnTo>
                <a:lnTo>
                  <a:pt x="261327" y="177414"/>
                </a:lnTo>
                <a:lnTo>
                  <a:pt x="262801" y="182093"/>
                </a:lnTo>
                <a:lnTo>
                  <a:pt x="263783" y="186166"/>
                </a:lnTo>
                <a:lnTo>
                  <a:pt x="264438" y="189833"/>
                </a:lnTo>
                <a:lnTo>
                  <a:pt x="267705" y="196448"/>
                </a:lnTo>
                <a:lnTo>
                  <a:pt x="269910" y="199545"/>
                </a:lnTo>
                <a:lnTo>
                  <a:pt x="272360" y="205527"/>
                </a:lnTo>
                <a:lnTo>
                  <a:pt x="273448" y="211360"/>
                </a:lnTo>
                <a:lnTo>
                  <a:pt x="273933" y="217128"/>
                </a:lnTo>
                <a:lnTo>
                  <a:pt x="274148" y="222866"/>
                </a:lnTo>
                <a:lnTo>
                  <a:pt x="274297" y="231279"/>
                </a:lnTo>
                <a:lnTo>
                  <a:pt x="274317" y="238689"/>
                </a:lnTo>
                <a:lnTo>
                  <a:pt x="275270" y="239136"/>
                </a:lnTo>
                <a:lnTo>
                  <a:pt x="282892" y="2400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PenAnnotation1055"/>
          <p:cNvSpPr/>
          <p:nvPr/>
        </p:nvSpPr>
        <p:spPr>
          <a:xfrm>
            <a:off x="6886440" y="2155680"/>
            <a:ext cx="249480" cy="209520"/>
          </a:xfrm>
          <a:custGeom>
            <a:avLst/>
            <a:gdLst>
              <a:gd name="textAreaLeft" fmla="*/ 0 w 249480"/>
              <a:gd name="textAreaRight" fmla="*/ 249840 w 249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48603" h="210253">
                <a:moveTo>
                  <a:pt x="0" y="210252"/>
                </a:moveTo>
                <a:lnTo>
                  <a:pt x="0" y="84518"/>
                </a:lnTo>
                <a:lnTo>
                  <a:pt x="952" y="78804"/>
                </a:lnTo>
                <a:lnTo>
                  <a:pt x="2540" y="73090"/>
                </a:lnTo>
                <a:lnTo>
                  <a:pt x="4550" y="67376"/>
                </a:lnTo>
                <a:lnTo>
                  <a:pt x="6844" y="62613"/>
                </a:lnTo>
                <a:lnTo>
                  <a:pt x="9325" y="58486"/>
                </a:lnTo>
                <a:lnTo>
                  <a:pt x="11931" y="54782"/>
                </a:lnTo>
                <a:lnTo>
                  <a:pt x="14622" y="50408"/>
                </a:lnTo>
                <a:lnTo>
                  <a:pt x="17367" y="45586"/>
                </a:lnTo>
                <a:lnTo>
                  <a:pt x="22959" y="35150"/>
                </a:lnTo>
                <a:lnTo>
                  <a:pt x="28619" y="24161"/>
                </a:lnTo>
                <a:lnTo>
                  <a:pt x="31461" y="19516"/>
                </a:lnTo>
                <a:lnTo>
                  <a:pt x="34309" y="15467"/>
                </a:lnTo>
                <a:lnTo>
                  <a:pt x="37160" y="11815"/>
                </a:lnTo>
                <a:lnTo>
                  <a:pt x="40013" y="9381"/>
                </a:lnTo>
                <a:lnTo>
                  <a:pt x="42867" y="7758"/>
                </a:lnTo>
                <a:lnTo>
                  <a:pt x="45724" y="6676"/>
                </a:lnTo>
                <a:lnTo>
                  <a:pt x="51436" y="2933"/>
                </a:lnTo>
                <a:lnTo>
                  <a:pt x="54293" y="602"/>
                </a:lnTo>
                <a:lnTo>
                  <a:pt x="57150" y="0"/>
                </a:lnTo>
                <a:lnTo>
                  <a:pt x="60007" y="551"/>
                </a:lnTo>
                <a:lnTo>
                  <a:pt x="65723" y="2751"/>
                </a:lnTo>
                <a:lnTo>
                  <a:pt x="71437" y="3729"/>
                </a:lnTo>
                <a:lnTo>
                  <a:pt x="74295" y="4943"/>
                </a:lnTo>
                <a:lnTo>
                  <a:pt x="80009" y="8831"/>
                </a:lnTo>
                <a:lnTo>
                  <a:pt x="85725" y="13734"/>
                </a:lnTo>
                <a:lnTo>
                  <a:pt x="88582" y="16375"/>
                </a:lnTo>
                <a:lnTo>
                  <a:pt x="91440" y="20040"/>
                </a:lnTo>
                <a:lnTo>
                  <a:pt x="94297" y="24389"/>
                </a:lnTo>
                <a:lnTo>
                  <a:pt x="97154" y="29193"/>
                </a:lnTo>
                <a:lnTo>
                  <a:pt x="100012" y="34301"/>
                </a:lnTo>
                <a:lnTo>
                  <a:pt x="105727" y="45056"/>
                </a:lnTo>
                <a:lnTo>
                  <a:pt x="108584" y="49639"/>
                </a:lnTo>
                <a:lnTo>
                  <a:pt x="111442" y="53646"/>
                </a:lnTo>
                <a:lnTo>
                  <a:pt x="114300" y="57271"/>
                </a:lnTo>
                <a:lnTo>
                  <a:pt x="117157" y="62544"/>
                </a:lnTo>
                <a:lnTo>
                  <a:pt x="120015" y="68918"/>
                </a:lnTo>
                <a:lnTo>
                  <a:pt x="122872" y="76024"/>
                </a:lnTo>
                <a:lnTo>
                  <a:pt x="125730" y="82666"/>
                </a:lnTo>
                <a:lnTo>
                  <a:pt x="131444" y="95127"/>
                </a:lnTo>
                <a:lnTo>
                  <a:pt x="142875" y="118649"/>
                </a:lnTo>
                <a:lnTo>
                  <a:pt x="148590" y="130169"/>
                </a:lnTo>
                <a:lnTo>
                  <a:pt x="151447" y="134956"/>
                </a:lnTo>
                <a:lnTo>
                  <a:pt x="154305" y="139099"/>
                </a:lnTo>
                <a:lnTo>
                  <a:pt x="157162" y="142814"/>
                </a:lnTo>
                <a:lnTo>
                  <a:pt x="159067" y="147196"/>
                </a:lnTo>
                <a:lnTo>
                  <a:pt x="160337" y="152022"/>
                </a:lnTo>
                <a:lnTo>
                  <a:pt x="161183" y="157144"/>
                </a:lnTo>
                <a:lnTo>
                  <a:pt x="162700" y="161512"/>
                </a:lnTo>
                <a:lnTo>
                  <a:pt x="164665" y="165376"/>
                </a:lnTo>
                <a:lnTo>
                  <a:pt x="166927" y="168905"/>
                </a:lnTo>
                <a:lnTo>
                  <a:pt x="171980" y="175365"/>
                </a:lnTo>
                <a:lnTo>
                  <a:pt x="174660" y="178422"/>
                </a:lnTo>
                <a:lnTo>
                  <a:pt x="178353" y="181411"/>
                </a:lnTo>
                <a:lnTo>
                  <a:pt x="182719" y="184357"/>
                </a:lnTo>
                <a:lnTo>
                  <a:pt x="187535" y="187274"/>
                </a:lnTo>
                <a:lnTo>
                  <a:pt x="191699" y="190170"/>
                </a:lnTo>
                <a:lnTo>
                  <a:pt x="198864" y="195929"/>
                </a:lnTo>
                <a:lnTo>
                  <a:pt x="205224" y="199124"/>
                </a:lnTo>
                <a:lnTo>
                  <a:pt x="211225" y="200543"/>
                </a:lnTo>
                <a:lnTo>
                  <a:pt x="217068" y="201174"/>
                </a:lnTo>
                <a:lnTo>
                  <a:pt x="222839" y="201455"/>
                </a:lnTo>
                <a:lnTo>
                  <a:pt x="228579" y="201579"/>
                </a:lnTo>
                <a:lnTo>
                  <a:pt x="244078" y="201675"/>
                </a:lnTo>
                <a:lnTo>
                  <a:pt x="245585" y="200724"/>
                </a:lnTo>
                <a:lnTo>
                  <a:pt x="246591" y="199137"/>
                </a:lnTo>
                <a:lnTo>
                  <a:pt x="248602" y="1931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PenAnnotation1056"/>
          <p:cNvSpPr/>
          <p:nvPr/>
        </p:nvSpPr>
        <p:spPr>
          <a:xfrm>
            <a:off x="7161120" y="2143080"/>
            <a:ext cx="325440" cy="236520"/>
          </a:xfrm>
          <a:custGeom>
            <a:avLst/>
            <a:gdLst>
              <a:gd name="textAreaLeft" fmla="*/ 0 w 325440"/>
              <a:gd name="textAreaRight" fmla="*/ 325800 w 325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325757" h="236131">
                <a:moveTo>
                  <a:pt x="0" y="25553"/>
                </a:moveTo>
                <a:lnTo>
                  <a:pt x="0" y="37485"/>
                </a:lnTo>
                <a:lnTo>
                  <a:pt x="954" y="41128"/>
                </a:lnTo>
                <a:lnTo>
                  <a:pt x="2541" y="45461"/>
                </a:lnTo>
                <a:lnTo>
                  <a:pt x="4552" y="50255"/>
                </a:lnTo>
                <a:lnTo>
                  <a:pt x="5892" y="55356"/>
                </a:lnTo>
                <a:lnTo>
                  <a:pt x="6786" y="60662"/>
                </a:lnTo>
                <a:lnTo>
                  <a:pt x="7382" y="66104"/>
                </a:lnTo>
                <a:lnTo>
                  <a:pt x="8731" y="71637"/>
                </a:lnTo>
                <a:lnTo>
                  <a:pt x="10584" y="77231"/>
                </a:lnTo>
                <a:lnTo>
                  <a:pt x="12772" y="82865"/>
                </a:lnTo>
                <a:lnTo>
                  <a:pt x="14230" y="88526"/>
                </a:lnTo>
                <a:lnTo>
                  <a:pt x="15202" y="94205"/>
                </a:lnTo>
                <a:lnTo>
                  <a:pt x="15850" y="99896"/>
                </a:lnTo>
                <a:lnTo>
                  <a:pt x="17234" y="106548"/>
                </a:lnTo>
                <a:lnTo>
                  <a:pt x="19110" y="113839"/>
                </a:lnTo>
                <a:lnTo>
                  <a:pt x="21312" y="121558"/>
                </a:lnTo>
                <a:lnTo>
                  <a:pt x="22781" y="128609"/>
                </a:lnTo>
                <a:lnTo>
                  <a:pt x="23760" y="135214"/>
                </a:lnTo>
                <a:lnTo>
                  <a:pt x="24413" y="141523"/>
                </a:lnTo>
                <a:lnTo>
                  <a:pt x="24848" y="147634"/>
                </a:lnTo>
                <a:lnTo>
                  <a:pt x="25137" y="153613"/>
                </a:lnTo>
                <a:lnTo>
                  <a:pt x="25331" y="159504"/>
                </a:lnTo>
                <a:lnTo>
                  <a:pt x="26413" y="165336"/>
                </a:lnTo>
                <a:lnTo>
                  <a:pt x="28086" y="171129"/>
                </a:lnTo>
                <a:lnTo>
                  <a:pt x="30154" y="176896"/>
                </a:lnTo>
                <a:lnTo>
                  <a:pt x="31533" y="182646"/>
                </a:lnTo>
                <a:lnTo>
                  <a:pt x="32452" y="188384"/>
                </a:lnTo>
                <a:lnTo>
                  <a:pt x="33065" y="194115"/>
                </a:lnTo>
                <a:lnTo>
                  <a:pt x="34426" y="198887"/>
                </a:lnTo>
                <a:lnTo>
                  <a:pt x="36286" y="203022"/>
                </a:lnTo>
                <a:lnTo>
                  <a:pt x="39940" y="210156"/>
                </a:lnTo>
                <a:lnTo>
                  <a:pt x="41564" y="216501"/>
                </a:lnTo>
                <a:lnTo>
                  <a:pt x="44825" y="222496"/>
                </a:lnTo>
                <a:lnTo>
                  <a:pt x="51049" y="230778"/>
                </a:lnTo>
                <a:lnTo>
                  <a:pt x="51359" y="236130"/>
                </a:lnTo>
                <a:lnTo>
                  <a:pt x="51431" y="229120"/>
                </a:lnTo>
                <a:lnTo>
                  <a:pt x="51436" y="206613"/>
                </a:lnTo>
                <a:lnTo>
                  <a:pt x="50483" y="200552"/>
                </a:lnTo>
                <a:lnTo>
                  <a:pt x="48896" y="193654"/>
                </a:lnTo>
                <a:lnTo>
                  <a:pt x="46884" y="186198"/>
                </a:lnTo>
                <a:lnTo>
                  <a:pt x="45544" y="179322"/>
                </a:lnTo>
                <a:lnTo>
                  <a:pt x="44650" y="172833"/>
                </a:lnTo>
                <a:lnTo>
                  <a:pt x="44055" y="166602"/>
                </a:lnTo>
                <a:lnTo>
                  <a:pt x="44610" y="159591"/>
                </a:lnTo>
                <a:lnTo>
                  <a:pt x="45933" y="152059"/>
                </a:lnTo>
                <a:lnTo>
                  <a:pt x="47767" y="144180"/>
                </a:lnTo>
                <a:lnTo>
                  <a:pt x="49942" y="136070"/>
                </a:lnTo>
                <a:lnTo>
                  <a:pt x="54900" y="119440"/>
                </a:lnTo>
                <a:lnTo>
                  <a:pt x="63045" y="94011"/>
                </a:lnTo>
                <a:lnTo>
                  <a:pt x="65843" y="86432"/>
                </a:lnTo>
                <a:lnTo>
                  <a:pt x="68660" y="79474"/>
                </a:lnTo>
                <a:lnTo>
                  <a:pt x="71491" y="72930"/>
                </a:lnTo>
                <a:lnTo>
                  <a:pt x="75283" y="65711"/>
                </a:lnTo>
                <a:lnTo>
                  <a:pt x="79717" y="58040"/>
                </a:lnTo>
                <a:lnTo>
                  <a:pt x="84577" y="50068"/>
                </a:lnTo>
                <a:lnTo>
                  <a:pt x="89723" y="42849"/>
                </a:lnTo>
                <a:lnTo>
                  <a:pt x="95058" y="36131"/>
                </a:lnTo>
                <a:lnTo>
                  <a:pt x="100520" y="29748"/>
                </a:lnTo>
                <a:lnTo>
                  <a:pt x="106066" y="24539"/>
                </a:lnTo>
                <a:lnTo>
                  <a:pt x="111669" y="20115"/>
                </a:lnTo>
                <a:lnTo>
                  <a:pt x="117309" y="16213"/>
                </a:lnTo>
                <a:lnTo>
                  <a:pt x="122973" y="12659"/>
                </a:lnTo>
                <a:lnTo>
                  <a:pt x="128655" y="9337"/>
                </a:lnTo>
                <a:lnTo>
                  <a:pt x="134348" y="6170"/>
                </a:lnTo>
                <a:lnTo>
                  <a:pt x="143213" y="2651"/>
                </a:lnTo>
                <a:lnTo>
                  <a:pt x="150328" y="1087"/>
                </a:lnTo>
                <a:lnTo>
                  <a:pt x="156665" y="392"/>
                </a:lnTo>
                <a:lnTo>
                  <a:pt x="165197" y="83"/>
                </a:lnTo>
                <a:lnTo>
                  <a:pt x="170139" y="0"/>
                </a:lnTo>
                <a:lnTo>
                  <a:pt x="174386" y="1850"/>
                </a:lnTo>
                <a:lnTo>
                  <a:pt x="178170" y="4989"/>
                </a:lnTo>
                <a:lnTo>
                  <a:pt x="181646" y="8986"/>
                </a:lnTo>
                <a:lnTo>
                  <a:pt x="188047" y="15967"/>
                </a:lnTo>
                <a:lnTo>
                  <a:pt x="191087" y="19163"/>
                </a:lnTo>
                <a:lnTo>
                  <a:pt x="193114" y="24150"/>
                </a:lnTo>
                <a:lnTo>
                  <a:pt x="194466" y="30333"/>
                </a:lnTo>
                <a:lnTo>
                  <a:pt x="195367" y="37312"/>
                </a:lnTo>
                <a:lnTo>
                  <a:pt x="195967" y="43870"/>
                </a:lnTo>
                <a:lnTo>
                  <a:pt x="196367" y="50147"/>
                </a:lnTo>
                <a:lnTo>
                  <a:pt x="196635" y="56236"/>
                </a:lnTo>
                <a:lnTo>
                  <a:pt x="196931" y="70622"/>
                </a:lnTo>
                <a:lnTo>
                  <a:pt x="197164" y="149628"/>
                </a:lnTo>
                <a:lnTo>
                  <a:pt x="198118" y="155895"/>
                </a:lnTo>
                <a:lnTo>
                  <a:pt x="199707" y="161977"/>
                </a:lnTo>
                <a:lnTo>
                  <a:pt x="201718" y="167938"/>
                </a:lnTo>
                <a:lnTo>
                  <a:pt x="204011" y="173816"/>
                </a:lnTo>
                <a:lnTo>
                  <a:pt x="206493" y="179640"/>
                </a:lnTo>
                <a:lnTo>
                  <a:pt x="209100" y="185428"/>
                </a:lnTo>
                <a:lnTo>
                  <a:pt x="211790" y="190239"/>
                </a:lnTo>
                <a:lnTo>
                  <a:pt x="214536" y="194398"/>
                </a:lnTo>
                <a:lnTo>
                  <a:pt x="220127" y="201561"/>
                </a:lnTo>
                <a:lnTo>
                  <a:pt x="225787" y="207919"/>
                </a:lnTo>
                <a:lnTo>
                  <a:pt x="231478" y="213919"/>
                </a:lnTo>
                <a:lnTo>
                  <a:pt x="234329" y="216853"/>
                </a:lnTo>
                <a:lnTo>
                  <a:pt x="237182" y="218809"/>
                </a:lnTo>
                <a:lnTo>
                  <a:pt x="245748" y="222514"/>
                </a:lnTo>
                <a:lnTo>
                  <a:pt x="251462" y="226756"/>
                </a:lnTo>
                <a:lnTo>
                  <a:pt x="255271" y="228268"/>
                </a:lnTo>
                <a:lnTo>
                  <a:pt x="264584" y="229949"/>
                </a:lnTo>
                <a:lnTo>
                  <a:pt x="268782" y="229445"/>
                </a:lnTo>
                <a:lnTo>
                  <a:pt x="272533" y="228155"/>
                </a:lnTo>
                <a:lnTo>
                  <a:pt x="279241" y="225136"/>
                </a:lnTo>
                <a:lnTo>
                  <a:pt x="289325" y="222484"/>
                </a:lnTo>
                <a:lnTo>
                  <a:pt x="298770" y="218488"/>
                </a:lnTo>
                <a:lnTo>
                  <a:pt x="306777" y="216077"/>
                </a:lnTo>
                <a:lnTo>
                  <a:pt x="316640" y="214720"/>
                </a:lnTo>
                <a:lnTo>
                  <a:pt x="325756" y="2141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PenAnnotation1057"/>
          <p:cNvSpPr/>
          <p:nvPr/>
        </p:nvSpPr>
        <p:spPr>
          <a:xfrm>
            <a:off x="7554960" y="2185920"/>
            <a:ext cx="274680" cy="60480"/>
          </a:xfrm>
          <a:custGeom>
            <a:avLst/>
            <a:gdLst>
              <a:gd name="textAreaLeft" fmla="*/ 0 w 274680"/>
              <a:gd name="textAreaRight" fmla="*/ 275040 w 2746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274321" h="59996">
                <a:moveTo>
                  <a:pt x="0" y="59995"/>
                </a:moveTo>
                <a:lnTo>
                  <a:pt x="4551" y="59995"/>
                </a:lnTo>
                <a:lnTo>
                  <a:pt x="5891" y="59042"/>
                </a:lnTo>
                <a:lnTo>
                  <a:pt x="6785" y="57455"/>
                </a:lnTo>
                <a:lnTo>
                  <a:pt x="7381" y="55444"/>
                </a:lnTo>
                <a:lnTo>
                  <a:pt x="8730" y="54103"/>
                </a:lnTo>
                <a:lnTo>
                  <a:pt x="10583" y="53209"/>
                </a:lnTo>
                <a:lnTo>
                  <a:pt x="12770" y="52614"/>
                </a:lnTo>
                <a:lnTo>
                  <a:pt x="16133" y="51264"/>
                </a:lnTo>
                <a:lnTo>
                  <a:pt x="20281" y="49412"/>
                </a:lnTo>
                <a:lnTo>
                  <a:pt x="29969" y="44814"/>
                </a:lnTo>
                <a:lnTo>
                  <a:pt x="40624" y="39595"/>
                </a:lnTo>
                <a:lnTo>
                  <a:pt x="47085" y="36870"/>
                </a:lnTo>
                <a:lnTo>
                  <a:pt x="54250" y="34101"/>
                </a:lnTo>
                <a:lnTo>
                  <a:pt x="61884" y="31302"/>
                </a:lnTo>
                <a:lnTo>
                  <a:pt x="69831" y="29436"/>
                </a:lnTo>
                <a:lnTo>
                  <a:pt x="77987" y="28192"/>
                </a:lnTo>
                <a:lnTo>
                  <a:pt x="86281" y="27363"/>
                </a:lnTo>
                <a:lnTo>
                  <a:pt x="94668" y="25858"/>
                </a:lnTo>
                <a:lnTo>
                  <a:pt x="103117" y="23902"/>
                </a:lnTo>
                <a:lnTo>
                  <a:pt x="111607" y="21645"/>
                </a:lnTo>
                <a:lnTo>
                  <a:pt x="128660" y="16598"/>
                </a:lnTo>
                <a:lnTo>
                  <a:pt x="137208" y="13918"/>
                </a:lnTo>
                <a:lnTo>
                  <a:pt x="156866" y="8401"/>
                </a:lnTo>
                <a:lnTo>
                  <a:pt x="167442" y="5597"/>
                </a:lnTo>
                <a:lnTo>
                  <a:pt x="177350" y="3727"/>
                </a:lnTo>
                <a:lnTo>
                  <a:pt x="186813" y="2480"/>
                </a:lnTo>
                <a:lnTo>
                  <a:pt x="195979" y="1649"/>
                </a:lnTo>
                <a:lnTo>
                  <a:pt x="203996" y="1095"/>
                </a:lnTo>
                <a:lnTo>
                  <a:pt x="211244" y="726"/>
                </a:lnTo>
                <a:lnTo>
                  <a:pt x="224379" y="315"/>
                </a:lnTo>
                <a:lnTo>
                  <a:pt x="254138" y="30"/>
                </a:lnTo>
                <a:lnTo>
                  <a:pt x="266859" y="0"/>
                </a:lnTo>
                <a:lnTo>
                  <a:pt x="269345" y="948"/>
                </a:lnTo>
                <a:lnTo>
                  <a:pt x="271003" y="2533"/>
                </a:lnTo>
                <a:lnTo>
                  <a:pt x="274320" y="85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PenAnnotation1058"/>
          <p:cNvSpPr/>
          <p:nvPr/>
        </p:nvSpPr>
        <p:spPr>
          <a:xfrm>
            <a:off x="7607160" y="2271600"/>
            <a:ext cx="333360" cy="58680"/>
          </a:xfrm>
          <a:custGeom>
            <a:avLst/>
            <a:gdLst>
              <a:gd name="textAreaLeft" fmla="*/ 0 w 333360"/>
              <a:gd name="textAreaRight" fmla="*/ 333360 w 33336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34328" h="58814">
                <a:moveTo>
                  <a:pt x="0" y="42863"/>
                </a:moveTo>
                <a:lnTo>
                  <a:pt x="0" y="51082"/>
                </a:lnTo>
                <a:lnTo>
                  <a:pt x="7381" y="51404"/>
                </a:lnTo>
                <a:lnTo>
                  <a:pt x="9683" y="52367"/>
                </a:lnTo>
                <a:lnTo>
                  <a:pt x="17321" y="55977"/>
                </a:lnTo>
                <a:lnTo>
                  <a:pt x="21072" y="57320"/>
                </a:lnTo>
                <a:lnTo>
                  <a:pt x="27780" y="58813"/>
                </a:lnTo>
                <a:lnTo>
                  <a:pt x="31855" y="58259"/>
                </a:lnTo>
                <a:lnTo>
                  <a:pt x="36476" y="56937"/>
                </a:lnTo>
                <a:lnTo>
                  <a:pt x="41462" y="55103"/>
                </a:lnTo>
                <a:lnTo>
                  <a:pt x="47644" y="53880"/>
                </a:lnTo>
                <a:lnTo>
                  <a:pt x="54623" y="53065"/>
                </a:lnTo>
                <a:lnTo>
                  <a:pt x="62132" y="52522"/>
                </a:lnTo>
                <a:lnTo>
                  <a:pt x="69996" y="51207"/>
                </a:lnTo>
                <a:lnTo>
                  <a:pt x="78096" y="49378"/>
                </a:lnTo>
                <a:lnTo>
                  <a:pt x="86354" y="47206"/>
                </a:lnTo>
                <a:lnTo>
                  <a:pt x="94716" y="45758"/>
                </a:lnTo>
                <a:lnTo>
                  <a:pt x="103149" y="44793"/>
                </a:lnTo>
                <a:lnTo>
                  <a:pt x="111629" y="44150"/>
                </a:lnTo>
                <a:lnTo>
                  <a:pt x="119187" y="42768"/>
                </a:lnTo>
                <a:lnTo>
                  <a:pt x="126130" y="40895"/>
                </a:lnTo>
                <a:lnTo>
                  <a:pt x="155513" y="31044"/>
                </a:lnTo>
                <a:lnTo>
                  <a:pt x="163682" y="29268"/>
                </a:lnTo>
                <a:lnTo>
                  <a:pt x="171986" y="28085"/>
                </a:lnTo>
                <a:lnTo>
                  <a:pt x="180380" y="27296"/>
                </a:lnTo>
                <a:lnTo>
                  <a:pt x="188833" y="25817"/>
                </a:lnTo>
                <a:lnTo>
                  <a:pt x="197326" y="23879"/>
                </a:lnTo>
                <a:lnTo>
                  <a:pt x="205846" y="21634"/>
                </a:lnTo>
                <a:lnTo>
                  <a:pt x="213430" y="20138"/>
                </a:lnTo>
                <a:lnTo>
                  <a:pt x="220392" y="19140"/>
                </a:lnTo>
                <a:lnTo>
                  <a:pt x="226938" y="18475"/>
                </a:lnTo>
                <a:lnTo>
                  <a:pt x="233206" y="17079"/>
                </a:lnTo>
                <a:lnTo>
                  <a:pt x="239291" y="15196"/>
                </a:lnTo>
                <a:lnTo>
                  <a:pt x="245252" y="12988"/>
                </a:lnTo>
                <a:lnTo>
                  <a:pt x="251132" y="11517"/>
                </a:lnTo>
                <a:lnTo>
                  <a:pt x="256956" y="10535"/>
                </a:lnTo>
                <a:lnTo>
                  <a:pt x="262744" y="9881"/>
                </a:lnTo>
                <a:lnTo>
                  <a:pt x="268507" y="9445"/>
                </a:lnTo>
                <a:lnTo>
                  <a:pt x="274255" y="9154"/>
                </a:lnTo>
                <a:lnTo>
                  <a:pt x="285720" y="8831"/>
                </a:lnTo>
                <a:lnTo>
                  <a:pt x="319537" y="8583"/>
                </a:lnTo>
                <a:lnTo>
                  <a:pt x="322562" y="7627"/>
                </a:lnTo>
                <a:lnTo>
                  <a:pt x="325532" y="6037"/>
                </a:lnTo>
                <a:lnTo>
                  <a:pt x="3343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PenAnnotation1059"/>
          <p:cNvSpPr/>
          <p:nvPr/>
        </p:nvSpPr>
        <p:spPr>
          <a:xfrm>
            <a:off x="7985160" y="2151000"/>
            <a:ext cx="363600" cy="206280"/>
          </a:xfrm>
          <a:custGeom>
            <a:avLst/>
            <a:gdLst>
              <a:gd name="textAreaLeft" fmla="*/ 0 w 363600"/>
              <a:gd name="textAreaRight" fmla="*/ 363960 w 363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364028" h="205113">
                <a:moveTo>
                  <a:pt x="188082" y="17031"/>
                </a:moveTo>
                <a:lnTo>
                  <a:pt x="183531" y="17031"/>
                </a:lnTo>
                <a:lnTo>
                  <a:pt x="182190" y="16078"/>
                </a:lnTo>
                <a:lnTo>
                  <a:pt x="181297" y="14491"/>
                </a:lnTo>
                <a:lnTo>
                  <a:pt x="179863" y="9650"/>
                </a:lnTo>
                <a:lnTo>
                  <a:pt x="175063" y="4261"/>
                </a:lnTo>
                <a:lnTo>
                  <a:pt x="172735" y="2803"/>
                </a:lnTo>
                <a:lnTo>
                  <a:pt x="167609" y="1182"/>
                </a:lnTo>
                <a:lnTo>
                  <a:pt x="159615" y="462"/>
                </a:lnTo>
                <a:lnTo>
                  <a:pt x="150664" y="142"/>
                </a:lnTo>
                <a:lnTo>
                  <a:pt x="143512" y="0"/>
                </a:lnTo>
                <a:lnTo>
                  <a:pt x="134617" y="2477"/>
                </a:lnTo>
                <a:lnTo>
                  <a:pt x="124315" y="5800"/>
                </a:lnTo>
                <a:lnTo>
                  <a:pt x="113386" y="7277"/>
                </a:lnTo>
                <a:lnTo>
                  <a:pt x="102179" y="10473"/>
                </a:lnTo>
                <a:lnTo>
                  <a:pt x="90848" y="15069"/>
                </a:lnTo>
                <a:lnTo>
                  <a:pt x="79461" y="20287"/>
                </a:lnTo>
                <a:lnTo>
                  <a:pt x="74710" y="23964"/>
                </a:lnTo>
                <a:lnTo>
                  <a:pt x="70590" y="28320"/>
                </a:lnTo>
                <a:lnTo>
                  <a:pt x="66893" y="33130"/>
                </a:lnTo>
                <a:lnTo>
                  <a:pt x="62522" y="37289"/>
                </a:lnTo>
                <a:lnTo>
                  <a:pt x="57703" y="41014"/>
                </a:lnTo>
                <a:lnTo>
                  <a:pt x="52584" y="44449"/>
                </a:lnTo>
                <a:lnTo>
                  <a:pt x="47268" y="48645"/>
                </a:lnTo>
                <a:lnTo>
                  <a:pt x="41818" y="53347"/>
                </a:lnTo>
                <a:lnTo>
                  <a:pt x="36280" y="58387"/>
                </a:lnTo>
                <a:lnTo>
                  <a:pt x="31635" y="63652"/>
                </a:lnTo>
                <a:lnTo>
                  <a:pt x="27587" y="69067"/>
                </a:lnTo>
                <a:lnTo>
                  <a:pt x="23936" y="74581"/>
                </a:lnTo>
                <a:lnTo>
                  <a:pt x="20548" y="80163"/>
                </a:lnTo>
                <a:lnTo>
                  <a:pt x="17338" y="85789"/>
                </a:lnTo>
                <a:lnTo>
                  <a:pt x="11231" y="97120"/>
                </a:lnTo>
                <a:lnTo>
                  <a:pt x="5341" y="108506"/>
                </a:lnTo>
                <a:lnTo>
                  <a:pt x="3390" y="114209"/>
                </a:lnTo>
                <a:lnTo>
                  <a:pt x="2089" y="119917"/>
                </a:lnTo>
                <a:lnTo>
                  <a:pt x="1222" y="125626"/>
                </a:lnTo>
                <a:lnTo>
                  <a:pt x="643" y="130385"/>
                </a:lnTo>
                <a:lnTo>
                  <a:pt x="258" y="134511"/>
                </a:lnTo>
                <a:lnTo>
                  <a:pt x="0" y="138213"/>
                </a:lnTo>
                <a:lnTo>
                  <a:pt x="782" y="142587"/>
                </a:lnTo>
                <a:lnTo>
                  <a:pt x="2256" y="147407"/>
                </a:lnTo>
                <a:lnTo>
                  <a:pt x="4190" y="152526"/>
                </a:lnTo>
                <a:lnTo>
                  <a:pt x="6432" y="157844"/>
                </a:lnTo>
                <a:lnTo>
                  <a:pt x="8879" y="163294"/>
                </a:lnTo>
                <a:lnTo>
                  <a:pt x="11463" y="168832"/>
                </a:lnTo>
                <a:lnTo>
                  <a:pt x="15091" y="173477"/>
                </a:lnTo>
                <a:lnTo>
                  <a:pt x="19415" y="177526"/>
                </a:lnTo>
                <a:lnTo>
                  <a:pt x="24202" y="181177"/>
                </a:lnTo>
                <a:lnTo>
                  <a:pt x="29299" y="184564"/>
                </a:lnTo>
                <a:lnTo>
                  <a:pt x="40042" y="190868"/>
                </a:lnTo>
                <a:lnTo>
                  <a:pt x="46525" y="193882"/>
                </a:lnTo>
                <a:lnTo>
                  <a:pt x="53706" y="196845"/>
                </a:lnTo>
                <a:lnTo>
                  <a:pt x="61350" y="199772"/>
                </a:lnTo>
                <a:lnTo>
                  <a:pt x="69304" y="201723"/>
                </a:lnTo>
                <a:lnTo>
                  <a:pt x="77465" y="203024"/>
                </a:lnTo>
                <a:lnTo>
                  <a:pt x="85762" y="203892"/>
                </a:lnTo>
                <a:lnTo>
                  <a:pt x="95103" y="204470"/>
                </a:lnTo>
                <a:lnTo>
                  <a:pt x="115643" y="205112"/>
                </a:lnTo>
                <a:lnTo>
                  <a:pt x="125502" y="204331"/>
                </a:lnTo>
                <a:lnTo>
                  <a:pt x="134931" y="202858"/>
                </a:lnTo>
                <a:lnTo>
                  <a:pt x="144076" y="200923"/>
                </a:lnTo>
                <a:lnTo>
                  <a:pt x="153982" y="199633"/>
                </a:lnTo>
                <a:lnTo>
                  <a:pt x="164396" y="198773"/>
                </a:lnTo>
                <a:lnTo>
                  <a:pt x="175150" y="198200"/>
                </a:lnTo>
                <a:lnTo>
                  <a:pt x="186128" y="195913"/>
                </a:lnTo>
                <a:lnTo>
                  <a:pt x="197257" y="192483"/>
                </a:lnTo>
                <a:lnTo>
                  <a:pt x="208485" y="188292"/>
                </a:lnTo>
                <a:lnTo>
                  <a:pt x="219782" y="184545"/>
                </a:lnTo>
                <a:lnTo>
                  <a:pt x="231123" y="181094"/>
                </a:lnTo>
                <a:lnTo>
                  <a:pt x="252931" y="174721"/>
                </a:lnTo>
                <a:lnTo>
                  <a:pt x="272148" y="168713"/>
                </a:lnTo>
                <a:lnTo>
                  <a:pt x="281274" y="164825"/>
                </a:lnTo>
                <a:lnTo>
                  <a:pt x="290215" y="160328"/>
                </a:lnTo>
                <a:lnTo>
                  <a:pt x="306817" y="151203"/>
                </a:lnTo>
                <a:lnTo>
                  <a:pt x="326873" y="140712"/>
                </a:lnTo>
                <a:lnTo>
                  <a:pt x="338985" y="134548"/>
                </a:lnTo>
                <a:lnTo>
                  <a:pt x="348178" y="131173"/>
                </a:lnTo>
                <a:lnTo>
                  <a:pt x="351961" y="130273"/>
                </a:lnTo>
                <a:lnTo>
                  <a:pt x="354485" y="128721"/>
                </a:lnTo>
                <a:lnTo>
                  <a:pt x="356167" y="126734"/>
                </a:lnTo>
                <a:lnTo>
                  <a:pt x="358988" y="121985"/>
                </a:lnTo>
                <a:lnTo>
                  <a:pt x="363418" y="116700"/>
                </a:lnTo>
                <a:lnTo>
                  <a:pt x="364027" y="114909"/>
                </a:lnTo>
                <a:lnTo>
                  <a:pt x="363482" y="113716"/>
                </a:lnTo>
                <a:lnTo>
                  <a:pt x="362165" y="112920"/>
                </a:lnTo>
                <a:lnTo>
                  <a:pt x="361286" y="111437"/>
                </a:lnTo>
                <a:lnTo>
                  <a:pt x="360052" y="105751"/>
                </a:lnTo>
                <a:lnTo>
                  <a:pt x="359762" y="104087"/>
                </a:lnTo>
                <a:lnTo>
                  <a:pt x="358733" y="103644"/>
                </a:lnTo>
                <a:lnTo>
                  <a:pt x="350959" y="1027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PenAnnotation1060"/>
          <p:cNvSpPr/>
          <p:nvPr/>
        </p:nvSpPr>
        <p:spPr>
          <a:xfrm>
            <a:off x="474840" y="4406760"/>
            <a:ext cx="290160" cy="565200"/>
          </a:xfrm>
          <a:custGeom>
            <a:avLst/>
            <a:gdLst>
              <a:gd name="textAreaLeft" fmla="*/ 0 w 290160"/>
              <a:gd name="textAreaRight" fmla="*/ 290520 w 29016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291433" h="565756">
                <a:moveTo>
                  <a:pt x="291432" y="8542"/>
                </a:moveTo>
                <a:lnTo>
                  <a:pt x="282891" y="0"/>
                </a:lnTo>
                <a:lnTo>
                  <a:pt x="278318" y="4529"/>
                </a:lnTo>
                <a:lnTo>
                  <a:pt x="276022" y="5867"/>
                </a:lnTo>
                <a:lnTo>
                  <a:pt x="267287" y="8702"/>
                </a:lnTo>
                <a:lnTo>
                  <a:pt x="262953" y="10554"/>
                </a:lnTo>
                <a:lnTo>
                  <a:pt x="254010" y="15151"/>
                </a:lnTo>
                <a:lnTo>
                  <a:pt x="246860" y="20370"/>
                </a:lnTo>
                <a:lnTo>
                  <a:pt x="240508" y="25864"/>
                </a:lnTo>
                <a:lnTo>
                  <a:pt x="237480" y="28662"/>
                </a:lnTo>
                <a:lnTo>
                  <a:pt x="233557" y="30528"/>
                </a:lnTo>
                <a:lnTo>
                  <a:pt x="229036" y="31772"/>
                </a:lnTo>
                <a:lnTo>
                  <a:pt x="224117" y="32601"/>
                </a:lnTo>
                <a:lnTo>
                  <a:pt x="218933" y="34106"/>
                </a:lnTo>
                <a:lnTo>
                  <a:pt x="213572" y="36063"/>
                </a:lnTo>
                <a:lnTo>
                  <a:pt x="208093" y="38319"/>
                </a:lnTo>
                <a:lnTo>
                  <a:pt x="202535" y="40776"/>
                </a:lnTo>
                <a:lnTo>
                  <a:pt x="191280" y="46046"/>
                </a:lnTo>
                <a:lnTo>
                  <a:pt x="174234" y="54367"/>
                </a:lnTo>
                <a:lnTo>
                  <a:pt x="169485" y="58143"/>
                </a:lnTo>
                <a:lnTo>
                  <a:pt x="161668" y="67417"/>
                </a:lnTo>
                <a:lnTo>
                  <a:pt x="157298" y="71604"/>
                </a:lnTo>
                <a:lnTo>
                  <a:pt x="152480" y="75348"/>
                </a:lnTo>
                <a:lnTo>
                  <a:pt x="147362" y="78797"/>
                </a:lnTo>
                <a:lnTo>
                  <a:pt x="139136" y="85169"/>
                </a:lnTo>
                <a:lnTo>
                  <a:pt x="131353" y="92129"/>
                </a:lnTo>
                <a:lnTo>
                  <a:pt x="121543" y="101572"/>
                </a:lnTo>
                <a:lnTo>
                  <a:pt x="88436" y="134411"/>
                </a:lnTo>
                <a:lnTo>
                  <a:pt x="79609" y="145764"/>
                </a:lnTo>
                <a:lnTo>
                  <a:pt x="71559" y="157160"/>
                </a:lnTo>
                <a:lnTo>
                  <a:pt x="66745" y="162866"/>
                </a:lnTo>
                <a:lnTo>
                  <a:pt x="61631" y="168574"/>
                </a:lnTo>
                <a:lnTo>
                  <a:pt x="53408" y="179997"/>
                </a:lnTo>
                <a:lnTo>
                  <a:pt x="46579" y="191425"/>
                </a:lnTo>
                <a:lnTo>
                  <a:pt x="40369" y="202853"/>
                </a:lnTo>
                <a:lnTo>
                  <a:pt x="28621" y="225712"/>
                </a:lnTo>
                <a:lnTo>
                  <a:pt x="14265" y="254287"/>
                </a:lnTo>
                <a:lnTo>
                  <a:pt x="11084" y="265717"/>
                </a:lnTo>
                <a:lnTo>
                  <a:pt x="9294" y="282862"/>
                </a:lnTo>
                <a:lnTo>
                  <a:pt x="9043" y="288577"/>
                </a:lnTo>
                <a:lnTo>
                  <a:pt x="6223" y="300007"/>
                </a:lnTo>
                <a:lnTo>
                  <a:pt x="2748" y="311437"/>
                </a:lnTo>
                <a:lnTo>
                  <a:pt x="791" y="328582"/>
                </a:lnTo>
                <a:lnTo>
                  <a:pt x="212" y="345727"/>
                </a:lnTo>
                <a:lnTo>
                  <a:pt x="0" y="369751"/>
                </a:lnTo>
                <a:lnTo>
                  <a:pt x="2522" y="378947"/>
                </a:lnTo>
                <a:lnTo>
                  <a:pt x="9297" y="394834"/>
                </a:lnTo>
                <a:lnTo>
                  <a:pt x="17337" y="411607"/>
                </a:lnTo>
                <a:lnTo>
                  <a:pt x="21975" y="421997"/>
                </a:lnTo>
                <a:lnTo>
                  <a:pt x="27492" y="438968"/>
                </a:lnTo>
                <a:lnTo>
                  <a:pt x="32203" y="448445"/>
                </a:lnTo>
                <a:lnTo>
                  <a:pt x="40210" y="460088"/>
                </a:lnTo>
                <a:lnTo>
                  <a:pt x="48615" y="474227"/>
                </a:lnTo>
                <a:lnTo>
                  <a:pt x="54291" y="481578"/>
                </a:lnTo>
                <a:lnTo>
                  <a:pt x="62529" y="490561"/>
                </a:lnTo>
                <a:lnTo>
                  <a:pt x="67393" y="495623"/>
                </a:lnTo>
                <a:lnTo>
                  <a:pt x="72540" y="499950"/>
                </a:lnTo>
                <a:lnTo>
                  <a:pt x="77877" y="503787"/>
                </a:lnTo>
                <a:lnTo>
                  <a:pt x="83339" y="507298"/>
                </a:lnTo>
                <a:lnTo>
                  <a:pt x="91949" y="513739"/>
                </a:lnTo>
                <a:lnTo>
                  <a:pt x="99903" y="519776"/>
                </a:lnTo>
                <a:lnTo>
                  <a:pt x="104691" y="522720"/>
                </a:lnTo>
                <a:lnTo>
                  <a:pt x="109788" y="525635"/>
                </a:lnTo>
                <a:lnTo>
                  <a:pt x="117992" y="531414"/>
                </a:lnTo>
                <a:lnTo>
                  <a:pt x="121513" y="534288"/>
                </a:lnTo>
                <a:lnTo>
                  <a:pt x="125765" y="536204"/>
                </a:lnTo>
                <a:lnTo>
                  <a:pt x="130505" y="537482"/>
                </a:lnTo>
                <a:lnTo>
                  <a:pt x="135570" y="538333"/>
                </a:lnTo>
                <a:lnTo>
                  <a:pt x="143738" y="541820"/>
                </a:lnTo>
                <a:lnTo>
                  <a:pt x="150543" y="545592"/>
                </a:lnTo>
                <a:lnTo>
                  <a:pt x="156742" y="547268"/>
                </a:lnTo>
                <a:lnTo>
                  <a:pt x="165588" y="548213"/>
                </a:lnTo>
                <a:lnTo>
                  <a:pt x="168483" y="549297"/>
                </a:lnTo>
                <a:lnTo>
                  <a:pt x="177110" y="554423"/>
                </a:lnTo>
                <a:lnTo>
                  <a:pt x="182837" y="555955"/>
                </a:lnTo>
                <a:lnTo>
                  <a:pt x="191417" y="556819"/>
                </a:lnTo>
                <a:lnTo>
                  <a:pt x="195441" y="557074"/>
                </a:lnTo>
                <a:lnTo>
                  <a:pt x="198922" y="559674"/>
                </a:lnTo>
                <a:lnTo>
                  <a:pt x="205590" y="565649"/>
                </a:lnTo>
                <a:lnTo>
                  <a:pt x="214280" y="5657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PenAnnotation1061"/>
          <p:cNvSpPr/>
          <p:nvPr/>
        </p:nvSpPr>
        <p:spPr>
          <a:xfrm>
            <a:off x="757080" y="4568760"/>
            <a:ext cx="300240" cy="282600"/>
          </a:xfrm>
          <a:custGeom>
            <a:avLst/>
            <a:gdLst>
              <a:gd name="textAreaLeft" fmla="*/ 0 w 300240"/>
              <a:gd name="textAreaRight" fmla="*/ 300600 w 3002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300038" h="282537">
                <a:moveTo>
                  <a:pt x="0" y="0"/>
                </a:moveTo>
                <a:lnTo>
                  <a:pt x="0" y="7381"/>
                </a:lnTo>
                <a:lnTo>
                  <a:pt x="6844" y="15182"/>
                </a:lnTo>
                <a:lnTo>
                  <a:pt x="11932" y="20400"/>
                </a:lnTo>
                <a:lnTo>
                  <a:pt x="14622" y="22172"/>
                </a:lnTo>
                <a:lnTo>
                  <a:pt x="20151" y="24142"/>
                </a:lnTo>
                <a:lnTo>
                  <a:pt x="22007" y="25620"/>
                </a:lnTo>
                <a:lnTo>
                  <a:pt x="23243" y="27557"/>
                </a:lnTo>
                <a:lnTo>
                  <a:pt x="24068" y="29802"/>
                </a:lnTo>
                <a:lnTo>
                  <a:pt x="27524" y="34835"/>
                </a:lnTo>
                <a:lnTo>
                  <a:pt x="34825" y="43024"/>
                </a:lnTo>
                <a:lnTo>
                  <a:pt x="43021" y="51483"/>
                </a:lnTo>
                <a:lnTo>
                  <a:pt x="113077" y="121650"/>
                </a:lnTo>
                <a:lnTo>
                  <a:pt x="116342" y="125867"/>
                </a:lnTo>
                <a:lnTo>
                  <a:pt x="119472" y="130584"/>
                </a:lnTo>
                <a:lnTo>
                  <a:pt x="122510" y="135634"/>
                </a:lnTo>
                <a:lnTo>
                  <a:pt x="127393" y="139953"/>
                </a:lnTo>
                <a:lnTo>
                  <a:pt x="133506" y="143784"/>
                </a:lnTo>
                <a:lnTo>
                  <a:pt x="140439" y="147291"/>
                </a:lnTo>
                <a:lnTo>
                  <a:pt x="146014" y="151534"/>
                </a:lnTo>
                <a:lnTo>
                  <a:pt x="150682" y="156268"/>
                </a:lnTo>
                <a:lnTo>
                  <a:pt x="154747" y="161328"/>
                </a:lnTo>
                <a:lnTo>
                  <a:pt x="159362" y="165655"/>
                </a:lnTo>
                <a:lnTo>
                  <a:pt x="164344" y="169492"/>
                </a:lnTo>
                <a:lnTo>
                  <a:pt x="169570" y="173002"/>
                </a:lnTo>
                <a:lnTo>
                  <a:pt x="174959" y="177247"/>
                </a:lnTo>
                <a:lnTo>
                  <a:pt x="180457" y="181983"/>
                </a:lnTo>
                <a:lnTo>
                  <a:pt x="190693" y="191371"/>
                </a:lnTo>
                <a:lnTo>
                  <a:pt x="201811" y="202012"/>
                </a:lnTo>
                <a:lnTo>
                  <a:pt x="233082" y="233090"/>
                </a:lnTo>
                <a:lnTo>
                  <a:pt x="242022" y="239485"/>
                </a:lnTo>
                <a:lnTo>
                  <a:pt x="251393" y="245503"/>
                </a:lnTo>
                <a:lnTo>
                  <a:pt x="258733" y="251353"/>
                </a:lnTo>
                <a:lnTo>
                  <a:pt x="265170" y="254587"/>
                </a:lnTo>
                <a:lnTo>
                  <a:pt x="268220" y="255450"/>
                </a:lnTo>
                <a:lnTo>
                  <a:pt x="274149" y="258948"/>
                </a:lnTo>
                <a:lnTo>
                  <a:pt x="282842" y="266273"/>
                </a:lnTo>
                <a:lnTo>
                  <a:pt x="289762" y="272731"/>
                </a:lnTo>
                <a:lnTo>
                  <a:pt x="291282" y="273260"/>
                </a:lnTo>
                <a:lnTo>
                  <a:pt x="296067" y="274006"/>
                </a:lnTo>
                <a:lnTo>
                  <a:pt x="294145" y="274180"/>
                </a:lnTo>
                <a:lnTo>
                  <a:pt x="294204" y="275180"/>
                </a:lnTo>
                <a:lnTo>
                  <a:pt x="299754" y="282536"/>
                </a:lnTo>
                <a:lnTo>
                  <a:pt x="300037" y="2743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PenAnnotation1062"/>
          <p:cNvSpPr/>
          <p:nvPr/>
        </p:nvSpPr>
        <p:spPr>
          <a:xfrm>
            <a:off x="739800" y="4538520"/>
            <a:ext cx="352440" cy="347760"/>
          </a:xfrm>
          <a:custGeom>
            <a:avLst/>
            <a:gdLst>
              <a:gd name="textAreaLeft" fmla="*/ 0 w 352440"/>
              <a:gd name="textAreaRight" fmla="*/ 352800 w 3524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351439" h="347808">
                <a:moveTo>
                  <a:pt x="351438" y="4939"/>
                </a:moveTo>
                <a:lnTo>
                  <a:pt x="346888" y="4939"/>
                </a:lnTo>
                <a:lnTo>
                  <a:pt x="345547" y="3986"/>
                </a:lnTo>
                <a:lnTo>
                  <a:pt x="344653" y="2399"/>
                </a:lnTo>
                <a:lnTo>
                  <a:pt x="344057" y="388"/>
                </a:lnTo>
                <a:lnTo>
                  <a:pt x="343660" y="0"/>
                </a:lnTo>
                <a:lnTo>
                  <a:pt x="343396" y="694"/>
                </a:lnTo>
                <a:lnTo>
                  <a:pt x="343219" y="2108"/>
                </a:lnTo>
                <a:lnTo>
                  <a:pt x="342149" y="3052"/>
                </a:lnTo>
                <a:lnTo>
                  <a:pt x="340483" y="3681"/>
                </a:lnTo>
                <a:lnTo>
                  <a:pt x="338420" y="4101"/>
                </a:lnTo>
                <a:lnTo>
                  <a:pt x="337044" y="5332"/>
                </a:lnTo>
                <a:lnTo>
                  <a:pt x="336127" y="7106"/>
                </a:lnTo>
                <a:lnTo>
                  <a:pt x="335516" y="9241"/>
                </a:lnTo>
                <a:lnTo>
                  <a:pt x="332297" y="14153"/>
                </a:lnTo>
                <a:lnTo>
                  <a:pt x="325129" y="22274"/>
                </a:lnTo>
                <a:lnTo>
                  <a:pt x="316973" y="30713"/>
                </a:lnTo>
                <a:lnTo>
                  <a:pt x="242736" y="105069"/>
                </a:lnTo>
                <a:lnTo>
                  <a:pt x="236107" y="110745"/>
                </a:lnTo>
                <a:lnTo>
                  <a:pt x="228831" y="116433"/>
                </a:lnTo>
                <a:lnTo>
                  <a:pt x="221123" y="122131"/>
                </a:lnTo>
                <a:lnTo>
                  <a:pt x="214079" y="127834"/>
                </a:lnTo>
                <a:lnTo>
                  <a:pt x="207478" y="133542"/>
                </a:lnTo>
                <a:lnTo>
                  <a:pt x="201172" y="139252"/>
                </a:lnTo>
                <a:lnTo>
                  <a:pt x="189086" y="150676"/>
                </a:lnTo>
                <a:lnTo>
                  <a:pt x="148587" y="190676"/>
                </a:lnTo>
                <a:lnTo>
                  <a:pt x="114269" y="224966"/>
                </a:lnTo>
                <a:lnTo>
                  <a:pt x="109505" y="230681"/>
                </a:lnTo>
                <a:lnTo>
                  <a:pt x="105377" y="236396"/>
                </a:lnTo>
                <a:lnTo>
                  <a:pt x="101673" y="242111"/>
                </a:lnTo>
                <a:lnTo>
                  <a:pt x="97298" y="247826"/>
                </a:lnTo>
                <a:lnTo>
                  <a:pt x="92476" y="253541"/>
                </a:lnTo>
                <a:lnTo>
                  <a:pt x="87357" y="259256"/>
                </a:lnTo>
                <a:lnTo>
                  <a:pt x="82992" y="264971"/>
                </a:lnTo>
                <a:lnTo>
                  <a:pt x="79129" y="270686"/>
                </a:lnTo>
                <a:lnTo>
                  <a:pt x="72297" y="281164"/>
                </a:lnTo>
                <a:lnTo>
                  <a:pt x="66086" y="288995"/>
                </a:lnTo>
                <a:lnTo>
                  <a:pt x="60150" y="298191"/>
                </a:lnTo>
                <a:lnTo>
                  <a:pt x="57234" y="303310"/>
                </a:lnTo>
                <a:lnTo>
                  <a:pt x="53384" y="306723"/>
                </a:lnTo>
                <a:lnTo>
                  <a:pt x="48913" y="308998"/>
                </a:lnTo>
                <a:lnTo>
                  <a:pt x="39818" y="312479"/>
                </a:lnTo>
                <a:lnTo>
                  <a:pt x="29342" y="319793"/>
                </a:lnTo>
                <a:lnTo>
                  <a:pt x="23182" y="325214"/>
                </a:lnTo>
                <a:lnTo>
                  <a:pt x="21158" y="327993"/>
                </a:lnTo>
                <a:lnTo>
                  <a:pt x="17644" y="337593"/>
                </a:lnTo>
                <a:lnTo>
                  <a:pt x="16514" y="338151"/>
                </a:lnTo>
                <a:lnTo>
                  <a:pt x="9777" y="339120"/>
                </a:lnTo>
                <a:lnTo>
                  <a:pt x="0" y="347807"/>
                </a:lnTo>
                <a:lnTo>
                  <a:pt x="8538" y="3392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PenAnnotation1063"/>
          <p:cNvSpPr/>
          <p:nvPr/>
        </p:nvSpPr>
        <p:spPr>
          <a:xfrm>
            <a:off x="1228680" y="4654440"/>
            <a:ext cx="385920" cy="17640"/>
          </a:xfrm>
          <a:custGeom>
            <a:avLst/>
            <a:gdLst>
              <a:gd name="textAreaLeft" fmla="*/ 0 w 385920"/>
              <a:gd name="textAreaRight" fmla="*/ 386280 w 3859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85764" h="17146">
                <a:moveTo>
                  <a:pt x="0" y="17145"/>
                </a:moveTo>
                <a:lnTo>
                  <a:pt x="44570" y="17145"/>
                </a:lnTo>
                <a:lnTo>
                  <a:pt x="48764" y="16193"/>
                </a:lnTo>
                <a:lnTo>
                  <a:pt x="53464" y="14605"/>
                </a:lnTo>
                <a:lnTo>
                  <a:pt x="58503" y="12595"/>
                </a:lnTo>
                <a:lnTo>
                  <a:pt x="62815" y="11253"/>
                </a:lnTo>
                <a:lnTo>
                  <a:pt x="66642" y="10360"/>
                </a:lnTo>
                <a:lnTo>
                  <a:pt x="70145" y="9764"/>
                </a:lnTo>
                <a:lnTo>
                  <a:pt x="74386" y="9367"/>
                </a:lnTo>
                <a:lnTo>
                  <a:pt x="84179" y="8926"/>
                </a:lnTo>
                <a:lnTo>
                  <a:pt x="100401" y="8677"/>
                </a:lnTo>
                <a:lnTo>
                  <a:pt x="117273" y="8603"/>
                </a:lnTo>
                <a:lnTo>
                  <a:pt x="122950" y="7641"/>
                </a:lnTo>
                <a:lnTo>
                  <a:pt x="128639" y="6046"/>
                </a:lnTo>
                <a:lnTo>
                  <a:pt x="134337" y="4031"/>
                </a:lnTo>
                <a:lnTo>
                  <a:pt x="140041" y="2687"/>
                </a:lnTo>
                <a:lnTo>
                  <a:pt x="145748" y="1792"/>
                </a:lnTo>
                <a:lnTo>
                  <a:pt x="151458" y="1194"/>
                </a:lnTo>
                <a:lnTo>
                  <a:pt x="157170" y="796"/>
                </a:lnTo>
                <a:lnTo>
                  <a:pt x="168596" y="354"/>
                </a:lnTo>
                <a:lnTo>
                  <a:pt x="203953" y="47"/>
                </a:lnTo>
                <a:lnTo>
                  <a:pt x="297178" y="0"/>
                </a:lnTo>
                <a:lnTo>
                  <a:pt x="301941" y="953"/>
                </a:lnTo>
                <a:lnTo>
                  <a:pt x="306069" y="2540"/>
                </a:lnTo>
                <a:lnTo>
                  <a:pt x="309774" y="4551"/>
                </a:lnTo>
                <a:lnTo>
                  <a:pt x="314148" y="5891"/>
                </a:lnTo>
                <a:lnTo>
                  <a:pt x="318970" y="6785"/>
                </a:lnTo>
                <a:lnTo>
                  <a:pt x="324089" y="7381"/>
                </a:lnTo>
                <a:lnTo>
                  <a:pt x="328455" y="7779"/>
                </a:lnTo>
                <a:lnTo>
                  <a:pt x="335845" y="8220"/>
                </a:lnTo>
                <a:lnTo>
                  <a:pt x="345361" y="8468"/>
                </a:lnTo>
                <a:lnTo>
                  <a:pt x="385763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PenAnnotation1064"/>
          <p:cNvSpPr/>
          <p:nvPr/>
        </p:nvSpPr>
        <p:spPr>
          <a:xfrm>
            <a:off x="1434960" y="4543560"/>
            <a:ext cx="33480" cy="333360"/>
          </a:xfrm>
          <a:custGeom>
            <a:avLst/>
            <a:gdLst>
              <a:gd name="textAreaLeft" fmla="*/ 0 w 33480"/>
              <a:gd name="textAreaRight" fmla="*/ 33840 w 334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33936" h="333095">
                <a:moveTo>
                  <a:pt x="25365" y="0"/>
                </a:moveTo>
                <a:lnTo>
                  <a:pt x="3357" y="0"/>
                </a:lnTo>
                <a:lnTo>
                  <a:pt x="5424" y="0"/>
                </a:lnTo>
                <a:lnTo>
                  <a:pt x="6356" y="953"/>
                </a:lnTo>
                <a:lnTo>
                  <a:pt x="6977" y="2540"/>
                </a:lnTo>
                <a:lnTo>
                  <a:pt x="7852" y="9325"/>
                </a:lnTo>
                <a:lnTo>
                  <a:pt x="8111" y="17367"/>
                </a:lnTo>
                <a:lnTo>
                  <a:pt x="8214" y="44541"/>
                </a:lnTo>
                <a:lnTo>
                  <a:pt x="7263" y="48744"/>
                </a:lnTo>
                <a:lnTo>
                  <a:pt x="5677" y="53451"/>
                </a:lnTo>
                <a:lnTo>
                  <a:pt x="3667" y="58494"/>
                </a:lnTo>
                <a:lnTo>
                  <a:pt x="2327" y="63761"/>
                </a:lnTo>
                <a:lnTo>
                  <a:pt x="1434" y="69177"/>
                </a:lnTo>
                <a:lnTo>
                  <a:pt x="839" y="74693"/>
                </a:lnTo>
                <a:lnTo>
                  <a:pt x="441" y="80275"/>
                </a:lnTo>
                <a:lnTo>
                  <a:pt x="177" y="85902"/>
                </a:lnTo>
                <a:lnTo>
                  <a:pt x="0" y="91558"/>
                </a:lnTo>
                <a:lnTo>
                  <a:pt x="835" y="97233"/>
                </a:lnTo>
                <a:lnTo>
                  <a:pt x="2344" y="102922"/>
                </a:lnTo>
                <a:lnTo>
                  <a:pt x="4303" y="108620"/>
                </a:lnTo>
                <a:lnTo>
                  <a:pt x="5609" y="114323"/>
                </a:lnTo>
                <a:lnTo>
                  <a:pt x="6479" y="120030"/>
                </a:lnTo>
                <a:lnTo>
                  <a:pt x="7059" y="125740"/>
                </a:lnTo>
                <a:lnTo>
                  <a:pt x="7446" y="132404"/>
                </a:lnTo>
                <a:lnTo>
                  <a:pt x="7876" y="147428"/>
                </a:lnTo>
                <a:lnTo>
                  <a:pt x="8152" y="167622"/>
                </a:lnTo>
                <a:lnTo>
                  <a:pt x="8217" y="211528"/>
                </a:lnTo>
                <a:lnTo>
                  <a:pt x="9171" y="216266"/>
                </a:lnTo>
                <a:lnTo>
                  <a:pt x="10759" y="220377"/>
                </a:lnTo>
                <a:lnTo>
                  <a:pt x="12770" y="224071"/>
                </a:lnTo>
                <a:lnTo>
                  <a:pt x="20152" y="238371"/>
                </a:lnTo>
                <a:lnTo>
                  <a:pt x="21889" y="242733"/>
                </a:lnTo>
                <a:lnTo>
                  <a:pt x="23048" y="246595"/>
                </a:lnTo>
                <a:lnTo>
                  <a:pt x="23820" y="250121"/>
                </a:lnTo>
                <a:lnTo>
                  <a:pt x="24678" y="259120"/>
                </a:lnTo>
                <a:lnTo>
                  <a:pt x="24907" y="264187"/>
                </a:lnTo>
                <a:lnTo>
                  <a:pt x="26012" y="268517"/>
                </a:lnTo>
                <a:lnTo>
                  <a:pt x="27702" y="272356"/>
                </a:lnTo>
                <a:lnTo>
                  <a:pt x="29780" y="275868"/>
                </a:lnTo>
                <a:lnTo>
                  <a:pt x="31166" y="279162"/>
                </a:lnTo>
                <a:lnTo>
                  <a:pt x="32090" y="282310"/>
                </a:lnTo>
                <a:lnTo>
                  <a:pt x="33116" y="289301"/>
                </a:lnTo>
                <a:lnTo>
                  <a:pt x="33572" y="298758"/>
                </a:lnTo>
                <a:lnTo>
                  <a:pt x="33865" y="307616"/>
                </a:lnTo>
                <a:lnTo>
                  <a:pt x="33935" y="324134"/>
                </a:lnTo>
                <a:lnTo>
                  <a:pt x="32983" y="324674"/>
                </a:lnTo>
                <a:lnTo>
                  <a:pt x="31396" y="325034"/>
                </a:lnTo>
                <a:lnTo>
                  <a:pt x="29386" y="325274"/>
                </a:lnTo>
                <a:lnTo>
                  <a:pt x="28045" y="326387"/>
                </a:lnTo>
                <a:lnTo>
                  <a:pt x="27152" y="328081"/>
                </a:lnTo>
                <a:lnTo>
                  <a:pt x="25718" y="333094"/>
                </a:lnTo>
                <a:lnTo>
                  <a:pt x="25600" y="332552"/>
                </a:lnTo>
                <a:lnTo>
                  <a:pt x="25365" y="3257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PenAnnotation1065"/>
          <p:cNvSpPr/>
          <p:nvPr/>
        </p:nvSpPr>
        <p:spPr>
          <a:xfrm>
            <a:off x="1708200" y="4467240"/>
            <a:ext cx="274680" cy="384120"/>
          </a:xfrm>
          <a:custGeom>
            <a:avLst/>
            <a:gdLst>
              <a:gd name="textAreaLeft" fmla="*/ 0 w 274680"/>
              <a:gd name="textAreaRight" fmla="*/ 275040 w 27468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74093" h="385223">
                <a:moveTo>
                  <a:pt x="128543" y="76765"/>
                </a:moveTo>
                <a:lnTo>
                  <a:pt x="128543" y="72214"/>
                </a:lnTo>
                <a:lnTo>
                  <a:pt x="129496" y="70873"/>
                </a:lnTo>
                <a:lnTo>
                  <a:pt x="131083" y="69979"/>
                </a:lnTo>
                <a:lnTo>
                  <a:pt x="133094" y="69384"/>
                </a:lnTo>
                <a:lnTo>
                  <a:pt x="134434" y="67081"/>
                </a:lnTo>
                <a:lnTo>
                  <a:pt x="135924" y="59443"/>
                </a:lnTo>
                <a:lnTo>
                  <a:pt x="137274" y="56644"/>
                </a:lnTo>
                <a:lnTo>
                  <a:pt x="139126" y="54779"/>
                </a:lnTo>
                <a:lnTo>
                  <a:pt x="143724" y="51754"/>
                </a:lnTo>
                <a:lnTo>
                  <a:pt x="151668" y="44695"/>
                </a:lnTo>
                <a:lnTo>
                  <a:pt x="157236" y="39334"/>
                </a:lnTo>
                <a:lnTo>
                  <a:pt x="159101" y="36570"/>
                </a:lnTo>
                <a:lnTo>
                  <a:pt x="161175" y="30961"/>
                </a:lnTo>
                <a:lnTo>
                  <a:pt x="162614" y="19286"/>
                </a:lnTo>
                <a:lnTo>
                  <a:pt x="162820" y="9524"/>
                </a:lnTo>
                <a:lnTo>
                  <a:pt x="158278" y="4031"/>
                </a:lnTo>
                <a:lnTo>
                  <a:pt x="155987" y="2558"/>
                </a:lnTo>
                <a:lnTo>
                  <a:pt x="150900" y="922"/>
                </a:lnTo>
                <a:lnTo>
                  <a:pt x="142925" y="194"/>
                </a:lnTo>
                <a:lnTo>
                  <a:pt x="138131" y="0"/>
                </a:lnTo>
                <a:lnTo>
                  <a:pt x="133030" y="823"/>
                </a:lnTo>
                <a:lnTo>
                  <a:pt x="127724" y="2324"/>
                </a:lnTo>
                <a:lnTo>
                  <a:pt x="122282" y="4278"/>
                </a:lnTo>
                <a:lnTo>
                  <a:pt x="116749" y="5580"/>
                </a:lnTo>
                <a:lnTo>
                  <a:pt x="111155" y="6449"/>
                </a:lnTo>
                <a:lnTo>
                  <a:pt x="105521" y="7027"/>
                </a:lnTo>
                <a:lnTo>
                  <a:pt x="99860" y="8366"/>
                </a:lnTo>
                <a:lnTo>
                  <a:pt x="94181" y="10210"/>
                </a:lnTo>
                <a:lnTo>
                  <a:pt x="88490" y="12392"/>
                </a:lnTo>
                <a:lnTo>
                  <a:pt x="83743" y="14800"/>
                </a:lnTo>
                <a:lnTo>
                  <a:pt x="75930" y="20015"/>
                </a:lnTo>
                <a:lnTo>
                  <a:pt x="71560" y="23691"/>
                </a:lnTo>
                <a:lnTo>
                  <a:pt x="66742" y="28047"/>
                </a:lnTo>
                <a:lnTo>
                  <a:pt x="61625" y="32857"/>
                </a:lnTo>
                <a:lnTo>
                  <a:pt x="56308" y="37015"/>
                </a:lnTo>
                <a:lnTo>
                  <a:pt x="50859" y="40740"/>
                </a:lnTo>
                <a:lnTo>
                  <a:pt x="45321" y="44175"/>
                </a:lnTo>
                <a:lnTo>
                  <a:pt x="40677" y="48371"/>
                </a:lnTo>
                <a:lnTo>
                  <a:pt x="32976" y="58113"/>
                </a:lnTo>
                <a:lnTo>
                  <a:pt x="26379" y="68792"/>
                </a:lnTo>
                <a:lnTo>
                  <a:pt x="20272" y="78936"/>
                </a:lnTo>
                <a:lnTo>
                  <a:pt x="14383" y="86620"/>
                </a:lnTo>
                <a:lnTo>
                  <a:pt x="8590" y="95750"/>
                </a:lnTo>
                <a:lnTo>
                  <a:pt x="3793" y="105205"/>
                </a:lnTo>
                <a:lnTo>
                  <a:pt x="1661" y="112582"/>
                </a:lnTo>
                <a:lnTo>
                  <a:pt x="461" y="122090"/>
                </a:lnTo>
                <a:lnTo>
                  <a:pt x="180" y="130565"/>
                </a:lnTo>
                <a:lnTo>
                  <a:pt x="0" y="146976"/>
                </a:lnTo>
                <a:lnTo>
                  <a:pt x="937" y="149290"/>
                </a:lnTo>
                <a:lnTo>
                  <a:pt x="2515" y="150832"/>
                </a:lnTo>
                <a:lnTo>
                  <a:pt x="16442" y="157858"/>
                </a:lnTo>
                <a:lnTo>
                  <a:pt x="24110" y="162972"/>
                </a:lnTo>
                <a:lnTo>
                  <a:pt x="27489" y="165668"/>
                </a:lnTo>
                <a:lnTo>
                  <a:pt x="31646" y="167466"/>
                </a:lnTo>
                <a:lnTo>
                  <a:pt x="36322" y="168665"/>
                </a:lnTo>
                <a:lnTo>
                  <a:pt x="41345" y="169464"/>
                </a:lnTo>
                <a:lnTo>
                  <a:pt x="46598" y="170949"/>
                </a:lnTo>
                <a:lnTo>
                  <a:pt x="52006" y="172892"/>
                </a:lnTo>
                <a:lnTo>
                  <a:pt x="57516" y="175140"/>
                </a:lnTo>
                <a:lnTo>
                  <a:pt x="63094" y="176637"/>
                </a:lnTo>
                <a:lnTo>
                  <a:pt x="68718" y="177637"/>
                </a:lnTo>
                <a:lnTo>
                  <a:pt x="74372" y="178302"/>
                </a:lnTo>
                <a:lnTo>
                  <a:pt x="80046" y="178747"/>
                </a:lnTo>
                <a:lnTo>
                  <a:pt x="85735" y="179043"/>
                </a:lnTo>
                <a:lnTo>
                  <a:pt x="91431" y="179240"/>
                </a:lnTo>
                <a:lnTo>
                  <a:pt x="97134" y="180324"/>
                </a:lnTo>
                <a:lnTo>
                  <a:pt x="102841" y="181999"/>
                </a:lnTo>
                <a:lnTo>
                  <a:pt x="108551" y="184068"/>
                </a:lnTo>
                <a:lnTo>
                  <a:pt x="115215" y="185448"/>
                </a:lnTo>
                <a:lnTo>
                  <a:pt x="122515" y="186368"/>
                </a:lnTo>
                <a:lnTo>
                  <a:pt x="130239" y="186981"/>
                </a:lnTo>
                <a:lnTo>
                  <a:pt x="138246" y="188342"/>
                </a:lnTo>
                <a:lnTo>
                  <a:pt x="146442" y="190202"/>
                </a:lnTo>
                <a:lnTo>
                  <a:pt x="154763" y="192395"/>
                </a:lnTo>
                <a:lnTo>
                  <a:pt x="162216" y="194809"/>
                </a:lnTo>
                <a:lnTo>
                  <a:pt x="169089" y="197371"/>
                </a:lnTo>
                <a:lnTo>
                  <a:pt x="175576" y="200031"/>
                </a:lnTo>
                <a:lnTo>
                  <a:pt x="181806" y="202758"/>
                </a:lnTo>
                <a:lnTo>
                  <a:pt x="193808" y="208327"/>
                </a:lnTo>
                <a:lnTo>
                  <a:pt x="228515" y="225365"/>
                </a:lnTo>
                <a:lnTo>
                  <a:pt x="233291" y="228219"/>
                </a:lnTo>
                <a:lnTo>
                  <a:pt x="241138" y="233930"/>
                </a:lnTo>
                <a:lnTo>
                  <a:pt x="245516" y="237739"/>
                </a:lnTo>
                <a:lnTo>
                  <a:pt x="250340" y="242183"/>
                </a:lnTo>
                <a:lnTo>
                  <a:pt x="263691" y="255000"/>
                </a:lnTo>
                <a:lnTo>
                  <a:pt x="267219" y="258453"/>
                </a:lnTo>
                <a:lnTo>
                  <a:pt x="269571" y="262660"/>
                </a:lnTo>
                <a:lnTo>
                  <a:pt x="272185" y="272415"/>
                </a:lnTo>
                <a:lnTo>
                  <a:pt x="273346" y="283100"/>
                </a:lnTo>
                <a:lnTo>
                  <a:pt x="273862" y="294199"/>
                </a:lnTo>
                <a:lnTo>
                  <a:pt x="274092" y="305482"/>
                </a:lnTo>
                <a:lnTo>
                  <a:pt x="273200" y="310206"/>
                </a:lnTo>
                <a:lnTo>
                  <a:pt x="269670" y="317994"/>
                </a:lnTo>
                <a:lnTo>
                  <a:pt x="267466" y="327170"/>
                </a:lnTo>
                <a:lnTo>
                  <a:pt x="265534" y="337599"/>
                </a:lnTo>
                <a:lnTo>
                  <a:pt x="261500" y="348584"/>
                </a:lnTo>
                <a:lnTo>
                  <a:pt x="256533" y="357275"/>
                </a:lnTo>
                <a:lnTo>
                  <a:pt x="253874" y="360927"/>
                </a:lnTo>
                <a:lnTo>
                  <a:pt x="245841" y="367524"/>
                </a:lnTo>
                <a:lnTo>
                  <a:pt x="241032" y="370617"/>
                </a:lnTo>
                <a:lnTo>
                  <a:pt x="233148" y="376593"/>
                </a:lnTo>
                <a:lnTo>
                  <a:pt x="229712" y="379520"/>
                </a:lnTo>
                <a:lnTo>
                  <a:pt x="225516" y="381472"/>
                </a:lnTo>
                <a:lnTo>
                  <a:pt x="220815" y="382773"/>
                </a:lnTo>
                <a:lnTo>
                  <a:pt x="215775" y="383640"/>
                </a:lnTo>
                <a:lnTo>
                  <a:pt x="207635" y="384604"/>
                </a:lnTo>
                <a:lnTo>
                  <a:pt x="200843" y="385032"/>
                </a:lnTo>
                <a:lnTo>
                  <a:pt x="194649" y="385222"/>
                </a:lnTo>
                <a:lnTo>
                  <a:pt x="186181" y="382767"/>
                </a:lnTo>
                <a:lnTo>
                  <a:pt x="181256" y="380779"/>
                </a:lnTo>
                <a:lnTo>
                  <a:pt x="173243" y="376029"/>
                </a:lnTo>
                <a:lnTo>
                  <a:pt x="166507" y="370744"/>
                </a:lnTo>
                <a:lnTo>
                  <a:pt x="160338" y="365219"/>
                </a:lnTo>
                <a:lnTo>
                  <a:pt x="154422" y="357049"/>
                </a:lnTo>
                <a:lnTo>
                  <a:pt x="149570" y="348020"/>
                </a:lnTo>
                <a:lnTo>
                  <a:pt x="147413" y="340833"/>
                </a:lnTo>
                <a:lnTo>
                  <a:pt x="146455" y="331923"/>
                </a:lnTo>
                <a:lnTo>
                  <a:pt x="146199" y="326881"/>
                </a:lnTo>
                <a:lnTo>
                  <a:pt x="145076" y="322566"/>
                </a:lnTo>
                <a:lnTo>
                  <a:pt x="139897" y="310991"/>
                </a:lnTo>
                <a:lnTo>
                  <a:pt x="138352" y="301197"/>
                </a:lnTo>
                <a:lnTo>
                  <a:pt x="138892" y="294967"/>
                </a:lnTo>
                <a:lnTo>
                  <a:pt x="140205" y="287955"/>
                </a:lnTo>
                <a:lnTo>
                  <a:pt x="142033" y="280423"/>
                </a:lnTo>
                <a:lnTo>
                  <a:pt x="143251" y="273497"/>
                </a:lnTo>
                <a:lnTo>
                  <a:pt x="144063" y="266975"/>
                </a:lnTo>
                <a:lnTo>
                  <a:pt x="144605" y="260721"/>
                </a:lnTo>
                <a:lnTo>
                  <a:pt x="146871" y="254647"/>
                </a:lnTo>
                <a:lnTo>
                  <a:pt x="154469" y="242819"/>
                </a:lnTo>
                <a:lnTo>
                  <a:pt x="157257" y="236045"/>
                </a:lnTo>
                <a:lnTo>
                  <a:pt x="159115" y="228672"/>
                </a:lnTo>
                <a:lnTo>
                  <a:pt x="160355" y="220899"/>
                </a:lnTo>
                <a:lnTo>
                  <a:pt x="163086" y="213812"/>
                </a:lnTo>
                <a:lnTo>
                  <a:pt x="166811" y="207182"/>
                </a:lnTo>
                <a:lnTo>
                  <a:pt x="171200" y="200857"/>
                </a:lnTo>
                <a:lnTo>
                  <a:pt x="174126" y="193783"/>
                </a:lnTo>
                <a:lnTo>
                  <a:pt x="176077" y="186209"/>
                </a:lnTo>
                <a:lnTo>
                  <a:pt x="177377" y="178302"/>
                </a:lnTo>
                <a:lnTo>
                  <a:pt x="179197" y="171127"/>
                </a:lnTo>
                <a:lnTo>
                  <a:pt x="181362" y="164437"/>
                </a:lnTo>
                <a:lnTo>
                  <a:pt x="183758" y="158073"/>
                </a:lnTo>
                <a:lnTo>
                  <a:pt x="187261" y="150973"/>
                </a:lnTo>
                <a:lnTo>
                  <a:pt x="191501" y="143382"/>
                </a:lnTo>
                <a:lnTo>
                  <a:pt x="196232" y="135464"/>
                </a:lnTo>
                <a:lnTo>
                  <a:pt x="200339" y="128280"/>
                </a:lnTo>
                <a:lnTo>
                  <a:pt x="207442" y="115218"/>
                </a:lnTo>
                <a:lnTo>
                  <a:pt x="211622" y="109068"/>
                </a:lnTo>
                <a:lnTo>
                  <a:pt x="216314" y="103063"/>
                </a:lnTo>
                <a:lnTo>
                  <a:pt x="221347" y="97154"/>
                </a:lnTo>
                <a:lnTo>
                  <a:pt x="229479" y="88049"/>
                </a:lnTo>
                <a:lnTo>
                  <a:pt x="232981" y="84288"/>
                </a:lnTo>
                <a:lnTo>
                  <a:pt x="235316" y="79875"/>
                </a:lnTo>
                <a:lnTo>
                  <a:pt x="237910" y="69892"/>
                </a:lnTo>
                <a:lnTo>
                  <a:pt x="239371" y="58112"/>
                </a:lnTo>
                <a:lnTo>
                  <a:pt x="238623" y="54805"/>
                </a:lnTo>
                <a:lnTo>
                  <a:pt x="235252" y="48589"/>
                </a:lnTo>
                <a:lnTo>
                  <a:pt x="228000" y="39735"/>
                </a:lnTo>
                <a:lnTo>
                  <a:pt x="225327" y="37791"/>
                </a:lnTo>
                <a:lnTo>
                  <a:pt x="219818" y="35631"/>
                </a:lnTo>
                <a:lnTo>
                  <a:pt x="211655" y="32130"/>
                </a:lnTo>
                <a:lnTo>
                  <a:pt x="206811" y="29864"/>
                </a:lnTo>
                <a:lnTo>
                  <a:pt x="198889" y="27345"/>
                </a:lnTo>
                <a:lnTo>
                  <a:pt x="191240" y="25273"/>
                </a:lnTo>
                <a:lnTo>
                  <a:pt x="186534" y="23387"/>
                </a:lnTo>
                <a:lnTo>
                  <a:pt x="181491" y="21177"/>
                </a:lnTo>
                <a:lnTo>
                  <a:pt x="173348" y="18722"/>
                </a:lnTo>
                <a:lnTo>
                  <a:pt x="166554" y="17631"/>
                </a:lnTo>
                <a:lnTo>
                  <a:pt x="160359" y="17145"/>
                </a:lnTo>
                <a:lnTo>
                  <a:pt x="154431" y="16930"/>
                </a:lnTo>
                <a:lnTo>
                  <a:pt x="139670" y="16772"/>
                </a:lnTo>
                <a:lnTo>
                  <a:pt x="128543" y="167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PenAnnotation1066"/>
          <p:cNvSpPr/>
          <p:nvPr/>
        </p:nvSpPr>
        <p:spPr>
          <a:xfrm>
            <a:off x="1982880" y="4371840"/>
            <a:ext cx="282600" cy="436680"/>
          </a:xfrm>
          <a:custGeom>
            <a:avLst/>
            <a:gdLst>
              <a:gd name="textAreaLeft" fmla="*/ 0 w 282600"/>
              <a:gd name="textAreaRight" fmla="*/ 282600 w 2826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81550" h="437198">
                <a:moveTo>
                  <a:pt x="0" y="0"/>
                </a:moveTo>
                <a:lnTo>
                  <a:pt x="28941" y="0"/>
                </a:lnTo>
                <a:lnTo>
                  <a:pt x="36993" y="2540"/>
                </a:lnTo>
                <a:lnTo>
                  <a:pt x="41807" y="4550"/>
                </a:lnTo>
                <a:lnTo>
                  <a:pt x="49696" y="6785"/>
                </a:lnTo>
                <a:lnTo>
                  <a:pt x="57330" y="8730"/>
                </a:lnTo>
                <a:lnTo>
                  <a:pt x="62032" y="10583"/>
                </a:lnTo>
                <a:lnTo>
                  <a:pt x="67073" y="12770"/>
                </a:lnTo>
                <a:lnTo>
                  <a:pt x="77753" y="17741"/>
                </a:lnTo>
                <a:lnTo>
                  <a:pt x="140025" y="48584"/>
                </a:lnTo>
                <a:lnTo>
                  <a:pt x="151451" y="54295"/>
                </a:lnTo>
                <a:lnTo>
                  <a:pt x="157165" y="58104"/>
                </a:lnTo>
                <a:lnTo>
                  <a:pt x="162879" y="62548"/>
                </a:lnTo>
                <a:lnTo>
                  <a:pt x="168594" y="67416"/>
                </a:lnTo>
                <a:lnTo>
                  <a:pt x="174309" y="71614"/>
                </a:lnTo>
                <a:lnTo>
                  <a:pt x="180024" y="75365"/>
                </a:lnTo>
                <a:lnTo>
                  <a:pt x="185738" y="78819"/>
                </a:lnTo>
                <a:lnTo>
                  <a:pt x="191453" y="83025"/>
                </a:lnTo>
                <a:lnTo>
                  <a:pt x="197168" y="87735"/>
                </a:lnTo>
                <a:lnTo>
                  <a:pt x="202883" y="92780"/>
                </a:lnTo>
                <a:lnTo>
                  <a:pt x="214313" y="103466"/>
                </a:lnTo>
                <a:lnTo>
                  <a:pt x="220028" y="108982"/>
                </a:lnTo>
                <a:lnTo>
                  <a:pt x="225743" y="113612"/>
                </a:lnTo>
                <a:lnTo>
                  <a:pt x="231458" y="117651"/>
                </a:lnTo>
                <a:lnTo>
                  <a:pt x="237173" y="121296"/>
                </a:lnTo>
                <a:lnTo>
                  <a:pt x="241935" y="125631"/>
                </a:lnTo>
                <a:lnTo>
                  <a:pt x="249767" y="135529"/>
                </a:lnTo>
                <a:lnTo>
                  <a:pt x="256423" y="148818"/>
                </a:lnTo>
                <a:lnTo>
                  <a:pt x="259531" y="156361"/>
                </a:lnTo>
                <a:lnTo>
                  <a:pt x="265525" y="169824"/>
                </a:lnTo>
                <a:lnTo>
                  <a:pt x="270411" y="182157"/>
                </a:lnTo>
                <a:lnTo>
                  <a:pt x="272583" y="193988"/>
                </a:lnTo>
                <a:lnTo>
                  <a:pt x="276088" y="205597"/>
                </a:lnTo>
                <a:lnTo>
                  <a:pt x="278356" y="211359"/>
                </a:lnTo>
                <a:lnTo>
                  <a:pt x="279869" y="218059"/>
                </a:lnTo>
                <a:lnTo>
                  <a:pt x="280877" y="225383"/>
                </a:lnTo>
                <a:lnTo>
                  <a:pt x="281549" y="233122"/>
                </a:lnTo>
                <a:lnTo>
                  <a:pt x="281044" y="240187"/>
                </a:lnTo>
                <a:lnTo>
                  <a:pt x="276736" y="259233"/>
                </a:lnTo>
                <a:lnTo>
                  <a:pt x="275394" y="271107"/>
                </a:lnTo>
                <a:lnTo>
                  <a:pt x="274798" y="282734"/>
                </a:lnTo>
                <a:lnTo>
                  <a:pt x="274639" y="288502"/>
                </a:lnTo>
                <a:lnTo>
                  <a:pt x="271922" y="299990"/>
                </a:lnTo>
                <a:lnTo>
                  <a:pt x="267540" y="312399"/>
                </a:lnTo>
                <a:lnTo>
                  <a:pt x="262417" y="327438"/>
                </a:lnTo>
                <a:lnTo>
                  <a:pt x="256965" y="338568"/>
                </a:lnTo>
                <a:lnTo>
                  <a:pt x="250414" y="347642"/>
                </a:lnTo>
                <a:lnTo>
                  <a:pt x="246001" y="352729"/>
                </a:lnTo>
                <a:lnTo>
                  <a:pt x="241153" y="358025"/>
                </a:lnTo>
                <a:lnTo>
                  <a:pt x="233227" y="368990"/>
                </a:lnTo>
                <a:lnTo>
                  <a:pt x="226529" y="379260"/>
                </a:lnTo>
                <a:lnTo>
                  <a:pt x="220377" y="387000"/>
                </a:lnTo>
                <a:lnTo>
                  <a:pt x="214468" y="393615"/>
                </a:lnTo>
                <a:lnTo>
                  <a:pt x="205787" y="402694"/>
                </a:lnTo>
                <a:lnTo>
                  <a:pt x="190292" y="418346"/>
                </a:lnTo>
                <a:lnTo>
                  <a:pt x="189726" y="419867"/>
                </a:lnTo>
                <a:lnTo>
                  <a:pt x="189098" y="424098"/>
                </a:lnTo>
                <a:lnTo>
                  <a:pt x="187978" y="426559"/>
                </a:lnTo>
                <a:lnTo>
                  <a:pt x="184194" y="431834"/>
                </a:lnTo>
                <a:lnTo>
                  <a:pt x="181851" y="433622"/>
                </a:lnTo>
                <a:lnTo>
                  <a:pt x="179336" y="434814"/>
                </a:lnTo>
                <a:lnTo>
                  <a:pt x="171450" y="4371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PenAnnotation1067"/>
          <p:cNvSpPr/>
          <p:nvPr/>
        </p:nvSpPr>
        <p:spPr>
          <a:xfrm>
            <a:off x="2403360" y="4311720"/>
            <a:ext cx="239760" cy="539640"/>
          </a:xfrm>
          <a:custGeom>
            <a:avLst/>
            <a:gdLst>
              <a:gd name="textAreaLeft" fmla="*/ 0 w 239760"/>
              <a:gd name="textAreaRight" fmla="*/ 240120 w 23976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39629" h="540069">
                <a:moveTo>
                  <a:pt x="196766" y="0"/>
                </a:moveTo>
                <a:lnTo>
                  <a:pt x="196766" y="12770"/>
                </a:lnTo>
                <a:lnTo>
                  <a:pt x="195813" y="15181"/>
                </a:lnTo>
                <a:lnTo>
                  <a:pt x="189922" y="23125"/>
                </a:lnTo>
                <a:lnTo>
                  <a:pt x="184834" y="28693"/>
                </a:lnTo>
                <a:lnTo>
                  <a:pt x="179398" y="36883"/>
                </a:lnTo>
                <a:lnTo>
                  <a:pt x="172854" y="46872"/>
                </a:lnTo>
                <a:lnTo>
                  <a:pt x="168442" y="52203"/>
                </a:lnTo>
                <a:lnTo>
                  <a:pt x="163596" y="57662"/>
                </a:lnTo>
                <a:lnTo>
                  <a:pt x="158460" y="64159"/>
                </a:lnTo>
                <a:lnTo>
                  <a:pt x="153131" y="71348"/>
                </a:lnTo>
                <a:lnTo>
                  <a:pt x="147673" y="78998"/>
                </a:lnTo>
                <a:lnTo>
                  <a:pt x="142130" y="86003"/>
                </a:lnTo>
                <a:lnTo>
                  <a:pt x="136529" y="92578"/>
                </a:lnTo>
                <a:lnTo>
                  <a:pt x="130890" y="98866"/>
                </a:lnTo>
                <a:lnTo>
                  <a:pt x="125226" y="105916"/>
                </a:lnTo>
                <a:lnTo>
                  <a:pt x="119545" y="113473"/>
                </a:lnTo>
                <a:lnTo>
                  <a:pt x="113853" y="121368"/>
                </a:lnTo>
                <a:lnTo>
                  <a:pt x="107200" y="129490"/>
                </a:lnTo>
                <a:lnTo>
                  <a:pt x="99908" y="137762"/>
                </a:lnTo>
                <a:lnTo>
                  <a:pt x="92189" y="146134"/>
                </a:lnTo>
                <a:lnTo>
                  <a:pt x="86090" y="154572"/>
                </a:lnTo>
                <a:lnTo>
                  <a:pt x="81072" y="163056"/>
                </a:lnTo>
                <a:lnTo>
                  <a:pt x="76774" y="171569"/>
                </a:lnTo>
                <a:lnTo>
                  <a:pt x="71051" y="180102"/>
                </a:lnTo>
                <a:lnTo>
                  <a:pt x="64379" y="188648"/>
                </a:lnTo>
                <a:lnTo>
                  <a:pt x="57072" y="197203"/>
                </a:lnTo>
                <a:lnTo>
                  <a:pt x="50297" y="205764"/>
                </a:lnTo>
                <a:lnTo>
                  <a:pt x="43875" y="214328"/>
                </a:lnTo>
                <a:lnTo>
                  <a:pt x="37688" y="222896"/>
                </a:lnTo>
                <a:lnTo>
                  <a:pt x="32612" y="231464"/>
                </a:lnTo>
                <a:lnTo>
                  <a:pt x="28275" y="240035"/>
                </a:lnTo>
                <a:lnTo>
                  <a:pt x="24431" y="248606"/>
                </a:lnTo>
                <a:lnTo>
                  <a:pt x="20916" y="257177"/>
                </a:lnTo>
                <a:lnTo>
                  <a:pt x="17620" y="265749"/>
                </a:lnTo>
                <a:lnTo>
                  <a:pt x="14470" y="274321"/>
                </a:lnTo>
                <a:lnTo>
                  <a:pt x="12370" y="282893"/>
                </a:lnTo>
                <a:lnTo>
                  <a:pt x="10970" y="291465"/>
                </a:lnTo>
                <a:lnTo>
                  <a:pt x="10037" y="300038"/>
                </a:lnTo>
                <a:lnTo>
                  <a:pt x="8462" y="308610"/>
                </a:lnTo>
                <a:lnTo>
                  <a:pt x="6460" y="317183"/>
                </a:lnTo>
                <a:lnTo>
                  <a:pt x="4173" y="325755"/>
                </a:lnTo>
                <a:lnTo>
                  <a:pt x="2648" y="334328"/>
                </a:lnTo>
                <a:lnTo>
                  <a:pt x="1631" y="342900"/>
                </a:lnTo>
                <a:lnTo>
                  <a:pt x="954" y="351473"/>
                </a:lnTo>
                <a:lnTo>
                  <a:pt x="502" y="360045"/>
                </a:lnTo>
                <a:lnTo>
                  <a:pt x="0" y="377190"/>
                </a:lnTo>
                <a:lnTo>
                  <a:pt x="2317" y="391795"/>
                </a:lnTo>
                <a:lnTo>
                  <a:pt x="6521" y="404636"/>
                </a:lnTo>
                <a:lnTo>
                  <a:pt x="11565" y="416693"/>
                </a:lnTo>
                <a:lnTo>
                  <a:pt x="16982" y="428402"/>
                </a:lnTo>
                <a:lnTo>
                  <a:pt x="22564" y="439004"/>
                </a:lnTo>
                <a:lnTo>
                  <a:pt x="28220" y="446890"/>
                </a:lnTo>
                <a:lnTo>
                  <a:pt x="32014" y="451280"/>
                </a:lnTo>
                <a:lnTo>
                  <a:pt x="36449" y="456110"/>
                </a:lnTo>
                <a:lnTo>
                  <a:pt x="41310" y="461236"/>
                </a:lnTo>
                <a:lnTo>
                  <a:pt x="46456" y="465606"/>
                </a:lnTo>
                <a:lnTo>
                  <a:pt x="51792" y="469472"/>
                </a:lnTo>
                <a:lnTo>
                  <a:pt x="57254" y="473001"/>
                </a:lnTo>
                <a:lnTo>
                  <a:pt x="62800" y="476307"/>
                </a:lnTo>
                <a:lnTo>
                  <a:pt x="68403" y="479463"/>
                </a:lnTo>
                <a:lnTo>
                  <a:pt x="74043" y="482520"/>
                </a:lnTo>
                <a:lnTo>
                  <a:pt x="78755" y="485509"/>
                </a:lnTo>
                <a:lnTo>
                  <a:pt x="82850" y="488456"/>
                </a:lnTo>
                <a:lnTo>
                  <a:pt x="86532" y="491372"/>
                </a:lnTo>
                <a:lnTo>
                  <a:pt x="90891" y="494269"/>
                </a:lnTo>
                <a:lnTo>
                  <a:pt x="95703" y="497153"/>
                </a:lnTo>
                <a:lnTo>
                  <a:pt x="100815" y="500028"/>
                </a:lnTo>
                <a:lnTo>
                  <a:pt x="106129" y="501944"/>
                </a:lnTo>
                <a:lnTo>
                  <a:pt x="111576" y="503222"/>
                </a:lnTo>
                <a:lnTo>
                  <a:pt x="117112" y="504074"/>
                </a:lnTo>
                <a:lnTo>
                  <a:pt x="123661" y="505595"/>
                </a:lnTo>
                <a:lnTo>
                  <a:pt x="130884" y="507560"/>
                </a:lnTo>
                <a:lnTo>
                  <a:pt x="138557" y="509824"/>
                </a:lnTo>
                <a:lnTo>
                  <a:pt x="144625" y="511333"/>
                </a:lnTo>
                <a:lnTo>
                  <a:pt x="149623" y="512338"/>
                </a:lnTo>
                <a:lnTo>
                  <a:pt x="153907" y="513009"/>
                </a:lnTo>
                <a:lnTo>
                  <a:pt x="161207" y="516294"/>
                </a:lnTo>
                <a:lnTo>
                  <a:pt x="164487" y="518504"/>
                </a:lnTo>
                <a:lnTo>
                  <a:pt x="168579" y="519977"/>
                </a:lnTo>
                <a:lnTo>
                  <a:pt x="173212" y="520959"/>
                </a:lnTo>
                <a:lnTo>
                  <a:pt x="178206" y="521613"/>
                </a:lnTo>
                <a:lnTo>
                  <a:pt x="183440" y="523002"/>
                </a:lnTo>
                <a:lnTo>
                  <a:pt x="188834" y="524881"/>
                </a:lnTo>
                <a:lnTo>
                  <a:pt x="194336" y="527085"/>
                </a:lnTo>
                <a:lnTo>
                  <a:pt x="199908" y="528556"/>
                </a:lnTo>
                <a:lnTo>
                  <a:pt x="205528" y="529535"/>
                </a:lnTo>
                <a:lnTo>
                  <a:pt x="219134" y="531108"/>
                </a:lnTo>
                <a:lnTo>
                  <a:pt x="223535" y="533863"/>
                </a:lnTo>
                <a:lnTo>
                  <a:pt x="226041" y="535931"/>
                </a:lnTo>
                <a:lnTo>
                  <a:pt x="228665" y="537310"/>
                </a:lnTo>
                <a:lnTo>
                  <a:pt x="231367" y="538229"/>
                </a:lnTo>
                <a:lnTo>
                  <a:pt x="239628" y="5400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PenAnnotation1068"/>
          <p:cNvSpPr/>
          <p:nvPr/>
        </p:nvSpPr>
        <p:spPr>
          <a:xfrm>
            <a:off x="2644920" y="4535640"/>
            <a:ext cx="280800" cy="272880"/>
          </a:xfrm>
          <a:custGeom>
            <a:avLst/>
            <a:gdLst>
              <a:gd name="textAreaLeft" fmla="*/ 0 w 280800"/>
              <a:gd name="textAreaRight" fmla="*/ 281160 w 2808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281701" h="274321">
                <a:moveTo>
                  <a:pt x="7380" y="0"/>
                </a:moveTo>
                <a:lnTo>
                  <a:pt x="0" y="0"/>
                </a:lnTo>
                <a:lnTo>
                  <a:pt x="7058" y="0"/>
                </a:lnTo>
                <a:lnTo>
                  <a:pt x="15113" y="6844"/>
                </a:lnTo>
                <a:lnTo>
                  <a:pt x="23835" y="11932"/>
                </a:lnTo>
                <a:lnTo>
                  <a:pt x="31521" y="17368"/>
                </a:lnTo>
                <a:lnTo>
                  <a:pt x="38112" y="22959"/>
                </a:lnTo>
                <a:lnTo>
                  <a:pt x="44216" y="28619"/>
                </a:lnTo>
                <a:lnTo>
                  <a:pt x="73577" y="57656"/>
                </a:lnTo>
                <a:lnTo>
                  <a:pt x="78182" y="63202"/>
                </a:lnTo>
                <a:lnTo>
                  <a:pt x="82204" y="68805"/>
                </a:lnTo>
                <a:lnTo>
                  <a:pt x="85838" y="74445"/>
                </a:lnTo>
                <a:lnTo>
                  <a:pt x="90165" y="80110"/>
                </a:lnTo>
                <a:lnTo>
                  <a:pt x="94955" y="85791"/>
                </a:lnTo>
                <a:lnTo>
                  <a:pt x="100054" y="91484"/>
                </a:lnTo>
                <a:lnTo>
                  <a:pt x="104405" y="97185"/>
                </a:lnTo>
                <a:lnTo>
                  <a:pt x="108258" y="102890"/>
                </a:lnTo>
                <a:lnTo>
                  <a:pt x="111780" y="108598"/>
                </a:lnTo>
                <a:lnTo>
                  <a:pt x="116033" y="114309"/>
                </a:lnTo>
                <a:lnTo>
                  <a:pt x="120773" y="120021"/>
                </a:lnTo>
                <a:lnTo>
                  <a:pt x="125838" y="125734"/>
                </a:lnTo>
                <a:lnTo>
                  <a:pt x="136546" y="137162"/>
                </a:lnTo>
                <a:lnTo>
                  <a:pt x="142068" y="142876"/>
                </a:lnTo>
                <a:lnTo>
                  <a:pt x="147655" y="147639"/>
                </a:lnTo>
                <a:lnTo>
                  <a:pt x="153284" y="151766"/>
                </a:lnTo>
                <a:lnTo>
                  <a:pt x="158942" y="155470"/>
                </a:lnTo>
                <a:lnTo>
                  <a:pt x="163667" y="159844"/>
                </a:lnTo>
                <a:lnTo>
                  <a:pt x="167769" y="164665"/>
                </a:lnTo>
                <a:lnTo>
                  <a:pt x="171456" y="169785"/>
                </a:lnTo>
                <a:lnTo>
                  <a:pt x="175819" y="175102"/>
                </a:lnTo>
                <a:lnTo>
                  <a:pt x="180633" y="180553"/>
                </a:lnTo>
                <a:lnTo>
                  <a:pt x="190109" y="190735"/>
                </a:lnTo>
                <a:lnTo>
                  <a:pt x="201752" y="202776"/>
                </a:lnTo>
                <a:lnTo>
                  <a:pt x="248962" y="250152"/>
                </a:lnTo>
                <a:lnTo>
                  <a:pt x="252255" y="252493"/>
                </a:lnTo>
                <a:lnTo>
                  <a:pt x="258453" y="255094"/>
                </a:lnTo>
                <a:lnTo>
                  <a:pt x="260487" y="256740"/>
                </a:lnTo>
                <a:lnTo>
                  <a:pt x="261843" y="258790"/>
                </a:lnTo>
                <a:lnTo>
                  <a:pt x="262748" y="261109"/>
                </a:lnTo>
                <a:lnTo>
                  <a:pt x="268571" y="268924"/>
                </a:lnTo>
                <a:lnTo>
                  <a:pt x="271042" y="270723"/>
                </a:lnTo>
                <a:lnTo>
                  <a:pt x="279313" y="273609"/>
                </a:lnTo>
                <a:lnTo>
                  <a:pt x="281700" y="2743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PenAnnotation1069"/>
          <p:cNvSpPr/>
          <p:nvPr/>
        </p:nvSpPr>
        <p:spPr>
          <a:xfrm>
            <a:off x="2643120" y="4492800"/>
            <a:ext cx="300240" cy="264960"/>
          </a:xfrm>
          <a:custGeom>
            <a:avLst/>
            <a:gdLst>
              <a:gd name="textAreaLeft" fmla="*/ 0 w 300240"/>
              <a:gd name="textAreaRight" fmla="*/ 300600 w 3002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300039" h="265352">
                <a:moveTo>
                  <a:pt x="300038" y="8542"/>
                </a:moveTo>
                <a:lnTo>
                  <a:pt x="291818" y="323"/>
                </a:lnTo>
                <a:lnTo>
                  <a:pt x="284691" y="40"/>
                </a:lnTo>
                <a:lnTo>
                  <a:pt x="279564" y="0"/>
                </a:lnTo>
                <a:lnTo>
                  <a:pt x="277816" y="943"/>
                </a:lnTo>
                <a:lnTo>
                  <a:pt x="276651" y="2523"/>
                </a:lnTo>
                <a:lnTo>
                  <a:pt x="275874" y="4529"/>
                </a:lnTo>
                <a:lnTo>
                  <a:pt x="269931" y="9299"/>
                </a:lnTo>
                <a:lnTo>
                  <a:pt x="265679" y="11904"/>
                </a:lnTo>
                <a:lnTo>
                  <a:pt x="258414" y="19879"/>
                </a:lnTo>
                <a:lnTo>
                  <a:pt x="255144" y="24672"/>
                </a:lnTo>
                <a:lnTo>
                  <a:pt x="251059" y="29773"/>
                </a:lnTo>
                <a:lnTo>
                  <a:pt x="246430" y="35078"/>
                </a:lnTo>
                <a:lnTo>
                  <a:pt x="241439" y="40521"/>
                </a:lnTo>
                <a:lnTo>
                  <a:pt x="230814" y="51648"/>
                </a:lnTo>
                <a:lnTo>
                  <a:pt x="225313" y="57281"/>
                </a:lnTo>
                <a:lnTo>
                  <a:pt x="219741" y="63895"/>
                </a:lnTo>
                <a:lnTo>
                  <a:pt x="214122" y="71161"/>
                </a:lnTo>
                <a:lnTo>
                  <a:pt x="208470" y="78863"/>
                </a:lnTo>
                <a:lnTo>
                  <a:pt x="201845" y="86855"/>
                </a:lnTo>
                <a:lnTo>
                  <a:pt x="194571" y="95041"/>
                </a:lnTo>
                <a:lnTo>
                  <a:pt x="186864" y="103356"/>
                </a:lnTo>
                <a:lnTo>
                  <a:pt x="178869" y="110804"/>
                </a:lnTo>
                <a:lnTo>
                  <a:pt x="170680" y="117674"/>
                </a:lnTo>
                <a:lnTo>
                  <a:pt x="162365" y="124159"/>
                </a:lnTo>
                <a:lnTo>
                  <a:pt x="154916" y="131340"/>
                </a:lnTo>
                <a:lnTo>
                  <a:pt x="148045" y="138985"/>
                </a:lnTo>
                <a:lnTo>
                  <a:pt x="141559" y="146939"/>
                </a:lnTo>
                <a:lnTo>
                  <a:pt x="134378" y="154147"/>
                </a:lnTo>
                <a:lnTo>
                  <a:pt x="126733" y="160857"/>
                </a:lnTo>
                <a:lnTo>
                  <a:pt x="118779" y="167235"/>
                </a:lnTo>
                <a:lnTo>
                  <a:pt x="111571" y="173393"/>
                </a:lnTo>
                <a:lnTo>
                  <a:pt x="104860" y="179403"/>
                </a:lnTo>
                <a:lnTo>
                  <a:pt x="92325" y="191160"/>
                </a:lnTo>
                <a:lnTo>
                  <a:pt x="62981" y="219963"/>
                </a:lnTo>
                <a:lnTo>
                  <a:pt x="50305" y="232581"/>
                </a:lnTo>
                <a:lnTo>
                  <a:pt x="41091" y="239243"/>
                </a:lnTo>
                <a:lnTo>
                  <a:pt x="35966" y="242353"/>
                </a:lnTo>
                <a:lnTo>
                  <a:pt x="27732" y="248348"/>
                </a:lnTo>
                <a:lnTo>
                  <a:pt x="24203" y="251280"/>
                </a:lnTo>
                <a:lnTo>
                  <a:pt x="17742" y="254538"/>
                </a:lnTo>
                <a:lnTo>
                  <a:pt x="8749" y="256372"/>
                </a:lnTo>
                <a:lnTo>
                  <a:pt x="5833" y="256630"/>
                </a:lnTo>
                <a:lnTo>
                  <a:pt x="3889" y="257754"/>
                </a:lnTo>
                <a:lnTo>
                  <a:pt x="2592" y="259456"/>
                </a:lnTo>
                <a:lnTo>
                  <a:pt x="152" y="265351"/>
                </a:lnTo>
                <a:lnTo>
                  <a:pt x="0" y="257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PenAnnotation1070"/>
          <p:cNvSpPr/>
          <p:nvPr/>
        </p:nvSpPr>
        <p:spPr>
          <a:xfrm>
            <a:off x="3029040" y="4551480"/>
            <a:ext cx="436320" cy="34920"/>
          </a:xfrm>
          <a:custGeom>
            <a:avLst/>
            <a:gdLst>
              <a:gd name="textAreaLeft" fmla="*/ 0 w 436320"/>
              <a:gd name="textAreaRight" fmla="*/ 436680 w 43632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437198" h="34291">
                <a:moveTo>
                  <a:pt x="0" y="34290"/>
                </a:moveTo>
                <a:lnTo>
                  <a:pt x="4550" y="34290"/>
                </a:lnTo>
                <a:lnTo>
                  <a:pt x="6843" y="33338"/>
                </a:lnTo>
                <a:lnTo>
                  <a:pt x="9325" y="31750"/>
                </a:lnTo>
                <a:lnTo>
                  <a:pt x="11931" y="29740"/>
                </a:lnTo>
                <a:lnTo>
                  <a:pt x="14621" y="28398"/>
                </a:lnTo>
                <a:lnTo>
                  <a:pt x="17368" y="27505"/>
                </a:lnTo>
                <a:lnTo>
                  <a:pt x="22959" y="26512"/>
                </a:lnTo>
                <a:lnTo>
                  <a:pt x="32414" y="25953"/>
                </a:lnTo>
                <a:lnTo>
                  <a:pt x="41711" y="25822"/>
                </a:lnTo>
                <a:lnTo>
                  <a:pt x="47810" y="24835"/>
                </a:lnTo>
                <a:lnTo>
                  <a:pt x="54733" y="23224"/>
                </a:lnTo>
                <a:lnTo>
                  <a:pt x="62206" y="21198"/>
                </a:lnTo>
                <a:lnTo>
                  <a:pt x="69093" y="19847"/>
                </a:lnTo>
                <a:lnTo>
                  <a:pt x="75589" y="18946"/>
                </a:lnTo>
                <a:lnTo>
                  <a:pt x="88840" y="17946"/>
                </a:lnTo>
                <a:lnTo>
                  <a:pt x="104254" y="17501"/>
                </a:lnTo>
                <a:lnTo>
                  <a:pt x="112365" y="16430"/>
                </a:lnTo>
                <a:lnTo>
                  <a:pt x="120630" y="14763"/>
                </a:lnTo>
                <a:lnTo>
                  <a:pt x="128997" y="12700"/>
                </a:lnTo>
                <a:lnTo>
                  <a:pt x="137433" y="11324"/>
                </a:lnTo>
                <a:lnTo>
                  <a:pt x="145914" y="10407"/>
                </a:lnTo>
                <a:lnTo>
                  <a:pt x="154426" y="9795"/>
                </a:lnTo>
                <a:lnTo>
                  <a:pt x="163911" y="9388"/>
                </a:lnTo>
                <a:lnTo>
                  <a:pt x="184609" y="8935"/>
                </a:lnTo>
                <a:lnTo>
                  <a:pt x="194510" y="7861"/>
                </a:lnTo>
                <a:lnTo>
                  <a:pt x="203968" y="6194"/>
                </a:lnTo>
                <a:lnTo>
                  <a:pt x="213131" y="4129"/>
                </a:lnTo>
                <a:lnTo>
                  <a:pt x="222097" y="2753"/>
                </a:lnTo>
                <a:lnTo>
                  <a:pt x="230932" y="1835"/>
                </a:lnTo>
                <a:lnTo>
                  <a:pt x="239679" y="1223"/>
                </a:lnTo>
                <a:lnTo>
                  <a:pt x="249321" y="816"/>
                </a:lnTo>
                <a:lnTo>
                  <a:pt x="279189" y="242"/>
                </a:lnTo>
                <a:lnTo>
                  <a:pt x="412601" y="0"/>
                </a:lnTo>
                <a:lnTo>
                  <a:pt x="416038" y="953"/>
                </a:lnTo>
                <a:lnTo>
                  <a:pt x="419281" y="2540"/>
                </a:lnTo>
                <a:lnTo>
                  <a:pt x="422395" y="4551"/>
                </a:lnTo>
                <a:lnTo>
                  <a:pt x="425424" y="5892"/>
                </a:lnTo>
                <a:lnTo>
                  <a:pt x="428396" y="6785"/>
                </a:lnTo>
                <a:lnTo>
                  <a:pt x="437197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PenAnnotation1071"/>
          <p:cNvSpPr/>
          <p:nvPr/>
        </p:nvSpPr>
        <p:spPr>
          <a:xfrm>
            <a:off x="3227400" y="4432320"/>
            <a:ext cx="66600" cy="368280"/>
          </a:xfrm>
          <a:custGeom>
            <a:avLst/>
            <a:gdLst>
              <a:gd name="textAreaLeft" fmla="*/ 0 w 66600"/>
              <a:gd name="textAreaRight" fmla="*/ 66960 w 6660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67358" h="368619">
                <a:moveTo>
                  <a:pt x="15922" y="0"/>
                </a:moveTo>
                <a:lnTo>
                  <a:pt x="0" y="0"/>
                </a:lnTo>
                <a:lnTo>
                  <a:pt x="3690" y="0"/>
                </a:lnTo>
                <a:lnTo>
                  <a:pt x="4910" y="953"/>
                </a:lnTo>
                <a:lnTo>
                  <a:pt x="5723" y="2540"/>
                </a:lnTo>
                <a:lnTo>
                  <a:pt x="6627" y="6844"/>
                </a:lnTo>
                <a:lnTo>
                  <a:pt x="7207" y="17368"/>
                </a:lnTo>
                <a:lnTo>
                  <a:pt x="7307" y="28324"/>
                </a:lnTo>
                <a:lnTo>
                  <a:pt x="7321" y="33170"/>
                </a:lnTo>
                <a:lnTo>
                  <a:pt x="8283" y="38306"/>
                </a:lnTo>
                <a:lnTo>
                  <a:pt x="9877" y="43635"/>
                </a:lnTo>
                <a:lnTo>
                  <a:pt x="11892" y="49092"/>
                </a:lnTo>
                <a:lnTo>
                  <a:pt x="13235" y="54636"/>
                </a:lnTo>
                <a:lnTo>
                  <a:pt x="14728" y="65875"/>
                </a:lnTo>
                <a:lnTo>
                  <a:pt x="16078" y="71540"/>
                </a:lnTo>
                <a:lnTo>
                  <a:pt x="17931" y="77221"/>
                </a:lnTo>
                <a:lnTo>
                  <a:pt x="20119" y="82913"/>
                </a:lnTo>
                <a:lnTo>
                  <a:pt x="21577" y="88613"/>
                </a:lnTo>
                <a:lnTo>
                  <a:pt x="23198" y="100026"/>
                </a:lnTo>
                <a:lnTo>
                  <a:pt x="24583" y="106689"/>
                </a:lnTo>
                <a:lnTo>
                  <a:pt x="26458" y="113988"/>
                </a:lnTo>
                <a:lnTo>
                  <a:pt x="28662" y="121712"/>
                </a:lnTo>
                <a:lnTo>
                  <a:pt x="33649" y="137915"/>
                </a:lnTo>
                <a:lnTo>
                  <a:pt x="36312" y="146235"/>
                </a:lnTo>
                <a:lnTo>
                  <a:pt x="38088" y="154641"/>
                </a:lnTo>
                <a:lnTo>
                  <a:pt x="39272" y="163101"/>
                </a:lnTo>
                <a:lnTo>
                  <a:pt x="40061" y="171599"/>
                </a:lnTo>
                <a:lnTo>
                  <a:pt x="41539" y="179170"/>
                </a:lnTo>
                <a:lnTo>
                  <a:pt x="43478" y="186121"/>
                </a:lnTo>
                <a:lnTo>
                  <a:pt x="45723" y="192661"/>
                </a:lnTo>
                <a:lnTo>
                  <a:pt x="47219" y="199879"/>
                </a:lnTo>
                <a:lnTo>
                  <a:pt x="48217" y="207547"/>
                </a:lnTo>
                <a:lnTo>
                  <a:pt x="48882" y="215517"/>
                </a:lnTo>
                <a:lnTo>
                  <a:pt x="49325" y="223688"/>
                </a:lnTo>
                <a:lnTo>
                  <a:pt x="49818" y="240387"/>
                </a:lnTo>
                <a:lnTo>
                  <a:pt x="50160" y="273615"/>
                </a:lnTo>
                <a:lnTo>
                  <a:pt x="50202" y="297041"/>
                </a:lnTo>
                <a:lnTo>
                  <a:pt x="51158" y="302802"/>
                </a:lnTo>
                <a:lnTo>
                  <a:pt x="52748" y="308548"/>
                </a:lnTo>
                <a:lnTo>
                  <a:pt x="54760" y="314284"/>
                </a:lnTo>
                <a:lnTo>
                  <a:pt x="56101" y="319060"/>
                </a:lnTo>
                <a:lnTo>
                  <a:pt x="57592" y="326907"/>
                </a:lnTo>
                <a:lnTo>
                  <a:pt x="58254" y="336110"/>
                </a:lnTo>
                <a:lnTo>
                  <a:pt x="58431" y="341230"/>
                </a:lnTo>
                <a:lnTo>
                  <a:pt x="59502" y="344645"/>
                </a:lnTo>
                <a:lnTo>
                  <a:pt x="61167" y="346920"/>
                </a:lnTo>
                <a:lnTo>
                  <a:pt x="63231" y="348438"/>
                </a:lnTo>
                <a:lnTo>
                  <a:pt x="64606" y="350402"/>
                </a:lnTo>
                <a:lnTo>
                  <a:pt x="66542" y="356764"/>
                </a:lnTo>
                <a:lnTo>
                  <a:pt x="66995" y="358587"/>
                </a:lnTo>
                <a:lnTo>
                  <a:pt x="67357" y="3686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PenAnnotation1072"/>
          <p:cNvSpPr/>
          <p:nvPr/>
        </p:nvSpPr>
        <p:spPr>
          <a:xfrm>
            <a:off x="3457440" y="4389480"/>
            <a:ext cx="378000" cy="290520"/>
          </a:xfrm>
          <a:custGeom>
            <a:avLst/>
            <a:gdLst>
              <a:gd name="textAreaLeft" fmla="*/ 0 w 378000"/>
              <a:gd name="textAreaRight" fmla="*/ 378360 w 378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377190" h="291340">
                <a:moveTo>
                  <a:pt x="0" y="51318"/>
                </a:moveTo>
                <a:lnTo>
                  <a:pt x="4550" y="51318"/>
                </a:lnTo>
                <a:lnTo>
                  <a:pt x="5891" y="50366"/>
                </a:lnTo>
                <a:lnTo>
                  <a:pt x="6785" y="48779"/>
                </a:lnTo>
                <a:lnTo>
                  <a:pt x="7778" y="44475"/>
                </a:lnTo>
                <a:lnTo>
                  <a:pt x="8219" y="39387"/>
                </a:lnTo>
                <a:lnTo>
                  <a:pt x="10242" y="36696"/>
                </a:lnTo>
                <a:lnTo>
                  <a:pt x="17569" y="31168"/>
                </a:lnTo>
                <a:lnTo>
                  <a:pt x="24636" y="28075"/>
                </a:lnTo>
                <a:lnTo>
                  <a:pt x="27854" y="27250"/>
                </a:lnTo>
                <a:lnTo>
                  <a:pt x="33969" y="23794"/>
                </a:lnTo>
                <a:lnTo>
                  <a:pt x="45307" y="16493"/>
                </a:lnTo>
                <a:lnTo>
                  <a:pt x="50207" y="13815"/>
                </a:lnTo>
                <a:lnTo>
                  <a:pt x="56331" y="12028"/>
                </a:lnTo>
                <a:lnTo>
                  <a:pt x="63271" y="10837"/>
                </a:lnTo>
                <a:lnTo>
                  <a:pt x="70756" y="10043"/>
                </a:lnTo>
                <a:lnTo>
                  <a:pt x="77651" y="8562"/>
                </a:lnTo>
                <a:lnTo>
                  <a:pt x="84152" y="6622"/>
                </a:lnTo>
                <a:lnTo>
                  <a:pt x="90391" y="4376"/>
                </a:lnTo>
                <a:lnTo>
                  <a:pt x="96455" y="2878"/>
                </a:lnTo>
                <a:lnTo>
                  <a:pt x="102403" y="1880"/>
                </a:lnTo>
                <a:lnTo>
                  <a:pt x="114093" y="771"/>
                </a:lnTo>
                <a:lnTo>
                  <a:pt x="125638" y="278"/>
                </a:lnTo>
                <a:lnTo>
                  <a:pt x="147398" y="0"/>
                </a:lnTo>
                <a:lnTo>
                  <a:pt x="154463" y="914"/>
                </a:lnTo>
                <a:lnTo>
                  <a:pt x="161078" y="2476"/>
                </a:lnTo>
                <a:lnTo>
                  <a:pt x="167392" y="4469"/>
                </a:lnTo>
                <a:lnTo>
                  <a:pt x="173507" y="5798"/>
                </a:lnTo>
                <a:lnTo>
                  <a:pt x="179489" y="6684"/>
                </a:lnTo>
                <a:lnTo>
                  <a:pt x="191215" y="8621"/>
                </a:lnTo>
                <a:lnTo>
                  <a:pt x="202777" y="12657"/>
                </a:lnTo>
                <a:lnTo>
                  <a:pt x="211725" y="17626"/>
                </a:lnTo>
                <a:lnTo>
                  <a:pt x="222118" y="25778"/>
                </a:lnTo>
                <a:lnTo>
                  <a:pt x="225231" y="28577"/>
                </a:lnTo>
                <a:lnTo>
                  <a:pt x="227306" y="32347"/>
                </a:lnTo>
                <a:lnTo>
                  <a:pt x="228690" y="36766"/>
                </a:lnTo>
                <a:lnTo>
                  <a:pt x="229612" y="41617"/>
                </a:lnTo>
                <a:lnTo>
                  <a:pt x="230227" y="46756"/>
                </a:lnTo>
                <a:lnTo>
                  <a:pt x="230637" y="52087"/>
                </a:lnTo>
                <a:lnTo>
                  <a:pt x="230910" y="57546"/>
                </a:lnTo>
                <a:lnTo>
                  <a:pt x="231214" y="68691"/>
                </a:lnTo>
                <a:lnTo>
                  <a:pt x="231295" y="74331"/>
                </a:lnTo>
                <a:lnTo>
                  <a:pt x="230396" y="79995"/>
                </a:lnTo>
                <a:lnTo>
                  <a:pt x="228845" y="85676"/>
                </a:lnTo>
                <a:lnTo>
                  <a:pt x="226859" y="91369"/>
                </a:lnTo>
                <a:lnTo>
                  <a:pt x="224581" y="97069"/>
                </a:lnTo>
                <a:lnTo>
                  <a:pt x="222111" y="102773"/>
                </a:lnTo>
                <a:lnTo>
                  <a:pt x="219511" y="108482"/>
                </a:lnTo>
                <a:lnTo>
                  <a:pt x="215873" y="114192"/>
                </a:lnTo>
                <a:lnTo>
                  <a:pt x="211542" y="119904"/>
                </a:lnTo>
                <a:lnTo>
                  <a:pt x="206751" y="125617"/>
                </a:lnTo>
                <a:lnTo>
                  <a:pt x="202604" y="132284"/>
                </a:lnTo>
                <a:lnTo>
                  <a:pt x="198887" y="139586"/>
                </a:lnTo>
                <a:lnTo>
                  <a:pt x="192216" y="154366"/>
                </a:lnTo>
                <a:lnTo>
                  <a:pt x="186077" y="167285"/>
                </a:lnTo>
                <a:lnTo>
                  <a:pt x="182153" y="173397"/>
                </a:lnTo>
                <a:lnTo>
                  <a:pt x="177633" y="179376"/>
                </a:lnTo>
                <a:lnTo>
                  <a:pt x="172714" y="185268"/>
                </a:lnTo>
                <a:lnTo>
                  <a:pt x="168483" y="192053"/>
                </a:lnTo>
                <a:lnTo>
                  <a:pt x="164709" y="199434"/>
                </a:lnTo>
                <a:lnTo>
                  <a:pt x="161241" y="207213"/>
                </a:lnTo>
                <a:lnTo>
                  <a:pt x="157976" y="213350"/>
                </a:lnTo>
                <a:lnTo>
                  <a:pt x="154847" y="218395"/>
                </a:lnTo>
                <a:lnTo>
                  <a:pt x="148830" y="227492"/>
                </a:lnTo>
                <a:lnTo>
                  <a:pt x="145893" y="232585"/>
                </a:lnTo>
                <a:lnTo>
                  <a:pt x="142982" y="237886"/>
                </a:lnTo>
                <a:lnTo>
                  <a:pt x="137207" y="246315"/>
                </a:lnTo>
                <a:lnTo>
                  <a:pt x="134334" y="249896"/>
                </a:lnTo>
                <a:lnTo>
                  <a:pt x="131141" y="256415"/>
                </a:lnTo>
                <a:lnTo>
                  <a:pt x="130290" y="259487"/>
                </a:lnTo>
                <a:lnTo>
                  <a:pt x="126804" y="265441"/>
                </a:lnTo>
                <a:lnTo>
                  <a:pt x="124541" y="268361"/>
                </a:lnTo>
                <a:lnTo>
                  <a:pt x="122026" y="274147"/>
                </a:lnTo>
                <a:lnTo>
                  <a:pt x="120412" y="281072"/>
                </a:lnTo>
                <a:lnTo>
                  <a:pt x="121232" y="282592"/>
                </a:lnTo>
                <a:lnTo>
                  <a:pt x="127430" y="290008"/>
                </a:lnTo>
                <a:lnTo>
                  <a:pt x="128768" y="290454"/>
                </a:lnTo>
                <a:lnTo>
                  <a:pt x="140417" y="291231"/>
                </a:lnTo>
                <a:lnTo>
                  <a:pt x="164578" y="291339"/>
                </a:lnTo>
                <a:lnTo>
                  <a:pt x="173475" y="288804"/>
                </a:lnTo>
                <a:lnTo>
                  <a:pt x="183780" y="285455"/>
                </a:lnTo>
                <a:lnTo>
                  <a:pt x="194710" y="283967"/>
                </a:lnTo>
                <a:lnTo>
                  <a:pt x="203378" y="280765"/>
                </a:lnTo>
                <a:lnTo>
                  <a:pt x="207023" y="278578"/>
                </a:lnTo>
                <a:lnTo>
                  <a:pt x="218692" y="276148"/>
                </a:lnTo>
                <a:lnTo>
                  <a:pt x="225805" y="275500"/>
                </a:lnTo>
                <a:lnTo>
                  <a:pt x="232451" y="274115"/>
                </a:lnTo>
                <a:lnTo>
                  <a:pt x="238787" y="272240"/>
                </a:lnTo>
                <a:lnTo>
                  <a:pt x="244916" y="270037"/>
                </a:lnTo>
                <a:lnTo>
                  <a:pt x="250907" y="268568"/>
                </a:lnTo>
                <a:lnTo>
                  <a:pt x="262644" y="266937"/>
                </a:lnTo>
                <a:lnTo>
                  <a:pt x="274211" y="263671"/>
                </a:lnTo>
                <a:lnTo>
                  <a:pt x="284749" y="259045"/>
                </a:lnTo>
                <a:lnTo>
                  <a:pt x="296989" y="251085"/>
                </a:lnTo>
                <a:lnTo>
                  <a:pt x="306937" y="245514"/>
                </a:lnTo>
                <a:lnTo>
                  <a:pt x="317709" y="242402"/>
                </a:lnTo>
                <a:lnTo>
                  <a:pt x="328846" y="240067"/>
                </a:lnTo>
                <a:lnTo>
                  <a:pt x="340146" y="235854"/>
                </a:lnTo>
                <a:lnTo>
                  <a:pt x="348978" y="230807"/>
                </a:lnTo>
                <a:lnTo>
                  <a:pt x="356079" y="226341"/>
                </a:lnTo>
                <a:lnTo>
                  <a:pt x="365431" y="222875"/>
                </a:lnTo>
                <a:lnTo>
                  <a:pt x="377189" y="2141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PenAnnotation1073"/>
          <p:cNvSpPr/>
          <p:nvPr/>
        </p:nvSpPr>
        <p:spPr>
          <a:xfrm>
            <a:off x="3782880" y="4294080"/>
            <a:ext cx="214560" cy="51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213882" h="514350">
                <a:moveTo>
                  <a:pt x="0" y="8572"/>
                </a:moveTo>
                <a:lnTo>
                  <a:pt x="8468" y="104"/>
                </a:lnTo>
                <a:lnTo>
                  <a:pt x="14444" y="20"/>
                </a:lnTo>
                <a:lnTo>
                  <a:pt x="28972" y="0"/>
                </a:lnTo>
                <a:lnTo>
                  <a:pt x="32650" y="952"/>
                </a:lnTo>
                <a:lnTo>
                  <a:pt x="37007" y="2540"/>
                </a:lnTo>
                <a:lnTo>
                  <a:pt x="41816" y="4550"/>
                </a:lnTo>
                <a:lnTo>
                  <a:pt x="45975" y="6843"/>
                </a:lnTo>
                <a:lnTo>
                  <a:pt x="49700" y="9324"/>
                </a:lnTo>
                <a:lnTo>
                  <a:pt x="53136" y="11931"/>
                </a:lnTo>
                <a:lnTo>
                  <a:pt x="58284" y="14621"/>
                </a:lnTo>
                <a:lnTo>
                  <a:pt x="64574" y="17367"/>
                </a:lnTo>
                <a:lnTo>
                  <a:pt x="71625" y="20150"/>
                </a:lnTo>
                <a:lnTo>
                  <a:pt x="78230" y="22958"/>
                </a:lnTo>
                <a:lnTo>
                  <a:pt x="90649" y="28618"/>
                </a:lnTo>
                <a:lnTo>
                  <a:pt x="96628" y="32414"/>
                </a:lnTo>
                <a:lnTo>
                  <a:pt x="102519" y="36849"/>
                </a:lnTo>
                <a:lnTo>
                  <a:pt x="108351" y="41711"/>
                </a:lnTo>
                <a:lnTo>
                  <a:pt x="115096" y="46857"/>
                </a:lnTo>
                <a:lnTo>
                  <a:pt x="122451" y="52193"/>
                </a:lnTo>
                <a:lnTo>
                  <a:pt x="130211" y="57655"/>
                </a:lnTo>
                <a:lnTo>
                  <a:pt x="137291" y="63201"/>
                </a:lnTo>
                <a:lnTo>
                  <a:pt x="143915" y="68804"/>
                </a:lnTo>
                <a:lnTo>
                  <a:pt x="150236" y="74444"/>
                </a:lnTo>
                <a:lnTo>
                  <a:pt x="162339" y="85791"/>
                </a:lnTo>
                <a:lnTo>
                  <a:pt x="168234" y="91484"/>
                </a:lnTo>
                <a:lnTo>
                  <a:pt x="173116" y="98136"/>
                </a:lnTo>
                <a:lnTo>
                  <a:pt x="177324" y="105429"/>
                </a:lnTo>
                <a:lnTo>
                  <a:pt x="181081" y="113149"/>
                </a:lnTo>
                <a:lnTo>
                  <a:pt x="185491" y="121152"/>
                </a:lnTo>
                <a:lnTo>
                  <a:pt x="190336" y="129345"/>
                </a:lnTo>
                <a:lnTo>
                  <a:pt x="195471" y="137665"/>
                </a:lnTo>
                <a:lnTo>
                  <a:pt x="198894" y="146069"/>
                </a:lnTo>
                <a:lnTo>
                  <a:pt x="201177" y="154529"/>
                </a:lnTo>
                <a:lnTo>
                  <a:pt x="202697" y="163026"/>
                </a:lnTo>
                <a:lnTo>
                  <a:pt x="204664" y="171549"/>
                </a:lnTo>
                <a:lnTo>
                  <a:pt x="206928" y="180088"/>
                </a:lnTo>
                <a:lnTo>
                  <a:pt x="209390" y="188638"/>
                </a:lnTo>
                <a:lnTo>
                  <a:pt x="211031" y="198149"/>
                </a:lnTo>
                <a:lnTo>
                  <a:pt x="212125" y="208299"/>
                </a:lnTo>
                <a:lnTo>
                  <a:pt x="212854" y="218876"/>
                </a:lnTo>
                <a:lnTo>
                  <a:pt x="213340" y="229737"/>
                </a:lnTo>
                <a:lnTo>
                  <a:pt x="213881" y="251965"/>
                </a:lnTo>
                <a:lnTo>
                  <a:pt x="213072" y="262274"/>
                </a:lnTo>
                <a:lnTo>
                  <a:pt x="211581" y="272004"/>
                </a:lnTo>
                <a:lnTo>
                  <a:pt x="209634" y="281348"/>
                </a:lnTo>
                <a:lnTo>
                  <a:pt x="207384" y="290435"/>
                </a:lnTo>
                <a:lnTo>
                  <a:pt x="204931" y="299351"/>
                </a:lnTo>
                <a:lnTo>
                  <a:pt x="199666" y="316876"/>
                </a:lnTo>
                <a:lnTo>
                  <a:pt x="194151" y="334191"/>
                </a:lnTo>
                <a:lnTo>
                  <a:pt x="190394" y="342809"/>
                </a:lnTo>
                <a:lnTo>
                  <a:pt x="185984" y="351412"/>
                </a:lnTo>
                <a:lnTo>
                  <a:pt x="181140" y="360004"/>
                </a:lnTo>
                <a:lnTo>
                  <a:pt x="176957" y="368590"/>
                </a:lnTo>
                <a:lnTo>
                  <a:pt x="173217" y="377171"/>
                </a:lnTo>
                <a:lnTo>
                  <a:pt x="169770" y="385750"/>
                </a:lnTo>
                <a:lnTo>
                  <a:pt x="163401" y="402901"/>
                </a:lnTo>
                <a:lnTo>
                  <a:pt x="160369" y="411476"/>
                </a:lnTo>
                <a:lnTo>
                  <a:pt x="154460" y="426083"/>
                </a:lnTo>
                <a:lnTo>
                  <a:pt x="148659" y="438924"/>
                </a:lnTo>
                <a:lnTo>
                  <a:pt x="140039" y="456865"/>
                </a:lnTo>
                <a:lnTo>
                  <a:pt x="134312" y="468480"/>
                </a:lnTo>
                <a:lnTo>
                  <a:pt x="128592" y="477453"/>
                </a:lnTo>
                <a:lnTo>
                  <a:pt x="125733" y="481179"/>
                </a:lnTo>
                <a:lnTo>
                  <a:pt x="122557" y="487859"/>
                </a:lnTo>
                <a:lnTo>
                  <a:pt x="121710" y="490975"/>
                </a:lnTo>
                <a:lnTo>
                  <a:pt x="118228" y="496975"/>
                </a:lnTo>
                <a:lnTo>
                  <a:pt x="112783" y="504038"/>
                </a:lnTo>
                <a:lnTo>
                  <a:pt x="112039" y="507544"/>
                </a:lnTo>
                <a:lnTo>
                  <a:pt x="111840" y="509812"/>
                </a:lnTo>
                <a:lnTo>
                  <a:pt x="110755" y="511325"/>
                </a:lnTo>
                <a:lnTo>
                  <a:pt x="109079" y="512333"/>
                </a:lnTo>
                <a:lnTo>
                  <a:pt x="102871" y="5143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PenAnnotation1074"/>
          <p:cNvSpPr/>
          <p:nvPr/>
        </p:nvSpPr>
        <p:spPr>
          <a:xfrm>
            <a:off x="4125960" y="4440240"/>
            <a:ext cx="223920" cy="25560"/>
          </a:xfrm>
          <a:custGeom>
            <a:avLst/>
            <a:gdLst>
              <a:gd name="textAreaLeft" fmla="*/ 0 w 223920"/>
              <a:gd name="textAreaRight" fmla="*/ 224280 w 2239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22887" h="25719">
                <a:moveTo>
                  <a:pt x="0" y="25718"/>
                </a:moveTo>
                <a:lnTo>
                  <a:pt x="24951" y="25718"/>
                </a:lnTo>
                <a:lnTo>
                  <a:pt x="29016" y="24766"/>
                </a:lnTo>
                <a:lnTo>
                  <a:pt x="32679" y="23178"/>
                </a:lnTo>
                <a:lnTo>
                  <a:pt x="36074" y="21168"/>
                </a:lnTo>
                <a:lnTo>
                  <a:pt x="40242" y="19827"/>
                </a:lnTo>
                <a:lnTo>
                  <a:pt x="44926" y="18933"/>
                </a:lnTo>
                <a:lnTo>
                  <a:pt x="49953" y="18337"/>
                </a:lnTo>
                <a:lnTo>
                  <a:pt x="55210" y="17940"/>
                </a:lnTo>
                <a:lnTo>
                  <a:pt x="60619" y="17675"/>
                </a:lnTo>
                <a:lnTo>
                  <a:pt x="66130" y="17499"/>
                </a:lnTo>
                <a:lnTo>
                  <a:pt x="71710" y="16429"/>
                </a:lnTo>
                <a:lnTo>
                  <a:pt x="77334" y="14763"/>
                </a:lnTo>
                <a:lnTo>
                  <a:pt x="82988" y="12699"/>
                </a:lnTo>
                <a:lnTo>
                  <a:pt x="88663" y="11324"/>
                </a:lnTo>
                <a:lnTo>
                  <a:pt x="94352" y="10407"/>
                </a:lnTo>
                <a:lnTo>
                  <a:pt x="100049" y="9796"/>
                </a:lnTo>
                <a:lnTo>
                  <a:pt x="105752" y="9388"/>
                </a:lnTo>
                <a:lnTo>
                  <a:pt x="111459" y="9117"/>
                </a:lnTo>
                <a:lnTo>
                  <a:pt x="117168" y="8935"/>
                </a:lnTo>
                <a:lnTo>
                  <a:pt x="122880" y="7862"/>
                </a:lnTo>
                <a:lnTo>
                  <a:pt x="128593" y="6194"/>
                </a:lnTo>
                <a:lnTo>
                  <a:pt x="134306" y="4130"/>
                </a:lnTo>
                <a:lnTo>
                  <a:pt x="140020" y="2753"/>
                </a:lnTo>
                <a:lnTo>
                  <a:pt x="145735" y="1836"/>
                </a:lnTo>
                <a:lnTo>
                  <a:pt x="151449" y="1224"/>
                </a:lnTo>
                <a:lnTo>
                  <a:pt x="157164" y="816"/>
                </a:lnTo>
                <a:lnTo>
                  <a:pt x="162878" y="544"/>
                </a:lnTo>
                <a:lnTo>
                  <a:pt x="174308" y="242"/>
                </a:lnTo>
                <a:lnTo>
                  <a:pt x="22288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PenAnnotation1075"/>
          <p:cNvSpPr/>
          <p:nvPr/>
        </p:nvSpPr>
        <p:spPr>
          <a:xfrm>
            <a:off x="4135320" y="4508640"/>
            <a:ext cx="300240" cy="33120"/>
          </a:xfrm>
          <a:custGeom>
            <a:avLst/>
            <a:gdLst>
              <a:gd name="textAreaLeft" fmla="*/ 0 w 300240"/>
              <a:gd name="textAreaRight" fmla="*/ 300600 w 3002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00039" h="33090">
                <a:moveTo>
                  <a:pt x="0" y="25708"/>
                </a:moveTo>
                <a:lnTo>
                  <a:pt x="4551" y="25708"/>
                </a:lnTo>
                <a:lnTo>
                  <a:pt x="5892" y="26661"/>
                </a:lnTo>
                <a:lnTo>
                  <a:pt x="6785" y="28248"/>
                </a:lnTo>
                <a:lnTo>
                  <a:pt x="7381" y="30259"/>
                </a:lnTo>
                <a:lnTo>
                  <a:pt x="8731" y="31600"/>
                </a:lnTo>
                <a:lnTo>
                  <a:pt x="10583" y="32493"/>
                </a:lnTo>
                <a:lnTo>
                  <a:pt x="12770" y="33089"/>
                </a:lnTo>
                <a:lnTo>
                  <a:pt x="16134" y="32534"/>
                </a:lnTo>
                <a:lnTo>
                  <a:pt x="20281" y="31211"/>
                </a:lnTo>
                <a:lnTo>
                  <a:pt x="24951" y="29377"/>
                </a:lnTo>
                <a:lnTo>
                  <a:pt x="29968" y="28154"/>
                </a:lnTo>
                <a:lnTo>
                  <a:pt x="35219" y="27338"/>
                </a:lnTo>
                <a:lnTo>
                  <a:pt x="40625" y="26795"/>
                </a:lnTo>
                <a:lnTo>
                  <a:pt x="46133" y="26433"/>
                </a:lnTo>
                <a:lnTo>
                  <a:pt x="51710" y="26191"/>
                </a:lnTo>
                <a:lnTo>
                  <a:pt x="57334" y="26030"/>
                </a:lnTo>
                <a:lnTo>
                  <a:pt x="62987" y="24970"/>
                </a:lnTo>
                <a:lnTo>
                  <a:pt x="68661" y="23311"/>
                </a:lnTo>
                <a:lnTo>
                  <a:pt x="74349" y="21253"/>
                </a:lnTo>
                <a:lnTo>
                  <a:pt x="80999" y="19881"/>
                </a:lnTo>
                <a:lnTo>
                  <a:pt x="88289" y="18965"/>
                </a:lnTo>
                <a:lnTo>
                  <a:pt x="96007" y="18356"/>
                </a:lnTo>
                <a:lnTo>
                  <a:pt x="104010" y="17949"/>
                </a:lnTo>
                <a:lnTo>
                  <a:pt x="120521" y="17497"/>
                </a:lnTo>
                <a:lnTo>
                  <a:pt x="128926" y="16424"/>
                </a:lnTo>
                <a:lnTo>
                  <a:pt x="137386" y="14756"/>
                </a:lnTo>
                <a:lnTo>
                  <a:pt x="145883" y="12692"/>
                </a:lnTo>
                <a:lnTo>
                  <a:pt x="153453" y="11316"/>
                </a:lnTo>
                <a:lnTo>
                  <a:pt x="160404" y="10398"/>
                </a:lnTo>
                <a:lnTo>
                  <a:pt x="166943" y="9786"/>
                </a:lnTo>
                <a:lnTo>
                  <a:pt x="174161" y="8427"/>
                </a:lnTo>
                <a:lnTo>
                  <a:pt x="181830" y="6567"/>
                </a:lnTo>
                <a:lnTo>
                  <a:pt x="189800" y="4375"/>
                </a:lnTo>
                <a:lnTo>
                  <a:pt x="197018" y="2913"/>
                </a:lnTo>
                <a:lnTo>
                  <a:pt x="203735" y="1939"/>
                </a:lnTo>
                <a:lnTo>
                  <a:pt x="210119" y="1290"/>
                </a:lnTo>
                <a:lnTo>
                  <a:pt x="216279" y="857"/>
                </a:lnTo>
                <a:lnTo>
                  <a:pt x="222291" y="568"/>
                </a:lnTo>
                <a:lnTo>
                  <a:pt x="234051" y="247"/>
                </a:lnTo>
                <a:lnTo>
                  <a:pt x="275474" y="0"/>
                </a:lnTo>
                <a:lnTo>
                  <a:pt x="278899" y="950"/>
                </a:lnTo>
                <a:lnTo>
                  <a:pt x="282135" y="2535"/>
                </a:lnTo>
                <a:lnTo>
                  <a:pt x="285246" y="4544"/>
                </a:lnTo>
                <a:lnTo>
                  <a:pt x="288271" y="5884"/>
                </a:lnTo>
                <a:lnTo>
                  <a:pt x="291241" y="6777"/>
                </a:lnTo>
                <a:lnTo>
                  <a:pt x="300038" y="85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PenAnnotation1076"/>
          <p:cNvSpPr/>
          <p:nvPr/>
        </p:nvSpPr>
        <p:spPr>
          <a:xfrm>
            <a:off x="4473720" y="4330800"/>
            <a:ext cx="234720" cy="250560"/>
          </a:xfrm>
          <a:custGeom>
            <a:avLst/>
            <a:gdLst>
              <a:gd name="textAreaLeft" fmla="*/ 0 w 234720"/>
              <a:gd name="textAreaRight" fmla="*/ 235080 w 23472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34698" h="251978">
                <a:moveTo>
                  <a:pt x="98881" y="15923"/>
                </a:moveTo>
                <a:lnTo>
                  <a:pt x="98881" y="0"/>
                </a:lnTo>
                <a:lnTo>
                  <a:pt x="98881" y="3691"/>
                </a:lnTo>
                <a:lnTo>
                  <a:pt x="97928" y="4911"/>
                </a:lnTo>
                <a:lnTo>
                  <a:pt x="96341" y="5724"/>
                </a:lnTo>
                <a:lnTo>
                  <a:pt x="94330" y="6266"/>
                </a:lnTo>
                <a:lnTo>
                  <a:pt x="89555" y="9409"/>
                </a:lnTo>
                <a:lnTo>
                  <a:pt x="84259" y="13980"/>
                </a:lnTo>
                <a:lnTo>
                  <a:pt x="78729" y="19187"/>
                </a:lnTo>
                <a:lnTo>
                  <a:pt x="54339" y="43342"/>
                </a:lnTo>
                <a:lnTo>
                  <a:pt x="51089" y="47537"/>
                </a:lnTo>
                <a:lnTo>
                  <a:pt x="47969" y="52239"/>
                </a:lnTo>
                <a:lnTo>
                  <a:pt x="44937" y="57279"/>
                </a:lnTo>
                <a:lnTo>
                  <a:pt x="41011" y="62544"/>
                </a:lnTo>
                <a:lnTo>
                  <a:pt x="36488" y="67959"/>
                </a:lnTo>
                <a:lnTo>
                  <a:pt x="27335" y="78103"/>
                </a:lnTo>
                <a:lnTo>
                  <a:pt x="20093" y="85786"/>
                </a:lnTo>
                <a:lnTo>
                  <a:pt x="16828" y="90121"/>
                </a:lnTo>
                <a:lnTo>
                  <a:pt x="13698" y="94916"/>
                </a:lnTo>
                <a:lnTo>
                  <a:pt x="10660" y="100018"/>
                </a:lnTo>
                <a:lnTo>
                  <a:pt x="8634" y="105324"/>
                </a:lnTo>
                <a:lnTo>
                  <a:pt x="7284" y="110766"/>
                </a:lnTo>
                <a:lnTo>
                  <a:pt x="6383" y="116300"/>
                </a:lnTo>
                <a:lnTo>
                  <a:pt x="4831" y="121893"/>
                </a:lnTo>
                <a:lnTo>
                  <a:pt x="2843" y="127527"/>
                </a:lnTo>
                <a:lnTo>
                  <a:pt x="566" y="133188"/>
                </a:lnTo>
                <a:lnTo>
                  <a:pt x="0" y="138868"/>
                </a:lnTo>
                <a:lnTo>
                  <a:pt x="575" y="144559"/>
                </a:lnTo>
                <a:lnTo>
                  <a:pt x="1911" y="150258"/>
                </a:lnTo>
                <a:lnTo>
                  <a:pt x="2801" y="155962"/>
                </a:lnTo>
                <a:lnTo>
                  <a:pt x="3395" y="161670"/>
                </a:lnTo>
                <a:lnTo>
                  <a:pt x="4055" y="172140"/>
                </a:lnTo>
                <a:lnTo>
                  <a:pt x="4349" y="179968"/>
                </a:lnTo>
                <a:lnTo>
                  <a:pt x="5379" y="184341"/>
                </a:lnTo>
                <a:lnTo>
                  <a:pt x="7019" y="189162"/>
                </a:lnTo>
                <a:lnTo>
                  <a:pt x="9064" y="194281"/>
                </a:lnTo>
                <a:lnTo>
                  <a:pt x="11381" y="199598"/>
                </a:lnTo>
                <a:lnTo>
                  <a:pt x="16494" y="210586"/>
                </a:lnTo>
                <a:lnTo>
                  <a:pt x="19192" y="215231"/>
                </a:lnTo>
                <a:lnTo>
                  <a:pt x="24728" y="222933"/>
                </a:lnTo>
                <a:lnTo>
                  <a:pt x="30364" y="229530"/>
                </a:lnTo>
                <a:lnTo>
                  <a:pt x="36043" y="235637"/>
                </a:lnTo>
                <a:lnTo>
                  <a:pt x="41743" y="241526"/>
                </a:lnTo>
                <a:lnTo>
                  <a:pt x="45549" y="243478"/>
                </a:lnTo>
                <a:lnTo>
                  <a:pt x="49991" y="244778"/>
                </a:lnTo>
                <a:lnTo>
                  <a:pt x="54858" y="245646"/>
                </a:lnTo>
                <a:lnTo>
                  <a:pt x="60007" y="247176"/>
                </a:lnTo>
                <a:lnTo>
                  <a:pt x="65345" y="249150"/>
                </a:lnTo>
                <a:lnTo>
                  <a:pt x="70809" y="251418"/>
                </a:lnTo>
                <a:lnTo>
                  <a:pt x="76356" y="251977"/>
                </a:lnTo>
                <a:lnTo>
                  <a:pt x="81959" y="251397"/>
                </a:lnTo>
                <a:lnTo>
                  <a:pt x="87600" y="250058"/>
                </a:lnTo>
                <a:lnTo>
                  <a:pt x="92312" y="249166"/>
                </a:lnTo>
                <a:lnTo>
                  <a:pt x="96407" y="248571"/>
                </a:lnTo>
                <a:lnTo>
                  <a:pt x="100089" y="248174"/>
                </a:lnTo>
                <a:lnTo>
                  <a:pt x="105401" y="247910"/>
                </a:lnTo>
                <a:lnTo>
                  <a:pt x="118923" y="247616"/>
                </a:lnTo>
                <a:lnTo>
                  <a:pt x="124625" y="246585"/>
                </a:lnTo>
                <a:lnTo>
                  <a:pt x="129379" y="244945"/>
                </a:lnTo>
                <a:lnTo>
                  <a:pt x="148403" y="235469"/>
                </a:lnTo>
                <a:lnTo>
                  <a:pt x="153803" y="231820"/>
                </a:lnTo>
                <a:lnTo>
                  <a:pt x="159307" y="227482"/>
                </a:lnTo>
                <a:lnTo>
                  <a:pt x="164883" y="222685"/>
                </a:lnTo>
                <a:lnTo>
                  <a:pt x="169552" y="218534"/>
                </a:lnTo>
                <a:lnTo>
                  <a:pt x="177280" y="211382"/>
                </a:lnTo>
                <a:lnTo>
                  <a:pt x="191536" y="197450"/>
                </a:lnTo>
                <a:lnTo>
                  <a:pt x="195894" y="192186"/>
                </a:lnTo>
                <a:lnTo>
                  <a:pt x="199751" y="186772"/>
                </a:lnTo>
                <a:lnTo>
                  <a:pt x="203275" y="181257"/>
                </a:lnTo>
                <a:lnTo>
                  <a:pt x="206577" y="175676"/>
                </a:lnTo>
                <a:lnTo>
                  <a:pt x="209731" y="170050"/>
                </a:lnTo>
                <a:lnTo>
                  <a:pt x="215775" y="158719"/>
                </a:lnTo>
                <a:lnTo>
                  <a:pt x="221636" y="147333"/>
                </a:lnTo>
                <a:lnTo>
                  <a:pt x="223580" y="141630"/>
                </a:lnTo>
                <a:lnTo>
                  <a:pt x="224876" y="135922"/>
                </a:lnTo>
                <a:lnTo>
                  <a:pt x="225740" y="130213"/>
                </a:lnTo>
                <a:lnTo>
                  <a:pt x="227269" y="124501"/>
                </a:lnTo>
                <a:lnTo>
                  <a:pt x="229240" y="118789"/>
                </a:lnTo>
                <a:lnTo>
                  <a:pt x="231507" y="113075"/>
                </a:lnTo>
                <a:lnTo>
                  <a:pt x="233018" y="107361"/>
                </a:lnTo>
                <a:lnTo>
                  <a:pt x="234025" y="101647"/>
                </a:lnTo>
                <a:lnTo>
                  <a:pt x="234697" y="95933"/>
                </a:lnTo>
                <a:lnTo>
                  <a:pt x="234192" y="90218"/>
                </a:lnTo>
                <a:lnTo>
                  <a:pt x="232904" y="84503"/>
                </a:lnTo>
                <a:lnTo>
                  <a:pt x="231092" y="78788"/>
                </a:lnTo>
                <a:lnTo>
                  <a:pt x="229884" y="74025"/>
                </a:lnTo>
                <a:lnTo>
                  <a:pt x="228542" y="66194"/>
                </a:lnTo>
                <a:lnTo>
                  <a:pt x="227232" y="61819"/>
                </a:lnTo>
                <a:lnTo>
                  <a:pt x="225405" y="56998"/>
                </a:lnTo>
                <a:lnTo>
                  <a:pt x="223236" y="51879"/>
                </a:lnTo>
                <a:lnTo>
                  <a:pt x="219884" y="47514"/>
                </a:lnTo>
                <a:lnTo>
                  <a:pt x="215745" y="43651"/>
                </a:lnTo>
                <a:lnTo>
                  <a:pt x="211080" y="40124"/>
                </a:lnTo>
                <a:lnTo>
                  <a:pt x="206065" y="36819"/>
                </a:lnTo>
                <a:lnTo>
                  <a:pt x="200817" y="33664"/>
                </a:lnTo>
                <a:lnTo>
                  <a:pt x="195413" y="30608"/>
                </a:lnTo>
                <a:lnTo>
                  <a:pt x="190858" y="28570"/>
                </a:lnTo>
                <a:lnTo>
                  <a:pt x="186869" y="27212"/>
                </a:lnTo>
                <a:lnTo>
                  <a:pt x="183257" y="26307"/>
                </a:lnTo>
                <a:lnTo>
                  <a:pt x="178944" y="25703"/>
                </a:lnTo>
                <a:lnTo>
                  <a:pt x="174164" y="25300"/>
                </a:lnTo>
                <a:lnTo>
                  <a:pt x="169072" y="25032"/>
                </a:lnTo>
                <a:lnTo>
                  <a:pt x="158334" y="24734"/>
                </a:lnTo>
                <a:lnTo>
                  <a:pt x="106919" y="24509"/>
                </a:lnTo>
                <a:lnTo>
                  <a:pt x="98524" y="25457"/>
                </a:lnTo>
                <a:lnTo>
                  <a:pt x="90071" y="27042"/>
                </a:lnTo>
                <a:lnTo>
                  <a:pt x="81577" y="29051"/>
                </a:lnTo>
                <a:lnTo>
                  <a:pt x="74010" y="30390"/>
                </a:lnTo>
                <a:lnTo>
                  <a:pt x="67060" y="31283"/>
                </a:lnTo>
                <a:lnTo>
                  <a:pt x="60522" y="31878"/>
                </a:lnTo>
                <a:lnTo>
                  <a:pt x="54258" y="33227"/>
                </a:lnTo>
                <a:lnTo>
                  <a:pt x="48177" y="35079"/>
                </a:lnTo>
                <a:lnTo>
                  <a:pt x="42218" y="37266"/>
                </a:lnTo>
                <a:lnTo>
                  <a:pt x="36341" y="39677"/>
                </a:lnTo>
                <a:lnTo>
                  <a:pt x="30517" y="42237"/>
                </a:lnTo>
                <a:lnTo>
                  <a:pt x="13156" y="502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PenAnnotation1077"/>
          <p:cNvSpPr/>
          <p:nvPr/>
        </p:nvSpPr>
        <p:spPr>
          <a:xfrm>
            <a:off x="700200" y="5014800"/>
            <a:ext cx="1231920" cy="6048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230807" h="59978">
                <a:moveTo>
                  <a:pt x="4939" y="59977"/>
                </a:moveTo>
                <a:lnTo>
                  <a:pt x="0" y="59977"/>
                </a:lnTo>
                <a:lnTo>
                  <a:pt x="9416" y="59977"/>
                </a:lnTo>
                <a:lnTo>
                  <a:pt x="10781" y="59024"/>
                </a:lnTo>
                <a:lnTo>
                  <a:pt x="11691" y="57437"/>
                </a:lnTo>
                <a:lnTo>
                  <a:pt x="13405" y="51757"/>
                </a:lnTo>
                <a:lnTo>
                  <a:pt x="50672" y="51405"/>
                </a:lnTo>
                <a:lnTo>
                  <a:pt x="60424" y="51404"/>
                </a:lnTo>
                <a:lnTo>
                  <a:pt x="63837" y="50452"/>
                </a:lnTo>
                <a:lnTo>
                  <a:pt x="68017" y="48864"/>
                </a:lnTo>
                <a:lnTo>
                  <a:pt x="72708" y="46854"/>
                </a:lnTo>
                <a:lnTo>
                  <a:pt x="76788" y="45513"/>
                </a:lnTo>
                <a:lnTo>
                  <a:pt x="83862" y="44023"/>
                </a:lnTo>
                <a:lnTo>
                  <a:pt x="106549" y="42936"/>
                </a:lnTo>
                <a:lnTo>
                  <a:pt x="110779" y="41949"/>
                </a:lnTo>
                <a:lnTo>
                  <a:pt x="114552" y="40338"/>
                </a:lnTo>
                <a:lnTo>
                  <a:pt x="118019" y="38312"/>
                </a:lnTo>
                <a:lnTo>
                  <a:pt x="122236" y="36961"/>
                </a:lnTo>
                <a:lnTo>
                  <a:pt x="132001" y="35460"/>
                </a:lnTo>
                <a:lnTo>
                  <a:pt x="157695" y="34365"/>
                </a:lnTo>
                <a:lnTo>
                  <a:pt x="162974" y="33377"/>
                </a:lnTo>
                <a:lnTo>
                  <a:pt x="168398" y="31766"/>
                </a:lnTo>
                <a:lnTo>
                  <a:pt x="173919" y="29740"/>
                </a:lnTo>
                <a:lnTo>
                  <a:pt x="178552" y="28389"/>
                </a:lnTo>
                <a:lnTo>
                  <a:pt x="186240" y="26888"/>
                </a:lnTo>
                <a:lnTo>
                  <a:pt x="222351" y="25757"/>
                </a:lnTo>
                <a:lnTo>
                  <a:pt x="233647" y="25718"/>
                </a:lnTo>
                <a:lnTo>
                  <a:pt x="239326" y="24755"/>
                </a:lnTo>
                <a:lnTo>
                  <a:pt x="245017" y="23161"/>
                </a:lnTo>
                <a:lnTo>
                  <a:pt x="250716" y="21145"/>
                </a:lnTo>
                <a:lnTo>
                  <a:pt x="255468" y="19802"/>
                </a:lnTo>
                <a:lnTo>
                  <a:pt x="263288" y="18309"/>
                </a:lnTo>
                <a:lnTo>
                  <a:pt x="299497" y="17184"/>
                </a:lnTo>
                <a:lnTo>
                  <a:pt x="310796" y="17145"/>
                </a:lnTo>
                <a:lnTo>
                  <a:pt x="316476" y="16182"/>
                </a:lnTo>
                <a:lnTo>
                  <a:pt x="322168" y="14588"/>
                </a:lnTo>
                <a:lnTo>
                  <a:pt x="327867" y="12572"/>
                </a:lnTo>
                <a:lnTo>
                  <a:pt x="333572" y="11229"/>
                </a:lnTo>
                <a:lnTo>
                  <a:pt x="344991" y="9736"/>
                </a:lnTo>
                <a:lnTo>
                  <a:pt x="379272" y="8646"/>
                </a:lnTo>
                <a:lnTo>
                  <a:pt x="384987" y="7659"/>
                </a:lnTo>
                <a:lnTo>
                  <a:pt x="390702" y="6048"/>
                </a:lnTo>
                <a:lnTo>
                  <a:pt x="396417" y="4022"/>
                </a:lnTo>
                <a:lnTo>
                  <a:pt x="402132" y="2671"/>
                </a:lnTo>
                <a:lnTo>
                  <a:pt x="413562" y="1170"/>
                </a:lnTo>
                <a:lnTo>
                  <a:pt x="451239" y="16"/>
                </a:lnTo>
                <a:lnTo>
                  <a:pt x="456777" y="0"/>
                </a:lnTo>
                <a:lnTo>
                  <a:pt x="462374" y="942"/>
                </a:lnTo>
                <a:lnTo>
                  <a:pt x="468011" y="2523"/>
                </a:lnTo>
                <a:lnTo>
                  <a:pt x="473674" y="4529"/>
                </a:lnTo>
                <a:lnTo>
                  <a:pt x="479354" y="5867"/>
                </a:lnTo>
                <a:lnTo>
                  <a:pt x="490745" y="7353"/>
                </a:lnTo>
                <a:lnTo>
                  <a:pt x="525007" y="8437"/>
                </a:lnTo>
                <a:lnTo>
                  <a:pt x="636726" y="8542"/>
                </a:lnTo>
                <a:lnTo>
                  <a:pt x="642348" y="9494"/>
                </a:lnTo>
                <a:lnTo>
                  <a:pt x="648001" y="11082"/>
                </a:lnTo>
                <a:lnTo>
                  <a:pt x="653674" y="13093"/>
                </a:lnTo>
                <a:lnTo>
                  <a:pt x="659362" y="14433"/>
                </a:lnTo>
                <a:lnTo>
                  <a:pt x="670761" y="15923"/>
                </a:lnTo>
                <a:lnTo>
                  <a:pt x="705029" y="17009"/>
                </a:lnTo>
                <a:lnTo>
                  <a:pt x="722172" y="17083"/>
                </a:lnTo>
                <a:lnTo>
                  <a:pt x="727887" y="18046"/>
                </a:lnTo>
                <a:lnTo>
                  <a:pt x="733602" y="19640"/>
                </a:lnTo>
                <a:lnTo>
                  <a:pt x="739317" y="21656"/>
                </a:lnTo>
                <a:lnTo>
                  <a:pt x="745031" y="22999"/>
                </a:lnTo>
                <a:lnTo>
                  <a:pt x="756461" y="24492"/>
                </a:lnTo>
                <a:lnTo>
                  <a:pt x="790751" y="25582"/>
                </a:lnTo>
                <a:lnTo>
                  <a:pt x="881027" y="25686"/>
                </a:lnTo>
                <a:lnTo>
                  <a:pt x="888083" y="26639"/>
                </a:lnTo>
                <a:lnTo>
                  <a:pt x="894692" y="28226"/>
                </a:lnTo>
                <a:lnTo>
                  <a:pt x="901002" y="30238"/>
                </a:lnTo>
                <a:lnTo>
                  <a:pt x="907115" y="31578"/>
                </a:lnTo>
                <a:lnTo>
                  <a:pt x="918986" y="33068"/>
                </a:lnTo>
                <a:lnTo>
                  <a:pt x="953598" y="34155"/>
                </a:lnTo>
                <a:lnTo>
                  <a:pt x="1090896" y="34259"/>
                </a:lnTo>
                <a:lnTo>
                  <a:pt x="1096576" y="33307"/>
                </a:lnTo>
                <a:lnTo>
                  <a:pt x="1102267" y="31719"/>
                </a:lnTo>
                <a:lnTo>
                  <a:pt x="1107966" y="29709"/>
                </a:lnTo>
                <a:lnTo>
                  <a:pt x="1113670" y="28368"/>
                </a:lnTo>
                <a:lnTo>
                  <a:pt x="1125089" y="26878"/>
                </a:lnTo>
                <a:lnTo>
                  <a:pt x="1160217" y="25733"/>
                </a:lnTo>
                <a:lnTo>
                  <a:pt x="1173259" y="25696"/>
                </a:lnTo>
                <a:lnTo>
                  <a:pt x="1176249" y="24740"/>
                </a:lnTo>
                <a:lnTo>
                  <a:pt x="1179195" y="23151"/>
                </a:lnTo>
                <a:lnTo>
                  <a:pt x="1182111" y="21139"/>
                </a:lnTo>
                <a:lnTo>
                  <a:pt x="1185960" y="19797"/>
                </a:lnTo>
                <a:lnTo>
                  <a:pt x="1195317" y="18307"/>
                </a:lnTo>
                <a:lnTo>
                  <a:pt x="1230418" y="17114"/>
                </a:lnTo>
                <a:lnTo>
                  <a:pt x="1222335" y="17114"/>
                </a:lnTo>
                <a:lnTo>
                  <a:pt x="1230806" y="1711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PenAnnotation1078"/>
          <p:cNvSpPr/>
          <p:nvPr/>
        </p:nvSpPr>
        <p:spPr>
          <a:xfrm>
            <a:off x="843120" y="5460840"/>
            <a:ext cx="307800" cy="7920"/>
          </a:xfrm>
          <a:custGeom>
            <a:avLst/>
            <a:gdLst>
              <a:gd name="textAreaLeft" fmla="*/ 0 w 307800"/>
              <a:gd name="textAreaRight" fmla="*/ 308160 w 3078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308610" h="8573">
                <a:moveTo>
                  <a:pt x="8571" y="8572"/>
                </a:moveTo>
                <a:lnTo>
                  <a:pt x="30" y="31"/>
                </a:lnTo>
                <a:lnTo>
                  <a:pt x="8" y="9"/>
                </a:lnTo>
                <a:lnTo>
                  <a:pt x="0" y="7382"/>
                </a:lnTo>
                <a:lnTo>
                  <a:pt x="952" y="7779"/>
                </a:lnTo>
                <a:lnTo>
                  <a:pt x="2539" y="8044"/>
                </a:lnTo>
                <a:lnTo>
                  <a:pt x="4550" y="8220"/>
                </a:lnTo>
                <a:lnTo>
                  <a:pt x="11931" y="8468"/>
                </a:lnTo>
                <a:lnTo>
                  <a:pt x="219996" y="8572"/>
                </a:lnTo>
                <a:lnTo>
                  <a:pt x="224768" y="7620"/>
                </a:lnTo>
                <a:lnTo>
                  <a:pt x="228903" y="6033"/>
                </a:lnTo>
                <a:lnTo>
                  <a:pt x="232611" y="4022"/>
                </a:lnTo>
                <a:lnTo>
                  <a:pt x="236989" y="2681"/>
                </a:lnTo>
                <a:lnTo>
                  <a:pt x="241812" y="1788"/>
                </a:lnTo>
                <a:lnTo>
                  <a:pt x="246933" y="1191"/>
                </a:lnTo>
                <a:lnTo>
                  <a:pt x="251299" y="794"/>
                </a:lnTo>
                <a:lnTo>
                  <a:pt x="255162" y="530"/>
                </a:lnTo>
                <a:lnTo>
                  <a:pt x="258690" y="353"/>
                </a:lnTo>
                <a:lnTo>
                  <a:pt x="268207" y="105"/>
                </a:lnTo>
                <a:lnTo>
                  <a:pt x="30860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PenAnnotation1079"/>
          <p:cNvSpPr/>
          <p:nvPr/>
        </p:nvSpPr>
        <p:spPr>
          <a:xfrm>
            <a:off x="1376280" y="5237280"/>
            <a:ext cx="228600" cy="369720"/>
          </a:xfrm>
          <a:custGeom>
            <a:avLst/>
            <a:gdLst>
              <a:gd name="textAreaLeft" fmla="*/ 0 w 228600"/>
              <a:gd name="textAreaRight" fmla="*/ 228960 w 22860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29717" h="368571">
                <a:moveTo>
                  <a:pt x="161533" y="51432"/>
                </a:moveTo>
                <a:lnTo>
                  <a:pt x="161533" y="21625"/>
                </a:lnTo>
                <a:lnTo>
                  <a:pt x="160581" y="20130"/>
                </a:lnTo>
                <a:lnTo>
                  <a:pt x="158993" y="19134"/>
                </a:lnTo>
                <a:lnTo>
                  <a:pt x="156983" y="18470"/>
                </a:lnTo>
                <a:lnTo>
                  <a:pt x="155642" y="17075"/>
                </a:lnTo>
                <a:lnTo>
                  <a:pt x="154748" y="15192"/>
                </a:lnTo>
                <a:lnTo>
                  <a:pt x="154153" y="12985"/>
                </a:lnTo>
                <a:lnTo>
                  <a:pt x="152803" y="11513"/>
                </a:lnTo>
                <a:lnTo>
                  <a:pt x="150950" y="10532"/>
                </a:lnTo>
                <a:lnTo>
                  <a:pt x="148763" y="9878"/>
                </a:lnTo>
                <a:lnTo>
                  <a:pt x="147305" y="8489"/>
                </a:lnTo>
                <a:lnTo>
                  <a:pt x="146333" y="6611"/>
                </a:lnTo>
                <a:lnTo>
                  <a:pt x="145685" y="4406"/>
                </a:lnTo>
                <a:lnTo>
                  <a:pt x="144300" y="2937"/>
                </a:lnTo>
                <a:lnTo>
                  <a:pt x="142425" y="1957"/>
                </a:lnTo>
                <a:lnTo>
                  <a:pt x="140222" y="1304"/>
                </a:lnTo>
                <a:lnTo>
                  <a:pt x="136848" y="868"/>
                </a:lnTo>
                <a:lnTo>
                  <a:pt x="132694" y="578"/>
                </a:lnTo>
                <a:lnTo>
                  <a:pt x="123951" y="256"/>
                </a:lnTo>
                <a:lnTo>
                  <a:pt x="113674" y="74"/>
                </a:lnTo>
                <a:lnTo>
                  <a:pt x="82743" y="0"/>
                </a:lnTo>
                <a:lnTo>
                  <a:pt x="79479" y="951"/>
                </a:lnTo>
                <a:lnTo>
                  <a:pt x="73312" y="4549"/>
                </a:lnTo>
                <a:lnTo>
                  <a:pt x="69382" y="6841"/>
                </a:lnTo>
                <a:lnTo>
                  <a:pt x="64857" y="9323"/>
                </a:lnTo>
                <a:lnTo>
                  <a:pt x="59935" y="11929"/>
                </a:lnTo>
                <a:lnTo>
                  <a:pt x="54748" y="15572"/>
                </a:lnTo>
                <a:lnTo>
                  <a:pt x="49386" y="19905"/>
                </a:lnTo>
                <a:lnTo>
                  <a:pt x="43906" y="24699"/>
                </a:lnTo>
                <a:lnTo>
                  <a:pt x="35277" y="32566"/>
                </a:lnTo>
                <a:lnTo>
                  <a:pt x="28267" y="39237"/>
                </a:lnTo>
                <a:lnTo>
                  <a:pt x="13080" y="54189"/>
                </a:lnTo>
                <a:lnTo>
                  <a:pt x="11129" y="57080"/>
                </a:lnTo>
                <a:lnTo>
                  <a:pt x="7432" y="65700"/>
                </a:lnTo>
                <a:lnTo>
                  <a:pt x="3191" y="71426"/>
                </a:lnTo>
                <a:lnTo>
                  <a:pt x="1680" y="75239"/>
                </a:lnTo>
                <a:lnTo>
                  <a:pt x="0" y="84555"/>
                </a:lnTo>
                <a:lnTo>
                  <a:pt x="504" y="88754"/>
                </a:lnTo>
                <a:lnTo>
                  <a:pt x="1793" y="92506"/>
                </a:lnTo>
                <a:lnTo>
                  <a:pt x="4813" y="99214"/>
                </a:lnTo>
                <a:lnTo>
                  <a:pt x="6155" y="105371"/>
                </a:lnTo>
                <a:lnTo>
                  <a:pt x="9291" y="111283"/>
                </a:lnTo>
                <a:lnTo>
                  <a:pt x="11461" y="114193"/>
                </a:lnTo>
                <a:lnTo>
                  <a:pt x="13860" y="116132"/>
                </a:lnTo>
                <a:lnTo>
                  <a:pt x="16412" y="117426"/>
                </a:lnTo>
                <a:lnTo>
                  <a:pt x="19066" y="118288"/>
                </a:lnTo>
                <a:lnTo>
                  <a:pt x="24555" y="121786"/>
                </a:lnTo>
                <a:lnTo>
                  <a:pt x="30169" y="126516"/>
                </a:lnTo>
                <a:lnTo>
                  <a:pt x="35839" y="131792"/>
                </a:lnTo>
                <a:lnTo>
                  <a:pt x="44387" y="140119"/>
                </a:lnTo>
                <a:lnTo>
                  <a:pt x="48193" y="141989"/>
                </a:lnTo>
                <a:lnTo>
                  <a:pt x="52636" y="143236"/>
                </a:lnTo>
                <a:lnTo>
                  <a:pt x="57502" y="144067"/>
                </a:lnTo>
                <a:lnTo>
                  <a:pt x="62652" y="145574"/>
                </a:lnTo>
                <a:lnTo>
                  <a:pt x="67990" y="147530"/>
                </a:lnTo>
                <a:lnTo>
                  <a:pt x="73454" y="149788"/>
                </a:lnTo>
                <a:lnTo>
                  <a:pt x="79001" y="152245"/>
                </a:lnTo>
                <a:lnTo>
                  <a:pt x="90245" y="157516"/>
                </a:lnTo>
                <a:lnTo>
                  <a:pt x="107285" y="165837"/>
                </a:lnTo>
                <a:lnTo>
                  <a:pt x="112033" y="168660"/>
                </a:lnTo>
                <a:lnTo>
                  <a:pt x="116151" y="171494"/>
                </a:lnTo>
                <a:lnTo>
                  <a:pt x="119848" y="174336"/>
                </a:lnTo>
                <a:lnTo>
                  <a:pt x="124218" y="177183"/>
                </a:lnTo>
                <a:lnTo>
                  <a:pt x="129037" y="180034"/>
                </a:lnTo>
                <a:lnTo>
                  <a:pt x="134154" y="182886"/>
                </a:lnTo>
                <a:lnTo>
                  <a:pt x="138518" y="185741"/>
                </a:lnTo>
                <a:lnTo>
                  <a:pt x="142380" y="188596"/>
                </a:lnTo>
                <a:lnTo>
                  <a:pt x="145907" y="191453"/>
                </a:lnTo>
                <a:lnTo>
                  <a:pt x="150163" y="195262"/>
                </a:lnTo>
                <a:lnTo>
                  <a:pt x="159972" y="204574"/>
                </a:lnTo>
                <a:lnTo>
                  <a:pt x="171654" y="215976"/>
                </a:lnTo>
                <a:lnTo>
                  <a:pt x="178097" y="224893"/>
                </a:lnTo>
                <a:lnTo>
                  <a:pt x="184135" y="235206"/>
                </a:lnTo>
                <a:lnTo>
                  <a:pt x="189994" y="246140"/>
                </a:lnTo>
                <a:lnTo>
                  <a:pt x="193232" y="254809"/>
                </a:lnTo>
                <a:lnTo>
                  <a:pt x="194672" y="262789"/>
                </a:lnTo>
                <a:lnTo>
                  <a:pt x="195312" y="272686"/>
                </a:lnTo>
                <a:lnTo>
                  <a:pt x="195596" y="283435"/>
                </a:lnTo>
                <a:lnTo>
                  <a:pt x="195672" y="288968"/>
                </a:lnTo>
                <a:lnTo>
                  <a:pt x="193216" y="300196"/>
                </a:lnTo>
                <a:lnTo>
                  <a:pt x="189902" y="311536"/>
                </a:lnTo>
                <a:lnTo>
                  <a:pt x="188429" y="322927"/>
                </a:lnTo>
                <a:lnTo>
                  <a:pt x="186131" y="327679"/>
                </a:lnTo>
                <a:lnTo>
                  <a:pt x="182695" y="331799"/>
                </a:lnTo>
                <a:lnTo>
                  <a:pt x="178498" y="335498"/>
                </a:lnTo>
                <a:lnTo>
                  <a:pt x="171296" y="342149"/>
                </a:lnTo>
                <a:lnTo>
                  <a:pt x="168042" y="345256"/>
                </a:lnTo>
                <a:lnTo>
                  <a:pt x="163967" y="348279"/>
                </a:lnTo>
                <a:lnTo>
                  <a:pt x="159346" y="351248"/>
                </a:lnTo>
                <a:lnTo>
                  <a:pt x="154360" y="354179"/>
                </a:lnTo>
                <a:lnTo>
                  <a:pt x="150084" y="357086"/>
                </a:lnTo>
                <a:lnTo>
                  <a:pt x="146280" y="359977"/>
                </a:lnTo>
                <a:lnTo>
                  <a:pt x="142792" y="362856"/>
                </a:lnTo>
                <a:lnTo>
                  <a:pt x="138562" y="364776"/>
                </a:lnTo>
                <a:lnTo>
                  <a:pt x="133837" y="366056"/>
                </a:lnTo>
                <a:lnTo>
                  <a:pt x="128781" y="366909"/>
                </a:lnTo>
                <a:lnTo>
                  <a:pt x="124459" y="367477"/>
                </a:lnTo>
                <a:lnTo>
                  <a:pt x="120624" y="367857"/>
                </a:lnTo>
                <a:lnTo>
                  <a:pt x="113824" y="368277"/>
                </a:lnTo>
                <a:lnTo>
                  <a:pt x="107627" y="368465"/>
                </a:lnTo>
                <a:lnTo>
                  <a:pt x="94232" y="368570"/>
                </a:lnTo>
                <a:lnTo>
                  <a:pt x="89996" y="367633"/>
                </a:lnTo>
                <a:lnTo>
                  <a:pt x="86219" y="366055"/>
                </a:lnTo>
                <a:lnTo>
                  <a:pt x="79483" y="362714"/>
                </a:lnTo>
                <a:lnTo>
                  <a:pt x="73314" y="361230"/>
                </a:lnTo>
                <a:lnTo>
                  <a:pt x="69383" y="359881"/>
                </a:lnTo>
                <a:lnTo>
                  <a:pt x="64857" y="358030"/>
                </a:lnTo>
                <a:lnTo>
                  <a:pt x="59935" y="355843"/>
                </a:lnTo>
                <a:lnTo>
                  <a:pt x="56654" y="353433"/>
                </a:lnTo>
                <a:lnTo>
                  <a:pt x="54466" y="350873"/>
                </a:lnTo>
                <a:lnTo>
                  <a:pt x="53008" y="348215"/>
                </a:lnTo>
                <a:lnTo>
                  <a:pt x="46307" y="342721"/>
                </a:lnTo>
                <a:lnTo>
                  <a:pt x="41854" y="339922"/>
                </a:lnTo>
                <a:lnTo>
                  <a:pt x="38885" y="337103"/>
                </a:lnTo>
                <a:lnTo>
                  <a:pt x="36905" y="334272"/>
                </a:lnTo>
                <a:lnTo>
                  <a:pt x="35585" y="331432"/>
                </a:lnTo>
                <a:lnTo>
                  <a:pt x="34119" y="323196"/>
                </a:lnTo>
                <a:lnTo>
                  <a:pt x="33467" y="314139"/>
                </a:lnTo>
                <a:lnTo>
                  <a:pt x="33100" y="302732"/>
                </a:lnTo>
                <a:lnTo>
                  <a:pt x="33015" y="292979"/>
                </a:lnTo>
                <a:lnTo>
                  <a:pt x="35517" y="282294"/>
                </a:lnTo>
                <a:lnTo>
                  <a:pt x="39803" y="272147"/>
                </a:lnTo>
                <a:lnTo>
                  <a:pt x="47572" y="260128"/>
                </a:lnTo>
                <a:lnTo>
                  <a:pt x="53099" y="250231"/>
                </a:lnTo>
                <a:lnTo>
                  <a:pt x="55906" y="243972"/>
                </a:lnTo>
                <a:lnTo>
                  <a:pt x="58730" y="236942"/>
                </a:lnTo>
                <a:lnTo>
                  <a:pt x="61566" y="229398"/>
                </a:lnTo>
                <a:lnTo>
                  <a:pt x="65361" y="222463"/>
                </a:lnTo>
                <a:lnTo>
                  <a:pt x="69796" y="215936"/>
                </a:lnTo>
                <a:lnTo>
                  <a:pt x="74658" y="209679"/>
                </a:lnTo>
                <a:lnTo>
                  <a:pt x="79804" y="204555"/>
                </a:lnTo>
                <a:lnTo>
                  <a:pt x="85139" y="200186"/>
                </a:lnTo>
                <a:lnTo>
                  <a:pt x="90602" y="196322"/>
                </a:lnTo>
                <a:lnTo>
                  <a:pt x="96148" y="190888"/>
                </a:lnTo>
                <a:lnTo>
                  <a:pt x="101751" y="184407"/>
                </a:lnTo>
                <a:lnTo>
                  <a:pt x="107391" y="177230"/>
                </a:lnTo>
                <a:lnTo>
                  <a:pt x="113056" y="170540"/>
                </a:lnTo>
                <a:lnTo>
                  <a:pt x="118738" y="164175"/>
                </a:lnTo>
                <a:lnTo>
                  <a:pt x="124430" y="158026"/>
                </a:lnTo>
                <a:lnTo>
                  <a:pt x="130131" y="152975"/>
                </a:lnTo>
                <a:lnTo>
                  <a:pt x="135836" y="148655"/>
                </a:lnTo>
                <a:lnTo>
                  <a:pt x="141544" y="144823"/>
                </a:lnTo>
                <a:lnTo>
                  <a:pt x="147255" y="140362"/>
                </a:lnTo>
                <a:lnTo>
                  <a:pt x="152967" y="135484"/>
                </a:lnTo>
                <a:lnTo>
                  <a:pt x="158680" y="130326"/>
                </a:lnTo>
                <a:lnTo>
                  <a:pt x="163441" y="124983"/>
                </a:lnTo>
                <a:lnTo>
                  <a:pt x="167568" y="119517"/>
                </a:lnTo>
                <a:lnTo>
                  <a:pt x="171271" y="113967"/>
                </a:lnTo>
                <a:lnTo>
                  <a:pt x="175645" y="109314"/>
                </a:lnTo>
                <a:lnTo>
                  <a:pt x="180466" y="105260"/>
                </a:lnTo>
                <a:lnTo>
                  <a:pt x="185585" y="101605"/>
                </a:lnTo>
                <a:lnTo>
                  <a:pt x="189951" y="97263"/>
                </a:lnTo>
                <a:lnTo>
                  <a:pt x="193813" y="92464"/>
                </a:lnTo>
                <a:lnTo>
                  <a:pt x="200645" y="83003"/>
                </a:lnTo>
                <a:lnTo>
                  <a:pt x="206856" y="75624"/>
                </a:lnTo>
                <a:lnTo>
                  <a:pt x="212792" y="66629"/>
                </a:lnTo>
                <a:lnTo>
                  <a:pt x="217653" y="57234"/>
                </a:lnTo>
                <a:lnTo>
                  <a:pt x="221341" y="46590"/>
                </a:lnTo>
                <a:lnTo>
                  <a:pt x="227091" y="37403"/>
                </a:lnTo>
                <a:lnTo>
                  <a:pt x="228770" y="31545"/>
                </a:lnTo>
                <a:lnTo>
                  <a:pt x="229716" y="22891"/>
                </a:lnTo>
                <a:lnTo>
                  <a:pt x="228896" y="20022"/>
                </a:lnTo>
                <a:lnTo>
                  <a:pt x="225445" y="14295"/>
                </a:lnTo>
                <a:lnTo>
                  <a:pt x="220736" y="8574"/>
                </a:lnTo>
                <a:lnTo>
                  <a:pt x="218147" y="5715"/>
                </a:lnTo>
                <a:lnTo>
                  <a:pt x="215468" y="3809"/>
                </a:lnTo>
                <a:lnTo>
                  <a:pt x="209952" y="1691"/>
                </a:lnTo>
                <a:lnTo>
                  <a:pt x="204325" y="750"/>
                </a:lnTo>
                <a:lnTo>
                  <a:pt x="197503" y="146"/>
                </a:lnTo>
                <a:lnTo>
                  <a:pt x="191490" y="64"/>
                </a:lnTo>
                <a:lnTo>
                  <a:pt x="187220" y="41"/>
                </a:lnTo>
                <a:lnTo>
                  <a:pt x="183420" y="979"/>
                </a:lnTo>
                <a:lnTo>
                  <a:pt x="176658" y="4561"/>
                </a:lnTo>
                <a:lnTo>
                  <a:pt x="172569" y="6850"/>
                </a:lnTo>
                <a:lnTo>
                  <a:pt x="155919" y="15599"/>
                </a:lnTo>
                <a:lnTo>
                  <a:pt x="151736" y="18996"/>
                </a:lnTo>
                <a:lnTo>
                  <a:pt x="144388" y="2571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PenAnnotation1080"/>
          <p:cNvSpPr/>
          <p:nvPr/>
        </p:nvSpPr>
        <p:spPr>
          <a:xfrm>
            <a:off x="1965240" y="5392800"/>
            <a:ext cx="154080" cy="171360"/>
          </a:xfrm>
          <a:custGeom>
            <a:avLst/>
            <a:gdLst>
              <a:gd name="textAreaLeft" fmla="*/ 0 w 154080"/>
              <a:gd name="textAreaRight" fmla="*/ 154440 w 1540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153822" h="171410">
                <a:moveTo>
                  <a:pt x="102752" y="34290"/>
                </a:moveTo>
                <a:lnTo>
                  <a:pt x="73783" y="34290"/>
                </a:lnTo>
                <a:lnTo>
                  <a:pt x="71057" y="35243"/>
                </a:lnTo>
                <a:lnTo>
                  <a:pt x="68287" y="36830"/>
                </a:lnTo>
                <a:lnTo>
                  <a:pt x="65488" y="38841"/>
                </a:lnTo>
                <a:lnTo>
                  <a:pt x="62670" y="41134"/>
                </a:lnTo>
                <a:lnTo>
                  <a:pt x="59838" y="43615"/>
                </a:lnTo>
                <a:lnTo>
                  <a:pt x="56998" y="46222"/>
                </a:lnTo>
                <a:lnTo>
                  <a:pt x="54152" y="47960"/>
                </a:lnTo>
                <a:lnTo>
                  <a:pt x="51302" y="49118"/>
                </a:lnTo>
                <a:lnTo>
                  <a:pt x="48450" y="49891"/>
                </a:lnTo>
                <a:lnTo>
                  <a:pt x="45596" y="51357"/>
                </a:lnTo>
                <a:lnTo>
                  <a:pt x="42740" y="53289"/>
                </a:lnTo>
                <a:lnTo>
                  <a:pt x="39885" y="55528"/>
                </a:lnTo>
                <a:lnTo>
                  <a:pt x="37028" y="57974"/>
                </a:lnTo>
                <a:lnTo>
                  <a:pt x="34171" y="60557"/>
                </a:lnTo>
                <a:lnTo>
                  <a:pt x="28457" y="65967"/>
                </a:lnTo>
                <a:lnTo>
                  <a:pt x="22742" y="71546"/>
                </a:lnTo>
                <a:lnTo>
                  <a:pt x="19885" y="73415"/>
                </a:lnTo>
                <a:lnTo>
                  <a:pt x="17027" y="74661"/>
                </a:lnTo>
                <a:lnTo>
                  <a:pt x="14170" y="75491"/>
                </a:lnTo>
                <a:lnTo>
                  <a:pt x="12265" y="76998"/>
                </a:lnTo>
                <a:lnTo>
                  <a:pt x="10995" y="78955"/>
                </a:lnTo>
                <a:lnTo>
                  <a:pt x="10148" y="81211"/>
                </a:lnTo>
                <a:lnTo>
                  <a:pt x="8631" y="84621"/>
                </a:lnTo>
                <a:lnTo>
                  <a:pt x="4406" y="93489"/>
                </a:lnTo>
                <a:lnTo>
                  <a:pt x="2898" y="97569"/>
                </a:lnTo>
                <a:lnTo>
                  <a:pt x="1893" y="101241"/>
                </a:lnTo>
                <a:lnTo>
                  <a:pt x="1223" y="104642"/>
                </a:lnTo>
                <a:lnTo>
                  <a:pt x="776" y="107861"/>
                </a:lnTo>
                <a:lnTo>
                  <a:pt x="478" y="110960"/>
                </a:lnTo>
                <a:lnTo>
                  <a:pt x="280" y="113978"/>
                </a:lnTo>
                <a:lnTo>
                  <a:pt x="147" y="116943"/>
                </a:lnTo>
                <a:lnTo>
                  <a:pt x="0" y="122777"/>
                </a:lnTo>
                <a:lnTo>
                  <a:pt x="913" y="126619"/>
                </a:lnTo>
                <a:lnTo>
                  <a:pt x="2475" y="131086"/>
                </a:lnTo>
                <a:lnTo>
                  <a:pt x="4468" y="135968"/>
                </a:lnTo>
                <a:lnTo>
                  <a:pt x="6750" y="140175"/>
                </a:lnTo>
                <a:lnTo>
                  <a:pt x="9223" y="143933"/>
                </a:lnTo>
                <a:lnTo>
                  <a:pt x="11824" y="147390"/>
                </a:lnTo>
                <a:lnTo>
                  <a:pt x="14511" y="149695"/>
                </a:lnTo>
                <a:lnTo>
                  <a:pt x="17255" y="151232"/>
                </a:lnTo>
                <a:lnTo>
                  <a:pt x="20037" y="152256"/>
                </a:lnTo>
                <a:lnTo>
                  <a:pt x="22844" y="153892"/>
                </a:lnTo>
                <a:lnTo>
                  <a:pt x="25667" y="155934"/>
                </a:lnTo>
                <a:lnTo>
                  <a:pt x="28502" y="158249"/>
                </a:lnTo>
                <a:lnTo>
                  <a:pt x="31345" y="160745"/>
                </a:lnTo>
                <a:lnTo>
                  <a:pt x="34193" y="163361"/>
                </a:lnTo>
                <a:lnTo>
                  <a:pt x="37043" y="166057"/>
                </a:lnTo>
                <a:lnTo>
                  <a:pt x="39896" y="167855"/>
                </a:lnTo>
                <a:lnTo>
                  <a:pt x="42751" y="169053"/>
                </a:lnTo>
                <a:lnTo>
                  <a:pt x="45606" y="169852"/>
                </a:lnTo>
                <a:lnTo>
                  <a:pt x="49415" y="170385"/>
                </a:lnTo>
                <a:lnTo>
                  <a:pt x="53859" y="170740"/>
                </a:lnTo>
                <a:lnTo>
                  <a:pt x="62925" y="171135"/>
                </a:lnTo>
                <a:lnTo>
                  <a:pt x="73383" y="171357"/>
                </a:lnTo>
                <a:lnTo>
                  <a:pt x="79539" y="171409"/>
                </a:lnTo>
                <a:lnTo>
                  <a:pt x="82515" y="170470"/>
                </a:lnTo>
                <a:lnTo>
                  <a:pt x="85450" y="168891"/>
                </a:lnTo>
                <a:lnTo>
                  <a:pt x="88360" y="166887"/>
                </a:lnTo>
                <a:lnTo>
                  <a:pt x="92205" y="165551"/>
                </a:lnTo>
                <a:lnTo>
                  <a:pt x="96673" y="164660"/>
                </a:lnTo>
                <a:lnTo>
                  <a:pt x="101557" y="164065"/>
                </a:lnTo>
                <a:lnTo>
                  <a:pt x="105766" y="162717"/>
                </a:lnTo>
                <a:lnTo>
                  <a:pt x="109524" y="160866"/>
                </a:lnTo>
                <a:lnTo>
                  <a:pt x="112982" y="158679"/>
                </a:lnTo>
                <a:lnTo>
                  <a:pt x="116240" y="155316"/>
                </a:lnTo>
                <a:lnTo>
                  <a:pt x="119364" y="151169"/>
                </a:lnTo>
                <a:lnTo>
                  <a:pt x="122399" y="146500"/>
                </a:lnTo>
                <a:lnTo>
                  <a:pt x="125375" y="142434"/>
                </a:lnTo>
                <a:lnTo>
                  <a:pt x="128312" y="138771"/>
                </a:lnTo>
                <a:lnTo>
                  <a:pt x="131222" y="135376"/>
                </a:lnTo>
                <a:lnTo>
                  <a:pt x="134115" y="130256"/>
                </a:lnTo>
                <a:lnTo>
                  <a:pt x="136996" y="123985"/>
                </a:lnTo>
                <a:lnTo>
                  <a:pt x="139869" y="116947"/>
                </a:lnTo>
                <a:lnTo>
                  <a:pt x="141784" y="110350"/>
                </a:lnTo>
                <a:lnTo>
                  <a:pt x="143061" y="104046"/>
                </a:lnTo>
                <a:lnTo>
                  <a:pt x="143912" y="97939"/>
                </a:lnTo>
                <a:lnTo>
                  <a:pt x="144480" y="91963"/>
                </a:lnTo>
                <a:lnTo>
                  <a:pt x="144858" y="86074"/>
                </a:lnTo>
                <a:lnTo>
                  <a:pt x="145110" y="80242"/>
                </a:lnTo>
                <a:lnTo>
                  <a:pt x="146231" y="74450"/>
                </a:lnTo>
                <a:lnTo>
                  <a:pt x="147931" y="68683"/>
                </a:lnTo>
                <a:lnTo>
                  <a:pt x="150016" y="62934"/>
                </a:lnTo>
                <a:lnTo>
                  <a:pt x="151407" y="58149"/>
                </a:lnTo>
                <a:lnTo>
                  <a:pt x="152334" y="54006"/>
                </a:lnTo>
                <a:lnTo>
                  <a:pt x="152951" y="50291"/>
                </a:lnTo>
                <a:lnTo>
                  <a:pt x="153364" y="45910"/>
                </a:lnTo>
                <a:lnTo>
                  <a:pt x="153638" y="41084"/>
                </a:lnTo>
                <a:lnTo>
                  <a:pt x="153821" y="35962"/>
                </a:lnTo>
                <a:lnTo>
                  <a:pt x="152991" y="32547"/>
                </a:lnTo>
                <a:lnTo>
                  <a:pt x="151485" y="30271"/>
                </a:lnTo>
                <a:lnTo>
                  <a:pt x="149528" y="28753"/>
                </a:lnTo>
                <a:lnTo>
                  <a:pt x="148224" y="26788"/>
                </a:lnTo>
                <a:lnTo>
                  <a:pt x="146774" y="22066"/>
                </a:lnTo>
                <a:lnTo>
                  <a:pt x="143590" y="16793"/>
                </a:lnTo>
                <a:lnTo>
                  <a:pt x="141408" y="14052"/>
                </a:lnTo>
                <a:lnTo>
                  <a:pt x="139000" y="12226"/>
                </a:lnTo>
                <a:lnTo>
                  <a:pt x="136443" y="11008"/>
                </a:lnTo>
                <a:lnTo>
                  <a:pt x="133785" y="10196"/>
                </a:lnTo>
                <a:lnTo>
                  <a:pt x="131061" y="9655"/>
                </a:lnTo>
                <a:lnTo>
                  <a:pt x="128292" y="9294"/>
                </a:lnTo>
                <a:lnTo>
                  <a:pt x="121556" y="8716"/>
                </a:lnTo>
                <a:lnTo>
                  <a:pt x="118094" y="8636"/>
                </a:lnTo>
                <a:lnTo>
                  <a:pt x="104340" y="8576"/>
                </a:lnTo>
                <a:lnTo>
                  <a:pt x="103811" y="7623"/>
                </a:lnTo>
                <a:lnTo>
                  <a:pt x="103458" y="6034"/>
                </a:lnTo>
                <a:lnTo>
                  <a:pt x="10275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PenAnnotation1081"/>
          <p:cNvSpPr/>
          <p:nvPr/>
        </p:nvSpPr>
        <p:spPr>
          <a:xfrm>
            <a:off x="2136600" y="5280120"/>
            <a:ext cx="378000" cy="249120"/>
          </a:xfrm>
          <a:custGeom>
            <a:avLst/>
            <a:gdLst>
              <a:gd name="textAreaLeft" fmla="*/ 0 w 378000"/>
              <a:gd name="textAreaRight" fmla="*/ 378360 w 3780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377192" h="248448">
                <a:moveTo>
                  <a:pt x="0" y="77000"/>
                </a:moveTo>
                <a:lnTo>
                  <a:pt x="28693" y="77000"/>
                </a:lnTo>
                <a:lnTo>
                  <a:pt x="36883" y="79540"/>
                </a:lnTo>
                <a:lnTo>
                  <a:pt x="45920" y="82892"/>
                </a:lnTo>
                <a:lnTo>
                  <a:pt x="57315" y="85730"/>
                </a:lnTo>
                <a:lnTo>
                  <a:pt x="67066" y="89771"/>
                </a:lnTo>
                <a:lnTo>
                  <a:pt x="71381" y="93134"/>
                </a:lnTo>
                <a:lnTo>
                  <a:pt x="75210" y="97281"/>
                </a:lnTo>
                <a:lnTo>
                  <a:pt x="78715" y="101950"/>
                </a:lnTo>
                <a:lnTo>
                  <a:pt x="85150" y="109679"/>
                </a:lnTo>
                <a:lnTo>
                  <a:pt x="91185" y="117242"/>
                </a:lnTo>
                <a:lnTo>
                  <a:pt x="94127" y="121925"/>
                </a:lnTo>
                <a:lnTo>
                  <a:pt x="97042" y="126953"/>
                </a:lnTo>
                <a:lnTo>
                  <a:pt x="99937" y="131257"/>
                </a:lnTo>
                <a:lnTo>
                  <a:pt x="105694" y="138579"/>
                </a:lnTo>
                <a:lnTo>
                  <a:pt x="108563" y="142818"/>
                </a:lnTo>
                <a:lnTo>
                  <a:pt x="111428" y="147548"/>
                </a:lnTo>
                <a:lnTo>
                  <a:pt x="114291" y="152607"/>
                </a:lnTo>
                <a:lnTo>
                  <a:pt x="120011" y="163308"/>
                </a:lnTo>
                <a:lnTo>
                  <a:pt x="140018" y="202764"/>
                </a:lnTo>
                <a:lnTo>
                  <a:pt x="141923" y="207515"/>
                </a:lnTo>
                <a:lnTo>
                  <a:pt x="143193" y="211636"/>
                </a:lnTo>
                <a:lnTo>
                  <a:pt x="144604" y="218753"/>
                </a:lnTo>
                <a:lnTo>
                  <a:pt x="145231" y="225091"/>
                </a:lnTo>
                <a:lnTo>
                  <a:pt x="146351" y="228115"/>
                </a:lnTo>
                <a:lnTo>
                  <a:pt x="150135" y="234015"/>
                </a:lnTo>
                <a:lnTo>
                  <a:pt x="152452" y="239812"/>
                </a:lnTo>
                <a:lnTo>
                  <a:pt x="153070" y="242691"/>
                </a:lnTo>
                <a:lnTo>
                  <a:pt x="152529" y="244611"/>
                </a:lnTo>
                <a:lnTo>
                  <a:pt x="151216" y="245891"/>
                </a:lnTo>
                <a:lnTo>
                  <a:pt x="145828" y="248406"/>
                </a:lnTo>
                <a:lnTo>
                  <a:pt x="136420" y="248444"/>
                </a:lnTo>
                <a:lnTo>
                  <a:pt x="133810" y="248447"/>
                </a:lnTo>
                <a:lnTo>
                  <a:pt x="132069" y="247495"/>
                </a:lnTo>
                <a:lnTo>
                  <a:pt x="130909" y="245908"/>
                </a:lnTo>
                <a:lnTo>
                  <a:pt x="130135" y="243898"/>
                </a:lnTo>
                <a:lnTo>
                  <a:pt x="124495" y="236518"/>
                </a:lnTo>
                <a:lnTo>
                  <a:pt x="123002" y="232875"/>
                </a:lnTo>
                <a:lnTo>
                  <a:pt x="122006" y="228542"/>
                </a:lnTo>
                <a:lnTo>
                  <a:pt x="121343" y="223748"/>
                </a:lnTo>
                <a:lnTo>
                  <a:pt x="119948" y="218647"/>
                </a:lnTo>
                <a:lnTo>
                  <a:pt x="118065" y="213341"/>
                </a:lnTo>
                <a:lnTo>
                  <a:pt x="115858" y="207899"/>
                </a:lnTo>
                <a:lnTo>
                  <a:pt x="114386" y="202366"/>
                </a:lnTo>
                <a:lnTo>
                  <a:pt x="113405" y="196773"/>
                </a:lnTo>
                <a:lnTo>
                  <a:pt x="112751" y="191139"/>
                </a:lnTo>
                <a:lnTo>
                  <a:pt x="112315" y="184525"/>
                </a:lnTo>
                <a:lnTo>
                  <a:pt x="112025" y="177258"/>
                </a:lnTo>
                <a:lnTo>
                  <a:pt x="111831" y="169556"/>
                </a:lnTo>
                <a:lnTo>
                  <a:pt x="112654" y="161564"/>
                </a:lnTo>
                <a:lnTo>
                  <a:pt x="114155" y="153379"/>
                </a:lnTo>
                <a:lnTo>
                  <a:pt x="116109" y="145064"/>
                </a:lnTo>
                <a:lnTo>
                  <a:pt x="118363" y="136664"/>
                </a:lnTo>
                <a:lnTo>
                  <a:pt x="123409" y="119710"/>
                </a:lnTo>
                <a:lnTo>
                  <a:pt x="125135" y="111188"/>
                </a:lnTo>
                <a:lnTo>
                  <a:pt x="126286" y="102650"/>
                </a:lnTo>
                <a:lnTo>
                  <a:pt x="127053" y="94100"/>
                </a:lnTo>
                <a:lnTo>
                  <a:pt x="129470" y="86495"/>
                </a:lnTo>
                <a:lnTo>
                  <a:pt x="132986" y="79520"/>
                </a:lnTo>
                <a:lnTo>
                  <a:pt x="137235" y="72965"/>
                </a:lnTo>
                <a:lnTo>
                  <a:pt x="141972" y="66690"/>
                </a:lnTo>
                <a:lnTo>
                  <a:pt x="147036" y="60602"/>
                </a:lnTo>
                <a:lnTo>
                  <a:pt x="152317" y="54638"/>
                </a:lnTo>
                <a:lnTo>
                  <a:pt x="156790" y="48757"/>
                </a:lnTo>
                <a:lnTo>
                  <a:pt x="160724" y="42932"/>
                </a:lnTo>
                <a:lnTo>
                  <a:pt x="164300" y="37142"/>
                </a:lnTo>
                <a:lnTo>
                  <a:pt x="169541" y="32331"/>
                </a:lnTo>
                <a:lnTo>
                  <a:pt x="175892" y="28171"/>
                </a:lnTo>
                <a:lnTo>
                  <a:pt x="182984" y="24444"/>
                </a:lnTo>
                <a:lnTo>
                  <a:pt x="193404" y="17765"/>
                </a:lnTo>
                <a:lnTo>
                  <a:pt x="197516" y="14650"/>
                </a:lnTo>
                <a:lnTo>
                  <a:pt x="203115" y="11621"/>
                </a:lnTo>
                <a:lnTo>
                  <a:pt x="209705" y="8649"/>
                </a:lnTo>
                <a:lnTo>
                  <a:pt x="216956" y="5715"/>
                </a:lnTo>
                <a:lnTo>
                  <a:pt x="223695" y="3759"/>
                </a:lnTo>
                <a:lnTo>
                  <a:pt x="230093" y="2455"/>
                </a:lnTo>
                <a:lnTo>
                  <a:pt x="236263" y="1586"/>
                </a:lnTo>
                <a:lnTo>
                  <a:pt x="242281" y="1007"/>
                </a:lnTo>
                <a:lnTo>
                  <a:pt x="254048" y="362"/>
                </a:lnTo>
                <a:lnTo>
                  <a:pt x="268168" y="77"/>
                </a:lnTo>
                <a:lnTo>
                  <a:pt x="275934" y="0"/>
                </a:lnTo>
                <a:lnTo>
                  <a:pt x="283016" y="902"/>
                </a:lnTo>
                <a:lnTo>
                  <a:pt x="289643" y="2455"/>
                </a:lnTo>
                <a:lnTo>
                  <a:pt x="295965" y="4444"/>
                </a:lnTo>
                <a:lnTo>
                  <a:pt x="303038" y="5769"/>
                </a:lnTo>
                <a:lnTo>
                  <a:pt x="310610" y="6653"/>
                </a:lnTo>
                <a:lnTo>
                  <a:pt x="318516" y="7242"/>
                </a:lnTo>
                <a:lnTo>
                  <a:pt x="325692" y="7635"/>
                </a:lnTo>
                <a:lnTo>
                  <a:pt x="338745" y="8071"/>
                </a:lnTo>
                <a:lnTo>
                  <a:pt x="345845" y="9140"/>
                </a:lnTo>
                <a:lnTo>
                  <a:pt x="353436" y="10805"/>
                </a:lnTo>
                <a:lnTo>
                  <a:pt x="377191" y="1699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PenAnnotation1082"/>
          <p:cNvSpPr/>
          <p:nvPr/>
        </p:nvSpPr>
        <p:spPr>
          <a:xfrm>
            <a:off x="2608200" y="4861080"/>
            <a:ext cx="1200240" cy="680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1198877" h="68581">
                <a:moveTo>
                  <a:pt x="0" y="68580"/>
                </a:moveTo>
                <a:lnTo>
                  <a:pt x="15923" y="68580"/>
                </a:lnTo>
                <a:lnTo>
                  <a:pt x="17283" y="67628"/>
                </a:lnTo>
                <a:lnTo>
                  <a:pt x="19142" y="66040"/>
                </a:lnTo>
                <a:lnTo>
                  <a:pt x="21334" y="64030"/>
                </a:lnTo>
                <a:lnTo>
                  <a:pt x="23747" y="62688"/>
                </a:lnTo>
                <a:lnTo>
                  <a:pt x="28969" y="61199"/>
                </a:lnTo>
                <a:lnTo>
                  <a:pt x="63223" y="60078"/>
                </a:lnTo>
                <a:lnTo>
                  <a:pt x="185809" y="60008"/>
                </a:lnTo>
                <a:lnTo>
                  <a:pt x="195311" y="59055"/>
                </a:lnTo>
                <a:lnTo>
                  <a:pt x="204502" y="57468"/>
                </a:lnTo>
                <a:lnTo>
                  <a:pt x="213487" y="55457"/>
                </a:lnTo>
                <a:lnTo>
                  <a:pt x="222335" y="54116"/>
                </a:lnTo>
                <a:lnTo>
                  <a:pt x="249392" y="52229"/>
                </a:lnTo>
                <a:lnTo>
                  <a:pt x="281116" y="51671"/>
                </a:lnTo>
                <a:lnTo>
                  <a:pt x="314645" y="50552"/>
                </a:lnTo>
                <a:lnTo>
                  <a:pt x="325969" y="48942"/>
                </a:lnTo>
                <a:lnTo>
                  <a:pt x="337327" y="46915"/>
                </a:lnTo>
                <a:lnTo>
                  <a:pt x="348710" y="45564"/>
                </a:lnTo>
                <a:lnTo>
                  <a:pt x="371517" y="44063"/>
                </a:lnTo>
                <a:lnTo>
                  <a:pt x="382933" y="42711"/>
                </a:lnTo>
                <a:lnTo>
                  <a:pt x="394354" y="40856"/>
                </a:lnTo>
                <a:lnTo>
                  <a:pt x="405777" y="38667"/>
                </a:lnTo>
                <a:lnTo>
                  <a:pt x="418156" y="37209"/>
                </a:lnTo>
                <a:lnTo>
                  <a:pt x="444610" y="35587"/>
                </a:lnTo>
                <a:lnTo>
                  <a:pt x="481727" y="34674"/>
                </a:lnTo>
                <a:lnTo>
                  <a:pt x="494506" y="33594"/>
                </a:lnTo>
                <a:lnTo>
                  <a:pt x="507788" y="31921"/>
                </a:lnTo>
                <a:lnTo>
                  <a:pt x="521406" y="29853"/>
                </a:lnTo>
                <a:lnTo>
                  <a:pt x="535246" y="28474"/>
                </a:lnTo>
                <a:lnTo>
                  <a:pt x="563325" y="26943"/>
                </a:lnTo>
                <a:lnTo>
                  <a:pt x="577480" y="25582"/>
                </a:lnTo>
                <a:lnTo>
                  <a:pt x="591679" y="23722"/>
                </a:lnTo>
                <a:lnTo>
                  <a:pt x="605908" y="21530"/>
                </a:lnTo>
                <a:lnTo>
                  <a:pt x="620156" y="20068"/>
                </a:lnTo>
                <a:lnTo>
                  <a:pt x="648687" y="18444"/>
                </a:lnTo>
                <a:lnTo>
                  <a:pt x="677243" y="17723"/>
                </a:lnTo>
                <a:lnTo>
                  <a:pt x="705809" y="16449"/>
                </a:lnTo>
                <a:lnTo>
                  <a:pt x="720095" y="14776"/>
                </a:lnTo>
                <a:lnTo>
                  <a:pt x="734381" y="12709"/>
                </a:lnTo>
                <a:lnTo>
                  <a:pt x="749620" y="11330"/>
                </a:lnTo>
                <a:lnTo>
                  <a:pt x="781792" y="9798"/>
                </a:lnTo>
                <a:lnTo>
                  <a:pt x="827484" y="8936"/>
                </a:lnTo>
                <a:lnTo>
                  <a:pt x="871184" y="8681"/>
                </a:lnTo>
                <a:lnTo>
                  <a:pt x="885590" y="7692"/>
                </a:lnTo>
                <a:lnTo>
                  <a:pt x="899955" y="6080"/>
                </a:lnTo>
                <a:lnTo>
                  <a:pt x="914296" y="4054"/>
                </a:lnTo>
                <a:lnTo>
                  <a:pt x="928618" y="2703"/>
                </a:lnTo>
                <a:lnTo>
                  <a:pt x="957231" y="1202"/>
                </a:lnTo>
                <a:lnTo>
                  <a:pt x="985824" y="534"/>
                </a:lnTo>
                <a:lnTo>
                  <a:pt x="1180906" y="0"/>
                </a:lnTo>
                <a:lnTo>
                  <a:pt x="1184463" y="953"/>
                </a:lnTo>
                <a:lnTo>
                  <a:pt x="1186834" y="2540"/>
                </a:lnTo>
                <a:lnTo>
                  <a:pt x="1190640" y="7381"/>
                </a:lnTo>
                <a:lnTo>
                  <a:pt x="1191905" y="7778"/>
                </a:lnTo>
                <a:lnTo>
                  <a:pt x="1198876" y="8468"/>
                </a:lnTo>
                <a:lnTo>
                  <a:pt x="1191578" y="85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PenAnnotation1083"/>
          <p:cNvSpPr/>
          <p:nvPr/>
        </p:nvSpPr>
        <p:spPr>
          <a:xfrm>
            <a:off x="2617920" y="5332320"/>
            <a:ext cx="325440" cy="66600"/>
          </a:xfrm>
          <a:custGeom>
            <a:avLst/>
            <a:gdLst>
              <a:gd name="textAreaLeft" fmla="*/ 0 w 325440"/>
              <a:gd name="textAreaRight" fmla="*/ 325800 w 3254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25754" h="67389">
                <a:moveTo>
                  <a:pt x="17142" y="60007"/>
                </a:moveTo>
                <a:lnTo>
                  <a:pt x="0" y="60007"/>
                </a:lnTo>
                <a:lnTo>
                  <a:pt x="20397" y="60007"/>
                </a:lnTo>
                <a:lnTo>
                  <a:pt x="22170" y="60960"/>
                </a:lnTo>
                <a:lnTo>
                  <a:pt x="23352" y="62547"/>
                </a:lnTo>
                <a:lnTo>
                  <a:pt x="24140" y="64558"/>
                </a:lnTo>
                <a:lnTo>
                  <a:pt x="25617" y="65899"/>
                </a:lnTo>
                <a:lnTo>
                  <a:pt x="27555" y="66792"/>
                </a:lnTo>
                <a:lnTo>
                  <a:pt x="29799" y="67388"/>
                </a:lnTo>
                <a:lnTo>
                  <a:pt x="37373" y="65510"/>
                </a:lnTo>
                <a:lnTo>
                  <a:pt x="42059" y="63676"/>
                </a:lnTo>
                <a:lnTo>
                  <a:pt x="49807" y="61637"/>
                </a:lnTo>
                <a:lnTo>
                  <a:pt x="57377" y="60732"/>
                </a:lnTo>
                <a:lnTo>
                  <a:pt x="67092" y="60329"/>
                </a:lnTo>
                <a:lnTo>
                  <a:pt x="83272" y="60103"/>
                </a:lnTo>
                <a:lnTo>
                  <a:pt x="88851" y="59118"/>
                </a:lnTo>
                <a:lnTo>
                  <a:pt x="94476" y="57510"/>
                </a:lnTo>
                <a:lnTo>
                  <a:pt x="100130" y="55485"/>
                </a:lnTo>
                <a:lnTo>
                  <a:pt x="105805" y="54134"/>
                </a:lnTo>
                <a:lnTo>
                  <a:pt x="111493" y="53234"/>
                </a:lnTo>
                <a:lnTo>
                  <a:pt x="117191" y="52634"/>
                </a:lnTo>
                <a:lnTo>
                  <a:pt x="122894" y="51282"/>
                </a:lnTo>
                <a:lnTo>
                  <a:pt x="128601" y="49428"/>
                </a:lnTo>
                <a:lnTo>
                  <a:pt x="134311" y="47239"/>
                </a:lnTo>
                <a:lnTo>
                  <a:pt x="140022" y="44828"/>
                </a:lnTo>
                <a:lnTo>
                  <a:pt x="145735" y="42268"/>
                </a:lnTo>
                <a:lnTo>
                  <a:pt x="151448" y="39608"/>
                </a:lnTo>
                <a:lnTo>
                  <a:pt x="158115" y="36883"/>
                </a:lnTo>
                <a:lnTo>
                  <a:pt x="165417" y="34114"/>
                </a:lnTo>
                <a:lnTo>
                  <a:pt x="173142" y="31315"/>
                </a:lnTo>
                <a:lnTo>
                  <a:pt x="180197" y="29449"/>
                </a:lnTo>
                <a:lnTo>
                  <a:pt x="186806" y="28205"/>
                </a:lnTo>
                <a:lnTo>
                  <a:pt x="193116" y="27376"/>
                </a:lnTo>
                <a:lnTo>
                  <a:pt x="200181" y="25870"/>
                </a:lnTo>
                <a:lnTo>
                  <a:pt x="207748" y="23914"/>
                </a:lnTo>
                <a:lnTo>
                  <a:pt x="215650" y="21658"/>
                </a:lnTo>
                <a:lnTo>
                  <a:pt x="221871" y="20154"/>
                </a:lnTo>
                <a:lnTo>
                  <a:pt x="231323" y="18482"/>
                </a:lnTo>
                <a:lnTo>
                  <a:pt x="236129" y="17084"/>
                </a:lnTo>
                <a:lnTo>
                  <a:pt x="241239" y="15199"/>
                </a:lnTo>
                <a:lnTo>
                  <a:pt x="246550" y="12990"/>
                </a:lnTo>
                <a:lnTo>
                  <a:pt x="251996" y="11517"/>
                </a:lnTo>
                <a:lnTo>
                  <a:pt x="257531" y="10536"/>
                </a:lnTo>
                <a:lnTo>
                  <a:pt x="263127" y="9881"/>
                </a:lnTo>
                <a:lnTo>
                  <a:pt x="271884" y="9154"/>
                </a:lnTo>
                <a:lnTo>
                  <a:pt x="278951" y="8830"/>
                </a:lnTo>
                <a:lnTo>
                  <a:pt x="285267" y="8687"/>
                </a:lnTo>
                <a:lnTo>
                  <a:pt x="288284" y="7696"/>
                </a:lnTo>
                <a:lnTo>
                  <a:pt x="291249" y="6083"/>
                </a:lnTo>
                <a:lnTo>
                  <a:pt x="294177" y="4056"/>
                </a:lnTo>
                <a:lnTo>
                  <a:pt x="297082" y="2704"/>
                </a:lnTo>
                <a:lnTo>
                  <a:pt x="302850" y="1201"/>
                </a:lnTo>
                <a:lnTo>
                  <a:pt x="311452" y="356"/>
                </a:lnTo>
                <a:lnTo>
                  <a:pt x="321228" y="31"/>
                </a:lnTo>
                <a:lnTo>
                  <a:pt x="32575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PenAnnotation1084"/>
          <p:cNvSpPr/>
          <p:nvPr/>
        </p:nvSpPr>
        <p:spPr>
          <a:xfrm>
            <a:off x="2943360" y="5162400"/>
            <a:ext cx="420480" cy="427320"/>
          </a:xfrm>
          <a:custGeom>
            <a:avLst/>
            <a:gdLst>
              <a:gd name="textAreaLeft" fmla="*/ 0 w 420480"/>
              <a:gd name="textAreaRight" fmla="*/ 420840 w 42048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420040" h="427315">
                <a:moveTo>
                  <a:pt x="51422" y="67271"/>
                </a:moveTo>
                <a:lnTo>
                  <a:pt x="44041" y="67271"/>
                </a:lnTo>
                <a:lnTo>
                  <a:pt x="47753" y="67271"/>
                </a:lnTo>
                <a:lnTo>
                  <a:pt x="48976" y="66318"/>
                </a:lnTo>
                <a:lnTo>
                  <a:pt x="49791" y="64731"/>
                </a:lnTo>
                <a:lnTo>
                  <a:pt x="50334" y="62720"/>
                </a:lnTo>
                <a:lnTo>
                  <a:pt x="52602" y="60427"/>
                </a:lnTo>
                <a:lnTo>
                  <a:pt x="64895" y="52649"/>
                </a:lnTo>
                <a:lnTo>
                  <a:pt x="75190" y="47120"/>
                </a:lnTo>
                <a:lnTo>
                  <a:pt x="87145" y="38652"/>
                </a:lnTo>
                <a:lnTo>
                  <a:pt x="96720" y="30110"/>
                </a:lnTo>
                <a:lnTo>
                  <a:pt x="105209" y="24402"/>
                </a:lnTo>
                <a:lnTo>
                  <a:pt x="110140" y="21547"/>
                </a:lnTo>
                <a:lnTo>
                  <a:pt x="120699" y="18374"/>
                </a:lnTo>
                <a:lnTo>
                  <a:pt x="131741" y="16011"/>
                </a:lnTo>
                <a:lnTo>
                  <a:pt x="142999" y="11786"/>
                </a:lnTo>
                <a:lnTo>
                  <a:pt x="154353" y="9273"/>
                </a:lnTo>
                <a:lnTo>
                  <a:pt x="165749" y="7204"/>
                </a:lnTo>
                <a:lnTo>
                  <a:pt x="177164" y="3109"/>
                </a:lnTo>
                <a:lnTo>
                  <a:pt x="189749" y="0"/>
                </a:lnTo>
                <a:lnTo>
                  <a:pt x="198943" y="1812"/>
                </a:lnTo>
                <a:lnTo>
                  <a:pt x="209379" y="4841"/>
                </a:lnTo>
                <a:lnTo>
                  <a:pt x="220368" y="6187"/>
                </a:lnTo>
                <a:lnTo>
                  <a:pt x="225012" y="7498"/>
                </a:lnTo>
                <a:lnTo>
                  <a:pt x="237053" y="13894"/>
                </a:lnTo>
                <a:lnTo>
                  <a:pt x="246954" y="19101"/>
                </a:lnTo>
                <a:lnTo>
                  <a:pt x="258688" y="27386"/>
                </a:lnTo>
                <a:lnTo>
                  <a:pt x="261037" y="30203"/>
                </a:lnTo>
                <a:lnTo>
                  <a:pt x="262602" y="33035"/>
                </a:lnTo>
                <a:lnTo>
                  <a:pt x="267346" y="44109"/>
                </a:lnTo>
                <a:lnTo>
                  <a:pt x="272165" y="53167"/>
                </a:lnTo>
                <a:lnTo>
                  <a:pt x="277482" y="60367"/>
                </a:lnTo>
                <a:lnTo>
                  <a:pt x="279281" y="64573"/>
                </a:lnTo>
                <a:lnTo>
                  <a:pt x="281280" y="74327"/>
                </a:lnTo>
                <a:lnTo>
                  <a:pt x="284708" y="85012"/>
                </a:lnTo>
                <a:lnTo>
                  <a:pt x="286956" y="90528"/>
                </a:lnTo>
                <a:lnTo>
                  <a:pt x="288454" y="97063"/>
                </a:lnTo>
                <a:lnTo>
                  <a:pt x="289454" y="104277"/>
                </a:lnTo>
                <a:lnTo>
                  <a:pt x="290120" y="111944"/>
                </a:lnTo>
                <a:lnTo>
                  <a:pt x="290564" y="118960"/>
                </a:lnTo>
                <a:lnTo>
                  <a:pt x="291057" y="131836"/>
                </a:lnTo>
                <a:lnTo>
                  <a:pt x="290236" y="138889"/>
                </a:lnTo>
                <a:lnTo>
                  <a:pt x="288736" y="146449"/>
                </a:lnTo>
                <a:lnTo>
                  <a:pt x="286784" y="154346"/>
                </a:lnTo>
                <a:lnTo>
                  <a:pt x="284530" y="161516"/>
                </a:lnTo>
                <a:lnTo>
                  <a:pt x="274068" y="189251"/>
                </a:lnTo>
                <a:lnTo>
                  <a:pt x="262829" y="221964"/>
                </a:lnTo>
                <a:lnTo>
                  <a:pt x="259988" y="229454"/>
                </a:lnTo>
                <a:lnTo>
                  <a:pt x="257141" y="236353"/>
                </a:lnTo>
                <a:lnTo>
                  <a:pt x="254290" y="242857"/>
                </a:lnTo>
                <a:lnTo>
                  <a:pt x="251437" y="250051"/>
                </a:lnTo>
                <a:lnTo>
                  <a:pt x="245728" y="265664"/>
                </a:lnTo>
                <a:lnTo>
                  <a:pt x="241919" y="273828"/>
                </a:lnTo>
                <a:lnTo>
                  <a:pt x="237475" y="282128"/>
                </a:lnTo>
                <a:lnTo>
                  <a:pt x="232607" y="290519"/>
                </a:lnTo>
                <a:lnTo>
                  <a:pt x="224658" y="304922"/>
                </a:lnTo>
                <a:lnTo>
                  <a:pt x="214828" y="323741"/>
                </a:lnTo>
                <a:lnTo>
                  <a:pt x="207867" y="335563"/>
                </a:lnTo>
                <a:lnTo>
                  <a:pt x="198423" y="347167"/>
                </a:lnTo>
                <a:lnTo>
                  <a:pt x="187875" y="358674"/>
                </a:lnTo>
                <a:lnTo>
                  <a:pt x="177790" y="370138"/>
                </a:lnTo>
                <a:lnTo>
                  <a:pt x="170133" y="381584"/>
                </a:lnTo>
                <a:lnTo>
                  <a:pt x="161015" y="390480"/>
                </a:lnTo>
                <a:lnTo>
                  <a:pt x="151565" y="397610"/>
                </a:lnTo>
                <a:lnTo>
                  <a:pt x="139937" y="406978"/>
                </a:lnTo>
                <a:lnTo>
                  <a:pt x="130132" y="412879"/>
                </a:lnTo>
                <a:lnTo>
                  <a:pt x="118452" y="421557"/>
                </a:lnTo>
                <a:lnTo>
                  <a:pt x="114206" y="423476"/>
                </a:lnTo>
                <a:lnTo>
                  <a:pt x="104408" y="425609"/>
                </a:lnTo>
                <a:lnTo>
                  <a:pt x="93704" y="426557"/>
                </a:lnTo>
                <a:lnTo>
                  <a:pt x="83548" y="426979"/>
                </a:lnTo>
                <a:lnTo>
                  <a:pt x="71524" y="427216"/>
                </a:lnTo>
                <a:lnTo>
                  <a:pt x="24155" y="427314"/>
                </a:lnTo>
                <a:lnTo>
                  <a:pt x="20861" y="426362"/>
                </a:lnTo>
                <a:lnTo>
                  <a:pt x="14662" y="422765"/>
                </a:lnTo>
                <a:lnTo>
                  <a:pt x="1714" y="411715"/>
                </a:lnTo>
                <a:lnTo>
                  <a:pt x="1138" y="410248"/>
                </a:lnTo>
                <a:lnTo>
                  <a:pt x="328" y="403632"/>
                </a:lnTo>
                <a:lnTo>
                  <a:pt x="54" y="392863"/>
                </a:lnTo>
                <a:lnTo>
                  <a:pt x="0" y="381563"/>
                </a:lnTo>
                <a:lnTo>
                  <a:pt x="1900" y="377764"/>
                </a:lnTo>
                <a:lnTo>
                  <a:pt x="9092" y="368463"/>
                </a:lnTo>
                <a:lnTo>
                  <a:pt x="19300" y="357067"/>
                </a:lnTo>
                <a:lnTo>
                  <a:pt x="25398" y="348151"/>
                </a:lnTo>
                <a:lnTo>
                  <a:pt x="28357" y="343107"/>
                </a:lnTo>
                <a:lnTo>
                  <a:pt x="36726" y="334962"/>
                </a:lnTo>
                <a:lnTo>
                  <a:pt x="47748" y="328167"/>
                </a:lnTo>
                <a:lnTo>
                  <a:pt x="54687" y="325022"/>
                </a:lnTo>
                <a:lnTo>
                  <a:pt x="62171" y="321972"/>
                </a:lnTo>
                <a:lnTo>
                  <a:pt x="69065" y="318987"/>
                </a:lnTo>
                <a:lnTo>
                  <a:pt x="81806" y="313129"/>
                </a:lnTo>
                <a:lnTo>
                  <a:pt x="88823" y="311187"/>
                </a:lnTo>
                <a:lnTo>
                  <a:pt x="96358" y="309891"/>
                </a:lnTo>
                <a:lnTo>
                  <a:pt x="104239" y="309028"/>
                </a:lnTo>
                <a:lnTo>
                  <a:pt x="111398" y="307499"/>
                </a:lnTo>
                <a:lnTo>
                  <a:pt x="124433" y="303261"/>
                </a:lnTo>
                <a:lnTo>
                  <a:pt x="131528" y="301750"/>
                </a:lnTo>
                <a:lnTo>
                  <a:pt x="139116" y="300743"/>
                </a:lnTo>
                <a:lnTo>
                  <a:pt x="147032" y="300071"/>
                </a:lnTo>
                <a:lnTo>
                  <a:pt x="155167" y="299623"/>
                </a:lnTo>
                <a:lnTo>
                  <a:pt x="171826" y="299126"/>
                </a:lnTo>
                <a:lnTo>
                  <a:pt x="181221" y="299946"/>
                </a:lnTo>
                <a:lnTo>
                  <a:pt x="191294" y="301445"/>
                </a:lnTo>
                <a:lnTo>
                  <a:pt x="201820" y="303397"/>
                </a:lnTo>
                <a:lnTo>
                  <a:pt x="223675" y="308106"/>
                </a:lnTo>
                <a:lnTo>
                  <a:pt x="234837" y="310695"/>
                </a:lnTo>
                <a:lnTo>
                  <a:pt x="244184" y="313374"/>
                </a:lnTo>
                <a:lnTo>
                  <a:pt x="252320" y="316112"/>
                </a:lnTo>
                <a:lnTo>
                  <a:pt x="259648" y="318890"/>
                </a:lnTo>
                <a:lnTo>
                  <a:pt x="275412" y="324516"/>
                </a:lnTo>
                <a:lnTo>
                  <a:pt x="283616" y="327350"/>
                </a:lnTo>
                <a:lnTo>
                  <a:pt x="291943" y="331144"/>
                </a:lnTo>
                <a:lnTo>
                  <a:pt x="300351" y="335579"/>
                </a:lnTo>
                <a:lnTo>
                  <a:pt x="308815" y="340441"/>
                </a:lnTo>
                <a:lnTo>
                  <a:pt x="317314" y="344634"/>
                </a:lnTo>
                <a:lnTo>
                  <a:pt x="325838" y="348382"/>
                </a:lnTo>
                <a:lnTo>
                  <a:pt x="334379" y="351833"/>
                </a:lnTo>
                <a:lnTo>
                  <a:pt x="341977" y="356039"/>
                </a:lnTo>
                <a:lnTo>
                  <a:pt x="348948" y="360748"/>
                </a:lnTo>
                <a:lnTo>
                  <a:pt x="361773" y="370107"/>
                </a:lnTo>
                <a:lnTo>
                  <a:pt x="373823" y="377442"/>
                </a:lnTo>
                <a:lnTo>
                  <a:pt x="386766" y="386927"/>
                </a:lnTo>
                <a:lnTo>
                  <a:pt x="399673" y="398665"/>
                </a:lnTo>
                <a:lnTo>
                  <a:pt x="412075" y="410786"/>
                </a:lnTo>
                <a:lnTo>
                  <a:pt x="419673" y="418377"/>
                </a:lnTo>
                <a:lnTo>
                  <a:pt x="420039" y="41017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PenAnnotation1085"/>
          <p:cNvSpPr/>
          <p:nvPr/>
        </p:nvSpPr>
        <p:spPr>
          <a:xfrm>
            <a:off x="5189400" y="4311720"/>
            <a:ext cx="247680" cy="574560"/>
          </a:xfrm>
          <a:custGeom>
            <a:avLst/>
            <a:gdLst>
              <a:gd name="textAreaLeft" fmla="*/ 0 w 247680"/>
              <a:gd name="textAreaRight" fmla="*/ 248040 w 24768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48600" h="574149">
                <a:moveTo>
                  <a:pt x="248599" y="8468"/>
                </a:moveTo>
                <a:lnTo>
                  <a:pt x="240380" y="8468"/>
                </a:lnTo>
                <a:lnTo>
                  <a:pt x="232677" y="1087"/>
                </a:lnTo>
                <a:lnTo>
                  <a:pt x="229457" y="425"/>
                </a:lnTo>
                <a:lnTo>
                  <a:pt x="222290" y="52"/>
                </a:lnTo>
                <a:lnTo>
                  <a:pt x="219630" y="0"/>
                </a:lnTo>
                <a:lnTo>
                  <a:pt x="216903" y="917"/>
                </a:lnTo>
                <a:lnTo>
                  <a:pt x="211334" y="4477"/>
                </a:lnTo>
                <a:lnTo>
                  <a:pt x="205685" y="6694"/>
                </a:lnTo>
                <a:lnTo>
                  <a:pt x="198847" y="8117"/>
                </a:lnTo>
                <a:lnTo>
                  <a:pt x="192832" y="10852"/>
                </a:lnTo>
                <a:lnTo>
                  <a:pt x="188561" y="12915"/>
                </a:lnTo>
                <a:lnTo>
                  <a:pt x="181276" y="15207"/>
                </a:lnTo>
                <a:lnTo>
                  <a:pt x="177999" y="15818"/>
                </a:lnTo>
                <a:lnTo>
                  <a:pt x="171819" y="19037"/>
                </a:lnTo>
                <a:lnTo>
                  <a:pt x="165897" y="23642"/>
                </a:lnTo>
                <a:lnTo>
                  <a:pt x="160090" y="28864"/>
                </a:lnTo>
                <a:lnTo>
                  <a:pt x="156256" y="31590"/>
                </a:lnTo>
                <a:lnTo>
                  <a:pt x="151794" y="34360"/>
                </a:lnTo>
                <a:lnTo>
                  <a:pt x="146915" y="37160"/>
                </a:lnTo>
                <a:lnTo>
                  <a:pt x="142710" y="39978"/>
                </a:lnTo>
                <a:lnTo>
                  <a:pt x="135497" y="45650"/>
                </a:lnTo>
                <a:lnTo>
                  <a:pt x="131287" y="49448"/>
                </a:lnTo>
                <a:lnTo>
                  <a:pt x="121531" y="58749"/>
                </a:lnTo>
                <a:lnTo>
                  <a:pt x="95842" y="84104"/>
                </a:lnTo>
                <a:lnTo>
                  <a:pt x="91516" y="89372"/>
                </a:lnTo>
                <a:lnTo>
                  <a:pt x="84170" y="100305"/>
                </a:lnTo>
                <a:lnTo>
                  <a:pt x="77729" y="111514"/>
                </a:lnTo>
                <a:lnTo>
                  <a:pt x="70740" y="122846"/>
                </a:lnTo>
                <a:lnTo>
                  <a:pt x="66208" y="128535"/>
                </a:lnTo>
                <a:lnTo>
                  <a:pt x="61283" y="134233"/>
                </a:lnTo>
                <a:lnTo>
                  <a:pt x="57047" y="139936"/>
                </a:lnTo>
                <a:lnTo>
                  <a:pt x="49800" y="151353"/>
                </a:lnTo>
                <a:lnTo>
                  <a:pt x="43404" y="162777"/>
                </a:lnTo>
                <a:lnTo>
                  <a:pt x="34448" y="179919"/>
                </a:lnTo>
                <a:lnTo>
                  <a:pt x="22889" y="202778"/>
                </a:lnTo>
                <a:lnTo>
                  <a:pt x="17156" y="216748"/>
                </a:lnTo>
                <a:lnTo>
                  <a:pt x="12385" y="231529"/>
                </a:lnTo>
                <a:lnTo>
                  <a:pt x="10265" y="244448"/>
                </a:lnTo>
                <a:lnTo>
                  <a:pt x="6783" y="259081"/>
                </a:lnTo>
                <a:lnTo>
                  <a:pt x="3013" y="274156"/>
                </a:lnTo>
                <a:lnTo>
                  <a:pt x="1337" y="287207"/>
                </a:lnTo>
                <a:lnTo>
                  <a:pt x="592" y="301897"/>
                </a:lnTo>
                <a:lnTo>
                  <a:pt x="173" y="323692"/>
                </a:lnTo>
                <a:lnTo>
                  <a:pt x="0" y="390985"/>
                </a:lnTo>
                <a:lnTo>
                  <a:pt x="2538" y="405171"/>
                </a:lnTo>
                <a:lnTo>
                  <a:pt x="5888" y="420048"/>
                </a:lnTo>
                <a:lnTo>
                  <a:pt x="7378" y="433009"/>
                </a:lnTo>
                <a:lnTo>
                  <a:pt x="10580" y="445120"/>
                </a:lnTo>
                <a:lnTo>
                  <a:pt x="17737" y="462649"/>
                </a:lnTo>
                <a:lnTo>
                  <a:pt x="22168" y="473216"/>
                </a:lnTo>
                <a:lnTo>
                  <a:pt x="24139" y="481087"/>
                </a:lnTo>
                <a:lnTo>
                  <a:pt x="30094" y="490301"/>
                </a:lnTo>
                <a:lnTo>
                  <a:pt x="37186" y="499793"/>
                </a:lnTo>
                <a:lnTo>
                  <a:pt x="43083" y="511445"/>
                </a:lnTo>
                <a:lnTo>
                  <a:pt x="46818" y="516188"/>
                </a:lnTo>
                <a:lnTo>
                  <a:pt x="51213" y="521256"/>
                </a:lnTo>
                <a:lnTo>
                  <a:pt x="58637" y="529426"/>
                </a:lnTo>
                <a:lnTo>
                  <a:pt x="61951" y="532938"/>
                </a:lnTo>
                <a:lnTo>
                  <a:pt x="65112" y="535280"/>
                </a:lnTo>
                <a:lnTo>
                  <a:pt x="71164" y="537881"/>
                </a:lnTo>
                <a:lnTo>
                  <a:pt x="73159" y="539527"/>
                </a:lnTo>
                <a:lnTo>
                  <a:pt x="74489" y="541578"/>
                </a:lnTo>
                <a:lnTo>
                  <a:pt x="75376" y="543897"/>
                </a:lnTo>
                <a:lnTo>
                  <a:pt x="77872" y="545443"/>
                </a:lnTo>
                <a:lnTo>
                  <a:pt x="81441" y="546474"/>
                </a:lnTo>
                <a:lnTo>
                  <a:pt x="85725" y="547161"/>
                </a:lnTo>
                <a:lnTo>
                  <a:pt x="93026" y="550464"/>
                </a:lnTo>
                <a:lnTo>
                  <a:pt x="100923" y="555795"/>
                </a:lnTo>
                <a:lnTo>
                  <a:pt x="106842" y="561269"/>
                </a:lnTo>
                <a:lnTo>
                  <a:pt x="109327" y="562740"/>
                </a:lnTo>
                <a:lnTo>
                  <a:pt x="114628" y="564373"/>
                </a:lnTo>
                <a:lnTo>
                  <a:pt x="120159" y="565099"/>
                </a:lnTo>
                <a:lnTo>
                  <a:pt x="125792" y="565422"/>
                </a:lnTo>
                <a:lnTo>
                  <a:pt x="135472" y="565646"/>
                </a:lnTo>
                <a:lnTo>
                  <a:pt x="136034" y="566610"/>
                </a:lnTo>
                <a:lnTo>
                  <a:pt x="136657" y="570221"/>
                </a:lnTo>
                <a:lnTo>
                  <a:pt x="137776" y="571565"/>
                </a:lnTo>
                <a:lnTo>
                  <a:pt x="139475" y="572460"/>
                </a:lnTo>
                <a:lnTo>
                  <a:pt x="143902" y="573456"/>
                </a:lnTo>
                <a:lnTo>
                  <a:pt x="150797" y="574016"/>
                </a:lnTo>
                <a:lnTo>
                  <a:pt x="152744" y="574148"/>
                </a:lnTo>
                <a:lnTo>
                  <a:pt x="153263" y="573230"/>
                </a:lnTo>
                <a:lnTo>
                  <a:pt x="154302" y="5656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PenAnnotation1086"/>
          <p:cNvSpPr/>
          <p:nvPr/>
        </p:nvSpPr>
        <p:spPr>
          <a:xfrm>
            <a:off x="6586560" y="4363920"/>
            <a:ext cx="222120" cy="527040"/>
          </a:xfrm>
          <a:custGeom>
            <a:avLst/>
            <a:gdLst>
              <a:gd name="textAreaLeft" fmla="*/ 0 w 222120"/>
              <a:gd name="textAreaRight" fmla="*/ 222480 w 22212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222478" h="527587">
                <a:moveTo>
                  <a:pt x="0" y="8570"/>
                </a:moveTo>
                <a:lnTo>
                  <a:pt x="0" y="350"/>
                </a:lnTo>
                <a:lnTo>
                  <a:pt x="6844" y="67"/>
                </a:lnTo>
                <a:lnTo>
                  <a:pt x="33170" y="0"/>
                </a:lnTo>
                <a:lnTo>
                  <a:pt x="37354" y="951"/>
                </a:lnTo>
                <a:lnTo>
                  <a:pt x="41095" y="2538"/>
                </a:lnTo>
                <a:lnTo>
                  <a:pt x="44541" y="4549"/>
                </a:lnTo>
                <a:lnTo>
                  <a:pt x="48744" y="5889"/>
                </a:lnTo>
                <a:lnTo>
                  <a:pt x="53452" y="6782"/>
                </a:lnTo>
                <a:lnTo>
                  <a:pt x="58494" y="7378"/>
                </a:lnTo>
                <a:lnTo>
                  <a:pt x="63761" y="8728"/>
                </a:lnTo>
                <a:lnTo>
                  <a:pt x="69177" y="10580"/>
                </a:lnTo>
                <a:lnTo>
                  <a:pt x="74693" y="12767"/>
                </a:lnTo>
                <a:lnTo>
                  <a:pt x="80276" y="15178"/>
                </a:lnTo>
                <a:lnTo>
                  <a:pt x="91559" y="20397"/>
                </a:lnTo>
                <a:lnTo>
                  <a:pt x="108621" y="28690"/>
                </a:lnTo>
                <a:lnTo>
                  <a:pt x="113371" y="31508"/>
                </a:lnTo>
                <a:lnTo>
                  <a:pt x="117491" y="34339"/>
                </a:lnTo>
                <a:lnTo>
                  <a:pt x="121190" y="37179"/>
                </a:lnTo>
                <a:lnTo>
                  <a:pt x="125561" y="40978"/>
                </a:lnTo>
                <a:lnTo>
                  <a:pt x="130380" y="45415"/>
                </a:lnTo>
                <a:lnTo>
                  <a:pt x="135497" y="50278"/>
                </a:lnTo>
                <a:lnTo>
                  <a:pt x="140814" y="54473"/>
                </a:lnTo>
                <a:lnTo>
                  <a:pt x="146264" y="58222"/>
                </a:lnTo>
                <a:lnTo>
                  <a:pt x="151802" y="61674"/>
                </a:lnTo>
                <a:lnTo>
                  <a:pt x="157399" y="65880"/>
                </a:lnTo>
                <a:lnTo>
                  <a:pt x="163035" y="70589"/>
                </a:lnTo>
                <a:lnTo>
                  <a:pt x="168697" y="75633"/>
                </a:lnTo>
                <a:lnTo>
                  <a:pt x="173425" y="80901"/>
                </a:lnTo>
                <a:lnTo>
                  <a:pt x="177529" y="86318"/>
                </a:lnTo>
                <a:lnTo>
                  <a:pt x="181218" y="91835"/>
                </a:lnTo>
                <a:lnTo>
                  <a:pt x="185582" y="97417"/>
                </a:lnTo>
                <a:lnTo>
                  <a:pt x="190396" y="103044"/>
                </a:lnTo>
                <a:lnTo>
                  <a:pt x="195511" y="108700"/>
                </a:lnTo>
                <a:lnTo>
                  <a:pt x="199873" y="114376"/>
                </a:lnTo>
                <a:lnTo>
                  <a:pt x="203734" y="120064"/>
                </a:lnTo>
                <a:lnTo>
                  <a:pt x="207260" y="125762"/>
                </a:lnTo>
                <a:lnTo>
                  <a:pt x="211179" y="137173"/>
                </a:lnTo>
                <a:lnTo>
                  <a:pt x="213872" y="149547"/>
                </a:lnTo>
                <a:lnTo>
                  <a:pt x="218245" y="164571"/>
                </a:lnTo>
                <a:lnTo>
                  <a:pt x="220822" y="180774"/>
                </a:lnTo>
                <a:lnTo>
                  <a:pt x="221510" y="189095"/>
                </a:lnTo>
                <a:lnTo>
                  <a:pt x="221969" y="197499"/>
                </a:lnTo>
                <a:lnTo>
                  <a:pt x="222477" y="214459"/>
                </a:lnTo>
                <a:lnTo>
                  <a:pt x="221661" y="222982"/>
                </a:lnTo>
                <a:lnTo>
                  <a:pt x="220164" y="231521"/>
                </a:lnTo>
                <a:lnTo>
                  <a:pt x="218214" y="240071"/>
                </a:lnTo>
                <a:lnTo>
                  <a:pt x="216913" y="248629"/>
                </a:lnTo>
                <a:lnTo>
                  <a:pt x="216047" y="257192"/>
                </a:lnTo>
                <a:lnTo>
                  <a:pt x="215468" y="265758"/>
                </a:lnTo>
                <a:lnTo>
                  <a:pt x="214130" y="274326"/>
                </a:lnTo>
                <a:lnTo>
                  <a:pt x="212286" y="282895"/>
                </a:lnTo>
                <a:lnTo>
                  <a:pt x="210104" y="291466"/>
                </a:lnTo>
                <a:lnTo>
                  <a:pt x="206745" y="300037"/>
                </a:lnTo>
                <a:lnTo>
                  <a:pt x="202599" y="308609"/>
                </a:lnTo>
                <a:lnTo>
                  <a:pt x="197931" y="317181"/>
                </a:lnTo>
                <a:lnTo>
                  <a:pt x="192915" y="325753"/>
                </a:lnTo>
                <a:lnTo>
                  <a:pt x="182260" y="342898"/>
                </a:lnTo>
                <a:lnTo>
                  <a:pt x="177704" y="351470"/>
                </a:lnTo>
                <a:lnTo>
                  <a:pt x="173714" y="360042"/>
                </a:lnTo>
                <a:lnTo>
                  <a:pt x="170102" y="368615"/>
                </a:lnTo>
                <a:lnTo>
                  <a:pt x="165789" y="377187"/>
                </a:lnTo>
                <a:lnTo>
                  <a:pt x="161009" y="385760"/>
                </a:lnTo>
                <a:lnTo>
                  <a:pt x="155917" y="394332"/>
                </a:lnTo>
                <a:lnTo>
                  <a:pt x="145179" y="411477"/>
                </a:lnTo>
                <a:lnTo>
                  <a:pt x="139649" y="420049"/>
                </a:lnTo>
                <a:lnTo>
                  <a:pt x="135009" y="427670"/>
                </a:lnTo>
                <a:lnTo>
                  <a:pt x="130963" y="434655"/>
                </a:lnTo>
                <a:lnTo>
                  <a:pt x="127314" y="441217"/>
                </a:lnTo>
                <a:lnTo>
                  <a:pt x="122976" y="448448"/>
                </a:lnTo>
                <a:lnTo>
                  <a:pt x="113076" y="464103"/>
                </a:lnTo>
                <a:lnTo>
                  <a:pt x="107769" y="470374"/>
                </a:lnTo>
                <a:lnTo>
                  <a:pt x="102326" y="475507"/>
                </a:lnTo>
                <a:lnTo>
                  <a:pt x="96793" y="479881"/>
                </a:lnTo>
                <a:lnTo>
                  <a:pt x="91198" y="484702"/>
                </a:lnTo>
                <a:lnTo>
                  <a:pt x="85564" y="489822"/>
                </a:lnTo>
                <a:lnTo>
                  <a:pt x="79903" y="495139"/>
                </a:lnTo>
                <a:lnTo>
                  <a:pt x="74223" y="499637"/>
                </a:lnTo>
                <a:lnTo>
                  <a:pt x="68532" y="503587"/>
                </a:lnTo>
                <a:lnTo>
                  <a:pt x="62833" y="507174"/>
                </a:lnTo>
                <a:lnTo>
                  <a:pt x="58082" y="509565"/>
                </a:lnTo>
                <a:lnTo>
                  <a:pt x="53961" y="511159"/>
                </a:lnTo>
                <a:lnTo>
                  <a:pt x="50261" y="512222"/>
                </a:lnTo>
                <a:lnTo>
                  <a:pt x="43611" y="515942"/>
                </a:lnTo>
                <a:lnTo>
                  <a:pt x="36131" y="521541"/>
                </a:lnTo>
                <a:lnTo>
                  <a:pt x="30285" y="527062"/>
                </a:lnTo>
                <a:lnTo>
                  <a:pt x="28762" y="527586"/>
                </a:lnTo>
                <a:lnTo>
                  <a:pt x="27748" y="526984"/>
                </a:lnTo>
                <a:lnTo>
                  <a:pt x="27071" y="525629"/>
                </a:lnTo>
                <a:lnTo>
                  <a:pt x="25667" y="524726"/>
                </a:lnTo>
                <a:lnTo>
                  <a:pt x="19110" y="523276"/>
                </a:lnTo>
                <a:lnTo>
                  <a:pt x="17145" y="5229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PenAnnotation1087"/>
          <p:cNvSpPr/>
          <p:nvPr/>
        </p:nvSpPr>
        <p:spPr>
          <a:xfrm>
            <a:off x="6929280" y="4303800"/>
            <a:ext cx="274680" cy="565200"/>
          </a:xfrm>
          <a:custGeom>
            <a:avLst/>
            <a:gdLst>
              <a:gd name="textAreaLeft" fmla="*/ 0 w 274680"/>
              <a:gd name="textAreaRight" fmla="*/ 275040 w 27468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274307" h="565392">
                <a:moveTo>
                  <a:pt x="248589" y="8541"/>
                </a:moveTo>
                <a:lnTo>
                  <a:pt x="248589" y="322"/>
                </a:lnTo>
                <a:lnTo>
                  <a:pt x="241208" y="0"/>
                </a:lnTo>
                <a:lnTo>
                  <a:pt x="235819" y="4529"/>
                </a:lnTo>
                <a:lnTo>
                  <a:pt x="234360" y="6819"/>
                </a:lnTo>
                <a:lnTo>
                  <a:pt x="232739" y="11903"/>
                </a:lnTo>
                <a:lnTo>
                  <a:pt x="230403" y="14592"/>
                </a:lnTo>
                <a:lnTo>
                  <a:pt x="218011" y="23881"/>
                </a:lnTo>
                <a:lnTo>
                  <a:pt x="212964" y="28292"/>
                </a:lnTo>
                <a:lnTo>
                  <a:pt x="207693" y="33139"/>
                </a:lnTo>
                <a:lnTo>
                  <a:pt x="202275" y="37322"/>
                </a:lnTo>
                <a:lnTo>
                  <a:pt x="196758" y="41063"/>
                </a:lnTo>
                <a:lnTo>
                  <a:pt x="191175" y="44510"/>
                </a:lnTo>
                <a:lnTo>
                  <a:pt x="185548" y="48713"/>
                </a:lnTo>
                <a:lnTo>
                  <a:pt x="179891" y="53420"/>
                </a:lnTo>
                <a:lnTo>
                  <a:pt x="174216" y="58463"/>
                </a:lnTo>
                <a:lnTo>
                  <a:pt x="162829" y="69146"/>
                </a:lnTo>
                <a:lnTo>
                  <a:pt x="128392" y="103094"/>
                </a:lnTo>
                <a:lnTo>
                  <a:pt x="75550" y="155865"/>
                </a:lnTo>
                <a:lnTo>
                  <a:pt x="69412" y="162955"/>
                </a:lnTo>
                <a:lnTo>
                  <a:pt x="64367" y="169586"/>
                </a:lnTo>
                <a:lnTo>
                  <a:pt x="44877" y="198468"/>
                </a:lnTo>
                <a:lnTo>
                  <a:pt x="39438" y="205644"/>
                </a:lnTo>
                <a:lnTo>
                  <a:pt x="33908" y="212333"/>
                </a:lnTo>
                <a:lnTo>
                  <a:pt x="28315" y="218697"/>
                </a:lnTo>
                <a:lnTo>
                  <a:pt x="23635" y="225798"/>
                </a:lnTo>
                <a:lnTo>
                  <a:pt x="15894" y="241307"/>
                </a:lnTo>
                <a:lnTo>
                  <a:pt x="6181" y="261553"/>
                </a:lnTo>
                <a:lnTo>
                  <a:pt x="2739" y="276249"/>
                </a:lnTo>
                <a:lnTo>
                  <a:pt x="1210" y="292305"/>
                </a:lnTo>
                <a:lnTo>
                  <a:pt x="530" y="308966"/>
                </a:lnTo>
                <a:lnTo>
                  <a:pt x="147" y="329860"/>
                </a:lnTo>
                <a:lnTo>
                  <a:pt x="0" y="372971"/>
                </a:lnTo>
                <a:lnTo>
                  <a:pt x="1901" y="379130"/>
                </a:lnTo>
                <a:lnTo>
                  <a:pt x="9092" y="391052"/>
                </a:lnTo>
                <a:lnTo>
                  <a:pt x="16098" y="402701"/>
                </a:lnTo>
                <a:lnTo>
                  <a:pt x="23340" y="414228"/>
                </a:lnTo>
                <a:lnTo>
                  <a:pt x="27938" y="419969"/>
                </a:lnTo>
                <a:lnTo>
                  <a:pt x="32908" y="425701"/>
                </a:lnTo>
                <a:lnTo>
                  <a:pt x="38126" y="431428"/>
                </a:lnTo>
                <a:lnTo>
                  <a:pt x="49005" y="442871"/>
                </a:lnTo>
                <a:lnTo>
                  <a:pt x="82893" y="477170"/>
                </a:lnTo>
                <a:lnTo>
                  <a:pt x="89547" y="481933"/>
                </a:lnTo>
                <a:lnTo>
                  <a:pt x="96841" y="486061"/>
                </a:lnTo>
                <a:lnTo>
                  <a:pt x="124528" y="499530"/>
                </a:lnTo>
                <a:lnTo>
                  <a:pt x="130639" y="503507"/>
                </a:lnTo>
                <a:lnTo>
                  <a:pt x="136618" y="508064"/>
                </a:lnTo>
                <a:lnTo>
                  <a:pt x="142509" y="513006"/>
                </a:lnTo>
                <a:lnTo>
                  <a:pt x="149294" y="517253"/>
                </a:lnTo>
                <a:lnTo>
                  <a:pt x="156675" y="521038"/>
                </a:lnTo>
                <a:lnTo>
                  <a:pt x="171543" y="527782"/>
                </a:lnTo>
                <a:lnTo>
                  <a:pt x="190624" y="536934"/>
                </a:lnTo>
                <a:lnTo>
                  <a:pt x="202507" y="542785"/>
                </a:lnTo>
                <a:lnTo>
                  <a:pt x="208342" y="544726"/>
                </a:lnTo>
                <a:lnTo>
                  <a:pt x="214138" y="546020"/>
                </a:lnTo>
                <a:lnTo>
                  <a:pt x="219907" y="546883"/>
                </a:lnTo>
                <a:lnTo>
                  <a:pt x="225657" y="548411"/>
                </a:lnTo>
                <a:lnTo>
                  <a:pt x="231396" y="550382"/>
                </a:lnTo>
                <a:lnTo>
                  <a:pt x="237127" y="552648"/>
                </a:lnTo>
                <a:lnTo>
                  <a:pt x="241900" y="554160"/>
                </a:lnTo>
                <a:lnTo>
                  <a:pt x="249744" y="555839"/>
                </a:lnTo>
                <a:lnTo>
                  <a:pt x="256404" y="556584"/>
                </a:lnTo>
                <a:lnTo>
                  <a:pt x="259514" y="556783"/>
                </a:lnTo>
                <a:lnTo>
                  <a:pt x="262540" y="557869"/>
                </a:lnTo>
                <a:lnTo>
                  <a:pt x="270397" y="562994"/>
                </a:lnTo>
                <a:lnTo>
                  <a:pt x="273791" y="565391"/>
                </a:lnTo>
                <a:lnTo>
                  <a:pt x="274077" y="563052"/>
                </a:lnTo>
                <a:lnTo>
                  <a:pt x="274306" y="5571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PenAnnotation1088"/>
          <p:cNvSpPr/>
          <p:nvPr/>
        </p:nvSpPr>
        <p:spPr>
          <a:xfrm>
            <a:off x="5403960" y="4525920"/>
            <a:ext cx="282600" cy="300240"/>
          </a:xfrm>
          <a:custGeom>
            <a:avLst/>
            <a:gdLst>
              <a:gd name="textAreaLeft" fmla="*/ 0 w 282600"/>
              <a:gd name="textAreaRight" fmla="*/ 282960 w 28260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282894" h="300039">
                <a:moveTo>
                  <a:pt x="0" y="0"/>
                </a:moveTo>
                <a:lnTo>
                  <a:pt x="7381" y="0"/>
                </a:lnTo>
                <a:lnTo>
                  <a:pt x="7778" y="953"/>
                </a:lnTo>
                <a:lnTo>
                  <a:pt x="8219" y="4552"/>
                </a:lnTo>
                <a:lnTo>
                  <a:pt x="9290" y="6844"/>
                </a:lnTo>
                <a:lnTo>
                  <a:pt x="15347" y="14623"/>
                </a:lnTo>
                <a:lnTo>
                  <a:pt x="20473" y="20152"/>
                </a:lnTo>
                <a:lnTo>
                  <a:pt x="22221" y="22959"/>
                </a:lnTo>
                <a:lnTo>
                  <a:pt x="25634" y="31462"/>
                </a:lnTo>
                <a:lnTo>
                  <a:pt x="32255" y="40014"/>
                </a:lnTo>
                <a:lnTo>
                  <a:pt x="40248" y="48581"/>
                </a:lnTo>
                <a:lnTo>
                  <a:pt x="79167" y="87736"/>
                </a:lnTo>
                <a:lnTo>
                  <a:pt x="151458" y="160031"/>
                </a:lnTo>
                <a:lnTo>
                  <a:pt x="157170" y="164790"/>
                </a:lnTo>
                <a:lnTo>
                  <a:pt x="162882" y="168916"/>
                </a:lnTo>
                <a:lnTo>
                  <a:pt x="168596" y="172618"/>
                </a:lnTo>
                <a:lnTo>
                  <a:pt x="173357" y="176992"/>
                </a:lnTo>
                <a:lnTo>
                  <a:pt x="177484" y="181812"/>
                </a:lnTo>
                <a:lnTo>
                  <a:pt x="181188" y="186931"/>
                </a:lnTo>
                <a:lnTo>
                  <a:pt x="185562" y="192248"/>
                </a:lnTo>
                <a:lnTo>
                  <a:pt x="190383" y="197698"/>
                </a:lnTo>
                <a:lnTo>
                  <a:pt x="195502" y="203236"/>
                </a:lnTo>
                <a:lnTo>
                  <a:pt x="199867" y="208834"/>
                </a:lnTo>
                <a:lnTo>
                  <a:pt x="203730" y="214470"/>
                </a:lnTo>
                <a:lnTo>
                  <a:pt x="207257" y="220133"/>
                </a:lnTo>
                <a:lnTo>
                  <a:pt x="211514" y="224860"/>
                </a:lnTo>
                <a:lnTo>
                  <a:pt x="216257" y="228965"/>
                </a:lnTo>
                <a:lnTo>
                  <a:pt x="221324" y="232654"/>
                </a:lnTo>
                <a:lnTo>
                  <a:pt x="229494" y="241832"/>
                </a:lnTo>
                <a:lnTo>
                  <a:pt x="233006" y="246947"/>
                </a:lnTo>
                <a:lnTo>
                  <a:pt x="239448" y="255170"/>
                </a:lnTo>
                <a:lnTo>
                  <a:pt x="245487" y="261999"/>
                </a:lnTo>
                <a:lnTo>
                  <a:pt x="254241" y="271199"/>
                </a:lnTo>
                <a:lnTo>
                  <a:pt x="259998" y="277061"/>
                </a:lnTo>
                <a:lnTo>
                  <a:pt x="262867" y="279005"/>
                </a:lnTo>
                <a:lnTo>
                  <a:pt x="268595" y="281165"/>
                </a:lnTo>
                <a:lnTo>
                  <a:pt x="270504" y="282693"/>
                </a:lnTo>
                <a:lnTo>
                  <a:pt x="271776" y="284665"/>
                </a:lnTo>
                <a:lnTo>
                  <a:pt x="273189" y="289396"/>
                </a:lnTo>
                <a:lnTo>
                  <a:pt x="273818" y="294673"/>
                </a:lnTo>
                <a:lnTo>
                  <a:pt x="274938" y="296461"/>
                </a:lnTo>
                <a:lnTo>
                  <a:pt x="276637" y="297654"/>
                </a:lnTo>
                <a:lnTo>
                  <a:pt x="282893" y="3000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PenAnnotation1089"/>
          <p:cNvSpPr/>
          <p:nvPr/>
        </p:nvSpPr>
        <p:spPr>
          <a:xfrm>
            <a:off x="5335560" y="451800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82894" h="274321">
                <a:moveTo>
                  <a:pt x="282893" y="0"/>
                </a:moveTo>
                <a:lnTo>
                  <a:pt x="274673" y="0"/>
                </a:lnTo>
                <a:lnTo>
                  <a:pt x="267546" y="6844"/>
                </a:lnTo>
                <a:lnTo>
                  <a:pt x="262419" y="11932"/>
                </a:lnTo>
                <a:lnTo>
                  <a:pt x="256966" y="19908"/>
                </a:lnTo>
                <a:lnTo>
                  <a:pt x="254178" y="24702"/>
                </a:lnTo>
                <a:lnTo>
                  <a:pt x="246001" y="32569"/>
                </a:lnTo>
                <a:lnTo>
                  <a:pt x="241153" y="36000"/>
                </a:lnTo>
                <a:lnTo>
                  <a:pt x="236969" y="40193"/>
                </a:lnTo>
                <a:lnTo>
                  <a:pt x="233227" y="44893"/>
                </a:lnTo>
                <a:lnTo>
                  <a:pt x="229780" y="49931"/>
                </a:lnTo>
                <a:lnTo>
                  <a:pt x="225576" y="55195"/>
                </a:lnTo>
                <a:lnTo>
                  <a:pt x="220870" y="60609"/>
                </a:lnTo>
                <a:lnTo>
                  <a:pt x="215826" y="66124"/>
                </a:lnTo>
                <a:lnTo>
                  <a:pt x="205143" y="77331"/>
                </a:lnTo>
                <a:lnTo>
                  <a:pt x="199627" y="82986"/>
                </a:lnTo>
                <a:lnTo>
                  <a:pt x="194045" y="89614"/>
                </a:lnTo>
                <a:lnTo>
                  <a:pt x="188418" y="96891"/>
                </a:lnTo>
                <a:lnTo>
                  <a:pt x="182762" y="104599"/>
                </a:lnTo>
                <a:lnTo>
                  <a:pt x="176134" y="111642"/>
                </a:lnTo>
                <a:lnTo>
                  <a:pt x="168858" y="118244"/>
                </a:lnTo>
                <a:lnTo>
                  <a:pt x="161149" y="124549"/>
                </a:lnTo>
                <a:lnTo>
                  <a:pt x="155058" y="130658"/>
                </a:lnTo>
                <a:lnTo>
                  <a:pt x="150044" y="136635"/>
                </a:lnTo>
                <a:lnTo>
                  <a:pt x="145750" y="142525"/>
                </a:lnTo>
                <a:lnTo>
                  <a:pt x="140981" y="147404"/>
                </a:lnTo>
                <a:lnTo>
                  <a:pt x="135897" y="151609"/>
                </a:lnTo>
                <a:lnTo>
                  <a:pt x="130603" y="155366"/>
                </a:lnTo>
                <a:lnTo>
                  <a:pt x="125169" y="159774"/>
                </a:lnTo>
                <a:lnTo>
                  <a:pt x="119641" y="164619"/>
                </a:lnTo>
                <a:lnTo>
                  <a:pt x="109371" y="174129"/>
                </a:lnTo>
                <a:lnTo>
                  <a:pt x="101632" y="181530"/>
                </a:lnTo>
                <a:lnTo>
                  <a:pt x="97282" y="184838"/>
                </a:lnTo>
                <a:lnTo>
                  <a:pt x="92477" y="187996"/>
                </a:lnTo>
                <a:lnTo>
                  <a:pt x="87369" y="191053"/>
                </a:lnTo>
                <a:lnTo>
                  <a:pt x="79153" y="196990"/>
                </a:lnTo>
                <a:lnTo>
                  <a:pt x="71374" y="203756"/>
                </a:lnTo>
                <a:lnTo>
                  <a:pt x="61567" y="213113"/>
                </a:lnTo>
                <a:lnTo>
                  <a:pt x="49886" y="224541"/>
                </a:lnTo>
                <a:lnTo>
                  <a:pt x="45640" y="227799"/>
                </a:lnTo>
                <a:lnTo>
                  <a:pt x="40904" y="230923"/>
                </a:lnTo>
                <a:lnTo>
                  <a:pt x="35842" y="233959"/>
                </a:lnTo>
                <a:lnTo>
                  <a:pt x="27678" y="239872"/>
                </a:lnTo>
                <a:lnTo>
                  <a:pt x="20873" y="245675"/>
                </a:lnTo>
                <a:lnTo>
                  <a:pt x="14675" y="251429"/>
                </a:lnTo>
                <a:lnTo>
                  <a:pt x="12640" y="254297"/>
                </a:lnTo>
                <a:lnTo>
                  <a:pt x="10381" y="260023"/>
                </a:lnTo>
                <a:lnTo>
                  <a:pt x="8826" y="261931"/>
                </a:lnTo>
                <a:lnTo>
                  <a:pt x="6837" y="263204"/>
                </a:lnTo>
                <a:lnTo>
                  <a:pt x="4558" y="264052"/>
                </a:lnTo>
                <a:lnTo>
                  <a:pt x="3038" y="265570"/>
                </a:lnTo>
                <a:lnTo>
                  <a:pt x="2026" y="267534"/>
                </a:lnTo>
                <a:lnTo>
                  <a:pt x="0" y="2743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PenAnnotation1090"/>
          <p:cNvSpPr/>
          <p:nvPr/>
        </p:nvSpPr>
        <p:spPr>
          <a:xfrm>
            <a:off x="7848720" y="4260960"/>
            <a:ext cx="237960" cy="574560"/>
          </a:xfrm>
          <a:custGeom>
            <a:avLst/>
            <a:gdLst>
              <a:gd name="textAreaLeft" fmla="*/ 0 w 237960"/>
              <a:gd name="textAreaRight" fmla="*/ 238320 w 23796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238795" h="574357">
                <a:moveTo>
                  <a:pt x="7381" y="0"/>
                </a:moveTo>
                <a:lnTo>
                  <a:pt x="0" y="0"/>
                </a:lnTo>
                <a:lnTo>
                  <a:pt x="6294" y="0"/>
                </a:lnTo>
                <a:lnTo>
                  <a:pt x="11610" y="4551"/>
                </a:lnTo>
                <a:lnTo>
                  <a:pt x="19217" y="11932"/>
                </a:lnTo>
                <a:lnTo>
                  <a:pt x="23845" y="13669"/>
                </a:lnTo>
                <a:lnTo>
                  <a:pt x="29786" y="14828"/>
                </a:lnTo>
                <a:lnTo>
                  <a:pt x="36605" y="15601"/>
                </a:lnTo>
                <a:lnTo>
                  <a:pt x="43057" y="17068"/>
                </a:lnTo>
                <a:lnTo>
                  <a:pt x="49262" y="18999"/>
                </a:lnTo>
                <a:lnTo>
                  <a:pt x="55304" y="21238"/>
                </a:lnTo>
                <a:lnTo>
                  <a:pt x="61238" y="23684"/>
                </a:lnTo>
                <a:lnTo>
                  <a:pt x="67098" y="26267"/>
                </a:lnTo>
                <a:lnTo>
                  <a:pt x="72910" y="28941"/>
                </a:lnTo>
                <a:lnTo>
                  <a:pt x="79641" y="32629"/>
                </a:lnTo>
                <a:lnTo>
                  <a:pt x="86987" y="36993"/>
                </a:lnTo>
                <a:lnTo>
                  <a:pt x="94742" y="41807"/>
                </a:lnTo>
                <a:lnTo>
                  <a:pt x="101817" y="45969"/>
                </a:lnTo>
                <a:lnTo>
                  <a:pt x="108439" y="49696"/>
                </a:lnTo>
                <a:lnTo>
                  <a:pt x="120876" y="56377"/>
                </a:lnTo>
                <a:lnTo>
                  <a:pt x="132753" y="62522"/>
                </a:lnTo>
                <a:lnTo>
                  <a:pt x="138588" y="66446"/>
                </a:lnTo>
                <a:lnTo>
                  <a:pt x="144382" y="70967"/>
                </a:lnTo>
                <a:lnTo>
                  <a:pt x="150150" y="75887"/>
                </a:lnTo>
                <a:lnTo>
                  <a:pt x="156853" y="81071"/>
                </a:lnTo>
                <a:lnTo>
                  <a:pt x="164179" y="86432"/>
                </a:lnTo>
                <a:lnTo>
                  <a:pt x="171920" y="91912"/>
                </a:lnTo>
                <a:lnTo>
                  <a:pt x="178034" y="98422"/>
                </a:lnTo>
                <a:lnTo>
                  <a:pt x="183062" y="105620"/>
                </a:lnTo>
                <a:lnTo>
                  <a:pt x="187367" y="113276"/>
                </a:lnTo>
                <a:lnTo>
                  <a:pt x="192142" y="120285"/>
                </a:lnTo>
                <a:lnTo>
                  <a:pt x="197229" y="126862"/>
                </a:lnTo>
                <a:lnTo>
                  <a:pt x="202527" y="133152"/>
                </a:lnTo>
                <a:lnTo>
                  <a:pt x="207011" y="140203"/>
                </a:lnTo>
                <a:lnTo>
                  <a:pt x="210953" y="147762"/>
                </a:lnTo>
                <a:lnTo>
                  <a:pt x="217873" y="163779"/>
                </a:lnTo>
                <a:lnTo>
                  <a:pt x="224122" y="180424"/>
                </a:lnTo>
                <a:lnTo>
                  <a:pt x="232996" y="205859"/>
                </a:lnTo>
                <a:lnTo>
                  <a:pt x="236243" y="222938"/>
                </a:lnTo>
                <a:lnTo>
                  <a:pt x="237684" y="240054"/>
                </a:lnTo>
                <a:lnTo>
                  <a:pt x="238326" y="257186"/>
                </a:lnTo>
                <a:lnTo>
                  <a:pt x="238687" y="282896"/>
                </a:lnTo>
                <a:lnTo>
                  <a:pt x="238794" y="313162"/>
                </a:lnTo>
                <a:lnTo>
                  <a:pt x="237856" y="323075"/>
                </a:lnTo>
                <a:lnTo>
                  <a:pt x="236279" y="332541"/>
                </a:lnTo>
                <a:lnTo>
                  <a:pt x="234275" y="341709"/>
                </a:lnTo>
                <a:lnTo>
                  <a:pt x="226968" y="359516"/>
                </a:lnTo>
                <a:lnTo>
                  <a:pt x="222352" y="368265"/>
                </a:lnTo>
                <a:lnTo>
                  <a:pt x="218323" y="377907"/>
                </a:lnTo>
                <a:lnTo>
                  <a:pt x="214683" y="388146"/>
                </a:lnTo>
                <a:lnTo>
                  <a:pt x="202000" y="427402"/>
                </a:lnTo>
                <a:lnTo>
                  <a:pt x="198087" y="436382"/>
                </a:lnTo>
                <a:lnTo>
                  <a:pt x="193573" y="445227"/>
                </a:lnTo>
                <a:lnTo>
                  <a:pt x="188659" y="453981"/>
                </a:lnTo>
                <a:lnTo>
                  <a:pt x="184430" y="462674"/>
                </a:lnTo>
                <a:lnTo>
                  <a:pt x="177193" y="479953"/>
                </a:lnTo>
                <a:lnTo>
                  <a:pt x="172976" y="487609"/>
                </a:lnTo>
                <a:lnTo>
                  <a:pt x="168260" y="494617"/>
                </a:lnTo>
                <a:lnTo>
                  <a:pt x="163212" y="501195"/>
                </a:lnTo>
                <a:lnTo>
                  <a:pt x="157941" y="507485"/>
                </a:lnTo>
                <a:lnTo>
                  <a:pt x="152521" y="513583"/>
                </a:lnTo>
                <a:lnTo>
                  <a:pt x="142373" y="524487"/>
                </a:lnTo>
                <a:lnTo>
                  <a:pt x="130352" y="536933"/>
                </a:lnTo>
                <a:lnTo>
                  <a:pt x="120455" y="546929"/>
                </a:lnTo>
                <a:lnTo>
                  <a:pt x="114786" y="555182"/>
                </a:lnTo>
                <a:lnTo>
                  <a:pt x="113276" y="558716"/>
                </a:lnTo>
                <a:lnTo>
                  <a:pt x="110362" y="561072"/>
                </a:lnTo>
                <a:lnTo>
                  <a:pt x="106516" y="562644"/>
                </a:lnTo>
                <a:lnTo>
                  <a:pt x="102045" y="563690"/>
                </a:lnTo>
                <a:lnTo>
                  <a:pt x="99066" y="565342"/>
                </a:lnTo>
                <a:lnTo>
                  <a:pt x="97080" y="567395"/>
                </a:lnTo>
                <a:lnTo>
                  <a:pt x="95754" y="569716"/>
                </a:lnTo>
                <a:lnTo>
                  <a:pt x="93919" y="571263"/>
                </a:lnTo>
                <a:lnTo>
                  <a:pt x="91744" y="572295"/>
                </a:lnTo>
                <a:lnTo>
                  <a:pt x="84541" y="574355"/>
                </a:lnTo>
                <a:lnTo>
                  <a:pt x="84539" y="574356"/>
                </a:lnTo>
                <a:lnTo>
                  <a:pt x="84536" y="574356"/>
                </a:lnTo>
                <a:lnTo>
                  <a:pt x="84533" y="5657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PenAnnotation1091"/>
          <p:cNvSpPr/>
          <p:nvPr/>
        </p:nvSpPr>
        <p:spPr>
          <a:xfrm>
            <a:off x="8224920" y="4483080"/>
            <a:ext cx="272880" cy="9720"/>
          </a:xfrm>
          <a:custGeom>
            <a:avLst/>
            <a:gdLst>
              <a:gd name="textAreaLeft" fmla="*/ 0 w 272880"/>
              <a:gd name="textAreaRight" fmla="*/ 273240 w 27288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273957" h="8574">
                <a:moveTo>
                  <a:pt x="25353" y="8573"/>
                </a:moveTo>
                <a:lnTo>
                  <a:pt x="20802" y="8573"/>
                </a:lnTo>
                <a:lnTo>
                  <a:pt x="18509" y="7620"/>
                </a:lnTo>
                <a:lnTo>
                  <a:pt x="16028" y="6033"/>
                </a:lnTo>
                <a:lnTo>
                  <a:pt x="8665" y="353"/>
                </a:lnTo>
                <a:lnTo>
                  <a:pt x="3793" y="105"/>
                </a:lnTo>
                <a:lnTo>
                  <a:pt x="0" y="10"/>
                </a:lnTo>
                <a:lnTo>
                  <a:pt x="240820" y="0"/>
                </a:lnTo>
                <a:lnTo>
                  <a:pt x="244244" y="953"/>
                </a:lnTo>
                <a:lnTo>
                  <a:pt x="247481" y="2540"/>
                </a:lnTo>
                <a:lnTo>
                  <a:pt x="250591" y="4551"/>
                </a:lnTo>
                <a:lnTo>
                  <a:pt x="253617" y="5891"/>
                </a:lnTo>
                <a:lnTo>
                  <a:pt x="256586" y="6785"/>
                </a:lnTo>
                <a:lnTo>
                  <a:pt x="263646" y="8220"/>
                </a:lnTo>
                <a:lnTo>
                  <a:pt x="269419" y="8468"/>
                </a:lnTo>
                <a:lnTo>
                  <a:pt x="273956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PenAnnotation1092"/>
          <p:cNvSpPr/>
          <p:nvPr/>
        </p:nvSpPr>
        <p:spPr>
          <a:xfrm>
            <a:off x="8232840" y="4560840"/>
            <a:ext cx="317520" cy="17640"/>
          </a:xfrm>
          <a:custGeom>
            <a:avLst/>
            <a:gdLst>
              <a:gd name="textAreaLeft" fmla="*/ 0 w 317520"/>
              <a:gd name="textAreaRight" fmla="*/ 317880 w 3175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17060" h="17146">
                <a:moveTo>
                  <a:pt x="34166" y="0"/>
                </a:moveTo>
                <a:lnTo>
                  <a:pt x="16597" y="0"/>
                </a:lnTo>
                <a:lnTo>
                  <a:pt x="13880" y="952"/>
                </a:lnTo>
                <a:lnTo>
                  <a:pt x="12070" y="2540"/>
                </a:lnTo>
                <a:lnTo>
                  <a:pt x="10863" y="4550"/>
                </a:lnTo>
                <a:lnTo>
                  <a:pt x="9105" y="5891"/>
                </a:lnTo>
                <a:lnTo>
                  <a:pt x="6981" y="6785"/>
                </a:lnTo>
                <a:lnTo>
                  <a:pt x="0" y="8541"/>
                </a:lnTo>
                <a:lnTo>
                  <a:pt x="911" y="9504"/>
                </a:lnTo>
                <a:lnTo>
                  <a:pt x="4464" y="13114"/>
                </a:lnTo>
                <a:lnTo>
                  <a:pt x="6745" y="14457"/>
                </a:lnTo>
                <a:lnTo>
                  <a:pt x="9218" y="15353"/>
                </a:lnTo>
                <a:lnTo>
                  <a:pt x="11819" y="15950"/>
                </a:lnTo>
                <a:lnTo>
                  <a:pt x="14505" y="16348"/>
                </a:lnTo>
                <a:lnTo>
                  <a:pt x="20030" y="16791"/>
                </a:lnTo>
                <a:lnTo>
                  <a:pt x="26400" y="17075"/>
                </a:lnTo>
                <a:lnTo>
                  <a:pt x="141488" y="17145"/>
                </a:lnTo>
                <a:lnTo>
                  <a:pt x="147624" y="16192"/>
                </a:lnTo>
                <a:lnTo>
                  <a:pt x="153620" y="14605"/>
                </a:lnTo>
                <a:lnTo>
                  <a:pt x="159522" y="12594"/>
                </a:lnTo>
                <a:lnTo>
                  <a:pt x="166314" y="11253"/>
                </a:lnTo>
                <a:lnTo>
                  <a:pt x="173701" y="10359"/>
                </a:lnTo>
                <a:lnTo>
                  <a:pt x="181481" y="9763"/>
                </a:lnTo>
                <a:lnTo>
                  <a:pt x="188573" y="9366"/>
                </a:lnTo>
                <a:lnTo>
                  <a:pt x="201535" y="8925"/>
                </a:lnTo>
                <a:lnTo>
                  <a:pt x="225377" y="8642"/>
                </a:lnTo>
                <a:lnTo>
                  <a:pt x="236942" y="8603"/>
                </a:lnTo>
                <a:lnTo>
                  <a:pt x="242692" y="9545"/>
                </a:lnTo>
                <a:lnTo>
                  <a:pt x="248432" y="11126"/>
                </a:lnTo>
                <a:lnTo>
                  <a:pt x="254162" y="13132"/>
                </a:lnTo>
                <a:lnTo>
                  <a:pt x="259888" y="14470"/>
                </a:lnTo>
                <a:lnTo>
                  <a:pt x="265610" y="15361"/>
                </a:lnTo>
                <a:lnTo>
                  <a:pt x="271330" y="15956"/>
                </a:lnTo>
                <a:lnTo>
                  <a:pt x="277048" y="16352"/>
                </a:lnTo>
                <a:lnTo>
                  <a:pt x="282765" y="16616"/>
                </a:lnTo>
                <a:lnTo>
                  <a:pt x="297373" y="16988"/>
                </a:lnTo>
                <a:lnTo>
                  <a:pt x="317059" y="17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PenAnnotation1093"/>
          <p:cNvSpPr/>
          <p:nvPr/>
        </p:nvSpPr>
        <p:spPr>
          <a:xfrm>
            <a:off x="8661240" y="4390920"/>
            <a:ext cx="300240" cy="324000"/>
          </a:xfrm>
          <a:custGeom>
            <a:avLst/>
            <a:gdLst>
              <a:gd name="textAreaLeft" fmla="*/ 0 w 300240"/>
              <a:gd name="textAreaRight" fmla="*/ 300240 w 30024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99871" h="324329">
                <a:moveTo>
                  <a:pt x="120001" y="32982"/>
                </a:moveTo>
                <a:lnTo>
                  <a:pt x="115450" y="28431"/>
                </a:lnTo>
                <a:lnTo>
                  <a:pt x="114110" y="26138"/>
                </a:lnTo>
                <a:lnTo>
                  <a:pt x="111782" y="17381"/>
                </a:lnTo>
                <a:lnTo>
                  <a:pt x="111460" y="8591"/>
                </a:lnTo>
                <a:lnTo>
                  <a:pt x="111432" y="0"/>
                </a:lnTo>
                <a:lnTo>
                  <a:pt x="111429" y="3630"/>
                </a:lnTo>
                <a:lnTo>
                  <a:pt x="110477" y="4842"/>
                </a:lnTo>
                <a:lnTo>
                  <a:pt x="108889" y="5649"/>
                </a:lnTo>
                <a:lnTo>
                  <a:pt x="106878" y="6187"/>
                </a:lnTo>
                <a:lnTo>
                  <a:pt x="102103" y="9325"/>
                </a:lnTo>
                <a:lnTo>
                  <a:pt x="94061" y="16447"/>
                </a:lnTo>
                <a:lnTo>
                  <a:pt x="85645" y="24590"/>
                </a:lnTo>
                <a:lnTo>
                  <a:pt x="74268" y="35875"/>
                </a:lnTo>
                <a:lnTo>
                  <a:pt x="68561" y="44110"/>
                </a:lnTo>
                <a:lnTo>
                  <a:pt x="62849" y="53168"/>
                </a:lnTo>
                <a:lnTo>
                  <a:pt x="57135" y="60368"/>
                </a:lnTo>
                <a:lnTo>
                  <a:pt x="51421" y="69283"/>
                </a:lnTo>
                <a:lnTo>
                  <a:pt x="48563" y="74328"/>
                </a:lnTo>
                <a:lnTo>
                  <a:pt x="45705" y="80548"/>
                </a:lnTo>
                <a:lnTo>
                  <a:pt x="42848" y="87553"/>
                </a:lnTo>
                <a:lnTo>
                  <a:pt x="39991" y="95080"/>
                </a:lnTo>
                <a:lnTo>
                  <a:pt x="37134" y="102003"/>
                </a:lnTo>
                <a:lnTo>
                  <a:pt x="34276" y="108524"/>
                </a:lnTo>
                <a:lnTo>
                  <a:pt x="31418" y="114776"/>
                </a:lnTo>
                <a:lnTo>
                  <a:pt x="28561" y="121801"/>
                </a:lnTo>
                <a:lnTo>
                  <a:pt x="25704" y="129342"/>
                </a:lnTo>
                <a:lnTo>
                  <a:pt x="22846" y="137227"/>
                </a:lnTo>
                <a:lnTo>
                  <a:pt x="19989" y="144388"/>
                </a:lnTo>
                <a:lnTo>
                  <a:pt x="17131" y="151068"/>
                </a:lnTo>
                <a:lnTo>
                  <a:pt x="11417" y="163569"/>
                </a:lnTo>
                <a:lnTo>
                  <a:pt x="5701" y="175475"/>
                </a:lnTo>
                <a:lnTo>
                  <a:pt x="3796" y="181318"/>
                </a:lnTo>
                <a:lnTo>
                  <a:pt x="2526" y="187117"/>
                </a:lnTo>
                <a:lnTo>
                  <a:pt x="1679" y="192889"/>
                </a:lnTo>
                <a:lnTo>
                  <a:pt x="1115" y="199594"/>
                </a:lnTo>
                <a:lnTo>
                  <a:pt x="738" y="206922"/>
                </a:lnTo>
                <a:lnTo>
                  <a:pt x="321" y="221731"/>
                </a:lnTo>
                <a:lnTo>
                  <a:pt x="15" y="252595"/>
                </a:lnTo>
                <a:lnTo>
                  <a:pt x="0" y="262668"/>
                </a:lnTo>
                <a:lnTo>
                  <a:pt x="948" y="267068"/>
                </a:lnTo>
                <a:lnTo>
                  <a:pt x="4541" y="274498"/>
                </a:lnTo>
                <a:lnTo>
                  <a:pt x="9313" y="283515"/>
                </a:lnTo>
                <a:lnTo>
                  <a:pt x="14609" y="292920"/>
                </a:lnTo>
                <a:lnTo>
                  <a:pt x="20137" y="300275"/>
                </a:lnTo>
                <a:lnTo>
                  <a:pt x="28606" y="309770"/>
                </a:lnTo>
                <a:lnTo>
                  <a:pt x="32401" y="311805"/>
                </a:lnTo>
                <a:lnTo>
                  <a:pt x="41697" y="314065"/>
                </a:lnTo>
                <a:lnTo>
                  <a:pt x="49640" y="317610"/>
                </a:lnTo>
                <a:lnTo>
                  <a:pt x="53091" y="319889"/>
                </a:lnTo>
                <a:lnTo>
                  <a:pt x="62006" y="322421"/>
                </a:lnTo>
                <a:lnTo>
                  <a:pt x="67050" y="323096"/>
                </a:lnTo>
                <a:lnTo>
                  <a:pt x="72318" y="323547"/>
                </a:lnTo>
                <a:lnTo>
                  <a:pt x="77735" y="323847"/>
                </a:lnTo>
                <a:lnTo>
                  <a:pt x="88834" y="324180"/>
                </a:lnTo>
                <a:lnTo>
                  <a:pt x="100117" y="324328"/>
                </a:lnTo>
                <a:lnTo>
                  <a:pt x="106744" y="323415"/>
                </a:lnTo>
                <a:lnTo>
                  <a:pt x="114021" y="321854"/>
                </a:lnTo>
                <a:lnTo>
                  <a:pt x="121729" y="319861"/>
                </a:lnTo>
                <a:lnTo>
                  <a:pt x="128773" y="318532"/>
                </a:lnTo>
                <a:lnTo>
                  <a:pt x="135374" y="317646"/>
                </a:lnTo>
                <a:lnTo>
                  <a:pt x="141680" y="317055"/>
                </a:lnTo>
                <a:lnTo>
                  <a:pt x="147788" y="315709"/>
                </a:lnTo>
                <a:lnTo>
                  <a:pt x="153765" y="313859"/>
                </a:lnTo>
                <a:lnTo>
                  <a:pt x="159657" y="311674"/>
                </a:lnTo>
                <a:lnTo>
                  <a:pt x="166441" y="308311"/>
                </a:lnTo>
                <a:lnTo>
                  <a:pt x="173821" y="304165"/>
                </a:lnTo>
                <a:lnTo>
                  <a:pt x="181598" y="299495"/>
                </a:lnTo>
                <a:lnTo>
                  <a:pt x="188689" y="295430"/>
                </a:lnTo>
                <a:lnTo>
                  <a:pt x="201646" y="288373"/>
                </a:lnTo>
                <a:lnTo>
                  <a:pt x="207768" y="284205"/>
                </a:lnTo>
                <a:lnTo>
                  <a:pt x="213756" y="279522"/>
                </a:lnTo>
                <a:lnTo>
                  <a:pt x="219651" y="274494"/>
                </a:lnTo>
                <a:lnTo>
                  <a:pt x="228743" y="266368"/>
                </a:lnTo>
                <a:lnTo>
                  <a:pt x="236910" y="258629"/>
                </a:lnTo>
                <a:lnTo>
                  <a:pt x="263220" y="232618"/>
                </a:lnTo>
                <a:lnTo>
                  <a:pt x="267867" y="227032"/>
                </a:lnTo>
                <a:lnTo>
                  <a:pt x="271919" y="221404"/>
                </a:lnTo>
                <a:lnTo>
                  <a:pt x="275572" y="215747"/>
                </a:lnTo>
                <a:lnTo>
                  <a:pt x="278961" y="209117"/>
                </a:lnTo>
                <a:lnTo>
                  <a:pt x="282171" y="201840"/>
                </a:lnTo>
                <a:lnTo>
                  <a:pt x="285264" y="194132"/>
                </a:lnTo>
                <a:lnTo>
                  <a:pt x="288279" y="188040"/>
                </a:lnTo>
                <a:lnTo>
                  <a:pt x="294169" y="178731"/>
                </a:lnTo>
                <a:lnTo>
                  <a:pt x="296120" y="173011"/>
                </a:lnTo>
                <a:lnTo>
                  <a:pt x="297422" y="166339"/>
                </a:lnTo>
                <a:lnTo>
                  <a:pt x="298290" y="159035"/>
                </a:lnTo>
                <a:lnTo>
                  <a:pt x="298867" y="153212"/>
                </a:lnTo>
                <a:lnTo>
                  <a:pt x="299510" y="144202"/>
                </a:lnTo>
                <a:lnTo>
                  <a:pt x="299795" y="134483"/>
                </a:lnTo>
                <a:lnTo>
                  <a:pt x="299870" y="129224"/>
                </a:lnTo>
                <a:lnTo>
                  <a:pt x="298970" y="123813"/>
                </a:lnTo>
                <a:lnTo>
                  <a:pt x="297416" y="118301"/>
                </a:lnTo>
                <a:lnTo>
                  <a:pt x="295427" y="112721"/>
                </a:lnTo>
                <a:lnTo>
                  <a:pt x="293149" y="107096"/>
                </a:lnTo>
                <a:lnTo>
                  <a:pt x="290679" y="101441"/>
                </a:lnTo>
                <a:lnTo>
                  <a:pt x="285393" y="90078"/>
                </a:lnTo>
                <a:lnTo>
                  <a:pt x="279869" y="78678"/>
                </a:lnTo>
                <a:lnTo>
                  <a:pt x="274238" y="69801"/>
                </a:lnTo>
                <a:lnTo>
                  <a:pt x="267609" y="61728"/>
                </a:lnTo>
                <a:lnTo>
                  <a:pt x="258312" y="51790"/>
                </a:lnTo>
                <a:lnTo>
                  <a:pt x="246919" y="40036"/>
                </a:lnTo>
                <a:lnTo>
                  <a:pt x="238004" y="33577"/>
                </a:lnTo>
                <a:lnTo>
                  <a:pt x="232960" y="30521"/>
                </a:lnTo>
                <a:lnTo>
                  <a:pt x="227692" y="27531"/>
                </a:lnTo>
                <a:lnTo>
                  <a:pt x="216759" y="21669"/>
                </a:lnTo>
                <a:lnTo>
                  <a:pt x="199893" y="13014"/>
                </a:lnTo>
                <a:lnTo>
                  <a:pt x="193265" y="11097"/>
                </a:lnTo>
                <a:lnTo>
                  <a:pt x="185989" y="9820"/>
                </a:lnTo>
                <a:lnTo>
                  <a:pt x="178281" y="8968"/>
                </a:lnTo>
                <a:lnTo>
                  <a:pt x="171236" y="8400"/>
                </a:lnTo>
                <a:lnTo>
                  <a:pt x="164635" y="8021"/>
                </a:lnTo>
                <a:lnTo>
                  <a:pt x="158330" y="7769"/>
                </a:lnTo>
                <a:lnTo>
                  <a:pt x="143704" y="7489"/>
                </a:lnTo>
                <a:lnTo>
                  <a:pt x="94284" y="72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PenAnnotation1094"/>
          <p:cNvSpPr/>
          <p:nvPr/>
        </p:nvSpPr>
        <p:spPr>
          <a:xfrm>
            <a:off x="7032600" y="4492800"/>
            <a:ext cx="282600" cy="264960"/>
          </a:xfrm>
          <a:custGeom>
            <a:avLst/>
            <a:gdLst>
              <a:gd name="textAreaLeft" fmla="*/ 0 w 282600"/>
              <a:gd name="textAreaRight" fmla="*/ 282960 w 28260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82790" h="265748">
                <a:moveTo>
                  <a:pt x="8469" y="0"/>
                </a:moveTo>
                <a:lnTo>
                  <a:pt x="0" y="0"/>
                </a:lnTo>
                <a:lnTo>
                  <a:pt x="4478" y="0"/>
                </a:lnTo>
                <a:lnTo>
                  <a:pt x="5809" y="952"/>
                </a:lnTo>
                <a:lnTo>
                  <a:pt x="6695" y="2540"/>
                </a:lnTo>
                <a:lnTo>
                  <a:pt x="7286" y="4551"/>
                </a:lnTo>
                <a:lnTo>
                  <a:pt x="10483" y="9325"/>
                </a:lnTo>
                <a:lnTo>
                  <a:pt x="12669" y="11931"/>
                </a:lnTo>
                <a:lnTo>
                  <a:pt x="14127" y="15574"/>
                </a:lnTo>
                <a:lnTo>
                  <a:pt x="15099" y="19908"/>
                </a:lnTo>
                <a:lnTo>
                  <a:pt x="15746" y="24702"/>
                </a:lnTo>
                <a:lnTo>
                  <a:pt x="19005" y="32568"/>
                </a:lnTo>
                <a:lnTo>
                  <a:pt x="24582" y="40192"/>
                </a:lnTo>
                <a:lnTo>
                  <a:pt x="28736" y="44892"/>
                </a:lnTo>
                <a:lnTo>
                  <a:pt x="37479" y="54242"/>
                </a:lnTo>
                <a:lnTo>
                  <a:pt x="48709" y="65813"/>
                </a:lnTo>
                <a:lnTo>
                  <a:pt x="58420" y="75605"/>
                </a:lnTo>
                <a:lnTo>
                  <a:pt x="63677" y="79930"/>
                </a:lnTo>
                <a:lnTo>
                  <a:pt x="69087" y="83767"/>
                </a:lnTo>
                <a:lnTo>
                  <a:pt x="74598" y="87277"/>
                </a:lnTo>
                <a:lnTo>
                  <a:pt x="79225" y="91522"/>
                </a:lnTo>
                <a:lnTo>
                  <a:pt x="83263" y="96257"/>
                </a:lnTo>
                <a:lnTo>
                  <a:pt x="86906" y="101319"/>
                </a:lnTo>
                <a:lnTo>
                  <a:pt x="91240" y="105646"/>
                </a:lnTo>
                <a:lnTo>
                  <a:pt x="96035" y="109483"/>
                </a:lnTo>
                <a:lnTo>
                  <a:pt x="101136" y="112994"/>
                </a:lnTo>
                <a:lnTo>
                  <a:pt x="106442" y="117239"/>
                </a:lnTo>
                <a:lnTo>
                  <a:pt x="111884" y="121974"/>
                </a:lnTo>
                <a:lnTo>
                  <a:pt x="122058" y="131363"/>
                </a:lnTo>
                <a:lnTo>
                  <a:pt x="129755" y="138711"/>
                </a:lnTo>
                <a:lnTo>
                  <a:pt x="143995" y="152753"/>
                </a:lnTo>
                <a:lnTo>
                  <a:pt x="149301" y="157080"/>
                </a:lnTo>
                <a:lnTo>
                  <a:pt x="154745" y="160918"/>
                </a:lnTo>
                <a:lnTo>
                  <a:pt x="160279" y="164428"/>
                </a:lnTo>
                <a:lnTo>
                  <a:pt x="165873" y="167721"/>
                </a:lnTo>
                <a:lnTo>
                  <a:pt x="171507" y="170869"/>
                </a:lnTo>
                <a:lnTo>
                  <a:pt x="177169" y="173920"/>
                </a:lnTo>
                <a:lnTo>
                  <a:pt x="185999" y="179850"/>
                </a:lnTo>
                <a:lnTo>
                  <a:pt x="194051" y="185661"/>
                </a:lnTo>
                <a:lnTo>
                  <a:pt x="198866" y="188544"/>
                </a:lnTo>
                <a:lnTo>
                  <a:pt x="203979" y="191418"/>
                </a:lnTo>
                <a:lnTo>
                  <a:pt x="212202" y="197152"/>
                </a:lnTo>
                <a:lnTo>
                  <a:pt x="219032" y="202876"/>
                </a:lnTo>
                <a:lnTo>
                  <a:pt x="225242" y="208594"/>
                </a:lnTo>
                <a:lnTo>
                  <a:pt x="234094" y="217169"/>
                </a:lnTo>
                <a:lnTo>
                  <a:pt x="242749" y="225742"/>
                </a:lnTo>
                <a:lnTo>
                  <a:pt x="248484" y="233997"/>
                </a:lnTo>
                <a:lnTo>
                  <a:pt x="251345" y="238865"/>
                </a:lnTo>
                <a:lnTo>
                  <a:pt x="254207" y="242111"/>
                </a:lnTo>
                <a:lnTo>
                  <a:pt x="257066" y="244275"/>
                </a:lnTo>
                <a:lnTo>
                  <a:pt x="262784" y="247631"/>
                </a:lnTo>
                <a:lnTo>
                  <a:pt x="268500" y="252298"/>
                </a:lnTo>
                <a:lnTo>
                  <a:pt x="270406" y="254876"/>
                </a:lnTo>
                <a:lnTo>
                  <a:pt x="272522" y="260280"/>
                </a:lnTo>
                <a:lnTo>
                  <a:pt x="274039" y="262103"/>
                </a:lnTo>
                <a:lnTo>
                  <a:pt x="276004" y="263318"/>
                </a:lnTo>
                <a:lnTo>
                  <a:pt x="282789" y="26574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PenAnnotation1095"/>
          <p:cNvSpPr/>
          <p:nvPr/>
        </p:nvSpPr>
        <p:spPr>
          <a:xfrm>
            <a:off x="7066080" y="4500720"/>
            <a:ext cx="214200" cy="222120"/>
          </a:xfrm>
          <a:custGeom>
            <a:avLst/>
            <a:gdLst>
              <a:gd name="textAreaLeft" fmla="*/ 0 w 214200"/>
              <a:gd name="textAreaRight" fmla="*/ 214560 w 2142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14313" h="222886">
                <a:moveTo>
                  <a:pt x="214312" y="0"/>
                </a:moveTo>
                <a:lnTo>
                  <a:pt x="206093" y="0"/>
                </a:lnTo>
                <a:lnTo>
                  <a:pt x="205845" y="4551"/>
                </a:lnTo>
                <a:lnTo>
                  <a:pt x="204857" y="5892"/>
                </a:lnTo>
                <a:lnTo>
                  <a:pt x="203247" y="6785"/>
                </a:lnTo>
                <a:lnTo>
                  <a:pt x="201220" y="7381"/>
                </a:lnTo>
                <a:lnTo>
                  <a:pt x="196429" y="10583"/>
                </a:lnTo>
                <a:lnTo>
                  <a:pt x="193817" y="12771"/>
                </a:lnTo>
                <a:lnTo>
                  <a:pt x="191125" y="16134"/>
                </a:lnTo>
                <a:lnTo>
                  <a:pt x="188376" y="20281"/>
                </a:lnTo>
                <a:lnTo>
                  <a:pt x="185592" y="24950"/>
                </a:lnTo>
                <a:lnTo>
                  <a:pt x="181831" y="29969"/>
                </a:lnTo>
                <a:lnTo>
                  <a:pt x="177418" y="35219"/>
                </a:lnTo>
                <a:lnTo>
                  <a:pt x="172571" y="40625"/>
                </a:lnTo>
                <a:lnTo>
                  <a:pt x="168387" y="46133"/>
                </a:lnTo>
                <a:lnTo>
                  <a:pt x="164646" y="51710"/>
                </a:lnTo>
                <a:lnTo>
                  <a:pt x="161199" y="57334"/>
                </a:lnTo>
                <a:lnTo>
                  <a:pt x="156996" y="62987"/>
                </a:lnTo>
                <a:lnTo>
                  <a:pt x="152289" y="68662"/>
                </a:lnTo>
                <a:lnTo>
                  <a:pt x="147246" y="74349"/>
                </a:lnTo>
                <a:lnTo>
                  <a:pt x="136563" y="85749"/>
                </a:lnTo>
                <a:lnTo>
                  <a:pt x="131047" y="91456"/>
                </a:lnTo>
                <a:lnTo>
                  <a:pt x="124512" y="97166"/>
                </a:lnTo>
                <a:lnTo>
                  <a:pt x="117298" y="102877"/>
                </a:lnTo>
                <a:lnTo>
                  <a:pt x="109631" y="108590"/>
                </a:lnTo>
                <a:lnTo>
                  <a:pt x="102615" y="114303"/>
                </a:lnTo>
                <a:lnTo>
                  <a:pt x="96033" y="120017"/>
                </a:lnTo>
                <a:lnTo>
                  <a:pt x="89739" y="125732"/>
                </a:lnTo>
                <a:lnTo>
                  <a:pt x="84591" y="131446"/>
                </a:lnTo>
                <a:lnTo>
                  <a:pt x="80207" y="137161"/>
                </a:lnTo>
                <a:lnTo>
                  <a:pt x="76331" y="142876"/>
                </a:lnTo>
                <a:lnTo>
                  <a:pt x="72795" y="147638"/>
                </a:lnTo>
                <a:lnTo>
                  <a:pt x="69486" y="151766"/>
                </a:lnTo>
                <a:lnTo>
                  <a:pt x="66326" y="155469"/>
                </a:lnTo>
                <a:lnTo>
                  <a:pt x="62315" y="159844"/>
                </a:lnTo>
                <a:lnTo>
                  <a:pt x="48521" y="174149"/>
                </a:lnTo>
                <a:lnTo>
                  <a:pt x="22969" y="199908"/>
                </a:lnTo>
                <a:lnTo>
                  <a:pt x="21028" y="202804"/>
                </a:lnTo>
                <a:lnTo>
                  <a:pt x="18871" y="208563"/>
                </a:lnTo>
                <a:lnTo>
                  <a:pt x="17343" y="210479"/>
                </a:lnTo>
                <a:lnTo>
                  <a:pt x="15373" y="211757"/>
                </a:lnTo>
                <a:lnTo>
                  <a:pt x="13106" y="212609"/>
                </a:lnTo>
                <a:lnTo>
                  <a:pt x="8047" y="216096"/>
                </a:lnTo>
                <a:lnTo>
                  <a:pt x="0" y="2228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PenAnnotation1096"/>
          <p:cNvSpPr/>
          <p:nvPr/>
        </p:nvSpPr>
        <p:spPr>
          <a:xfrm>
            <a:off x="5729400" y="4603680"/>
            <a:ext cx="334800" cy="7920"/>
          </a:xfrm>
          <a:custGeom>
            <a:avLst/>
            <a:gdLst>
              <a:gd name="textAreaLeft" fmla="*/ 0 w 334800"/>
              <a:gd name="textAreaRight" fmla="*/ 335160 w 3348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333869" h="8469">
                <a:moveTo>
                  <a:pt x="25257" y="0"/>
                </a:moveTo>
                <a:lnTo>
                  <a:pt x="0" y="0"/>
                </a:lnTo>
                <a:lnTo>
                  <a:pt x="15153" y="0"/>
                </a:lnTo>
                <a:lnTo>
                  <a:pt x="17568" y="953"/>
                </a:lnTo>
                <a:lnTo>
                  <a:pt x="21084" y="2540"/>
                </a:lnTo>
                <a:lnTo>
                  <a:pt x="25333" y="4551"/>
                </a:lnTo>
                <a:lnTo>
                  <a:pt x="29117" y="5892"/>
                </a:lnTo>
                <a:lnTo>
                  <a:pt x="32594" y="6785"/>
                </a:lnTo>
                <a:lnTo>
                  <a:pt x="35863" y="7381"/>
                </a:lnTo>
                <a:lnTo>
                  <a:pt x="39948" y="7778"/>
                </a:lnTo>
                <a:lnTo>
                  <a:pt x="44576" y="8043"/>
                </a:lnTo>
                <a:lnTo>
                  <a:pt x="54799" y="8337"/>
                </a:lnTo>
                <a:lnTo>
                  <a:pt x="65692" y="8468"/>
                </a:lnTo>
                <a:lnTo>
                  <a:pt x="71264" y="7550"/>
                </a:lnTo>
                <a:lnTo>
                  <a:pt x="76883" y="5986"/>
                </a:lnTo>
                <a:lnTo>
                  <a:pt x="82535" y="3991"/>
                </a:lnTo>
                <a:lnTo>
                  <a:pt x="89160" y="2661"/>
                </a:lnTo>
                <a:lnTo>
                  <a:pt x="96434" y="1774"/>
                </a:lnTo>
                <a:lnTo>
                  <a:pt x="104141" y="1183"/>
                </a:lnTo>
                <a:lnTo>
                  <a:pt x="111184" y="788"/>
                </a:lnTo>
                <a:lnTo>
                  <a:pt x="124090" y="351"/>
                </a:lnTo>
                <a:lnTo>
                  <a:pt x="160475" y="46"/>
                </a:lnTo>
                <a:lnTo>
                  <a:pt x="275377" y="0"/>
                </a:lnTo>
                <a:lnTo>
                  <a:pt x="278681" y="953"/>
                </a:lnTo>
                <a:lnTo>
                  <a:pt x="281837" y="2540"/>
                </a:lnTo>
                <a:lnTo>
                  <a:pt x="284893" y="4551"/>
                </a:lnTo>
                <a:lnTo>
                  <a:pt x="287883" y="5892"/>
                </a:lnTo>
                <a:lnTo>
                  <a:pt x="290829" y="6785"/>
                </a:lnTo>
                <a:lnTo>
                  <a:pt x="293745" y="7381"/>
                </a:lnTo>
                <a:lnTo>
                  <a:pt x="296642" y="7778"/>
                </a:lnTo>
                <a:lnTo>
                  <a:pt x="299525" y="8043"/>
                </a:lnTo>
                <a:lnTo>
                  <a:pt x="302400" y="8219"/>
                </a:lnTo>
                <a:lnTo>
                  <a:pt x="310997" y="8468"/>
                </a:lnTo>
                <a:lnTo>
                  <a:pt x="313858" y="7550"/>
                </a:lnTo>
                <a:lnTo>
                  <a:pt x="316718" y="5986"/>
                </a:lnTo>
                <a:lnTo>
                  <a:pt x="323601" y="1183"/>
                </a:lnTo>
                <a:lnTo>
                  <a:pt x="325118" y="788"/>
                </a:lnTo>
                <a:lnTo>
                  <a:pt x="327082" y="526"/>
                </a:lnTo>
                <a:lnTo>
                  <a:pt x="33386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PenAnnotation1097"/>
          <p:cNvSpPr/>
          <p:nvPr/>
        </p:nvSpPr>
        <p:spPr>
          <a:xfrm>
            <a:off x="6218280" y="4465800"/>
            <a:ext cx="290520" cy="299880"/>
          </a:xfrm>
          <a:custGeom>
            <a:avLst/>
            <a:gdLst>
              <a:gd name="textAreaLeft" fmla="*/ 0 w 290520"/>
              <a:gd name="textAreaRight" fmla="*/ 290880 w 290520"/>
              <a:gd name="textAreaTop" fmla="*/ 0 h 299880"/>
              <a:gd name="textAreaBottom" fmla="*/ 299880 h 299880"/>
            </a:gdLst>
            <a:ahLst/>
            <a:rect l="textAreaLeft" t="textAreaTop" r="textAreaRight" b="textAreaBottom"/>
            <a:pathLst>
              <a:path w="290919" h="299993">
                <a:moveTo>
                  <a:pt x="214312" y="8572"/>
                </a:moveTo>
                <a:lnTo>
                  <a:pt x="206931" y="8572"/>
                </a:lnTo>
                <a:lnTo>
                  <a:pt x="199131" y="14463"/>
                </a:lnTo>
                <a:lnTo>
                  <a:pt x="193913" y="15953"/>
                </a:lnTo>
                <a:lnTo>
                  <a:pt x="185878" y="16614"/>
                </a:lnTo>
                <a:lnTo>
                  <a:pt x="175957" y="16909"/>
                </a:lnTo>
                <a:lnTo>
                  <a:pt x="126650" y="17138"/>
                </a:lnTo>
                <a:lnTo>
                  <a:pt x="118836" y="17142"/>
                </a:lnTo>
                <a:lnTo>
                  <a:pt x="114467" y="16190"/>
                </a:lnTo>
                <a:lnTo>
                  <a:pt x="109648" y="14603"/>
                </a:lnTo>
                <a:lnTo>
                  <a:pt x="104531" y="12593"/>
                </a:lnTo>
                <a:lnTo>
                  <a:pt x="96306" y="10359"/>
                </a:lnTo>
                <a:lnTo>
                  <a:pt x="92779" y="9763"/>
                </a:lnTo>
                <a:lnTo>
                  <a:pt x="86320" y="6561"/>
                </a:lnTo>
                <a:lnTo>
                  <a:pt x="83264" y="4374"/>
                </a:lnTo>
                <a:lnTo>
                  <a:pt x="77328" y="1943"/>
                </a:lnTo>
                <a:lnTo>
                  <a:pt x="68632" y="575"/>
                </a:lnTo>
                <a:lnTo>
                  <a:pt x="60190" y="75"/>
                </a:lnTo>
                <a:lnTo>
                  <a:pt x="51552" y="0"/>
                </a:lnTo>
                <a:lnTo>
                  <a:pt x="51450" y="9325"/>
                </a:lnTo>
                <a:lnTo>
                  <a:pt x="51435" y="49091"/>
                </a:lnTo>
                <a:lnTo>
                  <a:pt x="50482" y="55587"/>
                </a:lnTo>
                <a:lnTo>
                  <a:pt x="48895" y="62776"/>
                </a:lnTo>
                <a:lnTo>
                  <a:pt x="46884" y="70425"/>
                </a:lnTo>
                <a:lnTo>
                  <a:pt x="44591" y="77429"/>
                </a:lnTo>
                <a:lnTo>
                  <a:pt x="42110" y="84004"/>
                </a:lnTo>
                <a:lnTo>
                  <a:pt x="39503" y="90293"/>
                </a:lnTo>
                <a:lnTo>
                  <a:pt x="37765" y="96390"/>
                </a:lnTo>
                <a:lnTo>
                  <a:pt x="36607" y="102360"/>
                </a:lnTo>
                <a:lnTo>
                  <a:pt x="35834" y="108245"/>
                </a:lnTo>
                <a:lnTo>
                  <a:pt x="34367" y="114073"/>
                </a:lnTo>
                <a:lnTo>
                  <a:pt x="32436" y="119863"/>
                </a:lnTo>
                <a:lnTo>
                  <a:pt x="30196" y="125629"/>
                </a:lnTo>
                <a:lnTo>
                  <a:pt x="25168" y="134574"/>
                </a:lnTo>
                <a:lnTo>
                  <a:pt x="20710" y="141725"/>
                </a:lnTo>
                <a:lnTo>
                  <a:pt x="18729" y="148079"/>
                </a:lnTo>
                <a:lnTo>
                  <a:pt x="17614" y="157010"/>
                </a:lnTo>
                <a:lnTo>
                  <a:pt x="17145" y="162863"/>
                </a:lnTo>
                <a:lnTo>
                  <a:pt x="29076" y="162876"/>
                </a:lnTo>
                <a:lnTo>
                  <a:pt x="31767" y="161923"/>
                </a:lnTo>
                <a:lnTo>
                  <a:pt x="37296" y="158326"/>
                </a:lnTo>
                <a:lnTo>
                  <a:pt x="45468" y="153552"/>
                </a:lnTo>
                <a:lnTo>
                  <a:pt x="55450" y="148255"/>
                </a:lnTo>
                <a:lnTo>
                  <a:pt x="66237" y="142726"/>
                </a:lnTo>
                <a:lnTo>
                  <a:pt x="72733" y="140870"/>
                </a:lnTo>
                <a:lnTo>
                  <a:pt x="79921" y="139633"/>
                </a:lnTo>
                <a:lnTo>
                  <a:pt x="87571" y="138808"/>
                </a:lnTo>
                <a:lnTo>
                  <a:pt x="95527" y="137306"/>
                </a:lnTo>
                <a:lnTo>
                  <a:pt x="103690" y="135352"/>
                </a:lnTo>
                <a:lnTo>
                  <a:pt x="111989" y="133097"/>
                </a:lnTo>
                <a:lnTo>
                  <a:pt x="120379" y="131594"/>
                </a:lnTo>
                <a:lnTo>
                  <a:pt x="128830" y="130591"/>
                </a:lnTo>
                <a:lnTo>
                  <a:pt x="137322" y="129923"/>
                </a:lnTo>
                <a:lnTo>
                  <a:pt x="145840" y="129478"/>
                </a:lnTo>
                <a:lnTo>
                  <a:pt x="162925" y="128983"/>
                </a:lnTo>
                <a:lnTo>
                  <a:pt x="198961" y="128639"/>
                </a:lnTo>
                <a:lnTo>
                  <a:pt x="206936" y="128621"/>
                </a:lnTo>
                <a:lnTo>
                  <a:pt x="214157" y="129562"/>
                </a:lnTo>
                <a:lnTo>
                  <a:pt x="220876" y="131142"/>
                </a:lnTo>
                <a:lnTo>
                  <a:pt x="227261" y="133148"/>
                </a:lnTo>
                <a:lnTo>
                  <a:pt x="233422" y="135438"/>
                </a:lnTo>
                <a:lnTo>
                  <a:pt x="239435" y="137916"/>
                </a:lnTo>
                <a:lnTo>
                  <a:pt x="245348" y="140521"/>
                </a:lnTo>
                <a:lnTo>
                  <a:pt x="251195" y="144163"/>
                </a:lnTo>
                <a:lnTo>
                  <a:pt x="256998" y="148496"/>
                </a:lnTo>
                <a:lnTo>
                  <a:pt x="262772" y="153289"/>
                </a:lnTo>
                <a:lnTo>
                  <a:pt x="271728" y="161156"/>
                </a:lnTo>
                <a:lnTo>
                  <a:pt x="278883" y="168779"/>
                </a:lnTo>
                <a:lnTo>
                  <a:pt x="282124" y="173479"/>
                </a:lnTo>
                <a:lnTo>
                  <a:pt x="285238" y="178517"/>
                </a:lnTo>
                <a:lnTo>
                  <a:pt x="287313" y="183781"/>
                </a:lnTo>
                <a:lnTo>
                  <a:pt x="288697" y="189196"/>
                </a:lnTo>
                <a:lnTo>
                  <a:pt x="289619" y="194710"/>
                </a:lnTo>
                <a:lnTo>
                  <a:pt x="290234" y="200291"/>
                </a:lnTo>
                <a:lnTo>
                  <a:pt x="290644" y="205918"/>
                </a:lnTo>
                <a:lnTo>
                  <a:pt x="290918" y="211573"/>
                </a:lnTo>
                <a:lnTo>
                  <a:pt x="290147" y="217248"/>
                </a:lnTo>
                <a:lnTo>
                  <a:pt x="288682" y="222937"/>
                </a:lnTo>
                <a:lnTo>
                  <a:pt x="286751" y="228635"/>
                </a:lnTo>
                <a:lnTo>
                  <a:pt x="282067" y="237505"/>
                </a:lnTo>
                <a:lnTo>
                  <a:pt x="276811" y="245575"/>
                </a:lnTo>
                <a:lnTo>
                  <a:pt x="274075" y="250394"/>
                </a:lnTo>
                <a:lnTo>
                  <a:pt x="271299" y="255511"/>
                </a:lnTo>
                <a:lnTo>
                  <a:pt x="263135" y="263737"/>
                </a:lnTo>
                <a:lnTo>
                  <a:pt x="258290" y="267264"/>
                </a:lnTo>
                <a:lnTo>
                  <a:pt x="252203" y="270569"/>
                </a:lnTo>
                <a:lnTo>
                  <a:pt x="245288" y="273724"/>
                </a:lnTo>
                <a:lnTo>
                  <a:pt x="237820" y="276780"/>
                </a:lnTo>
                <a:lnTo>
                  <a:pt x="230936" y="279769"/>
                </a:lnTo>
                <a:lnTo>
                  <a:pt x="218208" y="285632"/>
                </a:lnTo>
                <a:lnTo>
                  <a:pt x="200333" y="294287"/>
                </a:lnTo>
                <a:lnTo>
                  <a:pt x="193563" y="296204"/>
                </a:lnTo>
                <a:lnTo>
                  <a:pt x="186191" y="297481"/>
                </a:lnTo>
                <a:lnTo>
                  <a:pt x="178420" y="298333"/>
                </a:lnTo>
                <a:lnTo>
                  <a:pt x="170381" y="298901"/>
                </a:lnTo>
                <a:lnTo>
                  <a:pt x="162165" y="299279"/>
                </a:lnTo>
                <a:lnTo>
                  <a:pt x="145416" y="299700"/>
                </a:lnTo>
                <a:lnTo>
                  <a:pt x="107379" y="299992"/>
                </a:lnTo>
                <a:lnTo>
                  <a:pt x="100161" y="299055"/>
                </a:lnTo>
                <a:lnTo>
                  <a:pt x="92491" y="297477"/>
                </a:lnTo>
                <a:lnTo>
                  <a:pt x="84520" y="295473"/>
                </a:lnTo>
                <a:lnTo>
                  <a:pt x="77302" y="294136"/>
                </a:lnTo>
                <a:lnTo>
                  <a:pt x="70584" y="293246"/>
                </a:lnTo>
                <a:lnTo>
                  <a:pt x="64201" y="292652"/>
                </a:lnTo>
                <a:lnTo>
                  <a:pt x="58041" y="291304"/>
                </a:lnTo>
                <a:lnTo>
                  <a:pt x="52029" y="289452"/>
                </a:lnTo>
                <a:lnTo>
                  <a:pt x="46115" y="287265"/>
                </a:lnTo>
                <a:lnTo>
                  <a:pt x="41221" y="285807"/>
                </a:lnTo>
                <a:lnTo>
                  <a:pt x="33243" y="284188"/>
                </a:lnTo>
                <a:lnTo>
                  <a:pt x="26522" y="280928"/>
                </a:lnTo>
                <a:lnTo>
                  <a:pt x="23396" y="278724"/>
                </a:lnTo>
                <a:lnTo>
                  <a:pt x="14843" y="276277"/>
                </a:lnTo>
                <a:lnTo>
                  <a:pt x="0" y="27431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PenAnnotation1098"/>
          <p:cNvSpPr/>
          <p:nvPr/>
        </p:nvSpPr>
        <p:spPr>
          <a:xfrm>
            <a:off x="7537320" y="4492800"/>
            <a:ext cx="34920" cy="247320"/>
          </a:xfrm>
          <a:custGeom>
            <a:avLst/>
            <a:gdLst>
              <a:gd name="textAreaLeft" fmla="*/ 0 w 34920"/>
              <a:gd name="textAreaRight" fmla="*/ 35280 w 3492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34292" h="248462">
                <a:moveTo>
                  <a:pt x="0" y="0"/>
                </a:moveTo>
                <a:lnTo>
                  <a:pt x="0" y="20150"/>
                </a:lnTo>
                <a:lnTo>
                  <a:pt x="953" y="22959"/>
                </a:lnTo>
                <a:lnTo>
                  <a:pt x="2541" y="25783"/>
                </a:lnTo>
                <a:lnTo>
                  <a:pt x="4551" y="28619"/>
                </a:lnTo>
                <a:lnTo>
                  <a:pt x="5892" y="32414"/>
                </a:lnTo>
                <a:lnTo>
                  <a:pt x="6786" y="36849"/>
                </a:lnTo>
                <a:lnTo>
                  <a:pt x="7381" y="41711"/>
                </a:lnTo>
                <a:lnTo>
                  <a:pt x="7779" y="46857"/>
                </a:lnTo>
                <a:lnTo>
                  <a:pt x="8043" y="52193"/>
                </a:lnTo>
                <a:lnTo>
                  <a:pt x="8338" y="63202"/>
                </a:lnTo>
                <a:lnTo>
                  <a:pt x="8542" y="91484"/>
                </a:lnTo>
                <a:lnTo>
                  <a:pt x="9505" y="97184"/>
                </a:lnTo>
                <a:lnTo>
                  <a:pt x="11099" y="102889"/>
                </a:lnTo>
                <a:lnTo>
                  <a:pt x="13114" y="108598"/>
                </a:lnTo>
                <a:lnTo>
                  <a:pt x="14458" y="114308"/>
                </a:lnTo>
                <a:lnTo>
                  <a:pt x="15354" y="120020"/>
                </a:lnTo>
                <a:lnTo>
                  <a:pt x="15951" y="125733"/>
                </a:lnTo>
                <a:lnTo>
                  <a:pt x="16349" y="131447"/>
                </a:lnTo>
                <a:lnTo>
                  <a:pt x="16615" y="137162"/>
                </a:lnTo>
                <a:lnTo>
                  <a:pt x="16909" y="148591"/>
                </a:lnTo>
                <a:lnTo>
                  <a:pt x="17115" y="177165"/>
                </a:lnTo>
                <a:lnTo>
                  <a:pt x="18078" y="182880"/>
                </a:lnTo>
                <a:lnTo>
                  <a:pt x="19672" y="188595"/>
                </a:lnTo>
                <a:lnTo>
                  <a:pt x="21687" y="194310"/>
                </a:lnTo>
                <a:lnTo>
                  <a:pt x="23031" y="200024"/>
                </a:lnTo>
                <a:lnTo>
                  <a:pt x="23927" y="205739"/>
                </a:lnTo>
                <a:lnTo>
                  <a:pt x="24524" y="211455"/>
                </a:lnTo>
                <a:lnTo>
                  <a:pt x="24921" y="216217"/>
                </a:lnTo>
                <a:lnTo>
                  <a:pt x="25187" y="220345"/>
                </a:lnTo>
                <a:lnTo>
                  <a:pt x="25614" y="229262"/>
                </a:lnTo>
                <a:lnTo>
                  <a:pt x="26601" y="230946"/>
                </a:lnTo>
                <a:lnTo>
                  <a:pt x="28212" y="233021"/>
                </a:lnTo>
                <a:lnTo>
                  <a:pt x="30238" y="235358"/>
                </a:lnTo>
                <a:lnTo>
                  <a:pt x="31589" y="237868"/>
                </a:lnTo>
                <a:lnTo>
                  <a:pt x="32490" y="240493"/>
                </a:lnTo>
                <a:lnTo>
                  <a:pt x="34259" y="248461"/>
                </a:lnTo>
                <a:lnTo>
                  <a:pt x="34291" y="2400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PenAnnotation1099"/>
          <p:cNvSpPr/>
          <p:nvPr/>
        </p:nvSpPr>
        <p:spPr>
          <a:xfrm>
            <a:off x="7400880" y="4560840"/>
            <a:ext cx="335160" cy="17640"/>
          </a:xfrm>
          <a:custGeom>
            <a:avLst/>
            <a:gdLst>
              <a:gd name="textAreaLeft" fmla="*/ 0 w 335160"/>
              <a:gd name="textAreaRight" fmla="*/ 335520 w 3351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33867" h="17145">
                <a:moveTo>
                  <a:pt x="25256" y="17144"/>
                </a:moveTo>
                <a:lnTo>
                  <a:pt x="20705" y="17144"/>
                </a:lnTo>
                <a:lnTo>
                  <a:pt x="19364" y="16191"/>
                </a:lnTo>
                <a:lnTo>
                  <a:pt x="18471" y="14604"/>
                </a:lnTo>
                <a:lnTo>
                  <a:pt x="17037" y="9762"/>
                </a:lnTo>
                <a:lnTo>
                  <a:pt x="15967" y="9365"/>
                </a:lnTo>
                <a:lnTo>
                  <a:pt x="12237" y="8924"/>
                </a:lnTo>
                <a:lnTo>
                  <a:pt x="1869" y="8618"/>
                </a:lnTo>
                <a:lnTo>
                  <a:pt x="0" y="8581"/>
                </a:lnTo>
                <a:lnTo>
                  <a:pt x="137131" y="8571"/>
                </a:lnTo>
                <a:lnTo>
                  <a:pt x="144606" y="7619"/>
                </a:lnTo>
                <a:lnTo>
                  <a:pt x="151496" y="6032"/>
                </a:lnTo>
                <a:lnTo>
                  <a:pt x="157993" y="4020"/>
                </a:lnTo>
                <a:lnTo>
                  <a:pt x="165183" y="2679"/>
                </a:lnTo>
                <a:lnTo>
                  <a:pt x="172833" y="1786"/>
                </a:lnTo>
                <a:lnTo>
                  <a:pt x="180790" y="1190"/>
                </a:lnTo>
                <a:lnTo>
                  <a:pt x="188001" y="793"/>
                </a:lnTo>
                <a:lnTo>
                  <a:pt x="201092" y="352"/>
                </a:lnTo>
                <a:lnTo>
                  <a:pt x="243975" y="30"/>
                </a:lnTo>
                <a:lnTo>
                  <a:pt x="289304" y="0"/>
                </a:lnTo>
                <a:lnTo>
                  <a:pt x="292728" y="952"/>
                </a:lnTo>
                <a:lnTo>
                  <a:pt x="295011" y="2539"/>
                </a:lnTo>
                <a:lnTo>
                  <a:pt x="296533" y="4549"/>
                </a:lnTo>
                <a:lnTo>
                  <a:pt x="299452" y="5890"/>
                </a:lnTo>
                <a:lnTo>
                  <a:pt x="303304" y="6784"/>
                </a:lnTo>
                <a:lnTo>
                  <a:pt x="307776" y="7380"/>
                </a:lnTo>
                <a:lnTo>
                  <a:pt x="312662" y="7777"/>
                </a:lnTo>
                <a:lnTo>
                  <a:pt x="317825" y="8041"/>
                </a:lnTo>
                <a:lnTo>
                  <a:pt x="333866" y="85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PenAnnotation1100"/>
          <p:cNvSpPr/>
          <p:nvPr/>
        </p:nvSpPr>
        <p:spPr>
          <a:xfrm>
            <a:off x="7726320" y="4397400"/>
            <a:ext cx="231840" cy="291960"/>
          </a:xfrm>
          <a:custGeom>
            <a:avLst/>
            <a:gdLst>
              <a:gd name="textAreaLeft" fmla="*/ 0 w 231840"/>
              <a:gd name="textAreaRight" fmla="*/ 232200 w 2318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231401" h="291336">
                <a:moveTo>
                  <a:pt x="0" y="34280"/>
                </a:moveTo>
                <a:lnTo>
                  <a:pt x="20399" y="13881"/>
                </a:lnTo>
                <a:lnTo>
                  <a:pt x="24077" y="12108"/>
                </a:lnTo>
                <a:lnTo>
                  <a:pt x="28434" y="10926"/>
                </a:lnTo>
                <a:lnTo>
                  <a:pt x="33244" y="10139"/>
                </a:lnTo>
                <a:lnTo>
                  <a:pt x="37402" y="8660"/>
                </a:lnTo>
                <a:lnTo>
                  <a:pt x="44563" y="4479"/>
                </a:lnTo>
                <a:lnTo>
                  <a:pt x="48759" y="2982"/>
                </a:lnTo>
                <a:lnTo>
                  <a:pt x="53460" y="1985"/>
                </a:lnTo>
                <a:lnTo>
                  <a:pt x="58500" y="1320"/>
                </a:lnTo>
                <a:lnTo>
                  <a:pt x="63765" y="877"/>
                </a:lnTo>
                <a:lnTo>
                  <a:pt x="69180" y="581"/>
                </a:lnTo>
                <a:lnTo>
                  <a:pt x="80276" y="253"/>
                </a:lnTo>
                <a:lnTo>
                  <a:pt x="114323" y="13"/>
                </a:lnTo>
                <a:lnTo>
                  <a:pt x="125740" y="0"/>
                </a:lnTo>
                <a:lnTo>
                  <a:pt x="130499" y="950"/>
                </a:lnTo>
                <a:lnTo>
                  <a:pt x="134624" y="2534"/>
                </a:lnTo>
                <a:lnTo>
                  <a:pt x="141747" y="5884"/>
                </a:lnTo>
                <a:lnTo>
                  <a:pt x="148088" y="7372"/>
                </a:lnTo>
                <a:lnTo>
                  <a:pt x="151113" y="9674"/>
                </a:lnTo>
                <a:lnTo>
                  <a:pt x="157013" y="17311"/>
                </a:lnTo>
                <a:lnTo>
                  <a:pt x="160271" y="24516"/>
                </a:lnTo>
                <a:lnTo>
                  <a:pt x="161719" y="30893"/>
                </a:lnTo>
                <a:lnTo>
                  <a:pt x="162362" y="36902"/>
                </a:lnTo>
                <a:lnTo>
                  <a:pt x="162649" y="45288"/>
                </a:lnTo>
                <a:lnTo>
                  <a:pt x="162724" y="50192"/>
                </a:lnTo>
                <a:lnTo>
                  <a:pt x="161823" y="55365"/>
                </a:lnTo>
                <a:lnTo>
                  <a:pt x="160269" y="60719"/>
                </a:lnTo>
                <a:lnTo>
                  <a:pt x="158281" y="66194"/>
                </a:lnTo>
                <a:lnTo>
                  <a:pt x="156003" y="71749"/>
                </a:lnTo>
                <a:lnTo>
                  <a:pt x="153532" y="77357"/>
                </a:lnTo>
                <a:lnTo>
                  <a:pt x="150933" y="83000"/>
                </a:lnTo>
                <a:lnTo>
                  <a:pt x="147295" y="87715"/>
                </a:lnTo>
                <a:lnTo>
                  <a:pt x="142963" y="91811"/>
                </a:lnTo>
                <a:lnTo>
                  <a:pt x="138171" y="95494"/>
                </a:lnTo>
                <a:lnTo>
                  <a:pt x="133072" y="100807"/>
                </a:lnTo>
                <a:lnTo>
                  <a:pt x="127766" y="107207"/>
                </a:lnTo>
                <a:lnTo>
                  <a:pt x="122325" y="114330"/>
                </a:lnTo>
                <a:lnTo>
                  <a:pt x="116793" y="120032"/>
                </a:lnTo>
                <a:lnTo>
                  <a:pt x="111199" y="124785"/>
                </a:lnTo>
                <a:lnTo>
                  <a:pt x="105565" y="128907"/>
                </a:lnTo>
                <a:lnTo>
                  <a:pt x="100856" y="133560"/>
                </a:lnTo>
                <a:lnTo>
                  <a:pt x="96765" y="138566"/>
                </a:lnTo>
                <a:lnTo>
                  <a:pt x="93085" y="143809"/>
                </a:lnTo>
                <a:lnTo>
                  <a:pt x="88726" y="148257"/>
                </a:lnTo>
                <a:lnTo>
                  <a:pt x="83916" y="152175"/>
                </a:lnTo>
                <a:lnTo>
                  <a:pt x="78804" y="155739"/>
                </a:lnTo>
                <a:lnTo>
                  <a:pt x="73491" y="159068"/>
                </a:lnTo>
                <a:lnTo>
                  <a:pt x="68044" y="162239"/>
                </a:lnTo>
                <a:lnTo>
                  <a:pt x="62508" y="165306"/>
                </a:lnTo>
                <a:lnTo>
                  <a:pt x="57864" y="168303"/>
                </a:lnTo>
                <a:lnTo>
                  <a:pt x="53816" y="171254"/>
                </a:lnTo>
                <a:lnTo>
                  <a:pt x="50165" y="174173"/>
                </a:lnTo>
                <a:lnTo>
                  <a:pt x="43568" y="177417"/>
                </a:lnTo>
                <a:lnTo>
                  <a:pt x="34322" y="180004"/>
                </a:lnTo>
                <a:lnTo>
                  <a:pt x="34304" y="180008"/>
                </a:lnTo>
                <a:lnTo>
                  <a:pt x="38845" y="175461"/>
                </a:lnTo>
                <a:lnTo>
                  <a:pt x="41136" y="174120"/>
                </a:lnTo>
                <a:lnTo>
                  <a:pt x="49865" y="171281"/>
                </a:lnTo>
                <a:lnTo>
                  <a:pt x="54198" y="169429"/>
                </a:lnTo>
                <a:lnTo>
                  <a:pt x="64093" y="164832"/>
                </a:lnTo>
                <a:lnTo>
                  <a:pt x="74840" y="159613"/>
                </a:lnTo>
                <a:lnTo>
                  <a:pt x="81326" y="157840"/>
                </a:lnTo>
                <a:lnTo>
                  <a:pt x="88507" y="156659"/>
                </a:lnTo>
                <a:lnTo>
                  <a:pt x="96152" y="155871"/>
                </a:lnTo>
                <a:lnTo>
                  <a:pt x="103154" y="154393"/>
                </a:lnTo>
                <a:lnTo>
                  <a:pt x="109726" y="152455"/>
                </a:lnTo>
                <a:lnTo>
                  <a:pt x="116014" y="150211"/>
                </a:lnTo>
                <a:lnTo>
                  <a:pt x="123062" y="148715"/>
                </a:lnTo>
                <a:lnTo>
                  <a:pt x="130619" y="147718"/>
                </a:lnTo>
                <a:lnTo>
                  <a:pt x="138514" y="147053"/>
                </a:lnTo>
                <a:lnTo>
                  <a:pt x="145683" y="146609"/>
                </a:lnTo>
                <a:lnTo>
                  <a:pt x="158728" y="146117"/>
                </a:lnTo>
                <a:lnTo>
                  <a:pt x="164873" y="146938"/>
                </a:lnTo>
                <a:lnTo>
                  <a:pt x="170876" y="148437"/>
                </a:lnTo>
                <a:lnTo>
                  <a:pt x="176782" y="150390"/>
                </a:lnTo>
                <a:lnTo>
                  <a:pt x="182624" y="151692"/>
                </a:lnTo>
                <a:lnTo>
                  <a:pt x="188425" y="152560"/>
                </a:lnTo>
                <a:lnTo>
                  <a:pt x="194196" y="153138"/>
                </a:lnTo>
                <a:lnTo>
                  <a:pt x="199949" y="154477"/>
                </a:lnTo>
                <a:lnTo>
                  <a:pt x="205690" y="156321"/>
                </a:lnTo>
                <a:lnTo>
                  <a:pt x="211421" y="158504"/>
                </a:lnTo>
                <a:lnTo>
                  <a:pt x="216194" y="160911"/>
                </a:lnTo>
                <a:lnTo>
                  <a:pt x="220330" y="163468"/>
                </a:lnTo>
                <a:lnTo>
                  <a:pt x="224039" y="166125"/>
                </a:lnTo>
                <a:lnTo>
                  <a:pt x="226512" y="168850"/>
                </a:lnTo>
                <a:lnTo>
                  <a:pt x="228160" y="171618"/>
                </a:lnTo>
                <a:lnTo>
                  <a:pt x="229992" y="177234"/>
                </a:lnTo>
                <a:lnTo>
                  <a:pt x="230806" y="182906"/>
                </a:lnTo>
                <a:lnTo>
                  <a:pt x="231168" y="191141"/>
                </a:lnTo>
                <a:lnTo>
                  <a:pt x="231371" y="206487"/>
                </a:lnTo>
                <a:lnTo>
                  <a:pt x="231400" y="211949"/>
                </a:lnTo>
                <a:lnTo>
                  <a:pt x="230466" y="216544"/>
                </a:lnTo>
                <a:lnTo>
                  <a:pt x="226889" y="224189"/>
                </a:lnTo>
                <a:lnTo>
                  <a:pt x="223650" y="228513"/>
                </a:lnTo>
                <a:lnTo>
                  <a:pt x="219584" y="233301"/>
                </a:lnTo>
                <a:lnTo>
                  <a:pt x="210940" y="242749"/>
                </a:lnTo>
                <a:lnTo>
                  <a:pt x="203923" y="250123"/>
                </a:lnTo>
                <a:lnTo>
                  <a:pt x="190067" y="264180"/>
                </a:lnTo>
                <a:lnTo>
                  <a:pt x="184813" y="268509"/>
                </a:lnTo>
                <a:lnTo>
                  <a:pt x="179407" y="272348"/>
                </a:lnTo>
                <a:lnTo>
                  <a:pt x="173896" y="275860"/>
                </a:lnTo>
                <a:lnTo>
                  <a:pt x="168318" y="278201"/>
                </a:lnTo>
                <a:lnTo>
                  <a:pt x="162695" y="279761"/>
                </a:lnTo>
                <a:lnTo>
                  <a:pt x="157041" y="280802"/>
                </a:lnTo>
                <a:lnTo>
                  <a:pt x="152318" y="282448"/>
                </a:lnTo>
                <a:lnTo>
                  <a:pt x="148219" y="284498"/>
                </a:lnTo>
                <a:lnTo>
                  <a:pt x="144532" y="286817"/>
                </a:lnTo>
                <a:lnTo>
                  <a:pt x="140170" y="288363"/>
                </a:lnTo>
                <a:lnTo>
                  <a:pt x="135357" y="289394"/>
                </a:lnTo>
                <a:lnTo>
                  <a:pt x="130242" y="290081"/>
                </a:lnTo>
                <a:lnTo>
                  <a:pt x="125880" y="290539"/>
                </a:lnTo>
                <a:lnTo>
                  <a:pt x="122020" y="290845"/>
                </a:lnTo>
                <a:lnTo>
                  <a:pt x="118494" y="291048"/>
                </a:lnTo>
                <a:lnTo>
                  <a:pt x="109496" y="291274"/>
                </a:lnTo>
                <a:lnTo>
                  <a:pt x="104430" y="291335"/>
                </a:lnTo>
                <a:lnTo>
                  <a:pt x="100100" y="290422"/>
                </a:lnTo>
                <a:lnTo>
                  <a:pt x="96261" y="288861"/>
                </a:lnTo>
                <a:lnTo>
                  <a:pt x="92749" y="286869"/>
                </a:lnTo>
                <a:lnTo>
                  <a:pt x="88502" y="285540"/>
                </a:lnTo>
                <a:lnTo>
                  <a:pt x="83767" y="284654"/>
                </a:lnTo>
                <a:lnTo>
                  <a:pt x="78704" y="284064"/>
                </a:lnTo>
                <a:lnTo>
                  <a:pt x="74377" y="283670"/>
                </a:lnTo>
                <a:lnTo>
                  <a:pt x="70540" y="283408"/>
                </a:lnTo>
                <a:lnTo>
                  <a:pt x="67029" y="283233"/>
                </a:lnTo>
                <a:lnTo>
                  <a:pt x="63735" y="282164"/>
                </a:lnTo>
                <a:lnTo>
                  <a:pt x="57537" y="278436"/>
                </a:lnTo>
                <a:lnTo>
                  <a:pt x="51607" y="276144"/>
                </a:lnTo>
                <a:lnTo>
                  <a:pt x="48691" y="275532"/>
                </a:lnTo>
                <a:lnTo>
                  <a:pt x="42913" y="272314"/>
                </a:lnTo>
                <a:lnTo>
                  <a:pt x="40038" y="270121"/>
                </a:lnTo>
                <a:lnTo>
                  <a:pt x="34305" y="267686"/>
                </a:lnTo>
                <a:lnTo>
                  <a:pt x="27414" y="266122"/>
                </a:lnTo>
                <a:lnTo>
                  <a:pt x="21669" y="261301"/>
                </a:lnTo>
                <a:lnTo>
                  <a:pt x="17542" y="257528"/>
                </a:lnTo>
                <a:lnTo>
                  <a:pt x="17145" y="2657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PenAnnotation1101"/>
          <p:cNvSpPr/>
          <p:nvPr/>
        </p:nvSpPr>
        <p:spPr>
          <a:xfrm>
            <a:off x="5532480" y="5040360"/>
            <a:ext cx="325440" cy="420480"/>
          </a:xfrm>
          <a:custGeom>
            <a:avLst/>
            <a:gdLst>
              <a:gd name="textAreaLeft" fmla="*/ 0 w 325440"/>
              <a:gd name="textAreaRight" fmla="*/ 325800 w 32544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325756" h="419937">
                <a:moveTo>
                  <a:pt x="325755" y="0"/>
                </a:moveTo>
                <a:lnTo>
                  <a:pt x="312736" y="0"/>
                </a:lnTo>
                <a:lnTo>
                  <a:pt x="310408" y="953"/>
                </a:lnTo>
                <a:lnTo>
                  <a:pt x="302581" y="5892"/>
                </a:lnTo>
                <a:lnTo>
                  <a:pt x="294229" y="8731"/>
                </a:lnTo>
                <a:lnTo>
                  <a:pt x="285722" y="14229"/>
                </a:lnTo>
                <a:lnTo>
                  <a:pt x="280023" y="15849"/>
                </a:lnTo>
                <a:lnTo>
                  <a:pt x="271774" y="16570"/>
                </a:lnTo>
                <a:lnTo>
                  <a:pt x="266907" y="16761"/>
                </a:lnTo>
                <a:lnTo>
                  <a:pt x="261758" y="17842"/>
                </a:lnTo>
                <a:lnTo>
                  <a:pt x="256420" y="19515"/>
                </a:lnTo>
                <a:lnTo>
                  <a:pt x="246362" y="22961"/>
                </a:lnTo>
                <a:lnTo>
                  <a:pt x="238716" y="24493"/>
                </a:lnTo>
                <a:lnTo>
                  <a:pt x="229604" y="25173"/>
                </a:lnTo>
                <a:lnTo>
                  <a:pt x="219203" y="25476"/>
                </a:lnTo>
                <a:lnTo>
                  <a:pt x="174275" y="25709"/>
                </a:lnTo>
                <a:lnTo>
                  <a:pt x="157152" y="25716"/>
                </a:lnTo>
                <a:lnTo>
                  <a:pt x="151441" y="24764"/>
                </a:lnTo>
                <a:lnTo>
                  <a:pt x="145728" y="23177"/>
                </a:lnTo>
                <a:lnTo>
                  <a:pt x="140014" y="21167"/>
                </a:lnTo>
                <a:lnTo>
                  <a:pt x="131126" y="18933"/>
                </a:lnTo>
                <a:lnTo>
                  <a:pt x="124001" y="17940"/>
                </a:lnTo>
                <a:lnTo>
                  <a:pt x="117659" y="17498"/>
                </a:lnTo>
                <a:lnTo>
                  <a:pt x="109125" y="17302"/>
                </a:lnTo>
                <a:lnTo>
                  <a:pt x="56837" y="17146"/>
                </a:lnTo>
                <a:lnTo>
                  <a:pt x="55037" y="18099"/>
                </a:lnTo>
                <a:lnTo>
                  <a:pt x="53835" y="19686"/>
                </a:lnTo>
                <a:lnTo>
                  <a:pt x="53035" y="21697"/>
                </a:lnTo>
                <a:lnTo>
                  <a:pt x="51549" y="23037"/>
                </a:lnTo>
                <a:lnTo>
                  <a:pt x="49606" y="23931"/>
                </a:lnTo>
                <a:lnTo>
                  <a:pt x="47358" y="24527"/>
                </a:lnTo>
                <a:lnTo>
                  <a:pt x="45860" y="25876"/>
                </a:lnTo>
                <a:lnTo>
                  <a:pt x="44860" y="27729"/>
                </a:lnTo>
                <a:lnTo>
                  <a:pt x="40914" y="37426"/>
                </a:lnTo>
                <a:lnTo>
                  <a:pt x="38706" y="42096"/>
                </a:lnTo>
                <a:lnTo>
                  <a:pt x="36253" y="52365"/>
                </a:lnTo>
                <a:lnTo>
                  <a:pt x="34210" y="63279"/>
                </a:lnTo>
                <a:lnTo>
                  <a:pt x="30126" y="74480"/>
                </a:lnTo>
                <a:lnTo>
                  <a:pt x="25137" y="88347"/>
                </a:lnTo>
                <a:lnTo>
                  <a:pt x="22473" y="96046"/>
                </a:lnTo>
                <a:lnTo>
                  <a:pt x="20697" y="103084"/>
                </a:lnTo>
                <a:lnTo>
                  <a:pt x="18724" y="115982"/>
                </a:lnTo>
                <a:lnTo>
                  <a:pt x="17244" y="123042"/>
                </a:lnTo>
                <a:lnTo>
                  <a:pt x="15306" y="130606"/>
                </a:lnTo>
                <a:lnTo>
                  <a:pt x="13062" y="138506"/>
                </a:lnTo>
                <a:lnTo>
                  <a:pt x="10612" y="145677"/>
                </a:lnTo>
                <a:lnTo>
                  <a:pt x="5352" y="158726"/>
                </a:lnTo>
                <a:lnTo>
                  <a:pt x="2378" y="170875"/>
                </a:lnTo>
                <a:lnTo>
                  <a:pt x="1056" y="182625"/>
                </a:lnTo>
                <a:lnTo>
                  <a:pt x="469" y="194197"/>
                </a:lnTo>
                <a:lnTo>
                  <a:pt x="208" y="205690"/>
                </a:lnTo>
                <a:lnTo>
                  <a:pt x="0" y="255831"/>
                </a:lnTo>
                <a:lnTo>
                  <a:pt x="952" y="256279"/>
                </a:lnTo>
                <a:lnTo>
                  <a:pt x="4550" y="256777"/>
                </a:lnTo>
                <a:lnTo>
                  <a:pt x="5891" y="255958"/>
                </a:lnTo>
                <a:lnTo>
                  <a:pt x="6785" y="254459"/>
                </a:lnTo>
                <a:lnTo>
                  <a:pt x="7381" y="252507"/>
                </a:lnTo>
                <a:lnTo>
                  <a:pt x="8730" y="251206"/>
                </a:lnTo>
                <a:lnTo>
                  <a:pt x="10583" y="250338"/>
                </a:lnTo>
                <a:lnTo>
                  <a:pt x="15181" y="249374"/>
                </a:lnTo>
                <a:lnTo>
                  <a:pt x="20399" y="248946"/>
                </a:lnTo>
                <a:lnTo>
                  <a:pt x="22171" y="247879"/>
                </a:lnTo>
                <a:lnTo>
                  <a:pt x="23354" y="246216"/>
                </a:lnTo>
                <a:lnTo>
                  <a:pt x="24142" y="244154"/>
                </a:lnTo>
                <a:lnTo>
                  <a:pt x="30097" y="239323"/>
                </a:lnTo>
                <a:lnTo>
                  <a:pt x="39094" y="234002"/>
                </a:lnTo>
                <a:lnTo>
                  <a:pt x="49442" y="228461"/>
                </a:lnTo>
                <a:lnTo>
                  <a:pt x="57851" y="222823"/>
                </a:lnTo>
                <a:lnTo>
                  <a:pt x="65716" y="217143"/>
                </a:lnTo>
                <a:lnTo>
                  <a:pt x="75562" y="211443"/>
                </a:lnTo>
                <a:lnTo>
                  <a:pt x="81807" y="208590"/>
                </a:lnTo>
                <a:lnTo>
                  <a:pt x="88828" y="205736"/>
                </a:lnTo>
                <a:lnTo>
                  <a:pt x="96366" y="202880"/>
                </a:lnTo>
                <a:lnTo>
                  <a:pt x="103296" y="200976"/>
                </a:lnTo>
                <a:lnTo>
                  <a:pt x="109822" y="199707"/>
                </a:lnTo>
                <a:lnTo>
                  <a:pt x="116077" y="198860"/>
                </a:lnTo>
                <a:lnTo>
                  <a:pt x="122152" y="198296"/>
                </a:lnTo>
                <a:lnTo>
                  <a:pt x="128107" y="197921"/>
                </a:lnTo>
                <a:lnTo>
                  <a:pt x="133982" y="197669"/>
                </a:lnTo>
                <a:lnTo>
                  <a:pt x="148130" y="197391"/>
                </a:lnTo>
                <a:lnTo>
                  <a:pt x="175945" y="197212"/>
                </a:lnTo>
                <a:lnTo>
                  <a:pt x="182066" y="198150"/>
                </a:lnTo>
                <a:lnTo>
                  <a:pt x="188052" y="199728"/>
                </a:lnTo>
                <a:lnTo>
                  <a:pt x="193948" y="201732"/>
                </a:lnTo>
                <a:lnTo>
                  <a:pt x="199784" y="204021"/>
                </a:lnTo>
                <a:lnTo>
                  <a:pt x="205579" y="206499"/>
                </a:lnTo>
                <a:lnTo>
                  <a:pt x="211348" y="209104"/>
                </a:lnTo>
                <a:lnTo>
                  <a:pt x="217098" y="212746"/>
                </a:lnTo>
                <a:lnTo>
                  <a:pt x="222837" y="217078"/>
                </a:lnTo>
                <a:lnTo>
                  <a:pt x="228568" y="221872"/>
                </a:lnTo>
                <a:lnTo>
                  <a:pt x="234293" y="226020"/>
                </a:lnTo>
                <a:lnTo>
                  <a:pt x="240016" y="229737"/>
                </a:lnTo>
                <a:lnTo>
                  <a:pt x="245735" y="233168"/>
                </a:lnTo>
                <a:lnTo>
                  <a:pt x="254631" y="242061"/>
                </a:lnTo>
                <a:lnTo>
                  <a:pt x="262711" y="252363"/>
                </a:lnTo>
                <a:lnTo>
                  <a:pt x="272653" y="263292"/>
                </a:lnTo>
                <a:lnTo>
                  <a:pt x="276066" y="268873"/>
                </a:lnTo>
                <a:lnTo>
                  <a:pt x="279858" y="280155"/>
                </a:lnTo>
                <a:lnTo>
                  <a:pt x="281544" y="291518"/>
                </a:lnTo>
                <a:lnTo>
                  <a:pt x="282293" y="302919"/>
                </a:lnTo>
                <a:lnTo>
                  <a:pt x="282626" y="314336"/>
                </a:lnTo>
                <a:lnTo>
                  <a:pt x="282840" y="331296"/>
                </a:lnTo>
                <a:lnTo>
                  <a:pt x="282869" y="341236"/>
                </a:lnTo>
                <a:lnTo>
                  <a:pt x="280972" y="345600"/>
                </a:lnTo>
                <a:lnTo>
                  <a:pt x="277802" y="349463"/>
                </a:lnTo>
                <a:lnTo>
                  <a:pt x="270152" y="356295"/>
                </a:lnTo>
                <a:lnTo>
                  <a:pt x="263577" y="362506"/>
                </a:lnTo>
                <a:lnTo>
                  <a:pt x="249970" y="375909"/>
                </a:lnTo>
                <a:lnTo>
                  <a:pt x="244752" y="380146"/>
                </a:lnTo>
                <a:lnTo>
                  <a:pt x="239368" y="383923"/>
                </a:lnTo>
                <a:lnTo>
                  <a:pt x="233873" y="387395"/>
                </a:lnTo>
                <a:lnTo>
                  <a:pt x="228306" y="389708"/>
                </a:lnTo>
                <a:lnTo>
                  <a:pt x="222688" y="391251"/>
                </a:lnTo>
                <a:lnTo>
                  <a:pt x="217039" y="392279"/>
                </a:lnTo>
                <a:lnTo>
                  <a:pt x="210415" y="393917"/>
                </a:lnTo>
                <a:lnTo>
                  <a:pt x="203142" y="395962"/>
                </a:lnTo>
                <a:lnTo>
                  <a:pt x="187440" y="400773"/>
                </a:lnTo>
                <a:lnTo>
                  <a:pt x="170936" y="406086"/>
                </a:lnTo>
                <a:lnTo>
                  <a:pt x="163488" y="407885"/>
                </a:lnTo>
                <a:lnTo>
                  <a:pt x="156617" y="409083"/>
                </a:lnTo>
                <a:lnTo>
                  <a:pt x="150131" y="409883"/>
                </a:lnTo>
                <a:lnTo>
                  <a:pt x="142949" y="411368"/>
                </a:lnTo>
                <a:lnTo>
                  <a:pt x="135304" y="413310"/>
                </a:lnTo>
                <a:lnTo>
                  <a:pt x="127351" y="415558"/>
                </a:lnTo>
                <a:lnTo>
                  <a:pt x="120143" y="417056"/>
                </a:lnTo>
                <a:lnTo>
                  <a:pt x="113432" y="418056"/>
                </a:lnTo>
                <a:lnTo>
                  <a:pt x="107054" y="418721"/>
                </a:lnTo>
                <a:lnTo>
                  <a:pt x="100897" y="419165"/>
                </a:lnTo>
                <a:lnTo>
                  <a:pt x="94887" y="419461"/>
                </a:lnTo>
                <a:lnTo>
                  <a:pt x="79867" y="419878"/>
                </a:lnTo>
                <a:lnTo>
                  <a:pt x="76105" y="419936"/>
                </a:lnTo>
                <a:lnTo>
                  <a:pt x="66844" y="417461"/>
                </a:lnTo>
                <a:lnTo>
                  <a:pt x="57331" y="414139"/>
                </a:lnTo>
                <a:lnTo>
                  <a:pt x="49928" y="412662"/>
                </a:lnTo>
                <a:lnTo>
                  <a:pt x="40405" y="411831"/>
                </a:lnTo>
                <a:lnTo>
                  <a:pt x="36101" y="411585"/>
                </a:lnTo>
                <a:lnTo>
                  <a:pt x="32555" y="408987"/>
                </a:lnTo>
                <a:lnTo>
                  <a:pt x="25717" y="4029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PenAnnotation1102"/>
          <p:cNvSpPr/>
          <p:nvPr/>
        </p:nvSpPr>
        <p:spPr>
          <a:xfrm>
            <a:off x="6132600" y="5160960"/>
            <a:ext cx="574560" cy="290520"/>
          </a:xfrm>
          <a:custGeom>
            <a:avLst/>
            <a:gdLst>
              <a:gd name="textAreaLeft" fmla="*/ 0 w 574560"/>
              <a:gd name="textAreaRight" fmla="*/ 574920 w 5745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573890" h="290915">
                <a:moveTo>
                  <a:pt x="136691" y="59962"/>
                </a:moveTo>
                <a:lnTo>
                  <a:pt x="128472" y="59962"/>
                </a:lnTo>
                <a:lnTo>
                  <a:pt x="113388" y="52581"/>
                </a:lnTo>
                <a:lnTo>
                  <a:pt x="109507" y="51919"/>
                </a:lnTo>
                <a:lnTo>
                  <a:pt x="99254" y="51494"/>
                </a:lnTo>
                <a:lnTo>
                  <a:pt x="96493" y="52412"/>
                </a:lnTo>
                <a:lnTo>
                  <a:pt x="88057" y="57302"/>
                </a:lnTo>
                <a:lnTo>
                  <a:pt x="79525" y="60126"/>
                </a:lnTo>
                <a:lnTo>
                  <a:pt x="70964" y="65620"/>
                </a:lnTo>
                <a:lnTo>
                  <a:pt x="62395" y="68624"/>
                </a:lnTo>
                <a:lnTo>
                  <a:pt x="53824" y="75122"/>
                </a:lnTo>
                <a:lnTo>
                  <a:pt x="45251" y="83081"/>
                </a:lnTo>
                <a:lnTo>
                  <a:pt x="39537" y="88652"/>
                </a:lnTo>
                <a:lnTo>
                  <a:pt x="33821" y="96843"/>
                </a:lnTo>
                <a:lnTo>
                  <a:pt x="29059" y="105881"/>
                </a:lnTo>
                <a:lnTo>
                  <a:pt x="26942" y="113073"/>
                </a:lnTo>
                <a:lnTo>
                  <a:pt x="23462" y="121984"/>
                </a:lnTo>
                <a:lnTo>
                  <a:pt x="21200" y="127028"/>
                </a:lnTo>
                <a:lnTo>
                  <a:pt x="19692" y="132295"/>
                </a:lnTo>
                <a:lnTo>
                  <a:pt x="18687" y="137712"/>
                </a:lnTo>
                <a:lnTo>
                  <a:pt x="18017" y="143228"/>
                </a:lnTo>
                <a:lnTo>
                  <a:pt x="16618" y="148810"/>
                </a:lnTo>
                <a:lnTo>
                  <a:pt x="14732" y="154437"/>
                </a:lnTo>
                <a:lnTo>
                  <a:pt x="12523" y="160093"/>
                </a:lnTo>
                <a:lnTo>
                  <a:pt x="10098" y="165768"/>
                </a:lnTo>
                <a:lnTo>
                  <a:pt x="4863" y="177155"/>
                </a:lnTo>
                <a:lnTo>
                  <a:pt x="3086" y="182858"/>
                </a:lnTo>
                <a:lnTo>
                  <a:pt x="1901" y="188565"/>
                </a:lnTo>
                <a:lnTo>
                  <a:pt x="1111" y="194275"/>
                </a:lnTo>
                <a:lnTo>
                  <a:pt x="585" y="199987"/>
                </a:lnTo>
                <a:lnTo>
                  <a:pt x="233" y="205699"/>
                </a:lnTo>
                <a:lnTo>
                  <a:pt x="0" y="211413"/>
                </a:lnTo>
                <a:lnTo>
                  <a:pt x="796" y="217127"/>
                </a:lnTo>
                <a:lnTo>
                  <a:pt x="2279" y="222841"/>
                </a:lnTo>
                <a:lnTo>
                  <a:pt x="4221" y="228556"/>
                </a:lnTo>
                <a:lnTo>
                  <a:pt x="5516" y="234271"/>
                </a:lnTo>
                <a:lnTo>
                  <a:pt x="6378" y="239985"/>
                </a:lnTo>
                <a:lnTo>
                  <a:pt x="6954" y="245700"/>
                </a:lnTo>
                <a:lnTo>
                  <a:pt x="10133" y="254590"/>
                </a:lnTo>
                <a:lnTo>
                  <a:pt x="14721" y="261716"/>
                </a:lnTo>
                <a:lnTo>
                  <a:pt x="19935" y="268058"/>
                </a:lnTo>
                <a:lnTo>
                  <a:pt x="28225" y="276984"/>
                </a:lnTo>
                <a:lnTo>
                  <a:pt x="36715" y="285660"/>
                </a:lnTo>
                <a:lnTo>
                  <a:pt x="40512" y="287580"/>
                </a:lnTo>
                <a:lnTo>
                  <a:pt x="54007" y="290282"/>
                </a:lnTo>
                <a:lnTo>
                  <a:pt x="61208" y="290914"/>
                </a:lnTo>
                <a:lnTo>
                  <a:pt x="64461" y="290130"/>
                </a:lnTo>
                <a:lnTo>
                  <a:pt x="79068" y="282028"/>
                </a:lnTo>
                <a:lnTo>
                  <a:pt x="94535" y="274032"/>
                </a:lnTo>
                <a:lnTo>
                  <a:pt x="105573" y="267499"/>
                </a:lnTo>
                <a:lnTo>
                  <a:pt x="111183" y="263090"/>
                </a:lnTo>
                <a:lnTo>
                  <a:pt x="116828" y="258246"/>
                </a:lnTo>
                <a:lnTo>
                  <a:pt x="122497" y="253111"/>
                </a:lnTo>
                <a:lnTo>
                  <a:pt x="133876" y="242326"/>
                </a:lnTo>
                <a:lnTo>
                  <a:pt x="150991" y="225544"/>
                </a:lnTo>
                <a:lnTo>
                  <a:pt x="155750" y="219880"/>
                </a:lnTo>
                <a:lnTo>
                  <a:pt x="159875" y="214199"/>
                </a:lnTo>
                <a:lnTo>
                  <a:pt x="163577" y="208507"/>
                </a:lnTo>
                <a:lnTo>
                  <a:pt x="167950" y="202807"/>
                </a:lnTo>
                <a:lnTo>
                  <a:pt x="172771" y="197102"/>
                </a:lnTo>
                <a:lnTo>
                  <a:pt x="177889" y="191394"/>
                </a:lnTo>
                <a:lnTo>
                  <a:pt x="182255" y="185684"/>
                </a:lnTo>
                <a:lnTo>
                  <a:pt x="186117" y="179971"/>
                </a:lnTo>
                <a:lnTo>
                  <a:pt x="189644" y="174258"/>
                </a:lnTo>
                <a:lnTo>
                  <a:pt x="191996" y="168545"/>
                </a:lnTo>
                <a:lnTo>
                  <a:pt x="193564" y="162831"/>
                </a:lnTo>
                <a:lnTo>
                  <a:pt x="194609" y="157116"/>
                </a:lnTo>
                <a:lnTo>
                  <a:pt x="195306" y="151401"/>
                </a:lnTo>
                <a:lnTo>
                  <a:pt x="195770" y="145686"/>
                </a:lnTo>
                <a:lnTo>
                  <a:pt x="196080" y="139972"/>
                </a:lnTo>
                <a:lnTo>
                  <a:pt x="196424" y="128542"/>
                </a:lnTo>
                <a:lnTo>
                  <a:pt x="196675" y="101037"/>
                </a:lnTo>
                <a:lnTo>
                  <a:pt x="196683" y="95918"/>
                </a:lnTo>
                <a:lnTo>
                  <a:pt x="195736" y="91553"/>
                </a:lnTo>
                <a:lnTo>
                  <a:pt x="192143" y="84163"/>
                </a:lnTo>
                <a:lnTo>
                  <a:pt x="187372" y="77703"/>
                </a:lnTo>
                <a:lnTo>
                  <a:pt x="179331" y="68712"/>
                </a:lnTo>
                <a:lnTo>
                  <a:pt x="176548" y="65795"/>
                </a:lnTo>
                <a:lnTo>
                  <a:pt x="172787" y="63851"/>
                </a:lnTo>
                <a:lnTo>
                  <a:pt x="163529" y="61690"/>
                </a:lnTo>
                <a:lnTo>
                  <a:pt x="145788" y="60190"/>
                </a:lnTo>
                <a:lnTo>
                  <a:pt x="128270" y="59963"/>
                </a:lnTo>
                <a:lnTo>
                  <a:pt x="128133" y="52582"/>
                </a:lnTo>
                <a:lnTo>
                  <a:pt x="129081" y="52184"/>
                </a:lnTo>
                <a:lnTo>
                  <a:pt x="132674" y="51743"/>
                </a:lnTo>
                <a:lnTo>
                  <a:pt x="134966" y="50673"/>
                </a:lnTo>
                <a:lnTo>
                  <a:pt x="142742" y="44615"/>
                </a:lnTo>
                <a:lnTo>
                  <a:pt x="152031" y="36788"/>
                </a:lnTo>
                <a:lnTo>
                  <a:pt x="165473" y="29389"/>
                </a:lnTo>
                <a:lnTo>
                  <a:pt x="172661" y="27324"/>
                </a:lnTo>
                <a:lnTo>
                  <a:pt x="186613" y="26162"/>
                </a:lnTo>
                <a:lnTo>
                  <a:pt x="190928" y="25046"/>
                </a:lnTo>
                <a:lnTo>
                  <a:pt x="202503" y="19877"/>
                </a:lnTo>
                <a:lnTo>
                  <a:pt x="216622" y="17922"/>
                </a:lnTo>
                <a:lnTo>
                  <a:pt x="223969" y="17465"/>
                </a:lnTo>
                <a:lnTo>
                  <a:pt x="227261" y="18296"/>
                </a:lnTo>
                <a:lnTo>
                  <a:pt x="237399" y="23063"/>
                </a:lnTo>
                <a:lnTo>
                  <a:pt x="251092" y="25851"/>
                </a:lnTo>
                <a:lnTo>
                  <a:pt x="267275" y="34845"/>
                </a:lnTo>
                <a:lnTo>
                  <a:pt x="272324" y="37502"/>
                </a:lnTo>
                <a:lnTo>
                  <a:pt x="275691" y="40226"/>
                </a:lnTo>
                <a:lnTo>
                  <a:pt x="277935" y="42995"/>
                </a:lnTo>
                <a:lnTo>
                  <a:pt x="279432" y="45793"/>
                </a:lnTo>
                <a:lnTo>
                  <a:pt x="286174" y="53982"/>
                </a:lnTo>
                <a:lnTo>
                  <a:pt x="290639" y="58833"/>
                </a:lnTo>
                <a:lnTo>
                  <a:pt x="294568" y="63972"/>
                </a:lnTo>
                <a:lnTo>
                  <a:pt x="298140" y="69303"/>
                </a:lnTo>
                <a:lnTo>
                  <a:pt x="301474" y="74762"/>
                </a:lnTo>
                <a:lnTo>
                  <a:pt x="304649" y="80306"/>
                </a:lnTo>
                <a:lnTo>
                  <a:pt x="310717" y="91547"/>
                </a:lnTo>
                <a:lnTo>
                  <a:pt x="319488" y="108585"/>
                </a:lnTo>
                <a:lnTo>
                  <a:pt x="321421" y="114285"/>
                </a:lnTo>
                <a:lnTo>
                  <a:pt x="322710" y="119989"/>
                </a:lnTo>
                <a:lnTo>
                  <a:pt x="323569" y="125698"/>
                </a:lnTo>
                <a:lnTo>
                  <a:pt x="325094" y="131408"/>
                </a:lnTo>
                <a:lnTo>
                  <a:pt x="327063" y="137120"/>
                </a:lnTo>
                <a:lnTo>
                  <a:pt x="329329" y="142833"/>
                </a:lnTo>
                <a:lnTo>
                  <a:pt x="330838" y="148547"/>
                </a:lnTo>
                <a:lnTo>
                  <a:pt x="331846" y="154262"/>
                </a:lnTo>
                <a:lnTo>
                  <a:pt x="332517" y="159976"/>
                </a:lnTo>
                <a:lnTo>
                  <a:pt x="333262" y="168865"/>
                </a:lnTo>
                <a:lnTo>
                  <a:pt x="333594" y="176943"/>
                </a:lnTo>
                <a:lnTo>
                  <a:pt x="333824" y="198639"/>
                </a:lnTo>
                <a:lnTo>
                  <a:pt x="333859" y="222439"/>
                </a:lnTo>
                <a:lnTo>
                  <a:pt x="326478" y="222805"/>
                </a:lnTo>
                <a:lnTo>
                  <a:pt x="326081" y="221864"/>
                </a:lnTo>
                <a:lnTo>
                  <a:pt x="325640" y="218278"/>
                </a:lnTo>
                <a:lnTo>
                  <a:pt x="324570" y="215989"/>
                </a:lnTo>
                <a:lnTo>
                  <a:pt x="318512" y="208216"/>
                </a:lnTo>
                <a:lnTo>
                  <a:pt x="310685" y="199880"/>
                </a:lnTo>
                <a:lnTo>
                  <a:pt x="305144" y="194220"/>
                </a:lnTo>
                <a:lnTo>
                  <a:pt x="303286" y="190425"/>
                </a:lnTo>
                <a:lnTo>
                  <a:pt x="302047" y="185990"/>
                </a:lnTo>
                <a:lnTo>
                  <a:pt x="301221" y="181128"/>
                </a:lnTo>
                <a:lnTo>
                  <a:pt x="300671" y="175982"/>
                </a:lnTo>
                <a:lnTo>
                  <a:pt x="300303" y="170646"/>
                </a:lnTo>
                <a:lnTo>
                  <a:pt x="300059" y="165184"/>
                </a:lnTo>
                <a:lnTo>
                  <a:pt x="299787" y="154035"/>
                </a:lnTo>
                <a:lnTo>
                  <a:pt x="299612" y="131355"/>
                </a:lnTo>
                <a:lnTo>
                  <a:pt x="300550" y="124703"/>
                </a:lnTo>
                <a:lnTo>
                  <a:pt x="302128" y="117410"/>
                </a:lnTo>
                <a:lnTo>
                  <a:pt x="304133" y="109691"/>
                </a:lnTo>
                <a:lnTo>
                  <a:pt x="306422" y="102639"/>
                </a:lnTo>
                <a:lnTo>
                  <a:pt x="308900" y="96034"/>
                </a:lnTo>
                <a:lnTo>
                  <a:pt x="311505" y="89725"/>
                </a:lnTo>
                <a:lnTo>
                  <a:pt x="314194" y="83614"/>
                </a:lnTo>
                <a:lnTo>
                  <a:pt x="319721" y="71744"/>
                </a:lnTo>
                <a:lnTo>
                  <a:pt x="323482" y="65912"/>
                </a:lnTo>
                <a:lnTo>
                  <a:pt x="327893" y="60118"/>
                </a:lnTo>
                <a:lnTo>
                  <a:pt x="332739" y="54352"/>
                </a:lnTo>
                <a:lnTo>
                  <a:pt x="337875" y="48601"/>
                </a:lnTo>
                <a:lnTo>
                  <a:pt x="348661" y="37133"/>
                </a:lnTo>
                <a:lnTo>
                  <a:pt x="360894" y="24517"/>
                </a:lnTo>
                <a:lnTo>
                  <a:pt x="372545" y="17856"/>
                </a:lnTo>
                <a:lnTo>
                  <a:pt x="386295" y="11721"/>
                </a:lnTo>
                <a:lnTo>
                  <a:pt x="398756" y="5819"/>
                </a:lnTo>
                <a:lnTo>
                  <a:pt x="410645" y="2561"/>
                </a:lnTo>
                <a:lnTo>
                  <a:pt x="428048" y="727"/>
                </a:lnTo>
                <a:lnTo>
                  <a:pt x="445270" y="184"/>
                </a:lnTo>
                <a:lnTo>
                  <a:pt x="468155" y="0"/>
                </a:lnTo>
                <a:lnTo>
                  <a:pt x="479589" y="2515"/>
                </a:lnTo>
                <a:lnTo>
                  <a:pt x="494196" y="6746"/>
                </a:lnTo>
                <a:lnTo>
                  <a:pt x="511642" y="9245"/>
                </a:lnTo>
                <a:lnTo>
                  <a:pt x="529173" y="15266"/>
                </a:lnTo>
                <a:lnTo>
                  <a:pt x="546642" y="16738"/>
                </a:lnTo>
                <a:lnTo>
                  <a:pt x="558302" y="16992"/>
                </a:lnTo>
                <a:lnTo>
                  <a:pt x="561592" y="16076"/>
                </a:lnTo>
                <a:lnTo>
                  <a:pt x="573889" y="85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PenAnnotation1103"/>
          <p:cNvSpPr/>
          <p:nvPr/>
        </p:nvSpPr>
        <p:spPr>
          <a:xfrm>
            <a:off x="6921360" y="5221440"/>
            <a:ext cx="265320" cy="15840"/>
          </a:xfrm>
          <a:custGeom>
            <a:avLst/>
            <a:gdLst>
              <a:gd name="textAreaLeft" fmla="*/ 0 w 265320"/>
              <a:gd name="textAreaRight" fmla="*/ 265680 w 2653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65644" h="17146">
                <a:moveTo>
                  <a:pt x="8468" y="0"/>
                </a:moveTo>
                <a:lnTo>
                  <a:pt x="0" y="0"/>
                </a:lnTo>
                <a:lnTo>
                  <a:pt x="7286" y="0"/>
                </a:lnTo>
                <a:lnTo>
                  <a:pt x="8632" y="953"/>
                </a:lnTo>
                <a:lnTo>
                  <a:pt x="10483" y="2540"/>
                </a:lnTo>
                <a:lnTo>
                  <a:pt x="12669" y="4551"/>
                </a:lnTo>
                <a:lnTo>
                  <a:pt x="16031" y="5892"/>
                </a:lnTo>
                <a:lnTo>
                  <a:pt x="20178" y="6785"/>
                </a:lnTo>
                <a:lnTo>
                  <a:pt x="24847" y="7381"/>
                </a:lnTo>
                <a:lnTo>
                  <a:pt x="28912" y="7778"/>
                </a:lnTo>
                <a:lnTo>
                  <a:pt x="35969" y="8219"/>
                </a:lnTo>
                <a:lnTo>
                  <a:pt x="42281" y="8416"/>
                </a:lnTo>
                <a:lnTo>
                  <a:pt x="53730" y="8526"/>
                </a:lnTo>
                <a:lnTo>
                  <a:pt x="58645" y="8542"/>
                </a:lnTo>
                <a:lnTo>
                  <a:pt x="62875" y="7599"/>
                </a:lnTo>
                <a:lnTo>
                  <a:pt x="66647" y="6019"/>
                </a:lnTo>
                <a:lnTo>
                  <a:pt x="70114" y="4013"/>
                </a:lnTo>
                <a:lnTo>
                  <a:pt x="74331" y="2675"/>
                </a:lnTo>
                <a:lnTo>
                  <a:pt x="79046" y="1783"/>
                </a:lnTo>
                <a:lnTo>
                  <a:pt x="84095" y="1189"/>
                </a:lnTo>
                <a:lnTo>
                  <a:pt x="90319" y="793"/>
                </a:lnTo>
                <a:lnTo>
                  <a:pt x="97325" y="528"/>
                </a:lnTo>
                <a:lnTo>
                  <a:pt x="118299" y="156"/>
                </a:lnTo>
                <a:lnTo>
                  <a:pt x="168813" y="3"/>
                </a:lnTo>
                <a:lnTo>
                  <a:pt x="174420" y="954"/>
                </a:lnTo>
                <a:lnTo>
                  <a:pt x="180063" y="2541"/>
                </a:lnTo>
                <a:lnTo>
                  <a:pt x="185730" y="4551"/>
                </a:lnTo>
                <a:lnTo>
                  <a:pt x="190460" y="5892"/>
                </a:lnTo>
                <a:lnTo>
                  <a:pt x="194566" y="6786"/>
                </a:lnTo>
                <a:lnTo>
                  <a:pt x="198256" y="7381"/>
                </a:lnTo>
                <a:lnTo>
                  <a:pt x="202621" y="7778"/>
                </a:lnTo>
                <a:lnTo>
                  <a:pt x="207436" y="8043"/>
                </a:lnTo>
                <a:lnTo>
                  <a:pt x="216913" y="8337"/>
                </a:lnTo>
                <a:lnTo>
                  <a:pt x="230758" y="8526"/>
                </a:lnTo>
                <a:lnTo>
                  <a:pt x="233814" y="8542"/>
                </a:lnTo>
                <a:lnTo>
                  <a:pt x="236804" y="9505"/>
                </a:lnTo>
                <a:lnTo>
                  <a:pt x="239750" y="11099"/>
                </a:lnTo>
                <a:lnTo>
                  <a:pt x="242665" y="13114"/>
                </a:lnTo>
                <a:lnTo>
                  <a:pt x="245562" y="14458"/>
                </a:lnTo>
                <a:lnTo>
                  <a:pt x="248446" y="15353"/>
                </a:lnTo>
                <a:lnTo>
                  <a:pt x="251321" y="15951"/>
                </a:lnTo>
                <a:lnTo>
                  <a:pt x="254190" y="16349"/>
                </a:lnTo>
                <a:lnTo>
                  <a:pt x="259917" y="16791"/>
                </a:lnTo>
                <a:lnTo>
                  <a:pt x="265643" y="171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PenAnnotation1104"/>
          <p:cNvSpPr/>
          <p:nvPr/>
        </p:nvSpPr>
        <p:spPr>
          <a:xfrm>
            <a:off x="7229520" y="5033880"/>
            <a:ext cx="368280" cy="366840"/>
          </a:xfrm>
          <a:custGeom>
            <a:avLst/>
            <a:gdLst>
              <a:gd name="textAreaLeft" fmla="*/ 0 w 368280"/>
              <a:gd name="textAreaRight" fmla="*/ 368640 w 36828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368102" h="367310">
                <a:moveTo>
                  <a:pt x="85725" y="84416"/>
                </a:moveTo>
                <a:lnTo>
                  <a:pt x="85725" y="72485"/>
                </a:lnTo>
                <a:lnTo>
                  <a:pt x="86677" y="70747"/>
                </a:lnTo>
                <a:lnTo>
                  <a:pt x="88265" y="69588"/>
                </a:lnTo>
                <a:lnTo>
                  <a:pt x="90275" y="68815"/>
                </a:lnTo>
                <a:lnTo>
                  <a:pt x="91616" y="67349"/>
                </a:lnTo>
                <a:lnTo>
                  <a:pt x="92509" y="65418"/>
                </a:lnTo>
                <a:lnTo>
                  <a:pt x="93105" y="63178"/>
                </a:lnTo>
                <a:lnTo>
                  <a:pt x="98848" y="55609"/>
                </a:lnTo>
                <a:lnTo>
                  <a:pt x="106797" y="46848"/>
                </a:lnTo>
                <a:lnTo>
                  <a:pt x="113505" y="39779"/>
                </a:lnTo>
                <a:lnTo>
                  <a:pt x="117580" y="37513"/>
                </a:lnTo>
                <a:lnTo>
                  <a:pt x="127187" y="34995"/>
                </a:lnTo>
                <a:lnTo>
                  <a:pt x="137808" y="31337"/>
                </a:lnTo>
                <a:lnTo>
                  <a:pt x="148878" y="26535"/>
                </a:lnTo>
                <a:lnTo>
                  <a:pt x="160148" y="21227"/>
                </a:lnTo>
                <a:lnTo>
                  <a:pt x="171507" y="18232"/>
                </a:lnTo>
                <a:lnTo>
                  <a:pt x="177203" y="17433"/>
                </a:lnTo>
                <a:lnTo>
                  <a:pt x="183857" y="15949"/>
                </a:lnTo>
                <a:lnTo>
                  <a:pt x="191151" y="14006"/>
                </a:lnTo>
                <a:lnTo>
                  <a:pt x="198872" y="11758"/>
                </a:lnTo>
                <a:lnTo>
                  <a:pt x="205923" y="10260"/>
                </a:lnTo>
                <a:lnTo>
                  <a:pt x="212530" y="9261"/>
                </a:lnTo>
                <a:lnTo>
                  <a:pt x="218839" y="8595"/>
                </a:lnTo>
                <a:lnTo>
                  <a:pt x="224950" y="7199"/>
                </a:lnTo>
                <a:lnTo>
                  <a:pt x="230929" y="5315"/>
                </a:lnTo>
                <a:lnTo>
                  <a:pt x="241699" y="1635"/>
                </a:lnTo>
                <a:lnTo>
                  <a:pt x="249662" y="0"/>
                </a:lnTo>
                <a:lnTo>
                  <a:pt x="258915" y="1813"/>
                </a:lnTo>
                <a:lnTo>
                  <a:pt x="269378" y="4841"/>
                </a:lnTo>
                <a:lnTo>
                  <a:pt x="280379" y="6187"/>
                </a:lnTo>
                <a:lnTo>
                  <a:pt x="285027" y="7498"/>
                </a:lnTo>
                <a:lnTo>
                  <a:pt x="292730" y="11495"/>
                </a:lnTo>
                <a:lnTo>
                  <a:pt x="295166" y="13895"/>
                </a:lnTo>
                <a:lnTo>
                  <a:pt x="296790" y="16447"/>
                </a:lnTo>
                <a:lnTo>
                  <a:pt x="298594" y="21822"/>
                </a:lnTo>
                <a:lnTo>
                  <a:pt x="299753" y="33035"/>
                </a:lnTo>
                <a:lnTo>
                  <a:pt x="299847" y="35874"/>
                </a:lnTo>
                <a:lnTo>
                  <a:pt x="297413" y="44110"/>
                </a:lnTo>
                <a:lnTo>
                  <a:pt x="293156" y="54119"/>
                </a:lnTo>
                <a:lnTo>
                  <a:pt x="288089" y="64918"/>
                </a:lnTo>
                <a:lnTo>
                  <a:pt x="280122" y="76068"/>
                </a:lnTo>
                <a:lnTo>
                  <a:pt x="270231" y="86421"/>
                </a:lnTo>
                <a:lnTo>
                  <a:pt x="253952" y="98557"/>
                </a:lnTo>
                <a:lnTo>
                  <a:pt x="242725" y="108481"/>
                </a:lnTo>
                <a:lnTo>
                  <a:pt x="231385" y="119242"/>
                </a:lnTo>
                <a:lnTo>
                  <a:pt x="213134" y="137121"/>
                </a:lnTo>
                <a:lnTo>
                  <a:pt x="203946" y="143718"/>
                </a:lnTo>
                <a:lnTo>
                  <a:pt x="193512" y="149825"/>
                </a:lnTo>
                <a:lnTo>
                  <a:pt x="182526" y="155714"/>
                </a:lnTo>
                <a:lnTo>
                  <a:pt x="173832" y="161507"/>
                </a:lnTo>
                <a:lnTo>
                  <a:pt x="170181" y="164385"/>
                </a:lnTo>
                <a:lnTo>
                  <a:pt x="163583" y="167583"/>
                </a:lnTo>
                <a:lnTo>
                  <a:pt x="154514" y="169383"/>
                </a:lnTo>
                <a:lnTo>
                  <a:pt x="145794" y="169917"/>
                </a:lnTo>
                <a:lnTo>
                  <a:pt x="137310" y="170138"/>
                </a:lnTo>
                <a:lnTo>
                  <a:pt x="157315" y="170141"/>
                </a:lnTo>
                <a:lnTo>
                  <a:pt x="165485" y="167601"/>
                </a:lnTo>
                <a:lnTo>
                  <a:pt x="175466" y="164250"/>
                </a:lnTo>
                <a:lnTo>
                  <a:pt x="186252" y="162760"/>
                </a:lnTo>
                <a:lnTo>
                  <a:pt x="197396" y="162098"/>
                </a:lnTo>
                <a:lnTo>
                  <a:pt x="209651" y="161804"/>
                </a:lnTo>
                <a:lnTo>
                  <a:pt x="244567" y="161599"/>
                </a:lnTo>
                <a:lnTo>
                  <a:pt x="251627" y="162542"/>
                </a:lnTo>
                <a:lnTo>
                  <a:pt x="259191" y="164122"/>
                </a:lnTo>
                <a:lnTo>
                  <a:pt x="267092" y="166129"/>
                </a:lnTo>
                <a:lnTo>
                  <a:pt x="275216" y="167466"/>
                </a:lnTo>
                <a:lnTo>
                  <a:pt x="283489" y="168358"/>
                </a:lnTo>
                <a:lnTo>
                  <a:pt x="291863" y="168952"/>
                </a:lnTo>
                <a:lnTo>
                  <a:pt x="299350" y="170301"/>
                </a:lnTo>
                <a:lnTo>
                  <a:pt x="306247" y="172153"/>
                </a:lnTo>
                <a:lnTo>
                  <a:pt x="312749" y="174339"/>
                </a:lnTo>
                <a:lnTo>
                  <a:pt x="318990" y="176750"/>
                </a:lnTo>
                <a:lnTo>
                  <a:pt x="325054" y="179310"/>
                </a:lnTo>
                <a:lnTo>
                  <a:pt x="331003" y="181969"/>
                </a:lnTo>
                <a:lnTo>
                  <a:pt x="335921" y="185646"/>
                </a:lnTo>
                <a:lnTo>
                  <a:pt x="343925" y="194812"/>
                </a:lnTo>
                <a:lnTo>
                  <a:pt x="350658" y="205236"/>
                </a:lnTo>
                <a:lnTo>
                  <a:pt x="356825" y="215267"/>
                </a:lnTo>
                <a:lnTo>
                  <a:pt x="362741" y="222899"/>
                </a:lnTo>
                <a:lnTo>
                  <a:pt x="364700" y="227221"/>
                </a:lnTo>
                <a:lnTo>
                  <a:pt x="366876" y="237102"/>
                </a:lnTo>
                <a:lnTo>
                  <a:pt x="367844" y="247844"/>
                </a:lnTo>
                <a:lnTo>
                  <a:pt x="368101" y="253376"/>
                </a:lnTo>
                <a:lnTo>
                  <a:pt x="365848" y="264602"/>
                </a:lnTo>
                <a:lnTo>
                  <a:pt x="361671" y="275941"/>
                </a:lnTo>
                <a:lnTo>
                  <a:pt x="356640" y="287331"/>
                </a:lnTo>
                <a:lnTo>
                  <a:pt x="351229" y="296203"/>
                </a:lnTo>
                <a:lnTo>
                  <a:pt x="344697" y="304274"/>
                </a:lnTo>
                <a:lnTo>
                  <a:pt x="335443" y="314211"/>
                </a:lnTo>
                <a:lnTo>
                  <a:pt x="330309" y="317623"/>
                </a:lnTo>
                <a:lnTo>
                  <a:pt x="319523" y="321414"/>
                </a:lnTo>
                <a:lnTo>
                  <a:pt x="308381" y="325639"/>
                </a:lnTo>
                <a:lnTo>
                  <a:pt x="302742" y="328098"/>
                </a:lnTo>
                <a:lnTo>
                  <a:pt x="296126" y="330691"/>
                </a:lnTo>
                <a:lnTo>
                  <a:pt x="281154" y="336111"/>
                </a:lnTo>
                <a:lnTo>
                  <a:pt x="256660" y="344518"/>
                </a:lnTo>
                <a:lnTo>
                  <a:pt x="248259" y="346400"/>
                </a:lnTo>
                <a:lnTo>
                  <a:pt x="239801" y="347655"/>
                </a:lnTo>
                <a:lnTo>
                  <a:pt x="231305" y="348491"/>
                </a:lnTo>
                <a:lnTo>
                  <a:pt x="222783" y="349049"/>
                </a:lnTo>
                <a:lnTo>
                  <a:pt x="214245" y="349420"/>
                </a:lnTo>
                <a:lnTo>
                  <a:pt x="205695" y="349668"/>
                </a:lnTo>
                <a:lnTo>
                  <a:pt x="197136" y="350786"/>
                </a:lnTo>
                <a:lnTo>
                  <a:pt x="188575" y="352483"/>
                </a:lnTo>
                <a:lnTo>
                  <a:pt x="180009" y="354567"/>
                </a:lnTo>
                <a:lnTo>
                  <a:pt x="171441" y="355957"/>
                </a:lnTo>
                <a:lnTo>
                  <a:pt x="162871" y="356883"/>
                </a:lnTo>
                <a:lnTo>
                  <a:pt x="154301" y="357501"/>
                </a:lnTo>
                <a:lnTo>
                  <a:pt x="145729" y="357913"/>
                </a:lnTo>
                <a:lnTo>
                  <a:pt x="128586" y="358370"/>
                </a:lnTo>
                <a:lnTo>
                  <a:pt x="89084" y="358704"/>
                </a:lnTo>
                <a:lnTo>
                  <a:pt x="24308" y="358735"/>
                </a:lnTo>
                <a:lnTo>
                  <a:pt x="20968" y="359688"/>
                </a:lnTo>
                <a:lnTo>
                  <a:pt x="10393" y="366117"/>
                </a:lnTo>
                <a:lnTo>
                  <a:pt x="6841" y="366779"/>
                </a:lnTo>
                <a:lnTo>
                  <a:pt x="0" y="36730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AC metho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+bx+c=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tliply a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factors of ac that add up to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lit b into these two fa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=2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11x+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PenAnnotation923"/>
          <p:cNvSpPr/>
          <p:nvPr/>
        </p:nvSpPr>
        <p:spPr>
          <a:xfrm>
            <a:off x="4889520" y="1371600"/>
            <a:ext cx="317520" cy="222120"/>
          </a:xfrm>
          <a:custGeom>
            <a:avLst/>
            <a:gdLst>
              <a:gd name="textAreaLeft" fmla="*/ 0 w 317520"/>
              <a:gd name="textAreaRight" fmla="*/ 317880 w 31752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317149" h="221532">
                <a:moveTo>
                  <a:pt x="137125" y="59997"/>
                </a:moveTo>
                <a:lnTo>
                  <a:pt x="129744" y="52616"/>
                </a:lnTo>
                <a:lnTo>
                  <a:pt x="129082" y="49414"/>
                </a:lnTo>
                <a:lnTo>
                  <a:pt x="128788" y="44816"/>
                </a:lnTo>
                <a:lnTo>
                  <a:pt x="128657" y="39597"/>
                </a:lnTo>
                <a:lnTo>
                  <a:pt x="128583" y="31304"/>
                </a:lnTo>
                <a:lnTo>
                  <a:pt x="127620" y="29439"/>
                </a:lnTo>
                <a:lnTo>
                  <a:pt x="126026" y="28195"/>
                </a:lnTo>
                <a:lnTo>
                  <a:pt x="124011" y="27366"/>
                </a:lnTo>
                <a:lnTo>
                  <a:pt x="116623" y="21648"/>
                </a:lnTo>
                <a:lnTo>
                  <a:pt x="114885" y="19191"/>
                </a:lnTo>
                <a:lnTo>
                  <a:pt x="112953" y="13921"/>
                </a:lnTo>
                <a:lnTo>
                  <a:pt x="111485" y="12135"/>
                </a:lnTo>
                <a:lnTo>
                  <a:pt x="109555" y="10944"/>
                </a:lnTo>
                <a:lnTo>
                  <a:pt x="107315" y="10150"/>
                </a:lnTo>
                <a:lnTo>
                  <a:pt x="102286" y="6728"/>
                </a:lnTo>
                <a:lnTo>
                  <a:pt x="99611" y="4482"/>
                </a:lnTo>
                <a:lnTo>
                  <a:pt x="96876" y="2984"/>
                </a:lnTo>
                <a:lnTo>
                  <a:pt x="91296" y="1321"/>
                </a:lnTo>
                <a:lnTo>
                  <a:pt x="82800" y="384"/>
                </a:lnTo>
                <a:lnTo>
                  <a:pt x="74250" y="106"/>
                </a:lnTo>
                <a:lnTo>
                  <a:pt x="64495" y="0"/>
                </a:lnTo>
                <a:lnTo>
                  <a:pt x="62035" y="949"/>
                </a:lnTo>
                <a:lnTo>
                  <a:pt x="53070" y="6835"/>
                </a:lnTo>
                <a:lnTo>
                  <a:pt x="43887" y="11922"/>
                </a:lnTo>
                <a:lnTo>
                  <a:pt x="35996" y="17358"/>
                </a:lnTo>
                <a:lnTo>
                  <a:pt x="32558" y="20141"/>
                </a:lnTo>
                <a:lnTo>
                  <a:pt x="30266" y="23901"/>
                </a:lnTo>
                <a:lnTo>
                  <a:pt x="28738" y="28313"/>
                </a:lnTo>
                <a:lnTo>
                  <a:pt x="27719" y="33160"/>
                </a:lnTo>
                <a:lnTo>
                  <a:pt x="26088" y="37343"/>
                </a:lnTo>
                <a:lnTo>
                  <a:pt x="24048" y="41084"/>
                </a:lnTo>
                <a:lnTo>
                  <a:pt x="21735" y="44531"/>
                </a:lnTo>
                <a:lnTo>
                  <a:pt x="19241" y="48734"/>
                </a:lnTo>
                <a:lnTo>
                  <a:pt x="16625" y="53441"/>
                </a:lnTo>
                <a:lnTo>
                  <a:pt x="13930" y="58484"/>
                </a:lnTo>
                <a:lnTo>
                  <a:pt x="12133" y="63751"/>
                </a:lnTo>
                <a:lnTo>
                  <a:pt x="10934" y="69167"/>
                </a:lnTo>
                <a:lnTo>
                  <a:pt x="10135" y="74683"/>
                </a:lnTo>
                <a:lnTo>
                  <a:pt x="8650" y="80265"/>
                </a:lnTo>
                <a:lnTo>
                  <a:pt x="6708" y="85892"/>
                </a:lnTo>
                <a:lnTo>
                  <a:pt x="4460" y="91548"/>
                </a:lnTo>
                <a:lnTo>
                  <a:pt x="2962" y="97223"/>
                </a:lnTo>
                <a:lnTo>
                  <a:pt x="1963" y="102912"/>
                </a:lnTo>
                <a:lnTo>
                  <a:pt x="1297" y="108610"/>
                </a:lnTo>
                <a:lnTo>
                  <a:pt x="853" y="114313"/>
                </a:lnTo>
                <a:lnTo>
                  <a:pt x="557" y="120020"/>
                </a:lnTo>
                <a:lnTo>
                  <a:pt x="228" y="131441"/>
                </a:lnTo>
                <a:lnTo>
                  <a:pt x="0" y="160010"/>
                </a:lnTo>
                <a:lnTo>
                  <a:pt x="941" y="165725"/>
                </a:lnTo>
                <a:lnTo>
                  <a:pt x="2520" y="171440"/>
                </a:lnTo>
                <a:lnTo>
                  <a:pt x="4526" y="177155"/>
                </a:lnTo>
                <a:lnTo>
                  <a:pt x="5863" y="181917"/>
                </a:lnTo>
                <a:lnTo>
                  <a:pt x="6755" y="186045"/>
                </a:lnTo>
                <a:lnTo>
                  <a:pt x="7349" y="189749"/>
                </a:lnTo>
                <a:lnTo>
                  <a:pt x="10549" y="196405"/>
                </a:lnTo>
                <a:lnTo>
                  <a:pt x="15147" y="202538"/>
                </a:lnTo>
                <a:lnTo>
                  <a:pt x="20365" y="208438"/>
                </a:lnTo>
                <a:lnTo>
                  <a:pt x="23090" y="210393"/>
                </a:lnTo>
                <a:lnTo>
                  <a:pt x="31476" y="214096"/>
                </a:lnTo>
                <a:lnTo>
                  <a:pt x="39993" y="219850"/>
                </a:lnTo>
                <a:lnTo>
                  <a:pt x="45696" y="221531"/>
                </a:lnTo>
                <a:lnTo>
                  <a:pt x="48549" y="221026"/>
                </a:lnTo>
                <a:lnTo>
                  <a:pt x="54261" y="217926"/>
                </a:lnTo>
                <a:lnTo>
                  <a:pt x="59974" y="213373"/>
                </a:lnTo>
                <a:lnTo>
                  <a:pt x="62831" y="210825"/>
                </a:lnTo>
                <a:lnTo>
                  <a:pt x="64736" y="208174"/>
                </a:lnTo>
                <a:lnTo>
                  <a:pt x="66852" y="202688"/>
                </a:lnTo>
                <a:lnTo>
                  <a:pt x="70333" y="197075"/>
                </a:lnTo>
                <a:lnTo>
                  <a:pt x="75054" y="190453"/>
                </a:lnTo>
                <a:lnTo>
                  <a:pt x="77648" y="186020"/>
                </a:lnTo>
                <a:lnTo>
                  <a:pt x="80328" y="181160"/>
                </a:lnTo>
                <a:lnTo>
                  <a:pt x="85847" y="170680"/>
                </a:lnTo>
                <a:lnTo>
                  <a:pt x="97151" y="148429"/>
                </a:lnTo>
                <a:lnTo>
                  <a:pt x="99998" y="143717"/>
                </a:lnTo>
                <a:lnTo>
                  <a:pt x="102849" y="139623"/>
                </a:lnTo>
                <a:lnTo>
                  <a:pt x="105702" y="135941"/>
                </a:lnTo>
                <a:lnTo>
                  <a:pt x="108557" y="131581"/>
                </a:lnTo>
                <a:lnTo>
                  <a:pt x="111412" y="126770"/>
                </a:lnTo>
                <a:lnTo>
                  <a:pt x="114268" y="121657"/>
                </a:lnTo>
                <a:lnTo>
                  <a:pt x="119981" y="110897"/>
                </a:lnTo>
                <a:lnTo>
                  <a:pt x="122838" y="105360"/>
                </a:lnTo>
                <a:lnTo>
                  <a:pt x="125696" y="100716"/>
                </a:lnTo>
                <a:lnTo>
                  <a:pt x="128553" y="96668"/>
                </a:lnTo>
                <a:lnTo>
                  <a:pt x="131410" y="93017"/>
                </a:lnTo>
                <a:lnTo>
                  <a:pt x="134268" y="88678"/>
                </a:lnTo>
                <a:lnTo>
                  <a:pt x="137125" y="83880"/>
                </a:lnTo>
                <a:lnTo>
                  <a:pt x="139982" y="78777"/>
                </a:lnTo>
                <a:lnTo>
                  <a:pt x="141887" y="74422"/>
                </a:lnTo>
                <a:lnTo>
                  <a:pt x="143158" y="70566"/>
                </a:lnTo>
                <a:lnTo>
                  <a:pt x="144569" y="63742"/>
                </a:lnTo>
                <a:lnTo>
                  <a:pt x="145196" y="57534"/>
                </a:lnTo>
                <a:lnTo>
                  <a:pt x="145598" y="51679"/>
                </a:lnTo>
                <a:lnTo>
                  <a:pt x="145689" y="42800"/>
                </a:lnTo>
                <a:lnTo>
                  <a:pt x="145697" y="34668"/>
                </a:lnTo>
                <a:lnTo>
                  <a:pt x="145698" y="70354"/>
                </a:lnTo>
                <a:lnTo>
                  <a:pt x="146650" y="74522"/>
                </a:lnTo>
                <a:lnTo>
                  <a:pt x="148238" y="79205"/>
                </a:lnTo>
                <a:lnTo>
                  <a:pt x="150249" y="84233"/>
                </a:lnTo>
                <a:lnTo>
                  <a:pt x="151589" y="89489"/>
                </a:lnTo>
                <a:lnTo>
                  <a:pt x="152483" y="94898"/>
                </a:lnTo>
                <a:lnTo>
                  <a:pt x="153079" y="100410"/>
                </a:lnTo>
                <a:lnTo>
                  <a:pt x="153476" y="105989"/>
                </a:lnTo>
                <a:lnTo>
                  <a:pt x="153741" y="111613"/>
                </a:lnTo>
                <a:lnTo>
                  <a:pt x="154034" y="123895"/>
                </a:lnTo>
                <a:lnTo>
                  <a:pt x="154261" y="169424"/>
                </a:lnTo>
                <a:lnTo>
                  <a:pt x="155216" y="173906"/>
                </a:lnTo>
                <a:lnTo>
                  <a:pt x="156806" y="177846"/>
                </a:lnTo>
                <a:lnTo>
                  <a:pt x="161112" y="184764"/>
                </a:lnTo>
                <a:lnTo>
                  <a:pt x="166201" y="191014"/>
                </a:lnTo>
                <a:lnTo>
                  <a:pt x="171638" y="196967"/>
                </a:lnTo>
                <a:lnTo>
                  <a:pt x="174421" y="199888"/>
                </a:lnTo>
                <a:lnTo>
                  <a:pt x="177229" y="201835"/>
                </a:lnTo>
                <a:lnTo>
                  <a:pt x="185732" y="205528"/>
                </a:lnTo>
                <a:lnTo>
                  <a:pt x="194283" y="211279"/>
                </a:lnTo>
                <a:lnTo>
                  <a:pt x="199994" y="212958"/>
                </a:lnTo>
                <a:lnTo>
                  <a:pt x="201897" y="212454"/>
                </a:lnTo>
                <a:lnTo>
                  <a:pt x="203167" y="211165"/>
                </a:lnTo>
                <a:lnTo>
                  <a:pt x="204013" y="209353"/>
                </a:lnTo>
                <a:lnTo>
                  <a:pt x="206482" y="208145"/>
                </a:lnTo>
                <a:lnTo>
                  <a:pt x="214305" y="206803"/>
                </a:lnTo>
                <a:lnTo>
                  <a:pt x="217154" y="205493"/>
                </a:lnTo>
                <a:lnTo>
                  <a:pt x="219052" y="203667"/>
                </a:lnTo>
                <a:lnTo>
                  <a:pt x="220319" y="201497"/>
                </a:lnTo>
                <a:lnTo>
                  <a:pt x="223067" y="200050"/>
                </a:lnTo>
                <a:lnTo>
                  <a:pt x="231202" y="198443"/>
                </a:lnTo>
                <a:lnTo>
                  <a:pt x="238627" y="195189"/>
                </a:lnTo>
                <a:lnTo>
                  <a:pt x="241940" y="192987"/>
                </a:lnTo>
                <a:lnTo>
                  <a:pt x="245102" y="189615"/>
                </a:lnTo>
                <a:lnTo>
                  <a:pt x="248162" y="185461"/>
                </a:lnTo>
                <a:lnTo>
                  <a:pt x="251155" y="180787"/>
                </a:lnTo>
                <a:lnTo>
                  <a:pt x="255055" y="176719"/>
                </a:lnTo>
                <a:lnTo>
                  <a:pt x="259560" y="173054"/>
                </a:lnTo>
                <a:lnTo>
                  <a:pt x="264468" y="169658"/>
                </a:lnTo>
                <a:lnTo>
                  <a:pt x="269646" y="165490"/>
                </a:lnTo>
                <a:lnTo>
                  <a:pt x="275002" y="160805"/>
                </a:lnTo>
                <a:lnTo>
                  <a:pt x="280479" y="155778"/>
                </a:lnTo>
                <a:lnTo>
                  <a:pt x="291642" y="145111"/>
                </a:lnTo>
                <a:lnTo>
                  <a:pt x="317148" y="1200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PenAnnotation924"/>
          <p:cNvSpPr/>
          <p:nvPr/>
        </p:nvSpPr>
        <p:spPr>
          <a:xfrm>
            <a:off x="5180040" y="1414440"/>
            <a:ext cx="214200" cy="2556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14209" h="25719">
                <a:moveTo>
                  <a:pt x="8469" y="25718"/>
                </a:moveTo>
                <a:lnTo>
                  <a:pt x="0" y="25718"/>
                </a:lnTo>
                <a:lnTo>
                  <a:pt x="4478" y="25718"/>
                </a:lnTo>
                <a:lnTo>
                  <a:pt x="5808" y="24765"/>
                </a:lnTo>
                <a:lnTo>
                  <a:pt x="6695" y="23178"/>
                </a:lnTo>
                <a:lnTo>
                  <a:pt x="7286" y="21167"/>
                </a:lnTo>
                <a:lnTo>
                  <a:pt x="9586" y="19826"/>
                </a:lnTo>
                <a:lnTo>
                  <a:pt x="13023" y="18932"/>
                </a:lnTo>
                <a:lnTo>
                  <a:pt x="17220" y="18337"/>
                </a:lnTo>
                <a:lnTo>
                  <a:pt x="20971" y="17939"/>
                </a:lnTo>
                <a:lnTo>
                  <a:pt x="24423" y="17675"/>
                </a:lnTo>
                <a:lnTo>
                  <a:pt x="27677" y="17498"/>
                </a:lnTo>
                <a:lnTo>
                  <a:pt x="38913" y="17302"/>
                </a:lnTo>
                <a:lnTo>
                  <a:pt x="64859" y="17176"/>
                </a:lnTo>
                <a:lnTo>
                  <a:pt x="70827" y="16213"/>
                </a:lnTo>
                <a:lnTo>
                  <a:pt x="76711" y="14619"/>
                </a:lnTo>
                <a:lnTo>
                  <a:pt x="82539" y="12603"/>
                </a:lnTo>
                <a:lnTo>
                  <a:pt x="88329" y="11260"/>
                </a:lnTo>
                <a:lnTo>
                  <a:pt x="94094" y="10364"/>
                </a:lnTo>
                <a:lnTo>
                  <a:pt x="99842" y="9767"/>
                </a:lnTo>
                <a:lnTo>
                  <a:pt x="104627" y="9369"/>
                </a:lnTo>
                <a:lnTo>
                  <a:pt x="108769" y="9103"/>
                </a:lnTo>
                <a:lnTo>
                  <a:pt x="112483" y="8926"/>
                </a:lnTo>
                <a:lnTo>
                  <a:pt x="121690" y="8730"/>
                </a:lnTo>
                <a:lnTo>
                  <a:pt x="155469" y="8582"/>
                </a:lnTo>
                <a:lnTo>
                  <a:pt x="158857" y="7626"/>
                </a:lnTo>
                <a:lnTo>
                  <a:pt x="162067" y="6037"/>
                </a:lnTo>
                <a:lnTo>
                  <a:pt x="165160" y="4024"/>
                </a:lnTo>
                <a:lnTo>
                  <a:pt x="168175" y="2683"/>
                </a:lnTo>
                <a:lnTo>
                  <a:pt x="171137" y="1789"/>
                </a:lnTo>
                <a:lnTo>
                  <a:pt x="174064" y="1192"/>
                </a:lnTo>
                <a:lnTo>
                  <a:pt x="177920" y="795"/>
                </a:lnTo>
                <a:lnTo>
                  <a:pt x="182396" y="530"/>
                </a:lnTo>
                <a:lnTo>
                  <a:pt x="191497" y="236"/>
                </a:lnTo>
                <a:lnTo>
                  <a:pt x="205101" y="47"/>
                </a:lnTo>
                <a:lnTo>
                  <a:pt x="2142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PenAnnotation925"/>
          <p:cNvSpPr/>
          <p:nvPr/>
        </p:nvSpPr>
        <p:spPr>
          <a:xfrm>
            <a:off x="5249880" y="1474920"/>
            <a:ext cx="257040" cy="60120"/>
          </a:xfrm>
          <a:custGeom>
            <a:avLst/>
            <a:gdLst>
              <a:gd name="textAreaLeft" fmla="*/ 0 w 257040"/>
              <a:gd name="textAreaRight" fmla="*/ 257400 w 2570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257145" h="60009">
                <a:moveTo>
                  <a:pt x="8542" y="60008"/>
                </a:moveTo>
                <a:lnTo>
                  <a:pt x="0" y="60008"/>
                </a:lnTo>
                <a:lnTo>
                  <a:pt x="4529" y="60008"/>
                </a:lnTo>
                <a:lnTo>
                  <a:pt x="6819" y="59056"/>
                </a:lnTo>
                <a:lnTo>
                  <a:pt x="9298" y="57468"/>
                </a:lnTo>
                <a:lnTo>
                  <a:pt x="11904" y="55457"/>
                </a:lnTo>
                <a:lnTo>
                  <a:pt x="15545" y="54117"/>
                </a:lnTo>
                <a:lnTo>
                  <a:pt x="19878" y="53223"/>
                </a:lnTo>
                <a:lnTo>
                  <a:pt x="24672" y="52627"/>
                </a:lnTo>
                <a:lnTo>
                  <a:pt x="30725" y="51277"/>
                </a:lnTo>
                <a:lnTo>
                  <a:pt x="37618" y="49425"/>
                </a:lnTo>
                <a:lnTo>
                  <a:pt x="52897" y="44827"/>
                </a:lnTo>
                <a:lnTo>
                  <a:pt x="120042" y="22826"/>
                </a:lnTo>
                <a:lnTo>
                  <a:pt x="145719" y="14278"/>
                </a:lnTo>
                <a:lnTo>
                  <a:pt x="153333" y="12376"/>
                </a:lnTo>
                <a:lnTo>
                  <a:pt x="160314" y="11108"/>
                </a:lnTo>
                <a:lnTo>
                  <a:pt x="166873" y="10263"/>
                </a:lnTo>
                <a:lnTo>
                  <a:pt x="174103" y="8747"/>
                </a:lnTo>
                <a:lnTo>
                  <a:pt x="181781" y="6784"/>
                </a:lnTo>
                <a:lnTo>
                  <a:pt x="189757" y="4523"/>
                </a:lnTo>
                <a:lnTo>
                  <a:pt x="196980" y="3016"/>
                </a:lnTo>
                <a:lnTo>
                  <a:pt x="203699" y="2011"/>
                </a:lnTo>
                <a:lnTo>
                  <a:pt x="210084" y="1341"/>
                </a:lnTo>
                <a:lnTo>
                  <a:pt x="215293" y="894"/>
                </a:lnTo>
                <a:lnTo>
                  <a:pt x="219719" y="596"/>
                </a:lnTo>
                <a:lnTo>
                  <a:pt x="227175" y="265"/>
                </a:lnTo>
                <a:lnTo>
                  <a:pt x="236728" y="79"/>
                </a:lnTo>
                <a:lnTo>
                  <a:pt x="2571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PenAnnotation926"/>
          <p:cNvSpPr/>
          <p:nvPr/>
        </p:nvSpPr>
        <p:spPr>
          <a:xfrm>
            <a:off x="5694480" y="1346040"/>
            <a:ext cx="309600" cy="300240"/>
          </a:xfrm>
          <a:custGeom>
            <a:avLst/>
            <a:gdLst>
              <a:gd name="textAreaLeft" fmla="*/ 0 w 309600"/>
              <a:gd name="textAreaRight" fmla="*/ 309960 w 30960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08564" h="299642">
                <a:moveTo>
                  <a:pt x="34243" y="76756"/>
                </a:moveTo>
                <a:lnTo>
                  <a:pt x="34243" y="61155"/>
                </a:lnTo>
                <a:lnTo>
                  <a:pt x="36783" y="57757"/>
                </a:lnTo>
                <a:lnTo>
                  <a:pt x="43568" y="50489"/>
                </a:lnTo>
                <a:lnTo>
                  <a:pt x="46174" y="47814"/>
                </a:lnTo>
                <a:lnTo>
                  <a:pt x="54151" y="42303"/>
                </a:lnTo>
                <a:lnTo>
                  <a:pt x="63094" y="36678"/>
                </a:lnTo>
                <a:lnTo>
                  <a:pt x="70243" y="31003"/>
                </a:lnTo>
                <a:lnTo>
                  <a:pt x="79136" y="25306"/>
                </a:lnTo>
                <a:lnTo>
                  <a:pt x="84174" y="22454"/>
                </a:lnTo>
                <a:lnTo>
                  <a:pt x="94852" y="16744"/>
                </a:lnTo>
                <a:lnTo>
                  <a:pt x="100366" y="13888"/>
                </a:lnTo>
                <a:lnTo>
                  <a:pt x="109034" y="10714"/>
                </a:lnTo>
                <a:lnTo>
                  <a:pt x="117014" y="8351"/>
                </a:lnTo>
                <a:lnTo>
                  <a:pt x="121808" y="6388"/>
                </a:lnTo>
                <a:lnTo>
                  <a:pt x="126910" y="4126"/>
                </a:lnTo>
                <a:lnTo>
                  <a:pt x="132216" y="2618"/>
                </a:lnTo>
                <a:lnTo>
                  <a:pt x="137658" y="1613"/>
                </a:lnTo>
                <a:lnTo>
                  <a:pt x="143192" y="943"/>
                </a:lnTo>
                <a:lnTo>
                  <a:pt x="151880" y="199"/>
                </a:lnTo>
                <a:lnTo>
                  <a:pt x="155530" y="0"/>
                </a:lnTo>
                <a:lnTo>
                  <a:pt x="164666" y="2319"/>
                </a:lnTo>
                <a:lnTo>
                  <a:pt x="174124" y="5573"/>
                </a:lnTo>
                <a:lnTo>
                  <a:pt x="181502" y="7019"/>
                </a:lnTo>
                <a:lnTo>
                  <a:pt x="187957" y="10201"/>
                </a:lnTo>
                <a:lnTo>
                  <a:pt x="196945" y="17348"/>
                </a:lnTo>
                <a:lnTo>
                  <a:pt x="205641" y="25498"/>
                </a:lnTo>
                <a:lnTo>
                  <a:pt x="208516" y="28297"/>
                </a:lnTo>
                <a:lnTo>
                  <a:pt x="210432" y="32067"/>
                </a:lnTo>
                <a:lnTo>
                  <a:pt x="214082" y="46475"/>
                </a:lnTo>
                <a:lnTo>
                  <a:pt x="216049" y="51806"/>
                </a:lnTo>
                <a:lnTo>
                  <a:pt x="218312" y="57265"/>
                </a:lnTo>
                <a:lnTo>
                  <a:pt x="219820" y="62809"/>
                </a:lnTo>
                <a:lnTo>
                  <a:pt x="220826" y="68411"/>
                </a:lnTo>
                <a:lnTo>
                  <a:pt x="221497" y="74050"/>
                </a:lnTo>
                <a:lnTo>
                  <a:pt x="220992" y="79714"/>
                </a:lnTo>
                <a:lnTo>
                  <a:pt x="219702" y="85396"/>
                </a:lnTo>
                <a:lnTo>
                  <a:pt x="217890" y="91088"/>
                </a:lnTo>
                <a:lnTo>
                  <a:pt x="216682" y="97740"/>
                </a:lnTo>
                <a:lnTo>
                  <a:pt x="215876" y="105033"/>
                </a:lnTo>
                <a:lnTo>
                  <a:pt x="215340" y="112752"/>
                </a:lnTo>
                <a:lnTo>
                  <a:pt x="214029" y="119803"/>
                </a:lnTo>
                <a:lnTo>
                  <a:pt x="212203" y="126409"/>
                </a:lnTo>
                <a:lnTo>
                  <a:pt x="210033" y="132718"/>
                </a:lnTo>
                <a:lnTo>
                  <a:pt x="207634" y="138829"/>
                </a:lnTo>
                <a:lnTo>
                  <a:pt x="205082" y="144808"/>
                </a:lnTo>
                <a:lnTo>
                  <a:pt x="202428" y="150699"/>
                </a:lnTo>
                <a:lnTo>
                  <a:pt x="198754" y="156531"/>
                </a:lnTo>
                <a:lnTo>
                  <a:pt x="194400" y="162324"/>
                </a:lnTo>
                <a:lnTo>
                  <a:pt x="189591" y="168091"/>
                </a:lnTo>
                <a:lnTo>
                  <a:pt x="185434" y="173841"/>
                </a:lnTo>
                <a:lnTo>
                  <a:pt x="181710" y="179579"/>
                </a:lnTo>
                <a:lnTo>
                  <a:pt x="178274" y="185310"/>
                </a:lnTo>
                <a:lnTo>
                  <a:pt x="174079" y="191035"/>
                </a:lnTo>
                <a:lnTo>
                  <a:pt x="169377" y="196757"/>
                </a:lnTo>
                <a:lnTo>
                  <a:pt x="164337" y="202476"/>
                </a:lnTo>
                <a:lnTo>
                  <a:pt x="153658" y="213912"/>
                </a:lnTo>
                <a:lnTo>
                  <a:pt x="148143" y="219628"/>
                </a:lnTo>
                <a:lnTo>
                  <a:pt x="143513" y="225344"/>
                </a:lnTo>
                <a:lnTo>
                  <a:pt x="139475" y="231059"/>
                </a:lnTo>
                <a:lnTo>
                  <a:pt x="135831" y="236775"/>
                </a:lnTo>
                <a:lnTo>
                  <a:pt x="126700" y="245665"/>
                </a:lnTo>
                <a:lnTo>
                  <a:pt x="121599" y="249369"/>
                </a:lnTo>
                <a:lnTo>
                  <a:pt x="116293" y="252791"/>
                </a:lnTo>
                <a:lnTo>
                  <a:pt x="110850" y="256025"/>
                </a:lnTo>
                <a:lnTo>
                  <a:pt x="105317" y="259134"/>
                </a:lnTo>
                <a:lnTo>
                  <a:pt x="94089" y="265127"/>
                </a:lnTo>
                <a:lnTo>
                  <a:pt x="88428" y="268059"/>
                </a:lnTo>
                <a:lnTo>
                  <a:pt x="79598" y="273857"/>
                </a:lnTo>
                <a:lnTo>
                  <a:pt x="75909" y="276737"/>
                </a:lnTo>
                <a:lnTo>
                  <a:pt x="71546" y="278656"/>
                </a:lnTo>
                <a:lnTo>
                  <a:pt x="66732" y="279936"/>
                </a:lnTo>
                <a:lnTo>
                  <a:pt x="57255" y="281358"/>
                </a:lnTo>
                <a:lnTo>
                  <a:pt x="49868" y="281990"/>
                </a:lnTo>
                <a:lnTo>
                  <a:pt x="40354" y="282346"/>
                </a:lnTo>
                <a:lnTo>
                  <a:pt x="31879" y="279889"/>
                </a:lnTo>
                <a:lnTo>
                  <a:pt x="22715" y="275622"/>
                </a:lnTo>
                <a:lnTo>
                  <a:pt x="15467" y="270551"/>
                </a:lnTo>
                <a:lnTo>
                  <a:pt x="9071" y="267662"/>
                </a:lnTo>
                <a:lnTo>
                  <a:pt x="6031" y="266891"/>
                </a:lnTo>
                <a:lnTo>
                  <a:pt x="4005" y="265425"/>
                </a:lnTo>
                <a:lnTo>
                  <a:pt x="2654" y="263495"/>
                </a:lnTo>
                <a:lnTo>
                  <a:pt x="1154" y="258811"/>
                </a:lnTo>
                <a:lnTo>
                  <a:pt x="309" y="250819"/>
                </a:lnTo>
                <a:lnTo>
                  <a:pt x="59" y="242418"/>
                </a:lnTo>
                <a:lnTo>
                  <a:pt x="0" y="236743"/>
                </a:lnTo>
                <a:lnTo>
                  <a:pt x="937" y="234849"/>
                </a:lnTo>
                <a:lnTo>
                  <a:pt x="2514" y="233586"/>
                </a:lnTo>
                <a:lnTo>
                  <a:pt x="4518" y="232744"/>
                </a:lnTo>
                <a:lnTo>
                  <a:pt x="11889" y="227009"/>
                </a:lnTo>
                <a:lnTo>
                  <a:pt x="14578" y="225502"/>
                </a:lnTo>
                <a:lnTo>
                  <a:pt x="20105" y="223827"/>
                </a:lnTo>
                <a:lnTo>
                  <a:pt x="28573" y="222885"/>
                </a:lnTo>
                <a:lnTo>
                  <a:pt x="36803" y="222664"/>
                </a:lnTo>
                <a:lnTo>
                  <a:pt x="74398" y="222498"/>
                </a:lnTo>
                <a:lnTo>
                  <a:pt x="80063" y="223447"/>
                </a:lnTo>
                <a:lnTo>
                  <a:pt x="85745" y="225033"/>
                </a:lnTo>
                <a:lnTo>
                  <a:pt x="91438" y="227042"/>
                </a:lnTo>
                <a:lnTo>
                  <a:pt x="97138" y="229334"/>
                </a:lnTo>
                <a:lnTo>
                  <a:pt x="102843" y="231814"/>
                </a:lnTo>
                <a:lnTo>
                  <a:pt x="108551" y="234421"/>
                </a:lnTo>
                <a:lnTo>
                  <a:pt x="115214" y="238063"/>
                </a:lnTo>
                <a:lnTo>
                  <a:pt x="122514" y="242396"/>
                </a:lnTo>
                <a:lnTo>
                  <a:pt x="130238" y="247190"/>
                </a:lnTo>
                <a:lnTo>
                  <a:pt x="137292" y="251339"/>
                </a:lnTo>
                <a:lnTo>
                  <a:pt x="143900" y="255057"/>
                </a:lnTo>
                <a:lnTo>
                  <a:pt x="156322" y="261728"/>
                </a:lnTo>
                <a:lnTo>
                  <a:pt x="168193" y="267868"/>
                </a:lnTo>
                <a:lnTo>
                  <a:pt x="174026" y="269886"/>
                </a:lnTo>
                <a:lnTo>
                  <a:pt x="179819" y="271232"/>
                </a:lnTo>
                <a:lnTo>
                  <a:pt x="185586" y="272129"/>
                </a:lnTo>
                <a:lnTo>
                  <a:pt x="194534" y="275666"/>
                </a:lnTo>
                <a:lnTo>
                  <a:pt x="202639" y="280412"/>
                </a:lnTo>
                <a:lnTo>
                  <a:pt x="212591" y="285697"/>
                </a:lnTo>
                <a:lnTo>
                  <a:pt x="220823" y="288681"/>
                </a:lnTo>
                <a:lnTo>
                  <a:pt x="228610" y="290007"/>
                </a:lnTo>
                <a:lnTo>
                  <a:pt x="233354" y="290361"/>
                </a:lnTo>
                <a:lnTo>
                  <a:pt x="238421" y="290597"/>
                </a:lnTo>
                <a:lnTo>
                  <a:pt x="242752" y="291706"/>
                </a:lnTo>
                <a:lnTo>
                  <a:pt x="250104" y="295479"/>
                </a:lnTo>
                <a:lnTo>
                  <a:pt x="256546" y="297791"/>
                </a:lnTo>
                <a:lnTo>
                  <a:pt x="263537" y="298819"/>
                </a:lnTo>
                <a:lnTo>
                  <a:pt x="272994" y="299275"/>
                </a:lnTo>
                <a:lnTo>
                  <a:pt x="284477" y="299532"/>
                </a:lnTo>
                <a:lnTo>
                  <a:pt x="308563" y="2996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PenAnnotation927"/>
          <p:cNvSpPr/>
          <p:nvPr/>
        </p:nvSpPr>
        <p:spPr>
          <a:xfrm>
            <a:off x="6407280" y="1371600"/>
            <a:ext cx="171360" cy="355680"/>
          </a:xfrm>
          <a:custGeom>
            <a:avLst/>
            <a:gdLst>
              <a:gd name="textAreaLeft" fmla="*/ 0 w 171360"/>
              <a:gd name="textAreaRight" fmla="*/ 171720 w 1713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71008" h="356075">
                <a:moveTo>
                  <a:pt x="16746" y="0"/>
                </a:moveTo>
                <a:lnTo>
                  <a:pt x="16746" y="91580"/>
                </a:lnTo>
                <a:lnTo>
                  <a:pt x="15794" y="98201"/>
                </a:lnTo>
                <a:lnTo>
                  <a:pt x="14207" y="105472"/>
                </a:lnTo>
                <a:lnTo>
                  <a:pt x="12196" y="113177"/>
                </a:lnTo>
                <a:lnTo>
                  <a:pt x="10855" y="120219"/>
                </a:lnTo>
                <a:lnTo>
                  <a:pt x="9961" y="126818"/>
                </a:lnTo>
                <a:lnTo>
                  <a:pt x="9365" y="133123"/>
                </a:lnTo>
                <a:lnTo>
                  <a:pt x="9921" y="139231"/>
                </a:lnTo>
                <a:lnTo>
                  <a:pt x="11244" y="145208"/>
                </a:lnTo>
                <a:lnTo>
                  <a:pt x="13078" y="151098"/>
                </a:lnTo>
                <a:lnTo>
                  <a:pt x="14301" y="157882"/>
                </a:lnTo>
                <a:lnTo>
                  <a:pt x="15116" y="165262"/>
                </a:lnTo>
                <a:lnTo>
                  <a:pt x="15659" y="173039"/>
                </a:lnTo>
                <a:lnTo>
                  <a:pt x="16022" y="180129"/>
                </a:lnTo>
                <a:lnTo>
                  <a:pt x="16424" y="193087"/>
                </a:lnTo>
                <a:lnTo>
                  <a:pt x="17484" y="199210"/>
                </a:lnTo>
                <a:lnTo>
                  <a:pt x="19143" y="205196"/>
                </a:lnTo>
                <a:lnTo>
                  <a:pt x="21202" y="211092"/>
                </a:lnTo>
                <a:lnTo>
                  <a:pt x="22574" y="216928"/>
                </a:lnTo>
                <a:lnTo>
                  <a:pt x="23489" y="222724"/>
                </a:lnTo>
                <a:lnTo>
                  <a:pt x="24099" y="228492"/>
                </a:lnTo>
                <a:lnTo>
                  <a:pt x="25458" y="235195"/>
                </a:lnTo>
                <a:lnTo>
                  <a:pt x="27317" y="242522"/>
                </a:lnTo>
                <a:lnTo>
                  <a:pt x="29508" y="250263"/>
                </a:lnTo>
                <a:lnTo>
                  <a:pt x="30970" y="256377"/>
                </a:lnTo>
                <a:lnTo>
                  <a:pt x="32593" y="265710"/>
                </a:lnTo>
                <a:lnTo>
                  <a:pt x="35854" y="275573"/>
                </a:lnTo>
                <a:lnTo>
                  <a:pt x="39527" y="286307"/>
                </a:lnTo>
                <a:lnTo>
                  <a:pt x="41158" y="297427"/>
                </a:lnTo>
                <a:lnTo>
                  <a:pt x="44424" y="306180"/>
                </a:lnTo>
                <a:lnTo>
                  <a:pt x="48098" y="313245"/>
                </a:lnTo>
                <a:lnTo>
                  <a:pt x="49730" y="319560"/>
                </a:lnTo>
                <a:lnTo>
                  <a:pt x="50650" y="328470"/>
                </a:lnTo>
                <a:lnTo>
                  <a:pt x="50922" y="337142"/>
                </a:lnTo>
                <a:lnTo>
                  <a:pt x="51912" y="340014"/>
                </a:lnTo>
                <a:lnTo>
                  <a:pt x="56906" y="347654"/>
                </a:lnTo>
                <a:lnTo>
                  <a:pt x="59577" y="351428"/>
                </a:lnTo>
                <a:lnTo>
                  <a:pt x="55049" y="346908"/>
                </a:lnTo>
                <a:lnTo>
                  <a:pt x="53712" y="344620"/>
                </a:lnTo>
                <a:lnTo>
                  <a:pt x="51389" y="335870"/>
                </a:lnTo>
                <a:lnTo>
                  <a:pt x="51141" y="325683"/>
                </a:lnTo>
                <a:lnTo>
                  <a:pt x="51068" y="315150"/>
                </a:lnTo>
                <a:lnTo>
                  <a:pt x="50105" y="312017"/>
                </a:lnTo>
                <a:lnTo>
                  <a:pt x="46495" y="305997"/>
                </a:lnTo>
                <a:lnTo>
                  <a:pt x="44256" y="297606"/>
                </a:lnTo>
                <a:lnTo>
                  <a:pt x="43659" y="292701"/>
                </a:lnTo>
                <a:lnTo>
                  <a:pt x="42308" y="288479"/>
                </a:lnTo>
                <a:lnTo>
                  <a:pt x="38267" y="281248"/>
                </a:lnTo>
                <a:lnTo>
                  <a:pt x="35836" y="274859"/>
                </a:lnTo>
                <a:lnTo>
                  <a:pt x="34756" y="267892"/>
                </a:lnTo>
                <a:lnTo>
                  <a:pt x="34276" y="258445"/>
                </a:lnTo>
                <a:lnTo>
                  <a:pt x="36602" y="247897"/>
                </a:lnTo>
                <a:lnTo>
                  <a:pt x="39859" y="237811"/>
                </a:lnTo>
                <a:lnTo>
                  <a:pt x="41306" y="230154"/>
                </a:lnTo>
                <a:lnTo>
                  <a:pt x="44489" y="223575"/>
                </a:lnTo>
                <a:lnTo>
                  <a:pt x="46672" y="220487"/>
                </a:lnTo>
                <a:lnTo>
                  <a:pt x="49097" y="211977"/>
                </a:lnTo>
                <a:lnTo>
                  <a:pt x="49743" y="207040"/>
                </a:lnTo>
                <a:lnTo>
                  <a:pt x="51127" y="203749"/>
                </a:lnTo>
                <a:lnTo>
                  <a:pt x="53002" y="201555"/>
                </a:lnTo>
                <a:lnTo>
                  <a:pt x="57625" y="198165"/>
                </a:lnTo>
                <a:lnTo>
                  <a:pt x="62854" y="193483"/>
                </a:lnTo>
                <a:lnTo>
                  <a:pt x="68354" y="188227"/>
                </a:lnTo>
                <a:lnTo>
                  <a:pt x="71154" y="185492"/>
                </a:lnTo>
                <a:lnTo>
                  <a:pt x="74926" y="182716"/>
                </a:lnTo>
                <a:lnTo>
                  <a:pt x="79345" y="179913"/>
                </a:lnTo>
                <a:lnTo>
                  <a:pt x="84196" y="177092"/>
                </a:lnTo>
                <a:lnTo>
                  <a:pt x="88383" y="175211"/>
                </a:lnTo>
                <a:lnTo>
                  <a:pt x="92127" y="173957"/>
                </a:lnTo>
                <a:lnTo>
                  <a:pt x="95575" y="173121"/>
                </a:lnTo>
                <a:lnTo>
                  <a:pt x="98826" y="172564"/>
                </a:lnTo>
                <a:lnTo>
                  <a:pt x="101947" y="172193"/>
                </a:lnTo>
                <a:lnTo>
                  <a:pt x="104979" y="171945"/>
                </a:lnTo>
                <a:lnTo>
                  <a:pt x="107953" y="171780"/>
                </a:lnTo>
                <a:lnTo>
                  <a:pt x="113799" y="171596"/>
                </a:lnTo>
                <a:lnTo>
                  <a:pt x="116690" y="172500"/>
                </a:lnTo>
                <a:lnTo>
                  <a:pt x="119570" y="174055"/>
                </a:lnTo>
                <a:lnTo>
                  <a:pt x="122444" y="176044"/>
                </a:lnTo>
                <a:lnTo>
                  <a:pt x="125311" y="177370"/>
                </a:lnTo>
                <a:lnTo>
                  <a:pt x="128175" y="178254"/>
                </a:lnTo>
                <a:lnTo>
                  <a:pt x="131038" y="178843"/>
                </a:lnTo>
                <a:lnTo>
                  <a:pt x="133898" y="180189"/>
                </a:lnTo>
                <a:lnTo>
                  <a:pt x="136758" y="182038"/>
                </a:lnTo>
                <a:lnTo>
                  <a:pt x="139616" y="184224"/>
                </a:lnTo>
                <a:lnTo>
                  <a:pt x="142475" y="187586"/>
                </a:lnTo>
                <a:lnTo>
                  <a:pt x="145333" y="191732"/>
                </a:lnTo>
                <a:lnTo>
                  <a:pt x="148191" y="196401"/>
                </a:lnTo>
                <a:lnTo>
                  <a:pt x="151049" y="200466"/>
                </a:lnTo>
                <a:lnTo>
                  <a:pt x="153906" y="204129"/>
                </a:lnTo>
                <a:lnTo>
                  <a:pt x="156764" y="207523"/>
                </a:lnTo>
                <a:lnTo>
                  <a:pt x="159621" y="211691"/>
                </a:lnTo>
                <a:lnTo>
                  <a:pt x="162479" y="216375"/>
                </a:lnTo>
                <a:lnTo>
                  <a:pt x="165337" y="221402"/>
                </a:lnTo>
                <a:lnTo>
                  <a:pt x="168512" y="232068"/>
                </a:lnTo>
                <a:lnTo>
                  <a:pt x="169923" y="242206"/>
                </a:lnTo>
                <a:lnTo>
                  <a:pt x="170549" y="249887"/>
                </a:lnTo>
                <a:lnTo>
                  <a:pt x="170828" y="259016"/>
                </a:lnTo>
                <a:lnTo>
                  <a:pt x="171007" y="280398"/>
                </a:lnTo>
                <a:lnTo>
                  <a:pt x="170070" y="285039"/>
                </a:lnTo>
                <a:lnTo>
                  <a:pt x="166488" y="292736"/>
                </a:lnTo>
                <a:lnTo>
                  <a:pt x="159116" y="306976"/>
                </a:lnTo>
                <a:lnTo>
                  <a:pt x="156427" y="311330"/>
                </a:lnTo>
                <a:lnTo>
                  <a:pt x="153682" y="315186"/>
                </a:lnTo>
                <a:lnTo>
                  <a:pt x="150899" y="318709"/>
                </a:lnTo>
                <a:lnTo>
                  <a:pt x="147139" y="322010"/>
                </a:lnTo>
                <a:lnTo>
                  <a:pt x="142727" y="325163"/>
                </a:lnTo>
                <a:lnTo>
                  <a:pt x="137882" y="328218"/>
                </a:lnTo>
                <a:lnTo>
                  <a:pt x="132745" y="331207"/>
                </a:lnTo>
                <a:lnTo>
                  <a:pt x="127417" y="334152"/>
                </a:lnTo>
                <a:lnTo>
                  <a:pt x="116416" y="339964"/>
                </a:lnTo>
                <a:lnTo>
                  <a:pt x="105177" y="345722"/>
                </a:lnTo>
                <a:lnTo>
                  <a:pt x="99512" y="347639"/>
                </a:lnTo>
                <a:lnTo>
                  <a:pt x="93832" y="348917"/>
                </a:lnTo>
                <a:lnTo>
                  <a:pt x="88139" y="349768"/>
                </a:lnTo>
                <a:lnTo>
                  <a:pt x="82439" y="351289"/>
                </a:lnTo>
                <a:lnTo>
                  <a:pt x="76734" y="353255"/>
                </a:lnTo>
                <a:lnTo>
                  <a:pt x="71026" y="355518"/>
                </a:lnTo>
                <a:lnTo>
                  <a:pt x="66268" y="356074"/>
                </a:lnTo>
                <a:lnTo>
                  <a:pt x="62143" y="355493"/>
                </a:lnTo>
                <a:lnTo>
                  <a:pt x="58441" y="354153"/>
                </a:lnTo>
                <a:lnTo>
                  <a:pt x="54068" y="353259"/>
                </a:lnTo>
                <a:lnTo>
                  <a:pt x="49247" y="352663"/>
                </a:lnTo>
                <a:lnTo>
                  <a:pt x="44129" y="352266"/>
                </a:lnTo>
                <a:lnTo>
                  <a:pt x="39764" y="352001"/>
                </a:lnTo>
                <a:lnTo>
                  <a:pt x="32374" y="351707"/>
                </a:lnTo>
                <a:lnTo>
                  <a:pt x="22859" y="351542"/>
                </a:lnTo>
                <a:lnTo>
                  <a:pt x="14007" y="351493"/>
                </a:lnTo>
                <a:lnTo>
                  <a:pt x="12063" y="350533"/>
                </a:lnTo>
                <a:lnTo>
                  <a:pt x="10766" y="348941"/>
                </a:lnTo>
                <a:lnTo>
                  <a:pt x="9902" y="346927"/>
                </a:lnTo>
                <a:lnTo>
                  <a:pt x="8374" y="345585"/>
                </a:lnTo>
                <a:lnTo>
                  <a:pt x="6402" y="344690"/>
                </a:lnTo>
                <a:lnTo>
                  <a:pt x="4135" y="344093"/>
                </a:lnTo>
                <a:lnTo>
                  <a:pt x="2624" y="342743"/>
                </a:lnTo>
                <a:lnTo>
                  <a:pt x="1616" y="340890"/>
                </a:lnTo>
                <a:lnTo>
                  <a:pt x="0" y="335623"/>
                </a:lnTo>
                <a:lnTo>
                  <a:pt x="2319" y="332363"/>
                </a:lnTo>
                <a:lnTo>
                  <a:pt x="4270" y="330160"/>
                </a:lnTo>
                <a:lnTo>
                  <a:pt x="5571" y="327739"/>
                </a:lnTo>
                <a:lnTo>
                  <a:pt x="7018" y="322509"/>
                </a:lnTo>
                <a:lnTo>
                  <a:pt x="9308" y="319781"/>
                </a:lnTo>
                <a:lnTo>
                  <a:pt x="12740" y="317010"/>
                </a:lnTo>
                <a:lnTo>
                  <a:pt x="25319" y="3086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PenAnnotation928"/>
          <p:cNvSpPr/>
          <p:nvPr/>
        </p:nvSpPr>
        <p:spPr>
          <a:xfrm>
            <a:off x="6680160" y="1568520"/>
            <a:ext cx="198360" cy="9360"/>
          </a:xfrm>
          <a:custGeom>
            <a:avLst/>
            <a:gdLst>
              <a:gd name="textAreaLeft" fmla="*/ 0 w 198360"/>
              <a:gd name="textAreaRight" fmla="*/ 198720 w 1983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97169" h="8574">
                <a:moveTo>
                  <a:pt x="0" y="8573"/>
                </a:moveTo>
                <a:lnTo>
                  <a:pt x="49115" y="8573"/>
                </a:lnTo>
                <a:lnTo>
                  <a:pt x="53699" y="7620"/>
                </a:lnTo>
                <a:lnTo>
                  <a:pt x="57707" y="6033"/>
                </a:lnTo>
                <a:lnTo>
                  <a:pt x="61331" y="4022"/>
                </a:lnTo>
                <a:lnTo>
                  <a:pt x="65653" y="2681"/>
                </a:lnTo>
                <a:lnTo>
                  <a:pt x="70439" y="1788"/>
                </a:lnTo>
                <a:lnTo>
                  <a:pt x="75534" y="1192"/>
                </a:lnTo>
                <a:lnTo>
                  <a:pt x="80836" y="794"/>
                </a:lnTo>
                <a:lnTo>
                  <a:pt x="86276" y="530"/>
                </a:lnTo>
                <a:lnTo>
                  <a:pt x="97400" y="235"/>
                </a:lnTo>
                <a:lnTo>
                  <a:pt x="19716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PenAnnotation929"/>
          <p:cNvSpPr/>
          <p:nvPr/>
        </p:nvSpPr>
        <p:spPr>
          <a:xfrm>
            <a:off x="6715080" y="1636560"/>
            <a:ext cx="196920" cy="17640"/>
          </a:xfrm>
          <a:custGeom>
            <a:avLst/>
            <a:gdLst>
              <a:gd name="textAreaLeft" fmla="*/ 0 w 196920"/>
              <a:gd name="textAreaRight" fmla="*/ 197280 w 1969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97159" h="17146">
                <a:moveTo>
                  <a:pt x="8563" y="8573"/>
                </a:moveTo>
                <a:lnTo>
                  <a:pt x="22" y="17114"/>
                </a:lnTo>
                <a:lnTo>
                  <a:pt x="0" y="17136"/>
                </a:lnTo>
                <a:lnTo>
                  <a:pt x="49922" y="17145"/>
                </a:lnTo>
                <a:lnTo>
                  <a:pt x="55186" y="16192"/>
                </a:lnTo>
                <a:lnTo>
                  <a:pt x="60600" y="14605"/>
                </a:lnTo>
                <a:lnTo>
                  <a:pt x="66114" y="12594"/>
                </a:lnTo>
                <a:lnTo>
                  <a:pt x="71695" y="11254"/>
                </a:lnTo>
                <a:lnTo>
                  <a:pt x="77321" y="10360"/>
                </a:lnTo>
                <a:lnTo>
                  <a:pt x="82977" y="9764"/>
                </a:lnTo>
                <a:lnTo>
                  <a:pt x="88653" y="9367"/>
                </a:lnTo>
                <a:lnTo>
                  <a:pt x="94341" y="9102"/>
                </a:lnTo>
                <a:lnTo>
                  <a:pt x="105741" y="8808"/>
                </a:lnTo>
                <a:lnTo>
                  <a:pt x="117159" y="8677"/>
                </a:lnTo>
                <a:lnTo>
                  <a:pt x="123822" y="7690"/>
                </a:lnTo>
                <a:lnTo>
                  <a:pt x="131123" y="6079"/>
                </a:lnTo>
                <a:lnTo>
                  <a:pt x="138847" y="4053"/>
                </a:lnTo>
                <a:lnTo>
                  <a:pt x="144949" y="2702"/>
                </a:lnTo>
                <a:lnTo>
                  <a:pt x="149970" y="1801"/>
                </a:lnTo>
                <a:lnTo>
                  <a:pt x="154269" y="1201"/>
                </a:lnTo>
                <a:lnTo>
                  <a:pt x="159040" y="801"/>
                </a:lnTo>
                <a:lnTo>
                  <a:pt x="164126" y="534"/>
                </a:lnTo>
                <a:lnTo>
                  <a:pt x="174857" y="237"/>
                </a:lnTo>
                <a:lnTo>
                  <a:pt x="19715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PenAnnotation930"/>
          <p:cNvSpPr/>
          <p:nvPr/>
        </p:nvSpPr>
        <p:spPr>
          <a:xfrm>
            <a:off x="7043760" y="1440000"/>
            <a:ext cx="82440" cy="291960"/>
          </a:xfrm>
          <a:custGeom>
            <a:avLst/>
            <a:gdLst>
              <a:gd name="textAreaLeft" fmla="*/ 0 w 82440"/>
              <a:gd name="textAreaRight" fmla="*/ 82800 w 82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2093" h="291466">
                <a:moveTo>
                  <a:pt x="4939" y="0"/>
                </a:moveTo>
                <a:lnTo>
                  <a:pt x="0" y="0"/>
                </a:lnTo>
                <a:lnTo>
                  <a:pt x="4100" y="0"/>
                </a:lnTo>
                <a:lnTo>
                  <a:pt x="4380" y="952"/>
                </a:lnTo>
                <a:lnTo>
                  <a:pt x="4890" y="9683"/>
                </a:lnTo>
                <a:lnTo>
                  <a:pt x="4938" y="36912"/>
                </a:lnTo>
                <a:lnTo>
                  <a:pt x="7479" y="45297"/>
                </a:lnTo>
                <a:lnTo>
                  <a:pt x="9489" y="50201"/>
                </a:lnTo>
                <a:lnTo>
                  <a:pt x="10830" y="55374"/>
                </a:lnTo>
                <a:lnTo>
                  <a:pt x="11724" y="60729"/>
                </a:lnTo>
                <a:lnTo>
                  <a:pt x="12319" y="66203"/>
                </a:lnTo>
                <a:lnTo>
                  <a:pt x="12982" y="74826"/>
                </a:lnTo>
                <a:lnTo>
                  <a:pt x="13277" y="82786"/>
                </a:lnTo>
                <a:lnTo>
                  <a:pt x="13480" y="108950"/>
                </a:lnTo>
                <a:lnTo>
                  <a:pt x="14443" y="114543"/>
                </a:lnTo>
                <a:lnTo>
                  <a:pt x="16038" y="120177"/>
                </a:lnTo>
                <a:lnTo>
                  <a:pt x="18053" y="125838"/>
                </a:lnTo>
                <a:lnTo>
                  <a:pt x="19396" y="131517"/>
                </a:lnTo>
                <a:lnTo>
                  <a:pt x="20292" y="137208"/>
                </a:lnTo>
                <a:lnTo>
                  <a:pt x="20889" y="142907"/>
                </a:lnTo>
                <a:lnTo>
                  <a:pt x="22240" y="149563"/>
                </a:lnTo>
                <a:lnTo>
                  <a:pt x="24093" y="156859"/>
                </a:lnTo>
                <a:lnTo>
                  <a:pt x="26280" y="164580"/>
                </a:lnTo>
                <a:lnTo>
                  <a:pt x="27739" y="171632"/>
                </a:lnTo>
                <a:lnTo>
                  <a:pt x="28711" y="178239"/>
                </a:lnTo>
                <a:lnTo>
                  <a:pt x="29360" y="184548"/>
                </a:lnTo>
                <a:lnTo>
                  <a:pt x="30745" y="189707"/>
                </a:lnTo>
                <a:lnTo>
                  <a:pt x="32620" y="194099"/>
                </a:lnTo>
                <a:lnTo>
                  <a:pt x="34823" y="197979"/>
                </a:lnTo>
                <a:lnTo>
                  <a:pt x="39811" y="207370"/>
                </a:lnTo>
                <a:lnTo>
                  <a:pt x="50774" y="228922"/>
                </a:lnTo>
                <a:lnTo>
                  <a:pt x="52641" y="233577"/>
                </a:lnTo>
                <a:lnTo>
                  <a:pt x="54715" y="241289"/>
                </a:lnTo>
                <a:lnTo>
                  <a:pt x="55269" y="245632"/>
                </a:lnTo>
                <a:lnTo>
                  <a:pt x="55637" y="250432"/>
                </a:lnTo>
                <a:lnTo>
                  <a:pt x="55883" y="255537"/>
                </a:lnTo>
                <a:lnTo>
                  <a:pt x="56999" y="259893"/>
                </a:lnTo>
                <a:lnTo>
                  <a:pt x="58696" y="263749"/>
                </a:lnTo>
                <a:lnTo>
                  <a:pt x="60780" y="267273"/>
                </a:lnTo>
                <a:lnTo>
                  <a:pt x="63121" y="270574"/>
                </a:lnTo>
                <a:lnTo>
                  <a:pt x="65635" y="273728"/>
                </a:lnTo>
                <a:lnTo>
                  <a:pt x="71962" y="281082"/>
                </a:lnTo>
                <a:lnTo>
                  <a:pt x="72481" y="282638"/>
                </a:lnTo>
                <a:lnTo>
                  <a:pt x="73057" y="286907"/>
                </a:lnTo>
                <a:lnTo>
                  <a:pt x="74164" y="288426"/>
                </a:lnTo>
                <a:lnTo>
                  <a:pt x="75854" y="289439"/>
                </a:lnTo>
                <a:lnTo>
                  <a:pt x="82092" y="2914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PenAnnotation931"/>
          <p:cNvSpPr/>
          <p:nvPr/>
        </p:nvSpPr>
        <p:spPr>
          <a:xfrm>
            <a:off x="7211880" y="1422360"/>
            <a:ext cx="120960" cy="309600"/>
          </a:xfrm>
          <a:custGeom>
            <a:avLst/>
            <a:gdLst>
              <a:gd name="textAreaLeft" fmla="*/ 0 w 120960"/>
              <a:gd name="textAreaRight" fmla="*/ 121320 w 12096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120015" h="308611">
                <a:moveTo>
                  <a:pt x="0" y="0"/>
                </a:moveTo>
                <a:lnTo>
                  <a:pt x="0" y="11931"/>
                </a:lnTo>
                <a:lnTo>
                  <a:pt x="952" y="14622"/>
                </a:lnTo>
                <a:lnTo>
                  <a:pt x="4551" y="20151"/>
                </a:lnTo>
                <a:lnTo>
                  <a:pt x="6844" y="22959"/>
                </a:lnTo>
                <a:lnTo>
                  <a:pt x="9325" y="25783"/>
                </a:lnTo>
                <a:lnTo>
                  <a:pt x="11931" y="28619"/>
                </a:lnTo>
                <a:lnTo>
                  <a:pt x="13670" y="32414"/>
                </a:lnTo>
                <a:lnTo>
                  <a:pt x="15600" y="41711"/>
                </a:lnTo>
                <a:lnTo>
                  <a:pt x="17067" y="46857"/>
                </a:lnTo>
                <a:lnTo>
                  <a:pt x="18999" y="52193"/>
                </a:lnTo>
                <a:lnTo>
                  <a:pt x="21238" y="57655"/>
                </a:lnTo>
                <a:lnTo>
                  <a:pt x="23683" y="63202"/>
                </a:lnTo>
                <a:lnTo>
                  <a:pt x="28941" y="74444"/>
                </a:lnTo>
                <a:lnTo>
                  <a:pt x="31676" y="81062"/>
                </a:lnTo>
                <a:lnTo>
                  <a:pt x="34453" y="88331"/>
                </a:lnTo>
                <a:lnTo>
                  <a:pt x="37256" y="96035"/>
                </a:lnTo>
                <a:lnTo>
                  <a:pt x="40077" y="103076"/>
                </a:lnTo>
                <a:lnTo>
                  <a:pt x="42910" y="109674"/>
                </a:lnTo>
                <a:lnTo>
                  <a:pt x="48598" y="122086"/>
                </a:lnTo>
                <a:lnTo>
                  <a:pt x="54301" y="133953"/>
                </a:lnTo>
                <a:lnTo>
                  <a:pt x="56203" y="139784"/>
                </a:lnTo>
                <a:lnTo>
                  <a:pt x="57471" y="145577"/>
                </a:lnTo>
                <a:lnTo>
                  <a:pt x="58316" y="151344"/>
                </a:lnTo>
                <a:lnTo>
                  <a:pt x="59833" y="157093"/>
                </a:lnTo>
                <a:lnTo>
                  <a:pt x="61796" y="162831"/>
                </a:lnTo>
                <a:lnTo>
                  <a:pt x="64057" y="168561"/>
                </a:lnTo>
                <a:lnTo>
                  <a:pt x="66517" y="174287"/>
                </a:lnTo>
                <a:lnTo>
                  <a:pt x="71791" y="185728"/>
                </a:lnTo>
                <a:lnTo>
                  <a:pt x="73578" y="191446"/>
                </a:lnTo>
                <a:lnTo>
                  <a:pt x="74769" y="197163"/>
                </a:lnTo>
                <a:lnTo>
                  <a:pt x="75563" y="202879"/>
                </a:lnTo>
                <a:lnTo>
                  <a:pt x="77045" y="208595"/>
                </a:lnTo>
                <a:lnTo>
                  <a:pt x="78986" y="214311"/>
                </a:lnTo>
                <a:lnTo>
                  <a:pt x="81233" y="220026"/>
                </a:lnTo>
                <a:lnTo>
                  <a:pt x="83682" y="224789"/>
                </a:lnTo>
                <a:lnTo>
                  <a:pt x="86268" y="228917"/>
                </a:lnTo>
                <a:lnTo>
                  <a:pt x="88945" y="232621"/>
                </a:lnTo>
                <a:lnTo>
                  <a:pt x="91918" y="241817"/>
                </a:lnTo>
                <a:lnTo>
                  <a:pt x="92710" y="246936"/>
                </a:lnTo>
                <a:lnTo>
                  <a:pt x="96132" y="255164"/>
                </a:lnTo>
                <a:lnTo>
                  <a:pt x="98378" y="258692"/>
                </a:lnTo>
                <a:lnTo>
                  <a:pt x="100873" y="267691"/>
                </a:lnTo>
                <a:lnTo>
                  <a:pt x="101983" y="277089"/>
                </a:lnTo>
                <a:lnTo>
                  <a:pt x="102475" y="284440"/>
                </a:lnTo>
                <a:lnTo>
                  <a:pt x="103559" y="287734"/>
                </a:lnTo>
                <a:lnTo>
                  <a:pt x="107303" y="293934"/>
                </a:lnTo>
                <a:lnTo>
                  <a:pt x="110216" y="298229"/>
                </a:lnTo>
                <a:lnTo>
                  <a:pt x="110898" y="301773"/>
                </a:lnTo>
                <a:lnTo>
                  <a:pt x="111334" y="307259"/>
                </a:lnTo>
                <a:lnTo>
                  <a:pt x="112322" y="307709"/>
                </a:lnTo>
                <a:lnTo>
                  <a:pt x="115961" y="308209"/>
                </a:lnTo>
                <a:lnTo>
                  <a:pt x="120014" y="3086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PenAnnotation932"/>
          <p:cNvSpPr/>
          <p:nvPr/>
        </p:nvSpPr>
        <p:spPr>
          <a:xfrm>
            <a:off x="7743960" y="1482840"/>
            <a:ext cx="299880" cy="222120"/>
          </a:xfrm>
          <a:custGeom>
            <a:avLst/>
            <a:gdLst>
              <a:gd name="textAreaLeft" fmla="*/ 0 w 299880"/>
              <a:gd name="textAreaRight" fmla="*/ 299880 w 2998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99993" h="222365">
                <a:moveTo>
                  <a:pt x="145687" y="25604"/>
                </a:moveTo>
                <a:lnTo>
                  <a:pt x="145687" y="17384"/>
                </a:lnTo>
                <a:lnTo>
                  <a:pt x="141136" y="12585"/>
                </a:lnTo>
                <a:lnTo>
                  <a:pt x="138843" y="11209"/>
                </a:lnTo>
                <a:lnTo>
                  <a:pt x="133756" y="9681"/>
                </a:lnTo>
                <a:lnTo>
                  <a:pt x="132017" y="8321"/>
                </a:lnTo>
                <a:lnTo>
                  <a:pt x="130859" y="6462"/>
                </a:lnTo>
                <a:lnTo>
                  <a:pt x="130087" y="4270"/>
                </a:lnTo>
                <a:lnTo>
                  <a:pt x="128620" y="2809"/>
                </a:lnTo>
                <a:lnTo>
                  <a:pt x="126689" y="1835"/>
                </a:lnTo>
                <a:lnTo>
                  <a:pt x="122003" y="752"/>
                </a:lnTo>
                <a:lnTo>
                  <a:pt x="113058" y="143"/>
                </a:lnTo>
                <a:lnTo>
                  <a:pt x="103881" y="0"/>
                </a:lnTo>
                <a:lnTo>
                  <a:pt x="99719" y="915"/>
                </a:lnTo>
                <a:lnTo>
                  <a:pt x="89310" y="5800"/>
                </a:lnTo>
                <a:lnTo>
                  <a:pt x="83166" y="7277"/>
                </a:lnTo>
                <a:lnTo>
                  <a:pt x="77260" y="10473"/>
                </a:lnTo>
                <a:lnTo>
                  <a:pt x="70508" y="15069"/>
                </a:lnTo>
                <a:lnTo>
                  <a:pt x="61156" y="20287"/>
                </a:lnTo>
                <a:lnTo>
                  <a:pt x="56948" y="23964"/>
                </a:lnTo>
                <a:lnTo>
                  <a:pt x="53191" y="28321"/>
                </a:lnTo>
                <a:lnTo>
                  <a:pt x="49733" y="33130"/>
                </a:lnTo>
                <a:lnTo>
                  <a:pt x="45522" y="38241"/>
                </a:lnTo>
                <a:lnTo>
                  <a:pt x="40811" y="43554"/>
                </a:lnTo>
                <a:lnTo>
                  <a:pt x="35765" y="49000"/>
                </a:lnTo>
                <a:lnTo>
                  <a:pt x="31448" y="54536"/>
                </a:lnTo>
                <a:lnTo>
                  <a:pt x="27618" y="60132"/>
                </a:lnTo>
                <a:lnTo>
                  <a:pt x="24112" y="65768"/>
                </a:lnTo>
                <a:lnTo>
                  <a:pt x="20821" y="71430"/>
                </a:lnTo>
                <a:lnTo>
                  <a:pt x="14626" y="82801"/>
                </a:lnTo>
                <a:lnTo>
                  <a:pt x="5784" y="99912"/>
                </a:lnTo>
                <a:lnTo>
                  <a:pt x="3840" y="105623"/>
                </a:lnTo>
                <a:lnTo>
                  <a:pt x="2546" y="111335"/>
                </a:lnTo>
                <a:lnTo>
                  <a:pt x="1682" y="117048"/>
                </a:lnTo>
                <a:lnTo>
                  <a:pt x="1106" y="122761"/>
                </a:lnTo>
                <a:lnTo>
                  <a:pt x="722" y="128475"/>
                </a:lnTo>
                <a:lnTo>
                  <a:pt x="466" y="134190"/>
                </a:lnTo>
                <a:lnTo>
                  <a:pt x="182" y="145619"/>
                </a:lnTo>
                <a:lnTo>
                  <a:pt x="0" y="168479"/>
                </a:lnTo>
                <a:lnTo>
                  <a:pt x="937" y="173241"/>
                </a:lnTo>
                <a:lnTo>
                  <a:pt x="2515" y="177369"/>
                </a:lnTo>
                <a:lnTo>
                  <a:pt x="6808" y="185447"/>
                </a:lnTo>
                <a:lnTo>
                  <a:pt x="11889" y="195388"/>
                </a:lnTo>
                <a:lnTo>
                  <a:pt x="14579" y="199753"/>
                </a:lnTo>
                <a:lnTo>
                  <a:pt x="17325" y="203616"/>
                </a:lnTo>
                <a:lnTo>
                  <a:pt x="20107" y="207143"/>
                </a:lnTo>
                <a:lnTo>
                  <a:pt x="23867" y="209495"/>
                </a:lnTo>
                <a:lnTo>
                  <a:pt x="33125" y="212108"/>
                </a:lnTo>
                <a:lnTo>
                  <a:pt x="38260" y="213757"/>
                </a:lnTo>
                <a:lnTo>
                  <a:pt x="43589" y="215810"/>
                </a:lnTo>
                <a:lnTo>
                  <a:pt x="49047" y="218130"/>
                </a:lnTo>
                <a:lnTo>
                  <a:pt x="55543" y="219677"/>
                </a:lnTo>
                <a:lnTo>
                  <a:pt x="62731" y="220708"/>
                </a:lnTo>
                <a:lnTo>
                  <a:pt x="70380" y="221396"/>
                </a:lnTo>
                <a:lnTo>
                  <a:pt x="77385" y="221854"/>
                </a:lnTo>
                <a:lnTo>
                  <a:pt x="90247" y="222364"/>
                </a:lnTo>
                <a:lnTo>
                  <a:pt x="97297" y="221547"/>
                </a:lnTo>
                <a:lnTo>
                  <a:pt x="104855" y="220050"/>
                </a:lnTo>
                <a:lnTo>
                  <a:pt x="112751" y="218099"/>
                </a:lnTo>
                <a:lnTo>
                  <a:pt x="120872" y="215847"/>
                </a:lnTo>
                <a:lnTo>
                  <a:pt x="137515" y="210804"/>
                </a:lnTo>
                <a:lnTo>
                  <a:pt x="162952" y="202609"/>
                </a:lnTo>
                <a:lnTo>
                  <a:pt x="170532" y="199805"/>
                </a:lnTo>
                <a:lnTo>
                  <a:pt x="177489" y="196983"/>
                </a:lnTo>
                <a:lnTo>
                  <a:pt x="184034" y="194149"/>
                </a:lnTo>
                <a:lnTo>
                  <a:pt x="196385" y="188460"/>
                </a:lnTo>
                <a:lnTo>
                  <a:pt x="202346" y="185610"/>
                </a:lnTo>
                <a:lnTo>
                  <a:pt x="209177" y="182757"/>
                </a:lnTo>
                <a:lnTo>
                  <a:pt x="216589" y="179902"/>
                </a:lnTo>
                <a:lnTo>
                  <a:pt x="224387" y="177047"/>
                </a:lnTo>
                <a:lnTo>
                  <a:pt x="231492" y="174191"/>
                </a:lnTo>
                <a:lnTo>
                  <a:pt x="238132" y="171334"/>
                </a:lnTo>
                <a:lnTo>
                  <a:pt x="250591" y="165620"/>
                </a:lnTo>
                <a:lnTo>
                  <a:pt x="262479" y="159906"/>
                </a:lnTo>
                <a:lnTo>
                  <a:pt x="269268" y="156096"/>
                </a:lnTo>
                <a:lnTo>
                  <a:pt x="276652" y="151651"/>
                </a:lnTo>
                <a:lnTo>
                  <a:pt x="299992" y="1370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PenAnnotation933"/>
          <p:cNvSpPr/>
          <p:nvPr/>
        </p:nvSpPr>
        <p:spPr>
          <a:xfrm>
            <a:off x="8043840" y="1508040"/>
            <a:ext cx="206280" cy="9720"/>
          </a:xfrm>
          <a:custGeom>
            <a:avLst/>
            <a:gdLst>
              <a:gd name="textAreaLeft" fmla="*/ 0 w 206280"/>
              <a:gd name="textAreaRight" fmla="*/ 206640 w 20628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205709" h="8573">
                <a:moveTo>
                  <a:pt x="8540" y="8572"/>
                </a:moveTo>
                <a:lnTo>
                  <a:pt x="0" y="8572"/>
                </a:lnTo>
                <a:lnTo>
                  <a:pt x="70299" y="8572"/>
                </a:lnTo>
                <a:lnTo>
                  <a:pt x="77335" y="7620"/>
                </a:lnTo>
                <a:lnTo>
                  <a:pt x="83931" y="6032"/>
                </a:lnTo>
                <a:lnTo>
                  <a:pt x="90234" y="4021"/>
                </a:lnTo>
                <a:lnTo>
                  <a:pt x="97293" y="2681"/>
                </a:lnTo>
                <a:lnTo>
                  <a:pt x="104857" y="1787"/>
                </a:lnTo>
                <a:lnTo>
                  <a:pt x="112756" y="1191"/>
                </a:lnTo>
                <a:lnTo>
                  <a:pt x="119927" y="794"/>
                </a:lnTo>
                <a:lnTo>
                  <a:pt x="132975" y="353"/>
                </a:lnTo>
                <a:lnTo>
                  <a:pt x="160135" y="46"/>
                </a:lnTo>
                <a:lnTo>
                  <a:pt x="203897" y="0"/>
                </a:lnTo>
                <a:lnTo>
                  <a:pt x="204500" y="952"/>
                </a:lnTo>
                <a:lnTo>
                  <a:pt x="204904" y="2540"/>
                </a:lnTo>
                <a:lnTo>
                  <a:pt x="205708" y="85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PenAnnotation934"/>
          <p:cNvSpPr/>
          <p:nvPr/>
        </p:nvSpPr>
        <p:spPr>
          <a:xfrm>
            <a:off x="8061480" y="1603440"/>
            <a:ext cx="264960" cy="7920"/>
          </a:xfrm>
          <a:custGeom>
            <a:avLst/>
            <a:gdLst>
              <a:gd name="textAreaLeft" fmla="*/ 0 w 264960"/>
              <a:gd name="textAreaRight" fmla="*/ 265320 w 2649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65749" h="8574">
                <a:moveTo>
                  <a:pt x="0" y="0"/>
                </a:moveTo>
                <a:lnTo>
                  <a:pt x="0" y="8542"/>
                </a:lnTo>
                <a:lnTo>
                  <a:pt x="265748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PenAnnotation935"/>
          <p:cNvSpPr/>
          <p:nvPr/>
        </p:nvSpPr>
        <p:spPr>
          <a:xfrm>
            <a:off x="8480520" y="1389240"/>
            <a:ext cx="257040" cy="325440"/>
          </a:xfrm>
          <a:custGeom>
            <a:avLst/>
            <a:gdLst>
              <a:gd name="textAreaLeft" fmla="*/ 0 w 257040"/>
              <a:gd name="textAreaRight" fmla="*/ 257400 w 25704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255791" h="325346">
                <a:moveTo>
                  <a:pt x="137160" y="42500"/>
                </a:moveTo>
                <a:lnTo>
                  <a:pt x="137160" y="37949"/>
                </a:lnTo>
                <a:lnTo>
                  <a:pt x="138113" y="36609"/>
                </a:lnTo>
                <a:lnTo>
                  <a:pt x="139700" y="35715"/>
                </a:lnTo>
                <a:lnTo>
                  <a:pt x="144542" y="34281"/>
                </a:lnTo>
                <a:lnTo>
                  <a:pt x="149932" y="34032"/>
                </a:lnTo>
                <a:lnTo>
                  <a:pt x="151389" y="33045"/>
                </a:lnTo>
                <a:lnTo>
                  <a:pt x="152362" y="31434"/>
                </a:lnTo>
                <a:lnTo>
                  <a:pt x="153010" y="29408"/>
                </a:lnTo>
                <a:lnTo>
                  <a:pt x="154395" y="28057"/>
                </a:lnTo>
                <a:lnTo>
                  <a:pt x="156270" y="27156"/>
                </a:lnTo>
                <a:lnTo>
                  <a:pt x="158473" y="26556"/>
                </a:lnTo>
                <a:lnTo>
                  <a:pt x="158988" y="26156"/>
                </a:lnTo>
                <a:lnTo>
                  <a:pt x="158381" y="25889"/>
                </a:lnTo>
                <a:lnTo>
                  <a:pt x="152937" y="25425"/>
                </a:lnTo>
                <a:lnTo>
                  <a:pt x="105293" y="25356"/>
                </a:lnTo>
                <a:lnTo>
                  <a:pt x="99723" y="24403"/>
                </a:lnTo>
                <a:lnTo>
                  <a:pt x="94105" y="22815"/>
                </a:lnTo>
                <a:lnTo>
                  <a:pt x="88454" y="20804"/>
                </a:lnTo>
                <a:lnTo>
                  <a:pt x="82782" y="19464"/>
                </a:lnTo>
                <a:lnTo>
                  <a:pt x="77096" y="18570"/>
                </a:lnTo>
                <a:lnTo>
                  <a:pt x="71400" y="17974"/>
                </a:lnTo>
                <a:lnTo>
                  <a:pt x="66650" y="17577"/>
                </a:lnTo>
                <a:lnTo>
                  <a:pt x="58833" y="17136"/>
                </a:lnTo>
                <a:lnTo>
                  <a:pt x="56367" y="16065"/>
                </a:lnTo>
                <a:lnTo>
                  <a:pt x="54723" y="14399"/>
                </a:lnTo>
                <a:lnTo>
                  <a:pt x="53627" y="12336"/>
                </a:lnTo>
                <a:lnTo>
                  <a:pt x="51944" y="10961"/>
                </a:lnTo>
                <a:lnTo>
                  <a:pt x="49870" y="10044"/>
                </a:lnTo>
                <a:lnTo>
                  <a:pt x="45025" y="9025"/>
                </a:lnTo>
                <a:lnTo>
                  <a:pt x="39696" y="8572"/>
                </a:lnTo>
                <a:lnTo>
                  <a:pt x="37894" y="7499"/>
                </a:lnTo>
                <a:lnTo>
                  <a:pt x="36693" y="5831"/>
                </a:lnTo>
                <a:lnTo>
                  <a:pt x="34432" y="0"/>
                </a:lnTo>
                <a:lnTo>
                  <a:pt x="34299" y="8389"/>
                </a:lnTo>
                <a:lnTo>
                  <a:pt x="34291" y="32882"/>
                </a:lnTo>
                <a:lnTo>
                  <a:pt x="33339" y="37040"/>
                </a:lnTo>
                <a:lnTo>
                  <a:pt x="29740" y="44201"/>
                </a:lnTo>
                <a:lnTo>
                  <a:pt x="27506" y="53099"/>
                </a:lnTo>
                <a:lnTo>
                  <a:pt x="26910" y="58138"/>
                </a:lnTo>
                <a:lnTo>
                  <a:pt x="26513" y="63403"/>
                </a:lnTo>
                <a:lnTo>
                  <a:pt x="26248" y="68818"/>
                </a:lnTo>
                <a:lnTo>
                  <a:pt x="25954" y="80867"/>
                </a:lnTo>
                <a:lnTo>
                  <a:pt x="25823" y="95747"/>
                </a:lnTo>
                <a:lnTo>
                  <a:pt x="24836" y="102763"/>
                </a:lnTo>
                <a:lnTo>
                  <a:pt x="23225" y="109345"/>
                </a:lnTo>
                <a:lnTo>
                  <a:pt x="21198" y="115639"/>
                </a:lnTo>
                <a:lnTo>
                  <a:pt x="19847" y="121739"/>
                </a:lnTo>
                <a:lnTo>
                  <a:pt x="18946" y="127711"/>
                </a:lnTo>
                <a:lnTo>
                  <a:pt x="18346" y="133597"/>
                </a:lnTo>
                <a:lnTo>
                  <a:pt x="17679" y="142678"/>
                </a:lnTo>
                <a:lnTo>
                  <a:pt x="17383" y="150841"/>
                </a:lnTo>
                <a:lnTo>
                  <a:pt x="17159" y="179060"/>
                </a:lnTo>
                <a:lnTo>
                  <a:pt x="17147" y="195077"/>
                </a:lnTo>
                <a:lnTo>
                  <a:pt x="18099" y="195653"/>
                </a:lnTo>
                <a:lnTo>
                  <a:pt x="24528" y="196653"/>
                </a:lnTo>
                <a:lnTo>
                  <a:pt x="27728" y="194198"/>
                </a:lnTo>
                <a:lnTo>
                  <a:pt x="32995" y="189411"/>
                </a:lnTo>
                <a:lnTo>
                  <a:pt x="38794" y="186216"/>
                </a:lnTo>
                <a:lnTo>
                  <a:pt x="74559" y="168112"/>
                </a:lnTo>
                <a:lnTo>
                  <a:pt x="81139" y="165294"/>
                </a:lnTo>
                <a:lnTo>
                  <a:pt x="88383" y="162463"/>
                </a:lnTo>
                <a:lnTo>
                  <a:pt x="96070" y="159622"/>
                </a:lnTo>
                <a:lnTo>
                  <a:pt x="104052" y="157729"/>
                </a:lnTo>
                <a:lnTo>
                  <a:pt x="112231" y="156467"/>
                </a:lnTo>
                <a:lnTo>
                  <a:pt x="120541" y="155625"/>
                </a:lnTo>
                <a:lnTo>
                  <a:pt x="128939" y="154112"/>
                </a:lnTo>
                <a:lnTo>
                  <a:pt x="137394" y="152150"/>
                </a:lnTo>
                <a:lnTo>
                  <a:pt x="145889" y="149890"/>
                </a:lnTo>
                <a:lnTo>
                  <a:pt x="154410" y="148384"/>
                </a:lnTo>
                <a:lnTo>
                  <a:pt x="162947" y="147379"/>
                </a:lnTo>
                <a:lnTo>
                  <a:pt x="171497" y="146709"/>
                </a:lnTo>
                <a:lnTo>
                  <a:pt x="179101" y="146263"/>
                </a:lnTo>
                <a:lnTo>
                  <a:pt x="192630" y="145767"/>
                </a:lnTo>
                <a:lnTo>
                  <a:pt x="198906" y="146587"/>
                </a:lnTo>
                <a:lnTo>
                  <a:pt x="204995" y="148086"/>
                </a:lnTo>
                <a:lnTo>
                  <a:pt x="210958" y="150038"/>
                </a:lnTo>
                <a:lnTo>
                  <a:pt x="216839" y="151340"/>
                </a:lnTo>
                <a:lnTo>
                  <a:pt x="222665" y="152207"/>
                </a:lnTo>
                <a:lnTo>
                  <a:pt x="228452" y="152786"/>
                </a:lnTo>
                <a:lnTo>
                  <a:pt x="233264" y="154124"/>
                </a:lnTo>
                <a:lnTo>
                  <a:pt x="241152" y="158151"/>
                </a:lnTo>
                <a:lnTo>
                  <a:pt x="243636" y="161510"/>
                </a:lnTo>
                <a:lnTo>
                  <a:pt x="245291" y="165655"/>
                </a:lnTo>
                <a:lnTo>
                  <a:pt x="246395" y="170323"/>
                </a:lnTo>
                <a:lnTo>
                  <a:pt x="250163" y="178050"/>
                </a:lnTo>
                <a:lnTo>
                  <a:pt x="252500" y="181445"/>
                </a:lnTo>
                <a:lnTo>
                  <a:pt x="255097" y="190296"/>
                </a:lnTo>
                <a:lnTo>
                  <a:pt x="255790" y="195323"/>
                </a:lnTo>
                <a:lnTo>
                  <a:pt x="255299" y="200579"/>
                </a:lnTo>
                <a:lnTo>
                  <a:pt x="254020" y="205989"/>
                </a:lnTo>
                <a:lnTo>
                  <a:pt x="252214" y="211500"/>
                </a:lnTo>
                <a:lnTo>
                  <a:pt x="251011" y="217079"/>
                </a:lnTo>
                <a:lnTo>
                  <a:pt x="250208" y="222704"/>
                </a:lnTo>
                <a:lnTo>
                  <a:pt x="249673" y="228358"/>
                </a:lnTo>
                <a:lnTo>
                  <a:pt x="247411" y="234033"/>
                </a:lnTo>
                <a:lnTo>
                  <a:pt x="243999" y="239721"/>
                </a:lnTo>
                <a:lnTo>
                  <a:pt x="239818" y="245419"/>
                </a:lnTo>
                <a:lnTo>
                  <a:pt x="234174" y="252074"/>
                </a:lnTo>
                <a:lnTo>
                  <a:pt x="227554" y="259368"/>
                </a:lnTo>
                <a:lnTo>
                  <a:pt x="220283" y="267089"/>
                </a:lnTo>
                <a:lnTo>
                  <a:pt x="213530" y="273189"/>
                </a:lnTo>
                <a:lnTo>
                  <a:pt x="207124" y="278207"/>
                </a:lnTo>
                <a:lnTo>
                  <a:pt x="186466" y="292362"/>
                </a:lnTo>
                <a:lnTo>
                  <a:pt x="178603" y="297657"/>
                </a:lnTo>
                <a:lnTo>
                  <a:pt x="170504" y="302140"/>
                </a:lnTo>
                <a:lnTo>
                  <a:pt x="162247" y="306081"/>
                </a:lnTo>
                <a:lnTo>
                  <a:pt x="153885" y="309661"/>
                </a:lnTo>
                <a:lnTo>
                  <a:pt x="139514" y="316178"/>
                </a:lnTo>
                <a:lnTo>
                  <a:pt x="133015" y="319249"/>
                </a:lnTo>
                <a:lnTo>
                  <a:pt x="125824" y="321297"/>
                </a:lnTo>
                <a:lnTo>
                  <a:pt x="118173" y="322662"/>
                </a:lnTo>
                <a:lnTo>
                  <a:pt x="110215" y="323572"/>
                </a:lnTo>
                <a:lnTo>
                  <a:pt x="103004" y="324179"/>
                </a:lnTo>
                <a:lnTo>
                  <a:pt x="96293" y="324584"/>
                </a:lnTo>
                <a:lnTo>
                  <a:pt x="83754" y="325033"/>
                </a:lnTo>
                <a:lnTo>
                  <a:pt x="60183" y="325322"/>
                </a:lnTo>
                <a:lnTo>
                  <a:pt x="54409" y="325345"/>
                </a:lnTo>
                <a:lnTo>
                  <a:pt x="49608" y="324408"/>
                </a:lnTo>
                <a:lnTo>
                  <a:pt x="38300" y="319492"/>
                </a:lnTo>
                <a:lnTo>
                  <a:pt x="31946" y="318007"/>
                </a:lnTo>
                <a:lnTo>
                  <a:pt x="25946" y="314808"/>
                </a:lnTo>
                <a:lnTo>
                  <a:pt x="18884" y="309543"/>
                </a:lnTo>
                <a:lnTo>
                  <a:pt x="11597" y="302612"/>
                </a:lnTo>
                <a:lnTo>
                  <a:pt x="8972" y="300062"/>
                </a:lnTo>
                <a:lnTo>
                  <a:pt x="6210" y="299847"/>
                </a:lnTo>
                <a:lnTo>
                  <a:pt x="0" y="2996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PenAnnotation936"/>
          <p:cNvSpPr/>
          <p:nvPr/>
        </p:nvSpPr>
        <p:spPr>
          <a:xfrm>
            <a:off x="8480520" y="168912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2" h="1">
                <a:moveTo>
                  <a:pt x="0" y="0"/>
                </a:moveTo>
                <a:lnTo>
                  <a:pt x="2541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PenAnnotation937"/>
          <p:cNvSpPr/>
          <p:nvPr/>
        </p:nvSpPr>
        <p:spPr>
          <a:xfrm>
            <a:off x="6037200" y="2417760"/>
            <a:ext cx="77760" cy="264960"/>
          </a:xfrm>
          <a:custGeom>
            <a:avLst/>
            <a:gdLst>
              <a:gd name="textAreaLeft" fmla="*/ 0 w 77760"/>
              <a:gd name="textAreaRight" fmla="*/ 78120 w 77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77153" h="265748">
                <a:moveTo>
                  <a:pt x="8572" y="0"/>
                </a:moveTo>
                <a:lnTo>
                  <a:pt x="0" y="0"/>
                </a:lnTo>
                <a:lnTo>
                  <a:pt x="7380" y="7380"/>
                </a:lnTo>
                <a:lnTo>
                  <a:pt x="8042" y="10582"/>
                </a:lnTo>
                <a:lnTo>
                  <a:pt x="8218" y="12770"/>
                </a:lnTo>
                <a:lnTo>
                  <a:pt x="9289" y="15181"/>
                </a:lnTo>
                <a:lnTo>
                  <a:pt x="10955" y="17740"/>
                </a:lnTo>
                <a:lnTo>
                  <a:pt x="13018" y="20399"/>
                </a:lnTo>
                <a:lnTo>
                  <a:pt x="14393" y="23125"/>
                </a:lnTo>
                <a:lnTo>
                  <a:pt x="15922" y="28692"/>
                </a:lnTo>
                <a:lnTo>
                  <a:pt x="16601" y="34342"/>
                </a:lnTo>
                <a:lnTo>
                  <a:pt x="16782" y="37182"/>
                </a:lnTo>
                <a:lnTo>
                  <a:pt x="17855" y="40980"/>
                </a:lnTo>
                <a:lnTo>
                  <a:pt x="19523" y="45418"/>
                </a:lnTo>
                <a:lnTo>
                  <a:pt x="21588" y="50281"/>
                </a:lnTo>
                <a:lnTo>
                  <a:pt x="23881" y="58224"/>
                </a:lnTo>
                <a:lnTo>
                  <a:pt x="24493" y="61676"/>
                </a:lnTo>
                <a:lnTo>
                  <a:pt x="25853" y="64930"/>
                </a:lnTo>
                <a:lnTo>
                  <a:pt x="27713" y="68051"/>
                </a:lnTo>
                <a:lnTo>
                  <a:pt x="29905" y="71085"/>
                </a:lnTo>
                <a:lnTo>
                  <a:pt x="31366" y="75012"/>
                </a:lnTo>
                <a:lnTo>
                  <a:pt x="32341" y="79536"/>
                </a:lnTo>
                <a:lnTo>
                  <a:pt x="32990" y="84456"/>
                </a:lnTo>
                <a:lnTo>
                  <a:pt x="34375" y="89641"/>
                </a:lnTo>
                <a:lnTo>
                  <a:pt x="36252" y="95003"/>
                </a:lnTo>
                <a:lnTo>
                  <a:pt x="38455" y="100483"/>
                </a:lnTo>
                <a:lnTo>
                  <a:pt x="39924" y="106041"/>
                </a:lnTo>
                <a:lnTo>
                  <a:pt x="40903" y="111651"/>
                </a:lnTo>
                <a:lnTo>
                  <a:pt x="41556" y="117297"/>
                </a:lnTo>
                <a:lnTo>
                  <a:pt x="41991" y="122965"/>
                </a:lnTo>
                <a:lnTo>
                  <a:pt x="42281" y="128649"/>
                </a:lnTo>
                <a:lnTo>
                  <a:pt x="42475" y="134344"/>
                </a:lnTo>
                <a:lnTo>
                  <a:pt x="43556" y="140045"/>
                </a:lnTo>
                <a:lnTo>
                  <a:pt x="45229" y="145750"/>
                </a:lnTo>
                <a:lnTo>
                  <a:pt x="47298" y="151459"/>
                </a:lnTo>
                <a:lnTo>
                  <a:pt x="48676" y="156218"/>
                </a:lnTo>
                <a:lnTo>
                  <a:pt x="50209" y="164045"/>
                </a:lnTo>
                <a:lnTo>
                  <a:pt x="51569" y="168418"/>
                </a:lnTo>
                <a:lnTo>
                  <a:pt x="53430" y="173239"/>
                </a:lnTo>
                <a:lnTo>
                  <a:pt x="55622" y="178357"/>
                </a:lnTo>
                <a:lnTo>
                  <a:pt x="57083" y="182722"/>
                </a:lnTo>
                <a:lnTo>
                  <a:pt x="58707" y="190112"/>
                </a:lnTo>
                <a:lnTo>
                  <a:pt x="59141" y="194369"/>
                </a:lnTo>
                <a:lnTo>
                  <a:pt x="59429" y="199112"/>
                </a:lnTo>
                <a:lnTo>
                  <a:pt x="59750" y="208509"/>
                </a:lnTo>
                <a:lnTo>
                  <a:pt x="59892" y="215860"/>
                </a:lnTo>
                <a:lnTo>
                  <a:pt x="60883" y="220107"/>
                </a:lnTo>
                <a:lnTo>
                  <a:pt x="62496" y="224843"/>
                </a:lnTo>
                <a:lnTo>
                  <a:pt x="64524" y="229905"/>
                </a:lnTo>
                <a:lnTo>
                  <a:pt x="66777" y="238070"/>
                </a:lnTo>
                <a:lnTo>
                  <a:pt x="67378" y="241581"/>
                </a:lnTo>
                <a:lnTo>
                  <a:pt x="68731" y="244874"/>
                </a:lnTo>
                <a:lnTo>
                  <a:pt x="70585" y="248021"/>
                </a:lnTo>
                <a:lnTo>
                  <a:pt x="75854" y="255367"/>
                </a:lnTo>
                <a:lnTo>
                  <a:pt x="76576" y="258911"/>
                </a:lnTo>
                <a:lnTo>
                  <a:pt x="77152" y="26574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PenAnnotation938"/>
          <p:cNvSpPr/>
          <p:nvPr/>
        </p:nvSpPr>
        <p:spPr>
          <a:xfrm>
            <a:off x="6200640" y="2443320"/>
            <a:ext cx="231840" cy="236520"/>
          </a:xfrm>
          <a:custGeom>
            <a:avLst/>
            <a:gdLst>
              <a:gd name="textAreaLeft" fmla="*/ 0 w 231840"/>
              <a:gd name="textAreaRight" fmla="*/ 232200 w 231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1457" h="236311">
                <a:moveTo>
                  <a:pt x="68579" y="8563"/>
                </a:moveTo>
                <a:lnTo>
                  <a:pt x="47246" y="8563"/>
                </a:lnTo>
                <a:lnTo>
                  <a:pt x="45785" y="9515"/>
                </a:lnTo>
                <a:lnTo>
                  <a:pt x="44810" y="11103"/>
                </a:lnTo>
                <a:lnTo>
                  <a:pt x="44161" y="13114"/>
                </a:lnTo>
                <a:lnTo>
                  <a:pt x="40899" y="17888"/>
                </a:lnTo>
                <a:lnTo>
                  <a:pt x="36275" y="23185"/>
                </a:lnTo>
                <a:lnTo>
                  <a:pt x="31045" y="28714"/>
                </a:lnTo>
                <a:lnTo>
                  <a:pt x="29269" y="31522"/>
                </a:lnTo>
                <a:lnTo>
                  <a:pt x="27296" y="37182"/>
                </a:lnTo>
                <a:lnTo>
                  <a:pt x="23879" y="42872"/>
                </a:lnTo>
                <a:lnTo>
                  <a:pt x="19185" y="48576"/>
                </a:lnTo>
                <a:lnTo>
                  <a:pt x="13924" y="54286"/>
                </a:lnTo>
                <a:lnTo>
                  <a:pt x="5607" y="62856"/>
                </a:lnTo>
                <a:lnTo>
                  <a:pt x="3738" y="65713"/>
                </a:lnTo>
                <a:lnTo>
                  <a:pt x="1661" y="71428"/>
                </a:lnTo>
                <a:lnTo>
                  <a:pt x="738" y="77143"/>
                </a:lnTo>
                <a:lnTo>
                  <a:pt x="327" y="82858"/>
                </a:lnTo>
                <a:lnTo>
                  <a:pt x="146" y="88573"/>
                </a:lnTo>
                <a:lnTo>
                  <a:pt x="0" y="165369"/>
                </a:lnTo>
                <a:lnTo>
                  <a:pt x="952" y="168345"/>
                </a:lnTo>
                <a:lnTo>
                  <a:pt x="4550" y="174192"/>
                </a:lnTo>
                <a:lnTo>
                  <a:pt x="6785" y="179966"/>
                </a:lnTo>
                <a:lnTo>
                  <a:pt x="7380" y="182839"/>
                </a:lnTo>
                <a:lnTo>
                  <a:pt x="10583" y="188571"/>
                </a:lnTo>
                <a:lnTo>
                  <a:pt x="15181" y="194294"/>
                </a:lnTo>
                <a:lnTo>
                  <a:pt x="20399" y="200012"/>
                </a:lnTo>
                <a:lnTo>
                  <a:pt x="28693" y="208587"/>
                </a:lnTo>
                <a:lnTo>
                  <a:pt x="31511" y="210492"/>
                </a:lnTo>
                <a:lnTo>
                  <a:pt x="37182" y="212609"/>
                </a:lnTo>
                <a:lnTo>
                  <a:pt x="39075" y="214126"/>
                </a:lnTo>
                <a:lnTo>
                  <a:pt x="40337" y="216090"/>
                </a:lnTo>
                <a:lnTo>
                  <a:pt x="41179" y="218351"/>
                </a:lnTo>
                <a:lnTo>
                  <a:pt x="43645" y="219860"/>
                </a:lnTo>
                <a:lnTo>
                  <a:pt x="47194" y="220865"/>
                </a:lnTo>
                <a:lnTo>
                  <a:pt x="51465" y="221535"/>
                </a:lnTo>
                <a:lnTo>
                  <a:pt x="55265" y="222934"/>
                </a:lnTo>
                <a:lnTo>
                  <a:pt x="62027" y="227029"/>
                </a:lnTo>
                <a:lnTo>
                  <a:pt x="66116" y="228502"/>
                </a:lnTo>
                <a:lnTo>
                  <a:pt x="70747" y="229484"/>
                </a:lnTo>
                <a:lnTo>
                  <a:pt x="75740" y="230138"/>
                </a:lnTo>
                <a:lnTo>
                  <a:pt x="80020" y="230575"/>
                </a:lnTo>
                <a:lnTo>
                  <a:pt x="83827" y="230866"/>
                </a:lnTo>
                <a:lnTo>
                  <a:pt x="87317" y="231060"/>
                </a:lnTo>
                <a:lnTo>
                  <a:pt x="90596" y="232142"/>
                </a:lnTo>
                <a:lnTo>
                  <a:pt x="96780" y="235883"/>
                </a:lnTo>
                <a:lnTo>
                  <a:pt x="100715" y="236310"/>
                </a:lnTo>
                <a:lnTo>
                  <a:pt x="105243" y="235642"/>
                </a:lnTo>
                <a:lnTo>
                  <a:pt x="110167" y="234243"/>
                </a:lnTo>
                <a:lnTo>
                  <a:pt x="114402" y="233312"/>
                </a:lnTo>
                <a:lnTo>
                  <a:pt x="118178" y="232690"/>
                </a:lnTo>
                <a:lnTo>
                  <a:pt x="124914" y="232000"/>
                </a:lnTo>
                <a:lnTo>
                  <a:pt x="131082" y="231693"/>
                </a:lnTo>
                <a:lnTo>
                  <a:pt x="144460" y="231520"/>
                </a:lnTo>
                <a:lnTo>
                  <a:pt x="148695" y="230543"/>
                </a:lnTo>
                <a:lnTo>
                  <a:pt x="152470" y="228940"/>
                </a:lnTo>
                <a:lnTo>
                  <a:pt x="159204" y="225570"/>
                </a:lnTo>
                <a:lnTo>
                  <a:pt x="165372" y="224073"/>
                </a:lnTo>
                <a:lnTo>
                  <a:pt x="171288" y="220867"/>
                </a:lnTo>
                <a:lnTo>
                  <a:pt x="177093" y="216268"/>
                </a:lnTo>
                <a:lnTo>
                  <a:pt x="182848" y="211049"/>
                </a:lnTo>
                <a:lnTo>
                  <a:pt x="188580" y="205554"/>
                </a:lnTo>
                <a:lnTo>
                  <a:pt x="217169" y="177152"/>
                </a:lnTo>
                <a:lnTo>
                  <a:pt x="219075" y="174295"/>
                </a:lnTo>
                <a:lnTo>
                  <a:pt x="221191" y="168582"/>
                </a:lnTo>
                <a:lnTo>
                  <a:pt x="224672" y="162867"/>
                </a:lnTo>
                <a:lnTo>
                  <a:pt x="226934" y="160010"/>
                </a:lnTo>
                <a:lnTo>
                  <a:pt x="228442" y="156200"/>
                </a:lnTo>
                <a:lnTo>
                  <a:pt x="229447" y="151755"/>
                </a:lnTo>
                <a:lnTo>
                  <a:pt x="230116" y="146887"/>
                </a:lnTo>
                <a:lnTo>
                  <a:pt x="230563" y="142689"/>
                </a:lnTo>
                <a:lnTo>
                  <a:pt x="231060" y="135484"/>
                </a:lnTo>
                <a:lnTo>
                  <a:pt x="231281" y="129107"/>
                </a:lnTo>
                <a:lnTo>
                  <a:pt x="231423" y="117252"/>
                </a:lnTo>
                <a:lnTo>
                  <a:pt x="231456" y="84052"/>
                </a:lnTo>
                <a:lnTo>
                  <a:pt x="230504" y="80796"/>
                </a:lnTo>
                <a:lnTo>
                  <a:pt x="226906" y="74639"/>
                </a:lnTo>
                <a:lnTo>
                  <a:pt x="222132" y="68727"/>
                </a:lnTo>
                <a:lnTo>
                  <a:pt x="219525" y="65818"/>
                </a:lnTo>
                <a:lnTo>
                  <a:pt x="217788" y="62925"/>
                </a:lnTo>
                <a:lnTo>
                  <a:pt x="215856" y="57171"/>
                </a:lnTo>
                <a:lnTo>
                  <a:pt x="212459" y="51439"/>
                </a:lnTo>
                <a:lnTo>
                  <a:pt x="207773" y="45716"/>
                </a:lnTo>
                <a:lnTo>
                  <a:pt x="202516" y="39998"/>
                </a:lnTo>
                <a:lnTo>
                  <a:pt x="194201" y="31423"/>
                </a:lnTo>
                <a:lnTo>
                  <a:pt x="191380" y="29518"/>
                </a:lnTo>
                <a:lnTo>
                  <a:pt x="185705" y="27401"/>
                </a:lnTo>
                <a:lnTo>
                  <a:pt x="180008" y="23920"/>
                </a:lnTo>
                <a:lnTo>
                  <a:pt x="177155" y="21659"/>
                </a:lnTo>
                <a:lnTo>
                  <a:pt x="174300" y="20151"/>
                </a:lnTo>
                <a:lnTo>
                  <a:pt x="168589" y="18475"/>
                </a:lnTo>
                <a:lnTo>
                  <a:pt x="162876" y="15191"/>
                </a:lnTo>
                <a:lnTo>
                  <a:pt x="160019" y="12981"/>
                </a:lnTo>
                <a:lnTo>
                  <a:pt x="156209" y="11508"/>
                </a:lnTo>
                <a:lnTo>
                  <a:pt x="151764" y="10526"/>
                </a:lnTo>
                <a:lnTo>
                  <a:pt x="146896" y="9872"/>
                </a:lnTo>
                <a:lnTo>
                  <a:pt x="142698" y="8483"/>
                </a:lnTo>
                <a:lnTo>
                  <a:pt x="135494" y="4400"/>
                </a:lnTo>
                <a:lnTo>
                  <a:pt x="131286" y="2930"/>
                </a:lnTo>
                <a:lnTo>
                  <a:pt x="126577" y="1950"/>
                </a:lnTo>
                <a:lnTo>
                  <a:pt x="121532" y="1297"/>
                </a:lnTo>
                <a:lnTo>
                  <a:pt x="117216" y="861"/>
                </a:lnTo>
                <a:lnTo>
                  <a:pt x="113386" y="571"/>
                </a:lnTo>
                <a:lnTo>
                  <a:pt x="109881" y="377"/>
                </a:lnTo>
                <a:lnTo>
                  <a:pt x="100906" y="162"/>
                </a:lnTo>
                <a:lnTo>
                  <a:pt x="74681" y="0"/>
                </a:lnTo>
                <a:lnTo>
                  <a:pt x="71695" y="949"/>
                </a:lnTo>
                <a:lnTo>
                  <a:pt x="65837" y="4544"/>
                </a:lnTo>
                <a:lnTo>
                  <a:pt x="60058" y="6777"/>
                </a:lnTo>
                <a:lnTo>
                  <a:pt x="53138" y="8210"/>
                </a:lnTo>
                <a:lnTo>
                  <a:pt x="47388" y="13009"/>
                </a:lnTo>
                <a:lnTo>
                  <a:pt x="45880" y="15337"/>
                </a:lnTo>
                <a:lnTo>
                  <a:pt x="44203" y="20463"/>
                </a:lnTo>
                <a:lnTo>
                  <a:pt x="43458" y="25917"/>
                </a:lnTo>
                <a:lnTo>
                  <a:pt x="42862" y="342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PenAnnotation939"/>
          <p:cNvSpPr/>
          <p:nvPr/>
        </p:nvSpPr>
        <p:spPr>
          <a:xfrm>
            <a:off x="6964200" y="2854440"/>
            <a:ext cx="76320" cy="249120"/>
          </a:xfrm>
          <a:custGeom>
            <a:avLst/>
            <a:gdLst>
              <a:gd name="textAreaLeft" fmla="*/ 0 w 76320"/>
              <a:gd name="textAreaRight" fmla="*/ 76680 w 763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77154" h="248604">
                <a:moveTo>
                  <a:pt x="0" y="0"/>
                </a:moveTo>
                <a:lnTo>
                  <a:pt x="0" y="11932"/>
                </a:lnTo>
                <a:lnTo>
                  <a:pt x="953" y="14622"/>
                </a:lnTo>
                <a:lnTo>
                  <a:pt x="2540" y="17368"/>
                </a:lnTo>
                <a:lnTo>
                  <a:pt x="4551" y="20151"/>
                </a:lnTo>
                <a:lnTo>
                  <a:pt x="5891" y="23912"/>
                </a:lnTo>
                <a:lnTo>
                  <a:pt x="6785" y="28324"/>
                </a:lnTo>
                <a:lnTo>
                  <a:pt x="7381" y="33170"/>
                </a:lnTo>
                <a:lnTo>
                  <a:pt x="8731" y="38306"/>
                </a:lnTo>
                <a:lnTo>
                  <a:pt x="10583" y="43635"/>
                </a:lnTo>
                <a:lnTo>
                  <a:pt x="12771" y="49092"/>
                </a:lnTo>
                <a:lnTo>
                  <a:pt x="14229" y="54636"/>
                </a:lnTo>
                <a:lnTo>
                  <a:pt x="15202" y="60237"/>
                </a:lnTo>
                <a:lnTo>
                  <a:pt x="15849" y="65875"/>
                </a:lnTo>
                <a:lnTo>
                  <a:pt x="17233" y="71539"/>
                </a:lnTo>
                <a:lnTo>
                  <a:pt x="19109" y="77220"/>
                </a:lnTo>
                <a:lnTo>
                  <a:pt x="21311" y="82913"/>
                </a:lnTo>
                <a:lnTo>
                  <a:pt x="22780" y="88613"/>
                </a:lnTo>
                <a:lnTo>
                  <a:pt x="23760" y="94318"/>
                </a:lnTo>
                <a:lnTo>
                  <a:pt x="24412" y="100026"/>
                </a:lnTo>
                <a:lnTo>
                  <a:pt x="24847" y="106689"/>
                </a:lnTo>
                <a:lnTo>
                  <a:pt x="25137" y="113989"/>
                </a:lnTo>
                <a:lnTo>
                  <a:pt x="25331" y="121712"/>
                </a:lnTo>
                <a:lnTo>
                  <a:pt x="26412" y="128767"/>
                </a:lnTo>
                <a:lnTo>
                  <a:pt x="28085" y="135375"/>
                </a:lnTo>
                <a:lnTo>
                  <a:pt x="30154" y="141685"/>
                </a:lnTo>
                <a:lnTo>
                  <a:pt x="31532" y="147796"/>
                </a:lnTo>
                <a:lnTo>
                  <a:pt x="32452" y="153776"/>
                </a:lnTo>
                <a:lnTo>
                  <a:pt x="33065" y="159667"/>
                </a:lnTo>
                <a:lnTo>
                  <a:pt x="34425" y="165500"/>
                </a:lnTo>
                <a:lnTo>
                  <a:pt x="36286" y="171293"/>
                </a:lnTo>
                <a:lnTo>
                  <a:pt x="38478" y="177061"/>
                </a:lnTo>
                <a:lnTo>
                  <a:pt x="39940" y="181858"/>
                </a:lnTo>
                <a:lnTo>
                  <a:pt x="40914" y="186009"/>
                </a:lnTo>
                <a:lnTo>
                  <a:pt x="41564" y="189728"/>
                </a:lnTo>
                <a:lnTo>
                  <a:pt x="42949" y="194113"/>
                </a:lnTo>
                <a:lnTo>
                  <a:pt x="44825" y="198941"/>
                </a:lnTo>
                <a:lnTo>
                  <a:pt x="47028" y="204065"/>
                </a:lnTo>
                <a:lnTo>
                  <a:pt x="48497" y="208433"/>
                </a:lnTo>
                <a:lnTo>
                  <a:pt x="50130" y="215827"/>
                </a:lnTo>
                <a:lnTo>
                  <a:pt x="50854" y="222288"/>
                </a:lnTo>
                <a:lnTo>
                  <a:pt x="51177" y="228335"/>
                </a:lnTo>
                <a:lnTo>
                  <a:pt x="51320" y="234197"/>
                </a:lnTo>
                <a:lnTo>
                  <a:pt x="52311" y="237094"/>
                </a:lnTo>
                <a:lnTo>
                  <a:pt x="53924" y="239978"/>
                </a:lnTo>
                <a:lnTo>
                  <a:pt x="58806" y="246899"/>
                </a:lnTo>
                <a:lnTo>
                  <a:pt x="60158" y="247467"/>
                </a:lnTo>
                <a:lnTo>
                  <a:pt x="62013" y="247845"/>
                </a:lnTo>
                <a:lnTo>
                  <a:pt x="68196" y="248558"/>
                </a:lnTo>
                <a:lnTo>
                  <a:pt x="77153" y="2486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PenAnnotation940"/>
          <p:cNvSpPr/>
          <p:nvPr/>
        </p:nvSpPr>
        <p:spPr>
          <a:xfrm>
            <a:off x="7101000" y="2897280"/>
            <a:ext cx="201600" cy="189000"/>
          </a:xfrm>
          <a:custGeom>
            <a:avLst/>
            <a:gdLst>
              <a:gd name="textAreaLeft" fmla="*/ 0 w 201600"/>
              <a:gd name="textAreaRight" fmla="*/ 201960 w 2016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01738" h="188112">
                <a:moveTo>
                  <a:pt x="59972" y="8206"/>
                </a:moveTo>
                <a:lnTo>
                  <a:pt x="44050" y="8206"/>
                </a:lnTo>
                <a:lnTo>
                  <a:pt x="38639" y="12757"/>
                </a:lnTo>
                <a:lnTo>
                  <a:pt x="33664" y="17531"/>
                </a:lnTo>
                <a:lnTo>
                  <a:pt x="14218" y="36825"/>
                </a:lnTo>
                <a:lnTo>
                  <a:pt x="12325" y="39668"/>
                </a:lnTo>
                <a:lnTo>
                  <a:pt x="10221" y="45367"/>
                </a:lnTo>
                <a:lnTo>
                  <a:pt x="8707" y="49172"/>
                </a:lnTo>
                <a:lnTo>
                  <a:pt x="6745" y="53614"/>
                </a:lnTo>
                <a:lnTo>
                  <a:pt x="4486" y="58481"/>
                </a:lnTo>
                <a:lnTo>
                  <a:pt x="2979" y="62678"/>
                </a:lnTo>
                <a:lnTo>
                  <a:pt x="1974" y="66428"/>
                </a:lnTo>
                <a:lnTo>
                  <a:pt x="1304" y="69880"/>
                </a:lnTo>
                <a:lnTo>
                  <a:pt x="858" y="74088"/>
                </a:lnTo>
                <a:lnTo>
                  <a:pt x="560" y="78797"/>
                </a:lnTo>
                <a:lnTo>
                  <a:pt x="230" y="88157"/>
                </a:lnTo>
                <a:lnTo>
                  <a:pt x="43" y="98782"/>
                </a:lnTo>
                <a:lnTo>
                  <a:pt x="0" y="104977"/>
                </a:lnTo>
                <a:lnTo>
                  <a:pt x="941" y="108915"/>
                </a:lnTo>
                <a:lnTo>
                  <a:pt x="2521" y="113445"/>
                </a:lnTo>
                <a:lnTo>
                  <a:pt x="4526" y="118371"/>
                </a:lnTo>
                <a:lnTo>
                  <a:pt x="6816" y="122607"/>
                </a:lnTo>
                <a:lnTo>
                  <a:pt x="9295" y="126383"/>
                </a:lnTo>
                <a:lnTo>
                  <a:pt x="11900" y="129853"/>
                </a:lnTo>
                <a:lnTo>
                  <a:pt x="14589" y="133119"/>
                </a:lnTo>
                <a:lnTo>
                  <a:pt x="17334" y="136249"/>
                </a:lnTo>
                <a:lnTo>
                  <a:pt x="20117" y="139288"/>
                </a:lnTo>
                <a:lnTo>
                  <a:pt x="25749" y="145205"/>
                </a:lnTo>
                <a:lnTo>
                  <a:pt x="54259" y="173938"/>
                </a:lnTo>
                <a:lnTo>
                  <a:pt x="57116" y="175844"/>
                </a:lnTo>
                <a:lnTo>
                  <a:pt x="62831" y="177962"/>
                </a:lnTo>
                <a:lnTo>
                  <a:pt x="66641" y="179479"/>
                </a:lnTo>
                <a:lnTo>
                  <a:pt x="71085" y="181443"/>
                </a:lnTo>
                <a:lnTo>
                  <a:pt x="75954" y="183705"/>
                </a:lnTo>
                <a:lnTo>
                  <a:pt x="80152" y="185213"/>
                </a:lnTo>
                <a:lnTo>
                  <a:pt x="83903" y="186218"/>
                </a:lnTo>
                <a:lnTo>
                  <a:pt x="87357" y="186888"/>
                </a:lnTo>
                <a:lnTo>
                  <a:pt x="91563" y="187335"/>
                </a:lnTo>
                <a:lnTo>
                  <a:pt x="96273" y="187633"/>
                </a:lnTo>
                <a:lnTo>
                  <a:pt x="105634" y="187964"/>
                </a:lnTo>
                <a:lnTo>
                  <a:pt x="112969" y="188111"/>
                </a:lnTo>
                <a:lnTo>
                  <a:pt x="116259" y="187198"/>
                </a:lnTo>
                <a:lnTo>
                  <a:pt x="122454" y="183643"/>
                </a:lnTo>
                <a:lnTo>
                  <a:pt x="126391" y="181361"/>
                </a:lnTo>
                <a:lnTo>
                  <a:pt x="135847" y="176286"/>
                </a:lnTo>
                <a:lnTo>
                  <a:pt x="140083" y="173600"/>
                </a:lnTo>
                <a:lnTo>
                  <a:pt x="143859" y="170856"/>
                </a:lnTo>
                <a:lnTo>
                  <a:pt x="147330" y="168074"/>
                </a:lnTo>
                <a:lnTo>
                  <a:pt x="150595" y="165267"/>
                </a:lnTo>
                <a:lnTo>
                  <a:pt x="156765" y="159609"/>
                </a:lnTo>
                <a:lnTo>
                  <a:pt x="165593" y="151068"/>
                </a:lnTo>
                <a:lnTo>
                  <a:pt x="168486" y="147262"/>
                </a:lnTo>
                <a:lnTo>
                  <a:pt x="171368" y="142820"/>
                </a:lnTo>
                <a:lnTo>
                  <a:pt x="174241" y="137954"/>
                </a:lnTo>
                <a:lnTo>
                  <a:pt x="177108" y="132805"/>
                </a:lnTo>
                <a:lnTo>
                  <a:pt x="182836" y="122003"/>
                </a:lnTo>
                <a:lnTo>
                  <a:pt x="185696" y="117408"/>
                </a:lnTo>
                <a:lnTo>
                  <a:pt x="188556" y="113393"/>
                </a:lnTo>
                <a:lnTo>
                  <a:pt x="191415" y="109763"/>
                </a:lnTo>
                <a:lnTo>
                  <a:pt x="193321" y="105438"/>
                </a:lnTo>
                <a:lnTo>
                  <a:pt x="194592" y="100650"/>
                </a:lnTo>
                <a:lnTo>
                  <a:pt x="195438" y="95553"/>
                </a:lnTo>
                <a:lnTo>
                  <a:pt x="196955" y="90250"/>
                </a:lnTo>
                <a:lnTo>
                  <a:pt x="198920" y="84809"/>
                </a:lnTo>
                <a:lnTo>
                  <a:pt x="201181" y="79277"/>
                </a:lnTo>
                <a:lnTo>
                  <a:pt x="201737" y="74637"/>
                </a:lnTo>
                <a:lnTo>
                  <a:pt x="201154" y="70591"/>
                </a:lnTo>
                <a:lnTo>
                  <a:pt x="199814" y="66941"/>
                </a:lnTo>
                <a:lnTo>
                  <a:pt x="197968" y="62603"/>
                </a:lnTo>
                <a:lnTo>
                  <a:pt x="193376" y="52702"/>
                </a:lnTo>
                <a:lnTo>
                  <a:pt x="191771" y="48348"/>
                </a:lnTo>
                <a:lnTo>
                  <a:pt x="190701" y="44492"/>
                </a:lnTo>
                <a:lnTo>
                  <a:pt x="189987" y="40969"/>
                </a:lnTo>
                <a:lnTo>
                  <a:pt x="188559" y="37668"/>
                </a:lnTo>
                <a:lnTo>
                  <a:pt x="186654" y="34515"/>
                </a:lnTo>
                <a:lnTo>
                  <a:pt x="184432" y="31461"/>
                </a:lnTo>
                <a:lnTo>
                  <a:pt x="181998" y="28472"/>
                </a:lnTo>
                <a:lnTo>
                  <a:pt x="176753" y="22610"/>
                </a:lnTo>
                <a:lnTo>
                  <a:pt x="173069" y="19714"/>
                </a:lnTo>
                <a:lnTo>
                  <a:pt x="168708" y="16831"/>
                </a:lnTo>
                <a:lnTo>
                  <a:pt x="163896" y="13956"/>
                </a:lnTo>
                <a:lnTo>
                  <a:pt x="159734" y="12039"/>
                </a:lnTo>
                <a:lnTo>
                  <a:pt x="156008" y="10761"/>
                </a:lnTo>
                <a:lnTo>
                  <a:pt x="152572" y="9910"/>
                </a:lnTo>
                <a:lnTo>
                  <a:pt x="149328" y="9342"/>
                </a:lnTo>
                <a:lnTo>
                  <a:pt x="143183" y="8711"/>
                </a:lnTo>
                <a:lnTo>
                  <a:pt x="140211" y="7590"/>
                </a:lnTo>
                <a:lnTo>
                  <a:pt x="134369" y="3805"/>
                </a:lnTo>
                <a:lnTo>
                  <a:pt x="128598" y="1488"/>
                </a:lnTo>
                <a:lnTo>
                  <a:pt x="122857" y="458"/>
                </a:lnTo>
                <a:lnTo>
                  <a:pt x="117132" y="0"/>
                </a:lnTo>
                <a:lnTo>
                  <a:pt x="114271" y="830"/>
                </a:lnTo>
                <a:lnTo>
                  <a:pt x="108553" y="4293"/>
                </a:lnTo>
                <a:lnTo>
                  <a:pt x="104529" y="7047"/>
                </a:lnTo>
                <a:lnTo>
                  <a:pt x="101048" y="7691"/>
                </a:lnTo>
                <a:lnTo>
                  <a:pt x="94262" y="82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PenAnnotation941"/>
          <p:cNvSpPr/>
          <p:nvPr/>
        </p:nvSpPr>
        <p:spPr>
          <a:xfrm>
            <a:off x="7443720" y="3025800"/>
            <a:ext cx="82440" cy="154080"/>
          </a:xfrm>
          <a:custGeom>
            <a:avLst/>
            <a:gdLst>
              <a:gd name="textAreaLeft" fmla="*/ 0 w 82440"/>
              <a:gd name="textAreaRight" fmla="*/ 82440 w 824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81781" h="154306">
                <a:moveTo>
                  <a:pt x="51435" y="0"/>
                </a:moveTo>
                <a:lnTo>
                  <a:pt x="51435" y="4551"/>
                </a:lnTo>
                <a:lnTo>
                  <a:pt x="52388" y="6844"/>
                </a:lnTo>
                <a:lnTo>
                  <a:pt x="53975" y="9325"/>
                </a:lnTo>
                <a:lnTo>
                  <a:pt x="58816" y="15601"/>
                </a:lnTo>
                <a:lnTo>
                  <a:pt x="60166" y="17068"/>
                </a:lnTo>
                <a:lnTo>
                  <a:pt x="66616" y="23684"/>
                </a:lnTo>
                <a:lnTo>
                  <a:pt x="71835" y="28941"/>
                </a:lnTo>
                <a:lnTo>
                  <a:pt x="73608" y="31677"/>
                </a:lnTo>
                <a:lnTo>
                  <a:pt x="74789" y="34453"/>
                </a:lnTo>
                <a:lnTo>
                  <a:pt x="75577" y="37256"/>
                </a:lnTo>
                <a:lnTo>
                  <a:pt x="77055" y="40078"/>
                </a:lnTo>
                <a:lnTo>
                  <a:pt x="78992" y="42911"/>
                </a:lnTo>
                <a:lnTo>
                  <a:pt x="81237" y="45752"/>
                </a:lnTo>
                <a:lnTo>
                  <a:pt x="81780" y="48599"/>
                </a:lnTo>
                <a:lnTo>
                  <a:pt x="81190" y="51449"/>
                </a:lnTo>
                <a:lnTo>
                  <a:pt x="79845" y="54302"/>
                </a:lnTo>
                <a:lnTo>
                  <a:pt x="78947" y="57157"/>
                </a:lnTo>
                <a:lnTo>
                  <a:pt x="78349" y="60012"/>
                </a:lnTo>
                <a:lnTo>
                  <a:pt x="77950" y="62868"/>
                </a:lnTo>
                <a:lnTo>
                  <a:pt x="77684" y="65725"/>
                </a:lnTo>
                <a:lnTo>
                  <a:pt x="77507" y="68581"/>
                </a:lnTo>
                <a:lnTo>
                  <a:pt x="77389" y="71438"/>
                </a:lnTo>
                <a:lnTo>
                  <a:pt x="76358" y="74296"/>
                </a:lnTo>
                <a:lnTo>
                  <a:pt x="74717" y="77153"/>
                </a:lnTo>
                <a:lnTo>
                  <a:pt x="72672" y="80010"/>
                </a:lnTo>
                <a:lnTo>
                  <a:pt x="70355" y="83820"/>
                </a:lnTo>
                <a:lnTo>
                  <a:pt x="67859" y="88265"/>
                </a:lnTo>
                <a:lnTo>
                  <a:pt x="65241" y="93133"/>
                </a:lnTo>
                <a:lnTo>
                  <a:pt x="62544" y="97331"/>
                </a:lnTo>
                <a:lnTo>
                  <a:pt x="59793" y="101083"/>
                </a:lnTo>
                <a:lnTo>
                  <a:pt x="57007" y="104536"/>
                </a:lnTo>
                <a:lnTo>
                  <a:pt x="54197" y="107791"/>
                </a:lnTo>
                <a:lnTo>
                  <a:pt x="51372" y="110913"/>
                </a:lnTo>
                <a:lnTo>
                  <a:pt x="48535" y="113947"/>
                </a:lnTo>
                <a:lnTo>
                  <a:pt x="46644" y="116922"/>
                </a:lnTo>
                <a:lnTo>
                  <a:pt x="45384" y="119858"/>
                </a:lnTo>
                <a:lnTo>
                  <a:pt x="44544" y="122768"/>
                </a:lnTo>
                <a:lnTo>
                  <a:pt x="43031" y="125660"/>
                </a:lnTo>
                <a:lnTo>
                  <a:pt x="41070" y="128541"/>
                </a:lnTo>
                <a:lnTo>
                  <a:pt x="38810" y="131414"/>
                </a:lnTo>
                <a:lnTo>
                  <a:pt x="35398" y="133330"/>
                </a:lnTo>
                <a:lnTo>
                  <a:pt x="31219" y="134606"/>
                </a:lnTo>
                <a:lnTo>
                  <a:pt x="26528" y="135458"/>
                </a:lnTo>
                <a:lnTo>
                  <a:pt x="23400" y="136977"/>
                </a:lnTo>
                <a:lnTo>
                  <a:pt x="21315" y="138943"/>
                </a:lnTo>
                <a:lnTo>
                  <a:pt x="19925" y="141206"/>
                </a:lnTo>
                <a:lnTo>
                  <a:pt x="18046" y="142715"/>
                </a:lnTo>
                <a:lnTo>
                  <a:pt x="15841" y="143721"/>
                </a:lnTo>
                <a:lnTo>
                  <a:pt x="13418" y="144391"/>
                </a:lnTo>
                <a:lnTo>
                  <a:pt x="10851" y="145791"/>
                </a:lnTo>
                <a:lnTo>
                  <a:pt x="8186" y="147677"/>
                </a:lnTo>
                <a:lnTo>
                  <a:pt x="12" y="154295"/>
                </a:lnTo>
                <a:lnTo>
                  <a:pt x="2" y="154303"/>
                </a:lnTo>
                <a:lnTo>
                  <a:pt x="2" y="154304"/>
                </a:lnTo>
                <a:lnTo>
                  <a:pt x="0" y="1543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PenAnnotation942"/>
          <p:cNvSpPr/>
          <p:nvPr/>
        </p:nvSpPr>
        <p:spPr>
          <a:xfrm>
            <a:off x="7769160" y="2879640"/>
            <a:ext cx="60480" cy="257400"/>
          </a:xfrm>
          <a:custGeom>
            <a:avLst/>
            <a:gdLst>
              <a:gd name="textAreaLeft" fmla="*/ 0 w 60480"/>
              <a:gd name="textAreaRight" fmla="*/ 60840 w 604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60009" h="257176">
                <a:moveTo>
                  <a:pt x="0" y="0"/>
                </a:moveTo>
                <a:lnTo>
                  <a:pt x="0" y="7380"/>
                </a:lnTo>
                <a:lnTo>
                  <a:pt x="953" y="8730"/>
                </a:lnTo>
                <a:lnTo>
                  <a:pt x="2540" y="10583"/>
                </a:lnTo>
                <a:lnTo>
                  <a:pt x="4551" y="12770"/>
                </a:lnTo>
                <a:lnTo>
                  <a:pt x="5891" y="16133"/>
                </a:lnTo>
                <a:lnTo>
                  <a:pt x="6785" y="20280"/>
                </a:lnTo>
                <a:lnTo>
                  <a:pt x="7381" y="24950"/>
                </a:lnTo>
                <a:lnTo>
                  <a:pt x="8731" y="29016"/>
                </a:lnTo>
                <a:lnTo>
                  <a:pt x="10583" y="32679"/>
                </a:lnTo>
                <a:lnTo>
                  <a:pt x="12771" y="36073"/>
                </a:lnTo>
                <a:lnTo>
                  <a:pt x="14229" y="40241"/>
                </a:lnTo>
                <a:lnTo>
                  <a:pt x="15201" y="44925"/>
                </a:lnTo>
                <a:lnTo>
                  <a:pt x="15849" y="49952"/>
                </a:lnTo>
                <a:lnTo>
                  <a:pt x="16281" y="54256"/>
                </a:lnTo>
                <a:lnTo>
                  <a:pt x="16761" y="61579"/>
                </a:lnTo>
                <a:lnTo>
                  <a:pt x="17841" y="65817"/>
                </a:lnTo>
                <a:lnTo>
                  <a:pt x="19515" y="70548"/>
                </a:lnTo>
                <a:lnTo>
                  <a:pt x="21582" y="75607"/>
                </a:lnTo>
                <a:lnTo>
                  <a:pt x="22961" y="80885"/>
                </a:lnTo>
                <a:lnTo>
                  <a:pt x="23879" y="86308"/>
                </a:lnTo>
                <a:lnTo>
                  <a:pt x="24492" y="91828"/>
                </a:lnTo>
                <a:lnTo>
                  <a:pt x="24901" y="97414"/>
                </a:lnTo>
                <a:lnTo>
                  <a:pt x="25173" y="103042"/>
                </a:lnTo>
                <a:lnTo>
                  <a:pt x="25355" y="108700"/>
                </a:lnTo>
                <a:lnTo>
                  <a:pt x="26428" y="114376"/>
                </a:lnTo>
                <a:lnTo>
                  <a:pt x="28096" y="120066"/>
                </a:lnTo>
                <a:lnTo>
                  <a:pt x="30160" y="125764"/>
                </a:lnTo>
                <a:lnTo>
                  <a:pt x="31537" y="131467"/>
                </a:lnTo>
                <a:lnTo>
                  <a:pt x="32455" y="137175"/>
                </a:lnTo>
                <a:lnTo>
                  <a:pt x="33067" y="142885"/>
                </a:lnTo>
                <a:lnTo>
                  <a:pt x="34427" y="148596"/>
                </a:lnTo>
                <a:lnTo>
                  <a:pt x="36286" y="154309"/>
                </a:lnTo>
                <a:lnTo>
                  <a:pt x="38479" y="160023"/>
                </a:lnTo>
                <a:lnTo>
                  <a:pt x="39940" y="165737"/>
                </a:lnTo>
                <a:lnTo>
                  <a:pt x="40914" y="171451"/>
                </a:lnTo>
                <a:lnTo>
                  <a:pt x="41564" y="177165"/>
                </a:lnTo>
                <a:lnTo>
                  <a:pt x="42949" y="181928"/>
                </a:lnTo>
                <a:lnTo>
                  <a:pt x="44825" y="186055"/>
                </a:lnTo>
                <a:lnTo>
                  <a:pt x="47028" y="189759"/>
                </a:lnTo>
                <a:lnTo>
                  <a:pt x="48497" y="194133"/>
                </a:lnTo>
                <a:lnTo>
                  <a:pt x="49476" y="198955"/>
                </a:lnTo>
                <a:lnTo>
                  <a:pt x="50130" y="204074"/>
                </a:lnTo>
                <a:lnTo>
                  <a:pt x="50565" y="208439"/>
                </a:lnTo>
                <a:lnTo>
                  <a:pt x="51048" y="215829"/>
                </a:lnTo>
                <a:lnTo>
                  <a:pt x="52130" y="220086"/>
                </a:lnTo>
                <a:lnTo>
                  <a:pt x="53803" y="224829"/>
                </a:lnTo>
                <a:lnTo>
                  <a:pt x="55871" y="229896"/>
                </a:lnTo>
                <a:lnTo>
                  <a:pt x="57250" y="234226"/>
                </a:lnTo>
                <a:lnTo>
                  <a:pt x="58782" y="241578"/>
                </a:lnTo>
                <a:lnTo>
                  <a:pt x="59463" y="248020"/>
                </a:lnTo>
                <a:lnTo>
                  <a:pt x="60007" y="257154"/>
                </a:lnTo>
                <a:lnTo>
                  <a:pt x="60008" y="257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PenAnnotation943"/>
          <p:cNvSpPr/>
          <p:nvPr/>
        </p:nvSpPr>
        <p:spPr>
          <a:xfrm>
            <a:off x="5259240" y="3274920"/>
            <a:ext cx="376560" cy="325440"/>
          </a:xfrm>
          <a:custGeom>
            <a:avLst/>
            <a:gdLst>
              <a:gd name="textAreaLeft" fmla="*/ 0 w 376560"/>
              <a:gd name="textAreaRight" fmla="*/ 376920 w 37656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375571" h="325746">
                <a:moveTo>
                  <a:pt x="41242" y="68570"/>
                </a:moveTo>
                <a:lnTo>
                  <a:pt x="41242" y="55551"/>
                </a:lnTo>
                <a:lnTo>
                  <a:pt x="42195" y="53223"/>
                </a:lnTo>
                <a:lnTo>
                  <a:pt x="48086" y="45396"/>
                </a:lnTo>
                <a:lnTo>
                  <a:pt x="55864" y="37044"/>
                </a:lnTo>
                <a:lnTo>
                  <a:pt x="78403" y="14274"/>
                </a:lnTo>
                <a:lnTo>
                  <a:pt x="82208" y="12370"/>
                </a:lnTo>
                <a:lnTo>
                  <a:pt x="96666" y="8738"/>
                </a:lnTo>
                <a:lnTo>
                  <a:pt x="107467" y="4513"/>
                </a:lnTo>
                <a:lnTo>
                  <a:pt x="116078" y="2000"/>
                </a:lnTo>
                <a:lnTo>
                  <a:pt x="124032" y="883"/>
                </a:lnTo>
                <a:lnTo>
                  <a:pt x="133918" y="387"/>
                </a:lnTo>
                <a:lnTo>
                  <a:pt x="144661" y="166"/>
                </a:lnTo>
                <a:lnTo>
                  <a:pt x="176769" y="0"/>
                </a:lnTo>
                <a:lnTo>
                  <a:pt x="181123" y="949"/>
                </a:lnTo>
                <a:lnTo>
                  <a:pt x="188501" y="4544"/>
                </a:lnTo>
                <a:lnTo>
                  <a:pt x="198010" y="11922"/>
                </a:lnTo>
                <a:lnTo>
                  <a:pt x="206860" y="20141"/>
                </a:lnTo>
                <a:lnTo>
                  <a:pt x="215515" y="28609"/>
                </a:lnTo>
                <a:lnTo>
                  <a:pt x="221249" y="36839"/>
                </a:lnTo>
                <a:lnTo>
                  <a:pt x="226973" y="45895"/>
                </a:lnTo>
                <a:lnTo>
                  <a:pt x="232691" y="53094"/>
                </a:lnTo>
                <a:lnTo>
                  <a:pt x="238408" y="62009"/>
                </a:lnTo>
                <a:lnTo>
                  <a:pt x="241266" y="67054"/>
                </a:lnTo>
                <a:lnTo>
                  <a:pt x="243172" y="72321"/>
                </a:lnTo>
                <a:lnTo>
                  <a:pt x="244442" y="77738"/>
                </a:lnTo>
                <a:lnTo>
                  <a:pt x="245288" y="83255"/>
                </a:lnTo>
                <a:lnTo>
                  <a:pt x="245853" y="88837"/>
                </a:lnTo>
                <a:lnTo>
                  <a:pt x="246229" y="94464"/>
                </a:lnTo>
                <a:lnTo>
                  <a:pt x="246480" y="100120"/>
                </a:lnTo>
                <a:lnTo>
                  <a:pt x="246759" y="111484"/>
                </a:lnTo>
                <a:lnTo>
                  <a:pt x="246833" y="117182"/>
                </a:lnTo>
                <a:lnTo>
                  <a:pt x="245930" y="122886"/>
                </a:lnTo>
                <a:lnTo>
                  <a:pt x="244377" y="128593"/>
                </a:lnTo>
                <a:lnTo>
                  <a:pt x="242387" y="134302"/>
                </a:lnTo>
                <a:lnTo>
                  <a:pt x="241061" y="140014"/>
                </a:lnTo>
                <a:lnTo>
                  <a:pt x="240178" y="145727"/>
                </a:lnTo>
                <a:lnTo>
                  <a:pt x="239588" y="151440"/>
                </a:lnTo>
                <a:lnTo>
                  <a:pt x="238933" y="160328"/>
                </a:lnTo>
                <a:lnTo>
                  <a:pt x="238759" y="164032"/>
                </a:lnTo>
                <a:lnTo>
                  <a:pt x="236025" y="173227"/>
                </a:lnTo>
                <a:lnTo>
                  <a:pt x="233962" y="178347"/>
                </a:lnTo>
                <a:lnTo>
                  <a:pt x="231635" y="183664"/>
                </a:lnTo>
                <a:lnTo>
                  <a:pt x="226509" y="194653"/>
                </a:lnTo>
                <a:lnTo>
                  <a:pt x="218268" y="211549"/>
                </a:lnTo>
                <a:lnTo>
                  <a:pt x="212630" y="220381"/>
                </a:lnTo>
                <a:lnTo>
                  <a:pt x="206950" y="228434"/>
                </a:lnTo>
                <a:lnTo>
                  <a:pt x="201250" y="238363"/>
                </a:lnTo>
                <a:lnTo>
                  <a:pt x="195542" y="246586"/>
                </a:lnTo>
                <a:lnTo>
                  <a:pt x="192686" y="250112"/>
                </a:lnTo>
                <a:lnTo>
                  <a:pt x="184433" y="256570"/>
                </a:lnTo>
                <a:lnTo>
                  <a:pt x="179565" y="259626"/>
                </a:lnTo>
                <a:lnTo>
                  <a:pt x="171617" y="268101"/>
                </a:lnTo>
                <a:lnTo>
                  <a:pt x="168163" y="273028"/>
                </a:lnTo>
                <a:lnTo>
                  <a:pt x="159247" y="281043"/>
                </a:lnTo>
                <a:lnTo>
                  <a:pt x="149886" y="286827"/>
                </a:lnTo>
                <a:lnTo>
                  <a:pt x="139261" y="291036"/>
                </a:lnTo>
                <a:lnTo>
                  <a:pt x="129128" y="297892"/>
                </a:lnTo>
                <a:lnTo>
                  <a:pt x="119673" y="303206"/>
                </a:lnTo>
                <a:lnTo>
                  <a:pt x="109120" y="306202"/>
                </a:lnTo>
                <a:lnTo>
                  <a:pt x="103639" y="307001"/>
                </a:lnTo>
                <a:lnTo>
                  <a:pt x="95009" y="310429"/>
                </a:lnTo>
                <a:lnTo>
                  <a:pt x="87998" y="314175"/>
                </a:lnTo>
                <a:lnTo>
                  <a:pt x="81708" y="315840"/>
                </a:lnTo>
                <a:lnTo>
                  <a:pt x="73197" y="316580"/>
                </a:lnTo>
                <a:lnTo>
                  <a:pt x="68260" y="316778"/>
                </a:lnTo>
                <a:lnTo>
                  <a:pt x="64017" y="315957"/>
                </a:lnTo>
                <a:lnTo>
                  <a:pt x="53493" y="311203"/>
                </a:lnTo>
                <a:lnTo>
                  <a:pt x="44343" y="309371"/>
                </a:lnTo>
                <a:lnTo>
                  <a:pt x="38493" y="308942"/>
                </a:lnTo>
                <a:lnTo>
                  <a:pt x="30178" y="306212"/>
                </a:lnTo>
                <a:lnTo>
                  <a:pt x="25293" y="304150"/>
                </a:lnTo>
                <a:lnTo>
                  <a:pt x="22037" y="301823"/>
                </a:lnTo>
                <a:lnTo>
                  <a:pt x="19866" y="299320"/>
                </a:lnTo>
                <a:lnTo>
                  <a:pt x="16502" y="293998"/>
                </a:lnTo>
                <a:lnTo>
                  <a:pt x="11831" y="288458"/>
                </a:lnTo>
                <a:lnTo>
                  <a:pt x="9252" y="286599"/>
                </a:lnTo>
                <a:lnTo>
                  <a:pt x="3847" y="284534"/>
                </a:lnTo>
                <a:lnTo>
                  <a:pt x="2025" y="282079"/>
                </a:lnTo>
                <a:lnTo>
                  <a:pt x="0" y="274270"/>
                </a:lnTo>
                <a:lnTo>
                  <a:pt x="412" y="270473"/>
                </a:lnTo>
                <a:lnTo>
                  <a:pt x="1640" y="266990"/>
                </a:lnTo>
                <a:lnTo>
                  <a:pt x="5543" y="259626"/>
                </a:lnTo>
                <a:lnTo>
                  <a:pt x="10454" y="250004"/>
                </a:lnTo>
                <a:lnTo>
                  <a:pt x="15811" y="241917"/>
                </a:lnTo>
                <a:lnTo>
                  <a:pt x="24182" y="232009"/>
                </a:lnTo>
                <a:lnTo>
                  <a:pt x="27011" y="228964"/>
                </a:lnTo>
                <a:lnTo>
                  <a:pt x="35235" y="223041"/>
                </a:lnTo>
                <a:lnTo>
                  <a:pt x="44287" y="217234"/>
                </a:lnTo>
                <a:lnTo>
                  <a:pt x="55691" y="208609"/>
                </a:lnTo>
                <a:lnTo>
                  <a:pt x="65444" y="202882"/>
                </a:lnTo>
                <a:lnTo>
                  <a:pt x="76129" y="197162"/>
                </a:lnTo>
                <a:lnTo>
                  <a:pt x="98510" y="185728"/>
                </a:lnTo>
                <a:lnTo>
                  <a:pt x="105138" y="183823"/>
                </a:lnTo>
                <a:lnTo>
                  <a:pt x="112414" y="182552"/>
                </a:lnTo>
                <a:lnTo>
                  <a:pt x="120123" y="181706"/>
                </a:lnTo>
                <a:lnTo>
                  <a:pt x="127167" y="182094"/>
                </a:lnTo>
                <a:lnTo>
                  <a:pt x="133768" y="183305"/>
                </a:lnTo>
                <a:lnTo>
                  <a:pt x="140073" y="185065"/>
                </a:lnTo>
                <a:lnTo>
                  <a:pt x="146182" y="186238"/>
                </a:lnTo>
                <a:lnTo>
                  <a:pt x="152160" y="187020"/>
                </a:lnTo>
                <a:lnTo>
                  <a:pt x="163881" y="188842"/>
                </a:lnTo>
                <a:lnTo>
                  <a:pt x="175441" y="192827"/>
                </a:lnTo>
                <a:lnTo>
                  <a:pt x="186928" y="197772"/>
                </a:lnTo>
                <a:lnTo>
                  <a:pt x="198384" y="203146"/>
                </a:lnTo>
                <a:lnTo>
                  <a:pt x="244124" y="225743"/>
                </a:lnTo>
                <a:lnTo>
                  <a:pt x="255555" y="233992"/>
                </a:lnTo>
                <a:lnTo>
                  <a:pt x="266032" y="243056"/>
                </a:lnTo>
                <a:lnTo>
                  <a:pt x="273864" y="250259"/>
                </a:lnTo>
                <a:lnTo>
                  <a:pt x="292544" y="268536"/>
                </a:lnTo>
                <a:lnTo>
                  <a:pt x="326957" y="302851"/>
                </a:lnTo>
                <a:lnTo>
                  <a:pt x="329827" y="304767"/>
                </a:lnTo>
                <a:lnTo>
                  <a:pt x="338415" y="308416"/>
                </a:lnTo>
                <a:lnTo>
                  <a:pt x="346993" y="314155"/>
                </a:lnTo>
                <a:lnTo>
                  <a:pt x="356519" y="317230"/>
                </a:lnTo>
                <a:lnTo>
                  <a:pt x="365833" y="321326"/>
                </a:lnTo>
                <a:lnTo>
                  <a:pt x="375570" y="3257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PenAnnotation944"/>
          <p:cNvSpPr/>
          <p:nvPr/>
        </p:nvSpPr>
        <p:spPr>
          <a:xfrm>
            <a:off x="5643720" y="3343320"/>
            <a:ext cx="317520" cy="222120"/>
          </a:xfrm>
          <a:custGeom>
            <a:avLst/>
            <a:gdLst>
              <a:gd name="textAreaLeft" fmla="*/ 0 w 317520"/>
              <a:gd name="textAreaRight" fmla="*/ 317520 w 31752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317079" h="222533">
                <a:moveTo>
                  <a:pt x="8467" y="8219"/>
                </a:moveTo>
                <a:lnTo>
                  <a:pt x="248" y="0"/>
                </a:lnTo>
                <a:lnTo>
                  <a:pt x="0" y="4302"/>
                </a:lnTo>
                <a:lnTo>
                  <a:pt x="917" y="5608"/>
                </a:lnTo>
                <a:lnTo>
                  <a:pt x="2482" y="6478"/>
                </a:lnTo>
                <a:lnTo>
                  <a:pt x="7286" y="7875"/>
                </a:lnTo>
                <a:lnTo>
                  <a:pt x="12669" y="12668"/>
                </a:lnTo>
                <a:lnTo>
                  <a:pt x="23020" y="22821"/>
                </a:lnTo>
                <a:lnTo>
                  <a:pt x="28588" y="28361"/>
                </a:lnTo>
                <a:lnTo>
                  <a:pt x="31406" y="32125"/>
                </a:lnTo>
                <a:lnTo>
                  <a:pt x="34238" y="36539"/>
                </a:lnTo>
                <a:lnTo>
                  <a:pt x="37077" y="41387"/>
                </a:lnTo>
                <a:lnTo>
                  <a:pt x="39923" y="45571"/>
                </a:lnTo>
                <a:lnTo>
                  <a:pt x="42773" y="49312"/>
                </a:lnTo>
                <a:lnTo>
                  <a:pt x="45626" y="52760"/>
                </a:lnTo>
                <a:lnTo>
                  <a:pt x="53875" y="59130"/>
                </a:lnTo>
                <a:lnTo>
                  <a:pt x="58741" y="62162"/>
                </a:lnTo>
                <a:lnTo>
                  <a:pt x="79244" y="75531"/>
                </a:lnTo>
                <a:lnTo>
                  <a:pt x="86132" y="79764"/>
                </a:lnTo>
                <a:lnTo>
                  <a:pt x="92628" y="83538"/>
                </a:lnTo>
                <a:lnTo>
                  <a:pt x="104927" y="90272"/>
                </a:lnTo>
                <a:lnTo>
                  <a:pt x="116744" y="96439"/>
                </a:lnTo>
                <a:lnTo>
                  <a:pt x="122562" y="100370"/>
                </a:lnTo>
                <a:lnTo>
                  <a:pt x="128345" y="104896"/>
                </a:lnTo>
                <a:lnTo>
                  <a:pt x="134106" y="109818"/>
                </a:lnTo>
                <a:lnTo>
                  <a:pt x="139852" y="114052"/>
                </a:lnTo>
                <a:lnTo>
                  <a:pt x="145586" y="117826"/>
                </a:lnTo>
                <a:lnTo>
                  <a:pt x="151316" y="121296"/>
                </a:lnTo>
                <a:lnTo>
                  <a:pt x="157040" y="125514"/>
                </a:lnTo>
                <a:lnTo>
                  <a:pt x="162761" y="130230"/>
                </a:lnTo>
                <a:lnTo>
                  <a:pt x="168479" y="135280"/>
                </a:lnTo>
                <a:lnTo>
                  <a:pt x="174197" y="139599"/>
                </a:lnTo>
                <a:lnTo>
                  <a:pt x="179914" y="143431"/>
                </a:lnTo>
                <a:lnTo>
                  <a:pt x="185630" y="146938"/>
                </a:lnTo>
                <a:lnTo>
                  <a:pt x="191346" y="150228"/>
                </a:lnTo>
                <a:lnTo>
                  <a:pt x="202777" y="156424"/>
                </a:lnTo>
                <a:lnTo>
                  <a:pt x="211667" y="162353"/>
                </a:lnTo>
                <a:lnTo>
                  <a:pt x="219746" y="168163"/>
                </a:lnTo>
                <a:lnTo>
                  <a:pt x="224567" y="171046"/>
                </a:lnTo>
                <a:lnTo>
                  <a:pt x="229686" y="173920"/>
                </a:lnTo>
                <a:lnTo>
                  <a:pt x="240454" y="179654"/>
                </a:lnTo>
                <a:lnTo>
                  <a:pt x="245993" y="182517"/>
                </a:lnTo>
                <a:lnTo>
                  <a:pt x="254687" y="188237"/>
                </a:lnTo>
                <a:lnTo>
                  <a:pt x="262679" y="193955"/>
                </a:lnTo>
                <a:lnTo>
                  <a:pt x="272580" y="199671"/>
                </a:lnTo>
                <a:lnTo>
                  <a:pt x="280791" y="205386"/>
                </a:lnTo>
                <a:lnTo>
                  <a:pt x="284314" y="208244"/>
                </a:lnTo>
                <a:lnTo>
                  <a:pt x="290769" y="211419"/>
                </a:lnTo>
                <a:lnTo>
                  <a:pt x="293823" y="212266"/>
                </a:lnTo>
                <a:lnTo>
                  <a:pt x="299757" y="215746"/>
                </a:lnTo>
                <a:lnTo>
                  <a:pt x="306777" y="221192"/>
                </a:lnTo>
                <a:lnTo>
                  <a:pt x="310277" y="221936"/>
                </a:lnTo>
                <a:lnTo>
                  <a:pt x="317078" y="2225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PenAnnotation945"/>
          <p:cNvSpPr/>
          <p:nvPr/>
        </p:nvSpPr>
        <p:spPr>
          <a:xfrm>
            <a:off x="5746680" y="3343320"/>
            <a:ext cx="93600" cy="222120"/>
          </a:xfrm>
          <a:custGeom>
            <a:avLst/>
            <a:gdLst>
              <a:gd name="textAreaLeft" fmla="*/ 0 w 93600"/>
              <a:gd name="textAreaRight" fmla="*/ 93960 w 936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4298" h="222886">
                <a:moveTo>
                  <a:pt x="94297" y="0"/>
                </a:moveTo>
                <a:lnTo>
                  <a:pt x="86078" y="0"/>
                </a:lnTo>
                <a:lnTo>
                  <a:pt x="83342" y="2540"/>
                </a:lnTo>
                <a:lnTo>
                  <a:pt x="81278" y="4550"/>
                </a:lnTo>
                <a:lnTo>
                  <a:pt x="79904" y="6844"/>
                </a:lnTo>
                <a:lnTo>
                  <a:pt x="78375" y="11931"/>
                </a:lnTo>
                <a:lnTo>
                  <a:pt x="77015" y="14621"/>
                </a:lnTo>
                <a:lnTo>
                  <a:pt x="75156" y="17368"/>
                </a:lnTo>
                <a:lnTo>
                  <a:pt x="72964" y="20151"/>
                </a:lnTo>
                <a:lnTo>
                  <a:pt x="71503" y="23911"/>
                </a:lnTo>
                <a:lnTo>
                  <a:pt x="70528" y="28323"/>
                </a:lnTo>
                <a:lnTo>
                  <a:pt x="69879" y="33170"/>
                </a:lnTo>
                <a:lnTo>
                  <a:pt x="68494" y="37353"/>
                </a:lnTo>
                <a:lnTo>
                  <a:pt x="66617" y="41094"/>
                </a:lnTo>
                <a:lnTo>
                  <a:pt x="64414" y="44541"/>
                </a:lnTo>
                <a:lnTo>
                  <a:pt x="61992" y="48744"/>
                </a:lnTo>
                <a:lnTo>
                  <a:pt x="56763" y="58494"/>
                </a:lnTo>
                <a:lnTo>
                  <a:pt x="54987" y="63761"/>
                </a:lnTo>
                <a:lnTo>
                  <a:pt x="53803" y="69177"/>
                </a:lnTo>
                <a:lnTo>
                  <a:pt x="53014" y="74693"/>
                </a:lnTo>
                <a:lnTo>
                  <a:pt x="51535" y="81228"/>
                </a:lnTo>
                <a:lnTo>
                  <a:pt x="49597" y="88442"/>
                </a:lnTo>
                <a:lnTo>
                  <a:pt x="47352" y="96108"/>
                </a:lnTo>
                <a:lnTo>
                  <a:pt x="44903" y="103125"/>
                </a:lnTo>
                <a:lnTo>
                  <a:pt x="42318" y="109707"/>
                </a:lnTo>
                <a:lnTo>
                  <a:pt x="39642" y="116001"/>
                </a:lnTo>
                <a:lnTo>
                  <a:pt x="34129" y="128073"/>
                </a:lnTo>
                <a:lnTo>
                  <a:pt x="31325" y="133959"/>
                </a:lnTo>
                <a:lnTo>
                  <a:pt x="29456" y="139789"/>
                </a:lnTo>
                <a:lnTo>
                  <a:pt x="28210" y="145580"/>
                </a:lnTo>
                <a:lnTo>
                  <a:pt x="27379" y="151345"/>
                </a:lnTo>
                <a:lnTo>
                  <a:pt x="25873" y="156142"/>
                </a:lnTo>
                <a:lnTo>
                  <a:pt x="23916" y="160292"/>
                </a:lnTo>
                <a:lnTo>
                  <a:pt x="21659" y="164011"/>
                </a:lnTo>
                <a:lnTo>
                  <a:pt x="19202" y="168395"/>
                </a:lnTo>
                <a:lnTo>
                  <a:pt x="13932" y="178347"/>
                </a:lnTo>
                <a:lnTo>
                  <a:pt x="12145" y="182715"/>
                </a:lnTo>
                <a:lnTo>
                  <a:pt x="10955" y="186580"/>
                </a:lnTo>
                <a:lnTo>
                  <a:pt x="10160" y="190109"/>
                </a:lnTo>
                <a:lnTo>
                  <a:pt x="8679" y="193414"/>
                </a:lnTo>
                <a:lnTo>
                  <a:pt x="6738" y="196570"/>
                </a:lnTo>
                <a:lnTo>
                  <a:pt x="4492" y="199627"/>
                </a:lnTo>
                <a:lnTo>
                  <a:pt x="1996" y="205563"/>
                </a:lnTo>
                <a:lnTo>
                  <a:pt x="395" y="212584"/>
                </a:lnTo>
                <a:lnTo>
                  <a:pt x="117" y="218351"/>
                </a:lnTo>
                <a:lnTo>
                  <a:pt x="0" y="2228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PenAnnotation946"/>
          <p:cNvSpPr/>
          <p:nvPr/>
        </p:nvSpPr>
        <p:spPr>
          <a:xfrm>
            <a:off x="5900760" y="3244680"/>
            <a:ext cx="299880" cy="141480"/>
          </a:xfrm>
          <a:custGeom>
            <a:avLst/>
            <a:gdLst>
              <a:gd name="textAreaLeft" fmla="*/ 0 w 299880"/>
              <a:gd name="textAreaRight" fmla="*/ 300240 w 29988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300039" h="141972">
                <a:moveTo>
                  <a:pt x="0" y="39206"/>
                </a:moveTo>
                <a:lnTo>
                  <a:pt x="0" y="31825"/>
                </a:lnTo>
                <a:lnTo>
                  <a:pt x="953" y="31428"/>
                </a:lnTo>
                <a:lnTo>
                  <a:pt x="4551" y="30987"/>
                </a:lnTo>
                <a:lnTo>
                  <a:pt x="5892" y="29917"/>
                </a:lnTo>
                <a:lnTo>
                  <a:pt x="6785" y="28250"/>
                </a:lnTo>
                <a:lnTo>
                  <a:pt x="7381" y="26187"/>
                </a:lnTo>
                <a:lnTo>
                  <a:pt x="8730" y="24812"/>
                </a:lnTo>
                <a:lnTo>
                  <a:pt x="10583" y="23895"/>
                </a:lnTo>
                <a:lnTo>
                  <a:pt x="12770" y="23284"/>
                </a:lnTo>
                <a:lnTo>
                  <a:pt x="17741" y="20064"/>
                </a:lnTo>
                <a:lnTo>
                  <a:pt x="20400" y="17872"/>
                </a:lnTo>
                <a:lnTo>
                  <a:pt x="23125" y="16411"/>
                </a:lnTo>
                <a:lnTo>
                  <a:pt x="31511" y="13402"/>
                </a:lnTo>
                <a:lnTo>
                  <a:pt x="37182" y="9322"/>
                </a:lnTo>
                <a:lnTo>
                  <a:pt x="40981" y="7854"/>
                </a:lnTo>
                <a:lnTo>
                  <a:pt x="50281" y="6222"/>
                </a:lnTo>
                <a:lnTo>
                  <a:pt x="55428" y="5786"/>
                </a:lnTo>
                <a:lnTo>
                  <a:pt x="60765" y="5496"/>
                </a:lnTo>
                <a:lnTo>
                  <a:pt x="74837" y="5088"/>
                </a:lnTo>
                <a:lnTo>
                  <a:pt x="78466" y="5031"/>
                </a:lnTo>
                <a:lnTo>
                  <a:pt x="87579" y="2427"/>
                </a:lnTo>
                <a:lnTo>
                  <a:pt x="92676" y="399"/>
                </a:lnTo>
                <a:lnTo>
                  <a:pt x="97979" y="0"/>
                </a:lnTo>
                <a:lnTo>
                  <a:pt x="103419" y="686"/>
                </a:lnTo>
                <a:lnTo>
                  <a:pt x="108951" y="2096"/>
                </a:lnTo>
                <a:lnTo>
                  <a:pt x="117638" y="3663"/>
                </a:lnTo>
                <a:lnTo>
                  <a:pt x="121288" y="4081"/>
                </a:lnTo>
                <a:lnTo>
                  <a:pt x="124674" y="5312"/>
                </a:lnTo>
                <a:lnTo>
                  <a:pt x="130975" y="9219"/>
                </a:lnTo>
                <a:lnTo>
                  <a:pt x="133990" y="11595"/>
                </a:lnTo>
                <a:lnTo>
                  <a:pt x="136951" y="14131"/>
                </a:lnTo>
                <a:lnTo>
                  <a:pt x="139879" y="16774"/>
                </a:lnTo>
                <a:lnTo>
                  <a:pt x="142782" y="18537"/>
                </a:lnTo>
                <a:lnTo>
                  <a:pt x="151420" y="21969"/>
                </a:lnTo>
                <a:lnTo>
                  <a:pt x="157150" y="26148"/>
                </a:lnTo>
                <a:lnTo>
                  <a:pt x="159060" y="28596"/>
                </a:lnTo>
                <a:lnTo>
                  <a:pt x="160332" y="31180"/>
                </a:lnTo>
                <a:lnTo>
                  <a:pt x="161181" y="33855"/>
                </a:lnTo>
                <a:lnTo>
                  <a:pt x="160794" y="37544"/>
                </a:lnTo>
                <a:lnTo>
                  <a:pt x="159583" y="41908"/>
                </a:lnTo>
                <a:lnTo>
                  <a:pt x="157824" y="46723"/>
                </a:lnTo>
                <a:lnTo>
                  <a:pt x="156651" y="50884"/>
                </a:lnTo>
                <a:lnTo>
                  <a:pt x="155869" y="54612"/>
                </a:lnTo>
                <a:lnTo>
                  <a:pt x="155348" y="58049"/>
                </a:lnTo>
                <a:lnTo>
                  <a:pt x="153095" y="62246"/>
                </a:lnTo>
                <a:lnTo>
                  <a:pt x="149689" y="66948"/>
                </a:lnTo>
                <a:lnTo>
                  <a:pt x="145512" y="71988"/>
                </a:lnTo>
                <a:lnTo>
                  <a:pt x="142728" y="76301"/>
                </a:lnTo>
                <a:lnTo>
                  <a:pt x="140872" y="80129"/>
                </a:lnTo>
                <a:lnTo>
                  <a:pt x="139635" y="83633"/>
                </a:lnTo>
                <a:lnTo>
                  <a:pt x="137857" y="86921"/>
                </a:lnTo>
                <a:lnTo>
                  <a:pt x="135720" y="90066"/>
                </a:lnTo>
                <a:lnTo>
                  <a:pt x="133343" y="93115"/>
                </a:lnTo>
                <a:lnTo>
                  <a:pt x="130805" y="96101"/>
                </a:lnTo>
                <a:lnTo>
                  <a:pt x="128161" y="99043"/>
                </a:lnTo>
                <a:lnTo>
                  <a:pt x="122683" y="104853"/>
                </a:lnTo>
                <a:lnTo>
                  <a:pt x="117073" y="110610"/>
                </a:lnTo>
                <a:lnTo>
                  <a:pt x="113292" y="113479"/>
                </a:lnTo>
                <a:lnTo>
                  <a:pt x="108865" y="116343"/>
                </a:lnTo>
                <a:lnTo>
                  <a:pt x="104009" y="119206"/>
                </a:lnTo>
                <a:lnTo>
                  <a:pt x="96074" y="122387"/>
                </a:lnTo>
                <a:lnTo>
                  <a:pt x="92624" y="123235"/>
                </a:lnTo>
                <a:lnTo>
                  <a:pt x="90325" y="124753"/>
                </a:lnTo>
                <a:lnTo>
                  <a:pt x="88791" y="126717"/>
                </a:lnTo>
                <a:lnTo>
                  <a:pt x="86331" y="132163"/>
                </a:lnTo>
                <a:lnTo>
                  <a:pt x="85177" y="132610"/>
                </a:lnTo>
                <a:lnTo>
                  <a:pt x="77521" y="133469"/>
                </a:lnTo>
                <a:lnTo>
                  <a:pt x="77317" y="136028"/>
                </a:lnTo>
                <a:lnTo>
                  <a:pt x="77262" y="138044"/>
                </a:lnTo>
                <a:lnTo>
                  <a:pt x="78178" y="139388"/>
                </a:lnTo>
                <a:lnTo>
                  <a:pt x="79741" y="140284"/>
                </a:lnTo>
                <a:lnTo>
                  <a:pt x="84543" y="141722"/>
                </a:lnTo>
                <a:lnTo>
                  <a:pt x="89926" y="141971"/>
                </a:lnTo>
                <a:lnTo>
                  <a:pt x="92335" y="141054"/>
                </a:lnTo>
                <a:lnTo>
                  <a:pt x="97553" y="137494"/>
                </a:lnTo>
                <a:lnTo>
                  <a:pt x="105587" y="135277"/>
                </a:lnTo>
                <a:lnTo>
                  <a:pt x="110397" y="134686"/>
                </a:lnTo>
                <a:lnTo>
                  <a:pt x="115507" y="134292"/>
                </a:lnTo>
                <a:lnTo>
                  <a:pt x="120820" y="134029"/>
                </a:lnTo>
                <a:lnTo>
                  <a:pt x="131803" y="133737"/>
                </a:lnTo>
                <a:lnTo>
                  <a:pt x="177179" y="133513"/>
                </a:lnTo>
                <a:lnTo>
                  <a:pt x="182889" y="132557"/>
                </a:lnTo>
                <a:lnTo>
                  <a:pt x="188601" y="130968"/>
                </a:lnTo>
                <a:lnTo>
                  <a:pt x="194314" y="128955"/>
                </a:lnTo>
                <a:lnTo>
                  <a:pt x="200028" y="127614"/>
                </a:lnTo>
                <a:lnTo>
                  <a:pt x="205742" y="126720"/>
                </a:lnTo>
                <a:lnTo>
                  <a:pt x="211456" y="126123"/>
                </a:lnTo>
                <a:lnTo>
                  <a:pt x="217171" y="125726"/>
                </a:lnTo>
                <a:lnTo>
                  <a:pt x="222886" y="125461"/>
                </a:lnTo>
                <a:lnTo>
                  <a:pt x="234315" y="125167"/>
                </a:lnTo>
                <a:lnTo>
                  <a:pt x="300038" y="1249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947"/>
          <p:cNvSpPr/>
          <p:nvPr/>
        </p:nvSpPr>
        <p:spPr>
          <a:xfrm>
            <a:off x="6423120" y="3282840"/>
            <a:ext cx="85680" cy="282600"/>
          </a:xfrm>
          <a:custGeom>
            <a:avLst/>
            <a:gdLst>
              <a:gd name="textAreaLeft" fmla="*/ 0 w 85680"/>
              <a:gd name="textAreaRight" fmla="*/ 86040 w 85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85726" h="282894">
                <a:moveTo>
                  <a:pt x="0" y="0"/>
                </a:moveTo>
                <a:lnTo>
                  <a:pt x="4552" y="4551"/>
                </a:lnTo>
                <a:lnTo>
                  <a:pt x="5892" y="6844"/>
                </a:lnTo>
                <a:lnTo>
                  <a:pt x="8731" y="15575"/>
                </a:lnTo>
                <a:lnTo>
                  <a:pt x="10584" y="19908"/>
                </a:lnTo>
                <a:lnTo>
                  <a:pt x="12771" y="24702"/>
                </a:lnTo>
                <a:lnTo>
                  <a:pt x="15201" y="32569"/>
                </a:lnTo>
                <a:lnTo>
                  <a:pt x="16282" y="40192"/>
                </a:lnTo>
                <a:lnTo>
                  <a:pt x="16569" y="44893"/>
                </a:lnTo>
                <a:lnTo>
                  <a:pt x="16761" y="49931"/>
                </a:lnTo>
                <a:lnTo>
                  <a:pt x="17842" y="54242"/>
                </a:lnTo>
                <a:lnTo>
                  <a:pt x="19515" y="58069"/>
                </a:lnTo>
                <a:lnTo>
                  <a:pt x="21583" y="61573"/>
                </a:lnTo>
                <a:lnTo>
                  <a:pt x="22961" y="65813"/>
                </a:lnTo>
                <a:lnTo>
                  <a:pt x="23880" y="70546"/>
                </a:lnTo>
                <a:lnTo>
                  <a:pt x="24493" y="75606"/>
                </a:lnTo>
                <a:lnTo>
                  <a:pt x="24901" y="80884"/>
                </a:lnTo>
                <a:lnTo>
                  <a:pt x="25173" y="86307"/>
                </a:lnTo>
                <a:lnTo>
                  <a:pt x="25476" y="97414"/>
                </a:lnTo>
                <a:lnTo>
                  <a:pt x="25610" y="108700"/>
                </a:lnTo>
                <a:lnTo>
                  <a:pt x="26599" y="115329"/>
                </a:lnTo>
                <a:lnTo>
                  <a:pt x="28210" y="122606"/>
                </a:lnTo>
                <a:lnTo>
                  <a:pt x="30237" y="130315"/>
                </a:lnTo>
                <a:lnTo>
                  <a:pt x="31588" y="137359"/>
                </a:lnTo>
                <a:lnTo>
                  <a:pt x="32489" y="143961"/>
                </a:lnTo>
                <a:lnTo>
                  <a:pt x="33090" y="150266"/>
                </a:lnTo>
                <a:lnTo>
                  <a:pt x="34442" y="156375"/>
                </a:lnTo>
                <a:lnTo>
                  <a:pt x="36297" y="162352"/>
                </a:lnTo>
                <a:lnTo>
                  <a:pt x="38486" y="168242"/>
                </a:lnTo>
                <a:lnTo>
                  <a:pt x="39945" y="174074"/>
                </a:lnTo>
                <a:lnTo>
                  <a:pt x="40918" y="179867"/>
                </a:lnTo>
                <a:lnTo>
                  <a:pt x="41566" y="185634"/>
                </a:lnTo>
                <a:lnTo>
                  <a:pt x="42951" y="191383"/>
                </a:lnTo>
                <a:lnTo>
                  <a:pt x="44827" y="197122"/>
                </a:lnTo>
                <a:lnTo>
                  <a:pt x="47029" y="202852"/>
                </a:lnTo>
                <a:lnTo>
                  <a:pt x="49451" y="208577"/>
                </a:lnTo>
                <a:lnTo>
                  <a:pt x="52017" y="214299"/>
                </a:lnTo>
                <a:lnTo>
                  <a:pt x="54681" y="220018"/>
                </a:lnTo>
                <a:lnTo>
                  <a:pt x="56457" y="225737"/>
                </a:lnTo>
                <a:lnTo>
                  <a:pt x="57640" y="231454"/>
                </a:lnTo>
                <a:lnTo>
                  <a:pt x="58429" y="237170"/>
                </a:lnTo>
                <a:lnTo>
                  <a:pt x="59908" y="241933"/>
                </a:lnTo>
                <a:lnTo>
                  <a:pt x="61847" y="246062"/>
                </a:lnTo>
                <a:lnTo>
                  <a:pt x="64091" y="249766"/>
                </a:lnTo>
                <a:lnTo>
                  <a:pt x="66585" y="256422"/>
                </a:lnTo>
                <a:lnTo>
                  <a:pt x="67693" y="262555"/>
                </a:lnTo>
                <a:lnTo>
                  <a:pt x="68318" y="270411"/>
                </a:lnTo>
                <a:lnTo>
                  <a:pt x="68464" y="272583"/>
                </a:lnTo>
                <a:lnTo>
                  <a:pt x="71069" y="276088"/>
                </a:lnTo>
                <a:lnTo>
                  <a:pt x="77106" y="282840"/>
                </a:lnTo>
                <a:lnTo>
                  <a:pt x="77122" y="282858"/>
                </a:lnTo>
                <a:lnTo>
                  <a:pt x="85725" y="2828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MARTPenAnnotation948"/>
          <p:cNvSpPr/>
          <p:nvPr/>
        </p:nvSpPr>
        <p:spPr>
          <a:xfrm>
            <a:off x="6321600" y="3368520"/>
            <a:ext cx="368280" cy="34920"/>
          </a:xfrm>
          <a:custGeom>
            <a:avLst/>
            <a:gdLst>
              <a:gd name="textAreaLeft" fmla="*/ 0 w 368280"/>
              <a:gd name="textAreaRight" fmla="*/ 368640 w 36828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368265" h="34291">
                <a:moveTo>
                  <a:pt x="8219" y="34290"/>
                </a:moveTo>
                <a:lnTo>
                  <a:pt x="0" y="34290"/>
                </a:lnTo>
                <a:lnTo>
                  <a:pt x="48739" y="34290"/>
                </a:lnTo>
                <a:lnTo>
                  <a:pt x="55236" y="33337"/>
                </a:lnTo>
                <a:lnTo>
                  <a:pt x="62423" y="31750"/>
                </a:lnTo>
                <a:lnTo>
                  <a:pt x="70073" y="29739"/>
                </a:lnTo>
                <a:lnTo>
                  <a:pt x="78029" y="28399"/>
                </a:lnTo>
                <a:lnTo>
                  <a:pt x="86192" y="27505"/>
                </a:lnTo>
                <a:lnTo>
                  <a:pt x="94491" y="26909"/>
                </a:lnTo>
                <a:lnTo>
                  <a:pt x="102881" y="25560"/>
                </a:lnTo>
                <a:lnTo>
                  <a:pt x="111332" y="23707"/>
                </a:lnTo>
                <a:lnTo>
                  <a:pt x="119824" y="21520"/>
                </a:lnTo>
                <a:lnTo>
                  <a:pt x="128342" y="20061"/>
                </a:lnTo>
                <a:lnTo>
                  <a:pt x="136879" y="19089"/>
                </a:lnTo>
                <a:lnTo>
                  <a:pt x="145427" y="18441"/>
                </a:lnTo>
                <a:lnTo>
                  <a:pt x="153983" y="17057"/>
                </a:lnTo>
                <a:lnTo>
                  <a:pt x="162546" y="15181"/>
                </a:lnTo>
                <a:lnTo>
                  <a:pt x="171111" y="12978"/>
                </a:lnTo>
                <a:lnTo>
                  <a:pt x="179678" y="11510"/>
                </a:lnTo>
                <a:lnTo>
                  <a:pt x="188248" y="10531"/>
                </a:lnTo>
                <a:lnTo>
                  <a:pt x="196818" y="9878"/>
                </a:lnTo>
                <a:lnTo>
                  <a:pt x="206342" y="8490"/>
                </a:lnTo>
                <a:lnTo>
                  <a:pt x="216501" y="6613"/>
                </a:lnTo>
                <a:lnTo>
                  <a:pt x="227084" y="4409"/>
                </a:lnTo>
                <a:lnTo>
                  <a:pt x="236044" y="2939"/>
                </a:lnTo>
                <a:lnTo>
                  <a:pt x="243922" y="1959"/>
                </a:lnTo>
                <a:lnTo>
                  <a:pt x="251079" y="1306"/>
                </a:lnTo>
                <a:lnTo>
                  <a:pt x="258709" y="871"/>
                </a:lnTo>
                <a:lnTo>
                  <a:pt x="274805" y="387"/>
                </a:lnTo>
                <a:lnTo>
                  <a:pt x="307615" y="51"/>
                </a:lnTo>
                <a:lnTo>
                  <a:pt x="36826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MARTPenAnnotation949"/>
          <p:cNvSpPr/>
          <p:nvPr/>
        </p:nvSpPr>
        <p:spPr>
          <a:xfrm>
            <a:off x="6757920" y="3265560"/>
            <a:ext cx="85680" cy="284040"/>
          </a:xfrm>
          <a:custGeom>
            <a:avLst/>
            <a:gdLst>
              <a:gd name="textAreaLeft" fmla="*/ 0 w 85680"/>
              <a:gd name="textAreaRight" fmla="*/ 86040 w 856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85726" h="282894">
                <a:moveTo>
                  <a:pt x="0" y="0"/>
                </a:moveTo>
                <a:lnTo>
                  <a:pt x="0" y="24951"/>
                </a:lnTo>
                <a:lnTo>
                  <a:pt x="953" y="29969"/>
                </a:lnTo>
                <a:lnTo>
                  <a:pt x="2540" y="35219"/>
                </a:lnTo>
                <a:lnTo>
                  <a:pt x="4551" y="40624"/>
                </a:lnTo>
                <a:lnTo>
                  <a:pt x="6785" y="49170"/>
                </a:lnTo>
                <a:lnTo>
                  <a:pt x="7779" y="57096"/>
                </a:lnTo>
                <a:lnTo>
                  <a:pt x="8043" y="61877"/>
                </a:lnTo>
                <a:lnTo>
                  <a:pt x="8220" y="66969"/>
                </a:lnTo>
                <a:lnTo>
                  <a:pt x="9290" y="72268"/>
                </a:lnTo>
                <a:lnTo>
                  <a:pt x="10956" y="77706"/>
                </a:lnTo>
                <a:lnTo>
                  <a:pt x="13019" y="83237"/>
                </a:lnTo>
                <a:lnTo>
                  <a:pt x="14394" y="88829"/>
                </a:lnTo>
                <a:lnTo>
                  <a:pt x="15311" y="94462"/>
                </a:lnTo>
                <a:lnTo>
                  <a:pt x="15923" y="100122"/>
                </a:lnTo>
                <a:lnTo>
                  <a:pt x="17283" y="104848"/>
                </a:lnTo>
                <a:lnTo>
                  <a:pt x="19141" y="108951"/>
                </a:lnTo>
                <a:lnTo>
                  <a:pt x="21334" y="112639"/>
                </a:lnTo>
                <a:lnTo>
                  <a:pt x="23747" y="117003"/>
                </a:lnTo>
                <a:lnTo>
                  <a:pt x="28970" y="126931"/>
                </a:lnTo>
                <a:lnTo>
                  <a:pt x="37264" y="143231"/>
                </a:lnTo>
                <a:lnTo>
                  <a:pt x="40083" y="147875"/>
                </a:lnTo>
                <a:lnTo>
                  <a:pt x="42915" y="151924"/>
                </a:lnTo>
                <a:lnTo>
                  <a:pt x="45755" y="155575"/>
                </a:lnTo>
                <a:lnTo>
                  <a:pt x="48601" y="159914"/>
                </a:lnTo>
                <a:lnTo>
                  <a:pt x="51450" y="164712"/>
                </a:lnTo>
                <a:lnTo>
                  <a:pt x="54303" y="169815"/>
                </a:lnTo>
                <a:lnTo>
                  <a:pt x="60012" y="180566"/>
                </a:lnTo>
                <a:lnTo>
                  <a:pt x="62868" y="186100"/>
                </a:lnTo>
                <a:lnTo>
                  <a:pt x="64772" y="191694"/>
                </a:lnTo>
                <a:lnTo>
                  <a:pt x="66042" y="197329"/>
                </a:lnTo>
                <a:lnTo>
                  <a:pt x="66888" y="202990"/>
                </a:lnTo>
                <a:lnTo>
                  <a:pt x="68404" y="207717"/>
                </a:lnTo>
                <a:lnTo>
                  <a:pt x="70368" y="211821"/>
                </a:lnTo>
                <a:lnTo>
                  <a:pt x="72629" y="215509"/>
                </a:lnTo>
                <a:lnTo>
                  <a:pt x="75142" y="222147"/>
                </a:lnTo>
                <a:lnTo>
                  <a:pt x="75812" y="225250"/>
                </a:lnTo>
                <a:lnTo>
                  <a:pt x="77212" y="228272"/>
                </a:lnTo>
                <a:lnTo>
                  <a:pt x="79097" y="231239"/>
                </a:lnTo>
                <a:lnTo>
                  <a:pt x="81307" y="234169"/>
                </a:lnTo>
                <a:lnTo>
                  <a:pt x="82779" y="238028"/>
                </a:lnTo>
                <a:lnTo>
                  <a:pt x="83762" y="242505"/>
                </a:lnTo>
                <a:lnTo>
                  <a:pt x="84416" y="247395"/>
                </a:lnTo>
                <a:lnTo>
                  <a:pt x="85143" y="255369"/>
                </a:lnTo>
                <a:lnTo>
                  <a:pt x="85610" y="263698"/>
                </a:lnTo>
                <a:lnTo>
                  <a:pt x="85703" y="272187"/>
                </a:lnTo>
                <a:lnTo>
                  <a:pt x="85725" y="2828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MARTPenAnnotation950"/>
          <p:cNvSpPr/>
          <p:nvPr/>
        </p:nvSpPr>
        <p:spPr>
          <a:xfrm>
            <a:off x="6904080" y="3274920"/>
            <a:ext cx="201600" cy="222480"/>
          </a:xfrm>
          <a:custGeom>
            <a:avLst/>
            <a:gdLst>
              <a:gd name="textAreaLeft" fmla="*/ 0 w 201600"/>
              <a:gd name="textAreaRight" fmla="*/ 201960 w 20160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201997" h="222850">
                <a:moveTo>
                  <a:pt x="25708" y="25717"/>
                </a:moveTo>
                <a:lnTo>
                  <a:pt x="25708" y="8934"/>
                </a:lnTo>
                <a:lnTo>
                  <a:pt x="25708" y="13230"/>
                </a:lnTo>
                <a:lnTo>
                  <a:pt x="24756" y="14535"/>
                </a:lnTo>
                <a:lnTo>
                  <a:pt x="23169" y="15405"/>
                </a:lnTo>
                <a:lnTo>
                  <a:pt x="21157" y="15985"/>
                </a:lnTo>
                <a:lnTo>
                  <a:pt x="19817" y="18276"/>
                </a:lnTo>
                <a:lnTo>
                  <a:pt x="18923" y="21709"/>
                </a:lnTo>
                <a:lnTo>
                  <a:pt x="18327" y="25903"/>
                </a:lnTo>
                <a:lnTo>
                  <a:pt x="16978" y="29651"/>
                </a:lnTo>
                <a:lnTo>
                  <a:pt x="12938" y="36355"/>
                </a:lnTo>
                <a:lnTo>
                  <a:pt x="10507" y="42510"/>
                </a:lnTo>
                <a:lnTo>
                  <a:pt x="8475" y="49373"/>
                </a:lnTo>
                <a:lnTo>
                  <a:pt x="6599" y="53870"/>
                </a:lnTo>
                <a:lnTo>
                  <a:pt x="4397" y="58773"/>
                </a:lnTo>
                <a:lnTo>
                  <a:pt x="2928" y="63947"/>
                </a:lnTo>
                <a:lnTo>
                  <a:pt x="1949" y="69301"/>
                </a:lnTo>
                <a:lnTo>
                  <a:pt x="1296" y="74776"/>
                </a:lnTo>
                <a:lnTo>
                  <a:pt x="861" y="80330"/>
                </a:lnTo>
                <a:lnTo>
                  <a:pt x="571" y="85939"/>
                </a:lnTo>
                <a:lnTo>
                  <a:pt x="162" y="100393"/>
                </a:lnTo>
                <a:lnTo>
                  <a:pt x="0" y="130108"/>
                </a:lnTo>
                <a:lnTo>
                  <a:pt x="2854" y="134363"/>
                </a:lnTo>
                <a:lnTo>
                  <a:pt x="7615" y="139106"/>
                </a:lnTo>
                <a:lnTo>
                  <a:pt x="13646" y="144172"/>
                </a:lnTo>
                <a:lnTo>
                  <a:pt x="17667" y="148502"/>
                </a:lnTo>
                <a:lnTo>
                  <a:pt x="20347" y="152341"/>
                </a:lnTo>
                <a:lnTo>
                  <a:pt x="22135" y="155853"/>
                </a:lnTo>
                <a:lnTo>
                  <a:pt x="23326" y="160099"/>
                </a:lnTo>
                <a:lnTo>
                  <a:pt x="24120" y="164836"/>
                </a:lnTo>
                <a:lnTo>
                  <a:pt x="24649" y="169898"/>
                </a:lnTo>
                <a:lnTo>
                  <a:pt x="25955" y="174225"/>
                </a:lnTo>
                <a:lnTo>
                  <a:pt x="27778" y="178062"/>
                </a:lnTo>
                <a:lnTo>
                  <a:pt x="29945" y="181573"/>
                </a:lnTo>
                <a:lnTo>
                  <a:pt x="32343" y="185818"/>
                </a:lnTo>
                <a:lnTo>
                  <a:pt x="37547" y="195616"/>
                </a:lnTo>
                <a:lnTo>
                  <a:pt x="40268" y="199943"/>
                </a:lnTo>
                <a:lnTo>
                  <a:pt x="43035" y="203780"/>
                </a:lnTo>
                <a:lnTo>
                  <a:pt x="45832" y="207291"/>
                </a:lnTo>
                <a:lnTo>
                  <a:pt x="48648" y="209631"/>
                </a:lnTo>
                <a:lnTo>
                  <a:pt x="51479" y="211192"/>
                </a:lnTo>
                <a:lnTo>
                  <a:pt x="54319" y="212232"/>
                </a:lnTo>
                <a:lnTo>
                  <a:pt x="60014" y="215927"/>
                </a:lnTo>
                <a:lnTo>
                  <a:pt x="62866" y="218247"/>
                </a:lnTo>
                <a:lnTo>
                  <a:pt x="66673" y="219793"/>
                </a:lnTo>
                <a:lnTo>
                  <a:pt x="71115" y="220823"/>
                </a:lnTo>
                <a:lnTo>
                  <a:pt x="75982" y="221510"/>
                </a:lnTo>
                <a:lnTo>
                  <a:pt x="80179" y="221969"/>
                </a:lnTo>
                <a:lnTo>
                  <a:pt x="83930" y="222274"/>
                </a:lnTo>
                <a:lnTo>
                  <a:pt x="87383" y="222477"/>
                </a:lnTo>
                <a:lnTo>
                  <a:pt x="96299" y="222704"/>
                </a:lnTo>
                <a:lnTo>
                  <a:pt x="117545" y="222849"/>
                </a:lnTo>
                <a:lnTo>
                  <a:pt x="123128" y="221908"/>
                </a:lnTo>
                <a:lnTo>
                  <a:pt x="128755" y="220329"/>
                </a:lnTo>
                <a:lnTo>
                  <a:pt x="134411" y="218323"/>
                </a:lnTo>
                <a:lnTo>
                  <a:pt x="139134" y="216034"/>
                </a:lnTo>
                <a:lnTo>
                  <a:pt x="143236" y="213555"/>
                </a:lnTo>
                <a:lnTo>
                  <a:pt x="146922" y="210950"/>
                </a:lnTo>
                <a:lnTo>
                  <a:pt x="151285" y="208261"/>
                </a:lnTo>
                <a:lnTo>
                  <a:pt x="156098" y="205515"/>
                </a:lnTo>
                <a:lnTo>
                  <a:pt x="161213" y="202733"/>
                </a:lnTo>
                <a:lnTo>
                  <a:pt x="165574" y="198972"/>
                </a:lnTo>
                <a:lnTo>
                  <a:pt x="169435" y="194561"/>
                </a:lnTo>
                <a:lnTo>
                  <a:pt x="172961" y="189714"/>
                </a:lnTo>
                <a:lnTo>
                  <a:pt x="176264" y="185531"/>
                </a:lnTo>
                <a:lnTo>
                  <a:pt x="179419" y="181790"/>
                </a:lnTo>
                <a:lnTo>
                  <a:pt x="182474" y="178343"/>
                </a:lnTo>
                <a:lnTo>
                  <a:pt x="185464" y="174140"/>
                </a:lnTo>
                <a:lnTo>
                  <a:pt x="188410" y="169433"/>
                </a:lnTo>
                <a:lnTo>
                  <a:pt x="191326" y="164390"/>
                </a:lnTo>
                <a:lnTo>
                  <a:pt x="193270" y="159124"/>
                </a:lnTo>
                <a:lnTo>
                  <a:pt x="194566" y="153707"/>
                </a:lnTo>
                <a:lnTo>
                  <a:pt x="195429" y="148191"/>
                </a:lnTo>
                <a:lnTo>
                  <a:pt x="196006" y="142609"/>
                </a:lnTo>
                <a:lnTo>
                  <a:pt x="196390" y="136983"/>
                </a:lnTo>
                <a:lnTo>
                  <a:pt x="196646" y="131327"/>
                </a:lnTo>
                <a:lnTo>
                  <a:pt x="197769" y="126603"/>
                </a:lnTo>
                <a:lnTo>
                  <a:pt x="199471" y="122502"/>
                </a:lnTo>
                <a:lnTo>
                  <a:pt x="201557" y="118815"/>
                </a:lnTo>
                <a:lnTo>
                  <a:pt x="201996" y="114453"/>
                </a:lnTo>
                <a:lnTo>
                  <a:pt x="201336" y="109639"/>
                </a:lnTo>
                <a:lnTo>
                  <a:pt x="199943" y="104525"/>
                </a:lnTo>
                <a:lnTo>
                  <a:pt x="199015" y="99211"/>
                </a:lnTo>
                <a:lnTo>
                  <a:pt x="198396" y="93763"/>
                </a:lnTo>
                <a:lnTo>
                  <a:pt x="197984" y="88226"/>
                </a:lnTo>
                <a:lnTo>
                  <a:pt x="197525" y="79534"/>
                </a:lnTo>
                <a:lnTo>
                  <a:pt x="197402" y="75883"/>
                </a:lnTo>
                <a:lnTo>
                  <a:pt x="197231" y="61642"/>
                </a:lnTo>
                <a:lnTo>
                  <a:pt x="195302" y="57287"/>
                </a:lnTo>
                <a:lnTo>
                  <a:pt x="192110" y="53431"/>
                </a:lnTo>
                <a:lnTo>
                  <a:pt x="188077" y="49908"/>
                </a:lnTo>
                <a:lnTo>
                  <a:pt x="184437" y="46607"/>
                </a:lnTo>
                <a:lnTo>
                  <a:pt x="177852" y="40399"/>
                </a:lnTo>
                <a:lnTo>
                  <a:pt x="173810" y="37410"/>
                </a:lnTo>
                <a:lnTo>
                  <a:pt x="169210" y="34465"/>
                </a:lnTo>
                <a:lnTo>
                  <a:pt x="164238" y="31549"/>
                </a:lnTo>
                <a:lnTo>
                  <a:pt x="159972" y="29605"/>
                </a:lnTo>
                <a:lnTo>
                  <a:pt x="156175" y="28309"/>
                </a:lnTo>
                <a:lnTo>
                  <a:pt x="152691" y="27445"/>
                </a:lnTo>
                <a:lnTo>
                  <a:pt x="147511" y="25917"/>
                </a:lnTo>
                <a:lnTo>
                  <a:pt x="134135" y="21678"/>
                </a:lnTo>
                <a:lnTo>
                  <a:pt x="127520" y="20167"/>
                </a:lnTo>
                <a:lnTo>
                  <a:pt x="121205" y="19160"/>
                </a:lnTo>
                <a:lnTo>
                  <a:pt x="115090" y="18488"/>
                </a:lnTo>
                <a:lnTo>
                  <a:pt x="109109" y="17088"/>
                </a:lnTo>
                <a:lnTo>
                  <a:pt x="103216" y="15202"/>
                </a:lnTo>
                <a:lnTo>
                  <a:pt x="97383" y="12992"/>
                </a:lnTo>
                <a:lnTo>
                  <a:pt x="91588" y="11519"/>
                </a:lnTo>
                <a:lnTo>
                  <a:pt x="85821" y="10537"/>
                </a:lnTo>
                <a:lnTo>
                  <a:pt x="80071" y="9882"/>
                </a:lnTo>
                <a:lnTo>
                  <a:pt x="75285" y="9445"/>
                </a:lnTo>
                <a:lnTo>
                  <a:pt x="71142" y="9154"/>
                </a:lnTo>
                <a:lnTo>
                  <a:pt x="67427" y="8960"/>
                </a:lnTo>
                <a:lnTo>
                  <a:pt x="63998" y="7878"/>
                </a:lnTo>
                <a:lnTo>
                  <a:pt x="60760" y="6205"/>
                </a:lnTo>
                <a:lnTo>
                  <a:pt x="57648" y="4136"/>
                </a:lnTo>
                <a:lnTo>
                  <a:pt x="51651" y="1838"/>
                </a:lnTo>
                <a:lnTo>
                  <a:pt x="45811" y="817"/>
                </a:lnTo>
                <a:lnTo>
                  <a:pt x="40040" y="363"/>
                </a:lnTo>
                <a:lnTo>
                  <a:pt x="3428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PenAnnotation951"/>
          <p:cNvSpPr/>
          <p:nvPr/>
        </p:nvSpPr>
        <p:spPr>
          <a:xfrm>
            <a:off x="7221600" y="3317760"/>
            <a:ext cx="230040" cy="204840"/>
          </a:xfrm>
          <a:custGeom>
            <a:avLst/>
            <a:gdLst>
              <a:gd name="textAreaLeft" fmla="*/ 0 w 230040"/>
              <a:gd name="textAreaRight" fmla="*/ 230400 w 2300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31458" h="205741">
                <a:moveTo>
                  <a:pt x="0" y="0"/>
                </a:moveTo>
                <a:lnTo>
                  <a:pt x="0" y="7381"/>
                </a:lnTo>
                <a:lnTo>
                  <a:pt x="4551" y="12770"/>
                </a:lnTo>
                <a:lnTo>
                  <a:pt x="5891" y="15181"/>
                </a:lnTo>
                <a:lnTo>
                  <a:pt x="7381" y="20400"/>
                </a:lnTo>
                <a:lnTo>
                  <a:pt x="10583" y="25894"/>
                </a:lnTo>
                <a:lnTo>
                  <a:pt x="15849" y="32632"/>
                </a:lnTo>
                <a:lnTo>
                  <a:pt x="21649" y="38633"/>
                </a:lnTo>
                <a:lnTo>
                  <a:pt x="58773" y="75915"/>
                </a:lnTo>
                <a:lnTo>
                  <a:pt x="63947" y="80137"/>
                </a:lnTo>
                <a:lnTo>
                  <a:pt x="69301" y="83905"/>
                </a:lnTo>
                <a:lnTo>
                  <a:pt x="74775" y="87369"/>
                </a:lnTo>
                <a:lnTo>
                  <a:pt x="79377" y="90631"/>
                </a:lnTo>
                <a:lnTo>
                  <a:pt x="83399" y="93758"/>
                </a:lnTo>
                <a:lnTo>
                  <a:pt x="87031" y="96796"/>
                </a:lnTo>
                <a:lnTo>
                  <a:pt x="91359" y="100725"/>
                </a:lnTo>
                <a:lnTo>
                  <a:pt x="101247" y="110172"/>
                </a:lnTo>
                <a:lnTo>
                  <a:pt x="106550" y="114405"/>
                </a:lnTo>
                <a:lnTo>
                  <a:pt x="111991" y="118180"/>
                </a:lnTo>
                <a:lnTo>
                  <a:pt x="117523" y="121649"/>
                </a:lnTo>
                <a:lnTo>
                  <a:pt x="122164" y="124915"/>
                </a:lnTo>
                <a:lnTo>
                  <a:pt x="126210" y="128044"/>
                </a:lnTo>
                <a:lnTo>
                  <a:pt x="129860" y="131082"/>
                </a:lnTo>
                <a:lnTo>
                  <a:pt x="134199" y="134061"/>
                </a:lnTo>
                <a:lnTo>
                  <a:pt x="138996" y="136999"/>
                </a:lnTo>
                <a:lnTo>
                  <a:pt x="144098" y="139910"/>
                </a:lnTo>
                <a:lnTo>
                  <a:pt x="154849" y="145685"/>
                </a:lnTo>
                <a:lnTo>
                  <a:pt x="160383" y="148558"/>
                </a:lnTo>
                <a:lnTo>
                  <a:pt x="165024" y="151426"/>
                </a:lnTo>
                <a:lnTo>
                  <a:pt x="169071" y="154291"/>
                </a:lnTo>
                <a:lnTo>
                  <a:pt x="172722" y="157153"/>
                </a:lnTo>
                <a:lnTo>
                  <a:pt x="177061" y="160014"/>
                </a:lnTo>
                <a:lnTo>
                  <a:pt x="181858" y="162873"/>
                </a:lnTo>
                <a:lnTo>
                  <a:pt x="186961" y="165732"/>
                </a:lnTo>
                <a:lnTo>
                  <a:pt x="191316" y="168591"/>
                </a:lnTo>
                <a:lnTo>
                  <a:pt x="195171" y="171449"/>
                </a:lnTo>
                <a:lnTo>
                  <a:pt x="198694" y="174307"/>
                </a:lnTo>
                <a:lnTo>
                  <a:pt x="205149" y="177482"/>
                </a:lnTo>
                <a:lnTo>
                  <a:pt x="208204" y="178329"/>
                </a:lnTo>
                <a:lnTo>
                  <a:pt x="214137" y="181810"/>
                </a:lnTo>
                <a:lnTo>
                  <a:pt x="217054" y="184071"/>
                </a:lnTo>
                <a:lnTo>
                  <a:pt x="218998" y="186532"/>
                </a:lnTo>
                <a:lnTo>
                  <a:pt x="220294" y="189125"/>
                </a:lnTo>
                <a:lnTo>
                  <a:pt x="221157" y="191805"/>
                </a:lnTo>
                <a:lnTo>
                  <a:pt x="222686" y="193593"/>
                </a:lnTo>
                <a:lnTo>
                  <a:pt x="224657" y="194785"/>
                </a:lnTo>
                <a:lnTo>
                  <a:pt x="226924" y="195579"/>
                </a:lnTo>
                <a:lnTo>
                  <a:pt x="228435" y="197061"/>
                </a:lnTo>
                <a:lnTo>
                  <a:pt x="229443" y="199001"/>
                </a:lnTo>
                <a:lnTo>
                  <a:pt x="231457" y="2057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PenAnnotation952"/>
          <p:cNvSpPr/>
          <p:nvPr/>
        </p:nvSpPr>
        <p:spPr>
          <a:xfrm>
            <a:off x="7264440" y="3313080"/>
            <a:ext cx="144360" cy="184320"/>
          </a:xfrm>
          <a:custGeom>
            <a:avLst/>
            <a:gdLst>
              <a:gd name="textAreaLeft" fmla="*/ 0 w 144360"/>
              <a:gd name="textAreaRight" fmla="*/ 144720 w 144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45733" h="184962">
                <a:moveTo>
                  <a:pt x="145732" y="4939"/>
                </a:moveTo>
                <a:lnTo>
                  <a:pt x="141181" y="4939"/>
                </a:lnTo>
                <a:lnTo>
                  <a:pt x="139841" y="3986"/>
                </a:lnTo>
                <a:lnTo>
                  <a:pt x="138947" y="2399"/>
                </a:lnTo>
                <a:lnTo>
                  <a:pt x="138352" y="388"/>
                </a:lnTo>
                <a:lnTo>
                  <a:pt x="137954" y="0"/>
                </a:lnTo>
                <a:lnTo>
                  <a:pt x="137690" y="694"/>
                </a:lnTo>
                <a:lnTo>
                  <a:pt x="137180" y="5726"/>
                </a:lnTo>
                <a:lnTo>
                  <a:pt x="137169" y="9416"/>
                </a:lnTo>
                <a:lnTo>
                  <a:pt x="136214" y="11734"/>
                </a:lnTo>
                <a:lnTo>
                  <a:pt x="132612" y="16849"/>
                </a:lnTo>
                <a:lnTo>
                  <a:pt x="130318" y="19547"/>
                </a:lnTo>
                <a:lnTo>
                  <a:pt x="127836" y="22298"/>
                </a:lnTo>
                <a:lnTo>
                  <a:pt x="122538" y="27894"/>
                </a:lnTo>
                <a:lnTo>
                  <a:pt x="103990" y="46650"/>
                </a:lnTo>
                <a:lnTo>
                  <a:pt x="99807" y="51796"/>
                </a:lnTo>
                <a:lnTo>
                  <a:pt x="96065" y="57132"/>
                </a:lnTo>
                <a:lnTo>
                  <a:pt x="92619" y="62594"/>
                </a:lnTo>
                <a:lnTo>
                  <a:pt x="88415" y="68141"/>
                </a:lnTo>
                <a:lnTo>
                  <a:pt x="83708" y="73744"/>
                </a:lnTo>
                <a:lnTo>
                  <a:pt x="78665" y="79384"/>
                </a:lnTo>
                <a:lnTo>
                  <a:pt x="74351" y="85049"/>
                </a:lnTo>
                <a:lnTo>
                  <a:pt x="70522" y="90731"/>
                </a:lnTo>
                <a:lnTo>
                  <a:pt x="67018" y="96423"/>
                </a:lnTo>
                <a:lnTo>
                  <a:pt x="64680" y="101171"/>
                </a:lnTo>
                <a:lnTo>
                  <a:pt x="63123" y="105289"/>
                </a:lnTo>
                <a:lnTo>
                  <a:pt x="62084" y="108986"/>
                </a:lnTo>
                <a:lnTo>
                  <a:pt x="59487" y="113356"/>
                </a:lnTo>
                <a:lnTo>
                  <a:pt x="55851" y="118175"/>
                </a:lnTo>
                <a:lnTo>
                  <a:pt x="51521" y="123292"/>
                </a:lnTo>
                <a:lnTo>
                  <a:pt x="47682" y="128609"/>
                </a:lnTo>
                <a:lnTo>
                  <a:pt x="44171" y="134058"/>
                </a:lnTo>
                <a:lnTo>
                  <a:pt x="40877" y="139596"/>
                </a:lnTo>
                <a:lnTo>
                  <a:pt x="37728" y="144240"/>
                </a:lnTo>
                <a:lnTo>
                  <a:pt x="34677" y="148289"/>
                </a:lnTo>
                <a:lnTo>
                  <a:pt x="31691" y="151941"/>
                </a:lnTo>
                <a:lnTo>
                  <a:pt x="28747" y="155328"/>
                </a:lnTo>
                <a:lnTo>
                  <a:pt x="25832" y="158538"/>
                </a:lnTo>
                <a:lnTo>
                  <a:pt x="20053" y="164645"/>
                </a:lnTo>
                <a:lnTo>
                  <a:pt x="14310" y="170535"/>
                </a:lnTo>
                <a:lnTo>
                  <a:pt x="12397" y="173438"/>
                </a:lnTo>
                <a:lnTo>
                  <a:pt x="10273" y="179205"/>
                </a:lnTo>
                <a:lnTo>
                  <a:pt x="9077" y="183256"/>
                </a:lnTo>
                <a:lnTo>
                  <a:pt x="7956" y="183825"/>
                </a:lnTo>
                <a:lnTo>
                  <a:pt x="4171" y="184456"/>
                </a:lnTo>
                <a:lnTo>
                  <a:pt x="0" y="1849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MARTPenAnnotation953"/>
          <p:cNvSpPr/>
          <p:nvPr/>
        </p:nvSpPr>
        <p:spPr>
          <a:xfrm>
            <a:off x="7537320" y="3386160"/>
            <a:ext cx="292320" cy="7920"/>
          </a:xfrm>
          <a:custGeom>
            <a:avLst/>
            <a:gdLst>
              <a:gd name="textAreaLeft" fmla="*/ 0 w 292320"/>
              <a:gd name="textAreaRight" fmla="*/ 292680 w 2923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91467" h="8574">
                <a:moveTo>
                  <a:pt x="0" y="8573"/>
                </a:moveTo>
                <a:lnTo>
                  <a:pt x="82077" y="8573"/>
                </a:lnTo>
                <a:lnTo>
                  <a:pt x="89008" y="7620"/>
                </a:lnTo>
                <a:lnTo>
                  <a:pt x="96487" y="6033"/>
                </a:lnTo>
                <a:lnTo>
                  <a:pt x="104330" y="4022"/>
                </a:lnTo>
                <a:lnTo>
                  <a:pt x="111463" y="2681"/>
                </a:lnTo>
                <a:lnTo>
                  <a:pt x="118124" y="1787"/>
                </a:lnTo>
                <a:lnTo>
                  <a:pt x="124469" y="1192"/>
                </a:lnTo>
                <a:lnTo>
                  <a:pt x="131558" y="795"/>
                </a:lnTo>
                <a:lnTo>
                  <a:pt x="147053" y="353"/>
                </a:lnTo>
                <a:lnTo>
                  <a:pt x="222677" y="4"/>
                </a:lnTo>
                <a:lnTo>
                  <a:pt x="276780" y="0"/>
                </a:lnTo>
                <a:lnTo>
                  <a:pt x="278817" y="953"/>
                </a:lnTo>
                <a:lnTo>
                  <a:pt x="280176" y="2540"/>
                </a:lnTo>
                <a:lnTo>
                  <a:pt x="281082" y="4551"/>
                </a:lnTo>
                <a:lnTo>
                  <a:pt x="282638" y="5892"/>
                </a:lnTo>
                <a:lnTo>
                  <a:pt x="284628" y="6785"/>
                </a:lnTo>
                <a:lnTo>
                  <a:pt x="291466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PenAnnotation954"/>
          <p:cNvSpPr/>
          <p:nvPr/>
        </p:nvSpPr>
        <p:spPr>
          <a:xfrm>
            <a:off x="7675560" y="3265560"/>
            <a:ext cx="68400" cy="291960"/>
          </a:xfrm>
          <a:custGeom>
            <a:avLst/>
            <a:gdLst>
              <a:gd name="textAreaLeft" fmla="*/ 0 w 68400"/>
              <a:gd name="textAreaRight" fmla="*/ 68760 w 684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68227" h="291466">
                <a:moveTo>
                  <a:pt x="0" y="0"/>
                </a:moveTo>
                <a:lnTo>
                  <a:pt x="0" y="12770"/>
                </a:lnTo>
                <a:lnTo>
                  <a:pt x="954" y="16134"/>
                </a:lnTo>
                <a:lnTo>
                  <a:pt x="2541" y="20281"/>
                </a:lnTo>
                <a:lnTo>
                  <a:pt x="4552" y="24951"/>
                </a:lnTo>
                <a:lnTo>
                  <a:pt x="5892" y="29016"/>
                </a:lnTo>
                <a:lnTo>
                  <a:pt x="7382" y="36074"/>
                </a:lnTo>
                <a:lnTo>
                  <a:pt x="8044" y="44925"/>
                </a:lnTo>
                <a:lnTo>
                  <a:pt x="8221" y="49953"/>
                </a:lnTo>
                <a:lnTo>
                  <a:pt x="9290" y="56162"/>
                </a:lnTo>
                <a:lnTo>
                  <a:pt x="10956" y="63159"/>
                </a:lnTo>
                <a:lnTo>
                  <a:pt x="13020" y="70681"/>
                </a:lnTo>
                <a:lnTo>
                  <a:pt x="14395" y="77601"/>
                </a:lnTo>
                <a:lnTo>
                  <a:pt x="15312" y="84119"/>
                </a:lnTo>
                <a:lnTo>
                  <a:pt x="15923" y="90369"/>
                </a:lnTo>
                <a:lnTo>
                  <a:pt x="16331" y="96441"/>
                </a:lnTo>
                <a:lnTo>
                  <a:pt x="16602" y="102394"/>
                </a:lnTo>
                <a:lnTo>
                  <a:pt x="16784" y="108268"/>
                </a:lnTo>
                <a:lnTo>
                  <a:pt x="17856" y="114089"/>
                </a:lnTo>
                <a:lnTo>
                  <a:pt x="19525" y="119874"/>
                </a:lnTo>
                <a:lnTo>
                  <a:pt x="21590" y="125636"/>
                </a:lnTo>
                <a:lnTo>
                  <a:pt x="22965" y="131383"/>
                </a:lnTo>
                <a:lnTo>
                  <a:pt x="23883" y="137119"/>
                </a:lnTo>
                <a:lnTo>
                  <a:pt x="24495" y="142847"/>
                </a:lnTo>
                <a:lnTo>
                  <a:pt x="25855" y="148571"/>
                </a:lnTo>
                <a:lnTo>
                  <a:pt x="27714" y="154293"/>
                </a:lnTo>
                <a:lnTo>
                  <a:pt x="29906" y="160012"/>
                </a:lnTo>
                <a:lnTo>
                  <a:pt x="32320" y="165730"/>
                </a:lnTo>
                <a:lnTo>
                  <a:pt x="34883" y="171446"/>
                </a:lnTo>
                <a:lnTo>
                  <a:pt x="40268" y="182878"/>
                </a:lnTo>
                <a:lnTo>
                  <a:pt x="45838" y="194309"/>
                </a:lnTo>
                <a:lnTo>
                  <a:pt x="47704" y="200024"/>
                </a:lnTo>
                <a:lnTo>
                  <a:pt x="48948" y="205740"/>
                </a:lnTo>
                <a:lnTo>
                  <a:pt x="49777" y="211455"/>
                </a:lnTo>
                <a:lnTo>
                  <a:pt x="51282" y="217170"/>
                </a:lnTo>
                <a:lnTo>
                  <a:pt x="53239" y="222885"/>
                </a:lnTo>
                <a:lnTo>
                  <a:pt x="55494" y="228600"/>
                </a:lnTo>
                <a:lnTo>
                  <a:pt x="57000" y="233363"/>
                </a:lnTo>
                <a:lnTo>
                  <a:pt x="58671" y="241194"/>
                </a:lnTo>
                <a:lnTo>
                  <a:pt x="59414" y="247850"/>
                </a:lnTo>
                <a:lnTo>
                  <a:pt x="59832" y="256952"/>
                </a:lnTo>
                <a:lnTo>
                  <a:pt x="59973" y="268561"/>
                </a:lnTo>
                <a:lnTo>
                  <a:pt x="60938" y="271433"/>
                </a:lnTo>
                <a:lnTo>
                  <a:pt x="62533" y="274301"/>
                </a:lnTo>
                <a:lnTo>
                  <a:pt x="67386" y="281195"/>
                </a:lnTo>
                <a:lnTo>
                  <a:pt x="68050" y="284678"/>
                </a:lnTo>
                <a:lnTo>
                  <a:pt x="68226" y="286940"/>
                </a:lnTo>
                <a:lnTo>
                  <a:pt x="67392" y="288449"/>
                </a:lnTo>
                <a:lnTo>
                  <a:pt x="65883" y="289454"/>
                </a:lnTo>
                <a:lnTo>
                  <a:pt x="60008" y="2914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PenAnnotation955"/>
          <p:cNvSpPr/>
          <p:nvPr/>
        </p:nvSpPr>
        <p:spPr>
          <a:xfrm>
            <a:off x="7916760" y="3232080"/>
            <a:ext cx="7920" cy="182520"/>
          </a:xfrm>
          <a:custGeom>
            <a:avLst/>
            <a:gdLst>
              <a:gd name="textAreaLeft" fmla="*/ 0 w 7920"/>
              <a:gd name="textAreaRight" fmla="*/ 8280 w 79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8781" h="183568">
                <a:moveTo>
                  <a:pt x="7630" y="0"/>
                </a:moveTo>
                <a:lnTo>
                  <a:pt x="7630" y="41463"/>
                </a:lnTo>
                <a:lnTo>
                  <a:pt x="6678" y="46692"/>
                </a:lnTo>
                <a:lnTo>
                  <a:pt x="5090" y="52083"/>
                </a:lnTo>
                <a:lnTo>
                  <a:pt x="3079" y="57582"/>
                </a:lnTo>
                <a:lnTo>
                  <a:pt x="2691" y="63153"/>
                </a:lnTo>
                <a:lnTo>
                  <a:pt x="3384" y="68772"/>
                </a:lnTo>
                <a:lnTo>
                  <a:pt x="4799" y="74423"/>
                </a:lnTo>
                <a:lnTo>
                  <a:pt x="4791" y="81048"/>
                </a:lnTo>
                <a:lnTo>
                  <a:pt x="3832" y="88322"/>
                </a:lnTo>
                <a:lnTo>
                  <a:pt x="2241" y="96029"/>
                </a:lnTo>
                <a:lnTo>
                  <a:pt x="1180" y="103072"/>
                </a:lnTo>
                <a:lnTo>
                  <a:pt x="472" y="109672"/>
                </a:lnTo>
                <a:lnTo>
                  <a:pt x="0" y="115977"/>
                </a:lnTo>
                <a:lnTo>
                  <a:pt x="639" y="122086"/>
                </a:lnTo>
                <a:lnTo>
                  <a:pt x="2017" y="128063"/>
                </a:lnTo>
                <a:lnTo>
                  <a:pt x="3888" y="133953"/>
                </a:lnTo>
                <a:lnTo>
                  <a:pt x="5135" y="140737"/>
                </a:lnTo>
                <a:lnTo>
                  <a:pt x="5967" y="148117"/>
                </a:lnTo>
                <a:lnTo>
                  <a:pt x="6522" y="155895"/>
                </a:lnTo>
                <a:lnTo>
                  <a:pt x="6891" y="162985"/>
                </a:lnTo>
                <a:lnTo>
                  <a:pt x="7301" y="175943"/>
                </a:lnTo>
                <a:lnTo>
                  <a:pt x="8364" y="182065"/>
                </a:lnTo>
                <a:lnTo>
                  <a:pt x="8780" y="1835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PenAnnotation956"/>
          <p:cNvSpPr/>
          <p:nvPr/>
        </p:nvSpPr>
        <p:spPr>
          <a:xfrm>
            <a:off x="7950240" y="352260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8573" h="8574">
                <a:moveTo>
                  <a:pt x="0" y="0"/>
                </a:moveTo>
                <a:lnTo>
                  <a:pt x="8572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PenAnnotation957"/>
          <p:cNvSpPr/>
          <p:nvPr/>
        </p:nvSpPr>
        <p:spPr>
          <a:xfrm>
            <a:off x="8429760" y="3429000"/>
            <a:ext cx="214200" cy="2556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14313" h="25718">
                <a:moveTo>
                  <a:pt x="0" y="0"/>
                </a:moveTo>
                <a:lnTo>
                  <a:pt x="11931" y="0"/>
                </a:lnTo>
                <a:lnTo>
                  <a:pt x="15574" y="952"/>
                </a:lnTo>
                <a:lnTo>
                  <a:pt x="19907" y="2540"/>
                </a:lnTo>
                <a:lnTo>
                  <a:pt x="24701" y="4550"/>
                </a:lnTo>
                <a:lnTo>
                  <a:pt x="29802" y="5891"/>
                </a:lnTo>
                <a:lnTo>
                  <a:pt x="35108" y="6785"/>
                </a:lnTo>
                <a:lnTo>
                  <a:pt x="40551" y="7380"/>
                </a:lnTo>
                <a:lnTo>
                  <a:pt x="46083" y="7778"/>
                </a:lnTo>
                <a:lnTo>
                  <a:pt x="51677" y="8042"/>
                </a:lnTo>
                <a:lnTo>
                  <a:pt x="62972" y="8337"/>
                </a:lnTo>
                <a:lnTo>
                  <a:pt x="172478" y="8572"/>
                </a:lnTo>
                <a:lnTo>
                  <a:pt x="176899" y="9525"/>
                </a:lnTo>
                <a:lnTo>
                  <a:pt x="181750" y="11112"/>
                </a:lnTo>
                <a:lnTo>
                  <a:pt x="186889" y="13123"/>
                </a:lnTo>
                <a:lnTo>
                  <a:pt x="191267" y="14463"/>
                </a:lnTo>
                <a:lnTo>
                  <a:pt x="195139" y="15357"/>
                </a:lnTo>
                <a:lnTo>
                  <a:pt x="203646" y="16791"/>
                </a:lnTo>
                <a:lnTo>
                  <a:pt x="209670" y="17040"/>
                </a:lnTo>
                <a:lnTo>
                  <a:pt x="212937" y="17114"/>
                </a:lnTo>
                <a:lnTo>
                  <a:pt x="213395" y="18076"/>
                </a:lnTo>
                <a:lnTo>
                  <a:pt x="213701" y="19671"/>
                </a:lnTo>
                <a:lnTo>
                  <a:pt x="214312" y="257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PenAnnotation958"/>
          <p:cNvSpPr/>
          <p:nvPr/>
        </p:nvSpPr>
        <p:spPr>
          <a:xfrm>
            <a:off x="8540640" y="3343320"/>
            <a:ext cx="34920" cy="257040"/>
          </a:xfrm>
          <a:custGeom>
            <a:avLst/>
            <a:gdLst>
              <a:gd name="textAreaLeft" fmla="*/ 0 w 34920"/>
              <a:gd name="textAreaRight" fmla="*/ 35280 w 349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4291" h="257176">
                <a:moveTo>
                  <a:pt x="0" y="0"/>
                </a:moveTo>
                <a:lnTo>
                  <a:pt x="0" y="41711"/>
                </a:lnTo>
                <a:lnTo>
                  <a:pt x="952" y="45904"/>
                </a:lnTo>
                <a:lnTo>
                  <a:pt x="2540" y="49653"/>
                </a:lnTo>
                <a:lnTo>
                  <a:pt x="4551" y="53104"/>
                </a:lnTo>
                <a:lnTo>
                  <a:pt x="5891" y="57310"/>
                </a:lnTo>
                <a:lnTo>
                  <a:pt x="6785" y="62019"/>
                </a:lnTo>
                <a:lnTo>
                  <a:pt x="7382" y="67064"/>
                </a:lnTo>
                <a:lnTo>
                  <a:pt x="7778" y="72332"/>
                </a:lnTo>
                <a:lnTo>
                  <a:pt x="8043" y="77748"/>
                </a:lnTo>
                <a:lnTo>
                  <a:pt x="8415" y="91934"/>
                </a:lnTo>
                <a:lnTo>
                  <a:pt x="8541" y="109811"/>
                </a:lnTo>
                <a:lnTo>
                  <a:pt x="9505" y="115117"/>
                </a:lnTo>
                <a:lnTo>
                  <a:pt x="11099" y="120560"/>
                </a:lnTo>
                <a:lnTo>
                  <a:pt x="13114" y="126093"/>
                </a:lnTo>
                <a:lnTo>
                  <a:pt x="14458" y="131687"/>
                </a:lnTo>
                <a:lnTo>
                  <a:pt x="15354" y="137321"/>
                </a:lnTo>
                <a:lnTo>
                  <a:pt x="15951" y="142982"/>
                </a:lnTo>
                <a:lnTo>
                  <a:pt x="16349" y="148661"/>
                </a:lnTo>
                <a:lnTo>
                  <a:pt x="16615" y="154352"/>
                </a:lnTo>
                <a:lnTo>
                  <a:pt x="16988" y="168924"/>
                </a:lnTo>
                <a:lnTo>
                  <a:pt x="17040" y="172623"/>
                </a:lnTo>
                <a:lnTo>
                  <a:pt x="18028" y="176995"/>
                </a:lnTo>
                <a:lnTo>
                  <a:pt x="19639" y="181814"/>
                </a:lnTo>
                <a:lnTo>
                  <a:pt x="21665" y="186932"/>
                </a:lnTo>
                <a:lnTo>
                  <a:pt x="23016" y="192248"/>
                </a:lnTo>
                <a:lnTo>
                  <a:pt x="23917" y="197698"/>
                </a:lnTo>
                <a:lnTo>
                  <a:pt x="24517" y="203236"/>
                </a:lnTo>
                <a:lnTo>
                  <a:pt x="24917" y="207881"/>
                </a:lnTo>
                <a:lnTo>
                  <a:pt x="25362" y="215581"/>
                </a:lnTo>
                <a:lnTo>
                  <a:pt x="25559" y="222179"/>
                </a:lnTo>
                <a:lnTo>
                  <a:pt x="25686" y="234175"/>
                </a:lnTo>
                <a:lnTo>
                  <a:pt x="26650" y="237079"/>
                </a:lnTo>
                <a:lnTo>
                  <a:pt x="28244" y="239967"/>
                </a:lnTo>
                <a:lnTo>
                  <a:pt x="33096" y="246896"/>
                </a:lnTo>
                <a:lnTo>
                  <a:pt x="33759" y="250384"/>
                </a:lnTo>
                <a:lnTo>
                  <a:pt x="34290" y="257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PenAnnotation959"/>
          <p:cNvSpPr/>
          <p:nvPr/>
        </p:nvSpPr>
        <p:spPr>
          <a:xfrm>
            <a:off x="8712360" y="3240000"/>
            <a:ext cx="247320" cy="325440"/>
          </a:xfrm>
          <a:custGeom>
            <a:avLst/>
            <a:gdLst>
              <a:gd name="textAreaLeft" fmla="*/ 0 w 247320"/>
              <a:gd name="textAreaRight" fmla="*/ 247680 w 247320"/>
              <a:gd name="textAreaTop" fmla="*/ 0 h 325440"/>
              <a:gd name="textAreaBottom" fmla="*/ 325440 h 325440"/>
            </a:gdLst>
            <a:ahLst/>
            <a:rect l="textAreaLeft" t="textAreaTop" r="textAreaRight" b="textAreaBottom"/>
            <a:pathLst>
              <a:path w="246984" h="324405">
                <a:moveTo>
                  <a:pt x="214313" y="8572"/>
                </a:moveTo>
                <a:lnTo>
                  <a:pt x="193074" y="8572"/>
                </a:lnTo>
                <a:lnTo>
                  <a:pt x="191582" y="7620"/>
                </a:lnTo>
                <a:lnTo>
                  <a:pt x="190586" y="6032"/>
                </a:lnTo>
                <a:lnTo>
                  <a:pt x="189922" y="4021"/>
                </a:lnTo>
                <a:lnTo>
                  <a:pt x="187575" y="2680"/>
                </a:lnTo>
                <a:lnTo>
                  <a:pt x="179886" y="1191"/>
                </a:lnTo>
                <a:lnTo>
                  <a:pt x="175169" y="1746"/>
                </a:lnTo>
                <a:lnTo>
                  <a:pt x="170120" y="3069"/>
                </a:lnTo>
                <a:lnTo>
                  <a:pt x="164848" y="4903"/>
                </a:lnTo>
                <a:lnTo>
                  <a:pt x="160382" y="6126"/>
                </a:lnTo>
                <a:lnTo>
                  <a:pt x="152879" y="7485"/>
                </a:lnTo>
                <a:lnTo>
                  <a:pt x="147639" y="7847"/>
                </a:lnTo>
                <a:lnTo>
                  <a:pt x="141289" y="8089"/>
                </a:lnTo>
                <a:lnTo>
                  <a:pt x="119667" y="8477"/>
                </a:lnTo>
                <a:lnTo>
                  <a:pt x="104778" y="8544"/>
                </a:lnTo>
                <a:lnTo>
                  <a:pt x="100331" y="7601"/>
                </a:lnTo>
                <a:lnTo>
                  <a:pt x="89524" y="2675"/>
                </a:lnTo>
                <a:lnTo>
                  <a:pt x="83286" y="1189"/>
                </a:lnTo>
                <a:lnTo>
                  <a:pt x="77339" y="528"/>
                </a:lnTo>
                <a:lnTo>
                  <a:pt x="71521" y="234"/>
                </a:lnTo>
                <a:lnTo>
                  <a:pt x="60037" y="0"/>
                </a:lnTo>
                <a:lnTo>
                  <a:pt x="60021" y="0"/>
                </a:lnTo>
                <a:lnTo>
                  <a:pt x="60008" y="58494"/>
                </a:lnTo>
                <a:lnTo>
                  <a:pt x="60960" y="63761"/>
                </a:lnTo>
                <a:lnTo>
                  <a:pt x="62548" y="69177"/>
                </a:lnTo>
                <a:lnTo>
                  <a:pt x="64558" y="74693"/>
                </a:lnTo>
                <a:lnTo>
                  <a:pt x="65899" y="80275"/>
                </a:lnTo>
                <a:lnTo>
                  <a:pt x="66792" y="85902"/>
                </a:lnTo>
                <a:lnTo>
                  <a:pt x="67389" y="91557"/>
                </a:lnTo>
                <a:lnTo>
                  <a:pt x="68050" y="100382"/>
                </a:lnTo>
                <a:lnTo>
                  <a:pt x="68227" y="104069"/>
                </a:lnTo>
                <a:lnTo>
                  <a:pt x="70964" y="113245"/>
                </a:lnTo>
                <a:lnTo>
                  <a:pt x="73026" y="118359"/>
                </a:lnTo>
                <a:lnTo>
                  <a:pt x="73449" y="123674"/>
                </a:lnTo>
                <a:lnTo>
                  <a:pt x="72778" y="129121"/>
                </a:lnTo>
                <a:lnTo>
                  <a:pt x="71380" y="134658"/>
                </a:lnTo>
                <a:lnTo>
                  <a:pt x="71399" y="139302"/>
                </a:lnTo>
                <a:lnTo>
                  <a:pt x="72364" y="143350"/>
                </a:lnTo>
                <a:lnTo>
                  <a:pt x="75024" y="150388"/>
                </a:lnTo>
                <a:lnTo>
                  <a:pt x="76732" y="160128"/>
                </a:lnTo>
                <a:lnTo>
                  <a:pt x="77070" y="166885"/>
                </a:lnTo>
                <a:lnTo>
                  <a:pt x="78049" y="168407"/>
                </a:lnTo>
                <a:lnTo>
                  <a:pt x="79656" y="169421"/>
                </a:lnTo>
                <a:lnTo>
                  <a:pt x="84527" y="171049"/>
                </a:lnTo>
                <a:lnTo>
                  <a:pt x="91380" y="171370"/>
                </a:lnTo>
                <a:lnTo>
                  <a:pt x="93001" y="171415"/>
                </a:lnTo>
                <a:lnTo>
                  <a:pt x="93433" y="170474"/>
                </a:lnTo>
                <a:lnTo>
                  <a:pt x="93913" y="166888"/>
                </a:lnTo>
                <a:lnTo>
                  <a:pt x="94995" y="164599"/>
                </a:lnTo>
                <a:lnTo>
                  <a:pt x="100113" y="156826"/>
                </a:lnTo>
                <a:lnTo>
                  <a:pt x="101644" y="151298"/>
                </a:lnTo>
                <a:lnTo>
                  <a:pt x="103958" y="149442"/>
                </a:lnTo>
                <a:lnTo>
                  <a:pt x="107405" y="148205"/>
                </a:lnTo>
                <a:lnTo>
                  <a:pt x="111609" y="147381"/>
                </a:lnTo>
                <a:lnTo>
                  <a:pt x="118819" y="143925"/>
                </a:lnTo>
                <a:lnTo>
                  <a:pt x="126152" y="139214"/>
                </a:lnTo>
                <a:lnTo>
                  <a:pt x="130774" y="136624"/>
                </a:lnTo>
                <a:lnTo>
                  <a:pt x="135760" y="133945"/>
                </a:lnTo>
                <a:lnTo>
                  <a:pt x="140037" y="132159"/>
                </a:lnTo>
                <a:lnTo>
                  <a:pt x="147329" y="130175"/>
                </a:lnTo>
                <a:lnTo>
                  <a:pt x="151559" y="129645"/>
                </a:lnTo>
                <a:lnTo>
                  <a:pt x="156285" y="129293"/>
                </a:lnTo>
                <a:lnTo>
                  <a:pt x="165662" y="128901"/>
                </a:lnTo>
                <a:lnTo>
                  <a:pt x="173005" y="128726"/>
                </a:lnTo>
                <a:lnTo>
                  <a:pt x="187045" y="128628"/>
                </a:lnTo>
                <a:lnTo>
                  <a:pt x="191372" y="129567"/>
                </a:lnTo>
                <a:lnTo>
                  <a:pt x="198719" y="133150"/>
                </a:lnTo>
                <a:lnTo>
                  <a:pt x="205159" y="137918"/>
                </a:lnTo>
                <a:lnTo>
                  <a:pt x="212149" y="143212"/>
                </a:lnTo>
                <a:lnTo>
                  <a:pt x="216681" y="145957"/>
                </a:lnTo>
                <a:lnTo>
                  <a:pt x="221606" y="148739"/>
                </a:lnTo>
                <a:lnTo>
                  <a:pt x="224890" y="152499"/>
                </a:lnTo>
                <a:lnTo>
                  <a:pt x="227079" y="156911"/>
                </a:lnTo>
                <a:lnTo>
                  <a:pt x="230465" y="165940"/>
                </a:lnTo>
                <a:lnTo>
                  <a:pt x="237725" y="177331"/>
                </a:lnTo>
                <a:lnTo>
                  <a:pt x="243133" y="187081"/>
                </a:lnTo>
                <a:lnTo>
                  <a:pt x="244957" y="192348"/>
                </a:lnTo>
                <a:lnTo>
                  <a:pt x="246171" y="197764"/>
                </a:lnTo>
                <a:lnTo>
                  <a:pt x="246983" y="203280"/>
                </a:lnTo>
                <a:lnTo>
                  <a:pt x="246571" y="208863"/>
                </a:lnTo>
                <a:lnTo>
                  <a:pt x="245343" y="214489"/>
                </a:lnTo>
                <a:lnTo>
                  <a:pt x="243571" y="220145"/>
                </a:lnTo>
                <a:lnTo>
                  <a:pt x="239064" y="228970"/>
                </a:lnTo>
                <a:lnTo>
                  <a:pt x="236529" y="232656"/>
                </a:lnTo>
                <a:lnTo>
                  <a:pt x="233712" y="241833"/>
                </a:lnTo>
                <a:lnTo>
                  <a:pt x="232961" y="246947"/>
                </a:lnTo>
                <a:lnTo>
                  <a:pt x="230554" y="252261"/>
                </a:lnTo>
                <a:lnTo>
                  <a:pt x="227045" y="257709"/>
                </a:lnTo>
                <a:lnTo>
                  <a:pt x="222801" y="263246"/>
                </a:lnTo>
                <a:lnTo>
                  <a:pt x="215545" y="271938"/>
                </a:lnTo>
                <a:lnTo>
                  <a:pt x="208193" y="279928"/>
                </a:lnTo>
                <a:lnTo>
                  <a:pt x="198575" y="289830"/>
                </a:lnTo>
                <a:lnTo>
                  <a:pt x="193344" y="294185"/>
                </a:lnTo>
                <a:lnTo>
                  <a:pt x="187950" y="298041"/>
                </a:lnTo>
                <a:lnTo>
                  <a:pt x="182450" y="301564"/>
                </a:lnTo>
                <a:lnTo>
                  <a:pt x="175926" y="304865"/>
                </a:lnTo>
                <a:lnTo>
                  <a:pt x="168719" y="308018"/>
                </a:lnTo>
                <a:lnTo>
                  <a:pt x="161056" y="311073"/>
                </a:lnTo>
                <a:lnTo>
                  <a:pt x="154044" y="313109"/>
                </a:lnTo>
                <a:lnTo>
                  <a:pt x="147463" y="314467"/>
                </a:lnTo>
                <a:lnTo>
                  <a:pt x="141172" y="315372"/>
                </a:lnTo>
                <a:lnTo>
                  <a:pt x="135073" y="316928"/>
                </a:lnTo>
                <a:lnTo>
                  <a:pt x="129100" y="318918"/>
                </a:lnTo>
                <a:lnTo>
                  <a:pt x="123214" y="321196"/>
                </a:lnTo>
                <a:lnTo>
                  <a:pt x="117385" y="322716"/>
                </a:lnTo>
                <a:lnTo>
                  <a:pt x="111594" y="323729"/>
                </a:lnTo>
                <a:lnTo>
                  <a:pt x="105829" y="324404"/>
                </a:lnTo>
                <a:lnTo>
                  <a:pt x="100080" y="323902"/>
                </a:lnTo>
                <a:lnTo>
                  <a:pt x="94343" y="322615"/>
                </a:lnTo>
                <a:lnTo>
                  <a:pt x="88612" y="320803"/>
                </a:lnTo>
                <a:lnTo>
                  <a:pt x="82887" y="319597"/>
                </a:lnTo>
                <a:lnTo>
                  <a:pt x="77166" y="318792"/>
                </a:lnTo>
                <a:lnTo>
                  <a:pt x="63397" y="317500"/>
                </a:lnTo>
                <a:lnTo>
                  <a:pt x="56434" y="314783"/>
                </a:lnTo>
                <a:lnTo>
                  <a:pt x="51910" y="312726"/>
                </a:lnTo>
                <a:lnTo>
                  <a:pt x="44344" y="310439"/>
                </a:lnTo>
                <a:lnTo>
                  <a:pt x="40992" y="309829"/>
                </a:lnTo>
                <a:lnTo>
                  <a:pt x="34728" y="306612"/>
                </a:lnTo>
                <a:lnTo>
                  <a:pt x="27498" y="301336"/>
                </a:lnTo>
                <a:lnTo>
                  <a:pt x="23969" y="300614"/>
                </a:lnTo>
                <a:lnTo>
                  <a:pt x="21694" y="300422"/>
                </a:lnTo>
                <a:lnTo>
                  <a:pt x="19225" y="299341"/>
                </a:lnTo>
                <a:lnTo>
                  <a:pt x="13942" y="295600"/>
                </a:lnTo>
                <a:lnTo>
                  <a:pt x="12152" y="295174"/>
                </a:lnTo>
                <a:lnTo>
                  <a:pt x="10959" y="295843"/>
                </a:lnTo>
                <a:lnTo>
                  <a:pt x="10164" y="297241"/>
                </a:lnTo>
                <a:lnTo>
                  <a:pt x="8681" y="298173"/>
                </a:lnTo>
                <a:lnTo>
                  <a:pt x="1998" y="299669"/>
                </a:lnTo>
                <a:lnTo>
                  <a:pt x="0" y="3000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PenAnnotation960"/>
          <p:cNvSpPr/>
          <p:nvPr/>
        </p:nvSpPr>
        <p:spPr>
          <a:xfrm>
            <a:off x="7915320" y="3257640"/>
            <a:ext cx="25200" cy="299880"/>
          </a:xfrm>
          <a:custGeom>
            <a:avLst/>
            <a:gdLst>
              <a:gd name="textAreaLeft" fmla="*/ 0 w 25200"/>
              <a:gd name="textAreaRight" fmla="*/ 25560 w 2520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25366" h="299933">
                <a:moveTo>
                  <a:pt x="0" y="0"/>
                </a:moveTo>
                <a:lnTo>
                  <a:pt x="4550" y="4550"/>
                </a:lnTo>
                <a:lnTo>
                  <a:pt x="4939" y="5891"/>
                </a:lnTo>
                <a:lnTo>
                  <a:pt x="4245" y="6785"/>
                </a:lnTo>
                <a:lnTo>
                  <a:pt x="2830" y="7380"/>
                </a:lnTo>
                <a:lnTo>
                  <a:pt x="2839" y="8730"/>
                </a:lnTo>
                <a:lnTo>
                  <a:pt x="3797" y="10583"/>
                </a:lnTo>
                <a:lnTo>
                  <a:pt x="7629" y="15848"/>
                </a:lnTo>
                <a:lnTo>
                  <a:pt x="8153" y="19108"/>
                </a:lnTo>
                <a:lnTo>
                  <a:pt x="8448" y="26299"/>
                </a:lnTo>
                <a:lnTo>
                  <a:pt x="8562" y="36128"/>
                </a:lnTo>
                <a:lnTo>
                  <a:pt x="8572" y="66895"/>
                </a:lnTo>
                <a:lnTo>
                  <a:pt x="7620" y="68410"/>
                </a:lnTo>
                <a:lnTo>
                  <a:pt x="6032" y="70371"/>
                </a:lnTo>
                <a:lnTo>
                  <a:pt x="4021" y="72632"/>
                </a:lnTo>
                <a:lnTo>
                  <a:pt x="2681" y="75091"/>
                </a:lnTo>
                <a:lnTo>
                  <a:pt x="1787" y="77683"/>
                </a:lnTo>
                <a:lnTo>
                  <a:pt x="1192" y="80364"/>
                </a:lnTo>
                <a:lnTo>
                  <a:pt x="529" y="85882"/>
                </a:lnTo>
                <a:lnTo>
                  <a:pt x="157" y="94344"/>
                </a:lnTo>
                <a:lnTo>
                  <a:pt x="31" y="105736"/>
                </a:lnTo>
                <a:lnTo>
                  <a:pt x="0" y="191451"/>
                </a:lnTo>
                <a:lnTo>
                  <a:pt x="952" y="194309"/>
                </a:lnTo>
                <a:lnTo>
                  <a:pt x="2539" y="197167"/>
                </a:lnTo>
                <a:lnTo>
                  <a:pt x="4550" y="200025"/>
                </a:lnTo>
                <a:lnTo>
                  <a:pt x="5891" y="202882"/>
                </a:lnTo>
                <a:lnTo>
                  <a:pt x="6784" y="205740"/>
                </a:lnTo>
                <a:lnTo>
                  <a:pt x="7381" y="208597"/>
                </a:lnTo>
                <a:lnTo>
                  <a:pt x="8042" y="214312"/>
                </a:lnTo>
                <a:lnTo>
                  <a:pt x="8219" y="217170"/>
                </a:lnTo>
                <a:lnTo>
                  <a:pt x="9289" y="220027"/>
                </a:lnTo>
                <a:lnTo>
                  <a:pt x="10956" y="222885"/>
                </a:lnTo>
                <a:lnTo>
                  <a:pt x="13018" y="225742"/>
                </a:lnTo>
                <a:lnTo>
                  <a:pt x="14393" y="228600"/>
                </a:lnTo>
                <a:lnTo>
                  <a:pt x="15311" y="231457"/>
                </a:lnTo>
                <a:lnTo>
                  <a:pt x="16782" y="238336"/>
                </a:lnTo>
                <a:lnTo>
                  <a:pt x="17074" y="246539"/>
                </a:lnTo>
                <a:lnTo>
                  <a:pt x="17144" y="281561"/>
                </a:lnTo>
                <a:lnTo>
                  <a:pt x="18097" y="282957"/>
                </a:lnTo>
                <a:lnTo>
                  <a:pt x="19684" y="284841"/>
                </a:lnTo>
                <a:lnTo>
                  <a:pt x="25365" y="291077"/>
                </a:lnTo>
                <a:lnTo>
                  <a:pt x="24529" y="291206"/>
                </a:lnTo>
                <a:lnTo>
                  <a:pt x="23021" y="291293"/>
                </a:lnTo>
                <a:lnTo>
                  <a:pt x="21061" y="291350"/>
                </a:lnTo>
                <a:lnTo>
                  <a:pt x="19756" y="292341"/>
                </a:lnTo>
                <a:lnTo>
                  <a:pt x="18886" y="293954"/>
                </a:lnTo>
                <a:lnTo>
                  <a:pt x="17175" y="299932"/>
                </a:lnTo>
                <a:lnTo>
                  <a:pt x="17144" y="2914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MARTPenAnnotation961"/>
          <p:cNvSpPr/>
          <p:nvPr/>
        </p:nvSpPr>
        <p:spPr>
          <a:xfrm>
            <a:off x="8069400" y="3325680"/>
            <a:ext cx="196560" cy="206640"/>
          </a:xfrm>
          <a:custGeom>
            <a:avLst/>
            <a:gdLst>
              <a:gd name="textAreaLeft" fmla="*/ 0 w 196560"/>
              <a:gd name="textAreaRight" fmla="*/ 196920 w 19656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97137" h="205742">
                <a:moveTo>
                  <a:pt x="17114" y="0"/>
                </a:moveTo>
                <a:lnTo>
                  <a:pt x="12174" y="0"/>
                </a:lnTo>
                <a:lnTo>
                  <a:pt x="14283" y="0"/>
                </a:lnTo>
                <a:lnTo>
                  <a:pt x="1184" y="0"/>
                </a:lnTo>
                <a:lnTo>
                  <a:pt x="780" y="953"/>
                </a:lnTo>
                <a:lnTo>
                  <a:pt x="75" y="7381"/>
                </a:lnTo>
                <a:lnTo>
                  <a:pt x="0" y="12771"/>
                </a:lnTo>
                <a:lnTo>
                  <a:pt x="942" y="15182"/>
                </a:lnTo>
                <a:lnTo>
                  <a:pt x="4529" y="20400"/>
                </a:lnTo>
                <a:lnTo>
                  <a:pt x="8701" y="25620"/>
                </a:lnTo>
                <a:lnTo>
                  <a:pt x="12740" y="29802"/>
                </a:lnTo>
                <a:lnTo>
                  <a:pt x="20369" y="37512"/>
                </a:lnTo>
                <a:lnTo>
                  <a:pt x="22140" y="40248"/>
                </a:lnTo>
                <a:lnTo>
                  <a:pt x="24110" y="45828"/>
                </a:lnTo>
                <a:lnTo>
                  <a:pt x="24986" y="51483"/>
                </a:lnTo>
                <a:lnTo>
                  <a:pt x="25219" y="54325"/>
                </a:lnTo>
                <a:lnTo>
                  <a:pt x="26328" y="57172"/>
                </a:lnTo>
                <a:lnTo>
                  <a:pt x="30099" y="62875"/>
                </a:lnTo>
                <a:lnTo>
                  <a:pt x="32409" y="68585"/>
                </a:lnTo>
                <a:lnTo>
                  <a:pt x="33026" y="71441"/>
                </a:lnTo>
                <a:lnTo>
                  <a:pt x="36251" y="77154"/>
                </a:lnTo>
                <a:lnTo>
                  <a:pt x="40859" y="82869"/>
                </a:lnTo>
                <a:lnTo>
                  <a:pt x="46082" y="88583"/>
                </a:lnTo>
                <a:lnTo>
                  <a:pt x="54378" y="97156"/>
                </a:lnTo>
                <a:lnTo>
                  <a:pt x="139984" y="182878"/>
                </a:lnTo>
                <a:lnTo>
                  <a:pt x="142842" y="184784"/>
                </a:lnTo>
                <a:lnTo>
                  <a:pt x="148558" y="186901"/>
                </a:lnTo>
                <a:lnTo>
                  <a:pt x="154273" y="190383"/>
                </a:lnTo>
                <a:lnTo>
                  <a:pt x="157131" y="192644"/>
                </a:lnTo>
                <a:lnTo>
                  <a:pt x="159989" y="194153"/>
                </a:lnTo>
                <a:lnTo>
                  <a:pt x="165704" y="195828"/>
                </a:lnTo>
                <a:lnTo>
                  <a:pt x="171419" y="199112"/>
                </a:lnTo>
                <a:lnTo>
                  <a:pt x="174276" y="201322"/>
                </a:lnTo>
                <a:lnTo>
                  <a:pt x="179991" y="203777"/>
                </a:lnTo>
                <a:lnTo>
                  <a:pt x="188062" y="205626"/>
                </a:lnTo>
                <a:lnTo>
                  <a:pt x="192966" y="205706"/>
                </a:lnTo>
                <a:lnTo>
                  <a:pt x="197136" y="2057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MARTPenAnnotation962"/>
          <p:cNvSpPr/>
          <p:nvPr/>
        </p:nvSpPr>
        <p:spPr>
          <a:xfrm>
            <a:off x="8061480" y="3317760"/>
            <a:ext cx="188640" cy="231840"/>
          </a:xfrm>
          <a:custGeom>
            <a:avLst/>
            <a:gdLst>
              <a:gd name="textAreaLeft" fmla="*/ 0 w 188640"/>
              <a:gd name="textAreaRight" fmla="*/ 189000 w 1886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88596" h="231428">
                <a:moveTo>
                  <a:pt x="188595" y="8541"/>
                </a:moveTo>
                <a:lnTo>
                  <a:pt x="188595" y="1161"/>
                </a:lnTo>
                <a:lnTo>
                  <a:pt x="187643" y="764"/>
                </a:lnTo>
                <a:lnTo>
                  <a:pt x="181810" y="126"/>
                </a:lnTo>
                <a:lnTo>
                  <a:pt x="180376" y="0"/>
                </a:lnTo>
                <a:lnTo>
                  <a:pt x="175576" y="4529"/>
                </a:lnTo>
                <a:lnTo>
                  <a:pt x="151407" y="28588"/>
                </a:lnTo>
                <a:lnTo>
                  <a:pt x="148562" y="32383"/>
                </a:lnTo>
                <a:lnTo>
                  <a:pt x="145714" y="36819"/>
                </a:lnTo>
                <a:lnTo>
                  <a:pt x="142863" y="41681"/>
                </a:lnTo>
                <a:lnTo>
                  <a:pt x="140010" y="45874"/>
                </a:lnTo>
                <a:lnTo>
                  <a:pt x="134299" y="53074"/>
                </a:lnTo>
                <a:lnTo>
                  <a:pt x="130490" y="57280"/>
                </a:lnTo>
                <a:lnTo>
                  <a:pt x="121178" y="67033"/>
                </a:lnTo>
                <a:lnTo>
                  <a:pt x="117934" y="72301"/>
                </a:lnTo>
                <a:lnTo>
                  <a:pt x="115769" y="77718"/>
                </a:lnTo>
                <a:lnTo>
                  <a:pt x="114328" y="83234"/>
                </a:lnTo>
                <a:lnTo>
                  <a:pt x="112414" y="88817"/>
                </a:lnTo>
                <a:lnTo>
                  <a:pt x="110184" y="94443"/>
                </a:lnTo>
                <a:lnTo>
                  <a:pt x="107747" y="100099"/>
                </a:lnTo>
                <a:lnTo>
                  <a:pt x="104216" y="104823"/>
                </a:lnTo>
                <a:lnTo>
                  <a:pt x="99958" y="108924"/>
                </a:lnTo>
                <a:lnTo>
                  <a:pt x="95213" y="112611"/>
                </a:lnTo>
                <a:lnTo>
                  <a:pt x="91099" y="116974"/>
                </a:lnTo>
                <a:lnTo>
                  <a:pt x="87402" y="121787"/>
                </a:lnTo>
                <a:lnTo>
                  <a:pt x="83986" y="126901"/>
                </a:lnTo>
                <a:lnTo>
                  <a:pt x="80755" y="132216"/>
                </a:lnTo>
                <a:lnTo>
                  <a:pt x="77649" y="137663"/>
                </a:lnTo>
                <a:lnTo>
                  <a:pt x="71659" y="148796"/>
                </a:lnTo>
                <a:lnTo>
                  <a:pt x="65820" y="160095"/>
                </a:lnTo>
                <a:lnTo>
                  <a:pt x="62930" y="164822"/>
                </a:lnTo>
                <a:lnTo>
                  <a:pt x="60052" y="168926"/>
                </a:lnTo>
                <a:lnTo>
                  <a:pt x="54312" y="176026"/>
                </a:lnTo>
                <a:lnTo>
                  <a:pt x="48587" y="182357"/>
                </a:lnTo>
                <a:lnTo>
                  <a:pt x="42867" y="188345"/>
                </a:lnTo>
                <a:lnTo>
                  <a:pt x="22860" y="208554"/>
                </a:lnTo>
                <a:lnTo>
                  <a:pt x="20955" y="211415"/>
                </a:lnTo>
                <a:lnTo>
                  <a:pt x="18838" y="217136"/>
                </a:lnTo>
                <a:lnTo>
                  <a:pt x="15358" y="222852"/>
                </a:lnTo>
                <a:lnTo>
                  <a:pt x="9913" y="229733"/>
                </a:lnTo>
                <a:lnTo>
                  <a:pt x="8514" y="230297"/>
                </a:lnTo>
                <a:lnTo>
                  <a:pt x="2946" y="231092"/>
                </a:lnTo>
                <a:lnTo>
                  <a:pt x="0" y="2314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PenAnnotation963"/>
          <p:cNvSpPr/>
          <p:nvPr/>
        </p:nvSpPr>
        <p:spPr>
          <a:xfrm>
            <a:off x="7529400" y="3214800"/>
            <a:ext cx="25560" cy="977760"/>
          </a:xfrm>
          <a:custGeom>
            <a:avLst/>
            <a:gdLst>
              <a:gd name="textAreaLeft" fmla="*/ 0 w 25560"/>
              <a:gd name="textAreaRight" fmla="*/ 25920 w 25560"/>
              <a:gd name="textAreaTop" fmla="*/ 0 h 977760"/>
              <a:gd name="textAreaBottom" fmla="*/ 978120 h 977760"/>
            </a:gdLst>
            <a:ahLst/>
            <a:rect l="textAreaLeft" t="textAreaTop" r="textAreaRight" b="textAreaBottom"/>
            <a:pathLst>
              <a:path w="25719" h="977257">
                <a:moveTo>
                  <a:pt x="8572" y="17136"/>
                </a:moveTo>
                <a:lnTo>
                  <a:pt x="8572" y="8916"/>
                </a:lnTo>
                <a:lnTo>
                  <a:pt x="7620" y="8799"/>
                </a:lnTo>
                <a:lnTo>
                  <a:pt x="6033" y="8721"/>
                </a:lnTo>
                <a:lnTo>
                  <a:pt x="105" y="8566"/>
                </a:lnTo>
                <a:lnTo>
                  <a:pt x="7390" y="8564"/>
                </a:lnTo>
                <a:lnTo>
                  <a:pt x="0" y="8564"/>
                </a:lnTo>
                <a:lnTo>
                  <a:pt x="0" y="0"/>
                </a:lnTo>
                <a:lnTo>
                  <a:pt x="0" y="4932"/>
                </a:lnTo>
                <a:lnTo>
                  <a:pt x="0" y="65"/>
                </a:lnTo>
                <a:lnTo>
                  <a:pt x="0" y="29037"/>
                </a:lnTo>
                <a:lnTo>
                  <a:pt x="953" y="30785"/>
                </a:lnTo>
                <a:lnTo>
                  <a:pt x="2540" y="31950"/>
                </a:lnTo>
                <a:lnTo>
                  <a:pt x="4551" y="32727"/>
                </a:lnTo>
                <a:lnTo>
                  <a:pt x="5892" y="34198"/>
                </a:lnTo>
                <a:lnTo>
                  <a:pt x="6785" y="36130"/>
                </a:lnTo>
                <a:lnTo>
                  <a:pt x="7381" y="38372"/>
                </a:lnTo>
                <a:lnTo>
                  <a:pt x="8043" y="43402"/>
                </a:lnTo>
                <a:lnTo>
                  <a:pt x="8570" y="71536"/>
                </a:lnTo>
                <a:lnTo>
                  <a:pt x="8572" y="88583"/>
                </a:lnTo>
                <a:lnTo>
                  <a:pt x="7620" y="91437"/>
                </a:lnTo>
                <a:lnTo>
                  <a:pt x="6033" y="94293"/>
                </a:lnTo>
                <a:lnTo>
                  <a:pt x="4021" y="97149"/>
                </a:lnTo>
                <a:lnTo>
                  <a:pt x="2681" y="100005"/>
                </a:lnTo>
                <a:lnTo>
                  <a:pt x="1787" y="102862"/>
                </a:lnTo>
                <a:lnTo>
                  <a:pt x="1192" y="105719"/>
                </a:lnTo>
                <a:lnTo>
                  <a:pt x="530" y="111434"/>
                </a:lnTo>
                <a:lnTo>
                  <a:pt x="9" y="140009"/>
                </a:lnTo>
                <a:lnTo>
                  <a:pt x="0" y="190147"/>
                </a:lnTo>
                <a:lnTo>
                  <a:pt x="953" y="194389"/>
                </a:lnTo>
                <a:lnTo>
                  <a:pt x="2540" y="199123"/>
                </a:lnTo>
                <a:lnTo>
                  <a:pt x="4551" y="204183"/>
                </a:lnTo>
                <a:lnTo>
                  <a:pt x="5892" y="208509"/>
                </a:lnTo>
                <a:lnTo>
                  <a:pt x="6785" y="212345"/>
                </a:lnTo>
                <a:lnTo>
                  <a:pt x="7381" y="215856"/>
                </a:lnTo>
                <a:lnTo>
                  <a:pt x="6826" y="220101"/>
                </a:lnTo>
                <a:lnTo>
                  <a:pt x="5504" y="224836"/>
                </a:lnTo>
                <a:lnTo>
                  <a:pt x="3669" y="229898"/>
                </a:lnTo>
                <a:lnTo>
                  <a:pt x="2446" y="234224"/>
                </a:lnTo>
                <a:lnTo>
                  <a:pt x="1630" y="238062"/>
                </a:lnTo>
                <a:lnTo>
                  <a:pt x="1088" y="241572"/>
                </a:lnTo>
                <a:lnTo>
                  <a:pt x="1677" y="245818"/>
                </a:lnTo>
                <a:lnTo>
                  <a:pt x="3023" y="250553"/>
                </a:lnTo>
                <a:lnTo>
                  <a:pt x="4873" y="255615"/>
                </a:lnTo>
                <a:lnTo>
                  <a:pt x="5154" y="259942"/>
                </a:lnTo>
                <a:lnTo>
                  <a:pt x="4388" y="263779"/>
                </a:lnTo>
                <a:lnTo>
                  <a:pt x="2926" y="267290"/>
                </a:lnTo>
                <a:lnTo>
                  <a:pt x="1950" y="271535"/>
                </a:lnTo>
                <a:lnTo>
                  <a:pt x="1300" y="276271"/>
                </a:lnTo>
                <a:lnTo>
                  <a:pt x="578" y="286612"/>
                </a:lnTo>
                <a:lnTo>
                  <a:pt x="51" y="314216"/>
                </a:lnTo>
                <a:lnTo>
                  <a:pt x="0" y="773043"/>
                </a:lnTo>
                <a:lnTo>
                  <a:pt x="953" y="777297"/>
                </a:lnTo>
                <a:lnTo>
                  <a:pt x="2540" y="782037"/>
                </a:lnTo>
                <a:lnTo>
                  <a:pt x="4551" y="787103"/>
                </a:lnTo>
                <a:lnTo>
                  <a:pt x="5892" y="791432"/>
                </a:lnTo>
                <a:lnTo>
                  <a:pt x="6785" y="795271"/>
                </a:lnTo>
                <a:lnTo>
                  <a:pt x="7381" y="798783"/>
                </a:lnTo>
                <a:lnTo>
                  <a:pt x="8043" y="805224"/>
                </a:lnTo>
                <a:lnTo>
                  <a:pt x="8541" y="833156"/>
                </a:lnTo>
                <a:lnTo>
                  <a:pt x="8572" y="928647"/>
                </a:lnTo>
                <a:lnTo>
                  <a:pt x="9525" y="931515"/>
                </a:lnTo>
                <a:lnTo>
                  <a:pt x="11113" y="934380"/>
                </a:lnTo>
                <a:lnTo>
                  <a:pt x="15953" y="941270"/>
                </a:lnTo>
                <a:lnTo>
                  <a:pt x="16615" y="944752"/>
                </a:lnTo>
                <a:lnTo>
                  <a:pt x="17142" y="967352"/>
                </a:lnTo>
                <a:lnTo>
                  <a:pt x="18096" y="968749"/>
                </a:lnTo>
                <a:lnTo>
                  <a:pt x="19684" y="970632"/>
                </a:lnTo>
                <a:lnTo>
                  <a:pt x="25704" y="977241"/>
                </a:lnTo>
                <a:lnTo>
                  <a:pt x="25713" y="977252"/>
                </a:lnTo>
                <a:lnTo>
                  <a:pt x="25718" y="97725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PenAnnotation964"/>
          <p:cNvSpPr/>
          <p:nvPr/>
        </p:nvSpPr>
        <p:spPr>
          <a:xfrm>
            <a:off x="5035680" y="3746520"/>
            <a:ext cx="350640" cy="401760"/>
          </a:xfrm>
          <a:custGeom>
            <a:avLst/>
            <a:gdLst>
              <a:gd name="textAreaLeft" fmla="*/ 0 w 350640"/>
              <a:gd name="textAreaRight" fmla="*/ 351000 w 35064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351463" h="401594">
                <a:moveTo>
                  <a:pt x="51425" y="102826"/>
                </a:moveTo>
                <a:lnTo>
                  <a:pt x="51425" y="86978"/>
                </a:lnTo>
                <a:lnTo>
                  <a:pt x="57316" y="79093"/>
                </a:lnTo>
                <a:lnTo>
                  <a:pt x="60155" y="71135"/>
                </a:lnTo>
                <a:lnTo>
                  <a:pt x="69165" y="59912"/>
                </a:lnTo>
                <a:lnTo>
                  <a:pt x="80118" y="48524"/>
                </a:lnTo>
                <a:lnTo>
                  <a:pt x="88607" y="39958"/>
                </a:lnTo>
                <a:lnTo>
                  <a:pt x="91453" y="38054"/>
                </a:lnTo>
                <a:lnTo>
                  <a:pt x="105405" y="32458"/>
                </a:lnTo>
                <a:lnTo>
                  <a:pt x="114468" y="27737"/>
                </a:lnTo>
                <a:lnTo>
                  <a:pt x="121671" y="22463"/>
                </a:lnTo>
                <a:lnTo>
                  <a:pt x="130588" y="16944"/>
                </a:lnTo>
                <a:lnTo>
                  <a:pt x="140901" y="11316"/>
                </a:lnTo>
                <a:lnTo>
                  <a:pt x="151834" y="5640"/>
                </a:lnTo>
                <a:lnTo>
                  <a:pt x="157416" y="3745"/>
                </a:lnTo>
                <a:lnTo>
                  <a:pt x="163044" y="2482"/>
                </a:lnTo>
                <a:lnTo>
                  <a:pt x="173423" y="1079"/>
                </a:lnTo>
                <a:lnTo>
                  <a:pt x="181211" y="455"/>
                </a:lnTo>
                <a:lnTo>
                  <a:pt x="190387" y="178"/>
                </a:lnTo>
                <a:lnTo>
                  <a:pt x="211801" y="0"/>
                </a:lnTo>
                <a:lnTo>
                  <a:pt x="216445" y="938"/>
                </a:lnTo>
                <a:lnTo>
                  <a:pt x="224144" y="4520"/>
                </a:lnTo>
                <a:lnTo>
                  <a:pt x="238385" y="11891"/>
                </a:lnTo>
                <a:lnTo>
                  <a:pt x="246596" y="17326"/>
                </a:lnTo>
                <a:lnTo>
                  <a:pt x="256573" y="25740"/>
                </a:lnTo>
                <a:lnTo>
                  <a:pt x="265562" y="34266"/>
                </a:lnTo>
                <a:lnTo>
                  <a:pt x="271374" y="40923"/>
                </a:lnTo>
                <a:lnTo>
                  <a:pt x="277132" y="50231"/>
                </a:lnTo>
                <a:lnTo>
                  <a:pt x="280326" y="60718"/>
                </a:lnTo>
                <a:lnTo>
                  <a:pt x="281746" y="71729"/>
                </a:lnTo>
                <a:lnTo>
                  <a:pt x="282377" y="82973"/>
                </a:lnTo>
                <a:lnTo>
                  <a:pt x="280118" y="94320"/>
                </a:lnTo>
                <a:lnTo>
                  <a:pt x="270906" y="121678"/>
                </a:lnTo>
                <a:lnTo>
                  <a:pt x="269183" y="128729"/>
                </a:lnTo>
                <a:lnTo>
                  <a:pt x="268035" y="135335"/>
                </a:lnTo>
                <a:lnTo>
                  <a:pt x="267268" y="141644"/>
                </a:lnTo>
                <a:lnTo>
                  <a:pt x="264853" y="148707"/>
                </a:lnTo>
                <a:lnTo>
                  <a:pt x="261338" y="156273"/>
                </a:lnTo>
                <a:lnTo>
                  <a:pt x="257089" y="164175"/>
                </a:lnTo>
                <a:lnTo>
                  <a:pt x="253304" y="172300"/>
                </a:lnTo>
                <a:lnTo>
                  <a:pt x="249828" y="180575"/>
                </a:lnTo>
                <a:lnTo>
                  <a:pt x="246559" y="188949"/>
                </a:lnTo>
                <a:lnTo>
                  <a:pt x="242474" y="197389"/>
                </a:lnTo>
                <a:lnTo>
                  <a:pt x="237846" y="205873"/>
                </a:lnTo>
                <a:lnTo>
                  <a:pt x="232856" y="214386"/>
                </a:lnTo>
                <a:lnTo>
                  <a:pt x="222230" y="231466"/>
                </a:lnTo>
                <a:lnTo>
                  <a:pt x="216730" y="240021"/>
                </a:lnTo>
                <a:lnTo>
                  <a:pt x="211159" y="247630"/>
                </a:lnTo>
                <a:lnTo>
                  <a:pt x="205539" y="254607"/>
                </a:lnTo>
                <a:lnTo>
                  <a:pt x="199887" y="261163"/>
                </a:lnTo>
                <a:lnTo>
                  <a:pt x="194215" y="268392"/>
                </a:lnTo>
                <a:lnTo>
                  <a:pt x="188528" y="276068"/>
                </a:lnTo>
                <a:lnTo>
                  <a:pt x="182832" y="284043"/>
                </a:lnTo>
                <a:lnTo>
                  <a:pt x="177130" y="291265"/>
                </a:lnTo>
                <a:lnTo>
                  <a:pt x="171423" y="297985"/>
                </a:lnTo>
                <a:lnTo>
                  <a:pt x="165713" y="304369"/>
                </a:lnTo>
                <a:lnTo>
                  <a:pt x="154290" y="316543"/>
                </a:lnTo>
                <a:lnTo>
                  <a:pt x="125719" y="345635"/>
                </a:lnTo>
                <a:lnTo>
                  <a:pt x="87380" y="384050"/>
                </a:lnTo>
                <a:lnTo>
                  <a:pt x="79153" y="389740"/>
                </a:lnTo>
                <a:lnTo>
                  <a:pt x="75625" y="391257"/>
                </a:lnTo>
                <a:lnTo>
                  <a:pt x="66625" y="392943"/>
                </a:lnTo>
                <a:lnTo>
                  <a:pt x="61558" y="393392"/>
                </a:lnTo>
                <a:lnTo>
                  <a:pt x="57228" y="394644"/>
                </a:lnTo>
                <a:lnTo>
                  <a:pt x="46583" y="400005"/>
                </a:lnTo>
                <a:lnTo>
                  <a:pt x="40383" y="401593"/>
                </a:lnTo>
                <a:lnTo>
                  <a:pt x="31912" y="399759"/>
                </a:lnTo>
                <a:lnTo>
                  <a:pt x="22750" y="396721"/>
                </a:lnTo>
                <a:lnTo>
                  <a:pt x="15503" y="395371"/>
                </a:lnTo>
                <a:lnTo>
                  <a:pt x="13189" y="394059"/>
                </a:lnTo>
                <a:lnTo>
                  <a:pt x="11647" y="392231"/>
                </a:lnTo>
                <a:lnTo>
                  <a:pt x="10619" y="390060"/>
                </a:lnTo>
                <a:lnTo>
                  <a:pt x="8981" y="388613"/>
                </a:lnTo>
                <a:lnTo>
                  <a:pt x="6936" y="387648"/>
                </a:lnTo>
                <a:lnTo>
                  <a:pt x="4620" y="387005"/>
                </a:lnTo>
                <a:lnTo>
                  <a:pt x="3077" y="385624"/>
                </a:lnTo>
                <a:lnTo>
                  <a:pt x="2048" y="383750"/>
                </a:lnTo>
                <a:lnTo>
                  <a:pt x="905" y="379129"/>
                </a:lnTo>
                <a:lnTo>
                  <a:pt x="171" y="368401"/>
                </a:lnTo>
                <a:lnTo>
                  <a:pt x="44" y="357410"/>
                </a:lnTo>
                <a:lnTo>
                  <a:pt x="0" y="341180"/>
                </a:lnTo>
                <a:lnTo>
                  <a:pt x="949" y="337929"/>
                </a:lnTo>
                <a:lnTo>
                  <a:pt x="4544" y="331776"/>
                </a:lnTo>
                <a:lnTo>
                  <a:pt x="11922" y="322957"/>
                </a:lnTo>
                <a:lnTo>
                  <a:pt x="19898" y="317185"/>
                </a:lnTo>
                <a:lnTo>
                  <a:pt x="29793" y="310491"/>
                </a:lnTo>
                <a:lnTo>
                  <a:pt x="40540" y="301167"/>
                </a:lnTo>
                <a:lnTo>
                  <a:pt x="49127" y="293213"/>
                </a:lnTo>
                <a:lnTo>
                  <a:pt x="57071" y="286502"/>
                </a:lnTo>
                <a:lnTo>
                  <a:pt x="66952" y="280345"/>
                </a:lnTo>
                <a:lnTo>
                  <a:pt x="77693" y="276973"/>
                </a:lnTo>
                <a:lnTo>
                  <a:pt x="83224" y="276074"/>
                </a:lnTo>
                <a:lnTo>
                  <a:pt x="89769" y="274522"/>
                </a:lnTo>
                <a:lnTo>
                  <a:pt x="96990" y="272535"/>
                </a:lnTo>
                <a:lnTo>
                  <a:pt x="104662" y="270258"/>
                </a:lnTo>
                <a:lnTo>
                  <a:pt x="111681" y="267787"/>
                </a:lnTo>
                <a:lnTo>
                  <a:pt x="118266" y="265188"/>
                </a:lnTo>
                <a:lnTo>
                  <a:pt x="124560" y="262502"/>
                </a:lnTo>
                <a:lnTo>
                  <a:pt x="130662" y="260712"/>
                </a:lnTo>
                <a:lnTo>
                  <a:pt x="136634" y="259518"/>
                </a:lnTo>
                <a:lnTo>
                  <a:pt x="142521" y="258723"/>
                </a:lnTo>
                <a:lnTo>
                  <a:pt x="149303" y="258192"/>
                </a:lnTo>
                <a:lnTo>
                  <a:pt x="156682" y="257838"/>
                </a:lnTo>
                <a:lnTo>
                  <a:pt x="171548" y="257445"/>
                </a:lnTo>
                <a:lnTo>
                  <a:pt x="184506" y="257271"/>
                </a:lnTo>
                <a:lnTo>
                  <a:pt x="190628" y="258177"/>
                </a:lnTo>
                <a:lnTo>
                  <a:pt x="196614" y="259733"/>
                </a:lnTo>
                <a:lnTo>
                  <a:pt x="202510" y="261723"/>
                </a:lnTo>
                <a:lnTo>
                  <a:pt x="208346" y="263050"/>
                </a:lnTo>
                <a:lnTo>
                  <a:pt x="214141" y="263935"/>
                </a:lnTo>
                <a:lnTo>
                  <a:pt x="219910" y="264524"/>
                </a:lnTo>
                <a:lnTo>
                  <a:pt x="225661" y="265870"/>
                </a:lnTo>
                <a:lnTo>
                  <a:pt x="231400" y="267720"/>
                </a:lnTo>
                <a:lnTo>
                  <a:pt x="241904" y="272315"/>
                </a:lnTo>
                <a:lnTo>
                  <a:pt x="254125" y="280257"/>
                </a:lnTo>
                <a:lnTo>
                  <a:pt x="264068" y="285824"/>
                </a:lnTo>
                <a:lnTo>
                  <a:pt x="272298" y="291474"/>
                </a:lnTo>
                <a:lnTo>
                  <a:pt x="275826" y="294314"/>
                </a:lnTo>
                <a:lnTo>
                  <a:pt x="282286" y="302549"/>
                </a:lnTo>
                <a:lnTo>
                  <a:pt x="285342" y="307413"/>
                </a:lnTo>
                <a:lnTo>
                  <a:pt x="293818" y="315356"/>
                </a:lnTo>
                <a:lnTo>
                  <a:pt x="298745" y="318808"/>
                </a:lnTo>
                <a:lnTo>
                  <a:pt x="302030" y="322061"/>
                </a:lnTo>
                <a:lnTo>
                  <a:pt x="304220" y="325183"/>
                </a:lnTo>
                <a:lnTo>
                  <a:pt x="305680" y="328216"/>
                </a:lnTo>
                <a:lnTo>
                  <a:pt x="312382" y="334127"/>
                </a:lnTo>
                <a:lnTo>
                  <a:pt x="316836" y="337037"/>
                </a:lnTo>
                <a:lnTo>
                  <a:pt x="319806" y="339929"/>
                </a:lnTo>
                <a:lnTo>
                  <a:pt x="321785" y="342810"/>
                </a:lnTo>
                <a:lnTo>
                  <a:pt x="324937" y="348550"/>
                </a:lnTo>
                <a:lnTo>
                  <a:pt x="329513" y="354277"/>
                </a:lnTo>
                <a:lnTo>
                  <a:pt x="332067" y="356185"/>
                </a:lnTo>
                <a:lnTo>
                  <a:pt x="337445" y="358305"/>
                </a:lnTo>
                <a:lnTo>
                  <a:pt x="339259" y="359823"/>
                </a:lnTo>
                <a:lnTo>
                  <a:pt x="340470" y="361787"/>
                </a:lnTo>
                <a:lnTo>
                  <a:pt x="341277" y="364049"/>
                </a:lnTo>
                <a:lnTo>
                  <a:pt x="342766" y="365557"/>
                </a:lnTo>
                <a:lnTo>
                  <a:pt x="344712" y="366563"/>
                </a:lnTo>
                <a:lnTo>
                  <a:pt x="346962" y="367233"/>
                </a:lnTo>
                <a:lnTo>
                  <a:pt x="348462" y="368632"/>
                </a:lnTo>
                <a:lnTo>
                  <a:pt x="349462" y="370518"/>
                </a:lnTo>
                <a:lnTo>
                  <a:pt x="351462" y="377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ARTPenAnnotation965"/>
          <p:cNvSpPr/>
          <p:nvPr/>
        </p:nvSpPr>
        <p:spPr>
          <a:xfrm>
            <a:off x="5446800" y="3875040"/>
            <a:ext cx="290520" cy="189000"/>
          </a:xfrm>
          <a:custGeom>
            <a:avLst/>
            <a:gdLst>
              <a:gd name="textAreaLeft" fmla="*/ 0 w 290520"/>
              <a:gd name="textAreaRight" fmla="*/ 290880 w 29052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91465" h="188596">
                <a:moveTo>
                  <a:pt x="0" y="0"/>
                </a:moveTo>
                <a:lnTo>
                  <a:pt x="37182" y="37182"/>
                </a:lnTo>
                <a:lnTo>
                  <a:pt x="45417" y="42878"/>
                </a:lnTo>
                <a:lnTo>
                  <a:pt x="54475" y="48584"/>
                </a:lnTo>
                <a:lnTo>
                  <a:pt x="61676" y="54295"/>
                </a:lnTo>
                <a:lnTo>
                  <a:pt x="70591" y="60008"/>
                </a:lnTo>
                <a:lnTo>
                  <a:pt x="75636" y="62866"/>
                </a:lnTo>
                <a:lnTo>
                  <a:pt x="80904" y="64770"/>
                </a:lnTo>
                <a:lnTo>
                  <a:pt x="86321" y="66040"/>
                </a:lnTo>
                <a:lnTo>
                  <a:pt x="91837" y="66887"/>
                </a:lnTo>
                <a:lnTo>
                  <a:pt x="100506" y="70367"/>
                </a:lnTo>
                <a:lnTo>
                  <a:pt x="109439" y="76042"/>
                </a:lnTo>
                <a:lnTo>
                  <a:pt x="122935" y="84913"/>
                </a:lnTo>
                <a:lnTo>
                  <a:pt x="129581" y="88994"/>
                </a:lnTo>
                <a:lnTo>
                  <a:pt x="135917" y="92667"/>
                </a:lnTo>
                <a:lnTo>
                  <a:pt x="148037" y="99287"/>
                </a:lnTo>
                <a:lnTo>
                  <a:pt x="159774" y="105405"/>
                </a:lnTo>
                <a:lnTo>
                  <a:pt x="164618" y="108370"/>
                </a:lnTo>
                <a:lnTo>
                  <a:pt x="172541" y="114204"/>
                </a:lnTo>
                <a:lnTo>
                  <a:pt x="176940" y="117094"/>
                </a:lnTo>
                <a:lnTo>
                  <a:pt x="181777" y="119972"/>
                </a:lnTo>
                <a:lnTo>
                  <a:pt x="186907" y="122844"/>
                </a:lnTo>
                <a:lnTo>
                  <a:pt x="195147" y="128575"/>
                </a:lnTo>
                <a:lnTo>
                  <a:pt x="202936" y="134296"/>
                </a:lnTo>
                <a:lnTo>
                  <a:pt x="207681" y="137156"/>
                </a:lnTo>
                <a:lnTo>
                  <a:pt x="212749" y="140015"/>
                </a:lnTo>
                <a:lnTo>
                  <a:pt x="220920" y="145731"/>
                </a:lnTo>
                <a:lnTo>
                  <a:pt x="228679" y="151447"/>
                </a:lnTo>
                <a:lnTo>
                  <a:pt x="233415" y="154305"/>
                </a:lnTo>
                <a:lnTo>
                  <a:pt x="238478" y="157162"/>
                </a:lnTo>
                <a:lnTo>
                  <a:pt x="246642" y="160337"/>
                </a:lnTo>
                <a:lnTo>
                  <a:pt x="250153" y="161184"/>
                </a:lnTo>
                <a:lnTo>
                  <a:pt x="256594" y="164664"/>
                </a:lnTo>
                <a:lnTo>
                  <a:pt x="262632" y="169387"/>
                </a:lnTo>
                <a:lnTo>
                  <a:pt x="268490" y="174660"/>
                </a:lnTo>
                <a:lnTo>
                  <a:pt x="272592" y="178433"/>
                </a:lnTo>
                <a:lnTo>
                  <a:pt x="274121" y="178963"/>
                </a:lnTo>
                <a:lnTo>
                  <a:pt x="278359" y="179551"/>
                </a:lnTo>
                <a:lnTo>
                  <a:pt x="279870" y="180661"/>
                </a:lnTo>
                <a:lnTo>
                  <a:pt x="280877" y="182353"/>
                </a:lnTo>
                <a:lnTo>
                  <a:pt x="281549" y="184434"/>
                </a:lnTo>
                <a:lnTo>
                  <a:pt x="282949" y="185821"/>
                </a:lnTo>
                <a:lnTo>
                  <a:pt x="284835" y="186745"/>
                </a:lnTo>
                <a:lnTo>
                  <a:pt x="291464" y="1885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ARTPenAnnotation966"/>
          <p:cNvSpPr/>
          <p:nvPr/>
        </p:nvSpPr>
        <p:spPr>
          <a:xfrm>
            <a:off x="5446800" y="3840120"/>
            <a:ext cx="231840" cy="206280"/>
          </a:xfrm>
          <a:custGeom>
            <a:avLst/>
            <a:gdLst>
              <a:gd name="textAreaLeft" fmla="*/ 0 w 231840"/>
              <a:gd name="textAreaRight" fmla="*/ 232200 w 2318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231342" h="205742">
                <a:moveTo>
                  <a:pt x="231341" y="0"/>
                </a:moveTo>
                <a:lnTo>
                  <a:pt x="222873" y="0"/>
                </a:lnTo>
                <a:lnTo>
                  <a:pt x="218249" y="4552"/>
                </a:lnTo>
                <a:lnTo>
                  <a:pt x="198069" y="24703"/>
                </a:lnTo>
                <a:lnTo>
                  <a:pt x="192967" y="28851"/>
                </a:lnTo>
                <a:lnTo>
                  <a:pt x="187661" y="32569"/>
                </a:lnTo>
                <a:lnTo>
                  <a:pt x="182219" y="36001"/>
                </a:lnTo>
                <a:lnTo>
                  <a:pt x="176685" y="40193"/>
                </a:lnTo>
                <a:lnTo>
                  <a:pt x="171091" y="44893"/>
                </a:lnTo>
                <a:lnTo>
                  <a:pt x="165457" y="49931"/>
                </a:lnTo>
                <a:lnTo>
                  <a:pt x="154117" y="60610"/>
                </a:lnTo>
                <a:lnTo>
                  <a:pt x="119892" y="94351"/>
                </a:lnTo>
                <a:lnTo>
                  <a:pt x="97037" y="117169"/>
                </a:lnTo>
                <a:lnTo>
                  <a:pt x="92275" y="122880"/>
                </a:lnTo>
                <a:lnTo>
                  <a:pt x="88148" y="128593"/>
                </a:lnTo>
                <a:lnTo>
                  <a:pt x="84444" y="134306"/>
                </a:lnTo>
                <a:lnTo>
                  <a:pt x="80070" y="140020"/>
                </a:lnTo>
                <a:lnTo>
                  <a:pt x="75249" y="145735"/>
                </a:lnTo>
                <a:lnTo>
                  <a:pt x="70129" y="151449"/>
                </a:lnTo>
                <a:lnTo>
                  <a:pt x="64812" y="156211"/>
                </a:lnTo>
                <a:lnTo>
                  <a:pt x="59361" y="160339"/>
                </a:lnTo>
                <a:lnTo>
                  <a:pt x="53823" y="164043"/>
                </a:lnTo>
                <a:lnTo>
                  <a:pt x="49178" y="167464"/>
                </a:lnTo>
                <a:lnTo>
                  <a:pt x="45129" y="170698"/>
                </a:lnTo>
                <a:lnTo>
                  <a:pt x="38090" y="176831"/>
                </a:lnTo>
                <a:lnTo>
                  <a:pt x="31787" y="182732"/>
                </a:lnTo>
                <a:lnTo>
                  <a:pt x="29725" y="185639"/>
                </a:lnTo>
                <a:lnTo>
                  <a:pt x="27434" y="191409"/>
                </a:lnTo>
                <a:lnTo>
                  <a:pt x="23876" y="197148"/>
                </a:lnTo>
                <a:lnTo>
                  <a:pt x="21593" y="200013"/>
                </a:lnTo>
                <a:lnTo>
                  <a:pt x="19119" y="201922"/>
                </a:lnTo>
                <a:lnTo>
                  <a:pt x="16517" y="203195"/>
                </a:lnTo>
                <a:lnTo>
                  <a:pt x="10049" y="205238"/>
                </a:lnTo>
                <a:lnTo>
                  <a:pt x="2880" y="205641"/>
                </a:lnTo>
                <a:lnTo>
                  <a:pt x="0" y="205737"/>
                </a:lnTo>
                <a:lnTo>
                  <a:pt x="8456" y="2057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ARTPenAnnotation967"/>
          <p:cNvSpPr/>
          <p:nvPr/>
        </p:nvSpPr>
        <p:spPr>
          <a:xfrm>
            <a:off x="5840280" y="3638520"/>
            <a:ext cx="257400" cy="493920"/>
          </a:xfrm>
          <a:custGeom>
            <a:avLst/>
            <a:gdLst>
              <a:gd name="textAreaLeft" fmla="*/ 0 w 257400"/>
              <a:gd name="textAreaRight" fmla="*/ 257760 w 2574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56821" h="493552">
                <a:moveTo>
                  <a:pt x="248601" y="13491"/>
                </a:moveTo>
                <a:lnTo>
                  <a:pt x="248601" y="6110"/>
                </a:lnTo>
                <a:lnTo>
                  <a:pt x="249554" y="5713"/>
                </a:lnTo>
                <a:lnTo>
                  <a:pt x="255982" y="5023"/>
                </a:lnTo>
                <a:lnTo>
                  <a:pt x="256379" y="4035"/>
                </a:lnTo>
                <a:lnTo>
                  <a:pt x="256820" y="398"/>
                </a:lnTo>
                <a:lnTo>
                  <a:pt x="255986" y="0"/>
                </a:lnTo>
                <a:lnTo>
                  <a:pt x="254477" y="687"/>
                </a:lnTo>
                <a:lnTo>
                  <a:pt x="249761" y="4082"/>
                </a:lnTo>
                <a:lnTo>
                  <a:pt x="246577" y="4547"/>
                </a:lnTo>
                <a:lnTo>
                  <a:pt x="244394" y="4671"/>
                </a:lnTo>
                <a:lnTo>
                  <a:pt x="241986" y="5706"/>
                </a:lnTo>
                <a:lnTo>
                  <a:pt x="234047" y="11713"/>
                </a:lnTo>
                <a:lnTo>
                  <a:pt x="228480" y="16828"/>
                </a:lnTo>
                <a:lnTo>
                  <a:pt x="224710" y="19526"/>
                </a:lnTo>
                <a:lnTo>
                  <a:pt x="220291" y="22277"/>
                </a:lnTo>
                <a:lnTo>
                  <a:pt x="215440" y="25063"/>
                </a:lnTo>
                <a:lnTo>
                  <a:pt x="204970" y="30699"/>
                </a:lnTo>
                <a:lnTo>
                  <a:pt x="182727" y="42078"/>
                </a:lnTo>
                <a:lnTo>
                  <a:pt x="177063" y="45884"/>
                </a:lnTo>
                <a:lnTo>
                  <a:pt x="171381" y="50326"/>
                </a:lnTo>
                <a:lnTo>
                  <a:pt x="165689" y="55193"/>
                </a:lnTo>
                <a:lnTo>
                  <a:pt x="159988" y="59389"/>
                </a:lnTo>
                <a:lnTo>
                  <a:pt x="154284" y="63140"/>
                </a:lnTo>
                <a:lnTo>
                  <a:pt x="148575" y="66593"/>
                </a:lnTo>
                <a:lnTo>
                  <a:pt x="142865" y="70800"/>
                </a:lnTo>
                <a:lnTo>
                  <a:pt x="137153" y="75509"/>
                </a:lnTo>
                <a:lnTo>
                  <a:pt x="131440" y="80554"/>
                </a:lnTo>
                <a:lnTo>
                  <a:pt x="120012" y="91239"/>
                </a:lnTo>
                <a:lnTo>
                  <a:pt x="114297" y="96755"/>
                </a:lnTo>
                <a:lnTo>
                  <a:pt x="108582" y="101385"/>
                </a:lnTo>
                <a:lnTo>
                  <a:pt x="102868" y="105425"/>
                </a:lnTo>
                <a:lnTo>
                  <a:pt x="97153" y="109070"/>
                </a:lnTo>
                <a:lnTo>
                  <a:pt x="91438" y="113405"/>
                </a:lnTo>
                <a:lnTo>
                  <a:pt x="85723" y="118201"/>
                </a:lnTo>
                <a:lnTo>
                  <a:pt x="80008" y="123302"/>
                </a:lnTo>
                <a:lnTo>
                  <a:pt x="68578" y="134051"/>
                </a:lnTo>
                <a:lnTo>
                  <a:pt x="62863" y="139584"/>
                </a:lnTo>
                <a:lnTo>
                  <a:pt x="58101" y="145178"/>
                </a:lnTo>
                <a:lnTo>
                  <a:pt x="50269" y="156473"/>
                </a:lnTo>
                <a:lnTo>
                  <a:pt x="45894" y="162152"/>
                </a:lnTo>
                <a:lnTo>
                  <a:pt x="41074" y="167843"/>
                </a:lnTo>
                <a:lnTo>
                  <a:pt x="35954" y="173543"/>
                </a:lnTo>
                <a:lnTo>
                  <a:pt x="31589" y="179247"/>
                </a:lnTo>
                <a:lnTo>
                  <a:pt x="24199" y="190665"/>
                </a:lnTo>
                <a:lnTo>
                  <a:pt x="17740" y="202090"/>
                </a:lnTo>
                <a:lnTo>
                  <a:pt x="11693" y="213518"/>
                </a:lnTo>
                <a:lnTo>
                  <a:pt x="5831" y="224946"/>
                </a:lnTo>
                <a:lnTo>
                  <a:pt x="2591" y="236376"/>
                </a:lnTo>
                <a:lnTo>
                  <a:pt x="1151" y="247806"/>
                </a:lnTo>
                <a:lnTo>
                  <a:pt x="511" y="259236"/>
                </a:lnTo>
                <a:lnTo>
                  <a:pt x="226" y="273206"/>
                </a:lnTo>
                <a:lnTo>
                  <a:pt x="0" y="348951"/>
                </a:lnTo>
                <a:lnTo>
                  <a:pt x="2539" y="358164"/>
                </a:lnTo>
                <a:lnTo>
                  <a:pt x="6843" y="368609"/>
                </a:lnTo>
                <a:lnTo>
                  <a:pt x="11931" y="379601"/>
                </a:lnTo>
                <a:lnTo>
                  <a:pt x="17367" y="388296"/>
                </a:lnTo>
                <a:lnTo>
                  <a:pt x="23911" y="396288"/>
                </a:lnTo>
                <a:lnTo>
                  <a:pt x="28322" y="401087"/>
                </a:lnTo>
                <a:lnTo>
                  <a:pt x="41094" y="414402"/>
                </a:lnTo>
                <a:lnTo>
                  <a:pt x="53942" y="427434"/>
                </a:lnTo>
                <a:lnTo>
                  <a:pt x="57868" y="430423"/>
                </a:lnTo>
                <a:lnTo>
                  <a:pt x="62391" y="433368"/>
                </a:lnTo>
                <a:lnTo>
                  <a:pt x="67311" y="436284"/>
                </a:lnTo>
                <a:lnTo>
                  <a:pt x="75317" y="442064"/>
                </a:lnTo>
                <a:lnTo>
                  <a:pt x="83004" y="447808"/>
                </a:lnTo>
                <a:lnTo>
                  <a:pt x="87720" y="450673"/>
                </a:lnTo>
                <a:lnTo>
                  <a:pt x="92770" y="453536"/>
                </a:lnTo>
                <a:lnTo>
                  <a:pt x="97089" y="456396"/>
                </a:lnTo>
                <a:lnTo>
                  <a:pt x="104427" y="462115"/>
                </a:lnTo>
                <a:lnTo>
                  <a:pt x="110864" y="467832"/>
                </a:lnTo>
                <a:lnTo>
                  <a:pt x="113914" y="470690"/>
                </a:lnTo>
                <a:lnTo>
                  <a:pt x="117852" y="472595"/>
                </a:lnTo>
                <a:lnTo>
                  <a:pt x="122383" y="473865"/>
                </a:lnTo>
                <a:lnTo>
                  <a:pt x="127308" y="474712"/>
                </a:lnTo>
                <a:lnTo>
                  <a:pt x="135320" y="478193"/>
                </a:lnTo>
                <a:lnTo>
                  <a:pt x="143675" y="483638"/>
                </a:lnTo>
                <a:lnTo>
                  <a:pt x="147357" y="484383"/>
                </a:lnTo>
                <a:lnTo>
                  <a:pt x="149673" y="484581"/>
                </a:lnTo>
                <a:lnTo>
                  <a:pt x="151216" y="485666"/>
                </a:lnTo>
                <a:lnTo>
                  <a:pt x="152245" y="487342"/>
                </a:lnTo>
                <a:lnTo>
                  <a:pt x="154303" y="493546"/>
                </a:lnTo>
                <a:lnTo>
                  <a:pt x="154303" y="493548"/>
                </a:lnTo>
                <a:lnTo>
                  <a:pt x="154303" y="4935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ARTPenAnnotation968"/>
          <p:cNvSpPr/>
          <p:nvPr/>
        </p:nvSpPr>
        <p:spPr>
          <a:xfrm>
            <a:off x="6064200" y="3780000"/>
            <a:ext cx="257400" cy="257040"/>
          </a:xfrm>
          <a:custGeom>
            <a:avLst/>
            <a:gdLst>
              <a:gd name="textAreaLeft" fmla="*/ 0 w 257400"/>
              <a:gd name="textAreaRight" fmla="*/ 257760 w 2574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57176" h="256811">
                <a:moveTo>
                  <a:pt x="0" y="0"/>
                </a:moveTo>
                <a:lnTo>
                  <a:pt x="0" y="4551"/>
                </a:lnTo>
                <a:lnTo>
                  <a:pt x="952" y="6844"/>
                </a:lnTo>
                <a:lnTo>
                  <a:pt x="5891" y="14622"/>
                </a:lnTo>
                <a:lnTo>
                  <a:pt x="7381" y="20151"/>
                </a:lnTo>
                <a:lnTo>
                  <a:pt x="10583" y="25784"/>
                </a:lnTo>
                <a:lnTo>
                  <a:pt x="12770" y="28619"/>
                </a:lnTo>
                <a:lnTo>
                  <a:pt x="15181" y="30510"/>
                </a:lnTo>
                <a:lnTo>
                  <a:pt x="17740" y="31770"/>
                </a:lnTo>
                <a:lnTo>
                  <a:pt x="20400" y="32610"/>
                </a:lnTo>
                <a:lnTo>
                  <a:pt x="25894" y="36083"/>
                </a:lnTo>
                <a:lnTo>
                  <a:pt x="28692" y="38343"/>
                </a:lnTo>
                <a:lnTo>
                  <a:pt x="34342" y="45934"/>
                </a:lnTo>
                <a:lnTo>
                  <a:pt x="37182" y="50625"/>
                </a:lnTo>
                <a:lnTo>
                  <a:pt x="42878" y="58378"/>
                </a:lnTo>
                <a:lnTo>
                  <a:pt x="48584" y="64998"/>
                </a:lnTo>
                <a:lnTo>
                  <a:pt x="54295" y="71116"/>
                </a:lnTo>
                <a:lnTo>
                  <a:pt x="65723" y="82804"/>
                </a:lnTo>
                <a:lnTo>
                  <a:pt x="95963" y="113106"/>
                </a:lnTo>
                <a:lnTo>
                  <a:pt x="100170" y="116362"/>
                </a:lnTo>
                <a:lnTo>
                  <a:pt x="104880" y="119484"/>
                </a:lnTo>
                <a:lnTo>
                  <a:pt x="109925" y="122519"/>
                </a:lnTo>
                <a:lnTo>
                  <a:pt x="115193" y="126447"/>
                </a:lnTo>
                <a:lnTo>
                  <a:pt x="120611" y="130970"/>
                </a:lnTo>
                <a:lnTo>
                  <a:pt x="130757" y="140124"/>
                </a:lnTo>
                <a:lnTo>
                  <a:pt x="138442" y="147368"/>
                </a:lnTo>
                <a:lnTo>
                  <a:pt x="152674" y="161351"/>
                </a:lnTo>
                <a:lnTo>
                  <a:pt x="157980" y="165670"/>
                </a:lnTo>
                <a:lnTo>
                  <a:pt x="163422" y="169502"/>
                </a:lnTo>
                <a:lnTo>
                  <a:pt x="168955" y="173009"/>
                </a:lnTo>
                <a:lnTo>
                  <a:pt x="173597" y="176299"/>
                </a:lnTo>
                <a:lnTo>
                  <a:pt x="181294" y="182495"/>
                </a:lnTo>
                <a:lnTo>
                  <a:pt x="184680" y="186434"/>
                </a:lnTo>
                <a:lnTo>
                  <a:pt x="187890" y="190964"/>
                </a:lnTo>
                <a:lnTo>
                  <a:pt x="190983" y="195889"/>
                </a:lnTo>
                <a:lnTo>
                  <a:pt x="196958" y="203902"/>
                </a:lnTo>
                <a:lnTo>
                  <a:pt x="202789" y="210638"/>
                </a:lnTo>
                <a:lnTo>
                  <a:pt x="208556" y="216807"/>
                </a:lnTo>
                <a:lnTo>
                  <a:pt x="217157" y="225635"/>
                </a:lnTo>
                <a:lnTo>
                  <a:pt x="220019" y="227576"/>
                </a:lnTo>
                <a:lnTo>
                  <a:pt x="225739" y="229732"/>
                </a:lnTo>
                <a:lnTo>
                  <a:pt x="231455" y="233231"/>
                </a:lnTo>
                <a:lnTo>
                  <a:pt x="234314" y="235497"/>
                </a:lnTo>
                <a:lnTo>
                  <a:pt x="236219" y="237961"/>
                </a:lnTo>
                <a:lnTo>
                  <a:pt x="237489" y="240556"/>
                </a:lnTo>
                <a:lnTo>
                  <a:pt x="238336" y="243238"/>
                </a:lnTo>
                <a:lnTo>
                  <a:pt x="239853" y="245026"/>
                </a:lnTo>
                <a:lnTo>
                  <a:pt x="241817" y="246218"/>
                </a:lnTo>
                <a:lnTo>
                  <a:pt x="247262" y="248132"/>
                </a:lnTo>
                <a:lnTo>
                  <a:pt x="255211" y="255326"/>
                </a:lnTo>
                <a:lnTo>
                  <a:pt x="256787" y="256810"/>
                </a:lnTo>
                <a:lnTo>
                  <a:pt x="257159" y="249118"/>
                </a:lnTo>
                <a:lnTo>
                  <a:pt x="257175" y="2486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ARTPenAnnotation969"/>
          <p:cNvSpPr/>
          <p:nvPr/>
        </p:nvSpPr>
        <p:spPr>
          <a:xfrm>
            <a:off x="6097680" y="3781440"/>
            <a:ext cx="180720" cy="222120"/>
          </a:xfrm>
          <a:custGeom>
            <a:avLst/>
            <a:gdLst>
              <a:gd name="textAreaLeft" fmla="*/ 0 w 180720"/>
              <a:gd name="textAreaRight" fmla="*/ 181080 w 18072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180024" h="221694">
                <a:moveTo>
                  <a:pt x="180023" y="7381"/>
                </a:moveTo>
                <a:lnTo>
                  <a:pt x="164423" y="7381"/>
                </a:lnTo>
                <a:lnTo>
                  <a:pt x="163908" y="6428"/>
                </a:lnTo>
                <a:lnTo>
                  <a:pt x="163013" y="0"/>
                </a:lnTo>
                <a:lnTo>
                  <a:pt x="162890" y="6293"/>
                </a:lnTo>
                <a:lnTo>
                  <a:pt x="158331" y="11609"/>
                </a:lnTo>
                <a:lnTo>
                  <a:pt x="150947" y="19217"/>
                </a:lnTo>
                <a:lnTo>
                  <a:pt x="148256" y="22892"/>
                </a:lnTo>
                <a:lnTo>
                  <a:pt x="145511" y="27246"/>
                </a:lnTo>
                <a:lnTo>
                  <a:pt x="142728" y="32054"/>
                </a:lnTo>
                <a:lnTo>
                  <a:pt x="139919" y="36212"/>
                </a:lnTo>
                <a:lnTo>
                  <a:pt x="137095" y="39937"/>
                </a:lnTo>
                <a:lnTo>
                  <a:pt x="134259" y="43372"/>
                </a:lnTo>
                <a:lnTo>
                  <a:pt x="131416" y="47568"/>
                </a:lnTo>
                <a:lnTo>
                  <a:pt x="128569" y="52270"/>
                </a:lnTo>
                <a:lnTo>
                  <a:pt x="125718" y="57309"/>
                </a:lnTo>
                <a:lnTo>
                  <a:pt x="121912" y="62574"/>
                </a:lnTo>
                <a:lnTo>
                  <a:pt x="117470" y="67989"/>
                </a:lnTo>
                <a:lnTo>
                  <a:pt x="112604" y="73504"/>
                </a:lnTo>
                <a:lnTo>
                  <a:pt x="108407" y="80037"/>
                </a:lnTo>
                <a:lnTo>
                  <a:pt x="104656" y="87251"/>
                </a:lnTo>
                <a:lnTo>
                  <a:pt x="101204" y="94917"/>
                </a:lnTo>
                <a:lnTo>
                  <a:pt x="96997" y="101934"/>
                </a:lnTo>
                <a:lnTo>
                  <a:pt x="92287" y="108516"/>
                </a:lnTo>
                <a:lnTo>
                  <a:pt x="87243" y="114809"/>
                </a:lnTo>
                <a:lnTo>
                  <a:pt x="82927" y="120910"/>
                </a:lnTo>
                <a:lnTo>
                  <a:pt x="79097" y="126882"/>
                </a:lnTo>
                <a:lnTo>
                  <a:pt x="75592" y="132768"/>
                </a:lnTo>
                <a:lnTo>
                  <a:pt x="71350" y="138597"/>
                </a:lnTo>
                <a:lnTo>
                  <a:pt x="66617" y="144388"/>
                </a:lnTo>
                <a:lnTo>
                  <a:pt x="57230" y="154951"/>
                </a:lnTo>
                <a:lnTo>
                  <a:pt x="49883" y="162820"/>
                </a:lnTo>
                <a:lnTo>
                  <a:pt x="46591" y="167204"/>
                </a:lnTo>
                <a:lnTo>
                  <a:pt x="43443" y="172032"/>
                </a:lnTo>
                <a:lnTo>
                  <a:pt x="40392" y="177156"/>
                </a:lnTo>
                <a:lnTo>
                  <a:pt x="37406" y="181524"/>
                </a:lnTo>
                <a:lnTo>
                  <a:pt x="34463" y="185389"/>
                </a:lnTo>
                <a:lnTo>
                  <a:pt x="31548" y="188918"/>
                </a:lnTo>
                <a:lnTo>
                  <a:pt x="28652" y="192223"/>
                </a:lnTo>
                <a:lnTo>
                  <a:pt x="25769" y="195379"/>
                </a:lnTo>
                <a:lnTo>
                  <a:pt x="22895" y="198435"/>
                </a:lnTo>
                <a:lnTo>
                  <a:pt x="20026" y="200473"/>
                </a:lnTo>
                <a:lnTo>
                  <a:pt x="17161" y="201831"/>
                </a:lnTo>
                <a:lnTo>
                  <a:pt x="14298" y="202737"/>
                </a:lnTo>
                <a:lnTo>
                  <a:pt x="12390" y="204293"/>
                </a:lnTo>
                <a:lnTo>
                  <a:pt x="11118" y="206283"/>
                </a:lnTo>
                <a:lnTo>
                  <a:pt x="10269" y="208562"/>
                </a:lnTo>
                <a:lnTo>
                  <a:pt x="8751" y="210082"/>
                </a:lnTo>
                <a:lnTo>
                  <a:pt x="6787" y="211094"/>
                </a:lnTo>
                <a:lnTo>
                  <a:pt x="398" y="213002"/>
                </a:lnTo>
                <a:lnTo>
                  <a:pt x="53" y="219890"/>
                </a:lnTo>
                <a:lnTo>
                  <a:pt x="1" y="221684"/>
                </a:lnTo>
                <a:lnTo>
                  <a:pt x="0" y="221687"/>
                </a:lnTo>
                <a:lnTo>
                  <a:pt x="0" y="22169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MARTPenAnnotation970"/>
          <p:cNvSpPr/>
          <p:nvPr/>
        </p:nvSpPr>
        <p:spPr>
          <a:xfrm>
            <a:off x="6458040" y="3865680"/>
            <a:ext cx="315720" cy="27000"/>
          </a:xfrm>
          <a:custGeom>
            <a:avLst/>
            <a:gdLst>
              <a:gd name="textAreaLeft" fmla="*/ 0 w 315720"/>
              <a:gd name="textAreaRight" fmla="*/ 316080 w 3157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316702" h="25685">
                <a:moveTo>
                  <a:pt x="0" y="0"/>
                </a:moveTo>
                <a:lnTo>
                  <a:pt x="0" y="8219"/>
                </a:lnTo>
                <a:lnTo>
                  <a:pt x="952" y="9290"/>
                </a:lnTo>
                <a:lnTo>
                  <a:pt x="7380" y="15923"/>
                </a:lnTo>
                <a:lnTo>
                  <a:pt x="12770" y="21334"/>
                </a:lnTo>
                <a:lnTo>
                  <a:pt x="16133" y="22795"/>
                </a:lnTo>
                <a:lnTo>
                  <a:pt x="20280" y="23769"/>
                </a:lnTo>
                <a:lnTo>
                  <a:pt x="24950" y="24419"/>
                </a:lnTo>
                <a:lnTo>
                  <a:pt x="32679" y="25140"/>
                </a:lnTo>
                <a:lnTo>
                  <a:pt x="40241" y="25461"/>
                </a:lnTo>
                <a:lnTo>
                  <a:pt x="60618" y="25667"/>
                </a:lnTo>
                <a:lnTo>
                  <a:pt x="66130" y="25684"/>
                </a:lnTo>
                <a:lnTo>
                  <a:pt x="71709" y="24743"/>
                </a:lnTo>
                <a:lnTo>
                  <a:pt x="77333" y="23163"/>
                </a:lnTo>
                <a:lnTo>
                  <a:pt x="82987" y="21157"/>
                </a:lnTo>
                <a:lnTo>
                  <a:pt x="88662" y="19820"/>
                </a:lnTo>
                <a:lnTo>
                  <a:pt x="94351" y="18928"/>
                </a:lnTo>
                <a:lnTo>
                  <a:pt x="100048" y="18334"/>
                </a:lnTo>
                <a:lnTo>
                  <a:pt x="105751" y="17938"/>
                </a:lnTo>
                <a:lnTo>
                  <a:pt x="111459" y="17674"/>
                </a:lnTo>
                <a:lnTo>
                  <a:pt x="123831" y="17380"/>
                </a:lnTo>
                <a:lnTo>
                  <a:pt x="138856" y="17250"/>
                </a:lnTo>
                <a:lnTo>
                  <a:pt x="145911" y="16262"/>
                </a:lnTo>
                <a:lnTo>
                  <a:pt x="152519" y="14651"/>
                </a:lnTo>
                <a:lnTo>
                  <a:pt x="158829" y="12625"/>
                </a:lnTo>
                <a:lnTo>
                  <a:pt x="166846" y="11274"/>
                </a:lnTo>
                <a:lnTo>
                  <a:pt x="176000" y="10374"/>
                </a:lnTo>
                <a:lnTo>
                  <a:pt x="194427" y="9373"/>
                </a:lnTo>
                <a:lnTo>
                  <a:pt x="208967" y="8928"/>
                </a:lnTo>
                <a:lnTo>
                  <a:pt x="239702" y="8619"/>
                </a:lnTo>
                <a:lnTo>
                  <a:pt x="275465" y="8575"/>
                </a:lnTo>
                <a:lnTo>
                  <a:pt x="279845" y="9527"/>
                </a:lnTo>
                <a:lnTo>
                  <a:pt x="284671" y="11114"/>
                </a:lnTo>
                <a:lnTo>
                  <a:pt x="297002" y="15954"/>
                </a:lnTo>
                <a:lnTo>
                  <a:pt x="301228" y="16615"/>
                </a:lnTo>
                <a:lnTo>
                  <a:pt x="308963" y="16988"/>
                </a:lnTo>
                <a:lnTo>
                  <a:pt x="316701" y="17136"/>
                </a:lnTo>
                <a:lnTo>
                  <a:pt x="308609" y="171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MARTPenAnnotation971"/>
          <p:cNvSpPr/>
          <p:nvPr/>
        </p:nvSpPr>
        <p:spPr>
          <a:xfrm>
            <a:off x="6561000" y="3772080"/>
            <a:ext cx="42840" cy="249120"/>
          </a:xfrm>
          <a:custGeom>
            <a:avLst/>
            <a:gdLst>
              <a:gd name="textAreaLeft" fmla="*/ 0 w 42840"/>
              <a:gd name="textAreaRight" fmla="*/ 43200 w 428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42862" h="248603">
                <a:moveTo>
                  <a:pt x="8571" y="0"/>
                </a:moveTo>
                <a:lnTo>
                  <a:pt x="103" y="0"/>
                </a:lnTo>
                <a:lnTo>
                  <a:pt x="8" y="7380"/>
                </a:lnTo>
                <a:lnTo>
                  <a:pt x="0" y="24950"/>
                </a:lnTo>
                <a:lnTo>
                  <a:pt x="952" y="29016"/>
                </a:lnTo>
                <a:lnTo>
                  <a:pt x="2539" y="32679"/>
                </a:lnTo>
                <a:lnTo>
                  <a:pt x="4550" y="36073"/>
                </a:lnTo>
                <a:lnTo>
                  <a:pt x="5890" y="40241"/>
                </a:lnTo>
                <a:lnTo>
                  <a:pt x="6784" y="44925"/>
                </a:lnTo>
                <a:lnTo>
                  <a:pt x="7380" y="49952"/>
                </a:lnTo>
                <a:lnTo>
                  <a:pt x="7777" y="55209"/>
                </a:lnTo>
                <a:lnTo>
                  <a:pt x="8042" y="60618"/>
                </a:lnTo>
                <a:lnTo>
                  <a:pt x="8218" y="66130"/>
                </a:lnTo>
                <a:lnTo>
                  <a:pt x="9288" y="71709"/>
                </a:lnTo>
                <a:lnTo>
                  <a:pt x="10954" y="77333"/>
                </a:lnTo>
                <a:lnTo>
                  <a:pt x="13018" y="82988"/>
                </a:lnTo>
                <a:lnTo>
                  <a:pt x="14393" y="88663"/>
                </a:lnTo>
                <a:lnTo>
                  <a:pt x="15310" y="94351"/>
                </a:lnTo>
                <a:lnTo>
                  <a:pt x="15921" y="100048"/>
                </a:lnTo>
                <a:lnTo>
                  <a:pt x="17281" y="105751"/>
                </a:lnTo>
                <a:lnTo>
                  <a:pt x="19140" y="111458"/>
                </a:lnTo>
                <a:lnTo>
                  <a:pt x="21332" y="117168"/>
                </a:lnTo>
                <a:lnTo>
                  <a:pt x="22793" y="122879"/>
                </a:lnTo>
                <a:lnTo>
                  <a:pt x="23767" y="128592"/>
                </a:lnTo>
                <a:lnTo>
                  <a:pt x="24418" y="134305"/>
                </a:lnTo>
                <a:lnTo>
                  <a:pt x="24850" y="140019"/>
                </a:lnTo>
                <a:lnTo>
                  <a:pt x="25139" y="145734"/>
                </a:lnTo>
                <a:lnTo>
                  <a:pt x="25332" y="151448"/>
                </a:lnTo>
                <a:lnTo>
                  <a:pt x="26412" y="157163"/>
                </a:lnTo>
                <a:lnTo>
                  <a:pt x="28085" y="162878"/>
                </a:lnTo>
                <a:lnTo>
                  <a:pt x="30153" y="168593"/>
                </a:lnTo>
                <a:lnTo>
                  <a:pt x="31532" y="174307"/>
                </a:lnTo>
                <a:lnTo>
                  <a:pt x="32450" y="180022"/>
                </a:lnTo>
                <a:lnTo>
                  <a:pt x="33063" y="185737"/>
                </a:lnTo>
                <a:lnTo>
                  <a:pt x="33472" y="190500"/>
                </a:lnTo>
                <a:lnTo>
                  <a:pt x="33744" y="194627"/>
                </a:lnTo>
                <a:lnTo>
                  <a:pt x="33926" y="198331"/>
                </a:lnTo>
                <a:lnTo>
                  <a:pt x="34127" y="207527"/>
                </a:lnTo>
                <a:lnTo>
                  <a:pt x="34288" y="244044"/>
                </a:lnTo>
                <a:lnTo>
                  <a:pt x="35240" y="245564"/>
                </a:lnTo>
                <a:lnTo>
                  <a:pt x="36829" y="246576"/>
                </a:lnTo>
                <a:lnTo>
                  <a:pt x="42861" y="24860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MARTPenAnnotation972"/>
          <p:cNvSpPr/>
          <p:nvPr/>
        </p:nvSpPr>
        <p:spPr>
          <a:xfrm>
            <a:off x="6835680" y="3711600"/>
            <a:ext cx="239760" cy="317520"/>
          </a:xfrm>
          <a:custGeom>
            <a:avLst/>
            <a:gdLst>
              <a:gd name="textAreaLeft" fmla="*/ 0 w 239760"/>
              <a:gd name="textAreaRight" fmla="*/ 240120 w 2397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39891" h="317180">
                <a:moveTo>
                  <a:pt x="154304" y="0"/>
                </a:moveTo>
                <a:lnTo>
                  <a:pt x="162846" y="0"/>
                </a:lnTo>
                <a:lnTo>
                  <a:pt x="158317" y="0"/>
                </a:lnTo>
                <a:lnTo>
                  <a:pt x="156980" y="953"/>
                </a:lnTo>
                <a:lnTo>
                  <a:pt x="156088" y="2540"/>
                </a:lnTo>
                <a:lnTo>
                  <a:pt x="155493" y="4551"/>
                </a:lnTo>
                <a:lnTo>
                  <a:pt x="153192" y="5891"/>
                </a:lnTo>
                <a:lnTo>
                  <a:pt x="149753" y="6785"/>
                </a:lnTo>
                <a:lnTo>
                  <a:pt x="145555" y="7381"/>
                </a:lnTo>
                <a:lnTo>
                  <a:pt x="140852" y="8731"/>
                </a:lnTo>
                <a:lnTo>
                  <a:pt x="135812" y="10583"/>
                </a:lnTo>
                <a:lnTo>
                  <a:pt x="130545" y="12770"/>
                </a:lnTo>
                <a:lnTo>
                  <a:pt x="125130" y="15181"/>
                </a:lnTo>
                <a:lnTo>
                  <a:pt x="114033" y="20400"/>
                </a:lnTo>
                <a:lnTo>
                  <a:pt x="97076" y="28693"/>
                </a:lnTo>
                <a:lnTo>
                  <a:pt x="91387" y="30559"/>
                </a:lnTo>
                <a:lnTo>
                  <a:pt x="85690" y="31802"/>
                </a:lnTo>
                <a:lnTo>
                  <a:pt x="79985" y="32632"/>
                </a:lnTo>
                <a:lnTo>
                  <a:pt x="74279" y="34137"/>
                </a:lnTo>
                <a:lnTo>
                  <a:pt x="68569" y="36093"/>
                </a:lnTo>
                <a:lnTo>
                  <a:pt x="62858" y="38350"/>
                </a:lnTo>
                <a:lnTo>
                  <a:pt x="57145" y="39854"/>
                </a:lnTo>
                <a:lnTo>
                  <a:pt x="51431" y="40857"/>
                </a:lnTo>
                <a:lnTo>
                  <a:pt x="45718" y="41525"/>
                </a:lnTo>
                <a:lnTo>
                  <a:pt x="40003" y="41971"/>
                </a:lnTo>
                <a:lnTo>
                  <a:pt x="34289" y="42268"/>
                </a:lnTo>
                <a:lnTo>
                  <a:pt x="19685" y="42686"/>
                </a:lnTo>
                <a:lnTo>
                  <a:pt x="6216" y="42828"/>
                </a:lnTo>
                <a:lnTo>
                  <a:pt x="4144" y="43792"/>
                </a:lnTo>
                <a:lnTo>
                  <a:pt x="2762" y="45387"/>
                </a:lnTo>
                <a:lnTo>
                  <a:pt x="161" y="51081"/>
                </a:lnTo>
                <a:lnTo>
                  <a:pt x="21" y="60714"/>
                </a:lnTo>
                <a:lnTo>
                  <a:pt x="0" y="72671"/>
                </a:lnTo>
                <a:lnTo>
                  <a:pt x="2541" y="80241"/>
                </a:lnTo>
                <a:lnTo>
                  <a:pt x="5892" y="89003"/>
                </a:lnTo>
                <a:lnTo>
                  <a:pt x="7381" y="96072"/>
                </a:lnTo>
                <a:lnTo>
                  <a:pt x="8043" y="104929"/>
                </a:lnTo>
                <a:lnTo>
                  <a:pt x="8219" y="109958"/>
                </a:lnTo>
                <a:lnTo>
                  <a:pt x="9289" y="114262"/>
                </a:lnTo>
                <a:lnTo>
                  <a:pt x="13018" y="121586"/>
                </a:lnTo>
                <a:lnTo>
                  <a:pt x="15310" y="128016"/>
                </a:lnTo>
                <a:lnTo>
                  <a:pt x="15922" y="131064"/>
                </a:lnTo>
                <a:lnTo>
                  <a:pt x="19141" y="136991"/>
                </a:lnTo>
                <a:lnTo>
                  <a:pt x="21333" y="139905"/>
                </a:lnTo>
                <a:lnTo>
                  <a:pt x="22794" y="143752"/>
                </a:lnTo>
                <a:lnTo>
                  <a:pt x="24418" y="153107"/>
                </a:lnTo>
                <a:lnTo>
                  <a:pt x="25140" y="161075"/>
                </a:lnTo>
                <a:lnTo>
                  <a:pt x="25603" y="169401"/>
                </a:lnTo>
                <a:lnTo>
                  <a:pt x="28206" y="173079"/>
                </a:lnTo>
                <a:lnTo>
                  <a:pt x="34258" y="179987"/>
                </a:lnTo>
                <a:lnTo>
                  <a:pt x="38831" y="180012"/>
                </a:lnTo>
                <a:lnTo>
                  <a:pt x="40175" y="179063"/>
                </a:lnTo>
                <a:lnTo>
                  <a:pt x="41071" y="177478"/>
                </a:lnTo>
                <a:lnTo>
                  <a:pt x="41668" y="175469"/>
                </a:lnTo>
                <a:lnTo>
                  <a:pt x="44871" y="170696"/>
                </a:lnTo>
                <a:lnTo>
                  <a:pt x="52030" y="162654"/>
                </a:lnTo>
                <a:lnTo>
                  <a:pt x="60184" y="154239"/>
                </a:lnTo>
                <a:lnTo>
                  <a:pt x="62983" y="151403"/>
                </a:lnTo>
                <a:lnTo>
                  <a:pt x="65800" y="149513"/>
                </a:lnTo>
                <a:lnTo>
                  <a:pt x="71472" y="147413"/>
                </a:lnTo>
                <a:lnTo>
                  <a:pt x="75270" y="145900"/>
                </a:lnTo>
                <a:lnTo>
                  <a:pt x="79707" y="143940"/>
                </a:lnTo>
                <a:lnTo>
                  <a:pt x="84570" y="141680"/>
                </a:lnTo>
                <a:lnTo>
                  <a:pt x="88765" y="139220"/>
                </a:lnTo>
                <a:lnTo>
                  <a:pt x="95966" y="133948"/>
                </a:lnTo>
                <a:lnTo>
                  <a:pt x="100173" y="131209"/>
                </a:lnTo>
                <a:lnTo>
                  <a:pt x="104882" y="128430"/>
                </a:lnTo>
                <a:lnTo>
                  <a:pt x="109926" y="125625"/>
                </a:lnTo>
                <a:lnTo>
                  <a:pt x="114242" y="123755"/>
                </a:lnTo>
                <a:lnTo>
                  <a:pt x="121576" y="121677"/>
                </a:lnTo>
                <a:lnTo>
                  <a:pt x="125818" y="120171"/>
                </a:lnTo>
                <a:lnTo>
                  <a:pt x="130551" y="118214"/>
                </a:lnTo>
                <a:lnTo>
                  <a:pt x="135612" y="115957"/>
                </a:lnTo>
                <a:lnTo>
                  <a:pt x="140890" y="114452"/>
                </a:lnTo>
                <a:lnTo>
                  <a:pt x="146314" y="113449"/>
                </a:lnTo>
                <a:lnTo>
                  <a:pt x="151835" y="112780"/>
                </a:lnTo>
                <a:lnTo>
                  <a:pt x="157421" y="112335"/>
                </a:lnTo>
                <a:lnTo>
                  <a:pt x="163049" y="112037"/>
                </a:lnTo>
                <a:lnTo>
                  <a:pt x="168707" y="111839"/>
                </a:lnTo>
                <a:lnTo>
                  <a:pt x="173432" y="112659"/>
                </a:lnTo>
                <a:lnTo>
                  <a:pt x="177534" y="114159"/>
                </a:lnTo>
                <a:lnTo>
                  <a:pt x="181220" y="116111"/>
                </a:lnTo>
                <a:lnTo>
                  <a:pt x="185584" y="117412"/>
                </a:lnTo>
                <a:lnTo>
                  <a:pt x="190397" y="118280"/>
                </a:lnTo>
                <a:lnTo>
                  <a:pt x="195512" y="118858"/>
                </a:lnTo>
                <a:lnTo>
                  <a:pt x="199874" y="120196"/>
                </a:lnTo>
                <a:lnTo>
                  <a:pt x="207260" y="124223"/>
                </a:lnTo>
                <a:lnTo>
                  <a:pt x="213718" y="129188"/>
                </a:lnTo>
                <a:lnTo>
                  <a:pt x="216773" y="131845"/>
                </a:lnTo>
                <a:lnTo>
                  <a:pt x="218810" y="134569"/>
                </a:lnTo>
                <a:lnTo>
                  <a:pt x="222629" y="142954"/>
                </a:lnTo>
                <a:lnTo>
                  <a:pt x="229371" y="152424"/>
                </a:lnTo>
                <a:lnTo>
                  <a:pt x="234657" y="161724"/>
                </a:lnTo>
                <a:lnTo>
                  <a:pt x="237642" y="169667"/>
                </a:lnTo>
                <a:lnTo>
                  <a:pt x="238969" y="177326"/>
                </a:lnTo>
                <a:lnTo>
                  <a:pt x="239558" y="187079"/>
                </a:lnTo>
                <a:lnTo>
                  <a:pt x="239820" y="197764"/>
                </a:lnTo>
                <a:lnTo>
                  <a:pt x="239890" y="203280"/>
                </a:lnTo>
                <a:lnTo>
                  <a:pt x="238984" y="207910"/>
                </a:lnTo>
                <a:lnTo>
                  <a:pt x="235438" y="215595"/>
                </a:lnTo>
                <a:lnTo>
                  <a:pt x="228086" y="229827"/>
                </a:lnTo>
                <a:lnTo>
                  <a:pt x="224447" y="235133"/>
                </a:lnTo>
                <a:lnTo>
                  <a:pt x="220116" y="240575"/>
                </a:lnTo>
                <a:lnTo>
                  <a:pt x="215324" y="246109"/>
                </a:lnTo>
                <a:lnTo>
                  <a:pt x="207459" y="254797"/>
                </a:lnTo>
                <a:lnTo>
                  <a:pt x="199836" y="262785"/>
                </a:lnTo>
                <a:lnTo>
                  <a:pt x="190098" y="272686"/>
                </a:lnTo>
                <a:lnTo>
                  <a:pt x="184835" y="277041"/>
                </a:lnTo>
                <a:lnTo>
                  <a:pt x="179420" y="280896"/>
                </a:lnTo>
                <a:lnTo>
                  <a:pt x="173906" y="284419"/>
                </a:lnTo>
                <a:lnTo>
                  <a:pt x="169277" y="287720"/>
                </a:lnTo>
                <a:lnTo>
                  <a:pt x="165239" y="290874"/>
                </a:lnTo>
                <a:lnTo>
                  <a:pt x="161594" y="293928"/>
                </a:lnTo>
                <a:lnTo>
                  <a:pt x="157259" y="296917"/>
                </a:lnTo>
                <a:lnTo>
                  <a:pt x="152464" y="299862"/>
                </a:lnTo>
                <a:lnTo>
                  <a:pt x="147363" y="302778"/>
                </a:lnTo>
                <a:lnTo>
                  <a:pt x="143010" y="305675"/>
                </a:lnTo>
                <a:lnTo>
                  <a:pt x="135632" y="311433"/>
                </a:lnTo>
                <a:lnTo>
                  <a:pt x="129179" y="314627"/>
                </a:lnTo>
                <a:lnTo>
                  <a:pt x="122183" y="316047"/>
                </a:lnTo>
                <a:lnTo>
                  <a:pt x="117650" y="316426"/>
                </a:lnTo>
                <a:lnTo>
                  <a:pt x="108486" y="316846"/>
                </a:lnTo>
                <a:lnTo>
                  <a:pt x="101238" y="317033"/>
                </a:lnTo>
                <a:lnTo>
                  <a:pt x="83984" y="317177"/>
                </a:lnTo>
                <a:lnTo>
                  <a:pt x="81707" y="317179"/>
                </a:lnTo>
                <a:lnTo>
                  <a:pt x="79237" y="316228"/>
                </a:lnTo>
                <a:lnTo>
                  <a:pt x="72160" y="311291"/>
                </a:lnTo>
                <a:lnTo>
                  <a:pt x="70171" y="309802"/>
                </a:lnTo>
                <a:lnTo>
                  <a:pt x="69640" y="308452"/>
                </a:lnTo>
                <a:lnTo>
                  <a:pt x="68719" y="301334"/>
                </a:lnTo>
                <a:lnTo>
                  <a:pt x="68579" y="29146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MARTPenAnnotation973"/>
          <p:cNvSpPr/>
          <p:nvPr/>
        </p:nvSpPr>
        <p:spPr>
          <a:xfrm>
            <a:off x="7143840" y="3608280"/>
            <a:ext cx="237960" cy="488880"/>
          </a:xfrm>
          <a:custGeom>
            <a:avLst/>
            <a:gdLst>
              <a:gd name="textAreaLeft" fmla="*/ 0 w 237960"/>
              <a:gd name="textAreaRight" fmla="*/ 238320 w 23796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38290" h="488620">
                <a:moveTo>
                  <a:pt x="0" y="0"/>
                </a:moveTo>
                <a:lnTo>
                  <a:pt x="0" y="4551"/>
                </a:lnTo>
                <a:lnTo>
                  <a:pt x="952" y="5892"/>
                </a:lnTo>
                <a:lnTo>
                  <a:pt x="2540" y="6785"/>
                </a:lnTo>
                <a:lnTo>
                  <a:pt x="9683" y="9290"/>
                </a:lnTo>
                <a:lnTo>
                  <a:pt x="17321" y="13019"/>
                </a:lnTo>
                <a:lnTo>
                  <a:pt x="24526" y="17851"/>
                </a:lnTo>
                <a:lnTo>
                  <a:pt x="31855" y="23174"/>
                </a:lnTo>
                <a:lnTo>
                  <a:pt x="36476" y="25927"/>
                </a:lnTo>
                <a:lnTo>
                  <a:pt x="41462" y="28715"/>
                </a:lnTo>
                <a:lnTo>
                  <a:pt x="46691" y="30573"/>
                </a:lnTo>
                <a:lnTo>
                  <a:pt x="52083" y="31812"/>
                </a:lnTo>
                <a:lnTo>
                  <a:pt x="57582" y="32638"/>
                </a:lnTo>
                <a:lnTo>
                  <a:pt x="63153" y="34141"/>
                </a:lnTo>
                <a:lnTo>
                  <a:pt x="68771" y="36096"/>
                </a:lnTo>
                <a:lnTo>
                  <a:pt x="74423" y="38351"/>
                </a:lnTo>
                <a:lnTo>
                  <a:pt x="81047" y="41760"/>
                </a:lnTo>
                <a:lnTo>
                  <a:pt x="88322" y="45938"/>
                </a:lnTo>
                <a:lnTo>
                  <a:pt x="96029" y="50628"/>
                </a:lnTo>
                <a:lnTo>
                  <a:pt x="103072" y="54707"/>
                </a:lnTo>
                <a:lnTo>
                  <a:pt x="115977" y="61779"/>
                </a:lnTo>
                <a:lnTo>
                  <a:pt x="123038" y="65951"/>
                </a:lnTo>
                <a:lnTo>
                  <a:pt x="138503" y="75667"/>
                </a:lnTo>
                <a:lnTo>
                  <a:pt x="163276" y="91847"/>
                </a:lnTo>
                <a:lnTo>
                  <a:pt x="170763" y="96474"/>
                </a:lnTo>
                <a:lnTo>
                  <a:pt x="177659" y="100511"/>
                </a:lnTo>
                <a:lnTo>
                  <a:pt x="184162" y="104155"/>
                </a:lnTo>
                <a:lnTo>
                  <a:pt x="190403" y="109442"/>
                </a:lnTo>
                <a:lnTo>
                  <a:pt x="196467" y="115823"/>
                </a:lnTo>
                <a:lnTo>
                  <a:pt x="202415" y="122936"/>
                </a:lnTo>
                <a:lnTo>
                  <a:pt x="207333" y="130535"/>
                </a:lnTo>
                <a:lnTo>
                  <a:pt x="211565" y="138458"/>
                </a:lnTo>
                <a:lnTo>
                  <a:pt x="222070" y="160722"/>
                </a:lnTo>
                <a:lnTo>
                  <a:pt x="228238" y="174302"/>
                </a:lnTo>
                <a:lnTo>
                  <a:pt x="231216" y="181924"/>
                </a:lnTo>
                <a:lnTo>
                  <a:pt x="234153" y="189863"/>
                </a:lnTo>
                <a:lnTo>
                  <a:pt x="236113" y="198013"/>
                </a:lnTo>
                <a:lnTo>
                  <a:pt x="237418" y="206304"/>
                </a:lnTo>
                <a:lnTo>
                  <a:pt x="238289" y="214688"/>
                </a:lnTo>
                <a:lnTo>
                  <a:pt x="237917" y="223135"/>
                </a:lnTo>
                <a:lnTo>
                  <a:pt x="236716" y="231624"/>
                </a:lnTo>
                <a:lnTo>
                  <a:pt x="234963" y="240141"/>
                </a:lnTo>
                <a:lnTo>
                  <a:pt x="230475" y="259765"/>
                </a:lnTo>
                <a:lnTo>
                  <a:pt x="227945" y="270331"/>
                </a:lnTo>
                <a:lnTo>
                  <a:pt x="225306" y="280234"/>
                </a:lnTo>
                <a:lnTo>
                  <a:pt x="219833" y="298856"/>
                </a:lnTo>
                <a:lnTo>
                  <a:pt x="211397" y="325405"/>
                </a:lnTo>
                <a:lnTo>
                  <a:pt x="207606" y="334094"/>
                </a:lnTo>
                <a:lnTo>
                  <a:pt x="203174" y="342745"/>
                </a:lnTo>
                <a:lnTo>
                  <a:pt x="198315" y="351369"/>
                </a:lnTo>
                <a:lnTo>
                  <a:pt x="193170" y="359976"/>
                </a:lnTo>
                <a:lnTo>
                  <a:pt x="182373" y="377159"/>
                </a:lnTo>
                <a:lnTo>
                  <a:pt x="175875" y="385742"/>
                </a:lnTo>
                <a:lnTo>
                  <a:pt x="168685" y="394322"/>
                </a:lnTo>
                <a:lnTo>
                  <a:pt x="161034" y="402899"/>
                </a:lnTo>
                <a:lnTo>
                  <a:pt x="154028" y="411474"/>
                </a:lnTo>
                <a:lnTo>
                  <a:pt x="147453" y="420049"/>
                </a:lnTo>
                <a:lnTo>
                  <a:pt x="141165" y="428622"/>
                </a:lnTo>
                <a:lnTo>
                  <a:pt x="135067" y="436243"/>
                </a:lnTo>
                <a:lnTo>
                  <a:pt x="129097" y="443229"/>
                </a:lnTo>
                <a:lnTo>
                  <a:pt x="118336" y="455118"/>
                </a:lnTo>
                <a:lnTo>
                  <a:pt x="110379" y="463577"/>
                </a:lnTo>
                <a:lnTo>
                  <a:pt x="105971" y="467167"/>
                </a:lnTo>
                <a:lnTo>
                  <a:pt x="101127" y="470512"/>
                </a:lnTo>
                <a:lnTo>
                  <a:pt x="95994" y="473695"/>
                </a:lnTo>
                <a:lnTo>
                  <a:pt x="91618" y="476769"/>
                </a:lnTo>
                <a:lnTo>
                  <a:pt x="84217" y="482725"/>
                </a:lnTo>
                <a:lnTo>
                  <a:pt x="77751" y="486007"/>
                </a:lnTo>
                <a:lnTo>
                  <a:pt x="70391" y="488114"/>
                </a:lnTo>
                <a:lnTo>
                  <a:pt x="63046" y="488530"/>
                </a:lnTo>
                <a:lnTo>
                  <a:pt x="60407" y="488619"/>
                </a:lnTo>
                <a:lnTo>
                  <a:pt x="60125" y="484078"/>
                </a:lnTo>
                <a:lnTo>
                  <a:pt x="59134" y="482739"/>
                </a:lnTo>
                <a:lnTo>
                  <a:pt x="57519" y="481846"/>
                </a:lnTo>
                <a:lnTo>
                  <a:pt x="52637" y="480413"/>
                </a:lnTo>
                <a:lnTo>
                  <a:pt x="52236" y="479343"/>
                </a:lnTo>
                <a:lnTo>
                  <a:pt x="51434" y="47148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ARTPenAnnotation974"/>
          <p:cNvSpPr/>
          <p:nvPr/>
        </p:nvSpPr>
        <p:spPr>
          <a:xfrm>
            <a:off x="7615080" y="3754440"/>
            <a:ext cx="43200" cy="282600"/>
          </a:xfrm>
          <a:custGeom>
            <a:avLst/>
            <a:gdLst>
              <a:gd name="textAreaLeft" fmla="*/ 0 w 43200"/>
              <a:gd name="textAreaRight" fmla="*/ 43560 w 432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2864" h="282894">
                <a:moveTo>
                  <a:pt x="0" y="0"/>
                </a:moveTo>
                <a:lnTo>
                  <a:pt x="0" y="4552"/>
                </a:lnTo>
                <a:lnTo>
                  <a:pt x="953" y="5892"/>
                </a:lnTo>
                <a:lnTo>
                  <a:pt x="2540" y="6786"/>
                </a:lnTo>
                <a:lnTo>
                  <a:pt x="4551" y="7381"/>
                </a:lnTo>
                <a:lnTo>
                  <a:pt x="5892" y="8731"/>
                </a:lnTo>
                <a:lnTo>
                  <a:pt x="6785" y="10583"/>
                </a:lnTo>
                <a:lnTo>
                  <a:pt x="7779" y="15182"/>
                </a:lnTo>
                <a:lnTo>
                  <a:pt x="8220" y="20400"/>
                </a:lnTo>
                <a:lnTo>
                  <a:pt x="9290" y="23125"/>
                </a:lnTo>
                <a:lnTo>
                  <a:pt x="10956" y="25895"/>
                </a:lnTo>
                <a:lnTo>
                  <a:pt x="13019" y="28693"/>
                </a:lnTo>
                <a:lnTo>
                  <a:pt x="14394" y="32464"/>
                </a:lnTo>
                <a:lnTo>
                  <a:pt x="15311" y="36883"/>
                </a:lnTo>
                <a:lnTo>
                  <a:pt x="15923" y="41734"/>
                </a:lnTo>
                <a:lnTo>
                  <a:pt x="16330" y="46873"/>
                </a:lnTo>
                <a:lnTo>
                  <a:pt x="16602" y="52204"/>
                </a:lnTo>
                <a:lnTo>
                  <a:pt x="16904" y="63207"/>
                </a:lnTo>
                <a:lnTo>
                  <a:pt x="17038" y="74447"/>
                </a:lnTo>
                <a:lnTo>
                  <a:pt x="18026" y="80112"/>
                </a:lnTo>
                <a:lnTo>
                  <a:pt x="19638" y="85793"/>
                </a:lnTo>
                <a:lnTo>
                  <a:pt x="21664" y="91486"/>
                </a:lnTo>
                <a:lnTo>
                  <a:pt x="23015" y="97186"/>
                </a:lnTo>
                <a:lnTo>
                  <a:pt x="23916" y="102891"/>
                </a:lnTo>
                <a:lnTo>
                  <a:pt x="24516" y="108599"/>
                </a:lnTo>
                <a:lnTo>
                  <a:pt x="24917" y="114310"/>
                </a:lnTo>
                <a:lnTo>
                  <a:pt x="25184" y="120022"/>
                </a:lnTo>
                <a:lnTo>
                  <a:pt x="25481" y="131448"/>
                </a:lnTo>
                <a:lnTo>
                  <a:pt x="25717" y="211455"/>
                </a:lnTo>
                <a:lnTo>
                  <a:pt x="26670" y="216218"/>
                </a:lnTo>
                <a:lnTo>
                  <a:pt x="28257" y="220346"/>
                </a:lnTo>
                <a:lnTo>
                  <a:pt x="30268" y="224050"/>
                </a:lnTo>
                <a:lnTo>
                  <a:pt x="31608" y="227472"/>
                </a:lnTo>
                <a:lnTo>
                  <a:pt x="32503" y="230706"/>
                </a:lnTo>
                <a:lnTo>
                  <a:pt x="33496" y="236839"/>
                </a:lnTo>
                <a:lnTo>
                  <a:pt x="34055" y="245647"/>
                </a:lnTo>
                <a:lnTo>
                  <a:pt x="34220" y="254289"/>
                </a:lnTo>
                <a:lnTo>
                  <a:pt x="34281" y="268602"/>
                </a:lnTo>
                <a:lnTo>
                  <a:pt x="35237" y="270508"/>
                </a:lnTo>
                <a:lnTo>
                  <a:pt x="36826" y="271779"/>
                </a:lnTo>
                <a:lnTo>
                  <a:pt x="41670" y="273819"/>
                </a:lnTo>
                <a:lnTo>
                  <a:pt x="42068" y="274939"/>
                </a:lnTo>
                <a:lnTo>
                  <a:pt x="42863" y="28289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ARTPenAnnotation975"/>
          <p:cNvSpPr/>
          <p:nvPr/>
        </p:nvSpPr>
        <p:spPr>
          <a:xfrm>
            <a:off x="7564320" y="3875040"/>
            <a:ext cx="214560" cy="17640"/>
          </a:xfrm>
          <a:custGeom>
            <a:avLst/>
            <a:gdLst>
              <a:gd name="textAreaLeft" fmla="*/ 0 w 214560"/>
              <a:gd name="textAreaRight" fmla="*/ 214920 w 2145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14314" h="17146">
                <a:moveTo>
                  <a:pt x="0" y="17145"/>
                </a:moveTo>
                <a:lnTo>
                  <a:pt x="58500" y="17145"/>
                </a:lnTo>
                <a:lnTo>
                  <a:pt x="62813" y="16192"/>
                </a:lnTo>
                <a:lnTo>
                  <a:pt x="66640" y="14605"/>
                </a:lnTo>
                <a:lnTo>
                  <a:pt x="70145" y="12594"/>
                </a:lnTo>
                <a:lnTo>
                  <a:pt x="74386" y="11253"/>
                </a:lnTo>
                <a:lnTo>
                  <a:pt x="79118" y="10359"/>
                </a:lnTo>
                <a:lnTo>
                  <a:pt x="84178" y="9764"/>
                </a:lnTo>
                <a:lnTo>
                  <a:pt x="88504" y="9366"/>
                </a:lnTo>
                <a:lnTo>
                  <a:pt x="92340" y="9102"/>
                </a:lnTo>
                <a:lnTo>
                  <a:pt x="95850" y="8925"/>
                </a:lnTo>
                <a:lnTo>
                  <a:pt x="99143" y="7855"/>
                </a:lnTo>
                <a:lnTo>
                  <a:pt x="102290" y="6189"/>
                </a:lnTo>
                <a:lnTo>
                  <a:pt x="105341" y="4126"/>
                </a:lnTo>
                <a:lnTo>
                  <a:pt x="109280" y="2751"/>
                </a:lnTo>
                <a:lnTo>
                  <a:pt x="113810" y="1834"/>
                </a:lnTo>
                <a:lnTo>
                  <a:pt x="118736" y="1222"/>
                </a:lnTo>
                <a:lnTo>
                  <a:pt x="122972" y="815"/>
                </a:lnTo>
                <a:lnTo>
                  <a:pt x="126750" y="543"/>
                </a:lnTo>
                <a:lnTo>
                  <a:pt x="130220" y="362"/>
                </a:lnTo>
                <a:lnTo>
                  <a:pt x="139155" y="161"/>
                </a:lnTo>
                <a:lnTo>
                  <a:pt x="21431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MARTPenAnnotation976"/>
          <p:cNvSpPr/>
          <p:nvPr/>
        </p:nvSpPr>
        <p:spPr>
          <a:xfrm>
            <a:off x="7812000" y="3728880"/>
            <a:ext cx="68400" cy="274680"/>
          </a:xfrm>
          <a:custGeom>
            <a:avLst/>
            <a:gdLst>
              <a:gd name="textAreaLeft" fmla="*/ 0 w 68400"/>
              <a:gd name="textAreaRight" fmla="*/ 68760 w 684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68580" h="274321">
                <a:moveTo>
                  <a:pt x="0" y="0"/>
                </a:moveTo>
                <a:lnTo>
                  <a:pt x="0" y="4551"/>
                </a:lnTo>
                <a:lnTo>
                  <a:pt x="952" y="5892"/>
                </a:lnTo>
                <a:lnTo>
                  <a:pt x="2540" y="6785"/>
                </a:lnTo>
                <a:lnTo>
                  <a:pt x="4551" y="7381"/>
                </a:lnTo>
                <a:lnTo>
                  <a:pt x="5891" y="8731"/>
                </a:lnTo>
                <a:lnTo>
                  <a:pt x="6785" y="10583"/>
                </a:lnTo>
                <a:lnTo>
                  <a:pt x="7778" y="15181"/>
                </a:lnTo>
                <a:lnTo>
                  <a:pt x="8219" y="20400"/>
                </a:lnTo>
                <a:lnTo>
                  <a:pt x="9289" y="23125"/>
                </a:lnTo>
                <a:lnTo>
                  <a:pt x="10955" y="25894"/>
                </a:lnTo>
                <a:lnTo>
                  <a:pt x="13018" y="28693"/>
                </a:lnTo>
                <a:lnTo>
                  <a:pt x="14394" y="32464"/>
                </a:lnTo>
                <a:lnTo>
                  <a:pt x="15311" y="36882"/>
                </a:lnTo>
                <a:lnTo>
                  <a:pt x="15922" y="41733"/>
                </a:lnTo>
                <a:lnTo>
                  <a:pt x="16601" y="49663"/>
                </a:lnTo>
                <a:lnTo>
                  <a:pt x="16903" y="57315"/>
                </a:lnTo>
                <a:lnTo>
                  <a:pt x="17097" y="77750"/>
                </a:lnTo>
                <a:lnTo>
                  <a:pt x="17142" y="117192"/>
                </a:lnTo>
                <a:lnTo>
                  <a:pt x="18096" y="121943"/>
                </a:lnTo>
                <a:lnTo>
                  <a:pt x="19684" y="126063"/>
                </a:lnTo>
                <a:lnTo>
                  <a:pt x="21695" y="129762"/>
                </a:lnTo>
                <a:lnTo>
                  <a:pt x="29076" y="144070"/>
                </a:lnTo>
                <a:lnTo>
                  <a:pt x="30814" y="150339"/>
                </a:lnTo>
                <a:lnTo>
                  <a:pt x="31973" y="157376"/>
                </a:lnTo>
                <a:lnTo>
                  <a:pt x="32745" y="164925"/>
                </a:lnTo>
                <a:lnTo>
                  <a:pt x="33260" y="170910"/>
                </a:lnTo>
                <a:lnTo>
                  <a:pt x="33603" y="175852"/>
                </a:lnTo>
                <a:lnTo>
                  <a:pt x="33832" y="180100"/>
                </a:lnTo>
                <a:lnTo>
                  <a:pt x="34936" y="184837"/>
                </a:lnTo>
                <a:lnTo>
                  <a:pt x="36626" y="189900"/>
                </a:lnTo>
                <a:lnTo>
                  <a:pt x="38705" y="195180"/>
                </a:lnTo>
                <a:lnTo>
                  <a:pt x="40090" y="199653"/>
                </a:lnTo>
                <a:lnTo>
                  <a:pt x="41631" y="207162"/>
                </a:lnTo>
                <a:lnTo>
                  <a:pt x="42993" y="211451"/>
                </a:lnTo>
                <a:lnTo>
                  <a:pt x="44855" y="216214"/>
                </a:lnTo>
                <a:lnTo>
                  <a:pt x="47048" y="221296"/>
                </a:lnTo>
                <a:lnTo>
                  <a:pt x="48510" y="225635"/>
                </a:lnTo>
                <a:lnTo>
                  <a:pt x="50135" y="232998"/>
                </a:lnTo>
                <a:lnTo>
                  <a:pt x="51521" y="236294"/>
                </a:lnTo>
                <a:lnTo>
                  <a:pt x="53397" y="239445"/>
                </a:lnTo>
                <a:lnTo>
                  <a:pt x="55600" y="242497"/>
                </a:lnTo>
                <a:lnTo>
                  <a:pt x="57070" y="245485"/>
                </a:lnTo>
                <a:lnTo>
                  <a:pt x="59137" y="253288"/>
                </a:lnTo>
                <a:lnTo>
                  <a:pt x="59750" y="256976"/>
                </a:lnTo>
                <a:lnTo>
                  <a:pt x="59972" y="264404"/>
                </a:lnTo>
                <a:lnTo>
                  <a:pt x="59998" y="269901"/>
                </a:lnTo>
                <a:lnTo>
                  <a:pt x="60953" y="271374"/>
                </a:lnTo>
                <a:lnTo>
                  <a:pt x="62543" y="272356"/>
                </a:lnTo>
                <a:lnTo>
                  <a:pt x="68579" y="2743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ARTPenAnnotation977"/>
          <p:cNvSpPr/>
          <p:nvPr/>
        </p:nvSpPr>
        <p:spPr>
          <a:xfrm>
            <a:off x="7983360" y="3660840"/>
            <a:ext cx="138240" cy="446040"/>
          </a:xfrm>
          <a:custGeom>
            <a:avLst/>
            <a:gdLst>
              <a:gd name="textAreaLeft" fmla="*/ 0 w 138240"/>
              <a:gd name="textAreaRight" fmla="*/ 138600 w 1382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37056" h="445762">
                <a:moveTo>
                  <a:pt x="137055" y="8563"/>
                </a:moveTo>
                <a:lnTo>
                  <a:pt x="132504" y="4013"/>
                </a:lnTo>
                <a:lnTo>
                  <a:pt x="132115" y="2672"/>
                </a:lnTo>
                <a:lnTo>
                  <a:pt x="132809" y="1779"/>
                </a:lnTo>
                <a:lnTo>
                  <a:pt x="134224" y="1183"/>
                </a:lnTo>
                <a:lnTo>
                  <a:pt x="134215" y="786"/>
                </a:lnTo>
                <a:lnTo>
                  <a:pt x="133257" y="521"/>
                </a:lnTo>
                <a:lnTo>
                  <a:pt x="128761" y="22"/>
                </a:lnTo>
                <a:lnTo>
                  <a:pt x="124014" y="0"/>
                </a:lnTo>
                <a:lnTo>
                  <a:pt x="122646" y="950"/>
                </a:lnTo>
                <a:lnTo>
                  <a:pt x="121733" y="2535"/>
                </a:lnTo>
                <a:lnTo>
                  <a:pt x="121125" y="4545"/>
                </a:lnTo>
                <a:lnTo>
                  <a:pt x="119768" y="5885"/>
                </a:lnTo>
                <a:lnTo>
                  <a:pt x="117910" y="6777"/>
                </a:lnTo>
                <a:lnTo>
                  <a:pt x="115719" y="7373"/>
                </a:lnTo>
                <a:lnTo>
                  <a:pt x="113306" y="8722"/>
                </a:lnTo>
                <a:lnTo>
                  <a:pt x="110745" y="10574"/>
                </a:lnTo>
                <a:lnTo>
                  <a:pt x="108084" y="12762"/>
                </a:lnTo>
                <a:lnTo>
                  <a:pt x="105359" y="14220"/>
                </a:lnTo>
                <a:lnTo>
                  <a:pt x="102589" y="15192"/>
                </a:lnTo>
                <a:lnTo>
                  <a:pt x="99789" y="15840"/>
                </a:lnTo>
                <a:lnTo>
                  <a:pt x="96971" y="18177"/>
                </a:lnTo>
                <a:lnTo>
                  <a:pt x="94139" y="21640"/>
                </a:lnTo>
                <a:lnTo>
                  <a:pt x="91299" y="25854"/>
                </a:lnTo>
                <a:lnTo>
                  <a:pt x="88455" y="29615"/>
                </a:lnTo>
                <a:lnTo>
                  <a:pt x="85604" y="33075"/>
                </a:lnTo>
                <a:lnTo>
                  <a:pt x="82751" y="36335"/>
                </a:lnTo>
                <a:lnTo>
                  <a:pt x="79898" y="39460"/>
                </a:lnTo>
                <a:lnTo>
                  <a:pt x="74186" y="45473"/>
                </a:lnTo>
                <a:lnTo>
                  <a:pt x="71330" y="49362"/>
                </a:lnTo>
                <a:lnTo>
                  <a:pt x="68474" y="53860"/>
                </a:lnTo>
                <a:lnTo>
                  <a:pt x="65616" y="58764"/>
                </a:lnTo>
                <a:lnTo>
                  <a:pt x="62759" y="62985"/>
                </a:lnTo>
                <a:lnTo>
                  <a:pt x="59902" y="66753"/>
                </a:lnTo>
                <a:lnTo>
                  <a:pt x="57044" y="70216"/>
                </a:lnTo>
                <a:lnTo>
                  <a:pt x="54188" y="74430"/>
                </a:lnTo>
                <a:lnTo>
                  <a:pt x="51330" y="79145"/>
                </a:lnTo>
                <a:lnTo>
                  <a:pt x="48472" y="84193"/>
                </a:lnTo>
                <a:lnTo>
                  <a:pt x="42757" y="94882"/>
                </a:lnTo>
                <a:lnTo>
                  <a:pt x="39899" y="100399"/>
                </a:lnTo>
                <a:lnTo>
                  <a:pt x="37042" y="105030"/>
                </a:lnTo>
                <a:lnTo>
                  <a:pt x="34184" y="109069"/>
                </a:lnTo>
                <a:lnTo>
                  <a:pt x="31327" y="112715"/>
                </a:lnTo>
                <a:lnTo>
                  <a:pt x="28470" y="117050"/>
                </a:lnTo>
                <a:lnTo>
                  <a:pt x="25612" y="121846"/>
                </a:lnTo>
                <a:lnTo>
                  <a:pt x="22754" y="126947"/>
                </a:lnTo>
                <a:lnTo>
                  <a:pt x="19579" y="140236"/>
                </a:lnTo>
                <a:lnTo>
                  <a:pt x="18732" y="147780"/>
                </a:lnTo>
                <a:lnTo>
                  <a:pt x="15252" y="161242"/>
                </a:lnTo>
                <a:lnTo>
                  <a:pt x="11483" y="173576"/>
                </a:lnTo>
                <a:lnTo>
                  <a:pt x="9807" y="185408"/>
                </a:lnTo>
                <a:lnTo>
                  <a:pt x="9063" y="197016"/>
                </a:lnTo>
                <a:lnTo>
                  <a:pt x="8731" y="208525"/>
                </a:lnTo>
                <a:lnTo>
                  <a:pt x="8585" y="219990"/>
                </a:lnTo>
                <a:lnTo>
                  <a:pt x="7594" y="226667"/>
                </a:lnTo>
                <a:lnTo>
                  <a:pt x="5980" y="233976"/>
                </a:lnTo>
                <a:lnTo>
                  <a:pt x="2599" y="247812"/>
                </a:lnTo>
                <a:lnTo>
                  <a:pt x="1097" y="257136"/>
                </a:lnTo>
                <a:lnTo>
                  <a:pt x="429" y="266995"/>
                </a:lnTo>
                <a:lnTo>
                  <a:pt x="132" y="277727"/>
                </a:lnTo>
                <a:lnTo>
                  <a:pt x="0" y="288847"/>
                </a:lnTo>
                <a:lnTo>
                  <a:pt x="2481" y="300139"/>
                </a:lnTo>
                <a:lnTo>
                  <a:pt x="5807" y="311508"/>
                </a:lnTo>
                <a:lnTo>
                  <a:pt x="7284" y="322910"/>
                </a:lnTo>
                <a:lnTo>
                  <a:pt x="10482" y="331788"/>
                </a:lnTo>
                <a:lnTo>
                  <a:pt x="12668" y="335489"/>
                </a:lnTo>
                <a:lnTo>
                  <a:pt x="15078" y="339861"/>
                </a:lnTo>
                <a:lnTo>
                  <a:pt x="20295" y="349800"/>
                </a:lnTo>
                <a:lnTo>
                  <a:pt x="28587" y="366105"/>
                </a:lnTo>
                <a:lnTo>
                  <a:pt x="31405" y="370749"/>
                </a:lnTo>
                <a:lnTo>
                  <a:pt x="34237" y="374798"/>
                </a:lnTo>
                <a:lnTo>
                  <a:pt x="37077" y="378450"/>
                </a:lnTo>
                <a:lnTo>
                  <a:pt x="39923" y="381837"/>
                </a:lnTo>
                <a:lnTo>
                  <a:pt x="42773" y="385048"/>
                </a:lnTo>
                <a:lnTo>
                  <a:pt x="48479" y="391155"/>
                </a:lnTo>
                <a:lnTo>
                  <a:pt x="59903" y="402837"/>
                </a:lnTo>
                <a:lnTo>
                  <a:pt x="71332" y="414317"/>
                </a:lnTo>
                <a:lnTo>
                  <a:pt x="75142" y="417178"/>
                </a:lnTo>
                <a:lnTo>
                  <a:pt x="79588" y="420038"/>
                </a:lnTo>
                <a:lnTo>
                  <a:pt x="84456" y="422898"/>
                </a:lnTo>
                <a:lnTo>
                  <a:pt x="88653" y="425757"/>
                </a:lnTo>
                <a:lnTo>
                  <a:pt x="92405" y="428615"/>
                </a:lnTo>
                <a:lnTo>
                  <a:pt x="100719" y="435495"/>
                </a:lnTo>
                <a:lnTo>
                  <a:pt x="104395" y="438976"/>
                </a:lnTo>
                <a:lnTo>
                  <a:pt x="106710" y="441237"/>
                </a:lnTo>
                <a:lnTo>
                  <a:pt x="109204" y="442745"/>
                </a:lnTo>
                <a:lnTo>
                  <a:pt x="111821" y="443750"/>
                </a:lnTo>
                <a:lnTo>
                  <a:pt x="114516" y="444421"/>
                </a:lnTo>
                <a:lnTo>
                  <a:pt x="117266" y="444867"/>
                </a:lnTo>
                <a:lnTo>
                  <a:pt x="120053" y="445165"/>
                </a:lnTo>
                <a:lnTo>
                  <a:pt x="128477" y="445761"/>
                </a:lnTo>
                <a:lnTo>
                  <a:pt x="128480" y="445761"/>
                </a:lnTo>
                <a:lnTo>
                  <a:pt x="128481" y="445761"/>
                </a:lnTo>
                <a:lnTo>
                  <a:pt x="128482" y="445761"/>
                </a:lnTo>
                <a:lnTo>
                  <a:pt x="119909" y="44576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MARTPenAnnotation978"/>
          <p:cNvSpPr/>
          <p:nvPr/>
        </p:nvSpPr>
        <p:spPr>
          <a:xfrm>
            <a:off x="8155080" y="381492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97168" h="248604">
                <a:moveTo>
                  <a:pt x="0" y="0"/>
                </a:moveTo>
                <a:lnTo>
                  <a:pt x="4939" y="0"/>
                </a:lnTo>
                <a:lnTo>
                  <a:pt x="0" y="0"/>
                </a:lnTo>
                <a:lnTo>
                  <a:pt x="15600" y="15601"/>
                </a:lnTo>
                <a:lnTo>
                  <a:pt x="16115" y="17068"/>
                </a:lnTo>
                <a:lnTo>
                  <a:pt x="16687" y="21238"/>
                </a:lnTo>
                <a:lnTo>
                  <a:pt x="17793" y="23684"/>
                </a:lnTo>
                <a:lnTo>
                  <a:pt x="21560" y="28941"/>
                </a:lnTo>
                <a:lnTo>
                  <a:pt x="26410" y="34453"/>
                </a:lnTo>
                <a:lnTo>
                  <a:pt x="31739" y="41030"/>
                </a:lnTo>
                <a:lnTo>
                  <a:pt x="34495" y="45451"/>
                </a:lnTo>
                <a:lnTo>
                  <a:pt x="37284" y="50303"/>
                </a:lnTo>
                <a:lnTo>
                  <a:pt x="40097" y="54490"/>
                </a:lnTo>
                <a:lnTo>
                  <a:pt x="45761" y="61683"/>
                </a:lnTo>
                <a:lnTo>
                  <a:pt x="48604" y="65887"/>
                </a:lnTo>
                <a:lnTo>
                  <a:pt x="51453" y="70595"/>
                </a:lnTo>
                <a:lnTo>
                  <a:pt x="54305" y="75638"/>
                </a:lnTo>
                <a:lnTo>
                  <a:pt x="57158" y="79953"/>
                </a:lnTo>
                <a:lnTo>
                  <a:pt x="62868" y="87287"/>
                </a:lnTo>
                <a:lnTo>
                  <a:pt x="66677" y="91529"/>
                </a:lnTo>
                <a:lnTo>
                  <a:pt x="75990" y="101322"/>
                </a:lnTo>
                <a:lnTo>
                  <a:pt x="87391" y="112995"/>
                </a:lnTo>
                <a:lnTo>
                  <a:pt x="90645" y="117240"/>
                </a:lnTo>
                <a:lnTo>
                  <a:pt x="93768" y="121975"/>
                </a:lnTo>
                <a:lnTo>
                  <a:pt x="96802" y="127037"/>
                </a:lnTo>
                <a:lnTo>
                  <a:pt x="99777" y="131364"/>
                </a:lnTo>
                <a:lnTo>
                  <a:pt x="105623" y="138711"/>
                </a:lnTo>
                <a:lnTo>
                  <a:pt x="108515" y="142957"/>
                </a:lnTo>
                <a:lnTo>
                  <a:pt x="111396" y="147692"/>
                </a:lnTo>
                <a:lnTo>
                  <a:pt x="114269" y="152754"/>
                </a:lnTo>
                <a:lnTo>
                  <a:pt x="118089" y="158033"/>
                </a:lnTo>
                <a:lnTo>
                  <a:pt x="122540" y="163458"/>
                </a:lnTo>
                <a:lnTo>
                  <a:pt x="131614" y="173613"/>
                </a:lnTo>
                <a:lnTo>
                  <a:pt x="138822" y="181302"/>
                </a:lnTo>
                <a:lnTo>
                  <a:pt x="141125" y="184685"/>
                </a:lnTo>
                <a:lnTo>
                  <a:pt x="143685" y="190985"/>
                </a:lnTo>
                <a:lnTo>
                  <a:pt x="146272" y="194951"/>
                </a:lnTo>
                <a:lnTo>
                  <a:pt x="149902" y="199500"/>
                </a:lnTo>
                <a:lnTo>
                  <a:pt x="154227" y="204438"/>
                </a:lnTo>
                <a:lnTo>
                  <a:pt x="157110" y="208681"/>
                </a:lnTo>
                <a:lnTo>
                  <a:pt x="160314" y="215938"/>
                </a:lnTo>
                <a:lnTo>
                  <a:pt x="164278" y="222337"/>
                </a:lnTo>
                <a:lnTo>
                  <a:pt x="166668" y="225377"/>
                </a:lnTo>
                <a:lnTo>
                  <a:pt x="169214" y="227404"/>
                </a:lnTo>
                <a:lnTo>
                  <a:pt x="171865" y="228755"/>
                </a:lnTo>
                <a:lnTo>
                  <a:pt x="174584" y="229656"/>
                </a:lnTo>
                <a:lnTo>
                  <a:pt x="176396" y="231209"/>
                </a:lnTo>
                <a:lnTo>
                  <a:pt x="177604" y="233197"/>
                </a:lnTo>
                <a:lnTo>
                  <a:pt x="178411" y="235475"/>
                </a:lnTo>
                <a:lnTo>
                  <a:pt x="179900" y="236993"/>
                </a:lnTo>
                <a:lnTo>
                  <a:pt x="181846" y="238006"/>
                </a:lnTo>
                <a:lnTo>
                  <a:pt x="184096" y="238680"/>
                </a:lnTo>
                <a:lnTo>
                  <a:pt x="185595" y="240083"/>
                </a:lnTo>
                <a:lnTo>
                  <a:pt x="186595" y="241970"/>
                </a:lnTo>
                <a:lnTo>
                  <a:pt x="188477" y="248214"/>
                </a:lnTo>
                <a:lnTo>
                  <a:pt x="194463" y="248526"/>
                </a:lnTo>
                <a:lnTo>
                  <a:pt x="197167" y="2486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ARTPenAnnotation979"/>
          <p:cNvSpPr/>
          <p:nvPr/>
        </p:nvSpPr>
        <p:spPr>
          <a:xfrm>
            <a:off x="8121600" y="3814920"/>
            <a:ext cx="222480" cy="231480"/>
          </a:xfrm>
          <a:custGeom>
            <a:avLst/>
            <a:gdLst>
              <a:gd name="textAreaLeft" fmla="*/ 0 w 222480"/>
              <a:gd name="textAreaRight" fmla="*/ 222840 w 22248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222886" h="231459">
                <a:moveTo>
                  <a:pt x="222885" y="0"/>
                </a:moveTo>
                <a:lnTo>
                  <a:pt x="218334" y="0"/>
                </a:lnTo>
                <a:lnTo>
                  <a:pt x="216993" y="953"/>
                </a:lnTo>
                <a:lnTo>
                  <a:pt x="216100" y="2540"/>
                </a:lnTo>
                <a:lnTo>
                  <a:pt x="215504" y="4551"/>
                </a:lnTo>
                <a:lnTo>
                  <a:pt x="212301" y="9325"/>
                </a:lnTo>
                <a:lnTo>
                  <a:pt x="207704" y="14622"/>
                </a:lnTo>
                <a:lnTo>
                  <a:pt x="202485" y="20151"/>
                </a:lnTo>
                <a:lnTo>
                  <a:pt x="199760" y="23912"/>
                </a:lnTo>
                <a:lnTo>
                  <a:pt x="196992" y="28324"/>
                </a:lnTo>
                <a:lnTo>
                  <a:pt x="194192" y="33170"/>
                </a:lnTo>
                <a:lnTo>
                  <a:pt x="191374" y="37353"/>
                </a:lnTo>
                <a:lnTo>
                  <a:pt x="185702" y="44541"/>
                </a:lnTo>
                <a:lnTo>
                  <a:pt x="181903" y="48744"/>
                </a:lnTo>
                <a:lnTo>
                  <a:pt x="172604" y="58494"/>
                </a:lnTo>
                <a:lnTo>
                  <a:pt x="156657" y="74694"/>
                </a:lnTo>
                <a:lnTo>
                  <a:pt x="152063" y="80276"/>
                </a:lnTo>
                <a:lnTo>
                  <a:pt x="148048" y="85902"/>
                </a:lnTo>
                <a:lnTo>
                  <a:pt x="144419" y="91558"/>
                </a:lnTo>
                <a:lnTo>
                  <a:pt x="140093" y="97234"/>
                </a:lnTo>
                <a:lnTo>
                  <a:pt x="135306" y="102923"/>
                </a:lnTo>
                <a:lnTo>
                  <a:pt x="130209" y="108620"/>
                </a:lnTo>
                <a:lnTo>
                  <a:pt x="119465" y="120031"/>
                </a:lnTo>
                <a:lnTo>
                  <a:pt x="113934" y="125741"/>
                </a:lnTo>
                <a:lnTo>
                  <a:pt x="109294" y="131452"/>
                </a:lnTo>
                <a:lnTo>
                  <a:pt x="105247" y="137165"/>
                </a:lnTo>
                <a:lnTo>
                  <a:pt x="101597" y="142878"/>
                </a:lnTo>
                <a:lnTo>
                  <a:pt x="97259" y="147640"/>
                </a:lnTo>
                <a:lnTo>
                  <a:pt x="92461" y="151766"/>
                </a:lnTo>
                <a:lnTo>
                  <a:pt x="87359" y="155470"/>
                </a:lnTo>
                <a:lnTo>
                  <a:pt x="82051" y="159845"/>
                </a:lnTo>
                <a:lnTo>
                  <a:pt x="76608" y="164666"/>
                </a:lnTo>
                <a:lnTo>
                  <a:pt x="66434" y="174150"/>
                </a:lnTo>
                <a:lnTo>
                  <a:pt x="55349" y="184845"/>
                </a:lnTo>
                <a:lnTo>
                  <a:pt x="36025" y="204012"/>
                </a:lnTo>
                <a:lnTo>
                  <a:pt x="29980" y="207512"/>
                </a:lnTo>
                <a:lnTo>
                  <a:pt x="19680" y="212970"/>
                </a:lnTo>
                <a:lnTo>
                  <a:pt x="13345" y="218465"/>
                </a:lnTo>
                <a:lnTo>
                  <a:pt x="6661" y="224843"/>
                </a:lnTo>
                <a:lnTo>
                  <a:pt x="0" y="2314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MARTPenAnnotation980"/>
          <p:cNvSpPr/>
          <p:nvPr/>
        </p:nvSpPr>
        <p:spPr>
          <a:xfrm>
            <a:off x="8437680" y="3900600"/>
            <a:ext cx="266760" cy="7920"/>
          </a:xfrm>
          <a:custGeom>
            <a:avLst/>
            <a:gdLst>
              <a:gd name="textAreaLeft" fmla="*/ 0 w 266760"/>
              <a:gd name="textAreaRight" fmla="*/ 267120 w 2667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65748" h="8574">
                <a:moveTo>
                  <a:pt x="0" y="8573"/>
                </a:moveTo>
                <a:lnTo>
                  <a:pt x="54481" y="8573"/>
                </a:lnTo>
                <a:lnTo>
                  <a:pt x="61087" y="7620"/>
                </a:lnTo>
                <a:lnTo>
                  <a:pt x="67394" y="6033"/>
                </a:lnTo>
                <a:lnTo>
                  <a:pt x="73505" y="4022"/>
                </a:lnTo>
                <a:lnTo>
                  <a:pt x="79483" y="2681"/>
                </a:lnTo>
                <a:lnTo>
                  <a:pt x="85374" y="1787"/>
                </a:lnTo>
                <a:lnTo>
                  <a:pt x="91205" y="1192"/>
                </a:lnTo>
                <a:lnTo>
                  <a:pt x="96999" y="795"/>
                </a:lnTo>
                <a:lnTo>
                  <a:pt x="102766" y="530"/>
                </a:lnTo>
                <a:lnTo>
                  <a:pt x="114253" y="236"/>
                </a:lnTo>
                <a:lnTo>
                  <a:pt x="228870" y="0"/>
                </a:lnTo>
                <a:lnTo>
                  <a:pt x="233543" y="953"/>
                </a:lnTo>
                <a:lnTo>
                  <a:pt x="237611" y="2540"/>
                </a:lnTo>
                <a:lnTo>
                  <a:pt x="246431" y="7381"/>
                </a:lnTo>
                <a:lnTo>
                  <a:pt x="248108" y="7778"/>
                </a:lnTo>
                <a:lnTo>
                  <a:pt x="250178" y="8043"/>
                </a:lnTo>
                <a:lnTo>
                  <a:pt x="255793" y="8468"/>
                </a:lnTo>
                <a:lnTo>
                  <a:pt x="263778" y="8559"/>
                </a:lnTo>
                <a:lnTo>
                  <a:pt x="265747" y="85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MARTPenAnnotation981"/>
          <p:cNvSpPr/>
          <p:nvPr/>
        </p:nvSpPr>
        <p:spPr>
          <a:xfrm>
            <a:off x="8558280" y="3781440"/>
            <a:ext cx="50760" cy="272880"/>
          </a:xfrm>
          <a:custGeom>
            <a:avLst/>
            <a:gdLst>
              <a:gd name="textAreaLeft" fmla="*/ 0 w 50760"/>
              <a:gd name="textAreaRight" fmla="*/ 51120 w 507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51328" h="273959">
                <a:moveTo>
                  <a:pt x="17037" y="16783"/>
                </a:moveTo>
                <a:lnTo>
                  <a:pt x="254" y="0"/>
                </a:lnTo>
                <a:lnTo>
                  <a:pt x="0" y="4296"/>
                </a:lnTo>
                <a:lnTo>
                  <a:pt x="917" y="5601"/>
                </a:lnTo>
                <a:lnTo>
                  <a:pt x="2480" y="6471"/>
                </a:lnTo>
                <a:lnTo>
                  <a:pt x="4475" y="7051"/>
                </a:lnTo>
                <a:lnTo>
                  <a:pt x="5805" y="8390"/>
                </a:lnTo>
                <a:lnTo>
                  <a:pt x="6692" y="10235"/>
                </a:lnTo>
                <a:lnTo>
                  <a:pt x="7677" y="14825"/>
                </a:lnTo>
                <a:lnTo>
                  <a:pt x="8114" y="20040"/>
                </a:lnTo>
                <a:lnTo>
                  <a:pt x="8309" y="28073"/>
                </a:lnTo>
                <a:lnTo>
                  <a:pt x="8361" y="32882"/>
                </a:lnTo>
                <a:lnTo>
                  <a:pt x="9348" y="37994"/>
                </a:lnTo>
                <a:lnTo>
                  <a:pt x="10958" y="43306"/>
                </a:lnTo>
                <a:lnTo>
                  <a:pt x="12984" y="48753"/>
                </a:lnTo>
                <a:lnTo>
                  <a:pt x="14335" y="53336"/>
                </a:lnTo>
                <a:lnTo>
                  <a:pt x="15837" y="60969"/>
                </a:lnTo>
                <a:lnTo>
                  <a:pt x="16237" y="65290"/>
                </a:lnTo>
                <a:lnTo>
                  <a:pt x="16503" y="70076"/>
                </a:lnTo>
                <a:lnTo>
                  <a:pt x="16681" y="75172"/>
                </a:lnTo>
                <a:lnTo>
                  <a:pt x="17753" y="80474"/>
                </a:lnTo>
                <a:lnTo>
                  <a:pt x="19419" y="85914"/>
                </a:lnTo>
                <a:lnTo>
                  <a:pt x="21482" y="91445"/>
                </a:lnTo>
                <a:lnTo>
                  <a:pt x="22859" y="97038"/>
                </a:lnTo>
                <a:lnTo>
                  <a:pt x="23775" y="102671"/>
                </a:lnTo>
                <a:lnTo>
                  <a:pt x="24387" y="108332"/>
                </a:lnTo>
                <a:lnTo>
                  <a:pt x="24794" y="114011"/>
                </a:lnTo>
                <a:lnTo>
                  <a:pt x="25066" y="119701"/>
                </a:lnTo>
                <a:lnTo>
                  <a:pt x="25368" y="131105"/>
                </a:lnTo>
                <a:lnTo>
                  <a:pt x="25503" y="142523"/>
                </a:lnTo>
                <a:lnTo>
                  <a:pt x="26490" y="147282"/>
                </a:lnTo>
                <a:lnTo>
                  <a:pt x="28102" y="151408"/>
                </a:lnTo>
                <a:lnTo>
                  <a:pt x="30128" y="155110"/>
                </a:lnTo>
                <a:lnTo>
                  <a:pt x="31480" y="160436"/>
                </a:lnTo>
                <a:lnTo>
                  <a:pt x="32380" y="166844"/>
                </a:lnTo>
                <a:lnTo>
                  <a:pt x="33381" y="179680"/>
                </a:lnTo>
                <a:lnTo>
                  <a:pt x="33826" y="188559"/>
                </a:lnTo>
                <a:lnTo>
                  <a:pt x="34024" y="198220"/>
                </a:lnTo>
                <a:lnTo>
                  <a:pt x="34180" y="241210"/>
                </a:lnTo>
                <a:lnTo>
                  <a:pt x="35133" y="244506"/>
                </a:lnTo>
                <a:lnTo>
                  <a:pt x="36721" y="247656"/>
                </a:lnTo>
                <a:lnTo>
                  <a:pt x="41562" y="255004"/>
                </a:lnTo>
                <a:lnTo>
                  <a:pt x="42225" y="258549"/>
                </a:lnTo>
                <a:lnTo>
                  <a:pt x="42685" y="265438"/>
                </a:lnTo>
                <a:lnTo>
                  <a:pt x="42723" y="269536"/>
                </a:lnTo>
                <a:lnTo>
                  <a:pt x="43687" y="271010"/>
                </a:lnTo>
                <a:lnTo>
                  <a:pt x="45281" y="271993"/>
                </a:lnTo>
                <a:lnTo>
                  <a:pt x="51327" y="2739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MARTPenAnnotation982"/>
          <p:cNvSpPr/>
          <p:nvPr/>
        </p:nvSpPr>
        <p:spPr>
          <a:xfrm>
            <a:off x="8772480" y="3746520"/>
            <a:ext cx="162000" cy="247680"/>
          </a:xfrm>
          <a:custGeom>
            <a:avLst/>
            <a:gdLst>
              <a:gd name="textAreaLeft" fmla="*/ 0 w 162000"/>
              <a:gd name="textAreaRight" fmla="*/ 162360 w 1620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62512" h="248590">
                <a:moveTo>
                  <a:pt x="128587" y="8569"/>
                </a:moveTo>
                <a:lnTo>
                  <a:pt x="120368" y="350"/>
                </a:lnTo>
                <a:lnTo>
                  <a:pt x="115568" y="102"/>
                </a:lnTo>
                <a:lnTo>
                  <a:pt x="111305" y="18"/>
                </a:lnTo>
                <a:lnTo>
                  <a:pt x="95067" y="0"/>
                </a:lnTo>
                <a:lnTo>
                  <a:pt x="90048" y="951"/>
                </a:lnTo>
                <a:lnTo>
                  <a:pt x="84797" y="2538"/>
                </a:lnTo>
                <a:lnTo>
                  <a:pt x="79392" y="4549"/>
                </a:lnTo>
                <a:lnTo>
                  <a:pt x="74835" y="5889"/>
                </a:lnTo>
                <a:lnTo>
                  <a:pt x="70845" y="6782"/>
                </a:lnTo>
                <a:lnTo>
                  <a:pt x="67232" y="7378"/>
                </a:lnTo>
                <a:lnTo>
                  <a:pt x="62918" y="7775"/>
                </a:lnTo>
                <a:lnTo>
                  <a:pt x="58138" y="8040"/>
                </a:lnTo>
                <a:lnTo>
                  <a:pt x="48699" y="8335"/>
                </a:lnTo>
                <a:lnTo>
                  <a:pt x="34878" y="8523"/>
                </a:lnTo>
                <a:lnTo>
                  <a:pt x="1341" y="8569"/>
                </a:lnTo>
                <a:lnTo>
                  <a:pt x="894" y="9522"/>
                </a:lnTo>
                <a:lnTo>
                  <a:pt x="34" y="16789"/>
                </a:lnTo>
                <a:lnTo>
                  <a:pt x="0" y="152952"/>
                </a:lnTo>
                <a:lnTo>
                  <a:pt x="952" y="153402"/>
                </a:lnTo>
                <a:lnTo>
                  <a:pt x="4939" y="154035"/>
                </a:lnTo>
                <a:lnTo>
                  <a:pt x="837" y="154267"/>
                </a:lnTo>
                <a:lnTo>
                  <a:pt x="4798" y="154292"/>
                </a:lnTo>
                <a:lnTo>
                  <a:pt x="7454" y="154299"/>
                </a:lnTo>
                <a:lnTo>
                  <a:pt x="10616" y="151761"/>
                </a:lnTo>
                <a:lnTo>
                  <a:pt x="15195" y="147458"/>
                </a:lnTo>
                <a:lnTo>
                  <a:pt x="37183" y="125683"/>
                </a:lnTo>
                <a:lnTo>
                  <a:pt x="45730" y="117141"/>
                </a:lnTo>
                <a:lnTo>
                  <a:pt x="49536" y="114289"/>
                </a:lnTo>
                <a:lnTo>
                  <a:pt x="53979" y="111434"/>
                </a:lnTo>
                <a:lnTo>
                  <a:pt x="58846" y="108578"/>
                </a:lnTo>
                <a:lnTo>
                  <a:pt x="63996" y="105722"/>
                </a:lnTo>
                <a:lnTo>
                  <a:pt x="74797" y="100008"/>
                </a:lnTo>
                <a:lnTo>
                  <a:pt x="79392" y="97151"/>
                </a:lnTo>
                <a:lnTo>
                  <a:pt x="83408" y="94294"/>
                </a:lnTo>
                <a:lnTo>
                  <a:pt x="87038" y="91437"/>
                </a:lnTo>
                <a:lnTo>
                  <a:pt x="90410" y="89532"/>
                </a:lnTo>
                <a:lnTo>
                  <a:pt x="93611" y="88262"/>
                </a:lnTo>
                <a:lnTo>
                  <a:pt x="96697" y="87415"/>
                </a:lnTo>
                <a:lnTo>
                  <a:pt x="99707" y="85898"/>
                </a:lnTo>
                <a:lnTo>
                  <a:pt x="102667" y="83935"/>
                </a:lnTo>
                <a:lnTo>
                  <a:pt x="105592" y="81673"/>
                </a:lnTo>
                <a:lnTo>
                  <a:pt x="109446" y="81118"/>
                </a:lnTo>
                <a:lnTo>
                  <a:pt x="113922" y="81700"/>
                </a:lnTo>
                <a:lnTo>
                  <a:pt x="118810" y="83041"/>
                </a:lnTo>
                <a:lnTo>
                  <a:pt x="123022" y="83935"/>
                </a:lnTo>
                <a:lnTo>
                  <a:pt x="126782" y="84530"/>
                </a:lnTo>
                <a:lnTo>
                  <a:pt x="130241" y="84928"/>
                </a:lnTo>
                <a:lnTo>
                  <a:pt x="133500" y="86145"/>
                </a:lnTo>
                <a:lnTo>
                  <a:pt x="136624" y="87909"/>
                </a:lnTo>
                <a:lnTo>
                  <a:pt x="139661" y="90038"/>
                </a:lnTo>
                <a:lnTo>
                  <a:pt x="142637" y="92409"/>
                </a:lnTo>
                <a:lnTo>
                  <a:pt x="145574" y="94942"/>
                </a:lnTo>
                <a:lnTo>
                  <a:pt x="148484" y="97584"/>
                </a:lnTo>
                <a:lnTo>
                  <a:pt x="150424" y="100298"/>
                </a:lnTo>
                <a:lnTo>
                  <a:pt x="152580" y="105853"/>
                </a:lnTo>
                <a:lnTo>
                  <a:pt x="153538" y="111496"/>
                </a:lnTo>
                <a:lnTo>
                  <a:pt x="153794" y="114335"/>
                </a:lnTo>
                <a:lnTo>
                  <a:pt x="154916" y="117180"/>
                </a:lnTo>
                <a:lnTo>
                  <a:pt x="158705" y="122881"/>
                </a:lnTo>
                <a:lnTo>
                  <a:pt x="161023" y="128590"/>
                </a:lnTo>
                <a:lnTo>
                  <a:pt x="162052" y="135254"/>
                </a:lnTo>
                <a:lnTo>
                  <a:pt x="162328" y="139699"/>
                </a:lnTo>
                <a:lnTo>
                  <a:pt x="162511" y="144567"/>
                </a:lnTo>
                <a:lnTo>
                  <a:pt x="161680" y="148764"/>
                </a:lnTo>
                <a:lnTo>
                  <a:pt x="158217" y="155968"/>
                </a:lnTo>
                <a:lnTo>
                  <a:pt x="156913" y="160176"/>
                </a:lnTo>
                <a:lnTo>
                  <a:pt x="156043" y="164885"/>
                </a:lnTo>
                <a:lnTo>
                  <a:pt x="155464" y="169930"/>
                </a:lnTo>
                <a:lnTo>
                  <a:pt x="154126" y="175198"/>
                </a:lnTo>
                <a:lnTo>
                  <a:pt x="152279" y="180615"/>
                </a:lnTo>
                <a:lnTo>
                  <a:pt x="150097" y="186132"/>
                </a:lnTo>
                <a:lnTo>
                  <a:pt x="146736" y="190762"/>
                </a:lnTo>
                <a:lnTo>
                  <a:pt x="142592" y="194801"/>
                </a:lnTo>
                <a:lnTo>
                  <a:pt x="137924" y="198447"/>
                </a:lnTo>
                <a:lnTo>
                  <a:pt x="134811" y="201829"/>
                </a:lnTo>
                <a:lnTo>
                  <a:pt x="132737" y="205037"/>
                </a:lnTo>
                <a:lnTo>
                  <a:pt x="131353" y="208128"/>
                </a:lnTo>
                <a:lnTo>
                  <a:pt x="128527" y="212093"/>
                </a:lnTo>
                <a:lnTo>
                  <a:pt x="124737" y="216642"/>
                </a:lnTo>
                <a:lnTo>
                  <a:pt x="116398" y="225824"/>
                </a:lnTo>
                <a:lnTo>
                  <a:pt x="109518" y="233080"/>
                </a:lnTo>
                <a:lnTo>
                  <a:pt x="105397" y="235395"/>
                </a:lnTo>
                <a:lnTo>
                  <a:pt x="100745" y="236939"/>
                </a:lnTo>
                <a:lnTo>
                  <a:pt x="95738" y="237969"/>
                </a:lnTo>
                <a:lnTo>
                  <a:pt x="92400" y="239607"/>
                </a:lnTo>
                <a:lnTo>
                  <a:pt x="90175" y="241652"/>
                </a:lnTo>
                <a:lnTo>
                  <a:pt x="88691" y="243968"/>
                </a:lnTo>
                <a:lnTo>
                  <a:pt x="85798" y="245512"/>
                </a:lnTo>
                <a:lnTo>
                  <a:pt x="81963" y="246541"/>
                </a:lnTo>
                <a:lnTo>
                  <a:pt x="77502" y="247227"/>
                </a:lnTo>
                <a:lnTo>
                  <a:pt x="73576" y="247685"/>
                </a:lnTo>
                <a:lnTo>
                  <a:pt x="70005" y="247990"/>
                </a:lnTo>
                <a:lnTo>
                  <a:pt x="66673" y="248193"/>
                </a:lnTo>
                <a:lnTo>
                  <a:pt x="60430" y="248419"/>
                </a:lnTo>
                <a:lnTo>
                  <a:pt x="51667" y="248576"/>
                </a:lnTo>
                <a:lnTo>
                  <a:pt x="47410" y="248589"/>
                </a:lnTo>
                <a:lnTo>
                  <a:pt x="45894" y="247640"/>
                </a:lnTo>
                <a:lnTo>
                  <a:pt x="44884" y="246055"/>
                </a:lnTo>
                <a:lnTo>
                  <a:pt x="44210" y="244046"/>
                </a:lnTo>
                <a:lnTo>
                  <a:pt x="40921" y="239273"/>
                </a:lnTo>
                <a:lnTo>
                  <a:pt x="34290" y="2314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MARTPenAnnotation983"/>
          <p:cNvSpPr/>
          <p:nvPr/>
        </p:nvSpPr>
        <p:spPr>
          <a:xfrm>
            <a:off x="8883720" y="3651120"/>
            <a:ext cx="206280" cy="471600"/>
          </a:xfrm>
          <a:custGeom>
            <a:avLst/>
            <a:gdLst>
              <a:gd name="textAreaLeft" fmla="*/ 0 w 206280"/>
              <a:gd name="textAreaRight" fmla="*/ 206640 w 20628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205267" h="471488">
                <a:moveTo>
                  <a:pt x="17145" y="0"/>
                </a:moveTo>
                <a:lnTo>
                  <a:pt x="26247" y="0"/>
                </a:lnTo>
                <a:lnTo>
                  <a:pt x="29881" y="952"/>
                </a:lnTo>
                <a:lnTo>
                  <a:pt x="33255" y="2540"/>
                </a:lnTo>
                <a:lnTo>
                  <a:pt x="36457" y="4551"/>
                </a:lnTo>
                <a:lnTo>
                  <a:pt x="42556" y="6785"/>
                </a:lnTo>
                <a:lnTo>
                  <a:pt x="45515" y="7380"/>
                </a:lnTo>
                <a:lnTo>
                  <a:pt x="51344" y="10582"/>
                </a:lnTo>
                <a:lnTo>
                  <a:pt x="54232" y="12770"/>
                </a:lnTo>
                <a:lnTo>
                  <a:pt x="58062" y="15181"/>
                </a:lnTo>
                <a:lnTo>
                  <a:pt x="62521" y="17740"/>
                </a:lnTo>
                <a:lnTo>
                  <a:pt x="72555" y="23125"/>
                </a:lnTo>
                <a:lnTo>
                  <a:pt x="83364" y="28693"/>
                </a:lnTo>
                <a:lnTo>
                  <a:pt x="87962" y="32463"/>
                </a:lnTo>
                <a:lnTo>
                  <a:pt x="91978" y="36882"/>
                </a:lnTo>
                <a:lnTo>
                  <a:pt x="95608" y="41733"/>
                </a:lnTo>
                <a:lnTo>
                  <a:pt x="99935" y="45919"/>
                </a:lnTo>
                <a:lnTo>
                  <a:pt x="104723" y="49663"/>
                </a:lnTo>
                <a:lnTo>
                  <a:pt x="109821" y="53111"/>
                </a:lnTo>
                <a:lnTo>
                  <a:pt x="115124" y="57314"/>
                </a:lnTo>
                <a:lnTo>
                  <a:pt x="120564" y="62022"/>
                </a:lnTo>
                <a:lnTo>
                  <a:pt x="126096" y="67065"/>
                </a:lnTo>
                <a:lnTo>
                  <a:pt x="137323" y="77749"/>
                </a:lnTo>
                <a:lnTo>
                  <a:pt x="142984" y="83265"/>
                </a:lnTo>
                <a:lnTo>
                  <a:pt x="147711" y="88847"/>
                </a:lnTo>
                <a:lnTo>
                  <a:pt x="151814" y="94474"/>
                </a:lnTo>
                <a:lnTo>
                  <a:pt x="155501" y="100130"/>
                </a:lnTo>
                <a:lnTo>
                  <a:pt x="159865" y="105806"/>
                </a:lnTo>
                <a:lnTo>
                  <a:pt x="164679" y="111494"/>
                </a:lnTo>
                <a:lnTo>
                  <a:pt x="169794" y="117192"/>
                </a:lnTo>
                <a:lnTo>
                  <a:pt x="174156" y="123848"/>
                </a:lnTo>
                <a:lnTo>
                  <a:pt x="178017" y="131143"/>
                </a:lnTo>
                <a:lnTo>
                  <a:pt x="181543" y="138863"/>
                </a:lnTo>
                <a:lnTo>
                  <a:pt x="185461" y="152522"/>
                </a:lnTo>
                <a:lnTo>
                  <a:pt x="188155" y="165895"/>
                </a:lnTo>
                <a:lnTo>
                  <a:pt x="190207" y="173461"/>
                </a:lnTo>
                <a:lnTo>
                  <a:pt x="192527" y="181363"/>
                </a:lnTo>
                <a:lnTo>
                  <a:pt x="197645" y="195223"/>
                </a:lnTo>
                <a:lnTo>
                  <a:pt x="200344" y="201586"/>
                </a:lnTo>
                <a:lnTo>
                  <a:pt x="203341" y="216276"/>
                </a:lnTo>
                <a:lnTo>
                  <a:pt x="204141" y="224194"/>
                </a:lnTo>
                <a:lnTo>
                  <a:pt x="204674" y="232330"/>
                </a:lnTo>
                <a:lnTo>
                  <a:pt x="205030" y="240612"/>
                </a:lnTo>
                <a:lnTo>
                  <a:pt x="205266" y="248990"/>
                </a:lnTo>
                <a:lnTo>
                  <a:pt x="204472" y="257433"/>
                </a:lnTo>
                <a:lnTo>
                  <a:pt x="202990" y="265920"/>
                </a:lnTo>
                <a:lnTo>
                  <a:pt x="201049" y="274435"/>
                </a:lnTo>
                <a:lnTo>
                  <a:pt x="198803" y="282969"/>
                </a:lnTo>
                <a:lnTo>
                  <a:pt x="196353" y="291516"/>
                </a:lnTo>
                <a:lnTo>
                  <a:pt x="191091" y="308632"/>
                </a:lnTo>
                <a:lnTo>
                  <a:pt x="185577" y="325765"/>
                </a:lnTo>
                <a:lnTo>
                  <a:pt x="179951" y="340364"/>
                </a:lnTo>
                <a:lnTo>
                  <a:pt x="177117" y="346924"/>
                </a:lnTo>
                <a:lnTo>
                  <a:pt x="173323" y="354155"/>
                </a:lnTo>
                <a:lnTo>
                  <a:pt x="168889" y="361833"/>
                </a:lnTo>
                <a:lnTo>
                  <a:pt x="164028" y="369809"/>
                </a:lnTo>
                <a:lnTo>
                  <a:pt x="158882" y="377032"/>
                </a:lnTo>
                <a:lnTo>
                  <a:pt x="153547" y="383752"/>
                </a:lnTo>
                <a:lnTo>
                  <a:pt x="148084" y="390137"/>
                </a:lnTo>
                <a:lnTo>
                  <a:pt x="142538" y="396299"/>
                </a:lnTo>
                <a:lnTo>
                  <a:pt x="131295" y="408225"/>
                </a:lnTo>
                <a:lnTo>
                  <a:pt x="114255" y="425649"/>
                </a:lnTo>
                <a:lnTo>
                  <a:pt x="108556" y="430451"/>
                </a:lnTo>
                <a:lnTo>
                  <a:pt x="102850" y="434605"/>
                </a:lnTo>
                <a:lnTo>
                  <a:pt x="97142" y="438326"/>
                </a:lnTo>
                <a:lnTo>
                  <a:pt x="91431" y="441760"/>
                </a:lnTo>
                <a:lnTo>
                  <a:pt x="85720" y="445002"/>
                </a:lnTo>
                <a:lnTo>
                  <a:pt x="80006" y="448115"/>
                </a:lnTo>
                <a:lnTo>
                  <a:pt x="75245" y="451144"/>
                </a:lnTo>
                <a:lnTo>
                  <a:pt x="71118" y="454115"/>
                </a:lnTo>
                <a:lnTo>
                  <a:pt x="67416" y="457048"/>
                </a:lnTo>
                <a:lnTo>
                  <a:pt x="63041" y="459956"/>
                </a:lnTo>
                <a:lnTo>
                  <a:pt x="58220" y="462847"/>
                </a:lnTo>
                <a:lnTo>
                  <a:pt x="53101" y="465727"/>
                </a:lnTo>
                <a:lnTo>
                  <a:pt x="48735" y="467647"/>
                </a:lnTo>
                <a:lnTo>
                  <a:pt x="44873" y="468927"/>
                </a:lnTo>
                <a:lnTo>
                  <a:pt x="36381" y="470981"/>
                </a:lnTo>
                <a:lnTo>
                  <a:pt x="30139" y="471262"/>
                </a:lnTo>
                <a:lnTo>
                  <a:pt x="16699" y="471478"/>
                </a:lnTo>
                <a:lnTo>
                  <a:pt x="0" y="47148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MARTPenAnnotation984"/>
          <p:cNvSpPr/>
          <p:nvPr/>
        </p:nvSpPr>
        <p:spPr>
          <a:xfrm>
            <a:off x="6132600" y="4079880"/>
            <a:ext cx="925560" cy="42840"/>
          </a:xfrm>
          <a:custGeom>
            <a:avLst/>
            <a:gdLst>
              <a:gd name="textAreaLeft" fmla="*/ 0 w 925560"/>
              <a:gd name="textAreaRight" fmla="*/ 925920 w 92556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925429" h="42863">
                <a:moveTo>
                  <a:pt x="0" y="42862"/>
                </a:moveTo>
                <a:lnTo>
                  <a:pt x="36322" y="42862"/>
                </a:lnTo>
                <a:lnTo>
                  <a:pt x="40407" y="41910"/>
                </a:lnTo>
                <a:lnTo>
                  <a:pt x="45036" y="40322"/>
                </a:lnTo>
                <a:lnTo>
                  <a:pt x="50026" y="38311"/>
                </a:lnTo>
                <a:lnTo>
                  <a:pt x="55258" y="36971"/>
                </a:lnTo>
                <a:lnTo>
                  <a:pt x="60651" y="36077"/>
                </a:lnTo>
                <a:lnTo>
                  <a:pt x="79883" y="34819"/>
                </a:lnTo>
                <a:lnTo>
                  <a:pt x="103679" y="34446"/>
                </a:lnTo>
                <a:lnTo>
                  <a:pt x="162925" y="34299"/>
                </a:lnTo>
                <a:lnTo>
                  <a:pt x="172434" y="33343"/>
                </a:lnTo>
                <a:lnTo>
                  <a:pt x="182583" y="31754"/>
                </a:lnTo>
                <a:lnTo>
                  <a:pt x="193159" y="29742"/>
                </a:lnTo>
                <a:lnTo>
                  <a:pt x="203068" y="28400"/>
                </a:lnTo>
                <a:lnTo>
                  <a:pt x="212531" y="27506"/>
                </a:lnTo>
                <a:lnTo>
                  <a:pt x="232570" y="26512"/>
                </a:lnTo>
                <a:lnTo>
                  <a:pt x="257352" y="26071"/>
                </a:lnTo>
                <a:lnTo>
                  <a:pt x="268723" y="25000"/>
                </a:lnTo>
                <a:lnTo>
                  <a:pt x="279161" y="23334"/>
                </a:lnTo>
                <a:lnTo>
                  <a:pt x="288977" y="21271"/>
                </a:lnTo>
                <a:lnTo>
                  <a:pt x="299331" y="19896"/>
                </a:lnTo>
                <a:lnTo>
                  <a:pt x="310044" y="18979"/>
                </a:lnTo>
                <a:lnTo>
                  <a:pt x="333060" y="17960"/>
                </a:lnTo>
                <a:lnTo>
                  <a:pt x="371840" y="17386"/>
                </a:lnTo>
                <a:lnTo>
                  <a:pt x="435705" y="17177"/>
                </a:lnTo>
                <a:lnTo>
                  <a:pt x="448584" y="16213"/>
                </a:lnTo>
                <a:lnTo>
                  <a:pt x="460981" y="14619"/>
                </a:lnTo>
                <a:lnTo>
                  <a:pt x="473056" y="12603"/>
                </a:lnTo>
                <a:lnTo>
                  <a:pt x="485868" y="11260"/>
                </a:lnTo>
                <a:lnTo>
                  <a:pt x="499172" y="10363"/>
                </a:lnTo>
                <a:lnTo>
                  <a:pt x="526654" y="9369"/>
                </a:lnTo>
                <a:lnTo>
                  <a:pt x="554743" y="8926"/>
                </a:lnTo>
                <a:lnTo>
                  <a:pt x="568901" y="7855"/>
                </a:lnTo>
                <a:lnTo>
                  <a:pt x="583102" y="6189"/>
                </a:lnTo>
                <a:lnTo>
                  <a:pt x="597332" y="4126"/>
                </a:lnTo>
                <a:lnTo>
                  <a:pt x="611581" y="2751"/>
                </a:lnTo>
                <a:lnTo>
                  <a:pt x="625843" y="1834"/>
                </a:lnTo>
                <a:lnTo>
                  <a:pt x="653437" y="815"/>
                </a:lnTo>
                <a:lnTo>
                  <a:pt x="691345" y="241"/>
                </a:lnTo>
                <a:lnTo>
                  <a:pt x="925428" y="0"/>
                </a:lnTo>
                <a:lnTo>
                  <a:pt x="90868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MARTPenAnnotation985"/>
          <p:cNvSpPr/>
          <p:nvPr/>
        </p:nvSpPr>
        <p:spPr>
          <a:xfrm>
            <a:off x="8121600" y="4132440"/>
            <a:ext cx="855720" cy="42840"/>
          </a:xfrm>
          <a:custGeom>
            <a:avLst/>
            <a:gdLst>
              <a:gd name="textAreaLeft" fmla="*/ 0 w 855720"/>
              <a:gd name="textAreaRight" fmla="*/ 856080 w 85572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855875" h="42863">
                <a:moveTo>
                  <a:pt x="0" y="42862"/>
                </a:moveTo>
                <a:lnTo>
                  <a:pt x="0" y="34292"/>
                </a:lnTo>
                <a:lnTo>
                  <a:pt x="4551" y="29740"/>
                </a:lnTo>
                <a:lnTo>
                  <a:pt x="6843" y="28399"/>
                </a:lnTo>
                <a:lnTo>
                  <a:pt x="9325" y="27505"/>
                </a:lnTo>
                <a:lnTo>
                  <a:pt x="15574" y="26512"/>
                </a:lnTo>
                <a:lnTo>
                  <a:pt x="37649" y="25874"/>
                </a:lnTo>
                <a:lnTo>
                  <a:pt x="69243" y="25748"/>
                </a:lnTo>
                <a:lnTo>
                  <a:pt x="77595" y="24785"/>
                </a:lnTo>
                <a:lnTo>
                  <a:pt x="86020" y="23191"/>
                </a:lnTo>
                <a:lnTo>
                  <a:pt x="94494" y="21175"/>
                </a:lnTo>
                <a:lnTo>
                  <a:pt x="103954" y="19832"/>
                </a:lnTo>
                <a:lnTo>
                  <a:pt x="114069" y="18936"/>
                </a:lnTo>
                <a:lnTo>
                  <a:pt x="135470" y="17941"/>
                </a:lnTo>
                <a:lnTo>
                  <a:pt x="157682" y="17498"/>
                </a:lnTo>
                <a:lnTo>
                  <a:pt x="168938" y="16428"/>
                </a:lnTo>
                <a:lnTo>
                  <a:pt x="180253" y="14762"/>
                </a:lnTo>
                <a:lnTo>
                  <a:pt x="191607" y="12699"/>
                </a:lnTo>
                <a:lnTo>
                  <a:pt x="203938" y="11323"/>
                </a:lnTo>
                <a:lnTo>
                  <a:pt x="216921" y="10406"/>
                </a:lnTo>
                <a:lnTo>
                  <a:pt x="230338" y="9795"/>
                </a:lnTo>
                <a:lnTo>
                  <a:pt x="257948" y="9115"/>
                </a:lnTo>
                <a:lnTo>
                  <a:pt x="855874" y="8572"/>
                </a:lnTo>
                <a:lnTo>
                  <a:pt x="855379" y="7620"/>
                </a:lnTo>
                <a:lnTo>
                  <a:pt x="854098" y="6032"/>
                </a:lnTo>
                <a:lnTo>
                  <a:pt x="849748" y="1191"/>
                </a:lnTo>
                <a:lnTo>
                  <a:pt x="848439" y="794"/>
                </a:lnTo>
                <a:lnTo>
                  <a:pt x="84010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MARTPenAnnotation986"/>
          <p:cNvSpPr/>
          <p:nvPr/>
        </p:nvSpPr>
        <p:spPr>
          <a:xfrm>
            <a:off x="4726080" y="4535640"/>
            <a:ext cx="266760" cy="539640"/>
          </a:xfrm>
          <a:custGeom>
            <a:avLst/>
            <a:gdLst>
              <a:gd name="textAreaLeft" fmla="*/ 0 w 266760"/>
              <a:gd name="textAreaRight" fmla="*/ 267120 w 26676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65630" h="540055">
                <a:moveTo>
                  <a:pt x="265629" y="0"/>
                </a:moveTo>
                <a:lnTo>
                  <a:pt x="245478" y="0"/>
                </a:lnTo>
                <a:lnTo>
                  <a:pt x="237305" y="2540"/>
                </a:lnTo>
                <a:lnTo>
                  <a:pt x="232459" y="4551"/>
                </a:lnTo>
                <a:lnTo>
                  <a:pt x="224534" y="9325"/>
                </a:lnTo>
                <a:lnTo>
                  <a:pt x="216885" y="14622"/>
                </a:lnTo>
                <a:lnTo>
                  <a:pt x="212178" y="17368"/>
                </a:lnTo>
                <a:lnTo>
                  <a:pt x="207135" y="20151"/>
                </a:lnTo>
                <a:lnTo>
                  <a:pt x="201868" y="23911"/>
                </a:lnTo>
                <a:lnTo>
                  <a:pt x="196452" y="28324"/>
                </a:lnTo>
                <a:lnTo>
                  <a:pt x="190936" y="33170"/>
                </a:lnTo>
                <a:lnTo>
                  <a:pt x="185353" y="38306"/>
                </a:lnTo>
                <a:lnTo>
                  <a:pt x="174071" y="49092"/>
                </a:lnTo>
                <a:lnTo>
                  <a:pt x="157009" y="65875"/>
                </a:lnTo>
                <a:lnTo>
                  <a:pt x="151306" y="72492"/>
                </a:lnTo>
                <a:lnTo>
                  <a:pt x="145599" y="79760"/>
                </a:lnTo>
                <a:lnTo>
                  <a:pt x="139889" y="87464"/>
                </a:lnTo>
                <a:lnTo>
                  <a:pt x="134177" y="94504"/>
                </a:lnTo>
                <a:lnTo>
                  <a:pt x="128464" y="101103"/>
                </a:lnTo>
                <a:lnTo>
                  <a:pt x="122751" y="107407"/>
                </a:lnTo>
                <a:lnTo>
                  <a:pt x="117989" y="114467"/>
                </a:lnTo>
                <a:lnTo>
                  <a:pt x="105785" y="138056"/>
                </a:lnTo>
                <a:lnTo>
                  <a:pt x="100964" y="146330"/>
                </a:lnTo>
                <a:lnTo>
                  <a:pt x="90527" y="163143"/>
                </a:lnTo>
                <a:lnTo>
                  <a:pt x="62642" y="205775"/>
                </a:lnTo>
                <a:lnTo>
                  <a:pt x="45570" y="231468"/>
                </a:lnTo>
                <a:lnTo>
                  <a:pt x="40818" y="240037"/>
                </a:lnTo>
                <a:lnTo>
                  <a:pt x="36698" y="248607"/>
                </a:lnTo>
                <a:lnTo>
                  <a:pt x="32998" y="257178"/>
                </a:lnTo>
                <a:lnTo>
                  <a:pt x="29579" y="265750"/>
                </a:lnTo>
                <a:lnTo>
                  <a:pt x="23241" y="282894"/>
                </a:lnTo>
                <a:lnTo>
                  <a:pt x="14317" y="308611"/>
                </a:lnTo>
                <a:lnTo>
                  <a:pt x="12362" y="317183"/>
                </a:lnTo>
                <a:lnTo>
                  <a:pt x="11060" y="325755"/>
                </a:lnTo>
                <a:lnTo>
                  <a:pt x="8660" y="341948"/>
                </a:lnTo>
                <a:lnTo>
                  <a:pt x="4418" y="355495"/>
                </a:lnTo>
                <a:lnTo>
                  <a:pt x="1898" y="370405"/>
                </a:lnTo>
                <a:lnTo>
                  <a:pt x="778" y="385605"/>
                </a:lnTo>
                <a:lnTo>
                  <a:pt x="280" y="398710"/>
                </a:lnTo>
                <a:lnTo>
                  <a:pt x="0" y="421349"/>
                </a:lnTo>
                <a:lnTo>
                  <a:pt x="2474" y="435234"/>
                </a:lnTo>
                <a:lnTo>
                  <a:pt x="6749" y="446802"/>
                </a:lnTo>
                <a:lnTo>
                  <a:pt x="17254" y="464530"/>
                </a:lnTo>
                <a:lnTo>
                  <a:pt x="22843" y="474110"/>
                </a:lnTo>
                <a:lnTo>
                  <a:pt x="28501" y="481543"/>
                </a:lnTo>
                <a:lnTo>
                  <a:pt x="34191" y="490562"/>
                </a:lnTo>
                <a:lnTo>
                  <a:pt x="37042" y="495634"/>
                </a:lnTo>
                <a:lnTo>
                  <a:pt x="40848" y="499015"/>
                </a:lnTo>
                <a:lnTo>
                  <a:pt x="45290" y="501270"/>
                </a:lnTo>
                <a:lnTo>
                  <a:pt x="50157" y="502772"/>
                </a:lnTo>
                <a:lnTo>
                  <a:pt x="58103" y="506982"/>
                </a:lnTo>
                <a:lnTo>
                  <a:pt x="64810" y="512028"/>
                </a:lnTo>
                <a:lnTo>
                  <a:pt x="70967" y="517445"/>
                </a:lnTo>
                <a:lnTo>
                  <a:pt x="74894" y="520224"/>
                </a:lnTo>
                <a:lnTo>
                  <a:pt x="79417" y="523028"/>
                </a:lnTo>
                <a:lnTo>
                  <a:pt x="84338" y="525851"/>
                </a:lnTo>
                <a:lnTo>
                  <a:pt x="92345" y="531527"/>
                </a:lnTo>
                <a:lnTo>
                  <a:pt x="95814" y="534373"/>
                </a:lnTo>
                <a:lnTo>
                  <a:pt x="102209" y="537537"/>
                </a:lnTo>
                <a:lnTo>
                  <a:pt x="108225" y="538943"/>
                </a:lnTo>
                <a:lnTo>
                  <a:pt x="114074" y="539568"/>
                </a:lnTo>
                <a:lnTo>
                  <a:pt x="117920" y="539734"/>
                </a:lnTo>
                <a:lnTo>
                  <a:pt x="131482" y="539969"/>
                </a:lnTo>
                <a:lnTo>
                  <a:pt x="148116" y="540054"/>
                </a:lnTo>
                <a:lnTo>
                  <a:pt x="151092" y="539106"/>
                </a:lnTo>
                <a:lnTo>
                  <a:pt x="156939" y="535513"/>
                </a:lnTo>
                <a:lnTo>
                  <a:pt x="162713" y="533281"/>
                </a:lnTo>
                <a:lnTo>
                  <a:pt x="165585" y="532685"/>
                </a:lnTo>
                <a:lnTo>
                  <a:pt x="171318" y="529485"/>
                </a:lnTo>
                <a:lnTo>
                  <a:pt x="179904" y="5229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MARTPenAnnotation987"/>
          <p:cNvSpPr/>
          <p:nvPr/>
        </p:nvSpPr>
        <p:spPr>
          <a:xfrm>
            <a:off x="4915080" y="4732200"/>
            <a:ext cx="249120" cy="247680"/>
          </a:xfrm>
          <a:custGeom>
            <a:avLst/>
            <a:gdLst>
              <a:gd name="textAreaLeft" fmla="*/ 0 w 249120"/>
              <a:gd name="textAreaRight" fmla="*/ 249480 w 2491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48603" h="248603">
                <a:moveTo>
                  <a:pt x="0" y="0"/>
                </a:moveTo>
                <a:lnTo>
                  <a:pt x="13018" y="0"/>
                </a:lnTo>
                <a:lnTo>
                  <a:pt x="14394" y="952"/>
                </a:lnTo>
                <a:lnTo>
                  <a:pt x="15311" y="2540"/>
                </a:lnTo>
                <a:lnTo>
                  <a:pt x="15922" y="4550"/>
                </a:lnTo>
                <a:lnTo>
                  <a:pt x="17282" y="5891"/>
                </a:lnTo>
                <a:lnTo>
                  <a:pt x="19141" y="6785"/>
                </a:lnTo>
                <a:lnTo>
                  <a:pt x="21333" y="7381"/>
                </a:lnTo>
                <a:lnTo>
                  <a:pt x="26309" y="10583"/>
                </a:lnTo>
                <a:lnTo>
                  <a:pt x="28969" y="12770"/>
                </a:lnTo>
                <a:lnTo>
                  <a:pt x="34465" y="20280"/>
                </a:lnTo>
                <a:lnTo>
                  <a:pt x="37264" y="24950"/>
                </a:lnTo>
                <a:lnTo>
                  <a:pt x="40374" y="32679"/>
                </a:lnTo>
                <a:lnTo>
                  <a:pt x="41203" y="36073"/>
                </a:lnTo>
                <a:lnTo>
                  <a:pt x="44665" y="42385"/>
                </a:lnTo>
                <a:lnTo>
                  <a:pt x="49378" y="48365"/>
                </a:lnTo>
                <a:lnTo>
                  <a:pt x="54648" y="54198"/>
                </a:lnTo>
                <a:lnTo>
                  <a:pt x="60166" y="59965"/>
                </a:lnTo>
                <a:lnTo>
                  <a:pt x="208482" y="208482"/>
                </a:lnTo>
                <a:lnTo>
                  <a:pt x="211378" y="212331"/>
                </a:lnTo>
                <a:lnTo>
                  <a:pt x="214261" y="216801"/>
                </a:lnTo>
                <a:lnTo>
                  <a:pt x="217135" y="221686"/>
                </a:lnTo>
                <a:lnTo>
                  <a:pt x="220004" y="224944"/>
                </a:lnTo>
                <a:lnTo>
                  <a:pt x="222869" y="227115"/>
                </a:lnTo>
                <a:lnTo>
                  <a:pt x="228593" y="230480"/>
                </a:lnTo>
                <a:lnTo>
                  <a:pt x="236218" y="236777"/>
                </a:lnTo>
                <a:lnTo>
                  <a:pt x="241817" y="241927"/>
                </a:lnTo>
                <a:lnTo>
                  <a:pt x="248602" y="2486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MARTPenAnnotation988"/>
          <p:cNvSpPr/>
          <p:nvPr/>
        </p:nvSpPr>
        <p:spPr>
          <a:xfrm>
            <a:off x="4957920" y="4724280"/>
            <a:ext cx="214200" cy="239760"/>
          </a:xfrm>
          <a:custGeom>
            <a:avLst/>
            <a:gdLst>
              <a:gd name="textAreaLeft" fmla="*/ 0 w 214200"/>
              <a:gd name="textAreaRight" fmla="*/ 214560 w 2142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4314" h="239678">
                <a:moveTo>
                  <a:pt x="214313" y="8220"/>
                </a:moveTo>
                <a:lnTo>
                  <a:pt x="206093" y="0"/>
                </a:lnTo>
                <a:lnTo>
                  <a:pt x="201294" y="4303"/>
                </a:lnTo>
                <a:lnTo>
                  <a:pt x="199918" y="6561"/>
                </a:lnTo>
                <a:lnTo>
                  <a:pt x="198390" y="11610"/>
                </a:lnTo>
                <a:lnTo>
                  <a:pt x="195171" y="17029"/>
                </a:lnTo>
                <a:lnTo>
                  <a:pt x="190565" y="22612"/>
                </a:lnTo>
                <a:lnTo>
                  <a:pt x="185343" y="28269"/>
                </a:lnTo>
                <a:lnTo>
                  <a:pt x="172498" y="41359"/>
                </a:lnTo>
                <a:lnTo>
                  <a:pt x="167386" y="47458"/>
                </a:lnTo>
                <a:lnTo>
                  <a:pt x="162073" y="54381"/>
                </a:lnTo>
                <a:lnTo>
                  <a:pt x="156626" y="61854"/>
                </a:lnTo>
                <a:lnTo>
                  <a:pt x="151090" y="68741"/>
                </a:lnTo>
                <a:lnTo>
                  <a:pt x="145495" y="75237"/>
                </a:lnTo>
                <a:lnTo>
                  <a:pt x="139859" y="81473"/>
                </a:lnTo>
                <a:lnTo>
                  <a:pt x="128517" y="93481"/>
                </a:lnTo>
                <a:lnTo>
                  <a:pt x="105714" y="116713"/>
                </a:lnTo>
                <a:lnTo>
                  <a:pt x="100955" y="123411"/>
                </a:lnTo>
                <a:lnTo>
                  <a:pt x="96831" y="130734"/>
                </a:lnTo>
                <a:lnTo>
                  <a:pt x="93129" y="138474"/>
                </a:lnTo>
                <a:lnTo>
                  <a:pt x="88756" y="145538"/>
                </a:lnTo>
                <a:lnTo>
                  <a:pt x="83936" y="152153"/>
                </a:lnTo>
                <a:lnTo>
                  <a:pt x="78817" y="158467"/>
                </a:lnTo>
                <a:lnTo>
                  <a:pt x="73500" y="164583"/>
                </a:lnTo>
                <a:lnTo>
                  <a:pt x="68050" y="170564"/>
                </a:lnTo>
                <a:lnTo>
                  <a:pt x="53818" y="185544"/>
                </a:lnTo>
                <a:lnTo>
                  <a:pt x="50166" y="189301"/>
                </a:lnTo>
                <a:lnTo>
                  <a:pt x="46779" y="193710"/>
                </a:lnTo>
                <a:lnTo>
                  <a:pt x="43569" y="198555"/>
                </a:lnTo>
                <a:lnTo>
                  <a:pt x="40475" y="203690"/>
                </a:lnTo>
                <a:lnTo>
                  <a:pt x="36509" y="208066"/>
                </a:lnTo>
                <a:lnTo>
                  <a:pt x="31959" y="211935"/>
                </a:lnTo>
                <a:lnTo>
                  <a:pt x="27021" y="215467"/>
                </a:lnTo>
                <a:lnTo>
                  <a:pt x="22777" y="217823"/>
                </a:lnTo>
                <a:lnTo>
                  <a:pt x="18995" y="219392"/>
                </a:lnTo>
                <a:lnTo>
                  <a:pt x="15520" y="220439"/>
                </a:lnTo>
                <a:lnTo>
                  <a:pt x="9121" y="224142"/>
                </a:lnTo>
                <a:lnTo>
                  <a:pt x="1801" y="229729"/>
                </a:lnTo>
                <a:lnTo>
                  <a:pt x="1201" y="231140"/>
                </a:lnTo>
                <a:lnTo>
                  <a:pt x="158" y="238365"/>
                </a:lnTo>
                <a:lnTo>
                  <a:pt x="0" y="2396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MARTPenAnnotation989"/>
          <p:cNvSpPr/>
          <p:nvPr/>
        </p:nvSpPr>
        <p:spPr>
          <a:xfrm>
            <a:off x="5232240" y="4782960"/>
            <a:ext cx="368640" cy="25560"/>
          </a:xfrm>
          <a:custGeom>
            <a:avLst/>
            <a:gdLst>
              <a:gd name="textAreaLeft" fmla="*/ 0 w 368640"/>
              <a:gd name="textAreaRight" fmla="*/ 369000 w 3686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68619" h="25719">
                <a:moveTo>
                  <a:pt x="0" y="25718"/>
                </a:moveTo>
                <a:lnTo>
                  <a:pt x="4551" y="25718"/>
                </a:lnTo>
                <a:lnTo>
                  <a:pt x="6844" y="24766"/>
                </a:lnTo>
                <a:lnTo>
                  <a:pt x="9325" y="23178"/>
                </a:lnTo>
                <a:lnTo>
                  <a:pt x="11932" y="21168"/>
                </a:lnTo>
                <a:lnTo>
                  <a:pt x="14622" y="19827"/>
                </a:lnTo>
                <a:lnTo>
                  <a:pt x="17368" y="18933"/>
                </a:lnTo>
                <a:lnTo>
                  <a:pt x="20152" y="18337"/>
                </a:lnTo>
                <a:lnTo>
                  <a:pt x="28324" y="17675"/>
                </a:lnTo>
                <a:lnTo>
                  <a:pt x="38306" y="17381"/>
                </a:lnTo>
                <a:lnTo>
                  <a:pt x="82913" y="17155"/>
                </a:lnTo>
                <a:lnTo>
                  <a:pt x="89566" y="16199"/>
                </a:lnTo>
                <a:lnTo>
                  <a:pt x="96858" y="14610"/>
                </a:lnTo>
                <a:lnTo>
                  <a:pt x="104577" y="12598"/>
                </a:lnTo>
                <a:lnTo>
                  <a:pt x="112580" y="11256"/>
                </a:lnTo>
                <a:lnTo>
                  <a:pt x="120774" y="10362"/>
                </a:lnTo>
                <a:lnTo>
                  <a:pt x="129093" y="9765"/>
                </a:lnTo>
                <a:lnTo>
                  <a:pt x="136545" y="8415"/>
                </a:lnTo>
                <a:lnTo>
                  <a:pt x="143417" y="6563"/>
                </a:lnTo>
                <a:lnTo>
                  <a:pt x="149904" y="4376"/>
                </a:lnTo>
                <a:lnTo>
                  <a:pt x="157086" y="2917"/>
                </a:lnTo>
                <a:lnTo>
                  <a:pt x="164732" y="1945"/>
                </a:lnTo>
                <a:lnTo>
                  <a:pt x="172686" y="1297"/>
                </a:lnTo>
                <a:lnTo>
                  <a:pt x="180846" y="865"/>
                </a:lnTo>
                <a:lnTo>
                  <a:pt x="197534" y="385"/>
                </a:lnTo>
                <a:lnTo>
                  <a:pt x="251305" y="23"/>
                </a:lnTo>
                <a:lnTo>
                  <a:pt x="327237" y="0"/>
                </a:lnTo>
                <a:lnTo>
                  <a:pt x="330554" y="953"/>
                </a:lnTo>
                <a:lnTo>
                  <a:pt x="333717" y="2541"/>
                </a:lnTo>
                <a:lnTo>
                  <a:pt x="336778" y="4552"/>
                </a:lnTo>
                <a:lnTo>
                  <a:pt x="339771" y="5892"/>
                </a:lnTo>
                <a:lnTo>
                  <a:pt x="342719" y="6786"/>
                </a:lnTo>
                <a:lnTo>
                  <a:pt x="345637" y="7382"/>
                </a:lnTo>
                <a:lnTo>
                  <a:pt x="351419" y="8044"/>
                </a:lnTo>
                <a:lnTo>
                  <a:pt x="362892" y="8469"/>
                </a:lnTo>
                <a:lnTo>
                  <a:pt x="368618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MARTPenAnnotation990"/>
          <p:cNvSpPr/>
          <p:nvPr/>
        </p:nvSpPr>
        <p:spPr>
          <a:xfrm>
            <a:off x="5394240" y="4689360"/>
            <a:ext cx="52560" cy="274680"/>
          </a:xfrm>
          <a:custGeom>
            <a:avLst/>
            <a:gdLst>
              <a:gd name="textAreaLeft" fmla="*/ 0 w 52560"/>
              <a:gd name="textAreaRight" fmla="*/ 52920 w 525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51436" h="274321">
                <a:moveTo>
                  <a:pt x="17144" y="0"/>
                </a:moveTo>
                <a:lnTo>
                  <a:pt x="9763" y="0"/>
                </a:lnTo>
                <a:lnTo>
                  <a:pt x="8414" y="953"/>
                </a:lnTo>
                <a:lnTo>
                  <a:pt x="6562" y="2540"/>
                </a:lnTo>
                <a:lnTo>
                  <a:pt x="1296" y="7381"/>
                </a:lnTo>
                <a:lnTo>
                  <a:pt x="864" y="8731"/>
                </a:lnTo>
                <a:lnTo>
                  <a:pt x="256" y="16134"/>
                </a:lnTo>
                <a:lnTo>
                  <a:pt x="50" y="32679"/>
                </a:lnTo>
                <a:lnTo>
                  <a:pt x="0" y="100048"/>
                </a:lnTo>
                <a:lnTo>
                  <a:pt x="952" y="106704"/>
                </a:lnTo>
                <a:lnTo>
                  <a:pt x="2540" y="113999"/>
                </a:lnTo>
                <a:lnTo>
                  <a:pt x="4551" y="121719"/>
                </a:lnTo>
                <a:lnTo>
                  <a:pt x="5891" y="128771"/>
                </a:lnTo>
                <a:lnTo>
                  <a:pt x="6785" y="135377"/>
                </a:lnTo>
                <a:lnTo>
                  <a:pt x="7381" y="141686"/>
                </a:lnTo>
                <a:lnTo>
                  <a:pt x="8730" y="147798"/>
                </a:lnTo>
                <a:lnTo>
                  <a:pt x="10583" y="153777"/>
                </a:lnTo>
                <a:lnTo>
                  <a:pt x="12770" y="159668"/>
                </a:lnTo>
                <a:lnTo>
                  <a:pt x="14228" y="165500"/>
                </a:lnTo>
                <a:lnTo>
                  <a:pt x="15200" y="171293"/>
                </a:lnTo>
                <a:lnTo>
                  <a:pt x="15848" y="177061"/>
                </a:lnTo>
                <a:lnTo>
                  <a:pt x="17233" y="182810"/>
                </a:lnTo>
                <a:lnTo>
                  <a:pt x="19109" y="188549"/>
                </a:lnTo>
                <a:lnTo>
                  <a:pt x="21312" y="194279"/>
                </a:lnTo>
                <a:lnTo>
                  <a:pt x="22780" y="200005"/>
                </a:lnTo>
                <a:lnTo>
                  <a:pt x="23759" y="205727"/>
                </a:lnTo>
                <a:lnTo>
                  <a:pt x="24411" y="211446"/>
                </a:lnTo>
                <a:lnTo>
                  <a:pt x="25799" y="217164"/>
                </a:lnTo>
                <a:lnTo>
                  <a:pt x="27677" y="222881"/>
                </a:lnTo>
                <a:lnTo>
                  <a:pt x="29881" y="228597"/>
                </a:lnTo>
                <a:lnTo>
                  <a:pt x="31351" y="233361"/>
                </a:lnTo>
                <a:lnTo>
                  <a:pt x="32331" y="237489"/>
                </a:lnTo>
                <a:lnTo>
                  <a:pt x="33419" y="244616"/>
                </a:lnTo>
                <a:lnTo>
                  <a:pt x="33903" y="250958"/>
                </a:lnTo>
                <a:lnTo>
                  <a:pt x="34984" y="253983"/>
                </a:lnTo>
                <a:lnTo>
                  <a:pt x="36658" y="256952"/>
                </a:lnTo>
                <a:lnTo>
                  <a:pt x="38726" y="259884"/>
                </a:lnTo>
                <a:lnTo>
                  <a:pt x="40105" y="262791"/>
                </a:lnTo>
                <a:lnTo>
                  <a:pt x="41637" y="268561"/>
                </a:lnTo>
                <a:lnTo>
                  <a:pt x="42499" y="272614"/>
                </a:lnTo>
                <a:lnTo>
                  <a:pt x="43573" y="273183"/>
                </a:lnTo>
                <a:lnTo>
                  <a:pt x="45240" y="273562"/>
                </a:lnTo>
                <a:lnTo>
                  <a:pt x="51435" y="2743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MARTPenAnnotation991"/>
          <p:cNvSpPr/>
          <p:nvPr/>
        </p:nvSpPr>
        <p:spPr>
          <a:xfrm>
            <a:off x="5711760" y="4664160"/>
            <a:ext cx="255600" cy="315720"/>
          </a:xfrm>
          <a:custGeom>
            <a:avLst/>
            <a:gdLst>
              <a:gd name="textAreaLeft" fmla="*/ 0 w 255600"/>
              <a:gd name="textAreaRight" fmla="*/ 255960 w 2556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55862" h="317182">
                <a:moveTo>
                  <a:pt x="171449" y="0"/>
                </a:moveTo>
                <a:lnTo>
                  <a:pt x="166898" y="4551"/>
                </a:lnTo>
                <a:lnTo>
                  <a:pt x="164605" y="5891"/>
                </a:lnTo>
                <a:lnTo>
                  <a:pt x="159517" y="7381"/>
                </a:lnTo>
                <a:lnTo>
                  <a:pt x="154081" y="8043"/>
                </a:lnTo>
                <a:lnTo>
                  <a:pt x="151298" y="8219"/>
                </a:lnTo>
                <a:lnTo>
                  <a:pt x="147538" y="9289"/>
                </a:lnTo>
                <a:lnTo>
                  <a:pt x="143126" y="10955"/>
                </a:lnTo>
                <a:lnTo>
                  <a:pt x="138279" y="13019"/>
                </a:lnTo>
                <a:lnTo>
                  <a:pt x="133143" y="14394"/>
                </a:lnTo>
                <a:lnTo>
                  <a:pt x="127815" y="15311"/>
                </a:lnTo>
                <a:lnTo>
                  <a:pt x="122357" y="15922"/>
                </a:lnTo>
                <a:lnTo>
                  <a:pt x="117766" y="16329"/>
                </a:lnTo>
                <a:lnTo>
                  <a:pt x="110125" y="16782"/>
                </a:lnTo>
                <a:lnTo>
                  <a:pt x="106754" y="15951"/>
                </a:lnTo>
                <a:lnTo>
                  <a:pt x="100468" y="12487"/>
                </a:lnTo>
                <a:lnTo>
                  <a:pt x="96506" y="11182"/>
                </a:lnTo>
                <a:lnTo>
                  <a:pt x="91960" y="10312"/>
                </a:lnTo>
                <a:lnTo>
                  <a:pt x="87024" y="9732"/>
                </a:lnTo>
                <a:lnTo>
                  <a:pt x="82780" y="9346"/>
                </a:lnTo>
                <a:lnTo>
                  <a:pt x="75526" y="8916"/>
                </a:lnTo>
                <a:lnTo>
                  <a:pt x="72258" y="7849"/>
                </a:lnTo>
                <a:lnTo>
                  <a:pt x="66086" y="4123"/>
                </a:lnTo>
                <a:lnTo>
                  <a:pt x="60169" y="1832"/>
                </a:lnTo>
                <a:lnTo>
                  <a:pt x="54363" y="814"/>
                </a:lnTo>
                <a:lnTo>
                  <a:pt x="48609" y="362"/>
                </a:lnTo>
                <a:lnTo>
                  <a:pt x="42876" y="161"/>
                </a:lnTo>
                <a:lnTo>
                  <a:pt x="34792" y="9"/>
                </a:lnTo>
                <a:lnTo>
                  <a:pt x="34333" y="7382"/>
                </a:lnTo>
                <a:lnTo>
                  <a:pt x="34293" y="24950"/>
                </a:lnTo>
                <a:lnTo>
                  <a:pt x="33340" y="29016"/>
                </a:lnTo>
                <a:lnTo>
                  <a:pt x="29740" y="36073"/>
                </a:lnTo>
                <a:lnTo>
                  <a:pt x="27504" y="44925"/>
                </a:lnTo>
                <a:lnTo>
                  <a:pt x="26909" y="49952"/>
                </a:lnTo>
                <a:lnTo>
                  <a:pt x="25559" y="55209"/>
                </a:lnTo>
                <a:lnTo>
                  <a:pt x="23706" y="60618"/>
                </a:lnTo>
                <a:lnTo>
                  <a:pt x="21519" y="66129"/>
                </a:lnTo>
                <a:lnTo>
                  <a:pt x="20060" y="72661"/>
                </a:lnTo>
                <a:lnTo>
                  <a:pt x="19088" y="79873"/>
                </a:lnTo>
                <a:lnTo>
                  <a:pt x="18440" y="87538"/>
                </a:lnTo>
                <a:lnTo>
                  <a:pt x="17056" y="94554"/>
                </a:lnTo>
                <a:lnTo>
                  <a:pt x="15180" y="101136"/>
                </a:lnTo>
                <a:lnTo>
                  <a:pt x="12978" y="107429"/>
                </a:lnTo>
                <a:lnTo>
                  <a:pt x="7990" y="116961"/>
                </a:lnTo>
                <a:lnTo>
                  <a:pt x="5326" y="120836"/>
                </a:lnTo>
                <a:lnTo>
                  <a:pt x="2367" y="130222"/>
                </a:lnTo>
                <a:lnTo>
                  <a:pt x="1051" y="139792"/>
                </a:lnTo>
                <a:lnTo>
                  <a:pt x="467" y="147220"/>
                </a:lnTo>
                <a:lnTo>
                  <a:pt x="138" y="156756"/>
                </a:lnTo>
                <a:lnTo>
                  <a:pt x="17" y="164611"/>
                </a:lnTo>
                <a:lnTo>
                  <a:pt x="0" y="171049"/>
                </a:lnTo>
                <a:lnTo>
                  <a:pt x="0" y="166780"/>
                </a:lnTo>
                <a:lnTo>
                  <a:pt x="952" y="165479"/>
                </a:lnTo>
                <a:lnTo>
                  <a:pt x="2539" y="164612"/>
                </a:lnTo>
                <a:lnTo>
                  <a:pt x="4550" y="164033"/>
                </a:lnTo>
                <a:lnTo>
                  <a:pt x="9324" y="160851"/>
                </a:lnTo>
                <a:lnTo>
                  <a:pt x="14621" y="156262"/>
                </a:lnTo>
                <a:lnTo>
                  <a:pt x="20150" y="151047"/>
                </a:lnTo>
                <a:lnTo>
                  <a:pt x="23911" y="148322"/>
                </a:lnTo>
                <a:lnTo>
                  <a:pt x="28323" y="145554"/>
                </a:lnTo>
                <a:lnTo>
                  <a:pt x="33169" y="142756"/>
                </a:lnTo>
                <a:lnTo>
                  <a:pt x="43634" y="137107"/>
                </a:lnTo>
                <a:lnTo>
                  <a:pt x="65874" y="125719"/>
                </a:lnTo>
                <a:lnTo>
                  <a:pt x="71538" y="123818"/>
                </a:lnTo>
                <a:lnTo>
                  <a:pt x="77219" y="122550"/>
                </a:lnTo>
                <a:lnTo>
                  <a:pt x="82912" y="121705"/>
                </a:lnTo>
                <a:lnTo>
                  <a:pt x="88612" y="120189"/>
                </a:lnTo>
                <a:lnTo>
                  <a:pt x="94317" y="118226"/>
                </a:lnTo>
                <a:lnTo>
                  <a:pt x="100025" y="115965"/>
                </a:lnTo>
                <a:lnTo>
                  <a:pt x="105735" y="114457"/>
                </a:lnTo>
                <a:lnTo>
                  <a:pt x="111448" y="113452"/>
                </a:lnTo>
                <a:lnTo>
                  <a:pt x="117160" y="112782"/>
                </a:lnTo>
                <a:lnTo>
                  <a:pt x="122874" y="112336"/>
                </a:lnTo>
                <a:lnTo>
                  <a:pt x="128589" y="112037"/>
                </a:lnTo>
                <a:lnTo>
                  <a:pt x="140018" y="111707"/>
                </a:lnTo>
                <a:lnTo>
                  <a:pt x="180022" y="111458"/>
                </a:lnTo>
                <a:lnTo>
                  <a:pt x="185737" y="111453"/>
                </a:lnTo>
                <a:lnTo>
                  <a:pt x="191451" y="112402"/>
                </a:lnTo>
                <a:lnTo>
                  <a:pt x="197166" y="113987"/>
                </a:lnTo>
                <a:lnTo>
                  <a:pt x="202882" y="115996"/>
                </a:lnTo>
                <a:lnTo>
                  <a:pt x="208596" y="118288"/>
                </a:lnTo>
                <a:lnTo>
                  <a:pt x="214311" y="120769"/>
                </a:lnTo>
                <a:lnTo>
                  <a:pt x="220027" y="123375"/>
                </a:lnTo>
                <a:lnTo>
                  <a:pt x="224789" y="126064"/>
                </a:lnTo>
                <a:lnTo>
                  <a:pt x="232621" y="131594"/>
                </a:lnTo>
                <a:lnTo>
                  <a:pt x="235090" y="134401"/>
                </a:lnTo>
                <a:lnTo>
                  <a:pt x="236736" y="137226"/>
                </a:lnTo>
                <a:lnTo>
                  <a:pt x="239518" y="143856"/>
                </a:lnTo>
                <a:lnTo>
                  <a:pt x="243930" y="153153"/>
                </a:lnTo>
                <a:lnTo>
                  <a:pt x="246525" y="161096"/>
                </a:lnTo>
                <a:lnTo>
                  <a:pt x="248631" y="168753"/>
                </a:lnTo>
                <a:lnTo>
                  <a:pt x="252742" y="178506"/>
                </a:lnTo>
                <a:lnTo>
                  <a:pt x="254219" y="183774"/>
                </a:lnTo>
                <a:lnTo>
                  <a:pt x="255205" y="189190"/>
                </a:lnTo>
                <a:lnTo>
                  <a:pt x="255861" y="194707"/>
                </a:lnTo>
                <a:lnTo>
                  <a:pt x="255347" y="200290"/>
                </a:lnTo>
                <a:lnTo>
                  <a:pt x="254050" y="205917"/>
                </a:lnTo>
                <a:lnTo>
                  <a:pt x="252234" y="211572"/>
                </a:lnTo>
                <a:lnTo>
                  <a:pt x="250071" y="217248"/>
                </a:lnTo>
                <a:lnTo>
                  <a:pt x="247676" y="222937"/>
                </a:lnTo>
                <a:lnTo>
                  <a:pt x="245127" y="228635"/>
                </a:lnTo>
                <a:lnTo>
                  <a:pt x="239755" y="240045"/>
                </a:lnTo>
                <a:lnTo>
                  <a:pt x="236989" y="245755"/>
                </a:lnTo>
                <a:lnTo>
                  <a:pt x="233240" y="250514"/>
                </a:lnTo>
                <a:lnTo>
                  <a:pt x="228835" y="254640"/>
                </a:lnTo>
                <a:lnTo>
                  <a:pt x="223994" y="258342"/>
                </a:lnTo>
                <a:lnTo>
                  <a:pt x="218862" y="262715"/>
                </a:lnTo>
                <a:lnTo>
                  <a:pt x="213535" y="267536"/>
                </a:lnTo>
                <a:lnTo>
                  <a:pt x="199477" y="280883"/>
                </a:lnTo>
                <a:lnTo>
                  <a:pt x="181642" y="298476"/>
                </a:lnTo>
                <a:lnTo>
                  <a:pt x="176339" y="301854"/>
                </a:lnTo>
                <a:lnTo>
                  <a:pt x="170899" y="304106"/>
                </a:lnTo>
                <a:lnTo>
                  <a:pt x="165368" y="305607"/>
                </a:lnTo>
                <a:lnTo>
                  <a:pt x="159775" y="307560"/>
                </a:lnTo>
                <a:lnTo>
                  <a:pt x="154141" y="309815"/>
                </a:lnTo>
                <a:lnTo>
                  <a:pt x="148481" y="312271"/>
                </a:lnTo>
                <a:lnTo>
                  <a:pt x="143754" y="313908"/>
                </a:lnTo>
                <a:lnTo>
                  <a:pt x="135963" y="315727"/>
                </a:lnTo>
                <a:lnTo>
                  <a:pt x="129325" y="316535"/>
                </a:lnTo>
                <a:lnTo>
                  <a:pt x="123200" y="316895"/>
                </a:lnTo>
                <a:lnTo>
                  <a:pt x="117303" y="317054"/>
                </a:lnTo>
                <a:lnTo>
                  <a:pt x="94475" y="317180"/>
                </a:lnTo>
                <a:lnTo>
                  <a:pt x="82514" y="317181"/>
                </a:lnTo>
                <a:lnTo>
                  <a:pt x="80727" y="316229"/>
                </a:lnTo>
                <a:lnTo>
                  <a:pt x="79535" y="314642"/>
                </a:lnTo>
                <a:lnTo>
                  <a:pt x="78741" y="312631"/>
                </a:lnTo>
                <a:lnTo>
                  <a:pt x="77258" y="311291"/>
                </a:lnTo>
                <a:lnTo>
                  <a:pt x="75318" y="310397"/>
                </a:lnTo>
                <a:lnTo>
                  <a:pt x="68579" y="3086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MARTPenAnnotation992"/>
          <p:cNvSpPr/>
          <p:nvPr/>
        </p:nvSpPr>
        <p:spPr>
          <a:xfrm>
            <a:off x="5961240" y="4551480"/>
            <a:ext cx="345960" cy="480960"/>
          </a:xfrm>
          <a:custGeom>
            <a:avLst/>
            <a:gdLst>
              <a:gd name="textAreaLeft" fmla="*/ 0 w 345960"/>
              <a:gd name="textAreaRight" fmla="*/ 346320 w 34596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346609" h="479657">
                <a:moveTo>
                  <a:pt x="0" y="8570"/>
                </a:moveTo>
                <a:lnTo>
                  <a:pt x="7381" y="1189"/>
                </a:lnTo>
                <a:lnTo>
                  <a:pt x="10583" y="527"/>
                </a:lnTo>
                <a:lnTo>
                  <a:pt x="20399" y="102"/>
                </a:lnTo>
                <a:lnTo>
                  <a:pt x="65881" y="0"/>
                </a:lnTo>
                <a:lnTo>
                  <a:pt x="71543" y="951"/>
                </a:lnTo>
                <a:lnTo>
                  <a:pt x="77223" y="2539"/>
                </a:lnTo>
                <a:lnTo>
                  <a:pt x="82914" y="4549"/>
                </a:lnTo>
                <a:lnTo>
                  <a:pt x="88613" y="6841"/>
                </a:lnTo>
                <a:lnTo>
                  <a:pt x="94318" y="9323"/>
                </a:lnTo>
                <a:lnTo>
                  <a:pt x="100026" y="11929"/>
                </a:lnTo>
                <a:lnTo>
                  <a:pt x="106689" y="14619"/>
                </a:lnTo>
                <a:lnTo>
                  <a:pt x="121712" y="20149"/>
                </a:lnTo>
                <a:lnTo>
                  <a:pt x="129719" y="22004"/>
                </a:lnTo>
                <a:lnTo>
                  <a:pt x="137914" y="23241"/>
                </a:lnTo>
                <a:lnTo>
                  <a:pt x="146235" y="24066"/>
                </a:lnTo>
                <a:lnTo>
                  <a:pt x="153687" y="26520"/>
                </a:lnTo>
                <a:lnTo>
                  <a:pt x="160561" y="30062"/>
                </a:lnTo>
                <a:lnTo>
                  <a:pt x="167048" y="34328"/>
                </a:lnTo>
                <a:lnTo>
                  <a:pt x="174230" y="38124"/>
                </a:lnTo>
                <a:lnTo>
                  <a:pt x="181876" y="41607"/>
                </a:lnTo>
                <a:lnTo>
                  <a:pt x="189830" y="44882"/>
                </a:lnTo>
                <a:lnTo>
                  <a:pt x="197038" y="48971"/>
                </a:lnTo>
                <a:lnTo>
                  <a:pt x="203749" y="53601"/>
                </a:lnTo>
                <a:lnTo>
                  <a:pt x="210127" y="58593"/>
                </a:lnTo>
                <a:lnTo>
                  <a:pt x="217237" y="63826"/>
                </a:lnTo>
                <a:lnTo>
                  <a:pt x="232757" y="74721"/>
                </a:lnTo>
                <a:lnTo>
                  <a:pt x="257559" y="91565"/>
                </a:lnTo>
                <a:lnTo>
                  <a:pt x="265051" y="97237"/>
                </a:lnTo>
                <a:lnTo>
                  <a:pt x="271951" y="102924"/>
                </a:lnTo>
                <a:lnTo>
                  <a:pt x="278455" y="108620"/>
                </a:lnTo>
                <a:lnTo>
                  <a:pt x="284697" y="115275"/>
                </a:lnTo>
                <a:lnTo>
                  <a:pt x="290763" y="122569"/>
                </a:lnTo>
                <a:lnTo>
                  <a:pt x="296712" y="130289"/>
                </a:lnTo>
                <a:lnTo>
                  <a:pt x="302583" y="138293"/>
                </a:lnTo>
                <a:lnTo>
                  <a:pt x="314186" y="154807"/>
                </a:lnTo>
                <a:lnTo>
                  <a:pt x="318994" y="163212"/>
                </a:lnTo>
                <a:lnTo>
                  <a:pt x="323153" y="171672"/>
                </a:lnTo>
                <a:lnTo>
                  <a:pt x="326877" y="180169"/>
                </a:lnTo>
                <a:lnTo>
                  <a:pt x="330314" y="189644"/>
                </a:lnTo>
                <a:lnTo>
                  <a:pt x="333556" y="199771"/>
                </a:lnTo>
                <a:lnTo>
                  <a:pt x="339699" y="220231"/>
                </a:lnTo>
                <a:lnTo>
                  <a:pt x="345604" y="238849"/>
                </a:lnTo>
                <a:lnTo>
                  <a:pt x="346608" y="248767"/>
                </a:lnTo>
                <a:lnTo>
                  <a:pt x="346325" y="259189"/>
                </a:lnTo>
                <a:lnTo>
                  <a:pt x="345183" y="269946"/>
                </a:lnTo>
                <a:lnTo>
                  <a:pt x="343469" y="279976"/>
                </a:lnTo>
                <a:lnTo>
                  <a:pt x="341374" y="289519"/>
                </a:lnTo>
                <a:lnTo>
                  <a:pt x="331168" y="329920"/>
                </a:lnTo>
                <a:lnTo>
                  <a:pt x="328411" y="339960"/>
                </a:lnTo>
                <a:lnTo>
                  <a:pt x="322808" y="358737"/>
                </a:lnTo>
                <a:lnTo>
                  <a:pt x="319027" y="367745"/>
                </a:lnTo>
                <a:lnTo>
                  <a:pt x="314602" y="376607"/>
                </a:lnTo>
                <a:lnTo>
                  <a:pt x="309747" y="385373"/>
                </a:lnTo>
                <a:lnTo>
                  <a:pt x="299272" y="400193"/>
                </a:lnTo>
                <a:lnTo>
                  <a:pt x="289220" y="413129"/>
                </a:lnTo>
                <a:lnTo>
                  <a:pt x="281577" y="425229"/>
                </a:lnTo>
                <a:lnTo>
                  <a:pt x="272465" y="436957"/>
                </a:lnTo>
                <a:lnTo>
                  <a:pt x="263018" y="447566"/>
                </a:lnTo>
                <a:lnTo>
                  <a:pt x="255644" y="455457"/>
                </a:lnTo>
                <a:lnTo>
                  <a:pt x="246652" y="462139"/>
                </a:lnTo>
                <a:lnTo>
                  <a:pt x="237258" y="467331"/>
                </a:lnTo>
                <a:lnTo>
                  <a:pt x="229908" y="469639"/>
                </a:lnTo>
                <a:lnTo>
                  <a:pt x="227567" y="471206"/>
                </a:lnTo>
                <a:lnTo>
                  <a:pt x="226006" y="473204"/>
                </a:lnTo>
                <a:lnTo>
                  <a:pt x="224966" y="475488"/>
                </a:lnTo>
                <a:lnTo>
                  <a:pt x="222367" y="477012"/>
                </a:lnTo>
                <a:lnTo>
                  <a:pt x="214399" y="478704"/>
                </a:lnTo>
                <a:lnTo>
                  <a:pt x="203754" y="479656"/>
                </a:lnTo>
                <a:lnTo>
                  <a:pt x="201559" y="478837"/>
                </a:lnTo>
                <a:lnTo>
                  <a:pt x="200095" y="477339"/>
                </a:lnTo>
                <a:lnTo>
                  <a:pt x="199118" y="475387"/>
                </a:lnTo>
                <a:lnTo>
                  <a:pt x="197516" y="474087"/>
                </a:lnTo>
                <a:lnTo>
                  <a:pt x="195495" y="473219"/>
                </a:lnTo>
                <a:lnTo>
                  <a:pt x="188595" y="4714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MARTPenAnnotation993"/>
          <p:cNvSpPr/>
          <p:nvPr/>
        </p:nvSpPr>
        <p:spPr>
          <a:xfrm>
            <a:off x="4975200" y="4114800"/>
            <a:ext cx="789120" cy="103320"/>
          </a:xfrm>
          <a:custGeom>
            <a:avLst/>
            <a:gdLst>
              <a:gd name="textAreaLeft" fmla="*/ 0 w 789120"/>
              <a:gd name="textAreaRight" fmla="*/ 789480 w 7891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788671" h="102870">
                <a:moveTo>
                  <a:pt x="0" y="60007"/>
                </a:moveTo>
                <a:lnTo>
                  <a:pt x="4551" y="60007"/>
                </a:lnTo>
                <a:lnTo>
                  <a:pt x="6844" y="60960"/>
                </a:lnTo>
                <a:lnTo>
                  <a:pt x="9325" y="62547"/>
                </a:lnTo>
                <a:lnTo>
                  <a:pt x="11932" y="64558"/>
                </a:lnTo>
                <a:lnTo>
                  <a:pt x="14622" y="65898"/>
                </a:lnTo>
                <a:lnTo>
                  <a:pt x="20152" y="67388"/>
                </a:lnTo>
                <a:lnTo>
                  <a:pt x="40966" y="69463"/>
                </a:lnTo>
                <a:lnTo>
                  <a:pt x="45409" y="71073"/>
                </a:lnTo>
                <a:lnTo>
                  <a:pt x="50275" y="73100"/>
                </a:lnTo>
                <a:lnTo>
                  <a:pt x="61675" y="75951"/>
                </a:lnTo>
                <a:lnTo>
                  <a:pt x="80904" y="77868"/>
                </a:lnTo>
                <a:lnTo>
                  <a:pt x="86321" y="79534"/>
                </a:lnTo>
                <a:lnTo>
                  <a:pt x="91837" y="81598"/>
                </a:lnTo>
                <a:lnTo>
                  <a:pt x="104152" y="84502"/>
                </a:lnTo>
                <a:lnTo>
                  <a:pt x="124643" y="86435"/>
                </a:lnTo>
                <a:lnTo>
                  <a:pt x="131673" y="88104"/>
                </a:lnTo>
                <a:lnTo>
                  <a:pt x="139217" y="90168"/>
                </a:lnTo>
                <a:lnTo>
                  <a:pt x="158936" y="93074"/>
                </a:lnTo>
                <a:lnTo>
                  <a:pt x="182666" y="94055"/>
                </a:lnTo>
                <a:lnTo>
                  <a:pt x="317675" y="94297"/>
                </a:lnTo>
                <a:lnTo>
                  <a:pt x="334547" y="96837"/>
                </a:lnTo>
                <a:lnTo>
                  <a:pt x="343046" y="98848"/>
                </a:lnTo>
                <a:lnTo>
                  <a:pt x="364110" y="101678"/>
                </a:lnTo>
                <a:lnTo>
                  <a:pt x="386967" y="102516"/>
                </a:lnTo>
                <a:lnTo>
                  <a:pt x="421999" y="102823"/>
                </a:lnTo>
                <a:lnTo>
                  <a:pt x="498431" y="102869"/>
                </a:lnTo>
                <a:lnTo>
                  <a:pt x="514895" y="100329"/>
                </a:lnTo>
                <a:lnTo>
                  <a:pt x="523286" y="98319"/>
                </a:lnTo>
                <a:lnTo>
                  <a:pt x="544197" y="95489"/>
                </a:lnTo>
                <a:lnTo>
                  <a:pt x="567008" y="94650"/>
                </a:lnTo>
                <a:lnTo>
                  <a:pt x="580934" y="91914"/>
                </a:lnTo>
                <a:lnTo>
                  <a:pt x="587314" y="89851"/>
                </a:lnTo>
                <a:lnTo>
                  <a:pt x="611242" y="85587"/>
                </a:lnTo>
                <a:lnTo>
                  <a:pt x="617045" y="83728"/>
                </a:lnTo>
                <a:lnTo>
                  <a:pt x="622818" y="81536"/>
                </a:lnTo>
                <a:lnTo>
                  <a:pt x="636853" y="76561"/>
                </a:lnTo>
                <a:lnTo>
                  <a:pt x="644596" y="73900"/>
                </a:lnTo>
                <a:lnTo>
                  <a:pt x="650711" y="71174"/>
                </a:lnTo>
                <a:lnTo>
                  <a:pt x="655740" y="68404"/>
                </a:lnTo>
                <a:lnTo>
                  <a:pt x="660045" y="65605"/>
                </a:lnTo>
                <a:lnTo>
                  <a:pt x="665773" y="62787"/>
                </a:lnTo>
                <a:lnTo>
                  <a:pt x="672448" y="59955"/>
                </a:lnTo>
                <a:lnTo>
                  <a:pt x="679756" y="57115"/>
                </a:lnTo>
                <a:lnTo>
                  <a:pt x="686533" y="54269"/>
                </a:lnTo>
                <a:lnTo>
                  <a:pt x="692957" y="51419"/>
                </a:lnTo>
                <a:lnTo>
                  <a:pt x="705173" y="45713"/>
                </a:lnTo>
                <a:lnTo>
                  <a:pt x="734295" y="31431"/>
                </a:lnTo>
                <a:lnTo>
                  <a:pt x="739085" y="28574"/>
                </a:lnTo>
                <a:lnTo>
                  <a:pt x="743231" y="25717"/>
                </a:lnTo>
                <a:lnTo>
                  <a:pt x="746947" y="22859"/>
                </a:lnTo>
                <a:lnTo>
                  <a:pt x="750377" y="20002"/>
                </a:lnTo>
                <a:lnTo>
                  <a:pt x="753616" y="17145"/>
                </a:lnTo>
                <a:lnTo>
                  <a:pt x="756729" y="14287"/>
                </a:lnTo>
                <a:lnTo>
                  <a:pt x="759756" y="12382"/>
                </a:lnTo>
                <a:lnTo>
                  <a:pt x="765659" y="10265"/>
                </a:lnTo>
                <a:lnTo>
                  <a:pt x="768567" y="8749"/>
                </a:lnTo>
                <a:lnTo>
                  <a:pt x="771458" y="6785"/>
                </a:lnTo>
                <a:lnTo>
                  <a:pt x="778391" y="1340"/>
                </a:lnTo>
                <a:lnTo>
                  <a:pt x="781879" y="595"/>
                </a:lnTo>
                <a:lnTo>
                  <a:pt x="78867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MARTPenAnnotation994"/>
          <p:cNvSpPr/>
          <p:nvPr/>
        </p:nvSpPr>
        <p:spPr>
          <a:xfrm>
            <a:off x="7615080" y="4064040"/>
            <a:ext cx="365400" cy="111240"/>
          </a:xfrm>
          <a:custGeom>
            <a:avLst/>
            <a:gdLst>
              <a:gd name="textAreaLeft" fmla="*/ 0 w 365400"/>
              <a:gd name="textAreaRight" fmla="*/ 365760 w 3654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364266" h="111408">
                <a:moveTo>
                  <a:pt x="16783" y="60007"/>
                </a:moveTo>
                <a:lnTo>
                  <a:pt x="8565" y="51788"/>
                </a:lnTo>
                <a:lnTo>
                  <a:pt x="0" y="51444"/>
                </a:lnTo>
                <a:lnTo>
                  <a:pt x="2339" y="53979"/>
                </a:lnTo>
                <a:lnTo>
                  <a:pt x="7051" y="58816"/>
                </a:lnTo>
                <a:lnTo>
                  <a:pt x="10235" y="59478"/>
                </a:lnTo>
                <a:lnTo>
                  <a:pt x="12419" y="59654"/>
                </a:lnTo>
                <a:lnTo>
                  <a:pt x="13873" y="60724"/>
                </a:lnTo>
                <a:lnTo>
                  <a:pt x="14843" y="62390"/>
                </a:lnTo>
                <a:lnTo>
                  <a:pt x="15490" y="64453"/>
                </a:lnTo>
                <a:lnTo>
                  <a:pt x="16873" y="65829"/>
                </a:lnTo>
                <a:lnTo>
                  <a:pt x="18748" y="66746"/>
                </a:lnTo>
                <a:lnTo>
                  <a:pt x="24324" y="68717"/>
                </a:lnTo>
                <a:lnTo>
                  <a:pt x="28478" y="70576"/>
                </a:lnTo>
                <a:lnTo>
                  <a:pt x="33152" y="72768"/>
                </a:lnTo>
                <a:lnTo>
                  <a:pt x="37221" y="75182"/>
                </a:lnTo>
                <a:lnTo>
                  <a:pt x="40886" y="77744"/>
                </a:lnTo>
                <a:lnTo>
                  <a:pt x="44282" y="80404"/>
                </a:lnTo>
                <a:lnTo>
                  <a:pt x="50595" y="83360"/>
                </a:lnTo>
                <a:lnTo>
                  <a:pt x="57528" y="85626"/>
                </a:lnTo>
                <a:lnTo>
                  <a:pt x="62044" y="87564"/>
                </a:lnTo>
                <a:lnTo>
                  <a:pt x="72141" y="92257"/>
                </a:lnTo>
                <a:lnTo>
                  <a:pt x="82979" y="97518"/>
                </a:lnTo>
                <a:lnTo>
                  <a:pt x="94146" y="100491"/>
                </a:lnTo>
                <a:lnTo>
                  <a:pt x="105459" y="102765"/>
                </a:lnTo>
                <a:lnTo>
                  <a:pt x="111143" y="104705"/>
                </a:lnTo>
                <a:lnTo>
                  <a:pt x="116837" y="106951"/>
                </a:lnTo>
                <a:lnTo>
                  <a:pt x="122538" y="108448"/>
                </a:lnTo>
                <a:lnTo>
                  <a:pt x="128244" y="109446"/>
                </a:lnTo>
                <a:lnTo>
                  <a:pt x="133953" y="110111"/>
                </a:lnTo>
                <a:lnTo>
                  <a:pt x="139664" y="110555"/>
                </a:lnTo>
                <a:lnTo>
                  <a:pt x="145376" y="110851"/>
                </a:lnTo>
                <a:lnTo>
                  <a:pt x="156803" y="111179"/>
                </a:lnTo>
                <a:lnTo>
                  <a:pt x="189926" y="111407"/>
                </a:lnTo>
                <a:lnTo>
                  <a:pt x="196983" y="110467"/>
                </a:lnTo>
                <a:lnTo>
                  <a:pt x="203591" y="108887"/>
                </a:lnTo>
                <a:lnTo>
                  <a:pt x="232436" y="99507"/>
                </a:lnTo>
                <a:lnTo>
                  <a:pt x="239609" y="97770"/>
                </a:lnTo>
                <a:lnTo>
                  <a:pt x="246297" y="96613"/>
                </a:lnTo>
                <a:lnTo>
                  <a:pt x="252660" y="95841"/>
                </a:lnTo>
                <a:lnTo>
                  <a:pt x="258807" y="94374"/>
                </a:lnTo>
                <a:lnTo>
                  <a:pt x="264810" y="92443"/>
                </a:lnTo>
                <a:lnTo>
                  <a:pt x="270717" y="90203"/>
                </a:lnTo>
                <a:lnTo>
                  <a:pt x="276560" y="87758"/>
                </a:lnTo>
                <a:lnTo>
                  <a:pt x="282360" y="85175"/>
                </a:lnTo>
                <a:lnTo>
                  <a:pt x="293884" y="79766"/>
                </a:lnTo>
                <a:lnTo>
                  <a:pt x="305357" y="74186"/>
                </a:lnTo>
                <a:lnTo>
                  <a:pt x="310131" y="71365"/>
                </a:lnTo>
                <a:lnTo>
                  <a:pt x="314266" y="68532"/>
                </a:lnTo>
                <a:lnTo>
                  <a:pt x="317974" y="65690"/>
                </a:lnTo>
                <a:lnTo>
                  <a:pt x="322352" y="62843"/>
                </a:lnTo>
                <a:lnTo>
                  <a:pt x="327176" y="59993"/>
                </a:lnTo>
                <a:lnTo>
                  <a:pt x="332297" y="57140"/>
                </a:lnTo>
                <a:lnTo>
                  <a:pt x="336663" y="54285"/>
                </a:lnTo>
                <a:lnTo>
                  <a:pt x="340526" y="51430"/>
                </a:lnTo>
                <a:lnTo>
                  <a:pt x="344054" y="48574"/>
                </a:lnTo>
                <a:lnTo>
                  <a:pt x="350514" y="45401"/>
                </a:lnTo>
                <a:lnTo>
                  <a:pt x="353571" y="44555"/>
                </a:lnTo>
                <a:lnTo>
                  <a:pt x="355609" y="43038"/>
                </a:lnTo>
                <a:lnTo>
                  <a:pt x="356967" y="41075"/>
                </a:lnTo>
                <a:lnTo>
                  <a:pt x="357872" y="38813"/>
                </a:lnTo>
                <a:lnTo>
                  <a:pt x="359428" y="36352"/>
                </a:lnTo>
                <a:lnTo>
                  <a:pt x="361418" y="33760"/>
                </a:lnTo>
                <a:lnTo>
                  <a:pt x="363697" y="31079"/>
                </a:lnTo>
                <a:lnTo>
                  <a:pt x="364265" y="29292"/>
                </a:lnTo>
                <a:lnTo>
                  <a:pt x="363690" y="28100"/>
                </a:lnTo>
                <a:lnTo>
                  <a:pt x="362354" y="27306"/>
                </a:lnTo>
                <a:lnTo>
                  <a:pt x="361464" y="25824"/>
                </a:lnTo>
                <a:lnTo>
                  <a:pt x="360869" y="23883"/>
                </a:lnTo>
                <a:lnTo>
                  <a:pt x="360474" y="21637"/>
                </a:lnTo>
                <a:lnTo>
                  <a:pt x="360211" y="19187"/>
                </a:lnTo>
                <a:lnTo>
                  <a:pt x="360035" y="16601"/>
                </a:lnTo>
                <a:lnTo>
                  <a:pt x="359752" y="10158"/>
                </a:lnTo>
                <a:lnTo>
                  <a:pt x="359684" y="262"/>
                </a:lnTo>
                <a:lnTo>
                  <a:pt x="35968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MARTPenAnnotation995"/>
          <p:cNvSpPr/>
          <p:nvPr/>
        </p:nvSpPr>
        <p:spPr>
          <a:xfrm>
            <a:off x="6450120" y="4500720"/>
            <a:ext cx="247680" cy="564840"/>
          </a:xfrm>
          <a:custGeom>
            <a:avLst/>
            <a:gdLst>
              <a:gd name="textAreaLeft" fmla="*/ 0 w 247680"/>
              <a:gd name="textAreaRight" fmla="*/ 248040 w 247680"/>
              <a:gd name="textAreaTop" fmla="*/ 0 h 564840"/>
              <a:gd name="textAreaBottom" fmla="*/ 565200 h 564840"/>
            </a:gdLst>
            <a:ahLst/>
            <a:rect l="textAreaLeft" t="textAreaTop" r="textAreaRight" b="textAreaBottom"/>
            <a:pathLst>
              <a:path w="248559" h="565786">
                <a:moveTo>
                  <a:pt x="248558" y="0"/>
                </a:moveTo>
                <a:lnTo>
                  <a:pt x="224394" y="0"/>
                </a:lnTo>
                <a:lnTo>
                  <a:pt x="218450" y="2540"/>
                </a:lnTo>
                <a:lnTo>
                  <a:pt x="214199" y="4551"/>
                </a:lnTo>
                <a:lnTo>
                  <a:pt x="206935" y="9325"/>
                </a:lnTo>
                <a:lnTo>
                  <a:pt x="200531" y="14622"/>
                </a:lnTo>
                <a:lnTo>
                  <a:pt x="194510" y="20151"/>
                </a:lnTo>
                <a:lnTo>
                  <a:pt x="181215" y="33170"/>
                </a:lnTo>
                <a:lnTo>
                  <a:pt x="176040" y="37353"/>
                </a:lnTo>
                <a:lnTo>
                  <a:pt x="170685" y="41095"/>
                </a:lnTo>
                <a:lnTo>
                  <a:pt x="165210" y="44541"/>
                </a:lnTo>
                <a:lnTo>
                  <a:pt x="159655" y="48745"/>
                </a:lnTo>
                <a:lnTo>
                  <a:pt x="154047" y="53452"/>
                </a:lnTo>
                <a:lnTo>
                  <a:pt x="148403" y="58494"/>
                </a:lnTo>
                <a:lnTo>
                  <a:pt x="143687" y="63761"/>
                </a:lnTo>
                <a:lnTo>
                  <a:pt x="139592" y="69178"/>
                </a:lnTo>
                <a:lnTo>
                  <a:pt x="121624" y="96109"/>
                </a:lnTo>
                <a:lnTo>
                  <a:pt x="116310" y="103125"/>
                </a:lnTo>
                <a:lnTo>
                  <a:pt x="110863" y="109708"/>
                </a:lnTo>
                <a:lnTo>
                  <a:pt x="105326" y="116001"/>
                </a:lnTo>
                <a:lnTo>
                  <a:pt x="99730" y="123054"/>
                </a:lnTo>
                <a:lnTo>
                  <a:pt x="94094" y="130613"/>
                </a:lnTo>
                <a:lnTo>
                  <a:pt x="88432" y="138511"/>
                </a:lnTo>
                <a:lnTo>
                  <a:pt x="82752" y="145681"/>
                </a:lnTo>
                <a:lnTo>
                  <a:pt x="77061" y="152366"/>
                </a:lnTo>
                <a:lnTo>
                  <a:pt x="71362" y="158727"/>
                </a:lnTo>
                <a:lnTo>
                  <a:pt x="66609" y="165826"/>
                </a:lnTo>
                <a:lnTo>
                  <a:pt x="62489" y="173415"/>
                </a:lnTo>
                <a:lnTo>
                  <a:pt x="55370" y="189469"/>
                </a:lnTo>
                <a:lnTo>
                  <a:pt x="49032" y="206129"/>
                </a:lnTo>
                <a:lnTo>
                  <a:pt x="45056" y="213619"/>
                </a:lnTo>
                <a:lnTo>
                  <a:pt x="40500" y="220518"/>
                </a:lnTo>
                <a:lnTo>
                  <a:pt x="35557" y="227022"/>
                </a:lnTo>
                <a:lnTo>
                  <a:pt x="31310" y="234216"/>
                </a:lnTo>
                <a:lnTo>
                  <a:pt x="24051" y="249829"/>
                </a:lnTo>
                <a:lnTo>
                  <a:pt x="17649" y="263753"/>
                </a:lnTo>
                <a:lnTo>
                  <a:pt x="5778" y="288214"/>
                </a:lnTo>
                <a:lnTo>
                  <a:pt x="2543" y="302402"/>
                </a:lnTo>
                <a:lnTo>
                  <a:pt x="1105" y="317281"/>
                </a:lnTo>
                <a:lnTo>
                  <a:pt x="466" y="330244"/>
                </a:lnTo>
                <a:lnTo>
                  <a:pt x="183" y="342355"/>
                </a:lnTo>
                <a:lnTo>
                  <a:pt x="0" y="365652"/>
                </a:lnTo>
                <a:lnTo>
                  <a:pt x="2515" y="377142"/>
                </a:lnTo>
                <a:lnTo>
                  <a:pt x="5856" y="388599"/>
                </a:lnTo>
                <a:lnTo>
                  <a:pt x="8688" y="405759"/>
                </a:lnTo>
                <a:lnTo>
                  <a:pt x="12727" y="417192"/>
                </a:lnTo>
                <a:lnTo>
                  <a:pt x="17696" y="426084"/>
                </a:lnTo>
                <a:lnTo>
                  <a:pt x="23080" y="434163"/>
                </a:lnTo>
                <a:lnTo>
                  <a:pt x="28648" y="444104"/>
                </a:lnTo>
                <a:lnTo>
                  <a:pt x="37137" y="460410"/>
                </a:lnTo>
                <a:lnTo>
                  <a:pt x="42833" y="469104"/>
                </a:lnTo>
                <a:lnTo>
                  <a:pt x="48539" y="476143"/>
                </a:lnTo>
                <a:lnTo>
                  <a:pt x="54250" y="482447"/>
                </a:lnTo>
                <a:lnTo>
                  <a:pt x="67372" y="495902"/>
                </a:lnTo>
                <a:lnTo>
                  <a:pt x="78774" y="507402"/>
                </a:lnTo>
                <a:lnTo>
                  <a:pt x="82980" y="510671"/>
                </a:lnTo>
                <a:lnTo>
                  <a:pt x="87691" y="513802"/>
                </a:lnTo>
                <a:lnTo>
                  <a:pt x="92736" y="516842"/>
                </a:lnTo>
                <a:lnTo>
                  <a:pt x="97052" y="519821"/>
                </a:lnTo>
                <a:lnTo>
                  <a:pt x="104386" y="525672"/>
                </a:lnTo>
                <a:lnTo>
                  <a:pt x="108628" y="528565"/>
                </a:lnTo>
                <a:lnTo>
                  <a:pt x="113361" y="531447"/>
                </a:lnTo>
                <a:lnTo>
                  <a:pt x="118422" y="534320"/>
                </a:lnTo>
                <a:lnTo>
                  <a:pt x="122748" y="536237"/>
                </a:lnTo>
                <a:lnTo>
                  <a:pt x="130095" y="538365"/>
                </a:lnTo>
                <a:lnTo>
                  <a:pt x="134340" y="539885"/>
                </a:lnTo>
                <a:lnTo>
                  <a:pt x="139075" y="541851"/>
                </a:lnTo>
                <a:lnTo>
                  <a:pt x="144137" y="544114"/>
                </a:lnTo>
                <a:lnTo>
                  <a:pt x="148464" y="546575"/>
                </a:lnTo>
                <a:lnTo>
                  <a:pt x="155812" y="551850"/>
                </a:lnTo>
                <a:lnTo>
                  <a:pt x="160057" y="553638"/>
                </a:lnTo>
                <a:lnTo>
                  <a:pt x="164792" y="554829"/>
                </a:lnTo>
                <a:lnTo>
                  <a:pt x="169853" y="555623"/>
                </a:lnTo>
                <a:lnTo>
                  <a:pt x="173228" y="557106"/>
                </a:lnTo>
                <a:lnTo>
                  <a:pt x="175479" y="559046"/>
                </a:lnTo>
                <a:lnTo>
                  <a:pt x="176978" y="561293"/>
                </a:lnTo>
                <a:lnTo>
                  <a:pt x="179883" y="562790"/>
                </a:lnTo>
                <a:lnTo>
                  <a:pt x="183725" y="563788"/>
                </a:lnTo>
                <a:lnTo>
                  <a:pt x="194476" y="565391"/>
                </a:lnTo>
                <a:lnTo>
                  <a:pt x="200889" y="565669"/>
                </a:lnTo>
                <a:lnTo>
                  <a:pt x="216091" y="565780"/>
                </a:lnTo>
                <a:lnTo>
                  <a:pt x="222840" y="5657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MARTPenAnnotation996"/>
          <p:cNvSpPr/>
          <p:nvPr/>
        </p:nvSpPr>
        <p:spPr>
          <a:xfrm>
            <a:off x="6647040" y="4578480"/>
            <a:ext cx="295200" cy="393480"/>
          </a:xfrm>
          <a:custGeom>
            <a:avLst/>
            <a:gdLst>
              <a:gd name="textAreaLeft" fmla="*/ 0 w 295200"/>
              <a:gd name="textAreaRight" fmla="*/ 295560 w 29520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95420" h="393550">
                <a:moveTo>
                  <a:pt x="68567" y="59619"/>
                </a:moveTo>
                <a:lnTo>
                  <a:pt x="68567" y="55069"/>
                </a:lnTo>
                <a:lnTo>
                  <a:pt x="69519" y="52775"/>
                </a:lnTo>
                <a:lnTo>
                  <a:pt x="73117" y="47687"/>
                </a:lnTo>
                <a:lnTo>
                  <a:pt x="75410" y="45950"/>
                </a:lnTo>
                <a:lnTo>
                  <a:pt x="77892" y="44791"/>
                </a:lnTo>
                <a:lnTo>
                  <a:pt x="80498" y="44019"/>
                </a:lnTo>
                <a:lnTo>
                  <a:pt x="83189" y="41599"/>
                </a:lnTo>
                <a:lnTo>
                  <a:pt x="88718" y="33830"/>
                </a:lnTo>
                <a:lnTo>
                  <a:pt x="96890" y="26567"/>
                </a:lnTo>
                <a:lnTo>
                  <a:pt x="101737" y="23297"/>
                </a:lnTo>
                <a:lnTo>
                  <a:pt x="106872" y="21117"/>
                </a:lnTo>
                <a:lnTo>
                  <a:pt x="112201" y="19664"/>
                </a:lnTo>
                <a:lnTo>
                  <a:pt x="117659" y="18695"/>
                </a:lnTo>
                <a:lnTo>
                  <a:pt x="123203" y="17096"/>
                </a:lnTo>
                <a:lnTo>
                  <a:pt x="128803" y="15078"/>
                </a:lnTo>
                <a:lnTo>
                  <a:pt x="134442" y="12780"/>
                </a:lnTo>
                <a:lnTo>
                  <a:pt x="143246" y="10227"/>
                </a:lnTo>
                <a:lnTo>
                  <a:pt x="151288" y="8139"/>
                </a:lnTo>
                <a:lnTo>
                  <a:pt x="156099" y="6249"/>
                </a:lnTo>
                <a:lnTo>
                  <a:pt x="161212" y="4037"/>
                </a:lnTo>
                <a:lnTo>
                  <a:pt x="166525" y="2561"/>
                </a:lnTo>
                <a:lnTo>
                  <a:pt x="171973" y="1578"/>
                </a:lnTo>
                <a:lnTo>
                  <a:pt x="177509" y="923"/>
                </a:lnTo>
                <a:lnTo>
                  <a:pt x="183105" y="486"/>
                </a:lnTo>
                <a:lnTo>
                  <a:pt x="188741" y="195"/>
                </a:lnTo>
                <a:lnTo>
                  <a:pt x="194402" y="0"/>
                </a:lnTo>
                <a:lnTo>
                  <a:pt x="200082" y="823"/>
                </a:lnTo>
                <a:lnTo>
                  <a:pt x="205774" y="2325"/>
                </a:lnTo>
                <a:lnTo>
                  <a:pt x="211473" y="4278"/>
                </a:lnTo>
                <a:lnTo>
                  <a:pt x="217178" y="6532"/>
                </a:lnTo>
                <a:lnTo>
                  <a:pt x="222886" y="8988"/>
                </a:lnTo>
                <a:lnTo>
                  <a:pt x="234308" y="14256"/>
                </a:lnTo>
                <a:lnTo>
                  <a:pt x="245734" y="19773"/>
                </a:lnTo>
                <a:lnTo>
                  <a:pt x="254623" y="25400"/>
                </a:lnTo>
                <a:lnTo>
                  <a:pt x="262701" y="31076"/>
                </a:lnTo>
                <a:lnTo>
                  <a:pt x="267522" y="33922"/>
                </a:lnTo>
                <a:lnTo>
                  <a:pt x="272641" y="36773"/>
                </a:lnTo>
                <a:lnTo>
                  <a:pt x="276054" y="40579"/>
                </a:lnTo>
                <a:lnTo>
                  <a:pt x="278329" y="45021"/>
                </a:lnTo>
                <a:lnTo>
                  <a:pt x="281809" y="54084"/>
                </a:lnTo>
                <a:lnTo>
                  <a:pt x="289124" y="65493"/>
                </a:lnTo>
                <a:lnTo>
                  <a:pt x="294545" y="75247"/>
                </a:lnTo>
                <a:lnTo>
                  <a:pt x="295419" y="81468"/>
                </a:lnTo>
                <a:lnTo>
                  <a:pt x="295049" y="88472"/>
                </a:lnTo>
                <a:lnTo>
                  <a:pt x="293850" y="96000"/>
                </a:lnTo>
                <a:lnTo>
                  <a:pt x="293050" y="102923"/>
                </a:lnTo>
                <a:lnTo>
                  <a:pt x="292517" y="109444"/>
                </a:lnTo>
                <a:lnTo>
                  <a:pt x="292162" y="115696"/>
                </a:lnTo>
                <a:lnTo>
                  <a:pt x="290973" y="122721"/>
                </a:lnTo>
                <a:lnTo>
                  <a:pt x="289227" y="130262"/>
                </a:lnTo>
                <a:lnTo>
                  <a:pt x="287111" y="138147"/>
                </a:lnTo>
                <a:lnTo>
                  <a:pt x="282220" y="154528"/>
                </a:lnTo>
                <a:lnTo>
                  <a:pt x="271319" y="188327"/>
                </a:lnTo>
                <a:lnTo>
                  <a:pt x="267552" y="196860"/>
                </a:lnTo>
                <a:lnTo>
                  <a:pt x="263136" y="205405"/>
                </a:lnTo>
                <a:lnTo>
                  <a:pt x="258287" y="213960"/>
                </a:lnTo>
                <a:lnTo>
                  <a:pt x="253150" y="222521"/>
                </a:lnTo>
                <a:lnTo>
                  <a:pt x="242361" y="239652"/>
                </a:lnTo>
                <a:lnTo>
                  <a:pt x="236817" y="247269"/>
                </a:lnTo>
                <a:lnTo>
                  <a:pt x="231216" y="254252"/>
                </a:lnTo>
                <a:lnTo>
                  <a:pt x="225577" y="260812"/>
                </a:lnTo>
                <a:lnTo>
                  <a:pt x="219912" y="268042"/>
                </a:lnTo>
                <a:lnTo>
                  <a:pt x="214231" y="275720"/>
                </a:lnTo>
                <a:lnTo>
                  <a:pt x="208539" y="283697"/>
                </a:lnTo>
                <a:lnTo>
                  <a:pt x="202839" y="290919"/>
                </a:lnTo>
                <a:lnTo>
                  <a:pt x="197134" y="297639"/>
                </a:lnTo>
                <a:lnTo>
                  <a:pt x="191426" y="304024"/>
                </a:lnTo>
                <a:lnTo>
                  <a:pt x="177463" y="318738"/>
                </a:lnTo>
                <a:lnTo>
                  <a:pt x="149767" y="346918"/>
                </a:lnTo>
                <a:lnTo>
                  <a:pt x="143656" y="352116"/>
                </a:lnTo>
                <a:lnTo>
                  <a:pt x="137676" y="356535"/>
                </a:lnTo>
                <a:lnTo>
                  <a:pt x="131784" y="360433"/>
                </a:lnTo>
                <a:lnTo>
                  <a:pt x="125951" y="363984"/>
                </a:lnTo>
                <a:lnTo>
                  <a:pt x="120159" y="367304"/>
                </a:lnTo>
                <a:lnTo>
                  <a:pt x="114391" y="370470"/>
                </a:lnTo>
                <a:lnTo>
                  <a:pt x="107688" y="373533"/>
                </a:lnTo>
                <a:lnTo>
                  <a:pt x="100363" y="376527"/>
                </a:lnTo>
                <a:lnTo>
                  <a:pt x="92622" y="379476"/>
                </a:lnTo>
                <a:lnTo>
                  <a:pt x="86508" y="381443"/>
                </a:lnTo>
                <a:lnTo>
                  <a:pt x="81480" y="382753"/>
                </a:lnTo>
                <a:lnTo>
                  <a:pt x="72401" y="384209"/>
                </a:lnTo>
                <a:lnTo>
                  <a:pt x="67313" y="384597"/>
                </a:lnTo>
                <a:lnTo>
                  <a:pt x="57532" y="385029"/>
                </a:lnTo>
                <a:lnTo>
                  <a:pt x="50009" y="385221"/>
                </a:lnTo>
                <a:lnTo>
                  <a:pt x="35869" y="385328"/>
                </a:lnTo>
                <a:lnTo>
                  <a:pt x="31528" y="384392"/>
                </a:lnTo>
                <a:lnTo>
                  <a:pt x="24165" y="380810"/>
                </a:lnTo>
                <a:lnTo>
                  <a:pt x="17718" y="376043"/>
                </a:lnTo>
                <a:lnTo>
                  <a:pt x="8733" y="368005"/>
                </a:lnTo>
                <a:lnTo>
                  <a:pt x="5818" y="365222"/>
                </a:lnTo>
                <a:lnTo>
                  <a:pt x="3874" y="362414"/>
                </a:lnTo>
                <a:lnTo>
                  <a:pt x="499" y="352764"/>
                </a:lnTo>
                <a:lnTo>
                  <a:pt x="138" y="342480"/>
                </a:lnTo>
                <a:lnTo>
                  <a:pt x="0" y="322757"/>
                </a:lnTo>
                <a:lnTo>
                  <a:pt x="2533" y="314364"/>
                </a:lnTo>
                <a:lnTo>
                  <a:pt x="6833" y="305236"/>
                </a:lnTo>
                <a:lnTo>
                  <a:pt x="14609" y="294743"/>
                </a:lnTo>
                <a:lnTo>
                  <a:pt x="20138" y="288579"/>
                </a:lnTo>
                <a:lnTo>
                  <a:pt x="28310" y="282664"/>
                </a:lnTo>
                <a:lnTo>
                  <a:pt x="33157" y="279753"/>
                </a:lnTo>
                <a:lnTo>
                  <a:pt x="38292" y="275908"/>
                </a:lnTo>
                <a:lnTo>
                  <a:pt x="43622" y="271439"/>
                </a:lnTo>
                <a:lnTo>
                  <a:pt x="49079" y="266555"/>
                </a:lnTo>
                <a:lnTo>
                  <a:pt x="57683" y="261128"/>
                </a:lnTo>
                <a:lnTo>
                  <a:pt x="66587" y="257764"/>
                </a:lnTo>
                <a:lnTo>
                  <a:pt x="80069" y="253094"/>
                </a:lnTo>
                <a:lnTo>
                  <a:pt x="86713" y="251467"/>
                </a:lnTo>
                <a:lnTo>
                  <a:pt x="93046" y="250383"/>
                </a:lnTo>
                <a:lnTo>
                  <a:pt x="99174" y="249660"/>
                </a:lnTo>
                <a:lnTo>
                  <a:pt x="104212" y="249178"/>
                </a:lnTo>
                <a:lnTo>
                  <a:pt x="112349" y="248643"/>
                </a:lnTo>
                <a:lnTo>
                  <a:pt x="124220" y="248405"/>
                </a:lnTo>
                <a:lnTo>
                  <a:pt x="131387" y="248341"/>
                </a:lnTo>
                <a:lnTo>
                  <a:pt x="138069" y="250204"/>
                </a:lnTo>
                <a:lnTo>
                  <a:pt x="144429" y="253350"/>
                </a:lnTo>
                <a:lnTo>
                  <a:pt x="150574" y="257353"/>
                </a:lnTo>
                <a:lnTo>
                  <a:pt x="155623" y="260974"/>
                </a:lnTo>
                <a:lnTo>
                  <a:pt x="163773" y="267538"/>
                </a:lnTo>
                <a:lnTo>
                  <a:pt x="168233" y="270622"/>
                </a:lnTo>
                <a:lnTo>
                  <a:pt x="173111" y="273630"/>
                </a:lnTo>
                <a:lnTo>
                  <a:pt x="178268" y="276588"/>
                </a:lnTo>
                <a:lnTo>
                  <a:pt x="183611" y="281417"/>
                </a:lnTo>
                <a:lnTo>
                  <a:pt x="189078" y="287494"/>
                </a:lnTo>
                <a:lnTo>
                  <a:pt x="194627" y="294404"/>
                </a:lnTo>
                <a:lnTo>
                  <a:pt x="199280" y="300915"/>
                </a:lnTo>
                <a:lnTo>
                  <a:pt x="203333" y="307160"/>
                </a:lnTo>
                <a:lnTo>
                  <a:pt x="206989" y="313229"/>
                </a:lnTo>
                <a:lnTo>
                  <a:pt x="216130" y="322512"/>
                </a:lnTo>
                <a:lnTo>
                  <a:pt x="221235" y="326322"/>
                </a:lnTo>
                <a:lnTo>
                  <a:pt x="229447" y="335633"/>
                </a:lnTo>
                <a:lnTo>
                  <a:pt x="236271" y="345170"/>
                </a:lnTo>
                <a:lnTo>
                  <a:pt x="244516" y="355893"/>
                </a:lnTo>
                <a:lnTo>
                  <a:pt x="248335" y="365103"/>
                </a:lnTo>
                <a:lnTo>
                  <a:pt x="255075" y="373865"/>
                </a:lnTo>
                <a:lnTo>
                  <a:pt x="260362" y="379624"/>
                </a:lnTo>
                <a:lnTo>
                  <a:pt x="263105" y="381540"/>
                </a:lnTo>
                <a:lnTo>
                  <a:pt x="271517" y="385191"/>
                </a:lnTo>
                <a:lnTo>
                  <a:pt x="280353" y="391935"/>
                </a:lnTo>
                <a:lnTo>
                  <a:pt x="281195" y="392605"/>
                </a:lnTo>
                <a:lnTo>
                  <a:pt x="284670" y="393351"/>
                </a:lnTo>
                <a:lnTo>
                  <a:pt x="286931" y="393549"/>
                </a:lnTo>
                <a:lnTo>
                  <a:pt x="288438" y="392729"/>
                </a:lnTo>
                <a:lnTo>
                  <a:pt x="289442" y="391230"/>
                </a:lnTo>
                <a:lnTo>
                  <a:pt x="291451" y="3853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MARTPenAnnotation997"/>
          <p:cNvSpPr/>
          <p:nvPr/>
        </p:nvSpPr>
        <p:spPr>
          <a:xfrm>
            <a:off x="7040520" y="4697280"/>
            <a:ext cx="214200" cy="249480"/>
          </a:xfrm>
          <a:custGeom>
            <a:avLst/>
            <a:gdLst>
              <a:gd name="textAreaLeft" fmla="*/ 0 w 214200"/>
              <a:gd name="textAreaRight" fmla="*/ 214560 w 21420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214313" h="248573">
                <a:moveTo>
                  <a:pt x="0" y="8542"/>
                </a:moveTo>
                <a:lnTo>
                  <a:pt x="0" y="74"/>
                </a:lnTo>
                <a:lnTo>
                  <a:pt x="4551" y="0"/>
                </a:lnTo>
                <a:lnTo>
                  <a:pt x="5891" y="943"/>
                </a:lnTo>
                <a:lnTo>
                  <a:pt x="6785" y="2524"/>
                </a:lnTo>
                <a:lnTo>
                  <a:pt x="7381" y="4530"/>
                </a:lnTo>
                <a:lnTo>
                  <a:pt x="8730" y="5868"/>
                </a:lnTo>
                <a:lnTo>
                  <a:pt x="10583" y="6759"/>
                </a:lnTo>
                <a:lnTo>
                  <a:pt x="12770" y="7353"/>
                </a:lnTo>
                <a:lnTo>
                  <a:pt x="17741" y="10554"/>
                </a:lnTo>
                <a:lnTo>
                  <a:pt x="23125" y="15151"/>
                </a:lnTo>
                <a:lnTo>
                  <a:pt x="28693" y="20370"/>
                </a:lnTo>
                <a:lnTo>
                  <a:pt x="37182" y="28663"/>
                </a:lnTo>
                <a:lnTo>
                  <a:pt x="40980" y="31481"/>
                </a:lnTo>
                <a:lnTo>
                  <a:pt x="45417" y="34312"/>
                </a:lnTo>
                <a:lnTo>
                  <a:pt x="50280" y="37152"/>
                </a:lnTo>
                <a:lnTo>
                  <a:pt x="54475" y="40951"/>
                </a:lnTo>
                <a:lnTo>
                  <a:pt x="58224" y="45388"/>
                </a:lnTo>
                <a:lnTo>
                  <a:pt x="61676" y="50251"/>
                </a:lnTo>
                <a:lnTo>
                  <a:pt x="65883" y="55398"/>
                </a:lnTo>
                <a:lnTo>
                  <a:pt x="70592" y="60734"/>
                </a:lnTo>
                <a:lnTo>
                  <a:pt x="75636" y="66197"/>
                </a:lnTo>
                <a:lnTo>
                  <a:pt x="80903" y="70791"/>
                </a:lnTo>
                <a:lnTo>
                  <a:pt x="86321" y="74806"/>
                </a:lnTo>
                <a:lnTo>
                  <a:pt x="91837" y="78436"/>
                </a:lnTo>
                <a:lnTo>
                  <a:pt x="96467" y="82760"/>
                </a:lnTo>
                <a:lnTo>
                  <a:pt x="100506" y="87548"/>
                </a:lnTo>
                <a:lnTo>
                  <a:pt x="104152" y="92646"/>
                </a:lnTo>
                <a:lnTo>
                  <a:pt x="108487" y="97948"/>
                </a:lnTo>
                <a:lnTo>
                  <a:pt x="113282" y="103389"/>
                </a:lnTo>
                <a:lnTo>
                  <a:pt x="123690" y="114514"/>
                </a:lnTo>
                <a:lnTo>
                  <a:pt x="134665" y="125808"/>
                </a:lnTo>
                <a:lnTo>
                  <a:pt x="139307" y="131487"/>
                </a:lnTo>
                <a:lnTo>
                  <a:pt x="143353" y="137178"/>
                </a:lnTo>
                <a:lnTo>
                  <a:pt x="147004" y="142877"/>
                </a:lnTo>
                <a:lnTo>
                  <a:pt x="150390" y="148581"/>
                </a:lnTo>
                <a:lnTo>
                  <a:pt x="153600" y="154289"/>
                </a:lnTo>
                <a:lnTo>
                  <a:pt x="156692" y="159999"/>
                </a:lnTo>
                <a:lnTo>
                  <a:pt x="160658" y="165711"/>
                </a:lnTo>
                <a:lnTo>
                  <a:pt x="165208" y="171424"/>
                </a:lnTo>
                <a:lnTo>
                  <a:pt x="170146" y="177137"/>
                </a:lnTo>
                <a:lnTo>
                  <a:pt x="173438" y="182852"/>
                </a:lnTo>
                <a:lnTo>
                  <a:pt x="175633" y="188566"/>
                </a:lnTo>
                <a:lnTo>
                  <a:pt x="177096" y="194281"/>
                </a:lnTo>
                <a:lnTo>
                  <a:pt x="179024" y="199043"/>
                </a:lnTo>
                <a:lnTo>
                  <a:pt x="181262" y="203170"/>
                </a:lnTo>
                <a:lnTo>
                  <a:pt x="183706" y="206874"/>
                </a:lnTo>
                <a:lnTo>
                  <a:pt x="185336" y="211248"/>
                </a:lnTo>
                <a:lnTo>
                  <a:pt x="186422" y="216070"/>
                </a:lnTo>
                <a:lnTo>
                  <a:pt x="187147" y="221189"/>
                </a:lnTo>
                <a:lnTo>
                  <a:pt x="188581" y="225554"/>
                </a:lnTo>
                <a:lnTo>
                  <a:pt x="192717" y="232944"/>
                </a:lnTo>
                <a:lnTo>
                  <a:pt x="197729" y="239404"/>
                </a:lnTo>
                <a:lnTo>
                  <a:pt x="204157" y="246761"/>
                </a:lnTo>
                <a:lnTo>
                  <a:pt x="205637" y="247365"/>
                </a:lnTo>
                <a:lnTo>
                  <a:pt x="212316" y="248333"/>
                </a:lnTo>
                <a:lnTo>
                  <a:pt x="214312" y="2485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MARTPenAnnotation998"/>
          <p:cNvSpPr/>
          <p:nvPr/>
        </p:nvSpPr>
        <p:spPr>
          <a:xfrm>
            <a:off x="7058160" y="4697280"/>
            <a:ext cx="206280" cy="239760"/>
          </a:xfrm>
          <a:custGeom>
            <a:avLst/>
            <a:gdLst>
              <a:gd name="textAreaLeft" fmla="*/ 0 w 206280"/>
              <a:gd name="textAreaRight" fmla="*/ 206640 w 2062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05741" h="240032">
                <a:moveTo>
                  <a:pt x="205740" y="0"/>
                </a:moveTo>
                <a:lnTo>
                  <a:pt x="201189" y="0"/>
                </a:lnTo>
                <a:lnTo>
                  <a:pt x="198896" y="953"/>
                </a:lnTo>
                <a:lnTo>
                  <a:pt x="193808" y="4552"/>
                </a:lnTo>
                <a:lnTo>
                  <a:pt x="192070" y="6844"/>
                </a:lnTo>
                <a:lnTo>
                  <a:pt x="190912" y="9325"/>
                </a:lnTo>
                <a:lnTo>
                  <a:pt x="188672" y="16528"/>
                </a:lnTo>
                <a:lnTo>
                  <a:pt x="184501" y="29254"/>
                </a:lnTo>
                <a:lnTo>
                  <a:pt x="181103" y="35695"/>
                </a:lnTo>
                <a:lnTo>
                  <a:pt x="176933" y="41895"/>
                </a:lnTo>
                <a:lnTo>
                  <a:pt x="172247" y="47932"/>
                </a:lnTo>
                <a:lnTo>
                  <a:pt x="167220" y="53862"/>
                </a:lnTo>
                <a:lnTo>
                  <a:pt x="161962" y="59721"/>
                </a:lnTo>
                <a:lnTo>
                  <a:pt x="156552" y="65532"/>
                </a:lnTo>
                <a:lnTo>
                  <a:pt x="151993" y="71311"/>
                </a:lnTo>
                <a:lnTo>
                  <a:pt x="148001" y="77068"/>
                </a:lnTo>
                <a:lnTo>
                  <a:pt x="144387" y="82811"/>
                </a:lnTo>
                <a:lnTo>
                  <a:pt x="141026" y="88545"/>
                </a:lnTo>
                <a:lnTo>
                  <a:pt x="137832" y="94273"/>
                </a:lnTo>
                <a:lnTo>
                  <a:pt x="134751" y="99997"/>
                </a:lnTo>
                <a:lnTo>
                  <a:pt x="130791" y="106670"/>
                </a:lnTo>
                <a:lnTo>
                  <a:pt x="121312" y="121704"/>
                </a:lnTo>
                <a:lnTo>
                  <a:pt x="116117" y="128761"/>
                </a:lnTo>
                <a:lnTo>
                  <a:pt x="110749" y="135371"/>
                </a:lnTo>
                <a:lnTo>
                  <a:pt x="100657" y="146843"/>
                </a:lnTo>
                <a:lnTo>
                  <a:pt x="92996" y="155117"/>
                </a:lnTo>
                <a:lnTo>
                  <a:pt x="73473" y="175033"/>
                </a:lnTo>
                <a:lnTo>
                  <a:pt x="31571" y="217031"/>
                </a:lnTo>
                <a:lnTo>
                  <a:pt x="29619" y="219935"/>
                </a:lnTo>
                <a:lnTo>
                  <a:pt x="27451" y="225702"/>
                </a:lnTo>
                <a:lnTo>
                  <a:pt x="24969" y="228573"/>
                </a:lnTo>
                <a:lnTo>
                  <a:pt x="21408" y="231440"/>
                </a:lnTo>
                <a:lnTo>
                  <a:pt x="9324" y="239528"/>
                </a:lnTo>
                <a:lnTo>
                  <a:pt x="4244" y="239882"/>
                </a:lnTo>
                <a:lnTo>
                  <a:pt x="0" y="2400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MARTPenAnnotation999"/>
          <p:cNvSpPr/>
          <p:nvPr/>
        </p:nvSpPr>
        <p:spPr>
          <a:xfrm>
            <a:off x="7486560" y="4629240"/>
            <a:ext cx="50760" cy="317520"/>
          </a:xfrm>
          <a:custGeom>
            <a:avLst/>
            <a:gdLst>
              <a:gd name="textAreaLeft" fmla="*/ 0 w 50760"/>
              <a:gd name="textAreaRight" fmla="*/ 51120 w 507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51435" h="317152">
                <a:moveTo>
                  <a:pt x="0" y="8541"/>
                </a:moveTo>
                <a:lnTo>
                  <a:pt x="0" y="3991"/>
                </a:lnTo>
                <a:lnTo>
                  <a:pt x="952" y="2650"/>
                </a:lnTo>
                <a:lnTo>
                  <a:pt x="2540" y="1756"/>
                </a:lnTo>
                <a:lnTo>
                  <a:pt x="8467" y="0"/>
                </a:lnTo>
                <a:lnTo>
                  <a:pt x="8563" y="7352"/>
                </a:lnTo>
                <a:lnTo>
                  <a:pt x="9518" y="8701"/>
                </a:lnTo>
                <a:lnTo>
                  <a:pt x="11108" y="10553"/>
                </a:lnTo>
                <a:lnTo>
                  <a:pt x="13120" y="12739"/>
                </a:lnTo>
                <a:lnTo>
                  <a:pt x="14461" y="16103"/>
                </a:lnTo>
                <a:lnTo>
                  <a:pt x="15952" y="24920"/>
                </a:lnTo>
                <a:lnTo>
                  <a:pt x="16350" y="29937"/>
                </a:lnTo>
                <a:lnTo>
                  <a:pt x="16615" y="35188"/>
                </a:lnTo>
                <a:lnTo>
                  <a:pt x="16909" y="46102"/>
                </a:lnTo>
                <a:lnTo>
                  <a:pt x="17135" y="91425"/>
                </a:lnTo>
                <a:lnTo>
                  <a:pt x="18091" y="98087"/>
                </a:lnTo>
                <a:lnTo>
                  <a:pt x="19680" y="105386"/>
                </a:lnTo>
                <a:lnTo>
                  <a:pt x="21693" y="113110"/>
                </a:lnTo>
                <a:lnTo>
                  <a:pt x="23034" y="120163"/>
                </a:lnTo>
                <a:lnTo>
                  <a:pt x="23928" y="126771"/>
                </a:lnTo>
                <a:lnTo>
                  <a:pt x="24524" y="133081"/>
                </a:lnTo>
                <a:lnTo>
                  <a:pt x="24922" y="140146"/>
                </a:lnTo>
                <a:lnTo>
                  <a:pt x="25364" y="155614"/>
                </a:lnTo>
                <a:lnTo>
                  <a:pt x="25613" y="180388"/>
                </a:lnTo>
                <a:lnTo>
                  <a:pt x="26599" y="187876"/>
                </a:lnTo>
                <a:lnTo>
                  <a:pt x="28211" y="194773"/>
                </a:lnTo>
                <a:lnTo>
                  <a:pt x="30237" y="201275"/>
                </a:lnTo>
                <a:lnTo>
                  <a:pt x="31588" y="207516"/>
                </a:lnTo>
                <a:lnTo>
                  <a:pt x="32488" y="213581"/>
                </a:lnTo>
                <a:lnTo>
                  <a:pt x="33089" y="219529"/>
                </a:lnTo>
                <a:lnTo>
                  <a:pt x="33489" y="225400"/>
                </a:lnTo>
                <a:lnTo>
                  <a:pt x="33756" y="231218"/>
                </a:lnTo>
                <a:lnTo>
                  <a:pt x="33934" y="237002"/>
                </a:lnTo>
                <a:lnTo>
                  <a:pt x="35005" y="242764"/>
                </a:lnTo>
                <a:lnTo>
                  <a:pt x="36671" y="248510"/>
                </a:lnTo>
                <a:lnTo>
                  <a:pt x="38735" y="254246"/>
                </a:lnTo>
                <a:lnTo>
                  <a:pt x="40111" y="259974"/>
                </a:lnTo>
                <a:lnTo>
                  <a:pt x="41028" y="265698"/>
                </a:lnTo>
                <a:lnTo>
                  <a:pt x="41640" y="271419"/>
                </a:lnTo>
                <a:lnTo>
                  <a:pt x="42319" y="280316"/>
                </a:lnTo>
                <a:lnTo>
                  <a:pt x="42500" y="284022"/>
                </a:lnTo>
                <a:lnTo>
                  <a:pt x="43573" y="287445"/>
                </a:lnTo>
                <a:lnTo>
                  <a:pt x="45241" y="290679"/>
                </a:lnTo>
                <a:lnTo>
                  <a:pt x="47306" y="293788"/>
                </a:lnTo>
                <a:lnTo>
                  <a:pt x="48682" y="296814"/>
                </a:lnTo>
                <a:lnTo>
                  <a:pt x="50211" y="302714"/>
                </a:lnTo>
                <a:lnTo>
                  <a:pt x="51072" y="311392"/>
                </a:lnTo>
                <a:lnTo>
                  <a:pt x="51434" y="31715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MARTPenAnnotation1000"/>
          <p:cNvSpPr/>
          <p:nvPr/>
        </p:nvSpPr>
        <p:spPr>
          <a:xfrm>
            <a:off x="7400880" y="4740120"/>
            <a:ext cx="343080" cy="60480"/>
          </a:xfrm>
          <a:custGeom>
            <a:avLst/>
            <a:gdLst>
              <a:gd name="textAreaLeft" fmla="*/ 0 w 343080"/>
              <a:gd name="textAreaRight" fmla="*/ 343440 w 3430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342901" h="60009">
                <a:moveTo>
                  <a:pt x="0" y="60008"/>
                </a:moveTo>
                <a:lnTo>
                  <a:pt x="9101" y="60008"/>
                </a:lnTo>
                <a:lnTo>
                  <a:pt x="12735" y="59055"/>
                </a:lnTo>
                <a:lnTo>
                  <a:pt x="16109" y="57468"/>
                </a:lnTo>
                <a:lnTo>
                  <a:pt x="19311" y="55457"/>
                </a:lnTo>
                <a:lnTo>
                  <a:pt x="23352" y="54116"/>
                </a:lnTo>
                <a:lnTo>
                  <a:pt x="32921" y="52627"/>
                </a:lnTo>
                <a:lnTo>
                  <a:pt x="38140" y="51277"/>
                </a:lnTo>
                <a:lnTo>
                  <a:pt x="43524" y="49425"/>
                </a:lnTo>
                <a:lnTo>
                  <a:pt x="49017" y="47237"/>
                </a:lnTo>
                <a:lnTo>
                  <a:pt x="54586" y="44827"/>
                </a:lnTo>
                <a:lnTo>
                  <a:pt x="65853" y="39608"/>
                </a:lnTo>
                <a:lnTo>
                  <a:pt x="71525" y="37836"/>
                </a:lnTo>
                <a:lnTo>
                  <a:pt x="77210" y="36653"/>
                </a:lnTo>
                <a:lnTo>
                  <a:pt x="82906" y="35866"/>
                </a:lnTo>
                <a:lnTo>
                  <a:pt x="89561" y="34388"/>
                </a:lnTo>
                <a:lnTo>
                  <a:pt x="96855" y="32450"/>
                </a:lnTo>
                <a:lnTo>
                  <a:pt x="112579" y="27758"/>
                </a:lnTo>
                <a:lnTo>
                  <a:pt x="154454" y="14180"/>
                </a:lnTo>
                <a:lnTo>
                  <a:pt x="162977" y="12311"/>
                </a:lnTo>
                <a:lnTo>
                  <a:pt x="171516" y="11065"/>
                </a:lnTo>
                <a:lnTo>
                  <a:pt x="180067" y="10234"/>
                </a:lnTo>
                <a:lnTo>
                  <a:pt x="188624" y="8728"/>
                </a:lnTo>
                <a:lnTo>
                  <a:pt x="197187" y="6771"/>
                </a:lnTo>
                <a:lnTo>
                  <a:pt x="205753" y="4514"/>
                </a:lnTo>
                <a:lnTo>
                  <a:pt x="213368" y="3010"/>
                </a:lnTo>
                <a:lnTo>
                  <a:pt x="220350" y="2007"/>
                </a:lnTo>
                <a:lnTo>
                  <a:pt x="226910" y="1338"/>
                </a:lnTo>
                <a:lnTo>
                  <a:pt x="234141" y="892"/>
                </a:lnTo>
                <a:lnTo>
                  <a:pt x="249795" y="396"/>
                </a:lnTo>
                <a:lnTo>
                  <a:pt x="282296" y="52"/>
                </a:lnTo>
                <a:lnTo>
                  <a:pt x="34290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MARTPenAnnotation1001"/>
          <p:cNvSpPr/>
          <p:nvPr/>
        </p:nvSpPr>
        <p:spPr>
          <a:xfrm>
            <a:off x="7786800" y="4586400"/>
            <a:ext cx="34920" cy="299880"/>
          </a:xfrm>
          <a:custGeom>
            <a:avLst/>
            <a:gdLst>
              <a:gd name="textAreaLeft" fmla="*/ 0 w 34920"/>
              <a:gd name="textAreaRight" fmla="*/ 35280 w 349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4288" h="300039">
                <a:moveTo>
                  <a:pt x="8569" y="0"/>
                </a:moveTo>
                <a:lnTo>
                  <a:pt x="350" y="0"/>
                </a:lnTo>
                <a:lnTo>
                  <a:pt x="18" y="8730"/>
                </a:lnTo>
                <a:lnTo>
                  <a:pt x="0" y="20400"/>
                </a:lnTo>
                <a:lnTo>
                  <a:pt x="952" y="23125"/>
                </a:lnTo>
                <a:lnTo>
                  <a:pt x="2539" y="25895"/>
                </a:lnTo>
                <a:lnTo>
                  <a:pt x="4549" y="28693"/>
                </a:lnTo>
                <a:lnTo>
                  <a:pt x="5889" y="32464"/>
                </a:lnTo>
                <a:lnTo>
                  <a:pt x="6783" y="36883"/>
                </a:lnTo>
                <a:lnTo>
                  <a:pt x="7378" y="41733"/>
                </a:lnTo>
                <a:lnTo>
                  <a:pt x="7776" y="46872"/>
                </a:lnTo>
                <a:lnTo>
                  <a:pt x="8040" y="52203"/>
                </a:lnTo>
                <a:lnTo>
                  <a:pt x="8334" y="63207"/>
                </a:lnTo>
                <a:lnTo>
                  <a:pt x="8560" y="115979"/>
                </a:lnTo>
                <a:lnTo>
                  <a:pt x="9516" y="122087"/>
                </a:lnTo>
                <a:lnTo>
                  <a:pt x="11106" y="128064"/>
                </a:lnTo>
                <a:lnTo>
                  <a:pt x="13117" y="133953"/>
                </a:lnTo>
                <a:lnTo>
                  <a:pt x="14459" y="140738"/>
                </a:lnTo>
                <a:lnTo>
                  <a:pt x="15353" y="148117"/>
                </a:lnTo>
                <a:lnTo>
                  <a:pt x="15950" y="155895"/>
                </a:lnTo>
                <a:lnTo>
                  <a:pt x="16347" y="162985"/>
                </a:lnTo>
                <a:lnTo>
                  <a:pt x="16789" y="175943"/>
                </a:lnTo>
                <a:lnTo>
                  <a:pt x="17859" y="183018"/>
                </a:lnTo>
                <a:lnTo>
                  <a:pt x="19525" y="190592"/>
                </a:lnTo>
                <a:lnTo>
                  <a:pt x="21589" y="198499"/>
                </a:lnTo>
                <a:lnTo>
                  <a:pt x="22964" y="205675"/>
                </a:lnTo>
                <a:lnTo>
                  <a:pt x="23881" y="212364"/>
                </a:lnTo>
                <a:lnTo>
                  <a:pt x="24492" y="218729"/>
                </a:lnTo>
                <a:lnTo>
                  <a:pt x="24900" y="224877"/>
                </a:lnTo>
                <a:lnTo>
                  <a:pt x="25171" y="230880"/>
                </a:lnTo>
                <a:lnTo>
                  <a:pt x="25353" y="236787"/>
                </a:lnTo>
                <a:lnTo>
                  <a:pt x="26426" y="242631"/>
                </a:lnTo>
                <a:lnTo>
                  <a:pt x="28094" y="248431"/>
                </a:lnTo>
                <a:lnTo>
                  <a:pt x="30158" y="254204"/>
                </a:lnTo>
                <a:lnTo>
                  <a:pt x="31535" y="259004"/>
                </a:lnTo>
                <a:lnTo>
                  <a:pt x="32452" y="263157"/>
                </a:lnTo>
                <a:lnTo>
                  <a:pt x="33472" y="270311"/>
                </a:lnTo>
                <a:lnTo>
                  <a:pt x="33924" y="276666"/>
                </a:lnTo>
                <a:lnTo>
                  <a:pt x="34179" y="285599"/>
                </a:lnTo>
                <a:lnTo>
                  <a:pt x="34273" y="293232"/>
                </a:lnTo>
                <a:lnTo>
                  <a:pt x="34287" y="3000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MARTPenAnnotation1002"/>
          <p:cNvSpPr/>
          <p:nvPr/>
        </p:nvSpPr>
        <p:spPr>
          <a:xfrm>
            <a:off x="7880400" y="4503600"/>
            <a:ext cx="163440" cy="476280"/>
          </a:xfrm>
          <a:custGeom>
            <a:avLst/>
            <a:gdLst>
              <a:gd name="textAreaLeft" fmla="*/ 0 w 163440"/>
              <a:gd name="textAreaRight" fmla="*/ 163800 w 163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162801" h="476427">
                <a:moveTo>
                  <a:pt x="0" y="4939"/>
                </a:moveTo>
                <a:lnTo>
                  <a:pt x="4551" y="4939"/>
                </a:lnTo>
                <a:lnTo>
                  <a:pt x="6844" y="3986"/>
                </a:lnTo>
                <a:lnTo>
                  <a:pt x="9325" y="2399"/>
                </a:lnTo>
                <a:lnTo>
                  <a:pt x="11932" y="388"/>
                </a:lnTo>
                <a:lnTo>
                  <a:pt x="14623" y="0"/>
                </a:lnTo>
                <a:lnTo>
                  <a:pt x="17368" y="694"/>
                </a:lnTo>
                <a:lnTo>
                  <a:pt x="20152" y="2108"/>
                </a:lnTo>
                <a:lnTo>
                  <a:pt x="22959" y="3052"/>
                </a:lnTo>
                <a:lnTo>
                  <a:pt x="25784" y="3681"/>
                </a:lnTo>
                <a:lnTo>
                  <a:pt x="28620" y="4100"/>
                </a:lnTo>
                <a:lnTo>
                  <a:pt x="32415" y="5332"/>
                </a:lnTo>
                <a:lnTo>
                  <a:pt x="36850" y="7106"/>
                </a:lnTo>
                <a:lnTo>
                  <a:pt x="41712" y="9241"/>
                </a:lnTo>
                <a:lnTo>
                  <a:pt x="45906" y="11617"/>
                </a:lnTo>
                <a:lnTo>
                  <a:pt x="49655" y="14153"/>
                </a:lnTo>
                <a:lnTo>
                  <a:pt x="53106" y="16797"/>
                </a:lnTo>
                <a:lnTo>
                  <a:pt x="57312" y="19511"/>
                </a:lnTo>
                <a:lnTo>
                  <a:pt x="62021" y="22274"/>
                </a:lnTo>
                <a:lnTo>
                  <a:pt x="67064" y="25068"/>
                </a:lnTo>
                <a:lnTo>
                  <a:pt x="72332" y="28836"/>
                </a:lnTo>
                <a:lnTo>
                  <a:pt x="77750" y="33253"/>
                </a:lnTo>
                <a:lnTo>
                  <a:pt x="83265" y="38102"/>
                </a:lnTo>
                <a:lnTo>
                  <a:pt x="87896" y="43240"/>
                </a:lnTo>
                <a:lnTo>
                  <a:pt x="91935" y="48571"/>
                </a:lnTo>
                <a:lnTo>
                  <a:pt x="95580" y="54029"/>
                </a:lnTo>
                <a:lnTo>
                  <a:pt x="99915" y="58620"/>
                </a:lnTo>
                <a:lnTo>
                  <a:pt x="104710" y="62634"/>
                </a:lnTo>
                <a:lnTo>
                  <a:pt x="109813" y="66263"/>
                </a:lnTo>
                <a:lnTo>
                  <a:pt x="115118" y="71539"/>
                </a:lnTo>
                <a:lnTo>
                  <a:pt x="120560" y="77914"/>
                </a:lnTo>
                <a:lnTo>
                  <a:pt x="126094" y="85021"/>
                </a:lnTo>
                <a:lnTo>
                  <a:pt x="130735" y="92617"/>
                </a:lnTo>
                <a:lnTo>
                  <a:pt x="134782" y="100538"/>
                </a:lnTo>
                <a:lnTo>
                  <a:pt x="138432" y="108677"/>
                </a:lnTo>
                <a:lnTo>
                  <a:pt x="142771" y="116960"/>
                </a:lnTo>
                <a:lnTo>
                  <a:pt x="147569" y="125340"/>
                </a:lnTo>
                <a:lnTo>
                  <a:pt x="152672" y="133784"/>
                </a:lnTo>
                <a:lnTo>
                  <a:pt x="156074" y="143223"/>
                </a:lnTo>
                <a:lnTo>
                  <a:pt x="158342" y="153325"/>
                </a:lnTo>
                <a:lnTo>
                  <a:pt x="159854" y="163871"/>
                </a:lnTo>
                <a:lnTo>
                  <a:pt x="160862" y="174711"/>
                </a:lnTo>
                <a:lnTo>
                  <a:pt x="161535" y="185747"/>
                </a:lnTo>
                <a:lnTo>
                  <a:pt x="162280" y="208171"/>
                </a:lnTo>
                <a:lnTo>
                  <a:pt x="162800" y="260467"/>
                </a:lnTo>
                <a:lnTo>
                  <a:pt x="161873" y="271493"/>
                </a:lnTo>
                <a:lnTo>
                  <a:pt x="160303" y="283607"/>
                </a:lnTo>
                <a:lnTo>
                  <a:pt x="158304" y="296445"/>
                </a:lnTo>
                <a:lnTo>
                  <a:pt x="155066" y="307861"/>
                </a:lnTo>
                <a:lnTo>
                  <a:pt x="151003" y="318329"/>
                </a:lnTo>
                <a:lnTo>
                  <a:pt x="146388" y="328166"/>
                </a:lnTo>
                <a:lnTo>
                  <a:pt x="142361" y="338533"/>
                </a:lnTo>
                <a:lnTo>
                  <a:pt x="138722" y="349255"/>
                </a:lnTo>
                <a:lnTo>
                  <a:pt x="135344" y="360213"/>
                </a:lnTo>
                <a:lnTo>
                  <a:pt x="131188" y="370376"/>
                </a:lnTo>
                <a:lnTo>
                  <a:pt x="126510" y="380008"/>
                </a:lnTo>
                <a:lnTo>
                  <a:pt x="121488" y="389287"/>
                </a:lnTo>
                <a:lnTo>
                  <a:pt x="117187" y="398331"/>
                </a:lnTo>
                <a:lnTo>
                  <a:pt x="113367" y="407218"/>
                </a:lnTo>
                <a:lnTo>
                  <a:pt x="109868" y="415999"/>
                </a:lnTo>
                <a:lnTo>
                  <a:pt x="105631" y="423759"/>
                </a:lnTo>
                <a:lnTo>
                  <a:pt x="100901" y="430838"/>
                </a:lnTo>
                <a:lnTo>
                  <a:pt x="95843" y="437461"/>
                </a:lnTo>
                <a:lnTo>
                  <a:pt x="91517" y="442829"/>
                </a:lnTo>
                <a:lnTo>
                  <a:pt x="87683" y="447361"/>
                </a:lnTo>
                <a:lnTo>
                  <a:pt x="84173" y="451334"/>
                </a:lnTo>
                <a:lnTo>
                  <a:pt x="77733" y="458289"/>
                </a:lnTo>
                <a:lnTo>
                  <a:pt x="68752" y="467560"/>
                </a:lnTo>
                <a:lnTo>
                  <a:pt x="65837" y="470515"/>
                </a:lnTo>
                <a:lnTo>
                  <a:pt x="62942" y="472486"/>
                </a:lnTo>
                <a:lnTo>
                  <a:pt x="60059" y="473799"/>
                </a:lnTo>
                <a:lnTo>
                  <a:pt x="57184" y="474675"/>
                </a:lnTo>
                <a:lnTo>
                  <a:pt x="54316" y="475258"/>
                </a:lnTo>
                <a:lnTo>
                  <a:pt x="51451" y="475648"/>
                </a:lnTo>
                <a:lnTo>
                  <a:pt x="42863" y="4764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MARTPenAnnotation1003"/>
          <p:cNvSpPr/>
          <p:nvPr/>
        </p:nvSpPr>
        <p:spPr>
          <a:xfrm>
            <a:off x="8215200" y="4672080"/>
            <a:ext cx="282600" cy="17280"/>
          </a:xfrm>
          <a:custGeom>
            <a:avLst/>
            <a:gdLst>
              <a:gd name="textAreaLeft" fmla="*/ 0 w 282600"/>
              <a:gd name="textAreaRight" fmla="*/ 282960 w 2826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82862" h="17146">
                <a:moveTo>
                  <a:pt x="8540" y="17145"/>
                </a:moveTo>
                <a:lnTo>
                  <a:pt x="3989" y="17145"/>
                </a:lnTo>
                <a:lnTo>
                  <a:pt x="2649" y="16193"/>
                </a:lnTo>
                <a:lnTo>
                  <a:pt x="1755" y="14605"/>
                </a:lnTo>
                <a:lnTo>
                  <a:pt x="321" y="9764"/>
                </a:lnTo>
                <a:lnTo>
                  <a:pt x="204" y="10320"/>
                </a:lnTo>
                <a:lnTo>
                  <a:pt x="125" y="11642"/>
                </a:lnTo>
                <a:lnTo>
                  <a:pt x="0" y="16058"/>
                </a:lnTo>
                <a:lnTo>
                  <a:pt x="942" y="16420"/>
                </a:lnTo>
                <a:lnTo>
                  <a:pt x="5866" y="16931"/>
                </a:lnTo>
                <a:lnTo>
                  <a:pt x="12740" y="17117"/>
                </a:lnTo>
                <a:lnTo>
                  <a:pt x="36043" y="17142"/>
                </a:lnTo>
                <a:lnTo>
                  <a:pt x="40211" y="16191"/>
                </a:lnTo>
                <a:lnTo>
                  <a:pt x="44893" y="14604"/>
                </a:lnTo>
                <a:lnTo>
                  <a:pt x="49922" y="12593"/>
                </a:lnTo>
                <a:lnTo>
                  <a:pt x="55178" y="11253"/>
                </a:lnTo>
                <a:lnTo>
                  <a:pt x="60587" y="10360"/>
                </a:lnTo>
                <a:lnTo>
                  <a:pt x="66098" y="9764"/>
                </a:lnTo>
                <a:lnTo>
                  <a:pt x="71677" y="9367"/>
                </a:lnTo>
                <a:lnTo>
                  <a:pt x="77301" y="9102"/>
                </a:lnTo>
                <a:lnTo>
                  <a:pt x="88632" y="8808"/>
                </a:lnTo>
                <a:lnTo>
                  <a:pt x="100017" y="8677"/>
                </a:lnTo>
                <a:lnTo>
                  <a:pt x="106672" y="7690"/>
                </a:lnTo>
                <a:lnTo>
                  <a:pt x="113967" y="6079"/>
                </a:lnTo>
                <a:lnTo>
                  <a:pt x="121688" y="4053"/>
                </a:lnTo>
                <a:lnTo>
                  <a:pt x="128738" y="2702"/>
                </a:lnTo>
                <a:lnTo>
                  <a:pt x="135346" y="1801"/>
                </a:lnTo>
                <a:lnTo>
                  <a:pt x="141655" y="1201"/>
                </a:lnTo>
                <a:lnTo>
                  <a:pt x="147766" y="801"/>
                </a:lnTo>
                <a:lnTo>
                  <a:pt x="153745" y="534"/>
                </a:lnTo>
                <a:lnTo>
                  <a:pt x="166421" y="238"/>
                </a:lnTo>
                <a:lnTo>
                  <a:pt x="281154" y="0"/>
                </a:lnTo>
                <a:lnTo>
                  <a:pt x="281723" y="953"/>
                </a:lnTo>
                <a:lnTo>
                  <a:pt x="282102" y="2540"/>
                </a:lnTo>
                <a:lnTo>
                  <a:pt x="282861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MARTPenAnnotation1004"/>
          <p:cNvSpPr/>
          <p:nvPr/>
        </p:nvSpPr>
        <p:spPr>
          <a:xfrm>
            <a:off x="8240760" y="4757760"/>
            <a:ext cx="291960" cy="17280"/>
          </a:xfrm>
          <a:custGeom>
            <a:avLst/>
            <a:gdLst>
              <a:gd name="textAreaLeft" fmla="*/ 0 w 291960"/>
              <a:gd name="textAreaRight" fmla="*/ 292320 w 2919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91081" h="16793">
                <a:moveTo>
                  <a:pt x="25333" y="8573"/>
                </a:moveTo>
                <a:lnTo>
                  <a:pt x="0" y="8573"/>
                </a:lnTo>
                <a:lnTo>
                  <a:pt x="7845" y="8573"/>
                </a:lnTo>
                <a:lnTo>
                  <a:pt x="8912" y="9525"/>
                </a:lnTo>
                <a:lnTo>
                  <a:pt x="12637" y="13124"/>
                </a:lnTo>
                <a:lnTo>
                  <a:pt x="14964" y="14464"/>
                </a:lnTo>
                <a:lnTo>
                  <a:pt x="17468" y="15358"/>
                </a:lnTo>
                <a:lnTo>
                  <a:pt x="20091" y="15954"/>
                </a:lnTo>
                <a:lnTo>
                  <a:pt x="23742" y="16351"/>
                </a:lnTo>
                <a:lnTo>
                  <a:pt x="28083" y="16616"/>
                </a:lnTo>
                <a:lnTo>
                  <a:pt x="32881" y="16792"/>
                </a:lnTo>
                <a:lnTo>
                  <a:pt x="37032" y="15958"/>
                </a:lnTo>
                <a:lnTo>
                  <a:pt x="40752" y="14448"/>
                </a:lnTo>
                <a:lnTo>
                  <a:pt x="44184" y="12490"/>
                </a:lnTo>
                <a:lnTo>
                  <a:pt x="47427" y="11184"/>
                </a:lnTo>
                <a:lnTo>
                  <a:pt x="50540" y="10313"/>
                </a:lnTo>
                <a:lnTo>
                  <a:pt x="53568" y="9733"/>
                </a:lnTo>
                <a:lnTo>
                  <a:pt x="57491" y="9346"/>
                </a:lnTo>
                <a:lnTo>
                  <a:pt x="62012" y="9089"/>
                </a:lnTo>
                <a:lnTo>
                  <a:pt x="72114" y="8802"/>
                </a:lnTo>
                <a:lnTo>
                  <a:pt x="99768" y="8603"/>
                </a:lnTo>
                <a:lnTo>
                  <a:pt x="105436" y="7640"/>
                </a:lnTo>
                <a:lnTo>
                  <a:pt x="111121" y="6046"/>
                </a:lnTo>
                <a:lnTo>
                  <a:pt x="116815" y="4031"/>
                </a:lnTo>
                <a:lnTo>
                  <a:pt x="122515" y="2687"/>
                </a:lnTo>
                <a:lnTo>
                  <a:pt x="128222" y="1792"/>
                </a:lnTo>
                <a:lnTo>
                  <a:pt x="133930" y="1195"/>
                </a:lnTo>
                <a:lnTo>
                  <a:pt x="140594" y="796"/>
                </a:lnTo>
                <a:lnTo>
                  <a:pt x="155618" y="354"/>
                </a:lnTo>
                <a:lnTo>
                  <a:pt x="193572" y="31"/>
                </a:lnTo>
                <a:lnTo>
                  <a:pt x="276759" y="0"/>
                </a:lnTo>
                <a:lnTo>
                  <a:pt x="279627" y="953"/>
                </a:lnTo>
                <a:lnTo>
                  <a:pt x="282492" y="2540"/>
                </a:lnTo>
                <a:lnTo>
                  <a:pt x="291080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MARTPenAnnotation1005"/>
          <p:cNvSpPr/>
          <p:nvPr/>
        </p:nvSpPr>
        <p:spPr>
          <a:xfrm>
            <a:off x="8593200" y="4492800"/>
            <a:ext cx="358560" cy="342720"/>
          </a:xfrm>
          <a:custGeom>
            <a:avLst/>
            <a:gdLst>
              <a:gd name="textAreaLeft" fmla="*/ 0 w 358560"/>
              <a:gd name="textAreaRight" fmla="*/ 358920 w 35856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359506" h="342888">
                <a:moveTo>
                  <a:pt x="222743" y="0"/>
                </a:moveTo>
                <a:lnTo>
                  <a:pt x="215363" y="0"/>
                </a:lnTo>
                <a:lnTo>
                  <a:pt x="214965" y="952"/>
                </a:lnTo>
                <a:lnTo>
                  <a:pt x="214524" y="4551"/>
                </a:lnTo>
                <a:lnTo>
                  <a:pt x="213454" y="5891"/>
                </a:lnTo>
                <a:lnTo>
                  <a:pt x="211788" y="6785"/>
                </a:lnTo>
                <a:lnTo>
                  <a:pt x="209724" y="7381"/>
                </a:lnTo>
                <a:lnTo>
                  <a:pt x="204891" y="10582"/>
                </a:lnTo>
                <a:lnTo>
                  <a:pt x="202271" y="12770"/>
                </a:lnTo>
                <a:lnTo>
                  <a:pt x="199569" y="14228"/>
                </a:lnTo>
                <a:lnTo>
                  <a:pt x="191218" y="17233"/>
                </a:lnTo>
                <a:lnTo>
                  <a:pt x="182710" y="23732"/>
                </a:lnTo>
                <a:lnTo>
                  <a:pt x="173205" y="31691"/>
                </a:lnTo>
                <a:lnTo>
                  <a:pt x="163896" y="37262"/>
                </a:lnTo>
                <a:lnTo>
                  <a:pt x="153408" y="45453"/>
                </a:lnTo>
                <a:lnTo>
                  <a:pt x="142398" y="54491"/>
                </a:lnTo>
                <a:lnTo>
                  <a:pt x="136796" y="58235"/>
                </a:lnTo>
                <a:lnTo>
                  <a:pt x="131155" y="61683"/>
                </a:lnTo>
                <a:lnTo>
                  <a:pt x="125489" y="65887"/>
                </a:lnTo>
                <a:lnTo>
                  <a:pt x="119807" y="70595"/>
                </a:lnTo>
                <a:lnTo>
                  <a:pt x="114115" y="75638"/>
                </a:lnTo>
                <a:lnTo>
                  <a:pt x="108414" y="79953"/>
                </a:lnTo>
                <a:lnTo>
                  <a:pt x="102708" y="83782"/>
                </a:lnTo>
                <a:lnTo>
                  <a:pt x="97000" y="87287"/>
                </a:lnTo>
                <a:lnTo>
                  <a:pt x="91289" y="91529"/>
                </a:lnTo>
                <a:lnTo>
                  <a:pt x="85578" y="96261"/>
                </a:lnTo>
                <a:lnTo>
                  <a:pt x="75103" y="106600"/>
                </a:lnTo>
                <a:lnTo>
                  <a:pt x="70977" y="112024"/>
                </a:lnTo>
                <a:lnTo>
                  <a:pt x="67273" y="117545"/>
                </a:lnTo>
                <a:lnTo>
                  <a:pt x="62899" y="123131"/>
                </a:lnTo>
                <a:lnTo>
                  <a:pt x="58078" y="128760"/>
                </a:lnTo>
                <a:lnTo>
                  <a:pt x="48593" y="139142"/>
                </a:lnTo>
                <a:lnTo>
                  <a:pt x="41203" y="146930"/>
                </a:lnTo>
                <a:lnTo>
                  <a:pt x="27137" y="161222"/>
                </a:lnTo>
                <a:lnTo>
                  <a:pt x="23759" y="166536"/>
                </a:lnTo>
                <a:lnTo>
                  <a:pt x="21507" y="171984"/>
                </a:lnTo>
                <a:lnTo>
                  <a:pt x="20005" y="177521"/>
                </a:lnTo>
                <a:lnTo>
                  <a:pt x="18052" y="183117"/>
                </a:lnTo>
                <a:lnTo>
                  <a:pt x="15797" y="188753"/>
                </a:lnTo>
                <a:lnTo>
                  <a:pt x="13342" y="194415"/>
                </a:lnTo>
                <a:lnTo>
                  <a:pt x="8074" y="205787"/>
                </a:lnTo>
                <a:lnTo>
                  <a:pt x="5335" y="211486"/>
                </a:lnTo>
                <a:lnTo>
                  <a:pt x="3509" y="217190"/>
                </a:lnTo>
                <a:lnTo>
                  <a:pt x="2292" y="222899"/>
                </a:lnTo>
                <a:lnTo>
                  <a:pt x="940" y="233368"/>
                </a:lnTo>
                <a:lnTo>
                  <a:pt x="339" y="241197"/>
                </a:lnTo>
                <a:lnTo>
                  <a:pt x="71" y="250391"/>
                </a:lnTo>
                <a:lnTo>
                  <a:pt x="0" y="255510"/>
                </a:lnTo>
                <a:lnTo>
                  <a:pt x="905" y="260827"/>
                </a:lnTo>
                <a:lnTo>
                  <a:pt x="2462" y="266277"/>
                </a:lnTo>
                <a:lnTo>
                  <a:pt x="5778" y="276460"/>
                </a:lnTo>
                <a:lnTo>
                  <a:pt x="7252" y="284161"/>
                </a:lnTo>
                <a:lnTo>
                  <a:pt x="10447" y="290759"/>
                </a:lnTo>
                <a:lnTo>
                  <a:pt x="17600" y="299828"/>
                </a:lnTo>
                <a:lnTo>
                  <a:pt x="22984" y="306612"/>
                </a:lnTo>
                <a:lnTo>
                  <a:pt x="28551" y="315976"/>
                </a:lnTo>
                <a:lnTo>
                  <a:pt x="32322" y="319236"/>
                </a:lnTo>
                <a:lnTo>
                  <a:pt x="36740" y="321409"/>
                </a:lnTo>
                <a:lnTo>
                  <a:pt x="45779" y="324776"/>
                </a:lnTo>
                <a:lnTo>
                  <a:pt x="57173" y="332026"/>
                </a:lnTo>
                <a:lnTo>
                  <a:pt x="66924" y="337432"/>
                </a:lnTo>
                <a:lnTo>
                  <a:pt x="77608" y="340470"/>
                </a:lnTo>
                <a:lnTo>
                  <a:pt x="83124" y="341280"/>
                </a:lnTo>
                <a:lnTo>
                  <a:pt x="89659" y="341819"/>
                </a:lnTo>
                <a:lnTo>
                  <a:pt x="96872" y="342180"/>
                </a:lnTo>
                <a:lnTo>
                  <a:pt x="111556" y="342580"/>
                </a:lnTo>
                <a:lnTo>
                  <a:pt x="148219" y="342871"/>
                </a:lnTo>
                <a:lnTo>
                  <a:pt x="159776" y="342887"/>
                </a:lnTo>
                <a:lnTo>
                  <a:pt x="166477" y="341939"/>
                </a:lnTo>
                <a:lnTo>
                  <a:pt x="173803" y="340354"/>
                </a:lnTo>
                <a:lnTo>
                  <a:pt x="181543" y="338345"/>
                </a:lnTo>
                <a:lnTo>
                  <a:pt x="188609" y="336053"/>
                </a:lnTo>
                <a:lnTo>
                  <a:pt x="195225" y="333573"/>
                </a:lnTo>
                <a:lnTo>
                  <a:pt x="201540" y="330967"/>
                </a:lnTo>
                <a:lnTo>
                  <a:pt x="207656" y="329229"/>
                </a:lnTo>
                <a:lnTo>
                  <a:pt x="213637" y="328071"/>
                </a:lnTo>
                <a:lnTo>
                  <a:pt x="219529" y="327299"/>
                </a:lnTo>
                <a:lnTo>
                  <a:pt x="225363" y="324879"/>
                </a:lnTo>
                <a:lnTo>
                  <a:pt x="231157" y="321361"/>
                </a:lnTo>
                <a:lnTo>
                  <a:pt x="236926" y="317111"/>
                </a:lnTo>
                <a:lnTo>
                  <a:pt x="242676" y="313324"/>
                </a:lnTo>
                <a:lnTo>
                  <a:pt x="248414" y="309848"/>
                </a:lnTo>
                <a:lnTo>
                  <a:pt x="254145" y="306577"/>
                </a:lnTo>
                <a:lnTo>
                  <a:pt x="265592" y="300404"/>
                </a:lnTo>
                <a:lnTo>
                  <a:pt x="271312" y="297424"/>
                </a:lnTo>
                <a:lnTo>
                  <a:pt x="277030" y="293533"/>
                </a:lnTo>
                <a:lnTo>
                  <a:pt x="282746" y="289033"/>
                </a:lnTo>
                <a:lnTo>
                  <a:pt x="293226" y="278954"/>
                </a:lnTo>
                <a:lnTo>
                  <a:pt x="297355" y="273599"/>
                </a:lnTo>
                <a:lnTo>
                  <a:pt x="315375" y="246767"/>
                </a:lnTo>
                <a:lnTo>
                  <a:pt x="319739" y="239759"/>
                </a:lnTo>
                <a:lnTo>
                  <a:pt x="323603" y="233181"/>
                </a:lnTo>
                <a:lnTo>
                  <a:pt x="327130" y="226892"/>
                </a:lnTo>
                <a:lnTo>
                  <a:pt x="333590" y="214823"/>
                </a:lnTo>
                <a:lnTo>
                  <a:pt x="336646" y="208938"/>
                </a:lnTo>
                <a:lnTo>
                  <a:pt x="339637" y="202157"/>
                </a:lnTo>
                <a:lnTo>
                  <a:pt x="342582" y="194778"/>
                </a:lnTo>
                <a:lnTo>
                  <a:pt x="345498" y="187003"/>
                </a:lnTo>
                <a:lnTo>
                  <a:pt x="347442" y="178960"/>
                </a:lnTo>
                <a:lnTo>
                  <a:pt x="348738" y="170742"/>
                </a:lnTo>
                <a:lnTo>
                  <a:pt x="349603" y="162405"/>
                </a:lnTo>
                <a:lnTo>
                  <a:pt x="351131" y="154943"/>
                </a:lnTo>
                <a:lnTo>
                  <a:pt x="353102" y="148063"/>
                </a:lnTo>
                <a:lnTo>
                  <a:pt x="355370" y="141570"/>
                </a:lnTo>
                <a:lnTo>
                  <a:pt x="356881" y="135338"/>
                </a:lnTo>
                <a:lnTo>
                  <a:pt x="357889" y="129278"/>
                </a:lnTo>
                <a:lnTo>
                  <a:pt x="358560" y="123332"/>
                </a:lnTo>
                <a:lnTo>
                  <a:pt x="359008" y="117464"/>
                </a:lnTo>
                <a:lnTo>
                  <a:pt x="359307" y="111647"/>
                </a:lnTo>
                <a:lnTo>
                  <a:pt x="359505" y="105863"/>
                </a:lnTo>
                <a:lnTo>
                  <a:pt x="358685" y="100103"/>
                </a:lnTo>
                <a:lnTo>
                  <a:pt x="357187" y="94358"/>
                </a:lnTo>
                <a:lnTo>
                  <a:pt x="355234" y="88622"/>
                </a:lnTo>
                <a:lnTo>
                  <a:pt x="352981" y="82894"/>
                </a:lnTo>
                <a:lnTo>
                  <a:pt x="350526" y="77170"/>
                </a:lnTo>
                <a:lnTo>
                  <a:pt x="345258" y="66683"/>
                </a:lnTo>
                <a:lnTo>
                  <a:pt x="339742" y="58846"/>
                </a:lnTo>
                <a:lnTo>
                  <a:pt x="331281" y="49080"/>
                </a:lnTo>
                <a:lnTo>
                  <a:pt x="323052" y="40546"/>
                </a:lnTo>
                <a:lnTo>
                  <a:pt x="313045" y="31355"/>
                </a:lnTo>
                <a:lnTo>
                  <a:pt x="302247" y="24095"/>
                </a:lnTo>
                <a:lnTo>
                  <a:pt x="291098" y="20234"/>
                </a:lnTo>
                <a:lnTo>
                  <a:pt x="285458" y="19204"/>
                </a:lnTo>
                <a:lnTo>
                  <a:pt x="279793" y="17565"/>
                </a:lnTo>
                <a:lnTo>
                  <a:pt x="274111" y="15520"/>
                </a:lnTo>
                <a:lnTo>
                  <a:pt x="268419" y="13204"/>
                </a:lnTo>
                <a:lnTo>
                  <a:pt x="261766" y="11660"/>
                </a:lnTo>
                <a:lnTo>
                  <a:pt x="254474" y="10631"/>
                </a:lnTo>
                <a:lnTo>
                  <a:pt x="246754" y="9944"/>
                </a:lnTo>
                <a:lnTo>
                  <a:pt x="239703" y="9487"/>
                </a:lnTo>
                <a:lnTo>
                  <a:pt x="226788" y="8979"/>
                </a:lnTo>
                <a:lnTo>
                  <a:pt x="220677" y="9796"/>
                </a:lnTo>
                <a:lnTo>
                  <a:pt x="214699" y="11293"/>
                </a:lnTo>
                <a:lnTo>
                  <a:pt x="208807" y="13243"/>
                </a:lnTo>
                <a:lnTo>
                  <a:pt x="202974" y="14544"/>
                </a:lnTo>
                <a:lnTo>
                  <a:pt x="197182" y="15411"/>
                </a:lnTo>
                <a:lnTo>
                  <a:pt x="191415" y="15989"/>
                </a:lnTo>
                <a:lnTo>
                  <a:pt x="185665" y="17327"/>
                </a:lnTo>
                <a:lnTo>
                  <a:pt x="179926" y="19171"/>
                </a:lnTo>
                <a:lnTo>
                  <a:pt x="169424" y="23760"/>
                </a:lnTo>
                <a:lnTo>
                  <a:pt x="165290" y="26318"/>
                </a:lnTo>
                <a:lnTo>
                  <a:pt x="154163" y="342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MARTPenAnnotation1006"/>
          <p:cNvSpPr/>
          <p:nvPr/>
        </p:nvSpPr>
        <p:spPr>
          <a:xfrm>
            <a:off x="4890960" y="5006880"/>
            <a:ext cx="1095480" cy="9360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1095984" h="94298">
                <a:moveTo>
                  <a:pt x="15848" y="94297"/>
                </a:moveTo>
                <a:lnTo>
                  <a:pt x="0" y="94297"/>
                </a:lnTo>
                <a:lnTo>
                  <a:pt x="51815" y="94297"/>
                </a:lnTo>
                <a:lnTo>
                  <a:pt x="55066" y="93345"/>
                </a:lnTo>
                <a:lnTo>
                  <a:pt x="58185" y="91757"/>
                </a:lnTo>
                <a:lnTo>
                  <a:pt x="61218" y="89747"/>
                </a:lnTo>
                <a:lnTo>
                  <a:pt x="69668" y="87512"/>
                </a:lnTo>
                <a:lnTo>
                  <a:pt x="96172" y="85008"/>
                </a:lnTo>
                <a:lnTo>
                  <a:pt x="101782" y="83342"/>
                </a:lnTo>
                <a:lnTo>
                  <a:pt x="107427" y="81278"/>
                </a:lnTo>
                <a:lnTo>
                  <a:pt x="129025" y="78375"/>
                </a:lnTo>
                <a:lnTo>
                  <a:pt x="156032" y="76441"/>
                </a:lnTo>
                <a:lnTo>
                  <a:pt x="163597" y="74773"/>
                </a:lnTo>
                <a:lnTo>
                  <a:pt x="171497" y="72709"/>
                </a:lnTo>
                <a:lnTo>
                  <a:pt x="196269" y="69803"/>
                </a:lnTo>
                <a:lnTo>
                  <a:pt x="230239" y="67868"/>
                </a:lnTo>
                <a:lnTo>
                  <a:pt x="238786" y="66201"/>
                </a:lnTo>
                <a:lnTo>
                  <a:pt x="247341" y="64136"/>
                </a:lnTo>
                <a:lnTo>
                  <a:pt x="273034" y="61230"/>
                </a:lnTo>
                <a:lnTo>
                  <a:pt x="303295" y="60370"/>
                </a:lnTo>
                <a:lnTo>
                  <a:pt x="322672" y="57629"/>
                </a:lnTo>
                <a:lnTo>
                  <a:pt x="331840" y="55564"/>
                </a:lnTo>
                <a:lnTo>
                  <a:pt x="358395" y="52658"/>
                </a:lnTo>
                <a:lnTo>
                  <a:pt x="388912" y="51797"/>
                </a:lnTo>
                <a:lnTo>
                  <a:pt x="413429" y="49056"/>
                </a:lnTo>
                <a:lnTo>
                  <a:pt x="426635" y="46991"/>
                </a:lnTo>
                <a:lnTo>
                  <a:pt x="451467" y="44698"/>
                </a:lnTo>
                <a:lnTo>
                  <a:pt x="475204" y="42725"/>
                </a:lnTo>
                <a:lnTo>
                  <a:pt x="486868" y="40866"/>
                </a:lnTo>
                <a:lnTo>
                  <a:pt x="498454" y="38674"/>
                </a:lnTo>
                <a:lnTo>
                  <a:pt x="524027" y="36238"/>
                </a:lnTo>
                <a:lnTo>
                  <a:pt x="550316" y="34203"/>
                </a:lnTo>
                <a:lnTo>
                  <a:pt x="562660" y="32327"/>
                </a:lnTo>
                <a:lnTo>
                  <a:pt x="574699" y="30124"/>
                </a:lnTo>
                <a:lnTo>
                  <a:pt x="600776" y="27675"/>
                </a:lnTo>
                <a:lnTo>
                  <a:pt x="627289" y="25635"/>
                </a:lnTo>
                <a:lnTo>
                  <a:pt x="639693" y="23758"/>
                </a:lnTo>
                <a:lnTo>
                  <a:pt x="651772" y="21553"/>
                </a:lnTo>
                <a:lnTo>
                  <a:pt x="677894" y="19104"/>
                </a:lnTo>
                <a:lnTo>
                  <a:pt x="705378" y="18015"/>
                </a:lnTo>
                <a:lnTo>
                  <a:pt x="733468" y="17532"/>
                </a:lnTo>
                <a:lnTo>
                  <a:pt x="759288" y="14777"/>
                </a:lnTo>
                <a:lnTo>
                  <a:pt x="771507" y="12709"/>
                </a:lnTo>
                <a:lnTo>
                  <a:pt x="795244" y="10411"/>
                </a:lnTo>
                <a:lnTo>
                  <a:pt x="818494" y="9389"/>
                </a:lnTo>
                <a:lnTo>
                  <a:pt x="853003" y="8814"/>
                </a:lnTo>
                <a:lnTo>
                  <a:pt x="875915" y="8680"/>
                </a:lnTo>
                <a:lnTo>
                  <a:pt x="898797" y="6080"/>
                </a:lnTo>
                <a:lnTo>
                  <a:pt x="910233" y="4054"/>
                </a:lnTo>
                <a:lnTo>
                  <a:pt x="939981" y="1201"/>
                </a:lnTo>
                <a:lnTo>
                  <a:pt x="971444" y="355"/>
                </a:lnTo>
                <a:lnTo>
                  <a:pt x="109598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MARTPenAnnotation1007"/>
          <p:cNvSpPr/>
          <p:nvPr/>
        </p:nvSpPr>
        <p:spPr>
          <a:xfrm>
            <a:off x="4854600" y="5375160"/>
            <a:ext cx="282600" cy="33480"/>
          </a:xfrm>
          <a:custGeom>
            <a:avLst/>
            <a:gdLst>
              <a:gd name="textAreaLeft" fmla="*/ 0 w 282600"/>
              <a:gd name="textAreaRight" fmla="*/ 282960 w 2826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82893" h="34291">
                <a:moveTo>
                  <a:pt x="0" y="34290"/>
                </a:moveTo>
                <a:lnTo>
                  <a:pt x="20400" y="34290"/>
                </a:lnTo>
                <a:lnTo>
                  <a:pt x="24077" y="33338"/>
                </a:lnTo>
                <a:lnTo>
                  <a:pt x="28434" y="31750"/>
                </a:lnTo>
                <a:lnTo>
                  <a:pt x="33244" y="29740"/>
                </a:lnTo>
                <a:lnTo>
                  <a:pt x="37403" y="28399"/>
                </a:lnTo>
                <a:lnTo>
                  <a:pt x="41128" y="27505"/>
                </a:lnTo>
                <a:lnTo>
                  <a:pt x="47806" y="26512"/>
                </a:lnTo>
                <a:lnTo>
                  <a:pt x="53950" y="26071"/>
                </a:lnTo>
                <a:lnTo>
                  <a:pt x="62395" y="25874"/>
                </a:lnTo>
                <a:lnTo>
                  <a:pt x="67314" y="25822"/>
                </a:lnTo>
                <a:lnTo>
                  <a:pt x="72499" y="24835"/>
                </a:lnTo>
                <a:lnTo>
                  <a:pt x="77860" y="23224"/>
                </a:lnTo>
                <a:lnTo>
                  <a:pt x="83339" y="21198"/>
                </a:lnTo>
                <a:lnTo>
                  <a:pt x="87945" y="19847"/>
                </a:lnTo>
                <a:lnTo>
                  <a:pt x="91967" y="18947"/>
                </a:lnTo>
                <a:lnTo>
                  <a:pt x="99929" y="17945"/>
                </a:lnTo>
                <a:lnTo>
                  <a:pt x="104719" y="17679"/>
                </a:lnTo>
                <a:lnTo>
                  <a:pt x="109818" y="17501"/>
                </a:lnTo>
                <a:lnTo>
                  <a:pt x="115122" y="16430"/>
                </a:lnTo>
                <a:lnTo>
                  <a:pt x="120563" y="14764"/>
                </a:lnTo>
                <a:lnTo>
                  <a:pt x="126095" y="12700"/>
                </a:lnTo>
                <a:lnTo>
                  <a:pt x="131689" y="11324"/>
                </a:lnTo>
                <a:lnTo>
                  <a:pt x="137322" y="10407"/>
                </a:lnTo>
                <a:lnTo>
                  <a:pt x="142983" y="9795"/>
                </a:lnTo>
                <a:lnTo>
                  <a:pt x="148662" y="9388"/>
                </a:lnTo>
                <a:lnTo>
                  <a:pt x="154353" y="9116"/>
                </a:lnTo>
                <a:lnTo>
                  <a:pt x="160052" y="8935"/>
                </a:lnTo>
                <a:lnTo>
                  <a:pt x="165757" y="7862"/>
                </a:lnTo>
                <a:lnTo>
                  <a:pt x="171465" y="6194"/>
                </a:lnTo>
                <a:lnTo>
                  <a:pt x="177174" y="4129"/>
                </a:lnTo>
                <a:lnTo>
                  <a:pt x="182886" y="2753"/>
                </a:lnTo>
                <a:lnTo>
                  <a:pt x="188599" y="1836"/>
                </a:lnTo>
                <a:lnTo>
                  <a:pt x="194313" y="1223"/>
                </a:lnTo>
                <a:lnTo>
                  <a:pt x="200027" y="816"/>
                </a:lnTo>
                <a:lnTo>
                  <a:pt x="205742" y="544"/>
                </a:lnTo>
                <a:lnTo>
                  <a:pt x="220345" y="161"/>
                </a:lnTo>
                <a:lnTo>
                  <a:pt x="258797" y="3"/>
                </a:lnTo>
                <a:lnTo>
                  <a:pt x="28289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MARTPenAnnotation1008"/>
          <p:cNvSpPr/>
          <p:nvPr/>
        </p:nvSpPr>
        <p:spPr>
          <a:xfrm>
            <a:off x="5318280" y="5168880"/>
            <a:ext cx="315720" cy="411120"/>
          </a:xfrm>
          <a:custGeom>
            <a:avLst/>
            <a:gdLst>
              <a:gd name="textAreaLeft" fmla="*/ 0 w 315720"/>
              <a:gd name="textAreaRight" fmla="*/ 316080 w 3157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316991" h="411467">
                <a:moveTo>
                  <a:pt x="291465" y="34280"/>
                </a:moveTo>
                <a:lnTo>
                  <a:pt x="291465" y="26899"/>
                </a:lnTo>
                <a:lnTo>
                  <a:pt x="290513" y="26502"/>
                </a:lnTo>
                <a:lnTo>
                  <a:pt x="282734" y="25778"/>
                </a:lnTo>
                <a:lnTo>
                  <a:pt x="258222" y="25710"/>
                </a:lnTo>
                <a:lnTo>
                  <a:pt x="254063" y="26662"/>
                </a:lnTo>
                <a:lnTo>
                  <a:pt x="243658" y="31600"/>
                </a:lnTo>
                <a:lnTo>
                  <a:pt x="237515" y="33089"/>
                </a:lnTo>
                <a:lnTo>
                  <a:pt x="229070" y="33751"/>
                </a:lnTo>
                <a:lnTo>
                  <a:pt x="218967" y="34045"/>
                </a:lnTo>
                <a:lnTo>
                  <a:pt x="208126" y="34175"/>
                </a:lnTo>
                <a:lnTo>
                  <a:pt x="202568" y="33258"/>
                </a:lnTo>
                <a:lnTo>
                  <a:pt x="196958" y="31694"/>
                </a:lnTo>
                <a:lnTo>
                  <a:pt x="191312" y="29698"/>
                </a:lnTo>
                <a:lnTo>
                  <a:pt x="185645" y="28368"/>
                </a:lnTo>
                <a:lnTo>
                  <a:pt x="179960" y="27481"/>
                </a:lnTo>
                <a:lnTo>
                  <a:pt x="174266" y="26890"/>
                </a:lnTo>
                <a:lnTo>
                  <a:pt x="168565" y="25543"/>
                </a:lnTo>
                <a:lnTo>
                  <a:pt x="162859" y="23693"/>
                </a:lnTo>
                <a:lnTo>
                  <a:pt x="157150" y="21507"/>
                </a:lnTo>
                <a:lnTo>
                  <a:pt x="148267" y="19078"/>
                </a:lnTo>
                <a:lnTo>
                  <a:pt x="140192" y="17046"/>
                </a:lnTo>
                <a:lnTo>
                  <a:pt x="135371" y="15171"/>
                </a:lnTo>
                <a:lnTo>
                  <a:pt x="125888" y="11500"/>
                </a:lnTo>
                <a:lnTo>
                  <a:pt x="116146" y="9433"/>
                </a:lnTo>
                <a:lnTo>
                  <a:pt x="113533" y="8949"/>
                </a:lnTo>
                <a:lnTo>
                  <a:pt x="109831" y="6195"/>
                </a:lnTo>
                <a:lnTo>
                  <a:pt x="107511" y="4126"/>
                </a:lnTo>
                <a:lnTo>
                  <a:pt x="105011" y="2748"/>
                </a:lnTo>
                <a:lnTo>
                  <a:pt x="99694" y="1216"/>
                </a:lnTo>
                <a:lnTo>
                  <a:pt x="91346" y="353"/>
                </a:lnTo>
                <a:lnTo>
                  <a:pt x="81668" y="22"/>
                </a:lnTo>
                <a:lnTo>
                  <a:pt x="78490" y="0"/>
                </a:lnTo>
                <a:lnTo>
                  <a:pt x="78045" y="949"/>
                </a:lnTo>
                <a:lnTo>
                  <a:pt x="77417" y="6836"/>
                </a:lnTo>
                <a:lnTo>
                  <a:pt x="77205" y="17359"/>
                </a:lnTo>
                <a:lnTo>
                  <a:pt x="77187" y="20141"/>
                </a:lnTo>
                <a:lnTo>
                  <a:pt x="76223" y="22949"/>
                </a:lnTo>
                <a:lnTo>
                  <a:pt x="72612" y="28609"/>
                </a:lnTo>
                <a:lnTo>
                  <a:pt x="70372" y="36840"/>
                </a:lnTo>
                <a:lnTo>
                  <a:pt x="69376" y="46848"/>
                </a:lnTo>
                <a:lnTo>
                  <a:pt x="68934" y="57646"/>
                </a:lnTo>
                <a:lnTo>
                  <a:pt x="68685" y="74435"/>
                </a:lnTo>
                <a:lnTo>
                  <a:pt x="68611" y="96026"/>
                </a:lnTo>
                <a:lnTo>
                  <a:pt x="67648" y="103066"/>
                </a:lnTo>
                <a:lnTo>
                  <a:pt x="66054" y="109665"/>
                </a:lnTo>
                <a:lnTo>
                  <a:pt x="62695" y="122077"/>
                </a:lnTo>
                <a:lnTo>
                  <a:pt x="61202" y="133943"/>
                </a:lnTo>
                <a:lnTo>
                  <a:pt x="60804" y="140727"/>
                </a:lnTo>
                <a:lnTo>
                  <a:pt x="60361" y="155885"/>
                </a:lnTo>
                <a:lnTo>
                  <a:pt x="59291" y="162975"/>
                </a:lnTo>
                <a:lnTo>
                  <a:pt x="57625" y="169607"/>
                </a:lnTo>
                <a:lnTo>
                  <a:pt x="54186" y="181103"/>
                </a:lnTo>
                <a:lnTo>
                  <a:pt x="52250" y="192930"/>
                </a:lnTo>
                <a:lnTo>
                  <a:pt x="51596" y="205460"/>
                </a:lnTo>
                <a:lnTo>
                  <a:pt x="51439" y="216613"/>
                </a:lnTo>
                <a:lnTo>
                  <a:pt x="51435" y="222767"/>
                </a:lnTo>
                <a:lnTo>
                  <a:pt x="51435" y="215485"/>
                </a:lnTo>
                <a:lnTo>
                  <a:pt x="58279" y="207692"/>
                </a:lnTo>
                <a:lnTo>
                  <a:pt x="63367" y="202474"/>
                </a:lnTo>
                <a:lnTo>
                  <a:pt x="71343" y="196981"/>
                </a:lnTo>
                <a:lnTo>
                  <a:pt x="80285" y="191364"/>
                </a:lnTo>
                <a:lnTo>
                  <a:pt x="87435" y="185693"/>
                </a:lnTo>
                <a:lnTo>
                  <a:pt x="96328" y="179997"/>
                </a:lnTo>
                <a:lnTo>
                  <a:pt x="105677" y="174291"/>
                </a:lnTo>
                <a:lnTo>
                  <a:pt x="113008" y="168580"/>
                </a:lnTo>
                <a:lnTo>
                  <a:pt x="118201" y="165723"/>
                </a:lnTo>
                <a:lnTo>
                  <a:pt x="124520" y="162866"/>
                </a:lnTo>
                <a:lnTo>
                  <a:pt x="131591" y="160009"/>
                </a:lnTo>
                <a:lnTo>
                  <a:pt x="138210" y="157152"/>
                </a:lnTo>
                <a:lnTo>
                  <a:pt x="150644" y="151437"/>
                </a:lnTo>
                <a:lnTo>
                  <a:pt x="168355" y="142865"/>
                </a:lnTo>
                <a:lnTo>
                  <a:pt x="175101" y="140960"/>
                </a:lnTo>
                <a:lnTo>
                  <a:pt x="182456" y="139690"/>
                </a:lnTo>
                <a:lnTo>
                  <a:pt x="190218" y="138843"/>
                </a:lnTo>
                <a:lnTo>
                  <a:pt x="197297" y="138279"/>
                </a:lnTo>
                <a:lnTo>
                  <a:pt x="203921" y="137902"/>
                </a:lnTo>
                <a:lnTo>
                  <a:pt x="216362" y="137484"/>
                </a:lnTo>
                <a:lnTo>
                  <a:pt x="228241" y="137299"/>
                </a:lnTo>
                <a:lnTo>
                  <a:pt x="234076" y="138202"/>
                </a:lnTo>
                <a:lnTo>
                  <a:pt x="239870" y="139756"/>
                </a:lnTo>
                <a:lnTo>
                  <a:pt x="245639" y="141745"/>
                </a:lnTo>
                <a:lnTo>
                  <a:pt x="251389" y="144023"/>
                </a:lnTo>
                <a:lnTo>
                  <a:pt x="257128" y="146495"/>
                </a:lnTo>
                <a:lnTo>
                  <a:pt x="262858" y="149095"/>
                </a:lnTo>
                <a:lnTo>
                  <a:pt x="268584" y="152733"/>
                </a:lnTo>
                <a:lnTo>
                  <a:pt x="274306" y="157064"/>
                </a:lnTo>
                <a:lnTo>
                  <a:pt x="280026" y="161856"/>
                </a:lnTo>
                <a:lnTo>
                  <a:pt x="285744" y="166003"/>
                </a:lnTo>
                <a:lnTo>
                  <a:pt x="291461" y="169721"/>
                </a:lnTo>
                <a:lnTo>
                  <a:pt x="297177" y="173151"/>
                </a:lnTo>
                <a:lnTo>
                  <a:pt x="306069" y="182043"/>
                </a:lnTo>
                <a:lnTo>
                  <a:pt x="309774" y="187081"/>
                </a:lnTo>
                <a:lnTo>
                  <a:pt x="313890" y="197759"/>
                </a:lnTo>
                <a:lnTo>
                  <a:pt x="315719" y="209808"/>
                </a:lnTo>
                <a:lnTo>
                  <a:pt x="316207" y="217021"/>
                </a:lnTo>
                <a:lnTo>
                  <a:pt x="316749" y="231703"/>
                </a:lnTo>
                <a:lnTo>
                  <a:pt x="316990" y="244579"/>
                </a:lnTo>
                <a:lnTo>
                  <a:pt x="316101" y="251632"/>
                </a:lnTo>
                <a:lnTo>
                  <a:pt x="314557" y="259192"/>
                </a:lnTo>
                <a:lnTo>
                  <a:pt x="312574" y="267089"/>
                </a:lnTo>
                <a:lnTo>
                  <a:pt x="310301" y="274258"/>
                </a:lnTo>
                <a:lnTo>
                  <a:pt x="307832" y="280943"/>
                </a:lnTo>
                <a:lnTo>
                  <a:pt x="305234" y="287305"/>
                </a:lnTo>
                <a:lnTo>
                  <a:pt x="302549" y="294403"/>
                </a:lnTo>
                <a:lnTo>
                  <a:pt x="297027" y="309910"/>
                </a:lnTo>
                <a:lnTo>
                  <a:pt x="294220" y="317093"/>
                </a:lnTo>
                <a:lnTo>
                  <a:pt x="291397" y="323788"/>
                </a:lnTo>
                <a:lnTo>
                  <a:pt x="284767" y="336305"/>
                </a:lnTo>
                <a:lnTo>
                  <a:pt x="275470" y="348219"/>
                </a:lnTo>
                <a:lnTo>
                  <a:pt x="270325" y="354062"/>
                </a:lnTo>
                <a:lnTo>
                  <a:pt x="259527" y="365636"/>
                </a:lnTo>
                <a:lnTo>
                  <a:pt x="253980" y="370436"/>
                </a:lnTo>
                <a:lnTo>
                  <a:pt x="248378" y="374589"/>
                </a:lnTo>
                <a:lnTo>
                  <a:pt x="242738" y="378310"/>
                </a:lnTo>
                <a:lnTo>
                  <a:pt x="236120" y="381744"/>
                </a:lnTo>
                <a:lnTo>
                  <a:pt x="228851" y="384985"/>
                </a:lnTo>
                <a:lnTo>
                  <a:pt x="221147" y="388098"/>
                </a:lnTo>
                <a:lnTo>
                  <a:pt x="214107" y="391126"/>
                </a:lnTo>
                <a:lnTo>
                  <a:pt x="201204" y="397031"/>
                </a:lnTo>
                <a:lnTo>
                  <a:pt x="183229" y="405710"/>
                </a:lnTo>
                <a:lnTo>
                  <a:pt x="177398" y="407630"/>
                </a:lnTo>
                <a:lnTo>
                  <a:pt x="171605" y="408910"/>
                </a:lnTo>
                <a:lnTo>
                  <a:pt x="165838" y="409763"/>
                </a:lnTo>
                <a:lnTo>
                  <a:pt x="159136" y="410333"/>
                </a:lnTo>
                <a:lnTo>
                  <a:pt x="151811" y="410712"/>
                </a:lnTo>
                <a:lnTo>
                  <a:pt x="137004" y="411133"/>
                </a:lnTo>
                <a:lnTo>
                  <a:pt x="109436" y="411404"/>
                </a:lnTo>
                <a:lnTo>
                  <a:pt x="63249" y="411466"/>
                </a:lnTo>
                <a:lnTo>
                  <a:pt x="58359" y="410515"/>
                </a:lnTo>
                <a:lnTo>
                  <a:pt x="50385" y="406918"/>
                </a:lnTo>
                <a:lnTo>
                  <a:pt x="41126" y="404685"/>
                </a:lnTo>
                <a:lnTo>
                  <a:pt x="35990" y="404089"/>
                </a:lnTo>
                <a:lnTo>
                  <a:pt x="32566" y="402739"/>
                </a:lnTo>
                <a:lnTo>
                  <a:pt x="30283" y="400888"/>
                </a:lnTo>
                <a:lnTo>
                  <a:pt x="28761" y="398700"/>
                </a:lnTo>
                <a:lnTo>
                  <a:pt x="25842" y="397242"/>
                </a:lnTo>
                <a:lnTo>
                  <a:pt x="17518" y="395622"/>
                </a:lnTo>
                <a:lnTo>
                  <a:pt x="14536" y="394237"/>
                </a:lnTo>
                <a:lnTo>
                  <a:pt x="12549" y="392361"/>
                </a:lnTo>
                <a:lnTo>
                  <a:pt x="11223" y="390159"/>
                </a:lnTo>
                <a:lnTo>
                  <a:pt x="9387" y="388690"/>
                </a:lnTo>
                <a:lnTo>
                  <a:pt x="7210" y="387711"/>
                </a:lnTo>
                <a:lnTo>
                  <a:pt x="1424" y="386139"/>
                </a:lnTo>
                <a:lnTo>
                  <a:pt x="950" y="385058"/>
                </a:lnTo>
                <a:lnTo>
                  <a:pt x="0" y="377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MARTPenAnnotation1009"/>
          <p:cNvSpPr/>
          <p:nvPr/>
        </p:nvSpPr>
        <p:spPr>
          <a:xfrm>
            <a:off x="5969160" y="5272200"/>
            <a:ext cx="506160" cy="255600"/>
          </a:xfrm>
          <a:custGeom>
            <a:avLst/>
            <a:gdLst>
              <a:gd name="textAreaLeft" fmla="*/ 0 w 506160"/>
              <a:gd name="textAreaRight" fmla="*/ 506520 w 5061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505629" h="255704">
                <a:moveTo>
                  <a:pt x="137010" y="68427"/>
                </a:moveTo>
                <a:lnTo>
                  <a:pt x="99497" y="68427"/>
                </a:lnTo>
                <a:lnTo>
                  <a:pt x="86631" y="72978"/>
                </a:lnTo>
                <a:lnTo>
                  <a:pt x="75305" y="80359"/>
                </a:lnTo>
                <a:lnTo>
                  <a:pt x="68945" y="85795"/>
                </a:lnTo>
                <a:lnTo>
                  <a:pt x="62944" y="91386"/>
                </a:lnTo>
                <a:lnTo>
                  <a:pt x="57102" y="97046"/>
                </a:lnTo>
                <a:lnTo>
                  <a:pt x="48790" y="102737"/>
                </a:lnTo>
                <a:lnTo>
                  <a:pt x="43907" y="105587"/>
                </a:lnTo>
                <a:lnTo>
                  <a:pt x="39699" y="109393"/>
                </a:lnTo>
                <a:lnTo>
                  <a:pt x="35941" y="113836"/>
                </a:lnTo>
                <a:lnTo>
                  <a:pt x="32483" y="118702"/>
                </a:lnTo>
                <a:lnTo>
                  <a:pt x="29225" y="123851"/>
                </a:lnTo>
                <a:lnTo>
                  <a:pt x="26101" y="129189"/>
                </a:lnTo>
                <a:lnTo>
                  <a:pt x="23066" y="134653"/>
                </a:lnTo>
                <a:lnTo>
                  <a:pt x="20090" y="139247"/>
                </a:lnTo>
                <a:lnTo>
                  <a:pt x="14243" y="146893"/>
                </a:lnTo>
                <a:lnTo>
                  <a:pt x="11350" y="151217"/>
                </a:lnTo>
                <a:lnTo>
                  <a:pt x="8470" y="156006"/>
                </a:lnTo>
                <a:lnTo>
                  <a:pt x="5596" y="161103"/>
                </a:lnTo>
                <a:lnTo>
                  <a:pt x="3681" y="166406"/>
                </a:lnTo>
                <a:lnTo>
                  <a:pt x="2404" y="171847"/>
                </a:lnTo>
                <a:lnTo>
                  <a:pt x="1553" y="177378"/>
                </a:lnTo>
                <a:lnTo>
                  <a:pt x="985" y="182971"/>
                </a:lnTo>
                <a:lnTo>
                  <a:pt x="606" y="188605"/>
                </a:lnTo>
                <a:lnTo>
                  <a:pt x="186" y="198992"/>
                </a:lnTo>
                <a:lnTo>
                  <a:pt x="0" y="206783"/>
                </a:lnTo>
                <a:lnTo>
                  <a:pt x="902" y="210195"/>
                </a:lnTo>
                <a:lnTo>
                  <a:pt x="4445" y="216525"/>
                </a:lnTo>
                <a:lnTo>
                  <a:pt x="6724" y="220499"/>
                </a:lnTo>
                <a:lnTo>
                  <a:pt x="15455" y="236949"/>
                </a:lnTo>
                <a:lnTo>
                  <a:pt x="21390" y="241116"/>
                </a:lnTo>
                <a:lnTo>
                  <a:pt x="29426" y="245190"/>
                </a:lnTo>
                <a:lnTo>
                  <a:pt x="44886" y="250346"/>
                </a:lnTo>
                <a:lnTo>
                  <a:pt x="54156" y="254055"/>
                </a:lnTo>
                <a:lnTo>
                  <a:pt x="61451" y="255703"/>
                </a:lnTo>
                <a:lnTo>
                  <a:pt x="64730" y="255190"/>
                </a:lnTo>
                <a:lnTo>
                  <a:pt x="74848" y="250870"/>
                </a:lnTo>
                <a:lnTo>
                  <a:pt x="88535" y="248214"/>
                </a:lnTo>
                <a:lnTo>
                  <a:pt x="95781" y="244218"/>
                </a:lnTo>
                <a:lnTo>
                  <a:pt x="102176" y="236726"/>
                </a:lnTo>
                <a:lnTo>
                  <a:pt x="105215" y="232062"/>
                </a:lnTo>
                <a:lnTo>
                  <a:pt x="111132" y="224338"/>
                </a:lnTo>
                <a:lnTo>
                  <a:pt x="116936" y="216779"/>
                </a:lnTo>
                <a:lnTo>
                  <a:pt x="119817" y="212095"/>
                </a:lnTo>
                <a:lnTo>
                  <a:pt x="122690" y="207068"/>
                </a:lnTo>
                <a:lnTo>
                  <a:pt x="128423" y="196403"/>
                </a:lnTo>
                <a:lnTo>
                  <a:pt x="131286" y="190892"/>
                </a:lnTo>
                <a:lnTo>
                  <a:pt x="134146" y="184361"/>
                </a:lnTo>
                <a:lnTo>
                  <a:pt x="137006" y="177148"/>
                </a:lnTo>
                <a:lnTo>
                  <a:pt x="139865" y="169483"/>
                </a:lnTo>
                <a:lnTo>
                  <a:pt x="141771" y="162468"/>
                </a:lnTo>
                <a:lnTo>
                  <a:pt x="143041" y="155886"/>
                </a:lnTo>
                <a:lnTo>
                  <a:pt x="143888" y="149593"/>
                </a:lnTo>
                <a:lnTo>
                  <a:pt x="144453" y="143493"/>
                </a:lnTo>
                <a:lnTo>
                  <a:pt x="144829" y="137521"/>
                </a:lnTo>
                <a:lnTo>
                  <a:pt x="145248" y="125805"/>
                </a:lnTo>
                <a:lnTo>
                  <a:pt x="145517" y="102762"/>
                </a:lnTo>
                <a:lnTo>
                  <a:pt x="145579" y="74647"/>
                </a:lnTo>
                <a:lnTo>
                  <a:pt x="144628" y="71621"/>
                </a:lnTo>
                <a:lnTo>
                  <a:pt x="141030" y="65719"/>
                </a:lnTo>
                <a:lnTo>
                  <a:pt x="138797" y="59921"/>
                </a:lnTo>
                <a:lnTo>
                  <a:pt x="138202" y="57041"/>
                </a:lnTo>
                <a:lnTo>
                  <a:pt x="135000" y="51302"/>
                </a:lnTo>
                <a:lnTo>
                  <a:pt x="128551" y="42859"/>
                </a:lnTo>
                <a:lnTo>
                  <a:pt x="128444" y="34940"/>
                </a:lnTo>
                <a:lnTo>
                  <a:pt x="128441" y="34494"/>
                </a:lnTo>
                <a:lnTo>
                  <a:pt x="140370" y="34169"/>
                </a:lnTo>
                <a:lnTo>
                  <a:pt x="143059" y="33206"/>
                </a:lnTo>
                <a:lnTo>
                  <a:pt x="151396" y="28252"/>
                </a:lnTo>
                <a:lnTo>
                  <a:pt x="157057" y="26759"/>
                </a:lnTo>
                <a:lnTo>
                  <a:pt x="170149" y="25918"/>
                </a:lnTo>
                <a:lnTo>
                  <a:pt x="174342" y="24848"/>
                </a:lnTo>
                <a:lnTo>
                  <a:pt x="187917" y="18826"/>
                </a:lnTo>
                <a:lnTo>
                  <a:pt x="199771" y="17354"/>
                </a:lnTo>
                <a:lnTo>
                  <a:pt x="212968" y="17099"/>
                </a:lnTo>
                <a:lnTo>
                  <a:pt x="224392" y="17024"/>
                </a:lnTo>
                <a:lnTo>
                  <a:pt x="227650" y="17966"/>
                </a:lnTo>
                <a:lnTo>
                  <a:pt x="233810" y="21553"/>
                </a:lnTo>
                <a:lnTo>
                  <a:pt x="242632" y="28927"/>
                </a:lnTo>
                <a:lnTo>
                  <a:pt x="245524" y="30663"/>
                </a:lnTo>
                <a:lnTo>
                  <a:pt x="254147" y="34061"/>
                </a:lnTo>
                <a:lnTo>
                  <a:pt x="259874" y="38230"/>
                </a:lnTo>
                <a:lnTo>
                  <a:pt x="261781" y="41629"/>
                </a:lnTo>
                <a:lnTo>
                  <a:pt x="263054" y="45799"/>
                </a:lnTo>
                <a:lnTo>
                  <a:pt x="263902" y="50484"/>
                </a:lnTo>
                <a:lnTo>
                  <a:pt x="267384" y="58230"/>
                </a:lnTo>
                <a:lnTo>
                  <a:pt x="269646" y="61629"/>
                </a:lnTo>
                <a:lnTo>
                  <a:pt x="271154" y="65800"/>
                </a:lnTo>
                <a:lnTo>
                  <a:pt x="272159" y="70486"/>
                </a:lnTo>
                <a:lnTo>
                  <a:pt x="272829" y="75515"/>
                </a:lnTo>
                <a:lnTo>
                  <a:pt x="274229" y="79820"/>
                </a:lnTo>
                <a:lnTo>
                  <a:pt x="278324" y="87143"/>
                </a:lnTo>
                <a:lnTo>
                  <a:pt x="280749" y="91382"/>
                </a:lnTo>
                <a:lnTo>
                  <a:pt x="285984" y="101172"/>
                </a:lnTo>
                <a:lnTo>
                  <a:pt x="287761" y="106449"/>
                </a:lnTo>
                <a:lnTo>
                  <a:pt x="288946" y="111873"/>
                </a:lnTo>
                <a:lnTo>
                  <a:pt x="289735" y="117394"/>
                </a:lnTo>
                <a:lnTo>
                  <a:pt x="291215" y="122979"/>
                </a:lnTo>
                <a:lnTo>
                  <a:pt x="293153" y="128607"/>
                </a:lnTo>
                <a:lnTo>
                  <a:pt x="295398" y="134265"/>
                </a:lnTo>
                <a:lnTo>
                  <a:pt x="297847" y="139941"/>
                </a:lnTo>
                <a:lnTo>
                  <a:pt x="303108" y="151329"/>
                </a:lnTo>
                <a:lnTo>
                  <a:pt x="304892" y="156080"/>
                </a:lnTo>
                <a:lnTo>
                  <a:pt x="306875" y="163899"/>
                </a:lnTo>
                <a:lnTo>
                  <a:pt x="308356" y="168270"/>
                </a:lnTo>
                <a:lnTo>
                  <a:pt x="310295" y="173089"/>
                </a:lnTo>
                <a:lnTo>
                  <a:pt x="312541" y="178207"/>
                </a:lnTo>
                <a:lnTo>
                  <a:pt x="314038" y="183524"/>
                </a:lnTo>
                <a:lnTo>
                  <a:pt x="315036" y="188973"/>
                </a:lnTo>
                <a:lnTo>
                  <a:pt x="315702" y="194511"/>
                </a:lnTo>
                <a:lnTo>
                  <a:pt x="316145" y="199156"/>
                </a:lnTo>
                <a:lnTo>
                  <a:pt x="316638" y="206856"/>
                </a:lnTo>
                <a:lnTo>
                  <a:pt x="316857" y="213454"/>
                </a:lnTo>
                <a:lnTo>
                  <a:pt x="316998" y="225450"/>
                </a:lnTo>
                <a:lnTo>
                  <a:pt x="317031" y="239372"/>
                </a:lnTo>
                <a:lnTo>
                  <a:pt x="309652" y="239833"/>
                </a:lnTo>
                <a:lnTo>
                  <a:pt x="304262" y="235313"/>
                </a:lnTo>
                <a:lnTo>
                  <a:pt x="296633" y="227941"/>
                </a:lnTo>
                <a:lnTo>
                  <a:pt x="288340" y="219725"/>
                </a:lnTo>
                <a:lnTo>
                  <a:pt x="286474" y="215965"/>
                </a:lnTo>
                <a:lnTo>
                  <a:pt x="285231" y="211553"/>
                </a:lnTo>
                <a:lnTo>
                  <a:pt x="284401" y="206707"/>
                </a:lnTo>
                <a:lnTo>
                  <a:pt x="282896" y="201572"/>
                </a:lnTo>
                <a:lnTo>
                  <a:pt x="280939" y="196242"/>
                </a:lnTo>
                <a:lnTo>
                  <a:pt x="278683" y="190785"/>
                </a:lnTo>
                <a:lnTo>
                  <a:pt x="277179" y="185241"/>
                </a:lnTo>
                <a:lnTo>
                  <a:pt x="276176" y="179641"/>
                </a:lnTo>
                <a:lnTo>
                  <a:pt x="275508" y="174002"/>
                </a:lnTo>
                <a:lnTo>
                  <a:pt x="276014" y="167386"/>
                </a:lnTo>
                <a:lnTo>
                  <a:pt x="277305" y="160117"/>
                </a:lnTo>
                <a:lnTo>
                  <a:pt x="279117" y="152413"/>
                </a:lnTo>
                <a:lnTo>
                  <a:pt x="281278" y="144421"/>
                </a:lnTo>
                <a:lnTo>
                  <a:pt x="286219" y="127920"/>
                </a:lnTo>
                <a:lnTo>
                  <a:pt x="288871" y="120471"/>
                </a:lnTo>
                <a:lnTo>
                  <a:pt x="291590" y="113601"/>
                </a:lnTo>
                <a:lnTo>
                  <a:pt x="294356" y="107115"/>
                </a:lnTo>
                <a:lnTo>
                  <a:pt x="298105" y="100887"/>
                </a:lnTo>
                <a:lnTo>
                  <a:pt x="302509" y="94830"/>
                </a:lnTo>
                <a:lnTo>
                  <a:pt x="307350" y="88886"/>
                </a:lnTo>
                <a:lnTo>
                  <a:pt x="311530" y="83019"/>
                </a:lnTo>
                <a:lnTo>
                  <a:pt x="315269" y="77203"/>
                </a:lnTo>
                <a:lnTo>
                  <a:pt x="318715" y="71420"/>
                </a:lnTo>
                <a:lnTo>
                  <a:pt x="322917" y="65660"/>
                </a:lnTo>
                <a:lnTo>
                  <a:pt x="327623" y="59915"/>
                </a:lnTo>
                <a:lnTo>
                  <a:pt x="332665" y="54180"/>
                </a:lnTo>
                <a:lnTo>
                  <a:pt x="337932" y="48451"/>
                </a:lnTo>
                <a:lnTo>
                  <a:pt x="348864" y="37006"/>
                </a:lnTo>
                <a:lnTo>
                  <a:pt x="354446" y="32240"/>
                </a:lnTo>
                <a:lnTo>
                  <a:pt x="365728" y="24404"/>
                </a:lnTo>
                <a:lnTo>
                  <a:pt x="377093" y="17747"/>
                </a:lnTo>
                <a:lnTo>
                  <a:pt x="388493" y="11612"/>
                </a:lnTo>
                <a:lnTo>
                  <a:pt x="399911" y="5711"/>
                </a:lnTo>
                <a:lnTo>
                  <a:pt x="411335" y="2453"/>
                </a:lnTo>
                <a:lnTo>
                  <a:pt x="422762" y="1005"/>
                </a:lnTo>
                <a:lnTo>
                  <a:pt x="434191" y="362"/>
                </a:lnTo>
                <a:lnTo>
                  <a:pt x="445620" y="76"/>
                </a:lnTo>
                <a:lnTo>
                  <a:pt x="451335" y="0"/>
                </a:lnTo>
                <a:lnTo>
                  <a:pt x="465305" y="2455"/>
                </a:lnTo>
                <a:lnTo>
                  <a:pt x="479134" y="5768"/>
                </a:lnTo>
                <a:lnTo>
                  <a:pt x="492274" y="7634"/>
                </a:lnTo>
                <a:lnTo>
                  <a:pt x="505628" y="84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MARTPenAnnotation1010"/>
          <p:cNvSpPr/>
          <p:nvPr/>
        </p:nvSpPr>
        <p:spPr>
          <a:xfrm>
            <a:off x="6672240" y="5040360"/>
            <a:ext cx="1106640" cy="34920"/>
          </a:xfrm>
          <a:custGeom>
            <a:avLst/>
            <a:gdLst>
              <a:gd name="textAreaLeft" fmla="*/ 0 w 1106640"/>
              <a:gd name="textAreaRight" fmla="*/ 1107000 w 110664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105854" h="34290">
                <a:moveTo>
                  <a:pt x="0" y="25718"/>
                </a:moveTo>
                <a:lnTo>
                  <a:pt x="7381" y="25718"/>
                </a:lnTo>
                <a:lnTo>
                  <a:pt x="9683" y="26671"/>
                </a:lnTo>
                <a:lnTo>
                  <a:pt x="13123" y="28258"/>
                </a:lnTo>
                <a:lnTo>
                  <a:pt x="23230" y="33099"/>
                </a:lnTo>
                <a:lnTo>
                  <a:pt x="29532" y="33937"/>
                </a:lnTo>
                <a:lnTo>
                  <a:pt x="62055" y="34277"/>
                </a:lnTo>
                <a:lnTo>
                  <a:pt x="97303" y="34289"/>
                </a:lnTo>
                <a:lnTo>
                  <a:pt x="103921" y="33337"/>
                </a:lnTo>
                <a:lnTo>
                  <a:pt x="110238" y="31750"/>
                </a:lnTo>
                <a:lnTo>
                  <a:pt x="116355" y="29740"/>
                </a:lnTo>
                <a:lnTo>
                  <a:pt x="122337" y="28399"/>
                </a:lnTo>
                <a:lnTo>
                  <a:pt x="128231" y="27505"/>
                </a:lnTo>
                <a:lnTo>
                  <a:pt x="140812" y="26512"/>
                </a:lnTo>
                <a:lnTo>
                  <a:pt x="155928" y="26071"/>
                </a:lnTo>
                <a:lnTo>
                  <a:pt x="163007" y="25001"/>
                </a:lnTo>
                <a:lnTo>
                  <a:pt x="169632" y="23335"/>
                </a:lnTo>
                <a:lnTo>
                  <a:pt x="175953" y="21272"/>
                </a:lnTo>
                <a:lnTo>
                  <a:pt x="183024" y="19897"/>
                </a:lnTo>
                <a:lnTo>
                  <a:pt x="190596" y="18979"/>
                </a:lnTo>
                <a:lnTo>
                  <a:pt x="206629" y="17961"/>
                </a:lnTo>
                <a:lnTo>
                  <a:pt x="240205" y="17307"/>
                </a:lnTo>
                <a:lnTo>
                  <a:pt x="258206" y="16265"/>
                </a:lnTo>
                <a:lnTo>
                  <a:pt x="268339" y="14653"/>
                </a:lnTo>
                <a:lnTo>
                  <a:pt x="278906" y="12626"/>
                </a:lnTo>
                <a:lnTo>
                  <a:pt x="288807" y="11276"/>
                </a:lnTo>
                <a:lnTo>
                  <a:pt x="298266" y="10375"/>
                </a:lnTo>
                <a:lnTo>
                  <a:pt x="317347" y="9374"/>
                </a:lnTo>
                <a:lnTo>
                  <a:pt x="349510" y="8811"/>
                </a:lnTo>
                <a:lnTo>
                  <a:pt x="730224" y="8573"/>
                </a:lnTo>
                <a:lnTo>
                  <a:pt x="742086" y="7621"/>
                </a:lnTo>
                <a:lnTo>
                  <a:pt x="753804" y="6033"/>
                </a:lnTo>
                <a:lnTo>
                  <a:pt x="765426" y="4023"/>
                </a:lnTo>
                <a:lnTo>
                  <a:pt x="776984" y="2682"/>
                </a:lnTo>
                <a:lnTo>
                  <a:pt x="788499" y="1788"/>
                </a:lnTo>
                <a:lnTo>
                  <a:pt x="811454" y="795"/>
                </a:lnTo>
                <a:lnTo>
                  <a:pt x="845798" y="236"/>
                </a:lnTo>
                <a:lnTo>
                  <a:pt x="1091381" y="0"/>
                </a:lnTo>
                <a:lnTo>
                  <a:pt x="1093347" y="953"/>
                </a:lnTo>
                <a:lnTo>
                  <a:pt x="1094658" y="2541"/>
                </a:lnTo>
                <a:lnTo>
                  <a:pt x="1095532" y="4552"/>
                </a:lnTo>
                <a:lnTo>
                  <a:pt x="1097067" y="5892"/>
                </a:lnTo>
                <a:lnTo>
                  <a:pt x="1099043" y="6786"/>
                </a:lnTo>
                <a:lnTo>
                  <a:pt x="1105453" y="8469"/>
                </a:lnTo>
                <a:lnTo>
                  <a:pt x="1105587" y="7551"/>
                </a:lnTo>
                <a:lnTo>
                  <a:pt x="1105676" y="5987"/>
                </a:lnTo>
                <a:lnTo>
                  <a:pt x="110585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MARTPenAnnotation1011"/>
          <p:cNvSpPr/>
          <p:nvPr/>
        </p:nvSpPr>
        <p:spPr>
          <a:xfrm>
            <a:off x="6851520" y="5211720"/>
            <a:ext cx="284400" cy="34920"/>
          </a:xfrm>
          <a:custGeom>
            <a:avLst/>
            <a:gdLst>
              <a:gd name="textAreaLeft" fmla="*/ 0 w 284400"/>
              <a:gd name="textAreaRight" fmla="*/ 284760 w 2844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82862" h="34289">
                <a:moveTo>
                  <a:pt x="17114" y="8570"/>
                </a:moveTo>
                <a:lnTo>
                  <a:pt x="12563" y="8570"/>
                </a:lnTo>
                <a:lnTo>
                  <a:pt x="11222" y="7618"/>
                </a:lnTo>
                <a:lnTo>
                  <a:pt x="10328" y="6030"/>
                </a:lnTo>
                <a:lnTo>
                  <a:pt x="8894" y="1189"/>
                </a:lnTo>
                <a:lnTo>
                  <a:pt x="7824" y="792"/>
                </a:lnTo>
                <a:lnTo>
                  <a:pt x="0" y="0"/>
                </a:lnTo>
                <a:lnTo>
                  <a:pt x="7352" y="7379"/>
                </a:lnTo>
                <a:lnTo>
                  <a:pt x="10553" y="8041"/>
                </a:lnTo>
                <a:lnTo>
                  <a:pt x="17709" y="8413"/>
                </a:lnTo>
                <a:lnTo>
                  <a:pt x="25588" y="8550"/>
                </a:lnTo>
                <a:lnTo>
                  <a:pt x="29770" y="8561"/>
                </a:lnTo>
                <a:lnTo>
                  <a:pt x="32219" y="9517"/>
                </a:lnTo>
                <a:lnTo>
                  <a:pt x="34803" y="11106"/>
                </a:lnTo>
                <a:lnTo>
                  <a:pt x="37479" y="13118"/>
                </a:lnTo>
                <a:lnTo>
                  <a:pt x="41168" y="14460"/>
                </a:lnTo>
                <a:lnTo>
                  <a:pt x="45532" y="15354"/>
                </a:lnTo>
                <a:lnTo>
                  <a:pt x="50347" y="15950"/>
                </a:lnTo>
                <a:lnTo>
                  <a:pt x="58236" y="16613"/>
                </a:lnTo>
                <a:lnTo>
                  <a:pt x="64918" y="16907"/>
                </a:lnTo>
                <a:lnTo>
                  <a:pt x="71062" y="17038"/>
                </a:lnTo>
                <a:lnTo>
                  <a:pt x="251394" y="17143"/>
                </a:lnTo>
                <a:lnTo>
                  <a:pt x="253310" y="18096"/>
                </a:lnTo>
                <a:lnTo>
                  <a:pt x="254588" y="19683"/>
                </a:lnTo>
                <a:lnTo>
                  <a:pt x="255440" y="21694"/>
                </a:lnTo>
                <a:lnTo>
                  <a:pt x="256960" y="23034"/>
                </a:lnTo>
                <a:lnTo>
                  <a:pt x="258927" y="23928"/>
                </a:lnTo>
                <a:lnTo>
                  <a:pt x="263651" y="24921"/>
                </a:lnTo>
                <a:lnTo>
                  <a:pt x="271905" y="25558"/>
                </a:lnTo>
                <a:lnTo>
                  <a:pt x="272700" y="25611"/>
                </a:lnTo>
                <a:lnTo>
                  <a:pt x="274182" y="26598"/>
                </a:lnTo>
                <a:lnTo>
                  <a:pt x="276122" y="28209"/>
                </a:lnTo>
                <a:lnTo>
                  <a:pt x="282861" y="3428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MARTPenAnnotation1012"/>
          <p:cNvSpPr/>
          <p:nvPr/>
        </p:nvSpPr>
        <p:spPr>
          <a:xfrm>
            <a:off x="7315200" y="5100480"/>
            <a:ext cx="7920" cy="196920"/>
          </a:xfrm>
          <a:custGeom>
            <a:avLst/>
            <a:gdLst>
              <a:gd name="textAreaLeft" fmla="*/ 0 w 7920"/>
              <a:gd name="textAreaRight" fmla="*/ 8280 w 79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8573" h="197168">
                <a:moveTo>
                  <a:pt x="8572" y="0"/>
                </a:moveTo>
                <a:lnTo>
                  <a:pt x="8572" y="54303"/>
                </a:lnTo>
                <a:lnTo>
                  <a:pt x="7620" y="57157"/>
                </a:lnTo>
                <a:lnTo>
                  <a:pt x="6032" y="60012"/>
                </a:lnTo>
                <a:lnTo>
                  <a:pt x="4021" y="62868"/>
                </a:lnTo>
                <a:lnTo>
                  <a:pt x="2681" y="65725"/>
                </a:lnTo>
                <a:lnTo>
                  <a:pt x="1787" y="68581"/>
                </a:lnTo>
                <a:lnTo>
                  <a:pt x="1192" y="71438"/>
                </a:lnTo>
                <a:lnTo>
                  <a:pt x="794" y="74296"/>
                </a:lnTo>
                <a:lnTo>
                  <a:pt x="530" y="77153"/>
                </a:lnTo>
                <a:lnTo>
                  <a:pt x="353" y="80011"/>
                </a:lnTo>
                <a:lnTo>
                  <a:pt x="157" y="88265"/>
                </a:lnTo>
                <a:lnTo>
                  <a:pt x="0" y="1971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MARTPenAnnotation1013"/>
          <p:cNvSpPr/>
          <p:nvPr/>
        </p:nvSpPr>
        <p:spPr>
          <a:xfrm>
            <a:off x="7323120" y="5100480"/>
            <a:ext cx="257040" cy="454320"/>
          </a:xfrm>
          <a:custGeom>
            <a:avLst/>
            <a:gdLst>
              <a:gd name="textAreaLeft" fmla="*/ 0 w 257040"/>
              <a:gd name="textAreaRight" fmla="*/ 257400 w 2570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57176" h="454343">
                <a:moveTo>
                  <a:pt x="257175" y="0"/>
                </a:moveTo>
                <a:lnTo>
                  <a:pt x="257175" y="7381"/>
                </a:lnTo>
                <a:lnTo>
                  <a:pt x="249795" y="15849"/>
                </a:lnTo>
                <a:lnTo>
                  <a:pt x="249133" y="19109"/>
                </a:lnTo>
                <a:lnTo>
                  <a:pt x="248956" y="21312"/>
                </a:lnTo>
                <a:lnTo>
                  <a:pt x="247885" y="23733"/>
                </a:lnTo>
                <a:lnTo>
                  <a:pt x="241828" y="31691"/>
                </a:lnTo>
                <a:lnTo>
                  <a:pt x="234001" y="41034"/>
                </a:lnTo>
                <a:lnTo>
                  <a:pt x="226602" y="54492"/>
                </a:lnTo>
                <a:lnTo>
                  <a:pt x="223034" y="65887"/>
                </a:lnTo>
                <a:lnTo>
                  <a:pt x="218824" y="75638"/>
                </a:lnTo>
                <a:lnTo>
                  <a:pt x="213777" y="86322"/>
                </a:lnTo>
                <a:lnTo>
                  <a:pt x="202777" y="108703"/>
                </a:lnTo>
                <a:lnTo>
                  <a:pt x="199002" y="114379"/>
                </a:lnTo>
                <a:lnTo>
                  <a:pt x="194581" y="120067"/>
                </a:lnTo>
                <a:lnTo>
                  <a:pt x="189728" y="125765"/>
                </a:lnTo>
                <a:lnTo>
                  <a:pt x="181797" y="137176"/>
                </a:lnTo>
                <a:lnTo>
                  <a:pt x="175096" y="148597"/>
                </a:lnTo>
                <a:lnTo>
                  <a:pt x="168943" y="160024"/>
                </a:lnTo>
                <a:lnTo>
                  <a:pt x="165016" y="165737"/>
                </a:lnTo>
                <a:lnTo>
                  <a:pt x="160493" y="171452"/>
                </a:lnTo>
                <a:lnTo>
                  <a:pt x="155573" y="177166"/>
                </a:lnTo>
                <a:lnTo>
                  <a:pt x="147567" y="188595"/>
                </a:lnTo>
                <a:lnTo>
                  <a:pt x="140832" y="200025"/>
                </a:lnTo>
                <a:lnTo>
                  <a:pt x="134664" y="211455"/>
                </a:lnTo>
                <a:lnTo>
                  <a:pt x="120062" y="240030"/>
                </a:lnTo>
                <a:lnTo>
                  <a:pt x="91442" y="297180"/>
                </a:lnTo>
                <a:lnTo>
                  <a:pt x="85726" y="306070"/>
                </a:lnTo>
                <a:lnTo>
                  <a:pt x="80010" y="314149"/>
                </a:lnTo>
                <a:lnTo>
                  <a:pt x="74295" y="324089"/>
                </a:lnTo>
                <a:lnTo>
                  <a:pt x="68580" y="332317"/>
                </a:lnTo>
                <a:lnTo>
                  <a:pt x="62865" y="340101"/>
                </a:lnTo>
                <a:lnTo>
                  <a:pt x="57150" y="349911"/>
                </a:lnTo>
                <a:lnTo>
                  <a:pt x="51435" y="358081"/>
                </a:lnTo>
                <a:lnTo>
                  <a:pt x="48578" y="361593"/>
                </a:lnTo>
                <a:lnTo>
                  <a:pt x="45403" y="368036"/>
                </a:lnTo>
                <a:lnTo>
                  <a:pt x="44556" y="371087"/>
                </a:lnTo>
                <a:lnTo>
                  <a:pt x="41075" y="377018"/>
                </a:lnTo>
                <a:lnTo>
                  <a:pt x="38814" y="379933"/>
                </a:lnTo>
                <a:lnTo>
                  <a:pt x="36301" y="385711"/>
                </a:lnTo>
                <a:lnTo>
                  <a:pt x="35630" y="388586"/>
                </a:lnTo>
                <a:lnTo>
                  <a:pt x="32346" y="394320"/>
                </a:lnTo>
                <a:lnTo>
                  <a:pt x="30137" y="397182"/>
                </a:lnTo>
                <a:lnTo>
                  <a:pt x="27682" y="402903"/>
                </a:lnTo>
                <a:lnTo>
                  <a:pt x="27027" y="405762"/>
                </a:lnTo>
                <a:lnTo>
                  <a:pt x="23760" y="411479"/>
                </a:lnTo>
                <a:lnTo>
                  <a:pt x="21555" y="414337"/>
                </a:lnTo>
                <a:lnTo>
                  <a:pt x="19105" y="420052"/>
                </a:lnTo>
                <a:lnTo>
                  <a:pt x="18451" y="422910"/>
                </a:lnTo>
                <a:lnTo>
                  <a:pt x="15186" y="428625"/>
                </a:lnTo>
                <a:lnTo>
                  <a:pt x="8960" y="436696"/>
                </a:lnTo>
                <a:lnTo>
                  <a:pt x="8687" y="441600"/>
                </a:lnTo>
                <a:lnTo>
                  <a:pt x="7696" y="442990"/>
                </a:lnTo>
                <a:lnTo>
                  <a:pt x="6083" y="443917"/>
                </a:lnTo>
                <a:lnTo>
                  <a:pt x="1202" y="445404"/>
                </a:lnTo>
                <a:lnTo>
                  <a:pt x="801" y="446479"/>
                </a:lnTo>
                <a:lnTo>
                  <a:pt x="0" y="45434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MARTPenAnnotation1014"/>
          <p:cNvSpPr/>
          <p:nvPr/>
        </p:nvSpPr>
        <p:spPr>
          <a:xfrm>
            <a:off x="7516800" y="5315040"/>
            <a:ext cx="347760" cy="222120"/>
          </a:xfrm>
          <a:custGeom>
            <a:avLst/>
            <a:gdLst>
              <a:gd name="textAreaLeft" fmla="*/ 0 w 347760"/>
              <a:gd name="textAreaRight" fmla="*/ 348120 w 3477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347577" h="222866">
                <a:moveTo>
                  <a:pt x="47538" y="34280"/>
                </a:moveTo>
                <a:lnTo>
                  <a:pt x="34519" y="34280"/>
                </a:lnTo>
                <a:lnTo>
                  <a:pt x="33144" y="33327"/>
                </a:lnTo>
                <a:lnTo>
                  <a:pt x="32227" y="31740"/>
                </a:lnTo>
                <a:lnTo>
                  <a:pt x="30393" y="25708"/>
                </a:lnTo>
                <a:lnTo>
                  <a:pt x="34944" y="21156"/>
                </a:lnTo>
                <a:lnTo>
                  <a:pt x="37237" y="19816"/>
                </a:lnTo>
                <a:lnTo>
                  <a:pt x="42325" y="18326"/>
                </a:lnTo>
                <a:lnTo>
                  <a:pt x="50544" y="17488"/>
                </a:lnTo>
                <a:lnTo>
                  <a:pt x="53352" y="16418"/>
                </a:lnTo>
                <a:lnTo>
                  <a:pt x="61855" y="11313"/>
                </a:lnTo>
                <a:lnTo>
                  <a:pt x="71359" y="8425"/>
                </a:lnTo>
                <a:lnTo>
                  <a:pt x="80668" y="4374"/>
                </a:lnTo>
                <a:lnTo>
                  <a:pt x="88615" y="1938"/>
                </a:lnTo>
                <a:lnTo>
                  <a:pt x="98444" y="567"/>
                </a:lnTo>
                <a:lnTo>
                  <a:pt x="105405" y="246"/>
                </a:lnTo>
                <a:lnTo>
                  <a:pt x="126326" y="24"/>
                </a:lnTo>
                <a:lnTo>
                  <a:pt x="135758" y="0"/>
                </a:lnTo>
                <a:lnTo>
                  <a:pt x="137785" y="949"/>
                </a:lnTo>
                <a:lnTo>
                  <a:pt x="139135" y="2534"/>
                </a:lnTo>
                <a:lnTo>
                  <a:pt x="140035" y="4543"/>
                </a:lnTo>
                <a:lnTo>
                  <a:pt x="141587" y="5883"/>
                </a:lnTo>
                <a:lnTo>
                  <a:pt x="143575" y="6776"/>
                </a:lnTo>
                <a:lnTo>
                  <a:pt x="145853" y="7372"/>
                </a:lnTo>
                <a:lnTo>
                  <a:pt x="150923" y="10573"/>
                </a:lnTo>
                <a:lnTo>
                  <a:pt x="156352" y="15171"/>
                </a:lnTo>
                <a:lnTo>
                  <a:pt x="161940" y="20389"/>
                </a:lnTo>
                <a:lnTo>
                  <a:pt x="163811" y="23114"/>
                </a:lnTo>
                <a:lnTo>
                  <a:pt x="165890" y="28683"/>
                </a:lnTo>
                <a:lnTo>
                  <a:pt x="166815" y="34332"/>
                </a:lnTo>
                <a:lnTo>
                  <a:pt x="167225" y="40018"/>
                </a:lnTo>
                <a:lnTo>
                  <a:pt x="167408" y="45720"/>
                </a:lnTo>
                <a:lnTo>
                  <a:pt x="166504" y="49527"/>
                </a:lnTo>
                <a:lnTo>
                  <a:pt x="164948" y="53970"/>
                </a:lnTo>
                <a:lnTo>
                  <a:pt x="162959" y="58836"/>
                </a:lnTo>
                <a:lnTo>
                  <a:pt x="160681" y="63033"/>
                </a:lnTo>
                <a:lnTo>
                  <a:pt x="158209" y="66784"/>
                </a:lnTo>
                <a:lnTo>
                  <a:pt x="155608" y="70237"/>
                </a:lnTo>
                <a:lnTo>
                  <a:pt x="152922" y="74443"/>
                </a:lnTo>
                <a:lnTo>
                  <a:pt x="150179" y="79153"/>
                </a:lnTo>
                <a:lnTo>
                  <a:pt x="147398" y="84198"/>
                </a:lnTo>
                <a:lnTo>
                  <a:pt x="141768" y="94883"/>
                </a:lnTo>
                <a:lnTo>
                  <a:pt x="138933" y="100399"/>
                </a:lnTo>
                <a:lnTo>
                  <a:pt x="136091" y="105029"/>
                </a:lnTo>
                <a:lnTo>
                  <a:pt x="133243" y="109069"/>
                </a:lnTo>
                <a:lnTo>
                  <a:pt x="130392" y="112714"/>
                </a:lnTo>
                <a:lnTo>
                  <a:pt x="127539" y="117049"/>
                </a:lnTo>
                <a:lnTo>
                  <a:pt x="124685" y="121844"/>
                </a:lnTo>
                <a:lnTo>
                  <a:pt x="121830" y="126946"/>
                </a:lnTo>
                <a:lnTo>
                  <a:pt x="118973" y="131300"/>
                </a:lnTo>
                <a:lnTo>
                  <a:pt x="116116" y="135155"/>
                </a:lnTo>
                <a:lnTo>
                  <a:pt x="110403" y="141978"/>
                </a:lnTo>
                <a:lnTo>
                  <a:pt x="104687" y="148185"/>
                </a:lnTo>
                <a:lnTo>
                  <a:pt x="101830" y="152127"/>
                </a:lnTo>
                <a:lnTo>
                  <a:pt x="98973" y="156659"/>
                </a:lnTo>
                <a:lnTo>
                  <a:pt x="96116" y="161586"/>
                </a:lnTo>
                <a:lnTo>
                  <a:pt x="92306" y="164871"/>
                </a:lnTo>
                <a:lnTo>
                  <a:pt x="87861" y="167060"/>
                </a:lnTo>
                <a:lnTo>
                  <a:pt x="78794" y="170446"/>
                </a:lnTo>
                <a:lnTo>
                  <a:pt x="71590" y="175125"/>
                </a:lnTo>
                <a:lnTo>
                  <a:pt x="65213" y="180380"/>
                </a:lnTo>
                <a:lnTo>
                  <a:pt x="62179" y="183115"/>
                </a:lnTo>
                <a:lnTo>
                  <a:pt x="59204" y="184938"/>
                </a:lnTo>
                <a:lnTo>
                  <a:pt x="50465" y="188457"/>
                </a:lnTo>
                <a:lnTo>
                  <a:pt x="41844" y="194156"/>
                </a:lnTo>
                <a:lnTo>
                  <a:pt x="36118" y="195823"/>
                </a:lnTo>
                <a:lnTo>
                  <a:pt x="34210" y="197220"/>
                </a:lnTo>
                <a:lnTo>
                  <a:pt x="32937" y="199104"/>
                </a:lnTo>
                <a:lnTo>
                  <a:pt x="32089" y="201313"/>
                </a:lnTo>
                <a:lnTo>
                  <a:pt x="30572" y="202785"/>
                </a:lnTo>
                <a:lnTo>
                  <a:pt x="28607" y="203767"/>
                </a:lnTo>
                <a:lnTo>
                  <a:pt x="23884" y="204857"/>
                </a:lnTo>
                <a:lnTo>
                  <a:pt x="13355" y="205653"/>
                </a:lnTo>
                <a:lnTo>
                  <a:pt x="519" y="205727"/>
                </a:lnTo>
                <a:lnTo>
                  <a:pt x="0" y="206680"/>
                </a:lnTo>
                <a:lnTo>
                  <a:pt x="606" y="208268"/>
                </a:lnTo>
                <a:lnTo>
                  <a:pt x="4438" y="213949"/>
                </a:lnTo>
                <a:lnTo>
                  <a:pt x="12889" y="214293"/>
                </a:lnTo>
                <a:lnTo>
                  <a:pt x="17692" y="218851"/>
                </a:lnTo>
                <a:lnTo>
                  <a:pt x="20021" y="220192"/>
                </a:lnTo>
                <a:lnTo>
                  <a:pt x="25148" y="221682"/>
                </a:lnTo>
                <a:lnTo>
                  <a:pt x="33142" y="222345"/>
                </a:lnTo>
                <a:lnTo>
                  <a:pt x="42092" y="222639"/>
                </a:lnTo>
                <a:lnTo>
                  <a:pt x="53439" y="222805"/>
                </a:lnTo>
                <a:lnTo>
                  <a:pt x="79371" y="222865"/>
                </a:lnTo>
                <a:lnTo>
                  <a:pt x="84953" y="221916"/>
                </a:lnTo>
                <a:lnTo>
                  <a:pt x="90579" y="220331"/>
                </a:lnTo>
                <a:lnTo>
                  <a:pt x="96234" y="218321"/>
                </a:lnTo>
                <a:lnTo>
                  <a:pt x="101909" y="216982"/>
                </a:lnTo>
                <a:lnTo>
                  <a:pt x="107598" y="216088"/>
                </a:lnTo>
                <a:lnTo>
                  <a:pt x="113295" y="215493"/>
                </a:lnTo>
                <a:lnTo>
                  <a:pt x="118999" y="215097"/>
                </a:lnTo>
                <a:lnTo>
                  <a:pt x="124706" y="214831"/>
                </a:lnTo>
                <a:lnTo>
                  <a:pt x="130416" y="214655"/>
                </a:lnTo>
                <a:lnTo>
                  <a:pt x="137080" y="213585"/>
                </a:lnTo>
                <a:lnTo>
                  <a:pt x="144380" y="211919"/>
                </a:lnTo>
                <a:lnTo>
                  <a:pt x="152105" y="209856"/>
                </a:lnTo>
                <a:lnTo>
                  <a:pt x="159159" y="208481"/>
                </a:lnTo>
                <a:lnTo>
                  <a:pt x="165767" y="207564"/>
                </a:lnTo>
                <a:lnTo>
                  <a:pt x="172077" y="206952"/>
                </a:lnTo>
                <a:lnTo>
                  <a:pt x="179142" y="206545"/>
                </a:lnTo>
                <a:lnTo>
                  <a:pt x="194611" y="206092"/>
                </a:lnTo>
                <a:lnTo>
                  <a:pt x="229525" y="205777"/>
                </a:lnTo>
                <a:lnTo>
                  <a:pt x="347576" y="2057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MARTPenAnnotation1015"/>
          <p:cNvSpPr/>
          <p:nvPr/>
        </p:nvSpPr>
        <p:spPr>
          <a:xfrm>
            <a:off x="765000" y="4740120"/>
            <a:ext cx="378000" cy="282600"/>
          </a:xfrm>
          <a:custGeom>
            <a:avLst/>
            <a:gdLst>
              <a:gd name="textAreaLeft" fmla="*/ 0 w 378000"/>
              <a:gd name="textAreaRight" fmla="*/ 378360 w 3780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377191" h="282890">
                <a:moveTo>
                  <a:pt x="0" y="51431"/>
                </a:moveTo>
                <a:lnTo>
                  <a:pt x="0" y="38412"/>
                </a:lnTo>
                <a:lnTo>
                  <a:pt x="953" y="37037"/>
                </a:lnTo>
                <a:lnTo>
                  <a:pt x="2540" y="36120"/>
                </a:lnTo>
                <a:lnTo>
                  <a:pt x="4551" y="35509"/>
                </a:lnTo>
                <a:lnTo>
                  <a:pt x="5892" y="34148"/>
                </a:lnTo>
                <a:lnTo>
                  <a:pt x="6786" y="32289"/>
                </a:lnTo>
                <a:lnTo>
                  <a:pt x="7381" y="30098"/>
                </a:lnTo>
                <a:lnTo>
                  <a:pt x="9683" y="28636"/>
                </a:lnTo>
                <a:lnTo>
                  <a:pt x="21073" y="25627"/>
                </a:lnTo>
                <a:lnTo>
                  <a:pt x="27781" y="21548"/>
                </a:lnTo>
                <a:lnTo>
                  <a:pt x="36477" y="19099"/>
                </a:lnTo>
                <a:lnTo>
                  <a:pt x="46692" y="17059"/>
                </a:lnTo>
                <a:lnTo>
                  <a:pt x="57582" y="12977"/>
                </a:lnTo>
                <a:lnTo>
                  <a:pt x="68772" y="7988"/>
                </a:lnTo>
                <a:lnTo>
                  <a:pt x="80096" y="3548"/>
                </a:lnTo>
                <a:lnTo>
                  <a:pt x="91478" y="1575"/>
                </a:lnTo>
                <a:lnTo>
                  <a:pt x="102887" y="698"/>
                </a:lnTo>
                <a:lnTo>
                  <a:pt x="108597" y="464"/>
                </a:lnTo>
                <a:lnTo>
                  <a:pt x="122560" y="204"/>
                </a:lnTo>
                <a:lnTo>
                  <a:pt x="185633" y="0"/>
                </a:lnTo>
                <a:lnTo>
                  <a:pt x="197121" y="2538"/>
                </a:lnTo>
                <a:lnTo>
                  <a:pt x="208577" y="5888"/>
                </a:lnTo>
                <a:lnTo>
                  <a:pt x="220019" y="7377"/>
                </a:lnTo>
                <a:lnTo>
                  <a:pt x="231454" y="10579"/>
                </a:lnTo>
                <a:lnTo>
                  <a:pt x="241934" y="15178"/>
                </a:lnTo>
                <a:lnTo>
                  <a:pt x="249766" y="20396"/>
                </a:lnTo>
                <a:lnTo>
                  <a:pt x="252236" y="24073"/>
                </a:lnTo>
                <a:lnTo>
                  <a:pt x="253883" y="28430"/>
                </a:lnTo>
                <a:lnTo>
                  <a:pt x="254980" y="33240"/>
                </a:lnTo>
                <a:lnTo>
                  <a:pt x="258740" y="41124"/>
                </a:lnTo>
                <a:lnTo>
                  <a:pt x="261076" y="44559"/>
                </a:lnTo>
                <a:lnTo>
                  <a:pt x="262633" y="48755"/>
                </a:lnTo>
                <a:lnTo>
                  <a:pt x="263671" y="53457"/>
                </a:lnTo>
                <a:lnTo>
                  <a:pt x="264364" y="58497"/>
                </a:lnTo>
                <a:lnTo>
                  <a:pt x="264825" y="63761"/>
                </a:lnTo>
                <a:lnTo>
                  <a:pt x="265133" y="69176"/>
                </a:lnTo>
                <a:lnTo>
                  <a:pt x="265475" y="80273"/>
                </a:lnTo>
                <a:lnTo>
                  <a:pt x="265626" y="91555"/>
                </a:lnTo>
                <a:lnTo>
                  <a:pt x="264714" y="96278"/>
                </a:lnTo>
                <a:lnTo>
                  <a:pt x="261161" y="104065"/>
                </a:lnTo>
                <a:lnTo>
                  <a:pt x="251119" y="123670"/>
                </a:lnTo>
                <a:lnTo>
                  <a:pt x="237128" y="151549"/>
                </a:lnTo>
                <a:lnTo>
                  <a:pt x="233333" y="156277"/>
                </a:lnTo>
                <a:lnTo>
                  <a:pt x="224036" y="164069"/>
                </a:lnTo>
                <a:lnTo>
                  <a:pt x="213554" y="170707"/>
                </a:lnTo>
                <a:lnTo>
                  <a:pt x="202546" y="176833"/>
                </a:lnTo>
                <a:lnTo>
                  <a:pt x="191303" y="182731"/>
                </a:lnTo>
                <a:lnTo>
                  <a:pt x="182496" y="188526"/>
                </a:lnTo>
                <a:lnTo>
                  <a:pt x="174455" y="194277"/>
                </a:lnTo>
                <a:lnTo>
                  <a:pt x="164531" y="200009"/>
                </a:lnTo>
                <a:lnTo>
                  <a:pt x="153770" y="203190"/>
                </a:lnTo>
                <a:lnTo>
                  <a:pt x="142637" y="204605"/>
                </a:lnTo>
                <a:lnTo>
                  <a:pt x="131340" y="205233"/>
                </a:lnTo>
                <a:lnTo>
                  <a:pt x="126612" y="206353"/>
                </a:lnTo>
                <a:lnTo>
                  <a:pt x="118820" y="210138"/>
                </a:lnTo>
                <a:lnTo>
                  <a:pt x="114456" y="210576"/>
                </a:lnTo>
                <a:lnTo>
                  <a:pt x="104527" y="208522"/>
                </a:lnTo>
                <a:lnTo>
                  <a:pt x="92778" y="206562"/>
                </a:lnTo>
                <a:lnTo>
                  <a:pt x="83264" y="205981"/>
                </a:lnTo>
                <a:lnTo>
                  <a:pt x="80275" y="204947"/>
                </a:lnTo>
                <a:lnTo>
                  <a:pt x="74413" y="201258"/>
                </a:lnTo>
                <a:lnTo>
                  <a:pt x="65758" y="193826"/>
                </a:lnTo>
                <a:lnTo>
                  <a:pt x="62889" y="192081"/>
                </a:lnTo>
                <a:lnTo>
                  <a:pt x="57161" y="190142"/>
                </a:lnTo>
                <a:lnTo>
                  <a:pt x="55252" y="188673"/>
                </a:lnTo>
                <a:lnTo>
                  <a:pt x="53980" y="186740"/>
                </a:lnTo>
                <a:lnTo>
                  <a:pt x="51938" y="181346"/>
                </a:lnTo>
                <a:lnTo>
                  <a:pt x="51535" y="173437"/>
                </a:lnTo>
                <a:lnTo>
                  <a:pt x="51480" y="168203"/>
                </a:lnTo>
                <a:lnTo>
                  <a:pt x="53370" y="166427"/>
                </a:lnTo>
                <a:lnTo>
                  <a:pt x="56535" y="165243"/>
                </a:lnTo>
                <a:lnTo>
                  <a:pt x="60550" y="164453"/>
                </a:lnTo>
                <a:lnTo>
                  <a:pt x="67551" y="161035"/>
                </a:lnTo>
                <a:lnTo>
                  <a:pt x="70752" y="158791"/>
                </a:lnTo>
                <a:lnTo>
                  <a:pt x="79388" y="156297"/>
                </a:lnTo>
                <a:lnTo>
                  <a:pt x="89576" y="155188"/>
                </a:lnTo>
                <a:lnTo>
                  <a:pt x="100454" y="154695"/>
                </a:lnTo>
                <a:lnTo>
                  <a:pt x="117289" y="154418"/>
                </a:lnTo>
                <a:lnTo>
                  <a:pt x="128646" y="156893"/>
                </a:lnTo>
                <a:lnTo>
                  <a:pt x="180528" y="174455"/>
                </a:lnTo>
                <a:lnTo>
                  <a:pt x="187980" y="177262"/>
                </a:lnTo>
                <a:lnTo>
                  <a:pt x="194853" y="180086"/>
                </a:lnTo>
                <a:lnTo>
                  <a:pt x="201339" y="182921"/>
                </a:lnTo>
                <a:lnTo>
                  <a:pt x="208521" y="186716"/>
                </a:lnTo>
                <a:lnTo>
                  <a:pt x="216167" y="191151"/>
                </a:lnTo>
                <a:lnTo>
                  <a:pt x="224121" y="196013"/>
                </a:lnTo>
                <a:lnTo>
                  <a:pt x="232282" y="200206"/>
                </a:lnTo>
                <a:lnTo>
                  <a:pt x="240580" y="203954"/>
                </a:lnTo>
                <a:lnTo>
                  <a:pt x="248969" y="207406"/>
                </a:lnTo>
                <a:lnTo>
                  <a:pt x="256467" y="211612"/>
                </a:lnTo>
                <a:lnTo>
                  <a:pt x="263371" y="216321"/>
                </a:lnTo>
                <a:lnTo>
                  <a:pt x="269878" y="221365"/>
                </a:lnTo>
                <a:lnTo>
                  <a:pt x="276121" y="225680"/>
                </a:lnTo>
                <a:lnTo>
                  <a:pt x="282189" y="229510"/>
                </a:lnTo>
                <a:lnTo>
                  <a:pt x="288138" y="233015"/>
                </a:lnTo>
                <a:lnTo>
                  <a:pt x="299829" y="239450"/>
                </a:lnTo>
                <a:lnTo>
                  <a:pt x="317121" y="248428"/>
                </a:lnTo>
                <a:lnTo>
                  <a:pt x="340031" y="259995"/>
                </a:lnTo>
                <a:lnTo>
                  <a:pt x="348928" y="265729"/>
                </a:lnTo>
                <a:lnTo>
                  <a:pt x="352633" y="268591"/>
                </a:lnTo>
                <a:lnTo>
                  <a:pt x="359291" y="271772"/>
                </a:lnTo>
                <a:lnTo>
                  <a:pt x="368395" y="273562"/>
                </a:lnTo>
                <a:lnTo>
                  <a:pt x="371326" y="273813"/>
                </a:lnTo>
                <a:lnTo>
                  <a:pt x="373281" y="274933"/>
                </a:lnTo>
                <a:lnTo>
                  <a:pt x="374584" y="276633"/>
                </a:lnTo>
                <a:lnTo>
                  <a:pt x="377190" y="2828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MARTPenAnnotation1016"/>
          <p:cNvSpPr/>
          <p:nvPr/>
        </p:nvSpPr>
        <p:spPr>
          <a:xfrm>
            <a:off x="1246320" y="4818240"/>
            <a:ext cx="274680" cy="231480"/>
          </a:xfrm>
          <a:custGeom>
            <a:avLst/>
            <a:gdLst>
              <a:gd name="textAreaLeft" fmla="*/ 0 w 274680"/>
              <a:gd name="textAreaRight" fmla="*/ 275040 w 27468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274321" h="231458">
                <a:moveTo>
                  <a:pt x="0" y="0"/>
                </a:moveTo>
                <a:lnTo>
                  <a:pt x="0" y="12770"/>
                </a:lnTo>
                <a:lnTo>
                  <a:pt x="953" y="14228"/>
                </a:lnTo>
                <a:lnTo>
                  <a:pt x="2540" y="15200"/>
                </a:lnTo>
                <a:lnTo>
                  <a:pt x="4551" y="15849"/>
                </a:lnTo>
                <a:lnTo>
                  <a:pt x="6844" y="18186"/>
                </a:lnTo>
                <a:lnTo>
                  <a:pt x="9326" y="21649"/>
                </a:lnTo>
                <a:lnTo>
                  <a:pt x="11932" y="25862"/>
                </a:lnTo>
                <a:lnTo>
                  <a:pt x="14828" y="33084"/>
                </a:lnTo>
                <a:lnTo>
                  <a:pt x="15601" y="36343"/>
                </a:lnTo>
                <a:lnTo>
                  <a:pt x="17068" y="40421"/>
                </a:lnTo>
                <a:lnTo>
                  <a:pt x="18999" y="45045"/>
                </a:lnTo>
                <a:lnTo>
                  <a:pt x="21239" y="50032"/>
                </a:lnTo>
                <a:lnTo>
                  <a:pt x="23684" y="54310"/>
                </a:lnTo>
                <a:lnTo>
                  <a:pt x="26267" y="58114"/>
                </a:lnTo>
                <a:lnTo>
                  <a:pt x="28942" y="61602"/>
                </a:lnTo>
                <a:lnTo>
                  <a:pt x="32630" y="65833"/>
                </a:lnTo>
                <a:lnTo>
                  <a:pt x="36993" y="70558"/>
                </a:lnTo>
                <a:lnTo>
                  <a:pt x="41807" y="75614"/>
                </a:lnTo>
                <a:lnTo>
                  <a:pt x="46922" y="81842"/>
                </a:lnTo>
                <a:lnTo>
                  <a:pt x="52236" y="88851"/>
                </a:lnTo>
                <a:lnTo>
                  <a:pt x="57684" y="96381"/>
                </a:lnTo>
                <a:lnTo>
                  <a:pt x="63221" y="103306"/>
                </a:lnTo>
                <a:lnTo>
                  <a:pt x="68818" y="109829"/>
                </a:lnTo>
                <a:lnTo>
                  <a:pt x="74454" y="116081"/>
                </a:lnTo>
                <a:lnTo>
                  <a:pt x="81068" y="122155"/>
                </a:lnTo>
                <a:lnTo>
                  <a:pt x="88336" y="128109"/>
                </a:lnTo>
                <a:lnTo>
                  <a:pt x="96038" y="133984"/>
                </a:lnTo>
                <a:lnTo>
                  <a:pt x="103078" y="139805"/>
                </a:lnTo>
                <a:lnTo>
                  <a:pt x="109676" y="145590"/>
                </a:lnTo>
                <a:lnTo>
                  <a:pt x="115980" y="151353"/>
                </a:lnTo>
                <a:lnTo>
                  <a:pt x="123040" y="157099"/>
                </a:lnTo>
                <a:lnTo>
                  <a:pt x="130604" y="162835"/>
                </a:lnTo>
                <a:lnTo>
                  <a:pt x="146629" y="174289"/>
                </a:lnTo>
                <a:lnTo>
                  <a:pt x="163276" y="185729"/>
                </a:lnTo>
                <a:lnTo>
                  <a:pt x="171716" y="190494"/>
                </a:lnTo>
                <a:lnTo>
                  <a:pt x="180200" y="194624"/>
                </a:lnTo>
                <a:lnTo>
                  <a:pt x="188714" y="198329"/>
                </a:lnTo>
                <a:lnTo>
                  <a:pt x="196294" y="202704"/>
                </a:lnTo>
                <a:lnTo>
                  <a:pt x="203253" y="207526"/>
                </a:lnTo>
                <a:lnTo>
                  <a:pt x="209797" y="212646"/>
                </a:lnTo>
                <a:lnTo>
                  <a:pt x="216065" y="216058"/>
                </a:lnTo>
                <a:lnTo>
                  <a:pt x="222148" y="218334"/>
                </a:lnTo>
                <a:lnTo>
                  <a:pt x="228109" y="219851"/>
                </a:lnTo>
                <a:lnTo>
                  <a:pt x="233988" y="221815"/>
                </a:lnTo>
                <a:lnTo>
                  <a:pt x="239812" y="224077"/>
                </a:lnTo>
                <a:lnTo>
                  <a:pt x="245600" y="226537"/>
                </a:lnTo>
                <a:lnTo>
                  <a:pt x="250411" y="228176"/>
                </a:lnTo>
                <a:lnTo>
                  <a:pt x="258296" y="229999"/>
                </a:lnTo>
                <a:lnTo>
                  <a:pt x="264976" y="230810"/>
                </a:lnTo>
                <a:lnTo>
                  <a:pt x="274320" y="2314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MARTPenAnnotation1017"/>
          <p:cNvSpPr/>
          <p:nvPr/>
        </p:nvSpPr>
        <p:spPr>
          <a:xfrm>
            <a:off x="1279440" y="4843440"/>
            <a:ext cx="198360" cy="163440"/>
          </a:xfrm>
          <a:custGeom>
            <a:avLst/>
            <a:gdLst>
              <a:gd name="textAreaLeft" fmla="*/ 0 w 198360"/>
              <a:gd name="textAreaRight" fmla="*/ 198720 w 1983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97169" h="162879">
                <a:moveTo>
                  <a:pt x="197168" y="0"/>
                </a:moveTo>
                <a:lnTo>
                  <a:pt x="197168" y="7381"/>
                </a:lnTo>
                <a:lnTo>
                  <a:pt x="194628" y="10583"/>
                </a:lnTo>
                <a:lnTo>
                  <a:pt x="190324" y="15181"/>
                </a:lnTo>
                <a:lnTo>
                  <a:pt x="185236" y="20400"/>
                </a:lnTo>
                <a:lnTo>
                  <a:pt x="181593" y="23125"/>
                </a:lnTo>
                <a:lnTo>
                  <a:pt x="177260" y="25895"/>
                </a:lnTo>
                <a:lnTo>
                  <a:pt x="172466" y="28693"/>
                </a:lnTo>
                <a:lnTo>
                  <a:pt x="168318" y="32464"/>
                </a:lnTo>
                <a:lnTo>
                  <a:pt x="164599" y="36883"/>
                </a:lnTo>
                <a:lnTo>
                  <a:pt x="161168" y="41733"/>
                </a:lnTo>
                <a:lnTo>
                  <a:pt x="156023" y="45920"/>
                </a:lnTo>
                <a:lnTo>
                  <a:pt x="149736" y="49664"/>
                </a:lnTo>
                <a:lnTo>
                  <a:pt x="142686" y="53111"/>
                </a:lnTo>
                <a:lnTo>
                  <a:pt x="137034" y="57315"/>
                </a:lnTo>
                <a:lnTo>
                  <a:pt x="132314" y="62023"/>
                </a:lnTo>
                <a:lnTo>
                  <a:pt x="128215" y="67066"/>
                </a:lnTo>
                <a:lnTo>
                  <a:pt x="123577" y="71381"/>
                </a:lnTo>
                <a:lnTo>
                  <a:pt x="118579" y="75210"/>
                </a:lnTo>
                <a:lnTo>
                  <a:pt x="92321" y="92750"/>
                </a:lnTo>
                <a:lnTo>
                  <a:pt x="86313" y="98028"/>
                </a:lnTo>
                <a:lnTo>
                  <a:pt x="81354" y="103453"/>
                </a:lnTo>
                <a:lnTo>
                  <a:pt x="77096" y="108974"/>
                </a:lnTo>
                <a:lnTo>
                  <a:pt x="71400" y="113607"/>
                </a:lnTo>
                <a:lnTo>
                  <a:pt x="64745" y="117647"/>
                </a:lnTo>
                <a:lnTo>
                  <a:pt x="57451" y="121295"/>
                </a:lnTo>
                <a:lnTo>
                  <a:pt x="51636" y="124678"/>
                </a:lnTo>
                <a:lnTo>
                  <a:pt x="46807" y="127886"/>
                </a:lnTo>
                <a:lnTo>
                  <a:pt x="42635" y="130978"/>
                </a:lnTo>
                <a:lnTo>
                  <a:pt x="38901" y="133991"/>
                </a:lnTo>
                <a:lnTo>
                  <a:pt x="35459" y="136952"/>
                </a:lnTo>
                <a:lnTo>
                  <a:pt x="32212" y="139879"/>
                </a:lnTo>
                <a:lnTo>
                  <a:pt x="26064" y="145671"/>
                </a:lnTo>
                <a:lnTo>
                  <a:pt x="23091" y="148549"/>
                </a:lnTo>
                <a:lnTo>
                  <a:pt x="20157" y="150468"/>
                </a:lnTo>
                <a:lnTo>
                  <a:pt x="14356" y="152600"/>
                </a:lnTo>
                <a:lnTo>
                  <a:pt x="12429" y="154121"/>
                </a:lnTo>
                <a:lnTo>
                  <a:pt x="11143" y="156087"/>
                </a:lnTo>
                <a:lnTo>
                  <a:pt x="10286" y="158351"/>
                </a:lnTo>
                <a:lnTo>
                  <a:pt x="8763" y="159860"/>
                </a:lnTo>
                <a:lnTo>
                  <a:pt x="6795" y="160866"/>
                </a:lnTo>
                <a:lnTo>
                  <a:pt x="0" y="16287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MARTPenAnnotation1018"/>
          <p:cNvSpPr/>
          <p:nvPr/>
        </p:nvSpPr>
        <p:spPr>
          <a:xfrm>
            <a:off x="1589040" y="4894200"/>
            <a:ext cx="308160" cy="52560"/>
          </a:xfrm>
          <a:custGeom>
            <a:avLst/>
            <a:gdLst>
              <a:gd name="textAreaLeft" fmla="*/ 0 w 308160"/>
              <a:gd name="textAreaRight" fmla="*/ 308520 w 3081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08611" h="51436">
                <a:moveTo>
                  <a:pt x="0" y="0"/>
                </a:moveTo>
                <a:lnTo>
                  <a:pt x="36074" y="0"/>
                </a:lnTo>
                <a:lnTo>
                  <a:pt x="40242" y="953"/>
                </a:lnTo>
                <a:lnTo>
                  <a:pt x="44926" y="2540"/>
                </a:lnTo>
                <a:lnTo>
                  <a:pt x="49953" y="4551"/>
                </a:lnTo>
                <a:lnTo>
                  <a:pt x="55210" y="5892"/>
                </a:lnTo>
                <a:lnTo>
                  <a:pt x="60619" y="6785"/>
                </a:lnTo>
                <a:lnTo>
                  <a:pt x="66130" y="7381"/>
                </a:lnTo>
                <a:lnTo>
                  <a:pt x="72662" y="8731"/>
                </a:lnTo>
                <a:lnTo>
                  <a:pt x="79874" y="10583"/>
                </a:lnTo>
                <a:lnTo>
                  <a:pt x="87539" y="12770"/>
                </a:lnTo>
                <a:lnTo>
                  <a:pt x="94555" y="14229"/>
                </a:lnTo>
                <a:lnTo>
                  <a:pt x="101137" y="15201"/>
                </a:lnTo>
                <a:lnTo>
                  <a:pt x="107429" y="15849"/>
                </a:lnTo>
                <a:lnTo>
                  <a:pt x="115435" y="17234"/>
                </a:lnTo>
                <a:lnTo>
                  <a:pt x="124582" y="19109"/>
                </a:lnTo>
                <a:lnTo>
                  <a:pt x="134490" y="21312"/>
                </a:lnTo>
                <a:lnTo>
                  <a:pt x="143952" y="22781"/>
                </a:lnTo>
                <a:lnTo>
                  <a:pt x="153119" y="23760"/>
                </a:lnTo>
                <a:lnTo>
                  <a:pt x="162087" y="24412"/>
                </a:lnTo>
                <a:lnTo>
                  <a:pt x="169970" y="25800"/>
                </a:lnTo>
                <a:lnTo>
                  <a:pt x="177131" y="27678"/>
                </a:lnTo>
                <a:lnTo>
                  <a:pt x="206863" y="37535"/>
                </a:lnTo>
                <a:lnTo>
                  <a:pt x="214109" y="39311"/>
                </a:lnTo>
                <a:lnTo>
                  <a:pt x="220844" y="40495"/>
                </a:lnTo>
                <a:lnTo>
                  <a:pt x="227240" y="41284"/>
                </a:lnTo>
                <a:lnTo>
                  <a:pt x="233408" y="41810"/>
                </a:lnTo>
                <a:lnTo>
                  <a:pt x="239425" y="42161"/>
                </a:lnTo>
                <a:lnTo>
                  <a:pt x="245342" y="42395"/>
                </a:lnTo>
                <a:lnTo>
                  <a:pt x="251192" y="43503"/>
                </a:lnTo>
                <a:lnTo>
                  <a:pt x="256996" y="45195"/>
                </a:lnTo>
                <a:lnTo>
                  <a:pt x="262771" y="47275"/>
                </a:lnTo>
                <a:lnTo>
                  <a:pt x="268526" y="48662"/>
                </a:lnTo>
                <a:lnTo>
                  <a:pt x="274267" y="49586"/>
                </a:lnTo>
                <a:lnTo>
                  <a:pt x="280000" y="50203"/>
                </a:lnTo>
                <a:lnTo>
                  <a:pt x="288910" y="50887"/>
                </a:lnTo>
                <a:lnTo>
                  <a:pt x="296045" y="51192"/>
                </a:lnTo>
                <a:lnTo>
                  <a:pt x="308610" y="514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MARTPenAnnotation1019"/>
          <p:cNvSpPr/>
          <p:nvPr/>
        </p:nvSpPr>
        <p:spPr>
          <a:xfrm>
            <a:off x="1743120" y="4818240"/>
            <a:ext cx="85680" cy="274320"/>
          </a:xfrm>
          <a:custGeom>
            <a:avLst/>
            <a:gdLst>
              <a:gd name="textAreaLeft" fmla="*/ 0 w 85680"/>
              <a:gd name="textAreaRight" fmla="*/ 86040 w 8568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85726" h="274321">
                <a:moveTo>
                  <a:pt x="0" y="0"/>
                </a:moveTo>
                <a:lnTo>
                  <a:pt x="4550" y="4550"/>
                </a:lnTo>
                <a:lnTo>
                  <a:pt x="5891" y="6843"/>
                </a:lnTo>
                <a:lnTo>
                  <a:pt x="7380" y="11931"/>
                </a:lnTo>
                <a:lnTo>
                  <a:pt x="8730" y="14622"/>
                </a:lnTo>
                <a:lnTo>
                  <a:pt x="10582" y="17368"/>
                </a:lnTo>
                <a:lnTo>
                  <a:pt x="12770" y="20151"/>
                </a:lnTo>
                <a:lnTo>
                  <a:pt x="14228" y="23911"/>
                </a:lnTo>
                <a:lnTo>
                  <a:pt x="15200" y="28323"/>
                </a:lnTo>
                <a:lnTo>
                  <a:pt x="15848" y="33169"/>
                </a:lnTo>
                <a:lnTo>
                  <a:pt x="17233" y="37353"/>
                </a:lnTo>
                <a:lnTo>
                  <a:pt x="19108" y="41094"/>
                </a:lnTo>
                <a:lnTo>
                  <a:pt x="21311" y="44541"/>
                </a:lnTo>
                <a:lnTo>
                  <a:pt x="22780" y="48744"/>
                </a:lnTo>
                <a:lnTo>
                  <a:pt x="23759" y="53451"/>
                </a:lnTo>
                <a:lnTo>
                  <a:pt x="24411" y="58494"/>
                </a:lnTo>
                <a:lnTo>
                  <a:pt x="25799" y="64713"/>
                </a:lnTo>
                <a:lnTo>
                  <a:pt x="27677" y="71717"/>
                </a:lnTo>
                <a:lnTo>
                  <a:pt x="29881" y="79244"/>
                </a:lnTo>
                <a:lnTo>
                  <a:pt x="31350" y="86167"/>
                </a:lnTo>
                <a:lnTo>
                  <a:pt x="32330" y="92687"/>
                </a:lnTo>
                <a:lnTo>
                  <a:pt x="32983" y="98938"/>
                </a:lnTo>
                <a:lnTo>
                  <a:pt x="34371" y="105012"/>
                </a:lnTo>
                <a:lnTo>
                  <a:pt x="36249" y="110965"/>
                </a:lnTo>
                <a:lnTo>
                  <a:pt x="38453" y="116839"/>
                </a:lnTo>
                <a:lnTo>
                  <a:pt x="39923" y="122660"/>
                </a:lnTo>
                <a:lnTo>
                  <a:pt x="40902" y="128446"/>
                </a:lnTo>
                <a:lnTo>
                  <a:pt x="41556" y="134208"/>
                </a:lnTo>
                <a:lnTo>
                  <a:pt x="41991" y="140907"/>
                </a:lnTo>
                <a:lnTo>
                  <a:pt x="42281" y="148230"/>
                </a:lnTo>
                <a:lnTo>
                  <a:pt x="42475" y="155970"/>
                </a:lnTo>
                <a:lnTo>
                  <a:pt x="43556" y="163035"/>
                </a:lnTo>
                <a:lnTo>
                  <a:pt x="45230" y="169650"/>
                </a:lnTo>
                <a:lnTo>
                  <a:pt x="47298" y="175964"/>
                </a:lnTo>
                <a:lnTo>
                  <a:pt x="49629" y="182080"/>
                </a:lnTo>
                <a:lnTo>
                  <a:pt x="52136" y="188061"/>
                </a:lnTo>
                <a:lnTo>
                  <a:pt x="54760" y="193954"/>
                </a:lnTo>
                <a:lnTo>
                  <a:pt x="56509" y="199787"/>
                </a:lnTo>
                <a:lnTo>
                  <a:pt x="57675" y="205582"/>
                </a:lnTo>
                <a:lnTo>
                  <a:pt x="58452" y="211349"/>
                </a:lnTo>
                <a:lnTo>
                  <a:pt x="59923" y="217099"/>
                </a:lnTo>
                <a:lnTo>
                  <a:pt x="61856" y="222838"/>
                </a:lnTo>
                <a:lnTo>
                  <a:pt x="64097" y="228568"/>
                </a:lnTo>
                <a:lnTo>
                  <a:pt x="65591" y="233341"/>
                </a:lnTo>
                <a:lnTo>
                  <a:pt x="67251" y="241184"/>
                </a:lnTo>
                <a:lnTo>
                  <a:pt x="68646" y="244609"/>
                </a:lnTo>
                <a:lnTo>
                  <a:pt x="70529" y="247846"/>
                </a:lnTo>
                <a:lnTo>
                  <a:pt x="72737" y="250955"/>
                </a:lnTo>
                <a:lnTo>
                  <a:pt x="75189" y="256951"/>
                </a:lnTo>
                <a:lnTo>
                  <a:pt x="75844" y="259883"/>
                </a:lnTo>
                <a:lnTo>
                  <a:pt x="77232" y="262790"/>
                </a:lnTo>
                <a:lnTo>
                  <a:pt x="79111" y="265681"/>
                </a:lnTo>
                <a:lnTo>
                  <a:pt x="85725" y="2743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MARTPenAnnotation1020"/>
          <p:cNvSpPr/>
          <p:nvPr/>
        </p:nvSpPr>
        <p:spPr>
          <a:xfrm>
            <a:off x="2043000" y="4775040"/>
            <a:ext cx="50760" cy="317520"/>
          </a:xfrm>
          <a:custGeom>
            <a:avLst/>
            <a:gdLst>
              <a:gd name="textAreaLeft" fmla="*/ 0 w 50760"/>
              <a:gd name="textAreaRight" fmla="*/ 51120 w 507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51436" h="317184">
                <a:moveTo>
                  <a:pt x="0" y="0"/>
                </a:moveTo>
                <a:lnTo>
                  <a:pt x="0" y="11932"/>
                </a:lnTo>
                <a:lnTo>
                  <a:pt x="952" y="14622"/>
                </a:lnTo>
                <a:lnTo>
                  <a:pt x="2540" y="17368"/>
                </a:lnTo>
                <a:lnTo>
                  <a:pt x="4551" y="20151"/>
                </a:lnTo>
                <a:lnTo>
                  <a:pt x="5892" y="23911"/>
                </a:lnTo>
                <a:lnTo>
                  <a:pt x="7381" y="33170"/>
                </a:lnTo>
                <a:lnTo>
                  <a:pt x="8731" y="38306"/>
                </a:lnTo>
                <a:lnTo>
                  <a:pt x="10583" y="43635"/>
                </a:lnTo>
                <a:lnTo>
                  <a:pt x="12770" y="49092"/>
                </a:lnTo>
                <a:lnTo>
                  <a:pt x="14228" y="54636"/>
                </a:lnTo>
                <a:lnTo>
                  <a:pt x="15201" y="60236"/>
                </a:lnTo>
                <a:lnTo>
                  <a:pt x="15849" y="65875"/>
                </a:lnTo>
                <a:lnTo>
                  <a:pt x="16281" y="72492"/>
                </a:lnTo>
                <a:lnTo>
                  <a:pt x="16569" y="79760"/>
                </a:lnTo>
                <a:lnTo>
                  <a:pt x="16974" y="101103"/>
                </a:lnTo>
                <a:lnTo>
                  <a:pt x="17111" y="129932"/>
                </a:lnTo>
                <a:lnTo>
                  <a:pt x="18075" y="138056"/>
                </a:lnTo>
                <a:lnTo>
                  <a:pt x="19670" y="146330"/>
                </a:lnTo>
                <a:lnTo>
                  <a:pt x="21686" y="154704"/>
                </a:lnTo>
                <a:lnTo>
                  <a:pt x="23030" y="163143"/>
                </a:lnTo>
                <a:lnTo>
                  <a:pt x="23926" y="171628"/>
                </a:lnTo>
                <a:lnTo>
                  <a:pt x="24523" y="180141"/>
                </a:lnTo>
                <a:lnTo>
                  <a:pt x="25874" y="187721"/>
                </a:lnTo>
                <a:lnTo>
                  <a:pt x="27727" y="194680"/>
                </a:lnTo>
                <a:lnTo>
                  <a:pt x="29914" y="201225"/>
                </a:lnTo>
                <a:lnTo>
                  <a:pt x="31373" y="207492"/>
                </a:lnTo>
                <a:lnTo>
                  <a:pt x="32345" y="213576"/>
                </a:lnTo>
                <a:lnTo>
                  <a:pt x="32993" y="219536"/>
                </a:lnTo>
                <a:lnTo>
                  <a:pt x="33425" y="225415"/>
                </a:lnTo>
                <a:lnTo>
                  <a:pt x="33714" y="231239"/>
                </a:lnTo>
                <a:lnTo>
                  <a:pt x="34034" y="242791"/>
                </a:lnTo>
                <a:lnTo>
                  <a:pt x="34176" y="254274"/>
                </a:lnTo>
                <a:lnTo>
                  <a:pt x="35167" y="260004"/>
                </a:lnTo>
                <a:lnTo>
                  <a:pt x="36779" y="265729"/>
                </a:lnTo>
                <a:lnTo>
                  <a:pt x="38807" y="271450"/>
                </a:lnTo>
                <a:lnTo>
                  <a:pt x="40159" y="276217"/>
                </a:lnTo>
                <a:lnTo>
                  <a:pt x="41661" y="284053"/>
                </a:lnTo>
                <a:lnTo>
                  <a:pt x="42506" y="293820"/>
                </a:lnTo>
                <a:lnTo>
                  <a:pt x="42757" y="302746"/>
                </a:lnTo>
                <a:lnTo>
                  <a:pt x="42831" y="311423"/>
                </a:lnTo>
                <a:lnTo>
                  <a:pt x="43794" y="313343"/>
                </a:lnTo>
                <a:lnTo>
                  <a:pt x="45389" y="314623"/>
                </a:lnTo>
                <a:lnTo>
                  <a:pt x="51435" y="31718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MARTPenAnnotation1021"/>
          <p:cNvSpPr/>
          <p:nvPr/>
        </p:nvSpPr>
        <p:spPr>
          <a:xfrm>
            <a:off x="2232000" y="4869000"/>
            <a:ext cx="247680" cy="25200"/>
          </a:xfrm>
          <a:custGeom>
            <a:avLst/>
            <a:gdLst>
              <a:gd name="textAreaLeft" fmla="*/ 0 w 247680"/>
              <a:gd name="textAreaRight" fmla="*/ 248040 w 2476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48603" h="25709">
                <a:moveTo>
                  <a:pt x="0" y="8563"/>
                </a:moveTo>
                <a:lnTo>
                  <a:pt x="7381" y="8563"/>
                </a:lnTo>
                <a:lnTo>
                  <a:pt x="8731" y="7611"/>
                </a:lnTo>
                <a:lnTo>
                  <a:pt x="10583" y="6023"/>
                </a:lnTo>
                <a:lnTo>
                  <a:pt x="12770" y="4013"/>
                </a:lnTo>
                <a:lnTo>
                  <a:pt x="15181" y="2672"/>
                </a:lnTo>
                <a:lnTo>
                  <a:pt x="17741" y="1778"/>
                </a:lnTo>
                <a:lnTo>
                  <a:pt x="20400" y="1182"/>
                </a:lnTo>
                <a:lnTo>
                  <a:pt x="25030" y="785"/>
                </a:lnTo>
                <a:lnTo>
                  <a:pt x="30974" y="520"/>
                </a:lnTo>
                <a:lnTo>
                  <a:pt x="50453" y="147"/>
                </a:lnTo>
                <a:lnTo>
                  <a:pt x="95933" y="0"/>
                </a:lnTo>
                <a:lnTo>
                  <a:pt x="103961" y="949"/>
                </a:lnTo>
                <a:lnTo>
                  <a:pt x="112169" y="2535"/>
                </a:lnTo>
                <a:lnTo>
                  <a:pt x="120500" y="4544"/>
                </a:lnTo>
                <a:lnTo>
                  <a:pt x="127958" y="5883"/>
                </a:lnTo>
                <a:lnTo>
                  <a:pt x="134835" y="6777"/>
                </a:lnTo>
                <a:lnTo>
                  <a:pt x="141325" y="7372"/>
                </a:lnTo>
                <a:lnTo>
                  <a:pt x="148509" y="7769"/>
                </a:lnTo>
                <a:lnTo>
                  <a:pt x="164112" y="8210"/>
                </a:lnTo>
                <a:lnTo>
                  <a:pt x="171320" y="9281"/>
                </a:lnTo>
                <a:lnTo>
                  <a:pt x="178031" y="10946"/>
                </a:lnTo>
                <a:lnTo>
                  <a:pt x="184410" y="13009"/>
                </a:lnTo>
                <a:lnTo>
                  <a:pt x="190567" y="14385"/>
                </a:lnTo>
                <a:lnTo>
                  <a:pt x="196577" y="15302"/>
                </a:lnTo>
                <a:lnTo>
                  <a:pt x="202489" y="15913"/>
                </a:lnTo>
                <a:lnTo>
                  <a:pt x="208335" y="16320"/>
                </a:lnTo>
                <a:lnTo>
                  <a:pt x="214138" y="16593"/>
                </a:lnTo>
                <a:lnTo>
                  <a:pt x="228866" y="16975"/>
                </a:lnTo>
                <a:lnTo>
                  <a:pt x="242376" y="17104"/>
                </a:lnTo>
                <a:lnTo>
                  <a:pt x="244451" y="18067"/>
                </a:lnTo>
                <a:lnTo>
                  <a:pt x="245835" y="19662"/>
                </a:lnTo>
                <a:lnTo>
                  <a:pt x="248602" y="257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MARTPenAnnotation1022"/>
          <p:cNvSpPr/>
          <p:nvPr/>
        </p:nvSpPr>
        <p:spPr>
          <a:xfrm>
            <a:off x="2259000" y="4929120"/>
            <a:ext cx="255600" cy="68400"/>
          </a:xfrm>
          <a:custGeom>
            <a:avLst/>
            <a:gdLst>
              <a:gd name="textAreaLeft" fmla="*/ 0 w 255600"/>
              <a:gd name="textAreaRight" fmla="*/ 255960 w 2556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55976" h="68581">
                <a:moveTo>
                  <a:pt x="15944" y="0"/>
                </a:moveTo>
                <a:lnTo>
                  <a:pt x="0" y="15944"/>
                </a:lnTo>
                <a:lnTo>
                  <a:pt x="552" y="17297"/>
                </a:lnTo>
                <a:lnTo>
                  <a:pt x="1873" y="19152"/>
                </a:lnTo>
                <a:lnTo>
                  <a:pt x="3706" y="21340"/>
                </a:lnTo>
                <a:lnTo>
                  <a:pt x="5880" y="22799"/>
                </a:lnTo>
                <a:lnTo>
                  <a:pt x="10837" y="24421"/>
                </a:lnTo>
                <a:lnTo>
                  <a:pt x="14444" y="25805"/>
                </a:lnTo>
                <a:lnTo>
                  <a:pt x="18754" y="27681"/>
                </a:lnTo>
                <a:lnTo>
                  <a:pt x="23533" y="29884"/>
                </a:lnTo>
                <a:lnTo>
                  <a:pt x="28623" y="31353"/>
                </a:lnTo>
                <a:lnTo>
                  <a:pt x="33922" y="32332"/>
                </a:lnTo>
                <a:lnTo>
                  <a:pt x="39359" y="32985"/>
                </a:lnTo>
                <a:lnTo>
                  <a:pt x="44890" y="34372"/>
                </a:lnTo>
                <a:lnTo>
                  <a:pt x="50481" y="36250"/>
                </a:lnTo>
                <a:lnTo>
                  <a:pt x="56114" y="38454"/>
                </a:lnTo>
                <a:lnTo>
                  <a:pt x="62727" y="39924"/>
                </a:lnTo>
                <a:lnTo>
                  <a:pt x="69993" y="40903"/>
                </a:lnTo>
                <a:lnTo>
                  <a:pt x="77694" y="41556"/>
                </a:lnTo>
                <a:lnTo>
                  <a:pt x="85686" y="42944"/>
                </a:lnTo>
                <a:lnTo>
                  <a:pt x="93871" y="44822"/>
                </a:lnTo>
                <a:lnTo>
                  <a:pt x="102186" y="47027"/>
                </a:lnTo>
                <a:lnTo>
                  <a:pt x="109634" y="48496"/>
                </a:lnTo>
                <a:lnTo>
                  <a:pt x="116504" y="49476"/>
                </a:lnTo>
                <a:lnTo>
                  <a:pt x="122989" y="50129"/>
                </a:lnTo>
                <a:lnTo>
                  <a:pt x="130170" y="51517"/>
                </a:lnTo>
                <a:lnTo>
                  <a:pt x="137815" y="53394"/>
                </a:lnTo>
                <a:lnTo>
                  <a:pt x="145769" y="55599"/>
                </a:lnTo>
                <a:lnTo>
                  <a:pt x="152977" y="57069"/>
                </a:lnTo>
                <a:lnTo>
                  <a:pt x="159687" y="58048"/>
                </a:lnTo>
                <a:lnTo>
                  <a:pt x="166065" y="58701"/>
                </a:lnTo>
                <a:lnTo>
                  <a:pt x="173175" y="60089"/>
                </a:lnTo>
                <a:lnTo>
                  <a:pt x="180772" y="61967"/>
                </a:lnTo>
                <a:lnTo>
                  <a:pt x="188695" y="64171"/>
                </a:lnTo>
                <a:lnTo>
                  <a:pt x="194929" y="65641"/>
                </a:lnTo>
                <a:lnTo>
                  <a:pt x="200037" y="66621"/>
                </a:lnTo>
                <a:lnTo>
                  <a:pt x="204395" y="67273"/>
                </a:lnTo>
                <a:lnTo>
                  <a:pt x="209206" y="67709"/>
                </a:lnTo>
                <a:lnTo>
                  <a:pt x="214318" y="68000"/>
                </a:lnTo>
                <a:lnTo>
                  <a:pt x="225078" y="68322"/>
                </a:lnTo>
                <a:lnTo>
                  <a:pt x="255975" y="685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MARTPenAnnotation1023"/>
          <p:cNvSpPr/>
          <p:nvPr/>
        </p:nvSpPr>
        <p:spPr>
          <a:xfrm>
            <a:off x="2617920" y="4843440"/>
            <a:ext cx="257040" cy="196920"/>
          </a:xfrm>
          <a:custGeom>
            <a:avLst/>
            <a:gdLst>
              <a:gd name="textAreaLeft" fmla="*/ 0 w 257040"/>
              <a:gd name="textAreaRight" fmla="*/ 257400 w 25704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56863" h="196771">
                <a:moveTo>
                  <a:pt x="77001" y="17145"/>
                </a:moveTo>
                <a:lnTo>
                  <a:pt x="85469" y="8677"/>
                </a:lnTo>
                <a:lnTo>
                  <a:pt x="85553" y="3654"/>
                </a:lnTo>
                <a:lnTo>
                  <a:pt x="85564" y="5752"/>
                </a:lnTo>
                <a:lnTo>
                  <a:pt x="84615" y="6692"/>
                </a:lnTo>
                <a:lnTo>
                  <a:pt x="83030" y="7319"/>
                </a:lnTo>
                <a:lnTo>
                  <a:pt x="76247" y="8201"/>
                </a:lnTo>
                <a:lnTo>
                  <a:pt x="73641" y="8325"/>
                </a:lnTo>
                <a:lnTo>
                  <a:pt x="70951" y="9360"/>
                </a:lnTo>
                <a:lnTo>
                  <a:pt x="65422" y="13050"/>
                </a:lnTo>
                <a:lnTo>
                  <a:pt x="59790" y="17865"/>
                </a:lnTo>
                <a:lnTo>
                  <a:pt x="54112" y="23180"/>
                </a:lnTo>
                <a:lnTo>
                  <a:pt x="48413" y="28717"/>
                </a:lnTo>
                <a:lnTo>
                  <a:pt x="44607" y="31528"/>
                </a:lnTo>
                <a:lnTo>
                  <a:pt x="40165" y="34353"/>
                </a:lnTo>
                <a:lnTo>
                  <a:pt x="35299" y="37190"/>
                </a:lnTo>
                <a:lnTo>
                  <a:pt x="31102" y="40986"/>
                </a:lnTo>
                <a:lnTo>
                  <a:pt x="27352" y="45421"/>
                </a:lnTo>
                <a:lnTo>
                  <a:pt x="23899" y="50283"/>
                </a:lnTo>
                <a:lnTo>
                  <a:pt x="20644" y="55430"/>
                </a:lnTo>
                <a:lnTo>
                  <a:pt x="17523" y="60766"/>
                </a:lnTo>
                <a:lnTo>
                  <a:pt x="14489" y="66228"/>
                </a:lnTo>
                <a:lnTo>
                  <a:pt x="11514" y="70822"/>
                </a:lnTo>
                <a:lnTo>
                  <a:pt x="8578" y="74837"/>
                </a:lnTo>
                <a:lnTo>
                  <a:pt x="5668" y="78467"/>
                </a:lnTo>
                <a:lnTo>
                  <a:pt x="3728" y="82791"/>
                </a:lnTo>
                <a:lnTo>
                  <a:pt x="2435" y="87580"/>
                </a:lnTo>
                <a:lnTo>
                  <a:pt x="1573" y="92676"/>
                </a:lnTo>
                <a:lnTo>
                  <a:pt x="998" y="97979"/>
                </a:lnTo>
                <a:lnTo>
                  <a:pt x="615" y="103420"/>
                </a:lnTo>
                <a:lnTo>
                  <a:pt x="359" y="108951"/>
                </a:lnTo>
                <a:lnTo>
                  <a:pt x="76" y="120178"/>
                </a:lnTo>
                <a:lnTo>
                  <a:pt x="0" y="125838"/>
                </a:lnTo>
                <a:lnTo>
                  <a:pt x="902" y="130565"/>
                </a:lnTo>
                <a:lnTo>
                  <a:pt x="2456" y="134669"/>
                </a:lnTo>
                <a:lnTo>
                  <a:pt x="6722" y="142720"/>
                </a:lnTo>
                <a:lnTo>
                  <a:pt x="11793" y="152648"/>
                </a:lnTo>
                <a:lnTo>
                  <a:pt x="14479" y="157011"/>
                </a:lnTo>
                <a:lnTo>
                  <a:pt x="17222" y="160872"/>
                </a:lnTo>
                <a:lnTo>
                  <a:pt x="20004" y="164398"/>
                </a:lnTo>
                <a:lnTo>
                  <a:pt x="23763" y="167701"/>
                </a:lnTo>
                <a:lnTo>
                  <a:pt x="28174" y="170856"/>
                </a:lnTo>
                <a:lnTo>
                  <a:pt x="33020" y="173911"/>
                </a:lnTo>
                <a:lnTo>
                  <a:pt x="39107" y="176901"/>
                </a:lnTo>
                <a:lnTo>
                  <a:pt x="46024" y="179847"/>
                </a:lnTo>
                <a:lnTo>
                  <a:pt x="53492" y="182763"/>
                </a:lnTo>
                <a:lnTo>
                  <a:pt x="60376" y="184707"/>
                </a:lnTo>
                <a:lnTo>
                  <a:pt x="66870" y="186003"/>
                </a:lnTo>
                <a:lnTo>
                  <a:pt x="73105" y="186867"/>
                </a:lnTo>
                <a:lnTo>
                  <a:pt x="80118" y="188395"/>
                </a:lnTo>
                <a:lnTo>
                  <a:pt x="87652" y="190367"/>
                </a:lnTo>
                <a:lnTo>
                  <a:pt x="95531" y="192634"/>
                </a:lnTo>
                <a:lnTo>
                  <a:pt x="102690" y="194145"/>
                </a:lnTo>
                <a:lnTo>
                  <a:pt x="109367" y="195153"/>
                </a:lnTo>
                <a:lnTo>
                  <a:pt x="115723" y="195824"/>
                </a:lnTo>
                <a:lnTo>
                  <a:pt x="121866" y="196273"/>
                </a:lnTo>
                <a:lnTo>
                  <a:pt x="127866" y="196571"/>
                </a:lnTo>
                <a:lnTo>
                  <a:pt x="133771" y="196770"/>
                </a:lnTo>
                <a:lnTo>
                  <a:pt x="139613" y="195950"/>
                </a:lnTo>
                <a:lnTo>
                  <a:pt x="145412" y="194451"/>
                </a:lnTo>
                <a:lnTo>
                  <a:pt x="172959" y="185201"/>
                </a:lnTo>
                <a:lnTo>
                  <a:pt x="180025" y="182523"/>
                </a:lnTo>
                <a:lnTo>
                  <a:pt x="186641" y="179784"/>
                </a:lnTo>
                <a:lnTo>
                  <a:pt x="192957" y="177006"/>
                </a:lnTo>
                <a:lnTo>
                  <a:pt x="199072" y="173249"/>
                </a:lnTo>
                <a:lnTo>
                  <a:pt x="205054" y="168840"/>
                </a:lnTo>
                <a:lnTo>
                  <a:pt x="210948" y="163995"/>
                </a:lnTo>
                <a:lnTo>
                  <a:pt x="216781" y="159813"/>
                </a:lnTo>
                <a:lnTo>
                  <a:pt x="222575" y="156071"/>
                </a:lnTo>
                <a:lnTo>
                  <a:pt x="228343" y="152625"/>
                </a:lnTo>
                <a:lnTo>
                  <a:pt x="233141" y="148422"/>
                </a:lnTo>
                <a:lnTo>
                  <a:pt x="237292" y="143716"/>
                </a:lnTo>
                <a:lnTo>
                  <a:pt x="241012" y="138673"/>
                </a:lnTo>
                <a:lnTo>
                  <a:pt x="244444" y="133407"/>
                </a:lnTo>
                <a:lnTo>
                  <a:pt x="247684" y="127990"/>
                </a:lnTo>
                <a:lnTo>
                  <a:pt x="250798" y="122474"/>
                </a:lnTo>
                <a:lnTo>
                  <a:pt x="252873" y="116892"/>
                </a:lnTo>
                <a:lnTo>
                  <a:pt x="254256" y="111266"/>
                </a:lnTo>
                <a:lnTo>
                  <a:pt x="255179" y="105610"/>
                </a:lnTo>
                <a:lnTo>
                  <a:pt x="255794" y="99934"/>
                </a:lnTo>
                <a:lnTo>
                  <a:pt x="256203" y="94245"/>
                </a:lnTo>
                <a:lnTo>
                  <a:pt x="256477" y="88547"/>
                </a:lnTo>
                <a:lnTo>
                  <a:pt x="256781" y="77137"/>
                </a:lnTo>
                <a:lnTo>
                  <a:pt x="256862" y="71427"/>
                </a:lnTo>
                <a:lnTo>
                  <a:pt x="255010" y="65716"/>
                </a:lnTo>
                <a:lnTo>
                  <a:pt x="251872" y="60003"/>
                </a:lnTo>
                <a:lnTo>
                  <a:pt x="247874" y="54289"/>
                </a:lnTo>
                <a:lnTo>
                  <a:pt x="244256" y="48576"/>
                </a:lnTo>
                <a:lnTo>
                  <a:pt x="240892" y="42862"/>
                </a:lnTo>
                <a:lnTo>
                  <a:pt x="237697" y="37147"/>
                </a:lnTo>
                <a:lnTo>
                  <a:pt x="233661" y="32384"/>
                </a:lnTo>
                <a:lnTo>
                  <a:pt x="229066" y="28257"/>
                </a:lnTo>
                <a:lnTo>
                  <a:pt x="224098" y="24554"/>
                </a:lnTo>
                <a:lnTo>
                  <a:pt x="218881" y="21132"/>
                </a:lnTo>
                <a:lnTo>
                  <a:pt x="213498" y="17897"/>
                </a:lnTo>
                <a:lnTo>
                  <a:pt x="208004" y="14789"/>
                </a:lnTo>
                <a:lnTo>
                  <a:pt x="196820" y="8796"/>
                </a:lnTo>
                <a:lnTo>
                  <a:pt x="191170" y="5864"/>
                </a:lnTo>
                <a:lnTo>
                  <a:pt x="185498" y="3909"/>
                </a:lnTo>
                <a:lnTo>
                  <a:pt x="179813" y="2606"/>
                </a:lnTo>
                <a:lnTo>
                  <a:pt x="174117" y="1737"/>
                </a:lnTo>
                <a:lnTo>
                  <a:pt x="168415" y="1158"/>
                </a:lnTo>
                <a:lnTo>
                  <a:pt x="162709" y="772"/>
                </a:lnTo>
                <a:lnTo>
                  <a:pt x="156999" y="515"/>
                </a:lnTo>
                <a:lnTo>
                  <a:pt x="145576" y="229"/>
                </a:lnTo>
                <a:lnTo>
                  <a:pt x="10271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MARTPenAnnotation1024"/>
          <p:cNvSpPr/>
          <p:nvPr/>
        </p:nvSpPr>
        <p:spPr>
          <a:xfrm>
            <a:off x="1743120" y="5264280"/>
            <a:ext cx="282600" cy="33120"/>
          </a:xfrm>
          <a:custGeom>
            <a:avLst/>
            <a:gdLst>
              <a:gd name="textAreaLeft" fmla="*/ 0 w 282600"/>
              <a:gd name="textAreaRight" fmla="*/ 282960 w 28260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82893" h="34290">
                <a:moveTo>
                  <a:pt x="0" y="0"/>
                </a:moveTo>
                <a:lnTo>
                  <a:pt x="44563" y="0"/>
                </a:lnTo>
                <a:lnTo>
                  <a:pt x="49711" y="952"/>
                </a:lnTo>
                <a:lnTo>
                  <a:pt x="56000" y="2540"/>
                </a:lnTo>
                <a:lnTo>
                  <a:pt x="63051" y="4551"/>
                </a:lnTo>
                <a:lnTo>
                  <a:pt x="69656" y="5891"/>
                </a:lnTo>
                <a:lnTo>
                  <a:pt x="75965" y="6785"/>
                </a:lnTo>
                <a:lnTo>
                  <a:pt x="82075" y="7381"/>
                </a:lnTo>
                <a:lnTo>
                  <a:pt x="89007" y="7778"/>
                </a:lnTo>
                <a:lnTo>
                  <a:pt x="104328" y="8219"/>
                </a:lnTo>
                <a:lnTo>
                  <a:pt x="112415" y="9289"/>
                </a:lnTo>
                <a:lnTo>
                  <a:pt x="120663" y="10955"/>
                </a:lnTo>
                <a:lnTo>
                  <a:pt x="129019" y="13019"/>
                </a:lnTo>
                <a:lnTo>
                  <a:pt x="137448" y="14394"/>
                </a:lnTo>
                <a:lnTo>
                  <a:pt x="145924" y="15311"/>
                </a:lnTo>
                <a:lnTo>
                  <a:pt x="154433" y="15922"/>
                </a:lnTo>
                <a:lnTo>
                  <a:pt x="162962" y="17282"/>
                </a:lnTo>
                <a:lnTo>
                  <a:pt x="171506" y="19141"/>
                </a:lnTo>
                <a:lnTo>
                  <a:pt x="180060" y="21333"/>
                </a:lnTo>
                <a:lnTo>
                  <a:pt x="188620" y="22794"/>
                </a:lnTo>
                <a:lnTo>
                  <a:pt x="197184" y="23769"/>
                </a:lnTo>
                <a:lnTo>
                  <a:pt x="205751" y="24418"/>
                </a:lnTo>
                <a:lnTo>
                  <a:pt x="213367" y="25804"/>
                </a:lnTo>
                <a:lnTo>
                  <a:pt x="220349" y="27680"/>
                </a:lnTo>
                <a:lnTo>
                  <a:pt x="226910" y="29883"/>
                </a:lnTo>
                <a:lnTo>
                  <a:pt x="234140" y="31352"/>
                </a:lnTo>
                <a:lnTo>
                  <a:pt x="241818" y="32331"/>
                </a:lnTo>
                <a:lnTo>
                  <a:pt x="256065" y="33419"/>
                </a:lnTo>
                <a:lnTo>
                  <a:pt x="265571" y="33903"/>
                </a:lnTo>
                <a:lnTo>
                  <a:pt x="272971" y="34117"/>
                </a:lnTo>
                <a:lnTo>
                  <a:pt x="282892" y="342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MARTPenAnnotation1025"/>
          <p:cNvSpPr/>
          <p:nvPr/>
        </p:nvSpPr>
        <p:spPr>
          <a:xfrm>
            <a:off x="2154240" y="5186520"/>
            <a:ext cx="77760" cy="257040"/>
          </a:xfrm>
          <a:custGeom>
            <a:avLst/>
            <a:gdLst>
              <a:gd name="textAreaLeft" fmla="*/ 0 w 77760"/>
              <a:gd name="textAreaRight" fmla="*/ 77760 w 7776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77154" h="257176">
                <a:moveTo>
                  <a:pt x="0" y="0"/>
                </a:moveTo>
                <a:lnTo>
                  <a:pt x="12771" y="0"/>
                </a:lnTo>
                <a:lnTo>
                  <a:pt x="14229" y="953"/>
                </a:lnTo>
                <a:lnTo>
                  <a:pt x="15201" y="2540"/>
                </a:lnTo>
                <a:lnTo>
                  <a:pt x="15849" y="4551"/>
                </a:lnTo>
                <a:lnTo>
                  <a:pt x="17234" y="6844"/>
                </a:lnTo>
                <a:lnTo>
                  <a:pt x="19109" y="9325"/>
                </a:lnTo>
                <a:lnTo>
                  <a:pt x="21312" y="11932"/>
                </a:lnTo>
                <a:lnTo>
                  <a:pt x="23733" y="14622"/>
                </a:lnTo>
                <a:lnTo>
                  <a:pt x="28963" y="20151"/>
                </a:lnTo>
                <a:lnTo>
                  <a:pt x="31692" y="23911"/>
                </a:lnTo>
                <a:lnTo>
                  <a:pt x="34463" y="28324"/>
                </a:lnTo>
                <a:lnTo>
                  <a:pt x="37263" y="33170"/>
                </a:lnTo>
                <a:lnTo>
                  <a:pt x="42914" y="43635"/>
                </a:lnTo>
                <a:lnTo>
                  <a:pt x="45755" y="49092"/>
                </a:lnTo>
                <a:lnTo>
                  <a:pt x="47648" y="54636"/>
                </a:lnTo>
                <a:lnTo>
                  <a:pt x="48911" y="60236"/>
                </a:lnTo>
                <a:lnTo>
                  <a:pt x="49752" y="65875"/>
                </a:lnTo>
                <a:lnTo>
                  <a:pt x="51266" y="72492"/>
                </a:lnTo>
                <a:lnTo>
                  <a:pt x="53227" y="79760"/>
                </a:lnTo>
                <a:lnTo>
                  <a:pt x="55488" y="87464"/>
                </a:lnTo>
                <a:lnTo>
                  <a:pt x="56994" y="94504"/>
                </a:lnTo>
                <a:lnTo>
                  <a:pt x="57999" y="101103"/>
                </a:lnTo>
                <a:lnTo>
                  <a:pt x="58669" y="107407"/>
                </a:lnTo>
                <a:lnTo>
                  <a:pt x="59115" y="114467"/>
                </a:lnTo>
                <a:lnTo>
                  <a:pt x="59413" y="122032"/>
                </a:lnTo>
                <a:lnTo>
                  <a:pt x="59832" y="143790"/>
                </a:lnTo>
                <a:lnTo>
                  <a:pt x="60008" y="234166"/>
                </a:lnTo>
                <a:lnTo>
                  <a:pt x="60960" y="237073"/>
                </a:lnTo>
                <a:lnTo>
                  <a:pt x="62548" y="239964"/>
                </a:lnTo>
                <a:lnTo>
                  <a:pt x="64559" y="242843"/>
                </a:lnTo>
                <a:lnTo>
                  <a:pt x="66793" y="248583"/>
                </a:lnTo>
                <a:lnTo>
                  <a:pt x="68227" y="255478"/>
                </a:lnTo>
                <a:lnTo>
                  <a:pt x="69298" y="256044"/>
                </a:lnTo>
                <a:lnTo>
                  <a:pt x="70964" y="256421"/>
                </a:lnTo>
                <a:lnTo>
                  <a:pt x="77153" y="2571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MARTPenAnnotation1026"/>
          <p:cNvSpPr/>
          <p:nvPr/>
        </p:nvSpPr>
        <p:spPr>
          <a:xfrm>
            <a:off x="2625840" y="5307120"/>
            <a:ext cx="257040" cy="42840"/>
          </a:xfrm>
          <a:custGeom>
            <a:avLst/>
            <a:gdLst>
              <a:gd name="textAreaLeft" fmla="*/ 0 w 257040"/>
              <a:gd name="textAreaRight" fmla="*/ 257400 w 2570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57176" h="42864">
                <a:moveTo>
                  <a:pt x="0" y="0"/>
                </a:moveTo>
                <a:lnTo>
                  <a:pt x="12770" y="0"/>
                </a:lnTo>
                <a:lnTo>
                  <a:pt x="17086" y="953"/>
                </a:lnTo>
                <a:lnTo>
                  <a:pt x="22821" y="2540"/>
                </a:lnTo>
                <a:lnTo>
                  <a:pt x="29501" y="4551"/>
                </a:lnTo>
                <a:lnTo>
                  <a:pt x="35860" y="5892"/>
                </a:lnTo>
                <a:lnTo>
                  <a:pt x="42004" y="6785"/>
                </a:lnTo>
                <a:lnTo>
                  <a:pt x="48005" y="7381"/>
                </a:lnTo>
                <a:lnTo>
                  <a:pt x="54863" y="8731"/>
                </a:lnTo>
                <a:lnTo>
                  <a:pt x="62293" y="10583"/>
                </a:lnTo>
                <a:lnTo>
                  <a:pt x="70104" y="12770"/>
                </a:lnTo>
                <a:lnTo>
                  <a:pt x="86402" y="17741"/>
                </a:lnTo>
                <a:lnTo>
                  <a:pt x="94749" y="20400"/>
                </a:lnTo>
                <a:lnTo>
                  <a:pt x="104123" y="22172"/>
                </a:lnTo>
                <a:lnTo>
                  <a:pt x="114183" y="23354"/>
                </a:lnTo>
                <a:lnTo>
                  <a:pt x="124700" y="24142"/>
                </a:lnTo>
                <a:lnTo>
                  <a:pt x="134568" y="25620"/>
                </a:lnTo>
                <a:lnTo>
                  <a:pt x="144005" y="27557"/>
                </a:lnTo>
                <a:lnTo>
                  <a:pt x="153153" y="29802"/>
                </a:lnTo>
                <a:lnTo>
                  <a:pt x="162110" y="31298"/>
                </a:lnTo>
                <a:lnTo>
                  <a:pt x="170938" y="32295"/>
                </a:lnTo>
                <a:lnTo>
                  <a:pt x="179681" y="32960"/>
                </a:lnTo>
                <a:lnTo>
                  <a:pt x="188368" y="34356"/>
                </a:lnTo>
                <a:lnTo>
                  <a:pt x="197016" y="36239"/>
                </a:lnTo>
                <a:lnTo>
                  <a:pt x="205639" y="38447"/>
                </a:lnTo>
                <a:lnTo>
                  <a:pt x="213293" y="39919"/>
                </a:lnTo>
                <a:lnTo>
                  <a:pt x="220300" y="40900"/>
                </a:lnTo>
                <a:lnTo>
                  <a:pt x="226877" y="41555"/>
                </a:lnTo>
                <a:lnTo>
                  <a:pt x="233166" y="41990"/>
                </a:lnTo>
                <a:lnTo>
                  <a:pt x="239264" y="42281"/>
                </a:lnTo>
                <a:lnTo>
                  <a:pt x="257175" y="428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MARTPenAnnotation1027"/>
          <p:cNvSpPr/>
          <p:nvPr/>
        </p:nvSpPr>
        <p:spPr>
          <a:xfrm>
            <a:off x="2978280" y="5178600"/>
            <a:ext cx="58680" cy="342720"/>
          </a:xfrm>
          <a:custGeom>
            <a:avLst/>
            <a:gdLst>
              <a:gd name="textAreaLeft" fmla="*/ 0 w 58680"/>
              <a:gd name="textAreaRight" fmla="*/ 59040 w 586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60009" h="342901">
                <a:moveTo>
                  <a:pt x="0" y="0"/>
                </a:moveTo>
                <a:lnTo>
                  <a:pt x="0" y="40551"/>
                </a:lnTo>
                <a:lnTo>
                  <a:pt x="953" y="46084"/>
                </a:lnTo>
                <a:lnTo>
                  <a:pt x="2540" y="51678"/>
                </a:lnTo>
                <a:lnTo>
                  <a:pt x="4552" y="57311"/>
                </a:lnTo>
                <a:lnTo>
                  <a:pt x="5892" y="63925"/>
                </a:lnTo>
                <a:lnTo>
                  <a:pt x="6786" y="71191"/>
                </a:lnTo>
                <a:lnTo>
                  <a:pt x="7381" y="78893"/>
                </a:lnTo>
                <a:lnTo>
                  <a:pt x="7779" y="85933"/>
                </a:lnTo>
                <a:lnTo>
                  <a:pt x="8220" y="98835"/>
                </a:lnTo>
                <a:lnTo>
                  <a:pt x="8468" y="125910"/>
                </a:lnTo>
                <a:lnTo>
                  <a:pt x="9456" y="135375"/>
                </a:lnTo>
                <a:lnTo>
                  <a:pt x="11066" y="144542"/>
                </a:lnTo>
                <a:lnTo>
                  <a:pt x="13093" y="153511"/>
                </a:lnTo>
                <a:lnTo>
                  <a:pt x="15396" y="162349"/>
                </a:lnTo>
                <a:lnTo>
                  <a:pt x="17884" y="171097"/>
                </a:lnTo>
                <a:lnTo>
                  <a:pt x="20496" y="179787"/>
                </a:lnTo>
                <a:lnTo>
                  <a:pt x="22237" y="188438"/>
                </a:lnTo>
                <a:lnTo>
                  <a:pt x="23397" y="197063"/>
                </a:lnTo>
                <a:lnTo>
                  <a:pt x="24171" y="205670"/>
                </a:lnTo>
                <a:lnTo>
                  <a:pt x="25639" y="214266"/>
                </a:lnTo>
                <a:lnTo>
                  <a:pt x="27570" y="222854"/>
                </a:lnTo>
                <a:lnTo>
                  <a:pt x="29810" y="231436"/>
                </a:lnTo>
                <a:lnTo>
                  <a:pt x="32256" y="239063"/>
                </a:lnTo>
                <a:lnTo>
                  <a:pt x="34839" y="246053"/>
                </a:lnTo>
                <a:lnTo>
                  <a:pt x="37514" y="252618"/>
                </a:lnTo>
                <a:lnTo>
                  <a:pt x="39297" y="259852"/>
                </a:lnTo>
                <a:lnTo>
                  <a:pt x="40486" y="267532"/>
                </a:lnTo>
                <a:lnTo>
                  <a:pt x="41278" y="275510"/>
                </a:lnTo>
                <a:lnTo>
                  <a:pt x="42759" y="282732"/>
                </a:lnTo>
                <a:lnTo>
                  <a:pt x="44699" y="289453"/>
                </a:lnTo>
                <a:lnTo>
                  <a:pt x="46944" y="295839"/>
                </a:lnTo>
                <a:lnTo>
                  <a:pt x="48441" y="301048"/>
                </a:lnTo>
                <a:lnTo>
                  <a:pt x="50105" y="309377"/>
                </a:lnTo>
                <a:lnTo>
                  <a:pt x="50844" y="318793"/>
                </a:lnTo>
                <a:lnTo>
                  <a:pt x="51041" y="323971"/>
                </a:lnTo>
                <a:lnTo>
                  <a:pt x="52125" y="328375"/>
                </a:lnTo>
                <a:lnTo>
                  <a:pt x="53800" y="332265"/>
                </a:lnTo>
                <a:lnTo>
                  <a:pt x="60008" y="3429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MARTPenAnnotation1028"/>
          <p:cNvSpPr/>
          <p:nvPr/>
        </p:nvSpPr>
        <p:spPr>
          <a:xfrm>
            <a:off x="1031760" y="5451480"/>
            <a:ext cx="274680" cy="257040"/>
          </a:xfrm>
          <a:custGeom>
            <a:avLst/>
            <a:gdLst>
              <a:gd name="textAreaLeft" fmla="*/ 0 w 274680"/>
              <a:gd name="textAreaRight" fmla="*/ 274680 w 27468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74202" h="257068">
                <a:moveTo>
                  <a:pt x="51316" y="25609"/>
                </a:moveTo>
                <a:lnTo>
                  <a:pt x="60417" y="21059"/>
                </a:lnTo>
                <a:lnTo>
                  <a:pt x="63099" y="18765"/>
                </a:lnTo>
                <a:lnTo>
                  <a:pt x="64886" y="16284"/>
                </a:lnTo>
                <a:lnTo>
                  <a:pt x="66078" y="13677"/>
                </a:lnTo>
                <a:lnTo>
                  <a:pt x="68777" y="11940"/>
                </a:lnTo>
                <a:lnTo>
                  <a:pt x="76856" y="10009"/>
                </a:lnTo>
                <a:lnTo>
                  <a:pt x="84257" y="9150"/>
                </a:lnTo>
                <a:lnTo>
                  <a:pt x="87564" y="8922"/>
                </a:lnTo>
                <a:lnTo>
                  <a:pt x="91674" y="7817"/>
                </a:lnTo>
                <a:lnTo>
                  <a:pt x="96319" y="6127"/>
                </a:lnTo>
                <a:lnTo>
                  <a:pt x="101320" y="4049"/>
                </a:lnTo>
                <a:lnTo>
                  <a:pt x="107512" y="2663"/>
                </a:lnTo>
                <a:lnTo>
                  <a:pt x="114498" y="1739"/>
                </a:lnTo>
                <a:lnTo>
                  <a:pt x="122012" y="1123"/>
                </a:lnTo>
                <a:lnTo>
                  <a:pt x="128927" y="713"/>
                </a:lnTo>
                <a:lnTo>
                  <a:pt x="141690" y="257"/>
                </a:lnTo>
                <a:lnTo>
                  <a:pt x="164136" y="0"/>
                </a:lnTo>
                <a:lnTo>
                  <a:pt x="171297" y="916"/>
                </a:lnTo>
                <a:lnTo>
                  <a:pt x="177976" y="2480"/>
                </a:lnTo>
                <a:lnTo>
                  <a:pt x="184333" y="4474"/>
                </a:lnTo>
                <a:lnTo>
                  <a:pt x="190477" y="5805"/>
                </a:lnTo>
                <a:lnTo>
                  <a:pt x="196477" y="6691"/>
                </a:lnTo>
                <a:lnTo>
                  <a:pt x="202383" y="7282"/>
                </a:lnTo>
                <a:lnTo>
                  <a:pt x="208225" y="8629"/>
                </a:lnTo>
                <a:lnTo>
                  <a:pt x="214024" y="10479"/>
                </a:lnTo>
                <a:lnTo>
                  <a:pt x="219796" y="12665"/>
                </a:lnTo>
                <a:lnTo>
                  <a:pt x="224596" y="15075"/>
                </a:lnTo>
                <a:lnTo>
                  <a:pt x="232469" y="20292"/>
                </a:lnTo>
                <a:lnTo>
                  <a:pt x="239144" y="25786"/>
                </a:lnTo>
                <a:lnTo>
                  <a:pt x="242257" y="28585"/>
                </a:lnTo>
                <a:lnTo>
                  <a:pt x="243380" y="32356"/>
                </a:lnTo>
                <a:lnTo>
                  <a:pt x="243176" y="36774"/>
                </a:lnTo>
                <a:lnTo>
                  <a:pt x="242088" y="41625"/>
                </a:lnTo>
                <a:lnTo>
                  <a:pt x="240878" y="49555"/>
                </a:lnTo>
                <a:lnTo>
                  <a:pt x="240341" y="57206"/>
                </a:lnTo>
                <a:lnTo>
                  <a:pt x="240102" y="66957"/>
                </a:lnTo>
                <a:lnTo>
                  <a:pt x="239086" y="71272"/>
                </a:lnTo>
                <a:lnTo>
                  <a:pt x="235417" y="78606"/>
                </a:lnTo>
                <a:lnTo>
                  <a:pt x="234057" y="82848"/>
                </a:lnTo>
                <a:lnTo>
                  <a:pt x="233151" y="87581"/>
                </a:lnTo>
                <a:lnTo>
                  <a:pt x="232547" y="92641"/>
                </a:lnTo>
                <a:lnTo>
                  <a:pt x="231191" y="97920"/>
                </a:lnTo>
                <a:lnTo>
                  <a:pt x="229335" y="103344"/>
                </a:lnTo>
                <a:lnTo>
                  <a:pt x="227146" y="108865"/>
                </a:lnTo>
                <a:lnTo>
                  <a:pt x="224733" y="113498"/>
                </a:lnTo>
                <a:lnTo>
                  <a:pt x="219513" y="121186"/>
                </a:lnTo>
                <a:lnTo>
                  <a:pt x="215835" y="125522"/>
                </a:lnTo>
                <a:lnTo>
                  <a:pt x="211478" y="130318"/>
                </a:lnTo>
                <a:lnTo>
                  <a:pt x="206668" y="135420"/>
                </a:lnTo>
                <a:lnTo>
                  <a:pt x="201556" y="139774"/>
                </a:lnTo>
                <a:lnTo>
                  <a:pt x="196244" y="143629"/>
                </a:lnTo>
                <a:lnTo>
                  <a:pt x="190797" y="147151"/>
                </a:lnTo>
                <a:lnTo>
                  <a:pt x="185261" y="150452"/>
                </a:lnTo>
                <a:lnTo>
                  <a:pt x="179665" y="153605"/>
                </a:lnTo>
                <a:lnTo>
                  <a:pt x="174030" y="156660"/>
                </a:lnTo>
                <a:lnTo>
                  <a:pt x="167415" y="159649"/>
                </a:lnTo>
                <a:lnTo>
                  <a:pt x="160148" y="162594"/>
                </a:lnTo>
                <a:lnTo>
                  <a:pt x="152446" y="165510"/>
                </a:lnTo>
                <a:lnTo>
                  <a:pt x="145406" y="168406"/>
                </a:lnTo>
                <a:lnTo>
                  <a:pt x="138807" y="171290"/>
                </a:lnTo>
                <a:lnTo>
                  <a:pt x="132504" y="174164"/>
                </a:lnTo>
                <a:lnTo>
                  <a:pt x="126396" y="176081"/>
                </a:lnTo>
                <a:lnTo>
                  <a:pt x="120419" y="177359"/>
                </a:lnTo>
                <a:lnTo>
                  <a:pt x="114530" y="178210"/>
                </a:lnTo>
                <a:lnTo>
                  <a:pt x="108699" y="179731"/>
                </a:lnTo>
                <a:lnTo>
                  <a:pt x="102906" y="181697"/>
                </a:lnTo>
                <a:lnTo>
                  <a:pt x="97139" y="183960"/>
                </a:lnTo>
                <a:lnTo>
                  <a:pt x="91390" y="185469"/>
                </a:lnTo>
                <a:lnTo>
                  <a:pt x="85652" y="186475"/>
                </a:lnTo>
                <a:lnTo>
                  <a:pt x="79922" y="187145"/>
                </a:lnTo>
                <a:lnTo>
                  <a:pt x="74196" y="187592"/>
                </a:lnTo>
                <a:lnTo>
                  <a:pt x="68475" y="187891"/>
                </a:lnTo>
                <a:lnTo>
                  <a:pt x="53860" y="188310"/>
                </a:lnTo>
                <a:lnTo>
                  <a:pt x="50154" y="188369"/>
                </a:lnTo>
                <a:lnTo>
                  <a:pt x="45779" y="187456"/>
                </a:lnTo>
                <a:lnTo>
                  <a:pt x="40957" y="185895"/>
                </a:lnTo>
                <a:lnTo>
                  <a:pt x="35838" y="183901"/>
                </a:lnTo>
                <a:lnTo>
                  <a:pt x="27609" y="179146"/>
                </a:lnTo>
                <a:lnTo>
                  <a:pt x="24081" y="176545"/>
                </a:lnTo>
                <a:lnTo>
                  <a:pt x="17622" y="173654"/>
                </a:lnTo>
                <a:lnTo>
                  <a:pt x="14566" y="172883"/>
                </a:lnTo>
                <a:lnTo>
                  <a:pt x="12528" y="171417"/>
                </a:lnTo>
                <a:lnTo>
                  <a:pt x="11170" y="169487"/>
                </a:lnTo>
                <a:lnTo>
                  <a:pt x="10264" y="167247"/>
                </a:lnTo>
                <a:lnTo>
                  <a:pt x="4439" y="159545"/>
                </a:lnTo>
                <a:lnTo>
                  <a:pt x="2920" y="156810"/>
                </a:lnTo>
                <a:lnTo>
                  <a:pt x="1231" y="151231"/>
                </a:lnTo>
                <a:lnTo>
                  <a:pt x="481" y="145576"/>
                </a:lnTo>
                <a:lnTo>
                  <a:pt x="148" y="139887"/>
                </a:lnTo>
                <a:lnTo>
                  <a:pt x="0" y="134184"/>
                </a:lnTo>
                <a:lnTo>
                  <a:pt x="912" y="132283"/>
                </a:lnTo>
                <a:lnTo>
                  <a:pt x="2474" y="131015"/>
                </a:lnTo>
                <a:lnTo>
                  <a:pt x="8104" y="128628"/>
                </a:lnTo>
                <a:lnTo>
                  <a:pt x="15228" y="128508"/>
                </a:lnTo>
                <a:lnTo>
                  <a:pt x="41621" y="128480"/>
                </a:lnTo>
                <a:lnTo>
                  <a:pt x="45805" y="129432"/>
                </a:lnTo>
                <a:lnTo>
                  <a:pt x="52994" y="133031"/>
                </a:lnTo>
                <a:lnTo>
                  <a:pt x="57197" y="135323"/>
                </a:lnTo>
                <a:lnTo>
                  <a:pt x="66947" y="140411"/>
                </a:lnTo>
                <a:lnTo>
                  <a:pt x="73167" y="143101"/>
                </a:lnTo>
                <a:lnTo>
                  <a:pt x="80171" y="145848"/>
                </a:lnTo>
                <a:lnTo>
                  <a:pt x="87697" y="148631"/>
                </a:lnTo>
                <a:lnTo>
                  <a:pt x="94620" y="152391"/>
                </a:lnTo>
                <a:lnTo>
                  <a:pt x="101141" y="156803"/>
                </a:lnTo>
                <a:lnTo>
                  <a:pt x="107392" y="161649"/>
                </a:lnTo>
                <a:lnTo>
                  <a:pt x="113465" y="165833"/>
                </a:lnTo>
                <a:lnTo>
                  <a:pt x="119419" y="169574"/>
                </a:lnTo>
                <a:lnTo>
                  <a:pt x="125293" y="173021"/>
                </a:lnTo>
                <a:lnTo>
                  <a:pt x="139440" y="181931"/>
                </a:lnTo>
                <a:lnTo>
                  <a:pt x="147212" y="186973"/>
                </a:lnTo>
                <a:lnTo>
                  <a:pt x="154299" y="191288"/>
                </a:lnTo>
                <a:lnTo>
                  <a:pt x="160929" y="195116"/>
                </a:lnTo>
                <a:lnTo>
                  <a:pt x="173375" y="201911"/>
                </a:lnTo>
                <a:lnTo>
                  <a:pt x="196888" y="214034"/>
                </a:lnTo>
                <a:lnTo>
                  <a:pt x="202656" y="216948"/>
                </a:lnTo>
                <a:lnTo>
                  <a:pt x="207455" y="219843"/>
                </a:lnTo>
                <a:lnTo>
                  <a:pt x="215326" y="225600"/>
                </a:lnTo>
                <a:lnTo>
                  <a:pt x="219711" y="228469"/>
                </a:lnTo>
                <a:lnTo>
                  <a:pt x="224539" y="231334"/>
                </a:lnTo>
                <a:lnTo>
                  <a:pt x="229663" y="234196"/>
                </a:lnTo>
                <a:lnTo>
                  <a:pt x="237896" y="239917"/>
                </a:lnTo>
                <a:lnTo>
                  <a:pt x="241425" y="242776"/>
                </a:lnTo>
                <a:lnTo>
                  <a:pt x="247887" y="245953"/>
                </a:lnTo>
                <a:lnTo>
                  <a:pt x="250943" y="246800"/>
                </a:lnTo>
                <a:lnTo>
                  <a:pt x="256879" y="250281"/>
                </a:lnTo>
                <a:lnTo>
                  <a:pt x="259796" y="252543"/>
                </a:lnTo>
                <a:lnTo>
                  <a:pt x="265576" y="255056"/>
                </a:lnTo>
                <a:lnTo>
                  <a:pt x="274201" y="2570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MARTPenAnnotation1029"/>
          <p:cNvSpPr/>
          <p:nvPr/>
        </p:nvSpPr>
        <p:spPr>
          <a:xfrm>
            <a:off x="1434960" y="5504040"/>
            <a:ext cx="257400" cy="274320"/>
          </a:xfrm>
          <a:custGeom>
            <a:avLst/>
            <a:gdLst>
              <a:gd name="textAreaLeft" fmla="*/ 0 w 257400"/>
              <a:gd name="textAreaRight" fmla="*/ 257760 w 25740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257176" h="274321">
                <a:moveTo>
                  <a:pt x="0" y="0"/>
                </a:moveTo>
                <a:lnTo>
                  <a:pt x="4551" y="4550"/>
                </a:lnTo>
                <a:lnTo>
                  <a:pt x="5892" y="6843"/>
                </a:lnTo>
                <a:lnTo>
                  <a:pt x="7381" y="11931"/>
                </a:lnTo>
                <a:lnTo>
                  <a:pt x="8220" y="20151"/>
                </a:lnTo>
                <a:lnTo>
                  <a:pt x="10243" y="22959"/>
                </a:lnTo>
                <a:lnTo>
                  <a:pt x="17570" y="28619"/>
                </a:lnTo>
                <a:lnTo>
                  <a:pt x="24637" y="36849"/>
                </a:lnTo>
                <a:lnTo>
                  <a:pt x="27854" y="41711"/>
                </a:lnTo>
                <a:lnTo>
                  <a:pt x="30952" y="46857"/>
                </a:lnTo>
                <a:lnTo>
                  <a:pt x="33970" y="52193"/>
                </a:lnTo>
                <a:lnTo>
                  <a:pt x="36934" y="57655"/>
                </a:lnTo>
                <a:lnTo>
                  <a:pt x="40816" y="63202"/>
                </a:lnTo>
                <a:lnTo>
                  <a:pt x="45308" y="68805"/>
                </a:lnTo>
                <a:lnTo>
                  <a:pt x="50208" y="74444"/>
                </a:lnTo>
                <a:lnTo>
                  <a:pt x="55379" y="80109"/>
                </a:lnTo>
                <a:lnTo>
                  <a:pt x="66206" y="91484"/>
                </a:lnTo>
                <a:lnTo>
                  <a:pt x="71760" y="98137"/>
                </a:lnTo>
                <a:lnTo>
                  <a:pt x="77368" y="105429"/>
                </a:lnTo>
                <a:lnTo>
                  <a:pt x="83011" y="113149"/>
                </a:lnTo>
                <a:lnTo>
                  <a:pt x="88678" y="120200"/>
                </a:lnTo>
                <a:lnTo>
                  <a:pt x="94361" y="126805"/>
                </a:lnTo>
                <a:lnTo>
                  <a:pt x="100055" y="133115"/>
                </a:lnTo>
                <a:lnTo>
                  <a:pt x="111462" y="145204"/>
                </a:lnTo>
                <a:lnTo>
                  <a:pt x="117170" y="151095"/>
                </a:lnTo>
                <a:lnTo>
                  <a:pt x="121929" y="156928"/>
                </a:lnTo>
                <a:lnTo>
                  <a:pt x="126053" y="162721"/>
                </a:lnTo>
                <a:lnTo>
                  <a:pt x="144068" y="190257"/>
                </a:lnTo>
                <a:lnTo>
                  <a:pt x="149386" y="196371"/>
                </a:lnTo>
                <a:lnTo>
                  <a:pt x="154835" y="201399"/>
                </a:lnTo>
                <a:lnTo>
                  <a:pt x="160374" y="205703"/>
                </a:lnTo>
                <a:lnTo>
                  <a:pt x="165971" y="210478"/>
                </a:lnTo>
                <a:lnTo>
                  <a:pt x="171607" y="215566"/>
                </a:lnTo>
                <a:lnTo>
                  <a:pt x="182950" y="226300"/>
                </a:lnTo>
                <a:lnTo>
                  <a:pt x="225595" y="268462"/>
                </a:lnTo>
                <a:lnTo>
                  <a:pt x="228502" y="270415"/>
                </a:lnTo>
                <a:lnTo>
                  <a:pt x="234272" y="272584"/>
                </a:lnTo>
                <a:lnTo>
                  <a:pt x="240011" y="273548"/>
                </a:lnTo>
                <a:lnTo>
                  <a:pt x="245737" y="273977"/>
                </a:lnTo>
                <a:lnTo>
                  <a:pt x="257175" y="2743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MARTPenAnnotation1030"/>
          <p:cNvSpPr/>
          <p:nvPr/>
        </p:nvSpPr>
        <p:spPr>
          <a:xfrm>
            <a:off x="1450800" y="5537160"/>
            <a:ext cx="214560" cy="138240"/>
          </a:xfrm>
          <a:custGeom>
            <a:avLst/>
            <a:gdLst>
              <a:gd name="textAreaLeft" fmla="*/ 0 w 214560"/>
              <a:gd name="textAreaRight" fmla="*/ 214920 w 21456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214314" h="137057">
                <a:moveTo>
                  <a:pt x="214313" y="8468"/>
                </a:moveTo>
                <a:lnTo>
                  <a:pt x="214313" y="0"/>
                </a:lnTo>
                <a:lnTo>
                  <a:pt x="214313" y="4478"/>
                </a:lnTo>
                <a:lnTo>
                  <a:pt x="213360" y="5808"/>
                </a:lnTo>
                <a:lnTo>
                  <a:pt x="211773" y="6695"/>
                </a:lnTo>
                <a:lnTo>
                  <a:pt x="209762" y="7286"/>
                </a:lnTo>
                <a:lnTo>
                  <a:pt x="204988" y="10483"/>
                </a:lnTo>
                <a:lnTo>
                  <a:pt x="202381" y="12669"/>
                </a:lnTo>
                <a:lnTo>
                  <a:pt x="199691" y="15079"/>
                </a:lnTo>
                <a:lnTo>
                  <a:pt x="194162" y="20296"/>
                </a:lnTo>
                <a:lnTo>
                  <a:pt x="185694" y="28589"/>
                </a:lnTo>
                <a:lnTo>
                  <a:pt x="181899" y="31407"/>
                </a:lnTo>
                <a:lnTo>
                  <a:pt x="177463" y="34239"/>
                </a:lnTo>
                <a:lnTo>
                  <a:pt x="172602" y="37078"/>
                </a:lnTo>
                <a:lnTo>
                  <a:pt x="166503" y="39924"/>
                </a:lnTo>
                <a:lnTo>
                  <a:pt x="159580" y="42774"/>
                </a:lnTo>
                <a:lnTo>
                  <a:pt x="152107" y="45626"/>
                </a:lnTo>
                <a:lnTo>
                  <a:pt x="145219" y="49433"/>
                </a:lnTo>
                <a:lnTo>
                  <a:pt x="138723" y="53875"/>
                </a:lnTo>
                <a:lnTo>
                  <a:pt x="132487" y="58742"/>
                </a:lnTo>
                <a:lnTo>
                  <a:pt x="126425" y="62939"/>
                </a:lnTo>
                <a:lnTo>
                  <a:pt x="120478" y="66690"/>
                </a:lnTo>
                <a:lnTo>
                  <a:pt x="114609" y="70143"/>
                </a:lnTo>
                <a:lnTo>
                  <a:pt x="108791" y="73397"/>
                </a:lnTo>
                <a:lnTo>
                  <a:pt x="97247" y="79553"/>
                </a:lnTo>
                <a:lnTo>
                  <a:pt x="91501" y="83481"/>
                </a:lnTo>
                <a:lnTo>
                  <a:pt x="85766" y="88004"/>
                </a:lnTo>
                <a:lnTo>
                  <a:pt x="80037" y="92924"/>
                </a:lnTo>
                <a:lnTo>
                  <a:pt x="74314" y="96205"/>
                </a:lnTo>
                <a:lnTo>
                  <a:pt x="68592" y="98392"/>
                </a:lnTo>
                <a:lnTo>
                  <a:pt x="62874" y="99850"/>
                </a:lnTo>
                <a:lnTo>
                  <a:pt x="57156" y="101774"/>
                </a:lnTo>
                <a:lnTo>
                  <a:pt x="51439" y="104010"/>
                </a:lnTo>
                <a:lnTo>
                  <a:pt x="45723" y="106453"/>
                </a:lnTo>
                <a:lnTo>
                  <a:pt x="40959" y="109034"/>
                </a:lnTo>
                <a:lnTo>
                  <a:pt x="36831" y="111707"/>
                </a:lnTo>
                <a:lnTo>
                  <a:pt x="33127" y="114441"/>
                </a:lnTo>
                <a:lnTo>
                  <a:pt x="29705" y="117217"/>
                </a:lnTo>
                <a:lnTo>
                  <a:pt x="26471" y="120020"/>
                </a:lnTo>
                <a:lnTo>
                  <a:pt x="23362" y="122841"/>
                </a:lnTo>
                <a:lnTo>
                  <a:pt x="20338" y="124722"/>
                </a:lnTo>
                <a:lnTo>
                  <a:pt x="14437" y="126811"/>
                </a:lnTo>
                <a:lnTo>
                  <a:pt x="8639" y="127740"/>
                </a:lnTo>
                <a:lnTo>
                  <a:pt x="1707" y="128337"/>
                </a:lnTo>
                <a:lnTo>
                  <a:pt x="1138" y="129338"/>
                </a:lnTo>
                <a:lnTo>
                  <a:pt x="506" y="132991"/>
                </a:lnTo>
                <a:lnTo>
                  <a:pt x="0" y="1370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MARTPenAnnotation1031"/>
          <p:cNvSpPr/>
          <p:nvPr/>
        </p:nvSpPr>
        <p:spPr>
          <a:xfrm>
            <a:off x="1785960" y="5564160"/>
            <a:ext cx="239760" cy="33480"/>
          </a:xfrm>
          <a:custGeom>
            <a:avLst/>
            <a:gdLst>
              <a:gd name="textAreaLeft" fmla="*/ 0 w 239760"/>
              <a:gd name="textAreaRight" fmla="*/ 240120 w 2397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40031" h="34282">
                <a:moveTo>
                  <a:pt x="0" y="8564"/>
                </a:moveTo>
                <a:lnTo>
                  <a:pt x="15600" y="8564"/>
                </a:lnTo>
                <a:lnTo>
                  <a:pt x="18020" y="7611"/>
                </a:lnTo>
                <a:lnTo>
                  <a:pt x="21538" y="6024"/>
                </a:lnTo>
                <a:lnTo>
                  <a:pt x="25789" y="4013"/>
                </a:lnTo>
                <a:lnTo>
                  <a:pt x="29575" y="2672"/>
                </a:lnTo>
                <a:lnTo>
                  <a:pt x="33052" y="1778"/>
                </a:lnTo>
                <a:lnTo>
                  <a:pt x="39455" y="785"/>
                </a:lnTo>
                <a:lnTo>
                  <a:pt x="45475" y="344"/>
                </a:lnTo>
                <a:lnTo>
                  <a:pt x="53866" y="148"/>
                </a:lnTo>
                <a:lnTo>
                  <a:pt x="91582" y="0"/>
                </a:lnTo>
                <a:lnTo>
                  <a:pt x="97250" y="950"/>
                </a:lnTo>
                <a:lnTo>
                  <a:pt x="102933" y="2536"/>
                </a:lnTo>
                <a:lnTo>
                  <a:pt x="108627" y="4545"/>
                </a:lnTo>
                <a:lnTo>
                  <a:pt x="114328" y="5884"/>
                </a:lnTo>
                <a:lnTo>
                  <a:pt x="120034" y="6777"/>
                </a:lnTo>
                <a:lnTo>
                  <a:pt x="125742" y="7373"/>
                </a:lnTo>
                <a:lnTo>
                  <a:pt x="131453" y="7770"/>
                </a:lnTo>
                <a:lnTo>
                  <a:pt x="137165" y="8034"/>
                </a:lnTo>
                <a:lnTo>
                  <a:pt x="148592" y="8328"/>
                </a:lnTo>
                <a:lnTo>
                  <a:pt x="177165" y="8533"/>
                </a:lnTo>
                <a:lnTo>
                  <a:pt x="181928" y="9496"/>
                </a:lnTo>
                <a:lnTo>
                  <a:pt x="186055" y="11090"/>
                </a:lnTo>
                <a:lnTo>
                  <a:pt x="189759" y="13105"/>
                </a:lnTo>
                <a:lnTo>
                  <a:pt x="194133" y="14449"/>
                </a:lnTo>
                <a:lnTo>
                  <a:pt x="198955" y="15344"/>
                </a:lnTo>
                <a:lnTo>
                  <a:pt x="204074" y="15942"/>
                </a:lnTo>
                <a:lnTo>
                  <a:pt x="208439" y="16340"/>
                </a:lnTo>
                <a:lnTo>
                  <a:pt x="215830" y="16782"/>
                </a:lnTo>
                <a:lnTo>
                  <a:pt x="222289" y="16979"/>
                </a:lnTo>
                <a:lnTo>
                  <a:pt x="225345" y="17032"/>
                </a:lnTo>
                <a:lnTo>
                  <a:pt x="227383" y="18019"/>
                </a:lnTo>
                <a:lnTo>
                  <a:pt x="228741" y="19630"/>
                </a:lnTo>
                <a:lnTo>
                  <a:pt x="229647" y="21656"/>
                </a:lnTo>
                <a:lnTo>
                  <a:pt x="231203" y="23007"/>
                </a:lnTo>
                <a:lnTo>
                  <a:pt x="233193" y="23908"/>
                </a:lnTo>
                <a:lnTo>
                  <a:pt x="235472" y="24508"/>
                </a:lnTo>
                <a:lnTo>
                  <a:pt x="236991" y="25861"/>
                </a:lnTo>
                <a:lnTo>
                  <a:pt x="238004" y="27715"/>
                </a:lnTo>
                <a:lnTo>
                  <a:pt x="240030" y="342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MARTPenAnnotation1032"/>
          <p:cNvSpPr/>
          <p:nvPr/>
        </p:nvSpPr>
        <p:spPr>
          <a:xfrm>
            <a:off x="1820880" y="5649840"/>
            <a:ext cx="257040" cy="33480"/>
          </a:xfrm>
          <a:custGeom>
            <a:avLst/>
            <a:gdLst>
              <a:gd name="textAreaLeft" fmla="*/ 0 w 257040"/>
              <a:gd name="textAreaRight" fmla="*/ 257400 w 2570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57176" h="34291">
                <a:moveTo>
                  <a:pt x="0" y="0"/>
                </a:moveTo>
                <a:lnTo>
                  <a:pt x="24702" y="0"/>
                </a:lnTo>
                <a:lnTo>
                  <a:pt x="29803" y="953"/>
                </a:lnTo>
                <a:lnTo>
                  <a:pt x="35109" y="2540"/>
                </a:lnTo>
                <a:lnTo>
                  <a:pt x="40551" y="4551"/>
                </a:lnTo>
                <a:lnTo>
                  <a:pt x="46084" y="5892"/>
                </a:lnTo>
                <a:lnTo>
                  <a:pt x="51678" y="6785"/>
                </a:lnTo>
                <a:lnTo>
                  <a:pt x="57312" y="7381"/>
                </a:lnTo>
                <a:lnTo>
                  <a:pt x="62973" y="7778"/>
                </a:lnTo>
                <a:lnTo>
                  <a:pt x="68652" y="8043"/>
                </a:lnTo>
                <a:lnTo>
                  <a:pt x="80994" y="8337"/>
                </a:lnTo>
                <a:lnTo>
                  <a:pt x="96005" y="8468"/>
                </a:lnTo>
                <a:lnTo>
                  <a:pt x="103056" y="9455"/>
                </a:lnTo>
                <a:lnTo>
                  <a:pt x="109661" y="11066"/>
                </a:lnTo>
                <a:lnTo>
                  <a:pt x="115970" y="13093"/>
                </a:lnTo>
                <a:lnTo>
                  <a:pt x="122081" y="14444"/>
                </a:lnTo>
                <a:lnTo>
                  <a:pt x="128060" y="15344"/>
                </a:lnTo>
                <a:lnTo>
                  <a:pt x="133951" y="15944"/>
                </a:lnTo>
                <a:lnTo>
                  <a:pt x="139783" y="16345"/>
                </a:lnTo>
                <a:lnTo>
                  <a:pt x="145576" y="16612"/>
                </a:lnTo>
                <a:lnTo>
                  <a:pt x="151343" y="16789"/>
                </a:lnTo>
                <a:lnTo>
                  <a:pt x="157093" y="17860"/>
                </a:lnTo>
                <a:lnTo>
                  <a:pt x="162831" y="19527"/>
                </a:lnTo>
                <a:lnTo>
                  <a:pt x="168561" y="21591"/>
                </a:lnTo>
                <a:lnTo>
                  <a:pt x="174287" y="22967"/>
                </a:lnTo>
                <a:lnTo>
                  <a:pt x="180009" y="23884"/>
                </a:lnTo>
                <a:lnTo>
                  <a:pt x="185728" y="24495"/>
                </a:lnTo>
                <a:lnTo>
                  <a:pt x="191446" y="24903"/>
                </a:lnTo>
                <a:lnTo>
                  <a:pt x="197164" y="25174"/>
                </a:lnTo>
                <a:lnTo>
                  <a:pt x="202880" y="25355"/>
                </a:lnTo>
                <a:lnTo>
                  <a:pt x="207643" y="26429"/>
                </a:lnTo>
                <a:lnTo>
                  <a:pt x="211771" y="28097"/>
                </a:lnTo>
                <a:lnTo>
                  <a:pt x="215476" y="30161"/>
                </a:lnTo>
                <a:lnTo>
                  <a:pt x="219850" y="31537"/>
                </a:lnTo>
                <a:lnTo>
                  <a:pt x="224672" y="32455"/>
                </a:lnTo>
                <a:lnTo>
                  <a:pt x="229791" y="33067"/>
                </a:lnTo>
                <a:lnTo>
                  <a:pt x="234157" y="33474"/>
                </a:lnTo>
                <a:lnTo>
                  <a:pt x="241547" y="33928"/>
                </a:lnTo>
                <a:lnTo>
                  <a:pt x="248007" y="34129"/>
                </a:lnTo>
                <a:lnTo>
                  <a:pt x="257175" y="342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MARTPenAnnotation1033"/>
          <p:cNvSpPr/>
          <p:nvPr/>
        </p:nvSpPr>
        <p:spPr>
          <a:xfrm>
            <a:off x="2197080" y="5632560"/>
            <a:ext cx="223920" cy="33120"/>
          </a:xfrm>
          <a:custGeom>
            <a:avLst/>
            <a:gdLst>
              <a:gd name="textAreaLeft" fmla="*/ 0 w 223920"/>
              <a:gd name="textAreaRight" fmla="*/ 224280 w 2239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22886" h="34291">
                <a:moveTo>
                  <a:pt x="0" y="0"/>
                </a:moveTo>
                <a:lnTo>
                  <a:pt x="41807" y="0"/>
                </a:lnTo>
                <a:lnTo>
                  <a:pt x="46921" y="953"/>
                </a:lnTo>
                <a:lnTo>
                  <a:pt x="52236" y="2540"/>
                </a:lnTo>
                <a:lnTo>
                  <a:pt x="57684" y="4551"/>
                </a:lnTo>
                <a:lnTo>
                  <a:pt x="63221" y="5892"/>
                </a:lnTo>
                <a:lnTo>
                  <a:pt x="68817" y="6785"/>
                </a:lnTo>
                <a:lnTo>
                  <a:pt x="74453" y="7381"/>
                </a:lnTo>
                <a:lnTo>
                  <a:pt x="80115" y="7778"/>
                </a:lnTo>
                <a:lnTo>
                  <a:pt x="85795" y="8043"/>
                </a:lnTo>
                <a:lnTo>
                  <a:pt x="91487" y="8219"/>
                </a:lnTo>
                <a:lnTo>
                  <a:pt x="97186" y="9290"/>
                </a:lnTo>
                <a:lnTo>
                  <a:pt x="102891" y="10956"/>
                </a:lnTo>
                <a:lnTo>
                  <a:pt x="108599" y="13019"/>
                </a:lnTo>
                <a:lnTo>
                  <a:pt x="115262" y="14395"/>
                </a:lnTo>
                <a:lnTo>
                  <a:pt x="122561" y="15311"/>
                </a:lnTo>
                <a:lnTo>
                  <a:pt x="130285" y="15922"/>
                </a:lnTo>
                <a:lnTo>
                  <a:pt x="137339" y="16330"/>
                </a:lnTo>
                <a:lnTo>
                  <a:pt x="150257" y="16783"/>
                </a:lnTo>
                <a:lnTo>
                  <a:pt x="156369" y="17856"/>
                </a:lnTo>
                <a:lnTo>
                  <a:pt x="162349" y="19524"/>
                </a:lnTo>
                <a:lnTo>
                  <a:pt x="168240" y="21589"/>
                </a:lnTo>
                <a:lnTo>
                  <a:pt x="173120" y="22965"/>
                </a:lnTo>
                <a:lnTo>
                  <a:pt x="177326" y="23883"/>
                </a:lnTo>
                <a:lnTo>
                  <a:pt x="181082" y="24494"/>
                </a:lnTo>
                <a:lnTo>
                  <a:pt x="185492" y="24902"/>
                </a:lnTo>
                <a:lnTo>
                  <a:pt x="190336" y="25174"/>
                </a:lnTo>
                <a:lnTo>
                  <a:pt x="195471" y="25355"/>
                </a:lnTo>
                <a:lnTo>
                  <a:pt x="199846" y="26429"/>
                </a:lnTo>
                <a:lnTo>
                  <a:pt x="203716" y="28097"/>
                </a:lnTo>
                <a:lnTo>
                  <a:pt x="207248" y="30161"/>
                </a:lnTo>
                <a:lnTo>
                  <a:pt x="210555" y="31537"/>
                </a:lnTo>
                <a:lnTo>
                  <a:pt x="213713" y="32455"/>
                </a:lnTo>
                <a:lnTo>
                  <a:pt x="222885" y="342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MARTPenAnnotation1034"/>
          <p:cNvSpPr/>
          <p:nvPr/>
        </p:nvSpPr>
        <p:spPr>
          <a:xfrm>
            <a:off x="2514600" y="5530680"/>
            <a:ext cx="103320" cy="324000"/>
          </a:xfrm>
          <a:custGeom>
            <a:avLst/>
            <a:gdLst>
              <a:gd name="textAreaLeft" fmla="*/ 0 w 103320"/>
              <a:gd name="textAreaRight" fmla="*/ 103680 w 10332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102870" h="324565">
                <a:moveTo>
                  <a:pt x="0" y="7382"/>
                </a:moveTo>
                <a:lnTo>
                  <a:pt x="12770" y="7382"/>
                </a:lnTo>
                <a:lnTo>
                  <a:pt x="15181" y="6429"/>
                </a:lnTo>
                <a:lnTo>
                  <a:pt x="17740" y="4842"/>
                </a:lnTo>
                <a:lnTo>
                  <a:pt x="24141" y="0"/>
                </a:lnTo>
                <a:lnTo>
                  <a:pt x="25619" y="556"/>
                </a:lnTo>
                <a:lnTo>
                  <a:pt x="27557" y="1879"/>
                </a:lnTo>
                <a:lnTo>
                  <a:pt x="32960" y="6294"/>
                </a:lnTo>
                <a:lnTo>
                  <a:pt x="33403" y="7609"/>
                </a:lnTo>
                <a:lnTo>
                  <a:pt x="33895" y="11610"/>
                </a:lnTo>
                <a:lnTo>
                  <a:pt x="34979" y="14011"/>
                </a:lnTo>
                <a:lnTo>
                  <a:pt x="36654" y="16564"/>
                </a:lnTo>
                <a:lnTo>
                  <a:pt x="38723" y="19218"/>
                </a:lnTo>
                <a:lnTo>
                  <a:pt x="40103" y="21940"/>
                </a:lnTo>
                <a:lnTo>
                  <a:pt x="41636" y="27505"/>
                </a:lnTo>
                <a:lnTo>
                  <a:pt x="42317" y="35693"/>
                </a:lnTo>
                <a:lnTo>
                  <a:pt x="42620" y="44729"/>
                </a:lnTo>
                <a:lnTo>
                  <a:pt x="42754" y="51920"/>
                </a:lnTo>
                <a:lnTo>
                  <a:pt x="41838" y="57077"/>
                </a:lnTo>
                <a:lnTo>
                  <a:pt x="40274" y="63372"/>
                </a:lnTo>
                <a:lnTo>
                  <a:pt x="38279" y="70426"/>
                </a:lnTo>
                <a:lnTo>
                  <a:pt x="36949" y="77034"/>
                </a:lnTo>
                <a:lnTo>
                  <a:pt x="36063" y="83344"/>
                </a:lnTo>
                <a:lnTo>
                  <a:pt x="35472" y="89455"/>
                </a:lnTo>
                <a:lnTo>
                  <a:pt x="35078" y="95435"/>
                </a:lnTo>
                <a:lnTo>
                  <a:pt x="34815" y="101326"/>
                </a:lnTo>
                <a:lnTo>
                  <a:pt x="34523" y="113905"/>
                </a:lnTo>
                <a:lnTo>
                  <a:pt x="34393" y="129020"/>
                </a:lnTo>
                <a:lnTo>
                  <a:pt x="35311" y="136099"/>
                </a:lnTo>
                <a:lnTo>
                  <a:pt x="36876" y="142723"/>
                </a:lnTo>
                <a:lnTo>
                  <a:pt x="38871" y="149044"/>
                </a:lnTo>
                <a:lnTo>
                  <a:pt x="40201" y="156116"/>
                </a:lnTo>
                <a:lnTo>
                  <a:pt x="41088" y="163688"/>
                </a:lnTo>
                <a:lnTo>
                  <a:pt x="41680" y="171593"/>
                </a:lnTo>
                <a:lnTo>
                  <a:pt x="42074" y="178769"/>
                </a:lnTo>
                <a:lnTo>
                  <a:pt x="42512" y="191821"/>
                </a:lnTo>
                <a:lnTo>
                  <a:pt x="42758" y="209880"/>
                </a:lnTo>
                <a:lnTo>
                  <a:pt x="43745" y="215723"/>
                </a:lnTo>
                <a:lnTo>
                  <a:pt x="45356" y="221524"/>
                </a:lnTo>
                <a:lnTo>
                  <a:pt x="47382" y="227295"/>
                </a:lnTo>
                <a:lnTo>
                  <a:pt x="49685" y="233048"/>
                </a:lnTo>
                <a:lnTo>
                  <a:pt x="52173" y="238789"/>
                </a:lnTo>
                <a:lnTo>
                  <a:pt x="57478" y="250246"/>
                </a:lnTo>
                <a:lnTo>
                  <a:pt x="63011" y="261689"/>
                </a:lnTo>
                <a:lnTo>
                  <a:pt x="64867" y="267408"/>
                </a:lnTo>
                <a:lnTo>
                  <a:pt x="66104" y="273125"/>
                </a:lnTo>
                <a:lnTo>
                  <a:pt x="66930" y="278841"/>
                </a:lnTo>
                <a:lnTo>
                  <a:pt x="68432" y="283604"/>
                </a:lnTo>
                <a:lnTo>
                  <a:pt x="70386" y="287733"/>
                </a:lnTo>
                <a:lnTo>
                  <a:pt x="72642" y="291437"/>
                </a:lnTo>
                <a:lnTo>
                  <a:pt x="75097" y="294860"/>
                </a:lnTo>
                <a:lnTo>
                  <a:pt x="77687" y="298094"/>
                </a:lnTo>
                <a:lnTo>
                  <a:pt x="80366" y="301202"/>
                </a:lnTo>
                <a:lnTo>
                  <a:pt x="82152" y="304227"/>
                </a:lnTo>
                <a:lnTo>
                  <a:pt x="84137" y="310128"/>
                </a:lnTo>
                <a:lnTo>
                  <a:pt x="85619" y="312083"/>
                </a:lnTo>
                <a:lnTo>
                  <a:pt x="87559" y="313386"/>
                </a:lnTo>
                <a:lnTo>
                  <a:pt x="89805" y="314254"/>
                </a:lnTo>
                <a:lnTo>
                  <a:pt x="92255" y="315786"/>
                </a:lnTo>
                <a:lnTo>
                  <a:pt x="94841" y="317760"/>
                </a:lnTo>
                <a:lnTo>
                  <a:pt x="102869" y="32456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MARTPenAnnotation1035"/>
          <p:cNvSpPr/>
          <p:nvPr/>
        </p:nvSpPr>
        <p:spPr>
          <a:xfrm>
            <a:off x="1211400" y="5811840"/>
            <a:ext cx="625320" cy="25560"/>
          </a:xfrm>
          <a:custGeom>
            <a:avLst/>
            <a:gdLst>
              <a:gd name="textAreaLeft" fmla="*/ 0 w 625320"/>
              <a:gd name="textAreaRight" fmla="*/ 625320 w 6253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625794" h="25719">
                <a:moveTo>
                  <a:pt x="0" y="0"/>
                </a:moveTo>
                <a:lnTo>
                  <a:pt x="243286" y="0"/>
                </a:lnTo>
                <a:lnTo>
                  <a:pt x="254584" y="953"/>
                </a:lnTo>
                <a:lnTo>
                  <a:pt x="265925" y="2541"/>
                </a:lnTo>
                <a:lnTo>
                  <a:pt x="277296" y="4552"/>
                </a:lnTo>
                <a:lnTo>
                  <a:pt x="288687" y="5892"/>
                </a:lnTo>
                <a:lnTo>
                  <a:pt x="300091" y="6786"/>
                </a:lnTo>
                <a:lnTo>
                  <a:pt x="311503" y="7382"/>
                </a:lnTo>
                <a:lnTo>
                  <a:pt x="336884" y="8044"/>
                </a:lnTo>
                <a:lnTo>
                  <a:pt x="350319" y="8220"/>
                </a:lnTo>
                <a:lnTo>
                  <a:pt x="363086" y="9291"/>
                </a:lnTo>
                <a:lnTo>
                  <a:pt x="375408" y="10956"/>
                </a:lnTo>
                <a:lnTo>
                  <a:pt x="387432" y="13019"/>
                </a:lnTo>
                <a:lnTo>
                  <a:pt x="399258" y="14395"/>
                </a:lnTo>
                <a:lnTo>
                  <a:pt x="410952" y="15312"/>
                </a:lnTo>
                <a:lnTo>
                  <a:pt x="422558" y="15923"/>
                </a:lnTo>
                <a:lnTo>
                  <a:pt x="445614" y="16603"/>
                </a:lnTo>
                <a:lnTo>
                  <a:pt x="513839" y="17114"/>
                </a:lnTo>
                <a:lnTo>
                  <a:pt x="522582" y="18077"/>
                </a:lnTo>
                <a:lnTo>
                  <a:pt x="531268" y="19672"/>
                </a:lnTo>
                <a:lnTo>
                  <a:pt x="539917" y="21687"/>
                </a:lnTo>
                <a:lnTo>
                  <a:pt x="547587" y="23031"/>
                </a:lnTo>
                <a:lnTo>
                  <a:pt x="554606" y="23926"/>
                </a:lnTo>
                <a:lnTo>
                  <a:pt x="561190" y="24524"/>
                </a:lnTo>
                <a:lnTo>
                  <a:pt x="573585" y="25188"/>
                </a:lnTo>
                <a:lnTo>
                  <a:pt x="591274" y="25561"/>
                </a:lnTo>
                <a:lnTo>
                  <a:pt x="625793" y="257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MARTPenAnnotation1036"/>
          <p:cNvSpPr/>
          <p:nvPr/>
        </p:nvSpPr>
        <p:spPr>
          <a:xfrm>
            <a:off x="1536840" y="5932440"/>
            <a:ext cx="438120" cy="136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437199" h="137157">
                <a:moveTo>
                  <a:pt x="0" y="25714"/>
                </a:moveTo>
                <a:lnTo>
                  <a:pt x="0" y="18333"/>
                </a:lnTo>
                <a:lnTo>
                  <a:pt x="953" y="17936"/>
                </a:lnTo>
                <a:lnTo>
                  <a:pt x="4551" y="17495"/>
                </a:lnTo>
                <a:lnTo>
                  <a:pt x="6844" y="16425"/>
                </a:lnTo>
                <a:lnTo>
                  <a:pt x="11932" y="12695"/>
                </a:lnTo>
                <a:lnTo>
                  <a:pt x="15575" y="11320"/>
                </a:lnTo>
                <a:lnTo>
                  <a:pt x="24703" y="9792"/>
                </a:lnTo>
                <a:lnTo>
                  <a:pt x="35109" y="6573"/>
                </a:lnTo>
                <a:lnTo>
                  <a:pt x="40551" y="4381"/>
                </a:lnTo>
                <a:lnTo>
                  <a:pt x="47037" y="2919"/>
                </a:lnTo>
                <a:lnTo>
                  <a:pt x="54218" y="1945"/>
                </a:lnTo>
                <a:lnTo>
                  <a:pt x="61863" y="1295"/>
                </a:lnTo>
                <a:lnTo>
                  <a:pt x="75438" y="574"/>
                </a:lnTo>
                <a:lnTo>
                  <a:pt x="87820" y="253"/>
                </a:lnTo>
                <a:lnTo>
                  <a:pt x="159658" y="0"/>
                </a:lnTo>
                <a:lnTo>
                  <a:pt x="164542" y="951"/>
                </a:lnTo>
                <a:lnTo>
                  <a:pt x="172507" y="4548"/>
                </a:lnTo>
                <a:lnTo>
                  <a:pt x="181763" y="6782"/>
                </a:lnTo>
                <a:lnTo>
                  <a:pt x="194125" y="8217"/>
                </a:lnTo>
                <a:lnTo>
                  <a:pt x="198356" y="10952"/>
                </a:lnTo>
                <a:lnTo>
                  <a:pt x="204282" y="15919"/>
                </a:lnTo>
                <a:lnTo>
                  <a:pt x="204768" y="17279"/>
                </a:lnTo>
                <a:lnTo>
                  <a:pt x="205308" y="21330"/>
                </a:lnTo>
                <a:lnTo>
                  <a:pt x="205703" y="25330"/>
                </a:lnTo>
                <a:lnTo>
                  <a:pt x="203184" y="28083"/>
                </a:lnTo>
                <a:lnTo>
                  <a:pt x="201178" y="30151"/>
                </a:lnTo>
                <a:lnTo>
                  <a:pt x="198889" y="31530"/>
                </a:lnTo>
                <a:lnTo>
                  <a:pt x="191116" y="34422"/>
                </a:lnTo>
                <a:lnTo>
                  <a:pt x="185588" y="38474"/>
                </a:lnTo>
                <a:lnTo>
                  <a:pt x="181828" y="40889"/>
                </a:lnTo>
                <a:lnTo>
                  <a:pt x="177416" y="43451"/>
                </a:lnTo>
                <a:lnTo>
                  <a:pt x="172570" y="46111"/>
                </a:lnTo>
                <a:lnTo>
                  <a:pt x="164646" y="49066"/>
                </a:lnTo>
                <a:lnTo>
                  <a:pt x="156996" y="50380"/>
                </a:lnTo>
                <a:lnTo>
                  <a:pt x="147246" y="50964"/>
                </a:lnTo>
                <a:lnTo>
                  <a:pt x="142932" y="52072"/>
                </a:lnTo>
                <a:lnTo>
                  <a:pt x="135598" y="55844"/>
                </a:lnTo>
                <a:lnTo>
                  <a:pt x="129163" y="58155"/>
                </a:lnTo>
                <a:lnTo>
                  <a:pt x="117646" y="59456"/>
                </a:lnTo>
                <a:lnTo>
                  <a:pt x="112721" y="59639"/>
                </a:lnTo>
                <a:lnTo>
                  <a:pt x="108485" y="60713"/>
                </a:lnTo>
                <a:lnTo>
                  <a:pt x="101238" y="64447"/>
                </a:lnTo>
                <a:lnTo>
                  <a:pt x="94843" y="66741"/>
                </a:lnTo>
                <a:lnTo>
                  <a:pt x="82976" y="68214"/>
                </a:lnTo>
                <a:lnTo>
                  <a:pt x="77198" y="68574"/>
                </a:lnTo>
                <a:lnTo>
                  <a:pt x="77157" y="75957"/>
                </a:lnTo>
                <a:lnTo>
                  <a:pt x="79695" y="79159"/>
                </a:lnTo>
                <a:lnTo>
                  <a:pt x="81705" y="81347"/>
                </a:lnTo>
                <a:lnTo>
                  <a:pt x="83997" y="82805"/>
                </a:lnTo>
                <a:lnTo>
                  <a:pt x="92728" y="85810"/>
                </a:lnTo>
                <a:lnTo>
                  <a:pt x="101855" y="89888"/>
                </a:lnTo>
                <a:lnTo>
                  <a:pt x="112262" y="92336"/>
                </a:lnTo>
                <a:lnTo>
                  <a:pt x="124189" y="93424"/>
                </a:lnTo>
                <a:lnTo>
                  <a:pt x="131371" y="93714"/>
                </a:lnTo>
                <a:lnTo>
                  <a:pt x="139016" y="93908"/>
                </a:lnTo>
                <a:lnTo>
                  <a:pt x="146969" y="94989"/>
                </a:lnTo>
                <a:lnTo>
                  <a:pt x="155130" y="96662"/>
                </a:lnTo>
                <a:lnTo>
                  <a:pt x="163428" y="98730"/>
                </a:lnTo>
                <a:lnTo>
                  <a:pt x="170864" y="100109"/>
                </a:lnTo>
                <a:lnTo>
                  <a:pt x="184207" y="101641"/>
                </a:lnTo>
                <a:lnTo>
                  <a:pt x="191385" y="103002"/>
                </a:lnTo>
                <a:lnTo>
                  <a:pt x="199028" y="104862"/>
                </a:lnTo>
                <a:lnTo>
                  <a:pt x="206981" y="107054"/>
                </a:lnTo>
                <a:lnTo>
                  <a:pt x="215140" y="108516"/>
                </a:lnTo>
                <a:lnTo>
                  <a:pt x="223437" y="109491"/>
                </a:lnTo>
                <a:lnTo>
                  <a:pt x="231826" y="110140"/>
                </a:lnTo>
                <a:lnTo>
                  <a:pt x="240275" y="110573"/>
                </a:lnTo>
                <a:lnTo>
                  <a:pt x="257284" y="111055"/>
                </a:lnTo>
                <a:lnTo>
                  <a:pt x="264868" y="112135"/>
                </a:lnTo>
                <a:lnTo>
                  <a:pt x="278374" y="115876"/>
                </a:lnTo>
                <a:lnTo>
                  <a:pt x="285596" y="117255"/>
                </a:lnTo>
                <a:lnTo>
                  <a:pt x="293267" y="118173"/>
                </a:lnTo>
                <a:lnTo>
                  <a:pt x="301239" y="118786"/>
                </a:lnTo>
                <a:lnTo>
                  <a:pt x="309411" y="119195"/>
                </a:lnTo>
                <a:lnTo>
                  <a:pt x="326111" y="119649"/>
                </a:lnTo>
                <a:lnTo>
                  <a:pt x="334565" y="120722"/>
                </a:lnTo>
                <a:lnTo>
                  <a:pt x="343059" y="122390"/>
                </a:lnTo>
                <a:lnTo>
                  <a:pt x="351578" y="124455"/>
                </a:lnTo>
                <a:lnTo>
                  <a:pt x="360116" y="125832"/>
                </a:lnTo>
                <a:lnTo>
                  <a:pt x="368665" y="126749"/>
                </a:lnTo>
                <a:lnTo>
                  <a:pt x="377222" y="127361"/>
                </a:lnTo>
                <a:lnTo>
                  <a:pt x="384831" y="127768"/>
                </a:lnTo>
                <a:lnTo>
                  <a:pt x="398366" y="128222"/>
                </a:lnTo>
                <a:lnTo>
                  <a:pt x="405595" y="129295"/>
                </a:lnTo>
                <a:lnTo>
                  <a:pt x="413272" y="130963"/>
                </a:lnTo>
                <a:lnTo>
                  <a:pt x="437198" y="1371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MARTPenAnnotation1037"/>
          <p:cNvSpPr/>
          <p:nvPr/>
        </p:nvSpPr>
        <p:spPr>
          <a:xfrm>
            <a:off x="2403360" y="5897520"/>
            <a:ext cx="446040" cy="360"/>
          </a:xfrm>
          <a:custGeom>
            <a:avLst/>
            <a:gdLst>
              <a:gd name="textAreaLeft" fmla="*/ 0 w 446040"/>
              <a:gd name="textAreaRight" fmla="*/ 446400 w 4460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445666" h="1">
                <a:moveTo>
                  <a:pt x="8467" y="0"/>
                </a:moveTo>
                <a:lnTo>
                  <a:pt x="0" y="0"/>
                </a:lnTo>
                <a:lnTo>
                  <a:pt x="44566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MARTPenAnnotation1038"/>
          <p:cNvSpPr/>
          <p:nvPr/>
        </p:nvSpPr>
        <p:spPr>
          <a:xfrm>
            <a:off x="2600280" y="5978520"/>
            <a:ext cx="420840" cy="201600"/>
          </a:xfrm>
          <a:custGeom>
            <a:avLst/>
            <a:gdLst>
              <a:gd name="textAreaLeft" fmla="*/ 0 w 420840"/>
              <a:gd name="textAreaRight" fmla="*/ 421200 w 42084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420053" h="202015">
                <a:moveTo>
                  <a:pt x="0" y="39137"/>
                </a:moveTo>
                <a:lnTo>
                  <a:pt x="4550" y="39137"/>
                </a:lnTo>
                <a:lnTo>
                  <a:pt x="6843" y="38184"/>
                </a:lnTo>
                <a:lnTo>
                  <a:pt x="14828" y="32351"/>
                </a:lnTo>
                <a:lnTo>
                  <a:pt x="21238" y="26366"/>
                </a:lnTo>
                <a:lnTo>
                  <a:pt x="24636" y="24908"/>
                </a:lnTo>
                <a:lnTo>
                  <a:pt x="33491" y="23288"/>
                </a:lnTo>
                <a:lnTo>
                  <a:pt x="43777" y="20028"/>
                </a:lnTo>
                <a:lnTo>
                  <a:pt x="54699" y="15404"/>
                </a:lnTo>
                <a:lnTo>
                  <a:pt x="65903" y="10174"/>
                </a:lnTo>
                <a:lnTo>
                  <a:pt x="77232" y="7214"/>
                </a:lnTo>
                <a:lnTo>
                  <a:pt x="88618" y="5899"/>
                </a:lnTo>
                <a:lnTo>
                  <a:pt x="100028" y="5314"/>
                </a:lnTo>
                <a:lnTo>
                  <a:pt x="111449" y="2515"/>
                </a:lnTo>
                <a:lnTo>
                  <a:pt x="117162" y="434"/>
                </a:lnTo>
                <a:lnTo>
                  <a:pt x="123828" y="0"/>
                </a:lnTo>
                <a:lnTo>
                  <a:pt x="131129" y="663"/>
                </a:lnTo>
                <a:lnTo>
                  <a:pt x="138854" y="2058"/>
                </a:lnTo>
                <a:lnTo>
                  <a:pt x="145909" y="2988"/>
                </a:lnTo>
                <a:lnTo>
                  <a:pt x="158829" y="4021"/>
                </a:lnTo>
                <a:lnTo>
                  <a:pt x="170920" y="7020"/>
                </a:lnTo>
                <a:lnTo>
                  <a:pt x="182644" y="10575"/>
                </a:lnTo>
                <a:lnTo>
                  <a:pt x="194205" y="12155"/>
                </a:lnTo>
                <a:lnTo>
                  <a:pt x="203153" y="15397"/>
                </a:lnTo>
                <a:lnTo>
                  <a:pt x="210305" y="19061"/>
                </a:lnTo>
                <a:lnTo>
                  <a:pt x="221040" y="21605"/>
                </a:lnTo>
                <a:lnTo>
                  <a:pt x="228412" y="27807"/>
                </a:lnTo>
                <a:lnTo>
                  <a:pt x="230103" y="29339"/>
                </a:lnTo>
                <a:lnTo>
                  <a:pt x="230555" y="30699"/>
                </a:lnTo>
                <a:lnTo>
                  <a:pt x="231056" y="34752"/>
                </a:lnTo>
                <a:lnTo>
                  <a:pt x="230237" y="37166"/>
                </a:lnTo>
                <a:lnTo>
                  <a:pt x="226787" y="42388"/>
                </a:lnTo>
                <a:lnTo>
                  <a:pt x="222079" y="47884"/>
                </a:lnTo>
                <a:lnTo>
                  <a:pt x="216812" y="53502"/>
                </a:lnTo>
                <a:lnTo>
                  <a:pt x="211295" y="59174"/>
                </a:lnTo>
                <a:lnTo>
                  <a:pt x="203129" y="64870"/>
                </a:lnTo>
                <a:lnTo>
                  <a:pt x="193149" y="70576"/>
                </a:lnTo>
                <a:lnTo>
                  <a:pt x="182364" y="76287"/>
                </a:lnTo>
                <a:lnTo>
                  <a:pt x="176821" y="80096"/>
                </a:lnTo>
                <a:lnTo>
                  <a:pt x="171220" y="84540"/>
                </a:lnTo>
                <a:lnTo>
                  <a:pt x="165582" y="89408"/>
                </a:lnTo>
                <a:lnTo>
                  <a:pt x="159918" y="93606"/>
                </a:lnTo>
                <a:lnTo>
                  <a:pt x="154237" y="97357"/>
                </a:lnTo>
                <a:lnTo>
                  <a:pt x="148544" y="100811"/>
                </a:lnTo>
                <a:lnTo>
                  <a:pt x="142844" y="104065"/>
                </a:lnTo>
                <a:lnTo>
                  <a:pt x="131431" y="110221"/>
                </a:lnTo>
                <a:lnTo>
                  <a:pt x="122549" y="116132"/>
                </a:lnTo>
                <a:lnTo>
                  <a:pt x="114473" y="121935"/>
                </a:lnTo>
                <a:lnTo>
                  <a:pt x="104534" y="127688"/>
                </a:lnTo>
                <a:lnTo>
                  <a:pt x="100169" y="131508"/>
                </a:lnTo>
                <a:lnTo>
                  <a:pt x="96307" y="135960"/>
                </a:lnTo>
                <a:lnTo>
                  <a:pt x="92779" y="140833"/>
                </a:lnTo>
                <a:lnTo>
                  <a:pt x="90428" y="145034"/>
                </a:lnTo>
                <a:lnTo>
                  <a:pt x="88860" y="148788"/>
                </a:lnTo>
                <a:lnTo>
                  <a:pt x="87815" y="152242"/>
                </a:lnTo>
                <a:lnTo>
                  <a:pt x="86166" y="154546"/>
                </a:lnTo>
                <a:lnTo>
                  <a:pt x="84114" y="156081"/>
                </a:lnTo>
                <a:lnTo>
                  <a:pt x="81793" y="157104"/>
                </a:lnTo>
                <a:lnTo>
                  <a:pt x="80246" y="158739"/>
                </a:lnTo>
                <a:lnTo>
                  <a:pt x="79215" y="160782"/>
                </a:lnTo>
                <a:lnTo>
                  <a:pt x="78069" y="165591"/>
                </a:lnTo>
                <a:lnTo>
                  <a:pt x="77559" y="170904"/>
                </a:lnTo>
                <a:lnTo>
                  <a:pt x="78376" y="172702"/>
                </a:lnTo>
                <a:lnTo>
                  <a:pt x="79873" y="173900"/>
                </a:lnTo>
                <a:lnTo>
                  <a:pt x="81824" y="174699"/>
                </a:lnTo>
                <a:lnTo>
                  <a:pt x="83124" y="176184"/>
                </a:lnTo>
                <a:lnTo>
                  <a:pt x="83991" y="178127"/>
                </a:lnTo>
                <a:lnTo>
                  <a:pt x="84569" y="180374"/>
                </a:lnTo>
                <a:lnTo>
                  <a:pt x="86859" y="181872"/>
                </a:lnTo>
                <a:lnTo>
                  <a:pt x="94484" y="183537"/>
                </a:lnTo>
                <a:lnTo>
                  <a:pt x="104222" y="184277"/>
                </a:lnTo>
                <a:lnTo>
                  <a:pt x="109486" y="184475"/>
                </a:lnTo>
                <a:lnTo>
                  <a:pt x="113948" y="185559"/>
                </a:lnTo>
                <a:lnTo>
                  <a:pt x="126684" y="190683"/>
                </a:lnTo>
                <a:lnTo>
                  <a:pt x="133033" y="191602"/>
                </a:lnTo>
                <a:lnTo>
                  <a:pt x="140124" y="192215"/>
                </a:lnTo>
                <a:lnTo>
                  <a:pt x="153082" y="192897"/>
                </a:lnTo>
                <a:lnTo>
                  <a:pt x="166144" y="194152"/>
                </a:lnTo>
                <a:lnTo>
                  <a:pt x="173627" y="195820"/>
                </a:lnTo>
                <a:lnTo>
                  <a:pt x="181474" y="197885"/>
                </a:lnTo>
                <a:lnTo>
                  <a:pt x="190515" y="199261"/>
                </a:lnTo>
                <a:lnTo>
                  <a:pt x="200352" y="200179"/>
                </a:lnTo>
                <a:lnTo>
                  <a:pt x="210721" y="200791"/>
                </a:lnTo>
                <a:lnTo>
                  <a:pt x="220490" y="200246"/>
                </a:lnTo>
                <a:lnTo>
                  <a:pt x="229861" y="198930"/>
                </a:lnTo>
                <a:lnTo>
                  <a:pt x="238966" y="197101"/>
                </a:lnTo>
                <a:lnTo>
                  <a:pt x="246940" y="195881"/>
                </a:lnTo>
                <a:lnTo>
                  <a:pt x="254162" y="195068"/>
                </a:lnTo>
                <a:lnTo>
                  <a:pt x="260881" y="194526"/>
                </a:lnTo>
                <a:lnTo>
                  <a:pt x="268218" y="194165"/>
                </a:lnTo>
                <a:lnTo>
                  <a:pt x="283990" y="193763"/>
                </a:lnTo>
                <a:lnTo>
                  <a:pt x="292197" y="194608"/>
                </a:lnTo>
                <a:lnTo>
                  <a:pt x="300525" y="196125"/>
                </a:lnTo>
                <a:lnTo>
                  <a:pt x="308935" y="198087"/>
                </a:lnTo>
                <a:lnTo>
                  <a:pt x="316446" y="199397"/>
                </a:lnTo>
                <a:lnTo>
                  <a:pt x="323359" y="200269"/>
                </a:lnTo>
                <a:lnTo>
                  <a:pt x="336120" y="201239"/>
                </a:lnTo>
                <a:lnTo>
                  <a:pt x="348141" y="201669"/>
                </a:lnTo>
                <a:lnTo>
                  <a:pt x="385693" y="201984"/>
                </a:lnTo>
                <a:lnTo>
                  <a:pt x="420052" y="20201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MARTPenAnnotation1039"/>
          <p:cNvSpPr/>
          <p:nvPr/>
        </p:nvSpPr>
        <p:spPr>
          <a:xfrm>
            <a:off x="3414600" y="5811840"/>
            <a:ext cx="249480" cy="249120"/>
          </a:xfrm>
          <a:custGeom>
            <a:avLst/>
            <a:gdLst>
              <a:gd name="textAreaLeft" fmla="*/ 0 w 249480"/>
              <a:gd name="textAreaRight" fmla="*/ 249840 w 2494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48603" h="248604">
                <a:moveTo>
                  <a:pt x="0" y="0"/>
                </a:moveTo>
                <a:lnTo>
                  <a:pt x="0" y="4552"/>
                </a:lnTo>
                <a:lnTo>
                  <a:pt x="953" y="5892"/>
                </a:lnTo>
                <a:lnTo>
                  <a:pt x="2540" y="6786"/>
                </a:lnTo>
                <a:lnTo>
                  <a:pt x="4550" y="7382"/>
                </a:lnTo>
                <a:lnTo>
                  <a:pt x="9325" y="10584"/>
                </a:lnTo>
                <a:lnTo>
                  <a:pt x="11931" y="12771"/>
                </a:lnTo>
                <a:lnTo>
                  <a:pt x="17368" y="20281"/>
                </a:lnTo>
                <a:lnTo>
                  <a:pt x="20151" y="24951"/>
                </a:lnTo>
                <a:lnTo>
                  <a:pt x="23244" y="32679"/>
                </a:lnTo>
                <a:lnTo>
                  <a:pt x="24068" y="36074"/>
                </a:lnTo>
                <a:lnTo>
                  <a:pt x="26523" y="39289"/>
                </a:lnTo>
                <a:lnTo>
                  <a:pt x="30065" y="42386"/>
                </a:lnTo>
                <a:lnTo>
                  <a:pt x="34330" y="45402"/>
                </a:lnTo>
                <a:lnTo>
                  <a:pt x="38127" y="49319"/>
                </a:lnTo>
                <a:lnTo>
                  <a:pt x="41611" y="53834"/>
                </a:lnTo>
                <a:lnTo>
                  <a:pt x="44885" y="58750"/>
                </a:lnTo>
                <a:lnTo>
                  <a:pt x="48021" y="63932"/>
                </a:lnTo>
                <a:lnTo>
                  <a:pt x="51064" y="69291"/>
                </a:lnTo>
                <a:lnTo>
                  <a:pt x="54045" y="74769"/>
                </a:lnTo>
                <a:lnTo>
                  <a:pt x="57938" y="79374"/>
                </a:lnTo>
                <a:lnTo>
                  <a:pt x="62437" y="83396"/>
                </a:lnTo>
                <a:lnTo>
                  <a:pt x="67342" y="87030"/>
                </a:lnTo>
                <a:lnTo>
                  <a:pt x="71565" y="91358"/>
                </a:lnTo>
                <a:lnTo>
                  <a:pt x="75333" y="96148"/>
                </a:lnTo>
                <a:lnTo>
                  <a:pt x="78797" y="101247"/>
                </a:lnTo>
                <a:lnTo>
                  <a:pt x="83011" y="106551"/>
                </a:lnTo>
                <a:lnTo>
                  <a:pt x="87726" y="111991"/>
                </a:lnTo>
                <a:lnTo>
                  <a:pt x="92774" y="117523"/>
                </a:lnTo>
                <a:lnTo>
                  <a:pt x="97092" y="123117"/>
                </a:lnTo>
                <a:lnTo>
                  <a:pt x="100923" y="128751"/>
                </a:lnTo>
                <a:lnTo>
                  <a:pt x="104429" y="134412"/>
                </a:lnTo>
                <a:lnTo>
                  <a:pt x="108672" y="140090"/>
                </a:lnTo>
                <a:lnTo>
                  <a:pt x="113405" y="145781"/>
                </a:lnTo>
                <a:lnTo>
                  <a:pt x="118466" y="151480"/>
                </a:lnTo>
                <a:lnTo>
                  <a:pt x="129169" y="162893"/>
                </a:lnTo>
                <a:lnTo>
                  <a:pt x="160389" y="194629"/>
                </a:lnTo>
                <a:lnTo>
                  <a:pt x="178367" y="212648"/>
                </a:lnTo>
                <a:lnTo>
                  <a:pt x="183681" y="217013"/>
                </a:lnTo>
                <a:lnTo>
                  <a:pt x="189129" y="220875"/>
                </a:lnTo>
                <a:lnTo>
                  <a:pt x="194666" y="224403"/>
                </a:lnTo>
                <a:lnTo>
                  <a:pt x="199310" y="227707"/>
                </a:lnTo>
                <a:lnTo>
                  <a:pt x="207010" y="233919"/>
                </a:lnTo>
                <a:lnTo>
                  <a:pt x="213607" y="237315"/>
                </a:lnTo>
                <a:lnTo>
                  <a:pt x="220666" y="238823"/>
                </a:lnTo>
                <a:lnTo>
                  <a:pt x="225216" y="239226"/>
                </a:lnTo>
                <a:lnTo>
                  <a:pt x="230154" y="239494"/>
                </a:lnTo>
                <a:lnTo>
                  <a:pt x="234398" y="240626"/>
                </a:lnTo>
                <a:lnTo>
                  <a:pt x="241655" y="244423"/>
                </a:lnTo>
                <a:lnTo>
                  <a:pt x="248602" y="2486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MARTPenAnnotation1040"/>
          <p:cNvSpPr/>
          <p:nvPr/>
        </p:nvSpPr>
        <p:spPr>
          <a:xfrm>
            <a:off x="3406680" y="5811840"/>
            <a:ext cx="247680" cy="223920"/>
          </a:xfrm>
          <a:custGeom>
            <a:avLst/>
            <a:gdLst>
              <a:gd name="textAreaLeft" fmla="*/ 0 w 247680"/>
              <a:gd name="textAreaRight" fmla="*/ 248040 w 24768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248604" h="222887">
                <a:moveTo>
                  <a:pt x="248603" y="0"/>
                </a:moveTo>
                <a:lnTo>
                  <a:pt x="240135" y="0"/>
                </a:lnTo>
                <a:lnTo>
                  <a:pt x="240061" y="4552"/>
                </a:lnTo>
                <a:lnTo>
                  <a:pt x="238146" y="7797"/>
                </a:lnTo>
                <a:lnTo>
                  <a:pt x="234964" y="11866"/>
                </a:lnTo>
                <a:lnTo>
                  <a:pt x="230938" y="16483"/>
                </a:lnTo>
                <a:lnTo>
                  <a:pt x="223925" y="24154"/>
                </a:lnTo>
                <a:lnTo>
                  <a:pt x="220721" y="27533"/>
                </a:lnTo>
                <a:lnTo>
                  <a:pt x="217632" y="31691"/>
                </a:lnTo>
                <a:lnTo>
                  <a:pt x="214621" y="36367"/>
                </a:lnTo>
                <a:lnTo>
                  <a:pt x="211661" y="41390"/>
                </a:lnTo>
                <a:lnTo>
                  <a:pt x="207782" y="46643"/>
                </a:lnTo>
                <a:lnTo>
                  <a:pt x="203292" y="52051"/>
                </a:lnTo>
                <a:lnTo>
                  <a:pt x="198393" y="57561"/>
                </a:lnTo>
                <a:lnTo>
                  <a:pt x="187870" y="68763"/>
                </a:lnTo>
                <a:lnTo>
                  <a:pt x="182397" y="74417"/>
                </a:lnTo>
                <a:lnTo>
                  <a:pt x="175891" y="79139"/>
                </a:lnTo>
                <a:lnTo>
                  <a:pt x="168696" y="83240"/>
                </a:lnTo>
                <a:lnTo>
                  <a:pt x="161042" y="86926"/>
                </a:lnTo>
                <a:lnTo>
                  <a:pt x="154034" y="91289"/>
                </a:lnTo>
                <a:lnTo>
                  <a:pt x="147457" y="96102"/>
                </a:lnTo>
                <a:lnTo>
                  <a:pt x="141167" y="101216"/>
                </a:lnTo>
                <a:lnTo>
                  <a:pt x="135069" y="106530"/>
                </a:lnTo>
                <a:lnTo>
                  <a:pt x="129099" y="111978"/>
                </a:lnTo>
                <a:lnTo>
                  <a:pt x="123213" y="117515"/>
                </a:lnTo>
                <a:lnTo>
                  <a:pt x="116432" y="123110"/>
                </a:lnTo>
                <a:lnTo>
                  <a:pt x="109054" y="128747"/>
                </a:lnTo>
                <a:lnTo>
                  <a:pt x="101278" y="134409"/>
                </a:lnTo>
                <a:lnTo>
                  <a:pt x="94189" y="139136"/>
                </a:lnTo>
                <a:lnTo>
                  <a:pt x="87558" y="143240"/>
                </a:lnTo>
                <a:lnTo>
                  <a:pt x="81232" y="146929"/>
                </a:lnTo>
                <a:lnTo>
                  <a:pt x="76063" y="151293"/>
                </a:lnTo>
                <a:lnTo>
                  <a:pt x="71663" y="156107"/>
                </a:lnTo>
                <a:lnTo>
                  <a:pt x="67778" y="161222"/>
                </a:lnTo>
                <a:lnTo>
                  <a:pt x="63283" y="165584"/>
                </a:lnTo>
                <a:lnTo>
                  <a:pt x="58382" y="169445"/>
                </a:lnTo>
                <a:lnTo>
                  <a:pt x="53209" y="172970"/>
                </a:lnTo>
                <a:lnTo>
                  <a:pt x="47855" y="176274"/>
                </a:lnTo>
                <a:lnTo>
                  <a:pt x="42381" y="179429"/>
                </a:lnTo>
                <a:lnTo>
                  <a:pt x="36827" y="182484"/>
                </a:lnTo>
                <a:lnTo>
                  <a:pt x="32172" y="185474"/>
                </a:lnTo>
                <a:lnTo>
                  <a:pt x="24458" y="191336"/>
                </a:lnTo>
                <a:lnTo>
                  <a:pt x="17856" y="194576"/>
                </a:lnTo>
                <a:lnTo>
                  <a:pt x="14761" y="195440"/>
                </a:lnTo>
                <a:lnTo>
                  <a:pt x="12699" y="196968"/>
                </a:lnTo>
                <a:lnTo>
                  <a:pt x="11324" y="198940"/>
                </a:lnTo>
                <a:lnTo>
                  <a:pt x="10407" y="201207"/>
                </a:lnTo>
                <a:lnTo>
                  <a:pt x="6848" y="206266"/>
                </a:lnTo>
                <a:lnTo>
                  <a:pt x="4565" y="208948"/>
                </a:lnTo>
                <a:lnTo>
                  <a:pt x="3044" y="211689"/>
                </a:lnTo>
                <a:lnTo>
                  <a:pt x="2030" y="214469"/>
                </a:lnTo>
                <a:lnTo>
                  <a:pt x="0" y="2228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MARTPenAnnotation1041"/>
          <p:cNvSpPr/>
          <p:nvPr/>
        </p:nvSpPr>
        <p:spPr>
          <a:xfrm>
            <a:off x="3757680" y="5880240"/>
            <a:ext cx="214200" cy="27000"/>
          </a:xfrm>
          <a:custGeom>
            <a:avLst/>
            <a:gdLst>
              <a:gd name="textAreaLeft" fmla="*/ 0 w 214200"/>
              <a:gd name="textAreaRight" fmla="*/ 214560 w 2142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14314" h="25718">
                <a:moveTo>
                  <a:pt x="0" y="0"/>
                </a:moveTo>
                <a:lnTo>
                  <a:pt x="74343" y="0"/>
                </a:lnTo>
                <a:lnTo>
                  <a:pt x="80995" y="952"/>
                </a:lnTo>
                <a:lnTo>
                  <a:pt x="88286" y="2540"/>
                </a:lnTo>
                <a:lnTo>
                  <a:pt x="96005" y="4551"/>
                </a:lnTo>
                <a:lnTo>
                  <a:pt x="103056" y="5891"/>
                </a:lnTo>
                <a:lnTo>
                  <a:pt x="109662" y="6785"/>
                </a:lnTo>
                <a:lnTo>
                  <a:pt x="115970" y="7381"/>
                </a:lnTo>
                <a:lnTo>
                  <a:pt x="123034" y="8730"/>
                </a:lnTo>
                <a:lnTo>
                  <a:pt x="130600" y="10583"/>
                </a:lnTo>
                <a:lnTo>
                  <a:pt x="138502" y="12770"/>
                </a:lnTo>
                <a:lnTo>
                  <a:pt x="145674" y="14228"/>
                </a:lnTo>
                <a:lnTo>
                  <a:pt x="152361" y="15200"/>
                </a:lnTo>
                <a:lnTo>
                  <a:pt x="158724" y="15849"/>
                </a:lnTo>
                <a:lnTo>
                  <a:pt x="164871" y="17233"/>
                </a:lnTo>
                <a:lnTo>
                  <a:pt x="170874" y="19109"/>
                </a:lnTo>
                <a:lnTo>
                  <a:pt x="176781" y="21312"/>
                </a:lnTo>
                <a:lnTo>
                  <a:pt x="182624" y="22780"/>
                </a:lnTo>
                <a:lnTo>
                  <a:pt x="188425" y="23759"/>
                </a:lnTo>
                <a:lnTo>
                  <a:pt x="194196" y="24412"/>
                </a:lnTo>
                <a:lnTo>
                  <a:pt x="198997" y="24847"/>
                </a:lnTo>
                <a:lnTo>
                  <a:pt x="203150" y="25137"/>
                </a:lnTo>
                <a:lnTo>
                  <a:pt x="214313" y="257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MARTPenAnnotation1042"/>
          <p:cNvSpPr/>
          <p:nvPr/>
        </p:nvSpPr>
        <p:spPr>
          <a:xfrm>
            <a:off x="3808440" y="5940360"/>
            <a:ext cx="241200" cy="17640"/>
          </a:xfrm>
          <a:custGeom>
            <a:avLst/>
            <a:gdLst>
              <a:gd name="textAreaLeft" fmla="*/ 0 w 241200"/>
              <a:gd name="textAreaRight" fmla="*/ 241560 w 2412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40031" h="17146">
                <a:moveTo>
                  <a:pt x="0" y="0"/>
                </a:moveTo>
                <a:lnTo>
                  <a:pt x="4551" y="0"/>
                </a:lnTo>
                <a:lnTo>
                  <a:pt x="6844" y="953"/>
                </a:lnTo>
                <a:lnTo>
                  <a:pt x="9325" y="2540"/>
                </a:lnTo>
                <a:lnTo>
                  <a:pt x="11932" y="4551"/>
                </a:lnTo>
                <a:lnTo>
                  <a:pt x="14622" y="5891"/>
                </a:lnTo>
                <a:lnTo>
                  <a:pt x="17368" y="6785"/>
                </a:lnTo>
                <a:lnTo>
                  <a:pt x="20151" y="7381"/>
                </a:lnTo>
                <a:lnTo>
                  <a:pt x="23911" y="7779"/>
                </a:lnTo>
                <a:lnTo>
                  <a:pt x="28324" y="8043"/>
                </a:lnTo>
                <a:lnTo>
                  <a:pt x="38306" y="8337"/>
                </a:lnTo>
                <a:lnTo>
                  <a:pt x="65875" y="8542"/>
                </a:lnTo>
                <a:lnTo>
                  <a:pt x="72492" y="9504"/>
                </a:lnTo>
                <a:lnTo>
                  <a:pt x="79760" y="11099"/>
                </a:lnTo>
                <a:lnTo>
                  <a:pt x="87463" y="13114"/>
                </a:lnTo>
                <a:lnTo>
                  <a:pt x="94504" y="14458"/>
                </a:lnTo>
                <a:lnTo>
                  <a:pt x="101103" y="15354"/>
                </a:lnTo>
                <a:lnTo>
                  <a:pt x="107407" y="15950"/>
                </a:lnTo>
                <a:lnTo>
                  <a:pt x="114467" y="16349"/>
                </a:lnTo>
                <a:lnTo>
                  <a:pt x="129931" y="16792"/>
                </a:lnTo>
                <a:lnTo>
                  <a:pt x="168209" y="17114"/>
                </a:lnTo>
                <a:lnTo>
                  <a:pt x="240030" y="171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MARTPenAnnotation1043"/>
          <p:cNvSpPr/>
          <p:nvPr/>
        </p:nvSpPr>
        <p:spPr>
          <a:xfrm>
            <a:off x="4211640" y="5764320"/>
            <a:ext cx="77760" cy="201600"/>
          </a:xfrm>
          <a:custGeom>
            <a:avLst/>
            <a:gdLst>
              <a:gd name="textAreaLeft" fmla="*/ 0 w 77760"/>
              <a:gd name="textAreaRight" fmla="*/ 77760 w 777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77154" h="202108">
                <a:moveTo>
                  <a:pt x="0" y="4939"/>
                </a:moveTo>
                <a:lnTo>
                  <a:pt x="0" y="389"/>
                </a:lnTo>
                <a:lnTo>
                  <a:pt x="953" y="0"/>
                </a:lnTo>
                <a:lnTo>
                  <a:pt x="2541" y="694"/>
                </a:lnTo>
                <a:lnTo>
                  <a:pt x="8220" y="4690"/>
                </a:lnTo>
                <a:lnTo>
                  <a:pt x="8469" y="9416"/>
                </a:lnTo>
                <a:lnTo>
                  <a:pt x="9456" y="11734"/>
                </a:lnTo>
                <a:lnTo>
                  <a:pt x="11067" y="14231"/>
                </a:lnTo>
                <a:lnTo>
                  <a:pt x="13093" y="16849"/>
                </a:lnTo>
                <a:lnTo>
                  <a:pt x="14444" y="19547"/>
                </a:lnTo>
                <a:lnTo>
                  <a:pt x="15945" y="25084"/>
                </a:lnTo>
                <a:lnTo>
                  <a:pt x="17297" y="28847"/>
                </a:lnTo>
                <a:lnTo>
                  <a:pt x="19152" y="33260"/>
                </a:lnTo>
                <a:lnTo>
                  <a:pt x="21341" y="38107"/>
                </a:lnTo>
                <a:lnTo>
                  <a:pt x="22800" y="43244"/>
                </a:lnTo>
                <a:lnTo>
                  <a:pt x="23773" y="48573"/>
                </a:lnTo>
                <a:lnTo>
                  <a:pt x="24421" y="54030"/>
                </a:lnTo>
                <a:lnTo>
                  <a:pt x="24854" y="58622"/>
                </a:lnTo>
                <a:lnTo>
                  <a:pt x="25142" y="62635"/>
                </a:lnTo>
                <a:lnTo>
                  <a:pt x="25334" y="66263"/>
                </a:lnTo>
                <a:lnTo>
                  <a:pt x="26414" y="70587"/>
                </a:lnTo>
                <a:lnTo>
                  <a:pt x="28087" y="75375"/>
                </a:lnTo>
                <a:lnTo>
                  <a:pt x="30155" y="80471"/>
                </a:lnTo>
                <a:lnTo>
                  <a:pt x="32486" y="85774"/>
                </a:lnTo>
                <a:lnTo>
                  <a:pt x="37616" y="96746"/>
                </a:lnTo>
                <a:lnTo>
                  <a:pt x="39365" y="101386"/>
                </a:lnTo>
                <a:lnTo>
                  <a:pt x="40531" y="105432"/>
                </a:lnTo>
                <a:lnTo>
                  <a:pt x="41308" y="109082"/>
                </a:lnTo>
                <a:lnTo>
                  <a:pt x="42779" y="113420"/>
                </a:lnTo>
                <a:lnTo>
                  <a:pt x="44712" y="118218"/>
                </a:lnTo>
                <a:lnTo>
                  <a:pt x="46953" y="123320"/>
                </a:lnTo>
                <a:lnTo>
                  <a:pt x="48447" y="128627"/>
                </a:lnTo>
                <a:lnTo>
                  <a:pt x="49444" y="134071"/>
                </a:lnTo>
                <a:lnTo>
                  <a:pt x="50107" y="139604"/>
                </a:lnTo>
                <a:lnTo>
                  <a:pt x="51502" y="144246"/>
                </a:lnTo>
                <a:lnTo>
                  <a:pt x="53386" y="148293"/>
                </a:lnTo>
                <a:lnTo>
                  <a:pt x="55593" y="151943"/>
                </a:lnTo>
                <a:lnTo>
                  <a:pt x="57064" y="156282"/>
                </a:lnTo>
                <a:lnTo>
                  <a:pt x="58046" y="161079"/>
                </a:lnTo>
                <a:lnTo>
                  <a:pt x="58700" y="166183"/>
                </a:lnTo>
                <a:lnTo>
                  <a:pt x="60089" y="170537"/>
                </a:lnTo>
                <a:lnTo>
                  <a:pt x="61966" y="174393"/>
                </a:lnTo>
                <a:lnTo>
                  <a:pt x="64171" y="177916"/>
                </a:lnTo>
                <a:lnTo>
                  <a:pt x="65641" y="182170"/>
                </a:lnTo>
                <a:lnTo>
                  <a:pt x="66621" y="186910"/>
                </a:lnTo>
                <a:lnTo>
                  <a:pt x="67274" y="191976"/>
                </a:lnTo>
                <a:lnTo>
                  <a:pt x="68662" y="195353"/>
                </a:lnTo>
                <a:lnTo>
                  <a:pt x="70540" y="197604"/>
                </a:lnTo>
                <a:lnTo>
                  <a:pt x="77153" y="2021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MARTPenAnnotation1044"/>
          <p:cNvSpPr/>
          <p:nvPr/>
        </p:nvSpPr>
        <p:spPr>
          <a:xfrm>
            <a:off x="4168800" y="6008760"/>
            <a:ext cx="249120" cy="27000"/>
          </a:xfrm>
          <a:custGeom>
            <a:avLst/>
            <a:gdLst>
              <a:gd name="textAreaLeft" fmla="*/ 0 w 249120"/>
              <a:gd name="textAreaRight" fmla="*/ 249480 w 249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48604" h="25719">
                <a:moveTo>
                  <a:pt x="0" y="0"/>
                </a:moveTo>
                <a:lnTo>
                  <a:pt x="15601" y="0"/>
                </a:lnTo>
                <a:lnTo>
                  <a:pt x="18020" y="953"/>
                </a:lnTo>
                <a:lnTo>
                  <a:pt x="21539" y="2540"/>
                </a:lnTo>
                <a:lnTo>
                  <a:pt x="25789" y="4551"/>
                </a:lnTo>
                <a:lnTo>
                  <a:pt x="30528" y="5892"/>
                </a:lnTo>
                <a:lnTo>
                  <a:pt x="35592" y="6785"/>
                </a:lnTo>
                <a:lnTo>
                  <a:pt x="40873" y="7381"/>
                </a:lnTo>
                <a:lnTo>
                  <a:pt x="45346" y="7778"/>
                </a:lnTo>
                <a:lnTo>
                  <a:pt x="52856" y="8219"/>
                </a:lnTo>
                <a:lnTo>
                  <a:pt x="61909" y="8416"/>
                </a:lnTo>
                <a:lnTo>
                  <a:pt x="125410" y="8570"/>
                </a:lnTo>
                <a:lnTo>
                  <a:pt x="132184" y="9523"/>
                </a:lnTo>
                <a:lnTo>
                  <a:pt x="139558" y="11111"/>
                </a:lnTo>
                <a:lnTo>
                  <a:pt x="147331" y="13123"/>
                </a:lnTo>
                <a:lnTo>
                  <a:pt x="154418" y="14464"/>
                </a:lnTo>
                <a:lnTo>
                  <a:pt x="161048" y="15357"/>
                </a:lnTo>
                <a:lnTo>
                  <a:pt x="167373" y="15953"/>
                </a:lnTo>
                <a:lnTo>
                  <a:pt x="173494" y="16350"/>
                </a:lnTo>
                <a:lnTo>
                  <a:pt x="179480" y="16615"/>
                </a:lnTo>
                <a:lnTo>
                  <a:pt x="191212" y="16910"/>
                </a:lnTo>
                <a:lnTo>
                  <a:pt x="219996" y="17114"/>
                </a:lnTo>
                <a:lnTo>
                  <a:pt x="224769" y="18077"/>
                </a:lnTo>
                <a:lnTo>
                  <a:pt x="228904" y="19671"/>
                </a:lnTo>
                <a:lnTo>
                  <a:pt x="232612" y="21687"/>
                </a:lnTo>
                <a:lnTo>
                  <a:pt x="236037" y="23030"/>
                </a:lnTo>
                <a:lnTo>
                  <a:pt x="239273" y="23926"/>
                </a:lnTo>
                <a:lnTo>
                  <a:pt x="248603" y="257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MARTPenAnnotation1045"/>
          <p:cNvSpPr/>
          <p:nvPr/>
        </p:nvSpPr>
        <p:spPr>
          <a:xfrm>
            <a:off x="4289400" y="6068880"/>
            <a:ext cx="274680" cy="214560"/>
          </a:xfrm>
          <a:custGeom>
            <a:avLst/>
            <a:gdLst>
              <a:gd name="textAreaLeft" fmla="*/ 0 w 274680"/>
              <a:gd name="textAreaRight" fmla="*/ 275040 w 27468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74321" h="213812">
                <a:moveTo>
                  <a:pt x="0" y="0"/>
                </a:moveTo>
                <a:lnTo>
                  <a:pt x="33265" y="0"/>
                </a:lnTo>
                <a:lnTo>
                  <a:pt x="38369" y="953"/>
                </a:lnTo>
                <a:lnTo>
                  <a:pt x="43677" y="2541"/>
                </a:lnTo>
                <a:lnTo>
                  <a:pt x="49120" y="4552"/>
                </a:lnTo>
                <a:lnTo>
                  <a:pt x="53702" y="5892"/>
                </a:lnTo>
                <a:lnTo>
                  <a:pt x="61333" y="7382"/>
                </a:lnTo>
                <a:lnTo>
                  <a:pt x="65653" y="8731"/>
                </a:lnTo>
                <a:lnTo>
                  <a:pt x="70439" y="10584"/>
                </a:lnTo>
                <a:lnTo>
                  <a:pt x="75534" y="12771"/>
                </a:lnTo>
                <a:lnTo>
                  <a:pt x="80836" y="14229"/>
                </a:lnTo>
                <a:lnTo>
                  <a:pt x="86276" y="15201"/>
                </a:lnTo>
                <a:lnTo>
                  <a:pt x="91807" y="15849"/>
                </a:lnTo>
                <a:lnTo>
                  <a:pt x="96447" y="17234"/>
                </a:lnTo>
                <a:lnTo>
                  <a:pt x="104143" y="21313"/>
                </a:lnTo>
                <a:lnTo>
                  <a:pt x="108481" y="23733"/>
                </a:lnTo>
                <a:lnTo>
                  <a:pt x="118382" y="28964"/>
                </a:lnTo>
                <a:lnTo>
                  <a:pt x="126591" y="34463"/>
                </a:lnTo>
                <a:lnTo>
                  <a:pt x="133415" y="40082"/>
                </a:lnTo>
                <a:lnTo>
                  <a:pt x="139623" y="45755"/>
                </a:lnTo>
                <a:lnTo>
                  <a:pt x="148473" y="54303"/>
                </a:lnTo>
                <a:lnTo>
                  <a:pt x="150417" y="57157"/>
                </a:lnTo>
                <a:lnTo>
                  <a:pt x="152577" y="62869"/>
                </a:lnTo>
                <a:lnTo>
                  <a:pt x="153793" y="66889"/>
                </a:lnTo>
                <a:lnTo>
                  <a:pt x="154153" y="72630"/>
                </a:lnTo>
                <a:lnTo>
                  <a:pt x="153251" y="74138"/>
                </a:lnTo>
                <a:lnTo>
                  <a:pt x="151698" y="75143"/>
                </a:lnTo>
                <a:lnTo>
                  <a:pt x="149710" y="75813"/>
                </a:lnTo>
                <a:lnTo>
                  <a:pt x="148384" y="77212"/>
                </a:lnTo>
                <a:lnTo>
                  <a:pt x="147500" y="79098"/>
                </a:lnTo>
                <a:lnTo>
                  <a:pt x="146911" y="81307"/>
                </a:lnTo>
                <a:lnTo>
                  <a:pt x="144613" y="83733"/>
                </a:lnTo>
                <a:lnTo>
                  <a:pt x="136980" y="88967"/>
                </a:lnTo>
                <a:lnTo>
                  <a:pt x="132277" y="90744"/>
                </a:lnTo>
                <a:lnTo>
                  <a:pt x="127238" y="91929"/>
                </a:lnTo>
                <a:lnTo>
                  <a:pt x="121972" y="92718"/>
                </a:lnTo>
                <a:lnTo>
                  <a:pt x="113582" y="96136"/>
                </a:lnTo>
                <a:lnTo>
                  <a:pt x="110012" y="98381"/>
                </a:lnTo>
                <a:lnTo>
                  <a:pt x="104774" y="100830"/>
                </a:lnTo>
                <a:lnTo>
                  <a:pt x="98424" y="103415"/>
                </a:lnTo>
                <a:lnTo>
                  <a:pt x="91333" y="106091"/>
                </a:lnTo>
                <a:lnTo>
                  <a:pt x="85654" y="107875"/>
                </a:lnTo>
                <a:lnTo>
                  <a:pt x="80916" y="109065"/>
                </a:lnTo>
                <a:lnTo>
                  <a:pt x="76804" y="109858"/>
                </a:lnTo>
                <a:lnTo>
                  <a:pt x="69695" y="113278"/>
                </a:lnTo>
                <a:lnTo>
                  <a:pt x="66466" y="115524"/>
                </a:lnTo>
                <a:lnTo>
                  <a:pt x="62408" y="117021"/>
                </a:lnTo>
                <a:lnTo>
                  <a:pt x="57798" y="118020"/>
                </a:lnTo>
                <a:lnTo>
                  <a:pt x="52819" y="118685"/>
                </a:lnTo>
                <a:lnTo>
                  <a:pt x="49501" y="120081"/>
                </a:lnTo>
                <a:lnTo>
                  <a:pt x="47288" y="121964"/>
                </a:lnTo>
                <a:lnTo>
                  <a:pt x="43877" y="126597"/>
                </a:lnTo>
                <a:lnTo>
                  <a:pt x="39186" y="131830"/>
                </a:lnTo>
                <a:lnTo>
                  <a:pt x="36602" y="133607"/>
                </a:lnTo>
                <a:lnTo>
                  <a:pt x="31190" y="135582"/>
                </a:lnTo>
                <a:lnTo>
                  <a:pt x="29366" y="137060"/>
                </a:lnTo>
                <a:lnTo>
                  <a:pt x="28150" y="138999"/>
                </a:lnTo>
                <a:lnTo>
                  <a:pt x="27339" y="141243"/>
                </a:lnTo>
                <a:lnTo>
                  <a:pt x="27751" y="142740"/>
                </a:lnTo>
                <a:lnTo>
                  <a:pt x="28978" y="143738"/>
                </a:lnTo>
                <a:lnTo>
                  <a:pt x="30749" y="144403"/>
                </a:lnTo>
                <a:lnTo>
                  <a:pt x="41387" y="152314"/>
                </a:lnTo>
                <a:lnTo>
                  <a:pt x="45689" y="154883"/>
                </a:lnTo>
                <a:lnTo>
                  <a:pt x="50462" y="157548"/>
                </a:lnTo>
                <a:lnTo>
                  <a:pt x="60845" y="163049"/>
                </a:lnTo>
                <a:lnTo>
                  <a:pt x="66281" y="165850"/>
                </a:lnTo>
                <a:lnTo>
                  <a:pt x="73715" y="168669"/>
                </a:lnTo>
                <a:lnTo>
                  <a:pt x="82481" y="171501"/>
                </a:lnTo>
                <a:lnTo>
                  <a:pt x="101428" y="177188"/>
                </a:lnTo>
                <a:lnTo>
                  <a:pt x="119374" y="182890"/>
                </a:lnTo>
                <a:lnTo>
                  <a:pt x="129113" y="185745"/>
                </a:lnTo>
                <a:lnTo>
                  <a:pt x="160070" y="194313"/>
                </a:lnTo>
                <a:lnTo>
                  <a:pt x="178774" y="200027"/>
                </a:lnTo>
                <a:lnTo>
                  <a:pt x="205370" y="208599"/>
                </a:lnTo>
                <a:lnTo>
                  <a:pt x="213113" y="210503"/>
                </a:lnTo>
                <a:lnTo>
                  <a:pt x="220180" y="211774"/>
                </a:lnTo>
                <a:lnTo>
                  <a:pt x="226797" y="212620"/>
                </a:lnTo>
                <a:lnTo>
                  <a:pt x="233113" y="213185"/>
                </a:lnTo>
                <a:lnTo>
                  <a:pt x="239229" y="213561"/>
                </a:lnTo>
                <a:lnTo>
                  <a:pt x="245211" y="213811"/>
                </a:lnTo>
                <a:lnTo>
                  <a:pt x="250151" y="213026"/>
                </a:lnTo>
                <a:lnTo>
                  <a:pt x="258180" y="209614"/>
                </a:lnTo>
                <a:lnTo>
                  <a:pt x="263505" y="206888"/>
                </a:lnTo>
                <a:lnTo>
                  <a:pt x="267291" y="203710"/>
                </a:lnTo>
                <a:lnTo>
                  <a:pt x="274320" y="1971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MARTPenAnnotation1046"/>
          <p:cNvSpPr/>
          <p:nvPr/>
        </p:nvSpPr>
        <p:spPr>
          <a:xfrm>
            <a:off x="3989520" y="5821200"/>
            <a:ext cx="161640" cy="8280"/>
          </a:xfrm>
          <a:custGeom>
            <a:avLst/>
            <a:gdLst>
              <a:gd name="textAreaLeft" fmla="*/ 0 w 161640"/>
              <a:gd name="textAreaRight" fmla="*/ 162000 w 161640"/>
              <a:gd name="textAreaTop" fmla="*/ 0 h 8280"/>
              <a:gd name="textAreaBottom" fmla="*/ 8640 h 8280"/>
            </a:gdLst>
            <a:ahLst/>
            <a:rect l="textAreaLeft" t="textAreaTop" r="textAreaRight" b="textAreaBottom"/>
            <a:pathLst>
              <a:path w="162876" h="8574">
                <a:moveTo>
                  <a:pt x="154305" y="0"/>
                </a:moveTo>
                <a:lnTo>
                  <a:pt x="162875" y="0"/>
                </a:lnTo>
                <a:lnTo>
                  <a:pt x="145556" y="0"/>
                </a:lnTo>
                <a:lnTo>
                  <a:pt x="141804" y="953"/>
                </a:lnTo>
                <a:lnTo>
                  <a:pt x="138351" y="2540"/>
                </a:lnTo>
                <a:lnTo>
                  <a:pt x="135096" y="4551"/>
                </a:lnTo>
                <a:lnTo>
                  <a:pt x="131021" y="5892"/>
                </a:lnTo>
                <a:lnTo>
                  <a:pt x="126400" y="6785"/>
                </a:lnTo>
                <a:lnTo>
                  <a:pt x="121414" y="7381"/>
                </a:lnTo>
                <a:lnTo>
                  <a:pt x="116185" y="7778"/>
                </a:lnTo>
                <a:lnTo>
                  <a:pt x="110794" y="8043"/>
                </a:lnTo>
                <a:lnTo>
                  <a:pt x="98771" y="8337"/>
                </a:lnTo>
                <a:lnTo>
                  <a:pt x="0" y="85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iamond and the squa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way of visualizing the ac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(x)=2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1x+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MARTPenAnnotation808"/>
          <p:cNvSpPr/>
          <p:nvPr/>
        </p:nvSpPr>
        <p:spPr>
          <a:xfrm>
            <a:off x="4572000" y="2443320"/>
            <a:ext cx="257040" cy="677880"/>
          </a:xfrm>
          <a:custGeom>
            <a:avLst/>
            <a:gdLst>
              <a:gd name="textAreaLeft" fmla="*/ 0 w 257040"/>
              <a:gd name="textAreaRight" fmla="*/ 257400 w 2570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257176" h="677228">
                <a:moveTo>
                  <a:pt x="0" y="0"/>
                </a:moveTo>
                <a:lnTo>
                  <a:pt x="0" y="4551"/>
                </a:lnTo>
                <a:lnTo>
                  <a:pt x="952" y="5892"/>
                </a:lnTo>
                <a:lnTo>
                  <a:pt x="2540" y="6785"/>
                </a:lnTo>
                <a:lnTo>
                  <a:pt x="4550" y="7381"/>
                </a:lnTo>
                <a:lnTo>
                  <a:pt x="9325" y="10583"/>
                </a:lnTo>
                <a:lnTo>
                  <a:pt x="11931" y="12770"/>
                </a:lnTo>
                <a:lnTo>
                  <a:pt x="13669" y="15181"/>
                </a:lnTo>
                <a:lnTo>
                  <a:pt x="17067" y="23125"/>
                </a:lnTo>
                <a:lnTo>
                  <a:pt x="23683" y="31511"/>
                </a:lnTo>
                <a:lnTo>
                  <a:pt x="31676" y="40028"/>
                </a:lnTo>
                <a:lnTo>
                  <a:pt x="37256" y="45730"/>
                </a:lnTo>
                <a:lnTo>
                  <a:pt x="39125" y="49537"/>
                </a:lnTo>
                <a:lnTo>
                  <a:pt x="42707" y="63044"/>
                </a:lnTo>
                <a:lnTo>
                  <a:pt x="49377" y="74454"/>
                </a:lnTo>
                <a:lnTo>
                  <a:pt x="57387" y="89476"/>
                </a:lnTo>
                <a:lnTo>
                  <a:pt x="71468" y="117275"/>
                </a:lnTo>
                <a:lnTo>
                  <a:pt x="77166" y="131180"/>
                </a:lnTo>
                <a:lnTo>
                  <a:pt x="82874" y="145932"/>
                </a:lnTo>
                <a:lnTo>
                  <a:pt x="90489" y="165900"/>
                </a:lnTo>
                <a:lnTo>
                  <a:pt x="92604" y="181366"/>
                </a:lnTo>
                <a:lnTo>
                  <a:pt x="98346" y="201587"/>
                </a:lnTo>
                <a:lnTo>
                  <a:pt x="106080" y="224195"/>
                </a:lnTo>
                <a:lnTo>
                  <a:pt x="109059" y="240612"/>
                </a:lnTo>
                <a:lnTo>
                  <a:pt x="111335" y="257434"/>
                </a:lnTo>
                <a:lnTo>
                  <a:pt x="115522" y="274435"/>
                </a:lnTo>
                <a:lnTo>
                  <a:pt x="120558" y="291516"/>
                </a:lnTo>
                <a:lnTo>
                  <a:pt x="131552" y="325765"/>
                </a:lnTo>
                <a:lnTo>
                  <a:pt x="191452" y="505777"/>
                </a:lnTo>
                <a:lnTo>
                  <a:pt x="197167" y="520383"/>
                </a:lnTo>
                <a:lnTo>
                  <a:pt x="200024" y="526944"/>
                </a:lnTo>
                <a:lnTo>
                  <a:pt x="203200" y="541855"/>
                </a:lnTo>
                <a:lnTo>
                  <a:pt x="205563" y="557055"/>
                </a:lnTo>
                <a:lnTo>
                  <a:pt x="212249" y="576321"/>
                </a:lnTo>
                <a:lnTo>
                  <a:pt x="220262" y="594095"/>
                </a:lnTo>
                <a:lnTo>
                  <a:pt x="225847" y="605673"/>
                </a:lnTo>
                <a:lnTo>
                  <a:pt x="231504" y="614628"/>
                </a:lnTo>
                <a:lnTo>
                  <a:pt x="234346" y="618349"/>
                </a:lnTo>
                <a:lnTo>
                  <a:pt x="236240" y="622736"/>
                </a:lnTo>
                <a:lnTo>
                  <a:pt x="239859" y="637058"/>
                </a:lnTo>
                <a:lnTo>
                  <a:pt x="245588" y="647757"/>
                </a:lnTo>
                <a:lnTo>
                  <a:pt x="247263" y="653970"/>
                </a:lnTo>
                <a:lnTo>
                  <a:pt x="248205" y="662822"/>
                </a:lnTo>
                <a:lnTo>
                  <a:pt x="249290" y="665719"/>
                </a:lnTo>
                <a:lnTo>
                  <a:pt x="257175" y="6772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MARTPenAnnotation809"/>
          <p:cNvSpPr/>
          <p:nvPr/>
        </p:nvSpPr>
        <p:spPr>
          <a:xfrm>
            <a:off x="4567320" y="2332080"/>
            <a:ext cx="1376280" cy="762120"/>
          </a:xfrm>
          <a:custGeom>
            <a:avLst/>
            <a:gdLst>
              <a:gd name="textAreaLeft" fmla="*/ 0 w 1376280"/>
              <a:gd name="textAreaRight" fmla="*/ 1376280 w 13762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376540" h="762846">
                <a:moveTo>
                  <a:pt x="4939" y="94190"/>
                </a:moveTo>
                <a:lnTo>
                  <a:pt x="388" y="85089"/>
                </a:lnTo>
                <a:lnTo>
                  <a:pt x="0" y="83360"/>
                </a:lnTo>
                <a:lnTo>
                  <a:pt x="693" y="83160"/>
                </a:lnTo>
                <a:lnTo>
                  <a:pt x="4690" y="85474"/>
                </a:lnTo>
                <a:lnTo>
                  <a:pt x="46326" y="85616"/>
                </a:lnTo>
                <a:lnTo>
                  <a:pt x="129134" y="85618"/>
                </a:lnTo>
                <a:lnTo>
                  <a:pt x="165960" y="79726"/>
                </a:lnTo>
                <a:lnTo>
                  <a:pt x="204279" y="75035"/>
                </a:lnTo>
                <a:lnTo>
                  <a:pt x="252806" y="65218"/>
                </a:lnTo>
                <a:lnTo>
                  <a:pt x="289624" y="61476"/>
                </a:lnTo>
                <a:lnTo>
                  <a:pt x="342090" y="54320"/>
                </a:lnTo>
                <a:lnTo>
                  <a:pt x="379367" y="52214"/>
                </a:lnTo>
                <a:lnTo>
                  <a:pt x="420151" y="50638"/>
                </a:lnTo>
                <a:lnTo>
                  <a:pt x="462398" y="45514"/>
                </a:lnTo>
                <a:lnTo>
                  <a:pt x="505078" y="43573"/>
                </a:lnTo>
                <a:lnTo>
                  <a:pt x="547886" y="42045"/>
                </a:lnTo>
                <a:lnTo>
                  <a:pt x="589780" y="36935"/>
                </a:lnTo>
                <a:lnTo>
                  <a:pt x="627699" y="34046"/>
                </a:lnTo>
                <a:lnTo>
                  <a:pt x="668674" y="28533"/>
                </a:lnTo>
                <a:lnTo>
                  <a:pt x="710977" y="25523"/>
                </a:lnTo>
                <a:lnTo>
                  <a:pt x="753673" y="19975"/>
                </a:lnTo>
                <a:lnTo>
                  <a:pt x="795534" y="16955"/>
                </a:lnTo>
                <a:lnTo>
                  <a:pt x="833443" y="11404"/>
                </a:lnTo>
                <a:lnTo>
                  <a:pt x="873462" y="9336"/>
                </a:lnTo>
                <a:lnTo>
                  <a:pt x="909873" y="7771"/>
                </a:lnTo>
                <a:lnTo>
                  <a:pt x="944792" y="2650"/>
                </a:lnTo>
                <a:lnTo>
                  <a:pt x="978316" y="710"/>
                </a:lnTo>
                <a:lnTo>
                  <a:pt x="1020003" y="0"/>
                </a:lnTo>
                <a:lnTo>
                  <a:pt x="1057278" y="6692"/>
                </a:lnTo>
                <a:lnTo>
                  <a:pt x="1081766" y="9184"/>
                </a:lnTo>
                <a:lnTo>
                  <a:pt x="1100154" y="15204"/>
                </a:lnTo>
                <a:lnTo>
                  <a:pt x="1107969" y="17175"/>
                </a:lnTo>
                <a:lnTo>
                  <a:pt x="1122126" y="23640"/>
                </a:lnTo>
                <a:lnTo>
                  <a:pt x="1129481" y="28862"/>
                </a:lnTo>
                <a:lnTo>
                  <a:pt x="1135925" y="36898"/>
                </a:lnTo>
                <a:lnTo>
                  <a:pt x="1141012" y="45867"/>
                </a:lnTo>
                <a:lnTo>
                  <a:pt x="1149096" y="66965"/>
                </a:lnTo>
                <a:lnTo>
                  <a:pt x="1151628" y="77645"/>
                </a:lnTo>
                <a:lnTo>
                  <a:pt x="1153706" y="88742"/>
                </a:lnTo>
                <a:lnTo>
                  <a:pt x="1159278" y="105699"/>
                </a:lnTo>
                <a:lnTo>
                  <a:pt x="1164184" y="128496"/>
                </a:lnTo>
                <a:lnTo>
                  <a:pt x="1174043" y="151343"/>
                </a:lnTo>
                <a:lnTo>
                  <a:pt x="1185163" y="180092"/>
                </a:lnTo>
                <a:lnTo>
                  <a:pt x="1193681" y="200076"/>
                </a:lnTo>
                <a:lnTo>
                  <a:pt x="1202238" y="222719"/>
                </a:lnTo>
                <a:lnTo>
                  <a:pt x="1211758" y="242869"/>
                </a:lnTo>
                <a:lnTo>
                  <a:pt x="1225268" y="266513"/>
                </a:lnTo>
                <a:lnTo>
                  <a:pt x="1232472" y="283173"/>
                </a:lnTo>
                <a:lnTo>
                  <a:pt x="1241389" y="300102"/>
                </a:lnTo>
                <a:lnTo>
                  <a:pt x="1250750" y="317152"/>
                </a:lnTo>
                <a:lnTo>
                  <a:pt x="1258085" y="334254"/>
                </a:lnTo>
                <a:lnTo>
                  <a:pt x="1267060" y="351380"/>
                </a:lnTo>
                <a:lnTo>
                  <a:pt x="1276446" y="368517"/>
                </a:lnTo>
                <a:lnTo>
                  <a:pt x="1283793" y="385658"/>
                </a:lnTo>
                <a:lnTo>
                  <a:pt x="1290233" y="402801"/>
                </a:lnTo>
                <a:lnTo>
                  <a:pt x="1299215" y="428518"/>
                </a:lnTo>
                <a:lnTo>
                  <a:pt x="1310782" y="462808"/>
                </a:lnTo>
                <a:lnTo>
                  <a:pt x="1319056" y="479953"/>
                </a:lnTo>
                <a:lnTo>
                  <a:pt x="1328131" y="497098"/>
                </a:lnTo>
                <a:lnTo>
                  <a:pt x="1335339" y="514243"/>
                </a:lnTo>
                <a:lnTo>
                  <a:pt x="1341717" y="531387"/>
                </a:lnTo>
                <a:lnTo>
                  <a:pt x="1353574" y="565678"/>
                </a:lnTo>
                <a:lnTo>
                  <a:pt x="1359197" y="593124"/>
                </a:lnTo>
                <a:lnTo>
                  <a:pt x="1365897" y="612015"/>
                </a:lnTo>
                <a:lnTo>
                  <a:pt x="1372962" y="634335"/>
                </a:lnTo>
                <a:lnTo>
                  <a:pt x="1375832" y="656886"/>
                </a:lnTo>
                <a:lnTo>
                  <a:pt x="1376445" y="679747"/>
                </a:lnTo>
                <a:lnTo>
                  <a:pt x="1376539" y="718279"/>
                </a:lnTo>
                <a:lnTo>
                  <a:pt x="1373998" y="721765"/>
                </a:lnTo>
                <a:lnTo>
                  <a:pt x="1371988" y="724029"/>
                </a:lnTo>
                <a:lnTo>
                  <a:pt x="1369695" y="725537"/>
                </a:lnTo>
                <a:lnTo>
                  <a:pt x="1364607" y="727214"/>
                </a:lnTo>
                <a:lnTo>
                  <a:pt x="1352627" y="729243"/>
                </a:lnTo>
                <a:lnTo>
                  <a:pt x="1335444" y="735288"/>
                </a:lnTo>
                <a:lnTo>
                  <a:pt x="1318045" y="736764"/>
                </a:lnTo>
                <a:lnTo>
                  <a:pt x="1278352" y="737106"/>
                </a:lnTo>
                <a:lnTo>
                  <a:pt x="1255371" y="738074"/>
                </a:lnTo>
                <a:lnTo>
                  <a:pt x="1218060" y="744508"/>
                </a:lnTo>
                <a:lnTo>
                  <a:pt x="1181228" y="745465"/>
                </a:lnTo>
                <a:lnTo>
                  <a:pt x="1136754" y="745669"/>
                </a:lnTo>
                <a:lnTo>
                  <a:pt x="1093678" y="752481"/>
                </a:lnTo>
                <a:lnTo>
                  <a:pt x="1054811" y="753919"/>
                </a:lnTo>
                <a:lnTo>
                  <a:pt x="960966" y="754263"/>
                </a:lnTo>
                <a:lnTo>
                  <a:pt x="927545" y="749719"/>
                </a:lnTo>
                <a:lnTo>
                  <a:pt x="888010" y="746494"/>
                </a:lnTo>
                <a:lnTo>
                  <a:pt x="847039" y="745857"/>
                </a:lnTo>
                <a:lnTo>
                  <a:pt x="683496" y="745700"/>
                </a:lnTo>
                <a:lnTo>
                  <a:pt x="632694" y="752485"/>
                </a:lnTo>
                <a:lnTo>
                  <a:pt x="592278" y="753920"/>
                </a:lnTo>
                <a:lnTo>
                  <a:pt x="489583" y="754270"/>
                </a:lnTo>
                <a:lnTo>
                  <a:pt x="450183" y="761058"/>
                </a:lnTo>
                <a:lnTo>
                  <a:pt x="408552" y="762688"/>
                </a:lnTo>
                <a:lnTo>
                  <a:pt x="270686" y="7628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MARTPenAnnotation810"/>
          <p:cNvSpPr/>
          <p:nvPr/>
        </p:nvSpPr>
        <p:spPr>
          <a:xfrm>
            <a:off x="5154480" y="2374920"/>
            <a:ext cx="223920" cy="642960"/>
          </a:xfrm>
          <a:custGeom>
            <a:avLst/>
            <a:gdLst>
              <a:gd name="textAreaLeft" fmla="*/ 0 w 223920"/>
              <a:gd name="textAreaRight" fmla="*/ 224280 w 22392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222885" h="642939">
                <a:moveTo>
                  <a:pt x="8571" y="0"/>
                </a:moveTo>
                <a:lnTo>
                  <a:pt x="352" y="0"/>
                </a:lnTo>
                <a:lnTo>
                  <a:pt x="3" y="17741"/>
                </a:lnTo>
                <a:lnTo>
                  <a:pt x="0" y="28693"/>
                </a:lnTo>
                <a:lnTo>
                  <a:pt x="6784" y="49663"/>
                </a:lnTo>
                <a:lnTo>
                  <a:pt x="8729" y="57315"/>
                </a:lnTo>
                <a:lnTo>
                  <a:pt x="15199" y="75210"/>
                </a:lnTo>
                <a:lnTo>
                  <a:pt x="17840" y="98981"/>
                </a:lnTo>
                <a:lnTo>
                  <a:pt x="21581" y="113524"/>
                </a:lnTo>
                <a:lnTo>
                  <a:pt x="25851" y="140252"/>
                </a:lnTo>
                <a:lnTo>
                  <a:pt x="29904" y="155679"/>
                </a:lnTo>
                <a:lnTo>
                  <a:pt x="34880" y="169521"/>
                </a:lnTo>
                <a:lnTo>
                  <a:pt x="40267" y="182975"/>
                </a:lnTo>
                <a:lnTo>
                  <a:pt x="45836" y="198480"/>
                </a:lnTo>
                <a:lnTo>
                  <a:pt x="48945" y="212356"/>
                </a:lnTo>
                <a:lnTo>
                  <a:pt x="51280" y="225826"/>
                </a:lnTo>
                <a:lnTo>
                  <a:pt x="55493" y="241337"/>
                </a:lnTo>
                <a:lnTo>
                  <a:pt x="60540" y="257756"/>
                </a:lnTo>
                <a:lnTo>
                  <a:pt x="97156" y="368620"/>
                </a:lnTo>
                <a:lnTo>
                  <a:pt x="100330" y="385764"/>
                </a:lnTo>
                <a:lnTo>
                  <a:pt x="102693" y="402908"/>
                </a:lnTo>
                <a:lnTo>
                  <a:pt x="106918" y="420053"/>
                </a:lnTo>
                <a:lnTo>
                  <a:pt x="111971" y="437198"/>
                </a:lnTo>
                <a:lnTo>
                  <a:pt x="116439" y="453390"/>
                </a:lnTo>
                <a:lnTo>
                  <a:pt x="118425" y="466937"/>
                </a:lnTo>
                <a:lnTo>
                  <a:pt x="121848" y="481848"/>
                </a:lnTo>
                <a:lnTo>
                  <a:pt x="126543" y="497047"/>
                </a:lnTo>
                <a:lnTo>
                  <a:pt x="131806" y="510152"/>
                </a:lnTo>
                <a:lnTo>
                  <a:pt x="137319" y="522327"/>
                </a:lnTo>
                <a:lnTo>
                  <a:pt x="142945" y="533135"/>
                </a:lnTo>
                <a:lnTo>
                  <a:pt x="148620" y="541114"/>
                </a:lnTo>
                <a:lnTo>
                  <a:pt x="154318" y="550375"/>
                </a:lnTo>
                <a:lnTo>
                  <a:pt x="157171" y="555512"/>
                </a:lnTo>
                <a:lnTo>
                  <a:pt x="160341" y="566299"/>
                </a:lnTo>
                <a:lnTo>
                  <a:pt x="161185" y="571843"/>
                </a:lnTo>
                <a:lnTo>
                  <a:pt x="164665" y="580542"/>
                </a:lnTo>
                <a:lnTo>
                  <a:pt x="169386" y="587584"/>
                </a:lnTo>
                <a:lnTo>
                  <a:pt x="174659" y="593888"/>
                </a:lnTo>
                <a:lnTo>
                  <a:pt x="176447" y="596903"/>
                </a:lnTo>
                <a:lnTo>
                  <a:pt x="179915" y="605697"/>
                </a:lnTo>
                <a:lnTo>
                  <a:pt x="186597" y="614662"/>
                </a:lnTo>
                <a:lnTo>
                  <a:pt x="187263" y="615514"/>
                </a:lnTo>
                <a:lnTo>
                  <a:pt x="188002" y="619002"/>
                </a:lnTo>
                <a:lnTo>
                  <a:pt x="188199" y="621266"/>
                </a:lnTo>
                <a:lnTo>
                  <a:pt x="189283" y="622775"/>
                </a:lnTo>
                <a:lnTo>
                  <a:pt x="190958" y="623780"/>
                </a:lnTo>
                <a:lnTo>
                  <a:pt x="195940" y="625395"/>
                </a:lnTo>
                <a:lnTo>
                  <a:pt x="196349" y="626480"/>
                </a:lnTo>
                <a:lnTo>
                  <a:pt x="196803" y="630226"/>
                </a:lnTo>
                <a:lnTo>
                  <a:pt x="197877" y="631606"/>
                </a:lnTo>
                <a:lnTo>
                  <a:pt x="199544" y="632525"/>
                </a:lnTo>
                <a:lnTo>
                  <a:pt x="201609" y="633139"/>
                </a:lnTo>
                <a:lnTo>
                  <a:pt x="202986" y="634500"/>
                </a:lnTo>
                <a:lnTo>
                  <a:pt x="203903" y="636360"/>
                </a:lnTo>
                <a:lnTo>
                  <a:pt x="204515" y="638553"/>
                </a:lnTo>
                <a:lnTo>
                  <a:pt x="205875" y="640014"/>
                </a:lnTo>
                <a:lnTo>
                  <a:pt x="207735" y="640989"/>
                </a:lnTo>
                <a:lnTo>
                  <a:pt x="213926" y="642823"/>
                </a:lnTo>
                <a:lnTo>
                  <a:pt x="220126" y="642915"/>
                </a:lnTo>
                <a:lnTo>
                  <a:pt x="222884" y="64293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MARTPenAnnotation811"/>
          <p:cNvSpPr/>
          <p:nvPr/>
        </p:nvSpPr>
        <p:spPr>
          <a:xfrm>
            <a:off x="4700520" y="2657520"/>
            <a:ext cx="1165320" cy="136440"/>
          </a:xfrm>
          <a:custGeom>
            <a:avLst/>
            <a:gdLst>
              <a:gd name="textAreaLeft" fmla="*/ 0 w 1165320"/>
              <a:gd name="textAreaRight" fmla="*/ 1165680 w 11653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165861" h="137161">
                <a:moveTo>
                  <a:pt x="0" y="137160"/>
                </a:moveTo>
                <a:lnTo>
                  <a:pt x="0" y="132609"/>
                </a:lnTo>
                <a:lnTo>
                  <a:pt x="953" y="131268"/>
                </a:lnTo>
                <a:lnTo>
                  <a:pt x="2540" y="130374"/>
                </a:lnTo>
                <a:lnTo>
                  <a:pt x="6844" y="129382"/>
                </a:lnTo>
                <a:lnTo>
                  <a:pt x="16527" y="127870"/>
                </a:lnTo>
                <a:lnTo>
                  <a:pt x="29253" y="124141"/>
                </a:lnTo>
                <a:lnTo>
                  <a:pt x="53862" y="119877"/>
                </a:lnTo>
                <a:lnTo>
                  <a:pt x="65531" y="115826"/>
                </a:lnTo>
                <a:lnTo>
                  <a:pt x="82810" y="112741"/>
                </a:lnTo>
                <a:lnTo>
                  <a:pt x="96812" y="109479"/>
                </a:lnTo>
                <a:lnTo>
                  <a:pt x="112560" y="105807"/>
                </a:lnTo>
                <a:lnTo>
                  <a:pt x="137491" y="102787"/>
                </a:lnTo>
                <a:lnTo>
                  <a:pt x="154453" y="98706"/>
                </a:lnTo>
                <a:lnTo>
                  <a:pt x="184617" y="95603"/>
                </a:lnTo>
                <a:lnTo>
                  <a:pt x="203972" y="92338"/>
                </a:lnTo>
                <a:lnTo>
                  <a:pt x="223052" y="88664"/>
                </a:lnTo>
                <a:lnTo>
                  <a:pt x="255213" y="85643"/>
                </a:lnTo>
                <a:lnTo>
                  <a:pt x="277576" y="81561"/>
                </a:lnTo>
                <a:lnTo>
                  <a:pt x="300215" y="76572"/>
                </a:lnTo>
                <a:lnTo>
                  <a:pt x="311586" y="73908"/>
                </a:lnTo>
                <a:lnTo>
                  <a:pt x="341242" y="70158"/>
                </a:lnTo>
                <a:lnTo>
                  <a:pt x="372677" y="69047"/>
                </a:lnTo>
                <a:lnTo>
                  <a:pt x="394869" y="66248"/>
                </a:lnTo>
                <a:lnTo>
                  <a:pt x="418385" y="62781"/>
                </a:lnTo>
                <a:lnTo>
                  <a:pt x="444712" y="61240"/>
                </a:lnTo>
                <a:lnTo>
                  <a:pt x="467207" y="58015"/>
                </a:lnTo>
                <a:lnTo>
                  <a:pt x="487683" y="54359"/>
                </a:lnTo>
                <a:lnTo>
                  <a:pt x="520630" y="52301"/>
                </a:lnTo>
                <a:lnTo>
                  <a:pt x="554523" y="51691"/>
                </a:lnTo>
                <a:lnTo>
                  <a:pt x="793075" y="51435"/>
                </a:lnTo>
                <a:lnTo>
                  <a:pt x="812535" y="48895"/>
                </a:lnTo>
                <a:lnTo>
                  <a:pt x="821725" y="46884"/>
                </a:lnTo>
                <a:lnTo>
                  <a:pt x="830709" y="44591"/>
                </a:lnTo>
                <a:lnTo>
                  <a:pt x="839556" y="42109"/>
                </a:lnTo>
                <a:lnTo>
                  <a:pt x="848312" y="39503"/>
                </a:lnTo>
                <a:lnTo>
                  <a:pt x="878838" y="35834"/>
                </a:lnTo>
                <a:lnTo>
                  <a:pt x="898277" y="32436"/>
                </a:lnTo>
                <a:lnTo>
                  <a:pt x="915489" y="28703"/>
                </a:lnTo>
                <a:lnTo>
                  <a:pt x="944601" y="26307"/>
                </a:lnTo>
                <a:lnTo>
                  <a:pt x="980160" y="24842"/>
                </a:lnTo>
                <a:lnTo>
                  <a:pt x="995697" y="21201"/>
                </a:lnTo>
                <a:lnTo>
                  <a:pt x="1028117" y="17679"/>
                </a:lnTo>
                <a:lnTo>
                  <a:pt x="1064120" y="17176"/>
                </a:lnTo>
                <a:lnTo>
                  <a:pt x="1073908" y="17154"/>
                </a:lnTo>
                <a:lnTo>
                  <a:pt x="1082447" y="14609"/>
                </a:lnTo>
                <a:lnTo>
                  <a:pt x="1092593" y="11255"/>
                </a:lnTo>
                <a:lnTo>
                  <a:pt x="1118012" y="8677"/>
                </a:lnTo>
                <a:lnTo>
                  <a:pt x="1126072" y="8603"/>
                </a:lnTo>
                <a:lnTo>
                  <a:pt x="1128857" y="7640"/>
                </a:lnTo>
                <a:lnTo>
                  <a:pt x="1134492" y="4030"/>
                </a:lnTo>
                <a:lnTo>
                  <a:pt x="1140171" y="1791"/>
                </a:lnTo>
                <a:lnTo>
                  <a:pt x="1156786" y="31"/>
                </a:lnTo>
                <a:lnTo>
                  <a:pt x="11658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MARTPenAnnotation812"/>
          <p:cNvSpPr/>
          <p:nvPr/>
        </p:nvSpPr>
        <p:spPr>
          <a:xfrm>
            <a:off x="6526080" y="2297160"/>
            <a:ext cx="1063800" cy="985680"/>
          </a:xfrm>
          <a:custGeom>
            <a:avLst/>
            <a:gdLst>
              <a:gd name="textAreaLeft" fmla="*/ 0 w 1063800"/>
              <a:gd name="textAreaRight" fmla="*/ 1064160 w 106380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1062879" h="985723">
                <a:moveTo>
                  <a:pt x="480057" y="0"/>
                </a:moveTo>
                <a:lnTo>
                  <a:pt x="458723" y="0"/>
                </a:lnTo>
                <a:lnTo>
                  <a:pt x="456309" y="952"/>
                </a:lnTo>
                <a:lnTo>
                  <a:pt x="451087" y="4551"/>
                </a:lnTo>
                <a:lnTo>
                  <a:pt x="449314" y="6844"/>
                </a:lnTo>
                <a:lnTo>
                  <a:pt x="448131" y="9325"/>
                </a:lnTo>
                <a:lnTo>
                  <a:pt x="447343" y="11931"/>
                </a:lnTo>
                <a:lnTo>
                  <a:pt x="437132" y="24702"/>
                </a:lnTo>
                <a:lnTo>
                  <a:pt x="417567" y="40192"/>
                </a:lnTo>
                <a:lnTo>
                  <a:pt x="395921" y="66123"/>
                </a:lnTo>
                <a:lnTo>
                  <a:pt x="369140" y="89614"/>
                </a:lnTo>
                <a:lnTo>
                  <a:pt x="354271" y="111642"/>
                </a:lnTo>
                <a:lnTo>
                  <a:pt x="327152" y="136634"/>
                </a:lnTo>
                <a:lnTo>
                  <a:pt x="298617" y="164467"/>
                </a:lnTo>
                <a:lnTo>
                  <a:pt x="259525" y="196624"/>
                </a:lnTo>
                <a:lnTo>
                  <a:pt x="230225" y="224471"/>
                </a:lnTo>
                <a:lnTo>
                  <a:pt x="190970" y="256631"/>
                </a:lnTo>
                <a:lnTo>
                  <a:pt x="160330" y="285678"/>
                </a:lnTo>
                <a:lnTo>
                  <a:pt x="142964" y="301921"/>
                </a:lnTo>
                <a:lnTo>
                  <a:pt x="114309" y="324086"/>
                </a:lnTo>
                <a:lnTo>
                  <a:pt x="85723" y="349089"/>
                </a:lnTo>
                <a:lnTo>
                  <a:pt x="67413" y="362431"/>
                </a:lnTo>
                <a:lnTo>
                  <a:pt x="57648" y="371335"/>
                </a:lnTo>
                <a:lnTo>
                  <a:pt x="44864" y="388769"/>
                </a:lnTo>
                <a:lnTo>
                  <a:pt x="11655" y="417016"/>
                </a:lnTo>
                <a:lnTo>
                  <a:pt x="385" y="428236"/>
                </a:lnTo>
                <a:lnTo>
                  <a:pt x="0" y="444470"/>
                </a:lnTo>
                <a:lnTo>
                  <a:pt x="951" y="444903"/>
                </a:lnTo>
                <a:lnTo>
                  <a:pt x="4548" y="445385"/>
                </a:lnTo>
                <a:lnTo>
                  <a:pt x="5889" y="446465"/>
                </a:lnTo>
                <a:lnTo>
                  <a:pt x="6782" y="448139"/>
                </a:lnTo>
                <a:lnTo>
                  <a:pt x="7378" y="450206"/>
                </a:lnTo>
                <a:lnTo>
                  <a:pt x="10580" y="455044"/>
                </a:lnTo>
                <a:lnTo>
                  <a:pt x="28959" y="474710"/>
                </a:lnTo>
                <a:lnTo>
                  <a:pt x="31688" y="476493"/>
                </a:lnTo>
                <a:lnTo>
                  <a:pt x="40078" y="479955"/>
                </a:lnTo>
                <a:lnTo>
                  <a:pt x="74452" y="502991"/>
                </a:lnTo>
                <a:lnTo>
                  <a:pt x="95856" y="517216"/>
                </a:lnTo>
                <a:lnTo>
                  <a:pt x="109278" y="528639"/>
                </a:lnTo>
                <a:lnTo>
                  <a:pt x="129286" y="542608"/>
                </a:lnTo>
                <a:lnTo>
                  <a:pt x="145938" y="555425"/>
                </a:lnTo>
                <a:lnTo>
                  <a:pt x="174332" y="572217"/>
                </a:lnTo>
                <a:lnTo>
                  <a:pt x="214488" y="603246"/>
                </a:lnTo>
                <a:lnTo>
                  <a:pt x="245389" y="626998"/>
                </a:lnTo>
                <a:lnTo>
                  <a:pt x="274270" y="652045"/>
                </a:lnTo>
                <a:lnTo>
                  <a:pt x="285726" y="662225"/>
                </a:lnTo>
                <a:lnTo>
                  <a:pt x="314319" y="684165"/>
                </a:lnTo>
                <a:lnTo>
                  <a:pt x="342896" y="711678"/>
                </a:lnTo>
                <a:lnTo>
                  <a:pt x="370308" y="734409"/>
                </a:lnTo>
                <a:lnTo>
                  <a:pt x="402375" y="756171"/>
                </a:lnTo>
                <a:lnTo>
                  <a:pt x="431409" y="783191"/>
                </a:lnTo>
                <a:lnTo>
                  <a:pt x="460045" y="811561"/>
                </a:lnTo>
                <a:lnTo>
                  <a:pt x="481960" y="828504"/>
                </a:lnTo>
                <a:lnTo>
                  <a:pt x="508091" y="859194"/>
                </a:lnTo>
                <a:lnTo>
                  <a:pt x="517282" y="869544"/>
                </a:lnTo>
                <a:lnTo>
                  <a:pt x="528763" y="885128"/>
                </a:lnTo>
                <a:lnTo>
                  <a:pt x="554437" y="905515"/>
                </a:lnTo>
                <a:lnTo>
                  <a:pt x="564231" y="911403"/>
                </a:lnTo>
                <a:lnTo>
                  <a:pt x="572395" y="919736"/>
                </a:lnTo>
                <a:lnTo>
                  <a:pt x="585398" y="936056"/>
                </a:lnTo>
                <a:lnTo>
                  <a:pt x="602076" y="948452"/>
                </a:lnTo>
                <a:lnTo>
                  <a:pt x="604265" y="951388"/>
                </a:lnTo>
                <a:lnTo>
                  <a:pt x="607650" y="957192"/>
                </a:lnTo>
                <a:lnTo>
                  <a:pt x="621339" y="972738"/>
                </a:lnTo>
                <a:lnTo>
                  <a:pt x="623774" y="974247"/>
                </a:lnTo>
                <a:lnTo>
                  <a:pt x="629021" y="975924"/>
                </a:lnTo>
                <a:lnTo>
                  <a:pt x="630802" y="977323"/>
                </a:lnTo>
                <a:lnTo>
                  <a:pt x="631988" y="979209"/>
                </a:lnTo>
                <a:lnTo>
                  <a:pt x="632779" y="981418"/>
                </a:lnTo>
                <a:lnTo>
                  <a:pt x="634259" y="982891"/>
                </a:lnTo>
                <a:lnTo>
                  <a:pt x="636198" y="983873"/>
                </a:lnTo>
                <a:lnTo>
                  <a:pt x="642541" y="985722"/>
                </a:lnTo>
                <a:lnTo>
                  <a:pt x="642934" y="957144"/>
                </a:lnTo>
                <a:lnTo>
                  <a:pt x="643886" y="954326"/>
                </a:lnTo>
                <a:lnTo>
                  <a:pt x="648825" y="945809"/>
                </a:lnTo>
                <a:lnTo>
                  <a:pt x="655704" y="926991"/>
                </a:lnTo>
                <a:lnTo>
                  <a:pt x="674445" y="896361"/>
                </a:lnTo>
                <a:lnTo>
                  <a:pt x="688665" y="868562"/>
                </a:lnTo>
                <a:lnTo>
                  <a:pt x="701039" y="845796"/>
                </a:lnTo>
                <a:lnTo>
                  <a:pt x="714549" y="827715"/>
                </a:lnTo>
                <a:lnTo>
                  <a:pt x="730670" y="799028"/>
                </a:lnTo>
                <a:lnTo>
                  <a:pt x="756341" y="763109"/>
                </a:lnTo>
                <a:lnTo>
                  <a:pt x="777625" y="735572"/>
                </a:lnTo>
                <a:lnTo>
                  <a:pt x="795234" y="709460"/>
                </a:lnTo>
                <a:lnTo>
                  <a:pt x="821714" y="683418"/>
                </a:lnTo>
                <a:lnTo>
                  <a:pt x="834787" y="668548"/>
                </a:lnTo>
                <a:lnTo>
                  <a:pt x="863923" y="640941"/>
                </a:lnTo>
                <a:lnTo>
                  <a:pt x="888305" y="612803"/>
                </a:lnTo>
                <a:lnTo>
                  <a:pt x="912417" y="587949"/>
                </a:lnTo>
                <a:lnTo>
                  <a:pt x="941170" y="561590"/>
                </a:lnTo>
                <a:lnTo>
                  <a:pt x="965475" y="542096"/>
                </a:lnTo>
                <a:lnTo>
                  <a:pt x="987669" y="519901"/>
                </a:lnTo>
                <a:lnTo>
                  <a:pt x="999924" y="503824"/>
                </a:lnTo>
                <a:lnTo>
                  <a:pt x="1015198" y="492604"/>
                </a:lnTo>
                <a:lnTo>
                  <a:pt x="1038537" y="477349"/>
                </a:lnTo>
                <a:lnTo>
                  <a:pt x="1048228" y="468673"/>
                </a:lnTo>
                <a:lnTo>
                  <a:pt x="1050291" y="465801"/>
                </a:lnTo>
                <a:lnTo>
                  <a:pt x="1052581" y="460070"/>
                </a:lnTo>
                <a:lnTo>
                  <a:pt x="1053871" y="451488"/>
                </a:lnTo>
                <a:lnTo>
                  <a:pt x="1055005" y="449582"/>
                </a:lnTo>
                <a:lnTo>
                  <a:pt x="1056713" y="448311"/>
                </a:lnTo>
                <a:lnTo>
                  <a:pt x="1058803" y="447464"/>
                </a:lnTo>
                <a:lnTo>
                  <a:pt x="1060198" y="445947"/>
                </a:lnTo>
                <a:lnTo>
                  <a:pt x="1061127" y="443983"/>
                </a:lnTo>
                <a:lnTo>
                  <a:pt x="1062878" y="437594"/>
                </a:lnTo>
                <a:lnTo>
                  <a:pt x="1041674" y="415886"/>
                </a:lnTo>
                <a:lnTo>
                  <a:pt x="1038301" y="414418"/>
                </a:lnTo>
                <a:lnTo>
                  <a:pt x="1025405" y="411397"/>
                </a:lnTo>
                <a:lnTo>
                  <a:pt x="1018343" y="407316"/>
                </a:lnTo>
                <a:lnTo>
                  <a:pt x="987664" y="385711"/>
                </a:lnTo>
                <a:lnTo>
                  <a:pt x="975264" y="377174"/>
                </a:lnTo>
                <a:lnTo>
                  <a:pt x="962064" y="368613"/>
                </a:lnTo>
                <a:lnTo>
                  <a:pt x="949581" y="360043"/>
                </a:lnTo>
                <a:lnTo>
                  <a:pt x="928297" y="348614"/>
                </a:lnTo>
                <a:lnTo>
                  <a:pt x="919622" y="340359"/>
                </a:lnTo>
                <a:lnTo>
                  <a:pt x="915975" y="335491"/>
                </a:lnTo>
                <a:lnTo>
                  <a:pt x="904303" y="327542"/>
                </a:lnTo>
                <a:lnTo>
                  <a:pt x="872086" y="310750"/>
                </a:lnTo>
                <a:lnTo>
                  <a:pt x="843031" y="289830"/>
                </a:lnTo>
                <a:lnTo>
                  <a:pt x="811853" y="274481"/>
                </a:lnTo>
                <a:lnTo>
                  <a:pt x="797067" y="267724"/>
                </a:lnTo>
                <a:lnTo>
                  <a:pt x="766160" y="246946"/>
                </a:lnTo>
                <a:lnTo>
                  <a:pt x="737278" y="224830"/>
                </a:lnTo>
                <a:lnTo>
                  <a:pt x="708663" y="207901"/>
                </a:lnTo>
                <a:lnTo>
                  <a:pt x="690561" y="194209"/>
                </a:lnTo>
                <a:lnTo>
                  <a:pt x="661866" y="178027"/>
                </a:lnTo>
                <a:lnTo>
                  <a:pt x="625946" y="152342"/>
                </a:lnTo>
                <a:lnTo>
                  <a:pt x="608691" y="139118"/>
                </a:lnTo>
                <a:lnTo>
                  <a:pt x="576023" y="117272"/>
                </a:lnTo>
                <a:lnTo>
                  <a:pt x="567793" y="108953"/>
                </a:lnTo>
                <a:lnTo>
                  <a:pt x="564265" y="104068"/>
                </a:lnTo>
                <a:lnTo>
                  <a:pt x="555265" y="96100"/>
                </a:lnTo>
                <a:lnTo>
                  <a:pt x="520144" y="71507"/>
                </a:lnTo>
                <a:lnTo>
                  <a:pt x="487078" y="48580"/>
                </a:lnTo>
                <a:lnTo>
                  <a:pt x="474600" y="38100"/>
                </a:lnTo>
                <a:lnTo>
                  <a:pt x="464639" y="34791"/>
                </a:lnTo>
                <a:lnTo>
                  <a:pt x="456409" y="28497"/>
                </a:lnTo>
                <a:lnTo>
                  <a:pt x="445767" y="257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MARTPenAnnotation813"/>
          <p:cNvSpPr/>
          <p:nvPr/>
        </p:nvSpPr>
        <p:spPr>
          <a:xfrm>
            <a:off x="6818400" y="2536920"/>
            <a:ext cx="453960" cy="420480"/>
          </a:xfrm>
          <a:custGeom>
            <a:avLst/>
            <a:gdLst>
              <a:gd name="textAreaLeft" fmla="*/ 0 w 453960"/>
              <a:gd name="textAreaRight" fmla="*/ 454320 w 45396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454341" h="420053">
                <a:moveTo>
                  <a:pt x="8570" y="420052"/>
                </a:moveTo>
                <a:lnTo>
                  <a:pt x="1189" y="420052"/>
                </a:lnTo>
                <a:lnTo>
                  <a:pt x="792" y="419100"/>
                </a:lnTo>
                <a:lnTo>
                  <a:pt x="28" y="411833"/>
                </a:lnTo>
                <a:lnTo>
                  <a:pt x="0" y="404130"/>
                </a:lnTo>
                <a:lnTo>
                  <a:pt x="952" y="403722"/>
                </a:lnTo>
                <a:lnTo>
                  <a:pt x="7379" y="403015"/>
                </a:lnTo>
                <a:lnTo>
                  <a:pt x="12768" y="398388"/>
                </a:lnTo>
                <a:lnTo>
                  <a:pt x="14226" y="396084"/>
                </a:lnTo>
                <a:lnTo>
                  <a:pt x="17231" y="388291"/>
                </a:lnTo>
                <a:lnTo>
                  <a:pt x="24683" y="378997"/>
                </a:lnTo>
                <a:lnTo>
                  <a:pt x="33511" y="369738"/>
                </a:lnTo>
                <a:lnTo>
                  <a:pt x="41245" y="359273"/>
                </a:lnTo>
                <a:lnTo>
                  <a:pt x="48810" y="348271"/>
                </a:lnTo>
                <a:lnTo>
                  <a:pt x="58522" y="337032"/>
                </a:lnTo>
                <a:lnTo>
                  <a:pt x="69188" y="328227"/>
                </a:lnTo>
                <a:lnTo>
                  <a:pt x="74700" y="324545"/>
                </a:lnTo>
                <a:lnTo>
                  <a:pt x="85904" y="312835"/>
                </a:lnTo>
                <a:lnTo>
                  <a:pt x="91558" y="305711"/>
                </a:lnTo>
                <a:lnTo>
                  <a:pt x="102921" y="292716"/>
                </a:lnTo>
                <a:lnTo>
                  <a:pt x="114321" y="280591"/>
                </a:lnTo>
                <a:lnTo>
                  <a:pt x="139703" y="254744"/>
                </a:lnTo>
                <a:lnTo>
                  <a:pt x="167399" y="226955"/>
                </a:lnTo>
                <a:lnTo>
                  <a:pt x="174464" y="220836"/>
                </a:lnTo>
                <a:lnTo>
                  <a:pt x="182031" y="214851"/>
                </a:lnTo>
                <a:lnTo>
                  <a:pt x="189933" y="208957"/>
                </a:lnTo>
                <a:lnTo>
                  <a:pt x="203794" y="197327"/>
                </a:lnTo>
                <a:lnTo>
                  <a:pt x="217256" y="185808"/>
                </a:lnTo>
                <a:lnTo>
                  <a:pt x="224847" y="180069"/>
                </a:lnTo>
                <a:lnTo>
                  <a:pt x="232764" y="174339"/>
                </a:lnTo>
                <a:lnTo>
                  <a:pt x="239948" y="167661"/>
                </a:lnTo>
                <a:lnTo>
                  <a:pt x="246642" y="160351"/>
                </a:lnTo>
                <a:lnTo>
                  <a:pt x="253010" y="152620"/>
                </a:lnTo>
                <a:lnTo>
                  <a:pt x="259160" y="145562"/>
                </a:lnTo>
                <a:lnTo>
                  <a:pt x="271073" y="132639"/>
                </a:lnTo>
                <a:lnTo>
                  <a:pt x="285258" y="120545"/>
                </a:lnTo>
                <a:lnTo>
                  <a:pt x="293041" y="114654"/>
                </a:lnTo>
                <a:lnTo>
                  <a:pt x="306769" y="103027"/>
                </a:lnTo>
                <a:lnTo>
                  <a:pt x="320173" y="91510"/>
                </a:lnTo>
                <a:lnTo>
                  <a:pt x="327748" y="85771"/>
                </a:lnTo>
                <a:lnTo>
                  <a:pt x="335655" y="80041"/>
                </a:lnTo>
                <a:lnTo>
                  <a:pt x="349522" y="68593"/>
                </a:lnTo>
                <a:lnTo>
                  <a:pt x="362034" y="58108"/>
                </a:lnTo>
                <a:lnTo>
                  <a:pt x="373945" y="50273"/>
                </a:lnTo>
                <a:lnTo>
                  <a:pt x="385589" y="41076"/>
                </a:lnTo>
                <a:lnTo>
                  <a:pt x="396161" y="31591"/>
                </a:lnTo>
                <a:lnTo>
                  <a:pt x="408421" y="20896"/>
                </a:lnTo>
                <a:lnTo>
                  <a:pt x="418375" y="14684"/>
                </a:lnTo>
                <a:lnTo>
                  <a:pt x="430137" y="5832"/>
                </a:lnTo>
                <a:lnTo>
                  <a:pt x="436598" y="2592"/>
                </a:lnTo>
                <a:lnTo>
                  <a:pt x="445231" y="151"/>
                </a:lnTo>
                <a:lnTo>
                  <a:pt x="4543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MARTPenAnnotation814"/>
          <p:cNvSpPr/>
          <p:nvPr/>
        </p:nvSpPr>
        <p:spPr>
          <a:xfrm>
            <a:off x="6750000" y="2546280"/>
            <a:ext cx="606600" cy="522360"/>
          </a:xfrm>
          <a:custGeom>
            <a:avLst/>
            <a:gdLst>
              <a:gd name="textAreaLeft" fmla="*/ 0 w 606600"/>
              <a:gd name="textAreaRight" fmla="*/ 606960 w 6066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607704" h="522815">
                <a:moveTo>
                  <a:pt x="0" y="0"/>
                </a:moveTo>
                <a:lnTo>
                  <a:pt x="4551" y="4551"/>
                </a:lnTo>
                <a:lnTo>
                  <a:pt x="6843" y="5892"/>
                </a:lnTo>
                <a:lnTo>
                  <a:pt x="14621" y="8731"/>
                </a:lnTo>
                <a:lnTo>
                  <a:pt x="25783" y="17741"/>
                </a:lnTo>
                <a:lnTo>
                  <a:pt x="32414" y="23125"/>
                </a:lnTo>
                <a:lnTo>
                  <a:pt x="46857" y="31511"/>
                </a:lnTo>
                <a:lnTo>
                  <a:pt x="57655" y="37182"/>
                </a:lnTo>
                <a:lnTo>
                  <a:pt x="66265" y="45418"/>
                </a:lnTo>
                <a:lnTo>
                  <a:pt x="69894" y="50281"/>
                </a:lnTo>
                <a:lnTo>
                  <a:pt x="79006" y="58225"/>
                </a:lnTo>
                <a:lnTo>
                  <a:pt x="94847" y="70592"/>
                </a:lnTo>
                <a:lnTo>
                  <a:pt x="111604" y="83781"/>
                </a:lnTo>
                <a:lnTo>
                  <a:pt x="128635" y="96262"/>
                </a:lnTo>
                <a:lnTo>
                  <a:pt x="145747" y="112025"/>
                </a:lnTo>
                <a:lnTo>
                  <a:pt x="168596" y="134418"/>
                </a:lnTo>
                <a:lnTo>
                  <a:pt x="182563" y="145784"/>
                </a:lnTo>
                <a:lnTo>
                  <a:pt x="197344" y="158138"/>
                </a:lnTo>
                <a:lnTo>
                  <a:pt x="210264" y="173153"/>
                </a:lnTo>
                <a:lnTo>
                  <a:pt x="222355" y="186812"/>
                </a:lnTo>
                <a:lnTo>
                  <a:pt x="235032" y="199233"/>
                </a:lnTo>
                <a:lnTo>
                  <a:pt x="257282" y="216935"/>
                </a:lnTo>
                <a:lnTo>
                  <a:pt x="270240" y="228496"/>
                </a:lnTo>
                <a:lnTo>
                  <a:pt x="282349" y="242524"/>
                </a:lnTo>
                <a:lnTo>
                  <a:pt x="294081" y="257331"/>
                </a:lnTo>
                <a:lnTo>
                  <a:pt x="305645" y="270262"/>
                </a:lnTo>
                <a:lnTo>
                  <a:pt x="319675" y="284899"/>
                </a:lnTo>
                <a:lnTo>
                  <a:pt x="442879" y="408589"/>
                </a:lnTo>
                <a:lnTo>
                  <a:pt x="456867" y="420037"/>
                </a:lnTo>
                <a:lnTo>
                  <a:pt x="471657" y="430523"/>
                </a:lnTo>
                <a:lnTo>
                  <a:pt x="484580" y="438359"/>
                </a:lnTo>
                <a:lnTo>
                  <a:pt x="502565" y="452676"/>
                </a:lnTo>
                <a:lnTo>
                  <a:pt x="519959" y="464432"/>
                </a:lnTo>
                <a:lnTo>
                  <a:pt x="537178" y="473948"/>
                </a:lnTo>
                <a:lnTo>
                  <a:pt x="554346" y="482800"/>
                </a:lnTo>
                <a:lnTo>
                  <a:pt x="566946" y="491455"/>
                </a:lnTo>
                <a:lnTo>
                  <a:pt x="582707" y="505773"/>
                </a:lnTo>
                <a:lnTo>
                  <a:pt x="585638" y="508632"/>
                </a:lnTo>
                <a:lnTo>
                  <a:pt x="588545" y="510538"/>
                </a:lnTo>
                <a:lnTo>
                  <a:pt x="598368" y="513848"/>
                </a:lnTo>
                <a:lnTo>
                  <a:pt x="598937" y="514968"/>
                </a:lnTo>
                <a:lnTo>
                  <a:pt x="599925" y="521687"/>
                </a:lnTo>
                <a:lnTo>
                  <a:pt x="600927" y="522099"/>
                </a:lnTo>
                <a:lnTo>
                  <a:pt x="604984" y="522678"/>
                </a:lnTo>
                <a:lnTo>
                  <a:pt x="602892" y="522814"/>
                </a:lnTo>
                <a:lnTo>
                  <a:pt x="602905" y="521898"/>
                </a:lnTo>
                <a:lnTo>
                  <a:pt x="607703" y="515532"/>
                </a:lnTo>
                <a:lnTo>
                  <a:pt x="607065" y="515138"/>
                </a:lnTo>
                <a:lnTo>
                  <a:pt x="603816" y="514700"/>
                </a:lnTo>
                <a:lnTo>
                  <a:pt x="602569" y="513631"/>
                </a:lnTo>
                <a:lnTo>
                  <a:pt x="601738" y="511966"/>
                </a:lnTo>
                <a:lnTo>
                  <a:pt x="601183" y="509903"/>
                </a:lnTo>
                <a:lnTo>
                  <a:pt x="599861" y="508528"/>
                </a:lnTo>
                <a:lnTo>
                  <a:pt x="598027" y="507611"/>
                </a:lnTo>
                <a:lnTo>
                  <a:pt x="591502" y="5057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MARTPenAnnotation815"/>
          <p:cNvSpPr/>
          <p:nvPr/>
        </p:nvSpPr>
        <p:spPr>
          <a:xfrm>
            <a:off x="4829040" y="254628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74318" h="124877">
                <a:moveTo>
                  <a:pt x="77149" y="0"/>
                </a:moveTo>
                <a:lnTo>
                  <a:pt x="18803" y="0"/>
                </a:lnTo>
                <a:lnTo>
                  <a:pt x="15340" y="2540"/>
                </a:lnTo>
                <a:lnTo>
                  <a:pt x="9907" y="7381"/>
                </a:lnTo>
                <a:lnTo>
                  <a:pt x="4414" y="12770"/>
                </a:lnTo>
                <a:lnTo>
                  <a:pt x="2942" y="15181"/>
                </a:lnTo>
                <a:lnTo>
                  <a:pt x="1960" y="17741"/>
                </a:lnTo>
                <a:lnTo>
                  <a:pt x="1306" y="20400"/>
                </a:lnTo>
                <a:lnTo>
                  <a:pt x="869" y="23125"/>
                </a:lnTo>
                <a:lnTo>
                  <a:pt x="578" y="25894"/>
                </a:lnTo>
                <a:lnTo>
                  <a:pt x="384" y="28693"/>
                </a:lnTo>
                <a:lnTo>
                  <a:pt x="255" y="31511"/>
                </a:lnTo>
                <a:lnTo>
                  <a:pt x="112" y="37182"/>
                </a:lnTo>
                <a:lnTo>
                  <a:pt x="0" y="67417"/>
                </a:lnTo>
                <a:lnTo>
                  <a:pt x="951" y="71615"/>
                </a:lnTo>
                <a:lnTo>
                  <a:pt x="2538" y="75366"/>
                </a:lnTo>
                <a:lnTo>
                  <a:pt x="4548" y="78819"/>
                </a:lnTo>
                <a:lnTo>
                  <a:pt x="5888" y="82074"/>
                </a:lnTo>
                <a:lnTo>
                  <a:pt x="6782" y="85195"/>
                </a:lnTo>
                <a:lnTo>
                  <a:pt x="7377" y="88229"/>
                </a:lnTo>
                <a:lnTo>
                  <a:pt x="7775" y="91205"/>
                </a:lnTo>
                <a:lnTo>
                  <a:pt x="8039" y="94141"/>
                </a:lnTo>
                <a:lnTo>
                  <a:pt x="8216" y="97051"/>
                </a:lnTo>
                <a:lnTo>
                  <a:pt x="9286" y="99943"/>
                </a:lnTo>
                <a:lnTo>
                  <a:pt x="10952" y="102823"/>
                </a:lnTo>
                <a:lnTo>
                  <a:pt x="13015" y="105697"/>
                </a:lnTo>
                <a:lnTo>
                  <a:pt x="15343" y="107612"/>
                </a:lnTo>
                <a:lnTo>
                  <a:pt x="17848" y="108889"/>
                </a:lnTo>
                <a:lnTo>
                  <a:pt x="20470" y="109740"/>
                </a:lnTo>
                <a:lnTo>
                  <a:pt x="22218" y="111260"/>
                </a:lnTo>
                <a:lnTo>
                  <a:pt x="23383" y="113226"/>
                </a:lnTo>
                <a:lnTo>
                  <a:pt x="24161" y="115489"/>
                </a:lnTo>
                <a:lnTo>
                  <a:pt x="25631" y="116998"/>
                </a:lnTo>
                <a:lnTo>
                  <a:pt x="27563" y="118004"/>
                </a:lnTo>
                <a:lnTo>
                  <a:pt x="32251" y="119121"/>
                </a:lnTo>
                <a:lnTo>
                  <a:pt x="37509" y="119618"/>
                </a:lnTo>
                <a:lnTo>
                  <a:pt x="39293" y="120703"/>
                </a:lnTo>
                <a:lnTo>
                  <a:pt x="40482" y="122378"/>
                </a:lnTo>
                <a:lnTo>
                  <a:pt x="41274" y="124448"/>
                </a:lnTo>
                <a:lnTo>
                  <a:pt x="42755" y="124876"/>
                </a:lnTo>
                <a:lnTo>
                  <a:pt x="44695" y="124208"/>
                </a:lnTo>
                <a:lnTo>
                  <a:pt x="46940" y="122810"/>
                </a:lnTo>
                <a:lnTo>
                  <a:pt x="51975" y="121257"/>
                </a:lnTo>
                <a:lnTo>
                  <a:pt x="58418" y="120260"/>
                </a:lnTo>
                <a:lnTo>
                  <a:pt x="61840" y="117584"/>
                </a:lnTo>
                <a:lnTo>
                  <a:pt x="64085" y="115537"/>
                </a:lnTo>
                <a:lnTo>
                  <a:pt x="69120" y="110722"/>
                </a:lnTo>
                <a:lnTo>
                  <a:pt x="80114" y="99870"/>
                </a:lnTo>
                <a:lnTo>
                  <a:pt x="81983" y="97060"/>
                </a:lnTo>
                <a:lnTo>
                  <a:pt x="83229" y="94234"/>
                </a:lnTo>
                <a:lnTo>
                  <a:pt x="84060" y="91398"/>
                </a:lnTo>
                <a:lnTo>
                  <a:pt x="84614" y="88554"/>
                </a:lnTo>
                <a:lnTo>
                  <a:pt x="84983" y="85706"/>
                </a:lnTo>
                <a:lnTo>
                  <a:pt x="85229" y="82855"/>
                </a:lnTo>
                <a:lnTo>
                  <a:pt x="86345" y="80002"/>
                </a:lnTo>
                <a:lnTo>
                  <a:pt x="88043" y="77147"/>
                </a:lnTo>
                <a:lnTo>
                  <a:pt x="90127" y="74291"/>
                </a:lnTo>
                <a:lnTo>
                  <a:pt x="91516" y="71435"/>
                </a:lnTo>
                <a:lnTo>
                  <a:pt x="92442" y="68578"/>
                </a:lnTo>
                <a:lnTo>
                  <a:pt x="93059" y="65721"/>
                </a:lnTo>
                <a:lnTo>
                  <a:pt x="93471" y="61912"/>
                </a:lnTo>
                <a:lnTo>
                  <a:pt x="93745" y="57467"/>
                </a:lnTo>
                <a:lnTo>
                  <a:pt x="94186" y="45747"/>
                </a:lnTo>
                <a:lnTo>
                  <a:pt x="94262" y="39166"/>
                </a:lnTo>
                <a:lnTo>
                  <a:pt x="94292" y="22786"/>
                </a:lnTo>
                <a:lnTo>
                  <a:pt x="93340" y="20906"/>
                </a:lnTo>
                <a:lnTo>
                  <a:pt x="91753" y="19652"/>
                </a:lnTo>
                <a:lnTo>
                  <a:pt x="89743" y="18817"/>
                </a:lnTo>
                <a:lnTo>
                  <a:pt x="88402" y="17307"/>
                </a:lnTo>
                <a:lnTo>
                  <a:pt x="87509" y="15348"/>
                </a:lnTo>
                <a:lnTo>
                  <a:pt x="85753" y="8690"/>
                </a:lnTo>
                <a:lnTo>
                  <a:pt x="77503" y="8576"/>
                </a:lnTo>
                <a:lnTo>
                  <a:pt x="79846" y="11114"/>
                </a:lnTo>
                <a:lnTo>
                  <a:pt x="89928" y="21343"/>
                </a:lnTo>
                <a:lnTo>
                  <a:pt x="91384" y="23754"/>
                </a:lnTo>
                <a:lnTo>
                  <a:pt x="92354" y="26313"/>
                </a:lnTo>
                <a:lnTo>
                  <a:pt x="93001" y="28972"/>
                </a:lnTo>
                <a:lnTo>
                  <a:pt x="94384" y="31698"/>
                </a:lnTo>
                <a:lnTo>
                  <a:pt x="96259" y="34467"/>
                </a:lnTo>
                <a:lnTo>
                  <a:pt x="98461" y="37265"/>
                </a:lnTo>
                <a:lnTo>
                  <a:pt x="100883" y="40083"/>
                </a:lnTo>
                <a:lnTo>
                  <a:pt x="103449" y="42915"/>
                </a:lnTo>
                <a:lnTo>
                  <a:pt x="108840" y="48601"/>
                </a:lnTo>
                <a:lnTo>
                  <a:pt x="122903" y="62868"/>
                </a:lnTo>
                <a:lnTo>
                  <a:pt x="126702" y="65725"/>
                </a:lnTo>
                <a:lnTo>
                  <a:pt x="131139" y="68581"/>
                </a:lnTo>
                <a:lnTo>
                  <a:pt x="136002" y="71438"/>
                </a:lnTo>
                <a:lnTo>
                  <a:pt x="140197" y="74296"/>
                </a:lnTo>
                <a:lnTo>
                  <a:pt x="143946" y="77153"/>
                </a:lnTo>
                <a:lnTo>
                  <a:pt x="147398" y="80010"/>
                </a:lnTo>
                <a:lnTo>
                  <a:pt x="150652" y="82868"/>
                </a:lnTo>
                <a:lnTo>
                  <a:pt x="153774" y="85725"/>
                </a:lnTo>
                <a:lnTo>
                  <a:pt x="156807" y="88583"/>
                </a:lnTo>
                <a:lnTo>
                  <a:pt x="159782" y="90488"/>
                </a:lnTo>
                <a:lnTo>
                  <a:pt x="165627" y="92604"/>
                </a:lnTo>
                <a:lnTo>
                  <a:pt x="171400" y="96085"/>
                </a:lnTo>
                <a:lnTo>
                  <a:pt x="174273" y="98347"/>
                </a:lnTo>
                <a:lnTo>
                  <a:pt x="178093" y="99854"/>
                </a:lnTo>
                <a:lnTo>
                  <a:pt x="182545" y="100860"/>
                </a:lnTo>
                <a:lnTo>
                  <a:pt x="187418" y="101530"/>
                </a:lnTo>
                <a:lnTo>
                  <a:pt x="195373" y="102274"/>
                </a:lnTo>
                <a:lnTo>
                  <a:pt x="198827" y="102473"/>
                </a:lnTo>
                <a:lnTo>
                  <a:pt x="202083" y="101653"/>
                </a:lnTo>
                <a:lnTo>
                  <a:pt x="208240" y="98202"/>
                </a:lnTo>
                <a:lnTo>
                  <a:pt x="214152" y="96033"/>
                </a:lnTo>
                <a:lnTo>
                  <a:pt x="217062" y="95454"/>
                </a:lnTo>
                <a:lnTo>
                  <a:pt x="222835" y="92272"/>
                </a:lnTo>
                <a:lnTo>
                  <a:pt x="225708" y="90090"/>
                </a:lnTo>
                <a:lnTo>
                  <a:pt x="228576" y="87682"/>
                </a:lnTo>
                <a:lnTo>
                  <a:pt x="231441" y="85125"/>
                </a:lnTo>
                <a:lnTo>
                  <a:pt x="234302" y="82468"/>
                </a:lnTo>
                <a:lnTo>
                  <a:pt x="238115" y="79743"/>
                </a:lnTo>
                <a:lnTo>
                  <a:pt x="242563" y="76975"/>
                </a:lnTo>
                <a:lnTo>
                  <a:pt x="247432" y="74176"/>
                </a:lnTo>
                <a:lnTo>
                  <a:pt x="250679" y="71359"/>
                </a:lnTo>
                <a:lnTo>
                  <a:pt x="252843" y="68527"/>
                </a:lnTo>
                <a:lnTo>
                  <a:pt x="254286" y="65687"/>
                </a:lnTo>
                <a:lnTo>
                  <a:pt x="256200" y="62842"/>
                </a:lnTo>
                <a:lnTo>
                  <a:pt x="258429" y="59992"/>
                </a:lnTo>
                <a:lnTo>
                  <a:pt x="260867" y="57140"/>
                </a:lnTo>
                <a:lnTo>
                  <a:pt x="262493" y="54286"/>
                </a:lnTo>
                <a:lnTo>
                  <a:pt x="263577" y="51431"/>
                </a:lnTo>
                <a:lnTo>
                  <a:pt x="264299" y="48575"/>
                </a:lnTo>
                <a:lnTo>
                  <a:pt x="265733" y="45718"/>
                </a:lnTo>
                <a:lnTo>
                  <a:pt x="267642" y="42861"/>
                </a:lnTo>
                <a:lnTo>
                  <a:pt x="274317" y="342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MARTPenAnnotation816"/>
          <p:cNvSpPr/>
          <p:nvPr/>
        </p:nvSpPr>
        <p:spPr>
          <a:xfrm>
            <a:off x="5472000" y="2828880"/>
            <a:ext cx="189000" cy="128520"/>
          </a:xfrm>
          <a:custGeom>
            <a:avLst/>
            <a:gdLst>
              <a:gd name="textAreaLeft" fmla="*/ 0 w 189000"/>
              <a:gd name="textAreaRight" fmla="*/ 189360 w 1890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88593" h="128575">
                <a:moveTo>
                  <a:pt x="85722" y="8572"/>
                </a:moveTo>
                <a:lnTo>
                  <a:pt x="70121" y="8572"/>
                </a:lnTo>
                <a:lnTo>
                  <a:pt x="66724" y="6032"/>
                </a:lnTo>
                <a:lnTo>
                  <a:pt x="61332" y="1191"/>
                </a:lnTo>
                <a:lnTo>
                  <a:pt x="58054" y="529"/>
                </a:lnTo>
                <a:lnTo>
                  <a:pt x="53423" y="235"/>
                </a:lnTo>
                <a:lnTo>
                  <a:pt x="44438" y="31"/>
                </a:lnTo>
                <a:lnTo>
                  <a:pt x="22749" y="0"/>
                </a:lnTo>
                <a:lnTo>
                  <a:pt x="20881" y="953"/>
                </a:lnTo>
                <a:lnTo>
                  <a:pt x="19634" y="2540"/>
                </a:lnTo>
                <a:lnTo>
                  <a:pt x="18804" y="4551"/>
                </a:lnTo>
                <a:lnTo>
                  <a:pt x="17297" y="6844"/>
                </a:lnTo>
                <a:lnTo>
                  <a:pt x="15341" y="9325"/>
                </a:lnTo>
                <a:lnTo>
                  <a:pt x="13084" y="11931"/>
                </a:lnTo>
                <a:lnTo>
                  <a:pt x="10626" y="14621"/>
                </a:lnTo>
                <a:lnTo>
                  <a:pt x="5356" y="20151"/>
                </a:lnTo>
                <a:lnTo>
                  <a:pt x="3570" y="22959"/>
                </a:lnTo>
                <a:lnTo>
                  <a:pt x="2379" y="25783"/>
                </a:lnTo>
                <a:lnTo>
                  <a:pt x="1585" y="28619"/>
                </a:lnTo>
                <a:lnTo>
                  <a:pt x="1056" y="31462"/>
                </a:lnTo>
                <a:lnTo>
                  <a:pt x="703" y="34309"/>
                </a:lnTo>
                <a:lnTo>
                  <a:pt x="468" y="37160"/>
                </a:lnTo>
                <a:lnTo>
                  <a:pt x="311" y="40013"/>
                </a:lnTo>
                <a:lnTo>
                  <a:pt x="137" y="45724"/>
                </a:lnTo>
                <a:lnTo>
                  <a:pt x="0" y="79656"/>
                </a:lnTo>
                <a:lnTo>
                  <a:pt x="952" y="82632"/>
                </a:lnTo>
                <a:lnTo>
                  <a:pt x="2539" y="85568"/>
                </a:lnTo>
                <a:lnTo>
                  <a:pt x="4549" y="88477"/>
                </a:lnTo>
                <a:lnTo>
                  <a:pt x="5889" y="91370"/>
                </a:lnTo>
                <a:lnTo>
                  <a:pt x="6783" y="94251"/>
                </a:lnTo>
                <a:lnTo>
                  <a:pt x="7378" y="97123"/>
                </a:lnTo>
                <a:lnTo>
                  <a:pt x="8728" y="99991"/>
                </a:lnTo>
                <a:lnTo>
                  <a:pt x="10580" y="102856"/>
                </a:lnTo>
                <a:lnTo>
                  <a:pt x="12767" y="105718"/>
                </a:lnTo>
                <a:lnTo>
                  <a:pt x="15178" y="108579"/>
                </a:lnTo>
                <a:lnTo>
                  <a:pt x="17738" y="111438"/>
                </a:lnTo>
                <a:lnTo>
                  <a:pt x="23122" y="117155"/>
                </a:lnTo>
                <a:lnTo>
                  <a:pt x="28690" y="122871"/>
                </a:lnTo>
                <a:lnTo>
                  <a:pt x="31508" y="124777"/>
                </a:lnTo>
                <a:lnTo>
                  <a:pt x="37179" y="126894"/>
                </a:lnTo>
                <a:lnTo>
                  <a:pt x="40978" y="127458"/>
                </a:lnTo>
                <a:lnTo>
                  <a:pt x="45415" y="127834"/>
                </a:lnTo>
                <a:lnTo>
                  <a:pt x="54473" y="128253"/>
                </a:lnTo>
                <a:lnTo>
                  <a:pt x="61673" y="128438"/>
                </a:lnTo>
                <a:lnTo>
                  <a:pt x="79903" y="128574"/>
                </a:lnTo>
                <a:lnTo>
                  <a:pt x="83747" y="127626"/>
                </a:lnTo>
                <a:lnTo>
                  <a:pt x="88216" y="126041"/>
                </a:lnTo>
                <a:lnTo>
                  <a:pt x="93099" y="124032"/>
                </a:lnTo>
                <a:lnTo>
                  <a:pt x="98260" y="122693"/>
                </a:lnTo>
                <a:lnTo>
                  <a:pt x="103606" y="121800"/>
                </a:lnTo>
                <a:lnTo>
                  <a:pt x="109074" y="121205"/>
                </a:lnTo>
                <a:lnTo>
                  <a:pt x="113673" y="119856"/>
                </a:lnTo>
                <a:lnTo>
                  <a:pt x="117691" y="118004"/>
                </a:lnTo>
                <a:lnTo>
                  <a:pt x="121322" y="115816"/>
                </a:lnTo>
                <a:lnTo>
                  <a:pt x="124695" y="113406"/>
                </a:lnTo>
                <a:lnTo>
                  <a:pt x="127897" y="110846"/>
                </a:lnTo>
                <a:lnTo>
                  <a:pt x="130984" y="108187"/>
                </a:lnTo>
                <a:lnTo>
                  <a:pt x="133994" y="105462"/>
                </a:lnTo>
                <a:lnTo>
                  <a:pt x="139879" y="99895"/>
                </a:lnTo>
                <a:lnTo>
                  <a:pt x="143734" y="97076"/>
                </a:lnTo>
                <a:lnTo>
                  <a:pt x="148209" y="94245"/>
                </a:lnTo>
                <a:lnTo>
                  <a:pt x="159978" y="87408"/>
                </a:lnTo>
                <a:lnTo>
                  <a:pt x="164127" y="83933"/>
                </a:lnTo>
                <a:lnTo>
                  <a:pt x="166567" y="81672"/>
                </a:lnTo>
                <a:lnTo>
                  <a:pt x="169146" y="80166"/>
                </a:lnTo>
                <a:lnTo>
                  <a:pt x="174552" y="78491"/>
                </a:lnTo>
                <a:lnTo>
                  <a:pt x="176375" y="77093"/>
                </a:lnTo>
                <a:lnTo>
                  <a:pt x="177590" y="75208"/>
                </a:lnTo>
                <a:lnTo>
                  <a:pt x="179540" y="69889"/>
                </a:lnTo>
                <a:lnTo>
                  <a:pt x="180652" y="69452"/>
                </a:lnTo>
                <a:lnTo>
                  <a:pt x="185816" y="68838"/>
                </a:lnTo>
                <a:lnTo>
                  <a:pt x="188226" y="68614"/>
                </a:lnTo>
                <a:lnTo>
                  <a:pt x="188430" y="66055"/>
                </a:lnTo>
                <a:lnTo>
                  <a:pt x="188592" y="600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MARTPenAnnotation817"/>
          <p:cNvSpPr/>
          <p:nvPr/>
        </p:nvSpPr>
        <p:spPr>
          <a:xfrm>
            <a:off x="6980400" y="2289240"/>
            <a:ext cx="420480" cy="274680"/>
          </a:xfrm>
          <a:custGeom>
            <a:avLst/>
            <a:gdLst>
              <a:gd name="textAreaLeft" fmla="*/ 0 w 420480"/>
              <a:gd name="textAreaRight" fmla="*/ 420840 w 4204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20054" h="273955">
                <a:moveTo>
                  <a:pt x="0" y="273954"/>
                </a:moveTo>
                <a:lnTo>
                  <a:pt x="4939" y="273954"/>
                </a:lnTo>
                <a:lnTo>
                  <a:pt x="2830" y="273954"/>
                </a:lnTo>
                <a:lnTo>
                  <a:pt x="2839" y="273002"/>
                </a:lnTo>
                <a:lnTo>
                  <a:pt x="6451" y="267110"/>
                </a:lnTo>
                <a:lnTo>
                  <a:pt x="7629" y="262023"/>
                </a:lnTo>
                <a:lnTo>
                  <a:pt x="8896" y="260285"/>
                </a:lnTo>
                <a:lnTo>
                  <a:pt x="10694" y="259126"/>
                </a:lnTo>
                <a:lnTo>
                  <a:pt x="12844" y="258354"/>
                </a:lnTo>
                <a:lnTo>
                  <a:pt x="14278" y="256886"/>
                </a:lnTo>
                <a:lnTo>
                  <a:pt x="15234" y="254956"/>
                </a:lnTo>
                <a:lnTo>
                  <a:pt x="15871" y="252716"/>
                </a:lnTo>
                <a:lnTo>
                  <a:pt x="19119" y="247687"/>
                </a:lnTo>
                <a:lnTo>
                  <a:pt x="26302" y="239501"/>
                </a:lnTo>
                <a:lnTo>
                  <a:pt x="31692" y="232924"/>
                </a:lnTo>
                <a:lnTo>
                  <a:pt x="34464" y="228503"/>
                </a:lnTo>
                <a:lnTo>
                  <a:pt x="37263" y="223651"/>
                </a:lnTo>
                <a:lnTo>
                  <a:pt x="42914" y="215720"/>
                </a:lnTo>
                <a:lnTo>
                  <a:pt x="45754" y="212271"/>
                </a:lnTo>
                <a:lnTo>
                  <a:pt x="53990" y="205899"/>
                </a:lnTo>
                <a:lnTo>
                  <a:pt x="58854" y="202867"/>
                </a:lnTo>
                <a:lnTo>
                  <a:pt x="66797" y="194417"/>
                </a:lnTo>
                <a:lnTo>
                  <a:pt x="70248" y="189497"/>
                </a:lnTo>
                <a:lnTo>
                  <a:pt x="76624" y="181490"/>
                </a:lnTo>
                <a:lnTo>
                  <a:pt x="83585" y="173804"/>
                </a:lnTo>
                <a:lnTo>
                  <a:pt x="93029" y="164038"/>
                </a:lnTo>
                <a:lnTo>
                  <a:pt x="103576" y="155888"/>
                </a:lnTo>
                <a:lnTo>
                  <a:pt x="114614" y="148138"/>
                </a:lnTo>
                <a:lnTo>
                  <a:pt x="120224" y="143404"/>
                </a:lnTo>
                <a:lnTo>
                  <a:pt x="125870" y="138343"/>
                </a:lnTo>
                <a:lnTo>
                  <a:pt x="137222" y="130180"/>
                </a:lnTo>
                <a:lnTo>
                  <a:pt x="148618" y="122424"/>
                </a:lnTo>
                <a:lnTo>
                  <a:pt x="154324" y="117689"/>
                </a:lnTo>
                <a:lnTo>
                  <a:pt x="160032" y="112628"/>
                </a:lnTo>
                <a:lnTo>
                  <a:pt x="171456" y="104464"/>
                </a:lnTo>
                <a:lnTo>
                  <a:pt x="182882" y="97660"/>
                </a:lnTo>
                <a:lnTo>
                  <a:pt x="194311" y="91461"/>
                </a:lnTo>
                <a:lnTo>
                  <a:pt x="205741" y="82991"/>
                </a:lnTo>
                <a:lnTo>
                  <a:pt x="211456" y="78065"/>
                </a:lnTo>
                <a:lnTo>
                  <a:pt x="218123" y="73829"/>
                </a:lnTo>
                <a:lnTo>
                  <a:pt x="225426" y="70052"/>
                </a:lnTo>
                <a:lnTo>
                  <a:pt x="240206" y="63316"/>
                </a:lnTo>
                <a:lnTo>
                  <a:pt x="253126" y="57147"/>
                </a:lnTo>
                <a:lnTo>
                  <a:pt x="260191" y="54169"/>
                </a:lnTo>
                <a:lnTo>
                  <a:pt x="267758" y="51231"/>
                </a:lnTo>
                <a:lnTo>
                  <a:pt x="283786" y="45426"/>
                </a:lnTo>
                <a:lnTo>
                  <a:pt x="300435" y="39671"/>
                </a:lnTo>
                <a:lnTo>
                  <a:pt x="307922" y="36803"/>
                </a:lnTo>
                <a:lnTo>
                  <a:pt x="314819" y="33938"/>
                </a:lnTo>
                <a:lnTo>
                  <a:pt x="326609" y="28215"/>
                </a:lnTo>
                <a:lnTo>
                  <a:pt x="335025" y="22497"/>
                </a:lnTo>
                <a:lnTo>
                  <a:pt x="347021" y="16780"/>
                </a:lnTo>
                <a:lnTo>
                  <a:pt x="359971" y="12017"/>
                </a:lnTo>
                <a:lnTo>
                  <a:pt x="372617" y="9336"/>
                </a:lnTo>
                <a:lnTo>
                  <a:pt x="379285" y="8708"/>
                </a:lnTo>
                <a:lnTo>
                  <a:pt x="382397" y="7589"/>
                </a:lnTo>
                <a:lnTo>
                  <a:pt x="391327" y="2415"/>
                </a:lnTo>
                <a:lnTo>
                  <a:pt x="401194" y="0"/>
                </a:lnTo>
                <a:lnTo>
                  <a:pt x="402718" y="831"/>
                </a:lnTo>
                <a:lnTo>
                  <a:pt x="410138" y="7047"/>
                </a:lnTo>
                <a:lnTo>
                  <a:pt x="413423" y="7691"/>
                </a:lnTo>
                <a:lnTo>
                  <a:pt x="420053" y="8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MARTPenAnnotation818"/>
          <p:cNvSpPr/>
          <p:nvPr/>
        </p:nvSpPr>
        <p:spPr>
          <a:xfrm>
            <a:off x="7469280" y="2160720"/>
            <a:ext cx="223920" cy="136440"/>
          </a:xfrm>
          <a:custGeom>
            <a:avLst/>
            <a:gdLst>
              <a:gd name="textAreaLeft" fmla="*/ 0 w 223920"/>
              <a:gd name="textAreaRight" fmla="*/ 224280 w 2239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22492" h="137002">
                <a:moveTo>
                  <a:pt x="111048" y="25677"/>
                </a:moveTo>
                <a:lnTo>
                  <a:pt x="106497" y="21126"/>
                </a:lnTo>
                <a:lnTo>
                  <a:pt x="104204" y="19786"/>
                </a:lnTo>
                <a:lnTo>
                  <a:pt x="97379" y="17899"/>
                </a:lnTo>
                <a:lnTo>
                  <a:pt x="95447" y="17458"/>
                </a:lnTo>
                <a:lnTo>
                  <a:pt x="92050" y="14721"/>
                </a:lnTo>
                <a:lnTo>
                  <a:pt x="89810" y="12658"/>
                </a:lnTo>
                <a:lnTo>
                  <a:pt x="88317" y="10330"/>
                </a:lnTo>
                <a:lnTo>
                  <a:pt x="87321" y="7826"/>
                </a:lnTo>
                <a:lnTo>
                  <a:pt x="86657" y="5204"/>
                </a:lnTo>
                <a:lnTo>
                  <a:pt x="85263" y="3456"/>
                </a:lnTo>
                <a:lnTo>
                  <a:pt x="83381" y="2290"/>
                </a:lnTo>
                <a:lnTo>
                  <a:pt x="78749" y="996"/>
                </a:lnTo>
                <a:lnTo>
                  <a:pt x="73515" y="420"/>
                </a:lnTo>
                <a:lnTo>
                  <a:pt x="68015" y="164"/>
                </a:lnTo>
                <a:lnTo>
                  <a:pt x="59563" y="20"/>
                </a:lnTo>
                <a:lnTo>
                  <a:pt x="56722" y="0"/>
                </a:lnTo>
                <a:lnTo>
                  <a:pt x="54828" y="939"/>
                </a:lnTo>
                <a:lnTo>
                  <a:pt x="53565" y="2518"/>
                </a:lnTo>
                <a:lnTo>
                  <a:pt x="52724" y="4522"/>
                </a:lnTo>
                <a:lnTo>
                  <a:pt x="51210" y="6811"/>
                </a:lnTo>
                <a:lnTo>
                  <a:pt x="49249" y="9290"/>
                </a:lnTo>
                <a:lnTo>
                  <a:pt x="46989" y="11895"/>
                </a:lnTo>
                <a:lnTo>
                  <a:pt x="43577" y="14584"/>
                </a:lnTo>
                <a:lnTo>
                  <a:pt x="39397" y="17329"/>
                </a:lnTo>
                <a:lnTo>
                  <a:pt x="34706" y="20112"/>
                </a:lnTo>
                <a:lnTo>
                  <a:pt x="31578" y="22919"/>
                </a:lnTo>
                <a:lnTo>
                  <a:pt x="29493" y="25744"/>
                </a:lnTo>
                <a:lnTo>
                  <a:pt x="21596" y="41671"/>
                </a:lnTo>
                <a:lnTo>
                  <a:pt x="19029" y="45865"/>
                </a:lnTo>
                <a:lnTo>
                  <a:pt x="16364" y="49613"/>
                </a:lnTo>
                <a:lnTo>
                  <a:pt x="13636" y="53064"/>
                </a:lnTo>
                <a:lnTo>
                  <a:pt x="11817" y="57270"/>
                </a:lnTo>
                <a:lnTo>
                  <a:pt x="10604" y="61979"/>
                </a:lnTo>
                <a:lnTo>
                  <a:pt x="9795" y="67024"/>
                </a:lnTo>
                <a:lnTo>
                  <a:pt x="8304" y="72291"/>
                </a:lnTo>
                <a:lnTo>
                  <a:pt x="6357" y="77708"/>
                </a:lnTo>
                <a:lnTo>
                  <a:pt x="4106" y="83225"/>
                </a:lnTo>
                <a:lnTo>
                  <a:pt x="2606" y="88807"/>
                </a:lnTo>
                <a:lnTo>
                  <a:pt x="1606" y="94434"/>
                </a:lnTo>
                <a:lnTo>
                  <a:pt x="939" y="100090"/>
                </a:lnTo>
                <a:lnTo>
                  <a:pt x="495" y="104813"/>
                </a:lnTo>
                <a:lnTo>
                  <a:pt x="198" y="108914"/>
                </a:lnTo>
                <a:lnTo>
                  <a:pt x="0" y="112601"/>
                </a:lnTo>
                <a:lnTo>
                  <a:pt x="821" y="116011"/>
                </a:lnTo>
                <a:lnTo>
                  <a:pt x="2321" y="119238"/>
                </a:lnTo>
                <a:lnTo>
                  <a:pt x="4273" y="122341"/>
                </a:lnTo>
                <a:lnTo>
                  <a:pt x="6527" y="124410"/>
                </a:lnTo>
                <a:lnTo>
                  <a:pt x="8983" y="125789"/>
                </a:lnTo>
                <a:lnTo>
                  <a:pt x="11573" y="126708"/>
                </a:lnTo>
                <a:lnTo>
                  <a:pt x="16989" y="130270"/>
                </a:lnTo>
                <a:lnTo>
                  <a:pt x="19767" y="132553"/>
                </a:lnTo>
                <a:lnTo>
                  <a:pt x="22571" y="134075"/>
                </a:lnTo>
                <a:lnTo>
                  <a:pt x="28228" y="135766"/>
                </a:lnTo>
                <a:lnTo>
                  <a:pt x="32022" y="136218"/>
                </a:lnTo>
                <a:lnTo>
                  <a:pt x="36457" y="136518"/>
                </a:lnTo>
                <a:lnTo>
                  <a:pt x="45511" y="136852"/>
                </a:lnTo>
                <a:lnTo>
                  <a:pt x="52710" y="137001"/>
                </a:lnTo>
                <a:lnTo>
                  <a:pt x="56916" y="136088"/>
                </a:lnTo>
                <a:lnTo>
                  <a:pt x="61625" y="134527"/>
                </a:lnTo>
                <a:lnTo>
                  <a:pt x="66669" y="132533"/>
                </a:lnTo>
                <a:lnTo>
                  <a:pt x="71937" y="130252"/>
                </a:lnTo>
                <a:lnTo>
                  <a:pt x="82870" y="125177"/>
                </a:lnTo>
                <a:lnTo>
                  <a:pt x="87500" y="122490"/>
                </a:lnTo>
                <a:lnTo>
                  <a:pt x="91540" y="119747"/>
                </a:lnTo>
                <a:lnTo>
                  <a:pt x="95185" y="116965"/>
                </a:lnTo>
                <a:lnTo>
                  <a:pt x="99521" y="114158"/>
                </a:lnTo>
                <a:lnTo>
                  <a:pt x="104315" y="111335"/>
                </a:lnTo>
                <a:lnTo>
                  <a:pt x="109417" y="108500"/>
                </a:lnTo>
                <a:lnTo>
                  <a:pt x="113771" y="104705"/>
                </a:lnTo>
                <a:lnTo>
                  <a:pt x="117626" y="100270"/>
                </a:lnTo>
                <a:lnTo>
                  <a:pt x="121148" y="95408"/>
                </a:lnTo>
                <a:lnTo>
                  <a:pt x="124449" y="91214"/>
                </a:lnTo>
                <a:lnTo>
                  <a:pt x="127602" y="87466"/>
                </a:lnTo>
                <a:lnTo>
                  <a:pt x="130657" y="84015"/>
                </a:lnTo>
                <a:lnTo>
                  <a:pt x="133646" y="79809"/>
                </a:lnTo>
                <a:lnTo>
                  <a:pt x="136590" y="75100"/>
                </a:lnTo>
                <a:lnTo>
                  <a:pt x="139507" y="70055"/>
                </a:lnTo>
                <a:lnTo>
                  <a:pt x="142403" y="65740"/>
                </a:lnTo>
                <a:lnTo>
                  <a:pt x="145286" y="61911"/>
                </a:lnTo>
                <a:lnTo>
                  <a:pt x="148161" y="58405"/>
                </a:lnTo>
                <a:lnTo>
                  <a:pt x="149125" y="54163"/>
                </a:lnTo>
                <a:lnTo>
                  <a:pt x="148815" y="49431"/>
                </a:lnTo>
                <a:lnTo>
                  <a:pt x="147656" y="44370"/>
                </a:lnTo>
                <a:lnTo>
                  <a:pt x="146884" y="40044"/>
                </a:lnTo>
                <a:lnTo>
                  <a:pt x="146368" y="36208"/>
                </a:lnTo>
                <a:lnTo>
                  <a:pt x="146025" y="32697"/>
                </a:lnTo>
                <a:lnTo>
                  <a:pt x="145796" y="29405"/>
                </a:lnTo>
                <a:lnTo>
                  <a:pt x="145643" y="26257"/>
                </a:lnTo>
                <a:lnTo>
                  <a:pt x="145474" y="20220"/>
                </a:lnTo>
                <a:lnTo>
                  <a:pt x="145398" y="14362"/>
                </a:lnTo>
                <a:lnTo>
                  <a:pt x="144426" y="11466"/>
                </a:lnTo>
                <a:lnTo>
                  <a:pt x="142825" y="8583"/>
                </a:lnTo>
                <a:lnTo>
                  <a:pt x="136813" y="26"/>
                </a:lnTo>
                <a:lnTo>
                  <a:pt x="136797" y="4"/>
                </a:lnTo>
                <a:lnTo>
                  <a:pt x="136766" y="75565"/>
                </a:lnTo>
                <a:lnTo>
                  <a:pt x="137718" y="79891"/>
                </a:lnTo>
                <a:lnTo>
                  <a:pt x="139306" y="83727"/>
                </a:lnTo>
                <a:lnTo>
                  <a:pt x="141317" y="87237"/>
                </a:lnTo>
                <a:lnTo>
                  <a:pt x="142657" y="90530"/>
                </a:lnTo>
                <a:lnTo>
                  <a:pt x="143551" y="93677"/>
                </a:lnTo>
                <a:lnTo>
                  <a:pt x="144147" y="96728"/>
                </a:lnTo>
                <a:lnTo>
                  <a:pt x="145497" y="99714"/>
                </a:lnTo>
                <a:lnTo>
                  <a:pt x="147349" y="102658"/>
                </a:lnTo>
                <a:lnTo>
                  <a:pt x="149536" y="105573"/>
                </a:lnTo>
                <a:lnTo>
                  <a:pt x="151947" y="108468"/>
                </a:lnTo>
                <a:lnTo>
                  <a:pt x="154506" y="111351"/>
                </a:lnTo>
                <a:lnTo>
                  <a:pt x="157165" y="114226"/>
                </a:lnTo>
                <a:lnTo>
                  <a:pt x="159891" y="116142"/>
                </a:lnTo>
                <a:lnTo>
                  <a:pt x="165458" y="118271"/>
                </a:lnTo>
                <a:lnTo>
                  <a:pt x="171108" y="119217"/>
                </a:lnTo>
                <a:lnTo>
                  <a:pt x="173948" y="119470"/>
                </a:lnTo>
                <a:lnTo>
                  <a:pt x="176793" y="120591"/>
                </a:lnTo>
                <a:lnTo>
                  <a:pt x="182496" y="124376"/>
                </a:lnTo>
                <a:lnTo>
                  <a:pt x="188205" y="126693"/>
                </a:lnTo>
                <a:lnTo>
                  <a:pt x="191061" y="127311"/>
                </a:lnTo>
                <a:lnTo>
                  <a:pt x="193918" y="126771"/>
                </a:lnTo>
                <a:lnTo>
                  <a:pt x="199632" y="123630"/>
                </a:lnTo>
                <a:lnTo>
                  <a:pt x="205346" y="121599"/>
                </a:lnTo>
                <a:lnTo>
                  <a:pt x="211061" y="120697"/>
                </a:lnTo>
                <a:lnTo>
                  <a:pt x="213918" y="120456"/>
                </a:lnTo>
                <a:lnTo>
                  <a:pt x="222491" y="1199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MARTPenAnnotation819"/>
          <p:cNvSpPr/>
          <p:nvPr/>
        </p:nvSpPr>
        <p:spPr>
          <a:xfrm>
            <a:off x="7753320" y="2143080"/>
            <a:ext cx="169920" cy="136440"/>
          </a:xfrm>
          <a:custGeom>
            <a:avLst/>
            <a:gdLst>
              <a:gd name="textAreaLeft" fmla="*/ 0 w 169920"/>
              <a:gd name="textAreaRight" fmla="*/ 170280 w 1699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71063" h="137012">
                <a:moveTo>
                  <a:pt x="59620" y="8563"/>
                </a:moveTo>
                <a:lnTo>
                  <a:pt x="59620" y="22"/>
                </a:lnTo>
                <a:lnTo>
                  <a:pt x="55068" y="0"/>
                </a:lnTo>
                <a:lnTo>
                  <a:pt x="53728" y="949"/>
                </a:lnTo>
                <a:lnTo>
                  <a:pt x="52834" y="2535"/>
                </a:lnTo>
                <a:lnTo>
                  <a:pt x="52239" y="4544"/>
                </a:lnTo>
                <a:lnTo>
                  <a:pt x="50889" y="5884"/>
                </a:lnTo>
                <a:lnTo>
                  <a:pt x="49037" y="6777"/>
                </a:lnTo>
                <a:lnTo>
                  <a:pt x="46850" y="7372"/>
                </a:lnTo>
                <a:lnTo>
                  <a:pt x="41879" y="10574"/>
                </a:lnTo>
                <a:lnTo>
                  <a:pt x="39220" y="12761"/>
                </a:lnTo>
                <a:lnTo>
                  <a:pt x="36495" y="15172"/>
                </a:lnTo>
                <a:lnTo>
                  <a:pt x="30927" y="20390"/>
                </a:lnTo>
                <a:lnTo>
                  <a:pt x="28109" y="24068"/>
                </a:lnTo>
                <a:lnTo>
                  <a:pt x="25277" y="28425"/>
                </a:lnTo>
                <a:lnTo>
                  <a:pt x="22437" y="33234"/>
                </a:lnTo>
                <a:lnTo>
                  <a:pt x="20544" y="37393"/>
                </a:lnTo>
                <a:lnTo>
                  <a:pt x="19282" y="41118"/>
                </a:lnTo>
                <a:lnTo>
                  <a:pt x="18440" y="44554"/>
                </a:lnTo>
                <a:lnTo>
                  <a:pt x="16926" y="48749"/>
                </a:lnTo>
                <a:lnTo>
                  <a:pt x="14965" y="53451"/>
                </a:lnTo>
                <a:lnTo>
                  <a:pt x="12705" y="58491"/>
                </a:lnTo>
                <a:lnTo>
                  <a:pt x="11198" y="62804"/>
                </a:lnTo>
                <a:lnTo>
                  <a:pt x="10193" y="66631"/>
                </a:lnTo>
                <a:lnTo>
                  <a:pt x="9524" y="70135"/>
                </a:lnTo>
                <a:lnTo>
                  <a:pt x="8125" y="73423"/>
                </a:lnTo>
                <a:lnTo>
                  <a:pt x="6240" y="76568"/>
                </a:lnTo>
                <a:lnTo>
                  <a:pt x="4031" y="79617"/>
                </a:lnTo>
                <a:lnTo>
                  <a:pt x="2557" y="83555"/>
                </a:lnTo>
                <a:lnTo>
                  <a:pt x="1576" y="88085"/>
                </a:lnTo>
                <a:lnTo>
                  <a:pt x="921" y="93011"/>
                </a:lnTo>
                <a:lnTo>
                  <a:pt x="485" y="97246"/>
                </a:lnTo>
                <a:lnTo>
                  <a:pt x="194" y="101023"/>
                </a:lnTo>
                <a:lnTo>
                  <a:pt x="0" y="104493"/>
                </a:lnTo>
                <a:lnTo>
                  <a:pt x="823" y="107759"/>
                </a:lnTo>
                <a:lnTo>
                  <a:pt x="2325" y="110889"/>
                </a:lnTo>
                <a:lnTo>
                  <a:pt x="7027" y="118205"/>
                </a:lnTo>
                <a:lnTo>
                  <a:pt x="10210" y="121745"/>
                </a:lnTo>
                <a:lnTo>
                  <a:pt x="17358" y="129093"/>
                </a:lnTo>
                <a:lnTo>
                  <a:pt x="20014" y="131779"/>
                </a:lnTo>
                <a:lnTo>
                  <a:pt x="22738" y="133570"/>
                </a:lnTo>
                <a:lnTo>
                  <a:pt x="25507" y="134763"/>
                </a:lnTo>
                <a:lnTo>
                  <a:pt x="28305" y="135559"/>
                </a:lnTo>
                <a:lnTo>
                  <a:pt x="32076" y="136089"/>
                </a:lnTo>
                <a:lnTo>
                  <a:pt x="36495" y="136443"/>
                </a:lnTo>
                <a:lnTo>
                  <a:pt x="45532" y="136836"/>
                </a:lnTo>
                <a:lnTo>
                  <a:pt x="52723" y="137011"/>
                </a:lnTo>
                <a:lnTo>
                  <a:pt x="56927" y="136105"/>
                </a:lnTo>
                <a:lnTo>
                  <a:pt x="61634" y="134549"/>
                </a:lnTo>
                <a:lnTo>
                  <a:pt x="66678" y="132558"/>
                </a:lnTo>
                <a:lnTo>
                  <a:pt x="70992" y="131232"/>
                </a:lnTo>
                <a:lnTo>
                  <a:pt x="74822" y="130347"/>
                </a:lnTo>
                <a:lnTo>
                  <a:pt x="78327" y="129757"/>
                </a:lnTo>
                <a:lnTo>
                  <a:pt x="82569" y="128412"/>
                </a:lnTo>
                <a:lnTo>
                  <a:pt x="87301" y="126562"/>
                </a:lnTo>
                <a:lnTo>
                  <a:pt x="92362" y="124377"/>
                </a:lnTo>
                <a:lnTo>
                  <a:pt x="103064" y="119408"/>
                </a:lnTo>
                <a:lnTo>
                  <a:pt x="142521" y="99968"/>
                </a:lnTo>
                <a:lnTo>
                  <a:pt x="147272" y="97122"/>
                </a:lnTo>
                <a:lnTo>
                  <a:pt x="151392" y="94273"/>
                </a:lnTo>
                <a:lnTo>
                  <a:pt x="155092" y="91420"/>
                </a:lnTo>
                <a:lnTo>
                  <a:pt x="157557" y="88566"/>
                </a:lnTo>
                <a:lnTo>
                  <a:pt x="159201" y="85711"/>
                </a:lnTo>
                <a:lnTo>
                  <a:pt x="160297" y="82855"/>
                </a:lnTo>
                <a:lnTo>
                  <a:pt x="161981" y="80951"/>
                </a:lnTo>
                <a:lnTo>
                  <a:pt x="164055" y="79682"/>
                </a:lnTo>
                <a:lnTo>
                  <a:pt x="166391" y="78835"/>
                </a:lnTo>
                <a:lnTo>
                  <a:pt x="167948" y="77319"/>
                </a:lnTo>
                <a:lnTo>
                  <a:pt x="168986" y="75355"/>
                </a:lnTo>
                <a:lnTo>
                  <a:pt x="171026" y="68688"/>
                </a:lnTo>
                <a:lnTo>
                  <a:pt x="171062" y="77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MARTPenAnnotation820"/>
          <p:cNvSpPr/>
          <p:nvPr/>
        </p:nvSpPr>
        <p:spPr>
          <a:xfrm>
            <a:off x="7118280" y="3068640"/>
            <a:ext cx="376200" cy="162000"/>
          </a:xfrm>
          <a:custGeom>
            <a:avLst/>
            <a:gdLst>
              <a:gd name="textAreaLeft" fmla="*/ 0 w 376200"/>
              <a:gd name="textAreaRight" fmla="*/ 376560 w 376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377191" h="161684">
                <a:moveTo>
                  <a:pt x="0" y="0"/>
                </a:moveTo>
                <a:lnTo>
                  <a:pt x="0" y="12770"/>
                </a:lnTo>
                <a:lnTo>
                  <a:pt x="953" y="15181"/>
                </a:lnTo>
                <a:lnTo>
                  <a:pt x="2541" y="17740"/>
                </a:lnTo>
                <a:lnTo>
                  <a:pt x="4551" y="20399"/>
                </a:lnTo>
                <a:lnTo>
                  <a:pt x="6844" y="24077"/>
                </a:lnTo>
                <a:lnTo>
                  <a:pt x="9325" y="28434"/>
                </a:lnTo>
                <a:lnTo>
                  <a:pt x="11932" y="33243"/>
                </a:lnTo>
                <a:lnTo>
                  <a:pt x="13669" y="37402"/>
                </a:lnTo>
                <a:lnTo>
                  <a:pt x="14828" y="41127"/>
                </a:lnTo>
                <a:lnTo>
                  <a:pt x="15600" y="44563"/>
                </a:lnTo>
                <a:lnTo>
                  <a:pt x="17068" y="47806"/>
                </a:lnTo>
                <a:lnTo>
                  <a:pt x="18999" y="50921"/>
                </a:lnTo>
                <a:lnTo>
                  <a:pt x="21239" y="53949"/>
                </a:lnTo>
                <a:lnTo>
                  <a:pt x="22732" y="57874"/>
                </a:lnTo>
                <a:lnTo>
                  <a:pt x="23727" y="62395"/>
                </a:lnTo>
                <a:lnTo>
                  <a:pt x="24390" y="67314"/>
                </a:lnTo>
                <a:lnTo>
                  <a:pt x="25786" y="71546"/>
                </a:lnTo>
                <a:lnTo>
                  <a:pt x="27668" y="75319"/>
                </a:lnTo>
                <a:lnTo>
                  <a:pt x="29875" y="78788"/>
                </a:lnTo>
                <a:lnTo>
                  <a:pt x="32300" y="82053"/>
                </a:lnTo>
                <a:lnTo>
                  <a:pt x="34868" y="85182"/>
                </a:lnTo>
                <a:lnTo>
                  <a:pt x="37532" y="88220"/>
                </a:lnTo>
                <a:lnTo>
                  <a:pt x="41214" y="91198"/>
                </a:lnTo>
                <a:lnTo>
                  <a:pt x="45574" y="94136"/>
                </a:lnTo>
                <a:lnTo>
                  <a:pt x="50386" y="97047"/>
                </a:lnTo>
                <a:lnTo>
                  <a:pt x="54545" y="99941"/>
                </a:lnTo>
                <a:lnTo>
                  <a:pt x="58271" y="102822"/>
                </a:lnTo>
                <a:lnTo>
                  <a:pt x="61708" y="105695"/>
                </a:lnTo>
                <a:lnTo>
                  <a:pt x="64951" y="109516"/>
                </a:lnTo>
                <a:lnTo>
                  <a:pt x="68065" y="113968"/>
                </a:lnTo>
                <a:lnTo>
                  <a:pt x="71095" y="118841"/>
                </a:lnTo>
                <a:lnTo>
                  <a:pt x="75019" y="122090"/>
                </a:lnTo>
                <a:lnTo>
                  <a:pt x="79540" y="124256"/>
                </a:lnTo>
                <a:lnTo>
                  <a:pt x="88691" y="127614"/>
                </a:lnTo>
                <a:lnTo>
                  <a:pt x="95933" y="132282"/>
                </a:lnTo>
                <a:lnTo>
                  <a:pt x="100151" y="134861"/>
                </a:lnTo>
                <a:lnTo>
                  <a:pt x="104867" y="137532"/>
                </a:lnTo>
                <a:lnTo>
                  <a:pt x="109916" y="140265"/>
                </a:lnTo>
                <a:lnTo>
                  <a:pt x="120607" y="143302"/>
                </a:lnTo>
                <a:lnTo>
                  <a:pt x="126125" y="144112"/>
                </a:lnTo>
                <a:lnTo>
                  <a:pt x="132661" y="145605"/>
                </a:lnTo>
                <a:lnTo>
                  <a:pt x="139876" y="147552"/>
                </a:lnTo>
                <a:lnTo>
                  <a:pt x="147543" y="149803"/>
                </a:lnTo>
                <a:lnTo>
                  <a:pt x="155512" y="151304"/>
                </a:lnTo>
                <a:lnTo>
                  <a:pt x="163682" y="152304"/>
                </a:lnTo>
                <a:lnTo>
                  <a:pt x="171986" y="152971"/>
                </a:lnTo>
                <a:lnTo>
                  <a:pt x="179427" y="153415"/>
                </a:lnTo>
                <a:lnTo>
                  <a:pt x="192776" y="153910"/>
                </a:lnTo>
                <a:lnTo>
                  <a:pt x="222758" y="154227"/>
                </a:lnTo>
                <a:lnTo>
                  <a:pt x="235847" y="154270"/>
                </a:lnTo>
                <a:lnTo>
                  <a:pt x="241051" y="155234"/>
                </a:lnTo>
                <a:lnTo>
                  <a:pt x="249374" y="158845"/>
                </a:lnTo>
                <a:lnTo>
                  <a:pt x="258788" y="161085"/>
                </a:lnTo>
                <a:lnTo>
                  <a:pt x="263966" y="161683"/>
                </a:lnTo>
                <a:lnTo>
                  <a:pt x="274798" y="159806"/>
                </a:lnTo>
                <a:lnTo>
                  <a:pt x="285963" y="156750"/>
                </a:lnTo>
                <a:lnTo>
                  <a:pt x="297275" y="155391"/>
                </a:lnTo>
                <a:lnTo>
                  <a:pt x="306112" y="154787"/>
                </a:lnTo>
                <a:lnTo>
                  <a:pt x="309802" y="154627"/>
                </a:lnTo>
                <a:lnTo>
                  <a:pt x="318983" y="151908"/>
                </a:lnTo>
                <a:lnTo>
                  <a:pt x="328460" y="148477"/>
                </a:lnTo>
                <a:lnTo>
                  <a:pt x="339150" y="146545"/>
                </a:lnTo>
                <a:lnTo>
                  <a:pt x="349303" y="145973"/>
                </a:lnTo>
                <a:lnTo>
                  <a:pt x="365698" y="145764"/>
                </a:lnTo>
                <a:lnTo>
                  <a:pt x="366671" y="144801"/>
                </a:lnTo>
                <a:lnTo>
                  <a:pt x="367320" y="143206"/>
                </a:lnTo>
                <a:lnTo>
                  <a:pt x="368362" y="138354"/>
                </a:lnTo>
                <a:lnTo>
                  <a:pt x="369399" y="137956"/>
                </a:lnTo>
                <a:lnTo>
                  <a:pt x="377190" y="1371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MARTPenAnnotation821"/>
          <p:cNvSpPr/>
          <p:nvPr/>
        </p:nvSpPr>
        <p:spPr>
          <a:xfrm>
            <a:off x="7572240" y="3094200"/>
            <a:ext cx="189000" cy="249120"/>
          </a:xfrm>
          <a:custGeom>
            <a:avLst/>
            <a:gdLst>
              <a:gd name="textAreaLeft" fmla="*/ 0 w 189000"/>
              <a:gd name="textAreaRight" fmla="*/ 189360 w 1890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88453" h="248204">
                <a:moveTo>
                  <a:pt x="0" y="0"/>
                </a:moveTo>
                <a:lnTo>
                  <a:pt x="0" y="4551"/>
                </a:lnTo>
                <a:lnTo>
                  <a:pt x="952" y="5892"/>
                </a:lnTo>
                <a:lnTo>
                  <a:pt x="2540" y="6785"/>
                </a:lnTo>
                <a:lnTo>
                  <a:pt x="7380" y="8220"/>
                </a:lnTo>
                <a:lnTo>
                  <a:pt x="7778" y="9290"/>
                </a:lnTo>
                <a:lnTo>
                  <a:pt x="8337" y="15347"/>
                </a:lnTo>
                <a:lnTo>
                  <a:pt x="8467" y="20473"/>
                </a:lnTo>
                <a:lnTo>
                  <a:pt x="9455" y="23174"/>
                </a:lnTo>
                <a:lnTo>
                  <a:pt x="13092" y="28715"/>
                </a:lnTo>
                <a:lnTo>
                  <a:pt x="15344" y="34352"/>
                </a:lnTo>
                <a:lnTo>
                  <a:pt x="17297" y="40985"/>
                </a:lnTo>
                <a:lnTo>
                  <a:pt x="19151" y="45421"/>
                </a:lnTo>
                <a:lnTo>
                  <a:pt x="21340" y="50283"/>
                </a:lnTo>
                <a:lnTo>
                  <a:pt x="22799" y="55430"/>
                </a:lnTo>
                <a:lnTo>
                  <a:pt x="23772" y="60766"/>
                </a:lnTo>
                <a:lnTo>
                  <a:pt x="24420" y="66228"/>
                </a:lnTo>
                <a:lnTo>
                  <a:pt x="25805" y="71775"/>
                </a:lnTo>
                <a:lnTo>
                  <a:pt x="27681" y="77377"/>
                </a:lnTo>
                <a:lnTo>
                  <a:pt x="29884" y="83017"/>
                </a:lnTo>
                <a:lnTo>
                  <a:pt x="31352" y="88682"/>
                </a:lnTo>
                <a:lnTo>
                  <a:pt x="32332" y="94364"/>
                </a:lnTo>
                <a:lnTo>
                  <a:pt x="32984" y="100057"/>
                </a:lnTo>
                <a:lnTo>
                  <a:pt x="34372" y="105757"/>
                </a:lnTo>
                <a:lnTo>
                  <a:pt x="36249" y="111462"/>
                </a:lnTo>
                <a:lnTo>
                  <a:pt x="38454" y="117171"/>
                </a:lnTo>
                <a:lnTo>
                  <a:pt x="39923" y="122881"/>
                </a:lnTo>
                <a:lnTo>
                  <a:pt x="40903" y="128594"/>
                </a:lnTo>
                <a:lnTo>
                  <a:pt x="41556" y="134306"/>
                </a:lnTo>
                <a:lnTo>
                  <a:pt x="42944" y="139068"/>
                </a:lnTo>
                <a:lnTo>
                  <a:pt x="44822" y="143194"/>
                </a:lnTo>
                <a:lnTo>
                  <a:pt x="47026" y="146898"/>
                </a:lnTo>
                <a:lnTo>
                  <a:pt x="48496" y="151272"/>
                </a:lnTo>
                <a:lnTo>
                  <a:pt x="49476" y="156093"/>
                </a:lnTo>
                <a:lnTo>
                  <a:pt x="50128" y="161212"/>
                </a:lnTo>
                <a:lnTo>
                  <a:pt x="51517" y="165577"/>
                </a:lnTo>
                <a:lnTo>
                  <a:pt x="55599" y="172968"/>
                </a:lnTo>
                <a:lnTo>
                  <a:pt x="60588" y="179427"/>
                </a:lnTo>
                <a:lnTo>
                  <a:pt x="63251" y="182483"/>
                </a:lnTo>
                <a:lnTo>
                  <a:pt x="65027" y="185473"/>
                </a:lnTo>
                <a:lnTo>
                  <a:pt x="67001" y="191335"/>
                </a:lnTo>
                <a:lnTo>
                  <a:pt x="68480" y="195184"/>
                </a:lnTo>
                <a:lnTo>
                  <a:pt x="70418" y="199655"/>
                </a:lnTo>
                <a:lnTo>
                  <a:pt x="72663" y="204541"/>
                </a:lnTo>
                <a:lnTo>
                  <a:pt x="75111" y="207798"/>
                </a:lnTo>
                <a:lnTo>
                  <a:pt x="77697" y="209970"/>
                </a:lnTo>
                <a:lnTo>
                  <a:pt x="80373" y="211417"/>
                </a:lnTo>
                <a:lnTo>
                  <a:pt x="82157" y="213335"/>
                </a:lnTo>
                <a:lnTo>
                  <a:pt x="83346" y="215566"/>
                </a:lnTo>
                <a:lnTo>
                  <a:pt x="85724" y="222882"/>
                </a:lnTo>
                <a:lnTo>
                  <a:pt x="85725" y="210953"/>
                </a:lnTo>
                <a:lnTo>
                  <a:pt x="84773" y="208263"/>
                </a:lnTo>
                <a:lnTo>
                  <a:pt x="81174" y="202734"/>
                </a:lnTo>
                <a:lnTo>
                  <a:pt x="78940" y="197102"/>
                </a:lnTo>
                <a:lnTo>
                  <a:pt x="77947" y="190471"/>
                </a:lnTo>
                <a:lnTo>
                  <a:pt x="77682" y="186035"/>
                </a:lnTo>
                <a:lnTo>
                  <a:pt x="77388" y="176980"/>
                </a:lnTo>
                <a:lnTo>
                  <a:pt x="77222" y="165574"/>
                </a:lnTo>
                <a:lnTo>
                  <a:pt x="77183" y="155821"/>
                </a:lnTo>
                <a:lnTo>
                  <a:pt x="78125" y="151506"/>
                </a:lnTo>
                <a:lnTo>
                  <a:pt x="83049" y="140882"/>
                </a:lnTo>
                <a:lnTo>
                  <a:pt x="84535" y="134687"/>
                </a:lnTo>
                <a:lnTo>
                  <a:pt x="87736" y="128758"/>
                </a:lnTo>
                <a:lnTo>
                  <a:pt x="89923" y="125844"/>
                </a:lnTo>
                <a:lnTo>
                  <a:pt x="93286" y="122949"/>
                </a:lnTo>
                <a:lnTo>
                  <a:pt x="97433" y="120066"/>
                </a:lnTo>
                <a:lnTo>
                  <a:pt x="102103" y="117192"/>
                </a:lnTo>
                <a:lnTo>
                  <a:pt x="106168" y="115275"/>
                </a:lnTo>
                <a:lnTo>
                  <a:pt x="109832" y="113998"/>
                </a:lnTo>
                <a:lnTo>
                  <a:pt x="113226" y="113146"/>
                </a:lnTo>
                <a:lnTo>
                  <a:pt x="116441" y="112578"/>
                </a:lnTo>
                <a:lnTo>
                  <a:pt x="119537" y="112200"/>
                </a:lnTo>
                <a:lnTo>
                  <a:pt x="122554" y="111947"/>
                </a:lnTo>
                <a:lnTo>
                  <a:pt x="126470" y="111779"/>
                </a:lnTo>
                <a:lnTo>
                  <a:pt x="140131" y="111542"/>
                </a:lnTo>
                <a:lnTo>
                  <a:pt x="147370" y="111487"/>
                </a:lnTo>
                <a:lnTo>
                  <a:pt x="151587" y="112425"/>
                </a:lnTo>
                <a:lnTo>
                  <a:pt x="156302" y="114002"/>
                </a:lnTo>
                <a:lnTo>
                  <a:pt x="168457" y="118827"/>
                </a:lnTo>
                <a:lnTo>
                  <a:pt x="172660" y="122027"/>
                </a:lnTo>
                <a:lnTo>
                  <a:pt x="175114" y="124214"/>
                </a:lnTo>
                <a:lnTo>
                  <a:pt x="180381" y="131724"/>
                </a:lnTo>
                <a:lnTo>
                  <a:pt x="183119" y="136393"/>
                </a:lnTo>
                <a:lnTo>
                  <a:pt x="186161" y="144122"/>
                </a:lnTo>
                <a:lnTo>
                  <a:pt x="187513" y="151684"/>
                </a:lnTo>
                <a:lnTo>
                  <a:pt x="187873" y="156368"/>
                </a:lnTo>
                <a:lnTo>
                  <a:pt x="188274" y="165699"/>
                </a:lnTo>
                <a:lnTo>
                  <a:pt x="188452" y="173022"/>
                </a:lnTo>
                <a:lnTo>
                  <a:pt x="187547" y="177260"/>
                </a:lnTo>
                <a:lnTo>
                  <a:pt x="185991" y="181991"/>
                </a:lnTo>
                <a:lnTo>
                  <a:pt x="184001" y="187050"/>
                </a:lnTo>
                <a:lnTo>
                  <a:pt x="181723" y="191375"/>
                </a:lnTo>
                <a:lnTo>
                  <a:pt x="173964" y="202965"/>
                </a:lnTo>
                <a:lnTo>
                  <a:pt x="171222" y="207700"/>
                </a:lnTo>
                <a:lnTo>
                  <a:pt x="168440" y="212762"/>
                </a:lnTo>
                <a:lnTo>
                  <a:pt x="165633" y="217089"/>
                </a:lnTo>
                <a:lnTo>
                  <a:pt x="159974" y="224437"/>
                </a:lnTo>
                <a:lnTo>
                  <a:pt x="154285" y="230877"/>
                </a:lnTo>
                <a:lnTo>
                  <a:pt x="151434" y="233928"/>
                </a:lnTo>
                <a:lnTo>
                  <a:pt x="147628" y="235962"/>
                </a:lnTo>
                <a:lnTo>
                  <a:pt x="143186" y="237318"/>
                </a:lnTo>
                <a:lnTo>
                  <a:pt x="138320" y="238222"/>
                </a:lnTo>
                <a:lnTo>
                  <a:pt x="134123" y="239777"/>
                </a:lnTo>
                <a:lnTo>
                  <a:pt x="130373" y="241766"/>
                </a:lnTo>
                <a:lnTo>
                  <a:pt x="126920" y="244045"/>
                </a:lnTo>
                <a:lnTo>
                  <a:pt x="123666" y="245564"/>
                </a:lnTo>
                <a:lnTo>
                  <a:pt x="120544" y="246577"/>
                </a:lnTo>
                <a:lnTo>
                  <a:pt x="117510" y="247252"/>
                </a:lnTo>
                <a:lnTo>
                  <a:pt x="114535" y="247702"/>
                </a:lnTo>
                <a:lnTo>
                  <a:pt x="108689" y="248203"/>
                </a:lnTo>
                <a:lnTo>
                  <a:pt x="105797" y="247384"/>
                </a:lnTo>
                <a:lnTo>
                  <a:pt x="100043" y="243933"/>
                </a:lnTo>
                <a:lnTo>
                  <a:pt x="94311" y="241765"/>
                </a:lnTo>
                <a:lnTo>
                  <a:pt x="88588" y="240801"/>
                </a:lnTo>
                <a:lnTo>
                  <a:pt x="82870" y="240373"/>
                </a:lnTo>
                <a:lnTo>
                  <a:pt x="80964" y="239306"/>
                </a:lnTo>
                <a:lnTo>
                  <a:pt x="79693" y="237642"/>
                </a:lnTo>
                <a:lnTo>
                  <a:pt x="78846" y="235581"/>
                </a:lnTo>
                <a:lnTo>
                  <a:pt x="77329" y="234206"/>
                </a:lnTo>
                <a:lnTo>
                  <a:pt x="75365" y="233290"/>
                </a:lnTo>
                <a:lnTo>
                  <a:pt x="69920" y="231820"/>
                </a:lnTo>
                <a:lnTo>
                  <a:pt x="69474" y="230747"/>
                </a:lnTo>
                <a:lnTo>
                  <a:pt x="68845" y="224685"/>
                </a:lnTo>
                <a:lnTo>
                  <a:pt x="68580" y="2143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MARTPenAnnotation822"/>
          <p:cNvSpPr/>
          <p:nvPr/>
        </p:nvSpPr>
        <p:spPr>
          <a:xfrm>
            <a:off x="6637320" y="2703600"/>
            <a:ext cx="249120" cy="125280"/>
          </a:xfrm>
          <a:custGeom>
            <a:avLst/>
            <a:gdLst>
              <a:gd name="textAreaLeft" fmla="*/ 0 w 249120"/>
              <a:gd name="textAreaRight" fmla="*/ 249480 w 2491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48604" h="124659">
                <a:moveTo>
                  <a:pt x="0" y="13226"/>
                </a:moveTo>
                <a:lnTo>
                  <a:pt x="7381" y="20607"/>
                </a:lnTo>
                <a:lnTo>
                  <a:pt x="8043" y="23809"/>
                </a:lnTo>
                <a:lnTo>
                  <a:pt x="8219" y="25996"/>
                </a:lnTo>
                <a:lnTo>
                  <a:pt x="9290" y="28407"/>
                </a:lnTo>
                <a:lnTo>
                  <a:pt x="10956" y="30967"/>
                </a:lnTo>
                <a:lnTo>
                  <a:pt x="13019" y="33626"/>
                </a:lnTo>
                <a:lnTo>
                  <a:pt x="14394" y="36351"/>
                </a:lnTo>
                <a:lnTo>
                  <a:pt x="15311" y="39120"/>
                </a:lnTo>
                <a:lnTo>
                  <a:pt x="15923" y="41919"/>
                </a:lnTo>
                <a:lnTo>
                  <a:pt x="17283" y="44737"/>
                </a:lnTo>
                <a:lnTo>
                  <a:pt x="19141" y="47568"/>
                </a:lnTo>
                <a:lnTo>
                  <a:pt x="21333" y="50408"/>
                </a:lnTo>
                <a:lnTo>
                  <a:pt x="22795" y="53254"/>
                </a:lnTo>
                <a:lnTo>
                  <a:pt x="23769" y="56104"/>
                </a:lnTo>
                <a:lnTo>
                  <a:pt x="24419" y="58956"/>
                </a:lnTo>
                <a:lnTo>
                  <a:pt x="24852" y="61811"/>
                </a:lnTo>
                <a:lnTo>
                  <a:pt x="25140" y="64666"/>
                </a:lnTo>
                <a:lnTo>
                  <a:pt x="25333" y="67522"/>
                </a:lnTo>
                <a:lnTo>
                  <a:pt x="26414" y="70378"/>
                </a:lnTo>
                <a:lnTo>
                  <a:pt x="28087" y="73235"/>
                </a:lnTo>
                <a:lnTo>
                  <a:pt x="30155" y="76092"/>
                </a:lnTo>
                <a:lnTo>
                  <a:pt x="31533" y="78949"/>
                </a:lnTo>
                <a:lnTo>
                  <a:pt x="32452" y="81807"/>
                </a:lnTo>
                <a:lnTo>
                  <a:pt x="33064" y="84664"/>
                </a:lnTo>
                <a:lnTo>
                  <a:pt x="33473" y="87521"/>
                </a:lnTo>
                <a:lnTo>
                  <a:pt x="33745" y="90379"/>
                </a:lnTo>
                <a:lnTo>
                  <a:pt x="33927" y="93236"/>
                </a:lnTo>
                <a:lnTo>
                  <a:pt x="35001" y="96094"/>
                </a:lnTo>
                <a:lnTo>
                  <a:pt x="36669" y="98951"/>
                </a:lnTo>
                <a:lnTo>
                  <a:pt x="38733" y="101809"/>
                </a:lnTo>
                <a:lnTo>
                  <a:pt x="40110" y="104666"/>
                </a:lnTo>
                <a:lnTo>
                  <a:pt x="41028" y="107524"/>
                </a:lnTo>
                <a:lnTo>
                  <a:pt x="42500" y="114403"/>
                </a:lnTo>
                <a:lnTo>
                  <a:pt x="45241" y="117883"/>
                </a:lnTo>
                <a:lnTo>
                  <a:pt x="51414" y="124645"/>
                </a:lnTo>
                <a:lnTo>
                  <a:pt x="51425" y="124658"/>
                </a:lnTo>
                <a:lnTo>
                  <a:pt x="51432" y="120115"/>
                </a:lnTo>
                <a:lnTo>
                  <a:pt x="50480" y="117823"/>
                </a:lnTo>
                <a:lnTo>
                  <a:pt x="48894" y="115342"/>
                </a:lnTo>
                <a:lnTo>
                  <a:pt x="46884" y="112736"/>
                </a:lnTo>
                <a:lnTo>
                  <a:pt x="45543" y="110046"/>
                </a:lnTo>
                <a:lnTo>
                  <a:pt x="44650" y="107300"/>
                </a:lnTo>
                <a:lnTo>
                  <a:pt x="44054" y="104517"/>
                </a:lnTo>
                <a:lnTo>
                  <a:pt x="43657" y="101709"/>
                </a:lnTo>
                <a:lnTo>
                  <a:pt x="43392" y="98885"/>
                </a:lnTo>
                <a:lnTo>
                  <a:pt x="43215" y="96050"/>
                </a:lnTo>
                <a:lnTo>
                  <a:pt x="42145" y="93207"/>
                </a:lnTo>
                <a:lnTo>
                  <a:pt x="40480" y="90359"/>
                </a:lnTo>
                <a:lnTo>
                  <a:pt x="38416" y="87508"/>
                </a:lnTo>
                <a:lnTo>
                  <a:pt x="37041" y="84655"/>
                </a:lnTo>
                <a:lnTo>
                  <a:pt x="36124" y="81800"/>
                </a:lnTo>
                <a:lnTo>
                  <a:pt x="35512" y="78945"/>
                </a:lnTo>
                <a:lnTo>
                  <a:pt x="35105" y="75136"/>
                </a:lnTo>
                <a:lnTo>
                  <a:pt x="34833" y="70692"/>
                </a:lnTo>
                <a:lnTo>
                  <a:pt x="34532" y="61626"/>
                </a:lnTo>
                <a:lnTo>
                  <a:pt x="34337" y="48045"/>
                </a:lnTo>
                <a:lnTo>
                  <a:pt x="34292" y="22994"/>
                </a:lnTo>
                <a:lnTo>
                  <a:pt x="35244" y="19738"/>
                </a:lnTo>
                <a:lnTo>
                  <a:pt x="36831" y="17567"/>
                </a:lnTo>
                <a:lnTo>
                  <a:pt x="41135" y="14203"/>
                </a:lnTo>
                <a:lnTo>
                  <a:pt x="43616" y="11972"/>
                </a:lnTo>
                <a:lnTo>
                  <a:pt x="46222" y="9533"/>
                </a:lnTo>
                <a:lnTo>
                  <a:pt x="48912" y="7906"/>
                </a:lnTo>
                <a:lnTo>
                  <a:pt x="54441" y="6099"/>
                </a:lnTo>
                <a:lnTo>
                  <a:pt x="60074" y="2756"/>
                </a:lnTo>
                <a:lnTo>
                  <a:pt x="62909" y="531"/>
                </a:lnTo>
                <a:lnTo>
                  <a:pt x="64799" y="0"/>
                </a:lnTo>
                <a:lnTo>
                  <a:pt x="66059" y="599"/>
                </a:lnTo>
                <a:lnTo>
                  <a:pt x="66900" y="1951"/>
                </a:lnTo>
                <a:lnTo>
                  <a:pt x="68413" y="2852"/>
                </a:lnTo>
                <a:lnTo>
                  <a:pt x="72633" y="3853"/>
                </a:lnTo>
                <a:lnTo>
                  <a:pt x="80365" y="4416"/>
                </a:lnTo>
                <a:lnTo>
                  <a:pt x="83103" y="5448"/>
                </a:lnTo>
                <a:lnTo>
                  <a:pt x="88687" y="9134"/>
                </a:lnTo>
                <a:lnTo>
                  <a:pt x="91511" y="11450"/>
                </a:lnTo>
                <a:lnTo>
                  <a:pt x="94344" y="13947"/>
                </a:lnTo>
                <a:lnTo>
                  <a:pt x="100033" y="19262"/>
                </a:lnTo>
                <a:lnTo>
                  <a:pt x="105737" y="24798"/>
                </a:lnTo>
                <a:lnTo>
                  <a:pt x="107639" y="27608"/>
                </a:lnTo>
                <a:lnTo>
                  <a:pt x="108907" y="30434"/>
                </a:lnTo>
                <a:lnTo>
                  <a:pt x="109752" y="33271"/>
                </a:lnTo>
                <a:lnTo>
                  <a:pt x="111268" y="36114"/>
                </a:lnTo>
                <a:lnTo>
                  <a:pt x="113232" y="38962"/>
                </a:lnTo>
                <a:lnTo>
                  <a:pt x="115493" y="41814"/>
                </a:lnTo>
                <a:lnTo>
                  <a:pt x="117000" y="44667"/>
                </a:lnTo>
                <a:lnTo>
                  <a:pt x="118005" y="47521"/>
                </a:lnTo>
                <a:lnTo>
                  <a:pt x="118675" y="50377"/>
                </a:lnTo>
                <a:lnTo>
                  <a:pt x="120074" y="54186"/>
                </a:lnTo>
                <a:lnTo>
                  <a:pt x="121959" y="58630"/>
                </a:lnTo>
                <a:lnTo>
                  <a:pt x="127278" y="70349"/>
                </a:lnTo>
                <a:lnTo>
                  <a:pt x="128667" y="72263"/>
                </a:lnTo>
                <a:lnTo>
                  <a:pt x="130546" y="74492"/>
                </a:lnTo>
                <a:lnTo>
                  <a:pt x="135854" y="80361"/>
                </a:lnTo>
                <a:lnTo>
                  <a:pt x="136579" y="83704"/>
                </a:lnTo>
                <a:lnTo>
                  <a:pt x="137153" y="90301"/>
                </a:lnTo>
                <a:lnTo>
                  <a:pt x="137157" y="90344"/>
                </a:lnTo>
                <a:lnTo>
                  <a:pt x="137160" y="82994"/>
                </a:lnTo>
                <a:lnTo>
                  <a:pt x="134620" y="79794"/>
                </a:lnTo>
                <a:lnTo>
                  <a:pt x="132609" y="77607"/>
                </a:lnTo>
                <a:lnTo>
                  <a:pt x="131269" y="75197"/>
                </a:lnTo>
                <a:lnTo>
                  <a:pt x="130375" y="72638"/>
                </a:lnTo>
                <a:lnTo>
                  <a:pt x="129779" y="69979"/>
                </a:lnTo>
                <a:lnTo>
                  <a:pt x="128429" y="67254"/>
                </a:lnTo>
                <a:lnTo>
                  <a:pt x="126577" y="64484"/>
                </a:lnTo>
                <a:lnTo>
                  <a:pt x="124390" y="61686"/>
                </a:lnTo>
                <a:lnTo>
                  <a:pt x="122931" y="58868"/>
                </a:lnTo>
                <a:lnTo>
                  <a:pt x="121959" y="56036"/>
                </a:lnTo>
                <a:lnTo>
                  <a:pt x="121312" y="53196"/>
                </a:lnTo>
                <a:lnTo>
                  <a:pt x="121832" y="49398"/>
                </a:lnTo>
                <a:lnTo>
                  <a:pt x="123131" y="44961"/>
                </a:lnTo>
                <a:lnTo>
                  <a:pt x="124950" y="40097"/>
                </a:lnTo>
                <a:lnTo>
                  <a:pt x="126163" y="35903"/>
                </a:lnTo>
                <a:lnTo>
                  <a:pt x="126970" y="32154"/>
                </a:lnTo>
                <a:lnTo>
                  <a:pt x="127510" y="28702"/>
                </a:lnTo>
                <a:lnTo>
                  <a:pt x="128821" y="25449"/>
                </a:lnTo>
                <a:lnTo>
                  <a:pt x="130648" y="22327"/>
                </a:lnTo>
                <a:lnTo>
                  <a:pt x="132820" y="19293"/>
                </a:lnTo>
                <a:lnTo>
                  <a:pt x="135219" y="16318"/>
                </a:lnTo>
                <a:lnTo>
                  <a:pt x="137771" y="13383"/>
                </a:lnTo>
                <a:lnTo>
                  <a:pt x="144160" y="6378"/>
                </a:lnTo>
                <a:lnTo>
                  <a:pt x="145637" y="5803"/>
                </a:lnTo>
                <a:lnTo>
                  <a:pt x="152266" y="4994"/>
                </a:lnTo>
                <a:lnTo>
                  <a:pt x="159310" y="4755"/>
                </a:lnTo>
                <a:lnTo>
                  <a:pt x="166959" y="4667"/>
                </a:lnTo>
                <a:lnTo>
                  <a:pt x="169408" y="5615"/>
                </a:lnTo>
                <a:lnTo>
                  <a:pt x="174670" y="9208"/>
                </a:lnTo>
                <a:lnTo>
                  <a:pt x="177407" y="11500"/>
                </a:lnTo>
                <a:lnTo>
                  <a:pt x="180183" y="13980"/>
                </a:lnTo>
                <a:lnTo>
                  <a:pt x="182987" y="16587"/>
                </a:lnTo>
                <a:lnTo>
                  <a:pt x="185809" y="18324"/>
                </a:lnTo>
                <a:lnTo>
                  <a:pt x="191484" y="20254"/>
                </a:lnTo>
                <a:lnTo>
                  <a:pt x="197182" y="23652"/>
                </a:lnTo>
                <a:lnTo>
                  <a:pt x="200035" y="25892"/>
                </a:lnTo>
                <a:lnTo>
                  <a:pt x="201936" y="28337"/>
                </a:lnTo>
                <a:lnTo>
                  <a:pt x="203204" y="30920"/>
                </a:lnTo>
                <a:lnTo>
                  <a:pt x="204049" y="33595"/>
                </a:lnTo>
                <a:lnTo>
                  <a:pt x="204613" y="37283"/>
                </a:lnTo>
                <a:lnTo>
                  <a:pt x="204989" y="41646"/>
                </a:lnTo>
                <a:lnTo>
                  <a:pt x="205239" y="46460"/>
                </a:lnTo>
                <a:lnTo>
                  <a:pt x="206359" y="50622"/>
                </a:lnTo>
                <a:lnTo>
                  <a:pt x="208058" y="54349"/>
                </a:lnTo>
                <a:lnTo>
                  <a:pt x="210142" y="57787"/>
                </a:lnTo>
                <a:lnTo>
                  <a:pt x="212485" y="61031"/>
                </a:lnTo>
                <a:lnTo>
                  <a:pt x="214999" y="64146"/>
                </a:lnTo>
                <a:lnTo>
                  <a:pt x="221327" y="71438"/>
                </a:lnTo>
                <a:lnTo>
                  <a:pt x="224733" y="74976"/>
                </a:lnTo>
                <a:lnTo>
                  <a:pt x="238445" y="88787"/>
                </a:lnTo>
                <a:lnTo>
                  <a:pt x="238974" y="90270"/>
                </a:lnTo>
                <a:lnTo>
                  <a:pt x="239326" y="92211"/>
                </a:lnTo>
                <a:lnTo>
                  <a:pt x="239560" y="94458"/>
                </a:lnTo>
                <a:lnTo>
                  <a:pt x="240670" y="95956"/>
                </a:lnTo>
                <a:lnTo>
                  <a:pt x="242362" y="96954"/>
                </a:lnTo>
                <a:lnTo>
                  <a:pt x="244442" y="97620"/>
                </a:lnTo>
                <a:lnTo>
                  <a:pt x="245829" y="99016"/>
                </a:lnTo>
                <a:lnTo>
                  <a:pt x="246754" y="100900"/>
                </a:lnTo>
                <a:lnTo>
                  <a:pt x="248603" y="1075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MARTPenAnnotation823"/>
          <p:cNvSpPr/>
          <p:nvPr/>
        </p:nvSpPr>
        <p:spPr>
          <a:xfrm>
            <a:off x="7211880" y="2692440"/>
            <a:ext cx="231840" cy="144360"/>
          </a:xfrm>
          <a:custGeom>
            <a:avLst/>
            <a:gdLst>
              <a:gd name="textAreaLeft" fmla="*/ 0 w 231840"/>
              <a:gd name="textAreaRight" fmla="*/ 232200 w 2318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31458" h="145645">
                <a:moveTo>
                  <a:pt x="0" y="17101"/>
                </a:moveTo>
                <a:lnTo>
                  <a:pt x="0" y="37252"/>
                </a:lnTo>
                <a:lnTo>
                  <a:pt x="952" y="40060"/>
                </a:lnTo>
                <a:lnTo>
                  <a:pt x="2540" y="42884"/>
                </a:lnTo>
                <a:lnTo>
                  <a:pt x="4551" y="45720"/>
                </a:lnTo>
                <a:lnTo>
                  <a:pt x="5891" y="48563"/>
                </a:lnTo>
                <a:lnTo>
                  <a:pt x="6785" y="51410"/>
                </a:lnTo>
                <a:lnTo>
                  <a:pt x="7381" y="54261"/>
                </a:lnTo>
                <a:lnTo>
                  <a:pt x="7778" y="58067"/>
                </a:lnTo>
                <a:lnTo>
                  <a:pt x="8043" y="62509"/>
                </a:lnTo>
                <a:lnTo>
                  <a:pt x="8219" y="67375"/>
                </a:lnTo>
                <a:lnTo>
                  <a:pt x="9289" y="71572"/>
                </a:lnTo>
                <a:lnTo>
                  <a:pt x="10955" y="75323"/>
                </a:lnTo>
                <a:lnTo>
                  <a:pt x="13018" y="78775"/>
                </a:lnTo>
                <a:lnTo>
                  <a:pt x="14394" y="82982"/>
                </a:lnTo>
                <a:lnTo>
                  <a:pt x="15311" y="87692"/>
                </a:lnTo>
                <a:lnTo>
                  <a:pt x="15922" y="92736"/>
                </a:lnTo>
                <a:lnTo>
                  <a:pt x="16330" y="97052"/>
                </a:lnTo>
                <a:lnTo>
                  <a:pt x="16601" y="100881"/>
                </a:lnTo>
                <a:lnTo>
                  <a:pt x="16783" y="104387"/>
                </a:lnTo>
                <a:lnTo>
                  <a:pt x="17855" y="107676"/>
                </a:lnTo>
                <a:lnTo>
                  <a:pt x="19523" y="110822"/>
                </a:lnTo>
                <a:lnTo>
                  <a:pt x="21588" y="113872"/>
                </a:lnTo>
                <a:lnTo>
                  <a:pt x="22964" y="116857"/>
                </a:lnTo>
                <a:lnTo>
                  <a:pt x="23882" y="119800"/>
                </a:lnTo>
                <a:lnTo>
                  <a:pt x="24494" y="122714"/>
                </a:lnTo>
                <a:lnTo>
                  <a:pt x="24901" y="125610"/>
                </a:lnTo>
                <a:lnTo>
                  <a:pt x="25173" y="128493"/>
                </a:lnTo>
                <a:lnTo>
                  <a:pt x="25354" y="131367"/>
                </a:lnTo>
                <a:lnTo>
                  <a:pt x="26428" y="134236"/>
                </a:lnTo>
                <a:lnTo>
                  <a:pt x="28096" y="137101"/>
                </a:lnTo>
                <a:lnTo>
                  <a:pt x="34258" y="145644"/>
                </a:lnTo>
                <a:lnTo>
                  <a:pt x="34287" y="133753"/>
                </a:lnTo>
                <a:lnTo>
                  <a:pt x="33336" y="131063"/>
                </a:lnTo>
                <a:lnTo>
                  <a:pt x="31749" y="128318"/>
                </a:lnTo>
                <a:lnTo>
                  <a:pt x="29738" y="125536"/>
                </a:lnTo>
                <a:lnTo>
                  <a:pt x="28397" y="122728"/>
                </a:lnTo>
                <a:lnTo>
                  <a:pt x="27504" y="119904"/>
                </a:lnTo>
                <a:lnTo>
                  <a:pt x="26908" y="117069"/>
                </a:lnTo>
                <a:lnTo>
                  <a:pt x="26511" y="113274"/>
                </a:lnTo>
                <a:lnTo>
                  <a:pt x="26246" y="108838"/>
                </a:lnTo>
                <a:lnTo>
                  <a:pt x="26070" y="103977"/>
                </a:lnTo>
                <a:lnTo>
                  <a:pt x="26904" y="99783"/>
                </a:lnTo>
                <a:lnTo>
                  <a:pt x="28414" y="96035"/>
                </a:lnTo>
                <a:lnTo>
                  <a:pt x="30372" y="92583"/>
                </a:lnTo>
                <a:lnTo>
                  <a:pt x="31678" y="88377"/>
                </a:lnTo>
                <a:lnTo>
                  <a:pt x="32549" y="83669"/>
                </a:lnTo>
                <a:lnTo>
                  <a:pt x="33129" y="78624"/>
                </a:lnTo>
                <a:lnTo>
                  <a:pt x="34468" y="73356"/>
                </a:lnTo>
                <a:lnTo>
                  <a:pt x="36314" y="67939"/>
                </a:lnTo>
                <a:lnTo>
                  <a:pt x="38496" y="62423"/>
                </a:lnTo>
                <a:lnTo>
                  <a:pt x="39952" y="56840"/>
                </a:lnTo>
                <a:lnTo>
                  <a:pt x="40922" y="51214"/>
                </a:lnTo>
                <a:lnTo>
                  <a:pt x="41569" y="45558"/>
                </a:lnTo>
                <a:lnTo>
                  <a:pt x="43905" y="40835"/>
                </a:lnTo>
                <a:lnTo>
                  <a:pt x="47367" y="36733"/>
                </a:lnTo>
                <a:lnTo>
                  <a:pt x="51580" y="33047"/>
                </a:lnTo>
                <a:lnTo>
                  <a:pt x="54390" y="29636"/>
                </a:lnTo>
                <a:lnTo>
                  <a:pt x="56261" y="26410"/>
                </a:lnTo>
                <a:lnTo>
                  <a:pt x="57511" y="23307"/>
                </a:lnTo>
                <a:lnTo>
                  <a:pt x="59295" y="20286"/>
                </a:lnTo>
                <a:lnTo>
                  <a:pt x="61437" y="17319"/>
                </a:lnTo>
                <a:lnTo>
                  <a:pt x="63818" y="14389"/>
                </a:lnTo>
                <a:lnTo>
                  <a:pt x="67310" y="11483"/>
                </a:lnTo>
                <a:lnTo>
                  <a:pt x="71544" y="8593"/>
                </a:lnTo>
                <a:lnTo>
                  <a:pt x="76270" y="5714"/>
                </a:lnTo>
                <a:lnTo>
                  <a:pt x="80374" y="3794"/>
                </a:lnTo>
                <a:lnTo>
                  <a:pt x="87474" y="1662"/>
                </a:lnTo>
                <a:lnTo>
                  <a:pt x="93805" y="714"/>
                </a:lnTo>
                <a:lnTo>
                  <a:pt x="101079" y="105"/>
                </a:lnTo>
                <a:lnTo>
                  <a:pt x="107155" y="22"/>
                </a:lnTo>
                <a:lnTo>
                  <a:pt x="111441" y="0"/>
                </a:lnTo>
                <a:lnTo>
                  <a:pt x="114299" y="938"/>
                </a:lnTo>
                <a:lnTo>
                  <a:pt x="116204" y="2515"/>
                </a:lnTo>
                <a:lnTo>
                  <a:pt x="119273" y="6808"/>
                </a:lnTo>
                <a:lnTo>
                  <a:pt x="121426" y="9286"/>
                </a:lnTo>
                <a:lnTo>
                  <a:pt x="123812" y="11891"/>
                </a:lnTo>
                <a:lnTo>
                  <a:pt x="125405" y="15533"/>
                </a:lnTo>
                <a:lnTo>
                  <a:pt x="126466" y="19865"/>
                </a:lnTo>
                <a:lnTo>
                  <a:pt x="127173" y="24659"/>
                </a:lnTo>
                <a:lnTo>
                  <a:pt x="128597" y="28807"/>
                </a:lnTo>
                <a:lnTo>
                  <a:pt x="130498" y="32525"/>
                </a:lnTo>
                <a:lnTo>
                  <a:pt x="132719" y="35956"/>
                </a:lnTo>
                <a:lnTo>
                  <a:pt x="134199" y="40148"/>
                </a:lnTo>
                <a:lnTo>
                  <a:pt x="135186" y="44848"/>
                </a:lnTo>
                <a:lnTo>
                  <a:pt x="135843" y="49887"/>
                </a:lnTo>
                <a:lnTo>
                  <a:pt x="136282" y="54198"/>
                </a:lnTo>
                <a:lnTo>
                  <a:pt x="136574" y="58025"/>
                </a:lnTo>
                <a:lnTo>
                  <a:pt x="136770" y="61528"/>
                </a:lnTo>
                <a:lnTo>
                  <a:pt x="136986" y="70501"/>
                </a:lnTo>
                <a:lnTo>
                  <a:pt x="137126" y="87233"/>
                </a:lnTo>
                <a:lnTo>
                  <a:pt x="138089" y="90526"/>
                </a:lnTo>
                <a:lnTo>
                  <a:pt x="139684" y="93673"/>
                </a:lnTo>
                <a:lnTo>
                  <a:pt x="144537" y="101018"/>
                </a:lnTo>
                <a:lnTo>
                  <a:pt x="145202" y="104562"/>
                </a:lnTo>
                <a:lnTo>
                  <a:pt x="145378" y="106841"/>
                </a:lnTo>
                <a:lnTo>
                  <a:pt x="146448" y="108360"/>
                </a:lnTo>
                <a:lnTo>
                  <a:pt x="148115" y="109373"/>
                </a:lnTo>
                <a:lnTo>
                  <a:pt x="152506" y="110498"/>
                </a:lnTo>
                <a:lnTo>
                  <a:pt x="157633" y="110998"/>
                </a:lnTo>
                <a:lnTo>
                  <a:pt x="159381" y="110179"/>
                </a:lnTo>
                <a:lnTo>
                  <a:pt x="160547" y="108680"/>
                </a:lnTo>
                <a:lnTo>
                  <a:pt x="161323" y="106729"/>
                </a:lnTo>
                <a:lnTo>
                  <a:pt x="162794" y="104475"/>
                </a:lnTo>
                <a:lnTo>
                  <a:pt x="164727" y="102020"/>
                </a:lnTo>
                <a:lnTo>
                  <a:pt x="166968" y="99431"/>
                </a:lnTo>
                <a:lnTo>
                  <a:pt x="169414" y="96753"/>
                </a:lnTo>
                <a:lnTo>
                  <a:pt x="174673" y="91236"/>
                </a:lnTo>
                <a:lnTo>
                  <a:pt x="191484" y="74237"/>
                </a:lnTo>
                <a:lnTo>
                  <a:pt x="195283" y="71384"/>
                </a:lnTo>
                <a:lnTo>
                  <a:pt x="199722" y="68529"/>
                </a:lnTo>
                <a:lnTo>
                  <a:pt x="204585" y="65674"/>
                </a:lnTo>
                <a:lnTo>
                  <a:pt x="208780" y="62818"/>
                </a:lnTo>
                <a:lnTo>
                  <a:pt x="212529" y="59961"/>
                </a:lnTo>
                <a:lnTo>
                  <a:pt x="215980" y="57104"/>
                </a:lnTo>
                <a:lnTo>
                  <a:pt x="219234" y="54247"/>
                </a:lnTo>
                <a:lnTo>
                  <a:pt x="222356" y="51390"/>
                </a:lnTo>
                <a:lnTo>
                  <a:pt x="231457" y="428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MARTPenAnnotation824"/>
          <p:cNvSpPr/>
          <p:nvPr/>
        </p:nvSpPr>
        <p:spPr>
          <a:xfrm>
            <a:off x="7761240" y="2521080"/>
            <a:ext cx="300240" cy="218880"/>
          </a:xfrm>
          <a:custGeom>
            <a:avLst/>
            <a:gdLst>
              <a:gd name="textAreaLeft" fmla="*/ 0 w 300240"/>
              <a:gd name="textAreaRight" fmla="*/ 300600 w 30024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299577" h="219108">
                <a:moveTo>
                  <a:pt x="8468" y="34246"/>
                </a:moveTo>
                <a:lnTo>
                  <a:pt x="0" y="34246"/>
                </a:lnTo>
                <a:lnTo>
                  <a:pt x="4477" y="34246"/>
                </a:lnTo>
                <a:lnTo>
                  <a:pt x="5808" y="35198"/>
                </a:lnTo>
                <a:lnTo>
                  <a:pt x="6695" y="36786"/>
                </a:lnTo>
                <a:lnTo>
                  <a:pt x="8117" y="41626"/>
                </a:lnTo>
                <a:lnTo>
                  <a:pt x="12915" y="47016"/>
                </a:lnTo>
                <a:lnTo>
                  <a:pt x="14290" y="49427"/>
                </a:lnTo>
                <a:lnTo>
                  <a:pt x="15818" y="54645"/>
                </a:lnTo>
                <a:lnTo>
                  <a:pt x="19037" y="60140"/>
                </a:lnTo>
                <a:lnTo>
                  <a:pt x="23643" y="66709"/>
                </a:lnTo>
                <a:lnTo>
                  <a:pt x="26204" y="71128"/>
                </a:lnTo>
                <a:lnTo>
                  <a:pt x="28865" y="75979"/>
                </a:lnTo>
                <a:lnTo>
                  <a:pt x="30638" y="80165"/>
                </a:lnTo>
                <a:lnTo>
                  <a:pt x="31821" y="83909"/>
                </a:lnTo>
                <a:lnTo>
                  <a:pt x="32609" y="87357"/>
                </a:lnTo>
                <a:lnTo>
                  <a:pt x="34087" y="91561"/>
                </a:lnTo>
                <a:lnTo>
                  <a:pt x="36026" y="96268"/>
                </a:lnTo>
                <a:lnTo>
                  <a:pt x="38270" y="101311"/>
                </a:lnTo>
                <a:lnTo>
                  <a:pt x="39766" y="105626"/>
                </a:lnTo>
                <a:lnTo>
                  <a:pt x="40763" y="109455"/>
                </a:lnTo>
                <a:lnTo>
                  <a:pt x="41428" y="112960"/>
                </a:lnTo>
                <a:lnTo>
                  <a:pt x="44707" y="119395"/>
                </a:lnTo>
                <a:lnTo>
                  <a:pt x="46915" y="122444"/>
                </a:lnTo>
                <a:lnTo>
                  <a:pt x="49368" y="128372"/>
                </a:lnTo>
                <a:lnTo>
                  <a:pt x="50458" y="135135"/>
                </a:lnTo>
                <a:lnTo>
                  <a:pt x="50749" y="139605"/>
                </a:lnTo>
                <a:lnTo>
                  <a:pt x="51072" y="148699"/>
                </a:lnTo>
                <a:lnTo>
                  <a:pt x="51216" y="155916"/>
                </a:lnTo>
                <a:lnTo>
                  <a:pt x="52207" y="159175"/>
                </a:lnTo>
                <a:lnTo>
                  <a:pt x="55848" y="165335"/>
                </a:lnTo>
                <a:lnTo>
                  <a:pt x="58100" y="171247"/>
                </a:lnTo>
                <a:lnTo>
                  <a:pt x="59102" y="177050"/>
                </a:lnTo>
                <a:lnTo>
                  <a:pt x="59547" y="182805"/>
                </a:lnTo>
                <a:lnTo>
                  <a:pt x="59833" y="188368"/>
                </a:lnTo>
                <a:lnTo>
                  <a:pt x="59902" y="197005"/>
                </a:lnTo>
                <a:lnTo>
                  <a:pt x="59903" y="192538"/>
                </a:lnTo>
                <a:lnTo>
                  <a:pt x="58951" y="191209"/>
                </a:lnTo>
                <a:lnTo>
                  <a:pt x="57363" y="190323"/>
                </a:lnTo>
                <a:lnTo>
                  <a:pt x="55352" y="189732"/>
                </a:lnTo>
                <a:lnTo>
                  <a:pt x="54011" y="187433"/>
                </a:lnTo>
                <a:lnTo>
                  <a:pt x="53118" y="183996"/>
                </a:lnTo>
                <a:lnTo>
                  <a:pt x="52522" y="179799"/>
                </a:lnTo>
                <a:lnTo>
                  <a:pt x="52125" y="176049"/>
                </a:lnTo>
                <a:lnTo>
                  <a:pt x="51684" y="169342"/>
                </a:lnTo>
                <a:lnTo>
                  <a:pt x="51487" y="160646"/>
                </a:lnTo>
                <a:lnTo>
                  <a:pt x="51435" y="155660"/>
                </a:lnTo>
                <a:lnTo>
                  <a:pt x="50448" y="149479"/>
                </a:lnTo>
                <a:lnTo>
                  <a:pt x="48837" y="142500"/>
                </a:lnTo>
                <a:lnTo>
                  <a:pt x="46810" y="134990"/>
                </a:lnTo>
                <a:lnTo>
                  <a:pt x="45460" y="128079"/>
                </a:lnTo>
                <a:lnTo>
                  <a:pt x="44559" y="121566"/>
                </a:lnTo>
                <a:lnTo>
                  <a:pt x="43959" y="115319"/>
                </a:lnTo>
                <a:lnTo>
                  <a:pt x="43558" y="109250"/>
                </a:lnTo>
                <a:lnTo>
                  <a:pt x="43292" y="103298"/>
                </a:lnTo>
                <a:lnTo>
                  <a:pt x="42996" y="91606"/>
                </a:lnTo>
                <a:lnTo>
                  <a:pt x="42789" y="62848"/>
                </a:lnTo>
                <a:lnTo>
                  <a:pt x="43731" y="57124"/>
                </a:lnTo>
                <a:lnTo>
                  <a:pt x="45312" y="51403"/>
                </a:lnTo>
                <a:lnTo>
                  <a:pt x="47319" y="45684"/>
                </a:lnTo>
                <a:lnTo>
                  <a:pt x="49608" y="40918"/>
                </a:lnTo>
                <a:lnTo>
                  <a:pt x="52087" y="36789"/>
                </a:lnTo>
                <a:lnTo>
                  <a:pt x="54693" y="33084"/>
                </a:lnTo>
                <a:lnTo>
                  <a:pt x="60127" y="26427"/>
                </a:lnTo>
                <a:lnTo>
                  <a:pt x="62910" y="23318"/>
                </a:lnTo>
                <a:lnTo>
                  <a:pt x="64766" y="20293"/>
                </a:lnTo>
                <a:lnTo>
                  <a:pt x="66827" y="14392"/>
                </a:lnTo>
                <a:lnTo>
                  <a:pt x="69282" y="12437"/>
                </a:lnTo>
                <a:lnTo>
                  <a:pt x="72823" y="11134"/>
                </a:lnTo>
                <a:lnTo>
                  <a:pt x="80886" y="9686"/>
                </a:lnTo>
                <a:lnTo>
                  <a:pt x="87643" y="9043"/>
                </a:lnTo>
                <a:lnTo>
                  <a:pt x="96803" y="8681"/>
                </a:lnTo>
                <a:lnTo>
                  <a:pt x="99743" y="9582"/>
                </a:lnTo>
                <a:lnTo>
                  <a:pt x="105550" y="13124"/>
                </a:lnTo>
                <a:lnTo>
                  <a:pt x="111305" y="17873"/>
                </a:lnTo>
                <a:lnTo>
                  <a:pt x="117039" y="23159"/>
                </a:lnTo>
                <a:lnTo>
                  <a:pt x="122762" y="28683"/>
                </a:lnTo>
                <a:lnTo>
                  <a:pt x="125621" y="32442"/>
                </a:lnTo>
                <a:lnTo>
                  <a:pt x="128480" y="36854"/>
                </a:lnTo>
                <a:lnTo>
                  <a:pt x="131339" y="41699"/>
                </a:lnTo>
                <a:lnTo>
                  <a:pt x="134196" y="46835"/>
                </a:lnTo>
                <a:lnTo>
                  <a:pt x="139912" y="57621"/>
                </a:lnTo>
                <a:lnTo>
                  <a:pt x="148486" y="74403"/>
                </a:lnTo>
                <a:lnTo>
                  <a:pt x="150391" y="80067"/>
                </a:lnTo>
                <a:lnTo>
                  <a:pt x="151661" y="85748"/>
                </a:lnTo>
                <a:lnTo>
                  <a:pt x="152508" y="91441"/>
                </a:lnTo>
                <a:lnTo>
                  <a:pt x="154024" y="97141"/>
                </a:lnTo>
                <a:lnTo>
                  <a:pt x="155988" y="102846"/>
                </a:lnTo>
                <a:lnTo>
                  <a:pt x="158251" y="108554"/>
                </a:lnTo>
                <a:lnTo>
                  <a:pt x="160710" y="114265"/>
                </a:lnTo>
                <a:lnTo>
                  <a:pt x="165984" y="125690"/>
                </a:lnTo>
                <a:lnTo>
                  <a:pt x="167771" y="131403"/>
                </a:lnTo>
                <a:lnTo>
                  <a:pt x="168962" y="137117"/>
                </a:lnTo>
                <a:lnTo>
                  <a:pt x="169757" y="142832"/>
                </a:lnTo>
                <a:lnTo>
                  <a:pt x="170286" y="147594"/>
                </a:lnTo>
                <a:lnTo>
                  <a:pt x="170639" y="151721"/>
                </a:lnTo>
                <a:lnTo>
                  <a:pt x="170875" y="155425"/>
                </a:lnTo>
                <a:lnTo>
                  <a:pt x="171984" y="158847"/>
                </a:lnTo>
                <a:lnTo>
                  <a:pt x="175757" y="165189"/>
                </a:lnTo>
                <a:lnTo>
                  <a:pt x="178069" y="171183"/>
                </a:lnTo>
                <a:lnTo>
                  <a:pt x="179097" y="177022"/>
                </a:lnTo>
                <a:lnTo>
                  <a:pt x="179552" y="182791"/>
                </a:lnTo>
                <a:lnTo>
                  <a:pt x="179887" y="188045"/>
                </a:lnTo>
                <a:lnTo>
                  <a:pt x="179908" y="183850"/>
                </a:lnTo>
                <a:lnTo>
                  <a:pt x="178959" y="182559"/>
                </a:lnTo>
                <a:lnTo>
                  <a:pt x="177374" y="181699"/>
                </a:lnTo>
                <a:lnTo>
                  <a:pt x="175365" y="181125"/>
                </a:lnTo>
                <a:lnTo>
                  <a:pt x="174024" y="179790"/>
                </a:lnTo>
                <a:lnTo>
                  <a:pt x="173132" y="177948"/>
                </a:lnTo>
                <a:lnTo>
                  <a:pt x="172537" y="175767"/>
                </a:lnTo>
                <a:lnTo>
                  <a:pt x="169335" y="170804"/>
                </a:lnTo>
                <a:lnTo>
                  <a:pt x="167147" y="168147"/>
                </a:lnTo>
                <a:lnTo>
                  <a:pt x="165690" y="164471"/>
                </a:lnTo>
                <a:lnTo>
                  <a:pt x="164718" y="160115"/>
                </a:lnTo>
                <a:lnTo>
                  <a:pt x="164070" y="155306"/>
                </a:lnTo>
                <a:lnTo>
                  <a:pt x="162685" y="151147"/>
                </a:lnTo>
                <a:lnTo>
                  <a:pt x="160809" y="147423"/>
                </a:lnTo>
                <a:lnTo>
                  <a:pt x="158606" y="143987"/>
                </a:lnTo>
                <a:lnTo>
                  <a:pt x="157138" y="139791"/>
                </a:lnTo>
                <a:lnTo>
                  <a:pt x="156159" y="135090"/>
                </a:lnTo>
                <a:lnTo>
                  <a:pt x="155505" y="130050"/>
                </a:lnTo>
                <a:lnTo>
                  <a:pt x="155071" y="124785"/>
                </a:lnTo>
                <a:lnTo>
                  <a:pt x="154781" y="119370"/>
                </a:lnTo>
                <a:lnTo>
                  <a:pt x="154588" y="113855"/>
                </a:lnTo>
                <a:lnTo>
                  <a:pt x="153506" y="108274"/>
                </a:lnTo>
                <a:lnTo>
                  <a:pt x="151832" y="102648"/>
                </a:lnTo>
                <a:lnTo>
                  <a:pt x="149764" y="96992"/>
                </a:lnTo>
                <a:lnTo>
                  <a:pt x="149338" y="91316"/>
                </a:lnTo>
                <a:lnTo>
                  <a:pt x="150006" y="85628"/>
                </a:lnTo>
                <a:lnTo>
                  <a:pt x="151405" y="79930"/>
                </a:lnTo>
                <a:lnTo>
                  <a:pt x="151384" y="74227"/>
                </a:lnTo>
                <a:lnTo>
                  <a:pt x="150418" y="68520"/>
                </a:lnTo>
                <a:lnTo>
                  <a:pt x="148821" y="62810"/>
                </a:lnTo>
                <a:lnTo>
                  <a:pt x="148709" y="57099"/>
                </a:lnTo>
                <a:lnTo>
                  <a:pt x="149588" y="51386"/>
                </a:lnTo>
                <a:lnTo>
                  <a:pt x="151125" y="45672"/>
                </a:lnTo>
                <a:lnTo>
                  <a:pt x="152150" y="40911"/>
                </a:lnTo>
                <a:lnTo>
                  <a:pt x="152834" y="36784"/>
                </a:lnTo>
                <a:lnTo>
                  <a:pt x="153289" y="33081"/>
                </a:lnTo>
                <a:lnTo>
                  <a:pt x="154546" y="29659"/>
                </a:lnTo>
                <a:lnTo>
                  <a:pt x="158482" y="23317"/>
                </a:lnTo>
                <a:lnTo>
                  <a:pt x="163406" y="17323"/>
                </a:lnTo>
                <a:lnTo>
                  <a:pt x="168769" y="11485"/>
                </a:lnTo>
                <a:lnTo>
                  <a:pt x="174328" y="5715"/>
                </a:lnTo>
                <a:lnTo>
                  <a:pt x="177144" y="3795"/>
                </a:lnTo>
                <a:lnTo>
                  <a:pt x="182813" y="1662"/>
                </a:lnTo>
                <a:lnTo>
                  <a:pt x="191359" y="461"/>
                </a:lnTo>
                <a:lnTo>
                  <a:pt x="199924" y="105"/>
                </a:lnTo>
                <a:lnTo>
                  <a:pt x="203943" y="0"/>
                </a:lnTo>
                <a:lnTo>
                  <a:pt x="209964" y="2515"/>
                </a:lnTo>
                <a:lnTo>
                  <a:pt x="218037" y="5856"/>
                </a:lnTo>
                <a:lnTo>
                  <a:pt x="224800" y="7340"/>
                </a:lnTo>
                <a:lnTo>
                  <a:pt x="230980" y="10540"/>
                </a:lnTo>
                <a:lnTo>
                  <a:pt x="236902" y="15137"/>
                </a:lnTo>
                <a:lnTo>
                  <a:pt x="242709" y="20356"/>
                </a:lnTo>
                <a:lnTo>
                  <a:pt x="245591" y="24033"/>
                </a:lnTo>
                <a:lnTo>
                  <a:pt x="248465" y="28390"/>
                </a:lnTo>
                <a:lnTo>
                  <a:pt x="251334" y="33199"/>
                </a:lnTo>
                <a:lnTo>
                  <a:pt x="255152" y="37358"/>
                </a:lnTo>
                <a:lnTo>
                  <a:pt x="259601" y="41083"/>
                </a:lnTo>
                <a:lnTo>
                  <a:pt x="264472" y="44519"/>
                </a:lnTo>
                <a:lnTo>
                  <a:pt x="268673" y="48715"/>
                </a:lnTo>
                <a:lnTo>
                  <a:pt x="272425" y="53417"/>
                </a:lnTo>
                <a:lnTo>
                  <a:pt x="275879" y="58456"/>
                </a:lnTo>
                <a:lnTo>
                  <a:pt x="279135" y="63721"/>
                </a:lnTo>
                <a:lnTo>
                  <a:pt x="282258" y="69136"/>
                </a:lnTo>
                <a:lnTo>
                  <a:pt x="285292" y="74651"/>
                </a:lnTo>
                <a:lnTo>
                  <a:pt x="287315" y="80232"/>
                </a:lnTo>
                <a:lnTo>
                  <a:pt x="288664" y="85858"/>
                </a:lnTo>
                <a:lnTo>
                  <a:pt x="289563" y="91514"/>
                </a:lnTo>
                <a:lnTo>
                  <a:pt x="290162" y="97190"/>
                </a:lnTo>
                <a:lnTo>
                  <a:pt x="290562" y="102878"/>
                </a:lnTo>
                <a:lnTo>
                  <a:pt x="291006" y="113327"/>
                </a:lnTo>
                <a:lnTo>
                  <a:pt x="291204" y="121145"/>
                </a:lnTo>
                <a:lnTo>
                  <a:pt x="292208" y="125516"/>
                </a:lnTo>
                <a:lnTo>
                  <a:pt x="293830" y="130335"/>
                </a:lnTo>
                <a:lnTo>
                  <a:pt x="295865" y="135453"/>
                </a:lnTo>
                <a:lnTo>
                  <a:pt x="297220" y="140770"/>
                </a:lnTo>
                <a:lnTo>
                  <a:pt x="298125" y="146219"/>
                </a:lnTo>
                <a:lnTo>
                  <a:pt x="298727" y="151757"/>
                </a:lnTo>
                <a:lnTo>
                  <a:pt x="299130" y="157354"/>
                </a:lnTo>
                <a:lnTo>
                  <a:pt x="299397" y="162990"/>
                </a:lnTo>
                <a:lnTo>
                  <a:pt x="299576" y="168653"/>
                </a:lnTo>
                <a:lnTo>
                  <a:pt x="298742" y="173381"/>
                </a:lnTo>
                <a:lnTo>
                  <a:pt x="297234" y="177485"/>
                </a:lnTo>
                <a:lnTo>
                  <a:pt x="295276" y="181173"/>
                </a:lnTo>
                <a:lnTo>
                  <a:pt x="293101" y="187812"/>
                </a:lnTo>
                <a:lnTo>
                  <a:pt x="292134" y="193937"/>
                </a:lnTo>
                <a:lnTo>
                  <a:pt x="291704" y="199835"/>
                </a:lnTo>
                <a:lnTo>
                  <a:pt x="291513" y="205631"/>
                </a:lnTo>
                <a:lnTo>
                  <a:pt x="291370" y="213763"/>
                </a:lnTo>
                <a:lnTo>
                  <a:pt x="291363" y="219107"/>
                </a:lnTo>
                <a:lnTo>
                  <a:pt x="291360" y="2056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MARTPenAnnotation825"/>
          <p:cNvSpPr/>
          <p:nvPr/>
        </p:nvSpPr>
        <p:spPr>
          <a:xfrm>
            <a:off x="8115480" y="2511360"/>
            <a:ext cx="210960" cy="214200"/>
          </a:xfrm>
          <a:custGeom>
            <a:avLst/>
            <a:gdLst>
              <a:gd name="textAreaLeft" fmla="*/ 0 w 210960"/>
              <a:gd name="textAreaRight" fmla="*/ 211320 w 21096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0681" h="213871">
                <a:moveTo>
                  <a:pt x="4940" y="42463"/>
                </a:moveTo>
                <a:lnTo>
                  <a:pt x="0" y="42463"/>
                </a:lnTo>
                <a:lnTo>
                  <a:pt x="2109" y="42463"/>
                </a:lnTo>
                <a:lnTo>
                  <a:pt x="3053" y="43415"/>
                </a:lnTo>
                <a:lnTo>
                  <a:pt x="3682" y="45003"/>
                </a:lnTo>
                <a:lnTo>
                  <a:pt x="4775" y="51193"/>
                </a:lnTo>
                <a:lnTo>
                  <a:pt x="4866" y="55233"/>
                </a:lnTo>
                <a:lnTo>
                  <a:pt x="5843" y="57644"/>
                </a:lnTo>
                <a:lnTo>
                  <a:pt x="9469" y="62862"/>
                </a:lnTo>
                <a:lnTo>
                  <a:pt x="10816" y="66540"/>
                </a:lnTo>
                <a:lnTo>
                  <a:pt x="11715" y="70897"/>
                </a:lnTo>
                <a:lnTo>
                  <a:pt x="12314" y="75706"/>
                </a:lnTo>
                <a:lnTo>
                  <a:pt x="13665" y="79865"/>
                </a:lnTo>
                <a:lnTo>
                  <a:pt x="15520" y="83590"/>
                </a:lnTo>
                <a:lnTo>
                  <a:pt x="17709" y="87026"/>
                </a:lnTo>
                <a:lnTo>
                  <a:pt x="19167" y="91221"/>
                </a:lnTo>
                <a:lnTo>
                  <a:pt x="20140" y="95924"/>
                </a:lnTo>
                <a:lnTo>
                  <a:pt x="20788" y="100963"/>
                </a:lnTo>
                <a:lnTo>
                  <a:pt x="22173" y="105276"/>
                </a:lnTo>
                <a:lnTo>
                  <a:pt x="24049" y="109103"/>
                </a:lnTo>
                <a:lnTo>
                  <a:pt x="26252" y="112607"/>
                </a:lnTo>
                <a:lnTo>
                  <a:pt x="28699" y="119040"/>
                </a:lnTo>
                <a:lnTo>
                  <a:pt x="29352" y="122089"/>
                </a:lnTo>
                <a:lnTo>
                  <a:pt x="29786" y="126027"/>
                </a:lnTo>
                <a:lnTo>
                  <a:pt x="30078" y="130557"/>
                </a:lnTo>
                <a:lnTo>
                  <a:pt x="30399" y="139718"/>
                </a:lnTo>
                <a:lnTo>
                  <a:pt x="30581" y="150231"/>
                </a:lnTo>
                <a:lnTo>
                  <a:pt x="30623" y="156399"/>
                </a:lnTo>
                <a:lnTo>
                  <a:pt x="31588" y="159378"/>
                </a:lnTo>
                <a:lnTo>
                  <a:pt x="35197" y="165227"/>
                </a:lnTo>
                <a:lnTo>
                  <a:pt x="37438" y="171002"/>
                </a:lnTo>
                <a:lnTo>
                  <a:pt x="38433" y="176744"/>
                </a:lnTo>
                <a:lnTo>
                  <a:pt x="38876" y="182471"/>
                </a:lnTo>
                <a:lnTo>
                  <a:pt x="39946" y="185331"/>
                </a:lnTo>
                <a:lnTo>
                  <a:pt x="43676" y="191050"/>
                </a:lnTo>
                <a:lnTo>
                  <a:pt x="46580" y="195073"/>
                </a:lnTo>
                <a:lnTo>
                  <a:pt x="47259" y="198555"/>
                </a:lnTo>
                <a:lnTo>
                  <a:pt x="47798" y="205288"/>
                </a:lnTo>
                <a:lnTo>
                  <a:pt x="47801" y="205330"/>
                </a:lnTo>
                <a:lnTo>
                  <a:pt x="47802" y="193407"/>
                </a:lnTo>
                <a:lnTo>
                  <a:pt x="46850" y="190718"/>
                </a:lnTo>
                <a:lnTo>
                  <a:pt x="43251" y="185189"/>
                </a:lnTo>
                <a:lnTo>
                  <a:pt x="41910" y="181428"/>
                </a:lnTo>
                <a:lnTo>
                  <a:pt x="41017" y="177016"/>
                </a:lnTo>
                <a:lnTo>
                  <a:pt x="40421" y="172170"/>
                </a:lnTo>
                <a:lnTo>
                  <a:pt x="40024" y="167034"/>
                </a:lnTo>
                <a:lnTo>
                  <a:pt x="39759" y="161706"/>
                </a:lnTo>
                <a:lnTo>
                  <a:pt x="39465" y="150704"/>
                </a:lnTo>
                <a:lnTo>
                  <a:pt x="39334" y="139465"/>
                </a:lnTo>
                <a:lnTo>
                  <a:pt x="40252" y="134753"/>
                </a:lnTo>
                <a:lnTo>
                  <a:pt x="41816" y="130660"/>
                </a:lnTo>
                <a:lnTo>
                  <a:pt x="43812" y="126978"/>
                </a:lnTo>
                <a:lnTo>
                  <a:pt x="45142" y="122619"/>
                </a:lnTo>
                <a:lnTo>
                  <a:pt x="46029" y="117808"/>
                </a:lnTo>
                <a:lnTo>
                  <a:pt x="46619" y="112695"/>
                </a:lnTo>
                <a:lnTo>
                  <a:pt x="47966" y="107382"/>
                </a:lnTo>
                <a:lnTo>
                  <a:pt x="49817" y="101935"/>
                </a:lnTo>
                <a:lnTo>
                  <a:pt x="52003" y="96398"/>
                </a:lnTo>
                <a:lnTo>
                  <a:pt x="53460" y="90802"/>
                </a:lnTo>
                <a:lnTo>
                  <a:pt x="54431" y="85167"/>
                </a:lnTo>
                <a:lnTo>
                  <a:pt x="55079" y="79504"/>
                </a:lnTo>
                <a:lnTo>
                  <a:pt x="55511" y="73825"/>
                </a:lnTo>
                <a:lnTo>
                  <a:pt x="55799" y="68133"/>
                </a:lnTo>
                <a:lnTo>
                  <a:pt x="55991" y="62434"/>
                </a:lnTo>
                <a:lnTo>
                  <a:pt x="57071" y="57682"/>
                </a:lnTo>
                <a:lnTo>
                  <a:pt x="58743" y="53561"/>
                </a:lnTo>
                <a:lnTo>
                  <a:pt x="60811" y="49862"/>
                </a:lnTo>
                <a:lnTo>
                  <a:pt x="65649" y="40671"/>
                </a:lnTo>
                <a:lnTo>
                  <a:pt x="68273" y="35553"/>
                </a:lnTo>
                <a:lnTo>
                  <a:pt x="70974" y="31189"/>
                </a:lnTo>
                <a:lnTo>
                  <a:pt x="73728" y="27327"/>
                </a:lnTo>
                <a:lnTo>
                  <a:pt x="76515" y="23799"/>
                </a:lnTo>
                <a:lnTo>
                  <a:pt x="82154" y="17341"/>
                </a:lnTo>
                <a:lnTo>
                  <a:pt x="84991" y="14284"/>
                </a:lnTo>
                <a:lnTo>
                  <a:pt x="87834" y="12247"/>
                </a:lnTo>
                <a:lnTo>
                  <a:pt x="93535" y="9983"/>
                </a:lnTo>
                <a:lnTo>
                  <a:pt x="99242" y="6437"/>
                </a:lnTo>
                <a:lnTo>
                  <a:pt x="102098" y="4158"/>
                </a:lnTo>
                <a:lnTo>
                  <a:pt x="104954" y="2639"/>
                </a:lnTo>
                <a:lnTo>
                  <a:pt x="110668" y="951"/>
                </a:lnTo>
                <a:lnTo>
                  <a:pt x="116383" y="200"/>
                </a:lnTo>
                <a:lnTo>
                  <a:pt x="119240" y="0"/>
                </a:lnTo>
                <a:lnTo>
                  <a:pt x="122098" y="819"/>
                </a:lnTo>
                <a:lnTo>
                  <a:pt x="127812" y="4269"/>
                </a:lnTo>
                <a:lnTo>
                  <a:pt x="131623" y="6523"/>
                </a:lnTo>
                <a:lnTo>
                  <a:pt x="136067" y="8978"/>
                </a:lnTo>
                <a:lnTo>
                  <a:pt x="140936" y="11567"/>
                </a:lnTo>
                <a:lnTo>
                  <a:pt x="145133" y="14246"/>
                </a:lnTo>
                <a:lnTo>
                  <a:pt x="148884" y="16984"/>
                </a:lnTo>
                <a:lnTo>
                  <a:pt x="152338" y="19762"/>
                </a:lnTo>
                <a:lnTo>
                  <a:pt x="158715" y="25388"/>
                </a:lnTo>
                <a:lnTo>
                  <a:pt x="161749" y="28222"/>
                </a:lnTo>
                <a:lnTo>
                  <a:pt x="163772" y="31064"/>
                </a:lnTo>
                <a:lnTo>
                  <a:pt x="166019" y="36761"/>
                </a:lnTo>
                <a:lnTo>
                  <a:pt x="167571" y="40567"/>
                </a:lnTo>
                <a:lnTo>
                  <a:pt x="169558" y="45009"/>
                </a:lnTo>
                <a:lnTo>
                  <a:pt x="174306" y="55024"/>
                </a:lnTo>
                <a:lnTo>
                  <a:pt x="179592" y="65826"/>
                </a:lnTo>
                <a:lnTo>
                  <a:pt x="181381" y="71373"/>
                </a:lnTo>
                <a:lnTo>
                  <a:pt x="182575" y="76976"/>
                </a:lnTo>
                <a:lnTo>
                  <a:pt x="183371" y="82617"/>
                </a:lnTo>
                <a:lnTo>
                  <a:pt x="184854" y="88282"/>
                </a:lnTo>
                <a:lnTo>
                  <a:pt x="186795" y="93964"/>
                </a:lnTo>
                <a:lnTo>
                  <a:pt x="189041" y="99657"/>
                </a:lnTo>
                <a:lnTo>
                  <a:pt x="190538" y="105357"/>
                </a:lnTo>
                <a:lnTo>
                  <a:pt x="191538" y="111062"/>
                </a:lnTo>
                <a:lnTo>
                  <a:pt x="192203" y="116771"/>
                </a:lnTo>
                <a:lnTo>
                  <a:pt x="192647" y="121529"/>
                </a:lnTo>
                <a:lnTo>
                  <a:pt x="192943" y="125654"/>
                </a:lnTo>
                <a:lnTo>
                  <a:pt x="193140" y="129356"/>
                </a:lnTo>
                <a:lnTo>
                  <a:pt x="194224" y="133729"/>
                </a:lnTo>
                <a:lnTo>
                  <a:pt x="195899" y="138549"/>
                </a:lnTo>
                <a:lnTo>
                  <a:pt x="197968" y="143668"/>
                </a:lnTo>
                <a:lnTo>
                  <a:pt x="199347" y="148985"/>
                </a:lnTo>
                <a:lnTo>
                  <a:pt x="200267" y="154435"/>
                </a:lnTo>
                <a:lnTo>
                  <a:pt x="200882" y="159974"/>
                </a:lnTo>
                <a:lnTo>
                  <a:pt x="201290" y="164618"/>
                </a:lnTo>
                <a:lnTo>
                  <a:pt x="201562" y="168667"/>
                </a:lnTo>
                <a:lnTo>
                  <a:pt x="201744" y="172319"/>
                </a:lnTo>
                <a:lnTo>
                  <a:pt x="201946" y="181456"/>
                </a:lnTo>
                <a:lnTo>
                  <a:pt x="202107" y="213432"/>
                </a:lnTo>
                <a:lnTo>
                  <a:pt x="207999" y="213818"/>
                </a:lnTo>
                <a:lnTo>
                  <a:pt x="209488" y="213870"/>
                </a:lnTo>
                <a:lnTo>
                  <a:pt x="209885" y="212932"/>
                </a:lnTo>
                <a:lnTo>
                  <a:pt x="210522" y="207122"/>
                </a:lnTo>
                <a:lnTo>
                  <a:pt x="210680" y="2053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MARTPenAnnotation826"/>
          <p:cNvSpPr/>
          <p:nvPr/>
        </p:nvSpPr>
        <p:spPr>
          <a:xfrm>
            <a:off x="8386920" y="2521080"/>
            <a:ext cx="145800" cy="25200"/>
          </a:xfrm>
          <a:custGeom>
            <a:avLst/>
            <a:gdLst>
              <a:gd name="textAreaLeft" fmla="*/ 0 w 145800"/>
              <a:gd name="textAreaRight" fmla="*/ 146160 w 1458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45371" h="25611">
                <a:moveTo>
                  <a:pt x="16783" y="25610"/>
                </a:moveTo>
                <a:lnTo>
                  <a:pt x="0" y="25610"/>
                </a:lnTo>
                <a:lnTo>
                  <a:pt x="20113" y="25610"/>
                </a:lnTo>
                <a:lnTo>
                  <a:pt x="22813" y="24657"/>
                </a:lnTo>
                <a:lnTo>
                  <a:pt x="25566" y="23070"/>
                </a:lnTo>
                <a:lnTo>
                  <a:pt x="28353" y="21059"/>
                </a:lnTo>
                <a:lnTo>
                  <a:pt x="31165" y="19719"/>
                </a:lnTo>
                <a:lnTo>
                  <a:pt x="33991" y="18825"/>
                </a:lnTo>
                <a:lnTo>
                  <a:pt x="36826" y="18229"/>
                </a:lnTo>
                <a:lnTo>
                  <a:pt x="39671" y="17832"/>
                </a:lnTo>
                <a:lnTo>
                  <a:pt x="42519" y="17567"/>
                </a:lnTo>
                <a:lnTo>
                  <a:pt x="45371" y="17390"/>
                </a:lnTo>
                <a:lnTo>
                  <a:pt x="49177" y="16321"/>
                </a:lnTo>
                <a:lnTo>
                  <a:pt x="53619" y="14655"/>
                </a:lnTo>
                <a:lnTo>
                  <a:pt x="58485" y="12591"/>
                </a:lnTo>
                <a:lnTo>
                  <a:pt x="63635" y="11216"/>
                </a:lnTo>
                <a:lnTo>
                  <a:pt x="68973" y="10299"/>
                </a:lnTo>
                <a:lnTo>
                  <a:pt x="74436" y="9688"/>
                </a:lnTo>
                <a:lnTo>
                  <a:pt x="79031" y="9280"/>
                </a:lnTo>
                <a:lnTo>
                  <a:pt x="83046" y="9008"/>
                </a:lnTo>
                <a:lnTo>
                  <a:pt x="86676" y="8827"/>
                </a:lnTo>
                <a:lnTo>
                  <a:pt x="91001" y="7754"/>
                </a:lnTo>
                <a:lnTo>
                  <a:pt x="95789" y="6086"/>
                </a:lnTo>
                <a:lnTo>
                  <a:pt x="100886" y="4021"/>
                </a:lnTo>
                <a:lnTo>
                  <a:pt x="105237" y="2645"/>
                </a:lnTo>
                <a:lnTo>
                  <a:pt x="109090" y="1728"/>
                </a:lnTo>
                <a:lnTo>
                  <a:pt x="112612" y="1116"/>
                </a:lnTo>
                <a:lnTo>
                  <a:pt x="115911" y="708"/>
                </a:lnTo>
                <a:lnTo>
                  <a:pt x="119064" y="436"/>
                </a:lnTo>
                <a:lnTo>
                  <a:pt x="126416" y="0"/>
                </a:lnTo>
                <a:lnTo>
                  <a:pt x="127971" y="917"/>
                </a:lnTo>
                <a:lnTo>
                  <a:pt x="129962" y="2480"/>
                </a:lnTo>
                <a:lnTo>
                  <a:pt x="135447" y="7283"/>
                </a:lnTo>
                <a:lnTo>
                  <a:pt x="138738" y="7940"/>
                </a:lnTo>
                <a:lnTo>
                  <a:pt x="145370" y="846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MARTPenAnnotation827"/>
          <p:cNvSpPr/>
          <p:nvPr/>
        </p:nvSpPr>
        <p:spPr>
          <a:xfrm>
            <a:off x="8404200" y="2597040"/>
            <a:ext cx="162000" cy="25560"/>
          </a:xfrm>
          <a:custGeom>
            <a:avLst/>
            <a:gdLst>
              <a:gd name="textAreaLeft" fmla="*/ 0 w 162000"/>
              <a:gd name="textAreaRight" fmla="*/ 162360 w 1620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62877" h="25719">
                <a:moveTo>
                  <a:pt x="8572" y="17145"/>
                </a:moveTo>
                <a:lnTo>
                  <a:pt x="353" y="17145"/>
                </a:lnTo>
                <a:lnTo>
                  <a:pt x="234" y="18098"/>
                </a:lnTo>
                <a:lnTo>
                  <a:pt x="156" y="19685"/>
                </a:lnTo>
                <a:lnTo>
                  <a:pt x="1" y="25648"/>
                </a:lnTo>
                <a:lnTo>
                  <a:pt x="0" y="25687"/>
                </a:lnTo>
                <a:lnTo>
                  <a:pt x="37188" y="25718"/>
                </a:lnTo>
                <a:lnTo>
                  <a:pt x="40985" y="24765"/>
                </a:lnTo>
                <a:lnTo>
                  <a:pt x="45420" y="23178"/>
                </a:lnTo>
                <a:lnTo>
                  <a:pt x="50283" y="21167"/>
                </a:lnTo>
                <a:lnTo>
                  <a:pt x="54476" y="19826"/>
                </a:lnTo>
                <a:lnTo>
                  <a:pt x="58225" y="18932"/>
                </a:lnTo>
                <a:lnTo>
                  <a:pt x="61676" y="18337"/>
                </a:lnTo>
                <a:lnTo>
                  <a:pt x="65882" y="16987"/>
                </a:lnTo>
                <a:lnTo>
                  <a:pt x="70591" y="15134"/>
                </a:lnTo>
                <a:lnTo>
                  <a:pt x="75635" y="12947"/>
                </a:lnTo>
                <a:lnTo>
                  <a:pt x="79951" y="11489"/>
                </a:lnTo>
                <a:lnTo>
                  <a:pt x="83781" y="10517"/>
                </a:lnTo>
                <a:lnTo>
                  <a:pt x="87286" y="9869"/>
                </a:lnTo>
                <a:lnTo>
                  <a:pt x="91528" y="9437"/>
                </a:lnTo>
                <a:lnTo>
                  <a:pt x="96261" y="9149"/>
                </a:lnTo>
                <a:lnTo>
                  <a:pt x="101320" y="8957"/>
                </a:lnTo>
                <a:lnTo>
                  <a:pt x="105647" y="7876"/>
                </a:lnTo>
                <a:lnTo>
                  <a:pt x="109483" y="6203"/>
                </a:lnTo>
                <a:lnTo>
                  <a:pt x="112993" y="4135"/>
                </a:lnTo>
                <a:lnTo>
                  <a:pt x="116287" y="2757"/>
                </a:lnTo>
                <a:lnTo>
                  <a:pt x="119434" y="1838"/>
                </a:lnTo>
                <a:lnTo>
                  <a:pt x="122485" y="1225"/>
                </a:lnTo>
                <a:lnTo>
                  <a:pt x="126424" y="817"/>
                </a:lnTo>
                <a:lnTo>
                  <a:pt x="130955" y="545"/>
                </a:lnTo>
                <a:lnTo>
                  <a:pt x="140116" y="242"/>
                </a:lnTo>
                <a:lnTo>
                  <a:pt x="152248" y="32"/>
                </a:lnTo>
                <a:lnTo>
                  <a:pt x="162841" y="0"/>
                </a:lnTo>
                <a:lnTo>
                  <a:pt x="16287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MARTPenAnnotation828"/>
          <p:cNvSpPr/>
          <p:nvPr/>
        </p:nvSpPr>
        <p:spPr>
          <a:xfrm>
            <a:off x="8618400" y="2495520"/>
            <a:ext cx="196920" cy="179280"/>
          </a:xfrm>
          <a:custGeom>
            <a:avLst/>
            <a:gdLst>
              <a:gd name="textAreaLeft" fmla="*/ 0 w 196920"/>
              <a:gd name="textAreaRight" fmla="*/ 197280 w 1969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97060" h="178764">
                <a:moveTo>
                  <a:pt x="119906" y="33065"/>
                </a:moveTo>
                <a:lnTo>
                  <a:pt x="119906" y="28514"/>
                </a:lnTo>
                <a:lnTo>
                  <a:pt x="118954" y="27173"/>
                </a:lnTo>
                <a:lnTo>
                  <a:pt x="117367" y="26280"/>
                </a:lnTo>
                <a:lnTo>
                  <a:pt x="112526" y="24846"/>
                </a:lnTo>
                <a:lnTo>
                  <a:pt x="112129" y="23775"/>
                </a:lnTo>
                <a:lnTo>
                  <a:pt x="111687" y="20046"/>
                </a:lnTo>
                <a:lnTo>
                  <a:pt x="110617" y="18671"/>
                </a:lnTo>
                <a:lnTo>
                  <a:pt x="108951" y="17754"/>
                </a:lnTo>
                <a:lnTo>
                  <a:pt x="106888" y="17143"/>
                </a:lnTo>
                <a:lnTo>
                  <a:pt x="105513" y="15783"/>
                </a:lnTo>
                <a:lnTo>
                  <a:pt x="104596" y="13923"/>
                </a:lnTo>
                <a:lnTo>
                  <a:pt x="103985" y="11731"/>
                </a:lnTo>
                <a:lnTo>
                  <a:pt x="102624" y="10270"/>
                </a:lnTo>
                <a:lnTo>
                  <a:pt x="100765" y="9296"/>
                </a:lnTo>
                <a:lnTo>
                  <a:pt x="96160" y="8213"/>
                </a:lnTo>
                <a:lnTo>
                  <a:pt x="90938" y="7732"/>
                </a:lnTo>
                <a:lnTo>
                  <a:pt x="88211" y="6652"/>
                </a:lnTo>
                <a:lnTo>
                  <a:pt x="82643" y="2911"/>
                </a:lnTo>
                <a:lnTo>
                  <a:pt x="76993" y="613"/>
                </a:lnTo>
                <a:lnTo>
                  <a:pt x="74152" y="0"/>
                </a:lnTo>
                <a:lnTo>
                  <a:pt x="71306" y="545"/>
                </a:lnTo>
                <a:lnTo>
                  <a:pt x="65603" y="3689"/>
                </a:lnTo>
                <a:lnTo>
                  <a:pt x="59895" y="5722"/>
                </a:lnTo>
                <a:lnTo>
                  <a:pt x="54182" y="6625"/>
                </a:lnTo>
                <a:lnTo>
                  <a:pt x="48469" y="7026"/>
                </a:lnTo>
                <a:lnTo>
                  <a:pt x="45611" y="8086"/>
                </a:lnTo>
                <a:lnTo>
                  <a:pt x="39897" y="11803"/>
                </a:lnTo>
                <a:lnTo>
                  <a:pt x="34181" y="16630"/>
                </a:lnTo>
                <a:lnTo>
                  <a:pt x="31323" y="19251"/>
                </a:lnTo>
                <a:lnTo>
                  <a:pt x="29419" y="21951"/>
                </a:lnTo>
                <a:lnTo>
                  <a:pt x="27302" y="27490"/>
                </a:lnTo>
                <a:lnTo>
                  <a:pt x="25786" y="31254"/>
                </a:lnTo>
                <a:lnTo>
                  <a:pt x="23822" y="35668"/>
                </a:lnTo>
                <a:lnTo>
                  <a:pt x="19100" y="45652"/>
                </a:lnTo>
                <a:lnTo>
                  <a:pt x="13826" y="56439"/>
                </a:lnTo>
                <a:lnTo>
                  <a:pt x="12039" y="61030"/>
                </a:lnTo>
                <a:lnTo>
                  <a:pt x="10848" y="65043"/>
                </a:lnTo>
                <a:lnTo>
                  <a:pt x="10053" y="68672"/>
                </a:lnTo>
                <a:lnTo>
                  <a:pt x="9523" y="72995"/>
                </a:lnTo>
                <a:lnTo>
                  <a:pt x="9170" y="77783"/>
                </a:lnTo>
                <a:lnTo>
                  <a:pt x="8935" y="82879"/>
                </a:lnTo>
                <a:lnTo>
                  <a:pt x="7826" y="88182"/>
                </a:lnTo>
                <a:lnTo>
                  <a:pt x="6133" y="93622"/>
                </a:lnTo>
                <a:lnTo>
                  <a:pt x="4052" y="99154"/>
                </a:lnTo>
                <a:lnTo>
                  <a:pt x="2665" y="103794"/>
                </a:lnTo>
                <a:lnTo>
                  <a:pt x="1741" y="107840"/>
                </a:lnTo>
                <a:lnTo>
                  <a:pt x="1124" y="111490"/>
                </a:lnTo>
                <a:lnTo>
                  <a:pt x="713" y="115829"/>
                </a:lnTo>
                <a:lnTo>
                  <a:pt x="440" y="120626"/>
                </a:lnTo>
                <a:lnTo>
                  <a:pt x="135" y="130083"/>
                </a:lnTo>
                <a:lnTo>
                  <a:pt x="0" y="137462"/>
                </a:lnTo>
                <a:lnTo>
                  <a:pt x="916" y="140763"/>
                </a:lnTo>
                <a:lnTo>
                  <a:pt x="2479" y="143916"/>
                </a:lnTo>
                <a:lnTo>
                  <a:pt x="4475" y="146971"/>
                </a:lnTo>
                <a:lnTo>
                  <a:pt x="5805" y="149960"/>
                </a:lnTo>
                <a:lnTo>
                  <a:pt x="6692" y="152905"/>
                </a:lnTo>
                <a:lnTo>
                  <a:pt x="7283" y="155821"/>
                </a:lnTo>
                <a:lnTo>
                  <a:pt x="8629" y="158717"/>
                </a:lnTo>
                <a:lnTo>
                  <a:pt x="10478" y="161601"/>
                </a:lnTo>
                <a:lnTo>
                  <a:pt x="12665" y="164476"/>
                </a:lnTo>
                <a:lnTo>
                  <a:pt x="15075" y="166392"/>
                </a:lnTo>
                <a:lnTo>
                  <a:pt x="17634" y="167670"/>
                </a:lnTo>
                <a:lnTo>
                  <a:pt x="23017" y="169089"/>
                </a:lnTo>
                <a:lnTo>
                  <a:pt x="28584" y="169720"/>
                </a:lnTo>
                <a:lnTo>
                  <a:pt x="34234" y="170001"/>
                </a:lnTo>
                <a:lnTo>
                  <a:pt x="40872" y="170125"/>
                </a:lnTo>
                <a:lnTo>
                  <a:pt x="66426" y="170221"/>
                </a:lnTo>
                <a:lnTo>
                  <a:pt x="70103" y="167684"/>
                </a:lnTo>
                <a:lnTo>
                  <a:pt x="74911" y="163380"/>
                </a:lnTo>
                <a:lnTo>
                  <a:pt x="80223" y="158293"/>
                </a:lnTo>
                <a:lnTo>
                  <a:pt x="88569" y="150074"/>
                </a:lnTo>
                <a:lnTo>
                  <a:pt x="91395" y="146314"/>
                </a:lnTo>
                <a:lnTo>
                  <a:pt x="94232" y="141902"/>
                </a:lnTo>
                <a:lnTo>
                  <a:pt x="97075" y="137055"/>
                </a:lnTo>
                <a:lnTo>
                  <a:pt x="98970" y="132872"/>
                </a:lnTo>
                <a:lnTo>
                  <a:pt x="100235" y="129130"/>
                </a:lnTo>
                <a:lnTo>
                  <a:pt x="101076" y="125684"/>
                </a:lnTo>
                <a:lnTo>
                  <a:pt x="102591" y="121481"/>
                </a:lnTo>
                <a:lnTo>
                  <a:pt x="104553" y="116774"/>
                </a:lnTo>
                <a:lnTo>
                  <a:pt x="106813" y="111731"/>
                </a:lnTo>
                <a:lnTo>
                  <a:pt x="108320" y="107416"/>
                </a:lnTo>
                <a:lnTo>
                  <a:pt x="109325" y="103588"/>
                </a:lnTo>
                <a:lnTo>
                  <a:pt x="109995" y="100083"/>
                </a:lnTo>
                <a:lnTo>
                  <a:pt x="110442" y="96793"/>
                </a:lnTo>
                <a:lnTo>
                  <a:pt x="110739" y="93648"/>
                </a:lnTo>
                <a:lnTo>
                  <a:pt x="110937" y="90599"/>
                </a:lnTo>
                <a:lnTo>
                  <a:pt x="111158" y="82131"/>
                </a:lnTo>
                <a:lnTo>
                  <a:pt x="111324" y="56288"/>
                </a:lnTo>
                <a:lnTo>
                  <a:pt x="110374" y="54262"/>
                </a:lnTo>
                <a:lnTo>
                  <a:pt x="108789" y="52911"/>
                </a:lnTo>
                <a:lnTo>
                  <a:pt x="106780" y="52011"/>
                </a:lnTo>
                <a:lnTo>
                  <a:pt x="105441" y="50458"/>
                </a:lnTo>
                <a:lnTo>
                  <a:pt x="104548" y="48471"/>
                </a:lnTo>
                <a:lnTo>
                  <a:pt x="103556" y="43722"/>
                </a:lnTo>
                <a:lnTo>
                  <a:pt x="103114" y="38436"/>
                </a:lnTo>
                <a:lnTo>
                  <a:pt x="102771" y="33205"/>
                </a:lnTo>
                <a:lnTo>
                  <a:pt x="102762" y="53466"/>
                </a:lnTo>
                <a:lnTo>
                  <a:pt x="103714" y="57143"/>
                </a:lnTo>
                <a:lnTo>
                  <a:pt x="105301" y="61500"/>
                </a:lnTo>
                <a:lnTo>
                  <a:pt x="107313" y="66309"/>
                </a:lnTo>
                <a:lnTo>
                  <a:pt x="108653" y="70468"/>
                </a:lnTo>
                <a:lnTo>
                  <a:pt x="109547" y="74193"/>
                </a:lnTo>
                <a:lnTo>
                  <a:pt x="110143" y="77628"/>
                </a:lnTo>
                <a:lnTo>
                  <a:pt x="110539" y="81824"/>
                </a:lnTo>
                <a:lnTo>
                  <a:pt x="110805" y="86526"/>
                </a:lnTo>
                <a:lnTo>
                  <a:pt x="111098" y="95878"/>
                </a:lnTo>
                <a:lnTo>
                  <a:pt x="111264" y="107450"/>
                </a:lnTo>
                <a:lnTo>
                  <a:pt x="111303" y="117243"/>
                </a:lnTo>
                <a:lnTo>
                  <a:pt x="112267" y="121569"/>
                </a:lnTo>
                <a:lnTo>
                  <a:pt x="113860" y="125405"/>
                </a:lnTo>
                <a:lnTo>
                  <a:pt x="115876" y="128915"/>
                </a:lnTo>
                <a:lnTo>
                  <a:pt x="117219" y="132207"/>
                </a:lnTo>
                <a:lnTo>
                  <a:pt x="118115" y="135355"/>
                </a:lnTo>
                <a:lnTo>
                  <a:pt x="118713" y="138406"/>
                </a:lnTo>
                <a:lnTo>
                  <a:pt x="120062" y="141392"/>
                </a:lnTo>
                <a:lnTo>
                  <a:pt x="121916" y="144336"/>
                </a:lnTo>
                <a:lnTo>
                  <a:pt x="124104" y="147250"/>
                </a:lnTo>
                <a:lnTo>
                  <a:pt x="126515" y="150146"/>
                </a:lnTo>
                <a:lnTo>
                  <a:pt x="129075" y="153029"/>
                </a:lnTo>
                <a:lnTo>
                  <a:pt x="134458" y="158772"/>
                </a:lnTo>
                <a:lnTo>
                  <a:pt x="145471" y="170047"/>
                </a:lnTo>
                <a:lnTo>
                  <a:pt x="153800" y="178401"/>
                </a:lnTo>
                <a:lnTo>
                  <a:pt x="158630" y="178680"/>
                </a:lnTo>
                <a:lnTo>
                  <a:pt x="161543" y="178763"/>
                </a:lnTo>
                <a:lnTo>
                  <a:pt x="166957" y="174236"/>
                </a:lnTo>
                <a:lnTo>
                  <a:pt x="169371" y="172899"/>
                </a:lnTo>
                <a:lnTo>
                  <a:pt x="174594" y="171414"/>
                </a:lnTo>
                <a:lnTo>
                  <a:pt x="180089" y="168213"/>
                </a:lnTo>
                <a:lnTo>
                  <a:pt x="185707" y="163616"/>
                </a:lnTo>
                <a:lnTo>
                  <a:pt x="191379" y="158398"/>
                </a:lnTo>
                <a:lnTo>
                  <a:pt x="197059" y="1530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MARTPenAnnotation829"/>
          <p:cNvSpPr/>
          <p:nvPr/>
        </p:nvSpPr>
        <p:spPr>
          <a:xfrm>
            <a:off x="8866080" y="2478240"/>
            <a:ext cx="146160" cy="171360"/>
          </a:xfrm>
          <a:custGeom>
            <a:avLst/>
            <a:gdLst>
              <a:gd name="textAreaLeft" fmla="*/ 0 w 146160"/>
              <a:gd name="textAreaRight" fmla="*/ 146520 w 14616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145614" h="171408">
                <a:moveTo>
                  <a:pt x="34289" y="17113"/>
                </a:moveTo>
                <a:lnTo>
                  <a:pt x="34289" y="76"/>
                </a:lnTo>
                <a:lnTo>
                  <a:pt x="31750" y="16"/>
                </a:lnTo>
                <a:lnTo>
                  <a:pt x="29738" y="0"/>
                </a:lnTo>
                <a:lnTo>
                  <a:pt x="28398" y="942"/>
                </a:lnTo>
                <a:lnTo>
                  <a:pt x="27504" y="2522"/>
                </a:lnTo>
                <a:lnTo>
                  <a:pt x="26909" y="4528"/>
                </a:lnTo>
                <a:lnTo>
                  <a:pt x="25559" y="5865"/>
                </a:lnTo>
                <a:lnTo>
                  <a:pt x="23707" y="6757"/>
                </a:lnTo>
                <a:lnTo>
                  <a:pt x="21519" y="7352"/>
                </a:lnTo>
                <a:lnTo>
                  <a:pt x="19109" y="8701"/>
                </a:lnTo>
                <a:lnTo>
                  <a:pt x="16549" y="10552"/>
                </a:lnTo>
                <a:lnTo>
                  <a:pt x="13889" y="12739"/>
                </a:lnTo>
                <a:lnTo>
                  <a:pt x="12117" y="15150"/>
                </a:lnTo>
                <a:lnTo>
                  <a:pt x="10148" y="20368"/>
                </a:lnTo>
                <a:lnTo>
                  <a:pt x="9622" y="24046"/>
                </a:lnTo>
                <a:lnTo>
                  <a:pt x="9272" y="28402"/>
                </a:lnTo>
                <a:lnTo>
                  <a:pt x="9039" y="33212"/>
                </a:lnTo>
                <a:lnTo>
                  <a:pt x="7930" y="38323"/>
                </a:lnTo>
                <a:lnTo>
                  <a:pt x="6239" y="43635"/>
                </a:lnTo>
                <a:lnTo>
                  <a:pt x="4160" y="49082"/>
                </a:lnTo>
                <a:lnTo>
                  <a:pt x="2773" y="53666"/>
                </a:lnTo>
                <a:lnTo>
                  <a:pt x="1848" y="57674"/>
                </a:lnTo>
                <a:lnTo>
                  <a:pt x="1232" y="61299"/>
                </a:lnTo>
                <a:lnTo>
                  <a:pt x="821" y="65620"/>
                </a:lnTo>
                <a:lnTo>
                  <a:pt x="548" y="70406"/>
                </a:lnTo>
                <a:lnTo>
                  <a:pt x="243" y="79851"/>
                </a:lnTo>
                <a:lnTo>
                  <a:pt x="71" y="91477"/>
                </a:lnTo>
                <a:lnTo>
                  <a:pt x="0" y="147332"/>
                </a:lnTo>
                <a:lnTo>
                  <a:pt x="952" y="150598"/>
                </a:lnTo>
                <a:lnTo>
                  <a:pt x="2540" y="153728"/>
                </a:lnTo>
                <a:lnTo>
                  <a:pt x="4550" y="156767"/>
                </a:lnTo>
                <a:lnTo>
                  <a:pt x="6843" y="158793"/>
                </a:lnTo>
                <a:lnTo>
                  <a:pt x="9324" y="160144"/>
                </a:lnTo>
                <a:lnTo>
                  <a:pt x="11931" y="161045"/>
                </a:lnTo>
                <a:lnTo>
                  <a:pt x="13669" y="162598"/>
                </a:lnTo>
                <a:lnTo>
                  <a:pt x="14827" y="164585"/>
                </a:lnTo>
                <a:lnTo>
                  <a:pt x="15599" y="166863"/>
                </a:lnTo>
                <a:lnTo>
                  <a:pt x="17067" y="168381"/>
                </a:lnTo>
                <a:lnTo>
                  <a:pt x="18998" y="169393"/>
                </a:lnTo>
                <a:lnTo>
                  <a:pt x="21238" y="170068"/>
                </a:lnTo>
                <a:lnTo>
                  <a:pt x="23683" y="170518"/>
                </a:lnTo>
                <a:lnTo>
                  <a:pt x="26266" y="170818"/>
                </a:lnTo>
                <a:lnTo>
                  <a:pt x="28940" y="171018"/>
                </a:lnTo>
                <a:lnTo>
                  <a:pt x="31676" y="171152"/>
                </a:lnTo>
                <a:lnTo>
                  <a:pt x="37255" y="171300"/>
                </a:lnTo>
                <a:lnTo>
                  <a:pt x="58853" y="171407"/>
                </a:lnTo>
                <a:lnTo>
                  <a:pt x="63046" y="170459"/>
                </a:lnTo>
                <a:lnTo>
                  <a:pt x="66796" y="168873"/>
                </a:lnTo>
                <a:lnTo>
                  <a:pt x="70248" y="166864"/>
                </a:lnTo>
                <a:lnTo>
                  <a:pt x="73501" y="164572"/>
                </a:lnTo>
                <a:lnTo>
                  <a:pt x="76623" y="162092"/>
                </a:lnTo>
                <a:lnTo>
                  <a:pt x="79657" y="159485"/>
                </a:lnTo>
                <a:lnTo>
                  <a:pt x="83584" y="156796"/>
                </a:lnTo>
                <a:lnTo>
                  <a:pt x="88108" y="154050"/>
                </a:lnTo>
                <a:lnTo>
                  <a:pt x="93028" y="151267"/>
                </a:lnTo>
                <a:lnTo>
                  <a:pt x="97261" y="148459"/>
                </a:lnTo>
                <a:lnTo>
                  <a:pt x="101035" y="145634"/>
                </a:lnTo>
                <a:lnTo>
                  <a:pt x="104505" y="142799"/>
                </a:lnTo>
                <a:lnTo>
                  <a:pt x="107770" y="139956"/>
                </a:lnTo>
                <a:lnTo>
                  <a:pt x="110898" y="137108"/>
                </a:lnTo>
                <a:lnTo>
                  <a:pt x="116916" y="131405"/>
                </a:lnTo>
                <a:lnTo>
                  <a:pt x="131413" y="117124"/>
                </a:lnTo>
                <a:lnTo>
                  <a:pt x="133328" y="114267"/>
                </a:lnTo>
                <a:lnTo>
                  <a:pt x="134605" y="111410"/>
                </a:lnTo>
                <a:lnTo>
                  <a:pt x="135456" y="108553"/>
                </a:lnTo>
                <a:lnTo>
                  <a:pt x="136976" y="106648"/>
                </a:lnTo>
                <a:lnTo>
                  <a:pt x="138942" y="105378"/>
                </a:lnTo>
                <a:lnTo>
                  <a:pt x="145613" y="102882"/>
                </a:lnTo>
                <a:lnTo>
                  <a:pt x="141146" y="102851"/>
                </a:lnTo>
                <a:lnTo>
                  <a:pt x="139817" y="103799"/>
                </a:lnTo>
                <a:lnTo>
                  <a:pt x="138931" y="105384"/>
                </a:lnTo>
                <a:lnTo>
                  <a:pt x="137159" y="1114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MARTPenAnnotation830"/>
          <p:cNvSpPr/>
          <p:nvPr/>
        </p:nvSpPr>
        <p:spPr>
          <a:xfrm>
            <a:off x="7650000" y="2906640"/>
            <a:ext cx="290520" cy="204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91453" h="204908">
                <a:moveTo>
                  <a:pt x="25704" y="33855"/>
                </a:moveTo>
                <a:lnTo>
                  <a:pt x="17486" y="33855"/>
                </a:lnTo>
                <a:lnTo>
                  <a:pt x="17202" y="39747"/>
                </a:lnTo>
                <a:lnTo>
                  <a:pt x="17146" y="44438"/>
                </a:lnTo>
                <a:lnTo>
                  <a:pt x="17141" y="46625"/>
                </a:lnTo>
                <a:lnTo>
                  <a:pt x="18091" y="49036"/>
                </a:lnTo>
                <a:lnTo>
                  <a:pt x="21686" y="54255"/>
                </a:lnTo>
                <a:lnTo>
                  <a:pt x="23025" y="57932"/>
                </a:lnTo>
                <a:lnTo>
                  <a:pt x="23918" y="62289"/>
                </a:lnTo>
                <a:lnTo>
                  <a:pt x="24514" y="67099"/>
                </a:lnTo>
                <a:lnTo>
                  <a:pt x="24910" y="72210"/>
                </a:lnTo>
                <a:lnTo>
                  <a:pt x="25176" y="77523"/>
                </a:lnTo>
                <a:lnTo>
                  <a:pt x="25548" y="91561"/>
                </a:lnTo>
                <a:lnTo>
                  <a:pt x="25674" y="109389"/>
                </a:lnTo>
                <a:lnTo>
                  <a:pt x="26637" y="114691"/>
                </a:lnTo>
                <a:lnTo>
                  <a:pt x="28230" y="120131"/>
                </a:lnTo>
                <a:lnTo>
                  <a:pt x="30246" y="125662"/>
                </a:lnTo>
                <a:lnTo>
                  <a:pt x="31590" y="131255"/>
                </a:lnTo>
                <a:lnTo>
                  <a:pt x="32485" y="136888"/>
                </a:lnTo>
                <a:lnTo>
                  <a:pt x="33083" y="142549"/>
                </a:lnTo>
                <a:lnTo>
                  <a:pt x="33480" y="148228"/>
                </a:lnTo>
                <a:lnTo>
                  <a:pt x="33746" y="153919"/>
                </a:lnTo>
                <a:lnTo>
                  <a:pt x="34119" y="168490"/>
                </a:lnTo>
                <a:lnTo>
                  <a:pt x="34277" y="200769"/>
                </a:lnTo>
                <a:lnTo>
                  <a:pt x="34277" y="204907"/>
                </a:lnTo>
                <a:lnTo>
                  <a:pt x="34277" y="200636"/>
                </a:lnTo>
                <a:lnTo>
                  <a:pt x="33325" y="199335"/>
                </a:lnTo>
                <a:lnTo>
                  <a:pt x="31737" y="198468"/>
                </a:lnTo>
                <a:lnTo>
                  <a:pt x="29726" y="197889"/>
                </a:lnTo>
                <a:lnTo>
                  <a:pt x="27434" y="195599"/>
                </a:lnTo>
                <a:lnTo>
                  <a:pt x="24952" y="192167"/>
                </a:lnTo>
                <a:lnTo>
                  <a:pt x="22345" y="187974"/>
                </a:lnTo>
                <a:lnTo>
                  <a:pt x="20608" y="184226"/>
                </a:lnTo>
                <a:lnTo>
                  <a:pt x="19450" y="180775"/>
                </a:lnTo>
                <a:lnTo>
                  <a:pt x="18677" y="177522"/>
                </a:lnTo>
                <a:lnTo>
                  <a:pt x="15278" y="171367"/>
                </a:lnTo>
                <a:lnTo>
                  <a:pt x="13039" y="168392"/>
                </a:lnTo>
                <a:lnTo>
                  <a:pt x="10593" y="164504"/>
                </a:lnTo>
                <a:lnTo>
                  <a:pt x="8010" y="160007"/>
                </a:lnTo>
                <a:lnTo>
                  <a:pt x="5336" y="155104"/>
                </a:lnTo>
                <a:lnTo>
                  <a:pt x="3554" y="149930"/>
                </a:lnTo>
                <a:lnTo>
                  <a:pt x="2365" y="144576"/>
                </a:lnTo>
                <a:lnTo>
                  <a:pt x="1572" y="139102"/>
                </a:lnTo>
                <a:lnTo>
                  <a:pt x="1044" y="133547"/>
                </a:lnTo>
                <a:lnTo>
                  <a:pt x="692" y="127939"/>
                </a:lnTo>
                <a:lnTo>
                  <a:pt x="456" y="122295"/>
                </a:lnTo>
                <a:lnTo>
                  <a:pt x="196" y="108404"/>
                </a:lnTo>
                <a:lnTo>
                  <a:pt x="0" y="62779"/>
                </a:lnTo>
                <a:lnTo>
                  <a:pt x="948" y="57901"/>
                </a:lnTo>
                <a:lnTo>
                  <a:pt x="2533" y="53695"/>
                </a:lnTo>
                <a:lnTo>
                  <a:pt x="4542" y="49939"/>
                </a:lnTo>
                <a:lnTo>
                  <a:pt x="5881" y="46483"/>
                </a:lnTo>
                <a:lnTo>
                  <a:pt x="7369" y="40102"/>
                </a:lnTo>
                <a:lnTo>
                  <a:pt x="10570" y="34092"/>
                </a:lnTo>
                <a:lnTo>
                  <a:pt x="12758" y="31155"/>
                </a:lnTo>
                <a:lnTo>
                  <a:pt x="15189" y="25353"/>
                </a:lnTo>
                <a:lnTo>
                  <a:pt x="15836" y="22472"/>
                </a:lnTo>
                <a:lnTo>
                  <a:pt x="18173" y="20551"/>
                </a:lnTo>
                <a:lnTo>
                  <a:pt x="21636" y="19271"/>
                </a:lnTo>
                <a:lnTo>
                  <a:pt x="29612" y="17848"/>
                </a:lnTo>
                <a:lnTo>
                  <a:pt x="36331" y="17216"/>
                </a:lnTo>
                <a:lnTo>
                  <a:pt x="42492" y="16935"/>
                </a:lnTo>
                <a:lnTo>
                  <a:pt x="45469" y="16860"/>
                </a:lnTo>
                <a:lnTo>
                  <a:pt x="53856" y="19317"/>
                </a:lnTo>
                <a:lnTo>
                  <a:pt x="58760" y="21305"/>
                </a:lnTo>
                <a:lnTo>
                  <a:pt x="66748" y="26055"/>
                </a:lnTo>
                <a:lnTo>
                  <a:pt x="74427" y="32293"/>
                </a:lnTo>
                <a:lnTo>
                  <a:pt x="79141" y="36624"/>
                </a:lnTo>
                <a:lnTo>
                  <a:pt x="84188" y="41416"/>
                </a:lnTo>
                <a:lnTo>
                  <a:pt x="88507" y="46516"/>
                </a:lnTo>
                <a:lnTo>
                  <a:pt x="92337" y="51820"/>
                </a:lnTo>
                <a:lnTo>
                  <a:pt x="95844" y="57262"/>
                </a:lnTo>
                <a:lnTo>
                  <a:pt x="99135" y="62795"/>
                </a:lnTo>
                <a:lnTo>
                  <a:pt x="102280" y="68388"/>
                </a:lnTo>
                <a:lnTo>
                  <a:pt x="105330" y="74022"/>
                </a:lnTo>
                <a:lnTo>
                  <a:pt x="108316" y="78731"/>
                </a:lnTo>
                <a:lnTo>
                  <a:pt x="111259" y="82822"/>
                </a:lnTo>
                <a:lnTo>
                  <a:pt x="114172" y="86502"/>
                </a:lnTo>
                <a:lnTo>
                  <a:pt x="116116" y="90861"/>
                </a:lnTo>
                <a:lnTo>
                  <a:pt x="117412" y="95671"/>
                </a:lnTo>
                <a:lnTo>
                  <a:pt x="118275" y="100784"/>
                </a:lnTo>
                <a:lnTo>
                  <a:pt x="119803" y="105144"/>
                </a:lnTo>
                <a:lnTo>
                  <a:pt x="121775" y="109004"/>
                </a:lnTo>
                <a:lnTo>
                  <a:pt x="124042" y="112529"/>
                </a:lnTo>
                <a:lnTo>
                  <a:pt x="125552" y="115832"/>
                </a:lnTo>
                <a:lnTo>
                  <a:pt x="127231" y="122042"/>
                </a:lnTo>
                <a:lnTo>
                  <a:pt x="130518" y="127977"/>
                </a:lnTo>
                <a:lnTo>
                  <a:pt x="132727" y="130893"/>
                </a:lnTo>
                <a:lnTo>
                  <a:pt x="135183" y="136673"/>
                </a:lnTo>
                <a:lnTo>
                  <a:pt x="136759" y="143594"/>
                </a:lnTo>
                <a:lnTo>
                  <a:pt x="137841" y="144162"/>
                </a:lnTo>
                <a:lnTo>
                  <a:pt x="144494" y="145148"/>
                </a:lnTo>
                <a:lnTo>
                  <a:pt x="140806" y="145253"/>
                </a:lnTo>
                <a:lnTo>
                  <a:pt x="139586" y="144315"/>
                </a:lnTo>
                <a:lnTo>
                  <a:pt x="138773" y="142738"/>
                </a:lnTo>
                <a:lnTo>
                  <a:pt x="137869" y="138445"/>
                </a:lnTo>
                <a:lnTo>
                  <a:pt x="137468" y="133362"/>
                </a:lnTo>
                <a:lnTo>
                  <a:pt x="137290" y="127928"/>
                </a:lnTo>
                <a:lnTo>
                  <a:pt x="137176" y="116678"/>
                </a:lnTo>
                <a:lnTo>
                  <a:pt x="136214" y="112883"/>
                </a:lnTo>
                <a:lnTo>
                  <a:pt x="134620" y="108448"/>
                </a:lnTo>
                <a:lnTo>
                  <a:pt x="132605" y="103586"/>
                </a:lnTo>
                <a:lnTo>
                  <a:pt x="132214" y="98440"/>
                </a:lnTo>
                <a:lnTo>
                  <a:pt x="132905" y="93104"/>
                </a:lnTo>
                <a:lnTo>
                  <a:pt x="134319" y="87642"/>
                </a:lnTo>
                <a:lnTo>
                  <a:pt x="135262" y="82096"/>
                </a:lnTo>
                <a:lnTo>
                  <a:pt x="135890" y="76493"/>
                </a:lnTo>
                <a:lnTo>
                  <a:pt x="136309" y="70853"/>
                </a:lnTo>
                <a:lnTo>
                  <a:pt x="138493" y="64235"/>
                </a:lnTo>
                <a:lnTo>
                  <a:pt x="141855" y="56966"/>
                </a:lnTo>
                <a:lnTo>
                  <a:pt x="146001" y="49263"/>
                </a:lnTo>
                <a:lnTo>
                  <a:pt x="148764" y="43174"/>
                </a:lnTo>
                <a:lnTo>
                  <a:pt x="150607" y="38163"/>
                </a:lnTo>
                <a:lnTo>
                  <a:pt x="151835" y="33869"/>
                </a:lnTo>
                <a:lnTo>
                  <a:pt x="154559" y="29102"/>
                </a:lnTo>
                <a:lnTo>
                  <a:pt x="158280" y="24019"/>
                </a:lnTo>
                <a:lnTo>
                  <a:pt x="168838" y="11275"/>
                </a:lnTo>
                <a:lnTo>
                  <a:pt x="172822" y="6992"/>
                </a:lnTo>
                <a:lnTo>
                  <a:pt x="175218" y="4516"/>
                </a:lnTo>
                <a:lnTo>
                  <a:pt x="177768" y="2866"/>
                </a:lnTo>
                <a:lnTo>
                  <a:pt x="183140" y="1032"/>
                </a:lnTo>
                <a:lnTo>
                  <a:pt x="191521" y="0"/>
                </a:lnTo>
                <a:lnTo>
                  <a:pt x="194351" y="808"/>
                </a:lnTo>
                <a:lnTo>
                  <a:pt x="200036" y="4245"/>
                </a:lnTo>
                <a:lnTo>
                  <a:pt x="205738" y="8948"/>
                </a:lnTo>
                <a:lnTo>
                  <a:pt x="211447" y="14213"/>
                </a:lnTo>
                <a:lnTo>
                  <a:pt x="217159" y="19727"/>
                </a:lnTo>
                <a:lnTo>
                  <a:pt x="230281" y="32739"/>
                </a:lnTo>
                <a:lnTo>
                  <a:pt x="234479" y="37873"/>
                </a:lnTo>
                <a:lnTo>
                  <a:pt x="238230" y="43201"/>
                </a:lnTo>
                <a:lnTo>
                  <a:pt x="241683" y="48658"/>
                </a:lnTo>
                <a:lnTo>
                  <a:pt x="244937" y="55154"/>
                </a:lnTo>
                <a:lnTo>
                  <a:pt x="248060" y="62342"/>
                </a:lnTo>
                <a:lnTo>
                  <a:pt x="251095" y="69991"/>
                </a:lnTo>
                <a:lnTo>
                  <a:pt x="253117" y="76996"/>
                </a:lnTo>
                <a:lnTo>
                  <a:pt x="254465" y="83571"/>
                </a:lnTo>
                <a:lnTo>
                  <a:pt x="255365" y="89859"/>
                </a:lnTo>
                <a:lnTo>
                  <a:pt x="255964" y="95956"/>
                </a:lnTo>
                <a:lnTo>
                  <a:pt x="256364" y="101926"/>
                </a:lnTo>
                <a:lnTo>
                  <a:pt x="256630" y="107810"/>
                </a:lnTo>
                <a:lnTo>
                  <a:pt x="257760" y="112686"/>
                </a:lnTo>
                <a:lnTo>
                  <a:pt x="259465" y="116889"/>
                </a:lnTo>
                <a:lnTo>
                  <a:pt x="261555" y="120643"/>
                </a:lnTo>
                <a:lnTo>
                  <a:pt x="262948" y="125052"/>
                </a:lnTo>
                <a:lnTo>
                  <a:pt x="263877" y="129895"/>
                </a:lnTo>
                <a:lnTo>
                  <a:pt x="264497" y="135029"/>
                </a:lnTo>
                <a:lnTo>
                  <a:pt x="264909" y="140357"/>
                </a:lnTo>
                <a:lnTo>
                  <a:pt x="265184" y="145814"/>
                </a:lnTo>
                <a:lnTo>
                  <a:pt x="265571" y="160056"/>
                </a:lnTo>
                <a:lnTo>
                  <a:pt x="265626" y="163709"/>
                </a:lnTo>
                <a:lnTo>
                  <a:pt x="266614" y="167097"/>
                </a:lnTo>
                <a:lnTo>
                  <a:pt x="270253" y="173401"/>
                </a:lnTo>
                <a:lnTo>
                  <a:pt x="274459" y="179318"/>
                </a:lnTo>
                <a:lnTo>
                  <a:pt x="279961" y="185117"/>
                </a:lnTo>
                <a:lnTo>
                  <a:pt x="281583" y="186808"/>
                </a:lnTo>
                <a:lnTo>
                  <a:pt x="282968" y="187259"/>
                </a:lnTo>
                <a:lnTo>
                  <a:pt x="291452" y="1881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MARTPenAnnotation831"/>
          <p:cNvSpPr/>
          <p:nvPr/>
        </p:nvSpPr>
        <p:spPr>
          <a:xfrm>
            <a:off x="7975440" y="2982960"/>
            <a:ext cx="204840" cy="17280"/>
          </a:xfrm>
          <a:custGeom>
            <a:avLst/>
            <a:gdLst>
              <a:gd name="textAreaLeft" fmla="*/ 0 w 204840"/>
              <a:gd name="textAreaRight" fmla="*/ 205200 w 2048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05741" h="17115">
                <a:moveTo>
                  <a:pt x="0" y="8572"/>
                </a:moveTo>
                <a:lnTo>
                  <a:pt x="4551" y="8572"/>
                </a:lnTo>
                <a:lnTo>
                  <a:pt x="6843" y="9525"/>
                </a:lnTo>
                <a:lnTo>
                  <a:pt x="9325" y="11112"/>
                </a:lnTo>
                <a:lnTo>
                  <a:pt x="11932" y="13123"/>
                </a:lnTo>
                <a:lnTo>
                  <a:pt x="14622" y="14463"/>
                </a:lnTo>
                <a:lnTo>
                  <a:pt x="17368" y="15357"/>
                </a:lnTo>
                <a:lnTo>
                  <a:pt x="20151" y="15953"/>
                </a:lnTo>
                <a:lnTo>
                  <a:pt x="22959" y="16350"/>
                </a:lnTo>
                <a:lnTo>
                  <a:pt x="28620" y="16792"/>
                </a:lnTo>
                <a:lnTo>
                  <a:pt x="36849" y="16988"/>
                </a:lnTo>
                <a:lnTo>
                  <a:pt x="57655" y="17114"/>
                </a:lnTo>
                <a:lnTo>
                  <a:pt x="62249" y="16171"/>
                </a:lnTo>
                <a:lnTo>
                  <a:pt x="66265" y="14591"/>
                </a:lnTo>
                <a:lnTo>
                  <a:pt x="69895" y="12585"/>
                </a:lnTo>
                <a:lnTo>
                  <a:pt x="74218" y="11247"/>
                </a:lnTo>
                <a:lnTo>
                  <a:pt x="79006" y="10355"/>
                </a:lnTo>
                <a:lnTo>
                  <a:pt x="84103" y="9761"/>
                </a:lnTo>
                <a:lnTo>
                  <a:pt x="89407" y="9365"/>
                </a:lnTo>
                <a:lnTo>
                  <a:pt x="94847" y="9100"/>
                </a:lnTo>
                <a:lnTo>
                  <a:pt x="100380" y="8924"/>
                </a:lnTo>
                <a:lnTo>
                  <a:pt x="105972" y="7854"/>
                </a:lnTo>
                <a:lnTo>
                  <a:pt x="111606" y="6189"/>
                </a:lnTo>
                <a:lnTo>
                  <a:pt x="117266" y="4126"/>
                </a:lnTo>
                <a:lnTo>
                  <a:pt x="123898" y="2750"/>
                </a:lnTo>
                <a:lnTo>
                  <a:pt x="131175" y="1833"/>
                </a:lnTo>
                <a:lnTo>
                  <a:pt x="144978" y="815"/>
                </a:lnTo>
                <a:lnTo>
                  <a:pt x="154287" y="362"/>
                </a:lnTo>
                <a:lnTo>
                  <a:pt x="161600" y="161"/>
                </a:lnTo>
                <a:lnTo>
                  <a:pt x="182889" y="21"/>
                </a:lnTo>
                <a:lnTo>
                  <a:pt x="2057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MARTPenAnnotation832"/>
          <p:cNvSpPr/>
          <p:nvPr/>
        </p:nvSpPr>
        <p:spPr>
          <a:xfrm>
            <a:off x="8051760" y="2879640"/>
            <a:ext cx="95400" cy="249480"/>
          </a:xfrm>
          <a:custGeom>
            <a:avLst/>
            <a:gdLst>
              <a:gd name="textAreaLeft" fmla="*/ 0 w 95400"/>
              <a:gd name="textAreaRight" fmla="*/ 95760 w 9540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94267" h="248499">
                <a:moveTo>
                  <a:pt x="8541" y="8468"/>
                </a:moveTo>
                <a:lnTo>
                  <a:pt x="8541" y="248"/>
                </a:lnTo>
                <a:lnTo>
                  <a:pt x="6001" y="53"/>
                </a:lnTo>
                <a:lnTo>
                  <a:pt x="3990" y="0"/>
                </a:lnTo>
                <a:lnTo>
                  <a:pt x="2650" y="918"/>
                </a:lnTo>
                <a:lnTo>
                  <a:pt x="1756" y="2482"/>
                </a:lnTo>
                <a:lnTo>
                  <a:pt x="763" y="6760"/>
                </a:lnTo>
                <a:lnTo>
                  <a:pt x="204" y="14524"/>
                </a:lnTo>
                <a:lnTo>
                  <a:pt x="73" y="20050"/>
                </a:lnTo>
                <a:lnTo>
                  <a:pt x="0" y="28516"/>
                </a:lnTo>
                <a:lnTo>
                  <a:pt x="942" y="31358"/>
                </a:lnTo>
                <a:lnTo>
                  <a:pt x="2523" y="34206"/>
                </a:lnTo>
                <a:lnTo>
                  <a:pt x="4529" y="37056"/>
                </a:lnTo>
                <a:lnTo>
                  <a:pt x="6818" y="40862"/>
                </a:lnTo>
                <a:lnTo>
                  <a:pt x="9297" y="45304"/>
                </a:lnTo>
                <a:lnTo>
                  <a:pt x="11903" y="50170"/>
                </a:lnTo>
                <a:lnTo>
                  <a:pt x="13640" y="55320"/>
                </a:lnTo>
                <a:lnTo>
                  <a:pt x="14798" y="60658"/>
                </a:lnTo>
                <a:lnTo>
                  <a:pt x="15570" y="66121"/>
                </a:lnTo>
                <a:lnTo>
                  <a:pt x="17037" y="71668"/>
                </a:lnTo>
                <a:lnTo>
                  <a:pt x="18968" y="77272"/>
                </a:lnTo>
                <a:lnTo>
                  <a:pt x="21207" y="82912"/>
                </a:lnTo>
                <a:lnTo>
                  <a:pt x="23653" y="87625"/>
                </a:lnTo>
                <a:lnTo>
                  <a:pt x="26236" y="91719"/>
                </a:lnTo>
                <a:lnTo>
                  <a:pt x="28910" y="95402"/>
                </a:lnTo>
                <a:lnTo>
                  <a:pt x="30694" y="99761"/>
                </a:lnTo>
                <a:lnTo>
                  <a:pt x="31882" y="104572"/>
                </a:lnTo>
                <a:lnTo>
                  <a:pt x="32674" y="109685"/>
                </a:lnTo>
                <a:lnTo>
                  <a:pt x="34155" y="114999"/>
                </a:lnTo>
                <a:lnTo>
                  <a:pt x="36094" y="120446"/>
                </a:lnTo>
                <a:lnTo>
                  <a:pt x="38340" y="125983"/>
                </a:lnTo>
                <a:lnTo>
                  <a:pt x="40789" y="130626"/>
                </a:lnTo>
                <a:lnTo>
                  <a:pt x="43375" y="134674"/>
                </a:lnTo>
                <a:lnTo>
                  <a:pt x="46051" y="138326"/>
                </a:lnTo>
                <a:lnTo>
                  <a:pt x="48789" y="142665"/>
                </a:lnTo>
                <a:lnTo>
                  <a:pt x="51564" y="147463"/>
                </a:lnTo>
                <a:lnTo>
                  <a:pt x="54368" y="152566"/>
                </a:lnTo>
                <a:lnTo>
                  <a:pt x="57190" y="156921"/>
                </a:lnTo>
                <a:lnTo>
                  <a:pt x="60024" y="160777"/>
                </a:lnTo>
                <a:lnTo>
                  <a:pt x="62865" y="164300"/>
                </a:lnTo>
                <a:lnTo>
                  <a:pt x="64759" y="168553"/>
                </a:lnTo>
                <a:lnTo>
                  <a:pt x="66022" y="173294"/>
                </a:lnTo>
                <a:lnTo>
                  <a:pt x="66865" y="178360"/>
                </a:lnTo>
                <a:lnTo>
                  <a:pt x="68379" y="182689"/>
                </a:lnTo>
                <a:lnTo>
                  <a:pt x="70340" y="186528"/>
                </a:lnTo>
                <a:lnTo>
                  <a:pt x="72600" y="190040"/>
                </a:lnTo>
                <a:lnTo>
                  <a:pt x="75112" y="196481"/>
                </a:lnTo>
                <a:lnTo>
                  <a:pt x="75782" y="199533"/>
                </a:lnTo>
                <a:lnTo>
                  <a:pt x="77181" y="202519"/>
                </a:lnTo>
                <a:lnTo>
                  <a:pt x="79065" y="205463"/>
                </a:lnTo>
                <a:lnTo>
                  <a:pt x="81276" y="208378"/>
                </a:lnTo>
                <a:lnTo>
                  <a:pt x="82748" y="212227"/>
                </a:lnTo>
                <a:lnTo>
                  <a:pt x="83731" y="216697"/>
                </a:lnTo>
                <a:lnTo>
                  <a:pt x="84384" y="221582"/>
                </a:lnTo>
                <a:lnTo>
                  <a:pt x="85773" y="224839"/>
                </a:lnTo>
                <a:lnTo>
                  <a:pt x="87651" y="227011"/>
                </a:lnTo>
                <a:lnTo>
                  <a:pt x="89857" y="228458"/>
                </a:lnTo>
                <a:lnTo>
                  <a:pt x="91326" y="230376"/>
                </a:lnTo>
                <a:lnTo>
                  <a:pt x="92306" y="232607"/>
                </a:lnTo>
                <a:lnTo>
                  <a:pt x="93395" y="237625"/>
                </a:lnTo>
                <a:lnTo>
                  <a:pt x="94008" y="244853"/>
                </a:lnTo>
                <a:lnTo>
                  <a:pt x="94266" y="24849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MARTPenAnnotation833"/>
          <p:cNvSpPr/>
          <p:nvPr/>
        </p:nvSpPr>
        <p:spPr>
          <a:xfrm>
            <a:off x="8215200" y="2906640"/>
            <a:ext cx="179640" cy="179640"/>
          </a:xfrm>
          <a:custGeom>
            <a:avLst/>
            <a:gdLst>
              <a:gd name="textAreaLeft" fmla="*/ 0 w 179640"/>
              <a:gd name="textAreaRight" fmla="*/ 180000 w 179640"/>
              <a:gd name="textAreaTop" fmla="*/ 0 h 179640"/>
              <a:gd name="textAreaBottom" fmla="*/ 179640 h 179640"/>
            </a:gdLst>
            <a:ahLst/>
            <a:rect l="textAreaLeft" t="textAreaTop" r="textAreaRight" b="textAreaBottom"/>
            <a:pathLst>
              <a:path w="180023" h="179037">
                <a:moveTo>
                  <a:pt x="0" y="16630"/>
                </a:moveTo>
                <a:lnTo>
                  <a:pt x="4551" y="16630"/>
                </a:lnTo>
                <a:lnTo>
                  <a:pt x="5892" y="17583"/>
                </a:lnTo>
                <a:lnTo>
                  <a:pt x="6785" y="19170"/>
                </a:lnTo>
                <a:lnTo>
                  <a:pt x="8730" y="24427"/>
                </a:lnTo>
                <a:lnTo>
                  <a:pt x="10583" y="28495"/>
                </a:lnTo>
                <a:lnTo>
                  <a:pt x="12771" y="33113"/>
                </a:lnTo>
                <a:lnTo>
                  <a:pt x="14229" y="37144"/>
                </a:lnTo>
                <a:lnTo>
                  <a:pt x="15201" y="40783"/>
                </a:lnTo>
                <a:lnTo>
                  <a:pt x="15849" y="44162"/>
                </a:lnTo>
                <a:lnTo>
                  <a:pt x="17234" y="48320"/>
                </a:lnTo>
                <a:lnTo>
                  <a:pt x="19109" y="52996"/>
                </a:lnTo>
                <a:lnTo>
                  <a:pt x="21312" y="58019"/>
                </a:lnTo>
                <a:lnTo>
                  <a:pt x="26299" y="68680"/>
                </a:lnTo>
                <a:lnTo>
                  <a:pt x="28963" y="74190"/>
                </a:lnTo>
                <a:lnTo>
                  <a:pt x="30738" y="79768"/>
                </a:lnTo>
                <a:lnTo>
                  <a:pt x="31923" y="85392"/>
                </a:lnTo>
                <a:lnTo>
                  <a:pt x="32712" y="91047"/>
                </a:lnTo>
                <a:lnTo>
                  <a:pt x="34191" y="96721"/>
                </a:lnTo>
                <a:lnTo>
                  <a:pt x="36129" y="102409"/>
                </a:lnTo>
                <a:lnTo>
                  <a:pt x="38374" y="108106"/>
                </a:lnTo>
                <a:lnTo>
                  <a:pt x="40822" y="113809"/>
                </a:lnTo>
                <a:lnTo>
                  <a:pt x="46083" y="125226"/>
                </a:lnTo>
                <a:lnTo>
                  <a:pt x="47868" y="129985"/>
                </a:lnTo>
                <a:lnTo>
                  <a:pt x="49057" y="134110"/>
                </a:lnTo>
                <a:lnTo>
                  <a:pt x="49850" y="137812"/>
                </a:lnTo>
                <a:lnTo>
                  <a:pt x="51330" y="141233"/>
                </a:lnTo>
                <a:lnTo>
                  <a:pt x="53270" y="144466"/>
                </a:lnTo>
                <a:lnTo>
                  <a:pt x="55516" y="147574"/>
                </a:lnTo>
                <a:lnTo>
                  <a:pt x="57014" y="150599"/>
                </a:lnTo>
                <a:lnTo>
                  <a:pt x="58012" y="153567"/>
                </a:lnTo>
                <a:lnTo>
                  <a:pt x="58676" y="156499"/>
                </a:lnTo>
                <a:lnTo>
                  <a:pt x="60072" y="159406"/>
                </a:lnTo>
                <a:lnTo>
                  <a:pt x="61956" y="162297"/>
                </a:lnTo>
                <a:lnTo>
                  <a:pt x="67272" y="169229"/>
                </a:lnTo>
                <a:lnTo>
                  <a:pt x="67998" y="172717"/>
                </a:lnTo>
                <a:lnTo>
                  <a:pt x="68465" y="178166"/>
                </a:lnTo>
                <a:lnTo>
                  <a:pt x="68557" y="173351"/>
                </a:lnTo>
                <a:lnTo>
                  <a:pt x="68570" y="172009"/>
                </a:lnTo>
                <a:lnTo>
                  <a:pt x="64027" y="166702"/>
                </a:lnTo>
                <a:lnTo>
                  <a:pt x="62686" y="164303"/>
                </a:lnTo>
                <a:lnTo>
                  <a:pt x="61199" y="159098"/>
                </a:lnTo>
                <a:lnTo>
                  <a:pt x="60802" y="155424"/>
                </a:lnTo>
                <a:lnTo>
                  <a:pt x="60537" y="151069"/>
                </a:lnTo>
                <a:lnTo>
                  <a:pt x="60243" y="141151"/>
                </a:lnTo>
                <a:lnTo>
                  <a:pt x="60112" y="130392"/>
                </a:lnTo>
                <a:lnTo>
                  <a:pt x="59125" y="124857"/>
                </a:lnTo>
                <a:lnTo>
                  <a:pt x="57514" y="119261"/>
                </a:lnTo>
                <a:lnTo>
                  <a:pt x="55488" y="113626"/>
                </a:lnTo>
                <a:lnTo>
                  <a:pt x="54137" y="108916"/>
                </a:lnTo>
                <a:lnTo>
                  <a:pt x="53236" y="104824"/>
                </a:lnTo>
                <a:lnTo>
                  <a:pt x="52636" y="101144"/>
                </a:lnTo>
                <a:lnTo>
                  <a:pt x="53187" y="96785"/>
                </a:lnTo>
                <a:lnTo>
                  <a:pt x="54508" y="91974"/>
                </a:lnTo>
                <a:lnTo>
                  <a:pt x="56342" y="86862"/>
                </a:lnTo>
                <a:lnTo>
                  <a:pt x="57563" y="81549"/>
                </a:lnTo>
                <a:lnTo>
                  <a:pt x="58378" y="76102"/>
                </a:lnTo>
                <a:lnTo>
                  <a:pt x="58921" y="70565"/>
                </a:lnTo>
                <a:lnTo>
                  <a:pt x="59283" y="64969"/>
                </a:lnTo>
                <a:lnTo>
                  <a:pt x="59525" y="59334"/>
                </a:lnTo>
                <a:lnTo>
                  <a:pt x="59686" y="53672"/>
                </a:lnTo>
                <a:lnTo>
                  <a:pt x="61698" y="47992"/>
                </a:lnTo>
                <a:lnTo>
                  <a:pt x="64945" y="42300"/>
                </a:lnTo>
                <a:lnTo>
                  <a:pt x="69014" y="36601"/>
                </a:lnTo>
                <a:lnTo>
                  <a:pt x="71727" y="31849"/>
                </a:lnTo>
                <a:lnTo>
                  <a:pt x="73536" y="27729"/>
                </a:lnTo>
                <a:lnTo>
                  <a:pt x="74740" y="24029"/>
                </a:lnTo>
                <a:lnTo>
                  <a:pt x="76498" y="20610"/>
                </a:lnTo>
                <a:lnTo>
                  <a:pt x="78621" y="17378"/>
                </a:lnTo>
                <a:lnTo>
                  <a:pt x="80989" y="14272"/>
                </a:lnTo>
                <a:lnTo>
                  <a:pt x="83520" y="11248"/>
                </a:lnTo>
                <a:lnTo>
                  <a:pt x="86161" y="8279"/>
                </a:lnTo>
                <a:lnTo>
                  <a:pt x="88873" y="5348"/>
                </a:lnTo>
                <a:lnTo>
                  <a:pt x="91633" y="3394"/>
                </a:lnTo>
                <a:lnTo>
                  <a:pt x="97241" y="1222"/>
                </a:lnTo>
                <a:lnTo>
                  <a:pt x="101023" y="643"/>
                </a:lnTo>
                <a:lnTo>
                  <a:pt x="105449" y="257"/>
                </a:lnTo>
                <a:lnTo>
                  <a:pt x="110304" y="0"/>
                </a:lnTo>
                <a:lnTo>
                  <a:pt x="114494" y="781"/>
                </a:lnTo>
                <a:lnTo>
                  <a:pt x="118239" y="2254"/>
                </a:lnTo>
                <a:lnTo>
                  <a:pt x="121688" y="4188"/>
                </a:lnTo>
                <a:lnTo>
                  <a:pt x="124940" y="5478"/>
                </a:lnTo>
                <a:lnTo>
                  <a:pt x="128061" y="6338"/>
                </a:lnTo>
                <a:lnTo>
                  <a:pt x="131094" y="6911"/>
                </a:lnTo>
                <a:lnTo>
                  <a:pt x="133117" y="9198"/>
                </a:lnTo>
                <a:lnTo>
                  <a:pt x="134465" y="12628"/>
                </a:lnTo>
                <a:lnTo>
                  <a:pt x="135363" y="16819"/>
                </a:lnTo>
                <a:lnTo>
                  <a:pt x="136914" y="20566"/>
                </a:lnTo>
                <a:lnTo>
                  <a:pt x="138902" y="24017"/>
                </a:lnTo>
                <a:lnTo>
                  <a:pt x="141178" y="27270"/>
                </a:lnTo>
                <a:lnTo>
                  <a:pt x="143649" y="31343"/>
                </a:lnTo>
                <a:lnTo>
                  <a:pt x="146248" y="35964"/>
                </a:lnTo>
                <a:lnTo>
                  <a:pt x="148934" y="40949"/>
                </a:lnTo>
                <a:lnTo>
                  <a:pt x="150724" y="46178"/>
                </a:lnTo>
                <a:lnTo>
                  <a:pt x="151918" y="51569"/>
                </a:lnTo>
                <a:lnTo>
                  <a:pt x="152713" y="57067"/>
                </a:lnTo>
                <a:lnTo>
                  <a:pt x="154198" y="62638"/>
                </a:lnTo>
                <a:lnTo>
                  <a:pt x="156139" y="68257"/>
                </a:lnTo>
                <a:lnTo>
                  <a:pt x="158384" y="73908"/>
                </a:lnTo>
                <a:lnTo>
                  <a:pt x="160835" y="79580"/>
                </a:lnTo>
                <a:lnTo>
                  <a:pt x="166098" y="90963"/>
                </a:lnTo>
                <a:lnTo>
                  <a:pt x="167882" y="96665"/>
                </a:lnTo>
                <a:lnTo>
                  <a:pt x="169072" y="102372"/>
                </a:lnTo>
                <a:lnTo>
                  <a:pt x="169863" y="108081"/>
                </a:lnTo>
                <a:lnTo>
                  <a:pt x="170392" y="112840"/>
                </a:lnTo>
                <a:lnTo>
                  <a:pt x="170745" y="116965"/>
                </a:lnTo>
                <a:lnTo>
                  <a:pt x="170980" y="120668"/>
                </a:lnTo>
                <a:lnTo>
                  <a:pt x="172089" y="125041"/>
                </a:lnTo>
                <a:lnTo>
                  <a:pt x="173782" y="129861"/>
                </a:lnTo>
                <a:lnTo>
                  <a:pt x="175862" y="134980"/>
                </a:lnTo>
                <a:lnTo>
                  <a:pt x="177248" y="139345"/>
                </a:lnTo>
                <a:lnTo>
                  <a:pt x="178174" y="143208"/>
                </a:lnTo>
                <a:lnTo>
                  <a:pt x="178790" y="146735"/>
                </a:lnTo>
                <a:lnTo>
                  <a:pt x="179201" y="150039"/>
                </a:lnTo>
                <a:lnTo>
                  <a:pt x="179475" y="153195"/>
                </a:lnTo>
                <a:lnTo>
                  <a:pt x="179915" y="160552"/>
                </a:lnTo>
                <a:lnTo>
                  <a:pt x="179974" y="164098"/>
                </a:lnTo>
                <a:lnTo>
                  <a:pt x="180022" y="179036"/>
                </a:lnTo>
                <a:lnTo>
                  <a:pt x="180022" y="1709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MARTPenAnnotation834"/>
          <p:cNvSpPr/>
          <p:nvPr/>
        </p:nvSpPr>
        <p:spPr>
          <a:xfrm>
            <a:off x="8472600" y="2906640"/>
            <a:ext cx="204840" cy="33480"/>
          </a:xfrm>
          <a:custGeom>
            <a:avLst/>
            <a:gdLst>
              <a:gd name="textAreaLeft" fmla="*/ 0 w 204840"/>
              <a:gd name="textAreaRight" fmla="*/ 205200 w 2048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05204" h="34281">
                <a:moveTo>
                  <a:pt x="0" y="34280"/>
                </a:moveTo>
                <a:lnTo>
                  <a:pt x="7382" y="34280"/>
                </a:lnTo>
                <a:lnTo>
                  <a:pt x="8730" y="33327"/>
                </a:lnTo>
                <a:lnTo>
                  <a:pt x="10583" y="31740"/>
                </a:lnTo>
                <a:lnTo>
                  <a:pt x="12771" y="29729"/>
                </a:lnTo>
                <a:lnTo>
                  <a:pt x="15182" y="28389"/>
                </a:lnTo>
                <a:lnTo>
                  <a:pt x="17742" y="27495"/>
                </a:lnTo>
                <a:lnTo>
                  <a:pt x="23126" y="26502"/>
                </a:lnTo>
                <a:lnTo>
                  <a:pt x="28693" y="26060"/>
                </a:lnTo>
                <a:lnTo>
                  <a:pt x="34342" y="25865"/>
                </a:lnTo>
                <a:lnTo>
                  <a:pt x="45418" y="25754"/>
                </a:lnTo>
                <a:lnTo>
                  <a:pt x="50281" y="25739"/>
                </a:lnTo>
                <a:lnTo>
                  <a:pt x="55428" y="24776"/>
                </a:lnTo>
                <a:lnTo>
                  <a:pt x="60765" y="23181"/>
                </a:lnTo>
                <a:lnTo>
                  <a:pt x="66228" y="21166"/>
                </a:lnTo>
                <a:lnTo>
                  <a:pt x="71774" y="19822"/>
                </a:lnTo>
                <a:lnTo>
                  <a:pt x="77377" y="18927"/>
                </a:lnTo>
                <a:lnTo>
                  <a:pt x="83017" y="18329"/>
                </a:lnTo>
                <a:lnTo>
                  <a:pt x="88682" y="17931"/>
                </a:lnTo>
                <a:lnTo>
                  <a:pt x="94365" y="17666"/>
                </a:lnTo>
                <a:lnTo>
                  <a:pt x="100056" y="17489"/>
                </a:lnTo>
                <a:lnTo>
                  <a:pt x="105757" y="16418"/>
                </a:lnTo>
                <a:lnTo>
                  <a:pt x="111462" y="14752"/>
                </a:lnTo>
                <a:lnTo>
                  <a:pt x="117171" y="12689"/>
                </a:lnTo>
                <a:lnTo>
                  <a:pt x="122882" y="11314"/>
                </a:lnTo>
                <a:lnTo>
                  <a:pt x="128594" y="10397"/>
                </a:lnTo>
                <a:lnTo>
                  <a:pt x="134307" y="9785"/>
                </a:lnTo>
                <a:lnTo>
                  <a:pt x="140020" y="8425"/>
                </a:lnTo>
                <a:lnTo>
                  <a:pt x="145735" y="6566"/>
                </a:lnTo>
                <a:lnTo>
                  <a:pt x="151450" y="4374"/>
                </a:lnTo>
                <a:lnTo>
                  <a:pt x="156211" y="2913"/>
                </a:lnTo>
                <a:lnTo>
                  <a:pt x="160338" y="1938"/>
                </a:lnTo>
                <a:lnTo>
                  <a:pt x="164042" y="1289"/>
                </a:lnTo>
                <a:lnTo>
                  <a:pt x="168416" y="856"/>
                </a:lnTo>
                <a:lnTo>
                  <a:pt x="173237" y="567"/>
                </a:lnTo>
                <a:lnTo>
                  <a:pt x="182722" y="247"/>
                </a:lnTo>
                <a:lnTo>
                  <a:pt x="196572" y="41"/>
                </a:lnTo>
                <a:lnTo>
                  <a:pt x="203929" y="0"/>
                </a:lnTo>
                <a:lnTo>
                  <a:pt x="204532" y="949"/>
                </a:lnTo>
                <a:lnTo>
                  <a:pt x="204936" y="2535"/>
                </a:lnTo>
                <a:lnTo>
                  <a:pt x="205203" y="4544"/>
                </a:lnTo>
                <a:lnTo>
                  <a:pt x="204430" y="5883"/>
                </a:lnTo>
                <a:lnTo>
                  <a:pt x="202962" y="6777"/>
                </a:lnTo>
                <a:lnTo>
                  <a:pt x="197168" y="85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MARTPenAnnotation835"/>
          <p:cNvSpPr/>
          <p:nvPr/>
        </p:nvSpPr>
        <p:spPr>
          <a:xfrm>
            <a:off x="8489880" y="2965320"/>
            <a:ext cx="222480" cy="42840"/>
          </a:xfrm>
          <a:custGeom>
            <a:avLst/>
            <a:gdLst>
              <a:gd name="textAreaLeft" fmla="*/ 0 w 222480"/>
              <a:gd name="textAreaRight" fmla="*/ 222840 w 22248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222886" h="42863">
                <a:moveTo>
                  <a:pt x="0" y="42862"/>
                </a:moveTo>
                <a:lnTo>
                  <a:pt x="4939" y="42862"/>
                </a:lnTo>
                <a:lnTo>
                  <a:pt x="2831" y="42862"/>
                </a:lnTo>
                <a:lnTo>
                  <a:pt x="20480" y="42862"/>
                </a:lnTo>
                <a:lnTo>
                  <a:pt x="23179" y="41910"/>
                </a:lnTo>
                <a:lnTo>
                  <a:pt x="25930" y="40322"/>
                </a:lnTo>
                <a:lnTo>
                  <a:pt x="28717" y="38311"/>
                </a:lnTo>
                <a:lnTo>
                  <a:pt x="32480" y="36971"/>
                </a:lnTo>
                <a:lnTo>
                  <a:pt x="36893" y="36077"/>
                </a:lnTo>
                <a:lnTo>
                  <a:pt x="41740" y="35481"/>
                </a:lnTo>
                <a:lnTo>
                  <a:pt x="46877" y="35084"/>
                </a:lnTo>
                <a:lnTo>
                  <a:pt x="52207" y="34819"/>
                </a:lnTo>
                <a:lnTo>
                  <a:pt x="63207" y="34525"/>
                </a:lnTo>
                <a:lnTo>
                  <a:pt x="91486" y="34321"/>
                </a:lnTo>
                <a:lnTo>
                  <a:pt x="97186" y="33358"/>
                </a:lnTo>
                <a:lnTo>
                  <a:pt x="102890" y="31763"/>
                </a:lnTo>
                <a:lnTo>
                  <a:pt x="108598" y="29748"/>
                </a:lnTo>
                <a:lnTo>
                  <a:pt x="114309" y="28404"/>
                </a:lnTo>
                <a:lnTo>
                  <a:pt x="120021" y="27509"/>
                </a:lnTo>
                <a:lnTo>
                  <a:pt x="125735" y="26911"/>
                </a:lnTo>
                <a:lnTo>
                  <a:pt x="131447" y="26513"/>
                </a:lnTo>
                <a:lnTo>
                  <a:pt x="137162" y="26248"/>
                </a:lnTo>
                <a:lnTo>
                  <a:pt x="142877" y="26071"/>
                </a:lnTo>
                <a:lnTo>
                  <a:pt x="148591" y="25001"/>
                </a:lnTo>
                <a:lnTo>
                  <a:pt x="154306" y="23334"/>
                </a:lnTo>
                <a:lnTo>
                  <a:pt x="160021" y="21271"/>
                </a:lnTo>
                <a:lnTo>
                  <a:pt x="164783" y="19896"/>
                </a:lnTo>
                <a:lnTo>
                  <a:pt x="168910" y="18979"/>
                </a:lnTo>
                <a:lnTo>
                  <a:pt x="172615" y="18367"/>
                </a:lnTo>
                <a:lnTo>
                  <a:pt x="176989" y="17007"/>
                </a:lnTo>
                <a:lnTo>
                  <a:pt x="181810" y="15148"/>
                </a:lnTo>
                <a:lnTo>
                  <a:pt x="194134" y="9871"/>
                </a:lnTo>
                <a:lnTo>
                  <a:pt x="200899" y="9149"/>
                </a:lnTo>
                <a:lnTo>
                  <a:pt x="205371" y="8957"/>
                </a:lnTo>
                <a:lnTo>
                  <a:pt x="208351" y="7876"/>
                </a:lnTo>
                <a:lnTo>
                  <a:pt x="210338" y="6203"/>
                </a:lnTo>
                <a:lnTo>
                  <a:pt x="211663" y="4135"/>
                </a:lnTo>
                <a:lnTo>
                  <a:pt x="213498" y="2757"/>
                </a:lnTo>
                <a:lnTo>
                  <a:pt x="215675" y="1838"/>
                </a:lnTo>
                <a:lnTo>
                  <a:pt x="22288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MARTPenAnnotation836"/>
          <p:cNvSpPr/>
          <p:nvPr/>
        </p:nvSpPr>
        <p:spPr>
          <a:xfrm>
            <a:off x="8764560" y="2793960"/>
            <a:ext cx="196920" cy="262080"/>
          </a:xfrm>
          <a:custGeom>
            <a:avLst/>
            <a:gdLst>
              <a:gd name="textAreaLeft" fmla="*/ 0 w 196920"/>
              <a:gd name="textAreaRight" fmla="*/ 197280 w 196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97017" h="262005">
                <a:moveTo>
                  <a:pt x="0" y="17135"/>
                </a:moveTo>
                <a:lnTo>
                  <a:pt x="0" y="12584"/>
                </a:lnTo>
                <a:lnTo>
                  <a:pt x="952" y="11243"/>
                </a:lnTo>
                <a:lnTo>
                  <a:pt x="2540" y="10349"/>
                </a:lnTo>
                <a:lnTo>
                  <a:pt x="4551" y="9754"/>
                </a:lnTo>
                <a:lnTo>
                  <a:pt x="5891" y="8404"/>
                </a:lnTo>
                <a:lnTo>
                  <a:pt x="6785" y="6552"/>
                </a:lnTo>
                <a:lnTo>
                  <a:pt x="8468" y="374"/>
                </a:lnTo>
                <a:lnTo>
                  <a:pt x="14443" y="66"/>
                </a:lnTo>
                <a:lnTo>
                  <a:pt x="16789" y="0"/>
                </a:lnTo>
                <a:lnTo>
                  <a:pt x="17075" y="6835"/>
                </a:lnTo>
                <a:lnTo>
                  <a:pt x="17143" y="35989"/>
                </a:lnTo>
                <a:lnTo>
                  <a:pt x="18096" y="40182"/>
                </a:lnTo>
                <a:lnTo>
                  <a:pt x="19683" y="44882"/>
                </a:lnTo>
                <a:lnTo>
                  <a:pt x="21696" y="49921"/>
                </a:lnTo>
                <a:lnTo>
                  <a:pt x="23037" y="55184"/>
                </a:lnTo>
                <a:lnTo>
                  <a:pt x="23930" y="60598"/>
                </a:lnTo>
                <a:lnTo>
                  <a:pt x="24526" y="66113"/>
                </a:lnTo>
                <a:lnTo>
                  <a:pt x="24923" y="71694"/>
                </a:lnTo>
                <a:lnTo>
                  <a:pt x="25188" y="77320"/>
                </a:lnTo>
                <a:lnTo>
                  <a:pt x="25482" y="88651"/>
                </a:lnTo>
                <a:lnTo>
                  <a:pt x="25613" y="100037"/>
                </a:lnTo>
                <a:lnTo>
                  <a:pt x="26601" y="105740"/>
                </a:lnTo>
                <a:lnTo>
                  <a:pt x="28212" y="111448"/>
                </a:lnTo>
                <a:lnTo>
                  <a:pt x="30237" y="117157"/>
                </a:lnTo>
                <a:lnTo>
                  <a:pt x="31588" y="123822"/>
                </a:lnTo>
                <a:lnTo>
                  <a:pt x="32489" y="131122"/>
                </a:lnTo>
                <a:lnTo>
                  <a:pt x="33090" y="138846"/>
                </a:lnTo>
                <a:lnTo>
                  <a:pt x="34441" y="145900"/>
                </a:lnTo>
                <a:lnTo>
                  <a:pt x="36297" y="152509"/>
                </a:lnTo>
                <a:lnTo>
                  <a:pt x="38485" y="158819"/>
                </a:lnTo>
                <a:lnTo>
                  <a:pt x="39944" y="164931"/>
                </a:lnTo>
                <a:lnTo>
                  <a:pt x="40917" y="170910"/>
                </a:lnTo>
                <a:lnTo>
                  <a:pt x="41566" y="176802"/>
                </a:lnTo>
                <a:lnTo>
                  <a:pt x="41998" y="182634"/>
                </a:lnTo>
                <a:lnTo>
                  <a:pt x="42286" y="188428"/>
                </a:lnTo>
                <a:lnTo>
                  <a:pt x="42692" y="203143"/>
                </a:lnTo>
                <a:lnTo>
                  <a:pt x="42829" y="221199"/>
                </a:lnTo>
                <a:lnTo>
                  <a:pt x="43793" y="225568"/>
                </a:lnTo>
                <a:lnTo>
                  <a:pt x="48748" y="236267"/>
                </a:lnTo>
                <a:lnTo>
                  <a:pt x="50241" y="242479"/>
                </a:lnTo>
                <a:lnTo>
                  <a:pt x="50905" y="248415"/>
                </a:lnTo>
                <a:lnTo>
                  <a:pt x="51404" y="256653"/>
                </a:lnTo>
                <a:lnTo>
                  <a:pt x="57320" y="257063"/>
                </a:lnTo>
                <a:lnTo>
                  <a:pt x="58814" y="257120"/>
                </a:lnTo>
                <a:lnTo>
                  <a:pt x="55103" y="257151"/>
                </a:lnTo>
                <a:lnTo>
                  <a:pt x="53881" y="256203"/>
                </a:lnTo>
                <a:lnTo>
                  <a:pt x="53065" y="254619"/>
                </a:lnTo>
                <a:lnTo>
                  <a:pt x="52161" y="250318"/>
                </a:lnTo>
                <a:lnTo>
                  <a:pt x="51650" y="242542"/>
                </a:lnTo>
                <a:lnTo>
                  <a:pt x="51530" y="237013"/>
                </a:lnTo>
                <a:lnTo>
                  <a:pt x="51437" y="204060"/>
                </a:lnTo>
                <a:lnTo>
                  <a:pt x="50484" y="199854"/>
                </a:lnTo>
                <a:lnTo>
                  <a:pt x="48896" y="195145"/>
                </a:lnTo>
                <a:lnTo>
                  <a:pt x="46885" y="190101"/>
                </a:lnTo>
                <a:lnTo>
                  <a:pt x="46497" y="184833"/>
                </a:lnTo>
                <a:lnTo>
                  <a:pt x="47190" y="179416"/>
                </a:lnTo>
                <a:lnTo>
                  <a:pt x="48606" y="173899"/>
                </a:lnTo>
                <a:lnTo>
                  <a:pt x="50502" y="168317"/>
                </a:lnTo>
                <a:lnTo>
                  <a:pt x="52718" y="162690"/>
                </a:lnTo>
                <a:lnTo>
                  <a:pt x="55148" y="157034"/>
                </a:lnTo>
                <a:lnTo>
                  <a:pt x="56768" y="152311"/>
                </a:lnTo>
                <a:lnTo>
                  <a:pt x="58568" y="144523"/>
                </a:lnTo>
                <a:lnTo>
                  <a:pt x="60000" y="140160"/>
                </a:lnTo>
                <a:lnTo>
                  <a:pt x="61908" y="135347"/>
                </a:lnTo>
                <a:lnTo>
                  <a:pt x="64132" y="130233"/>
                </a:lnTo>
                <a:lnTo>
                  <a:pt x="67520" y="125871"/>
                </a:lnTo>
                <a:lnTo>
                  <a:pt x="71683" y="122010"/>
                </a:lnTo>
                <a:lnTo>
                  <a:pt x="76364" y="118484"/>
                </a:lnTo>
                <a:lnTo>
                  <a:pt x="79484" y="115181"/>
                </a:lnTo>
                <a:lnTo>
                  <a:pt x="81564" y="112026"/>
                </a:lnTo>
                <a:lnTo>
                  <a:pt x="82951" y="108971"/>
                </a:lnTo>
                <a:lnTo>
                  <a:pt x="85780" y="105981"/>
                </a:lnTo>
                <a:lnTo>
                  <a:pt x="89573" y="103036"/>
                </a:lnTo>
                <a:lnTo>
                  <a:pt x="94004" y="100119"/>
                </a:lnTo>
                <a:lnTo>
                  <a:pt x="97912" y="97223"/>
                </a:lnTo>
                <a:lnTo>
                  <a:pt x="101470" y="94339"/>
                </a:lnTo>
                <a:lnTo>
                  <a:pt x="104795" y="91464"/>
                </a:lnTo>
                <a:lnTo>
                  <a:pt x="108915" y="89548"/>
                </a:lnTo>
                <a:lnTo>
                  <a:pt x="113568" y="88270"/>
                </a:lnTo>
                <a:lnTo>
                  <a:pt x="118574" y="87418"/>
                </a:lnTo>
                <a:lnTo>
                  <a:pt x="122865" y="86850"/>
                </a:lnTo>
                <a:lnTo>
                  <a:pt x="126678" y="86472"/>
                </a:lnTo>
                <a:lnTo>
                  <a:pt x="130172" y="86220"/>
                </a:lnTo>
                <a:lnTo>
                  <a:pt x="133453" y="86051"/>
                </a:lnTo>
                <a:lnTo>
                  <a:pt x="139640" y="85864"/>
                </a:lnTo>
                <a:lnTo>
                  <a:pt x="142623" y="86767"/>
                </a:lnTo>
                <a:lnTo>
                  <a:pt x="148479" y="90310"/>
                </a:lnTo>
                <a:lnTo>
                  <a:pt x="152327" y="91636"/>
                </a:lnTo>
                <a:lnTo>
                  <a:pt x="156795" y="92519"/>
                </a:lnTo>
                <a:lnTo>
                  <a:pt x="161680" y="93109"/>
                </a:lnTo>
                <a:lnTo>
                  <a:pt x="165889" y="95407"/>
                </a:lnTo>
                <a:lnTo>
                  <a:pt x="169648" y="98843"/>
                </a:lnTo>
                <a:lnTo>
                  <a:pt x="173107" y="103039"/>
                </a:lnTo>
                <a:lnTo>
                  <a:pt x="176364" y="106789"/>
                </a:lnTo>
                <a:lnTo>
                  <a:pt x="179489" y="110242"/>
                </a:lnTo>
                <a:lnTo>
                  <a:pt x="185500" y="117571"/>
                </a:lnTo>
                <a:lnTo>
                  <a:pt x="188437" y="122192"/>
                </a:lnTo>
                <a:lnTo>
                  <a:pt x="191347" y="127178"/>
                </a:lnTo>
                <a:lnTo>
                  <a:pt x="194581" y="135258"/>
                </a:lnTo>
                <a:lnTo>
                  <a:pt x="196018" y="142976"/>
                </a:lnTo>
                <a:lnTo>
                  <a:pt x="196401" y="147702"/>
                </a:lnTo>
                <a:lnTo>
                  <a:pt x="196657" y="152757"/>
                </a:lnTo>
                <a:lnTo>
                  <a:pt x="196941" y="163454"/>
                </a:lnTo>
                <a:lnTo>
                  <a:pt x="197016" y="168973"/>
                </a:lnTo>
                <a:lnTo>
                  <a:pt x="196114" y="174558"/>
                </a:lnTo>
                <a:lnTo>
                  <a:pt x="194561" y="180186"/>
                </a:lnTo>
                <a:lnTo>
                  <a:pt x="192571" y="185843"/>
                </a:lnTo>
                <a:lnTo>
                  <a:pt x="191247" y="190567"/>
                </a:lnTo>
                <a:lnTo>
                  <a:pt x="189773" y="198356"/>
                </a:lnTo>
                <a:lnTo>
                  <a:pt x="188427" y="202719"/>
                </a:lnTo>
                <a:lnTo>
                  <a:pt x="186579" y="207532"/>
                </a:lnTo>
                <a:lnTo>
                  <a:pt x="184394" y="212646"/>
                </a:lnTo>
                <a:lnTo>
                  <a:pt x="181984" y="217008"/>
                </a:lnTo>
                <a:lnTo>
                  <a:pt x="176767" y="224395"/>
                </a:lnTo>
                <a:lnTo>
                  <a:pt x="171273" y="230853"/>
                </a:lnTo>
                <a:lnTo>
                  <a:pt x="165657" y="236898"/>
                </a:lnTo>
                <a:lnTo>
                  <a:pt x="159985" y="242760"/>
                </a:lnTo>
                <a:lnTo>
                  <a:pt x="156187" y="245656"/>
                </a:lnTo>
                <a:lnTo>
                  <a:pt x="151750" y="248540"/>
                </a:lnTo>
                <a:lnTo>
                  <a:pt x="146887" y="251415"/>
                </a:lnTo>
                <a:lnTo>
                  <a:pt x="142691" y="253331"/>
                </a:lnTo>
                <a:lnTo>
                  <a:pt x="138943" y="254609"/>
                </a:lnTo>
                <a:lnTo>
                  <a:pt x="135491" y="255461"/>
                </a:lnTo>
                <a:lnTo>
                  <a:pt x="131285" y="256029"/>
                </a:lnTo>
                <a:lnTo>
                  <a:pt x="126576" y="256407"/>
                </a:lnTo>
                <a:lnTo>
                  <a:pt x="121531" y="256660"/>
                </a:lnTo>
                <a:lnTo>
                  <a:pt x="117215" y="257781"/>
                </a:lnTo>
                <a:lnTo>
                  <a:pt x="113387" y="259480"/>
                </a:lnTo>
                <a:lnTo>
                  <a:pt x="109881" y="261566"/>
                </a:lnTo>
                <a:lnTo>
                  <a:pt x="105639" y="262004"/>
                </a:lnTo>
                <a:lnTo>
                  <a:pt x="100906" y="261343"/>
                </a:lnTo>
                <a:lnTo>
                  <a:pt x="95846" y="259950"/>
                </a:lnTo>
                <a:lnTo>
                  <a:pt x="91520" y="259022"/>
                </a:lnTo>
                <a:lnTo>
                  <a:pt x="87683" y="258403"/>
                </a:lnTo>
                <a:lnTo>
                  <a:pt x="84173" y="257990"/>
                </a:lnTo>
                <a:lnTo>
                  <a:pt x="80880" y="256762"/>
                </a:lnTo>
                <a:lnTo>
                  <a:pt x="77733" y="254991"/>
                </a:lnTo>
                <a:lnTo>
                  <a:pt x="74682" y="252858"/>
                </a:lnTo>
                <a:lnTo>
                  <a:pt x="70743" y="251436"/>
                </a:lnTo>
                <a:lnTo>
                  <a:pt x="66212" y="250488"/>
                </a:lnTo>
                <a:lnTo>
                  <a:pt x="61286" y="249856"/>
                </a:lnTo>
                <a:lnTo>
                  <a:pt x="58003" y="248483"/>
                </a:lnTo>
                <a:lnTo>
                  <a:pt x="55813" y="246614"/>
                </a:lnTo>
                <a:lnTo>
                  <a:pt x="51059" y="239936"/>
                </a:lnTo>
                <a:lnTo>
                  <a:pt x="44130" y="232753"/>
                </a:lnTo>
                <a:lnTo>
                  <a:pt x="43425" y="229488"/>
                </a:lnTo>
                <a:lnTo>
                  <a:pt x="43239" y="227283"/>
                </a:lnTo>
                <a:lnTo>
                  <a:pt x="42160" y="225814"/>
                </a:lnTo>
                <a:lnTo>
                  <a:pt x="40489" y="224834"/>
                </a:lnTo>
                <a:lnTo>
                  <a:pt x="34290" y="2228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MARTPenAnnotation837"/>
          <p:cNvSpPr/>
          <p:nvPr/>
        </p:nvSpPr>
        <p:spPr>
          <a:xfrm>
            <a:off x="733320" y="3137040"/>
            <a:ext cx="392040" cy="206280"/>
          </a:xfrm>
          <a:custGeom>
            <a:avLst/>
            <a:gdLst>
              <a:gd name="textAreaLeft" fmla="*/ 0 w 392040"/>
              <a:gd name="textAreaRight" fmla="*/ 392400 w 3920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393102" h="205620">
                <a:moveTo>
                  <a:pt x="255941" y="34287"/>
                </a:moveTo>
                <a:lnTo>
                  <a:pt x="248561" y="26906"/>
                </a:lnTo>
                <a:lnTo>
                  <a:pt x="245359" y="26244"/>
                </a:lnTo>
                <a:lnTo>
                  <a:pt x="243171" y="26067"/>
                </a:lnTo>
                <a:lnTo>
                  <a:pt x="240760" y="24997"/>
                </a:lnTo>
                <a:lnTo>
                  <a:pt x="235542" y="21268"/>
                </a:lnTo>
                <a:lnTo>
                  <a:pt x="231864" y="19892"/>
                </a:lnTo>
                <a:lnTo>
                  <a:pt x="222698" y="18364"/>
                </a:lnTo>
                <a:lnTo>
                  <a:pt x="214814" y="15145"/>
                </a:lnTo>
                <a:lnTo>
                  <a:pt x="208135" y="10539"/>
                </a:lnTo>
                <a:lnTo>
                  <a:pt x="201992" y="5317"/>
                </a:lnTo>
                <a:lnTo>
                  <a:pt x="198067" y="3544"/>
                </a:lnTo>
                <a:lnTo>
                  <a:pt x="188627" y="1573"/>
                </a:lnTo>
                <a:lnTo>
                  <a:pt x="178827" y="308"/>
                </a:lnTo>
                <a:lnTo>
                  <a:pt x="170551" y="135"/>
                </a:lnTo>
                <a:lnTo>
                  <a:pt x="128954" y="0"/>
                </a:lnTo>
                <a:lnTo>
                  <a:pt x="118223" y="2538"/>
                </a:lnTo>
                <a:lnTo>
                  <a:pt x="108056" y="5889"/>
                </a:lnTo>
                <a:lnTo>
                  <a:pt x="100362" y="7378"/>
                </a:lnTo>
                <a:lnTo>
                  <a:pt x="91227" y="13120"/>
                </a:lnTo>
                <a:lnTo>
                  <a:pt x="86125" y="17318"/>
                </a:lnTo>
                <a:lnTo>
                  <a:pt x="80818" y="21069"/>
                </a:lnTo>
                <a:lnTo>
                  <a:pt x="75375" y="24522"/>
                </a:lnTo>
                <a:lnTo>
                  <a:pt x="65200" y="30899"/>
                </a:lnTo>
                <a:lnTo>
                  <a:pt x="57502" y="36909"/>
                </a:lnTo>
                <a:lnTo>
                  <a:pt x="53164" y="40797"/>
                </a:lnTo>
                <a:lnTo>
                  <a:pt x="43263" y="50198"/>
                </a:lnTo>
                <a:lnTo>
                  <a:pt x="31530" y="61649"/>
                </a:lnTo>
                <a:lnTo>
                  <a:pt x="29181" y="65863"/>
                </a:lnTo>
                <a:lnTo>
                  <a:pt x="27615" y="70578"/>
                </a:lnTo>
                <a:lnTo>
                  <a:pt x="26572" y="75626"/>
                </a:lnTo>
                <a:lnTo>
                  <a:pt x="24923" y="80896"/>
                </a:lnTo>
                <a:lnTo>
                  <a:pt x="22872" y="86315"/>
                </a:lnTo>
                <a:lnTo>
                  <a:pt x="20552" y="91832"/>
                </a:lnTo>
                <a:lnTo>
                  <a:pt x="18052" y="96463"/>
                </a:lnTo>
                <a:lnTo>
                  <a:pt x="15434" y="100502"/>
                </a:lnTo>
                <a:lnTo>
                  <a:pt x="12735" y="104148"/>
                </a:lnTo>
                <a:lnTo>
                  <a:pt x="10937" y="108483"/>
                </a:lnTo>
                <a:lnTo>
                  <a:pt x="9737" y="113278"/>
                </a:lnTo>
                <a:lnTo>
                  <a:pt x="8938" y="118381"/>
                </a:lnTo>
                <a:lnTo>
                  <a:pt x="8405" y="123687"/>
                </a:lnTo>
                <a:lnTo>
                  <a:pt x="8050" y="129129"/>
                </a:lnTo>
                <a:lnTo>
                  <a:pt x="7813" y="134662"/>
                </a:lnTo>
                <a:lnTo>
                  <a:pt x="6702" y="139304"/>
                </a:lnTo>
                <a:lnTo>
                  <a:pt x="5010" y="143350"/>
                </a:lnTo>
                <a:lnTo>
                  <a:pt x="2929" y="147001"/>
                </a:lnTo>
                <a:lnTo>
                  <a:pt x="1541" y="151339"/>
                </a:lnTo>
                <a:lnTo>
                  <a:pt x="616" y="156137"/>
                </a:lnTo>
                <a:lnTo>
                  <a:pt x="0" y="161240"/>
                </a:lnTo>
                <a:lnTo>
                  <a:pt x="541" y="165595"/>
                </a:lnTo>
                <a:lnTo>
                  <a:pt x="1854" y="169450"/>
                </a:lnTo>
                <a:lnTo>
                  <a:pt x="3683" y="172973"/>
                </a:lnTo>
                <a:lnTo>
                  <a:pt x="4901" y="176274"/>
                </a:lnTo>
                <a:lnTo>
                  <a:pt x="6256" y="182482"/>
                </a:lnTo>
                <a:lnTo>
                  <a:pt x="8522" y="185471"/>
                </a:lnTo>
                <a:lnTo>
                  <a:pt x="16120" y="191332"/>
                </a:lnTo>
                <a:lnTo>
                  <a:pt x="23307" y="194572"/>
                </a:lnTo>
                <a:lnTo>
                  <a:pt x="26556" y="195436"/>
                </a:lnTo>
                <a:lnTo>
                  <a:pt x="32708" y="198936"/>
                </a:lnTo>
                <a:lnTo>
                  <a:pt x="35681" y="201203"/>
                </a:lnTo>
                <a:lnTo>
                  <a:pt x="39569" y="202714"/>
                </a:lnTo>
                <a:lnTo>
                  <a:pt x="48968" y="204393"/>
                </a:lnTo>
                <a:lnTo>
                  <a:pt x="60419" y="205338"/>
                </a:lnTo>
                <a:lnTo>
                  <a:pt x="69845" y="205619"/>
                </a:lnTo>
                <a:lnTo>
                  <a:pt x="78299" y="203144"/>
                </a:lnTo>
                <a:lnTo>
                  <a:pt x="87454" y="199822"/>
                </a:lnTo>
                <a:lnTo>
                  <a:pt x="94698" y="198345"/>
                </a:lnTo>
                <a:lnTo>
                  <a:pt x="101093" y="195149"/>
                </a:lnTo>
                <a:lnTo>
                  <a:pt x="108062" y="190554"/>
                </a:lnTo>
                <a:lnTo>
                  <a:pt x="117510" y="185336"/>
                </a:lnTo>
                <a:lnTo>
                  <a:pt x="133539" y="177044"/>
                </a:lnTo>
                <a:lnTo>
                  <a:pt x="139097" y="173273"/>
                </a:lnTo>
                <a:lnTo>
                  <a:pt x="144708" y="168854"/>
                </a:lnTo>
                <a:lnTo>
                  <a:pt x="150353" y="164003"/>
                </a:lnTo>
                <a:lnTo>
                  <a:pt x="155069" y="159817"/>
                </a:lnTo>
                <a:lnTo>
                  <a:pt x="162849" y="152625"/>
                </a:lnTo>
                <a:lnTo>
                  <a:pt x="181496" y="134356"/>
                </a:lnTo>
                <a:lnTo>
                  <a:pt x="188882" y="127022"/>
                </a:lnTo>
                <a:lnTo>
                  <a:pt x="192185" y="122780"/>
                </a:lnTo>
                <a:lnTo>
                  <a:pt x="195340" y="118047"/>
                </a:lnTo>
                <a:lnTo>
                  <a:pt x="198395" y="112987"/>
                </a:lnTo>
                <a:lnTo>
                  <a:pt x="201385" y="108661"/>
                </a:lnTo>
                <a:lnTo>
                  <a:pt x="204330" y="104824"/>
                </a:lnTo>
                <a:lnTo>
                  <a:pt x="207246" y="101314"/>
                </a:lnTo>
                <a:lnTo>
                  <a:pt x="209191" y="97069"/>
                </a:lnTo>
                <a:lnTo>
                  <a:pt x="210487" y="92334"/>
                </a:lnTo>
                <a:lnTo>
                  <a:pt x="211351" y="87272"/>
                </a:lnTo>
                <a:lnTo>
                  <a:pt x="211927" y="82946"/>
                </a:lnTo>
                <a:lnTo>
                  <a:pt x="212311" y="79109"/>
                </a:lnTo>
                <a:lnTo>
                  <a:pt x="212567" y="75598"/>
                </a:lnTo>
                <a:lnTo>
                  <a:pt x="212738" y="72305"/>
                </a:lnTo>
                <a:lnTo>
                  <a:pt x="212927" y="66106"/>
                </a:lnTo>
                <a:lnTo>
                  <a:pt x="212025" y="63120"/>
                </a:lnTo>
                <a:lnTo>
                  <a:pt x="208483" y="57261"/>
                </a:lnTo>
                <a:lnTo>
                  <a:pt x="205685" y="53159"/>
                </a:lnTo>
                <a:lnTo>
                  <a:pt x="206244" y="51631"/>
                </a:lnTo>
                <a:lnTo>
                  <a:pt x="210630" y="45882"/>
                </a:lnTo>
                <a:lnTo>
                  <a:pt x="211991" y="44202"/>
                </a:lnTo>
                <a:lnTo>
                  <a:pt x="212595" y="40916"/>
                </a:lnTo>
                <a:lnTo>
                  <a:pt x="212983" y="35596"/>
                </a:lnTo>
                <a:lnTo>
                  <a:pt x="213051" y="39226"/>
                </a:lnTo>
                <a:lnTo>
                  <a:pt x="212108" y="40437"/>
                </a:lnTo>
                <a:lnTo>
                  <a:pt x="210526" y="41244"/>
                </a:lnTo>
                <a:lnTo>
                  <a:pt x="208520" y="41783"/>
                </a:lnTo>
                <a:lnTo>
                  <a:pt x="207182" y="43094"/>
                </a:lnTo>
                <a:lnTo>
                  <a:pt x="206290" y="44921"/>
                </a:lnTo>
                <a:lnTo>
                  <a:pt x="205299" y="49490"/>
                </a:lnTo>
                <a:lnTo>
                  <a:pt x="204859" y="54696"/>
                </a:lnTo>
                <a:lnTo>
                  <a:pt x="203789" y="57418"/>
                </a:lnTo>
                <a:lnTo>
                  <a:pt x="200060" y="62982"/>
                </a:lnTo>
                <a:lnTo>
                  <a:pt x="197768" y="68630"/>
                </a:lnTo>
                <a:lnTo>
                  <a:pt x="197156" y="71470"/>
                </a:lnTo>
                <a:lnTo>
                  <a:pt x="196749" y="75268"/>
                </a:lnTo>
                <a:lnTo>
                  <a:pt x="196477" y="79705"/>
                </a:lnTo>
                <a:lnTo>
                  <a:pt x="196296" y="84568"/>
                </a:lnTo>
                <a:lnTo>
                  <a:pt x="197128" y="88762"/>
                </a:lnTo>
                <a:lnTo>
                  <a:pt x="198635" y="92511"/>
                </a:lnTo>
                <a:lnTo>
                  <a:pt x="200592" y="95963"/>
                </a:lnTo>
                <a:lnTo>
                  <a:pt x="205307" y="102338"/>
                </a:lnTo>
                <a:lnTo>
                  <a:pt x="207897" y="105372"/>
                </a:lnTo>
                <a:lnTo>
                  <a:pt x="210577" y="109299"/>
                </a:lnTo>
                <a:lnTo>
                  <a:pt x="213316" y="113823"/>
                </a:lnTo>
                <a:lnTo>
                  <a:pt x="216094" y="118743"/>
                </a:lnTo>
                <a:lnTo>
                  <a:pt x="217947" y="122976"/>
                </a:lnTo>
                <a:lnTo>
                  <a:pt x="219182" y="126750"/>
                </a:lnTo>
                <a:lnTo>
                  <a:pt x="220005" y="130219"/>
                </a:lnTo>
                <a:lnTo>
                  <a:pt x="223460" y="136613"/>
                </a:lnTo>
                <a:lnTo>
                  <a:pt x="228170" y="142630"/>
                </a:lnTo>
                <a:lnTo>
                  <a:pt x="233439" y="148480"/>
                </a:lnTo>
                <a:lnTo>
                  <a:pt x="235225" y="151372"/>
                </a:lnTo>
                <a:lnTo>
                  <a:pt x="237209" y="157127"/>
                </a:lnTo>
                <a:lnTo>
                  <a:pt x="238691" y="160948"/>
                </a:lnTo>
                <a:lnTo>
                  <a:pt x="240631" y="165400"/>
                </a:lnTo>
                <a:lnTo>
                  <a:pt x="242877" y="170273"/>
                </a:lnTo>
                <a:lnTo>
                  <a:pt x="245327" y="173522"/>
                </a:lnTo>
                <a:lnTo>
                  <a:pt x="247912" y="175688"/>
                </a:lnTo>
                <a:lnTo>
                  <a:pt x="258643" y="181276"/>
                </a:lnTo>
                <a:lnTo>
                  <a:pt x="267619" y="185340"/>
                </a:lnTo>
                <a:lnTo>
                  <a:pt x="278981" y="188581"/>
                </a:lnTo>
                <a:lnTo>
                  <a:pt x="288724" y="192714"/>
                </a:lnTo>
                <a:lnTo>
                  <a:pt x="300368" y="195846"/>
                </a:lnTo>
                <a:lnTo>
                  <a:pt x="309342" y="196578"/>
                </a:lnTo>
                <a:lnTo>
                  <a:pt x="314402" y="196773"/>
                </a:lnTo>
                <a:lnTo>
                  <a:pt x="318727" y="195951"/>
                </a:lnTo>
                <a:lnTo>
                  <a:pt x="330319" y="191196"/>
                </a:lnTo>
                <a:lnTo>
                  <a:pt x="340116" y="189749"/>
                </a:lnTo>
                <a:lnTo>
                  <a:pt x="350820" y="186566"/>
                </a:lnTo>
                <a:lnTo>
                  <a:pt x="360975" y="181976"/>
                </a:lnTo>
                <a:lnTo>
                  <a:pt x="372999" y="174037"/>
                </a:lnTo>
                <a:lnTo>
                  <a:pt x="377795" y="171269"/>
                </a:lnTo>
                <a:lnTo>
                  <a:pt x="393101" y="16287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MARTPenAnnotation838"/>
          <p:cNvSpPr/>
          <p:nvPr/>
        </p:nvSpPr>
        <p:spPr>
          <a:xfrm>
            <a:off x="1160640" y="3129120"/>
            <a:ext cx="239400" cy="171360"/>
          </a:xfrm>
          <a:custGeom>
            <a:avLst/>
            <a:gdLst>
              <a:gd name="textAreaLeft" fmla="*/ 0 w 239400"/>
              <a:gd name="textAreaRight" fmla="*/ 239760 w 2394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39882" h="171327">
                <a:moveTo>
                  <a:pt x="111294" y="17136"/>
                </a:moveTo>
                <a:lnTo>
                  <a:pt x="111294" y="4117"/>
                </a:lnTo>
                <a:lnTo>
                  <a:pt x="110341" y="2742"/>
                </a:lnTo>
                <a:lnTo>
                  <a:pt x="108754" y="1825"/>
                </a:lnTo>
                <a:lnTo>
                  <a:pt x="104450" y="806"/>
                </a:lnTo>
                <a:lnTo>
                  <a:pt x="99362" y="353"/>
                </a:lnTo>
                <a:lnTo>
                  <a:pt x="93926" y="152"/>
                </a:lnTo>
                <a:lnTo>
                  <a:pt x="82675" y="23"/>
                </a:lnTo>
                <a:lnTo>
                  <a:pt x="74133" y="0"/>
                </a:lnTo>
                <a:lnTo>
                  <a:pt x="72233" y="950"/>
                </a:lnTo>
                <a:lnTo>
                  <a:pt x="70966" y="2535"/>
                </a:lnTo>
                <a:lnTo>
                  <a:pt x="70121" y="4545"/>
                </a:lnTo>
                <a:lnTo>
                  <a:pt x="64102" y="9318"/>
                </a:lnTo>
                <a:lnTo>
                  <a:pt x="59830" y="11924"/>
                </a:lnTo>
                <a:lnTo>
                  <a:pt x="56030" y="14614"/>
                </a:lnTo>
                <a:lnTo>
                  <a:pt x="52544" y="17360"/>
                </a:lnTo>
                <a:lnTo>
                  <a:pt x="49267" y="20142"/>
                </a:lnTo>
                <a:lnTo>
                  <a:pt x="46130" y="22950"/>
                </a:lnTo>
                <a:lnTo>
                  <a:pt x="40105" y="28610"/>
                </a:lnTo>
                <a:lnTo>
                  <a:pt x="31358" y="37152"/>
                </a:lnTo>
                <a:lnTo>
                  <a:pt x="28476" y="40957"/>
                </a:lnTo>
                <a:lnTo>
                  <a:pt x="25602" y="45399"/>
                </a:lnTo>
                <a:lnTo>
                  <a:pt x="22733" y="50266"/>
                </a:lnTo>
                <a:lnTo>
                  <a:pt x="19868" y="54463"/>
                </a:lnTo>
                <a:lnTo>
                  <a:pt x="17006" y="58213"/>
                </a:lnTo>
                <a:lnTo>
                  <a:pt x="14145" y="61666"/>
                </a:lnTo>
                <a:lnTo>
                  <a:pt x="11286" y="64920"/>
                </a:lnTo>
                <a:lnTo>
                  <a:pt x="8427" y="68042"/>
                </a:lnTo>
                <a:lnTo>
                  <a:pt x="5568" y="71076"/>
                </a:lnTo>
                <a:lnTo>
                  <a:pt x="3663" y="75003"/>
                </a:lnTo>
                <a:lnTo>
                  <a:pt x="2392" y="79527"/>
                </a:lnTo>
                <a:lnTo>
                  <a:pt x="1545" y="84447"/>
                </a:lnTo>
                <a:lnTo>
                  <a:pt x="981" y="88680"/>
                </a:lnTo>
                <a:lnTo>
                  <a:pt x="604" y="92455"/>
                </a:lnTo>
                <a:lnTo>
                  <a:pt x="353" y="95924"/>
                </a:lnTo>
                <a:lnTo>
                  <a:pt x="186" y="100141"/>
                </a:lnTo>
                <a:lnTo>
                  <a:pt x="0" y="109907"/>
                </a:lnTo>
                <a:lnTo>
                  <a:pt x="903" y="114226"/>
                </a:lnTo>
                <a:lnTo>
                  <a:pt x="2457" y="118058"/>
                </a:lnTo>
                <a:lnTo>
                  <a:pt x="4446" y="121564"/>
                </a:lnTo>
                <a:lnTo>
                  <a:pt x="5772" y="124855"/>
                </a:lnTo>
                <a:lnTo>
                  <a:pt x="6656" y="128001"/>
                </a:lnTo>
                <a:lnTo>
                  <a:pt x="7245" y="131051"/>
                </a:lnTo>
                <a:lnTo>
                  <a:pt x="8591" y="134037"/>
                </a:lnTo>
                <a:lnTo>
                  <a:pt x="10440" y="136980"/>
                </a:lnTo>
                <a:lnTo>
                  <a:pt x="12626" y="139894"/>
                </a:lnTo>
                <a:lnTo>
                  <a:pt x="15035" y="142790"/>
                </a:lnTo>
                <a:lnTo>
                  <a:pt x="17594" y="145673"/>
                </a:lnTo>
                <a:lnTo>
                  <a:pt x="20252" y="148547"/>
                </a:lnTo>
                <a:lnTo>
                  <a:pt x="23929" y="150464"/>
                </a:lnTo>
                <a:lnTo>
                  <a:pt x="28286" y="151741"/>
                </a:lnTo>
                <a:lnTo>
                  <a:pt x="33095" y="152593"/>
                </a:lnTo>
                <a:lnTo>
                  <a:pt x="37254" y="154113"/>
                </a:lnTo>
                <a:lnTo>
                  <a:pt x="44415" y="158342"/>
                </a:lnTo>
                <a:lnTo>
                  <a:pt x="48610" y="159851"/>
                </a:lnTo>
                <a:lnTo>
                  <a:pt x="53312" y="160857"/>
                </a:lnTo>
                <a:lnTo>
                  <a:pt x="58352" y="161528"/>
                </a:lnTo>
                <a:lnTo>
                  <a:pt x="62664" y="162927"/>
                </a:lnTo>
                <a:lnTo>
                  <a:pt x="69996" y="167022"/>
                </a:lnTo>
                <a:lnTo>
                  <a:pt x="76429" y="169477"/>
                </a:lnTo>
                <a:lnTo>
                  <a:pt x="83416" y="170568"/>
                </a:lnTo>
                <a:lnTo>
                  <a:pt x="87946" y="170859"/>
                </a:lnTo>
                <a:lnTo>
                  <a:pt x="92871" y="171053"/>
                </a:lnTo>
                <a:lnTo>
                  <a:pt x="103424" y="171269"/>
                </a:lnTo>
                <a:lnTo>
                  <a:pt x="108905" y="171326"/>
                </a:lnTo>
                <a:lnTo>
                  <a:pt x="115416" y="170412"/>
                </a:lnTo>
                <a:lnTo>
                  <a:pt x="122615" y="168850"/>
                </a:lnTo>
                <a:lnTo>
                  <a:pt x="130271" y="166856"/>
                </a:lnTo>
                <a:lnTo>
                  <a:pt x="136328" y="165527"/>
                </a:lnTo>
                <a:lnTo>
                  <a:pt x="141318" y="164641"/>
                </a:lnTo>
                <a:lnTo>
                  <a:pt x="145598" y="164050"/>
                </a:lnTo>
                <a:lnTo>
                  <a:pt x="151308" y="162704"/>
                </a:lnTo>
                <a:lnTo>
                  <a:pt x="157973" y="160854"/>
                </a:lnTo>
                <a:lnTo>
                  <a:pt x="165273" y="158668"/>
                </a:lnTo>
                <a:lnTo>
                  <a:pt x="172045" y="157211"/>
                </a:lnTo>
                <a:lnTo>
                  <a:pt x="178465" y="156239"/>
                </a:lnTo>
                <a:lnTo>
                  <a:pt x="184649" y="155592"/>
                </a:lnTo>
                <a:lnTo>
                  <a:pt x="190678" y="154207"/>
                </a:lnTo>
                <a:lnTo>
                  <a:pt x="196601" y="152332"/>
                </a:lnTo>
                <a:lnTo>
                  <a:pt x="202456" y="150129"/>
                </a:lnTo>
                <a:lnTo>
                  <a:pt x="207311" y="147708"/>
                </a:lnTo>
                <a:lnTo>
                  <a:pt x="211500" y="145141"/>
                </a:lnTo>
                <a:lnTo>
                  <a:pt x="215246" y="142478"/>
                </a:lnTo>
                <a:lnTo>
                  <a:pt x="219648" y="140703"/>
                </a:lnTo>
                <a:lnTo>
                  <a:pt x="224487" y="139519"/>
                </a:lnTo>
                <a:lnTo>
                  <a:pt x="239881" y="1371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MARTPenAnnotation839"/>
          <p:cNvSpPr/>
          <p:nvPr/>
        </p:nvSpPr>
        <p:spPr>
          <a:xfrm>
            <a:off x="1494000" y="3121200"/>
            <a:ext cx="241200" cy="42840"/>
          </a:xfrm>
          <a:custGeom>
            <a:avLst/>
            <a:gdLst>
              <a:gd name="textAreaLeft" fmla="*/ 0 w 241200"/>
              <a:gd name="textAreaRight" fmla="*/ 241560 w 2412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40031" h="42864">
                <a:moveTo>
                  <a:pt x="0" y="42863"/>
                </a:moveTo>
                <a:lnTo>
                  <a:pt x="0" y="34395"/>
                </a:lnTo>
                <a:lnTo>
                  <a:pt x="6844" y="34311"/>
                </a:lnTo>
                <a:lnTo>
                  <a:pt x="11932" y="34300"/>
                </a:lnTo>
                <a:lnTo>
                  <a:pt x="14622" y="33344"/>
                </a:lnTo>
                <a:lnTo>
                  <a:pt x="17368" y="31755"/>
                </a:lnTo>
                <a:lnTo>
                  <a:pt x="20151" y="29742"/>
                </a:lnTo>
                <a:lnTo>
                  <a:pt x="23911" y="28401"/>
                </a:lnTo>
                <a:lnTo>
                  <a:pt x="28324" y="27507"/>
                </a:lnTo>
                <a:lnTo>
                  <a:pt x="33170" y="26910"/>
                </a:lnTo>
                <a:lnTo>
                  <a:pt x="38306" y="25561"/>
                </a:lnTo>
                <a:lnTo>
                  <a:pt x="43635" y="23708"/>
                </a:lnTo>
                <a:lnTo>
                  <a:pt x="49092" y="21521"/>
                </a:lnTo>
                <a:lnTo>
                  <a:pt x="54636" y="20062"/>
                </a:lnTo>
                <a:lnTo>
                  <a:pt x="60236" y="19090"/>
                </a:lnTo>
                <a:lnTo>
                  <a:pt x="65875" y="18442"/>
                </a:lnTo>
                <a:lnTo>
                  <a:pt x="71539" y="18010"/>
                </a:lnTo>
                <a:lnTo>
                  <a:pt x="77220" y="17722"/>
                </a:lnTo>
                <a:lnTo>
                  <a:pt x="82913" y="17530"/>
                </a:lnTo>
                <a:lnTo>
                  <a:pt x="89565" y="16449"/>
                </a:lnTo>
                <a:lnTo>
                  <a:pt x="96858" y="14776"/>
                </a:lnTo>
                <a:lnTo>
                  <a:pt x="104577" y="12709"/>
                </a:lnTo>
                <a:lnTo>
                  <a:pt x="111628" y="11330"/>
                </a:lnTo>
                <a:lnTo>
                  <a:pt x="118234" y="10411"/>
                </a:lnTo>
                <a:lnTo>
                  <a:pt x="124542" y="9799"/>
                </a:lnTo>
                <a:lnTo>
                  <a:pt x="129701" y="8438"/>
                </a:lnTo>
                <a:lnTo>
                  <a:pt x="134092" y="6578"/>
                </a:lnTo>
                <a:lnTo>
                  <a:pt x="137972" y="4385"/>
                </a:lnTo>
                <a:lnTo>
                  <a:pt x="142464" y="2924"/>
                </a:lnTo>
                <a:lnTo>
                  <a:pt x="147363" y="1949"/>
                </a:lnTo>
                <a:lnTo>
                  <a:pt x="152535" y="1300"/>
                </a:lnTo>
                <a:lnTo>
                  <a:pt x="157887" y="867"/>
                </a:lnTo>
                <a:lnTo>
                  <a:pt x="163361" y="578"/>
                </a:lnTo>
                <a:lnTo>
                  <a:pt x="174522" y="257"/>
                </a:lnTo>
                <a:lnTo>
                  <a:pt x="207540" y="16"/>
                </a:lnTo>
                <a:lnTo>
                  <a:pt x="24003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MARTPenAnnotation840"/>
          <p:cNvSpPr/>
          <p:nvPr/>
        </p:nvSpPr>
        <p:spPr>
          <a:xfrm>
            <a:off x="1498680" y="3206880"/>
            <a:ext cx="295200" cy="25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96405" h="25719">
                <a:moveTo>
                  <a:pt x="4939" y="25718"/>
                </a:moveTo>
                <a:lnTo>
                  <a:pt x="0" y="25718"/>
                </a:lnTo>
                <a:lnTo>
                  <a:pt x="13967" y="25718"/>
                </a:lnTo>
                <a:lnTo>
                  <a:pt x="17626" y="24766"/>
                </a:lnTo>
                <a:lnTo>
                  <a:pt x="21017" y="23178"/>
                </a:lnTo>
                <a:lnTo>
                  <a:pt x="24230" y="21167"/>
                </a:lnTo>
                <a:lnTo>
                  <a:pt x="28278" y="19827"/>
                </a:lnTo>
                <a:lnTo>
                  <a:pt x="32881" y="18933"/>
                </a:lnTo>
                <a:lnTo>
                  <a:pt x="37854" y="18337"/>
                </a:lnTo>
                <a:lnTo>
                  <a:pt x="44028" y="16988"/>
                </a:lnTo>
                <a:lnTo>
                  <a:pt x="51001" y="15135"/>
                </a:lnTo>
                <a:lnTo>
                  <a:pt x="58507" y="12948"/>
                </a:lnTo>
                <a:lnTo>
                  <a:pt x="65416" y="11489"/>
                </a:lnTo>
                <a:lnTo>
                  <a:pt x="71927" y="10517"/>
                </a:lnTo>
                <a:lnTo>
                  <a:pt x="78173" y="9869"/>
                </a:lnTo>
                <a:lnTo>
                  <a:pt x="85194" y="9437"/>
                </a:lnTo>
                <a:lnTo>
                  <a:pt x="100616" y="8957"/>
                </a:lnTo>
                <a:lnTo>
                  <a:pt x="108729" y="7877"/>
                </a:lnTo>
                <a:lnTo>
                  <a:pt x="116995" y="6204"/>
                </a:lnTo>
                <a:lnTo>
                  <a:pt x="125363" y="4136"/>
                </a:lnTo>
                <a:lnTo>
                  <a:pt x="132847" y="2757"/>
                </a:lnTo>
                <a:lnTo>
                  <a:pt x="139741" y="1839"/>
                </a:lnTo>
                <a:lnTo>
                  <a:pt x="146242" y="1226"/>
                </a:lnTo>
                <a:lnTo>
                  <a:pt x="153434" y="818"/>
                </a:lnTo>
                <a:lnTo>
                  <a:pt x="169044" y="364"/>
                </a:lnTo>
                <a:lnTo>
                  <a:pt x="228519" y="10"/>
                </a:lnTo>
                <a:lnTo>
                  <a:pt x="29640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MARTPenAnnotation841"/>
          <p:cNvSpPr/>
          <p:nvPr/>
        </p:nvSpPr>
        <p:spPr>
          <a:xfrm>
            <a:off x="2011320" y="3009960"/>
            <a:ext cx="271440" cy="282600"/>
          </a:xfrm>
          <a:custGeom>
            <a:avLst/>
            <a:gdLst>
              <a:gd name="textAreaLeft" fmla="*/ 0 w 271440"/>
              <a:gd name="textAreaRight" fmla="*/ 271800 w 271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70728" h="282480">
                <a:moveTo>
                  <a:pt x="5497" y="93898"/>
                </a:moveTo>
                <a:lnTo>
                  <a:pt x="947" y="89347"/>
                </a:lnTo>
                <a:lnTo>
                  <a:pt x="559" y="88006"/>
                </a:lnTo>
                <a:lnTo>
                  <a:pt x="1252" y="87112"/>
                </a:lnTo>
                <a:lnTo>
                  <a:pt x="2667" y="86517"/>
                </a:lnTo>
                <a:lnTo>
                  <a:pt x="2658" y="85167"/>
                </a:lnTo>
                <a:lnTo>
                  <a:pt x="1700" y="83315"/>
                </a:lnTo>
                <a:lnTo>
                  <a:pt x="108" y="81127"/>
                </a:lnTo>
                <a:lnTo>
                  <a:pt x="0" y="78717"/>
                </a:lnTo>
                <a:lnTo>
                  <a:pt x="880" y="76157"/>
                </a:lnTo>
                <a:lnTo>
                  <a:pt x="4398" y="70773"/>
                </a:lnTo>
                <a:lnTo>
                  <a:pt x="11733" y="62387"/>
                </a:lnTo>
                <a:lnTo>
                  <a:pt x="19939" y="53869"/>
                </a:lnTo>
                <a:lnTo>
                  <a:pt x="25569" y="48167"/>
                </a:lnTo>
                <a:lnTo>
                  <a:pt x="30308" y="44360"/>
                </a:lnTo>
                <a:lnTo>
                  <a:pt x="36326" y="39918"/>
                </a:lnTo>
                <a:lnTo>
                  <a:pt x="43194" y="35051"/>
                </a:lnTo>
                <a:lnTo>
                  <a:pt x="49679" y="30854"/>
                </a:lnTo>
                <a:lnTo>
                  <a:pt x="55907" y="27104"/>
                </a:lnTo>
                <a:lnTo>
                  <a:pt x="61964" y="23651"/>
                </a:lnTo>
                <a:lnTo>
                  <a:pt x="73773" y="17274"/>
                </a:lnTo>
                <a:lnTo>
                  <a:pt x="79590" y="14240"/>
                </a:lnTo>
                <a:lnTo>
                  <a:pt x="86325" y="12218"/>
                </a:lnTo>
                <a:lnTo>
                  <a:pt x="93672" y="10870"/>
                </a:lnTo>
                <a:lnTo>
                  <a:pt x="101428" y="9970"/>
                </a:lnTo>
                <a:lnTo>
                  <a:pt x="108504" y="8419"/>
                </a:lnTo>
                <a:lnTo>
                  <a:pt x="115126" y="6432"/>
                </a:lnTo>
                <a:lnTo>
                  <a:pt x="121446" y="4154"/>
                </a:lnTo>
                <a:lnTo>
                  <a:pt x="128516" y="2636"/>
                </a:lnTo>
                <a:lnTo>
                  <a:pt x="136087" y="1624"/>
                </a:lnTo>
                <a:lnTo>
                  <a:pt x="150215" y="500"/>
                </a:lnTo>
                <a:lnTo>
                  <a:pt x="159669" y="0"/>
                </a:lnTo>
                <a:lnTo>
                  <a:pt x="163523" y="819"/>
                </a:lnTo>
                <a:lnTo>
                  <a:pt x="170346" y="4269"/>
                </a:lnTo>
                <a:lnTo>
                  <a:pt x="174452" y="6523"/>
                </a:lnTo>
                <a:lnTo>
                  <a:pt x="184093" y="11567"/>
                </a:lnTo>
                <a:lnTo>
                  <a:pt x="187426" y="14246"/>
                </a:lnTo>
                <a:lnTo>
                  <a:pt x="189648" y="16984"/>
                </a:lnTo>
                <a:lnTo>
                  <a:pt x="191130" y="19762"/>
                </a:lnTo>
                <a:lnTo>
                  <a:pt x="192776" y="25388"/>
                </a:lnTo>
                <a:lnTo>
                  <a:pt x="193507" y="32016"/>
                </a:lnTo>
                <a:lnTo>
                  <a:pt x="193702" y="36451"/>
                </a:lnTo>
                <a:lnTo>
                  <a:pt x="193832" y="41312"/>
                </a:lnTo>
                <a:lnTo>
                  <a:pt x="192966" y="46458"/>
                </a:lnTo>
                <a:lnTo>
                  <a:pt x="191437" y="51794"/>
                </a:lnTo>
                <a:lnTo>
                  <a:pt x="189464" y="57256"/>
                </a:lnTo>
                <a:lnTo>
                  <a:pt x="186245" y="61850"/>
                </a:lnTo>
                <a:lnTo>
                  <a:pt x="182193" y="65865"/>
                </a:lnTo>
                <a:lnTo>
                  <a:pt x="177587" y="69494"/>
                </a:lnTo>
                <a:lnTo>
                  <a:pt x="172611" y="73819"/>
                </a:lnTo>
                <a:lnTo>
                  <a:pt x="167389" y="78607"/>
                </a:lnTo>
                <a:lnTo>
                  <a:pt x="156507" y="89007"/>
                </a:lnTo>
                <a:lnTo>
                  <a:pt x="132863" y="112315"/>
                </a:lnTo>
                <a:lnTo>
                  <a:pt x="127555" y="115701"/>
                </a:lnTo>
                <a:lnTo>
                  <a:pt x="121160" y="118911"/>
                </a:lnTo>
                <a:lnTo>
                  <a:pt x="114038" y="122003"/>
                </a:lnTo>
                <a:lnTo>
                  <a:pt x="101045" y="127979"/>
                </a:lnTo>
                <a:lnTo>
                  <a:pt x="94913" y="130906"/>
                </a:lnTo>
                <a:lnTo>
                  <a:pt x="89873" y="133810"/>
                </a:lnTo>
                <a:lnTo>
                  <a:pt x="81733" y="139576"/>
                </a:lnTo>
                <a:lnTo>
                  <a:pt x="74940" y="142774"/>
                </a:lnTo>
                <a:lnTo>
                  <a:pt x="65554" y="145319"/>
                </a:lnTo>
                <a:lnTo>
                  <a:pt x="65509" y="137951"/>
                </a:lnTo>
                <a:lnTo>
                  <a:pt x="70057" y="132562"/>
                </a:lnTo>
                <a:lnTo>
                  <a:pt x="77371" y="127592"/>
                </a:lnTo>
                <a:lnTo>
                  <a:pt x="81988" y="124933"/>
                </a:lnTo>
                <a:lnTo>
                  <a:pt x="92198" y="119438"/>
                </a:lnTo>
                <a:lnTo>
                  <a:pt x="97588" y="116640"/>
                </a:lnTo>
                <a:lnTo>
                  <a:pt x="104038" y="114774"/>
                </a:lnTo>
                <a:lnTo>
                  <a:pt x="111197" y="113530"/>
                </a:lnTo>
                <a:lnTo>
                  <a:pt x="118826" y="112701"/>
                </a:lnTo>
                <a:lnTo>
                  <a:pt x="126770" y="112148"/>
                </a:lnTo>
                <a:lnTo>
                  <a:pt x="134923" y="111780"/>
                </a:lnTo>
                <a:lnTo>
                  <a:pt x="151602" y="111370"/>
                </a:lnTo>
                <a:lnTo>
                  <a:pt x="189591" y="111086"/>
                </a:lnTo>
                <a:lnTo>
                  <a:pt x="196806" y="112024"/>
                </a:lnTo>
                <a:lnTo>
                  <a:pt x="204474" y="113602"/>
                </a:lnTo>
                <a:lnTo>
                  <a:pt x="212443" y="115606"/>
                </a:lnTo>
                <a:lnTo>
                  <a:pt x="219662" y="117895"/>
                </a:lnTo>
                <a:lnTo>
                  <a:pt x="226378" y="120373"/>
                </a:lnTo>
                <a:lnTo>
                  <a:pt x="232762" y="122978"/>
                </a:lnTo>
                <a:lnTo>
                  <a:pt x="237969" y="125667"/>
                </a:lnTo>
                <a:lnTo>
                  <a:pt x="246296" y="131195"/>
                </a:lnTo>
                <a:lnTo>
                  <a:pt x="253171" y="136827"/>
                </a:lnTo>
                <a:lnTo>
                  <a:pt x="256338" y="139662"/>
                </a:lnTo>
                <a:lnTo>
                  <a:pt x="262397" y="147892"/>
                </a:lnTo>
                <a:lnTo>
                  <a:pt x="265347" y="152754"/>
                </a:lnTo>
                <a:lnTo>
                  <a:pt x="267313" y="157900"/>
                </a:lnTo>
                <a:lnTo>
                  <a:pt x="268624" y="163236"/>
                </a:lnTo>
                <a:lnTo>
                  <a:pt x="269497" y="168698"/>
                </a:lnTo>
                <a:lnTo>
                  <a:pt x="270080" y="174245"/>
                </a:lnTo>
                <a:lnTo>
                  <a:pt x="270468" y="179847"/>
                </a:lnTo>
                <a:lnTo>
                  <a:pt x="270727" y="185487"/>
                </a:lnTo>
                <a:lnTo>
                  <a:pt x="269947" y="190200"/>
                </a:lnTo>
                <a:lnTo>
                  <a:pt x="266541" y="197976"/>
                </a:lnTo>
                <a:lnTo>
                  <a:pt x="259268" y="212260"/>
                </a:lnTo>
                <a:lnTo>
                  <a:pt x="255640" y="217573"/>
                </a:lnTo>
                <a:lnTo>
                  <a:pt x="251317" y="223021"/>
                </a:lnTo>
                <a:lnTo>
                  <a:pt x="246530" y="228557"/>
                </a:lnTo>
                <a:lnTo>
                  <a:pt x="241433" y="233201"/>
                </a:lnTo>
                <a:lnTo>
                  <a:pt x="236130" y="237249"/>
                </a:lnTo>
                <a:lnTo>
                  <a:pt x="230690" y="240900"/>
                </a:lnTo>
                <a:lnTo>
                  <a:pt x="225159" y="245239"/>
                </a:lnTo>
                <a:lnTo>
                  <a:pt x="219566" y="250037"/>
                </a:lnTo>
                <a:lnTo>
                  <a:pt x="213932" y="255140"/>
                </a:lnTo>
                <a:lnTo>
                  <a:pt x="208271" y="259496"/>
                </a:lnTo>
                <a:lnTo>
                  <a:pt x="202593" y="263351"/>
                </a:lnTo>
                <a:lnTo>
                  <a:pt x="196902" y="266874"/>
                </a:lnTo>
                <a:lnTo>
                  <a:pt x="190250" y="270175"/>
                </a:lnTo>
                <a:lnTo>
                  <a:pt x="182958" y="273328"/>
                </a:lnTo>
                <a:lnTo>
                  <a:pt x="175240" y="276383"/>
                </a:lnTo>
                <a:lnTo>
                  <a:pt x="168189" y="278420"/>
                </a:lnTo>
                <a:lnTo>
                  <a:pt x="161583" y="279777"/>
                </a:lnTo>
                <a:lnTo>
                  <a:pt x="155275" y="280682"/>
                </a:lnTo>
                <a:lnTo>
                  <a:pt x="149164" y="281286"/>
                </a:lnTo>
                <a:lnTo>
                  <a:pt x="143185" y="281688"/>
                </a:lnTo>
                <a:lnTo>
                  <a:pt x="137294" y="281956"/>
                </a:lnTo>
                <a:lnTo>
                  <a:pt x="123129" y="282254"/>
                </a:lnTo>
                <a:lnTo>
                  <a:pt x="77297" y="282479"/>
                </a:lnTo>
                <a:lnTo>
                  <a:pt x="72414" y="281531"/>
                </a:lnTo>
                <a:lnTo>
                  <a:pt x="60990" y="276598"/>
                </a:lnTo>
                <a:lnTo>
                  <a:pt x="54609" y="275111"/>
                </a:lnTo>
                <a:lnTo>
                  <a:pt x="48597" y="271909"/>
                </a:lnTo>
                <a:lnTo>
                  <a:pt x="45661" y="269722"/>
                </a:lnTo>
                <a:lnTo>
                  <a:pt x="39858" y="267292"/>
                </a:lnTo>
                <a:lnTo>
                  <a:pt x="36977" y="266644"/>
                </a:lnTo>
                <a:lnTo>
                  <a:pt x="35056" y="265259"/>
                </a:lnTo>
                <a:lnTo>
                  <a:pt x="33776" y="263384"/>
                </a:lnTo>
                <a:lnTo>
                  <a:pt x="32922" y="261181"/>
                </a:lnTo>
                <a:lnTo>
                  <a:pt x="31401" y="259712"/>
                </a:lnTo>
                <a:lnTo>
                  <a:pt x="29434" y="258733"/>
                </a:lnTo>
                <a:lnTo>
                  <a:pt x="22760" y="256809"/>
                </a:lnTo>
                <a:lnTo>
                  <a:pt x="31215" y="2567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MARTPenAnnotation842"/>
          <p:cNvSpPr/>
          <p:nvPr/>
        </p:nvSpPr>
        <p:spPr>
          <a:xfrm>
            <a:off x="2428920" y="3017880"/>
            <a:ext cx="299880" cy="247680"/>
          </a:xfrm>
          <a:custGeom>
            <a:avLst/>
            <a:gdLst>
              <a:gd name="textAreaLeft" fmla="*/ 0 w 299880"/>
              <a:gd name="textAreaRight" fmla="*/ 300240 w 2998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00033" h="248454">
                <a:moveTo>
                  <a:pt x="120013" y="8541"/>
                </a:moveTo>
                <a:lnTo>
                  <a:pt x="103575" y="321"/>
                </a:lnTo>
                <a:lnTo>
                  <a:pt x="95550" y="0"/>
                </a:lnTo>
                <a:lnTo>
                  <a:pt x="90116" y="4529"/>
                </a:lnTo>
                <a:lnTo>
                  <a:pt x="82474" y="11903"/>
                </a:lnTo>
                <a:lnTo>
                  <a:pt x="78795" y="13640"/>
                </a:lnTo>
                <a:lnTo>
                  <a:pt x="69627" y="15570"/>
                </a:lnTo>
                <a:lnTo>
                  <a:pt x="61742" y="18968"/>
                </a:lnTo>
                <a:lnTo>
                  <a:pt x="55063" y="23653"/>
                </a:lnTo>
                <a:lnTo>
                  <a:pt x="48919" y="28910"/>
                </a:lnTo>
                <a:lnTo>
                  <a:pt x="43014" y="34421"/>
                </a:lnTo>
                <a:lnTo>
                  <a:pt x="36261" y="40046"/>
                </a:lnTo>
                <a:lnTo>
                  <a:pt x="26910" y="45721"/>
                </a:lnTo>
                <a:lnTo>
                  <a:pt x="22702" y="49520"/>
                </a:lnTo>
                <a:lnTo>
                  <a:pt x="18944" y="53958"/>
                </a:lnTo>
                <a:lnTo>
                  <a:pt x="15486" y="58821"/>
                </a:lnTo>
                <a:lnTo>
                  <a:pt x="12229" y="63016"/>
                </a:lnTo>
                <a:lnTo>
                  <a:pt x="6069" y="70217"/>
                </a:lnTo>
                <a:lnTo>
                  <a:pt x="4046" y="74424"/>
                </a:lnTo>
                <a:lnTo>
                  <a:pt x="2697" y="79133"/>
                </a:lnTo>
                <a:lnTo>
                  <a:pt x="1797" y="84177"/>
                </a:lnTo>
                <a:lnTo>
                  <a:pt x="1198" y="89445"/>
                </a:lnTo>
                <a:lnTo>
                  <a:pt x="798" y="94862"/>
                </a:lnTo>
                <a:lnTo>
                  <a:pt x="354" y="105008"/>
                </a:lnTo>
                <a:lnTo>
                  <a:pt x="156" y="112693"/>
                </a:lnTo>
                <a:lnTo>
                  <a:pt x="0" y="169785"/>
                </a:lnTo>
                <a:lnTo>
                  <a:pt x="952" y="174139"/>
                </a:lnTo>
                <a:lnTo>
                  <a:pt x="5890" y="184819"/>
                </a:lnTo>
                <a:lnTo>
                  <a:pt x="7379" y="191027"/>
                </a:lnTo>
                <a:lnTo>
                  <a:pt x="8729" y="194968"/>
                </a:lnTo>
                <a:lnTo>
                  <a:pt x="10581" y="199501"/>
                </a:lnTo>
                <a:lnTo>
                  <a:pt x="12769" y="204427"/>
                </a:lnTo>
                <a:lnTo>
                  <a:pt x="15180" y="207712"/>
                </a:lnTo>
                <a:lnTo>
                  <a:pt x="17739" y="209902"/>
                </a:lnTo>
                <a:lnTo>
                  <a:pt x="23123" y="213287"/>
                </a:lnTo>
                <a:lnTo>
                  <a:pt x="31509" y="220548"/>
                </a:lnTo>
                <a:lnTo>
                  <a:pt x="37181" y="225957"/>
                </a:lnTo>
                <a:lnTo>
                  <a:pt x="45729" y="234356"/>
                </a:lnTo>
                <a:lnTo>
                  <a:pt x="49535" y="236237"/>
                </a:lnTo>
                <a:lnTo>
                  <a:pt x="63994" y="239836"/>
                </a:lnTo>
                <a:lnTo>
                  <a:pt x="69332" y="241796"/>
                </a:lnTo>
                <a:lnTo>
                  <a:pt x="74796" y="244054"/>
                </a:lnTo>
                <a:lnTo>
                  <a:pt x="83407" y="246564"/>
                </a:lnTo>
                <a:lnTo>
                  <a:pt x="91362" y="247679"/>
                </a:lnTo>
                <a:lnTo>
                  <a:pt x="96149" y="247976"/>
                </a:lnTo>
                <a:lnTo>
                  <a:pt x="106550" y="248307"/>
                </a:lnTo>
                <a:lnTo>
                  <a:pt x="117522" y="248453"/>
                </a:lnTo>
                <a:lnTo>
                  <a:pt x="123115" y="247540"/>
                </a:lnTo>
                <a:lnTo>
                  <a:pt x="128749" y="245979"/>
                </a:lnTo>
                <a:lnTo>
                  <a:pt x="134409" y="243985"/>
                </a:lnTo>
                <a:lnTo>
                  <a:pt x="140088" y="241704"/>
                </a:lnTo>
                <a:lnTo>
                  <a:pt x="145779" y="239230"/>
                </a:lnTo>
                <a:lnTo>
                  <a:pt x="151478" y="236629"/>
                </a:lnTo>
                <a:lnTo>
                  <a:pt x="157183" y="234895"/>
                </a:lnTo>
                <a:lnTo>
                  <a:pt x="162890" y="233738"/>
                </a:lnTo>
                <a:lnTo>
                  <a:pt x="168601" y="232968"/>
                </a:lnTo>
                <a:lnTo>
                  <a:pt x="174312" y="231501"/>
                </a:lnTo>
                <a:lnTo>
                  <a:pt x="180025" y="229571"/>
                </a:lnTo>
                <a:lnTo>
                  <a:pt x="185739" y="227332"/>
                </a:lnTo>
                <a:lnTo>
                  <a:pt x="191453" y="225839"/>
                </a:lnTo>
                <a:lnTo>
                  <a:pt x="197167" y="224844"/>
                </a:lnTo>
                <a:lnTo>
                  <a:pt x="202882" y="224181"/>
                </a:lnTo>
                <a:lnTo>
                  <a:pt x="208597" y="222786"/>
                </a:lnTo>
                <a:lnTo>
                  <a:pt x="214311" y="220904"/>
                </a:lnTo>
                <a:lnTo>
                  <a:pt x="220026" y="218696"/>
                </a:lnTo>
                <a:lnTo>
                  <a:pt x="225741" y="216272"/>
                </a:lnTo>
                <a:lnTo>
                  <a:pt x="237171" y="211038"/>
                </a:lnTo>
                <a:lnTo>
                  <a:pt x="246061" y="205537"/>
                </a:lnTo>
                <a:lnTo>
                  <a:pt x="254140" y="199917"/>
                </a:lnTo>
                <a:lnTo>
                  <a:pt x="258961" y="197085"/>
                </a:lnTo>
                <a:lnTo>
                  <a:pt x="264080" y="194245"/>
                </a:lnTo>
                <a:lnTo>
                  <a:pt x="268445" y="190446"/>
                </a:lnTo>
                <a:lnTo>
                  <a:pt x="272308" y="186009"/>
                </a:lnTo>
                <a:lnTo>
                  <a:pt x="275836" y="181145"/>
                </a:lnTo>
                <a:lnTo>
                  <a:pt x="279140" y="176951"/>
                </a:lnTo>
                <a:lnTo>
                  <a:pt x="285351" y="169750"/>
                </a:lnTo>
                <a:lnTo>
                  <a:pt x="291287" y="163374"/>
                </a:lnTo>
                <a:lnTo>
                  <a:pt x="294203" y="160341"/>
                </a:lnTo>
                <a:lnTo>
                  <a:pt x="296148" y="156413"/>
                </a:lnTo>
                <a:lnTo>
                  <a:pt x="297444" y="151890"/>
                </a:lnTo>
                <a:lnTo>
                  <a:pt x="298308" y="146970"/>
                </a:lnTo>
                <a:lnTo>
                  <a:pt x="298884" y="142737"/>
                </a:lnTo>
                <a:lnTo>
                  <a:pt x="299524" y="135494"/>
                </a:lnTo>
                <a:lnTo>
                  <a:pt x="299808" y="129099"/>
                </a:lnTo>
                <a:lnTo>
                  <a:pt x="299968" y="120145"/>
                </a:lnTo>
                <a:lnTo>
                  <a:pt x="300032" y="92609"/>
                </a:lnTo>
                <a:lnTo>
                  <a:pt x="299081" y="88399"/>
                </a:lnTo>
                <a:lnTo>
                  <a:pt x="297494" y="83687"/>
                </a:lnTo>
                <a:lnTo>
                  <a:pt x="295484" y="78641"/>
                </a:lnTo>
                <a:lnTo>
                  <a:pt x="294144" y="74325"/>
                </a:lnTo>
                <a:lnTo>
                  <a:pt x="292655" y="66988"/>
                </a:lnTo>
                <a:lnTo>
                  <a:pt x="289453" y="60553"/>
                </a:lnTo>
                <a:lnTo>
                  <a:pt x="284855" y="54517"/>
                </a:lnTo>
                <a:lnTo>
                  <a:pt x="279636" y="48660"/>
                </a:lnTo>
                <a:lnTo>
                  <a:pt x="271602" y="42882"/>
                </a:lnTo>
                <a:lnTo>
                  <a:pt x="262634" y="37139"/>
                </a:lnTo>
                <a:lnTo>
                  <a:pt x="255473" y="31411"/>
                </a:lnTo>
                <a:lnTo>
                  <a:pt x="249115" y="25690"/>
                </a:lnTo>
                <a:lnTo>
                  <a:pt x="246086" y="22832"/>
                </a:lnTo>
                <a:lnTo>
                  <a:pt x="242162" y="20925"/>
                </a:lnTo>
                <a:lnTo>
                  <a:pt x="237641" y="19655"/>
                </a:lnTo>
                <a:lnTo>
                  <a:pt x="232722" y="18808"/>
                </a:lnTo>
                <a:lnTo>
                  <a:pt x="227537" y="18243"/>
                </a:lnTo>
                <a:lnTo>
                  <a:pt x="222176" y="17867"/>
                </a:lnTo>
                <a:lnTo>
                  <a:pt x="216697" y="17616"/>
                </a:lnTo>
                <a:lnTo>
                  <a:pt x="205529" y="17337"/>
                </a:lnTo>
                <a:lnTo>
                  <a:pt x="130147" y="17114"/>
                </a:lnTo>
                <a:lnTo>
                  <a:pt x="124864" y="18066"/>
                </a:lnTo>
                <a:lnTo>
                  <a:pt x="119437" y="19654"/>
                </a:lnTo>
                <a:lnTo>
                  <a:pt x="113914" y="21665"/>
                </a:lnTo>
                <a:lnTo>
                  <a:pt x="108327" y="23005"/>
                </a:lnTo>
                <a:lnTo>
                  <a:pt x="102698" y="23899"/>
                </a:lnTo>
                <a:lnTo>
                  <a:pt x="97040" y="24494"/>
                </a:lnTo>
                <a:lnTo>
                  <a:pt x="93268" y="25844"/>
                </a:lnTo>
                <a:lnTo>
                  <a:pt x="90753" y="27697"/>
                </a:lnTo>
                <a:lnTo>
                  <a:pt x="85724" y="342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MARTPenAnnotation843"/>
          <p:cNvSpPr/>
          <p:nvPr/>
        </p:nvSpPr>
        <p:spPr>
          <a:xfrm>
            <a:off x="690480" y="3627360"/>
            <a:ext cx="289080" cy="273240"/>
          </a:xfrm>
          <a:custGeom>
            <a:avLst/>
            <a:gdLst>
              <a:gd name="textAreaLeft" fmla="*/ 0 w 289080"/>
              <a:gd name="textAreaRight" fmla="*/ 289440 w 2890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290273" h="273129">
                <a:moveTo>
                  <a:pt x="290272" y="7381"/>
                </a:moveTo>
                <a:lnTo>
                  <a:pt x="277158" y="7381"/>
                </a:lnTo>
                <a:lnTo>
                  <a:pt x="275814" y="6428"/>
                </a:lnTo>
                <a:lnTo>
                  <a:pt x="274918" y="4841"/>
                </a:lnTo>
                <a:lnTo>
                  <a:pt x="273481" y="0"/>
                </a:lnTo>
                <a:lnTo>
                  <a:pt x="272410" y="555"/>
                </a:lnTo>
                <a:lnTo>
                  <a:pt x="268681" y="3712"/>
                </a:lnTo>
                <a:lnTo>
                  <a:pt x="266353" y="4935"/>
                </a:lnTo>
                <a:lnTo>
                  <a:pt x="261226" y="6294"/>
                </a:lnTo>
                <a:lnTo>
                  <a:pt x="252985" y="7059"/>
                </a:lnTo>
                <a:lnTo>
                  <a:pt x="244511" y="7285"/>
                </a:lnTo>
                <a:lnTo>
                  <a:pt x="241667" y="8269"/>
                </a:lnTo>
                <a:lnTo>
                  <a:pt x="235967" y="11903"/>
                </a:lnTo>
                <a:lnTo>
                  <a:pt x="227719" y="14153"/>
                </a:lnTo>
                <a:lnTo>
                  <a:pt x="222852" y="14753"/>
                </a:lnTo>
                <a:lnTo>
                  <a:pt x="217703" y="15153"/>
                </a:lnTo>
                <a:lnTo>
                  <a:pt x="212365" y="15420"/>
                </a:lnTo>
                <a:lnTo>
                  <a:pt x="201354" y="15716"/>
                </a:lnTo>
                <a:lnTo>
                  <a:pt x="190110" y="15848"/>
                </a:lnTo>
                <a:lnTo>
                  <a:pt x="183493" y="16836"/>
                </a:lnTo>
                <a:lnTo>
                  <a:pt x="176223" y="18446"/>
                </a:lnTo>
                <a:lnTo>
                  <a:pt x="168519" y="20473"/>
                </a:lnTo>
                <a:lnTo>
                  <a:pt x="161479" y="21824"/>
                </a:lnTo>
                <a:lnTo>
                  <a:pt x="154880" y="22724"/>
                </a:lnTo>
                <a:lnTo>
                  <a:pt x="148575" y="23325"/>
                </a:lnTo>
                <a:lnTo>
                  <a:pt x="142468" y="23725"/>
                </a:lnTo>
                <a:lnTo>
                  <a:pt x="136491" y="23992"/>
                </a:lnTo>
                <a:lnTo>
                  <a:pt x="124770" y="24288"/>
                </a:lnTo>
                <a:lnTo>
                  <a:pt x="47533" y="24526"/>
                </a:lnTo>
                <a:lnTo>
                  <a:pt x="44626" y="25478"/>
                </a:lnTo>
                <a:lnTo>
                  <a:pt x="35984" y="30417"/>
                </a:lnTo>
                <a:lnTo>
                  <a:pt x="30253" y="31906"/>
                </a:lnTo>
                <a:lnTo>
                  <a:pt x="28343" y="33256"/>
                </a:lnTo>
                <a:lnTo>
                  <a:pt x="27070" y="35108"/>
                </a:lnTo>
                <a:lnTo>
                  <a:pt x="26222" y="37296"/>
                </a:lnTo>
                <a:lnTo>
                  <a:pt x="24703" y="38754"/>
                </a:lnTo>
                <a:lnTo>
                  <a:pt x="22739" y="39726"/>
                </a:lnTo>
                <a:lnTo>
                  <a:pt x="20476" y="40374"/>
                </a:lnTo>
                <a:lnTo>
                  <a:pt x="18016" y="42711"/>
                </a:lnTo>
                <a:lnTo>
                  <a:pt x="12742" y="50388"/>
                </a:lnTo>
                <a:lnTo>
                  <a:pt x="9763" y="57610"/>
                </a:lnTo>
                <a:lnTo>
                  <a:pt x="8439" y="63995"/>
                </a:lnTo>
                <a:lnTo>
                  <a:pt x="7850" y="70007"/>
                </a:lnTo>
                <a:lnTo>
                  <a:pt x="7589" y="78395"/>
                </a:lnTo>
                <a:lnTo>
                  <a:pt x="7392" y="104176"/>
                </a:lnTo>
                <a:lnTo>
                  <a:pt x="6435" y="107154"/>
                </a:lnTo>
                <a:lnTo>
                  <a:pt x="2832" y="113002"/>
                </a:lnTo>
                <a:lnTo>
                  <a:pt x="596" y="118776"/>
                </a:lnTo>
                <a:lnTo>
                  <a:pt x="0" y="121649"/>
                </a:lnTo>
                <a:lnTo>
                  <a:pt x="555" y="124517"/>
                </a:lnTo>
                <a:lnTo>
                  <a:pt x="4934" y="132152"/>
                </a:lnTo>
                <a:lnTo>
                  <a:pt x="7057" y="135466"/>
                </a:lnTo>
                <a:lnTo>
                  <a:pt x="7284" y="140370"/>
                </a:lnTo>
                <a:lnTo>
                  <a:pt x="8268" y="141760"/>
                </a:lnTo>
                <a:lnTo>
                  <a:pt x="9877" y="142687"/>
                </a:lnTo>
                <a:lnTo>
                  <a:pt x="11902" y="143305"/>
                </a:lnTo>
                <a:lnTo>
                  <a:pt x="13252" y="142764"/>
                </a:lnTo>
                <a:lnTo>
                  <a:pt x="14152" y="141452"/>
                </a:lnTo>
                <a:lnTo>
                  <a:pt x="14752" y="139624"/>
                </a:lnTo>
                <a:lnTo>
                  <a:pt x="16104" y="138405"/>
                </a:lnTo>
                <a:lnTo>
                  <a:pt x="17959" y="137593"/>
                </a:lnTo>
                <a:lnTo>
                  <a:pt x="20147" y="137051"/>
                </a:lnTo>
                <a:lnTo>
                  <a:pt x="21606" y="135738"/>
                </a:lnTo>
                <a:lnTo>
                  <a:pt x="22579" y="133909"/>
                </a:lnTo>
                <a:lnTo>
                  <a:pt x="23227" y="131738"/>
                </a:lnTo>
                <a:lnTo>
                  <a:pt x="26488" y="126786"/>
                </a:lnTo>
                <a:lnTo>
                  <a:pt x="33679" y="118642"/>
                </a:lnTo>
                <a:lnTo>
                  <a:pt x="36342" y="115845"/>
                </a:lnTo>
                <a:lnTo>
                  <a:pt x="44382" y="110197"/>
                </a:lnTo>
                <a:lnTo>
                  <a:pt x="53352" y="104512"/>
                </a:lnTo>
                <a:lnTo>
                  <a:pt x="60514" y="98810"/>
                </a:lnTo>
                <a:lnTo>
                  <a:pt x="65663" y="95956"/>
                </a:lnTo>
                <a:lnTo>
                  <a:pt x="71952" y="93101"/>
                </a:lnTo>
                <a:lnTo>
                  <a:pt x="79003" y="90245"/>
                </a:lnTo>
                <a:lnTo>
                  <a:pt x="85609" y="87389"/>
                </a:lnTo>
                <a:lnTo>
                  <a:pt x="98028" y="81675"/>
                </a:lnTo>
                <a:lnTo>
                  <a:pt x="115730" y="73103"/>
                </a:lnTo>
                <a:lnTo>
                  <a:pt x="121523" y="71198"/>
                </a:lnTo>
                <a:lnTo>
                  <a:pt x="127290" y="69928"/>
                </a:lnTo>
                <a:lnTo>
                  <a:pt x="133040" y="69081"/>
                </a:lnTo>
                <a:lnTo>
                  <a:pt x="138778" y="68517"/>
                </a:lnTo>
                <a:lnTo>
                  <a:pt x="144509" y="68141"/>
                </a:lnTo>
                <a:lnTo>
                  <a:pt x="150234" y="67890"/>
                </a:lnTo>
                <a:lnTo>
                  <a:pt x="161675" y="67611"/>
                </a:lnTo>
                <a:lnTo>
                  <a:pt x="184543" y="67432"/>
                </a:lnTo>
                <a:lnTo>
                  <a:pt x="190258" y="68370"/>
                </a:lnTo>
                <a:lnTo>
                  <a:pt x="195974" y="69948"/>
                </a:lnTo>
                <a:lnTo>
                  <a:pt x="201689" y="71952"/>
                </a:lnTo>
                <a:lnTo>
                  <a:pt x="207404" y="74241"/>
                </a:lnTo>
                <a:lnTo>
                  <a:pt x="213119" y="76719"/>
                </a:lnTo>
                <a:lnTo>
                  <a:pt x="218834" y="79324"/>
                </a:lnTo>
                <a:lnTo>
                  <a:pt x="227724" y="84758"/>
                </a:lnTo>
                <a:lnTo>
                  <a:pt x="234850" y="90348"/>
                </a:lnTo>
                <a:lnTo>
                  <a:pt x="241193" y="96007"/>
                </a:lnTo>
                <a:lnTo>
                  <a:pt x="247186" y="104238"/>
                </a:lnTo>
                <a:lnTo>
                  <a:pt x="250118" y="109100"/>
                </a:lnTo>
                <a:lnTo>
                  <a:pt x="252073" y="114246"/>
                </a:lnTo>
                <a:lnTo>
                  <a:pt x="253376" y="119582"/>
                </a:lnTo>
                <a:lnTo>
                  <a:pt x="254245" y="125044"/>
                </a:lnTo>
                <a:lnTo>
                  <a:pt x="254824" y="129638"/>
                </a:lnTo>
                <a:lnTo>
                  <a:pt x="255467" y="137282"/>
                </a:lnTo>
                <a:lnTo>
                  <a:pt x="255639" y="141607"/>
                </a:lnTo>
                <a:lnTo>
                  <a:pt x="255829" y="151492"/>
                </a:lnTo>
                <a:lnTo>
                  <a:pt x="254928" y="156795"/>
                </a:lnTo>
                <a:lnTo>
                  <a:pt x="253374" y="162235"/>
                </a:lnTo>
                <a:lnTo>
                  <a:pt x="251386" y="167767"/>
                </a:lnTo>
                <a:lnTo>
                  <a:pt x="249108" y="173360"/>
                </a:lnTo>
                <a:lnTo>
                  <a:pt x="246637" y="178993"/>
                </a:lnTo>
                <a:lnTo>
                  <a:pt x="241351" y="190333"/>
                </a:lnTo>
                <a:lnTo>
                  <a:pt x="235827" y="201723"/>
                </a:lnTo>
                <a:lnTo>
                  <a:pt x="232068" y="206475"/>
                </a:lnTo>
                <a:lnTo>
                  <a:pt x="227657" y="210595"/>
                </a:lnTo>
                <a:lnTo>
                  <a:pt x="222811" y="214294"/>
                </a:lnTo>
                <a:lnTo>
                  <a:pt x="218628" y="218666"/>
                </a:lnTo>
                <a:lnTo>
                  <a:pt x="214887" y="223485"/>
                </a:lnTo>
                <a:lnTo>
                  <a:pt x="211440" y="228602"/>
                </a:lnTo>
                <a:lnTo>
                  <a:pt x="205071" y="236829"/>
                </a:lnTo>
                <a:lnTo>
                  <a:pt x="202039" y="240356"/>
                </a:lnTo>
                <a:lnTo>
                  <a:pt x="197160" y="243660"/>
                </a:lnTo>
                <a:lnTo>
                  <a:pt x="191050" y="246815"/>
                </a:lnTo>
                <a:lnTo>
                  <a:pt x="184119" y="249871"/>
                </a:lnTo>
                <a:lnTo>
                  <a:pt x="171338" y="255807"/>
                </a:lnTo>
                <a:lnTo>
                  <a:pt x="165263" y="258723"/>
                </a:lnTo>
                <a:lnTo>
                  <a:pt x="160260" y="260667"/>
                </a:lnTo>
                <a:lnTo>
                  <a:pt x="152161" y="262827"/>
                </a:lnTo>
                <a:lnTo>
                  <a:pt x="146763" y="263403"/>
                </a:lnTo>
                <a:lnTo>
                  <a:pt x="140307" y="263787"/>
                </a:lnTo>
                <a:lnTo>
                  <a:pt x="133145" y="264044"/>
                </a:lnTo>
                <a:lnTo>
                  <a:pt x="127418" y="265167"/>
                </a:lnTo>
                <a:lnTo>
                  <a:pt x="118515" y="268955"/>
                </a:lnTo>
                <a:lnTo>
                  <a:pt x="113855" y="270346"/>
                </a:lnTo>
                <a:lnTo>
                  <a:pt x="108843" y="271273"/>
                </a:lnTo>
                <a:lnTo>
                  <a:pt x="103597" y="271892"/>
                </a:lnTo>
                <a:lnTo>
                  <a:pt x="98194" y="272304"/>
                </a:lnTo>
                <a:lnTo>
                  <a:pt x="92688" y="272579"/>
                </a:lnTo>
                <a:lnTo>
                  <a:pt x="78376" y="272965"/>
                </a:lnTo>
                <a:lnTo>
                  <a:pt x="47302" y="273122"/>
                </a:lnTo>
                <a:lnTo>
                  <a:pt x="26326" y="273128"/>
                </a:lnTo>
                <a:lnTo>
                  <a:pt x="22785" y="270588"/>
                </a:lnTo>
                <a:lnTo>
                  <a:pt x="20507" y="268578"/>
                </a:lnTo>
                <a:lnTo>
                  <a:pt x="18036" y="267236"/>
                </a:lnTo>
                <a:lnTo>
                  <a:pt x="8971" y="264908"/>
                </a:lnTo>
                <a:lnTo>
                  <a:pt x="8440" y="265744"/>
                </a:lnTo>
                <a:lnTo>
                  <a:pt x="7851" y="269211"/>
                </a:lnTo>
                <a:lnTo>
                  <a:pt x="8646" y="270517"/>
                </a:lnTo>
                <a:lnTo>
                  <a:pt x="10129" y="271387"/>
                </a:lnTo>
                <a:lnTo>
                  <a:pt x="15952" y="27312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MARTPenAnnotation844"/>
          <p:cNvSpPr/>
          <p:nvPr/>
        </p:nvSpPr>
        <p:spPr>
          <a:xfrm>
            <a:off x="1100160" y="3840120"/>
            <a:ext cx="119160" cy="154080"/>
          </a:xfrm>
          <a:custGeom>
            <a:avLst/>
            <a:gdLst>
              <a:gd name="textAreaLeft" fmla="*/ 0 w 119160"/>
              <a:gd name="textAreaRight" fmla="*/ 119520 w 1191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19632" h="154157">
                <a:moveTo>
                  <a:pt x="111442" y="0"/>
                </a:moveTo>
                <a:lnTo>
                  <a:pt x="102975" y="0"/>
                </a:lnTo>
                <a:lnTo>
                  <a:pt x="105456" y="2541"/>
                </a:lnTo>
                <a:lnTo>
                  <a:pt x="115643" y="12771"/>
                </a:lnTo>
                <a:lnTo>
                  <a:pt x="117100" y="15182"/>
                </a:lnTo>
                <a:lnTo>
                  <a:pt x="118072" y="17741"/>
                </a:lnTo>
                <a:lnTo>
                  <a:pt x="118719" y="20400"/>
                </a:lnTo>
                <a:lnTo>
                  <a:pt x="119151" y="24078"/>
                </a:lnTo>
                <a:lnTo>
                  <a:pt x="119439" y="28435"/>
                </a:lnTo>
                <a:lnTo>
                  <a:pt x="119631" y="33244"/>
                </a:lnTo>
                <a:lnTo>
                  <a:pt x="118807" y="38355"/>
                </a:lnTo>
                <a:lnTo>
                  <a:pt x="117304" y="43668"/>
                </a:lnTo>
                <a:lnTo>
                  <a:pt x="115350" y="49114"/>
                </a:lnTo>
                <a:lnTo>
                  <a:pt x="114048" y="54651"/>
                </a:lnTo>
                <a:lnTo>
                  <a:pt x="113179" y="60247"/>
                </a:lnTo>
                <a:lnTo>
                  <a:pt x="112600" y="65882"/>
                </a:lnTo>
                <a:lnTo>
                  <a:pt x="111262" y="71544"/>
                </a:lnTo>
                <a:lnTo>
                  <a:pt x="109417" y="77224"/>
                </a:lnTo>
                <a:lnTo>
                  <a:pt x="107235" y="82916"/>
                </a:lnTo>
                <a:lnTo>
                  <a:pt x="104827" y="87662"/>
                </a:lnTo>
                <a:lnTo>
                  <a:pt x="102270" y="91779"/>
                </a:lnTo>
                <a:lnTo>
                  <a:pt x="99612" y="95476"/>
                </a:lnTo>
                <a:lnTo>
                  <a:pt x="96888" y="99846"/>
                </a:lnTo>
                <a:lnTo>
                  <a:pt x="94120" y="104664"/>
                </a:lnTo>
                <a:lnTo>
                  <a:pt x="91321" y="109782"/>
                </a:lnTo>
                <a:lnTo>
                  <a:pt x="88503" y="114145"/>
                </a:lnTo>
                <a:lnTo>
                  <a:pt x="85672" y="118007"/>
                </a:lnTo>
                <a:lnTo>
                  <a:pt x="82832" y="121534"/>
                </a:lnTo>
                <a:lnTo>
                  <a:pt x="79034" y="124838"/>
                </a:lnTo>
                <a:lnTo>
                  <a:pt x="74597" y="127993"/>
                </a:lnTo>
                <a:lnTo>
                  <a:pt x="69734" y="131049"/>
                </a:lnTo>
                <a:lnTo>
                  <a:pt x="65539" y="134039"/>
                </a:lnTo>
                <a:lnTo>
                  <a:pt x="61790" y="136985"/>
                </a:lnTo>
                <a:lnTo>
                  <a:pt x="58338" y="139901"/>
                </a:lnTo>
                <a:lnTo>
                  <a:pt x="55085" y="142797"/>
                </a:lnTo>
                <a:lnTo>
                  <a:pt x="48929" y="148556"/>
                </a:lnTo>
                <a:lnTo>
                  <a:pt x="45955" y="150472"/>
                </a:lnTo>
                <a:lnTo>
                  <a:pt x="43019" y="151750"/>
                </a:lnTo>
                <a:lnTo>
                  <a:pt x="40109" y="152602"/>
                </a:lnTo>
                <a:lnTo>
                  <a:pt x="36264" y="153170"/>
                </a:lnTo>
                <a:lnTo>
                  <a:pt x="31796" y="153548"/>
                </a:lnTo>
                <a:lnTo>
                  <a:pt x="20039" y="154156"/>
                </a:lnTo>
                <a:lnTo>
                  <a:pt x="17169" y="153253"/>
                </a:lnTo>
                <a:lnTo>
                  <a:pt x="13351" y="151699"/>
                </a:lnTo>
                <a:lnTo>
                  <a:pt x="2637" y="146912"/>
                </a:lnTo>
                <a:lnTo>
                  <a:pt x="1758" y="145566"/>
                </a:lnTo>
                <a:lnTo>
                  <a:pt x="781" y="141532"/>
                </a:lnTo>
                <a:lnTo>
                  <a:pt x="521" y="139122"/>
                </a:lnTo>
                <a:lnTo>
                  <a:pt x="347" y="136563"/>
                </a:lnTo>
                <a:lnTo>
                  <a:pt x="69" y="130163"/>
                </a:lnTo>
                <a:lnTo>
                  <a:pt x="0" y="12001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MARTPenAnnotation845"/>
          <p:cNvSpPr/>
          <p:nvPr/>
        </p:nvSpPr>
        <p:spPr>
          <a:xfrm>
            <a:off x="1487520" y="3625920"/>
            <a:ext cx="247680" cy="291960"/>
          </a:xfrm>
          <a:custGeom>
            <a:avLst/>
            <a:gdLst>
              <a:gd name="textAreaLeft" fmla="*/ 0 w 247680"/>
              <a:gd name="textAreaRight" fmla="*/ 248040 w 247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247185" h="291465">
                <a:moveTo>
                  <a:pt x="84385" y="8572"/>
                </a:moveTo>
                <a:lnTo>
                  <a:pt x="84385" y="30"/>
                </a:lnTo>
                <a:lnTo>
                  <a:pt x="71615" y="0"/>
                </a:lnTo>
                <a:lnTo>
                  <a:pt x="69204" y="952"/>
                </a:lnTo>
                <a:lnTo>
                  <a:pt x="63986" y="4550"/>
                </a:lnTo>
                <a:lnTo>
                  <a:pt x="62213" y="6843"/>
                </a:lnTo>
                <a:lnTo>
                  <a:pt x="61032" y="9324"/>
                </a:lnTo>
                <a:lnTo>
                  <a:pt x="60244" y="11931"/>
                </a:lnTo>
                <a:lnTo>
                  <a:pt x="57813" y="14621"/>
                </a:lnTo>
                <a:lnTo>
                  <a:pt x="54288" y="17367"/>
                </a:lnTo>
                <a:lnTo>
                  <a:pt x="50033" y="20150"/>
                </a:lnTo>
                <a:lnTo>
                  <a:pt x="47196" y="22958"/>
                </a:lnTo>
                <a:lnTo>
                  <a:pt x="45305" y="25783"/>
                </a:lnTo>
                <a:lnTo>
                  <a:pt x="42252" y="31461"/>
                </a:lnTo>
                <a:lnTo>
                  <a:pt x="37719" y="37160"/>
                </a:lnTo>
                <a:lnTo>
                  <a:pt x="32530" y="45407"/>
                </a:lnTo>
                <a:lnTo>
                  <a:pt x="29813" y="50274"/>
                </a:lnTo>
                <a:lnTo>
                  <a:pt x="24253" y="60761"/>
                </a:lnTo>
                <a:lnTo>
                  <a:pt x="21437" y="66225"/>
                </a:lnTo>
                <a:lnTo>
                  <a:pt x="15769" y="74835"/>
                </a:lnTo>
                <a:lnTo>
                  <a:pt x="12923" y="78465"/>
                </a:lnTo>
                <a:lnTo>
                  <a:pt x="11027" y="82790"/>
                </a:lnTo>
                <a:lnTo>
                  <a:pt x="9762" y="87578"/>
                </a:lnTo>
                <a:lnTo>
                  <a:pt x="8919" y="92675"/>
                </a:lnTo>
                <a:lnTo>
                  <a:pt x="7405" y="97978"/>
                </a:lnTo>
                <a:lnTo>
                  <a:pt x="5442" y="103419"/>
                </a:lnTo>
                <a:lnTo>
                  <a:pt x="3182" y="108950"/>
                </a:lnTo>
                <a:lnTo>
                  <a:pt x="1675" y="114543"/>
                </a:lnTo>
                <a:lnTo>
                  <a:pt x="670" y="120177"/>
                </a:lnTo>
                <a:lnTo>
                  <a:pt x="0" y="125837"/>
                </a:lnTo>
                <a:lnTo>
                  <a:pt x="506" y="131516"/>
                </a:lnTo>
                <a:lnTo>
                  <a:pt x="1796" y="137208"/>
                </a:lnTo>
                <a:lnTo>
                  <a:pt x="3608" y="142906"/>
                </a:lnTo>
                <a:lnTo>
                  <a:pt x="4816" y="148611"/>
                </a:lnTo>
                <a:lnTo>
                  <a:pt x="5622" y="154319"/>
                </a:lnTo>
                <a:lnTo>
                  <a:pt x="6159" y="160029"/>
                </a:lnTo>
                <a:lnTo>
                  <a:pt x="6517" y="165740"/>
                </a:lnTo>
                <a:lnTo>
                  <a:pt x="6915" y="177167"/>
                </a:lnTo>
                <a:lnTo>
                  <a:pt x="7139" y="194310"/>
                </a:lnTo>
                <a:lnTo>
                  <a:pt x="8123" y="199072"/>
                </a:lnTo>
                <a:lnTo>
                  <a:pt x="11756" y="206903"/>
                </a:lnTo>
                <a:lnTo>
                  <a:pt x="19156" y="221218"/>
                </a:lnTo>
                <a:lnTo>
                  <a:pt x="24597" y="229446"/>
                </a:lnTo>
                <a:lnTo>
                  <a:pt x="30190" y="236278"/>
                </a:lnTo>
                <a:lnTo>
                  <a:pt x="35851" y="242490"/>
                </a:lnTo>
                <a:lnTo>
                  <a:pt x="44393" y="251341"/>
                </a:lnTo>
                <a:lnTo>
                  <a:pt x="48199" y="254238"/>
                </a:lnTo>
                <a:lnTo>
                  <a:pt x="52641" y="257122"/>
                </a:lnTo>
                <a:lnTo>
                  <a:pt x="57508" y="259997"/>
                </a:lnTo>
                <a:lnTo>
                  <a:pt x="61704" y="262866"/>
                </a:lnTo>
                <a:lnTo>
                  <a:pt x="68907" y="268594"/>
                </a:lnTo>
                <a:lnTo>
                  <a:pt x="73114" y="270502"/>
                </a:lnTo>
                <a:lnTo>
                  <a:pt x="77824" y="271775"/>
                </a:lnTo>
                <a:lnTo>
                  <a:pt x="82869" y="272623"/>
                </a:lnTo>
                <a:lnTo>
                  <a:pt x="88137" y="273188"/>
                </a:lnTo>
                <a:lnTo>
                  <a:pt x="93554" y="273565"/>
                </a:lnTo>
                <a:lnTo>
                  <a:pt x="99070" y="273817"/>
                </a:lnTo>
                <a:lnTo>
                  <a:pt x="110279" y="274096"/>
                </a:lnTo>
                <a:lnTo>
                  <a:pt x="115936" y="274170"/>
                </a:lnTo>
                <a:lnTo>
                  <a:pt x="121612" y="273268"/>
                </a:lnTo>
                <a:lnTo>
                  <a:pt x="127300" y="271713"/>
                </a:lnTo>
                <a:lnTo>
                  <a:pt x="132998" y="269724"/>
                </a:lnTo>
                <a:lnTo>
                  <a:pt x="137749" y="268398"/>
                </a:lnTo>
                <a:lnTo>
                  <a:pt x="141868" y="267514"/>
                </a:lnTo>
                <a:lnTo>
                  <a:pt x="145568" y="266925"/>
                </a:lnTo>
                <a:lnTo>
                  <a:pt x="149938" y="265580"/>
                </a:lnTo>
                <a:lnTo>
                  <a:pt x="154757" y="263730"/>
                </a:lnTo>
                <a:lnTo>
                  <a:pt x="159875" y="261545"/>
                </a:lnTo>
                <a:lnTo>
                  <a:pt x="170641" y="256577"/>
                </a:lnTo>
                <a:lnTo>
                  <a:pt x="204447" y="239977"/>
                </a:lnTo>
                <a:lnTo>
                  <a:pt x="210147" y="237137"/>
                </a:lnTo>
                <a:lnTo>
                  <a:pt x="214899" y="233338"/>
                </a:lnTo>
                <a:lnTo>
                  <a:pt x="219019" y="228901"/>
                </a:lnTo>
                <a:lnTo>
                  <a:pt x="222719" y="224038"/>
                </a:lnTo>
                <a:lnTo>
                  <a:pt x="227090" y="219843"/>
                </a:lnTo>
                <a:lnTo>
                  <a:pt x="231909" y="216095"/>
                </a:lnTo>
                <a:lnTo>
                  <a:pt x="237027" y="212643"/>
                </a:lnTo>
                <a:lnTo>
                  <a:pt x="240439" y="209389"/>
                </a:lnTo>
                <a:lnTo>
                  <a:pt x="242714" y="206267"/>
                </a:lnTo>
                <a:lnTo>
                  <a:pt x="245241" y="200259"/>
                </a:lnTo>
                <a:lnTo>
                  <a:pt x="246364" y="194413"/>
                </a:lnTo>
                <a:lnTo>
                  <a:pt x="246864" y="186100"/>
                </a:lnTo>
                <a:lnTo>
                  <a:pt x="247145" y="173250"/>
                </a:lnTo>
                <a:lnTo>
                  <a:pt x="247184" y="169792"/>
                </a:lnTo>
                <a:lnTo>
                  <a:pt x="246258" y="167487"/>
                </a:lnTo>
                <a:lnTo>
                  <a:pt x="244688" y="165950"/>
                </a:lnTo>
                <a:lnTo>
                  <a:pt x="242689" y="164926"/>
                </a:lnTo>
                <a:lnTo>
                  <a:pt x="235324" y="158933"/>
                </a:lnTo>
                <a:lnTo>
                  <a:pt x="232637" y="157390"/>
                </a:lnTo>
                <a:lnTo>
                  <a:pt x="227110" y="155676"/>
                </a:lnTo>
                <a:lnTo>
                  <a:pt x="221478" y="154913"/>
                </a:lnTo>
                <a:lnTo>
                  <a:pt x="214848" y="154575"/>
                </a:lnTo>
                <a:lnTo>
                  <a:pt x="205551" y="154425"/>
                </a:lnTo>
                <a:lnTo>
                  <a:pt x="200405" y="155337"/>
                </a:lnTo>
                <a:lnTo>
                  <a:pt x="195069" y="156898"/>
                </a:lnTo>
                <a:lnTo>
                  <a:pt x="189607" y="158891"/>
                </a:lnTo>
                <a:lnTo>
                  <a:pt x="185013" y="161172"/>
                </a:lnTo>
                <a:lnTo>
                  <a:pt x="173044" y="168933"/>
                </a:lnTo>
                <a:lnTo>
                  <a:pt x="168256" y="171677"/>
                </a:lnTo>
                <a:lnTo>
                  <a:pt x="157857" y="177265"/>
                </a:lnTo>
                <a:lnTo>
                  <a:pt x="146884" y="182924"/>
                </a:lnTo>
                <a:lnTo>
                  <a:pt x="142244" y="185767"/>
                </a:lnTo>
                <a:lnTo>
                  <a:pt x="134548" y="191465"/>
                </a:lnTo>
                <a:lnTo>
                  <a:pt x="130210" y="194318"/>
                </a:lnTo>
                <a:lnTo>
                  <a:pt x="125412" y="197173"/>
                </a:lnTo>
                <a:lnTo>
                  <a:pt x="120309" y="200028"/>
                </a:lnTo>
                <a:lnTo>
                  <a:pt x="116907" y="203837"/>
                </a:lnTo>
                <a:lnTo>
                  <a:pt x="114639" y="208281"/>
                </a:lnTo>
                <a:lnTo>
                  <a:pt x="111166" y="217346"/>
                </a:lnTo>
                <a:lnTo>
                  <a:pt x="106448" y="224550"/>
                </a:lnTo>
                <a:lnTo>
                  <a:pt x="103716" y="230927"/>
                </a:lnTo>
                <a:lnTo>
                  <a:pt x="102988" y="233961"/>
                </a:lnTo>
                <a:lnTo>
                  <a:pt x="99638" y="239872"/>
                </a:lnTo>
                <a:lnTo>
                  <a:pt x="97411" y="242782"/>
                </a:lnTo>
                <a:lnTo>
                  <a:pt x="94937" y="248555"/>
                </a:lnTo>
                <a:lnTo>
                  <a:pt x="93544" y="257160"/>
                </a:lnTo>
                <a:lnTo>
                  <a:pt x="93349" y="260023"/>
                </a:lnTo>
                <a:lnTo>
                  <a:pt x="94171" y="262883"/>
                </a:lnTo>
                <a:lnTo>
                  <a:pt x="97625" y="268602"/>
                </a:lnTo>
                <a:lnTo>
                  <a:pt x="99879" y="270507"/>
                </a:lnTo>
                <a:lnTo>
                  <a:pt x="102335" y="271778"/>
                </a:lnTo>
                <a:lnTo>
                  <a:pt x="104924" y="272625"/>
                </a:lnTo>
                <a:lnTo>
                  <a:pt x="110341" y="276106"/>
                </a:lnTo>
                <a:lnTo>
                  <a:pt x="115924" y="280828"/>
                </a:lnTo>
                <a:lnTo>
                  <a:pt x="121580" y="286102"/>
                </a:lnTo>
                <a:lnTo>
                  <a:pt x="124422" y="287889"/>
                </a:lnTo>
                <a:lnTo>
                  <a:pt x="130119" y="289875"/>
                </a:lnTo>
                <a:lnTo>
                  <a:pt x="135827" y="290758"/>
                </a:lnTo>
                <a:lnTo>
                  <a:pt x="144393" y="29146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MARTPenAnnotation846"/>
          <p:cNvSpPr/>
          <p:nvPr/>
        </p:nvSpPr>
        <p:spPr>
          <a:xfrm>
            <a:off x="2617920" y="3565440"/>
            <a:ext cx="195120" cy="274680"/>
          </a:xfrm>
          <a:custGeom>
            <a:avLst/>
            <a:gdLst>
              <a:gd name="textAreaLeft" fmla="*/ 0 w 195120"/>
              <a:gd name="textAreaRight" fmla="*/ 195480 w 1951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95793" h="274275">
                <a:moveTo>
                  <a:pt x="137159" y="17144"/>
                </a:moveTo>
                <a:lnTo>
                  <a:pt x="132609" y="17144"/>
                </a:lnTo>
                <a:lnTo>
                  <a:pt x="131268" y="16192"/>
                </a:lnTo>
                <a:lnTo>
                  <a:pt x="130374" y="14605"/>
                </a:lnTo>
                <a:lnTo>
                  <a:pt x="128940" y="9764"/>
                </a:lnTo>
                <a:lnTo>
                  <a:pt x="127870" y="9367"/>
                </a:lnTo>
                <a:lnTo>
                  <a:pt x="124141" y="8925"/>
                </a:lnTo>
                <a:lnTo>
                  <a:pt x="121813" y="7855"/>
                </a:lnTo>
                <a:lnTo>
                  <a:pt x="116686" y="4126"/>
                </a:lnTo>
                <a:lnTo>
                  <a:pt x="113986" y="2750"/>
                </a:lnTo>
                <a:lnTo>
                  <a:pt x="108445" y="1222"/>
                </a:lnTo>
                <a:lnTo>
                  <a:pt x="104682" y="815"/>
                </a:lnTo>
                <a:lnTo>
                  <a:pt x="100267" y="543"/>
                </a:lnTo>
                <a:lnTo>
                  <a:pt x="90283" y="241"/>
                </a:lnTo>
                <a:lnTo>
                  <a:pt x="58152" y="14"/>
                </a:lnTo>
                <a:lnTo>
                  <a:pt x="10276" y="0"/>
                </a:lnTo>
                <a:lnTo>
                  <a:pt x="6789" y="2540"/>
                </a:lnTo>
                <a:lnTo>
                  <a:pt x="1341" y="7380"/>
                </a:lnTo>
                <a:lnTo>
                  <a:pt x="894" y="8730"/>
                </a:lnTo>
                <a:lnTo>
                  <a:pt x="397" y="12770"/>
                </a:lnTo>
                <a:lnTo>
                  <a:pt x="2716" y="20280"/>
                </a:lnTo>
                <a:lnTo>
                  <a:pt x="4668" y="24950"/>
                </a:lnTo>
                <a:lnTo>
                  <a:pt x="6837" y="32679"/>
                </a:lnTo>
                <a:lnTo>
                  <a:pt x="7415" y="36073"/>
                </a:lnTo>
                <a:lnTo>
                  <a:pt x="6848" y="40241"/>
                </a:lnTo>
                <a:lnTo>
                  <a:pt x="5518" y="44925"/>
                </a:lnTo>
                <a:lnTo>
                  <a:pt x="3678" y="49952"/>
                </a:lnTo>
                <a:lnTo>
                  <a:pt x="2452" y="55209"/>
                </a:lnTo>
                <a:lnTo>
                  <a:pt x="1635" y="60618"/>
                </a:lnTo>
                <a:lnTo>
                  <a:pt x="1090" y="66129"/>
                </a:lnTo>
                <a:lnTo>
                  <a:pt x="726" y="70756"/>
                </a:lnTo>
                <a:lnTo>
                  <a:pt x="323" y="78437"/>
                </a:lnTo>
                <a:lnTo>
                  <a:pt x="95" y="97218"/>
                </a:lnTo>
                <a:lnTo>
                  <a:pt x="0" y="166558"/>
                </a:lnTo>
                <a:lnTo>
                  <a:pt x="952" y="168189"/>
                </a:lnTo>
                <a:lnTo>
                  <a:pt x="2540" y="169275"/>
                </a:lnTo>
                <a:lnTo>
                  <a:pt x="7380" y="171020"/>
                </a:lnTo>
                <a:lnTo>
                  <a:pt x="12770" y="171323"/>
                </a:lnTo>
                <a:lnTo>
                  <a:pt x="15848" y="171412"/>
                </a:lnTo>
                <a:lnTo>
                  <a:pt x="21311" y="166888"/>
                </a:lnTo>
                <a:lnTo>
                  <a:pt x="23732" y="165551"/>
                </a:lnTo>
                <a:lnTo>
                  <a:pt x="28962" y="164065"/>
                </a:lnTo>
                <a:lnTo>
                  <a:pt x="32643" y="162717"/>
                </a:lnTo>
                <a:lnTo>
                  <a:pt x="37002" y="160865"/>
                </a:lnTo>
                <a:lnTo>
                  <a:pt x="41813" y="158678"/>
                </a:lnTo>
                <a:lnTo>
                  <a:pt x="45973" y="156268"/>
                </a:lnTo>
                <a:lnTo>
                  <a:pt x="49698" y="153709"/>
                </a:lnTo>
                <a:lnTo>
                  <a:pt x="53134" y="151050"/>
                </a:lnTo>
                <a:lnTo>
                  <a:pt x="57330" y="148325"/>
                </a:lnTo>
                <a:lnTo>
                  <a:pt x="62033" y="145556"/>
                </a:lnTo>
                <a:lnTo>
                  <a:pt x="67072" y="142757"/>
                </a:lnTo>
                <a:lnTo>
                  <a:pt x="73290" y="140891"/>
                </a:lnTo>
                <a:lnTo>
                  <a:pt x="80292" y="139647"/>
                </a:lnTo>
                <a:lnTo>
                  <a:pt x="87818" y="138818"/>
                </a:lnTo>
                <a:lnTo>
                  <a:pt x="94740" y="137313"/>
                </a:lnTo>
                <a:lnTo>
                  <a:pt x="101260" y="135357"/>
                </a:lnTo>
                <a:lnTo>
                  <a:pt x="107511" y="133100"/>
                </a:lnTo>
                <a:lnTo>
                  <a:pt x="113584" y="131596"/>
                </a:lnTo>
                <a:lnTo>
                  <a:pt x="119537" y="130593"/>
                </a:lnTo>
                <a:lnTo>
                  <a:pt x="125411" y="129924"/>
                </a:lnTo>
                <a:lnTo>
                  <a:pt x="131232" y="130431"/>
                </a:lnTo>
                <a:lnTo>
                  <a:pt x="137018" y="131722"/>
                </a:lnTo>
                <a:lnTo>
                  <a:pt x="142780" y="133534"/>
                </a:lnTo>
                <a:lnTo>
                  <a:pt x="147574" y="135695"/>
                </a:lnTo>
                <a:lnTo>
                  <a:pt x="151723" y="138088"/>
                </a:lnTo>
                <a:lnTo>
                  <a:pt x="155441" y="140636"/>
                </a:lnTo>
                <a:lnTo>
                  <a:pt x="159825" y="142335"/>
                </a:lnTo>
                <a:lnTo>
                  <a:pt x="164652" y="143467"/>
                </a:lnTo>
                <a:lnTo>
                  <a:pt x="169775" y="144222"/>
                </a:lnTo>
                <a:lnTo>
                  <a:pt x="174143" y="146630"/>
                </a:lnTo>
                <a:lnTo>
                  <a:pt x="178008" y="150141"/>
                </a:lnTo>
                <a:lnTo>
                  <a:pt x="183889" y="158169"/>
                </a:lnTo>
                <a:lnTo>
                  <a:pt x="186503" y="164912"/>
                </a:lnTo>
                <a:lnTo>
                  <a:pt x="188153" y="168996"/>
                </a:lnTo>
                <a:lnTo>
                  <a:pt x="190205" y="173624"/>
                </a:lnTo>
                <a:lnTo>
                  <a:pt x="192526" y="178614"/>
                </a:lnTo>
                <a:lnTo>
                  <a:pt x="194073" y="183846"/>
                </a:lnTo>
                <a:lnTo>
                  <a:pt x="195104" y="189239"/>
                </a:lnTo>
                <a:lnTo>
                  <a:pt x="195792" y="194739"/>
                </a:lnTo>
                <a:lnTo>
                  <a:pt x="195298" y="199358"/>
                </a:lnTo>
                <a:lnTo>
                  <a:pt x="194016" y="203390"/>
                </a:lnTo>
                <a:lnTo>
                  <a:pt x="192209" y="207031"/>
                </a:lnTo>
                <a:lnTo>
                  <a:pt x="189099" y="211363"/>
                </a:lnTo>
                <a:lnTo>
                  <a:pt x="185121" y="216156"/>
                </a:lnTo>
                <a:lnTo>
                  <a:pt x="180564" y="221256"/>
                </a:lnTo>
                <a:lnTo>
                  <a:pt x="176573" y="226562"/>
                </a:lnTo>
                <a:lnTo>
                  <a:pt x="172960" y="232003"/>
                </a:lnTo>
                <a:lnTo>
                  <a:pt x="169599" y="237536"/>
                </a:lnTo>
                <a:lnTo>
                  <a:pt x="166406" y="242178"/>
                </a:lnTo>
                <a:lnTo>
                  <a:pt x="160318" y="249874"/>
                </a:lnTo>
                <a:lnTo>
                  <a:pt x="156408" y="253260"/>
                </a:lnTo>
                <a:lnTo>
                  <a:pt x="151897" y="256470"/>
                </a:lnTo>
                <a:lnTo>
                  <a:pt x="146985" y="259562"/>
                </a:lnTo>
                <a:lnTo>
                  <a:pt x="141805" y="262576"/>
                </a:lnTo>
                <a:lnTo>
                  <a:pt x="136446" y="265538"/>
                </a:lnTo>
                <a:lnTo>
                  <a:pt x="130969" y="268466"/>
                </a:lnTo>
                <a:lnTo>
                  <a:pt x="126365" y="270417"/>
                </a:lnTo>
                <a:lnTo>
                  <a:pt x="122343" y="271718"/>
                </a:lnTo>
                <a:lnTo>
                  <a:pt x="118710" y="272585"/>
                </a:lnTo>
                <a:lnTo>
                  <a:pt x="115334" y="273163"/>
                </a:lnTo>
                <a:lnTo>
                  <a:pt x="112132" y="273549"/>
                </a:lnTo>
                <a:lnTo>
                  <a:pt x="106034" y="273977"/>
                </a:lnTo>
                <a:lnTo>
                  <a:pt x="100148" y="274167"/>
                </a:lnTo>
                <a:lnTo>
                  <a:pt x="91480" y="274274"/>
                </a:lnTo>
                <a:lnTo>
                  <a:pt x="88609" y="273337"/>
                </a:lnTo>
                <a:lnTo>
                  <a:pt x="82879" y="269755"/>
                </a:lnTo>
                <a:lnTo>
                  <a:pt x="77331" y="265587"/>
                </a:lnTo>
                <a:lnTo>
                  <a:pt x="73104" y="261548"/>
                </a:lnTo>
                <a:lnTo>
                  <a:pt x="71596" y="259138"/>
                </a:lnTo>
                <a:lnTo>
                  <a:pt x="69175" y="250965"/>
                </a:lnTo>
                <a:lnTo>
                  <a:pt x="68580" y="24860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MARTPenAnnotation847"/>
          <p:cNvSpPr/>
          <p:nvPr/>
        </p:nvSpPr>
        <p:spPr>
          <a:xfrm>
            <a:off x="2900520" y="3668760"/>
            <a:ext cx="274320" cy="9360"/>
          </a:xfrm>
          <a:custGeom>
            <a:avLst/>
            <a:gdLst>
              <a:gd name="textAreaLeft" fmla="*/ 0 w 274320"/>
              <a:gd name="textAreaRight" fmla="*/ 274680 w 2743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274321" h="8542">
                <a:moveTo>
                  <a:pt x="0" y="8541"/>
                </a:moveTo>
                <a:lnTo>
                  <a:pt x="4551" y="8541"/>
                </a:lnTo>
                <a:lnTo>
                  <a:pt x="6844" y="7589"/>
                </a:lnTo>
                <a:lnTo>
                  <a:pt x="9325" y="6001"/>
                </a:lnTo>
                <a:lnTo>
                  <a:pt x="15600" y="1160"/>
                </a:lnTo>
                <a:lnTo>
                  <a:pt x="18020" y="763"/>
                </a:lnTo>
                <a:lnTo>
                  <a:pt x="21538" y="498"/>
                </a:lnTo>
                <a:lnTo>
                  <a:pt x="25789" y="322"/>
                </a:lnTo>
                <a:lnTo>
                  <a:pt x="35592" y="125"/>
                </a:lnTo>
                <a:lnTo>
                  <a:pt x="57407" y="0"/>
                </a:lnTo>
                <a:lnTo>
                  <a:pt x="63036" y="942"/>
                </a:lnTo>
                <a:lnTo>
                  <a:pt x="68694" y="2523"/>
                </a:lnTo>
                <a:lnTo>
                  <a:pt x="74371" y="4529"/>
                </a:lnTo>
                <a:lnTo>
                  <a:pt x="81013" y="5866"/>
                </a:lnTo>
                <a:lnTo>
                  <a:pt x="88299" y="6758"/>
                </a:lnTo>
                <a:lnTo>
                  <a:pt x="96013" y="7352"/>
                </a:lnTo>
                <a:lnTo>
                  <a:pt x="103062" y="7749"/>
                </a:lnTo>
                <a:lnTo>
                  <a:pt x="115973" y="8189"/>
                </a:lnTo>
                <a:lnTo>
                  <a:pt x="139783" y="8471"/>
                </a:lnTo>
                <a:lnTo>
                  <a:pt x="274320" y="85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MARTPenAnnotation848"/>
          <p:cNvSpPr/>
          <p:nvPr/>
        </p:nvSpPr>
        <p:spPr>
          <a:xfrm>
            <a:off x="2998800" y="3570120"/>
            <a:ext cx="98280" cy="262080"/>
          </a:xfrm>
          <a:custGeom>
            <a:avLst/>
            <a:gdLst>
              <a:gd name="textAreaLeft" fmla="*/ 0 w 98280"/>
              <a:gd name="textAreaRight" fmla="*/ 98640 w 9828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99167" h="262115">
                <a:moveTo>
                  <a:pt x="13441" y="4939"/>
                </a:moveTo>
                <a:lnTo>
                  <a:pt x="8891" y="4939"/>
                </a:lnTo>
                <a:lnTo>
                  <a:pt x="7550" y="3986"/>
                </a:lnTo>
                <a:lnTo>
                  <a:pt x="6657" y="2399"/>
                </a:lnTo>
                <a:lnTo>
                  <a:pt x="6061" y="388"/>
                </a:lnTo>
                <a:lnTo>
                  <a:pt x="5663" y="0"/>
                </a:lnTo>
                <a:lnTo>
                  <a:pt x="5399" y="694"/>
                </a:lnTo>
                <a:lnTo>
                  <a:pt x="5222" y="2109"/>
                </a:lnTo>
                <a:lnTo>
                  <a:pt x="4152" y="3052"/>
                </a:lnTo>
                <a:lnTo>
                  <a:pt x="2486" y="3681"/>
                </a:lnTo>
                <a:lnTo>
                  <a:pt x="423" y="4101"/>
                </a:lnTo>
                <a:lnTo>
                  <a:pt x="0" y="4380"/>
                </a:lnTo>
                <a:lnTo>
                  <a:pt x="670" y="4567"/>
                </a:lnTo>
                <a:lnTo>
                  <a:pt x="4040" y="4865"/>
                </a:lnTo>
                <a:lnTo>
                  <a:pt x="4316" y="5843"/>
                </a:lnTo>
                <a:lnTo>
                  <a:pt x="4705" y="11769"/>
                </a:lnTo>
                <a:lnTo>
                  <a:pt x="4796" y="16864"/>
                </a:lnTo>
                <a:lnTo>
                  <a:pt x="5773" y="19557"/>
                </a:lnTo>
                <a:lnTo>
                  <a:pt x="7376" y="22304"/>
                </a:lnTo>
                <a:lnTo>
                  <a:pt x="9398" y="25088"/>
                </a:lnTo>
                <a:lnTo>
                  <a:pt x="11699" y="28849"/>
                </a:lnTo>
                <a:lnTo>
                  <a:pt x="14184" y="33262"/>
                </a:lnTo>
                <a:lnTo>
                  <a:pt x="16795" y="38108"/>
                </a:lnTo>
                <a:lnTo>
                  <a:pt x="19487" y="42292"/>
                </a:lnTo>
                <a:lnTo>
                  <a:pt x="22234" y="46033"/>
                </a:lnTo>
                <a:lnTo>
                  <a:pt x="25019" y="49480"/>
                </a:lnTo>
                <a:lnTo>
                  <a:pt x="27827" y="53683"/>
                </a:lnTo>
                <a:lnTo>
                  <a:pt x="30652" y="58390"/>
                </a:lnTo>
                <a:lnTo>
                  <a:pt x="33488" y="63433"/>
                </a:lnTo>
                <a:lnTo>
                  <a:pt x="35378" y="68700"/>
                </a:lnTo>
                <a:lnTo>
                  <a:pt x="36638" y="74117"/>
                </a:lnTo>
                <a:lnTo>
                  <a:pt x="37479" y="79633"/>
                </a:lnTo>
                <a:lnTo>
                  <a:pt x="38991" y="85215"/>
                </a:lnTo>
                <a:lnTo>
                  <a:pt x="40952" y="90841"/>
                </a:lnTo>
                <a:lnTo>
                  <a:pt x="43212" y="96497"/>
                </a:lnTo>
                <a:lnTo>
                  <a:pt x="45671" y="102173"/>
                </a:lnTo>
                <a:lnTo>
                  <a:pt x="50943" y="113559"/>
                </a:lnTo>
                <a:lnTo>
                  <a:pt x="59267" y="130679"/>
                </a:lnTo>
                <a:lnTo>
                  <a:pt x="61136" y="137343"/>
                </a:lnTo>
                <a:lnTo>
                  <a:pt x="62383" y="144644"/>
                </a:lnTo>
                <a:lnTo>
                  <a:pt x="63214" y="152368"/>
                </a:lnTo>
                <a:lnTo>
                  <a:pt x="64721" y="159423"/>
                </a:lnTo>
                <a:lnTo>
                  <a:pt x="66678" y="166030"/>
                </a:lnTo>
                <a:lnTo>
                  <a:pt x="68935" y="172341"/>
                </a:lnTo>
                <a:lnTo>
                  <a:pt x="70440" y="178453"/>
                </a:lnTo>
                <a:lnTo>
                  <a:pt x="71443" y="184432"/>
                </a:lnTo>
                <a:lnTo>
                  <a:pt x="72111" y="190324"/>
                </a:lnTo>
                <a:lnTo>
                  <a:pt x="72557" y="196156"/>
                </a:lnTo>
                <a:lnTo>
                  <a:pt x="72855" y="201950"/>
                </a:lnTo>
                <a:lnTo>
                  <a:pt x="73273" y="216665"/>
                </a:lnTo>
                <a:lnTo>
                  <a:pt x="73332" y="220385"/>
                </a:lnTo>
                <a:lnTo>
                  <a:pt x="74323" y="223817"/>
                </a:lnTo>
                <a:lnTo>
                  <a:pt x="75937" y="227058"/>
                </a:lnTo>
                <a:lnTo>
                  <a:pt x="77965" y="230171"/>
                </a:lnTo>
                <a:lnTo>
                  <a:pt x="80219" y="236170"/>
                </a:lnTo>
                <a:lnTo>
                  <a:pt x="80820" y="239103"/>
                </a:lnTo>
                <a:lnTo>
                  <a:pt x="82173" y="242011"/>
                </a:lnTo>
                <a:lnTo>
                  <a:pt x="84027" y="244902"/>
                </a:lnTo>
                <a:lnTo>
                  <a:pt x="86216" y="247782"/>
                </a:lnTo>
                <a:lnTo>
                  <a:pt x="88628" y="249702"/>
                </a:lnTo>
                <a:lnTo>
                  <a:pt x="91188" y="250982"/>
                </a:lnTo>
                <a:lnTo>
                  <a:pt x="93848" y="251835"/>
                </a:lnTo>
                <a:lnTo>
                  <a:pt x="95621" y="253356"/>
                </a:lnTo>
                <a:lnTo>
                  <a:pt x="96803" y="255323"/>
                </a:lnTo>
                <a:lnTo>
                  <a:pt x="99166" y="26211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MARTPenAnnotation849"/>
          <p:cNvSpPr/>
          <p:nvPr/>
        </p:nvSpPr>
        <p:spPr>
          <a:xfrm>
            <a:off x="3321000" y="3522600"/>
            <a:ext cx="179280" cy="284400"/>
          </a:xfrm>
          <a:custGeom>
            <a:avLst/>
            <a:gdLst>
              <a:gd name="textAreaLeft" fmla="*/ 0 w 179280"/>
              <a:gd name="textAreaRight" fmla="*/ 179280 w 17928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78284" h="282894">
                <a:moveTo>
                  <a:pt x="50201" y="0"/>
                </a:moveTo>
                <a:lnTo>
                  <a:pt x="50201" y="12770"/>
                </a:lnTo>
                <a:lnTo>
                  <a:pt x="47660" y="20281"/>
                </a:lnTo>
                <a:lnTo>
                  <a:pt x="45650" y="24951"/>
                </a:lnTo>
                <a:lnTo>
                  <a:pt x="40875" y="35219"/>
                </a:lnTo>
                <a:lnTo>
                  <a:pt x="38269" y="40624"/>
                </a:lnTo>
                <a:lnTo>
                  <a:pt x="35373" y="49170"/>
                </a:lnTo>
                <a:lnTo>
                  <a:pt x="33133" y="57096"/>
                </a:lnTo>
                <a:lnTo>
                  <a:pt x="31202" y="61877"/>
                </a:lnTo>
                <a:lnTo>
                  <a:pt x="28962" y="66969"/>
                </a:lnTo>
                <a:lnTo>
                  <a:pt x="26517" y="73221"/>
                </a:lnTo>
                <a:lnTo>
                  <a:pt x="21259" y="87788"/>
                </a:lnTo>
                <a:lnTo>
                  <a:pt x="18524" y="94720"/>
                </a:lnTo>
                <a:lnTo>
                  <a:pt x="15748" y="101247"/>
                </a:lnTo>
                <a:lnTo>
                  <a:pt x="12945" y="107503"/>
                </a:lnTo>
                <a:lnTo>
                  <a:pt x="11076" y="113579"/>
                </a:lnTo>
                <a:lnTo>
                  <a:pt x="9830" y="119534"/>
                </a:lnTo>
                <a:lnTo>
                  <a:pt x="8999" y="125410"/>
                </a:lnTo>
                <a:lnTo>
                  <a:pt x="8446" y="131231"/>
                </a:lnTo>
                <a:lnTo>
                  <a:pt x="8076" y="137018"/>
                </a:lnTo>
                <a:lnTo>
                  <a:pt x="7830" y="142780"/>
                </a:lnTo>
                <a:lnTo>
                  <a:pt x="6714" y="149479"/>
                </a:lnTo>
                <a:lnTo>
                  <a:pt x="5017" y="156803"/>
                </a:lnTo>
                <a:lnTo>
                  <a:pt x="2933" y="164543"/>
                </a:lnTo>
                <a:lnTo>
                  <a:pt x="1544" y="171608"/>
                </a:lnTo>
                <a:lnTo>
                  <a:pt x="617" y="178223"/>
                </a:lnTo>
                <a:lnTo>
                  <a:pt x="0" y="184538"/>
                </a:lnTo>
                <a:lnTo>
                  <a:pt x="541" y="190653"/>
                </a:lnTo>
                <a:lnTo>
                  <a:pt x="1854" y="196634"/>
                </a:lnTo>
                <a:lnTo>
                  <a:pt x="3682" y="202527"/>
                </a:lnTo>
                <a:lnTo>
                  <a:pt x="4901" y="207408"/>
                </a:lnTo>
                <a:lnTo>
                  <a:pt x="6255" y="215372"/>
                </a:lnTo>
                <a:lnTo>
                  <a:pt x="7569" y="219781"/>
                </a:lnTo>
                <a:lnTo>
                  <a:pt x="9396" y="224626"/>
                </a:lnTo>
                <a:lnTo>
                  <a:pt x="11568" y="229761"/>
                </a:lnTo>
                <a:lnTo>
                  <a:pt x="16520" y="238006"/>
                </a:lnTo>
                <a:lnTo>
                  <a:pt x="21896" y="244845"/>
                </a:lnTo>
                <a:lnTo>
                  <a:pt x="27461" y="251060"/>
                </a:lnTo>
                <a:lnTo>
                  <a:pt x="33109" y="256997"/>
                </a:lnTo>
                <a:lnTo>
                  <a:pt x="35949" y="259914"/>
                </a:lnTo>
                <a:lnTo>
                  <a:pt x="38794" y="261859"/>
                </a:lnTo>
                <a:lnTo>
                  <a:pt x="41644" y="263155"/>
                </a:lnTo>
                <a:lnTo>
                  <a:pt x="44496" y="264019"/>
                </a:lnTo>
                <a:lnTo>
                  <a:pt x="47350" y="264595"/>
                </a:lnTo>
                <a:lnTo>
                  <a:pt x="50205" y="264979"/>
                </a:lnTo>
                <a:lnTo>
                  <a:pt x="53061" y="265236"/>
                </a:lnTo>
                <a:lnTo>
                  <a:pt x="57823" y="265406"/>
                </a:lnTo>
                <a:lnTo>
                  <a:pt x="70733" y="265596"/>
                </a:lnTo>
                <a:lnTo>
                  <a:pt x="76271" y="264694"/>
                </a:lnTo>
                <a:lnTo>
                  <a:pt x="80916" y="263140"/>
                </a:lnTo>
                <a:lnTo>
                  <a:pt x="84965" y="261152"/>
                </a:lnTo>
                <a:lnTo>
                  <a:pt x="89569" y="259826"/>
                </a:lnTo>
                <a:lnTo>
                  <a:pt x="94544" y="258943"/>
                </a:lnTo>
                <a:lnTo>
                  <a:pt x="99765" y="258353"/>
                </a:lnTo>
                <a:lnTo>
                  <a:pt x="105151" y="257008"/>
                </a:lnTo>
                <a:lnTo>
                  <a:pt x="110647" y="255159"/>
                </a:lnTo>
                <a:lnTo>
                  <a:pt x="116215" y="252973"/>
                </a:lnTo>
                <a:lnTo>
                  <a:pt x="121833" y="250564"/>
                </a:lnTo>
                <a:lnTo>
                  <a:pt x="133154" y="245347"/>
                </a:lnTo>
                <a:lnTo>
                  <a:pt x="137888" y="241670"/>
                </a:lnTo>
                <a:lnTo>
                  <a:pt x="141996" y="237313"/>
                </a:lnTo>
                <a:lnTo>
                  <a:pt x="145688" y="232504"/>
                </a:lnTo>
                <a:lnTo>
                  <a:pt x="149101" y="228345"/>
                </a:lnTo>
                <a:lnTo>
                  <a:pt x="152329" y="224620"/>
                </a:lnTo>
                <a:lnTo>
                  <a:pt x="155434" y="221184"/>
                </a:lnTo>
                <a:lnTo>
                  <a:pt x="161423" y="214827"/>
                </a:lnTo>
                <a:lnTo>
                  <a:pt x="173029" y="202984"/>
                </a:lnTo>
                <a:lnTo>
                  <a:pt x="174949" y="200093"/>
                </a:lnTo>
                <a:lnTo>
                  <a:pt x="177082" y="194340"/>
                </a:lnTo>
                <a:lnTo>
                  <a:pt x="178030" y="186068"/>
                </a:lnTo>
                <a:lnTo>
                  <a:pt x="178283" y="181196"/>
                </a:lnTo>
                <a:lnTo>
                  <a:pt x="177499" y="176995"/>
                </a:lnTo>
                <a:lnTo>
                  <a:pt x="174087" y="169787"/>
                </a:lnTo>
                <a:lnTo>
                  <a:pt x="171844" y="167484"/>
                </a:lnTo>
                <a:lnTo>
                  <a:pt x="169397" y="165948"/>
                </a:lnTo>
                <a:lnTo>
                  <a:pt x="166812" y="164925"/>
                </a:lnTo>
                <a:lnTo>
                  <a:pt x="161400" y="161247"/>
                </a:lnTo>
                <a:lnTo>
                  <a:pt x="158623" y="158933"/>
                </a:lnTo>
                <a:lnTo>
                  <a:pt x="155820" y="157391"/>
                </a:lnTo>
                <a:lnTo>
                  <a:pt x="152998" y="156362"/>
                </a:lnTo>
                <a:lnTo>
                  <a:pt x="150165" y="155676"/>
                </a:lnTo>
                <a:lnTo>
                  <a:pt x="147323" y="155219"/>
                </a:lnTo>
                <a:lnTo>
                  <a:pt x="144477" y="154915"/>
                </a:lnTo>
                <a:lnTo>
                  <a:pt x="141626" y="154711"/>
                </a:lnTo>
                <a:lnTo>
                  <a:pt x="138773" y="155528"/>
                </a:lnTo>
                <a:lnTo>
                  <a:pt x="135919" y="157026"/>
                </a:lnTo>
                <a:lnTo>
                  <a:pt x="133064" y="158977"/>
                </a:lnTo>
                <a:lnTo>
                  <a:pt x="129255" y="161229"/>
                </a:lnTo>
                <a:lnTo>
                  <a:pt x="124811" y="163684"/>
                </a:lnTo>
                <a:lnTo>
                  <a:pt x="114793" y="168951"/>
                </a:lnTo>
                <a:lnTo>
                  <a:pt x="87199" y="182927"/>
                </a:lnTo>
                <a:lnTo>
                  <a:pt x="82486" y="185769"/>
                </a:lnTo>
                <a:lnTo>
                  <a:pt x="78392" y="188616"/>
                </a:lnTo>
                <a:lnTo>
                  <a:pt x="74709" y="191466"/>
                </a:lnTo>
                <a:lnTo>
                  <a:pt x="70350" y="195272"/>
                </a:lnTo>
                <a:lnTo>
                  <a:pt x="65538" y="199714"/>
                </a:lnTo>
                <a:lnTo>
                  <a:pt x="52205" y="212527"/>
                </a:lnTo>
                <a:lnTo>
                  <a:pt x="48679" y="215980"/>
                </a:lnTo>
                <a:lnTo>
                  <a:pt x="46329" y="220186"/>
                </a:lnTo>
                <a:lnTo>
                  <a:pt x="44762" y="224896"/>
                </a:lnTo>
                <a:lnTo>
                  <a:pt x="43717" y="229941"/>
                </a:lnTo>
                <a:lnTo>
                  <a:pt x="42068" y="235209"/>
                </a:lnTo>
                <a:lnTo>
                  <a:pt x="40016" y="240626"/>
                </a:lnTo>
                <a:lnTo>
                  <a:pt x="37696" y="246142"/>
                </a:lnTo>
                <a:lnTo>
                  <a:pt x="35118" y="254812"/>
                </a:lnTo>
                <a:lnTo>
                  <a:pt x="33972" y="261840"/>
                </a:lnTo>
                <a:lnTo>
                  <a:pt x="33463" y="268138"/>
                </a:lnTo>
                <a:lnTo>
                  <a:pt x="33236" y="274113"/>
                </a:lnTo>
                <a:lnTo>
                  <a:pt x="33176" y="277039"/>
                </a:lnTo>
                <a:lnTo>
                  <a:pt x="34088" y="278990"/>
                </a:lnTo>
                <a:lnTo>
                  <a:pt x="35649" y="280291"/>
                </a:lnTo>
                <a:lnTo>
                  <a:pt x="37642" y="281158"/>
                </a:lnTo>
                <a:lnTo>
                  <a:pt x="42397" y="282122"/>
                </a:lnTo>
                <a:lnTo>
                  <a:pt x="47685" y="282550"/>
                </a:lnTo>
                <a:lnTo>
                  <a:pt x="53210" y="282740"/>
                </a:lnTo>
                <a:lnTo>
                  <a:pt x="64518" y="282862"/>
                </a:lnTo>
                <a:lnTo>
                  <a:pt x="75918" y="28289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MARTPenAnnotation850"/>
          <p:cNvSpPr/>
          <p:nvPr/>
        </p:nvSpPr>
        <p:spPr>
          <a:xfrm>
            <a:off x="3629160" y="3618000"/>
            <a:ext cx="206280" cy="25200"/>
          </a:xfrm>
          <a:custGeom>
            <a:avLst/>
            <a:gdLst>
              <a:gd name="textAreaLeft" fmla="*/ 0 w 206280"/>
              <a:gd name="textAreaRight" fmla="*/ 206640 w 2062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05740" h="25718">
                <a:moveTo>
                  <a:pt x="0" y="25717"/>
                </a:moveTo>
                <a:lnTo>
                  <a:pt x="24701" y="25717"/>
                </a:lnTo>
                <a:lnTo>
                  <a:pt x="28850" y="24764"/>
                </a:lnTo>
                <a:lnTo>
                  <a:pt x="32568" y="23177"/>
                </a:lnTo>
                <a:lnTo>
                  <a:pt x="35999" y="21167"/>
                </a:lnTo>
                <a:lnTo>
                  <a:pt x="41144" y="19825"/>
                </a:lnTo>
                <a:lnTo>
                  <a:pt x="47432" y="18932"/>
                </a:lnTo>
                <a:lnTo>
                  <a:pt x="54481" y="18336"/>
                </a:lnTo>
                <a:lnTo>
                  <a:pt x="61085" y="17939"/>
                </a:lnTo>
                <a:lnTo>
                  <a:pt x="73504" y="17497"/>
                </a:lnTo>
                <a:lnTo>
                  <a:pt x="79482" y="16428"/>
                </a:lnTo>
                <a:lnTo>
                  <a:pt x="85373" y="14761"/>
                </a:lnTo>
                <a:lnTo>
                  <a:pt x="91205" y="12698"/>
                </a:lnTo>
                <a:lnTo>
                  <a:pt x="97951" y="11323"/>
                </a:lnTo>
                <a:lnTo>
                  <a:pt x="105305" y="10406"/>
                </a:lnTo>
                <a:lnTo>
                  <a:pt x="113066" y="9795"/>
                </a:lnTo>
                <a:lnTo>
                  <a:pt x="120145" y="8435"/>
                </a:lnTo>
                <a:lnTo>
                  <a:pt x="126769" y="6576"/>
                </a:lnTo>
                <a:lnTo>
                  <a:pt x="133090" y="4383"/>
                </a:lnTo>
                <a:lnTo>
                  <a:pt x="139209" y="2922"/>
                </a:lnTo>
                <a:lnTo>
                  <a:pt x="145194" y="1948"/>
                </a:lnTo>
                <a:lnTo>
                  <a:pt x="151088" y="1298"/>
                </a:lnTo>
                <a:lnTo>
                  <a:pt x="156922" y="865"/>
                </a:lnTo>
                <a:lnTo>
                  <a:pt x="162717" y="577"/>
                </a:lnTo>
                <a:lnTo>
                  <a:pt x="174236" y="256"/>
                </a:lnTo>
                <a:lnTo>
                  <a:pt x="20573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MARTPenAnnotation851"/>
          <p:cNvSpPr/>
          <p:nvPr/>
        </p:nvSpPr>
        <p:spPr>
          <a:xfrm>
            <a:off x="3672000" y="3668760"/>
            <a:ext cx="239760" cy="17280"/>
          </a:xfrm>
          <a:custGeom>
            <a:avLst/>
            <a:gdLst>
              <a:gd name="textAreaLeft" fmla="*/ 0 w 239760"/>
              <a:gd name="textAreaRight" fmla="*/ 240120 w 2397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39997" h="17147">
                <a:moveTo>
                  <a:pt x="17111" y="17146"/>
                </a:moveTo>
                <a:lnTo>
                  <a:pt x="0" y="17146"/>
                </a:lnTo>
                <a:lnTo>
                  <a:pt x="35967" y="17146"/>
                </a:lnTo>
                <a:lnTo>
                  <a:pt x="41111" y="16193"/>
                </a:lnTo>
                <a:lnTo>
                  <a:pt x="47399" y="14606"/>
                </a:lnTo>
                <a:lnTo>
                  <a:pt x="54448" y="12595"/>
                </a:lnTo>
                <a:lnTo>
                  <a:pt x="61052" y="11254"/>
                </a:lnTo>
                <a:lnTo>
                  <a:pt x="67360" y="10360"/>
                </a:lnTo>
                <a:lnTo>
                  <a:pt x="73470" y="9765"/>
                </a:lnTo>
                <a:lnTo>
                  <a:pt x="80401" y="9368"/>
                </a:lnTo>
                <a:lnTo>
                  <a:pt x="95723" y="8926"/>
                </a:lnTo>
                <a:lnTo>
                  <a:pt x="102856" y="7856"/>
                </a:lnTo>
                <a:lnTo>
                  <a:pt x="109517" y="6190"/>
                </a:lnTo>
                <a:lnTo>
                  <a:pt x="115863" y="4127"/>
                </a:lnTo>
                <a:lnTo>
                  <a:pt x="122950" y="2751"/>
                </a:lnTo>
                <a:lnTo>
                  <a:pt x="130533" y="1834"/>
                </a:lnTo>
                <a:lnTo>
                  <a:pt x="138446" y="1223"/>
                </a:lnTo>
                <a:lnTo>
                  <a:pt x="145626" y="816"/>
                </a:lnTo>
                <a:lnTo>
                  <a:pt x="158684" y="363"/>
                </a:lnTo>
                <a:lnTo>
                  <a:pt x="195175" y="48"/>
                </a:lnTo>
                <a:lnTo>
                  <a:pt x="23999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MARTPenAnnotation852"/>
          <p:cNvSpPr/>
          <p:nvPr/>
        </p:nvSpPr>
        <p:spPr>
          <a:xfrm>
            <a:off x="4022640" y="3540240"/>
            <a:ext cx="34920" cy="266760"/>
          </a:xfrm>
          <a:custGeom>
            <a:avLst/>
            <a:gdLst>
              <a:gd name="textAreaLeft" fmla="*/ 0 w 34920"/>
              <a:gd name="textAreaRight" fmla="*/ 35280 w 349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34292" h="265749">
                <a:moveTo>
                  <a:pt x="0" y="0"/>
                </a:moveTo>
                <a:lnTo>
                  <a:pt x="0" y="129932"/>
                </a:lnTo>
                <a:lnTo>
                  <a:pt x="953" y="138056"/>
                </a:lnTo>
                <a:lnTo>
                  <a:pt x="2541" y="146330"/>
                </a:lnTo>
                <a:lnTo>
                  <a:pt x="4552" y="154704"/>
                </a:lnTo>
                <a:lnTo>
                  <a:pt x="5892" y="162191"/>
                </a:lnTo>
                <a:lnTo>
                  <a:pt x="6786" y="169087"/>
                </a:lnTo>
                <a:lnTo>
                  <a:pt x="7382" y="175590"/>
                </a:lnTo>
                <a:lnTo>
                  <a:pt x="8731" y="181830"/>
                </a:lnTo>
                <a:lnTo>
                  <a:pt x="10584" y="187895"/>
                </a:lnTo>
                <a:lnTo>
                  <a:pt x="12771" y="193843"/>
                </a:lnTo>
                <a:lnTo>
                  <a:pt x="14229" y="199714"/>
                </a:lnTo>
                <a:lnTo>
                  <a:pt x="15201" y="205533"/>
                </a:lnTo>
                <a:lnTo>
                  <a:pt x="15849" y="211317"/>
                </a:lnTo>
                <a:lnTo>
                  <a:pt x="16282" y="217078"/>
                </a:lnTo>
                <a:lnTo>
                  <a:pt x="16569" y="222824"/>
                </a:lnTo>
                <a:lnTo>
                  <a:pt x="16975" y="237472"/>
                </a:lnTo>
                <a:lnTo>
                  <a:pt x="17032" y="241182"/>
                </a:lnTo>
                <a:lnTo>
                  <a:pt x="18023" y="244608"/>
                </a:lnTo>
                <a:lnTo>
                  <a:pt x="19635" y="247844"/>
                </a:lnTo>
                <a:lnTo>
                  <a:pt x="21663" y="250955"/>
                </a:lnTo>
                <a:lnTo>
                  <a:pt x="23014" y="253981"/>
                </a:lnTo>
                <a:lnTo>
                  <a:pt x="23916" y="256951"/>
                </a:lnTo>
                <a:lnTo>
                  <a:pt x="24517" y="259883"/>
                </a:lnTo>
                <a:lnTo>
                  <a:pt x="25870" y="261838"/>
                </a:lnTo>
                <a:lnTo>
                  <a:pt x="27724" y="263141"/>
                </a:lnTo>
                <a:lnTo>
                  <a:pt x="34291" y="2657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MARTPenAnnotation853"/>
          <p:cNvSpPr/>
          <p:nvPr/>
        </p:nvSpPr>
        <p:spPr>
          <a:xfrm>
            <a:off x="4168800" y="3522600"/>
            <a:ext cx="68400" cy="292320"/>
          </a:xfrm>
          <a:custGeom>
            <a:avLst/>
            <a:gdLst>
              <a:gd name="textAreaLeft" fmla="*/ 0 w 68400"/>
              <a:gd name="textAreaRight" fmla="*/ 68760 w 68400"/>
              <a:gd name="textAreaTop" fmla="*/ 0 h 292320"/>
              <a:gd name="textAreaBottom" fmla="*/ 292320 h 292320"/>
            </a:gdLst>
            <a:ahLst/>
            <a:rect l="textAreaLeft" t="textAreaTop" r="textAreaRight" b="textAreaBottom"/>
            <a:pathLst>
              <a:path w="68581" h="291466">
                <a:moveTo>
                  <a:pt x="0" y="0"/>
                </a:moveTo>
                <a:lnTo>
                  <a:pt x="0" y="7381"/>
                </a:lnTo>
                <a:lnTo>
                  <a:pt x="953" y="7778"/>
                </a:lnTo>
                <a:lnTo>
                  <a:pt x="2540" y="8043"/>
                </a:lnTo>
                <a:lnTo>
                  <a:pt x="4551" y="8219"/>
                </a:lnTo>
                <a:lnTo>
                  <a:pt x="5891" y="9290"/>
                </a:lnTo>
                <a:lnTo>
                  <a:pt x="6785" y="10956"/>
                </a:lnTo>
                <a:lnTo>
                  <a:pt x="7778" y="15347"/>
                </a:lnTo>
                <a:lnTo>
                  <a:pt x="8219" y="20473"/>
                </a:lnTo>
                <a:lnTo>
                  <a:pt x="9290" y="24126"/>
                </a:lnTo>
                <a:lnTo>
                  <a:pt x="10956" y="28467"/>
                </a:lnTo>
                <a:lnTo>
                  <a:pt x="13019" y="33266"/>
                </a:lnTo>
                <a:lnTo>
                  <a:pt x="17851" y="43677"/>
                </a:lnTo>
                <a:lnTo>
                  <a:pt x="20473" y="49120"/>
                </a:lnTo>
                <a:lnTo>
                  <a:pt x="22221" y="55607"/>
                </a:lnTo>
                <a:lnTo>
                  <a:pt x="23386" y="62789"/>
                </a:lnTo>
                <a:lnTo>
                  <a:pt x="24164" y="70434"/>
                </a:lnTo>
                <a:lnTo>
                  <a:pt x="25634" y="77437"/>
                </a:lnTo>
                <a:lnTo>
                  <a:pt x="27567" y="84009"/>
                </a:lnTo>
                <a:lnTo>
                  <a:pt x="29808" y="90296"/>
                </a:lnTo>
                <a:lnTo>
                  <a:pt x="32255" y="96392"/>
                </a:lnTo>
                <a:lnTo>
                  <a:pt x="34838" y="102362"/>
                </a:lnTo>
                <a:lnTo>
                  <a:pt x="37512" y="108246"/>
                </a:lnTo>
                <a:lnTo>
                  <a:pt x="39296" y="115027"/>
                </a:lnTo>
                <a:lnTo>
                  <a:pt x="40485" y="122405"/>
                </a:lnTo>
                <a:lnTo>
                  <a:pt x="41278" y="130181"/>
                </a:lnTo>
                <a:lnTo>
                  <a:pt x="42758" y="138222"/>
                </a:lnTo>
                <a:lnTo>
                  <a:pt x="44698" y="146441"/>
                </a:lnTo>
                <a:lnTo>
                  <a:pt x="46944" y="154777"/>
                </a:lnTo>
                <a:lnTo>
                  <a:pt x="48441" y="162240"/>
                </a:lnTo>
                <a:lnTo>
                  <a:pt x="49439" y="169120"/>
                </a:lnTo>
                <a:lnTo>
                  <a:pt x="50104" y="175612"/>
                </a:lnTo>
                <a:lnTo>
                  <a:pt x="50548" y="181845"/>
                </a:lnTo>
                <a:lnTo>
                  <a:pt x="50844" y="187905"/>
                </a:lnTo>
                <a:lnTo>
                  <a:pt x="51041" y="193850"/>
                </a:lnTo>
                <a:lnTo>
                  <a:pt x="52125" y="199718"/>
                </a:lnTo>
                <a:lnTo>
                  <a:pt x="53800" y="205535"/>
                </a:lnTo>
                <a:lnTo>
                  <a:pt x="55869" y="211319"/>
                </a:lnTo>
                <a:lnTo>
                  <a:pt x="57248" y="217079"/>
                </a:lnTo>
                <a:lnTo>
                  <a:pt x="58168" y="222824"/>
                </a:lnTo>
                <a:lnTo>
                  <a:pt x="58781" y="228560"/>
                </a:lnTo>
                <a:lnTo>
                  <a:pt x="59463" y="237472"/>
                </a:lnTo>
                <a:lnTo>
                  <a:pt x="59765" y="244608"/>
                </a:lnTo>
                <a:lnTo>
                  <a:pt x="59900" y="250955"/>
                </a:lnTo>
                <a:lnTo>
                  <a:pt x="60888" y="253981"/>
                </a:lnTo>
                <a:lnTo>
                  <a:pt x="62500" y="256950"/>
                </a:lnTo>
                <a:lnTo>
                  <a:pt x="64527" y="259883"/>
                </a:lnTo>
                <a:lnTo>
                  <a:pt x="65878" y="262790"/>
                </a:lnTo>
                <a:lnTo>
                  <a:pt x="67379" y="268561"/>
                </a:lnTo>
                <a:lnTo>
                  <a:pt x="68224" y="277164"/>
                </a:lnTo>
                <a:lnTo>
                  <a:pt x="68533" y="284678"/>
                </a:lnTo>
                <a:lnTo>
                  <a:pt x="68580" y="29146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MARTPenAnnotation854"/>
          <p:cNvSpPr/>
          <p:nvPr/>
        </p:nvSpPr>
        <p:spPr>
          <a:xfrm>
            <a:off x="4417920" y="3454560"/>
            <a:ext cx="403200" cy="266400"/>
          </a:xfrm>
          <a:custGeom>
            <a:avLst/>
            <a:gdLst>
              <a:gd name="textAreaLeft" fmla="*/ 0 w 403200"/>
              <a:gd name="textAreaRight" fmla="*/ 403560 w 40320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402908" h="265714">
                <a:moveTo>
                  <a:pt x="0" y="197168"/>
                </a:moveTo>
                <a:lnTo>
                  <a:pt x="12770" y="209938"/>
                </a:lnTo>
                <a:lnTo>
                  <a:pt x="15181" y="211396"/>
                </a:lnTo>
                <a:lnTo>
                  <a:pt x="23125" y="214401"/>
                </a:lnTo>
                <a:lnTo>
                  <a:pt x="31510" y="220900"/>
                </a:lnTo>
                <a:lnTo>
                  <a:pt x="40980" y="228859"/>
                </a:lnTo>
                <a:lnTo>
                  <a:pt x="50281" y="234430"/>
                </a:lnTo>
                <a:lnTo>
                  <a:pt x="58224" y="240081"/>
                </a:lnTo>
                <a:lnTo>
                  <a:pt x="64929" y="245768"/>
                </a:lnTo>
                <a:lnTo>
                  <a:pt x="71085" y="251470"/>
                </a:lnTo>
                <a:lnTo>
                  <a:pt x="74060" y="253372"/>
                </a:lnTo>
                <a:lnTo>
                  <a:pt x="82798" y="257001"/>
                </a:lnTo>
                <a:lnTo>
                  <a:pt x="92594" y="264407"/>
                </a:lnTo>
                <a:lnTo>
                  <a:pt x="96080" y="265152"/>
                </a:lnTo>
                <a:lnTo>
                  <a:pt x="107867" y="265669"/>
                </a:lnTo>
                <a:lnTo>
                  <a:pt x="109853" y="265713"/>
                </a:lnTo>
                <a:lnTo>
                  <a:pt x="113276" y="263192"/>
                </a:lnTo>
                <a:lnTo>
                  <a:pt x="120558" y="256418"/>
                </a:lnTo>
                <a:lnTo>
                  <a:pt x="123234" y="253813"/>
                </a:lnTo>
                <a:lnTo>
                  <a:pt x="128748" y="245838"/>
                </a:lnTo>
                <a:lnTo>
                  <a:pt x="131552" y="241045"/>
                </a:lnTo>
                <a:lnTo>
                  <a:pt x="135326" y="235944"/>
                </a:lnTo>
                <a:lnTo>
                  <a:pt x="139747" y="230639"/>
                </a:lnTo>
                <a:lnTo>
                  <a:pt x="144600" y="225197"/>
                </a:lnTo>
                <a:lnTo>
                  <a:pt x="149740" y="218711"/>
                </a:lnTo>
                <a:lnTo>
                  <a:pt x="155072" y="211530"/>
                </a:lnTo>
                <a:lnTo>
                  <a:pt x="160531" y="203885"/>
                </a:lnTo>
                <a:lnTo>
                  <a:pt x="167028" y="195931"/>
                </a:lnTo>
                <a:lnTo>
                  <a:pt x="174217" y="187771"/>
                </a:lnTo>
                <a:lnTo>
                  <a:pt x="181867" y="179473"/>
                </a:lnTo>
                <a:lnTo>
                  <a:pt x="200527" y="160094"/>
                </a:lnTo>
                <a:lnTo>
                  <a:pt x="210837" y="149591"/>
                </a:lnTo>
                <a:lnTo>
                  <a:pt x="221521" y="139733"/>
                </a:lnTo>
                <a:lnTo>
                  <a:pt x="232453" y="130303"/>
                </a:lnTo>
                <a:lnTo>
                  <a:pt x="243551" y="121158"/>
                </a:lnTo>
                <a:lnTo>
                  <a:pt x="253807" y="111252"/>
                </a:lnTo>
                <a:lnTo>
                  <a:pt x="263502" y="100838"/>
                </a:lnTo>
                <a:lnTo>
                  <a:pt x="272823" y="90086"/>
                </a:lnTo>
                <a:lnTo>
                  <a:pt x="282847" y="80060"/>
                </a:lnTo>
                <a:lnTo>
                  <a:pt x="293339" y="70518"/>
                </a:lnTo>
                <a:lnTo>
                  <a:pt x="304144" y="61300"/>
                </a:lnTo>
                <a:lnTo>
                  <a:pt x="315157" y="53249"/>
                </a:lnTo>
                <a:lnTo>
                  <a:pt x="326310" y="45977"/>
                </a:lnTo>
                <a:lnTo>
                  <a:pt x="347909" y="32817"/>
                </a:lnTo>
                <a:lnTo>
                  <a:pt x="367034" y="20618"/>
                </a:lnTo>
                <a:lnTo>
                  <a:pt x="375181" y="15650"/>
                </a:lnTo>
                <a:lnTo>
                  <a:pt x="382518" y="11386"/>
                </a:lnTo>
                <a:lnTo>
                  <a:pt x="40290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MARTPenAnnotation855"/>
          <p:cNvSpPr/>
          <p:nvPr/>
        </p:nvSpPr>
        <p:spPr>
          <a:xfrm>
            <a:off x="1768320" y="4200480"/>
            <a:ext cx="292320" cy="333360"/>
          </a:xfrm>
          <a:custGeom>
            <a:avLst/>
            <a:gdLst>
              <a:gd name="textAreaLeft" fmla="*/ 0 w 292320"/>
              <a:gd name="textAreaRight" fmla="*/ 292680 w 29232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91317" h="333058">
                <a:moveTo>
                  <a:pt x="68431" y="85690"/>
                </a:moveTo>
                <a:lnTo>
                  <a:pt x="52508" y="69767"/>
                </a:lnTo>
                <a:lnTo>
                  <a:pt x="49289" y="69088"/>
                </a:lnTo>
                <a:lnTo>
                  <a:pt x="47097" y="68907"/>
                </a:lnTo>
                <a:lnTo>
                  <a:pt x="45636" y="67834"/>
                </a:lnTo>
                <a:lnTo>
                  <a:pt x="44662" y="66165"/>
                </a:lnTo>
                <a:lnTo>
                  <a:pt x="43098" y="61196"/>
                </a:lnTo>
                <a:lnTo>
                  <a:pt x="42828" y="55784"/>
                </a:lnTo>
                <a:lnTo>
                  <a:pt x="43742" y="53370"/>
                </a:lnTo>
                <a:lnTo>
                  <a:pt x="50104" y="44404"/>
                </a:lnTo>
                <a:lnTo>
                  <a:pt x="55487" y="34193"/>
                </a:lnTo>
                <a:lnTo>
                  <a:pt x="62995" y="26924"/>
                </a:lnTo>
                <a:lnTo>
                  <a:pt x="71730" y="20519"/>
                </a:lnTo>
                <a:lnTo>
                  <a:pt x="78787" y="14497"/>
                </a:lnTo>
                <a:lnTo>
                  <a:pt x="82955" y="12511"/>
                </a:lnTo>
                <a:lnTo>
                  <a:pt x="87639" y="11186"/>
                </a:lnTo>
                <a:lnTo>
                  <a:pt x="92666" y="10303"/>
                </a:lnTo>
                <a:lnTo>
                  <a:pt x="100792" y="6782"/>
                </a:lnTo>
                <a:lnTo>
                  <a:pt x="104293" y="4510"/>
                </a:lnTo>
                <a:lnTo>
                  <a:pt x="109484" y="2995"/>
                </a:lnTo>
                <a:lnTo>
                  <a:pt x="115802" y="1985"/>
                </a:lnTo>
                <a:lnTo>
                  <a:pt x="122872" y="1311"/>
                </a:lnTo>
                <a:lnTo>
                  <a:pt x="128537" y="863"/>
                </a:lnTo>
                <a:lnTo>
                  <a:pt x="137372" y="364"/>
                </a:lnTo>
                <a:lnTo>
                  <a:pt x="147014" y="142"/>
                </a:lnTo>
                <a:lnTo>
                  <a:pt x="168726" y="0"/>
                </a:lnTo>
                <a:lnTo>
                  <a:pt x="173394" y="940"/>
                </a:lnTo>
                <a:lnTo>
                  <a:pt x="181121" y="4526"/>
                </a:lnTo>
                <a:lnTo>
                  <a:pt x="185468" y="5863"/>
                </a:lnTo>
                <a:lnTo>
                  <a:pt x="190271" y="6754"/>
                </a:lnTo>
                <a:lnTo>
                  <a:pt x="195377" y="7349"/>
                </a:lnTo>
                <a:lnTo>
                  <a:pt x="199734" y="8697"/>
                </a:lnTo>
                <a:lnTo>
                  <a:pt x="207116" y="12736"/>
                </a:lnTo>
                <a:lnTo>
                  <a:pt x="216111" y="20246"/>
                </a:lnTo>
                <a:lnTo>
                  <a:pt x="224554" y="28981"/>
                </a:lnTo>
                <a:lnTo>
                  <a:pt x="228306" y="36038"/>
                </a:lnTo>
                <a:lnTo>
                  <a:pt x="232514" y="44890"/>
                </a:lnTo>
                <a:lnTo>
                  <a:pt x="242977" y="66095"/>
                </a:lnTo>
                <a:lnTo>
                  <a:pt x="246019" y="74758"/>
                </a:lnTo>
                <a:lnTo>
                  <a:pt x="247372" y="83689"/>
                </a:lnTo>
                <a:lnTo>
                  <a:pt x="247732" y="90071"/>
                </a:lnTo>
                <a:lnTo>
                  <a:pt x="247973" y="97183"/>
                </a:lnTo>
                <a:lnTo>
                  <a:pt x="247180" y="103829"/>
                </a:lnTo>
                <a:lnTo>
                  <a:pt x="245700" y="110165"/>
                </a:lnTo>
                <a:lnTo>
                  <a:pt x="231067" y="154913"/>
                </a:lnTo>
                <a:lnTo>
                  <a:pt x="228290" y="163271"/>
                </a:lnTo>
                <a:lnTo>
                  <a:pt x="224534" y="171701"/>
                </a:lnTo>
                <a:lnTo>
                  <a:pt x="220124" y="180178"/>
                </a:lnTo>
                <a:lnTo>
                  <a:pt x="215280" y="188687"/>
                </a:lnTo>
                <a:lnTo>
                  <a:pt x="210145" y="197217"/>
                </a:lnTo>
                <a:lnTo>
                  <a:pt x="199360" y="214315"/>
                </a:lnTo>
                <a:lnTo>
                  <a:pt x="194770" y="221922"/>
                </a:lnTo>
                <a:lnTo>
                  <a:pt x="190757" y="228899"/>
                </a:lnTo>
                <a:lnTo>
                  <a:pt x="187129" y="235455"/>
                </a:lnTo>
                <a:lnTo>
                  <a:pt x="182806" y="242683"/>
                </a:lnTo>
                <a:lnTo>
                  <a:pt x="172922" y="258335"/>
                </a:lnTo>
                <a:lnTo>
                  <a:pt x="167619" y="265556"/>
                </a:lnTo>
                <a:lnTo>
                  <a:pt x="162179" y="272276"/>
                </a:lnTo>
                <a:lnTo>
                  <a:pt x="156647" y="278660"/>
                </a:lnTo>
                <a:lnTo>
                  <a:pt x="151054" y="283870"/>
                </a:lnTo>
                <a:lnTo>
                  <a:pt x="145421" y="288295"/>
                </a:lnTo>
                <a:lnTo>
                  <a:pt x="139760" y="292197"/>
                </a:lnTo>
                <a:lnTo>
                  <a:pt x="134081" y="296704"/>
                </a:lnTo>
                <a:lnTo>
                  <a:pt x="128390" y="301613"/>
                </a:lnTo>
                <a:lnTo>
                  <a:pt x="122691" y="306791"/>
                </a:lnTo>
                <a:lnTo>
                  <a:pt x="116987" y="310243"/>
                </a:lnTo>
                <a:lnTo>
                  <a:pt x="111279" y="312544"/>
                </a:lnTo>
                <a:lnTo>
                  <a:pt x="105569" y="314079"/>
                </a:lnTo>
                <a:lnTo>
                  <a:pt x="99857" y="316054"/>
                </a:lnTo>
                <a:lnTo>
                  <a:pt x="94144" y="318323"/>
                </a:lnTo>
                <a:lnTo>
                  <a:pt x="88431" y="320789"/>
                </a:lnTo>
                <a:lnTo>
                  <a:pt x="79542" y="323528"/>
                </a:lnTo>
                <a:lnTo>
                  <a:pt x="72417" y="324746"/>
                </a:lnTo>
                <a:lnTo>
                  <a:pt x="66075" y="325287"/>
                </a:lnTo>
                <a:lnTo>
                  <a:pt x="57541" y="325527"/>
                </a:lnTo>
                <a:lnTo>
                  <a:pt x="41091" y="325681"/>
                </a:lnTo>
                <a:lnTo>
                  <a:pt x="37822" y="324742"/>
                </a:lnTo>
                <a:lnTo>
                  <a:pt x="31650" y="321158"/>
                </a:lnTo>
                <a:lnTo>
                  <a:pt x="25731" y="318930"/>
                </a:lnTo>
                <a:lnTo>
                  <a:pt x="22819" y="318335"/>
                </a:lnTo>
                <a:lnTo>
                  <a:pt x="17044" y="315135"/>
                </a:lnTo>
                <a:lnTo>
                  <a:pt x="14171" y="312948"/>
                </a:lnTo>
                <a:lnTo>
                  <a:pt x="8438" y="305438"/>
                </a:lnTo>
                <a:lnTo>
                  <a:pt x="3667" y="296703"/>
                </a:lnTo>
                <a:lnTo>
                  <a:pt x="1547" y="289646"/>
                </a:lnTo>
                <a:lnTo>
                  <a:pt x="605" y="280795"/>
                </a:lnTo>
                <a:lnTo>
                  <a:pt x="186" y="271463"/>
                </a:lnTo>
                <a:lnTo>
                  <a:pt x="0" y="264140"/>
                </a:lnTo>
                <a:lnTo>
                  <a:pt x="2457" y="255171"/>
                </a:lnTo>
                <a:lnTo>
                  <a:pt x="6724" y="244834"/>
                </a:lnTo>
                <a:lnTo>
                  <a:pt x="11796" y="233891"/>
                </a:lnTo>
                <a:lnTo>
                  <a:pt x="17225" y="225217"/>
                </a:lnTo>
                <a:lnTo>
                  <a:pt x="25636" y="214979"/>
                </a:lnTo>
                <a:lnTo>
                  <a:pt x="28471" y="211887"/>
                </a:lnTo>
                <a:lnTo>
                  <a:pt x="36701" y="205912"/>
                </a:lnTo>
                <a:lnTo>
                  <a:pt x="41563" y="202986"/>
                </a:lnTo>
                <a:lnTo>
                  <a:pt x="46709" y="200082"/>
                </a:lnTo>
                <a:lnTo>
                  <a:pt x="57507" y="194316"/>
                </a:lnTo>
                <a:lnTo>
                  <a:pt x="63053" y="192397"/>
                </a:lnTo>
                <a:lnTo>
                  <a:pt x="68656" y="191118"/>
                </a:lnTo>
                <a:lnTo>
                  <a:pt x="74296" y="190265"/>
                </a:lnTo>
                <a:lnTo>
                  <a:pt x="79961" y="189697"/>
                </a:lnTo>
                <a:lnTo>
                  <a:pt x="85643" y="189318"/>
                </a:lnTo>
                <a:lnTo>
                  <a:pt x="91335" y="189065"/>
                </a:lnTo>
                <a:lnTo>
                  <a:pt x="97988" y="189849"/>
                </a:lnTo>
                <a:lnTo>
                  <a:pt x="105281" y="191324"/>
                </a:lnTo>
                <a:lnTo>
                  <a:pt x="113000" y="193260"/>
                </a:lnTo>
                <a:lnTo>
                  <a:pt x="120051" y="194551"/>
                </a:lnTo>
                <a:lnTo>
                  <a:pt x="126657" y="195411"/>
                </a:lnTo>
                <a:lnTo>
                  <a:pt x="132966" y="195985"/>
                </a:lnTo>
                <a:lnTo>
                  <a:pt x="139077" y="197320"/>
                </a:lnTo>
                <a:lnTo>
                  <a:pt x="145055" y="199162"/>
                </a:lnTo>
                <a:lnTo>
                  <a:pt x="150947" y="201343"/>
                </a:lnTo>
                <a:lnTo>
                  <a:pt x="156779" y="203749"/>
                </a:lnTo>
                <a:lnTo>
                  <a:pt x="162572" y="206306"/>
                </a:lnTo>
                <a:lnTo>
                  <a:pt x="168339" y="208963"/>
                </a:lnTo>
                <a:lnTo>
                  <a:pt x="177287" y="214456"/>
                </a:lnTo>
                <a:lnTo>
                  <a:pt x="185391" y="220071"/>
                </a:lnTo>
                <a:lnTo>
                  <a:pt x="190220" y="222902"/>
                </a:lnTo>
                <a:lnTo>
                  <a:pt x="195343" y="225743"/>
                </a:lnTo>
                <a:lnTo>
                  <a:pt x="203576" y="233978"/>
                </a:lnTo>
                <a:lnTo>
                  <a:pt x="207105" y="238841"/>
                </a:lnTo>
                <a:lnTo>
                  <a:pt x="216107" y="246784"/>
                </a:lnTo>
                <a:lnTo>
                  <a:pt x="221174" y="250236"/>
                </a:lnTo>
                <a:lnTo>
                  <a:pt x="229344" y="259151"/>
                </a:lnTo>
                <a:lnTo>
                  <a:pt x="235198" y="268511"/>
                </a:lnTo>
                <a:lnTo>
                  <a:pt x="237800" y="275846"/>
                </a:lnTo>
                <a:lnTo>
                  <a:pt x="240398" y="279136"/>
                </a:lnTo>
                <a:lnTo>
                  <a:pt x="248366" y="285331"/>
                </a:lnTo>
                <a:lnTo>
                  <a:pt x="251253" y="288316"/>
                </a:lnTo>
                <a:lnTo>
                  <a:pt x="253177" y="291259"/>
                </a:lnTo>
                <a:lnTo>
                  <a:pt x="256268" y="297069"/>
                </a:lnTo>
                <a:lnTo>
                  <a:pt x="263363" y="305695"/>
                </a:lnTo>
                <a:lnTo>
                  <a:pt x="268733" y="311422"/>
                </a:lnTo>
                <a:lnTo>
                  <a:pt x="270545" y="314283"/>
                </a:lnTo>
                <a:lnTo>
                  <a:pt x="273694" y="324025"/>
                </a:lnTo>
                <a:lnTo>
                  <a:pt x="274805" y="324590"/>
                </a:lnTo>
                <a:lnTo>
                  <a:pt x="278580" y="325218"/>
                </a:lnTo>
                <a:lnTo>
                  <a:pt x="279968" y="326338"/>
                </a:lnTo>
                <a:lnTo>
                  <a:pt x="280893" y="328036"/>
                </a:lnTo>
                <a:lnTo>
                  <a:pt x="282378" y="333057"/>
                </a:lnTo>
                <a:lnTo>
                  <a:pt x="283452" y="332516"/>
                </a:lnTo>
                <a:lnTo>
                  <a:pt x="291316" y="32571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MARTPenAnnotation856"/>
          <p:cNvSpPr/>
          <p:nvPr/>
        </p:nvSpPr>
        <p:spPr>
          <a:xfrm>
            <a:off x="2146320" y="4243320"/>
            <a:ext cx="239760" cy="274680"/>
          </a:xfrm>
          <a:custGeom>
            <a:avLst/>
            <a:gdLst>
              <a:gd name="textAreaLeft" fmla="*/ 0 w 239760"/>
              <a:gd name="textAreaRight" fmla="*/ 240120 w 2397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40031" h="274312">
                <a:moveTo>
                  <a:pt x="0" y="8564"/>
                </a:moveTo>
                <a:lnTo>
                  <a:pt x="0" y="344"/>
                </a:lnTo>
                <a:lnTo>
                  <a:pt x="7381" y="22"/>
                </a:lnTo>
                <a:lnTo>
                  <a:pt x="12770" y="0"/>
                </a:lnTo>
                <a:lnTo>
                  <a:pt x="15181" y="950"/>
                </a:lnTo>
                <a:lnTo>
                  <a:pt x="20400" y="4545"/>
                </a:lnTo>
                <a:lnTo>
                  <a:pt x="22172" y="6837"/>
                </a:lnTo>
                <a:lnTo>
                  <a:pt x="23354" y="9318"/>
                </a:lnTo>
                <a:lnTo>
                  <a:pt x="24142" y="11924"/>
                </a:lnTo>
                <a:lnTo>
                  <a:pt x="27557" y="17359"/>
                </a:lnTo>
                <a:lnTo>
                  <a:pt x="34835" y="25775"/>
                </a:lnTo>
                <a:lnTo>
                  <a:pt x="37511" y="28610"/>
                </a:lnTo>
                <a:lnTo>
                  <a:pt x="41200" y="31453"/>
                </a:lnTo>
                <a:lnTo>
                  <a:pt x="45564" y="34301"/>
                </a:lnTo>
                <a:lnTo>
                  <a:pt x="50379" y="37152"/>
                </a:lnTo>
                <a:lnTo>
                  <a:pt x="54541" y="40005"/>
                </a:lnTo>
                <a:lnTo>
                  <a:pt x="61705" y="45715"/>
                </a:lnTo>
                <a:lnTo>
                  <a:pt x="68065" y="51428"/>
                </a:lnTo>
                <a:lnTo>
                  <a:pt x="75018" y="58094"/>
                </a:lnTo>
                <a:lnTo>
                  <a:pt x="84459" y="67407"/>
                </a:lnTo>
                <a:lnTo>
                  <a:pt x="88691" y="72558"/>
                </a:lnTo>
                <a:lnTo>
                  <a:pt x="92465" y="77896"/>
                </a:lnTo>
                <a:lnTo>
                  <a:pt x="95933" y="83360"/>
                </a:lnTo>
                <a:lnTo>
                  <a:pt x="100151" y="87956"/>
                </a:lnTo>
                <a:lnTo>
                  <a:pt x="104867" y="91972"/>
                </a:lnTo>
                <a:lnTo>
                  <a:pt x="109916" y="95601"/>
                </a:lnTo>
                <a:lnTo>
                  <a:pt x="115188" y="99926"/>
                </a:lnTo>
                <a:lnTo>
                  <a:pt x="120607" y="104714"/>
                </a:lnTo>
                <a:lnTo>
                  <a:pt x="131708" y="115115"/>
                </a:lnTo>
                <a:lnTo>
                  <a:pt x="160055" y="142975"/>
                </a:lnTo>
                <a:lnTo>
                  <a:pt x="164806" y="148654"/>
                </a:lnTo>
                <a:lnTo>
                  <a:pt x="168925" y="154344"/>
                </a:lnTo>
                <a:lnTo>
                  <a:pt x="172625" y="160043"/>
                </a:lnTo>
                <a:lnTo>
                  <a:pt x="176996" y="165748"/>
                </a:lnTo>
                <a:lnTo>
                  <a:pt x="181815" y="171456"/>
                </a:lnTo>
                <a:lnTo>
                  <a:pt x="186932" y="177166"/>
                </a:lnTo>
                <a:lnTo>
                  <a:pt x="191296" y="182878"/>
                </a:lnTo>
                <a:lnTo>
                  <a:pt x="195159" y="188590"/>
                </a:lnTo>
                <a:lnTo>
                  <a:pt x="198686" y="194304"/>
                </a:lnTo>
                <a:lnTo>
                  <a:pt x="201989" y="200018"/>
                </a:lnTo>
                <a:lnTo>
                  <a:pt x="208201" y="211447"/>
                </a:lnTo>
                <a:lnTo>
                  <a:pt x="211190" y="216209"/>
                </a:lnTo>
                <a:lnTo>
                  <a:pt x="217053" y="224041"/>
                </a:lnTo>
                <a:lnTo>
                  <a:pt x="219949" y="228415"/>
                </a:lnTo>
                <a:lnTo>
                  <a:pt x="222833" y="233236"/>
                </a:lnTo>
                <a:lnTo>
                  <a:pt x="225708" y="238356"/>
                </a:lnTo>
                <a:lnTo>
                  <a:pt x="231442" y="246583"/>
                </a:lnTo>
                <a:lnTo>
                  <a:pt x="234305" y="250111"/>
                </a:lnTo>
                <a:lnTo>
                  <a:pt x="237486" y="256571"/>
                </a:lnTo>
                <a:lnTo>
                  <a:pt x="239527" y="263928"/>
                </a:lnTo>
                <a:lnTo>
                  <a:pt x="239964" y="272285"/>
                </a:lnTo>
                <a:lnTo>
                  <a:pt x="240030" y="2743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MARTPenAnnotation857"/>
          <p:cNvSpPr/>
          <p:nvPr/>
        </p:nvSpPr>
        <p:spPr>
          <a:xfrm>
            <a:off x="2190600" y="4255920"/>
            <a:ext cx="187560" cy="262080"/>
          </a:xfrm>
          <a:custGeom>
            <a:avLst/>
            <a:gdLst>
              <a:gd name="textAreaLeft" fmla="*/ 0 w 187560"/>
              <a:gd name="textAreaRight" fmla="*/ 187920 w 1875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87391" h="262081">
                <a:moveTo>
                  <a:pt x="187390" y="4939"/>
                </a:moveTo>
                <a:lnTo>
                  <a:pt x="182840" y="388"/>
                </a:lnTo>
                <a:lnTo>
                  <a:pt x="181499" y="0"/>
                </a:lnTo>
                <a:lnTo>
                  <a:pt x="180605" y="694"/>
                </a:lnTo>
                <a:lnTo>
                  <a:pt x="179171" y="4101"/>
                </a:lnTo>
                <a:lnTo>
                  <a:pt x="176435" y="4567"/>
                </a:lnTo>
                <a:lnTo>
                  <a:pt x="174372" y="4691"/>
                </a:lnTo>
                <a:lnTo>
                  <a:pt x="172996" y="5726"/>
                </a:lnTo>
                <a:lnTo>
                  <a:pt x="172079" y="7369"/>
                </a:lnTo>
                <a:lnTo>
                  <a:pt x="171468" y="9416"/>
                </a:lnTo>
                <a:lnTo>
                  <a:pt x="168249" y="14232"/>
                </a:lnTo>
                <a:lnTo>
                  <a:pt x="163643" y="20499"/>
                </a:lnTo>
                <a:lnTo>
                  <a:pt x="161081" y="24837"/>
                </a:lnTo>
                <a:lnTo>
                  <a:pt x="158421" y="29635"/>
                </a:lnTo>
                <a:lnTo>
                  <a:pt x="154743" y="34738"/>
                </a:lnTo>
                <a:lnTo>
                  <a:pt x="150385" y="40045"/>
                </a:lnTo>
                <a:lnTo>
                  <a:pt x="145575" y="45488"/>
                </a:lnTo>
                <a:lnTo>
                  <a:pt x="141416" y="51974"/>
                </a:lnTo>
                <a:lnTo>
                  <a:pt x="137691" y="59156"/>
                </a:lnTo>
                <a:lnTo>
                  <a:pt x="134255" y="66801"/>
                </a:lnTo>
                <a:lnTo>
                  <a:pt x="130059" y="73803"/>
                </a:lnTo>
                <a:lnTo>
                  <a:pt x="125357" y="80376"/>
                </a:lnTo>
                <a:lnTo>
                  <a:pt x="120318" y="86663"/>
                </a:lnTo>
                <a:lnTo>
                  <a:pt x="116005" y="92759"/>
                </a:lnTo>
                <a:lnTo>
                  <a:pt x="112178" y="98728"/>
                </a:lnTo>
                <a:lnTo>
                  <a:pt x="108674" y="104613"/>
                </a:lnTo>
                <a:lnTo>
                  <a:pt x="104433" y="110441"/>
                </a:lnTo>
                <a:lnTo>
                  <a:pt x="99700" y="116231"/>
                </a:lnTo>
                <a:lnTo>
                  <a:pt x="94640" y="121996"/>
                </a:lnTo>
                <a:lnTo>
                  <a:pt x="90315" y="128697"/>
                </a:lnTo>
                <a:lnTo>
                  <a:pt x="86478" y="136022"/>
                </a:lnTo>
                <a:lnTo>
                  <a:pt x="79676" y="150828"/>
                </a:lnTo>
                <a:lnTo>
                  <a:pt x="73477" y="163758"/>
                </a:lnTo>
                <a:lnTo>
                  <a:pt x="69538" y="169874"/>
                </a:lnTo>
                <a:lnTo>
                  <a:pt x="65007" y="175855"/>
                </a:lnTo>
                <a:lnTo>
                  <a:pt x="60082" y="181748"/>
                </a:lnTo>
                <a:lnTo>
                  <a:pt x="55845" y="187582"/>
                </a:lnTo>
                <a:lnTo>
                  <a:pt x="52069" y="193376"/>
                </a:lnTo>
                <a:lnTo>
                  <a:pt x="48599" y="199144"/>
                </a:lnTo>
                <a:lnTo>
                  <a:pt x="44380" y="203942"/>
                </a:lnTo>
                <a:lnTo>
                  <a:pt x="39663" y="208092"/>
                </a:lnTo>
                <a:lnTo>
                  <a:pt x="34613" y="211812"/>
                </a:lnTo>
                <a:lnTo>
                  <a:pt x="31246" y="216197"/>
                </a:lnTo>
                <a:lnTo>
                  <a:pt x="29002" y="221026"/>
                </a:lnTo>
                <a:lnTo>
                  <a:pt x="27505" y="226149"/>
                </a:lnTo>
                <a:lnTo>
                  <a:pt x="25555" y="230517"/>
                </a:lnTo>
                <a:lnTo>
                  <a:pt x="20849" y="237911"/>
                </a:lnTo>
                <a:lnTo>
                  <a:pt x="18260" y="240264"/>
                </a:lnTo>
                <a:lnTo>
                  <a:pt x="15582" y="241832"/>
                </a:lnTo>
                <a:lnTo>
                  <a:pt x="12844" y="242878"/>
                </a:lnTo>
                <a:lnTo>
                  <a:pt x="11018" y="244528"/>
                </a:lnTo>
                <a:lnTo>
                  <a:pt x="9802" y="246580"/>
                </a:lnTo>
                <a:lnTo>
                  <a:pt x="7849" y="252167"/>
                </a:lnTo>
                <a:lnTo>
                  <a:pt x="7511" y="257685"/>
                </a:lnTo>
                <a:lnTo>
                  <a:pt x="6510" y="259162"/>
                </a:lnTo>
                <a:lnTo>
                  <a:pt x="4891" y="260146"/>
                </a:lnTo>
                <a:lnTo>
                  <a:pt x="0" y="261725"/>
                </a:lnTo>
                <a:lnTo>
                  <a:pt x="551" y="261855"/>
                </a:lnTo>
                <a:lnTo>
                  <a:pt x="6282" y="262080"/>
                </a:lnTo>
                <a:lnTo>
                  <a:pt x="6644" y="261139"/>
                </a:lnTo>
                <a:lnTo>
                  <a:pt x="7368" y="25354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MARTPenAnnotation858"/>
          <p:cNvSpPr/>
          <p:nvPr/>
        </p:nvSpPr>
        <p:spPr>
          <a:xfrm>
            <a:off x="2463840" y="4092480"/>
            <a:ext cx="368280" cy="193680"/>
          </a:xfrm>
          <a:custGeom>
            <a:avLst/>
            <a:gdLst>
              <a:gd name="textAreaLeft" fmla="*/ 0 w 368280"/>
              <a:gd name="textAreaRight" fmla="*/ 368640 w 36828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368619" h="193157">
                <a:moveTo>
                  <a:pt x="0" y="81758"/>
                </a:moveTo>
                <a:lnTo>
                  <a:pt x="0" y="69827"/>
                </a:lnTo>
                <a:lnTo>
                  <a:pt x="953" y="68089"/>
                </a:lnTo>
                <a:lnTo>
                  <a:pt x="2540" y="66930"/>
                </a:lnTo>
                <a:lnTo>
                  <a:pt x="4551" y="66158"/>
                </a:lnTo>
                <a:lnTo>
                  <a:pt x="5892" y="64691"/>
                </a:lnTo>
                <a:lnTo>
                  <a:pt x="6786" y="62760"/>
                </a:lnTo>
                <a:lnTo>
                  <a:pt x="7381" y="60520"/>
                </a:lnTo>
                <a:lnTo>
                  <a:pt x="9683" y="58074"/>
                </a:lnTo>
                <a:lnTo>
                  <a:pt x="21073" y="50082"/>
                </a:lnTo>
                <a:lnTo>
                  <a:pt x="27781" y="44502"/>
                </a:lnTo>
                <a:lnTo>
                  <a:pt x="31856" y="42633"/>
                </a:lnTo>
                <a:lnTo>
                  <a:pt x="41463" y="40557"/>
                </a:lnTo>
                <a:lnTo>
                  <a:pt x="49543" y="37094"/>
                </a:lnTo>
                <a:lnTo>
                  <a:pt x="56310" y="32380"/>
                </a:lnTo>
                <a:lnTo>
                  <a:pt x="62492" y="27110"/>
                </a:lnTo>
                <a:lnTo>
                  <a:pt x="70954" y="21592"/>
                </a:lnTo>
                <a:lnTo>
                  <a:pt x="81066" y="15965"/>
                </a:lnTo>
                <a:lnTo>
                  <a:pt x="91909" y="10289"/>
                </a:lnTo>
                <a:lnTo>
                  <a:pt x="103079" y="7132"/>
                </a:lnTo>
                <a:lnTo>
                  <a:pt x="114393" y="4776"/>
                </a:lnTo>
                <a:lnTo>
                  <a:pt x="125772" y="554"/>
                </a:lnTo>
                <a:lnTo>
                  <a:pt x="132426" y="0"/>
                </a:lnTo>
                <a:lnTo>
                  <a:pt x="139719" y="582"/>
                </a:lnTo>
                <a:lnTo>
                  <a:pt x="147439" y="1923"/>
                </a:lnTo>
                <a:lnTo>
                  <a:pt x="154490" y="2818"/>
                </a:lnTo>
                <a:lnTo>
                  <a:pt x="161096" y="3413"/>
                </a:lnTo>
                <a:lnTo>
                  <a:pt x="172564" y="4076"/>
                </a:lnTo>
                <a:lnTo>
                  <a:pt x="180835" y="4371"/>
                </a:lnTo>
                <a:lnTo>
                  <a:pt x="184374" y="5401"/>
                </a:lnTo>
                <a:lnTo>
                  <a:pt x="190847" y="9087"/>
                </a:lnTo>
                <a:lnTo>
                  <a:pt x="196899" y="13900"/>
                </a:lnTo>
                <a:lnTo>
                  <a:pt x="199846" y="16517"/>
                </a:lnTo>
                <a:lnTo>
                  <a:pt x="208201" y="24505"/>
                </a:lnTo>
                <a:lnTo>
                  <a:pt x="213096" y="29302"/>
                </a:lnTo>
                <a:lnTo>
                  <a:pt x="216359" y="33452"/>
                </a:lnTo>
                <a:lnTo>
                  <a:pt x="218535" y="37172"/>
                </a:lnTo>
                <a:lnTo>
                  <a:pt x="219985" y="40604"/>
                </a:lnTo>
                <a:lnTo>
                  <a:pt x="220952" y="43844"/>
                </a:lnTo>
                <a:lnTo>
                  <a:pt x="221596" y="46957"/>
                </a:lnTo>
                <a:lnTo>
                  <a:pt x="222312" y="52956"/>
                </a:lnTo>
                <a:lnTo>
                  <a:pt x="222631" y="58797"/>
                </a:lnTo>
                <a:lnTo>
                  <a:pt x="222772" y="67108"/>
                </a:lnTo>
                <a:lnTo>
                  <a:pt x="222863" y="87966"/>
                </a:lnTo>
                <a:lnTo>
                  <a:pt x="221918" y="93517"/>
                </a:lnTo>
                <a:lnTo>
                  <a:pt x="220335" y="99122"/>
                </a:lnTo>
                <a:lnTo>
                  <a:pt x="218328" y="104764"/>
                </a:lnTo>
                <a:lnTo>
                  <a:pt x="216037" y="110430"/>
                </a:lnTo>
                <a:lnTo>
                  <a:pt x="213557" y="116113"/>
                </a:lnTo>
                <a:lnTo>
                  <a:pt x="210952" y="121806"/>
                </a:lnTo>
                <a:lnTo>
                  <a:pt x="208262" y="126555"/>
                </a:lnTo>
                <a:lnTo>
                  <a:pt x="205517" y="130673"/>
                </a:lnTo>
                <a:lnTo>
                  <a:pt x="202734" y="134370"/>
                </a:lnTo>
                <a:lnTo>
                  <a:pt x="199926" y="138740"/>
                </a:lnTo>
                <a:lnTo>
                  <a:pt x="197102" y="143559"/>
                </a:lnTo>
                <a:lnTo>
                  <a:pt x="194266" y="148676"/>
                </a:lnTo>
                <a:lnTo>
                  <a:pt x="191423" y="153040"/>
                </a:lnTo>
                <a:lnTo>
                  <a:pt x="188576" y="156902"/>
                </a:lnTo>
                <a:lnTo>
                  <a:pt x="185725" y="160429"/>
                </a:lnTo>
                <a:lnTo>
                  <a:pt x="182872" y="163733"/>
                </a:lnTo>
                <a:lnTo>
                  <a:pt x="180017" y="166888"/>
                </a:lnTo>
                <a:lnTo>
                  <a:pt x="174305" y="172934"/>
                </a:lnTo>
                <a:lnTo>
                  <a:pt x="168592" y="178796"/>
                </a:lnTo>
                <a:lnTo>
                  <a:pt x="160337" y="184576"/>
                </a:lnTo>
                <a:lnTo>
                  <a:pt x="151271" y="189367"/>
                </a:lnTo>
                <a:lnTo>
                  <a:pt x="144067" y="191497"/>
                </a:lnTo>
                <a:lnTo>
                  <a:pt x="134656" y="192696"/>
                </a:lnTo>
                <a:lnTo>
                  <a:pt x="126205" y="192976"/>
                </a:lnTo>
                <a:lnTo>
                  <a:pt x="109808" y="193156"/>
                </a:lnTo>
                <a:lnTo>
                  <a:pt x="106543" y="192218"/>
                </a:lnTo>
                <a:lnTo>
                  <a:pt x="97397" y="187300"/>
                </a:lnTo>
                <a:lnTo>
                  <a:pt x="91548" y="185816"/>
                </a:lnTo>
                <a:lnTo>
                  <a:pt x="89607" y="184467"/>
                </a:lnTo>
                <a:lnTo>
                  <a:pt x="88313" y="182616"/>
                </a:lnTo>
                <a:lnTo>
                  <a:pt x="87451" y="180429"/>
                </a:lnTo>
                <a:lnTo>
                  <a:pt x="85923" y="178972"/>
                </a:lnTo>
                <a:lnTo>
                  <a:pt x="83952" y="177999"/>
                </a:lnTo>
                <a:lnTo>
                  <a:pt x="81686" y="177351"/>
                </a:lnTo>
                <a:lnTo>
                  <a:pt x="80175" y="175967"/>
                </a:lnTo>
                <a:lnTo>
                  <a:pt x="79168" y="174092"/>
                </a:lnTo>
                <a:lnTo>
                  <a:pt x="78048" y="169468"/>
                </a:lnTo>
                <a:lnTo>
                  <a:pt x="77551" y="164238"/>
                </a:lnTo>
                <a:lnTo>
                  <a:pt x="77330" y="158738"/>
                </a:lnTo>
                <a:lnTo>
                  <a:pt x="77271" y="155938"/>
                </a:lnTo>
                <a:lnTo>
                  <a:pt x="78184" y="154071"/>
                </a:lnTo>
                <a:lnTo>
                  <a:pt x="79746" y="152827"/>
                </a:lnTo>
                <a:lnTo>
                  <a:pt x="81739" y="151997"/>
                </a:lnTo>
                <a:lnTo>
                  <a:pt x="92734" y="143822"/>
                </a:lnTo>
                <a:lnTo>
                  <a:pt x="101858" y="138552"/>
                </a:lnTo>
                <a:lnTo>
                  <a:pt x="112263" y="133035"/>
                </a:lnTo>
                <a:lnTo>
                  <a:pt x="117705" y="130230"/>
                </a:lnTo>
                <a:lnTo>
                  <a:pt x="128831" y="127114"/>
                </a:lnTo>
                <a:lnTo>
                  <a:pt x="134465" y="126283"/>
                </a:lnTo>
                <a:lnTo>
                  <a:pt x="141078" y="124776"/>
                </a:lnTo>
                <a:lnTo>
                  <a:pt x="148345" y="122820"/>
                </a:lnTo>
                <a:lnTo>
                  <a:pt x="156047" y="120562"/>
                </a:lnTo>
                <a:lnTo>
                  <a:pt x="164039" y="119058"/>
                </a:lnTo>
                <a:lnTo>
                  <a:pt x="172224" y="118054"/>
                </a:lnTo>
                <a:lnTo>
                  <a:pt x="180539" y="117386"/>
                </a:lnTo>
                <a:lnTo>
                  <a:pt x="187987" y="116940"/>
                </a:lnTo>
                <a:lnTo>
                  <a:pt x="201342" y="116444"/>
                </a:lnTo>
                <a:lnTo>
                  <a:pt x="224122" y="116166"/>
                </a:lnTo>
                <a:lnTo>
                  <a:pt x="231330" y="117079"/>
                </a:lnTo>
                <a:lnTo>
                  <a:pt x="238040" y="118640"/>
                </a:lnTo>
                <a:lnTo>
                  <a:pt x="244419" y="120634"/>
                </a:lnTo>
                <a:lnTo>
                  <a:pt x="250576" y="121963"/>
                </a:lnTo>
                <a:lnTo>
                  <a:pt x="256586" y="122849"/>
                </a:lnTo>
                <a:lnTo>
                  <a:pt x="262497" y="123439"/>
                </a:lnTo>
                <a:lnTo>
                  <a:pt x="269296" y="124786"/>
                </a:lnTo>
                <a:lnTo>
                  <a:pt x="276686" y="126636"/>
                </a:lnTo>
                <a:lnTo>
                  <a:pt x="284470" y="128821"/>
                </a:lnTo>
                <a:lnTo>
                  <a:pt x="295659" y="133790"/>
                </a:lnTo>
                <a:lnTo>
                  <a:pt x="304759" y="139174"/>
                </a:lnTo>
                <a:lnTo>
                  <a:pt x="315154" y="144741"/>
                </a:lnTo>
                <a:lnTo>
                  <a:pt x="331716" y="153231"/>
                </a:lnTo>
                <a:lnTo>
                  <a:pt x="340470" y="156386"/>
                </a:lnTo>
                <a:lnTo>
                  <a:pt x="348487" y="158741"/>
                </a:lnTo>
                <a:lnTo>
                  <a:pt x="358401" y="162963"/>
                </a:lnTo>
                <a:lnTo>
                  <a:pt x="368618" y="16748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MARTPenAnnotation859"/>
          <p:cNvSpPr/>
          <p:nvPr/>
        </p:nvSpPr>
        <p:spPr>
          <a:xfrm>
            <a:off x="3003480" y="4311720"/>
            <a:ext cx="308160" cy="25200"/>
          </a:xfrm>
          <a:custGeom>
            <a:avLst/>
            <a:gdLst>
              <a:gd name="textAreaLeft" fmla="*/ 0 w 308160"/>
              <a:gd name="textAreaRight" fmla="*/ 308520 w 3081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08611" h="25718">
                <a:moveTo>
                  <a:pt x="0" y="25717"/>
                </a:moveTo>
                <a:lnTo>
                  <a:pt x="49092" y="25717"/>
                </a:lnTo>
                <a:lnTo>
                  <a:pt x="54636" y="24764"/>
                </a:lnTo>
                <a:lnTo>
                  <a:pt x="60236" y="23177"/>
                </a:lnTo>
                <a:lnTo>
                  <a:pt x="79760" y="16392"/>
                </a:lnTo>
                <a:lnTo>
                  <a:pt x="87463" y="13785"/>
                </a:lnTo>
                <a:lnTo>
                  <a:pt x="94504" y="12047"/>
                </a:lnTo>
                <a:lnTo>
                  <a:pt x="101103" y="10889"/>
                </a:lnTo>
                <a:lnTo>
                  <a:pt x="107407" y="10117"/>
                </a:lnTo>
                <a:lnTo>
                  <a:pt x="114467" y="8649"/>
                </a:lnTo>
                <a:lnTo>
                  <a:pt x="122031" y="6718"/>
                </a:lnTo>
                <a:lnTo>
                  <a:pt x="129932" y="4478"/>
                </a:lnTo>
                <a:lnTo>
                  <a:pt x="137104" y="2986"/>
                </a:lnTo>
                <a:lnTo>
                  <a:pt x="143790" y="1990"/>
                </a:lnTo>
                <a:lnTo>
                  <a:pt x="150152" y="1326"/>
                </a:lnTo>
                <a:lnTo>
                  <a:pt x="157252" y="884"/>
                </a:lnTo>
                <a:lnTo>
                  <a:pt x="172759" y="393"/>
                </a:lnTo>
                <a:lnTo>
                  <a:pt x="200107" y="77"/>
                </a:lnTo>
                <a:lnTo>
                  <a:pt x="271348" y="0"/>
                </a:lnTo>
                <a:lnTo>
                  <a:pt x="276149" y="952"/>
                </a:lnTo>
                <a:lnTo>
                  <a:pt x="280302" y="2539"/>
                </a:lnTo>
                <a:lnTo>
                  <a:pt x="284023" y="4550"/>
                </a:lnTo>
                <a:lnTo>
                  <a:pt x="287456" y="5890"/>
                </a:lnTo>
                <a:lnTo>
                  <a:pt x="290697" y="6784"/>
                </a:lnTo>
                <a:lnTo>
                  <a:pt x="298193" y="8219"/>
                </a:lnTo>
                <a:lnTo>
                  <a:pt x="304042" y="8467"/>
                </a:lnTo>
                <a:lnTo>
                  <a:pt x="305564" y="9455"/>
                </a:lnTo>
                <a:lnTo>
                  <a:pt x="306579" y="11065"/>
                </a:lnTo>
                <a:lnTo>
                  <a:pt x="308610" y="17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MARTPenAnnotation860"/>
          <p:cNvSpPr/>
          <p:nvPr/>
        </p:nvSpPr>
        <p:spPr>
          <a:xfrm>
            <a:off x="3106800" y="4208400"/>
            <a:ext cx="50760" cy="300240"/>
          </a:xfrm>
          <a:custGeom>
            <a:avLst/>
            <a:gdLst>
              <a:gd name="textAreaLeft" fmla="*/ 0 w 50760"/>
              <a:gd name="textAreaRight" fmla="*/ 51120 w 5076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51433" h="300039">
                <a:moveTo>
                  <a:pt x="8570" y="0"/>
                </a:moveTo>
                <a:lnTo>
                  <a:pt x="350" y="0"/>
                </a:lnTo>
                <a:lnTo>
                  <a:pt x="43" y="9325"/>
                </a:lnTo>
                <a:lnTo>
                  <a:pt x="0" y="40551"/>
                </a:lnTo>
                <a:lnTo>
                  <a:pt x="951" y="46084"/>
                </a:lnTo>
                <a:lnTo>
                  <a:pt x="2538" y="51678"/>
                </a:lnTo>
                <a:lnTo>
                  <a:pt x="4549" y="57312"/>
                </a:lnTo>
                <a:lnTo>
                  <a:pt x="5889" y="62973"/>
                </a:lnTo>
                <a:lnTo>
                  <a:pt x="6782" y="68652"/>
                </a:lnTo>
                <a:lnTo>
                  <a:pt x="7378" y="74343"/>
                </a:lnTo>
                <a:lnTo>
                  <a:pt x="7775" y="80042"/>
                </a:lnTo>
                <a:lnTo>
                  <a:pt x="8040" y="85747"/>
                </a:lnTo>
                <a:lnTo>
                  <a:pt x="8217" y="91454"/>
                </a:lnTo>
                <a:lnTo>
                  <a:pt x="9287" y="97164"/>
                </a:lnTo>
                <a:lnTo>
                  <a:pt x="10953" y="102877"/>
                </a:lnTo>
                <a:lnTo>
                  <a:pt x="13016" y="108589"/>
                </a:lnTo>
                <a:lnTo>
                  <a:pt x="14391" y="115256"/>
                </a:lnTo>
                <a:lnTo>
                  <a:pt x="15308" y="122557"/>
                </a:lnTo>
                <a:lnTo>
                  <a:pt x="15919" y="130282"/>
                </a:lnTo>
                <a:lnTo>
                  <a:pt x="17280" y="137338"/>
                </a:lnTo>
                <a:lnTo>
                  <a:pt x="19139" y="143946"/>
                </a:lnTo>
                <a:lnTo>
                  <a:pt x="21331" y="150256"/>
                </a:lnTo>
                <a:lnTo>
                  <a:pt x="23744" y="156369"/>
                </a:lnTo>
                <a:lnTo>
                  <a:pt x="26306" y="162348"/>
                </a:lnTo>
                <a:lnTo>
                  <a:pt x="28966" y="168240"/>
                </a:lnTo>
                <a:lnTo>
                  <a:pt x="30740" y="174073"/>
                </a:lnTo>
                <a:lnTo>
                  <a:pt x="31922" y="179866"/>
                </a:lnTo>
                <a:lnTo>
                  <a:pt x="32711" y="185633"/>
                </a:lnTo>
                <a:lnTo>
                  <a:pt x="33236" y="191383"/>
                </a:lnTo>
                <a:lnTo>
                  <a:pt x="33586" y="197121"/>
                </a:lnTo>
                <a:lnTo>
                  <a:pt x="33976" y="207624"/>
                </a:lnTo>
                <a:lnTo>
                  <a:pt x="34149" y="215467"/>
                </a:lnTo>
                <a:lnTo>
                  <a:pt x="35147" y="219845"/>
                </a:lnTo>
                <a:lnTo>
                  <a:pt x="36765" y="224668"/>
                </a:lnTo>
                <a:lnTo>
                  <a:pt x="38797" y="229789"/>
                </a:lnTo>
                <a:lnTo>
                  <a:pt x="40151" y="235108"/>
                </a:lnTo>
                <a:lnTo>
                  <a:pt x="41054" y="240558"/>
                </a:lnTo>
                <a:lnTo>
                  <a:pt x="41656" y="246097"/>
                </a:lnTo>
                <a:lnTo>
                  <a:pt x="42324" y="254792"/>
                </a:lnTo>
                <a:lnTo>
                  <a:pt x="42622" y="261831"/>
                </a:lnTo>
                <a:lnTo>
                  <a:pt x="42754" y="268135"/>
                </a:lnTo>
                <a:lnTo>
                  <a:pt x="43742" y="271149"/>
                </a:lnTo>
                <a:lnTo>
                  <a:pt x="45353" y="274111"/>
                </a:lnTo>
                <a:lnTo>
                  <a:pt x="47379" y="277038"/>
                </a:lnTo>
                <a:lnTo>
                  <a:pt x="48730" y="279942"/>
                </a:lnTo>
                <a:lnTo>
                  <a:pt x="50231" y="285709"/>
                </a:lnTo>
                <a:lnTo>
                  <a:pt x="51076" y="294311"/>
                </a:lnTo>
                <a:lnTo>
                  <a:pt x="51432" y="3000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MARTPenAnnotation861"/>
          <p:cNvSpPr/>
          <p:nvPr/>
        </p:nvSpPr>
        <p:spPr>
          <a:xfrm>
            <a:off x="3157560" y="450864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1" h="1">
                <a:moveTo>
                  <a:pt x="0" y="0"/>
                </a:moveTo>
                <a:lnTo>
                  <a:pt x="254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MARTPenAnnotation862"/>
          <p:cNvSpPr/>
          <p:nvPr/>
        </p:nvSpPr>
        <p:spPr>
          <a:xfrm>
            <a:off x="3449520" y="4106880"/>
            <a:ext cx="222480" cy="351000"/>
          </a:xfrm>
          <a:custGeom>
            <a:avLst/>
            <a:gdLst>
              <a:gd name="textAreaLeft" fmla="*/ 0 w 222480"/>
              <a:gd name="textAreaRight" fmla="*/ 222840 w 22248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222839" h="350999">
                <a:moveTo>
                  <a:pt x="205740" y="0"/>
                </a:moveTo>
                <a:lnTo>
                  <a:pt x="185238" y="0"/>
                </a:lnTo>
                <a:lnTo>
                  <a:pt x="182548" y="952"/>
                </a:lnTo>
                <a:lnTo>
                  <a:pt x="177017" y="4551"/>
                </a:lnTo>
                <a:lnTo>
                  <a:pt x="173257" y="6844"/>
                </a:lnTo>
                <a:lnTo>
                  <a:pt x="168844" y="9325"/>
                </a:lnTo>
                <a:lnTo>
                  <a:pt x="158862" y="14622"/>
                </a:lnTo>
                <a:lnTo>
                  <a:pt x="131293" y="28619"/>
                </a:lnTo>
                <a:lnTo>
                  <a:pt x="124676" y="30510"/>
                </a:lnTo>
                <a:lnTo>
                  <a:pt x="117407" y="31770"/>
                </a:lnTo>
                <a:lnTo>
                  <a:pt x="109704" y="32610"/>
                </a:lnTo>
                <a:lnTo>
                  <a:pt x="102663" y="34122"/>
                </a:lnTo>
                <a:lnTo>
                  <a:pt x="96065" y="36084"/>
                </a:lnTo>
                <a:lnTo>
                  <a:pt x="89761" y="38343"/>
                </a:lnTo>
                <a:lnTo>
                  <a:pt x="83653" y="39850"/>
                </a:lnTo>
                <a:lnTo>
                  <a:pt x="77676" y="40854"/>
                </a:lnTo>
                <a:lnTo>
                  <a:pt x="71787" y="41523"/>
                </a:lnTo>
                <a:lnTo>
                  <a:pt x="65955" y="41970"/>
                </a:lnTo>
                <a:lnTo>
                  <a:pt x="60163" y="42267"/>
                </a:lnTo>
                <a:lnTo>
                  <a:pt x="54396" y="42466"/>
                </a:lnTo>
                <a:lnTo>
                  <a:pt x="48647" y="43551"/>
                </a:lnTo>
                <a:lnTo>
                  <a:pt x="42908" y="45226"/>
                </a:lnTo>
                <a:lnTo>
                  <a:pt x="37178" y="47296"/>
                </a:lnTo>
                <a:lnTo>
                  <a:pt x="32405" y="48675"/>
                </a:lnTo>
                <a:lnTo>
                  <a:pt x="28271" y="49596"/>
                </a:lnTo>
                <a:lnTo>
                  <a:pt x="24563" y="50209"/>
                </a:lnTo>
                <a:lnTo>
                  <a:pt x="17902" y="50890"/>
                </a:lnTo>
                <a:lnTo>
                  <a:pt x="11766" y="51193"/>
                </a:lnTo>
                <a:lnTo>
                  <a:pt x="1738" y="51403"/>
                </a:lnTo>
                <a:lnTo>
                  <a:pt x="1158" y="52366"/>
                </a:lnTo>
                <a:lnTo>
                  <a:pt x="152" y="58813"/>
                </a:lnTo>
                <a:lnTo>
                  <a:pt x="20" y="69175"/>
                </a:lnTo>
                <a:lnTo>
                  <a:pt x="0" y="118501"/>
                </a:lnTo>
                <a:lnTo>
                  <a:pt x="2540" y="129185"/>
                </a:lnTo>
                <a:lnTo>
                  <a:pt x="4551" y="134701"/>
                </a:lnTo>
                <a:lnTo>
                  <a:pt x="5891" y="140283"/>
                </a:lnTo>
                <a:lnTo>
                  <a:pt x="6785" y="145910"/>
                </a:lnTo>
                <a:lnTo>
                  <a:pt x="7778" y="156289"/>
                </a:lnTo>
                <a:lnTo>
                  <a:pt x="8219" y="164077"/>
                </a:lnTo>
                <a:lnTo>
                  <a:pt x="8468" y="173816"/>
                </a:lnTo>
                <a:lnTo>
                  <a:pt x="11066" y="182344"/>
                </a:lnTo>
                <a:lnTo>
                  <a:pt x="15944" y="194239"/>
                </a:lnTo>
                <a:lnTo>
                  <a:pt x="16789" y="200851"/>
                </a:lnTo>
                <a:lnTo>
                  <a:pt x="17860" y="203433"/>
                </a:lnTo>
                <a:lnTo>
                  <a:pt x="24495" y="212692"/>
                </a:lnTo>
                <a:lnTo>
                  <a:pt x="25854" y="213232"/>
                </a:lnTo>
                <a:lnTo>
                  <a:pt x="32342" y="214099"/>
                </a:lnTo>
                <a:lnTo>
                  <a:pt x="32991" y="214170"/>
                </a:lnTo>
                <a:lnTo>
                  <a:pt x="33424" y="213265"/>
                </a:lnTo>
                <a:lnTo>
                  <a:pt x="33905" y="209720"/>
                </a:lnTo>
                <a:lnTo>
                  <a:pt x="35939" y="207441"/>
                </a:lnTo>
                <a:lnTo>
                  <a:pt x="39199" y="204969"/>
                </a:lnTo>
                <a:lnTo>
                  <a:pt x="43278" y="202368"/>
                </a:lnTo>
                <a:lnTo>
                  <a:pt x="45997" y="199683"/>
                </a:lnTo>
                <a:lnTo>
                  <a:pt x="47810" y="196939"/>
                </a:lnTo>
                <a:lnTo>
                  <a:pt x="49018" y="194158"/>
                </a:lnTo>
                <a:lnTo>
                  <a:pt x="51728" y="191351"/>
                </a:lnTo>
                <a:lnTo>
                  <a:pt x="55441" y="188527"/>
                </a:lnTo>
                <a:lnTo>
                  <a:pt x="59821" y="185693"/>
                </a:lnTo>
                <a:lnTo>
                  <a:pt x="64645" y="181898"/>
                </a:lnTo>
                <a:lnTo>
                  <a:pt x="69767" y="177463"/>
                </a:lnTo>
                <a:lnTo>
                  <a:pt x="75086" y="172601"/>
                </a:lnTo>
                <a:lnTo>
                  <a:pt x="80538" y="168408"/>
                </a:lnTo>
                <a:lnTo>
                  <a:pt x="86077" y="164659"/>
                </a:lnTo>
                <a:lnTo>
                  <a:pt x="91674" y="161208"/>
                </a:lnTo>
                <a:lnTo>
                  <a:pt x="97311" y="157954"/>
                </a:lnTo>
                <a:lnTo>
                  <a:pt x="108654" y="151800"/>
                </a:lnTo>
                <a:lnTo>
                  <a:pt x="114346" y="149777"/>
                </a:lnTo>
                <a:lnTo>
                  <a:pt x="120046" y="148429"/>
                </a:lnTo>
                <a:lnTo>
                  <a:pt x="125751" y="147530"/>
                </a:lnTo>
                <a:lnTo>
                  <a:pt x="131458" y="146931"/>
                </a:lnTo>
                <a:lnTo>
                  <a:pt x="137169" y="146532"/>
                </a:lnTo>
                <a:lnTo>
                  <a:pt x="147642" y="146088"/>
                </a:lnTo>
                <a:lnTo>
                  <a:pt x="155471" y="145890"/>
                </a:lnTo>
                <a:lnTo>
                  <a:pt x="169784" y="145779"/>
                </a:lnTo>
                <a:lnTo>
                  <a:pt x="174150" y="146716"/>
                </a:lnTo>
                <a:lnTo>
                  <a:pt x="178012" y="148293"/>
                </a:lnTo>
                <a:lnTo>
                  <a:pt x="181540" y="150297"/>
                </a:lnTo>
                <a:lnTo>
                  <a:pt x="190539" y="155064"/>
                </a:lnTo>
                <a:lnTo>
                  <a:pt x="195606" y="157668"/>
                </a:lnTo>
                <a:lnTo>
                  <a:pt x="199937" y="160357"/>
                </a:lnTo>
                <a:lnTo>
                  <a:pt x="203776" y="163102"/>
                </a:lnTo>
                <a:lnTo>
                  <a:pt x="210582" y="168693"/>
                </a:lnTo>
                <a:lnTo>
                  <a:pt x="216782" y="174352"/>
                </a:lnTo>
                <a:lnTo>
                  <a:pt x="218816" y="178147"/>
                </a:lnTo>
                <a:lnTo>
                  <a:pt x="221077" y="187444"/>
                </a:lnTo>
                <a:lnTo>
                  <a:pt x="222081" y="197926"/>
                </a:lnTo>
                <a:lnTo>
                  <a:pt x="222528" y="207982"/>
                </a:lnTo>
                <a:lnTo>
                  <a:pt x="222726" y="215627"/>
                </a:lnTo>
                <a:lnTo>
                  <a:pt x="222838" y="229836"/>
                </a:lnTo>
                <a:lnTo>
                  <a:pt x="220324" y="240579"/>
                </a:lnTo>
                <a:lnTo>
                  <a:pt x="218320" y="246111"/>
                </a:lnTo>
                <a:lnTo>
                  <a:pt x="216032" y="251704"/>
                </a:lnTo>
                <a:lnTo>
                  <a:pt x="213554" y="257338"/>
                </a:lnTo>
                <a:lnTo>
                  <a:pt x="210949" y="262998"/>
                </a:lnTo>
                <a:lnTo>
                  <a:pt x="207308" y="268678"/>
                </a:lnTo>
                <a:lnTo>
                  <a:pt x="202975" y="274368"/>
                </a:lnTo>
                <a:lnTo>
                  <a:pt x="198181" y="280068"/>
                </a:lnTo>
                <a:lnTo>
                  <a:pt x="194034" y="285771"/>
                </a:lnTo>
                <a:lnTo>
                  <a:pt x="190316" y="291480"/>
                </a:lnTo>
                <a:lnTo>
                  <a:pt x="186884" y="297190"/>
                </a:lnTo>
                <a:lnTo>
                  <a:pt x="182692" y="302902"/>
                </a:lnTo>
                <a:lnTo>
                  <a:pt x="177992" y="308614"/>
                </a:lnTo>
                <a:lnTo>
                  <a:pt x="172954" y="314328"/>
                </a:lnTo>
                <a:lnTo>
                  <a:pt x="166738" y="319090"/>
                </a:lnTo>
                <a:lnTo>
                  <a:pt x="159736" y="323216"/>
                </a:lnTo>
                <a:lnTo>
                  <a:pt x="152211" y="326920"/>
                </a:lnTo>
                <a:lnTo>
                  <a:pt x="146241" y="329389"/>
                </a:lnTo>
                <a:lnTo>
                  <a:pt x="141309" y="331035"/>
                </a:lnTo>
                <a:lnTo>
                  <a:pt x="137069" y="332133"/>
                </a:lnTo>
                <a:lnTo>
                  <a:pt x="132336" y="333817"/>
                </a:lnTo>
                <a:lnTo>
                  <a:pt x="127277" y="335892"/>
                </a:lnTo>
                <a:lnTo>
                  <a:pt x="121999" y="338228"/>
                </a:lnTo>
                <a:lnTo>
                  <a:pt x="111054" y="343364"/>
                </a:lnTo>
                <a:lnTo>
                  <a:pt x="97607" y="349871"/>
                </a:lnTo>
                <a:lnTo>
                  <a:pt x="93229" y="350761"/>
                </a:lnTo>
                <a:lnTo>
                  <a:pt x="90728" y="350998"/>
                </a:lnTo>
                <a:lnTo>
                  <a:pt x="88108" y="350204"/>
                </a:lnTo>
                <a:lnTo>
                  <a:pt x="82656" y="346781"/>
                </a:lnTo>
                <a:lnTo>
                  <a:pt x="78783" y="344050"/>
                </a:lnTo>
                <a:lnTo>
                  <a:pt x="75337" y="343411"/>
                </a:lnTo>
                <a:lnTo>
                  <a:pt x="73085" y="343241"/>
                </a:lnTo>
                <a:lnTo>
                  <a:pt x="71583" y="342175"/>
                </a:lnTo>
                <a:lnTo>
                  <a:pt x="70582" y="340512"/>
                </a:lnTo>
                <a:lnTo>
                  <a:pt x="68580" y="3343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MARTPenAnnotation863"/>
          <p:cNvSpPr/>
          <p:nvPr/>
        </p:nvSpPr>
        <p:spPr>
          <a:xfrm>
            <a:off x="3817800" y="4165560"/>
            <a:ext cx="231840" cy="249120"/>
          </a:xfrm>
          <a:custGeom>
            <a:avLst/>
            <a:gdLst>
              <a:gd name="textAreaLeft" fmla="*/ 0 w 231840"/>
              <a:gd name="textAreaRight" fmla="*/ 232200 w 2318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31458" h="248603">
                <a:moveTo>
                  <a:pt x="0" y="0"/>
                </a:moveTo>
                <a:lnTo>
                  <a:pt x="7381" y="0"/>
                </a:lnTo>
                <a:lnTo>
                  <a:pt x="14228" y="5891"/>
                </a:lnTo>
                <a:lnTo>
                  <a:pt x="21311" y="12770"/>
                </a:lnTo>
                <a:lnTo>
                  <a:pt x="22780" y="15181"/>
                </a:lnTo>
                <a:lnTo>
                  <a:pt x="24412" y="20399"/>
                </a:lnTo>
                <a:lnTo>
                  <a:pt x="27677" y="25894"/>
                </a:lnTo>
                <a:lnTo>
                  <a:pt x="32303" y="31511"/>
                </a:lnTo>
                <a:lnTo>
                  <a:pt x="37534" y="37182"/>
                </a:lnTo>
                <a:lnTo>
                  <a:pt x="39310" y="40028"/>
                </a:lnTo>
                <a:lnTo>
                  <a:pt x="41283" y="45730"/>
                </a:lnTo>
                <a:lnTo>
                  <a:pt x="43715" y="49537"/>
                </a:lnTo>
                <a:lnTo>
                  <a:pt x="47240" y="53979"/>
                </a:lnTo>
                <a:lnTo>
                  <a:pt x="51496" y="58846"/>
                </a:lnTo>
                <a:lnTo>
                  <a:pt x="58764" y="66794"/>
                </a:lnTo>
                <a:lnTo>
                  <a:pt x="65170" y="74453"/>
                </a:lnTo>
                <a:lnTo>
                  <a:pt x="68211" y="79163"/>
                </a:lnTo>
                <a:lnTo>
                  <a:pt x="71191" y="84208"/>
                </a:lnTo>
                <a:lnTo>
                  <a:pt x="74131" y="88523"/>
                </a:lnTo>
                <a:lnTo>
                  <a:pt x="79937" y="95859"/>
                </a:lnTo>
                <a:lnTo>
                  <a:pt x="83771" y="100101"/>
                </a:lnTo>
                <a:lnTo>
                  <a:pt x="93111" y="109894"/>
                </a:lnTo>
                <a:lnTo>
                  <a:pt x="148510" y="165653"/>
                </a:lnTo>
                <a:lnTo>
                  <a:pt x="155857" y="173001"/>
                </a:lnTo>
                <a:lnTo>
                  <a:pt x="159150" y="177246"/>
                </a:lnTo>
                <a:lnTo>
                  <a:pt x="162297" y="181982"/>
                </a:lnTo>
                <a:lnTo>
                  <a:pt x="165348" y="187043"/>
                </a:lnTo>
                <a:lnTo>
                  <a:pt x="169287" y="191371"/>
                </a:lnTo>
                <a:lnTo>
                  <a:pt x="173818" y="195208"/>
                </a:lnTo>
                <a:lnTo>
                  <a:pt x="178743" y="198719"/>
                </a:lnTo>
                <a:lnTo>
                  <a:pt x="182980" y="202011"/>
                </a:lnTo>
                <a:lnTo>
                  <a:pt x="186756" y="205159"/>
                </a:lnTo>
                <a:lnTo>
                  <a:pt x="190226" y="208210"/>
                </a:lnTo>
                <a:lnTo>
                  <a:pt x="192540" y="211197"/>
                </a:lnTo>
                <a:lnTo>
                  <a:pt x="195110" y="217055"/>
                </a:lnTo>
                <a:lnTo>
                  <a:pt x="198793" y="222833"/>
                </a:lnTo>
                <a:lnTo>
                  <a:pt x="201108" y="225708"/>
                </a:lnTo>
                <a:lnTo>
                  <a:pt x="203605" y="227625"/>
                </a:lnTo>
                <a:lnTo>
                  <a:pt x="206221" y="228902"/>
                </a:lnTo>
                <a:lnTo>
                  <a:pt x="208918" y="229754"/>
                </a:lnTo>
                <a:lnTo>
                  <a:pt x="214455" y="233240"/>
                </a:lnTo>
                <a:lnTo>
                  <a:pt x="217265" y="235503"/>
                </a:lnTo>
                <a:lnTo>
                  <a:pt x="219138" y="237964"/>
                </a:lnTo>
                <a:lnTo>
                  <a:pt x="220387" y="240558"/>
                </a:lnTo>
                <a:lnTo>
                  <a:pt x="222738" y="248132"/>
                </a:lnTo>
                <a:lnTo>
                  <a:pt x="225360" y="248393"/>
                </a:lnTo>
                <a:lnTo>
                  <a:pt x="231457" y="24860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MARTPenAnnotation864"/>
          <p:cNvSpPr/>
          <p:nvPr/>
        </p:nvSpPr>
        <p:spPr>
          <a:xfrm>
            <a:off x="3808440" y="4175280"/>
            <a:ext cx="249120" cy="264960"/>
          </a:xfrm>
          <a:custGeom>
            <a:avLst/>
            <a:gdLst>
              <a:gd name="textAreaLeft" fmla="*/ 0 w 249120"/>
              <a:gd name="textAreaRight" fmla="*/ 249480 w 2491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48600" h="265748">
                <a:moveTo>
                  <a:pt x="248599" y="0"/>
                </a:moveTo>
                <a:lnTo>
                  <a:pt x="240131" y="0"/>
                </a:lnTo>
                <a:lnTo>
                  <a:pt x="235506" y="4551"/>
                </a:lnTo>
                <a:lnTo>
                  <a:pt x="230715" y="11865"/>
                </a:lnTo>
                <a:lnTo>
                  <a:pt x="228104" y="16482"/>
                </a:lnTo>
                <a:lnTo>
                  <a:pt x="224458" y="21466"/>
                </a:lnTo>
                <a:lnTo>
                  <a:pt x="220122" y="26693"/>
                </a:lnTo>
                <a:lnTo>
                  <a:pt x="215326" y="32083"/>
                </a:lnTo>
                <a:lnTo>
                  <a:pt x="204919" y="43152"/>
                </a:lnTo>
                <a:lnTo>
                  <a:pt x="178164" y="70331"/>
                </a:lnTo>
                <a:lnTo>
                  <a:pt x="171162" y="78320"/>
                </a:lnTo>
                <a:lnTo>
                  <a:pt x="164589" y="86503"/>
                </a:lnTo>
                <a:lnTo>
                  <a:pt x="158302" y="94816"/>
                </a:lnTo>
                <a:lnTo>
                  <a:pt x="151254" y="102263"/>
                </a:lnTo>
                <a:lnTo>
                  <a:pt x="143697" y="109133"/>
                </a:lnTo>
                <a:lnTo>
                  <a:pt x="135802" y="115618"/>
                </a:lnTo>
                <a:lnTo>
                  <a:pt x="128633" y="122799"/>
                </a:lnTo>
                <a:lnTo>
                  <a:pt x="121949" y="130443"/>
                </a:lnTo>
                <a:lnTo>
                  <a:pt x="115588" y="138397"/>
                </a:lnTo>
                <a:lnTo>
                  <a:pt x="109442" y="146557"/>
                </a:lnTo>
                <a:lnTo>
                  <a:pt x="97534" y="163244"/>
                </a:lnTo>
                <a:lnTo>
                  <a:pt x="91691" y="170742"/>
                </a:lnTo>
                <a:lnTo>
                  <a:pt x="85891" y="177645"/>
                </a:lnTo>
                <a:lnTo>
                  <a:pt x="80119" y="184153"/>
                </a:lnTo>
                <a:lnTo>
                  <a:pt x="68627" y="196463"/>
                </a:lnTo>
                <a:lnTo>
                  <a:pt x="40960" y="224698"/>
                </a:lnTo>
                <a:lnTo>
                  <a:pt x="14432" y="251308"/>
                </a:lnTo>
                <a:lnTo>
                  <a:pt x="11525" y="253263"/>
                </a:lnTo>
                <a:lnTo>
                  <a:pt x="5755" y="255436"/>
                </a:lnTo>
                <a:lnTo>
                  <a:pt x="3836" y="256969"/>
                </a:lnTo>
                <a:lnTo>
                  <a:pt x="2555" y="258942"/>
                </a:lnTo>
                <a:lnTo>
                  <a:pt x="0" y="265738"/>
                </a:lnTo>
                <a:lnTo>
                  <a:pt x="8569" y="26574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MARTPenAnnotation865"/>
          <p:cNvSpPr/>
          <p:nvPr/>
        </p:nvSpPr>
        <p:spPr>
          <a:xfrm>
            <a:off x="4237200" y="4226040"/>
            <a:ext cx="369720" cy="17280"/>
          </a:xfrm>
          <a:custGeom>
            <a:avLst/>
            <a:gdLst>
              <a:gd name="textAreaLeft" fmla="*/ 0 w 369720"/>
              <a:gd name="textAreaRight" fmla="*/ 370080 w 3697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68619" h="17146">
                <a:moveTo>
                  <a:pt x="0" y="0"/>
                </a:moveTo>
                <a:lnTo>
                  <a:pt x="7381" y="0"/>
                </a:lnTo>
                <a:lnTo>
                  <a:pt x="9683" y="953"/>
                </a:lnTo>
                <a:lnTo>
                  <a:pt x="13123" y="2540"/>
                </a:lnTo>
                <a:lnTo>
                  <a:pt x="17321" y="4551"/>
                </a:lnTo>
                <a:lnTo>
                  <a:pt x="21072" y="5891"/>
                </a:lnTo>
                <a:lnTo>
                  <a:pt x="24525" y="6785"/>
                </a:lnTo>
                <a:lnTo>
                  <a:pt x="27781" y="7381"/>
                </a:lnTo>
                <a:lnTo>
                  <a:pt x="31855" y="7778"/>
                </a:lnTo>
                <a:lnTo>
                  <a:pt x="41463" y="8220"/>
                </a:lnTo>
                <a:lnTo>
                  <a:pt x="69044" y="8503"/>
                </a:lnTo>
                <a:lnTo>
                  <a:pt x="349772" y="8573"/>
                </a:lnTo>
                <a:lnTo>
                  <a:pt x="353196" y="9525"/>
                </a:lnTo>
                <a:lnTo>
                  <a:pt x="355479" y="11112"/>
                </a:lnTo>
                <a:lnTo>
                  <a:pt x="357001" y="13123"/>
                </a:lnTo>
                <a:lnTo>
                  <a:pt x="358968" y="14464"/>
                </a:lnTo>
                <a:lnTo>
                  <a:pt x="361232" y="15358"/>
                </a:lnTo>
                <a:lnTo>
                  <a:pt x="368618" y="171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MARTPenAnnotation866"/>
          <p:cNvSpPr/>
          <p:nvPr/>
        </p:nvSpPr>
        <p:spPr>
          <a:xfrm>
            <a:off x="4383000" y="4122720"/>
            <a:ext cx="77760" cy="291960"/>
          </a:xfrm>
          <a:custGeom>
            <a:avLst/>
            <a:gdLst>
              <a:gd name="textAreaLeft" fmla="*/ 0 w 77760"/>
              <a:gd name="textAreaRight" fmla="*/ 78120 w 77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77152" h="291463">
                <a:moveTo>
                  <a:pt x="8571" y="8570"/>
                </a:moveTo>
                <a:lnTo>
                  <a:pt x="29" y="28"/>
                </a:lnTo>
                <a:lnTo>
                  <a:pt x="1" y="0"/>
                </a:lnTo>
                <a:lnTo>
                  <a:pt x="0" y="4549"/>
                </a:lnTo>
                <a:lnTo>
                  <a:pt x="952" y="7794"/>
                </a:lnTo>
                <a:lnTo>
                  <a:pt x="2539" y="11862"/>
                </a:lnTo>
                <a:lnTo>
                  <a:pt x="4549" y="16480"/>
                </a:lnTo>
                <a:lnTo>
                  <a:pt x="6843" y="20511"/>
                </a:lnTo>
                <a:lnTo>
                  <a:pt x="9324" y="24150"/>
                </a:lnTo>
                <a:lnTo>
                  <a:pt x="11930" y="27529"/>
                </a:lnTo>
                <a:lnTo>
                  <a:pt x="13668" y="31687"/>
                </a:lnTo>
                <a:lnTo>
                  <a:pt x="14827" y="36364"/>
                </a:lnTo>
                <a:lnTo>
                  <a:pt x="15599" y="41387"/>
                </a:lnTo>
                <a:lnTo>
                  <a:pt x="16114" y="46640"/>
                </a:lnTo>
                <a:lnTo>
                  <a:pt x="16457" y="52048"/>
                </a:lnTo>
                <a:lnTo>
                  <a:pt x="16686" y="57557"/>
                </a:lnTo>
                <a:lnTo>
                  <a:pt x="17791" y="63136"/>
                </a:lnTo>
                <a:lnTo>
                  <a:pt x="19480" y="68759"/>
                </a:lnTo>
                <a:lnTo>
                  <a:pt x="21559" y="74414"/>
                </a:lnTo>
                <a:lnTo>
                  <a:pt x="23897" y="80088"/>
                </a:lnTo>
                <a:lnTo>
                  <a:pt x="26408" y="85776"/>
                </a:lnTo>
                <a:lnTo>
                  <a:pt x="29035" y="91473"/>
                </a:lnTo>
                <a:lnTo>
                  <a:pt x="30786" y="98128"/>
                </a:lnTo>
                <a:lnTo>
                  <a:pt x="31954" y="105423"/>
                </a:lnTo>
                <a:lnTo>
                  <a:pt x="32732" y="113144"/>
                </a:lnTo>
                <a:lnTo>
                  <a:pt x="34203" y="120196"/>
                </a:lnTo>
                <a:lnTo>
                  <a:pt x="36137" y="126802"/>
                </a:lnTo>
                <a:lnTo>
                  <a:pt x="38378" y="133111"/>
                </a:lnTo>
                <a:lnTo>
                  <a:pt x="39872" y="139222"/>
                </a:lnTo>
                <a:lnTo>
                  <a:pt x="40868" y="145202"/>
                </a:lnTo>
                <a:lnTo>
                  <a:pt x="41532" y="151092"/>
                </a:lnTo>
                <a:lnTo>
                  <a:pt x="42928" y="157877"/>
                </a:lnTo>
                <a:lnTo>
                  <a:pt x="44810" y="165258"/>
                </a:lnTo>
                <a:lnTo>
                  <a:pt x="47018" y="173036"/>
                </a:lnTo>
                <a:lnTo>
                  <a:pt x="48490" y="180127"/>
                </a:lnTo>
                <a:lnTo>
                  <a:pt x="49471" y="186758"/>
                </a:lnTo>
                <a:lnTo>
                  <a:pt x="50126" y="193084"/>
                </a:lnTo>
                <a:lnTo>
                  <a:pt x="51514" y="199207"/>
                </a:lnTo>
                <a:lnTo>
                  <a:pt x="53392" y="205194"/>
                </a:lnTo>
                <a:lnTo>
                  <a:pt x="55597" y="211090"/>
                </a:lnTo>
                <a:lnTo>
                  <a:pt x="57067" y="216926"/>
                </a:lnTo>
                <a:lnTo>
                  <a:pt x="58046" y="222721"/>
                </a:lnTo>
                <a:lnTo>
                  <a:pt x="58699" y="228490"/>
                </a:lnTo>
                <a:lnTo>
                  <a:pt x="59425" y="237439"/>
                </a:lnTo>
                <a:lnTo>
                  <a:pt x="59748" y="245545"/>
                </a:lnTo>
                <a:lnTo>
                  <a:pt x="59891" y="255497"/>
                </a:lnTo>
                <a:lnTo>
                  <a:pt x="60882" y="259865"/>
                </a:lnTo>
                <a:lnTo>
                  <a:pt x="62495" y="263730"/>
                </a:lnTo>
                <a:lnTo>
                  <a:pt x="64523" y="267259"/>
                </a:lnTo>
                <a:lnTo>
                  <a:pt x="66776" y="273720"/>
                </a:lnTo>
                <a:lnTo>
                  <a:pt x="68223" y="281079"/>
                </a:lnTo>
                <a:lnTo>
                  <a:pt x="69294" y="282635"/>
                </a:lnTo>
                <a:lnTo>
                  <a:pt x="70960" y="284624"/>
                </a:lnTo>
                <a:lnTo>
                  <a:pt x="77151" y="2914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MARTPenAnnotation867"/>
          <p:cNvSpPr/>
          <p:nvPr/>
        </p:nvSpPr>
        <p:spPr>
          <a:xfrm>
            <a:off x="4743360" y="4029120"/>
            <a:ext cx="179640" cy="334800"/>
          </a:xfrm>
          <a:custGeom>
            <a:avLst/>
            <a:gdLst>
              <a:gd name="textAreaLeft" fmla="*/ 0 w 179640"/>
              <a:gd name="textAreaRight" fmla="*/ 180000 w 17964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78663" h="334328">
                <a:moveTo>
                  <a:pt x="42852" y="0"/>
                </a:moveTo>
                <a:lnTo>
                  <a:pt x="42852" y="4550"/>
                </a:lnTo>
                <a:lnTo>
                  <a:pt x="41900" y="6843"/>
                </a:lnTo>
                <a:lnTo>
                  <a:pt x="36960" y="14621"/>
                </a:lnTo>
                <a:lnTo>
                  <a:pt x="35471" y="20151"/>
                </a:lnTo>
                <a:lnTo>
                  <a:pt x="34633" y="28619"/>
                </a:lnTo>
                <a:lnTo>
                  <a:pt x="31897" y="36849"/>
                </a:lnTo>
                <a:lnTo>
                  <a:pt x="27505" y="46857"/>
                </a:lnTo>
                <a:lnTo>
                  <a:pt x="22379" y="57655"/>
                </a:lnTo>
                <a:lnTo>
                  <a:pt x="19678" y="64154"/>
                </a:lnTo>
                <a:lnTo>
                  <a:pt x="16925" y="71344"/>
                </a:lnTo>
                <a:lnTo>
                  <a:pt x="14137" y="78995"/>
                </a:lnTo>
                <a:lnTo>
                  <a:pt x="12279" y="86001"/>
                </a:lnTo>
                <a:lnTo>
                  <a:pt x="11040" y="92576"/>
                </a:lnTo>
                <a:lnTo>
                  <a:pt x="10214" y="98865"/>
                </a:lnTo>
                <a:lnTo>
                  <a:pt x="8711" y="105915"/>
                </a:lnTo>
                <a:lnTo>
                  <a:pt x="6756" y="113472"/>
                </a:lnTo>
                <a:lnTo>
                  <a:pt x="4501" y="121368"/>
                </a:lnTo>
                <a:lnTo>
                  <a:pt x="2997" y="128537"/>
                </a:lnTo>
                <a:lnTo>
                  <a:pt x="1994" y="135221"/>
                </a:lnTo>
                <a:lnTo>
                  <a:pt x="1326" y="141582"/>
                </a:lnTo>
                <a:lnTo>
                  <a:pt x="881" y="147728"/>
                </a:lnTo>
                <a:lnTo>
                  <a:pt x="584" y="153730"/>
                </a:lnTo>
                <a:lnTo>
                  <a:pt x="386" y="159637"/>
                </a:lnTo>
                <a:lnTo>
                  <a:pt x="67" y="188695"/>
                </a:lnTo>
                <a:lnTo>
                  <a:pt x="0" y="219664"/>
                </a:lnTo>
                <a:lnTo>
                  <a:pt x="949" y="225500"/>
                </a:lnTo>
                <a:lnTo>
                  <a:pt x="2534" y="231296"/>
                </a:lnTo>
                <a:lnTo>
                  <a:pt x="4543" y="237064"/>
                </a:lnTo>
                <a:lnTo>
                  <a:pt x="6835" y="242815"/>
                </a:lnTo>
                <a:lnTo>
                  <a:pt x="9316" y="248554"/>
                </a:lnTo>
                <a:lnTo>
                  <a:pt x="14612" y="260011"/>
                </a:lnTo>
                <a:lnTo>
                  <a:pt x="20141" y="271453"/>
                </a:lnTo>
                <a:lnTo>
                  <a:pt x="22949" y="276218"/>
                </a:lnTo>
                <a:lnTo>
                  <a:pt x="25774" y="280348"/>
                </a:lnTo>
                <a:lnTo>
                  <a:pt x="28609" y="284053"/>
                </a:lnTo>
                <a:lnTo>
                  <a:pt x="31452" y="287476"/>
                </a:lnTo>
                <a:lnTo>
                  <a:pt x="34299" y="290711"/>
                </a:lnTo>
                <a:lnTo>
                  <a:pt x="40003" y="296845"/>
                </a:lnTo>
                <a:lnTo>
                  <a:pt x="45713" y="302746"/>
                </a:lnTo>
                <a:lnTo>
                  <a:pt x="49522" y="305653"/>
                </a:lnTo>
                <a:lnTo>
                  <a:pt x="53966" y="308543"/>
                </a:lnTo>
                <a:lnTo>
                  <a:pt x="58834" y="311423"/>
                </a:lnTo>
                <a:lnTo>
                  <a:pt x="63984" y="313343"/>
                </a:lnTo>
                <a:lnTo>
                  <a:pt x="69323" y="314623"/>
                </a:lnTo>
                <a:lnTo>
                  <a:pt x="74786" y="315476"/>
                </a:lnTo>
                <a:lnTo>
                  <a:pt x="79382" y="316045"/>
                </a:lnTo>
                <a:lnTo>
                  <a:pt x="83398" y="316424"/>
                </a:lnTo>
                <a:lnTo>
                  <a:pt x="87027" y="316677"/>
                </a:lnTo>
                <a:lnTo>
                  <a:pt x="91352" y="316845"/>
                </a:lnTo>
                <a:lnTo>
                  <a:pt x="101238" y="317032"/>
                </a:lnTo>
                <a:lnTo>
                  <a:pt x="106541" y="316130"/>
                </a:lnTo>
                <a:lnTo>
                  <a:pt x="111982" y="314576"/>
                </a:lnTo>
                <a:lnTo>
                  <a:pt x="117513" y="312587"/>
                </a:lnTo>
                <a:lnTo>
                  <a:pt x="122154" y="310309"/>
                </a:lnTo>
                <a:lnTo>
                  <a:pt x="126200" y="307837"/>
                </a:lnTo>
                <a:lnTo>
                  <a:pt x="129850" y="305237"/>
                </a:lnTo>
                <a:lnTo>
                  <a:pt x="134188" y="302552"/>
                </a:lnTo>
                <a:lnTo>
                  <a:pt x="138985" y="299808"/>
                </a:lnTo>
                <a:lnTo>
                  <a:pt x="144088" y="297027"/>
                </a:lnTo>
                <a:lnTo>
                  <a:pt x="148443" y="294220"/>
                </a:lnTo>
                <a:lnTo>
                  <a:pt x="152298" y="291397"/>
                </a:lnTo>
                <a:lnTo>
                  <a:pt x="155821" y="288562"/>
                </a:lnTo>
                <a:lnTo>
                  <a:pt x="159122" y="284767"/>
                </a:lnTo>
                <a:lnTo>
                  <a:pt x="162276" y="280332"/>
                </a:lnTo>
                <a:lnTo>
                  <a:pt x="167367" y="271277"/>
                </a:lnTo>
                <a:lnTo>
                  <a:pt x="171185" y="259871"/>
                </a:lnTo>
                <a:lnTo>
                  <a:pt x="175454" y="250118"/>
                </a:lnTo>
                <a:lnTo>
                  <a:pt x="177986" y="241973"/>
                </a:lnTo>
                <a:lnTo>
                  <a:pt x="178662" y="238468"/>
                </a:lnTo>
                <a:lnTo>
                  <a:pt x="178159" y="234226"/>
                </a:lnTo>
                <a:lnTo>
                  <a:pt x="175061" y="224433"/>
                </a:lnTo>
                <a:lnTo>
                  <a:pt x="172513" y="217311"/>
                </a:lnTo>
                <a:lnTo>
                  <a:pt x="167206" y="210650"/>
                </a:lnTo>
                <a:lnTo>
                  <a:pt x="165760" y="208060"/>
                </a:lnTo>
                <a:lnTo>
                  <a:pt x="164153" y="202644"/>
                </a:lnTo>
                <a:lnTo>
                  <a:pt x="161820" y="200818"/>
                </a:lnTo>
                <a:lnTo>
                  <a:pt x="158359" y="199601"/>
                </a:lnTo>
                <a:lnTo>
                  <a:pt x="154146" y="198790"/>
                </a:lnTo>
                <a:lnTo>
                  <a:pt x="150385" y="198249"/>
                </a:lnTo>
                <a:lnTo>
                  <a:pt x="146926" y="197888"/>
                </a:lnTo>
                <a:lnTo>
                  <a:pt x="143667" y="197648"/>
                </a:lnTo>
                <a:lnTo>
                  <a:pt x="140542" y="197488"/>
                </a:lnTo>
                <a:lnTo>
                  <a:pt x="134530" y="197310"/>
                </a:lnTo>
                <a:lnTo>
                  <a:pt x="131593" y="198215"/>
                </a:lnTo>
                <a:lnTo>
                  <a:pt x="128683" y="199771"/>
                </a:lnTo>
                <a:lnTo>
                  <a:pt x="125790" y="201760"/>
                </a:lnTo>
                <a:lnTo>
                  <a:pt x="122909" y="204039"/>
                </a:lnTo>
                <a:lnTo>
                  <a:pt x="120036" y="206511"/>
                </a:lnTo>
                <a:lnTo>
                  <a:pt x="117168" y="209112"/>
                </a:lnTo>
                <a:lnTo>
                  <a:pt x="113351" y="211797"/>
                </a:lnTo>
                <a:lnTo>
                  <a:pt x="108901" y="214541"/>
                </a:lnTo>
                <a:lnTo>
                  <a:pt x="104030" y="217322"/>
                </a:lnTo>
                <a:lnTo>
                  <a:pt x="99830" y="221081"/>
                </a:lnTo>
                <a:lnTo>
                  <a:pt x="96077" y="225492"/>
                </a:lnTo>
                <a:lnTo>
                  <a:pt x="92623" y="230338"/>
                </a:lnTo>
                <a:lnTo>
                  <a:pt x="89368" y="235473"/>
                </a:lnTo>
                <a:lnTo>
                  <a:pt x="86245" y="240802"/>
                </a:lnTo>
                <a:lnTo>
                  <a:pt x="83211" y="246260"/>
                </a:lnTo>
                <a:lnTo>
                  <a:pt x="80235" y="250850"/>
                </a:lnTo>
                <a:lnTo>
                  <a:pt x="77300" y="254863"/>
                </a:lnTo>
                <a:lnTo>
                  <a:pt x="74389" y="258491"/>
                </a:lnTo>
                <a:lnTo>
                  <a:pt x="71497" y="262815"/>
                </a:lnTo>
                <a:lnTo>
                  <a:pt x="68616" y="267603"/>
                </a:lnTo>
                <a:lnTo>
                  <a:pt x="65743" y="272699"/>
                </a:lnTo>
                <a:lnTo>
                  <a:pt x="62875" y="277049"/>
                </a:lnTo>
                <a:lnTo>
                  <a:pt x="60011" y="280902"/>
                </a:lnTo>
                <a:lnTo>
                  <a:pt x="57149" y="284423"/>
                </a:lnTo>
                <a:lnTo>
                  <a:pt x="53969" y="290875"/>
                </a:lnTo>
                <a:lnTo>
                  <a:pt x="52179" y="299862"/>
                </a:lnTo>
                <a:lnTo>
                  <a:pt x="51648" y="308558"/>
                </a:lnTo>
                <a:lnTo>
                  <a:pt x="51491" y="317167"/>
                </a:lnTo>
                <a:lnTo>
                  <a:pt x="51438" y="328609"/>
                </a:lnTo>
                <a:lnTo>
                  <a:pt x="52386" y="330515"/>
                </a:lnTo>
                <a:lnTo>
                  <a:pt x="53970" y="331786"/>
                </a:lnTo>
                <a:lnTo>
                  <a:pt x="55979" y="332633"/>
                </a:lnTo>
                <a:lnTo>
                  <a:pt x="60751" y="333574"/>
                </a:lnTo>
                <a:lnTo>
                  <a:pt x="66047" y="333992"/>
                </a:lnTo>
                <a:lnTo>
                  <a:pt x="71576" y="334178"/>
                </a:lnTo>
                <a:lnTo>
                  <a:pt x="85715" y="3343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MARTPenAnnotation868"/>
          <p:cNvSpPr/>
          <p:nvPr/>
        </p:nvSpPr>
        <p:spPr>
          <a:xfrm>
            <a:off x="5043600" y="4165560"/>
            <a:ext cx="188640" cy="241200"/>
          </a:xfrm>
          <a:custGeom>
            <a:avLst/>
            <a:gdLst>
              <a:gd name="textAreaLeft" fmla="*/ 0 w 188640"/>
              <a:gd name="textAreaRight" fmla="*/ 189000 w 188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88565" h="240031">
                <a:moveTo>
                  <a:pt x="8541" y="0"/>
                </a:moveTo>
                <a:lnTo>
                  <a:pt x="0" y="0"/>
                </a:lnTo>
                <a:lnTo>
                  <a:pt x="4529" y="0"/>
                </a:lnTo>
                <a:lnTo>
                  <a:pt x="5867" y="952"/>
                </a:lnTo>
                <a:lnTo>
                  <a:pt x="6759" y="2540"/>
                </a:lnTo>
                <a:lnTo>
                  <a:pt x="7353" y="4550"/>
                </a:lnTo>
                <a:lnTo>
                  <a:pt x="10553" y="9325"/>
                </a:lnTo>
                <a:lnTo>
                  <a:pt x="15150" y="14622"/>
                </a:lnTo>
                <a:lnTo>
                  <a:pt x="20369" y="20150"/>
                </a:lnTo>
                <a:lnTo>
                  <a:pt x="23094" y="23911"/>
                </a:lnTo>
                <a:lnTo>
                  <a:pt x="25863" y="28323"/>
                </a:lnTo>
                <a:lnTo>
                  <a:pt x="28662" y="33169"/>
                </a:lnTo>
                <a:lnTo>
                  <a:pt x="31480" y="37353"/>
                </a:lnTo>
                <a:lnTo>
                  <a:pt x="37151" y="44541"/>
                </a:lnTo>
                <a:lnTo>
                  <a:pt x="40950" y="48744"/>
                </a:lnTo>
                <a:lnTo>
                  <a:pt x="50250" y="58494"/>
                </a:lnTo>
                <a:lnTo>
                  <a:pt x="54445" y="63761"/>
                </a:lnTo>
                <a:lnTo>
                  <a:pt x="58194" y="69177"/>
                </a:lnTo>
                <a:lnTo>
                  <a:pt x="61645" y="74693"/>
                </a:lnTo>
                <a:lnTo>
                  <a:pt x="65852" y="80275"/>
                </a:lnTo>
                <a:lnTo>
                  <a:pt x="70561" y="85902"/>
                </a:lnTo>
                <a:lnTo>
                  <a:pt x="75605" y="91558"/>
                </a:lnTo>
                <a:lnTo>
                  <a:pt x="79921" y="97233"/>
                </a:lnTo>
                <a:lnTo>
                  <a:pt x="83750" y="102922"/>
                </a:lnTo>
                <a:lnTo>
                  <a:pt x="87256" y="108619"/>
                </a:lnTo>
                <a:lnTo>
                  <a:pt x="91498" y="114323"/>
                </a:lnTo>
                <a:lnTo>
                  <a:pt x="96231" y="120030"/>
                </a:lnTo>
                <a:lnTo>
                  <a:pt x="101291" y="125740"/>
                </a:lnTo>
                <a:lnTo>
                  <a:pt x="105617" y="131452"/>
                </a:lnTo>
                <a:lnTo>
                  <a:pt x="109453" y="137164"/>
                </a:lnTo>
                <a:lnTo>
                  <a:pt x="112964" y="142877"/>
                </a:lnTo>
                <a:lnTo>
                  <a:pt x="117209" y="147639"/>
                </a:lnTo>
                <a:lnTo>
                  <a:pt x="121944" y="151766"/>
                </a:lnTo>
                <a:lnTo>
                  <a:pt x="127006" y="155470"/>
                </a:lnTo>
                <a:lnTo>
                  <a:pt x="131333" y="159844"/>
                </a:lnTo>
                <a:lnTo>
                  <a:pt x="135170" y="164665"/>
                </a:lnTo>
                <a:lnTo>
                  <a:pt x="138680" y="169784"/>
                </a:lnTo>
                <a:lnTo>
                  <a:pt x="141973" y="174149"/>
                </a:lnTo>
                <a:lnTo>
                  <a:pt x="145121" y="178012"/>
                </a:lnTo>
                <a:lnTo>
                  <a:pt x="148172" y="181539"/>
                </a:lnTo>
                <a:lnTo>
                  <a:pt x="151159" y="185796"/>
                </a:lnTo>
                <a:lnTo>
                  <a:pt x="154102" y="190539"/>
                </a:lnTo>
                <a:lnTo>
                  <a:pt x="157017" y="195606"/>
                </a:lnTo>
                <a:lnTo>
                  <a:pt x="159913" y="199936"/>
                </a:lnTo>
                <a:lnTo>
                  <a:pt x="165670" y="207288"/>
                </a:lnTo>
                <a:lnTo>
                  <a:pt x="171404" y="213730"/>
                </a:lnTo>
                <a:lnTo>
                  <a:pt x="174267" y="216782"/>
                </a:lnTo>
                <a:lnTo>
                  <a:pt x="176175" y="219768"/>
                </a:lnTo>
                <a:lnTo>
                  <a:pt x="178295" y="225627"/>
                </a:lnTo>
                <a:lnTo>
                  <a:pt x="181778" y="231406"/>
                </a:lnTo>
                <a:lnTo>
                  <a:pt x="188564" y="2400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MARTPenAnnotation869"/>
          <p:cNvSpPr/>
          <p:nvPr/>
        </p:nvSpPr>
        <p:spPr>
          <a:xfrm>
            <a:off x="4965840" y="4175280"/>
            <a:ext cx="257040" cy="214200"/>
          </a:xfrm>
          <a:custGeom>
            <a:avLst/>
            <a:gdLst>
              <a:gd name="textAreaLeft" fmla="*/ 0 w 257040"/>
              <a:gd name="textAreaRight" fmla="*/ 257400 w 2570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57176" h="214314">
                <a:moveTo>
                  <a:pt x="257175" y="0"/>
                </a:moveTo>
                <a:lnTo>
                  <a:pt x="249794" y="0"/>
                </a:lnTo>
                <a:lnTo>
                  <a:pt x="249397" y="953"/>
                </a:lnTo>
                <a:lnTo>
                  <a:pt x="248956" y="4551"/>
                </a:lnTo>
                <a:lnTo>
                  <a:pt x="246933" y="6844"/>
                </a:lnTo>
                <a:lnTo>
                  <a:pt x="239606" y="11932"/>
                </a:lnTo>
                <a:lnTo>
                  <a:pt x="235937" y="15575"/>
                </a:lnTo>
                <a:lnTo>
                  <a:pt x="232540" y="19908"/>
                </a:lnTo>
                <a:lnTo>
                  <a:pt x="229322" y="24702"/>
                </a:lnTo>
                <a:lnTo>
                  <a:pt x="225271" y="29803"/>
                </a:lnTo>
                <a:lnTo>
                  <a:pt x="220666" y="35109"/>
                </a:lnTo>
                <a:lnTo>
                  <a:pt x="215691" y="40551"/>
                </a:lnTo>
                <a:lnTo>
                  <a:pt x="209517" y="46084"/>
                </a:lnTo>
                <a:lnTo>
                  <a:pt x="202543" y="51678"/>
                </a:lnTo>
                <a:lnTo>
                  <a:pt x="195037" y="57312"/>
                </a:lnTo>
                <a:lnTo>
                  <a:pt x="188127" y="62973"/>
                </a:lnTo>
                <a:lnTo>
                  <a:pt x="181616" y="68652"/>
                </a:lnTo>
                <a:lnTo>
                  <a:pt x="175369" y="74343"/>
                </a:lnTo>
                <a:lnTo>
                  <a:pt x="168348" y="80042"/>
                </a:lnTo>
                <a:lnTo>
                  <a:pt x="160810" y="85746"/>
                </a:lnTo>
                <a:lnTo>
                  <a:pt x="152927" y="91454"/>
                </a:lnTo>
                <a:lnTo>
                  <a:pt x="145767" y="98117"/>
                </a:lnTo>
                <a:lnTo>
                  <a:pt x="139088" y="105417"/>
                </a:lnTo>
                <a:lnTo>
                  <a:pt x="132730" y="113140"/>
                </a:lnTo>
                <a:lnTo>
                  <a:pt x="126587" y="120194"/>
                </a:lnTo>
                <a:lnTo>
                  <a:pt x="120587" y="126802"/>
                </a:lnTo>
                <a:lnTo>
                  <a:pt x="108839" y="139224"/>
                </a:lnTo>
                <a:lnTo>
                  <a:pt x="80044" y="168488"/>
                </a:lnTo>
                <a:lnTo>
                  <a:pt x="74318" y="173286"/>
                </a:lnTo>
                <a:lnTo>
                  <a:pt x="68596" y="177436"/>
                </a:lnTo>
                <a:lnTo>
                  <a:pt x="62875" y="181156"/>
                </a:lnTo>
                <a:lnTo>
                  <a:pt x="57157" y="184588"/>
                </a:lnTo>
                <a:lnTo>
                  <a:pt x="51440" y="187829"/>
                </a:lnTo>
                <a:lnTo>
                  <a:pt x="45724" y="190942"/>
                </a:lnTo>
                <a:lnTo>
                  <a:pt x="40960" y="193969"/>
                </a:lnTo>
                <a:lnTo>
                  <a:pt x="33127" y="199874"/>
                </a:lnTo>
                <a:lnTo>
                  <a:pt x="26471" y="203133"/>
                </a:lnTo>
                <a:lnTo>
                  <a:pt x="23362" y="204002"/>
                </a:lnTo>
                <a:lnTo>
                  <a:pt x="17369" y="207508"/>
                </a:lnTo>
                <a:lnTo>
                  <a:pt x="10311" y="212968"/>
                </a:lnTo>
                <a:lnTo>
                  <a:pt x="6805" y="213715"/>
                </a:lnTo>
                <a:lnTo>
                  <a:pt x="0" y="2143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MARTPenAnnotation870"/>
          <p:cNvSpPr/>
          <p:nvPr/>
        </p:nvSpPr>
        <p:spPr>
          <a:xfrm>
            <a:off x="5411880" y="4218120"/>
            <a:ext cx="360360" cy="17280"/>
          </a:xfrm>
          <a:custGeom>
            <a:avLst/>
            <a:gdLst>
              <a:gd name="textAreaLeft" fmla="*/ 0 w 360360"/>
              <a:gd name="textAreaRight" fmla="*/ 360720 w 3603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60047" h="17146">
                <a:moveTo>
                  <a:pt x="0" y="8572"/>
                </a:moveTo>
                <a:lnTo>
                  <a:pt x="0" y="353"/>
                </a:lnTo>
                <a:lnTo>
                  <a:pt x="7797" y="69"/>
                </a:lnTo>
                <a:lnTo>
                  <a:pt x="137665" y="0"/>
                </a:lnTo>
                <a:lnTo>
                  <a:pt x="145117" y="952"/>
                </a:lnTo>
                <a:lnTo>
                  <a:pt x="151990" y="2540"/>
                </a:lnTo>
                <a:lnTo>
                  <a:pt x="158477" y="4550"/>
                </a:lnTo>
                <a:lnTo>
                  <a:pt x="165659" y="5891"/>
                </a:lnTo>
                <a:lnTo>
                  <a:pt x="173304" y="6785"/>
                </a:lnTo>
                <a:lnTo>
                  <a:pt x="181259" y="7381"/>
                </a:lnTo>
                <a:lnTo>
                  <a:pt x="189419" y="7778"/>
                </a:lnTo>
                <a:lnTo>
                  <a:pt x="206107" y="8219"/>
                </a:lnTo>
                <a:lnTo>
                  <a:pt x="278352" y="8563"/>
                </a:lnTo>
                <a:lnTo>
                  <a:pt x="284628" y="9518"/>
                </a:lnTo>
                <a:lnTo>
                  <a:pt x="290717" y="11108"/>
                </a:lnTo>
                <a:lnTo>
                  <a:pt x="296682" y="13120"/>
                </a:lnTo>
                <a:lnTo>
                  <a:pt x="302563" y="14462"/>
                </a:lnTo>
                <a:lnTo>
                  <a:pt x="308389" y="15356"/>
                </a:lnTo>
                <a:lnTo>
                  <a:pt x="314178" y="15952"/>
                </a:lnTo>
                <a:lnTo>
                  <a:pt x="318990" y="16349"/>
                </a:lnTo>
                <a:lnTo>
                  <a:pt x="326876" y="16792"/>
                </a:lnTo>
                <a:lnTo>
                  <a:pt x="336096" y="16988"/>
                </a:lnTo>
                <a:lnTo>
                  <a:pt x="360046" y="171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MARTPenAnnotation871"/>
          <p:cNvSpPr/>
          <p:nvPr/>
        </p:nvSpPr>
        <p:spPr>
          <a:xfrm>
            <a:off x="5514840" y="4140360"/>
            <a:ext cx="60480" cy="309240"/>
          </a:xfrm>
          <a:custGeom>
            <a:avLst/>
            <a:gdLst>
              <a:gd name="textAreaLeft" fmla="*/ 0 w 60480"/>
              <a:gd name="textAreaRight" fmla="*/ 60840 w 60480"/>
              <a:gd name="textAreaTop" fmla="*/ 0 h 309240"/>
              <a:gd name="textAreaBottom" fmla="*/ 309600 h 309240"/>
            </a:gdLst>
            <a:ahLst/>
            <a:rect l="textAreaLeft" t="textAreaTop" r="textAreaRight" b="textAreaBottom"/>
            <a:pathLst>
              <a:path w="59999" h="308611">
                <a:moveTo>
                  <a:pt x="8563" y="0"/>
                </a:moveTo>
                <a:lnTo>
                  <a:pt x="344" y="0"/>
                </a:lnTo>
                <a:lnTo>
                  <a:pt x="11" y="8731"/>
                </a:lnTo>
                <a:lnTo>
                  <a:pt x="0" y="12770"/>
                </a:lnTo>
                <a:lnTo>
                  <a:pt x="949" y="16134"/>
                </a:lnTo>
                <a:lnTo>
                  <a:pt x="2535" y="20281"/>
                </a:lnTo>
                <a:lnTo>
                  <a:pt x="4544" y="24950"/>
                </a:lnTo>
                <a:lnTo>
                  <a:pt x="5884" y="29016"/>
                </a:lnTo>
                <a:lnTo>
                  <a:pt x="7373" y="36073"/>
                </a:lnTo>
                <a:lnTo>
                  <a:pt x="8721" y="40242"/>
                </a:lnTo>
                <a:lnTo>
                  <a:pt x="10574" y="44925"/>
                </a:lnTo>
                <a:lnTo>
                  <a:pt x="12761" y="49953"/>
                </a:lnTo>
                <a:lnTo>
                  <a:pt x="14219" y="55209"/>
                </a:lnTo>
                <a:lnTo>
                  <a:pt x="15191" y="60619"/>
                </a:lnTo>
                <a:lnTo>
                  <a:pt x="15840" y="66130"/>
                </a:lnTo>
                <a:lnTo>
                  <a:pt x="16272" y="71709"/>
                </a:lnTo>
                <a:lnTo>
                  <a:pt x="16559" y="77334"/>
                </a:lnTo>
                <a:lnTo>
                  <a:pt x="16751" y="82988"/>
                </a:lnTo>
                <a:lnTo>
                  <a:pt x="17022" y="104599"/>
                </a:lnTo>
                <a:lnTo>
                  <a:pt x="18012" y="111643"/>
                </a:lnTo>
                <a:lnTo>
                  <a:pt x="19625" y="118244"/>
                </a:lnTo>
                <a:lnTo>
                  <a:pt x="21653" y="124549"/>
                </a:lnTo>
                <a:lnTo>
                  <a:pt x="23005" y="131610"/>
                </a:lnTo>
                <a:lnTo>
                  <a:pt x="23906" y="139175"/>
                </a:lnTo>
                <a:lnTo>
                  <a:pt x="24507" y="147076"/>
                </a:lnTo>
                <a:lnTo>
                  <a:pt x="25860" y="154248"/>
                </a:lnTo>
                <a:lnTo>
                  <a:pt x="27714" y="160935"/>
                </a:lnTo>
                <a:lnTo>
                  <a:pt x="29903" y="167297"/>
                </a:lnTo>
                <a:lnTo>
                  <a:pt x="31362" y="174397"/>
                </a:lnTo>
                <a:lnTo>
                  <a:pt x="32335" y="181987"/>
                </a:lnTo>
                <a:lnTo>
                  <a:pt x="32983" y="189905"/>
                </a:lnTo>
                <a:lnTo>
                  <a:pt x="34368" y="197088"/>
                </a:lnTo>
                <a:lnTo>
                  <a:pt x="36244" y="203782"/>
                </a:lnTo>
                <a:lnTo>
                  <a:pt x="38447" y="210150"/>
                </a:lnTo>
                <a:lnTo>
                  <a:pt x="39916" y="216300"/>
                </a:lnTo>
                <a:lnTo>
                  <a:pt x="40895" y="222305"/>
                </a:lnTo>
                <a:lnTo>
                  <a:pt x="41548" y="228214"/>
                </a:lnTo>
                <a:lnTo>
                  <a:pt x="41983" y="234057"/>
                </a:lnTo>
                <a:lnTo>
                  <a:pt x="42273" y="239858"/>
                </a:lnTo>
                <a:lnTo>
                  <a:pt x="42595" y="251384"/>
                </a:lnTo>
                <a:lnTo>
                  <a:pt x="42819" y="275474"/>
                </a:lnTo>
                <a:lnTo>
                  <a:pt x="43783" y="278899"/>
                </a:lnTo>
                <a:lnTo>
                  <a:pt x="45378" y="282135"/>
                </a:lnTo>
                <a:lnTo>
                  <a:pt x="47394" y="285246"/>
                </a:lnTo>
                <a:lnTo>
                  <a:pt x="48738" y="288271"/>
                </a:lnTo>
                <a:lnTo>
                  <a:pt x="50231" y="294173"/>
                </a:lnTo>
                <a:lnTo>
                  <a:pt x="51582" y="296128"/>
                </a:lnTo>
                <a:lnTo>
                  <a:pt x="53435" y="297431"/>
                </a:lnTo>
                <a:lnTo>
                  <a:pt x="55622" y="298300"/>
                </a:lnTo>
                <a:lnTo>
                  <a:pt x="57081" y="299832"/>
                </a:lnTo>
                <a:lnTo>
                  <a:pt x="58053" y="301806"/>
                </a:lnTo>
                <a:lnTo>
                  <a:pt x="59998" y="30861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MARTPenAnnotation872"/>
          <p:cNvSpPr/>
          <p:nvPr/>
        </p:nvSpPr>
        <p:spPr>
          <a:xfrm>
            <a:off x="5832360" y="4054320"/>
            <a:ext cx="68400" cy="395280"/>
          </a:xfrm>
          <a:custGeom>
            <a:avLst/>
            <a:gdLst>
              <a:gd name="textAreaLeft" fmla="*/ 0 w 68400"/>
              <a:gd name="textAreaRight" fmla="*/ 68760 w 684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68581" h="394336">
                <a:moveTo>
                  <a:pt x="0" y="0"/>
                </a:moveTo>
                <a:lnTo>
                  <a:pt x="4551" y="0"/>
                </a:lnTo>
                <a:lnTo>
                  <a:pt x="5892" y="953"/>
                </a:lnTo>
                <a:lnTo>
                  <a:pt x="6785" y="2540"/>
                </a:lnTo>
                <a:lnTo>
                  <a:pt x="7381" y="4551"/>
                </a:lnTo>
                <a:lnTo>
                  <a:pt x="8731" y="6844"/>
                </a:lnTo>
                <a:lnTo>
                  <a:pt x="10583" y="9325"/>
                </a:lnTo>
                <a:lnTo>
                  <a:pt x="12770" y="11932"/>
                </a:lnTo>
                <a:lnTo>
                  <a:pt x="14229" y="15575"/>
                </a:lnTo>
                <a:lnTo>
                  <a:pt x="17234" y="30756"/>
                </a:lnTo>
                <a:lnTo>
                  <a:pt x="19109" y="37649"/>
                </a:lnTo>
                <a:lnTo>
                  <a:pt x="21312" y="45102"/>
                </a:lnTo>
                <a:lnTo>
                  <a:pt x="22780" y="51975"/>
                </a:lnTo>
                <a:lnTo>
                  <a:pt x="23759" y="58463"/>
                </a:lnTo>
                <a:lnTo>
                  <a:pt x="24412" y="64693"/>
                </a:lnTo>
                <a:lnTo>
                  <a:pt x="24847" y="71704"/>
                </a:lnTo>
                <a:lnTo>
                  <a:pt x="25331" y="87113"/>
                </a:lnTo>
                <a:lnTo>
                  <a:pt x="25684" y="137282"/>
                </a:lnTo>
                <a:lnTo>
                  <a:pt x="25716" y="222535"/>
                </a:lnTo>
                <a:lnTo>
                  <a:pt x="26669" y="231224"/>
                </a:lnTo>
                <a:lnTo>
                  <a:pt x="28257" y="239875"/>
                </a:lnTo>
                <a:lnTo>
                  <a:pt x="30268" y="248499"/>
                </a:lnTo>
                <a:lnTo>
                  <a:pt x="31609" y="257106"/>
                </a:lnTo>
                <a:lnTo>
                  <a:pt x="32503" y="265702"/>
                </a:lnTo>
                <a:lnTo>
                  <a:pt x="33098" y="274289"/>
                </a:lnTo>
                <a:lnTo>
                  <a:pt x="33496" y="281920"/>
                </a:lnTo>
                <a:lnTo>
                  <a:pt x="33937" y="295478"/>
                </a:lnTo>
                <a:lnTo>
                  <a:pt x="35007" y="302712"/>
                </a:lnTo>
                <a:lnTo>
                  <a:pt x="36673" y="310393"/>
                </a:lnTo>
                <a:lnTo>
                  <a:pt x="38736" y="318371"/>
                </a:lnTo>
                <a:lnTo>
                  <a:pt x="40112" y="325595"/>
                </a:lnTo>
                <a:lnTo>
                  <a:pt x="41029" y="332316"/>
                </a:lnTo>
                <a:lnTo>
                  <a:pt x="42047" y="343911"/>
                </a:lnTo>
                <a:lnTo>
                  <a:pt x="42501" y="352240"/>
                </a:lnTo>
                <a:lnTo>
                  <a:pt x="43573" y="356746"/>
                </a:lnTo>
                <a:lnTo>
                  <a:pt x="45242" y="361656"/>
                </a:lnTo>
                <a:lnTo>
                  <a:pt x="47306" y="366834"/>
                </a:lnTo>
                <a:lnTo>
                  <a:pt x="49635" y="371239"/>
                </a:lnTo>
                <a:lnTo>
                  <a:pt x="52140" y="375127"/>
                </a:lnTo>
                <a:lnTo>
                  <a:pt x="58453" y="383662"/>
                </a:lnTo>
                <a:lnTo>
                  <a:pt x="59924" y="384363"/>
                </a:lnTo>
                <a:lnTo>
                  <a:pt x="61857" y="384829"/>
                </a:lnTo>
                <a:lnTo>
                  <a:pt x="64098" y="385140"/>
                </a:lnTo>
                <a:lnTo>
                  <a:pt x="65592" y="386300"/>
                </a:lnTo>
                <a:lnTo>
                  <a:pt x="66588" y="388026"/>
                </a:lnTo>
                <a:lnTo>
                  <a:pt x="68580" y="3943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MARTPenAnnotation873"/>
          <p:cNvSpPr/>
          <p:nvPr/>
        </p:nvSpPr>
        <p:spPr>
          <a:xfrm>
            <a:off x="6004080" y="4064040"/>
            <a:ext cx="299880" cy="406440"/>
          </a:xfrm>
          <a:custGeom>
            <a:avLst/>
            <a:gdLst>
              <a:gd name="textAreaLeft" fmla="*/ 0 w 299880"/>
              <a:gd name="textAreaRight" fmla="*/ 300240 w 299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00039" h="407449">
                <a:moveTo>
                  <a:pt x="300038" y="8541"/>
                </a:moveTo>
                <a:lnTo>
                  <a:pt x="291818" y="322"/>
                </a:lnTo>
                <a:lnTo>
                  <a:pt x="284691" y="38"/>
                </a:lnTo>
                <a:lnTo>
                  <a:pt x="279564" y="0"/>
                </a:lnTo>
                <a:lnTo>
                  <a:pt x="271571" y="2522"/>
                </a:lnTo>
                <a:lnTo>
                  <a:pt x="266773" y="4529"/>
                </a:lnTo>
                <a:lnTo>
                  <a:pt x="261669" y="6819"/>
                </a:lnTo>
                <a:lnTo>
                  <a:pt x="250917" y="11903"/>
                </a:lnTo>
                <a:lnTo>
                  <a:pt x="234154" y="20121"/>
                </a:lnTo>
                <a:lnTo>
                  <a:pt x="227540" y="22928"/>
                </a:lnTo>
                <a:lnTo>
                  <a:pt x="220273" y="25752"/>
                </a:lnTo>
                <a:lnTo>
                  <a:pt x="204579" y="31431"/>
                </a:lnTo>
                <a:lnTo>
                  <a:pt x="162725" y="45693"/>
                </a:lnTo>
                <a:lnTo>
                  <a:pt x="155156" y="47596"/>
                </a:lnTo>
                <a:lnTo>
                  <a:pt x="148205" y="48865"/>
                </a:lnTo>
                <a:lnTo>
                  <a:pt x="141665" y="49712"/>
                </a:lnTo>
                <a:lnTo>
                  <a:pt x="135402" y="50276"/>
                </a:lnTo>
                <a:lnTo>
                  <a:pt x="129320" y="50652"/>
                </a:lnTo>
                <a:lnTo>
                  <a:pt x="117483" y="51069"/>
                </a:lnTo>
                <a:lnTo>
                  <a:pt x="93176" y="51360"/>
                </a:lnTo>
                <a:lnTo>
                  <a:pt x="89740" y="50422"/>
                </a:lnTo>
                <a:lnTo>
                  <a:pt x="83382" y="46840"/>
                </a:lnTo>
                <a:lnTo>
                  <a:pt x="77381" y="44613"/>
                </a:lnTo>
                <a:lnTo>
                  <a:pt x="68733" y="42862"/>
                </a:lnTo>
                <a:lnTo>
                  <a:pt x="68625" y="47391"/>
                </a:lnTo>
                <a:lnTo>
                  <a:pt x="69562" y="49681"/>
                </a:lnTo>
                <a:lnTo>
                  <a:pt x="74480" y="57455"/>
                </a:lnTo>
                <a:lnTo>
                  <a:pt x="77313" y="65791"/>
                </a:lnTo>
                <a:lnTo>
                  <a:pt x="81352" y="71450"/>
                </a:lnTo>
                <a:lnTo>
                  <a:pt x="81857" y="75245"/>
                </a:lnTo>
                <a:lnTo>
                  <a:pt x="79879" y="84543"/>
                </a:lnTo>
                <a:lnTo>
                  <a:pt x="77960" y="95936"/>
                </a:lnTo>
                <a:lnTo>
                  <a:pt x="77511" y="104851"/>
                </a:lnTo>
                <a:lnTo>
                  <a:pt x="77259" y="120580"/>
                </a:lnTo>
                <a:lnTo>
                  <a:pt x="77153" y="191274"/>
                </a:lnTo>
                <a:lnTo>
                  <a:pt x="78105" y="193227"/>
                </a:lnTo>
                <a:lnTo>
                  <a:pt x="79693" y="194530"/>
                </a:lnTo>
                <a:lnTo>
                  <a:pt x="84534" y="196621"/>
                </a:lnTo>
                <a:lnTo>
                  <a:pt x="93721" y="197116"/>
                </a:lnTo>
                <a:lnTo>
                  <a:pt x="93913" y="197123"/>
                </a:lnTo>
                <a:lnTo>
                  <a:pt x="94184" y="192581"/>
                </a:lnTo>
                <a:lnTo>
                  <a:pt x="96127" y="190290"/>
                </a:lnTo>
                <a:lnTo>
                  <a:pt x="103365" y="185203"/>
                </a:lnTo>
                <a:lnTo>
                  <a:pt x="110393" y="179768"/>
                </a:lnTo>
                <a:lnTo>
                  <a:pt x="113600" y="176984"/>
                </a:lnTo>
                <a:lnTo>
                  <a:pt x="119704" y="168812"/>
                </a:lnTo>
                <a:lnTo>
                  <a:pt x="122665" y="163966"/>
                </a:lnTo>
                <a:lnTo>
                  <a:pt x="131035" y="156041"/>
                </a:lnTo>
                <a:lnTo>
                  <a:pt x="135934" y="152595"/>
                </a:lnTo>
                <a:lnTo>
                  <a:pt x="141106" y="149344"/>
                </a:lnTo>
                <a:lnTo>
                  <a:pt x="146458" y="146225"/>
                </a:lnTo>
                <a:lnTo>
                  <a:pt x="151931" y="143193"/>
                </a:lnTo>
                <a:lnTo>
                  <a:pt x="163092" y="137284"/>
                </a:lnTo>
                <a:lnTo>
                  <a:pt x="168736" y="134374"/>
                </a:lnTo>
                <a:lnTo>
                  <a:pt x="174403" y="132435"/>
                </a:lnTo>
                <a:lnTo>
                  <a:pt x="180086" y="131142"/>
                </a:lnTo>
                <a:lnTo>
                  <a:pt x="185780" y="130280"/>
                </a:lnTo>
                <a:lnTo>
                  <a:pt x="191481" y="129705"/>
                </a:lnTo>
                <a:lnTo>
                  <a:pt x="197186" y="129322"/>
                </a:lnTo>
                <a:lnTo>
                  <a:pt x="202895" y="129067"/>
                </a:lnTo>
                <a:lnTo>
                  <a:pt x="214318" y="128783"/>
                </a:lnTo>
                <a:lnTo>
                  <a:pt x="220031" y="128707"/>
                </a:lnTo>
                <a:lnTo>
                  <a:pt x="225745" y="129610"/>
                </a:lnTo>
                <a:lnTo>
                  <a:pt x="231459" y="131163"/>
                </a:lnTo>
                <a:lnTo>
                  <a:pt x="237174" y="133152"/>
                </a:lnTo>
                <a:lnTo>
                  <a:pt x="242888" y="135430"/>
                </a:lnTo>
                <a:lnTo>
                  <a:pt x="248603" y="137901"/>
                </a:lnTo>
                <a:lnTo>
                  <a:pt x="254318" y="140501"/>
                </a:lnTo>
                <a:lnTo>
                  <a:pt x="263208" y="145930"/>
                </a:lnTo>
                <a:lnTo>
                  <a:pt x="266912" y="148711"/>
                </a:lnTo>
                <a:lnTo>
                  <a:pt x="273567" y="156881"/>
                </a:lnTo>
                <a:lnTo>
                  <a:pt x="279701" y="167815"/>
                </a:lnTo>
                <a:lnTo>
                  <a:pt x="282670" y="174731"/>
                </a:lnTo>
                <a:lnTo>
                  <a:pt x="285602" y="182200"/>
                </a:lnTo>
                <a:lnTo>
                  <a:pt x="287556" y="190036"/>
                </a:lnTo>
                <a:lnTo>
                  <a:pt x="288859" y="198118"/>
                </a:lnTo>
                <a:lnTo>
                  <a:pt x="289728" y="206363"/>
                </a:lnTo>
                <a:lnTo>
                  <a:pt x="289355" y="214718"/>
                </a:lnTo>
                <a:lnTo>
                  <a:pt x="288153" y="223145"/>
                </a:lnTo>
                <a:lnTo>
                  <a:pt x="286400" y="231620"/>
                </a:lnTo>
                <a:lnTo>
                  <a:pt x="285231" y="240128"/>
                </a:lnTo>
                <a:lnTo>
                  <a:pt x="284451" y="248657"/>
                </a:lnTo>
                <a:lnTo>
                  <a:pt x="283932" y="257201"/>
                </a:lnTo>
                <a:lnTo>
                  <a:pt x="282633" y="265754"/>
                </a:lnTo>
                <a:lnTo>
                  <a:pt x="280815" y="274314"/>
                </a:lnTo>
                <a:lnTo>
                  <a:pt x="278650" y="282878"/>
                </a:lnTo>
                <a:lnTo>
                  <a:pt x="275301" y="291445"/>
                </a:lnTo>
                <a:lnTo>
                  <a:pt x="271165" y="300014"/>
                </a:lnTo>
                <a:lnTo>
                  <a:pt x="266502" y="308584"/>
                </a:lnTo>
                <a:lnTo>
                  <a:pt x="261488" y="317154"/>
                </a:lnTo>
                <a:lnTo>
                  <a:pt x="246282" y="341918"/>
                </a:lnTo>
                <a:lnTo>
                  <a:pt x="242293" y="348902"/>
                </a:lnTo>
                <a:lnTo>
                  <a:pt x="238681" y="355463"/>
                </a:lnTo>
                <a:lnTo>
                  <a:pt x="233416" y="361742"/>
                </a:lnTo>
                <a:lnTo>
                  <a:pt x="227048" y="367834"/>
                </a:lnTo>
                <a:lnTo>
                  <a:pt x="219946" y="373799"/>
                </a:lnTo>
                <a:lnTo>
                  <a:pt x="213305" y="378729"/>
                </a:lnTo>
                <a:lnTo>
                  <a:pt x="206974" y="382968"/>
                </a:lnTo>
                <a:lnTo>
                  <a:pt x="200848" y="386747"/>
                </a:lnTo>
                <a:lnTo>
                  <a:pt x="193906" y="390218"/>
                </a:lnTo>
                <a:lnTo>
                  <a:pt x="186420" y="393485"/>
                </a:lnTo>
                <a:lnTo>
                  <a:pt x="178573" y="396615"/>
                </a:lnTo>
                <a:lnTo>
                  <a:pt x="171437" y="398702"/>
                </a:lnTo>
                <a:lnTo>
                  <a:pt x="164773" y="400093"/>
                </a:lnTo>
                <a:lnTo>
                  <a:pt x="158426" y="401021"/>
                </a:lnTo>
                <a:lnTo>
                  <a:pt x="151338" y="402592"/>
                </a:lnTo>
                <a:lnTo>
                  <a:pt x="143754" y="404592"/>
                </a:lnTo>
                <a:lnTo>
                  <a:pt x="135841" y="406877"/>
                </a:lnTo>
                <a:lnTo>
                  <a:pt x="128661" y="407448"/>
                </a:lnTo>
                <a:lnTo>
                  <a:pt x="121969" y="406877"/>
                </a:lnTo>
                <a:lnTo>
                  <a:pt x="115603" y="405544"/>
                </a:lnTo>
                <a:lnTo>
                  <a:pt x="108501" y="404654"/>
                </a:lnTo>
                <a:lnTo>
                  <a:pt x="100909" y="404062"/>
                </a:lnTo>
                <a:lnTo>
                  <a:pt x="86758" y="403403"/>
                </a:lnTo>
                <a:lnTo>
                  <a:pt x="77295" y="403110"/>
                </a:lnTo>
                <a:lnTo>
                  <a:pt x="72485" y="402080"/>
                </a:lnTo>
                <a:lnTo>
                  <a:pt x="67373" y="400440"/>
                </a:lnTo>
                <a:lnTo>
                  <a:pt x="62061" y="398395"/>
                </a:lnTo>
                <a:lnTo>
                  <a:pt x="56614" y="396078"/>
                </a:lnTo>
                <a:lnTo>
                  <a:pt x="45482" y="390965"/>
                </a:lnTo>
                <a:lnTo>
                  <a:pt x="36724" y="388057"/>
                </a:lnTo>
                <a:lnTo>
                  <a:pt x="33055" y="387282"/>
                </a:lnTo>
                <a:lnTo>
                  <a:pt x="26439" y="383880"/>
                </a:lnTo>
                <a:lnTo>
                  <a:pt x="23341" y="381640"/>
                </a:lnTo>
                <a:lnTo>
                  <a:pt x="17359" y="379151"/>
                </a:lnTo>
                <a:lnTo>
                  <a:pt x="8636" y="377749"/>
                </a:lnTo>
                <a:lnTo>
                  <a:pt x="0" y="3771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MARTPenAnnotation874"/>
          <p:cNvSpPr/>
          <p:nvPr/>
        </p:nvSpPr>
        <p:spPr>
          <a:xfrm>
            <a:off x="4229280" y="3832200"/>
            <a:ext cx="102960" cy="1379520"/>
          </a:xfrm>
          <a:custGeom>
            <a:avLst/>
            <a:gdLst>
              <a:gd name="textAreaLeft" fmla="*/ 0 w 102960"/>
              <a:gd name="textAreaRight" fmla="*/ 103320 w 10296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102871" h="1380173">
                <a:moveTo>
                  <a:pt x="102870" y="0"/>
                </a:moveTo>
                <a:lnTo>
                  <a:pt x="94650" y="0"/>
                </a:lnTo>
                <a:lnTo>
                  <a:pt x="94401" y="4551"/>
                </a:lnTo>
                <a:lnTo>
                  <a:pt x="93414" y="5892"/>
                </a:lnTo>
                <a:lnTo>
                  <a:pt x="91804" y="6785"/>
                </a:lnTo>
                <a:lnTo>
                  <a:pt x="86925" y="8220"/>
                </a:lnTo>
                <a:lnTo>
                  <a:pt x="83718" y="10956"/>
                </a:lnTo>
                <a:lnTo>
                  <a:pt x="81529" y="13019"/>
                </a:lnTo>
                <a:lnTo>
                  <a:pt x="80071" y="15347"/>
                </a:lnTo>
                <a:lnTo>
                  <a:pt x="78449" y="20473"/>
                </a:lnTo>
                <a:lnTo>
                  <a:pt x="77064" y="22221"/>
                </a:lnTo>
                <a:lnTo>
                  <a:pt x="75188" y="23387"/>
                </a:lnTo>
                <a:lnTo>
                  <a:pt x="72985" y="24164"/>
                </a:lnTo>
                <a:lnTo>
                  <a:pt x="71517" y="25634"/>
                </a:lnTo>
                <a:lnTo>
                  <a:pt x="70538" y="27567"/>
                </a:lnTo>
                <a:lnTo>
                  <a:pt x="69885" y="29808"/>
                </a:lnTo>
                <a:lnTo>
                  <a:pt x="68497" y="32254"/>
                </a:lnTo>
                <a:lnTo>
                  <a:pt x="66619" y="34838"/>
                </a:lnTo>
                <a:lnTo>
                  <a:pt x="61314" y="41277"/>
                </a:lnTo>
                <a:lnTo>
                  <a:pt x="60588" y="44698"/>
                </a:lnTo>
                <a:lnTo>
                  <a:pt x="60010" y="84570"/>
                </a:lnTo>
                <a:lnTo>
                  <a:pt x="60007" y="160414"/>
                </a:lnTo>
                <a:lnTo>
                  <a:pt x="57467" y="171625"/>
                </a:lnTo>
                <a:lnTo>
                  <a:pt x="55457" y="177282"/>
                </a:lnTo>
                <a:lnTo>
                  <a:pt x="52626" y="194345"/>
                </a:lnTo>
                <a:lnTo>
                  <a:pt x="51504" y="235270"/>
                </a:lnTo>
                <a:lnTo>
                  <a:pt x="51444" y="270271"/>
                </a:lnTo>
                <a:lnTo>
                  <a:pt x="48899" y="282363"/>
                </a:lnTo>
                <a:lnTo>
                  <a:pt x="46887" y="288255"/>
                </a:lnTo>
                <a:lnTo>
                  <a:pt x="46497" y="295040"/>
                </a:lnTo>
                <a:lnTo>
                  <a:pt x="50177" y="323921"/>
                </a:lnTo>
                <a:lnTo>
                  <a:pt x="51324" y="362424"/>
                </a:lnTo>
                <a:lnTo>
                  <a:pt x="51428" y="412811"/>
                </a:lnTo>
                <a:lnTo>
                  <a:pt x="48891" y="429217"/>
                </a:lnTo>
                <a:lnTo>
                  <a:pt x="46882" y="437592"/>
                </a:lnTo>
                <a:lnTo>
                  <a:pt x="44053" y="458481"/>
                </a:lnTo>
                <a:lnTo>
                  <a:pt x="43019" y="497750"/>
                </a:lnTo>
                <a:lnTo>
                  <a:pt x="42871" y="557244"/>
                </a:lnTo>
                <a:lnTo>
                  <a:pt x="40326" y="574372"/>
                </a:lnTo>
                <a:lnTo>
                  <a:pt x="38314" y="582940"/>
                </a:lnTo>
                <a:lnTo>
                  <a:pt x="35482" y="608650"/>
                </a:lnTo>
                <a:lnTo>
                  <a:pt x="33573" y="648829"/>
                </a:lnTo>
                <a:lnTo>
                  <a:pt x="31907" y="658296"/>
                </a:lnTo>
                <a:lnTo>
                  <a:pt x="29844" y="667464"/>
                </a:lnTo>
                <a:lnTo>
                  <a:pt x="26940" y="694020"/>
                </a:lnTo>
                <a:lnTo>
                  <a:pt x="25959" y="729545"/>
                </a:lnTo>
                <a:lnTo>
                  <a:pt x="25720" y="835979"/>
                </a:lnTo>
                <a:lnTo>
                  <a:pt x="23178" y="855416"/>
                </a:lnTo>
                <a:lnTo>
                  <a:pt x="21167" y="864600"/>
                </a:lnTo>
                <a:lnTo>
                  <a:pt x="18336" y="895728"/>
                </a:lnTo>
                <a:lnTo>
                  <a:pt x="17380" y="933537"/>
                </a:lnTo>
                <a:lnTo>
                  <a:pt x="17145" y="1208689"/>
                </a:lnTo>
                <a:lnTo>
                  <a:pt x="14605" y="1225852"/>
                </a:lnTo>
                <a:lnTo>
                  <a:pt x="12594" y="1234430"/>
                </a:lnTo>
                <a:lnTo>
                  <a:pt x="9763" y="1260155"/>
                </a:lnTo>
                <a:lnTo>
                  <a:pt x="8729" y="1300480"/>
                </a:lnTo>
                <a:lnTo>
                  <a:pt x="8572" y="1378829"/>
                </a:lnTo>
                <a:lnTo>
                  <a:pt x="7620" y="1379277"/>
                </a:lnTo>
                <a:lnTo>
                  <a:pt x="6032" y="1379576"/>
                </a:lnTo>
                <a:lnTo>
                  <a:pt x="0" y="138017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MARTPenAnnotation875"/>
          <p:cNvSpPr/>
          <p:nvPr/>
        </p:nvSpPr>
        <p:spPr>
          <a:xfrm>
            <a:off x="1816200" y="4722840"/>
            <a:ext cx="209520" cy="241200"/>
          </a:xfrm>
          <a:custGeom>
            <a:avLst/>
            <a:gdLst>
              <a:gd name="textAreaLeft" fmla="*/ 0 w 209520"/>
              <a:gd name="textAreaRight" fmla="*/ 209880 w 2095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0610" h="240031">
                <a:moveTo>
                  <a:pt x="13442" y="0"/>
                </a:moveTo>
                <a:lnTo>
                  <a:pt x="0" y="0"/>
                </a:lnTo>
                <a:lnTo>
                  <a:pt x="4040" y="0"/>
                </a:lnTo>
                <a:lnTo>
                  <a:pt x="4316" y="953"/>
                </a:lnTo>
                <a:lnTo>
                  <a:pt x="4796" y="7381"/>
                </a:lnTo>
                <a:lnTo>
                  <a:pt x="10746" y="14229"/>
                </a:lnTo>
                <a:lnTo>
                  <a:pt x="15449" y="19109"/>
                </a:lnTo>
                <a:lnTo>
                  <a:pt x="83688" y="87391"/>
                </a:lnTo>
                <a:lnTo>
                  <a:pt x="86942" y="91598"/>
                </a:lnTo>
                <a:lnTo>
                  <a:pt x="90064" y="96308"/>
                </a:lnTo>
                <a:lnTo>
                  <a:pt x="93098" y="101353"/>
                </a:lnTo>
                <a:lnTo>
                  <a:pt x="96074" y="106621"/>
                </a:lnTo>
                <a:lnTo>
                  <a:pt x="101919" y="117555"/>
                </a:lnTo>
                <a:lnTo>
                  <a:pt x="104812" y="122185"/>
                </a:lnTo>
                <a:lnTo>
                  <a:pt x="107692" y="126224"/>
                </a:lnTo>
                <a:lnTo>
                  <a:pt x="110565" y="129869"/>
                </a:lnTo>
                <a:lnTo>
                  <a:pt x="114386" y="134204"/>
                </a:lnTo>
                <a:lnTo>
                  <a:pt x="123711" y="144102"/>
                </a:lnTo>
                <a:lnTo>
                  <a:pt x="135120" y="155833"/>
                </a:lnTo>
                <a:lnTo>
                  <a:pt x="138375" y="160086"/>
                </a:lnTo>
                <a:lnTo>
                  <a:pt x="141498" y="164827"/>
                </a:lnTo>
                <a:lnTo>
                  <a:pt x="144533" y="169892"/>
                </a:lnTo>
                <a:lnTo>
                  <a:pt x="147508" y="174222"/>
                </a:lnTo>
                <a:lnTo>
                  <a:pt x="153354" y="181572"/>
                </a:lnTo>
                <a:lnTo>
                  <a:pt x="159127" y="188014"/>
                </a:lnTo>
                <a:lnTo>
                  <a:pt x="164868" y="194052"/>
                </a:lnTo>
                <a:lnTo>
                  <a:pt x="183197" y="212609"/>
                </a:lnTo>
                <a:lnTo>
                  <a:pt x="183762" y="214129"/>
                </a:lnTo>
                <a:lnTo>
                  <a:pt x="184389" y="218359"/>
                </a:lnTo>
                <a:lnTo>
                  <a:pt x="185509" y="219868"/>
                </a:lnTo>
                <a:lnTo>
                  <a:pt x="187208" y="220873"/>
                </a:lnTo>
                <a:lnTo>
                  <a:pt x="189294" y="221544"/>
                </a:lnTo>
                <a:lnTo>
                  <a:pt x="190684" y="222944"/>
                </a:lnTo>
                <a:lnTo>
                  <a:pt x="191610" y="224830"/>
                </a:lnTo>
                <a:lnTo>
                  <a:pt x="193098" y="230149"/>
                </a:lnTo>
                <a:lnTo>
                  <a:pt x="194172" y="230585"/>
                </a:lnTo>
                <a:lnTo>
                  <a:pt x="200201" y="231285"/>
                </a:lnTo>
                <a:lnTo>
                  <a:pt x="206225" y="231424"/>
                </a:lnTo>
                <a:lnTo>
                  <a:pt x="207686" y="232387"/>
                </a:lnTo>
                <a:lnTo>
                  <a:pt x="208660" y="233983"/>
                </a:lnTo>
                <a:lnTo>
                  <a:pt x="210609" y="2400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MARTPenAnnotation876"/>
          <p:cNvSpPr/>
          <p:nvPr/>
        </p:nvSpPr>
        <p:spPr>
          <a:xfrm>
            <a:off x="1805040" y="4680000"/>
            <a:ext cx="272880" cy="284040"/>
          </a:xfrm>
          <a:custGeom>
            <a:avLst/>
            <a:gdLst>
              <a:gd name="textAreaLeft" fmla="*/ 0 w 272880"/>
              <a:gd name="textAreaRight" fmla="*/ 273240 w 272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72981" h="282893">
                <a:moveTo>
                  <a:pt x="272980" y="0"/>
                </a:moveTo>
                <a:lnTo>
                  <a:pt x="264439" y="0"/>
                </a:lnTo>
                <a:lnTo>
                  <a:pt x="259866" y="4551"/>
                </a:lnTo>
                <a:lnTo>
                  <a:pt x="257570" y="5891"/>
                </a:lnTo>
                <a:lnTo>
                  <a:pt x="249787" y="8730"/>
                </a:lnTo>
                <a:lnTo>
                  <a:pt x="241449" y="15181"/>
                </a:lnTo>
                <a:lnTo>
                  <a:pt x="232946" y="23125"/>
                </a:lnTo>
                <a:lnTo>
                  <a:pt x="202733" y="53111"/>
                </a:lnTo>
                <a:lnTo>
                  <a:pt x="199478" y="57314"/>
                </a:lnTo>
                <a:lnTo>
                  <a:pt x="196357" y="62022"/>
                </a:lnTo>
                <a:lnTo>
                  <a:pt x="193323" y="67065"/>
                </a:lnTo>
                <a:lnTo>
                  <a:pt x="184872" y="75209"/>
                </a:lnTo>
                <a:lnTo>
                  <a:pt x="179951" y="78714"/>
                </a:lnTo>
                <a:lnTo>
                  <a:pt x="174766" y="82956"/>
                </a:lnTo>
                <a:lnTo>
                  <a:pt x="169404" y="87689"/>
                </a:lnTo>
                <a:lnTo>
                  <a:pt x="163924" y="92749"/>
                </a:lnTo>
                <a:lnTo>
                  <a:pt x="159319" y="98028"/>
                </a:lnTo>
                <a:lnTo>
                  <a:pt x="155296" y="103452"/>
                </a:lnTo>
                <a:lnTo>
                  <a:pt x="151661" y="108973"/>
                </a:lnTo>
                <a:lnTo>
                  <a:pt x="147334" y="114558"/>
                </a:lnTo>
                <a:lnTo>
                  <a:pt x="142543" y="120187"/>
                </a:lnTo>
                <a:lnTo>
                  <a:pt x="137445" y="125845"/>
                </a:lnTo>
                <a:lnTo>
                  <a:pt x="126700" y="137211"/>
                </a:lnTo>
                <a:lnTo>
                  <a:pt x="121167" y="142909"/>
                </a:lnTo>
                <a:lnTo>
                  <a:pt x="116527" y="148612"/>
                </a:lnTo>
                <a:lnTo>
                  <a:pt x="112480" y="154320"/>
                </a:lnTo>
                <a:lnTo>
                  <a:pt x="108830" y="160030"/>
                </a:lnTo>
                <a:lnTo>
                  <a:pt x="105444" y="165741"/>
                </a:lnTo>
                <a:lnTo>
                  <a:pt x="102234" y="171454"/>
                </a:lnTo>
                <a:lnTo>
                  <a:pt x="99142" y="177168"/>
                </a:lnTo>
                <a:lnTo>
                  <a:pt x="95176" y="182882"/>
                </a:lnTo>
                <a:lnTo>
                  <a:pt x="90626" y="188596"/>
                </a:lnTo>
                <a:lnTo>
                  <a:pt x="85688" y="194311"/>
                </a:lnTo>
                <a:lnTo>
                  <a:pt x="81444" y="200026"/>
                </a:lnTo>
                <a:lnTo>
                  <a:pt x="77662" y="205740"/>
                </a:lnTo>
                <a:lnTo>
                  <a:pt x="74188" y="211455"/>
                </a:lnTo>
                <a:lnTo>
                  <a:pt x="69967" y="217170"/>
                </a:lnTo>
                <a:lnTo>
                  <a:pt x="65248" y="222885"/>
                </a:lnTo>
                <a:lnTo>
                  <a:pt x="55877" y="233362"/>
                </a:lnTo>
                <a:lnTo>
                  <a:pt x="48537" y="241194"/>
                </a:lnTo>
                <a:lnTo>
                  <a:pt x="36064" y="253983"/>
                </a:lnTo>
                <a:lnTo>
                  <a:pt x="8929" y="281195"/>
                </a:lnTo>
                <a:lnTo>
                  <a:pt x="7411" y="281761"/>
                </a:lnTo>
                <a:lnTo>
                  <a:pt x="0" y="282743"/>
                </a:lnTo>
                <a:lnTo>
                  <a:pt x="7232" y="2828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MARTPenAnnotation877"/>
          <p:cNvSpPr/>
          <p:nvPr/>
        </p:nvSpPr>
        <p:spPr>
          <a:xfrm>
            <a:off x="2257560" y="4594320"/>
            <a:ext cx="249120" cy="463320"/>
          </a:xfrm>
          <a:custGeom>
            <a:avLst/>
            <a:gdLst>
              <a:gd name="textAreaLeft" fmla="*/ 0 w 249120"/>
              <a:gd name="textAreaRight" fmla="*/ 249480 w 24912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248600" h="462916">
                <a:moveTo>
                  <a:pt x="248599" y="0"/>
                </a:moveTo>
                <a:lnTo>
                  <a:pt x="227287" y="0"/>
                </a:lnTo>
                <a:lnTo>
                  <a:pt x="224866" y="952"/>
                </a:lnTo>
                <a:lnTo>
                  <a:pt x="219636" y="4551"/>
                </a:lnTo>
                <a:lnTo>
                  <a:pt x="214137" y="6785"/>
                </a:lnTo>
                <a:lnTo>
                  <a:pt x="211337" y="7381"/>
                </a:lnTo>
                <a:lnTo>
                  <a:pt x="205685" y="10583"/>
                </a:lnTo>
                <a:lnTo>
                  <a:pt x="202845" y="12770"/>
                </a:lnTo>
                <a:lnTo>
                  <a:pt x="199046" y="14228"/>
                </a:lnTo>
                <a:lnTo>
                  <a:pt x="194609" y="15200"/>
                </a:lnTo>
                <a:lnTo>
                  <a:pt x="189746" y="15848"/>
                </a:lnTo>
                <a:lnTo>
                  <a:pt x="185551" y="17233"/>
                </a:lnTo>
                <a:lnTo>
                  <a:pt x="178350" y="21312"/>
                </a:lnTo>
                <a:lnTo>
                  <a:pt x="174144" y="23732"/>
                </a:lnTo>
                <a:lnTo>
                  <a:pt x="164390" y="28963"/>
                </a:lnTo>
                <a:lnTo>
                  <a:pt x="148189" y="37262"/>
                </a:lnTo>
                <a:lnTo>
                  <a:pt x="143559" y="40081"/>
                </a:lnTo>
                <a:lnTo>
                  <a:pt x="135874" y="45754"/>
                </a:lnTo>
                <a:lnTo>
                  <a:pt x="131539" y="49553"/>
                </a:lnTo>
                <a:lnTo>
                  <a:pt x="126744" y="53990"/>
                </a:lnTo>
                <a:lnTo>
                  <a:pt x="121643" y="58853"/>
                </a:lnTo>
                <a:lnTo>
                  <a:pt x="116336" y="63047"/>
                </a:lnTo>
                <a:lnTo>
                  <a:pt x="110894" y="66797"/>
                </a:lnTo>
                <a:lnTo>
                  <a:pt x="105361" y="70249"/>
                </a:lnTo>
                <a:lnTo>
                  <a:pt x="100719" y="74455"/>
                </a:lnTo>
                <a:lnTo>
                  <a:pt x="93022" y="84208"/>
                </a:lnTo>
                <a:lnTo>
                  <a:pt x="86426" y="94893"/>
                </a:lnTo>
                <a:lnTo>
                  <a:pt x="79367" y="105992"/>
                </a:lnTo>
                <a:lnTo>
                  <a:pt x="74818" y="111619"/>
                </a:lnTo>
                <a:lnTo>
                  <a:pt x="69880" y="117275"/>
                </a:lnTo>
                <a:lnTo>
                  <a:pt x="64683" y="122951"/>
                </a:lnTo>
                <a:lnTo>
                  <a:pt x="53828" y="134337"/>
                </a:lnTo>
                <a:lnTo>
                  <a:pt x="50172" y="140040"/>
                </a:lnTo>
                <a:lnTo>
                  <a:pt x="46109" y="151458"/>
                </a:lnTo>
                <a:lnTo>
                  <a:pt x="39224" y="162882"/>
                </a:lnTo>
                <a:lnTo>
                  <a:pt x="34720" y="168595"/>
                </a:lnTo>
                <a:lnTo>
                  <a:pt x="27177" y="180024"/>
                </a:lnTo>
                <a:lnTo>
                  <a:pt x="20649" y="192405"/>
                </a:lnTo>
                <a:lnTo>
                  <a:pt x="17575" y="199707"/>
                </a:lnTo>
                <a:lnTo>
                  <a:pt x="14573" y="207433"/>
                </a:lnTo>
                <a:lnTo>
                  <a:pt x="11237" y="221097"/>
                </a:lnTo>
                <a:lnTo>
                  <a:pt x="8803" y="233520"/>
                </a:lnTo>
                <a:lnTo>
                  <a:pt x="4545" y="245392"/>
                </a:lnTo>
                <a:lnTo>
                  <a:pt x="2018" y="259558"/>
                </a:lnTo>
                <a:lnTo>
                  <a:pt x="1344" y="267336"/>
                </a:lnTo>
                <a:lnTo>
                  <a:pt x="595" y="281058"/>
                </a:lnTo>
                <a:lnTo>
                  <a:pt x="263" y="293507"/>
                </a:lnTo>
                <a:lnTo>
                  <a:pt x="7" y="340010"/>
                </a:lnTo>
                <a:lnTo>
                  <a:pt x="0" y="357178"/>
                </a:lnTo>
                <a:lnTo>
                  <a:pt x="951" y="361944"/>
                </a:lnTo>
                <a:lnTo>
                  <a:pt x="6841" y="374154"/>
                </a:lnTo>
                <a:lnTo>
                  <a:pt x="11929" y="384096"/>
                </a:lnTo>
                <a:lnTo>
                  <a:pt x="17365" y="392324"/>
                </a:lnTo>
                <a:lnTo>
                  <a:pt x="22956" y="400108"/>
                </a:lnTo>
                <a:lnTo>
                  <a:pt x="28616" y="409918"/>
                </a:lnTo>
                <a:lnTo>
                  <a:pt x="34306" y="418089"/>
                </a:lnTo>
                <a:lnTo>
                  <a:pt x="40010" y="424894"/>
                </a:lnTo>
                <a:lnTo>
                  <a:pt x="45720" y="431094"/>
                </a:lnTo>
                <a:lnTo>
                  <a:pt x="49529" y="433128"/>
                </a:lnTo>
                <a:lnTo>
                  <a:pt x="53973" y="434485"/>
                </a:lnTo>
                <a:lnTo>
                  <a:pt x="58841" y="435389"/>
                </a:lnTo>
                <a:lnTo>
                  <a:pt x="63039" y="436944"/>
                </a:lnTo>
                <a:lnTo>
                  <a:pt x="70243" y="441212"/>
                </a:lnTo>
                <a:lnTo>
                  <a:pt x="76619" y="446284"/>
                </a:lnTo>
                <a:lnTo>
                  <a:pt x="79653" y="448970"/>
                </a:lnTo>
                <a:lnTo>
                  <a:pt x="83581" y="450761"/>
                </a:lnTo>
                <a:lnTo>
                  <a:pt x="88105" y="451955"/>
                </a:lnTo>
                <a:lnTo>
                  <a:pt x="93025" y="452750"/>
                </a:lnTo>
                <a:lnTo>
                  <a:pt x="97258" y="453281"/>
                </a:lnTo>
                <a:lnTo>
                  <a:pt x="104502" y="453870"/>
                </a:lnTo>
                <a:lnTo>
                  <a:pt x="107766" y="454980"/>
                </a:lnTo>
                <a:lnTo>
                  <a:pt x="113934" y="458754"/>
                </a:lnTo>
                <a:lnTo>
                  <a:pt x="119851" y="461065"/>
                </a:lnTo>
                <a:lnTo>
                  <a:pt x="125655" y="462092"/>
                </a:lnTo>
                <a:lnTo>
                  <a:pt x="131410" y="462549"/>
                </a:lnTo>
                <a:lnTo>
                  <a:pt x="137142" y="462752"/>
                </a:lnTo>
                <a:lnTo>
                  <a:pt x="145551" y="462893"/>
                </a:lnTo>
                <a:lnTo>
                  <a:pt x="171447" y="4629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MARTPenAnnotation878"/>
          <p:cNvSpPr/>
          <p:nvPr/>
        </p:nvSpPr>
        <p:spPr>
          <a:xfrm>
            <a:off x="2454120" y="4646520"/>
            <a:ext cx="300240" cy="317520"/>
          </a:xfrm>
          <a:custGeom>
            <a:avLst/>
            <a:gdLst>
              <a:gd name="textAreaLeft" fmla="*/ 0 w 300240"/>
              <a:gd name="textAreaRight" fmla="*/ 300600 w 3002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99963" h="317140">
                <a:moveTo>
                  <a:pt x="77077" y="59964"/>
                </a:moveTo>
                <a:lnTo>
                  <a:pt x="77077" y="55414"/>
                </a:lnTo>
                <a:lnTo>
                  <a:pt x="78030" y="53120"/>
                </a:lnTo>
                <a:lnTo>
                  <a:pt x="83922" y="45342"/>
                </a:lnTo>
                <a:lnTo>
                  <a:pt x="89009" y="39813"/>
                </a:lnTo>
                <a:lnTo>
                  <a:pt x="96986" y="34181"/>
                </a:lnTo>
                <a:lnTo>
                  <a:pt x="105928" y="28502"/>
                </a:lnTo>
                <a:lnTo>
                  <a:pt x="113077" y="22804"/>
                </a:lnTo>
                <a:lnTo>
                  <a:pt x="121970" y="17096"/>
                </a:lnTo>
                <a:lnTo>
                  <a:pt x="131320" y="11384"/>
                </a:lnTo>
                <a:lnTo>
                  <a:pt x="138650" y="5671"/>
                </a:lnTo>
                <a:lnTo>
                  <a:pt x="142891" y="3766"/>
                </a:lnTo>
                <a:lnTo>
                  <a:pt x="147623" y="2496"/>
                </a:lnTo>
                <a:lnTo>
                  <a:pt x="152683" y="1650"/>
                </a:lnTo>
                <a:lnTo>
                  <a:pt x="157961" y="1085"/>
                </a:lnTo>
                <a:lnTo>
                  <a:pt x="163385" y="709"/>
                </a:lnTo>
                <a:lnTo>
                  <a:pt x="173539" y="291"/>
                </a:lnTo>
                <a:lnTo>
                  <a:pt x="181227" y="105"/>
                </a:lnTo>
                <a:lnTo>
                  <a:pt x="195460" y="0"/>
                </a:lnTo>
                <a:lnTo>
                  <a:pt x="199814" y="939"/>
                </a:lnTo>
                <a:lnTo>
                  <a:pt x="210493" y="5857"/>
                </a:lnTo>
                <a:lnTo>
                  <a:pt x="216701" y="7341"/>
                </a:lnTo>
                <a:lnTo>
                  <a:pt x="225175" y="13081"/>
                </a:lnTo>
                <a:lnTo>
                  <a:pt x="234339" y="21030"/>
                </a:lnTo>
                <a:lnTo>
                  <a:pt x="241586" y="27738"/>
                </a:lnTo>
                <a:lnTo>
                  <a:pt x="243900" y="30860"/>
                </a:lnTo>
                <a:lnTo>
                  <a:pt x="246471" y="36869"/>
                </a:lnTo>
                <a:lnTo>
                  <a:pt x="247613" y="45255"/>
                </a:lnTo>
                <a:lnTo>
                  <a:pt x="247918" y="50158"/>
                </a:lnTo>
                <a:lnTo>
                  <a:pt x="248257" y="60685"/>
                </a:lnTo>
                <a:lnTo>
                  <a:pt x="248492" y="89587"/>
                </a:lnTo>
                <a:lnTo>
                  <a:pt x="248512" y="104562"/>
                </a:lnTo>
                <a:lnTo>
                  <a:pt x="247564" y="112556"/>
                </a:lnTo>
                <a:lnTo>
                  <a:pt x="245980" y="120743"/>
                </a:lnTo>
                <a:lnTo>
                  <a:pt x="243972" y="129058"/>
                </a:lnTo>
                <a:lnTo>
                  <a:pt x="241681" y="136507"/>
                </a:lnTo>
                <a:lnTo>
                  <a:pt x="239200" y="143378"/>
                </a:lnTo>
                <a:lnTo>
                  <a:pt x="236594" y="149863"/>
                </a:lnTo>
                <a:lnTo>
                  <a:pt x="232952" y="157044"/>
                </a:lnTo>
                <a:lnTo>
                  <a:pt x="228619" y="164690"/>
                </a:lnTo>
                <a:lnTo>
                  <a:pt x="223825" y="172643"/>
                </a:lnTo>
                <a:lnTo>
                  <a:pt x="219677" y="179851"/>
                </a:lnTo>
                <a:lnTo>
                  <a:pt x="212527" y="192940"/>
                </a:lnTo>
                <a:lnTo>
                  <a:pt x="208335" y="199097"/>
                </a:lnTo>
                <a:lnTo>
                  <a:pt x="203635" y="205107"/>
                </a:lnTo>
                <a:lnTo>
                  <a:pt x="198597" y="211018"/>
                </a:lnTo>
                <a:lnTo>
                  <a:pt x="194285" y="217817"/>
                </a:lnTo>
                <a:lnTo>
                  <a:pt x="190458" y="225207"/>
                </a:lnTo>
                <a:lnTo>
                  <a:pt x="186955" y="232991"/>
                </a:lnTo>
                <a:lnTo>
                  <a:pt x="182714" y="239133"/>
                </a:lnTo>
                <a:lnTo>
                  <a:pt x="177982" y="244180"/>
                </a:lnTo>
                <a:lnTo>
                  <a:pt x="172922" y="248497"/>
                </a:lnTo>
                <a:lnTo>
                  <a:pt x="167644" y="253280"/>
                </a:lnTo>
                <a:lnTo>
                  <a:pt x="156699" y="263675"/>
                </a:lnTo>
                <a:lnTo>
                  <a:pt x="151114" y="268161"/>
                </a:lnTo>
                <a:lnTo>
                  <a:pt x="145485" y="272105"/>
                </a:lnTo>
                <a:lnTo>
                  <a:pt x="139827" y="275686"/>
                </a:lnTo>
                <a:lnTo>
                  <a:pt x="134151" y="279026"/>
                </a:lnTo>
                <a:lnTo>
                  <a:pt x="128461" y="282206"/>
                </a:lnTo>
                <a:lnTo>
                  <a:pt x="122763" y="285278"/>
                </a:lnTo>
                <a:lnTo>
                  <a:pt x="113892" y="291231"/>
                </a:lnTo>
                <a:lnTo>
                  <a:pt x="105822" y="297052"/>
                </a:lnTo>
                <a:lnTo>
                  <a:pt x="101003" y="299937"/>
                </a:lnTo>
                <a:lnTo>
                  <a:pt x="95886" y="302814"/>
                </a:lnTo>
                <a:lnTo>
                  <a:pt x="87659" y="306010"/>
                </a:lnTo>
                <a:lnTo>
                  <a:pt x="79875" y="307430"/>
                </a:lnTo>
                <a:lnTo>
                  <a:pt x="75133" y="307809"/>
                </a:lnTo>
                <a:lnTo>
                  <a:pt x="70066" y="308062"/>
                </a:lnTo>
                <a:lnTo>
                  <a:pt x="59356" y="308342"/>
                </a:lnTo>
                <a:lnTo>
                  <a:pt x="53833" y="308417"/>
                </a:lnTo>
                <a:lnTo>
                  <a:pt x="49199" y="307515"/>
                </a:lnTo>
                <a:lnTo>
                  <a:pt x="38125" y="302646"/>
                </a:lnTo>
                <a:lnTo>
                  <a:pt x="31825" y="301173"/>
                </a:lnTo>
                <a:lnTo>
                  <a:pt x="25850" y="297978"/>
                </a:lnTo>
                <a:lnTo>
                  <a:pt x="22924" y="295793"/>
                </a:lnTo>
                <a:lnTo>
                  <a:pt x="19067" y="294336"/>
                </a:lnTo>
                <a:lnTo>
                  <a:pt x="9703" y="292717"/>
                </a:lnTo>
                <a:lnTo>
                  <a:pt x="6444" y="291333"/>
                </a:lnTo>
                <a:lnTo>
                  <a:pt x="4271" y="289458"/>
                </a:lnTo>
                <a:lnTo>
                  <a:pt x="2822" y="287255"/>
                </a:lnTo>
                <a:lnTo>
                  <a:pt x="1213" y="282267"/>
                </a:lnTo>
                <a:lnTo>
                  <a:pt x="306" y="274105"/>
                </a:lnTo>
                <a:lnTo>
                  <a:pt x="38" y="265653"/>
                </a:lnTo>
                <a:lnTo>
                  <a:pt x="0" y="262813"/>
                </a:lnTo>
                <a:lnTo>
                  <a:pt x="928" y="259966"/>
                </a:lnTo>
                <a:lnTo>
                  <a:pt x="5831" y="251409"/>
                </a:lnTo>
                <a:lnTo>
                  <a:pt x="8660" y="242842"/>
                </a:lnTo>
                <a:lnTo>
                  <a:pt x="12697" y="237128"/>
                </a:lnTo>
                <a:lnTo>
                  <a:pt x="20207" y="228874"/>
                </a:lnTo>
                <a:lnTo>
                  <a:pt x="24876" y="224006"/>
                </a:lnTo>
                <a:lnTo>
                  <a:pt x="29894" y="219807"/>
                </a:lnTo>
                <a:lnTo>
                  <a:pt x="35144" y="216057"/>
                </a:lnTo>
                <a:lnTo>
                  <a:pt x="40550" y="212603"/>
                </a:lnTo>
                <a:lnTo>
                  <a:pt x="49095" y="208766"/>
                </a:lnTo>
                <a:lnTo>
                  <a:pt x="57974" y="206108"/>
                </a:lnTo>
                <a:lnTo>
                  <a:pt x="71444" y="201752"/>
                </a:lnTo>
                <a:lnTo>
                  <a:pt x="78085" y="199257"/>
                </a:lnTo>
                <a:lnTo>
                  <a:pt x="84416" y="196641"/>
                </a:lnTo>
                <a:lnTo>
                  <a:pt x="90543" y="193944"/>
                </a:lnTo>
                <a:lnTo>
                  <a:pt x="96532" y="192147"/>
                </a:lnTo>
                <a:lnTo>
                  <a:pt x="102430" y="190948"/>
                </a:lnTo>
                <a:lnTo>
                  <a:pt x="108266" y="190150"/>
                </a:lnTo>
                <a:lnTo>
                  <a:pt x="114063" y="189617"/>
                </a:lnTo>
                <a:lnTo>
                  <a:pt x="119832" y="189262"/>
                </a:lnTo>
                <a:lnTo>
                  <a:pt x="131322" y="188867"/>
                </a:lnTo>
                <a:lnTo>
                  <a:pt x="142779" y="188692"/>
                </a:lnTo>
                <a:lnTo>
                  <a:pt x="148501" y="189597"/>
                </a:lnTo>
                <a:lnTo>
                  <a:pt x="154221" y="191154"/>
                </a:lnTo>
                <a:lnTo>
                  <a:pt x="159939" y="193144"/>
                </a:lnTo>
                <a:lnTo>
                  <a:pt x="165656" y="195424"/>
                </a:lnTo>
                <a:lnTo>
                  <a:pt x="171372" y="197895"/>
                </a:lnTo>
                <a:lnTo>
                  <a:pt x="182804" y="203182"/>
                </a:lnTo>
                <a:lnTo>
                  <a:pt x="194235" y="208706"/>
                </a:lnTo>
                <a:lnTo>
                  <a:pt x="203125" y="214337"/>
                </a:lnTo>
                <a:lnTo>
                  <a:pt x="211203" y="220014"/>
                </a:lnTo>
                <a:lnTo>
                  <a:pt x="216025" y="222862"/>
                </a:lnTo>
                <a:lnTo>
                  <a:pt x="221144" y="225713"/>
                </a:lnTo>
                <a:lnTo>
                  <a:pt x="229372" y="233960"/>
                </a:lnTo>
                <a:lnTo>
                  <a:pt x="236204" y="243024"/>
                </a:lnTo>
                <a:lnTo>
                  <a:pt x="242415" y="250226"/>
                </a:lnTo>
                <a:lnTo>
                  <a:pt x="250891" y="259143"/>
                </a:lnTo>
                <a:lnTo>
                  <a:pt x="276739" y="285323"/>
                </a:lnTo>
                <a:lnTo>
                  <a:pt x="278765" y="288308"/>
                </a:lnTo>
                <a:lnTo>
                  <a:pt x="281016" y="294165"/>
                </a:lnTo>
                <a:lnTo>
                  <a:pt x="282569" y="296108"/>
                </a:lnTo>
                <a:lnTo>
                  <a:pt x="284557" y="297404"/>
                </a:lnTo>
                <a:lnTo>
                  <a:pt x="286835" y="298267"/>
                </a:lnTo>
                <a:lnTo>
                  <a:pt x="288353" y="299795"/>
                </a:lnTo>
                <a:lnTo>
                  <a:pt x="289365" y="301767"/>
                </a:lnTo>
                <a:lnTo>
                  <a:pt x="290490" y="306497"/>
                </a:lnTo>
                <a:lnTo>
                  <a:pt x="290990" y="311774"/>
                </a:lnTo>
                <a:lnTo>
                  <a:pt x="292076" y="313562"/>
                </a:lnTo>
                <a:lnTo>
                  <a:pt x="293752" y="314755"/>
                </a:lnTo>
                <a:lnTo>
                  <a:pt x="299962" y="317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MARTPenAnnotation879"/>
          <p:cNvSpPr/>
          <p:nvPr/>
        </p:nvSpPr>
        <p:spPr>
          <a:xfrm>
            <a:off x="2874960" y="4689360"/>
            <a:ext cx="196920" cy="231840"/>
          </a:xfrm>
          <a:custGeom>
            <a:avLst/>
            <a:gdLst>
              <a:gd name="textAreaLeft" fmla="*/ 0 w 196920"/>
              <a:gd name="textAreaRight" fmla="*/ 197280 w 1969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97169" h="231459">
                <a:moveTo>
                  <a:pt x="0" y="0"/>
                </a:moveTo>
                <a:lnTo>
                  <a:pt x="4551" y="0"/>
                </a:lnTo>
                <a:lnTo>
                  <a:pt x="5892" y="953"/>
                </a:lnTo>
                <a:lnTo>
                  <a:pt x="6786" y="2540"/>
                </a:lnTo>
                <a:lnTo>
                  <a:pt x="8220" y="7381"/>
                </a:lnTo>
                <a:lnTo>
                  <a:pt x="13019" y="12770"/>
                </a:lnTo>
                <a:lnTo>
                  <a:pt x="14395" y="15181"/>
                </a:lnTo>
                <a:lnTo>
                  <a:pt x="15923" y="20400"/>
                </a:lnTo>
                <a:lnTo>
                  <a:pt x="19142" y="25895"/>
                </a:lnTo>
                <a:lnTo>
                  <a:pt x="21334" y="28693"/>
                </a:lnTo>
                <a:lnTo>
                  <a:pt x="23770" y="34343"/>
                </a:lnTo>
                <a:lnTo>
                  <a:pt x="24419" y="37182"/>
                </a:lnTo>
                <a:lnTo>
                  <a:pt x="27680" y="42878"/>
                </a:lnTo>
                <a:lnTo>
                  <a:pt x="32305" y="48585"/>
                </a:lnTo>
                <a:lnTo>
                  <a:pt x="37536" y="54296"/>
                </a:lnTo>
                <a:lnTo>
                  <a:pt x="45835" y="62866"/>
                </a:lnTo>
                <a:lnTo>
                  <a:pt x="58878" y="75988"/>
                </a:lnTo>
                <a:lnTo>
                  <a:pt x="62112" y="80187"/>
                </a:lnTo>
                <a:lnTo>
                  <a:pt x="65706" y="87391"/>
                </a:lnTo>
                <a:lnTo>
                  <a:pt x="68569" y="90646"/>
                </a:lnTo>
                <a:lnTo>
                  <a:pt x="72383" y="93768"/>
                </a:lnTo>
                <a:lnTo>
                  <a:pt x="76830" y="96802"/>
                </a:lnTo>
                <a:lnTo>
                  <a:pt x="81700" y="99777"/>
                </a:lnTo>
                <a:lnTo>
                  <a:pt x="86852" y="102713"/>
                </a:lnTo>
                <a:lnTo>
                  <a:pt x="92192" y="105623"/>
                </a:lnTo>
                <a:lnTo>
                  <a:pt x="96704" y="109468"/>
                </a:lnTo>
                <a:lnTo>
                  <a:pt x="100664" y="113936"/>
                </a:lnTo>
                <a:lnTo>
                  <a:pt x="104257" y="118820"/>
                </a:lnTo>
                <a:lnTo>
                  <a:pt x="107605" y="123028"/>
                </a:lnTo>
                <a:lnTo>
                  <a:pt x="110789" y="126787"/>
                </a:lnTo>
                <a:lnTo>
                  <a:pt x="116867" y="133502"/>
                </a:lnTo>
                <a:lnTo>
                  <a:pt x="122744" y="139662"/>
                </a:lnTo>
                <a:lnTo>
                  <a:pt x="125644" y="143591"/>
                </a:lnTo>
                <a:lnTo>
                  <a:pt x="128531" y="148115"/>
                </a:lnTo>
                <a:lnTo>
                  <a:pt x="131407" y="153036"/>
                </a:lnTo>
                <a:lnTo>
                  <a:pt x="134277" y="157269"/>
                </a:lnTo>
                <a:lnTo>
                  <a:pt x="137143" y="161044"/>
                </a:lnTo>
                <a:lnTo>
                  <a:pt x="142868" y="167777"/>
                </a:lnTo>
                <a:lnTo>
                  <a:pt x="148587" y="173945"/>
                </a:lnTo>
                <a:lnTo>
                  <a:pt x="151446" y="177876"/>
                </a:lnTo>
                <a:lnTo>
                  <a:pt x="154304" y="182402"/>
                </a:lnTo>
                <a:lnTo>
                  <a:pt x="157162" y="187324"/>
                </a:lnTo>
                <a:lnTo>
                  <a:pt x="159067" y="191558"/>
                </a:lnTo>
                <a:lnTo>
                  <a:pt x="160338" y="195333"/>
                </a:lnTo>
                <a:lnTo>
                  <a:pt x="161185" y="198802"/>
                </a:lnTo>
                <a:lnTo>
                  <a:pt x="164665" y="205196"/>
                </a:lnTo>
                <a:lnTo>
                  <a:pt x="169387" y="211214"/>
                </a:lnTo>
                <a:lnTo>
                  <a:pt x="174661" y="217063"/>
                </a:lnTo>
                <a:lnTo>
                  <a:pt x="177401" y="219004"/>
                </a:lnTo>
                <a:lnTo>
                  <a:pt x="182985" y="221160"/>
                </a:lnTo>
                <a:lnTo>
                  <a:pt x="184855" y="222687"/>
                </a:lnTo>
                <a:lnTo>
                  <a:pt x="186102" y="224658"/>
                </a:lnTo>
                <a:lnTo>
                  <a:pt x="188103" y="230115"/>
                </a:lnTo>
                <a:lnTo>
                  <a:pt x="189220" y="230562"/>
                </a:lnTo>
                <a:lnTo>
                  <a:pt x="195316" y="231281"/>
                </a:lnTo>
                <a:lnTo>
                  <a:pt x="197059" y="231448"/>
                </a:lnTo>
                <a:lnTo>
                  <a:pt x="192208" y="231455"/>
                </a:lnTo>
                <a:lnTo>
                  <a:pt x="197168" y="2314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MARTPenAnnotation880"/>
          <p:cNvSpPr/>
          <p:nvPr/>
        </p:nvSpPr>
        <p:spPr>
          <a:xfrm>
            <a:off x="2874960" y="4697280"/>
            <a:ext cx="204840" cy="249480"/>
          </a:xfrm>
          <a:custGeom>
            <a:avLst/>
            <a:gdLst>
              <a:gd name="textAreaLeft" fmla="*/ 0 w 204840"/>
              <a:gd name="textAreaRight" fmla="*/ 205200 w 20484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205697" h="248604">
                <a:moveTo>
                  <a:pt x="205696" y="0"/>
                </a:moveTo>
                <a:lnTo>
                  <a:pt x="197132" y="0"/>
                </a:lnTo>
                <a:lnTo>
                  <a:pt x="197124" y="11932"/>
                </a:lnTo>
                <a:lnTo>
                  <a:pt x="196171" y="14623"/>
                </a:lnTo>
                <a:lnTo>
                  <a:pt x="192573" y="20152"/>
                </a:lnTo>
                <a:lnTo>
                  <a:pt x="187798" y="25784"/>
                </a:lnTo>
                <a:lnTo>
                  <a:pt x="182501" y="32415"/>
                </a:lnTo>
                <a:lnTo>
                  <a:pt x="179755" y="36850"/>
                </a:lnTo>
                <a:lnTo>
                  <a:pt x="176972" y="41712"/>
                </a:lnTo>
                <a:lnTo>
                  <a:pt x="173211" y="46858"/>
                </a:lnTo>
                <a:lnTo>
                  <a:pt x="168800" y="52194"/>
                </a:lnTo>
                <a:lnTo>
                  <a:pt x="163953" y="57656"/>
                </a:lnTo>
                <a:lnTo>
                  <a:pt x="159770" y="63203"/>
                </a:lnTo>
                <a:lnTo>
                  <a:pt x="156028" y="68806"/>
                </a:lnTo>
                <a:lnTo>
                  <a:pt x="152581" y="74445"/>
                </a:lnTo>
                <a:lnTo>
                  <a:pt x="148379" y="80110"/>
                </a:lnTo>
                <a:lnTo>
                  <a:pt x="143672" y="85792"/>
                </a:lnTo>
                <a:lnTo>
                  <a:pt x="138629" y="91485"/>
                </a:lnTo>
                <a:lnTo>
                  <a:pt x="127946" y="102891"/>
                </a:lnTo>
                <a:lnTo>
                  <a:pt x="105565" y="125735"/>
                </a:lnTo>
                <a:lnTo>
                  <a:pt x="100842" y="131449"/>
                </a:lnTo>
                <a:lnTo>
                  <a:pt x="96741" y="137163"/>
                </a:lnTo>
                <a:lnTo>
                  <a:pt x="93054" y="142877"/>
                </a:lnTo>
                <a:lnTo>
                  <a:pt x="88691" y="148591"/>
                </a:lnTo>
                <a:lnTo>
                  <a:pt x="83878" y="154306"/>
                </a:lnTo>
                <a:lnTo>
                  <a:pt x="78763" y="160021"/>
                </a:lnTo>
                <a:lnTo>
                  <a:pt x="74402" y="165736"/>
                </a:lnTo>
                <a:lnTo>
                  <a:pt x="70541" y="171450"/>
                </a:lnTo>
                <a:lnTo>
                  <a:pt x="67015" y="177166"/>
                </a:lnTo>
                <a:lnTo>
                  <a:pt x="63712" y="181928"/>
                </a:lnTo>
                <a:lnTo>
                  <a:pt x="60557" y="186056"/>
                </a:lnTo>
                <a:lnTo>
                  <a:pt x="57502" y="189760"/>
                </a:lnTo>
                <a:lnTo>
                  <a:pt x="53560" y="194134"/>
                </a:lnTo>
                <a:lnTo>
                  <a:pt x="44100" y="204075"/>
                </a:lnTo>
                <a:lnTo>
                  <a:pt x="23179" y="225346"/>
                </a:lnTo>
                <a:lnTo>
                  <a:pt x="20200" y="227383"/>
                </a:lnTo>
                <a:lnTo>
                  <a:pt x="14351" y="229647"/>
                </a:lnTo>
                <a:lnTo>
                  <a:pt x="8576" y="233193"/>
                </a:lnTo>
                <a:lnTo>
                  <a:pt x="105" y="239913"/>
                </a:lnTo>
                <a:lnTo>
                  <a:pt x="0" y="244546"/>
                </a:lnTo>
                <a:lnTo>
                  <a:pt x="937" y="245899"/>
                </a:lnTo>
                <a:lnTo>
                  <a:pt x="2515" y="246800"/>
                </a:lnTo>
                <a:lnTo>
                  <a:pt x="8528" y="2486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MARTPenAnnotation881"/>
          <p:cNvSpPr/>
          <p:nvPr/>
        </p:nvSpPr>
        <p:spPr>
          <a:xfrm>
            <a:off x="3225960" y="4782960"/>
            <a:ext cx="282240" cy="25560"/>
          </a:xfrm>
          <a:custGeom>
            <a:avLst/>
            <a:gdLst>
              <a:gd name="textAreaLeft" fmla="*/ 0 w 282240"/>
              <a:gd name="textAreaRight" fmla="*/ 282600 w 2822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82893" h="25719">
                <a:moveTo>
                  <a:pt x="0" y="8573"/>
                </a:moveTo>
                <a:lnTo>
                  <a:pt x="20151" y="8573"/>
                </a:lnTo>
                <a:lnTo>
                  <a:pt x="22959" y="7621"/>
                </a:lnTo>
                <a:lnTo>
                  <a:pt x="25784" y="6033"/>
                </a:lnTo>
                <a:lnTo>
                  <a:pt x="28619" y="4023"/>
                </a:lnTo>
                <a:lnTo>
                  <a:pt x="32415" y="2682"/>
                </a:lnTo>
                <a:lnTo>
                  <a:pt x="36850" y="1788"/>
                </a:lnTo>
                <a:lnTo>
                  <a:pt x="41711" y="1192"/>
                </a:lnTo>
                <a:lnTo>
                  <a:pt x="49653" y="530"/>
                </a:lnTo>
                <a:lnTo>
                  <a:pt x="57310" y="236"/>
                </a:lnTo>
                <a:lnTo>
                  <a:pt x="78714" y="31"/>
                </a:lnTo>
                <a:lnTo>
                  <a:pt x="202779" y="0"/>
                </a:lnTo>
                <a:lnTo>
                  <a:pt x="207576" y="953"/>
                </a:lnTo>
                <a:lnTo>
                  <a:pt x="211727" y="2541"/>
                </a:lnTo>
                <a:lnTo>
                  <a:pt x="215446" y="4552"/>
                </a:lnTo>
                <a:lnTo>
                  <a:pt x="218878" y="5892"/>
                </a:lnTo>
                <a:lnTo>
                  <a:pt x="222119" y="6786"/>
                </a:lnTo>
                <a:lnTo>
                  <a:pt x="225232" y="7382"/>
                </a:lnTo>
                <a:lnTo>
                  <a:pt x="233771" y="8044"/>
                </a:lnTo>
                <a:lnTo>
                  <a:pt x="238714" y="8220"/>
                </a:lnTo>
                <a:lnTo>
                  <a:pt x="242963" y="9291"/>
                </a:lnTo>
                <a:lnTo>
                  <a:pt x="246748" y="10956"/>
                </a:lnTo>
                <a:lnTo>
                  <a:pt x="250223" y="13019"/>
                </a:lnTo>
                <a:lnTo>
                  <a:pt x="253493" y="14395"/>
                </a:lnTo>
                <a:lnTo>
                  <a:pt x="256626" y="15312"/>
                </a:lnTo>
                <a:lnTo>
                  <a:pt x="259666" y="15923"/>
                </a:lnTo>
                <a:lnTo>
                  <a:pt x="265585" y="16603"/>
                </a:lnTo>
                <a:lnTo>
                  <a:pt x="268496" y="16784"/>
                </a:lnTo>
                <a:lnTo>
                  <a:pt x="270438" y="17857"/>
                </a:lnTo>
                <a:lnTo>
                  <a:pt x="271731" y="19525"/>
                </a:lnTo>
                <a:lnTo>
                  <a:pt x="272595" y="21589"/>
                </a:lnTo>
                <a:lnTo>
                  <a:pt x="274122" y="22965"/>
                </a:lnTo>
                <a:lnTo>
                  <a:pt x="276093" y="23883"/>
                </a:lnTo>
                <a:lnTo>
                  <a:pt x="282892" y="257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MARTPenAnnotation882"/>
          <p:cNvSpPr/>
          <p:nvPr/>
        </p:nvSpPr>
        <p:spPr>
          <a:xfrm>
            <a:off x="3311640" y="4664160"/>
            <a:ext cx="34920" cy="247680"/>
          </a:xfrm>
          <a:custGeom>
            <a:avLst/>
            <a:gdLst>
              <a:gd name="textAreaLeft" fmla="*/ 0 w 34920"/>
              <a:gd name="textAreaRight" fmla="*/ 35280 w 349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4290" h="248603">
                <a:moveTo>
                  <a:pt x="17144" y="0"/>
                </a:moveTo>
                <a:lnTo>
                  <a:pt x="17144" y="4551"/>
                </a:lnTo>
                <a:lnTo>
                  <a:pt x="16191" y="5891"/>
                </a:lnTo>
                <a:lnTo>
                  <a:pt x="14604" y="6785"/>
                </a:lnTo>
                <a:lnTo>
                  <a:pt x="12593" y="7381"/>
                </a:lnTo>
                <a:lnTo>
                  <a:pt x="10300" y="8730"/>
                </a:lnTo>
                <a:lnTo>
                  <a:pt x="7819" y="10583"/>
                </a:lnTo>
                <a:lnTo>
                  <a:pt x="5212" y="12770"/>
                </a:lnTo>
                <a:lnTo>
                  <a:pt x="3474" y="15181"/>
                </a:lnTo>
                <a:lnTo>
                  <a:pt x="2316" y="17740"/>
                </a:lnTo>
                <a:lnTo>
                  <a:pt x="1544" y="20400"/>
                </a:lnTo>
                <a:lnTo>
                  <a:pt x="686" y="25894"/>
                </a:lnTo>
                <a:lnTo>
                  <a:pt x="304" y="32463"/>
                </a:lnTo>
                <a:lnTo>
                  <a:pt x="89" y="45919"/>
                </a:lnTo>
                <a:lnTo>
                  <a:pt x="0" y="100130"/>
                </a:lnTo>
                <a:lnTo>
                  <a:pt x="952" y="105806"/>
                </a:lnTo>
                <a:lnTo>
                  <a:pt x="2539" y="111494"/>
                </a:lnTo>
                <a:lnTo>
                  <a:pt x="4550" y="117193"/>
                </a:lnTo>
                <a:lnTo>
                  <a:pt x="6843" y="122896"/>
                </a:lnTo>
                <a:lnTo>
                  <a:pt x="9324" y="128603"/>
                </a:lnTo>
                <a:lnTo>
                  <a:pt x="11931" y="134313"/>
                </a:lnTo>
                <a:lnTo>
                  <a:pt x="13669" y="139071"/>
                </a:lnTo>
                <a:lnTo>
                  <a:pt x="14827" y="143197"/>
                </a:lnTo>
                <a:lnTo>
                  <a:pt x="15600" y="146899"/>
                </a:lnTo>
                <a:lnTo>
                  <a:pt x="16114" y="151273"/>
                </a:lnTo>
                <a:lnTo>
                  <a:pt x="16458" y="156094"/>
                </a:lnTo>
                <a:lnTo>
                  <a:pt x="16686" y="161212"/>
                </a:lnTo>
                <a:lnTo>
                  <a:pt x="16941" y="171979"/>
                </a:lnTo>
                <a:lnTo>
                  <a:pt x="17104" y="189864"/>
                </a:lnTo>
                <a:lnTo>
                  <a:pt x="18070" y="193251"/>
                </a:lnTo>
                <a:lnTo>
                  <a:pt x="19666" y="196461"/>
                </a:lnTo>
                <a:lnTo>
                  <a:pt x="21683" y="199554"/>
                </a:lnTo>
                <a:lnTo>
                  <a:pt x="23027" y="202568"/>
                </a:lnTo>
                <a:lnTo>
                  <a:pt x="23924" y="205530"/>
                </a:lnTo>
                <a:lnTo>
                  <a:pt x="24920" y="211362"/>
                </a:lnTo>
                <a:lnTo>
                  <a:pt x="25362" y="217129"/>
                </a:lnTo>
                <a:lnTo>
                  <a:pt x="25559" y="222866"/>
                </a:lnTo>
                <a:lnTo>
                  <a:pt x="25707" y="238335"/>
                </a:lnTo>
                <a:lnTo>
                  <a:pt x="25716" y="248567"/>
                </a:lnTo>
                <a:lnTo>
                  <a:pt x="34289" y="2486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MARTPenAnnotation883"/>
          <p:cNvSpPr/>
          <p:nvPr/>
        </p:nvSpPr>
        <p:spPr>
          <a:xfrm>
            <a:off x="3611520" y="4603680"/>
            <a:ext cx="247680" cy="300240"/>
          </a:xfrm>
          <a:custGeom>
            <a:avLst/>
            <a:gdLst>
              <a:gd name="textAreaLeft" fmla="*/ 0 w 247680"/>
              <a:gd name="textAreaRight" fmla="*/ 248040 w 2476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248101" h="300030">
                <a:moveTo>
                  <a:pt x="197168" y="8563"/>
                </a:moveTo>
                <a:lnTo>
                  <a:pt x="188949" y="344"/>
                </a:lnTo>
                <a:lnTo>
                  <a:pt x="181821" y="61"/>
                </a:lnTo>
                <a:lnTo>
                  <a:pt x="168453" y="0"/>
                </a:lnTo>
                <a:lnTo>
                  <a:pt x="164690" y="950"/>
                </a:lnTo>
                <a:lnTo>
                  <a:pt x="160276" y="2535"/>
                </a:lnTo>
                <a:lnTo>
                  <a:pt x="155428" y="4545"/>
                </a:lnTo>
                <a:lnTo>
                  <a:pt x="150291" y="6837"/>
                </a:lnTo>
                <a:lnTo>
                  <a:pt x="139504" y="11924"/>
                </a:lnTo>
                <a:lnTo>
                  <a:pt x="133960" y="13661"/>
                </a:lnTo>
                <a:lnTo>
                  <a:pt x="128359" y="14820"/>
                </a:lnTo>
                <a:lnTo>
                  <a:pt x="122720" y="15592"/>
                </a:lnTo>
                <a:lnTo>
                  <a:pt x="118009" y="17059"/>
                </a:lnTo>
                <a:lnTo>
                  <a:pt x="113915" y="18990"/>
                </a:lnTo>
                <a:lnTo>
                  <a:pt x="110234" y="21229"/>
                </a:lnTo>
                <a:lnTo>
                  <a:pt x="104922" y="23675"/>
                </a:lnTo>
                <a:lnTo>
                  <a:pt x="98523" y="26258"/>
                </a:lnTo>
                <a:lnTo>
                  <a:pt x="91400" y="28932"/>
                </a:lnTo>
                <a:lnTo>
                  <a:pt x="85698" y="30715"/>
                </a:lnTo>
                <a:lnTo>
                  <a:pt x="80945" y="31904"/>
                </a:lnTo>
                <a:lnTo>
                  <a:pt x="76823" y="32696"/>
                </a:lnTo>
                <a:lnTo>
                  <a:pt x="72171" y="33225"/>
                </a:lnTo>
                <a:lnTo>
                  <a:pt x="67164" y="33577"/>
                </a:lnTo>
                <a:lnTo>
                  <a:pt x="57473" y="33968"/>
                </a:lnTo>
                <a:lnTo>
                  <a:pt x="46663" y="34189"/>
                </a:lnTo>
                <a:lnTo>
                  <a:pt x="17651" y="34280"/>
                </a:lnTo>
                <a:lnTo>
                  <a:pt x="17295" y="38832"/>
                </a:lnTo>
                <a:lnTo>
                  <a:pt x="16292" y="40173"/>
                </a:lnTo>
                <a:lnTo>
                  <a:pt x="14672" y="41066"/>
                </a:lnTo>
                <a:lnTo>
                  <a:pt x="12639" y="41662"/>
                </a:lnTo>
                <a:lnTo>
                  <a:pt x="11284" y="43012"/>
                </a:lnTo>
                <a:lnTo>
                  <a:pt x="10380" y="44864"/>
                </a:lnTo>
                <a:lnTo>
                  <a:pt x="9376" y="49462"/>
                </a:lnTo>
                <a:lnTo>
                  <a:pt x="8811" y="57406"/>
                </a:lnTo>
                <a:lnTo>
                  <a:pt x="8644" y="66744"/>
                </a:lnTo>
                <a:lnTo>
                  <a:pt x="8582" y="87392"/>
                </a:lnTo>
                <a:lnTo>
                  <a:pt x="7626" y="90644"/>
                </a:lnTo>
                <a:lnTo>
                  <a:pt x="4025" y="96796"/>
                </a:lnTo>
                <a:lnTo>
                  <a:pt x="1789" y="105246"/>
                </a:lnTo>
                <a:lnTo>
                  <a:pt x="795" y="114398"/>
                </a:lnTo>
                <a:lnTo>
                  <a:pt x="354" y="121641"/>
                </a:lnTo>
                <a:lnTo>
                  <a:pt x="157" y="128036"/>
                </a:lnTo>
                <a:lnTo>
                  <a:pt x="21" y="142795"/>
                </a:lnTo>
                <a:lnTo>
                  <a:pt x="0" y="162471"/>
                </a:lnTo>
                <a:lnTo>
                  <a:pt x="7382" y="162834"/>
                </a:lnTo>
                <a:lnTo>
                  <a:pt x="12771" y="162859"/>
                </a:lnTo>
                <a:lnTo>
                  <a:pt x="15182" y="161909"/>
                </a:lnTo>
                <a:lnTo>
                  <a:pt x="20400" y="158315"/>
                </a:lnTo>
                <a:lnTo>
                  <a:pt x="25895" y="153542"/>
                </a:lnTo>
                <a:lnTo>
                  <a:pt x="31512" y="148246"/>
                </a:lnTo>
                <a:lnTo>
                  <a:pt x="37183" y="142717"/>
                </a:lnTo>
                <a:lnTo>
                  <a:pt x="40981" y="139910"/>
                </a:lnTo>
                <a:lnTo>
                  <a:pt x="45418" y="137085"/>
                </a:lnTo>
                <a:lnTo>
                  <a:pt x="50282" y="134250"/>
                </a:lnTo>
                <a:lnTo>
                  <a:pt x="55429" y="131407"/>
                </a:lnTo>
                <a:lnTo>
                  <a:pt x="66227" y="125708"/>
                </a:lnTo>
                <a:lnTo>
                  <a:pt x="117171" y="100003"/>
                </a:lnTo>
                <a:lnTo>
                  <a:pt x="121929" y="98098"/>
                </a:lnTo>
                <a:lnTo>
                  <a:pt x="126054" y="96828"/>
                </a:lnTo>
                <a:lnTo>
                  <a:pt x="129756" y="95982"/>
                </a:lnTo>
                <a:lnTo>
                  <a:pt x="134129" y="94465"/>
                </a:lnTo>
                <a:lnTo>
                  <a:pt x="138950" y="92501"/>
                </a:lnTo>
                <a:lnTo>
                  <a:pt x="144068" y="90239"/>
                </a:lnTo>
                <a:lnTo>
                  <a:pt x="149385" y="88732"/>
                </a:lnTo>
                <a:lnTo>
                  <a:pt x="154836" y="87727"/>
                </a:lnTo>
                <a:lnTo>
                  <a:pt x="160374" y="87057"/>
                </a:lnTo>
                <a:lnTo>
                  <a:pt x="165971" y="87562"/>
                </a:lnTo>
                <a:lnTo>
                  <a:pt x="171607" y="88852"/>
                </a:lnTo>
                <a:lnTo>
                  <a:pt x="177270" y="90664"/>
                </a:lnTo>
                <a:lnTo>
                  <a:pt x="182950" y="91872"/>
                </a:lnTo>
                <a:lnTo>
                  <a:pt x="188642" y="92678"/>
                </a:lnTo>
                <a:lnTo>
                  <a:pt x="194342" y="93214"/>
                </a:lnTo>
                <a:lnTo>
                  <a:pt x="199093" y="94525"/>
                </a:lnTo>
                <a:lnTo>
                  <a:pt x="203214" y="96351"/>
                </a:lnTo>
                <a:lnTo>
                  <a:pt x="210333" y="100921"/>
                </a:lnTo>
                <a:lnTo>
                  <a:pt x="216672" y="106126"/>
                </a:lnTo>
                <a:lnTo>
                  <a:pt x="219696" y="107895"/>
                </a:lnTo>
                <a:lnTo>
                  <a:pt x="225595" y="109861"/>
                </a:lnTo>
                <a:lnTo>
                  <a:pt x="228502" y="112290"/>
                </a:lnTo>
                <a:lnTo>
                  <a:pt x="234272" y="120069"/>
                </a:lnTo>
                <a:lnTo>
                  <a:pt x="240011" y="127337"/>
                </a:lnTo>
                <a:lnTo>
                  <a:pt x="242875" y="130608"/>
                </a:lnTo>
                <a:lnTo>
                  <a:pt x="244784" y="134694"/>
                </a:lnTo>
                <a:lnTo>
                  <a:pt x="246057" y="139323"/>
                </a:lnTo>
                <a:lnTo>
                  <a:pt x="246906" y="144314"/>
                </a:lnTo>
                <a:lnTo>
                  <a:pt x="247472" y="149546"/>
                </a:lnTo>
                <a:lnTo>
                  <a:pt x="247848" y="154940"/>
                </a:lnTo>
                <a:lnTo>
                  <a:pt x="248100" y="160440"/>
                </a:lnTo>
                <a:lnTo>
                  <a:pt x="247315" y="166012"/>
                </a:lnTo>
                <a:lnTo>
                  <a:pt x="245839" y="171632"/>
                </a:lnTo>
                <a:lnTo>
                  <a:pt x="243903" y="177283"/>
                </a:lnTo>
                <a:lnTo>
                  <a:pt x="242612" y="183909"/>
                </a:lnTo>
                <a:lnTo>
                  <a:pt x="241752" y="191183"/>
                </a:lnTo>
                <a:lnTo>
                  <a:pt x="241178" y="198890"/>
                </a:lnTo>
                <a:lnTo>
                  <a:pt x="239843" y="204980"/>
                </a:lnTo>
                <a:lnTo>
                  <a:pt x="235819" y="214287"/>
                </a:lnTo>
                <a:lnTo>
                  <a:pt x="228200" y="229433"/>
                </a:lnTo>
                <a:lnTo>
                  <a:pt x="222707" y="237856"/>
                </a:lnTo>
                <a:lnTo>
                  <a:pt x="216139" y="245726"/>
                </a:lnTo>
                <a:lnTo>
                  <a:pt x="211720" y="250492"/>
                </a:lnTo>
                <a:lnTo>
                  <a:pt x="195492" y="267278"/>
                </a:lnTo>
                <a:lnTo>
                  <a:pt x="186088" y="276778"/>
                </a:lnTo>
                <a:lnTo>
                  <a:pt x="182161" y="279766"/>
                </a:lnTo>
                <a:lnTo>
                  <a:pt x="177639" y="282710"/>
                </a:lnTo>
                <a:lnTo>
                  <a:pt x="172718" y="285625"/>
                </a:lnTo>
                <a:lnTo>
                  <a:pt x="168486" y="287569"/>
                </a:lnTo>
                <a:lnTo>
                  <a:pt x="161243" y="289728"/>
                </a:lnTo>
                <a:lnTo>
                  <a:pt x="154849" y="293228"/>
                </a:lnTo>
                <a:lnTo>
                  <a:pt x="151810" y="295495"/>
                </a:lnTo>
                <a:lnTo>
                  <a:pt x="145894" y="298014"/>
                </a:lnTo>
                <a:lnTo>
                  <a:pt x="140090" y="299133"/>
                </a:lnTo>
                <a:lnTo>
                  <a:pt x="134335" y="299631"/>
                </a:lnTo>
                <a:lnTo>
                  <a:pt x="128602" y="299852"/>
                </a:lnTo>
                <a:lnTo>
                  <a:pt x="120019" y="299976"/>
                </a:lnTo>
                <a:lnTo>
                  <a:pt x="102871" y="3000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MARTPenAnnotation884"/>
          <p:cNvSpPr/>
          <p:nvPr/>
        </p:nvSpPr>
        <p:spPr>
          <a:xfrm>
            <a:off x="3843360" y="4525920"/>
            <a:ext cx="206280" cy="480960"/>
          </a:xfrm>
          <a:custGeom>
            <a:avLst/>
            <a:gdLst>
              <a:gd name="textAreaLeft" fmla="*/ 0 w 206280"/>
              <a:gd name="textAreaRight" fmla="*/ 206640 w 20628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205582" h="480062">
                <a:moveTo>
                  <a:pt x="0" y="0"/>
                </a:moveTo>
                <a:lnTo>
                  <a:pt x="28619" y="0"/>
                </a:lnTo>
                <a:lnTo>
                  <a:pt x="31462" y="953"/>
                </a:lnTo>
                <a:lnTo>
                  <a:pt x="37161" y="4552"/>
                </a:lnTo>
                <a:lnTo>
                  <a:pt x="40966" y="6844"/>
                </a:lnTo>
                <a:lnTo>
                  <a:pt x="45408" y="9325"/>
                </a:lnTo>
                <a:lnTo>
                  <a:pt x="50275" y="11932"/>
                </a:lnTo>
                <a:lnTo>
                  <a:pt x="55424" y="13670"/>
                </a:lnTo>
                <a:lnTo>
                  <a:pt x="60762" y="14829"/>
                </a:lnTo>
                <a:lnTo>
                  <a:pt x="66225" y="15601"/>
                </a:lnTo>
                <a:lnTo>
                  <a:pt x="71773" y="18021"/>
                </a:lnTo>
                <a:lnTo>
                  <a:pt x="77376" y="21539"/>
                </a:lnTo>
                <a:lnTo>
                  <a:pt x="83017" y="25790"/>
                </a:lnTo>
                <a:lnTo>
                  <a:pt x="88682" y="29576"/>
                </a:lnTo>
                <a:lnTo>
                  <a:pt x="94364" y="33053"/>
                </a:lnTo>
                <a:lnTo>
                  <a:pt x="100057" y="36323"/>
                </a:lnTo>
                <a:lnTo>
                  <a:pt x="105757" y="40408"/>
                </a:lnTo>
                <a:lnTo>
                  <a:pt x="111462" y="45036"/>
                </a:lnTo>
                <a:lnTo>
                  <a:pt x="117171" y="50027"/>
                </a:lnTo>
                <a:lnTo>
                  <a:pt x="122881" y="54306"/>
                </a:lnTo>
                <a:lnTo>
                  <a:pt x="128593" y="58112"/>
                </a:lnTo>
                <a:lnTo>
                  <a:pt x="134306" y="61601"/>
                </a:lnTo>
                <a:lnTo>
                  <a:pt x="140021" y="65833"/>
                </a:lnTo>
                <a:lnTo>
                  <a:pt x="145735" y="70559"/>
                </a:lnTo>
                <a:lnTo>
                  <a:pt x="151449" y="75614"/>
                </a:lnTo>
                <a:lnTo>
                  <a:pt x="156211" y="81842"/>
                </a:lnTo>
                <a:lnTo>
                  <a:pt x="160338" y="88852"/>
                </a:lnTo>
                <a:lnTo>
                  <a:pt x="164042" y="96382"/>
                </a:lnTo>
                <a:lnTo>
                  <a:pt x="168416" y="103307"/>
                </a:lnTo>
                <a:lnTo>
                  <a:pt x="173238" y="109829"/>
                </a:lnTo>
                <a:lnTo>
                  <a:pt x="178357" y="116082"/>
                </a:lnTo>
                <a:lnTo>
                  <a:pt x="182722" y="123108"/>
                </a:lnTo>
                <a:lnTo>
                  <a:pt x="186585" y="130650"/>
                </a:lnTo>
                <a:lnTo>
                  <a:pt x="190112" y="138535"/>
                </a:lnTo>
                <a:lnTo>
                  <a:pt x="193416" y="146649"/>
                </a:lnTo>
                <a:lnTo>
                  <a:pt x="196572" y="154917"/>
                </a:lnTo>
                <a:lnTo>
                  <a:pt x="199628" y="163286"/>
                </a:lnTo>
                <a:lnTo>
                  <a:pt x="201665" y="171722"/>
                </a:lnTo>
                <a:lnTo>
                  <a:pt x="203023" y="180204"/>
                </a:lnTo>
                <a:lnTo>
                  <a:pt x="203929" y="188716"/>
                </a:lnTo>
                <a:lnTo>
                  <a:pt x="204533" y="198201"/>
                </a:lnTo>
                <a:lnTo>
                  <a:pt x="204935" y="208334"/>
                </a:lnTo>
                <a:lnTo>
                  <a:pt x="205501" y="238259"/>
                </a:lnTo>
                <a:lnTo>
                  <a:pt x="205581" y="247422"/>
                </a:lnTo>
                <a:lnTo>
                  <a:pt x="204681" y="257341"/>
                </a:lnTo>
                <a:lnTo>
                  <a:pt x="203129" y="267763"/>
                </a:lnTo>
                <a:lnTo>
                  <a:pt x="201142" y="278521"/>
                </a:lnTo>
                <a:lnTo>
                  <a:pt x="196394" y="300635"/>
                </a:lnTo>
                <a:lnTo>
                  <a:pt x="193794" y="311866"/>
                </a:lnTo>
                <a:lnTo>
                  <a:pt x="191108" y="322211"/>
                </a:lnTo>
                <a:lnTo>
                  <a:pt x="188366" y="331965"/>
                </a:lnTo>
                <a:lnTo>
                  <a:pt x="182778" y="350423"/>
                </a:lnTo>
                <a:lnTo>
                  <a:pt x="177120" y="368151"/>
                </a:lnTo>
                <a:lnTo>
                  <a:pt x="173325" y="376880"/>
                </a:lnTo>
                <a:lnTo>
                  <a:pt x="168890" y="385556"/>
                </a:lnTo>
                <a:lnTo>
                  <a:pt x="159834" y="401863"/>
                </a:lnTo>
                <a:lnTo>
                  <a:pt x="152635" y="415461"/>
                </a:lnTo>
                <a:lnTo>
                  <a:pt x="146260" y="430395"/>
                </a:lnTo>
                <a:lnTo>
                  <a:pt x="140252" y="444652"/>
                </a:lnTo>
                <a:lnTo>
                  <a:pt x="134407" y="454164"/>
                </a:lnTo>
                <a:lnTo>
                  <a:pt x="128634" y="461566"/>
                </a:lnTo>
                <a:lnTo>
                  <a:pt x="122893" y="468031"/>
                </a:lnTo>
                <a:lnTo>
                  <a:pt x="117167" y="474079"/>
                </a:lnTo>
                <a:lnTo>
                  <a:pt x="114306" y="476073"/>
                </a:lnTo>
                <a:lnTo>
                  <a:pt x="108588" y="478288"/>
                </a:lnTo>
                <a:lnTo>
                  <a:pt x="102870" y="4800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MARTPenAnnotation885"/>
          <p:cNvSpPr/>
          <p:nvPr/>
        </p:nvSpPr>
        <p:spPr>
          <a:xfrm>
            <a:off x="4443480" y="4637160"/>
            <a:ext cx="34920" cy="352440"/>
          </a:xfrm>
          <a:custGeom>
            <a:avLst/>
            <a:gdLst>
              <a:gd name="textAreaLeft" fmla="*/ 0 w 34920"/>
              <a:gd name="textAreaRight" fmla="*/ 35280 w 3492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34291" h="351474">
                <a:moveTo>
                  <a:pt x="0" y="0"/>
                </a:moveTo>
                <a:lnTo>
                  <a:pt x="0" y="57663"/>
                </a:lnTo>
                <a:lnTo>
                  <a:pt x="953" y="63206"/>
                </a:lnTo>
                <a:lnTo>
                  <a:pt x="2540" y="68808"/>
                </a:lnTo>
                <a:lnTo>
                  <a:pt x="4551" y="74447"/>
                </a:lnTo>
                <a:lnTo>
                  <a:pt x="5892" y="80111"/>
                </a:lnTo>
                <a:lnTo>
                  <a:pt x="6785" y="85793"/>
                </a:lnTo>
                <a:lnTo>
                  <a:pt x="7381" y="91485"/>
                </a:lnTo>
                <a:lnTo>
                  <a:pt x="7778" y="98138"/>
                </a:lnTo>
                <a:lnTo>
                  <a:pt x="8219" y="113150"/>
                </a:lnTo>
                <a:lnTo>
                  <a:pt x="8526" y="147745"/>
                </a:lnTo>
                <a:lnTo>
                  <a:pt x="8572" y="249805"/>
                </a:lnTo>
                <a:lnTo>
                  <a:pt x="9525" y="257024"/>
                </a:lnTo>
                <a:lnTo>
                  <a:pt x="11112" y="263742"/>
                </a:lnTo>
                <a:lnTo>
                  <a:pt x="13124" y="270125"/>
                </a:lnTo>
                <a:lnTo>
                  <a:pt x="14464" y="275333"/>
                </a:lnTo>
                <a:lnTo>
                  <a:pt x="15358" y="279758"/>
                </a:lnTo>
                <a:lnTo>
                  <a:pt x="16351" y="288167"/>
                </a:lnTo>
                <a:lnTo>
                  <a:pt x="16792" y="298255"/>
                </a:lnTo>
                <a:lnTo>
                  <a:pt x="17040" y="310093"/>
                </a:lnTo>
                <a:lnTo>
                  <a:pt x="17114" y="319633"/>
                </a:lnTo>
                <a:lnTo>
                  <a:pt x="18077" y="322626"/>
                </a:lnTo>
                <a:lnTo>
                  <a:pt x="19671" y="325574"/>
                </a:lnTo>
                <a:lnTo>
                  <a:pt x="21687" y="328492"/>
                </a:lnTo>
                <a:lnTo>
                  <a:pt x="23030" y="331390"/>
                </a:lnTo>
                <a:lnTo>
                  <a:pt x="23926" y="334274"/>
                </a:lnTo>
                <a:lnTo>
                  <a:pt x="24523" y="337149"/>
                </a:lnTo>
                <a:lnTo>
                  <a:pt x="25874" y="339066"/>
                </a:lnTo>
                <a:lnTo>
                  <a:pt x="27727" y="340344"/>
                </a:lnTo>
                <a:lnTo>
                  <a:pt x="29914" y="341196"/>
                </a:lnTo>
                <a:lnTo>
                  <a:pt x="31373" y="342717"/>
                </a:lnTo>
                <a:lnTo>
                  <a:pt x="32345" y="344683"/>
                </a:lnTo>
                <a:lnTo>
                  <a:pt x="34290" y="3514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MARTPenAnnotation886"/>
          <p:cNvSpPr/>
          <p:nvPr/>
        </p:nvSpPr>
        <p:spPr>
          <a:xfrm>
            <a:off x="4340160" y="4800600"/>
            <a:ext cx="274680" cy="34920"/>
          </a:xfrm>
          <a:custGeom>
            <a:avLst/>
            <a:gdLst>
              <a:gd name="textAreaLeft" fmla="*/ 0 w 274680"/>
              <a:gd name="textAreaRight" fmla="*/ 275040 w 27468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74216" h="34291">
                <a:moveTo>
                  <a:pt x="8468" y="34290"/>
                </a:moveTo>
                <a:lnTo>
                  <a:pt x="0" y="34290"/>
                </a:lnTo>
                <a:lnTo>
                  <a:pt x="28588" y="34290"/>
                </a:lnTo>
                <a:lnTo>
                  <a:pt x="32359" y="33337"/>
                </a:lnTo>
                <a:lnTo>
                  <a:pt x="36778" y="31750"/>
                </a:lnTo>
                <a:lnTo>
                  <a:pt x="41628" y="29739"/>
                </a:lnTo>
                <a:lnTo>
                  <a:pt x="45815" y="28398"/>
                </a:lnTo>
                <a:lnTo>
                  <a:pt x="49558" y="27504"/>
                </a:lnTo>
                <a:lnTo>
                  <a:pt x="53006" y="26908"/>
                </a:lnTo>
                <a:lnTo>
                  <a:pt x="58162" y="25559"/>
                </a:lnTo>
                <a:lnTo>
                  <a:pt x="64458" y="23707"/>
                </a:lnTo>
                <a:lnTo>
                  <a:pt x="71512" y="21519"/>
                </a:lnTo>
                <a:lnTo>
                  <a:pt x="78120" y="20061"/>
                </a:lnTo>
                <a:lnTo>
                  <a:pt x="84430" y="19089"/>
                </a:lnTo>
                <a:lnTo>
                  <a:pt x="90541" y="18441"/>
                </a:lnTo>
                <a:lnTo>
                  <a:pt x="95569" y="18009"/>
                </a:lnTo>
                <a:lnTo>
                  <a:pt x="103694" y="17529"/>
                </a:lnTo>
                <a:lnTo>
                  <a:pt x="115560" y="17315"/>
                </a:lnTo>
                <a:lnTo>
                  <a:pt x="141911" y="17179"/>
                </a:lnTo>
                <a:lnTo>
                  <a:pt x="147912" y="16215"/>
                </a:lnTo>
                <a:lnTo>
                  <a:pt x="153818" y="14620"/>
                </a:lnTo>
                <a:lnTo>
                  <a:pt x="159660" y="12604"/>
                </a:lnTo>
                <a:lnTo>
                  <a:pt x="165460" y="11260"/>
                </a:lnTo>
                <a:lnTo>
                  <a:pt x="171232" y="10364"/>
                </a:lnTo>
                <a:lnTo>
                  <a:pt x="176985" y="9767"/>
                </a:lnTo>
                <a:lnTo>
                  <a:pt x="183678" y="9368"/>
                </a:lnTo>
                <a:lnTo>
                  <a:pt x="198734" y="8926"/>
                </a:lnTo>
                <a:lnTo>
                  <a:pt x="214173" y="8677"/>
                </a:lnTo>
                <a:lnTo>
                  <a:pt x="219900" y="7689"/>
                </a:lnTo>
                <a:lnTo>
                  <a:pt x="226575" y="6079"/>
                </a:lnTo>
                <a:lnTo>
                  <a:pt x="233882" y="4052"/>
                </a:lnTo>
                <a:lnTo>
                  <a:pt x="239706" y="2702"/>
                </a:lnTo>
                <a:lnTo>
                  <a:pt x="244542" y="1801"/>
                </a:lnTo>
                <a:lnTo>
                  <a:pt x="248718" y="1200"/>
                </a:lnTo>
                <a:lnTo>
                  <a:pt x="253407" y="800"/>
                </a:lnTo>
                <a:lnTo>
                  <a:pt x="258438" y="533"/>
                </a:lnTo>
                <a:lnTo>
                  <a:pt x="27421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MARTPenAnnotation887"/>
          <p:cNvSpPr/>
          <p:nvPr/>
        </p:nvSpPr>
        <p:spPr>
          <a:xfrm>
            <a:off x="4665600" y="4646520"/>
            <a:ext cx="230400" cy="282600"/>
          </a:xfrm>
          <a:custGeom>
            <a:avLst/>
            <a:gdLst>
              <a:gd name="textAreaLeft" fmla="*/ 0 w 230400"/>
              <a:gd name="textAreaRight" fmla="*/ 230760 w 230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30114" h="282852">
                <a:moveTo>
                  <a:pt x="17145" y="42821"/>
                </a:moveTo>
                <a:lnTo>
                  <a:pt x="17145" y="35440"/>
                </a:lnTo>
                <a:lnTo>
                  <a:pt x="21696" y="30051"/>
                </a:lnTo>
                <a:lnTo>
                  <a:pt x="23989" y="28592"/>
                </a:lnTo>
                <a:lnTo>
                  <a:pt x="29077" y="26973"/>
                </a:lnTo>
                <a:lnTo>
                  <a:pt x="34513" y="23713"/>
                </a:lnTo>
                <a:lnTo>
                  <a:pt x="37296" y="21510"/>
                </a:lnTo>
                <a:lnTo>
                  <a:pt x="41056" y="20041"/>
                </a:lnTo>
                <a:lnTo>
                  <a:pt x="45469" y="19062"/>
                </a:lnTo>
                <a:lnTo>
                  <a:pt x="50315" y="18409"/>
                </a:lnTo>
                <a:lnTo>
                  <a:pt x="55451" y="17021"/>
                </a:lnTo>
                <a:lnTo>
                  <a:pt x="60780" y="15144"/>
                </a:lnTo>
                <a:lnTo>
                  <a:pt x="66237" y="12940"/>
                </a:lnTo>
                <a:lnTo>
                  <a:pt x="70828" y="10518"/>
                </a:lnTo>
                <a:lnTo>
                  <a:pt x="74841" y="7950"/>
                </a:lnTo>
                <a:lnTo>
                  <a:pt x="78469" y="5287"/>
                </a:lnTo>
                <a:lnTo>
                  <a:pt x="82793" y="3510"/>
                </a:lnTo>
                <a:lnTo>
                  <a:pt x="87580" y="2327"/>
                </a:lnTo>
                <a:lnTo>
                  <a:pt x="92677" y="1537"/>
                </a:lnTo>
                <a:lnTo>
                  <a:pt x="97980" y="1011"/>
                </a:lnTo>
                <a:lnTo>
                  <a:pt x="103420" y="660"/>
                </a:lnTo>
                <a:lnTo>
                  <a:pt x="108951" y="426"/>
                </a:lnTo>
                <a:lnTo>
                  <a:pt x="120178" y="167"/>
                </a:lnTo>
                <a:lnTo>
                  <a:pt x="138356" y="0"/>
                </a:lnTo>
                <a:lnTo>
                  <a:pt x="141768" y="939"/>
                </a:lnTo>
                <a:lnTo>
                  <a:pt x="148098" y="4521"/>
                </a:lnTo>
                <a:lnTo>
                  <a:pt x="154086" y="6749"/>
                </a:lnTo>
                <a:lnTo>
                  <a:pt x="157017" y="7343"/>
                </a:lnTo>
                <a:lnTo>
                  <a:pt x="162813" y="10544"/>
                </a:lnTo>
                <a:lnTo>
                  <a:pt x="165692" y="12730"/>
                </a:lnTo>
                <a:lnTo>
                  <a:pt x="167611" y="15141"/>
                </a:lnTo>
                <a:lnTo>
                  <a:pt x="168891" y="17699"/>
                </a:lnTo>
                <a:lnTo>
                  <a:pt x="170312" y="23084"/>
                </a:lnTo>
                <a:lnTo>
                  <a:pt x="171113" y="31470"/>
                </a:lnTo>
                <a:lnTo>
                  <a:pt x="171300" y="37141"/>
                </a:lnTo>
                <a:lnTo>
                  <a:pt x="168843" y="45376"/>
                </a:lnTo>
                <a:lnTo>
                  <a:pt x="166855" y="50240"/>
                </a:lnTo>
                <a:lnTo>
                  <a:pt x="162105" y="58183"/>
                </a:lnTo>
                <a:lnTo>
                  <a:pt x="156820" y="64889"/>
                </a:lnTo>
                <a:lnTo>
                  <a:pt x="151295" y="71044"/>
                </a:lnTo>
                <a:lnTo>
                  <a:pt x="147536" y="74019"/>
                </a:lnTo>
                <a:lnTo>
                  <a:pt x="143125" y="76955"/>
                </a:lnTo>
                <a:lnTo>
                  <a:pt x="138279" y="79864"/>
                </a:lnTo>
                <a:lnTo>
                  <a:pt x="134096" y="82757"/>
                </a:lnTo>
                <a:lnTo>
                  <a:pt x="126908" y="88510"/>
                </a:lnTo>
                <a:lnTo>
                  <a:pt x="120539" y="94242"/>
                </a:lnTo>
                <a:lnTo>
                  <a:pt x="113581" y="99965"/>
                </a:lnTo>
                <a:lnTo>
                  <a:pt x="109058" y="102824"/>
                </a:lnTo>
                <a:lnTo>
                  <a:pt x="104138" y="105683"/>
                </a:lnTo>
                <a:lnTo>
                  <a:pt x="99905" y="107589"/>
                </a:lnTo>
                <a:lnTo>
                  <a:pt x="96131" y="108860"/>
                </a:lnTo>
                <a:lnTo>
                  <a:pt x="89397" y="110272"/>
                </a:lnTo>
                <a:lnTo>
                  <a:pt x="83230" y="110899"/>
                </a:lnTo>
                <a:lnTo>
                  <a:pt x="77314" y="111178"/>
                </a:lnTo>
                <a:lnTo>
                  <a:pt x="68610" y="111401"/>
                </a:lnTo>
                <a:lnTo>
                  <a:pt x="68584" y="111401"/>
                </a:lnTo>
                <a:lnTo>
                  <a:pt x="150655" y="111401"/>
                </a:lnTo>
                <a:lnTo>
                  <a:pt x="156634" y="112354"/>
                </a:lnTo>
                <a:lnTo>
                  <a:pt x="162525" y="113941"/>
                </a:lnTo>
                <a:lnTo>
                  <a:pt x="168358" y="115952"/>
                </a:lnTo>
                <a:lnTo>
                  <a:pt x="174151" y="117293"/>
                </a:lnTo>
                <a:lnTo>
                  <a:pt x="179918" y="118186"/>
                </a:lnTo>
                <a:lnTo>
                  <a:pt x="185668" y="118782"/>
                </a:lnTo>
                <a:lnTo>
                  <a:pt x="190453" y="120131"/>
                </a:lnTo>
                <a:lnTo>
                  <a:pt x="194596" y="121984"/>
                </a:lnTo>
                <a:lnTo>
                  <a:pt x="201740" y="126582"/>
                </a:lnTo>
                <a:lnTo>
                  <a:pt x="208090" y="131801"/>
                </a:lnTo>
                <a:lnTo>
                  <a:pt x="214087" y="137296"/>
                </a:lnTo>
                <a:lnTo>
                  <a:pt x="217020" y="140094"/>
                </a:lnTo>
                <a:lnTo>
                  <a:pt x="218975" y="142912"/>
                </a:lnTo>
                <a:lnTo>
                  <a:pt x="221147" y="148584"/>
                </a:lnTo>
                <a:lnTo>
                  <a:pt x="224652" y="156819"/>
                </a:lnTo>
                <a:lnTo>
                  <a:pt x="226921" y="161682"/>
                </a:lnTo>
                <a:lnTo>
                  <a:pt x="229442" y="169626"/>
                </a:lnTo>
                <a:lnTo>
                  <a:pt x="230113" y="173078"/>
                </a:lnTo>
                <a:lnTo>
                  <a:pt x="229609" y="177284"/>
                </a:lnTo>
                <a:lnTo>
                  <a:pt x="228320" y="181993"/>
                </a:lnTo>
                <a:lnTo>
                  <a:pt x="226508" y="187037"/>
                </a:lnTo>
                <a:lnTo>
                  <a:pt x="221955" y="195182"/>
                </a:lnTo>
                <a:lnTo>
                  <a:pt x="216757" y="202930"/>
                </a:lnTo>
                <a:lnTo>
                  <a:pt x="214037" y="207663"/>
                </a:lnTo>
                <a:lnTo>
                  <a:pt x="211271" y="212723"/>
                </a:lnTo>
                <a:lnTo>
                  <a:pt x="205658" y="220886"/>
                </a:lnTo>
                <a:lnTo>
                  <a:pt x="202828" y="224396"/>
                </a:lnTo>
                <a:lnTo>
                  <a:pt x="199037" y="227688"/>
                </a:lnTo>
                <a:lnTo>
                  <a:pt x="194604" y="230836"/>
                </a:lnTo>
                <a:lnTo>
                  <a:pt x="189743" y="233887"/>
                </a:lnTo>
                <a:lnTo>
                  <a:pt x="184598" y="236873"/>
                </a:lnTo>
                <a:lnTo>
                  <a:pt x="173801" y="242732"/>
                </a:lnTo>
                <a:lnTo>
                  <a:pt x="151348" y="254254"/>
                </a:lnTo>
                <a:lnTo>
                  <a:pt x="139973" y="259981"/>
                </a:lnTo>
                <a:lnTo>
                  <a:pt x="134273" y="261890"/>
                </a:lnTo>
                <a:lnTo>
                  <a:pt x="128568" y="263162"/>
                </a:lnTo>
                <a:lnTo>
                  <a:pt x="122860" y="264010"/>
                </a:lnTo>
                <a:lnTo>
                  <a:pt x="117149" y="265528"/>
                </a:lnTo>
                <a:lnTo>
                  <a:pt x="111437" y="267492"/>
                </a:lnTo>
                <a:lnTo>
                  <a:pt x="105724" y="269754"/>
                </a:lnTo>
                <a:lnTo>
                  <a:pt x="100010" y="271262"/>
                </a:lnTo>
                <a:lnTo>
                  <a:pt x="94296" y="272268"/>
                </a:lnTo>
                <a:lnTo>
                  <a:pt x="88582" y="272938"/>
                </a:lnTo>
                <a:lnTo>
                  <a:pt x="82867" y="273385"/>
                </a:lnTo>
                <a:lnTo>
                  <a:pt x="77152" y="273683"/>
                </a:lnTo>
                <a:lnTo>
                  <a:pt x="65722" y="274014"/>
                </a:lnTo>
                <a:lnTo>
                  <a:pt x="31934" y="274269"/>
                </a:lnTo>
                <a:lnTo>
                  <a:pt x="44" y="274279"/>
                </a:lnTo>
                <a:lnTo>
                  <a:pt x="0" y="28285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MARTPenAnnotation888"/>
          <p:cNvSpPr/>
          <p:nvPr/>
        </p:nvSpPr>
        <p:spPr>
          <a:xfrm>
            <a:off x="5086440" y="4525920"/>
            <a:ext cx="214200" cy="463680"/>
          </a:xfrm>
          <a:custGeom>
            <a:avLst/>
            <a:gdLst>
              <a:gd name="textAreaLeft" fmla="*/ 0 w 214200"/>
              <a:gd name="textAreaRight" fmla="*/ 214560 w 21420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214312" h="462917">
                <a:moveTo>
                  <a:pt x="214311" y="0"/>
                </a:moveTo>
                <a:lnTo>
                  <a:pt x="189899" y="0"/>
                </a:lnTo>
                <a:lnTo>
                  <a:pt x="184094" y="2541"/>
                </a:lnTo>
                <a:lnTo>
                  <a:pt x="179879" y="4552"/>
                </a:lnTo>
                <a:lnTo>
                  <a:pt x="176116" y="6844"/>
                </a:lnTo>
                <a:lnTo>
                  <a:pt x="172655" y="9325"/>
                </a:lnTo>
                <a:lnTo>
                  <a:pt x="169396" y="11932"/>
                </a:lnTo>
                <a:lnTo>
                  <a:pt x="165317" y="14623"/>
                </a:lnTo>
                <a:lnTo>
                  <a:pt x="160694" y="17368"/>
                </a:lnTo>
                <a:lnTo>
                  <a:pt x="155706" y="20152"/>
                </a:lnTo>
                <a:lnTo>
                  <a:pt x="145084" y="25784"/>
                </a:lnTo>
                <a:lnTo>
                  <a:pt x="139585" y="28620"/>
                </a:lnTo>
                <a:lnTo>
                  <a:pt x="134014" y="32415"/>
                </a:lnTo>
                <a:lnTo>
                  <a:pt x="128395" y="36850"/>
                </a:lnTo>
                <a:lnTo>
                  <a:pt x="122743" y="41712"/>
                </a:lnTo>
                <a:lnTo>
                  <a:pt x="117071" y="45906"/>
                </a:lnTo>
                <a:lnTo>
                  <a:pt x="111384" y="49654"/>
                </a:lnTo>
                <a:lnTo>
                  <a:pt x="105688" y="53105"/>
                </a:lnTo>
                <a:lnTo>
                  <a:pt x="100938" y="57311"/>
                </a:lnTo>
                <a:lnTo>
                  <a:pt x="96819" y="62020"/>
                </a:lnTo>
                <a:lnTo>
                  <a:pt x="93121" y="67064"/>
                </a:lnTo>
                <a:lnTo>
                  <a:pt x="88750" y="72332"/>
                </a:lnTo>
                <a:lnTo>
                  <a:pt x="83931" y="77749"/>
                </a:lnTo>
                <a:lnTo>
                  <a:pt x="78814" y="83265"/>
                </a:lnTo>
                <a:lnTo>
                  <a:pt x="73497" y="87895"/>
                </a:lnTo>
                <a:lnTo>
                  <a:pt x="68047" y="91935"/>
                </a:lnTo>
                <a:lnTo>
                  <a:pt x="62510" y="95580"/>
                </a:lnTo>
                <a:lnTo>
                  <a:pt x="57865" y="99915"/>
                </a:lnTo>
                <a:lnTo>
                  <a:pt x="53816" y="104710"/>
                </a:lnTo>
                <a:lnTo>
                  <a:pt x="50165" y="109812"/>
                </a:lnTo>
                <a:lnTo>
                  <a:pt x="35923" y="130645"/>
                </a:lnTo>
                <a:lnTo>
                  <a:pt x="31568" y="137579"/>
                </a:lnTo>
                <a:lnTo>
                  <a:pt x="27713" y="144108"/>
                </a:lnTo>
                <a:lnTo>
                  <a:pt x="24190" y="150364"/>
                </a:lnTo>
                <a:lnTo>
                  <a:pt x="17735" y="162396"/>
                </a:lnTo>
                <a:lnTo>
                  <a:pt x="11692" y="175047"/>
                </a:lnTo>
                <a:lnTo>
                  <a:pt x="8746" y="182421"/>
                </a:lnTo>
                <a:lnTo>
                  <a:pt x="5830" y="190193"/>
                </a:lnTo>
                <a:lnTo>
                  <a:pt x="2591" y="203911"/>
                </a:lnTo>
                <a:lnTo>
                  <a:pt x="1151" y="217310"/>
                </a:lnTo>
                <a:lnTo>
                  <a:pt x="767" y="224884"/>
                </a:lnTo>
                <a:lnTo>
                  <a:pt x="340" y="239966"/>
                </a:lnTo>
                <a:lnTo>
                  <a:pt x="43" y="271078"/>
                </a:lnTo>
                <a:lnTo>
                  <a:pt x="0" y="326556"/>
                </a:lnTo>
                <a:lnTo>
                  <a:pt x="2539" y="335954"/>
                </a:lnTo>
                <a:lnTo>
                  <a:pt x="6843" y="346481"/>
                </a:lnTo>
                <a:lnTo>
                  <a:pt x="11931" y="357510"/>
                </a:lnTo>
                <a:lnTo>
                  <a:pt x="17367" y="366221"/>
                </a:lnTo>
                <a:lnTo>
                  <a:pt x="23910" y="374220"/>
                </a:lnTo>
                <a:lnTo>
                  <a:pt x="28322" y="379020"/>
                </a:lnTo>
                <a:lnTo>
                  <a:pt x="41094" y="392338"/>
                </a:lnTo>
                <a:lnTo>
                  <a:pt x="53942" y="405371"/>
                </a:lnTo>
                <a:lnTo>
                  <a:pt x="57868" y="408360"/>
                </a:lnTo>
                <a:lnTo>
                  <a:pt x="62391" y="411305"/>
                </a:lnTo>
                <a:lnTo>
                  <a:pt x="67311" y="414221"/>
                </a:lnTo>
                <a:lnTo>
                  <a:pt x="72496" y="417118"/>
                </a:lnTo>
                <a:lnTo>
                  <a:pt x="83337" y="422876"/>
                </a:lnTo>
                <a:lnTo>
                  <a:pt x="100151" y="431473"/>
                </a:lnTo>
                <a:lnTo>
                  <a:pt x="105819" y="433381"/>
                </a:lnTo>
                <a:lnTo>
                  <a:pt x="111503" y="434654"/>
                </a:lnTo>
                <a:lnTo>
                  <a:pt x="117198" y="435502"/>
                </a:lnTo>
                <a:lnTo>
                  <a:pt x="122898" y="437019"/>
                </a:lnTo>
                <a:lnTo>
                  <a:pt x="128604" y="438984"/>
                </a:lnTo>
                <a:lnTo>
                  <a:pt x="134313" y="441246"/>
                </a:lnTo>
                <a:lnTo>
                  <a:pt x="139072" y="442754"/>
                </a:lnTo>
                <a:lnTo>
                  <a:pt x="143196" y="443760"/>
                </a:lnTo>
                <a:lnTo>
                  <a:pt x="146899" y="444430"/>
                </a:lnTo>
                <a:lnTo>
                  <a:pt x="151273" y="445830"/>
                </a:lnTo>
                <a:lnTo>
                  <a:pt x="156093" y="447715"/>
                </a:lnTo>
                <a:lnTo>
                  <a:pt x="161211" y="449925"/>
                </a:lnTo>
                <a:lnTo>
                  <a:pt x="165576" y="451397"/>
                </a:lnTo>
                <a:lnTo>
                  <a:pt x="169439" y="452379"/>
                </a:lnTo>
                <a:lnTo>
                  <a:pt x="172966" y="453034"/>
                </a:lnTo>
                <a:lnTo>
                  <a:pt x="179426" y="453761"/>
                </a:lnTo>
                <a:lnTo>
                  <a:pt x="182482" y="453955"/>
                </a:lnTo>
                <a:lnTo>
                  <a:pt x="185471" y="455037"/>
                </a:lnTo>
                <a:lnTo>
                  <a:pt x="191334" y="458779"/>
                </a:lnTo>
                <a:lnTo>
                  <a:pt x="197114" y="461077"/>
                </a:lnTo>
                <a:lnTo>
                  <a:pt x="205719" y="462911"/>
                </a:lnTo>
                <a:lnTo>
                  <a:pt x="205725" y="462913"/>
                </a:lnTo>
                <a:lnTo>
                  <a:pt x="214311" y="4629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MARTPenAnnotation889"/>
          <p:cNvSpPr/>
          <p:nvPr/>
        </p:nvSpPr>
        <p:spPr>
          <a:xfrm>
            <a:off x="5275440" y="4586400"/>
            <a:ext cx="282240" cy="317520"/>
          </a:xfrm>
          <a:custGeom>
            <a:avLst/>
            <a:gdLst>
              <a:gd name="textAreaLeft" fmla="*/ 0 w 282240"/>
              <a:gd name="textAreaRight" fmla="*/ 282600 w 2822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82744" h="317035">
                <a:moveTo>
                  <a:pt x="25568" y="59859"/>
                </a:moveTo>
                <a:lnTo>
                  <a:pt x="25568" y="46840"/>
                </a:lnTo>
                <a:lnTo>
                  <a:pt x="26521" y="44512"/>
                </a:lnTo>
                <a:lnTo>
                  <a:pt x="32412" y="36685"/>
                </a:lnTo>
                <a:lnTo>
                  <a:pt x="40190" y="28333"/>
                </a:lnTo>
                <a:lnTo>
                  <a:pt x="45719" y="22670"/>
                </a:lnTo>
                <a:lnTo>
                  <a:pt x="53892" y="16978"/>
                </a:lnTo>
                <a:lnTo>
                  <a:pt x="58738" y="14127"/>
                </a:lnTo>
                <a:lnTo>
                  <a:pt x="66663" y="8418"/>
                </a:lnTo>
                <a:lnTo>
                  <a:pt x="70109" y="5563"/>
                </a:lnTo>
                <a:lnTo>
                  <a:pt x="75265" y="3659"/>
                </a:lnTo>
                <a:lnTo>
                  <a:pt x="81559" y="2390"/>
                </a:lnTo>
                <a:lnTo>
                  <a:pt x="88613" y="1543"/>
                </a:lnTo>
                <a:lnTo>
                  <a:pt x="95221" y="979"/>
                </a:lnTo>
                <a:lnTo>
                  <a:pt x="101531" y="604"/>
                </a:lnTo>
                <a:lnTo>
                  <a:pt x="113622" y="185"/>
                </a:lnTo>
                <a:lnTo>
                  <a:pt x="125346" y="0"/>
                </a:lnTo>
                <a:lnTo>
                  <a:pt x="131139" y="903"/>
                </a:lnTo>
                <a:lnTo>
                  <a:pt x="136907" y="2457"/>
                </a:lnTo>
                <a:lnTo>
                  <a:pt x="142656" y="4446"/>
                </a:lnTo>
                <a:lnTo>
                  <a:pt x="147442" y="6724"/>
                </a:lnTo>
                <a:lnTo>
                  <a:pt x="155299" y="11796"/>
                </a:lnTo>
                <a:lnTo>
                  <a:pt x="161966" y="17225"/>
                </a:lnTo>
                <a:lnTo>
                  <a:pt x="165078" y="20006"/>
                </a:lnTo>
                <a:lnTo>
                  <a:pt x="171075" y="28176"/>
                </a:lnTo>
                <a:lnTo>
                  <a:pt x="174008" y="33022"/>
                </a:lnTo>
                <a:lnTo>
                  <a:pt x="176915" y="38158"/>
                </a:lnTo>
                <a:lnTo>
                  <a:pt x="182686" y="48944"/>
                </a:lnTo>
                <a:lnTo>
                  <a:pt x="184606" y="54487"/>
                </a:lnTo>
                <a:lnTo>
                  <a:pt x="185886" y="60088"/>
                </a:lnTo>
                <a:lnTo>
                  <a:pt x="186739" y="65726"/>
                </a:lnTo>
                <a:lnTo>
                  <a:pt x="186355" y="72343"/>
                </a:lnTo>
                <a:lnTo>
                  <a:pt x="185147" y="79611"/>
                </a:lnTo>
                <a:lnTo>
                  <a:pt x="183389" y="87315"/>
                </a:lnTo>
                <a:lnTo>
                  <a:pt x="181265" y="95308"/>
                </a:lnTo>
                <a:lnTo>
                  <a:pt x="176364" y="111809"/>
                </a:lnTo>
                <a:lnTo>
                  <a:pt x="162642" y="154224"/>
                </a:lnTo>
                <a:lnTo>
                  <a:pt x="159814" y="162774"/>
                </a:lnTo>
                <a:lnTo>
                  <a:pt x="156022" y="170379"/>
                </a:lnTo>
                <a:lnTo>
                  <a:pt x="151590" y="177354"/>
                </a:lnTo>
                <a:lnTo>
                  <a:pt x="146730" y="183909"/>
                </a:lnTo>
                <a:lnTo>
                  <a:pt x="141586" y="190184"/>
                </a:lnTo>
                <a:lnTo>
                  <a:pt x="136250" y="196272"/>
                </a:lnTo>
                <a:lnTo>
                  <a:pt x="130789" y="202236"/>
                </a:lnTo>
                <a:lnTo>
                  <a:pt x="119641" y="213942"/>
                </a:lnTo>
                <a:lnTo>
                  <a:pt x="96961" y="236980"/>
                </a:lnTo>
                <a:lnTo>
                  <a:pt x="91261" y="241757"/>
                </a:lnTo>
                <a:lnTo>
                  <a:pt x="85556" y="245894"/>
                </a:lnTo>
                <a:lnTo>
                  <a:pt x="79848" y="249605"/>
                </a:lnTo>
                <a:lnTo>
                  <a:pt x="75089" y="252079"/>
                </a:lnTo>
                <a:lnTo>
                  <a:pt x="67263" y="254827"/>
                </a:lnTo>
                <a:lnTo>
                  <a:pt x="60609" y="258589"/>
                </a:lnTo>
                <a:lnTo>
                  <a:pt x="57501" y="260926"/>
                </a:lnTo>
                <a:lnTo>
                  <a:pt x="53524" y="262483"/>
                </a:lnTo>
                <a:lnTo>
                  <a:pt x="48968" y="263522"/>
                </a:lnTo>
                <a:lnTo>
                  <a:pt x="44026" y="264214"/>
                </a:lnTo>
                <a:lnTo>
                  <a:pt x="39778" y="263723"/>
                </a:lnTo>
                <a:lnTo>
                  <a:pt x="35994" y="262443"/>
                </a:lnTo>
                <a:lnTo>
                  <a:pt x="29250" y="259434"/>
                </a:lnTo>
                <a:lnTo>
                  <a:pt x="23077" y="258096"/>
                </a:lnTo>
                <a:lnTo>
                  <a:pt x="17158" y="254962"/>
                </a:lnTo>
                <a:lnTo>
                  <a:pt x="8471" y="247842"/>
                </a:lnTo>
                <a:lnTo>
                  <a:pt x="5598" y="245188"/>
                </a:lnTo>
                <a:lnTo>
                  <a:pt x="3682" y="242467"/>
                </a:lnTo>
                <a:lnTo>
                  <a:pt x="1554" y="236903"/>
                </a:lnTo>
                <a:lnTo>
                  <a:pt x="608" y="228715"/>
                </a:lnTo>
                <a:lnTo>
                  <a:pt x="187" y="219678"/>
                </a:lnTo>
                <a:lnTo>
                  <a:pt x="0" y="212487"/>
                </a:lnTo>
                <a:lnTo>
                  <a:pt x="903" y="209236"/>
                </a:lnTo>
                <a:lnTo>
                  <a:pt x="4445" y="203084"/>
                </a:lnTo>
                <a:lnTo>
                  <a:pt x="11796" y="194265"/>
                </a:lnTo>
                <a:lnTo>
                  <a:pt x="20006" y="185619"/>
                </a:lnTo>
                <a:lnTo>
                  <a:pt x="28176" y="179887"/>
                </a:lnTo>
                <a:lnTo>
                  <a:pt x="33021" y="177025"/>
                </a:lnTo>
                <a:lnTo>
                  <a:pt x="40945" y="173845"/>
                </a:lnTo>
                <a:lnTo>
                  <a:pt x="48595" y="171480"/>
                </a:lnTo>
                <a:lnTo>
                  <a:pt x="53302" y="169515"/>
                </a:lnTo>
                <a:lnTo>
                  <a:pt x="58345" y="167253"/>
                </a:lnTo>
                <a:lnTo>
                  <a:pt x="63611" y="165744"/>
                </a:lnTo>
                <a:lnTo>
                  <a:pt x="69028" y="164739"/>
                </a:lnTo>
                <a:lnTo>
                  <a:pt x="74544" y="164069"/>
                </a:lnTo>
                <a:lnTo>
                  <a:pt x="80126" y="163622"/>
                </a:lnTo>
                <a:lnTo>
                  <a:pt x="85753" y="163324"/>
                </a:lnTo>
                <a:lnTo>
                  <a:pt x="97084" y="162993"/>
                </a:lnTo>
                <a:lnTo>
                  <a:pt x="108471" y="162846"/>
                </a:lnTo>
                <a:lnTo>
                  <a:pt x="114174" y="163760"/>
                </a:lnTo>
                <a:lnTo>
                  <a:pt x="119881" y="165321"/>
                </a:lnTo>
                <a:lnTo>
                  <a:pt x="125591" y="167315"/>
                </a:lnTo>
                <a:lnTo>
                  <a:pt x="131303" y="169596"/>
                </a:lnTo>
                <a:lnTo>
                  <a:pt x="137015" y="172069"/>
                </a:lnTo>
                <a:lnTo>
                  <a:pt x="148442" y="177357"/>
                </a:lnTo>
                <a:lnTo>
                  <a:pt x="182731" y="194191"/>
                </a:lnTo>
                <a:lnTo>
                  <a:pt x="194161" y="199890"/>
                </a:lnTo>
                <a:lnTo>
                  <a:pt x="198923" y="203695"/>
                </a:lnTo>
                <a:lnTo>
                  <a:pt x="206755" y="213003"/>
                </a:lnTo>
                <a:lnTo>
                  <a:pt x="211129" y="217201"/>
                </a:lnTo>
                <a:lnTo>
                  <a:pt x="215950" y="220950"/>
                </a:lnTo>
                <a:lnTo>
                  <a:pt x="221070" y="224403"/>
                </a:lnTo>
                <a:lnTo>
                  <a:pt x="229298" y="233320"/>
                </a:lnTo>
                <a:lnTo>
                  <a:pt x="232826" y="238364"/>
                </a:lnTo>
                <a:lnTo>
                  <a:pt x="236130" y="243633"/>
                </a:lnTo>
                <a:lnTo>
                  <a:pt x="239285" y="249049"/>
                </a:lnTo>
                <a:lnTo>
                  <a:pt x="242341" y="254566"/>
                </a:lnTo>
                <a:lnTo>
                  <a:pt x="248276" y="263235"/>
                </a:lnTo>
                <a:lnTo>
                  <a:pt x="254090" y="271215"/>
                </a:lnTo>
                <a:lnTo>
                  <a:pt x="259848" y="281113"/>
                </a:lnTo>
                <a:lnTo>
                  <a:pt x="265583" y="289322"/>
                </a:lnTo>
                <a:lnTo>
                  <a:pt x="268445" y="292844"/>
                </a:lnTo>
                <a:lnTo>
                  <a:pt x="271626" y="299298"/>
                </a:lnTo>
                <a:lnTo>
                  <a:pt x="272474" y="302352"/>
                </a:lnTo>
                <a:lnTo>
                  <a:pt x="275957" y="308286"/>
                </a:lnTo>
                <a:lnTo>
                  <a:pt x="282743" y="3170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MARTPenAnnotation890"/>
          <p:cNvSpPr/>
          <p:nvPr/>
        </p:nvSpPr>
        <p:spPr>
          <a:xfrm>
            <a:off x="5643720" y="4637160"/>
            <a:ext cx="179280" cy="231840"/>
          </a:xfrm>
          <a:custGeom>
            <a:avLst/>
            <a:gdLst>
              <a:gd name="textAreaLeft" fmla="*/ 0 w 179280"/>
              <a:gd name="textAreaRight" fmla="*/ 179640 w 1792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80023" h="231458">
                <a:moveTo>
                  <a:pt x="0" y="0"/>
                </a:moveTo>
                <a:lnTo>
                  <a:pt x="4551" y="0"/>
                </a:lnTo>
                <a:lnTo>
                  <a:pt x="5892" y="953"/>
                </a:lnTo>
                <a:lnTo>
                  <a:pt x="6785" y="2540"/>
                </a:lnTo>
                <a:lnTo>
                  <a:pt x="7381" y="4551"/>
                </a:lnTo>
                <a:lnTo>
                  <a:pt x="8730" y="5892"/>
                </a:lnTo>
                <a:lnTo>
                  <a:pt x="10583" y="6785"/>
                </a:lnTo>
                <a:lnTo>
                  <a:pt x="12770" y="7381"/>
                </a:lnTo>
                <a:lnTo>
                  <a:pt x="17741" y="10583"/>
                </a:lnTo>
                <a:lnTo>
                  <a:pt x="20400" y="12770"/>
                </a:lnTo>
                <a:lnTo>
                  <a:pt x="23125" y="16134"/>
                </a:lnTo>
                <a:lnTo>
                  <a:pt x="25894" y="20281"/>
                </a:lnTo>
                <a:lnTo>
                  <a:pt x="28693" y="24951"/>
                </a:lnTo>
                <a:lnTo>
                  <a:pt x="31511" y="29016"/>
                </a:lnTo>
                <a:lnTo>
                  <a:pt x="34342" y="32679"/>
                </a:lnTo>
                <a:lnTo>
                  <a:pt x="37182" y="36074"/>
                </a:lnTo>
                <a:lnTo>
                  <a:pt x="40028" y="39289"/>
                </a:lnTo>
                <a:lnTo>
                  <a:pt x="45731" y="45402"/>
                </a:lnTo>
                <a:lnTo>
                  <a:pt x="70247" y="70218"/>
                </a:lnTo>
                <a:lnTo>
                  <a:pt x="73501" y="74434"/>
                </a:lnTo>
                <a:lnTo>
                  <a:pt x="76624" y="79151"/>
                </a:lnTo>
                <a:lnTo>
                  <a:pt x="79657" y="84200"/>
                </a:lnTo>
                <a:lnTo>
                  <a:pt x="82632" y="88518"/>
                </a:lnTo>
                <a:lnTo>
                  <a:pt x="85568" y="92350"/>
                </a:lnTo>
                <a:lnTo>
                  <a:pt x="88478" y="95857"/>
                </a:lnTo>
                <a:lnTo>
                  <a:pt x="91370" y="100100"/>
                </a:lnTo>
                <a:lnTo>
                  <a:pt x="94251" y="104833"/>
                </a:lnTo>
                <a:lnTo>
                  <a:pt x="97124" y="109894"/>
                </a:lnTo>
                <a:lnTo>
                  <a:pt x="100945" y="115173"/>
                </a:lnTo>
                <a:lnTo>
                  <a:pt x="105396" y="120597"/>
                </a:lnTo>
                <a:lnTo>
                  <a:pt x="114471" y="130751"/>
                </a:lnTo>
                <a:lnTo>
                  <a:pt x="121678" y="138439"/>
                </a:lnTo>
                <a:lnTo>
                  <a:pt x="123982" y="142775"/>
                </a:lnTo>
                <a:lnTo>
                  <a:pt x="125517" y="147571"/>
                </a:lnTo>
                <a:lnTo>
                  <a:pt x="126540" y="152673"/>
                </a:lnTo>
                <a:lnTo>
                  <a:pt x="128175" y="157980"/>
                </a:lnTo>
                <a:lnTo>
                  <a:pt x="130218" y="163422"/>
                </a:lnTo>
                <a:lnTo>
                  <a:pt x="132531" y="168956"/>
                </a:lnTo>
                <a:lnTo>
                  <a:pt x="135027" y="173597"/>
                </a:lnTo>
                <a:lnTo>
                  <a:pt x="137643" y="177644"/>
                </a:lnTo>
                <a:lnTo>
                  <a:pt x="140339" y="181295"/>
                </a:lnTo>
                <a:lnTo>
                  <a:pt x="143090" y="185633"/>
                </a:lnTo>
                <a:lnTo>
                  <a:pt x="145876" y="190430"/>
                </a:lnTo>
                <a:lnTo>
                  <a:pt x="148685" y="195534"/>
                </a:lnTo>
                <a:lnTo>
                  <a:pt x="151511" y="199888"/>
                </a:lnTo>
                <a:lnTo>
                  <a:pt x="154348" y="203744"/>
                </a:lnTo>
                <a:lnTo>
                  <a:pt x="157190" y="207267"/>
                </a:lnTo>
                <a:lnTo>
                  <a:pt x="160039" y="210568"/>
                </a:lnTo>
                <a:lnTo>
                  <a:pt x="162890" y="213721"/>
                </a:lnTo>
                <a:lnTo>
                  <a:pt x="165743" y="216776"/>
                </a:lnTo>
                <a:lnTo>
                  <a:pt x="167646" y="219765"/>
                </a:lnTo>
                <a:lnTo>
                  <a:pt x="169759" y="225626"/>
                </a:lnTo>
                <a:lnTo>
                  <a:pt x="170949" y="229730"/>
                </a:lnTo>
                <a:lnTo>
                  <a:pt x="172069" y="230306"/>
                </a:lnTo>
                <a:lnTo>
                  <a:pt x="177243" y="231116"/>
                </a:lnTo>
                <a:lnTo>
                  <a:pt x="180022" y="2314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MARTPenAnnotation891"/>
          <p:cNvSpPr/>
          <p:nvPr/>
        </p:nvSpPr>
        <p:spPr>
          <a:xfrm>
            <a:off x="5608800" y="4638600"/>
            <a:ext cx="223560" cy="212760"/>
          </a:xfrm>
          <a:custGeom>
            <a:avLst/>
            <a:gdLst>
              <a:gd name="textAreaLeft" fmla="*/ 0 w 223560"/>
              <a:gd name="textAreaRight" fmla="*/ 223920 w 223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22886" h="213961">
                <a:moveTo>
                  <a:pt x="222885" y="8220"/>
                </a:moveTo>
                <a:lnTo>
                  <a:pt x="214666" y="0"/>
                </a:lnTo>
                <a:lnTo>
                  <a:pt x="209866" y="4303"/>
                </a:lnTo>
                <a:lnTo>
                  <a:pt x="194171" y="19807"/>
                </a:lnTo>
                <a:lnTo>
                  <a:pt x="105715" y="108245"/>
                </a:lnTo>
                <a:lnTo>
                  <a:pt x="100004" y="114908"/>
                </a:lnTo>
                <a:lnTo>
                  <a:pt x="94292" y="122208"/>
                </a:lnTo>
                <a:lnTo>
                  <a:pt x="88579" y="129932"/>
                </a:lnTo>
                <a:lnTo>
                  <a:pt x="82865" y="136034"/>
                </a:lnTo>
                <a:lnTo>
                  <a:pt x="77151" y="141054"/>
                </a:lnTo>
                <a:lnTo>
                  <a:pt x="71437" y="145353"/>
                </a:lnTo>
                <a:lnTo>
                  <a:pt x="65722" y="150125"/>
                </a:lnTo>
                <a:lnTo>
                  <a:pt x="60007" y="155211"/>
                </a:lnTo>
                <a:lnTo>
                  <a:pt x="49530" y="164989"/>
                </a:lnTo>
                <a:lnTo>
                  <a:pt x="38277" y="175849"/>
                </a:lnTo>
                <a:lnTo>
                  <a:pt x="31934" y="182099"/>
                </a:lnTo>
                <a:lnTo>
                  <a:pt x="27957" y="185099"/>
                </a:lnTo>
                <a:lnTo>
                  <a:pt x="23401" y="188052"/>
                </a:lnTo>
                <a:lnTo>
                  <a:pt x="11501" y="195084"/>
                </a:lnTo>
                <a:lnTo>
                  <a:pt x="4889" y="200852"/>
                </a:lnTo>
                <a:lnTo>
                  <a:pt x="430" y="204989"/>
                </a:lnTo>
                <a:lnTo>
                  <a:pt x="191" y="207750"/>
                </a:lnTo>
                <a:lnTo>
                  <a:pt x="0" y="2139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MARTPenAnnotation892"/>
          <p:cNvSpPr/>
          <p:nvPr/>
        </p:nvSpPr>
        <p:spPr>
          <a:xfrm>
            <a:off x="5961240" y="4689360"/>
            <a:ext cx="299880" cy="25560"/>
          </a:xfrm>
          <a:custGeom>
            <a:avLst/>
            <a:gdLst>
              <a:gd name="textAreaLeft" fmla="*/ 0 w 299880"/>
              <a:gd name="textAreaRight" fmla="*/ 300240 w 2998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00038" h="25718">
                <a:moveTo>
                  <a:pt x="0" y="8571"/>
                </a:moveTo>
                <a:lnTo>
                  <a:pt x="74424" y="8571"/>
                </a:lnTo>
                <a:lnTo>
                  <a:pt x="81049" y="7619"/>
                </a:lnTo>
                <a:lnTo>
                  <a:pt x="88322" y="6032"/>
                </a:lnTo>
                <a:lnTo>
                  <a:pt x="96029" y="4021"/>
                </a:lnTo>
                <a:lnTo>
                  <a:pt x="103072" y="2680"/>
                </a:lnTo>
                <a:lnTo>
                  <a:pt x="109672" y="1787"/>
                </a:lnTo>
                <a:lnTo>
                  <a:pt x="115977" y="1190"/>
                </a:lnTo>
                <a:lnTo>
                  <a:pt x="123038" y="793"/>
                </a:lnTo>
                <a:lnTo>
                  <a:pt x="138503" y="352"/>
                </a:lnTo>
                <a:lnTo>
                  <a:pt x="214105" y="3"/>
                </a:lnTo>
                <a:lnTo>
                  <a:pt x="237131" y="0"/>
                </a:lnTo>
                <a:lnTo>
                  <a:pt x="241907" y="953"/>
                </a:lnTo>
                <a:lnTo>
                  <a:pt x="246044" y="2539"/>
                </a:lnTo>
                <a:lnTo>
                  <a:pt x="249754" y="4550"/>
                </a:lnTo>
                <a:lnTo>
                  <a:pt x="254133" y="5891"/>
                </a:lnTo>
                <a:lnTo>
                  <a:pt x="258957" y="6784"/>
                </a:lnTo>
                <a:lnTo>
                  <a:pt x="264078" y="7380"/>
                </a:lnTo>
                <a:lnTo>
                  <a:pt x="272308" y="8042"/>
                </a:lnTo>
                <a:lnTo>
                  <a:pt x="275836" y="8218"/>
                </a:lnTo>
                <a:lnTo>
                  <a:pt x="278188" y="9289"/>
                </a:lnTo>
                <a:lnTo>
                  <a:pt x="279756" y="10955"/>
                </a:lnTo>
                <a:lnTo>
                  <a:pt x="280801" y="13018"/>
                </a:lnTo>
                <a:lnTo>
                  <a:pt x="282451" y="14394"/>
                </a:lnTo>
                <a:lnTo>
                  <a:pt x="284503" y="15310"/>
                </a:lnTo>
                <a:lnTo>
                  <a:pt x="290090" y="16782"/>
                </a:lnTo>
                <a:lnTo>
                  <a:pt x="291500" y="17855"/>
                </a:lnTo>
                <a:lnTo>
                  <a:pt x="293394" y="19523"/>
                </a:lnTo>
                <a:lnTo>
                  <a:pt x="300037" y="257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MARTPenAnnotation893"/>
          <p:cNvSpPr/>
          <p:nvPr/>
        </p:nvSpPr>
        <p:spPr>
          <a:xfrm>
            <a:off x="6037200" y="4578480"/>
            <a:ext cx="60480" cy="272880"/>
          </a:xfrm>
          <a:custGeom>
            <a:avLst/>
            <a:gdLst>
              <a:gd name="textAreaLeft" fmla="*/ 0 w 60480"/>
              <a:gd name="textAreaRight" fmla="*/ 60840 w 6048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59900" h="274321">
                <a:moveTo>
                  <a:pt x="25610" y="0"/>
                </a:moveTo>
                <a:lnTo>
                  <a:pt x="1124" y="0"/>
                </a:lnTo>
                <a:lnTo>
                  <a:pt x="714" y="952"/>
                </a:lnTo>
                <a:lnTo>
                  <a:pt x="0" y="7381"/>
                </a:lnTo>
                <a:lnTo>
                  <a:pt x="917" y="8730"/>
                </a:lnTo>
                <a:lnTo>
                  <a:pt x="2480" y="10583"/>
                </a:lnTo>
                <a:lnTo>
                  <a:pt x="4475" y="12770"/>
                </a:lnTo>
                <a:lnTo>
                  <a:pt x="5805" y="15181"/>
                </a:lnTo>
                <a:lnTo>
                  <a:pt x="7282" y="20400"/>
                </a:lnTo>
                <a:lnTo>
                  <a:pt x="8629" y="24077"/>
                </a:lnTo>
                <a:lnTo>
                  <a:pt x="10480" y="28434"/>
                </a:lnTo>
                <a:lnTo>
                  <a:pt x="12665" y="33243"/>
                </a:lnTo>
                <a:lnTo>
                  <a:pt x="15075" y="37402"/>
                </a:lnTo>
                <a:lnTo>
                  <a:pt x="17634" y="41127"/>
                </a:lnTo>
                <a:lnTo>
                  <a:pt x="20293" y="44562"/>
                </a:lnTo>
                <a:lnTo>
                  <a:pt x="22065" y="48758"/>
                </a:lnTo>
                <a:lnTo>
                  <a:pt x="23247" y="53460"/>
                </a:lnTo>
                <a:lnTo>
                  <a:pt x="24034" y="58500"/>
                </a:lnTo>
                <a:lnTo>
                  <a:pt x="25512" y="62812"/>
                </a:lnTo>
                <a:lnTo>
                  <a:pt x="27450" y="66640"/>
                </a:lnTo>
                <a:lnTo>
                  <a:pt x="29694" y="70144"/>
                </a:lnTo>
                <a:lnTo>
                  <a:pt x="32143" y="74385"/>
                </a:lnTo>
                <a:lnTo>
                  <a:pt x="37403" y="84177"/>
                </a:lnTo>
                <a:lnTo>
                  <a:pt x="39187" y="89456"/>
                </a:lnTo>
                <a:lnTo>
                  <a:pt x="40376" y="94880"/>
                </a:lnTo>
                <a:lnTo>
                  <a:pt x="41169" y="100401"/>
                </a:lnTo>
                <a:lnTo>
                  <a:pt x="42650" y="105986"/>
                </a:lnTo>
                <a:lnTo>
                  <a:pt x="44590" y="111615"/>
                </a:lnTo>
                <a:lnTo>
                  <a:pt x="46835" y="117272"/>
                </a:lnTo>
                <a:lnTo>
                  <a:pt x="48333" y="122949"/>
                </a:lnTo>
                <a:lnTo>
                  <a:pt x="49331" y="128638"/>
                </a:lnTo>
                <a:lnTo>
                  <a:pt x="49997" y="134336"/>
                </a:lnTo>
                <a:lnTo>
                  <a:pt x="51393" y="140040"/>
                </a:lnTo>
                <a:lnTo>
                  <a:pt x="53275" y="145747"/>
                </a:lnTo>
                <a:lnTo>
                  <a:pt x="55483" y="151457"/>
                </a:lnTo>
                <a:lnTo>
                  <a:pt x="56956" y="157169"/>
                </a:lnTo>
                <a:lnTo>
                  <a:pt x="57937" y="162882"/>
                </a:lnTo>
                <a:lnTo>
                  <a:pt x="58591" y="168596"/>
                </a:lnTo>
                <a:lnTo>
                  <a:pt x="59027" y="174309"/>
                </a:lnTo>
                <a:lnTo>
                  <a:pt x="59318" y="180024"/>
                </a:lnTo>
                <a:lnTo>
                  <a:pt x="59727" y="194627"/>
                </a:lnTo>
                <a:lnTo>
                  <a:pt x="59877" y="217964"/>
                </a:lnTo>
                <a:lnTo>
                  <a:pt x="59899" y="2743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MARTPenAnnotation894"/>
          <p:cNvSpPr/>
          <p:nvPr/>
        </p:nvSpPr>
        <p:spPr>
          <a:xfrm>
            <a:off x="6286680" y="4560840"/>
            <a:ext cx="257040" cy="239760"/>
          </a:xfrm>
          <a:custGeom>
            <a:avLst/>
            <a:gdLst>
              <a:gd name="textAreaLeft" fmla="*/ 0 w 257040"/>
              <a:gd name="textAreaRight" fmla="*/ 257400 w 2570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56695" h="240031">
                <a:moveTo>
                  <a:pt x="214312" y="0"/>
                </a:moveTo>
                <a:lnTo>
                  <a:pt x="201293" y="0"/>
                </a:lnTo>
                <a:lnTo>
                  <a:pt x="198965" y="952"/>
                </a:lnTo>
                <a:lnTo>
                  <a:pt x="190186" y="6843"/>
                </a:lnTo>
                <a:lnTo>
                  <a:pt x="185846" y="9325"/>
                </a:lnTo>
                <a:lnTo>
                  <a:pt x="175943" y="14622"/>
                </a:lnTo>
                <a:lnTo>
                  <a:pt x="165192" y="20151"/>
                </a:lnTo>
                <a:lnTo>
                  <a:pt x="158705" y="22006"/>
                </a:lnTo>
                <a:lnTo>
                  <a:pt x="151524" y="23243"/>
                </a:lnTo>
                <a:lnTo>
                  <a:pt x="143878" y="24068"/>
                </a:lnTo>
                <a:lnTo>
                  <a:pt x="136876" y="25570"/>
                </a:lnTo>
                <a:lnTo>
                  <a:pt x="130303" y="27524"/>
                </a:lnTo>
                <a:lnTo>
                  <a:pt x="116967" y="32236"/>
                </a:lnTo>
                <a:lnTo>
                  <a:pt x="101515" y="37504"/>
                </a:lnTo>
                <a:lnTo>
                  <a:pt x="94347" y="40242"/>
                </a:lnTo>
                <a:lnTo>
                  <a:pt x="87662" y="43021"/>
                </a:lnTo>
                <a:lnTo>
                  <a:pt x="81302" y="45825"/>
                </a:lnTo>
                <a:lnTo>
                  <a:pt x="76108" y="47695"/>
                </a:lnTo>
                <a:lnTo>
                  <a:pt x="71694" y="48942"/>
                </a:lnTo>
                <a:lnTo>
                  <a:pt x="67798" y="49773"/>
                </a:lnTo>
                <a:lnTo>
                  <a:pt x="63296" y="50327"/>
                </a:lnTo>
                <a:lnTo>
                  <a:pt x="58390" y="50696"/>
                </a:lnTo>
                <a:lnTo>
                  <a:pt x="48811" y="51107"/>
                </a:lnTo>
                <a:lnTo>
                  <a:pt x="38063" y="51337"/>
                </a:lnTo>
                <a:lnTo>
                  <a:pt x="31839" y="51392"/>
                </a:lnTo>
                <a:lnTo>
                  <a:pt x="28846" y="52359"/>
                </a:lnTo>
                <a:lnTo>
                  <a:pt x="22980" y="55973"/>
                </a:lnTo>
                <a:lnTo>
                  <a:pt x="17198" y="58214"/>
                </a:lnTo>
                <a:lnTo>
                  <a:pt x="11453" y="59210"/>
                </a:lnTo>
                <a:lnTo>
                  <a:pt x="3816" y="59771"/>
                </a:lnTo>
                <a:lnTo>
                  <a:pt x="502" y="59976"/>
                </a:lnTo>
                <a:lnTo>
                  <a:pt x="43" y="67385"/>
                </a:lnTo>
                <a:lnTo>
                  <a:pt x="0" y="122873"/>
                </a:lnTo>
                <a:lnTo>
                  <a:pt x="952" y="125730"/>
                </a:lnTo>
                <a:lnTo>
                  <a:pt x="4550" y="131445"/>
                </a:lnTo>
                <a:lnTo>
                  <a:pt x="6785" y="137159"/>
                </a:lnTo>
                <a:lnTo>
                  <a:pt x="8219" y="144039"/>
                </a:lnTo>
                <a:lnTo>
                  <a:pt x="13018" y="149781"/>
                </a:lnTo>
                <a:lnTo>
                  <a:pt x="15346" y="151289"/>
                </a:lnTo>
                <a:lnTo>
                  <a:pt x="22221" y="153411"/>
                </a:lnTo>
                <a:lnTo>
                  <a:pt x="24164" y="153908"/>
                </a:lnTo>
                <a:lnTo>
                  <a:pt x="29808" y="154187"/>
                </a:lnTo>
                <a:lnTo>
                  <a:pt x="32254" y="153274"/>
                </a:lnTo>
                <a:lnTo>
                  <a:pt x="40248" y="148390"/>
                </a:lnTo>
                <a:lnTo>
                  <a:pt x="45828" y="146913"/>
                </a:lnTo>
                <a:lnTo>
                  <a:pt x="49602" y="145567"/>
                </a:lnTo>
                <a:lnTo>
                  <a:pt x="54023" y="143717"/>
                </a:lnTo>
                <a:lnTo>
                  <a:pt x="58875" y="141532"/>
                </a:lnTo>
                <a:lnTo>
                  <a:pt x="69346" y="136563"/>
                </a:lnTo>
                <a:lnTo>
                  <a:pt x="74806" y="133904"/>
                </a:lnTo>
                <a:lnTo>
                  <a:pt x="79398" y="131180"/>
                </a:lnTo>
                <a:lnTo>
                  <a:pt x="87040" y="125612"/>
                </a:lnTo>
                <a:lnTo>
                  <a:pt x="92317" y="123746"/>
                </a:lnTo>
                <a:lnTo>
                  <a:pt x="98692" y="122503"/>
                </a:lnTo>
                <a:lnTo>
                  <a:pt x="105800" y="121673"/>
                </a:lnTo>
                <a:lnTo>
                  <a:pt x="112443" y="120168"/>
                </a:lnTo>
                <a:lnTo>
                  <a:pt x="118777" y="118212"/>
                </a:lnTo>
                <a:lnTo>
                  <a:pt x="124904" y="115955"/>
                </a:lnTo>
                <a:lnTo>
                  <a:pt x="129942" y="113498"/>
                </a:lnTo>
                <a:lnTo>
                  <a:pt x="134253" y="110908"/>
                </a:lnTo>
                <a:lnTo>
                  <a:pt x="138079" y="108229"/>
                </a:lnTo>
                <a:lnTo>
                  <a:pt x="142535" y="106442"/>
                </a:lnTo>
                <a:lnTo>
                  <a:pt x="147411" y="105251"/>
                </a:lnTo>
                <a:lnTo>
                  <a:pt x="152567" y="104458"/>
                </a:lnTo>
                <a:lnTo>
                  <a:pt x="157908" y="103928"/>
                </a:lnTo>
                <a:lnTo>
                  <a:pt x="163374" y="103575"/>
                </a:lnTo>
                <a:lnTo>
                  <a:pt x="173576" y="103183"/>
                </a:lnTo>
                <a:lnTo>
                  <a:pt x="181285" y="103009"/>
                </a:lnTo>
                <a:lnTo>
                  <a:pt x="195530" y="102911"/>
                </a:lnTo>
                <a:lnTo>
                  <a:pt x="199886" y="103849"/>
                </a:lnTo>
                <a:lnTo>
                  <a:pt x="210567" y="108769"/>
                </a:lnTo>
                <a:lnTo>
                  <a:pt x="216775" y="110254"/>
                </a:lnTo>
                <a:lnTo>
                  <a:pt x="220717" y="111603"/>
                </a:lnTo>
                <a:lnTo>
                  <a:pt x="225249" y="113454"/>
                </a:lnTo>
                <a:lnTo>
                  <a:pt x="230176" y="115641"/>
                </a:lnTo>
                <a:lnTo>
                  <a:pt x="233460" y="118051"/>
                </a:lnTo>
                <a:lnTo>
                  <a:pt x="235650" y="120610"/>
                </a:lnTo>
                <a:lnTo>
                  <a:pt x="239036" y="125995"/>
                </a:lnTo>
                <a:lnTo>
                  <a:pt x="243716" y="131562"/>
                </a:lnTo>
                <a:lnTo>
                  <a:pt x="248970" y="137212"/>
                </a:lnTo>
                <a:lnTo>
                  <a:pt x="251705" y="140052"/>
                </a:lnTo>
                <a:lnTo>
                  <a:pt x="253528" y="142898"/>
                </a:lnTo>
                <a:lnTo>
                  <a:pt x="255554" y="148601"/>
                </a:lnTo>
                <a:lnTo>
                  <a:pt x="256454" y="154309"/>
                </a:lnTo>
                <a:lnTo>
                  <a:pt x="256694" y="157165"/>
                </a:lnTo>
                <a:lnTo>
                  <a:pt x="255902" y="160974"/>
                </a:lnTo>
                <a:lnTo>
                  <a:pt x="254421" y="165419"/>
                </a:lnTo>
                <a:lnTo>
                  <a:pt x="252482" y="170286"/>
                </a:lnTo>
                <a:lnTo>
                  <a:pt x="250236" y="174484"/>
                </a:lnTo>
                <a:lnTo>
                  <a:pt x="245201" y="181688"/>
                </a:lnTo>
                <a:lnTo>
                  <a:pt x="237248" y="188065"/>
                </a:lnTo>
                <a:lnTo>
                  <a:pt x="232460" y="191099"/>
                </a:lnTo>
                <a:lnTo>
                  <a:pt x="224601" y="197010"/>
                </a:lnTo>
                <a:lnTo>
                  <a:pt x="217932" y="202813"/>
                </a:lnTo>
                <a:lnTo>
                  <a:pt x="211793" y="208566"/>
                </a:lnTo>
                <a:lnTo>
                  <a:pt x="207871" y="211434"/>
                </a:lnTo>
                <a:lnTo>
                  <a:pt x="203351" y="214299"/>
                </a:lnTo>
                <a:lnTo>
                  <a:pt x="198432" y="217160"/>
                </a:lnTo>
                <a:lnTo>
                  <a:pt x="190427" y="220341"/>
                </a:lnTo>
                <a:lnTo>
                  <a:pt x="182741" y="222707"/>
                </a:lnTo>
                <a:lnTo>
                  <a:pt x="178025" y="224671"/>
                </a:lnTo>
                <a:lnTo>
                  <a:pt x="172976" y="226933"/>
                </a:lnTo>
                <a:lnTo>
                  <a:pt x="168657" y="229393"/>
                </a:lnTo>
                <a:lnTo>
                  <a:pt x="161318" y="234667"/>
                </a:lnTo>
                <a:lnTo>
                  <a:pt x="157076" y="236455"/>
                </a:lnTo>
                <a:lnTo>
                  <a:pt x="152342" y="237646"/>
                </a:lnTo>
                <a:lnTo>
                  <a:pt x="147281" y="238441"/>
                </a:lnTo>
                <a:lnTo>
                  <a:pt x="142955" y="238971"/>
                </a:lnTo>
                <a:lnTo>
                  <a:pt x="135608" y="239559"/>
                </a:lnTo>
                <a:lnTo>
                  <a:pt x="129167" y="239820"/>
                </a:lnTo>
                <a:lnTo>
                  <a:pt x="120187" y="239968"/>
                </a:lnTo>
                <a:lnTo>
                  <a:pt x="102870" y="2400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MARTPenAnnotation895"/>
          <p:cNvSpPr/>
          <p:nvPr/>
        </p:nvSpPr>
        <p:spPr>
          <a:xfrm>
            <a:off x="6518160" y="4457880"/>
            <a:ext cx="257400" cy="385560"/>
          </a:xfrm>
          <a:custGeom>
            <a:avLst/>
            <a:gdLst>
              <a:gd name="textAreaLeft" fmla="*/ 0 w 257400"/>
              <a:gd name="textAreaRight" fmla="*/ 257760 w 25740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57024" h="385763">
                <a:moveTo>
                  <a:pt x="0" y="0"/>
                </a:moveTo>
                <a:lnTo>
                  <a:pt x="33171" y="0"/>
                </a:lnTo>
                <a:lnTo>
                  <a:pt x="38306" y="953"/>
                </a:lnTo>
                <a:lnTo>
                  <a:pt x="43635" y="2540"/>
                </a:lnTo>
                <a:lnTo>
                  <a:pt x="49093" y="4551"/>
                </a:lnTo>
                <a:lnTo>
                  <a:pt x="54636" y="5891"/>
                </a:lnTo>
                <a:lnTo>
                  <a:pt x="60236" y="6785"/>
                </a:lnTo>
                <a:lnTo>
                  <a:pt x="65875" y="7381"/>
                </a:lnTo>
                <a:lnTo>
                  <a:pt x="72491" y="8730"/>
                </a:lnTo>
                <a:lnTo>
                  <a:pt x="79760" y="10582"/>
                </a:lnTo>
                <a:lnTo>
                  <a:pt x="87463" y="12770"/>
                </a:lnTo>
                <a:lnTo>
                  <a:pt x="94504" y="15181"/>
                </a:lnTo>
                <a:lnTo>
                  <a:pt x="101103" y="17741"/>
                </a:lnTo>
                <a:lnTo>
                  <a:pt x="107407" y="20399"/>
                </a:lnTo>
                <a:lnTo>
                  <a:pt x="113514" y="23124"/>
                </a:lnTo>
                <a:lnTo>
                  <a:pt x="125381" y="28693"/>
                </a:lnTo>
                <a:lnTo>
                  <a:pt x="142772" y="37182"/>
                </a:lnTo>
                <a:lnTo>
                  <a:pt x="149474" y="40028"/>
                </a:lnTo>
                <a:lnTo>
                  <a:pt x="156799" y="42878"/>
                </a:lnTo>
                <a:lnTo>
                  <a:pt x="164540" y="45730"/>
                </a:lnTo>
                <a:lnTo>
                  <a:pt x="171606" y="49537"/>
                </a:lnTo>
                <a:lnTo>
                  <a:pt x="178221" y="53980"/>
                </a:lnTo>
                <a:lnTo>
                  <a:pt x="184537" y="58846"/>
                </a:lnTo>
                <a:lnTo>
                  <a:pt x="190652" y="63996"/>
                </a:lnTo>
                <a:lnTo>
                  <a:pt x="196634" y="69334"/>
                </a:lnTo>
                <a:lnTo>
                  <a:pt x="208361" y="80345"/>
                </a:lnTo>
                <a:lnTo>
                  <a:pt x="232590" y="104078"/>
                </a:lnTo>
                <a:lnTo>
                  <a:pt x="239263" y="115789"/>
                </a:lnTo>
                <a:lnTo>
                  <a:pt x="242376" y="122913"/>
                </a:lnTo>
                <a:lnTo>
                  <a:pt x="248375" y="135907"/>
                </a:lnTo>
                <a:lnTo>
                  <a:pt x="251308" y="142040"/>
                </a:lnTo>
                <a:lnTo>
                  <a:pt x="254568" y="153934"/>
                </a:lnTo>
                <a:lnTo>
                  <a:pt x="255437" y="159772"/>
                </a:lnTo>
                <a:lnTo>
                  <a:pt x="256016" y="166522"/>
                </a:lnTo>
                <a:lnTo>
                  <a:pt x="256403" y="173880"/>
                </a:lnTo>
                <a:lnTo>
                  <a:pt x="256832" y="188722"/>
                </a:lnTo>
                <a:lnTo>
                  <a:pt x="257023" y="201669"/>
                </a:lnTo>
                <a:lnTo>
                  <a:pt x="256120" y="208741"/>
                </a:lnTo>
                <a:lnTo>
                  <a:pt x="254567" y="216313"/>
                </a:lnTo>
                <a:lnTo>
                  <a:pt x="252579" y="224218"/>
                </a:lnTo>
                <a:lnTo>
                  <a:pt x="250301" y="231394"/>
                </a:lnTo>
                <a:lnTo>
                  <a:pt x="247830" y="238083"/>
                </a:lnTo>
                <a:lnTo>
                  <a:pt x="245230" y="244447"/>
                </a:lnTo>
                <a:lnTo>
                  <a:pt x="242544" y="250594"/>
                </a:lnTo>
                <a:lnTo>
                  <a:pt x="237020" y="262505"/>
                </a:lnTo>
                <a:lnTo>
                  <a:pt x="234213" y="269301"/>
                </a:lnTo>
                <a:lnTo>
                  <a:pt x="231390" y="276689"/>
                </a:lnTo>
                <a:lnTo>
                  <a:pt x="228555" y="284472"/>
                </a:lnTo>
                <a:lnTo>
                  <a:pt x="224760" y="291565"/>
                </a:lnTo>
                <a:lnTo>
                  <a:pt x="220325" y="298199"/>
                </a:lnTo>
                <a:lnTo>
                  <a:pt x="215463" y="304527"/>
                </a:lnTo>
                <a:lnTo>
                  <a:pt x="207522" y="314098"/>
                </a:lnTo>
                <a:lnTo>
                  <a:pt x="199864" y="322479"/>
                </a:lnTo>
                <a:lnTo>
                  <a:pt x="181966" y="340841"/>
                </a:lnTo>
                <a:lnTo>
                  <a:pt x="164426" y="358474"/>
                </a:lnTo>
                <a:lnTo>
                  <a:pt x="160100" y="361855"/>
                </a:lnTo>
                <a:lnTo>
                  <a:pt x="149460" y="367566"/>
                </a:lnTo>
                <a:lnTo>
                  <a:pt x="143261" y="372278"/>
                </a:lnTo>
                <a:lnTo>
                  <a:pt x="137332" y="375006"/>
                </a:lnTo>
                <a:lnTo>
                  <a:pt x="134417" y="375734"/>
                </a:lnTo>
                <a:lnTo>
                  <a:pt x="132474" y="377172"/>
                </a:lnTo>
                <a:lnTo>
                  <a:pt x="131179" y="379083"/>
                </a:lnTo>
                <a:lnTo>
                  <a:pt x="129100" y="384443"/>
                </a:lnTo>
                <a:lnTo>
                  <a:pt x="127976" y="384883"/>
                </a:lnTo>
                <a:lnTo>
                  <a:pt x="121251" y="385646"/>
                </a:lnTo>
                <a:lnTo>
                  <a:pt x="113393" y="385747"/>
                </a:lnTo>
                <a:lnTo>
                  <a:pt x="111443" y="3857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MARTPenAnnotation896"/>
          <p:cNvSpPr/>
          <p:nvPr/>
        </p:nvSpPr>
        <p:spPr>
          <a:xfrm>
            <a:off x="2259000" y="5280120"/>
            <a:ext cx="298440" cy="703080"/>
          </a:xfrm>
          <a:custGeom>
            <a:avLst/>
            <a:gdLst>
              <a:gd name="textAreaLeft" fmla="*/ 0 w 298440"/>
              <a:gd name="textAreaRight" fmla="*/ 298800 w 29844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298663" h="702538">
                <a:moveTo>
                  <a:pt x="298662" y="0"/>
                </a:moveTo>
                <a:lnTo>
                  <a:pt x="277424" y="0"/>
                </a:lnTo>
                <a:lnTo>
                  <a:pt x="269855" y="2540"/>
                </a:lnTo>
                <a:lnTo>
                  <a:pt x="258576" y="7381"/>
                </a:lnTo>
                <a:lnTo>
                  <a:pt x="251953" y="13123"/>
                </a:lnTo>
                <a:lnTo>
                  <a:pt x="242660" y="21072"/>
                </a:lnTo>
                <a:lnTo>
                  <a:pt x="237515" y="24525"/>
                </a:lnTo>
                <a:lnTo>
                  <a:pt x="232180" y="27780"/>
                </a:lnTo>
                <a:lnTo>
                  <a:pt x="226718" y="31855"/>
                </a:lnTo>
                <a:lnTo>
                  <a:pt x="221172" y="36477"/>
                </a:lnTo>
                <a:lnTo>
                  <a:pt x="215569" y="41462"/>
                </a:lnTo>
                <a:lnTo>
                  <a:pt x="209929" y="47644"/>
                </a:lnTo>
                <a:lnTo>
                  <a:pt x="204264" y="54623"/>
                </a:lnTo>
                <a:lnTo>
                  <a:pt x="198583" y="62132"/>
                </a:lnTo>
                <a:lnTo>
                  <a:pt x="192890" y="69044"/>
                </a:lnTo>
                <a:lnTo>
                  <a:pt x="187190" y="75557"/>
                </a:lnTo>
                <a:lnTo>
                  <a:pt x="181485" y="81804"/>
                </a:lnTo>
                <a:lnTo>
                  <a:pt x="175776" y="88826"/>
                </a:lnTo>
                <a:lnTo>
                  <a:pt x="170066" y="96364"/>
                </a:lnTo>
                <a:lnTo>
                  <a:pt x="158641" y="112361"/>
                </a:lnTo>
                <a:lnTo>
                  <a:pt x="123402" y="163910"/>
                </a:lnTo>
                <a:lnTo>
                  <a:pt x="108374" y="184609"/>
                </a:lnTo>
                <a:lnTo>
                  <a:pt x="101318" y="195463"/>
                </a:lnTo>
                <a:lnTo>
                  <a:pt x="94709" y="206508"/>
                </a:lnTo>
                <a:lnTo>
                  <a:pt x="88398" y="217682"/>
                </a:lnTo>
                <a:lnTo>
                  <a:pt x="76306" y="240258"/>
                </a:lnTo>
                <a:lnTo>
                  <a:pt x="53022" y="285794"/>
                </a:lnTo>
                <a:lnTo>
                  <a:pt x="48224" y="297209"/>
                </a:lnTo>
                <a:lnTo>
                  <a:pt x="44073" y="308629"/>
                </a:lnTo>
                <a:lnTo>
                  <a:pt x="40354" y="320053"/>
                </a:lnTo>
                <a:lnTo>
                  <a:pt x="35969" y="331479"/>
                </a:lnTo>
                <a:lnTo>
                  <a:pt x="31141" y="342906"/>
                </a:lnTo>
                <a:lnTo>
                  <a:pt x="26017" y="354334"/>
                </a:lnTo>
                <a:lnTo>
                  <a:pt x="21649" y="366715"/>
                </a:lnTo>
                <a:lnTo>
                  <a:pt x="17784" y="379732"/>
                </a:lnTo>
                <a:lnTo>
                  <a:pt x="14255" y="393171"/>
                </a:lnTo>
                <a:lnTo>
                  <a:pt x="11902" y="404989"/>
                </a:lnTo>
                <a:lnTo>
                  <a:pt x="7639" y="436227"/>
                </a:lnTo>
                <a:lnTo>
                  <a:pt x="3266" y="458038"/>
                </a:lnTo>
                <a:lnTo>
                  <a:pt x="1718" y="469189"/>
                </a:lnTo>
                <a:lnTo>
                  <a:pt x="687" y="480433"/>
                </a:lnTo>
                <a:lnTo>
                  <a:pt x="0" y="491738"/>
                </a:lnTo>
                <a:lnTo>
                  <a:pt x="4316" y="511920"/>
                </a:lnTo>
                <a:lnTo>
                  <a:pt x="11631" y="531367"/>
                </a:lnTo>
                <a:lnTo>
                  <a:pt x="18058" y="552711"/>
                </a:lnTo>
                <a:lnTo>
                  <a:pt x="24089" y="569817"/>
                </a:lnTo>
                <a:lnTo>
                  <a:pt x="29945" y="584722"/>
                </a:lnTo>
                <a:lnTo>
                  <a:pt x="35722" y="600871"/>
                </a:lnTo>
                <a:lnTo>
                  <a:pt x="44330" y="626028"/>
                </a:lnTo>
                <a:lnTo>
                  <a:pt x="52593" y="640502"/>
                </a:lnTo>
                <a:lnTo>
                  <a:pt x="57464" y="647029"/>
                </a:lnTo>
                <a:lnTo>
                  <a:pt x="62616" y="652332"/>
                </a:lnTo>
                <a:lnTo>
                  <a:pt x="67955" y="656821"/>
                </a:lnTo>
                <a:lnTo>
                  <a:pt x="73420" y="660766"/>
                </a:lnTo>
                <a:lnTo>
                  <a:pt x="78968" y="665300"/>
                </a:lnTo>
                <a:lnTo>
                  <a:pt x="84572" y="670229"/>
                </a:lnTo>
                <a:lnTo>
                  <a:pt x="90213" y="675419"/>
                </a:lnTo>
                <a:lnTo>
                  <a:pt x="95878" y="679832"/>
                </a:lnTo>
                <a:lnTo>
                  <a:pt x="101560" y="683726"/>
                </a:lnTo>
                <a:lnTo>
                  <a:pt x="107254" y="687274"/>
                </a:lnTo>
                <a:lnTo>
                  <a:pt x="112954" y="689641"/>
                </a:lnTo>
                <a:lnTo>
                  <a:pt x="118659" y="691218"/>
                </a:lnTo>
                <a:lnTo>
                  <a:pt x="124367" y="692269"/>
                </a:lnTo>
                <a:lnTo>
                  <a:pt x="130078" y="693922"/>
                </a:lnTo>
                <a:lnTo>
                  <a:pt x="135790" y="695977"/>
                </a:lnTo>
                <a:lnTo>
                  <a:pt x="141503" y="698300"/>
                </a:lnTo>
                <a:lnTo>
                  <a:pt x="147217" y="699848"/>
                </a:lnTo>
                <a:lnTo>
                  <a:pt x="152931" y="700881"/>
                </a:lnTo>
                <a:lnTo>
                  <a:pt x="158646" y="701569"/>
                </a:lnTo>
                <a:lnTo>
                  <a:pt x="164360" y="702027"/>
                </a:lnTo>
                <a:lnTo>
                  <a:pt x="170075" y="702333"/>
                </a:lnTo>
                <a:lnTo>
                  <a:pt x="175790" y="702537"/>
                </a:lnTo>
                <a:lnTo>
                  <a:pt x="181505" y="701720"/>
                </a:lnTo>
                <a:lnTo>
                  <a:pt x="187220" y="700223"/>
                </a:lnTo>
                <a:lnTo>
                  <a:pt x="192935" y="698273"/>
                </a:lnTo>
                <a:lnTo>
                  <a:pt x="201825" y="696106"/>
                </a:lnTo>
                <a:lnTo>
                  <a:pt x="209903" y="694190"/>
                </a:lnTo>
                <a:lnTo>
                  <a:pt x="214724" y="692346"/>
                </a:lnTo>
                <a:lnTo>
                  <a:pt x="230082" y="6858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MARTPenAnnotation897"/>
          <p:cNvSpPr/>
          <p:nvPr/>
        </p:nvSpPr>
        <p:spPr>
          <a:xfrm>
            <a:off x="2540160" y="5486400"/>
            <a:ext cx="395280" cy="376200"/>
          </a:xfrm>
          <a:custGeom>
            <a:avLst/>
            <a:gdLst>
              <a:gd name="textAreaLeft" fmla="*/ 0 w 395280"/>
              <a:gd name="textAreaRight" fmla="*/ 395640 w 39528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394336" h="376314">
                <a:moveTo>
                  <a:pt x="0" y="111010"/>
                </a:moveTo>
                <a:lnTo>
                  <a:pt x="0" y="99078"/>
                </a:lnTo>
                <a:lnTo>
                  <a:pt x="952" y="96388"/>
                </a:lnTo>
                <a:lnTo>
                  <a:pt x="9325" y="82686"/>
                </a:lnTo>
                <a:lnTo>
                  <a:pt x="15575" y="72705"/>
                </a:lnTo>
                <a:lnTo>
                  <a:pt x="24702" y="61918"/>
                </a:lnTo>
                <a:lnTo>
                  <a:pt x="35109" y="50774"/>
                </a:lnTo>
                <a:lnTo>
                  <a:pt x="46084" y="40424"/>
                </a:lnTo>
                <a:lnTo>
                  <a:pt x="57312" y="32648"/>
                </a:lnTo>
                <a:lnTo>
                  <a:pt x="68652" y="23478"/>
                </a:lnTo>
                <a:lnTo>
                  <a:pt x="74343" y="18366"/>
                </a:lnTo>
                <a:lnTo>
                  <a:pt x="80994" y="14956"/>
                </a:lnTo>
                <a:lnTo>
                  <a:pt x="88286" y="12685"/>
                </a:lnTo>
                <a:lnTo>
                  <a:pt x="96005" y="11170"/>
                </a:lnTo>
                <a:lnTo>
                  <a:pt x="103056" y="9208"/>
                </a:lnTo>
                <a:lnTo>
                  <a:pt x="109661" y="6947"/>
                </a:lnTo>
                <a:lnTo>
                  <a:pt x="115970" y="4487"/>
                </a:lnTo>
                <a:lnTo>
                  <a:pt x="123033" y="2847"/>
                </a:lnTo>
                <a:lnTo>
                  <a:pt x="130600" y="1754"/>
                </a:lnTo>
                <a:lnTo>
                  <a:pt x="138502" y="1025"/>
                </a:lnTo>
                <a:lnTo>
                  <a:pt x="146627" y="539"/>
                </a:lnTo>
                <a:lnTo>
                  <a:pt x="163275" y="0"/>
                </a:lnTo>
                <a:lnTo>
                  <a:pt x="170762" y="808"/>
                </a:lnTo>
                <a:lnTo>
                  <a:pt x="177659" y="2300"/>
                </a:lnTo>
                <a:lnTo>
                  <a:pt x="191355" y="6497"/>
                </a:lnTo>
                <a:lnTo>
                  <a:pt x="206967" y="11537"/>
                </a:lnTo>
                <a:lnTo>
                  <a:pt x="218350" y="16953"/>
                </a:lnTo>
                <a:lnTo>
                  <a:pt x="222719" y="19730"/>
                </a:lnTo>
                <a:lnTo>
                  <a:pt x="226584" y="24439"/>
                </a:lnTo>
                <a:lnTo>
                  <a:pt x="230114" y="30436"/>
                </a:lnTo>
                <a:lnTo>
                  <a:pt x="233419" y="37292"/>
                </a:lnTo>
                <a:lnTo>
                  <a:pt x="237528" y="43767"/>
                </a:lnTo>
                <a:lnTo>
                  <a:pt x="242172" y="49989"/>
                </a:lnTo>
                <a:lnTo>
                  <a:pt x="247173" y="56042"/>
                </a:lnTo>
                <a:lnTo>
                  <a:pt x="250507" y="62935"/>
                </a:lnTo>
                <a:lnTo>
                  <a:pt x="252730" y="70388"/>
                </a:lnTo>
                <a:lnTo>
                  <a:pt x="254211" y="78213"/>
                </a:lnTo>
                <a:lnTo>
                  <a:pt x="255199" y="87240"/>
                </a:lnTo>
                <a:lnTo>
                  <a:pt x="255858" y="97069"/>
                </a:lnTo>
                <a:lnTo>
                  <a:pt x="256589" y="117196"/>
                </a:lnTo>
                <a:lnTo>
                  <a:pt x="256915" y="135667"/>
                </a:lnTo>
                <a:lnTo>
                  <a:pt x="256049" y="145545"/>
                </a:lnTo>
                <a:lnTo>
                  <a:pt x="254519" y="155941"/>
                </a:lnTo>
                <a:lnTo>
                  <a:pt x="252547" y="166682"/>
                </a:lnTo>
                <a:lnTo>
                  <a:pt x="249327" y="177652"/>
                </a:lnTo>
                <a:lnTo>
                  <a:pt x="245275" y="188776"/>
                </a:lnTo>
                <a:lnTo>
                  <a:pt x="240670" y="200001"/>
                </a:lnTo>
                <a:lnTo>
                  <a:pt x="236647" y="211295"/>
                </a:lnTo>
                <a:lnTo>
                  <a:pt x="233012" y="222634"/>
                </a:lnTo>
                <a:lnTo>
                  <a:pt x="229636" y="234004"/>
                </a:lnTo>
                <a:lnTo>
                  <a:pt x="225481" y="244441"/>
                </a:lnTo>
                <a:lnTo>
                  <a:pt x="220806" y="254257"/>
                </a:lnTo>
                <a:lnTo>
                  <a:pt x="215784" y="263658"/>
                </a:lnTo>
                <a:lnTo>
                  <a:pt x="210531" y="272783"/>
                </a:lnTo>
                <a:lnTo>
                  <a:pt x="205124" y="281724"/>
                </a:lnTo>
                <a:lnTo>
                  <a:pt x="194036" y="299278"/>
                </a:lnTo>
                <a:lnTo>
                  <a:pt x="182758" y="316605"/>
                </a:lnTo>
                <a:lnTo>
                  <a:pt x="176131" y="324273"/>
                </a:lnTo>
                <a:lnTo>
                  <a:pt x="168856" y="331291"/>
                </a:lnTo>
                <a:lnTo>
                  <a:pt x="161148" y="337874"/>
                </a:lnTo>
                <a:lnTo>
                  <a:pt x="154104" y="344167"/>
                </a:lnTo>
                <a:lnTo>
                  <a:pt x="141198" y="356241"/>
                </a:lnTo>
                <a:lnTo>
                  <a:pt x="135090" y="360222"/>
                </a:lnTo>
                <a:lnTo>
                  <a:pt x="123222" y="364646"/>
                </a:lnTo>
                <a:lnTo>
                  <a:pt x="111598" y="369153"/>
                </a:lnTo>
                <a:lnTo>
                  <a:pt x="100082" y="373378"/>
                </a:lnTo>
                <a:lnTo>
                  <a:pt x="88613" y="375255"/>
                </a:lnTo>
                <a:lnTo>
                  <a:pt x="77166" y="376090"/>
                </a:lnTo>
                <a:lnTo>
                  <a:pt x="71447" y="376313"/>
                </a:lnTo>
                <a:lnTo>
                  <a:pt x="66681" y="375509"/>
                </a:lnTo>
                <a:lnTo>
                  <a:pt x="54471" y="370779"/>
                </a:lnTo>
                <a:lnTo>
                  <a:pt x="44529" y="369338"/>
                </a:lnTo>
                <a:lnTo>
                  <a:pt x="40164" y="368001"/>
                </a:lnTo>
                <a:lnTo>
                  <a:pt x="32773" y="363976"/>
                </a:lnTo>
                <a:lnTo>
                  <a:pt x="26313" y="356472"/>
                </a:lnTo>
                <a:lnTo>
                  <a:pt x="21220" y="347739"/>
                </a:lnTo>
                <a:lnTo>
                  <a:pt x="18956" y="340684"/>
                </a:lnTo>
                <a:lnTo>
                  <a:pt x="17950" y="331832"/>
                </a:lnTo>
                <a:lnTo>
                  <a:pt x="17682" y="326805"/>
                </a:lnTo>
                <a:lnTo>
                  <a:pt x="19924" y="316139"/>
                </a:lnTo>
                <a:lnTo>
                  <a:pt x="24095" y="305049"/>
                </a:lnTo>
                <a:lnTo>
                  <a:pt x="29124" y="293770"/>
                </a:lnTo>
                <a:lnTo>
                  <a:pt x="32751" y="289048"/>
                </a:lnTo>
                <a:lnTo>
                  <a:pt x="41861" y="281260"/>
                </a:lnTo>
                <a:lnTo>
                  <a:pt x="52260" y="272085"/>
                </a:lnTo>
                <a:lnTo>
                  <a:pt x="63232" y="262609"/>
                </a:lnTo>
                <a:lnTo>
                  <a:pt x="74458" y="255223"/>
                </a:lnTo>
                <a:lnTo>
                  <a:pt x="85797" y="248764"/>
                </a:lnTo>
                <a:lnTo>
                  <a:pt x="91488" y="245709"/>
                </a:lnTo>
                <a:lnTo>
                  <a:pt x="98140" y="243672"/>
                </a:lnTo>
                <a:lnTo>
                  <a:pt x="105431" y="242314"/>
                </a:lnTo>
                <a:lnTo>
                  <a:pt x="113150" y="241409"/>
                </a:lnTo>
                <a:lnTo>
                  <a:pt x="121153" y="240805"/>
                </a:lnTo>
                <a:lnTo>
                  <a:pt x="129346" y="240402"/>
                </a:lnTo>
                <a:lnTo>
                  <a:pt x="145117" y="239956"/>
                </a:lnTo>
                <a:lnTo>
                  <a:pt x="158477" y="239757"/>
                </a:lnTo>
                <a:lnTo>
                  <a:pt x="165659" y="240656"/>
                </a:lnTo>
                <a:lnTo>
                  <a:pt x="173304" y="242209"/>
                </a:lnTo>
                <a:lnTo>
                  <a:pt x="181259" y="244196"/>
                </a:lnTo>
                <a:lnTo>
                  <a:pt x="189419" y="246473"/>
                </a:lnTo>
                <a:lnTo>
                  <a:pt x="206106" y="251543"/>
                </a:lnTo>
                <a:lnTo>
                  <a:pt x="213604" y="254229"/>
                </a:lnTo>
                <a:lnTo>
                  <a:pt x="220508" y="256972"/>
                </a:lnTo>
                <a:lnTo>
                  <a:pt x="227015" y="259753"/>
                </a:lnTo>
                <a:lnTo>
                  <a:pt x="234211" y="263512"/>
                </a:lnTo>
                <a:lnTo>
                  <a:pt x="241866" y="267923"/>
                </a:lnTo>
                <a:lnTo>
                  <a:pt x="249826" y="272768"/>
                </a:lnTo>
                <a:lnTo>
                  <a:pt x="257038" y="277904"/>
                </a:lnTo>
                <a:lnTo>
                  <a:pt x="263751" y="283233"/>
                </a:lnTo>
                <a:lnTo>
                  <a:pt x="270132" y="288690"/>
                </a:lnTo>
                <a:lnTo>
                  <a:pt x="282301" y="297294"/>
                </a:lnTo>
                <a:lnTo>
                  <a:pt x="294060" y="304293"/>
                </a:lnTo>
                <a:lnTo>
                  <a:pt x="305636" y="310579"/>
                </a:lnTo>
                <a:lnTo>
                  <a:pt x="317131" y="319088"/>
                </a:lnTo>
                <a:lnTo>
                  <a:pt x="328590" y="328266"/>
                </a:lnTo>
                <a:lnTo>
                  <a:pt x="340032" y="335521"/>
                </a:lnTo>
                <a:lnTo>
                  <a:pt x="351468" y="339380"/>
                </a:lnTo>
                <a:lnTo>
                  <a:pt x="362900" y="341096"/>
                </a:lnTo>
                <a:lnTo>
                  <a:pt x="374332" y="341857"/>
                </a:lnTo>
                <a:lnTo>
                  <a:pt x="383222" y="342197"/>
                </a:lnTo>
                <a:lnTo>
                  <a:pt x="394335" y="3424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MARTPenAnnotation898"/>
          <p:cNvSpPr/>
          <p:nvPr/>
        </p:nvSpPr>
        <p:spPr>
          <a:xfrm>
            <a:off x="3029040" y="5537160"/>
            <a:ext cx="249120" cy="284040"/>
          </a:xfrm>
          <a:custGeom>
            <a:avLst/>
            <a:gdLst>
              <a:gd name="textAreaLeft" fmla="*/ 0 w 249120"/>
              <a:gd name="textAreaRight" fmla="*/ 249480 w 2491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8603" h="282863">
                <a:moveTo>
                  <a:pt x="0" y="8542"/>
                </a:moveTo>
                <a:lnTo>
                  <a:pt x="0" y="74"/>
                </a:lnTo>
                <a:lnTo>
                  <a:pt x="4550" y="0"/>
                </a:lnTo>
                <a:lnTo>
                  <a:pt x="5891" y="943"/>
                </a:lnTo>
                <a:lnTo>
                  <a:pt x="6785" y="2523"/>
                </a:lnTo>
                <a:lnTo>
                  <a:pt x="7380" y="4530"/>
                </a:lnTo>
                <a:lnTo>
                  <a:pt x="10582" y="9299"/>
                </a:lnTo>
                <a:lnTo>
                  <a:pt x="17740" y="17339"/>
                </a:lnTo>
                <a:lnTo>
                  <a:pt x="25893" y="25753"/>
                </a:lnTo>
                <a:lnTo>
                  <a:pt x="32463" y="31432"/>
                </a:lnTo>
                <a:lnTo>
                  <a:pt x="36882" y="34280"/>
                </a:lnTo>
                <a:lnTo>
                  <a:pt x="41733" y="37130"/>
                </a:lnTo>
                <a:lnTo>
                  <a:pt x="46872" y="39983"/>
                </a:lnTo>
                <a:lnTo>
                  <a:pt x="57662" y="45694"/>
                </a:lnTo>
                <a:lnTo>
                  <a:pt x="62253" y="49502"/>
                </a:lnTo>
                <a:lnTo>
                  <a:pt x="66267" y="53946"/>
                </a:lnTo>
                <a:lnTo>
                  <a:pt x="69895" y="58814"/>
                </a:lnTo>
                <a:lnTo>
                  <a:pt x="73267" y="63964"/>
                </a:lnTo>
                <a:lnTo>
                  <a:pt x="76467" y="69303"/>
                </a:lnTo>
                <a:lnTo>
                  <a:pt x="79553" y="74767"/>
                </a:lnTo>
                <a:lnTo>
                  <a:pt x="83515" y="80314"/>
                </a:lnTo>
                <a:lnTo>
                  <a:pt x="88061" y="85918"/>
                </a:lnTo>
                <a:lnTo>
                  <a:pt x="92998" y="91558"/>
                </a:lnTo>
                <a:lnTo>
                  <a:pt x="98193" y="97224"/>
                </a:lnTo>
                <a:lnTo>
                  <a:pt x="109046" y="108599"/>
                </a:lnTo>
                <a:lnTo>
                  <a:pt x="114607" y="115251"/>
                </a:lnTo>
                <a:lnTo>
                  <a:pt x="120220" y="122544"/>
                </a:lnTo>
                <a:lnTo>
                  <a:pt x="125866" y="130263"/>
                </a:lnTo>
                <a:lnTo>
                  <a:pt x="131536" y="137315"/>
                </a:lnTo>
                <a:lnTo>
                  <a:pt x="137220" y="143921"/>
                </a:lnTo>
                <a:lnTo>
                  <a:pt x="142915" y="150230"/>
                </a:lnTo>
                <a:lnTo>
                  <a:pt x="154322" y="162319"/>
                </a:lnTo>
                <a:lnTo>
                  <a:pt x="160032" y="168210"/>
                </a:lnTo>
                <a:lnTo>
                  <a:pt x="164790" y="174995"/>
                </a:lnTo>
                <a:lnTo>
                  <a:pt x="168915" y="182376"/>
                </a:lnTo>
                <a:lnTo>
                  <a:pt x="172617" y="190153"/>
                </a:lnTo>
                <a:lnTo>
                  <a:pt x="176990" y="197244"/>
                </a:lnTo>
                <a:lnTo>
                  <a:pt x="181811" y="203876"/>
                </a:lnTo>
                <a:lnTo>
                  <a:pt x="186930" y="210202"/>
                </a:lnTo>
                <a:lnTo>
                  <a:pt x="191295" y="216325"/>
                </a:lnTo>
                <a:lnTo>
                  <a:pt x="195157" y="222312"/>
                </a:lnTo>
                <a:lnTo>
                  <a:pt x="198685" y="228208"/>
                </a:lnTo>
                <a:lnTo>
                  <a:pt x="201989" y="233091"/>
                </a:lnTo>
                <a:lnTo>
                  <a:pt x="208200" y="241057"/>
                </a:lnTo>
                <a:lnTo>
                  <a:pt x="214136" y="247772"/>
                </a:lnTo>
                <a:lnTo>
                  <a:pt x="219949" y="254884"/>
                </a:lnTo>
                <a:lnTo>
                  <a:pt x="222832" y="259448"/>
                </a:lnTo>
                <a:lnTo>
                  <a:pt x="225707" y="264395"/>
                </a:lnTo>
                <a:lnTo>
                  <a:pt x="231442" y="272432"/>
                </a:lnTo>
                <a:lnTo>
                  <a:pt x="238333" y="280802"/>
                </a:lnTo>
                <a:lnTo>
                  <a:pt x="239851" y="281489"/>
                </a:lnTo>
                <a:lnTo>
                  <a:pt x="247262" y="282682"/>
                </a:lnTo>
                <a:lnTo>
                  <a:pt x="248602" y="2828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MARTPenAnnotation899"/>
          <p:cNvSpPr/>
          <p:nvPr/>
        </p:nvSpPr>
        <p:spPr>
          <a:xfrm>
            <a:off x="2994120" y="5538960"/>
            <a:ext cx="291960" cy="325440"/>
          </a:xfrm>
          <a:custGeom>
            <a:avLst/>
            <a:gdLst>
              <a:gd name="textAreaLeft" fmla="*/ 0 w 291960"/>
              <a:gd name="textAreaRight" fmla="*/ 292320 w 29196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291466" h="325372">
                <a:moveTo>
                  <a:pt x="291465" y="16760"/>
                </a:moveTo>
                <a:lnTo>
                  <a:pt x="286914" y="16760"/>
                </a:lnTo>
                <a:lnTo>
                  <a:pt x="285573" y="15808"/>
                </a:lnTo>
                <a:lnTo>
                  <a:pt x="284680" y="14221"/>
                </a:lnTo>
                <a:lnTo>
                  <a:pt x="283245" y="9379"/>
                </a:lnTo>
                <a:lnTo>
                  <a:pt x="278446" y="3990"/>
                </a:lnTo>
                <a:lnTo>
                  <a:pt x="276118" y="2532"/>
                </a:lnTo>
                <a:lnTo>
                  <a:pt x="267301" y="0"/>
                </a:lnTo>
                <a:lnTo>
                  <a:pt x="265830" y="824"/>
                </a:lnTo>
                <a:lnTo>
                  <a:pt x="259210" y="6536"/>
                </a:lnTo>
                <a:lnTo>
                  <a:pt x="250264" y="15212"/>
                </a:lnTo>
                <a:lnTo>
                  <a:pt x="241086" y="24327"/>
                </a:lnTo>
                <a:lnTo>
                  <a:pt x="236924" y="29425"/>
                </a:lnTo>
                <a:lnTo>
                  <a:pt x="233196" y="34729"/>
                </a:lnTo>
                <a:lnTo>
                  <a:pt x="225563" y="46654"/>
                </a:lnTo>
                <a:lnTo>
                  <a:pt x="215820" y="61479"/>
                </a:lnTo>
                <a:lnTo>
                  <a:pt x="210555" y="68480"/>
                </a:lnTo>
                <a:lnTo>
                  <a:pt x="205140" y="75053"/>
                </a:lnTo>
                <a:lnTo>
                  <a:pt x="199625" y="81339"/>
                </a:lnTo>
                <a:lnTo>
                  <a:pt x="193090" y="88388"/>
                </a:lnTo>
                <a:lnTo>
                  <a:pt x="178210" y="103840"/>
                </a:lnTo>
                <a:lnTo>
                  <a:pt x="171194" y="111961"/>
                </a:lnTo>
                <a:lnTo>
                  <a:pt x="164612" y="120233"/>
                </a:lnTo>
                <a:lnTo>
                  <a:pt x="158319" y="128604"/>
                </a:lnTo>
                <a:lnTo>
                  <a:pt x="151265" y="137043"/>
                </a:lnTo>
                <a:lnTo>
                  <a:pt x="143706" y="145527"/>
                </a:lnTo>
                <a:lnTo>
                  <a:pt x="135809" y="154040"/>
                </a:lnTo>
                <a:lnTo>
                  <a:pt x="128639" y="162572"/>
                </a:lnTo>
                <a:lnTo>
                  <a:pt x="121954" y="171118"/>
                </a:lnTo>
                <a:lnTo>
                  <a:pt x="115593" y="179674"/>
                </a:lnTo>
                <a:lnTo>
                  <a:pt x="103444" y="196799"/>
                </a:lnTo>
                <a:lnTo>
                  <a:pt x="80123" y="231076"/>
                </a:lnTo>
                <a:lnTo>
                  <a:pt x="74370" y="238695"/>
                </a:lnTo>
                <a:lnTo>
                  <a:pt x="68630" y="245679"/>
                </a:lnTo>
                <a:lnTo>
                  <a:pt x="62898" y="252241"/>
                </a:lnTo>
                <a:lnTo>
                  <a:pt x="57172" y="258520"/>
                </a:lnTo>
                <a:lnTo>
                  <a:pt x="45729" y="270577"/>
                </a:lnTo>
                <a:lnTo>
                  <a:pt x="40964" y="276459"/>
                </a:lnTo>
                <a:lnTo>
                  <a:pt x="36834" y="282285"/>
                </a:lnTo>
                <a:lnTo>
                  <a:pt x="33128" y="288075"/>
                </a:lnTo>
                <a:lnTo>
                  <a:pt x="26471" y="297047"/>
                </a:lnTo>
                <a:lnTo>
                  <a:pt x="20337" y="304210"/>
                </a:lnTo>
                <a:lnTo>
                  <a:pt x="11529" y="313598"/>
                </a:lnTo>
                <a:lnTo>
                  <a:pt x="0" y="32537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MARTPenAnnotation900"/>
          <p:cNvSpPr/>
          <p:nvPr/>
        </p:nvSpPr>
        <p:spPr>
          <a:xfrm>
            <a:off x="3336840" y="5584680"/>
            <a:ext cx="446040" cy="55800"/>
          </a:xfrm>
          <a:custGeom>
            <a:avLst/>
            <a:gdLst>
              <a:gd name="textAreaLeft" fmla="*/ 0 w 446040"/>
              <a:gd name="textAreaRight" fmla="*/ 446400 w 44604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445771" h="56298">
                <a:moveTo>
                  <a:pt x="0" y="56297"/>
                </a:moveTo>
                <a:lnTo>
                  <a:pt x="4551" y="56297"/>
                </a:lnTo>
                <a:lnTo>
                  <a:pt x="6844" y="55345"/>
                </a:lnTo>
                <a:lnTo>
                  <a:pt x="9326" y="53758"/>
                </a:lnTo>
                <a:lnTo>
                  <a:pt x="11932" y="51747"/>
                </a:lnTo>
                <a:lnTo>
                  <a:pt x="14622" y="50406"/>
                </a:lnTo>
                <a:lnTo>
                  <a:pt x="20151" y="48916"/>
                </a:lnTo>
                <a:lnTo>
                  <a:pt x="22959" y="47567"/>
                </a:lnTo>
                <a:lnTo>
                  <a:pt x="25784" y="45715"/>
                </a:lnTo>
                <a:lnTo>
                  <a:pt x="28620" y="43527"/>
                </a:lnTo>
                <a:lnTo>
                  <a:pt x="32415" y="42069"/>
                </a:lnTo>
                <a:lnTo>
                  <a:pt x="47811" y="39064"/>
                </a:lnTo>
                <a:lnTo>
                  <a:pt x="54734" y="37189"/>
                </a:lnTo>
                <a:lnTo>
                  <a:pt x="62207" y="34986"/>
                </a:lnTo>
                <a:lnTo>
                  <a:pt x="70046" y="33517"/>
                </a:lnTo>
                <a:lnTo>
                  <a:pt x="78130" y="32538"/>
                </a:lnTo>
                <a:lnTo>
                  <a:pt x="86377" y="31886"/>
                </a:lnTo>
                <a:lnTo>
                  <a:pt x="93780" y="30498"/>
                </a:lnTo>
                <a:lnTo>
                  <a:pt x="100620" y="28620"/>
                </a:lnTo>
                <a:lnTo>
                  <a:pt x="107085" y="26416"/>
                </a:lnTo>
                <a:lnTo>
                  <a:pt x="114253" y="24947"/>
                </a:lnTo>
                <a:lnTo>
                  <a:pt x="121889" y="23967"/>
                </a:lnTo>
                <a:lnTo>
                  <a:pt x="129837" y="23314"/>
                </a:lnTo>
                <a:lnTo>
                  <a:pt x="137993" y="21926"/>
                </a:lnTo>
                <a:lnTo>
                  <a:pt x="146288" y="20048"/>
                </a:lnTo>
                <a:lnTo>
                  <a:pt x="154676" y="17844"/>
                </a:lnTo>
                <a:lnTo>
                  <a:pt x="163125" y="16374"/>
                </a:lnTo>
                <a:lnTo>
                  <a:pt x="171615" y="15394"/>
                </a:lnTo>
                <a:lnTo>
                  <a:pt x="180133" y="14741"/>
                </a:lnTo>
                <a:lnTo>
                  <a:pt x="188669" y="13354"/>
                </a:lnTo>
                <a:lnTo>
                  <a:pt x="197217" y="11476"/>
                </a:lnTo>
                <a:lnTo>
                  <a:pt x="205773" y="9271"/>
                </a:lnTo>
                <a:lnTo>
                  <a:pt x="214335" y="7802"/>
                </a:lnTo>
                <a:lnTo>
                  <a:pt x="222900" y="6822"/>
                </a:lnTo>
                <a:lnTo>
                  <a:pt x="231467" y="6169"/>
                </a:lnTo>
                <a:lnTo>
                  <a:pt x="240037" y="5733"/>
                </a:lnTo>
                <a:lnTo>
                  <a:pt x="257178" y="5250"/>
                </a:lnTo>
                <a:lnTo>
                  <a:pt x="265750" y="4168"/>
                </a:lnTo>
                <a:lnTo>
                  <a:pt x="274322" y="2495"/>
                </a:lnTo>
                <a:lnTo>
                  <a:pt x="282894" y="427"/>
                </a:lnTo>
                <a:lnTo>
                  <a:pt x="291466" y="0"/>
                </a:lnTo>
                <a:lnTo>
                  <a:pt x="300039" y="668"/>
                </a:lnTo>
                <a:lnTo>
                  <a:pt x="308611" y="2067"/>
                </a:lnTo>
                <a:lnTo>
                  <a:pt x="316231" y="2998"/>
                </a:lnTo>
                <a:lnTo>
                  <a:pt x="329778" y="4034"/>
                </a:lnTo>
                <a:lnTo>
                  <a:pt x="344688" y="4494"/>
                </a:lnTo>
                <a:lnTo>
                  <a:pt x="352664" y="4617"/>
                </a:lnTo>
                <a:lnTo>
                  <a:pt x="359887" y="5652"/>
                </a:lnTo>
                <a:lnTo>
                  <a:pt x="366608" y="7293"/>
                </a:lnTo>
                <a:lnTo>
                  <a:pt x="372993" y="9341"/>
                </a:lnTo>
                <a:lnTo>
                  <a:pt x="379155" y="10706"/>
                </a:lnTo>
                <a:lnTo>
                  <a:pt x="391081" y="12222"/>
                </a:lnTo>
                <a:lnTo>
                  <a:pt x="396928" y="13579"/>
                </a:lnTo>
                <a:lnTo>
                  <a:pt x="402732" y="15436"/>
                </a:lnTo>
                <a:lnTo>
                  <a:pt x="408505" y="17627"/>
                </a:lnTo>
                <a:lnTo>
                  <a:pt x="413307" y="19087"/>
                </a:lnTo>
                <a:lnTo>
                  <a:pt x="421182" y="20710"/>
                </a:lnTo>
                <a:lnTo>
                  <a:pt x="434431" y="21836"/>
                </a:lnTo>
                <a:lnTo>
                  <a:pt x="445770" y="220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MARTPenAnnotation901"/>
          <p:cNvSpPr/>
          <p:nvPr/>
        </p:nvSpPr>
        <p:spPr>
          <a:xfrm>
            <a:off x="3578400" y="5486400"/>
            <a:ext cx="25200" cy="307800"/>
          </a:xfrm>
          <a:custGeom>
            <a:avLst/>
            <a:gdLst>
              <a:gd name="textAreaLeft" fmla="*/ 0 w 25200"/>
              <a:gd name="textAreaRight" fmla="*/ 25560 w 2520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25718" h="307257">
                <a:moveTo>
                  <a:pt x="25717" y="0"/>
                </a:moveTo>
                <a:lnTo>
                  <a:pt x="365" y="0"/>
                </a:lnTo>
                <a:lnTo>
                  <a:pt x="108" y="4551"/>
                </a:lnTo>
                <a:lnTo>
                  <a:pt x="1024" y="6843"/>
                </a:lnTo>
                <a:lnTo>
                  <a:pt x="2588" y="9325"/>
                </a:lnTo>
                <a:lnTo>
                  <a:pt x="4582" y="11931"/>
                </a:lnTo>
                <a:lnTo>
                  <a:pt x="5912" y="15574"/>
                </a:lnTo>
                <a:lnTo>
                  <a:pt x="6799" y="19908"/>
                </a:lnTo>
                <a:lnTo>
                  <a:pt x="7390" y="24701"/>
                </a:lnTo>
                <a:lnTo>
                  <a:pt x="8046" y="32568"/>
                </a:lnTo>
                <a:lnTo>
                  <a:pt x="8339" y="40192"/>
                </a:lnTo>
                <a:lnTo>
                  <a:pt x="8526" y="63148"/>
                </a:lnTo>
                <a:lnTo>
                  <a:pt x="8572" y="188630"/>
                </a:lnTo>
                <a:lnTo>
                  <a:pt x="7620" y="197191"/>
                </a:lnTo>
                <a:lnTo>
                  <a:pt x="6032" y="205755"/>
                </a:lnTo>
                <a:lnTo>
                  <a:pt x="4022" y="214322"/>
                </a:lnTo>
                <a:lnTo>
                  <a:pt x="2680" y="221939"/>
                </a:lnTo>
                <a:lnTo>
                  <a:pt x="1787" y="228922"/>
                </a:lnTo>
                <a:lnTo>
                  <a:pt x="1191" y="235482"/>
                </a:lnTo>
                <a:lnTo>
                  <a:pt x="794" y="241760"/>
                </a:lnTo>
                <a:lnTo>
                  <a:pt x="353" y="253817"/>
                </a:lnTo>
                <a:lnTo>
                  <a:pt x="69" y="276126"/>
                </a:lnTo>
                <a:lnTo>
                  <a:pt x="0" y="304041"/>
                </a:lnTo>
                <a:lnTo>
                  <a:pt x="953" y="305564"/>
                </a:lnTo>
                <a:lnTo>
                  <a:pt x="2540" y="306580"/>
                </a:lnTo>
                <a:lnTo>
                  <a:pt x="4551" y="307256"/>
                </a:lnTo>
                <a:lnTo>
                  <a:pt x="5891" y="306755"/>
                </a:lnTo>
                <a:lnTo>
                  <a:pt x="6785" y="305468"/>
                </a:lnTo>
                <a:lnTo>
                  <a:pt x="8572" y="30003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MARTPenAnnotation902"/>
          <p:cNvSpPr/>
          <p:nvPr/>
        </p:nvSpPr>
        <p:spPr>
          <a:xfrm>
            <a:off x="3843360" y="5365800"/>
            <a:ext cx="307800" cy="395280"/>
          </a:xfrm>
          <a:custGeom>
            <a:avLst/>
            <a:gdLst>
              <a:gd name="textAreaLeft" fmla="*/ 0 w 307800"/>
              <a:gd name="textAreaRight" fmla="*/ 308160 w 3078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307218" h="394184">
                <a:moveTo>
                  <a:pt x="188584" y="8572"/>
                </a:moveTo>
                <a:lnTo>
                  <a:pt x="193135" y="4022"/>
                </a:lnTo>
                <a:lnTo>
                  <a:pt x="195428" y="2681"/>
                </a:lnTo>
                <a:lnTo>
                  <a:pt x="204184" y="353"/>
                </a:lnTo>
                <a:lnTo>
                  <a:pt x="213712" y="13"/>
                </a:lnTo>
                <a:lnTo>
                  <a:pt x="219163" y="2"/>
                </a:lnTo>
                <a:lnTo>
                  <a:pt x="131293" y="0"/>
                </a:lnTo>
                <a:lnTo>
                  <a:pt x="126578" y="952"/>
                </a:lnTo>
                <a:lnTo>
                  <a:pt x="118798" y="4551"/>
                </a:lnTo>
                <a:lnTo>
                  <a:pt x="109626" y="6785"/>
                </a:lnTo>
                <a:lnTo>
                  <a:pt x="104512" y="7381"/>
                </a:lnTo>
                <a:lnTo>
                  <a:pt x="100151" y="8730"/>
                </a:lnTo>
                <a:lnTo>
                  <a:pt x="92766" y="12770"/>
                </a:lnTo>
                <a:lnTo>
                  <a:pt x="83768" y="15200"/>
                </a:lnTo>
                <a:lnTo>
                  <a:pt x="78702" y="15848"/>
                </a:lnTo>
                <a:lnTo>
                  <a:pt x="70533" y="19109"/>
                </a:lnTo>
                <a:lnTo>
                  <a:pt x="67021" y="21312"/>
                </a:lnTo>
                <a:lnTo>
                  <a:pt x="58039" y="23759"/>
                </a:lnTo>
                <a:lnTo>
                  <a:pt x="52976" y="24412"/>
                </a:lnTo>
                <a:lnTo>
                  <a:pt x="49601" y="26752"/>
                </a:lnTo>
                <a:lnTo>
                  <a:pt x="47351" y="30217"/>
                </a:lnTo>
                <a:lnTo>
                  <a:pt x="43899" y="38194"/>
                </a:lnTo>
                <a:lnTo>
                  <a:pt x="36600" y="48041"/>
                </a:lnTo>
                <a:lnTo>
                  <a:pt x="31183" y="54054"/>
                </a:lnTo>
                <a:lnTo>
                  <a:pt x="29357" y="57943"/>
                </a:lnTo>
                <a:lnTo>
                  <a:pt x="27330" y="67345"/>
                </a:lnTo>
                <a:lnTo>
                  <a:pt x="24884" y="73472"/>
                </a:lnTo>
                <a:lnTo>
                  <a:pt x="21348" y="80413"/>
                </a:lnTo>
                <a:lnTo>
                  <a:pt x="17086" y="87899"/>
                </a:lnTo>
                <a:lnTo>
                  <a:pt x="14244" y="94794"/>
                </a:lnTo>
                <a:lnTo>
                  <a:pt x="12350" y="101296"/>
                </a:lnTo>
                <a:lnTo>
                  <a:pt x="9293" y="113601"/>
                </a:lnTo>
                <a:lnTo>
                  <a:pt x="4759" y="125418"/>
                </a:lnTo>
                <a:lnTo>
                  <a:pt x="2109" y="137022"/>
                </a:lnTo>
                <a:lnTo>
                  <a:pt x="931" y="148528"/>
                </a:lnTo>
                <a:lnTo>
                  <a:pt x="408" y="159993"/>
                </a:lnTo>
                <a:lnTo>
                  <a:pt x="113" y="172606"/>
                </a:lnTo>
                <a:lnTo>
                  <a:pt x="0" y="186752"/>
                </a:lnTo>
                <a:lnTo>
                  <a:pt x="2534" y="190316"/>
                </a:lnTo>
                <a:lnTo>
                  <a:pt x="4543" y="192600"/>
                </a:lnTo>
                <a:lnTo>
                  <a:pt x="6835" y="194122"/>
                </a:lnTo>
                <a:lnTo>
                  <a:pt x="11922" y="195813"/>
                </a:lnTo>
                <a:lnTo>
                  <a:pt x="20140" y="196766"/>
                </a:lnTo>
                <a:lnTo>
                  <a:pt x="28608" y="197048"/>
                </a:lnTo>
                <a:lnTo>
                  <a:pt x="31451" y="196135"/>
                </a:lnTo>
                <a:lnTo>
                  <a:pt x="50264" y="185225"/>
                </a:lnTo>
                <a:lnTo>
                  <a:pt x="56365" y="182538"/>
                </a:lnTo>
                <a:lnTo>
                  <a:pt x="63291" y="179795"/>
                </a:lnTo>
                <a:lnTo>
                  <a:pt x="70765" y="177013"/>
                </a:lnTo>
                <a:lnTo>
                  <a:pt x="77653" y="173253"/>
                </a:lnTo>
                <a:lnTo>
                  <a:pt x="84150" y="168843"/>
                </a:lnTo>
                <a:lnTo>
                  <a:pt x="90386" y="163996"/>
                </a:lnTo>
                <a:lnTo>
                  <a:pt x="96449" y="159813"/>
                </a:lnTo>
                <a:lnTo>
                  <a:pt x="102396" y="156072"/>
                </a:lnTo>
                <a:lnTo>
                  <a:pt x="108265" y="152626"/>
                </a:lnTo>
                <a:lnTo>
                  <a:pt x="115035" y="149375"/>
                </a:lnTo>
                <a:lnTo>
                  <a:pt x="122407" y="146256"/>
                </a:lnTo>
                <a:lnTo>
                  <a:pt x="130178" y="143224"/>
                </a:lnTo>
                <a:lnTo>
                  <a:pt x="146434" y="137315"/>
                </a:lnTo>
                <a:lnTo>
                  <a:pt x="154769" y="134406"/>
                </a:lnTo>
                <a:lnTo>
                  <a:pt x="162230" y="132466"/>
                </a:lnTo>
                <a:lnTo>
                  <a:pt x="169110" y="131174"/>
                </a:lnTo>
                <a:lnTo>
                  <a:pt x="175601" y="130311"/>
                </a:lnTo>
                <a:lnTo>
                  <a:pt x="181834" y="129737"/>
                </a:lnTo>
                <a:lnTo>
                  <a:pt x="187894" y="129353"/>
                </a:lnTo>
                <a:lnTo>
                  <a:pt x="199707" y="128928"/>
                </a:lnTo>
                <a:lnTo>
                  <a:pt x="218021" y="128688"/>
                </a:lnTo>
                <a:lnTo>
                  <a:pt x="233099" y="128632"/>
                </a:lnTo>
                <a:lnTo>
                  <a:pt x="239216" y="129570"/>
                </a:lnTo>
                <a:lnTo>
                  <a:pt x="248552" y="133151"/>
                </a:lnTo>
                <a:lnTo>
                  <a:pt x="253328" y="136393"/>
                </a:lnTo>
                <a:lnTo>
                  <a:pt x="258417" y="140458"/>
                </a:lnTo>
                <a:lnTo>
                  <a:pt x="263714" y="145073"/>
                </a:lnTo>
                <a:lnTo>
                  <a:pt x="269150" y="149103"/>
                </a:lnTo>
                <a:lnTo>
                  <a:pt x="274680" y="152742"/>
                </a:lnTo>
                <a:lnTo>
                  <a:pt x="280272" y="156120"/>
                </a:lnTo>
                <a:lnTo>
                  <a:pt x="289024" y="164954"/>
                </a:lnTo>
                <a:lnTo>
                  <a:pt x="292691" y="169977"/>
                </a:lnTo>
                <a:lnTo>
                  <a:pt x="296766" y="180638"/>
                </a:lnTo>
                <a:lnTo>
                  <a:pt x="299530" y="191726"/>
                </a:lnTo>
                <a:lnTo>
                  <a:pt x="303933" y="203004"/>
                </a:lnTo>
                <a:lnTo>
                  <a:pt x="305489" y="209631"/>
                </a:lnTo>
                <a:lnTo>
                  <a:pt x="306525" y="216906"/>
                </a:lnTo>
                <a:lnTo>
                  <a:pt x="307217" y="224614"/>
                </a:lnTo>
                <a:lnTo>
                  <a:pt x="306725" y="231658"/>
                </a:lnTo>
                <a:lnTo>
                  <a:pt x="305445" y="238258"/>
                </a:lnTo>
                <a:lnTo>
                  <a:pt x="303639" y="244564"/>
                </a:lnTo>
                <a:lnTo>
                  <a:pt x="302435" y="251625"/>
                </a:lnTo>
                <a:lnTo>
                  <a:pt x="301632" y="259190"/>
                </a:lnTo>
                <a:lnTo>
                  <a:pt x="301097" y="267091"/>
                </a:lnTo>
                <a:lnTo>
                  <a:pt x="298835" y="274262"/>
                </a:lnTo>
                <a:lnTo>
                  <a:pt x="295422" y="280949"/>
                </a:lnTo>
                <a:lnTo>
                  <a:pt x="291242" y="287312"/>
                </a:lnTo>
                <a:lnTo>
                  <a:pt x="284057" y="299462"/>
                </a:lnTo>
                <a:lnTo>
                  <a:pt x="280808" y="305368"/>
                </a:lnTo>
                <a:lnTo>
                  <a:pt x="276737" y="312164"/>
                </a:lnTo>
                <a:lnTo>
                  <a:pt x="267133" y="327334"/>
                </a:lnTo>
                <a:lnTo>
                  <a:pt x="259055" y="338522"/>
                </a:lnTo>
                <a:lnTo>
                  <a:pt x="251337" y="347621"/>
                </a:lnTo>
                <a:lnTo>
                  <a:pt x="241557" y="358015"/>
                </a:lnTo>
                <a:lnTo>
                  <a:pt x="236282" y="362502"/>
                </a:lnTo>
                <a:lnTo>
                  <a:pt x="230860" y="366445"/>
                </a:lnTo>
                <a:lnTo>
                  <a:pt x="225340" y="370027"/>
                </a:lnTo>
                <a:lnTo>
                  <a:pt x="216668" y="376546"/>
                </a:lnTo>
                <a:lnTo>
                  <a:pt x="209638" y="382619"/>
                </a:lnTo>
                <a:lnTo>
                  <a:pt x="203339" y="388492"/>
                </a:lnTo>
                <a:lnTo>
                  <a:pt x="199373" y="390440"/>
                </a:lnTo>
                <a:lnTo>
                  <a:pt x="189887" y="392604"/>
                </a:lnTo>
                <a:lnTo>
                  <a:pt x="181860" y="393566"/>
                </a:lnTo>
                <a:lnTo>
                  <a:pt x="175118" y="393993"/>
                </a:lnTo>
                <a:lnTo>
                  <a:pt x="168947" y="394183"/>
                </a:lnTo>
                <a:lnTo>
                  <a:pt x="165968" y="393281"/>
                </a:lnTo>
                <a:lnTo>
                  <a:pt x="160118" y="389739"/>
                </a:lnTo>
                <a:lnTo>
                  <a:pt x="151469" y="382390"/>
                </a:lnTo>
                <a:lnTo>
                  <a:pt x="145722" y="3771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MARTPenAnnotation903"/>
          <p:cNvSpPr/>
          <p:nvPr/>
        </p:nvSpPr>
        <p:spPr>
          <a:xfrm>
            <a:off x="4211640" y="5307120"/>
            <a:ext cx="281160" cy="487080"/>
          </a:xfrm>
          <a:custGeom>
            <a:avLst/>
            <a:gdLst>
              <a:gd name="textAreaLeft" fmla="*/ 0 w 281160"/>
              <a:gd name="textAreaRight" fmla="*/ 281520 w 281160"/>
              <a:gd name="textAreaTop" fmla="*/ 0 h 487080"/>
              <a:gd name="textAreaBottom" fmla="*/ 487440 h 487080"/>
            </a:gdLst>
            <a:ahLst/>
            <a:rect l="textAreaLeft" t="textAreaTop" r="textAreaRight" b="textAreaBottom"/>
            <a:pathLst>
              <a:path w="281156" h="488516">
                <a:moveTo>
                  <a:pt x="0" y="0"/>
                </a:moveTo>
                <a:lnTo>
                  <a:pt x="12771" y="0"/>
                </a:lnTo>
                <a:lnTo>
                  <a:pt x="20281" y="2540"/>
                </a:lnTo>
                <a:lnTo>
                  <a:pt x="24951" y="4551"/>
                </a:lnTo>
                <a:lnTo>
                  <a:pt x="29969" y="5892"/>
                </a:lnTo>
                <a:lnTo>
                  <a:pt x="35220" y="6785"/>
                </a:lnTo>
                <a:lnTo>
                  <a:pt x="40625" y="7381"/>
                </a:lnTo>
                <a:lnTo>
                  <a:pt x="49171" y="10583"/>
                </a:lnTo>
                <a:lnTo>
                  <a:pt x="57097" y="15181"/>
                </a:lnTo>
                <a:lnTo>
                  <a:pt x="66969" y="20400"/>
                </a:lnTo>
                <a:lnTo>
                  <a:pt x="73222" y="23125"/>
                </a:lnTo>
                <a:lnTo>
                  <a:pt x="80247" y="25894"/>
                </a:lnTo>
                <a:lnTo>
                  <a:pt x="87788" y="28693"/>
                </a:lnTo>
                <a:lnTo>
                  <a:pt x="94721" y="31511"/>
                </a:lnTo>
                <a:lnTo>
                  <a:pt x="101247" y="34342"/>
                </a:lnTo>
                <a:lnTo>
                  <a:pt x="113579" y="40028"/>
                </a:lnTo>
                <a:lnTo>
                  <a:pt x="125410" y="45731"/>
                </a:lnTo>
                <a:lnTo>
                  <a:pt x="132184" y="49537"/>
                </a:lnTo>
                <a:lnTo>
                  <a:pt x="139558" y="53980"/>
                </a:lnTo>
                <a:lnTo>
                  <a:pt x="147331" y="58847"/>
                </a:lnTo>
                <a:lnTo>
                  <a:pt x="155371" y="63043"/>
                </a:lnTo>
                <a:lnTo>
                  <a:pt x="163588" y="66794"/>
                </a:lnTo>
                <a:lnTo>
                  <a:pt x="171924" y="70247"/>
                </a:lnTo>
                <a:lnTo>
                  <a:pt x="179386" y="74454"/>
                </a:lnTo>
                <a:lnTo>
                  <a:pt x="186266" y="79163"/>
                </a:lnTo>
                <a:lnTo>
                  <a:pt x="192757" y="84208"/>
                </a:lnTo>
                <a:lnTo>
                  <a:pt x="198990" y="89476"/>
                </a:lnTo>
                <a:lnTo>
                  <a:pt x="205050" y="94894"/>
                </a:lnTo>
                <a:lnTo>
                  <a:pt x="216864" y="105992"/>
                </a:lnTo>
                <a:lnTo>
                  <a:pt x="228464" y="117276"/>
                </a:lnTo>
                <a:lnTo>
                  <a:pt x="234225" y="123904"/>
                </a:lnTo>
                <a:lnTo>
                  <a:pt x="239970" y="131180"/>
                </a:lnTo>
                <a:lnTo>
                  <a:pt x="245705" y="138888"/>
                </a:lnTo>
                <a:lnTo>
                  <a:pt x="250481" y="146885"/>
                </a:lnTo>
                <a:lnTo>
                  <a:pt x="254617" y="155073"/>
                </a:lnTo>
                <a:lnTo>
                  <a:pt x="261754" y="170839"/>
                </a:lnTo>
                <a:lnTo>
                  <a:pt x="268100" y="184196"/>
                </a:lnTo>
                <a:lnTo>
                  <a:pt x="271126" y="192330"/>
                </a:lnTo>
                <a:lnTo>
                  <a:pt x="274096" y="201563"/>
                </a:lnTo>
                <a:lnTo>
                  <a:pt x="277028" y="211528"/>
                </a:lnTo>
                <a:lnTo>
                  <a:pt x="278983" y="221029"/>
                </a:lnTo>
                <a:lnTo>
                  <a:pt x="280286" y="230220"/>
                </a:lnTo>
                <a:lnTo>
                  <a:pt x="281155" y="239205"/>
                </a:lnTo>
                <a:lnTo>
                  <a:pt x="280782" y="248053"/>
                </a:lnTo>
                <a:lnTo>
                  <a:pt x="279581" y="256809"/>
                </a:lnTo>
                <a:lnTo>
                  <a:pt x="277827" y="265503"/>
                </a:lnTo>
                <a:lnTo>
                  <a:pt x="273339" y="285324"/>
                </a:lnTo>
                <a:lnTo>
                  <a:pt x="270809" y="295943"/>
                </a:lnTo>
                <a:lnTo>
                  <a:pt x="268169" y="305881"/>
                </a:lnTo>
                <a:lnTo>
                  <a:pt x="259904" y="334472"/>
                </a:lnTo>
                <a:lnTo>
                  <a:pt x="254260" y="355664"/>
                </a:lnTo>
                <a:lnTo>
                  <a:pt x="250470" y="365697"/>
                </a:lnTo>
                <a:lnTo>
                  <a:pt x="246038" y="375243"/>
                </a:lnTo>
                <a:lnTo>
                  <a:pt x="229787" y="406545"/>
                </a:lnTo>
                <a:lnTo>
                  <a:pt x="220380" y="425152"/>
                </a:lnTo>
                <a:lnTo>
                  <a:pt x="211929" y="436924"/>
                </a:lnTo>
                <a:lnTo>
                  <a:pt x="207009" y="442730"/>
                </a:lnTo>
                <a:lnTo>
                  <a:pt x="199002" y="451722"/>
                </a:lnTo>
                <a:lnTo>
                  <a:pt x="192268" y="458893"/>
                </a:lnTo>
                <a:lnTo>
                  <a:pt x="180184" y="471257"/>
                </a:lnTo>
                <a:lnTo>
                  <a:pt x="177273" y="474192"/>
                </a:lnTo>
                <a:lnTo>
                  <a:pt x="174379" y="476148"/>
                </a:lnTo>
                <a:lnTo>
                  <a:pt x="168625" y="478321"/>
                </a:lnTo>
                <a:lnTo>
                  <a:pt x="166710" y="479853"/>
                </a:lnTo>
                <a:lnTo>
                  <a:pt x="165432" y="481828"/>
                </a:lnTo>
                <a:lnTo>
                  <a:pt x="164581" y="484096"/>
                </a:lnTo>
                <a:lnTo>
                  <a:pt x="163061" y="485608"/>
                </a:lnTo>
                <a:lnTo>
                  <a:pt x="161095" y="486616"/>
                </a:lnTo>
                <a:lnTo>
                  <a:pt x="155646" y="488234"/>
                </a:lnTo>
                <a:lnTo>
                  <a:pt x="150152" y="488515"/>
                </a:lnTo>
                <a:lnTo>
                  <a:pt x="148679" y="487602"/>
                </a:lnTo>
                <a:lnTo>
                  <a:pt x="147697" y="486041"/>
                </a:lnTo>
                <a:lnTo>
                  <a:pt x="145733" y="4800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MARTPenAnnotation904"/>
          <p:cNvSpPr/>
          <p:nvPr/>
        </p:nvSpPr>
        <p:spPr>
          <a:xfrm>
            <a:off x="4657680" y="5238720"/>
            <a:ext cx="196920" cy="469800"/>
          </a:xfrm>
          <a:custGeom>
            <a:avLst/>
            <a:gdLst>
              <a:gd name="textAreaLeft" fmla="*/ 0 w 196920"/>
              <a:gd name="textAreaRight" fmla="*/ 197280 w 19692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97125" h="469934">
                <a:moveTo>
                  <a:pt x="162834" y="7381"/>
                </a:moveTo>
                <a:lnTo>
                  <a:pt x="147234" y="7381"/>
                </a:lnTo>
                <a:lnTo>
                  <a:pt x="146719" y="6428"/>
                </a:lnTo>
                <a:lnTo>
                  <a:pt x="146147" y="2830"/>
                </a:lnTo>
                <a:lnTo>
                  <a:pt x="145042" y="1489"/>
                </a:lnTo>
                <a:lnTo>
                  <a:pt x="143352" y="595"/>
                </a:lnTo>
                <a:lnTo>
                  <a:pt x="141274" y="0"/>
                </a:lnTo>
                <a:lnTo>
                  <a:pt x="138936" y="555"/>
                </a:lnTo>
                <a:lnTo>
                  <a:pt x="133797" y="3712"/>
                </a:lnTo>
                <a:lnTo>
                  <a:pt x="132046" y="5887"/>
                </a:lnTo>
                <a:lnTo>
                  <a:pt x="130879" y="8290"/>
                </a:lnTo>
                <a:lnTo>
                  <a:pt x="130100" y="10845"/>
                </a:lnTo>
                <a:lnTo>
                  <a:pt x="127677" y="13500"/>
                </a:lnTo>
                <a:lnTo>
                  <a:pt x="124156" y="16223"/>
                </a:lnTo>
                <a:lnTo>
                  <a:pt x="119903" y="18990"/>
                </a:lnTo>
                <a:lnTo>
                  <a:pt x="116116" y="21788"/>
                </a:lnTo>
                <a:lnTo>
                  <a:pt x="112639" y="24605"/>
                </a:lnTo>
                <a:lnTo>
                  <a:pt x="109368" y="27436"/>
                </a:lnTo>
                <a:lnTo>
                  <a:pt x="105283" y="31229"/>
                </a:lnTo>
                <a:lnTo>
                  <a:pt x="95663" y="40522"/>
                </a:lnTo>
                <a:lnTo>
                  <a:pt x="91383" y="45667"/>
                </a:lnTo>
                <a:lnTo>
                  <a:pt x="87578" y="51003"/>
                </a:lnTo>
                <a:lnTo>
                  <a:pt x="84088" y="56464"/>
                </a:lnTo>
                <a:lnTo>
                  <a:pt x="80809" y="62011"/>
                </a:lnTo>
                <a:lnTo>
                  <a:pt x="77671" y="67613"/>
                </a:lnTo>
                <a:lnTo>
                  <a:pt x="71644" y="78918"/>
                </a:lnTo>
                <a:lnTo>
                  <a:pt x="65790" y="90292"/>
                </a:lnTo>
                <a:lnTo>
                  <a:pt x="60013" y="104238"/>
                </a:lnTo>
                <a:lnTo>
                  <a:pt x="57139" y="111958"/>
                </a:lnTo>
                <a:lnTo>
                  <a:pt x="51406" y="125614"/>
                </a:lnTo>
                <a:lnTo>
                  <a:pt x="45683" y="139939"/>
                </a:lnTo>
                <a:lnTo>
                  <a:pt x="42823" y="149092"/>
                </a:lnTo>
                <a:lnTo>
                  <a:pt x="37106" y="168471"/>
                </a:lnTo>
                <a:lnTo>
                  <a:pt x="31390" y="186609"/>
                </a:lnTo>
                <a:lnTo>
                  <a:pt x="28532" y="196399"/>
                </a:lnTo>
                <a:lnTo>
                  <a:pt x="19959" y="227428"/>
                </a:lnTo>
                <a:lnTo>
                  <a:pt x="11386" y="256094"/>
                </a:lnTo>
                <a:lnTo>
                  <a:pt x="5672" y="277305"/>
                </a:lnTo>
                <a:lnTo>
                  <a:pt x="3767" y="287343"/>
                </a:lnTo>
                <a:lnTo>
                  <a:pt x="2497" y="296892"/>
                </a:lnTo>
                <a:lnTo>
                  <a:pt x="1650" y="306116"/>
                </a:lnTo>
                <a:lnTo>
                  <a:pt x="1086" y="315123"/>
                </a:lnTo>
                <a:lnTo>
                  <a:pt x="458" y="332750"/>
                </a:lnTo>
                <a:lnTo>
                  <a:pt x="105" y="354188"/>
                </a:lnTo>
                <a:lnTo>
                  <a:pt x="0" y="377156"/>
                </a:lnTo>
                <a:lnTo>
                  <a:pt x="939" y="383437"/>
                </a:lnTo>
                <a:lnTo>
                  <a:pt x="6809" y="397782"/>
                </a:lnTo>
                <a:lnTo>
                  <a:pt x="11892" y="408222"/>
                </a:lnTo>
                <a:lnTo>
                  <a:pt x="17326" y="416673"/>
                </a:lnTo>
                <a:lnTo>
                  <a:pt x="22917" y="423603"/>
                </a:lnTo>
                <a:lnTo>
                  <a:pt x="28576" y="429858"/>
                </a:lnTo>
                <a:lnTo>
                  <a:pt x="32371" y="432860"/>
                </a:lnTo>
                <a:lnTo>
                  <a:pt x="36806" y="435814"/>
                </a:lnTo>
                <a:lnTo>
                  <a:pt x="41668" y="438735"/>
                </a:lnTo>
                <a:lnTo>
                  <a:pt x="45861" y="440683"/>
                </a:lnTo>
                <a:lnTo>
                  <a:pt x="49610" y="441981"/>
                </a:lnTo>
                <a:lnTo>
                  <a:pt x="53062" y="442847"/>
                </a:lnTo>
                <a:lnTo>
                  <a:pt x="57267" y="444377"/>
                </a:lnTo>
                <a:lnTo>
                  <a:pt x="61976" y="446349"/>
                </a:lnTo>
                <a:lnTo>
                  <a:pt x="67021" y="448616"/>
                </a:lnTo>
                <a:lnTo>
                  <a:pt x="71336" y="450128"/>
                </a:lnTo>
                <a:lnTo>
                  <a:pt x="75165" y="451135"/>
                </a:lnTo>
                <a:lnTo>
                  <a:pt x="78671" y="451807"/>
                </a:lnTo>
                <a:lnTo>
                  <a:pt x="82913" y="453208"/>
                </a:lnTo>
                <a:lnTo>
                  <a:pt x="87646" y="455093"/>
                </a:lnTo>
                <a:lnTo>
                  <a:pt x="92706" y="457304"/>
                </a:lnTo>
                <a:lnTo>
                  <a:pt x="97985" y="458777"/>
                </a:lnTo>
                <a:lnTo>
                  <a:pt x="103408" y="459759"/>
                </a:lnTo>
                <a:lnTo>
                  <a:pt x="108929" y="460414"/>
                </a:lnTo>
                <a:lnTo>
                  <a:pt x="113562" y="460850"/>
                </a:lnTo>
                <a:lnTo>
                  <a:pt x="117604" y="461141"/>
                </a:lnTo>
                <a:lnTo>
                  <a:pt x="121251" y="461335"/>
                </a:lnTo>
                <a:lnTo>
                  <a:pt x="125587" y="462417"/>
                </a:lnTo>
                <a:lnTo>
                  <a:pt x="130383" y="464091"/>
                </a:lnTo>
                <a:lnTo>
                  <a:pt x="135485" y="466159"/>
                </a:lnTo>
                <a:lnTo>
                  <a:pt x="140791" y="467538"/>
                </a:lnTo>
                <a:lnTo>
                  <a:pt x="146234" y="468457"/>
                </a:lnTo>
                <a:lnTo>
                  <a:pt x="151767" y="469070"/>
                </a:lnTo>
                <a:lnTo>
                  <a:pt x="156409" y="469478"/>
                </a:lnTo>
                <a:lnTo>
                  <a:pt x="160455" y="469751"/>
                </a:lnTo>
                <a:lnTo>
                  <a:pt x="164106" y="469933"/>
                </a:lnTo>
                <a:lnTo>
                  <a:pt x="168445" y="469101"/>
                </a:lnTo>
                <a:lnTo>
                  <a:pt x="173242" y="467594"/>
                </a:lnTo>
                <a:lnTo>
                  <a:pt x="178345" y="465637"/>
                </a:lnTo>
                <a:lnTo>
                  <a:pt x="182700" y="464333"/>
                </a:lnTo>
                <a:lnTo>
                  <a:pt x="186555" y="463463"/>
                </a:lnTo>
                <a:lnTo>
                  <a:pt x="197124" y="4617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MARTPenAnnotation905"/>
          <p:cNvSpPr/>
          <p:nvPr/>
        </p:nvSpPr>
        <p:spPr>
          <a:xfrm>
            <a:off x="4897440" y="5425920"/>
            <a:ext cx="257040" cy="292320"/>
          </a:xfrm>
          <a:custGeom>
            <a:avLst/>
            <a:gdLst>
              <a:gd name="textAreaLeft" fmla="*/ 0 w 257040"/>
              <a:gd name="textAreaRight" fmla="*/ 257400 w 25704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257166" h="291435">
                <a:moveTo>
                  <a:pt x="8563" y="8542"/>
                </a:moveTo>
                <a:lnTo>
                  <a:pt x="4013" y="8542"/>
                </a:lnTo>
                <a:lnTo>
                  <a:pt x="2672" y="7589"/>
                </a:lnTo>
                <a:lnTo>
                  <a:pt x="1778" y="6002"/>
                </a:lnTo>
                <a:lnTo>
                  <a:pt x="0" y="0"/>
                </a:lnTo>
                <a:lnTo>
                  <a:pt x="28610" y="28588"/>
                </a:lnTo>
                <a:lnTo>
                  <a:pt x="32405" y="31431"/>
                </a:lnTo>
                <a:lnTo>
                  <a:pt x="36840" y="34279"/>
                </a:lnTo>
                <a:lnTo>
                  <a:pt x="41702" y="37129"/>
                </a:lnTo>
                <a:lnTo>
                  <a:pt x="49644" y="45378"/>
                </a:lnTo>
                <a:lnTo>
                  <a:pt x="53096" y="50244"/>
                </a:lnTo>
                <a:lnTo>
                  <a:pt x="57301" y="54441"/>
                </a:lnTo>
                <a:lnTo>
                  <a:pt x="62010" y="58191"/>
                </a:lnTo>
                <a:lnTo>
                  <a:pt x="67055" y="61643"/>
                </a:lnTo>
                <a:lnTo>
                  <a:pt x="72322" y="66803"/>
                </a:lnTo>
                <a:lnTo>
                  <a:pt x="77740" y="73100"/>
                </a:lnTo>
                <a:lnTo>
                  <a:pt x="83255" y="80156"/>
                </a:lnTo>
                <a:lnTo>
                  <a:pt x="88838" y="86764"/>
                </a:lnTo>
                <a:lnTo>
                  <a:pt x="94465" y="93075"/>
                </a:lnTo>
                <a:lnTo>
                  <a:pt x="105797" y="105167"/>
                </a:lnTo>
                <a:lnTo>
                  <a:pt x="117183" y="116891"/>
                </a:lnTo>
                <a:lnTo>
                  <a:pt x="122886" y="123637"/>
                </a:lnTo>
                <a:lnTo>
                  <a:pt x="128594" y="130992"/>
                </a:lnTo>
                <a:lnTo>
                  <a:pt x="134304" y="138753"/>
                </a:lnTo>
                <a:lnTo>
                  <a:pt x="140015" y="145832"/>
                </a:lnTo>
                <a:lnTo>
                  <a:pt x="145728" y="152456"/>
                </a:lnTo>
                <a:lnTo>
                  <a:pt x="151441" y="158777"/>
                </a:lnTo>
                <a:lnTo>
                  <a:pt x="156203" y="165848"/>
                </a:lnTo>
                <a:lnTo>
                  <a:pt x="160329" y="173420"/>
                </a:lnTo>
                <a:lnTo>
                  <a:pt x="164033" y="181326"/>
                </a:lnTo>
                <a:lnTo>
                  <a:pt x="168407" y="188501"/>
                </a:lnTo>
                <a:lnTo>
                  <a:pt x="173228" y="195190"/>
                </a:lnTo>
                <a:lnTo>
                  <a:pt x="178348" y="201554"/>
                </a:lnTo>
                <a:lnTo>
                  <a:pt x="182713" y="207702"/>
                </a:lnTo>
                <a:lnTo>
                  <a:pt x="186575" y="213705"/>
                </a:lnTo>
                <a:lnTo>
                  <a:pt x="190103" y="219612"/>
                </a:lnTo>
                <a:lnTo>
                  <a:pt x="194360" y="225456"/>
                </a:lnTo>
                <a:lnTo>
                  <a:pt x="199102" y="231256"/>
                </a:lnTo>
                <a:lnTo>
                  <a:pt x="204169" y="237028"/>
                </a:lnTo>
                <a:lnTo>
                  <a:pt x="208500" y="242780"/>
                </a:lnTo>
                <a:lnTo>
                  <a:pt x="212339" y="248521"/>
                </a:lnTo>
                <a:lnTo>
                  <a:pt x="215851" y="254253"/>
                </a:lnTo>
                <a:lnTo>
                  <a:pt x="222294" y="263162"/>
                </a:lnTo>
                <a:lnTo>
                  <a:pt x="228332" y="270296"/>
                </a:lnTo>
                <a:lnTo>
                  <a:pt x="234191" y="276642"/>
                </a:lnTo>
                <a:lnTo>
                  <a:pt x="237086" y="278715"/>
                </a:lnTo>
                <a:lnTo>
                  <a:pt x="242844" y="281019"/>
                </a:lnTo>
                <a:lnTo>
                  <a:pt x="248578" y="284583"/>
                </a:lnTo>
                <a:lnTo>
                  <a:pt x="257165" y="2914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MARTPenAnnotation906"/>
          <p:cNvSpPr/>
          <p:nvPr/>
        </p:nvSpPr>
        <p:spPr>
          <a:xfrm>
            <a:off x="4927680" y="5392800"/>
            <a:ext cx="252360" cy="350640"/>
          </a:xfrm>
          <a:custGeom>
            <a:avLst/>
            <a:gdLst>
              <a:gd name="textAreaLeft" fmla="*/ 0 w 252360"/>
              <a:gd name="textAreaRight" fmla="*/ 252720 w 25236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252591" h="351443">
                <a:moveTo>
                  <a:pt x="252590" y="8542"/>
                </a:moveTo>
                <a:lnTo>
                  <a:pt x="252590" y="74"/>
                </a:lnTo>
                <a:lnTo>
                  <a:pt x="248039" y="0"/>
                </a:lnTo>
                <a:lnTo>
                  <a:pt x="246698" y="942"/>
                </a:lnTo>
                <a:lnTo>
                  <a:pt x="245805" y="2523"/>
                </a:lnTo>
                <a:lnTo>
                  <a:pt x="244812" y="6819"/>
                </a:lnTo>
                <a:lnTo>
                  <a:pt x="244371" y="11904"/>
                </a:lnTo>
                <a:lnTo>
                  <a:pt x="239095" y="19878"/>
                </a:lnTo>
                <a:lnTo>
                  <a:pt x="231352" y="29772"/>
                </a:lnTo>
                <a:lnTo>
                  <a:pt x="224736" y="40520"/>
                </a:lnTo>
                <a:lnTo>
                  <a:pt x="220685" y="46053"/>
                </a:lnTo>
                <a:lnTo>
                  <a:pt x="216080" y="51647"/>
                </a:lnTo>
                <a:lnTo>
                  <a:pt x="211106" y="57281"/>
                </a:lnTo>
                <a:lnTo>
                  <a:pt x="205884" y="63894"/>
                </a:lnTo>
                <a:lnTo>
                  <a:pt x="200497" y="71161"/>
                </a:lnTo>
                <a:lnTo>
                  <a:pt x="189433" y="86855"/>
                </a:lnTo>
                <a:lnTo>
                  <a:pt x="178165" y="103355"/>
                </a:lnTo>
                <a:lnTo>
                  <a:pt x="171541" y="111755"/>
                </a:lnTo>
                <a:lnTo>
                  <a:pt x="164267" y="120213"/>
                </a:lnTo>
                <a:lnTo>
                  <a:pt x="156560" y="128709"/>
                </a:lnTo>
                <a:lnTo>
                  <a:pt x="140378" y="145770"/>
                </a:lnTo>
                <a:lnTo>
                  <a:pt x="132062" y="154320"/>
                </a:lnTo>
                <a:lnTo>
                  <a:pt x="124613" y="162877"/>
                </a:lnTo>
                <a:lnTo>
                  <a:pt x="117742" y="171440"/>
                </a:lnTo>
                <a:lnTo>
                  <a:pt x="111256" y="180005"/>
                </a:lnTo>
                <a:lnTo>
                  <a:pt x="105028" y="187621"/>
                </a:lnTo>
                <a:lnTo>
                  <a:pt x="98970" y="194603"/>
                </a:lnTo>
                <a:lnTo>
                  <a:pt x="93027" y="201162"/>
                </a:lnTo>
                <a:lnTo>
                  <a:pt x="87160" y="208393"/>
                </a:lnTo>
                <a:lnTo>
                  <a:pt x="81343" y="216071"/>
                </a:lnTo>
                <a:lnTo>
                  <a:pt x="69800" y="232222"/>
                </a:lnTo>
                <a:lnTo>
                  <a:pt x="58320" y="248925"/>
                </a:lnTo>
                <a:lnTo>
                  <a:pt x="52592" y="256427"/>
                </a:lnTo>
                <a:lnTo>
                  <a:pt x="46868" y="263334"/>
                </a:lnTo>
                <a:lnTo>
                  <a:pt x="41147" y="269843"/>
                </a:lnTo>
                <a:lnTo>
                  <a:pt x="37333" y="276088"/>
                </a:lnTo>
                <a:lnTo>
                  <a:pt x="34790" y="282156"/>
                </a:lnTo>
                <a:lnTo>
                  <a:pt x="33095" y="288106"/>
                </a:lnTo>
                <a:lnTo>
                  <a:pt x="30060" y="293978"/>
                </a:lnTo>
                <a:lnTo>
                  <a:pt x="26132" y="299797"/>
                </a:lnTo>
                <a:lnTo>
                  <a:pt x="18592" y="310391"/>
                </a:lnTo>
                <a:lnTo>
                  <a:pt x="15241" y="318275"/>
                </a:lnTo>
                <a:lnTo>
                  <a:pt x="11212" y="324954"/>
                </a:lnTo>
                <a:lnTo>
                  <a:pt x="3588" y="334068"/>
                </a:lnTo>
                <a:lnTo>
                  <a:pt x="864" y="337002"/>
                </a:lnTo>
                <a:lnTo>
                  <a:pt x="0" y="338957"/>
                </a:lnTo>
                <a:lnTo>
                  <a:pt x="377" y="340261"/>
                </a:lnTo>
                <a:lnTo>
                  <a:pt x="1580" y="341131"/>
                </a:lnTo>
                <a:lnTo>
                  <a:pt x="2383" y="342663"/>
                </a:lnTo>
                <a:lnTo>
                  <a:pt x="3274" y="346905"/>
                </a:lnTo>
                <a:lnTo>
                  <a:pt x="4465" y="348417"/>
                </a:lnTo>
                <a:lnTo>
                  <a:pt x="6211" y="349425"/>
                </a:lnTo>
                <a:lnTo>
                  <a:pt x="12560" y="35144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MARTPenAnnotation907"/>
          <p:cNvSpPr/>
          <p:nvPr/>
        </p:nvSpPr>
        <p:spPr>
          <a:xfrm>
            <a:off x="5222880" y="5451480"/>
            <a:ext cx="395280" cy="77760"/>
          </a:xfrm>
          <a:custGeom>
            <a:avLst/>
            <a:gdLst>
              <a:gd name="textAreaLeft" fmla="*/ 0 w 395280"/>
              <a:gd name="textAreaRight" fmla="*/ 395640 w 3952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94337" h="77153">
                <a:moveTo>
                  <a:pt x="0" y="77152"/>
                </a:moveTo>
                <a:lnTo>
                  <a:pt x="0" y="72602"/>
                </a:lnTo>
                <a:lnTo>
                  <a:pt x="953" y="71260"/>
                </a:lnTo>
                <a:lnTo>
                  <a:pt x="2541" y="70367"/>
                </a:lnTo>
                <a:lnTo>
                  <a:pt x="7382" y="68933"/>
                </a:lnTo>
                <a:lnTo>
                  <a:pt x="17322" y="68684"/>
                </a:lnTo>
                <a:lnTo>
                  <a:pt x="32332" y="68611"/>
                </a:lnTo>
                <a:lnTo>
                  <a:pt x="37747" y="67648"/>
                </a:lnTo>
                <a:lnTo>
                  <a:pt x="43263" y="66053"/>
                </a:lnTo>
                <a:lnTo>
                  <a:pt x="48845" y="64038"/>
                </a:lnTo>
                <a:lnTo>
                  <a:pt x="60126" y="61799"/>
                </a:lnTo>
                <a:lnTo>
                  <a:pt x="72444" y="59851"/>
                </a:lnTo>
                <a:lnTo>
                  <a:pt x="79728" y="57998"/>
                </a:lnTo>
                <a:lnTo>
                  <a:pt x="87442" y="55810"/>
                </a:lnTo>
                <a:lnTo>
                  <a:pt x="94490" y="53399"/>
                </a:lnTo>
                <a:lnTo>
                  <a:pt x="101094" y="50839"/>
                </a:lnTo>
                <a:lnTo>
                  <a:pt x="107400" y="48180"/>
                </a:lnTo>
                <a:lnTo>
                  <a:pt x="114463" y="46407"/>
                </a:lnTo>
                <a:lnTo>
                  <a:pt x="122029" y="45226"/>
                </a:lnTo>
                <a:lnTo>
                  <a:pt x="129930" y="44438"/>
                </a:lnTo>
                <a:lnTo>
                  <a:pt x="138055" y="42960"/>
                </a:lnTo>
                <a:lnTo>
                  <a:pt x="146329" y="41022"/>
                </a:lnTo>
                <a:lnTo>
                  <a:pt x="154703" y="38778"/>
                </a:lnTo>
                <a:lnTo>
                  <a:pt x="171627" y="33745"/>
                </a:lnTo>
                <a:lnTo>
                  <a:pt x="205775" y="22752"/>
                </a:lnTo>
                <a:lnTo>
                  <a:pt x="215289" y="20883"/>
                </a:lnTo>
                <a:lnTo>
                  <a:pt x="225441" y="19637"/>
                </a:lnTo>
                <a:lnTo>
                  <a:pt x="236019" y="18806"/>
                </a:lnTo>
                <a:lnTo>
                  <a:pt x="245929" y="17300"/>
                </a:lnTo>
                <a:lnTo>
                  <a:pt x="255393" y="15343"/>
                </a:lnTo>
                <a:lnTo>
                  <a:pt x="264560" y="13087"/>
                </a:lnTo>
                <a:lnTo>
                  <a:pt x="272576" y="10629"/>
                </a:lnTo>
                <a:lnTo>
                  <a:pt x="279825" y="8038"/>
                </a:lnTo>
                <a:lnTo>
                  <a:pt x="286562" y="5359"/>
                </a:lnTo>
                <a:lnTo>
                  <a:pt x="293912" y="3573"/>
                </a:lnTo>
                <a:lnTo>
                  <a:pt x="301669" y="2382"/>
                </a:lnTo>
                <a:lnTo>
                  <a:pt x="309698" y="1588"/>
                </a:lnTo>
                <a:lnTo>
                  <a:pt x="316955" y="1059"/>
                </a:lnTo>
                <a:lnTo>
                  <a:pt x="323699" y="706"/>
                </a:lnTo>
                <a:lnTo>
                  <a:pt x="336271" y="314"/>
                </a:lnTo>
                <a:lnTo>
                  <a:pt x="365640" y="41"/>
                </a:lnTo>
                <a:lnTo>
                  <a:pt x="39433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MARTPenAnnotation908"/>
          <p:cNvSpPr/>
          <p:nvPr/>
        </p:nvSpPr>
        <p:spPr>
          <a:xfrm>
            <a:off x="5429160" y="5343480"/>
            <a:ext cx="85680" cy="374760"/>
          </a:xfrm>
          <a:custGeom>
            <a:avLst/>
            <a:gdLst>
              <a:gd name="textAreaLeft" fmla="*/ 0 w 85680"/>
              <a:gd name="textAreaRight" fmla="*/ 86040 w 8568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85723" h="373557">
                <a:moveTo>
                  <a:pt x="42859" y="4939"/>
                </a:moveTo>
                <a:lnTo>
                  <a:pt x="30089" y="4939"/>
                </a:lnTo>
                <a:lnTo>
                  <a:pt x="27678" y="3986"/>
                </a:lnTo>
                <a:lnTo>
                  <a:pt x="25119" y="2399"/>
                </a:lnTo>
                <a:lnTo>
                  <a:pt x="22459" y="388"/>
                </a:lnTo>
                <a:lnTo>
                  <a:pt x="20687" y="0"/>
                </a:lnTo>
                <a:lnTo>
                  <a:pt x="19505" y="694"/>
                </a:lnTo>
                <a:lnTo>
                  <a:pt x="18717" y="2109"/>
                </a:lnTo>
                <a:lnTo>
                  <a:pt x="17239" y="3052"/>
                </a:lnTo>
                <a:lnTo>
                  <a:pt x="15302" y="3681"/>
                </a:lnTo>
                <a:lnTo>
                  <a:pt x="13058" y="4100"/>
                </a:lnTo>
                <a:lnTo>
                  <a:pt x="10609" y="5332"/>
                </a:lnTo>
                <a:lnTo>
                  <a:pt x="8024" y="7106"/>
                </a:lnTo>
                <a:lnTo>
                  <a:pt x="5348" y="9241"/>
                </a:lnTo>
                <a:lnTo>
                  <a:pt x="3564" y="11617"/>
                </a:lnTo>
                <a:lnTo>
                  <a:pt x="1582" y="16797"/>
                </a:lnTo>
                <a:lnTo>
                  <a:pt x="701" y="24814"/>
                </a:lnTo>
                <a:lnTo>
                  <a:pt x="310" y="33774"/>
                </a:lnTo>
                <a:lnTo>
                  <a:pt x="89" y="45127"/>
                </a:lnTo>
                <a:lnTo>
                  <a:pt x="0" y="95306"/>
                </a:lnTo>
                <a:lnTo>
                  <a:pt x="951" y="102331"/>
                </a:lnTo>
                <a:lnTo>
                  <a:pt x="2538" y="109872"/>
                </a:lnTo>
                <a:lnTo>
                  <a:pt x="4549" y="117757"/>
                </a:lnTo>
                <a:lnTo>
                  <a:pt x="5888" y="125871"/>
                </a:lnTo>
                <a:lnTo>
                  <a:pt x="6782" y="134137"/>
                </a:lnTo>
                <a:lnTo>
                  <a:pt x="7377" y="142506"/>
                </a:lnTo>
                <a:lnTo>
                  <a:pt x="8727" y="150943"/>
                </a:lnTo>
                <a:lnTo>
                  <a:pt x="10580" y="159425"/>
                </a:lnTo>
                <a:lnTo>
                  <a:pt x="12767" y="167937"/>
                </a:lnTo>
                <a:lnTo>
                  <a:pt x="15178" y="176469"/>
                </a:lnTo>
                <a:lnTo>
                  <a:pt x="20396" y="193569"/>
                </a:lnTo>
                <a:lnTo>
                  <a:pt x="22169" y="202130"/>
                </a:lnTo>
                <a:lnTo>
                  <a:pt x="23351" y="210694"/>
                </a:lnTo>
                <a:lnTo>
                  <a:pt x="24138" y="219262"/>
                </a:lnTo>
                <a:lnTo>
                  <a:pt x="25616" y="227831"/>
                </a:lnTo>
                <a:lnTo>
                  <a:pt x="27554" y="236401"/>
                </a:lnTo>
                <a:lnTo>
                  <a:pt x="29798" y="244972"/>
                </a:lnTo>
                <a:lnTo>
                  <a:pt x="32247" y="253543"/>
                </a:lnTo>
                <a:lnTo>
                  <a:pt x="37507" y="270687"/>
                </a:lnTo>
                <a:lnTo>
                  <a:pt x="39291" y="278307"/>
                </a:lnTo>
                <a:lnTo>
                  <a:pt x="40480" y="285291"/>
                </a:lnTo>
                <a:lnTo>
                  <a:pt x="41273" y="291853"/>
                </a:lnTo>
                <a:lnTo>
                  <a:pt x="42754" y="299085"/>
                </a:lnTo>
                <a:lnTo>
                  <a:pt x="44695" y="306764"/>
                </a:lnTo>
                <a:lnTo>
                  <a:pt x="46940" y="314741"/>
                </a:lnTo>
                <a:lnTo>
                  <a:pt x="49390" y="321963"/>
                </a:lnTo>
                <a:lnTo>
                  <a:pt x="51975" y="328683"/>
                </a:lnTo>
                <a:lnTo>
                  <a:pt x="54651" y="335069"/>
                </a:lnTo>
                <a:lnTo>
                  <a:pt x="57388" y="340278"/>
                </a:lnTo>
                <a:lnTo>
                  <a:pt x="60165" y="344703"/>
                </a:lnTo>
                <a:lnTo>
                  <a:pt x="62969" y="348606"/>
                </a:lnTo>
                <a:lnTo>
                  <a:pt x="64838" y="352160"/>
                </a:lnTo>
                <a:lnTo>
                  <a:pt x="66915" y="358649"/>
                </a:lnTo>
                <a:lnTo>
                  <a:pt x="68421" y="360761"/>
                </a:lnTo>
                <a:lnTo>
                  <a:pt x="70378" y="362168"/>
                </a:lnTo>
                <a:lnTo>
                  <a:pt x="72635" y="363107"/>
                </a:lnTo>
                <a:lnTo>
                  <a:pt x="75092" y="364685"/>
                </a:lnTo>
                <a:lnTo>
                  <a:pt x="77683" y="366689"/>
                </a:lnTo>
                <a:lnTo>
                  <a:pt x="85722" y="3735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MARTPenAnnotation909"/>
          <p:cNvSpPr/>
          <p:nvPr/>
        </p:nvSpPr>
        <p:spPr>
          <a:xfrm>
            <a:off x="5643720" y="5289480"/>
            <a:ext cx="299880" cy="428760"/>
          </a:xfrm>
          <a:custGeom>
            <a:avLst/>
            <a:gdLst>
              <a:gd name="textAreaLeft" fmla="*/ 0 w 299880"/>
              <a:gd name="textAreaRight" fmla="*/ 300240 w 2998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99489" h="428343">
                <a:moveTo>
                  <a:pt x="0" y="77035"/>
                </a:moveTo>
                <a:lnTo>
                  <a:pt x="0" y="72484"/>
                </a:lnTo>
                <a:lnTo>
                  <a:pt x="953" y="70191"/>
                </a:lnTo>
                <a:lnTo>
                  <a:pt x="7381" y="61434"/>
                </a:lnTo>
                <a:lnTo>
                  <a:pt x="16134" y="52399"/>
                </a:lnTo>
                <a:lnTo>
                  <a:pt x="36074" y="32398"/>
                </a:lnTo>
                <a:lnTo>
                  <a:pt x="41194" y="29179"/>
                </a:lnTo>
                <a:lnTo>
                  <a:pt x="47465" y="26081"/>
                </a:lnTo>
                <a:lnTo>
                  <a:pt x="54503" y="23063"/>
                </a:lnTo>
                <a:lnTo>
                  <a:pt x="67404" y="17170"/>
                </a:lnTo>
                <a:lnTo>
                  <a:pt x="73511" y="14265"/>
                </a:lnTo>
                <a:lnTo>
                  <a:pt x="79487" y="12328"/>
                </a:lnTo>
                <a:lnTo>
                  <a:pt x="85377" y="11037"/>
                </a:lnTo>
                <a:lnTo>
                  <a:pt x="91208" y="10176"/>
                </a:lnTo>
                <a:lnTo>
                  <a:pt x="97953" y="8650"/>
                </a:lnTo>
                <a:lnTo>
                  <a:pt x="105307" y="6680"/>
                </a:lnTo>
                <a:lnTo>
                  <a:pt x="113067" y="4414"/>
                </a:lnTo>
                <a:lnTo>
                  <a:pt x="120146" y="2903"/>
                </a:lnTo>
                <a:lnTo>
                  <a:pt x="126770" y="1897"/>
                </a:lnTo>
                <a:lnTo>
                  <a:pt x="133090" y="1225"/>
                </a:lnTo>
                <a:lnTo>
                  <a:pt x="139209" y="777"/>
                </a:lnTo>
                <a:lnTo>
                  <a:pt x="145194" y="479"/>
                </a:lnTo>
                <a:lnTo>
                  <a:pt x="160178" y="59"/>
                </a:lnTo>
                <a:lnTo>
                  <a:pt x="163935" y="0"/>
                </a:lnTo>
                <a:lnTo>
                  <a:pt x="173190" y="2475"/>
                </a:lnTo>
                <a:lnTo>
                  <a:pt x="178325" y="4468"/>
                </a:lnTo>
                <a:lnTo>
                  <a:pt x="186571" y="9223"/>
                </a:lnTo>
                <a:lnTo>
                  <a:pt x="190103" y="11824"/>
                </a:lnTo>
                <a:lnTo>
                  <a:pt x="192458" y="14511"/>
                </a:lnTo>
                <a:lnTo>
                  <a:pt x="194028" y="17255"/>
                </a:lnTo>
                <a:lnTo>
                  <a:pt x="195075" y="20037"/>
                </a:lnTo>
                <a:lnTo>
                  <a:pt x="194820" y="23796"/>
                </a:lnTo>
                <a:lnTo>
                  <a:pt x="191996" y="33053"/>
                </a:lnTo>
                <a:lnTo>
                  <a:pt x="187567" y="43517"/>
                </a:lnTo>
                <a:lnTo>
                  <a:pt x="182423" y="54518"/>
                </a:lnTo>
                <a:lnTo>
                  <a:pt x="176962" y="65757"/>
                </a:lnTo>
                <a:lnTo>
                  <a:pt x="168820" y="77103"/>
                </a:lnTo>
                <a:lnTo>
                  <a:pt x="163981" y="82795"/>
                </a:lnTo>
                <a:lnTo>
                  <a:pt x="158851" y="89448"/>
                </a:lnTo>
                <a:lnTo>
                  <a:pt x="153526" y="96740"/>
                </a:lnTo>
                <a:lnTo>
                  <a:pt x="148071" y="104459"/>
                </a:lnTo>
                <a:lnTo>
                  <a:pt x="142529" y="111510"/>
                </a:lnTo>
                <a:lnTo>
                  <a:pt x="136929" y="118116"/>
                </a:lnTo>
                <a:lnTo>
                  <a:pt x="131292" y="124424"/>
                </a:lnTo>
                <a:lnTo>
                  <a:pt x="125628" y="129583"/>
                </a:lnTo>
                <a:lnTo>
                  <a:pt x="119947" y="133974"/>
                </a:lnTo>
                <a:lnTo>
                  <a:pt x="114254" y="137855"/>
                </a:lnTo>
                <a:lnTo>
                  <a:pt x="108555" y="142346"/>
                </a:lnTo>
                <a:lnTo>
                  <a:pt x="102850" y="147246"/>
                </a:lnTo>
                <a:lnTo>
                  <a:pt x="92384" y="156817"/>
                </a:lnTo>
                <a:lnTo>
                  <a:pt x="84557" y="164246"/>
                </a:lnTo>
                <a:lnTo>
                  <a:pt x="81136" y="166608"/>
                </a:lnTo>
                <a:lnTo>
                  <a:pt x="72724" y="169933"/>
                </a:lnTo>
                <a:lnTo>
                  <a:pt x="70422" y="170710"/>
                </a:lnTo>
                <a:lnTo>
                  <a:pt x="61361" y="171278"/>
                </a:lnTo>
                <a:lnTo>
                  <a:pt x="60408" y="171316"/>
                </a:lnTo>
                <a:lnTo>
                  <a:pt x="69386" y="162005"/>
                </a:lnTo>
                <a:lnTo>
                  <a:pt x="71975" y="159399"/>
                </a:lnTo>
                <a:lnTo>
                  <a:pt x="79931" y="153964"/>
                </a:lnTo>
                <a:lnTo>
                  <a:pt x="84720" y="151181"/>
                </a:lnTo>
                <a:lnTo>
                  <a:pt x="92581" y="143008"/>
                </a:lnTo>
                <a:lnTo>
                  <a:pt x="96010" y="138162"/>
                </a:lnTo>
                <a:lnTo>
                  <a:pt x="101154" y="133979"/>
                </a:lnTo>
                <a:lnTo>
                  <a:pt x="107442" y="130238"/>
                </a:lnTo>
                <a:lnTo>
                  <a:pt x="114490" y="126791"/>
                </a:lnTo>
                <a:lnTo>
                  <a:pt x="122047" y="123540"/>
                </a:lnTo>
                <a:lnTo>
                  <a:pt x="129942" y="120421"/>
                </a:lnTo>
                <a:lnTo>
                  <a:pt x="138063" y="117389"/>
                </a:lnTo>
                <a:lnTo>
                  <a:pt x="145382" y="114415"/>
                </a:lnTo>
                <a:lnTo>
                  <a:pt x="152167" y="111480"/>
                </a:lnTo>
                <a:lnTo>
                  <a:pt x="158594" y="108571"/>
                </a:lnTo>
                <a:lnTo>
                  <a:pt x="165737" y="106631"/>
                </a:lnTo>
                <a:lnTo>
                  <a:pt x="173356" y="105338"/>
                </a:lnTo>
                <a:lnTo>
                  <a:pt x="181294" y="104476"/>
                </a:lnTo>
                <a:lnTo>
                  <a:pt x="189442" y="103902"/>
                </a:lnTo>
                <a:lnTo>
                  <a:pt x="197733" y="103519"/>
                </a:lnTo>
                <a:lnTo>
                  <a:pt x="214564" y="103093"/>
                </a:lnTo>
                <a:lnTo>
                  <a:pt x="231569" y="102903"/>
                </a:lnTo>
                <a:lnTo>
                  <a:pt x="239152" y="103805"/>
                </a:lnTo>
                <a:lnTo>
                  <a:pt x="246112" y="105359"/>
                </a:lnTo>
                <a:lnTo>
                  <a:pt x="252657" y="107348"/>
                </a:lnTo>
                <a:lnTo>
                  <a:pt x="258926" y="109626"/>
                </a:lnTo>
                <a:lnTo>
                  <a:pt x="265010" y="112097"/>
                </a:lnTo>
                <a:lnTo>
                  <a:pt x="270970" y="114697"/>
                </a:lnTo>
                <a:lnTo>
                  <a:pt x="275897" y="118335"/>
                </a:lnTo>
                <a:lnTo>
                  <a:pt x="283911" y="127458"/>
                </a:lnTo>
                <a:lnTo>
                  <a:pt x="290648" y="137862"/>
                </a:lnTo>
                <a:lnTo>
                  <a:pt x="293778" y="143304"/>
                </a:lnTo>
                <a:lnTo>
                  <a:pt x="297255" y="154430"/>
                </a:lnTo>
                <a:lnTo>
                  <a:pt x="298801" y="167630"/>
                </a:lnTo>
                <a:lnTo>
                  <a:pt x="299214" y="176484"/>
                </a:lnTo>
                <a:lnTo>
                  <a:pt x="299488" y="186197"/>
                </a:lnTo>
                <a:lnTo>
                  <a:pt x="298719" y="195529"/>
                </a:lnTo>
                <a:lnTo>
                  <a:pt x="297254" y="204609"/>
                </a:lnTo>
                <a:lnTo>
                  <a:pt x="293086" y="223269"/>
                </a:lnTo>
                <a:lnTo>
                  <a:pt x="288058" y="244263"/>
                </a:lnTo>
                <a:lnTo>
                  <a:pt x="284431" y="254243"/>
                </a:lnTo>
                <a:lnTo>
                  <a:pt x="280108" y="263753"/>
                </a:lnTo>
                <a:lnTo>
                  <a:pt x="259482" y="304100"/>
                </a:lnTo>
                <a:lnTo>
                  <a:pt x="253951" y="314137"/>
                </a:lnTo>
                <a:lnTo>
                  <a:pt x="248358" y="323685"/>
                </a:lnTo>
                <a:lnTo>
                  <a:pt x="242725" y="332908"/>
                </a:lnTo>
                <a:lnTo>
                  <a:pt x="237064" y="340962"/>
                </a:lnTo>
                <a:lnTo>
                  <a:pt x="231385" y="348236"/>
                </a:lnTo>
                <a:lnTo>
                  <a:pt x="225694" y="354991"/>
                </a:lnTo>
                <a:lnTo>
                  <a:pt x="219995" y="362351"/>
                </a:lnTo>
                <a:lnTo>
                  <a:pt x="214291" y="370116"/>
                </a:lnTo>
                <a:lnTo>
                  <a:pt x="208583" y="378149"/>
                </a:lnTo>
                <a:lnTo>
                  <a:pt x="203826" y="385410"/>
                </a:lnTo>
                <a:lnTo>
                  <a:pt x="195999" y="398558"/>
                </a:lnTo>
                <a:lnTo>
                  <a:pt x="186806" y="408211"/>
                </a:lnTo>
                <a:lnTo>
                  <a:pt x="181687" y="412119"/>
                </a:lnTo>
                <a:lnTo>
                  <a:pt x="173460" y="419001"/>
                </a:lnTo>
                <a:lnTo>
                  <a:pt x="169933" y="422170"/>
                </a:lnTo>
                <a:lnTo>
                  <a:pt x="166629" y="424282"/>
                </a:lnTo>
                <a:lnTo>
                  <a:pt x="160417" y="426629"/>
                </a:lnTo>
                <a:lnTo>
                  <a:pt x="151566" y="427951"/>
                </a:lnTo>
                <a:lnTo>
                  <a:pt x="142910" y="428342"/>
                </a:lnTo>
                <a:lnTo>
                  <a:pt x="140994" y="427445"/>
                </a:lnTo>
                <a:lnTo>
                  <a:pt x="139716" y="425894"/>
                </a:lnTo>
                <a:lnTo>
                  <a:pt x="137160" y="4199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MARTPenAnnotation910"/>
          <p:cNvSpPr/>
          <p:nvPr/>
        </p:nvSpPr>
        <p:spPr>
          <a:xfrm>
            <a:off x="5935680" y="5189400"/>
            <a:ext cx="272880" cy="546120"/>
          </a:xfrm>
          <a:custGeom>
            <a:avLst/>
            <a:gdLst>
              <a:gd name="textAreaLeft" fmla="*/ 0 w 272880"/>
              <a:gd name="textAreaRight" fmla="*/ 273240 w 2728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274023" h="544990">
                <a:moveTo>
                  <a:pt x="0" y="4939"/>
                </a:moveTo>
                <a:lnTo>
                  <a:pt x="7381" y="4939"/>
                </a:lnTo>
                <a:lnTo>
                  <a:pt x="13123" y="2399"/>
                </a:lnTo>
                <a:lnTo>
                  <a:pt x="17321" y="388"/>
                </a:lnTo>
                <a:lnTo>
                  <a:pt x="22025" y="0"/>
                </a:lnTo>
                <a:lnTo>
                  <a:pt x="27066" y="694"/>
                </a:lnTo>
                <a:lnTo>
                  <a:pt x="32332" y="2108"/>
                </a:lnTo>
                <a:lnTo>
                  <a:pt x="38699" y="3052"/>
                </a:lnTo>
                <a:lnTo>
                  <a:pt x="45802" y="3681"/>
                </a:lnTo>
                <a:lnTo>
                  <a:pt x="53395" y="4100"/>
                </a:lnTo>
                <a:lnTo>
                  <a:pt x="60361" y="5332"/>
                </a:lnTo>
                <a:lnTo>
                  <a:pt x="66911" y="7106"/>
                </a:lnTo>
                <a:lnTo>
                  <a:pt x="120419" y="25068"/>
                </a:lnTo>
                <a:lnTo>
                  <a:pt x="128857" y="28836"/>
                </a:lnTo>
                <a:lnTo>
                  <a:pt x="137339" y="33253"/>
                </a:lnTo>
                <a:lnTo>
                  <a:pt x="145852" y="38102"/>
                </a:lnTo>
                <a:lnTo>
                  <a:pt x="153432" y="43240"/>
                </a:lnTo>
                <a:lnTo>
                  <a:pt x="160391" y="48571"/>
                </a:lnTo>
                <a:lnTo>
                  <a:pt x="166935" y="54029"/>
                </a:lnTo>
                <a:lnTo>
                  <a:pt x="174155" y="59573"/>
                </a:lnTo>
                <a:lnTo>
                  <a:pt x="181825" y="65174"/>
                </a:lnTo>
                <a:lnTo>
                  <a:pt x="189797" y="70813"/>
                </a:lnTo>
                <a:lnTo>
                  <a:pt x="197016" y="77430"/>
                </a:lnTo>
                <a:lnTo>
                  <a:pt x="203735" y="84699"/>
                </a:lnTo>
                <a:lnTo>
                  <a:pt x="210118" y="92402"/>
                </a:lnTo>
                <a:lnTo>
                  <a:pt x="216279" y="100395"/>
                </a:lnTo>
                <a:lnTo>
                  <a:pt x="222291" y="108581"/>
                </a:lnTo>
                <a:lnTo>
                  <a:pt x="234051" y="125297"/>
                </a:lnTo>
                <a:lnTo>
                  <a:pt x="262855" y="167862"/>
                </a:lnTo>
                <a:lnTo>
                  <a:pt x="266677" y="177371"/>
                </a:lnTo>
                <a:lnTo>
                  <a:pt x="269225" y="187521"/>
                </a:lnTo>
                <a:lnTo>
                  <a:pt x="270923" y="198098"/>
                </a:lnTo>
                <a:lnTo>
                  <a:pt x="272056" y="208007"/>
                </a:lnTo>
                <a:lnTo>
                  <a:pt x="272811" y="217470"/>
                </a:lnTo>
                <a:lnTo>
                  <a:pt x="273314" y="226636"/>
                </a:lnTo>
                <a:lnTo>
                  <a:pt x="273873" y="246981"/>
                </a:lnTo>
                <a:lnTo>
                  <a:pt x="274022" y="257740"/>
                </a:lnTo>
                <a:lnTo>
                  <a:pt x="273169" y="269676"/>
                </a:lnTo>
                <a:lnTo>
                  <a:pt x="271648" y="282395"/>
                </a:lnTo>
                <a:lnTo>
                  <a:pt x="269681" y="295637"/>
                </a:lnTo>
                <a:lnTo>
                  <a:pt x="267417" y="308275"/>
                </a:lnTo>
                <a:lnTo>
                  <a:pt x="264956" y="320511"/>
                </a:lnTo>
                <a:lnTo>
                  <a:pt x="262362" y="332477"/>
                </a:lnTo>
                <a:lnTo>
                  <a:pt x="258729" y="344266"/>
                </a:lnTo>
                <a:lnTo>
                  <a:pt x="254401" y="355934"/>
                </a:lnTo>
                <a:lnTo>
                  <a:pt x="249610" y="367523"/>
                </a:lnTo>
                <a:lnTo>
                  <a:pt x="244512" y="379059"/>
                </a:lnTo>
                <a:lnTo>
                  <a:pt x="233767" y="402037"/>
                </a:lnTo>
                <a:lnTo>
                  <a:pt x="217007" y="436393"/>
                </a:lnTo>
                <a:lnTo>
                  <a:pt x="211347" y="446880"/>
                </a:lnTo>
                <a:lnTo>
                  <a:pt x="205668" y="456729"/>
                </a:lnTo>
                <a:lnTo>
                  <a:pt x="199977" y="466152"/>
                </a:lnTo>
                <a:lnTo>
                  <a:pt x="194278" y="474340"/>
                </a:lnTo>
                <a:lnTo>
                  <a:pt x="188574" y="481702"/>
                </a:lnTo>
                <a:lnTo>
                  <a:pt x="182866" y="488516"/>
                </a:lnTo>
                <a:lnTo>
                  <a:pt x="177156" y="494964"/>
                </a:lnTo>
                <a:lnTo>
                  <a:pt x="165731" y="507207"/>
                </a:lnTo>
                <a:lnTo>
                  <a:pt x="139700" y="533808"/>
                </a:lnTo>
                <a:lnTo>
                  <a:pt x="135995" y="537541"/>
                </a:lnTo>
                <a:lnTo>
                  <a:pt x="131621" y="540029"/>
                </a:lnTo>
                <a:lnTo>
                  <a:pt x="126800" y="541689"/>
                </a:lnTo>
                <a:lnTo>
                  <a:pt x="121681" y="542794"/>
                </a:lnTo>
                <a:lnTo>
                  <a:pt x="113453" y="544023"/>
                </a:lnTo>
                <a:lnTo>
                  <a:pt x="106621" y="544569"/>
                </a:lnTo>
                <a:lnTo>
                  <a:pt x="98372" y="544877"/>
                </a:lnTo>
                <a:lnTo>
                  <a:pt x="94834" y="544989"/>
                </a:lnTo>
                <a:lnTo>
                  <a:pt x="94536" y="542459"/>
                </a:lnTo>
                <a:lnTo>
                  <a:pt x="94298" y="52786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MARTPenAnnotation911"/>
          <p:cNvSpPr/>
          <p:nvPr/>
        </p:nvSpPr>
        <p:spPr>
          <a:xfrm>
            <a:off x="6346800" y="5289480"/>
            <a:ext cx="317520" cy="93600"/>
          </a:xfrm>
          <a:custGeom>
            <a:avLst/>
            <a:gdLst>
              <a:gd name="textAreaLeft" fmla="*/ 0 w 317520"/>
              <a:gd name="textAreaRight" fmla="*/ 317880 w 31752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17184" h="94298">
                <a:moveTo>
                  <a:pt x="0" y="94297"/>
                </a:moveTo>
                <a:lnTo>
                  <a:pt x="0" y="89747"/>
                </a:lnTo>
                <a:lnTo>
                  <a:pt x="1905" y="87454"/>
                </a:lnTo>
                <a:lnTo>
                  <a:pt x="5080" y="84973"/>
                </a:lnTo>
                <a:lnTo>
                  <a:pt x="14762" y="78697"/>
                </a:lnTo>
                <a:lnTo>
                  <a:pt x="17461" y="77230"/>
                </a:lnTo>
                <a:lnTo>
                  <a:pt x="35481" y="68031"/>
                </a:lnTo>
                <a:lnTo>
                  <a:pt x="40800" y="65357"/>
                </a:lnTo>
                <a:lnTo>
                  <a:pt x="47202" y="62621"/>
                </a:lnTo>
                <a:lnTo>
                  <a:pt x="54328" y="59845"/>
                </a:lnTo>
                <a:lnTo>
                  <a:pt x="61937" y="57042"/>
                </a:lnTo>
                <a:lnTo>
                  <a:pt x="68913" y="54220"/>
                </a:lnTo>
                <a:lnTo>
                  <a:pt x="75470" y="51387"/>
                </a:lnTo>
                <a:lnTo>
                  <a:pt x="81746" y="48545"/>
                </a:lnTo>
                <a:lnTo>
                  <a:pt x="88787" y="45698"/>
                </a:lnTo>
                <a:lnTo>
                  <a:pt x="104231" y="39995"/>
                </a:lnTo>
                <a:lnTo>
                  <a:pt x="145912" y="25717"/>
                </a:lnTo>
                <a:lnTo>
                  <a:pt x="154425" y="22859"/>
                </a:lnTo>
                <a:lnTo>
                  <a:pt x="162957" y="20955"/>
                </a:lnTo>
                <a:lnTo>
                  <a:pt x="171503" y="19685"/>
                </a:lnTo>
                <a:lnTo>
                  <a:pt x="180058" y="18838"/>
                </a:lnTo>
                <a:lnTo>
                  <a:pt x="187667" y="17322"/>
                </a:lnTo>
                <a:lnTo>
                  <a:pt x="194644" y="15358"/>
                </a:lnTo>
                <a:lnTo>
                  <a:pt x="224080" y="5362"/>
                </a:lnTo>
                <a:lnTo>
                  <a:pt x="231302" y="3575"/>
                </a:lnTo>
                <a:lnTo>
                  <a:pt x="238021" y="2383"/>
                </a:lnTo>
                <a:lnTo>
                  <a:pt x="244406" y="1589"/>
                </a:lnTo>
                <a:lnTo>
                  <a:pt x="250567" y="1059"/>
                </a:lnTo>
                <a:lnTo>
                  <a:pt x="256579" y="707"/>
                </a:lnTo>
                <a:lnTo>
                  <a:pt x="268341" y="314"/>
                </a:lnTo>
                <a:lnTo>
                  <a:pt x="296028" y="28"/>
                </a:lnTo>
                <a:lnTo>
                  <a:pt x="316668" y="0"/>
                </a:lnTo>
                <a:lnTo>
                  <a:pt x="316954" y="2540"/>
                </a:lnTo>
                <a:lnTo>
                  <a:pt x="317183" y="85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MARTPenAnnotation912"/>
          <p:cNvSpPr/>
          <p:nvPr/>
        </p:nvSpPr>
        <p:spPr>
          <a:xfrm>
            <a:off x="6380280" y="5340240"/>
            <a:ext cx="360360" cy="68400"/>
          </a:xfrm>
          <a:custGeom>
            <a:avLst/>
            <a:gdLst>
              <a:gd name="textAreaLeft" fmla="*/ 0 w 360360"/>
              <a:gd name="textAreaRight" fmla="*/ 360720 w 360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60034" h="68581">
                <a:moveTo>
                  <a:pt x="17133" y="68580"/>
                </a:moveTo>
                <a:lnTo>
                  <a:pt x="0" y="68580"/>
                </a:lnTo>
                <a:lnTo>
                  <a:pt x="4543" y="64030"/>
                </a:lnTo>
                <a:lnTo>
                  <a:pt x="6834" y="62689"/>
                </a:lnTo>
                <a:lnTo>
                  <a:pt x="11921" y="61199"/>
                </a:lnTo>
                <a:lnTo>
                  <a:pt x="19897" y="60537"/>
                </a:lnTo>
                <a:lnTo>
                  <a:pt x="24691" y="60361"/>
                </a:lnTo>
                <a:lnTo>
                  <a:pt x="29791" y="59291"/>
                </a:lnTo>
                <a:lnTo>
                  <a:pt x="35097" y="57625"/>
                </a:lnTo>
                <a:lnTo>
                  <a:pt x="40539" y="55561"/>
                </a:lnTo>
                <a:lnTo>
                  <a:pt x="47025" y="54186"/>
                </a:lnTo>
                <a:lnTo>
                  <a:pt x="54206" y="53269"/>
                </a:lnTo>
                <a:lnTo>
                  <a:pt x="61851" y="52658"/>
                </a:lnTo>
                <a:lnTo>
                  <a:pt x="69805" y="51298"/>
                </a:lnTo>
                <a:lnTo>
                  <a:pt x="77965" y="49438"/>
                </a:lnTo>
                <a:lnTo>
                  <a:pt x="86263" y="47247"/>
                </a:lnTo>
                <a:lnTo>
                  <a:pt x="94652" y="44832"/>
                </a:lnTo>
                <a:lnTo>
                  <a:pt x="111593" y="39611"/>
                </a:lnTo>
                <a:lnTo>
                  <a:pt x="120112" y="37837"/>
                </a:lnTo>
                <a:lnTo>
                  <a:pt x="128647" y="36655"/>
                </a:lnTo>
                <a:lnTo>
                  <a:pt x="137197" y="35867"/>
                </a:lnTo>
                <a:lnTo>
                  <a:pt x="145753" y="34389"/>
                </a:lnTo>
                <a:lnTo>
                  <a:pt x="154314" y="32451"/>
                </a:lnTo>
                <a:lnTo>
                  <a:pt x="162879" y="30206"/>
                </a:lnTo>
                <a:lnTo>
                  <a:pt x="171447" y="27758"/>
                </a:lnTo>
                <a:lnTo>
                  <a:pt x="188587" y="22497"/>
                </a:lnTo>
                <a:lnTo>
                  <a:pt x="197159" y="20713"/>
                </a:lnTo>
                <a:lnTo>
                  <a:pt x="205730" y="19524"/>
                </a:lnTo>
                <a:lnTo>
                  <a:pt x="214302" y="18731"/>
                </a:lnTo>
                <a:lnTo>
                  <a:pt x="223826" y="18202"/>
                </a:lnTo>
                <a:lnTo>
                  <a:pt x="244570" y="17615"/>
                </a:lnTo>
                <a:lnTo>
                  <a:pt x="254482" y="16506"/>
                </a:lnTo>
                <a:lnTo>
                  <a:pt x="263948" y="14814"/>
                </a:lnTo>
                <a:lnTo>
                  <a:pt x="273117" y="12734"/>
                </a:lnTo>
                <a:lnTo>
                  <a:pt x="281133" y="11347"/>
                </a:lnTo>
                <a:lnTo>
                  <a:pt x="288383" y="10422"/>
                </a:lnTo>
                <a:lnTo>
                  <a:pt x="295122" y="9805"/>
                </a:lnTo>
                <a:lnTo>
                  <a:pt x="302471" y="9395"/>
                </a:lnTo>
                <a:lnTo>
                  <a:pt x="318258" y="8938"/>
                </a:lnTo>
                <a:lnTo>
                  <a:pt x="338659" y="8681"/>
                </a:lnTo>
                <a:lnTo>
                  <a:pt x="343879" y="7692"/>
                </a:lnTo>
                <a:lnTo>
                  <a:pt x="348312" y="6081"/>
                </a:lnTo>
                <a:lnTo>
                  <a:pt x="36003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MARTPenAnnotation913"/>
          <p:cNvSpPr/>
          <p:nvPr/>
        </p:nvSpPr>
        <p:spPr>
          <a:xfrm>
            <a:off x="6870600" y="5211720"/>
            <a:ext cx="293760" cy="290520"/>
          </a:xfrm>
          <a:custGeom>
            <a:avLst/>
            <a:gdLst>
              <a:gd name="textAreaLeft" fmla="*/ 0 w 293760"/>
              <a:gd name="textAreaRight" fmla="*/ 294120 w 2937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93657" h="289749">
                <a:moveTo>
                  <a:pt x="58418" y="8563"/>
                </a:moveTo>
                <a:lnTo>
                  <a:pt x="58418" y="1182"/>
                </a:lnTo>
                <a:lnTo>
                  <a:pt x="59371" y="785"/>
                </a:lnTo>
                <a:lnTo>
                  <a:pt x="66886" y="0"/>
                </a:lnTo>
                <a:lnTo>
                  <a:pt x="66959" y="4544"/>
                </a:lnTo>
                <a:lnTo>
                  <a:pt x="66018" y="6837"/>
                </a:lnTo>
                <a:lnTo>
                  <a:pt x="60141" y="14613"/>
                </a:lnTo>
                <a:lnTo>
                  <a:pt x="52367" y="22949"/>
                </a:lnTo>
                <a:lnTo>
                  <a:pt x="46839" y="28610"/>
                </a:lnTo>
                <a:lnTo>
                  <a:pt x="41207" y="36840"/>
                </a:lnTo>
                <a:lnTo>
                  <a:pt x="38372" y="41702"/>
                </a:lnTo>
                <a:lnTo>
                  <a:pt x="35529" y="46848"/>
                </a:lnTo>
                <a:lnTo>
                  <a:pt x="29830" y="57646"/>
                </a:lnTo>
                <a:lnTo>
                  <a:pt x="21267" y="74435"/>
                </a:lnTo>
                <a:lnTo>
                  <a:pt x="19363" y="81053"/>
                </a:lnTo>
                <a:lnTo>
                  <a:pt x="18094" y="88322"/>
                </a:lnTo>
                <a:lnTo>
                  <a:pt x="17248" y="96026"/>
                </a:lnTo>
                <a:lnTo>
                  <a:pt x="15731" y="103067"/>
                </a:lnTo>
                <a:lnTo>
                  <a:pt x="13768" y="109666"/>
                </a:lnTo>
                <a:lnTo>
                  <a:pt x="9046" y="123030"/>
                </a:lnTo>
                <a:lnTo>
                  <a:pt x="3772" y="138495"/>
                </a:lnTo>
                <a:lnTo>
                  <a:pt x="1985" y="146619"/>
                </a:lnTo>
                <a:lnTo>
                  <a:pt x="794" y="154893"/>
                </a:lnTo>
                <a:lnTo>
                  <a:pt x="0" y="163267"/>
                </a:lnTo>
                <a:lnTo>
                  <a:pt x="422" y="170754"/>
                </a:lnTo>
                <a:lnTo>
                  <a:pt x="1656" y="177650"/>
                </a:lnTo>
                <a:lnTo>
                  <a:pt x="3432" y="184153"/>
                </a:lnTo>
                <a:lnTo>
                  <a:pt x="4616" y="191345"/>
                </a:lnTo>
                <a:lnTo>
                  <a:pt x="5405" y="198998"/>
                </a:lnTo>
                <a:lnTo>
                  <a:pt x="5931" y="206957"/>
                </a:lnTo>
                <a:lnTo>
                  <a:pt x="7234" y="214168"/>
                </a:lnTo>
                <a:lnTo>
                  <a:pt x="9055" y="220881"/>
                </a:lnTo>
                <a:lnTo>
                  <a:pt x="11222" y="227261"/>
                </a:lnTo>
                <a:lnTo>
                  <a:pt x="12667" y="233419"/>
                </a:lnTo>
                <a:lnTo>
                  <a:pt x="13629" y="239430"/>
                </a:lnTo>
                <a:lnTo>
                  <a:pt x="14272" y="245342"/>
                </a:lnTo>
                <a:lnTo>
                  <a:pt x="15652" y="250236"/>
                </a:lnTo>
                <a:lnTo>
                  <a:pt x="19726" y="258213"/>
                </a:lnTo>
                <a:lnTo>
                  <a:pt x="27252" y="264934"/>
                </a:lnTo>
                <a:lnTo>
                  <a:pt x="35994" y="271095"/>
                </a:lnTo>
                <a:lnTo>
                  <a:pt x="43054" y="277009"/>
                </a:lnTo>
                <a:lnTo>
                  <a:pt x="51907" y="282812"/>
                </a:lnTo>
                <a:lnTo>
                  <a:pt x="56934" y="285694"/>
                </a:lnTo>
                <a:lnTo>
                  <a:pt x="62191" y="287614"/>
                </a:lnTo>
                <a:lnTo>
                  <a:pt x="67601" y="288895"/>
                </a:lnTo>
                <a:lnTo>
                  <a:pt x="73112" y="289748"/>
                </a:lnTo>
                <a:lnTo>
                  <a:pt x="79645" y="289365"/>
                </a:lnTo>
                <a:lnTo>
                  <a:pt x="86857" y="288157"/>
                </a:lnTo>
                <a:lnTo>
                  <a:pt x="94522" y="286399"/>
                </a:lnTo>
                <a:lnTo>
                  <a:pt x="101537" y="285227"/>
                </a:lnTo>
                <a:lnTo>
                  <a:pt x="108119" y="284446"/>
                </a:lnTo>
                <a:lnTo>
                  <a:pt x="114412" y="283925"/>
                </a:lnTo>
                <a:lnTo>
                  <a:pt x="121465" y="282625"/>
                </a:lnTo>
                <a:lnTo>
                  <a:pt x="129025" y="280807"/>
                </a:lnTo>
                <a:lnTo>
                  <a:pt x="136921" y="278641"/>
                </a:lnTo>
                <a:lnTo>
                  <a:pt x="144091" y="275293"/>
                </a:lnTo>
                <a:lnTo>
                  <a:pt x="150776" y="271155"/>
                </a:lnTo>
                <a:lnTo>
                  <a:pt x="157138" y="266492"/>
                </a:lnTo>
                <a:lnTo>
                  <a:pt x="164236" y="262431"/>
                </a:lnTo>
                <a:lnTo>
                  <a:pt x="171826" y="258771"/>
                </a:lnTo>
                <a:lnTo>
                  <a:pt x="179743" y="255378"/>
                </a:lnTo>
                <a:lnTo>
                  <a:pt x="186926" y="251211"/>
                </a:lnTo>
                <a:lnTo>
                  <a:pt x="193621" y="246529"/>
                </a:lnTo>
                <a:lnTo>
                  <a:pt x="199988" y="241502"/>
                </a:lnTo>
                <a:lnTo>
                  <a:pt x="206138" y="236245"/>
                </a:lnTo>
                <a:lnTo>
                  <a:pt x="212143" y="230836"/>
                </a:lnTo>
                <a:lnTo>
                  <a:pt x="218051" y="225326"/>
                </a:lnTo>
                <a:lnTo>
                  <a:pt x="223895" y="218794"/>
                </a:lnTo>
                <a:lnTo>
                  <a:pt x="229697" y="211582"/>
                </a:lnTo>
                <a:lnTo>
                  <a:pt x="235468" y="203917"/>
                </a:lnTo>
                <a:lnTo>
                  <a:pt x="246962" y="187779"/>
                </a:lnTo>
                <a:lnTo>
                  <a:pt x="252695" y="179476"/>
                </a:lnTo>
                <a:lnTo>
                  <a:pt x="257468" y="172035"/>
                </a:lnTo>
                <a:lnTo>
                  <a:pt x="261603" y="165169"/>
                </a:lnTo>
                <a:lnTo>
                  <a:pt x="265312" y="158688"/>
                </a:lnTo>
                <a:lnTo>
                  <a:pt x="268737" y="151508"/>
                </a:lnTo>
                <a:lnTo>
                  <a:pt x="271973" y="143865"/>
                </a:lnTo>
                <a:lnTo>
                  <a:pt x="275083" y="135912"/>
                </a:lnTo>
                <a:lnTo>
                  <a:pt x="278109" y="128705"/>
                </a:lnTo>
                <a:lnTo>
                  <a:pt x="281079" y="121995"/>
                </a:lnTo>
                <a:lnTo>
                  <a:pt x="286918" y="109460"/>
                </a:lnTo>
                <a:lnTo>
                  <a:pt x="292689" y="97539"/>
                </a:lnTo>
                <a:lnTo>
                  <a:pt x="293656" y="91693"/>
                </a:lnTo>
                <a:lnTo>
                  <a:pt x="293349" y="85890"/>
                </a:lnTo>
                <a:lnTo>
                  <a:pt x="292191" y="80117"/>
                </a:lnTo>
                <a:lnTo>
                  <a:pt x="290467" y="74363"/>
                </a:lnTo>
                <a:lnTo>
                  <a:pt x="288365" y="68622"/>
                </a:lnTo>
                <a:lnTo>
                  <a:pt x="286011" y="62890"/>
                </a:lnTo>
                <a:lnTo>
                  <a:pt x="280856" y="53981"/>
                </a:lnTo>
                <a:lnTo>
                  <a:pt x="275389" y="45893"/>
                </a:lnTo>
                <a:lnTo>
                  <a:pt x="272598" y="41070"/>
                </a:lnTo>
                <a:lnTo>
                  <a:pt x="269785" y="35950"/>
                </a:lnTo>
                <a:lnTo>
                  <a:pt x="261579" y="27720"/>
                </a:lnTo>
                <a:lnTo>
                  <a:pt x="256724" y="24192"/>
                </a:lnTo>
                <a:lnTo>
                  <a:pt x="251582" y="21840"/>
                </a:lnTo>
                <a:lnTo>
                  <a:pt x="246249" y="20272"/>
                </a:lnTo>
                <a:lnTo>
                  <a:pt x="240788" y="19226"/>
                </a:lnTo>
                <a:lnTo>
                  <a:pt x="234291" y="17577"/>
                </a:lnTo>
                <a:lnTo>
                  <a:pt x="227102" y="15525"/>
                </a:lnTo>
                <a:lnTo>
                  <a:pt x="219451" y="13205"/>
                </a:lnTo>
                <a:lnTo>
                  <a:pt x="212447" y="11658"/>
                </a:lnTo>
                <a:lnTo>
                  <a:pt x="205871" y="10626"/>
                </a:lnTo>
                <a:lnTo>
                  <a:pt x="199583" y="9938"/>
                </a:lnTo>
                <a:lnTo>
                  <a:pt x="192533" y="9480"/>
                </a:lnTo>
                <a:lnTo>
                  <a:pt x="184975" y="9174"/>
                </a:lnTo>
                <a:lnTo>
                  <a:pt x="168959" y="8834"/>
                </a:lnTo>
                <a:lnTo>
                  <a:pt x="113177" y="8574"/>
                </a:lnTo>
                <a:lnTo>
                  <a:pt x="106354" y="9523"/>
                </a:lnTo>
                <a:lnTo>
                  <a:pt x="98948" y="11108"/>
                </a:lnTo>
                <a:lnTo>
                  <a:pt x="91153" y="13117"/>
                </a:lnTo>
                <a:lnTo>
                  <a:pt x="84051" y="14457"/>
                </a:lnTo>
                <a:lnTo>
                  <a:pt x="77412" y="15350"/>
                </a:lnTo>
                <a:lnTo>
                  <a:pt x="71081" y="15945"/>
                </a:lnTo>
                <a:lnTo>
                  <a:pt x="65907" y="16342"/>
                </a:lnTo>
                <a:lnTo>
                  <a:pt x="61506" y="16606"/>
                </a:lnTo>
                <a:lnTo>
                  <a:pt x="49846" y="171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MARTPenAnnotation914"/>
          <p:cNvSpPr/>
          <p:nvPr/>
        </p:nvSpPr>
        <p:spPr>
          <a:xfrm>
            <a:off x="2857680" y="6180120"/>
            <a:ext cx="231480" cy="9720"/>
          </a:xfrm>
          <a:custGeom>
            <a:avLst/>
            <a:gdLst>
              <a:gd name="textAreaLeft" fmla="*/ 0 w 231480"/>
              <a:gd name="textAreaRight" fmla="*/ 231840 w 23148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231458" h="8574">
                <a:moveTo>
                  <a:pt x="8572" y="0"/>
                </a:moveTo>
                <a:lnTo>
                  <a:pt x="0" y="0"/>
                </a:lnTo>
                <a:lnTo>
                  <a:pt x="8219" y="8219"/>
                </a:lnTo>
                <a:lnTo>
                  <a:pt x="13018" y="8468"/>
                </a:lnTo>
                <a:lnTo>
                  <a:pt x="19141" y="8559"/>
                </a:lnTo>
                <a:lnTo>
                  <a:pt x="87391" y="8573"/>
                </a:lnTo>
                <a:lnTo>
                  <a:pt x="90645" y="7620"/>
                </a:lnTo>
                <a:lnTo>
                  <a:pt x="93767" y="6033"/>
                </a:lnTo>
                <a:lnTo>
                  <a:pt x="96801" y="4022"/>
                </a:lnTo>
                <a:lnTo>
                  <a:pt x="100729" y="3634"/>
                </a:lnTo>
                <a:lnTo>
                  <a:pt x="105253" y="4328"/>
                </a:lnTo>
                <a:lnTo>
                  <a:pt x="110173" y="5743"/>
                </a:lnTo>
                <a:lnTo>
                  <a:pt x="115359" y="5734"/>
                </a:lnTo>
                <a:lnTo>
                  <a:pt x="120721" y="4775"/>
                </a:lnTo>
                <a:lnTo>
                  <a:pt x="126200" y="3183"/>
                </a:lnTo>
                <a:lnTo>
                  <a:pt x="130806" y="2122"/>
                </a:lnTo>
                <a:lnTo>
                  <a:pt x="134829" y="1415"/>
                </a:lnTo>
                <a:lnTo>
                  <a:pt x="138463" y="944"/>
                </a:lnTo>
                <a:lnTo>
                  <a:pt x="142791" y="629"/>
                </a:lnTo>
                <a:lnTo>
                  <a:pt x="147582" y="419"/>
                </a:lnTo>
                <a:lnTo>
                  <a:pt x="160885" y="124"/>
                </a:lnTo>
                <a:lnTo>
                  <a:pt x="23145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MARTPenAnnotation915"/>
          <p:cNvSpPr/>
          <p:nvPr/>
        </p:nvSpPr>
        <p:spPr>
          <a:xfrm>
            <a:off x="3218040" y="5940360"/>
            <a:ext cx="239400" cy="385920"/>
          </a:xfrm>
          <a:custGeom>
            <a:avLst/>
            <a:gdLst>
              <a:gd name="textAreaLeft" fmla="*/ 0 w 239400"/>
              <a:gd name="textAreaRight" fmla="*/ 239760 w 23940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239483" h="385571">
                <a:moveTo>
                  <a:pt x="34244" y="68539"/>
                </a:moveTo>
                <a:lnTo>
                  <a:pt x="34244" y="61158"/>
                </a:lnTo>
                <a:lnTo>
                  <a:pt x="40136" y="53358"/>
                </a:lnTo>
                <a:lnTo>
                  <a:pt x="42975" y="45414"/>
                </a:lnTo>
                <a:lnTo>
                  <a:pt x="47015" y="39846"/>
                </a:lnTo>
                <a:lnTo>
                  <a:pt x="50378" y="37028"/>
                </a:lnTo>
                <a:lnTo>
                  <a:pt x="54525" y="34197"/>
                </a:lnTo>
                <a:lnTo>
                  <a:pt x="59195" y="31357"/>
                </a:lnTo>
                <a:lnTo>
                  <a:pt x="62308" y="28511"/>
                </a:lnTo>
                <a:lnTo>
                  <a:pt x="64384" y="25662"/>
                </a:lnTo>
                <a:lnTo>
                  <a:pt x="65767" y="22809"/>
                </a:lnTo>
                <a:lnTo>
                  <a:pt x="68595" y="20907"/>
                </a:lnTo>
                <a:lnTo>
                  <a:pt x="72385" y="19640"/>
                </a:lnTo>
                <a:lnTo>
                  <a:pt x="76816" y="18795"/>
                </a:lnTo>
                <a:lnTo>
                  <a:pt x="84280" y="15316"/>
                </a:lnTo>
                <a:lnTo>
                  <a:pt x="91725" y="10594"/>
                </a:lnTo>
                <a:lnTo>
                  <a:pt x="96377" y="8001"/>
                </a:lnTo>
                <a:lnTo>
                  <a:pt x="101384" y="5321"/>
                </a:lnTo>
                <a:lnTo>
                  <a:pt x="105674" y="3534"/>
                </a:lnTo>
                <a:lnTo>
                  <a:pt x="112981" y="1548"/>
                </a:lnTo>
                <a:lnTo>
                  <a:pt x="117216" y="1018"/>
                </a:lnTo>
                <a:lnTo>
                  <a:pt x="121944" y="665"/>
                </a:lnTo>
                <a:lnTo>
                  <a:pt x="131324" y="273"/>
                </a:lnTo>
                <a:lnTo>
                  <a:pt x="138669" y="99"/>
                </a:lnTo>
                <a:lnTo>
                  <a:pt x="152709" y="0"/>
                </a:lnTo>
                <a:lnTo>
                  <a:pt x="157988" y="939"/>
                </a:lnTo>
                <a:lnTo>
                  <a:pt x="163413" y="2518"/>
                </a:lnTo>
                <a:lnTo>
                  <a:pt x="168934" y="4522"/>
                </a:lnTo>
                <a:lnTo>
                  <a:pt x="174520" y="5859"/>
                </a:lnTo>
                <a:lnTo>
                  <a:pt x="180149" y="6750"/>
                </a:lnTo>
                <a:lnTo>
                  <a:pt x="185807" y="7344"/>
                </a:lnTo>
                <a:lnTo>
                  <a:pt x="190531" y="9644"/>
                </a:lnTo>
                <a:lnTo>
                  <a:pt x="194633" y="13084"/>
                </a:lnTo>
                <a:lnTo>
                  <a:pt x="201731" y="21032"/>
                </a:lnTo>
                <a:lnTo>
                  <a:pt x="208060" y="27740"/>
                </a:lnTo>
                <a:lnTo>
                  <a:pt x="214048" y="36436"/>
                </a:lnTo>
                <a:lnTo>
                  <a:pt x="219885" y="46651"/>
                </a:lnTo>
                <a:lnTo>
                  <a:pt x="225654" y="57541"/>
                </a:lnTo>
                <a:lnTo>
                  <a:pt x="228526" y="64065"/>
                </a:lnTo>
                <a:lnTo>
                  <a:pt x="231393" y="71271"/>
                </a:lnTo>
                <a:lnTo>
                  <a:pt x="234257" y="78933"/>
                </a:lnTo>
                <a:lnTo>
                  <a:pt x="236166" y="86899"/>
                </a:lnTo>
                <a:lnTo>
                  <a:pt x="237439" y="95066"/>
                </a:lnTo>
                <a:lnTo>
                  <a:pt x="238288" y="103369"/>
                </a:lnTo>
                <a:lnTo>
                  <a:pt x="238853" y="111761"/>
                </a:lnTo>
                <a:lnTo>
                  <a:pt x="239230" y="120214"/>
                </a:lnTo>
                <a:lnTo>
                  <a:pt x="239482" y="128707"/>
                </a:lnTo>
                <a:lnTo>
                  <a:pt x="238697" y="137226"/>
                </a:lnTo>
                <a:lnTo>
                  <a:pt x="237221" y="145763"/>
                </a:lnTo>
                <a:lnTo>
                  <a:pt x="235285" y="154312"/>
                </a:lnTo>
                <a:lnTo>
                  <a:pt x="233041" y="162868"/>
                </a:lnTo>
                <a:lnTo>
                  <a:pt x="230593" y="171430"/>
                </a:lnTo>
                <a:lnTo>
                  <a:pt x="228008" y="179996"/>
                </a:lnTo>
                <a:lnTo>
                  <a:pt x="226285" y="188564"/>
                </a:lnTo>
                <a:lnTo>
                  <a:pt x="225137" y="197133"/>
                </a:lnTo>
                <a:lnTo>
                  <a:pt x="224371" y="205703"/>
                </a:lnTo>
                <a:lnTo>
                  <a:pt x="221956" y="214274"/>
                </a:lnTo>
                <a:lnTo>
                  <a:pt x="218440" y="222846"/>
                </a:lnTo>
                <a:lnTo>
                  <a:pt x="214192" y="231418"/>
                </a:lnTo>
                <a:lnTo>
                  <a:pt x="210407" y="239990"/>
                </a:lnTo>
                <a:lnTo>
                  <a:pt x="206931" y="248562"/>
                </a:lnTo>
                <a:lnTo>
                  <a:pt x="203662" y="257135"/>
                </a:lnTo>
                <a:lnTo>
                  <a:pt x="200529" y="264754"/>
                </a:lnTo>
                <a:lnTo>
                  <a:pt x="197489" y="271739"/>
                </a:lnTo>
                <a:lnTo>
                  <a:pt x="194509" y="278301"/>
                </a:lnTo>
                <a:lnTo>
                  <a:pt x="190617" y="285533"/>
                </a:lnTo>
                <a:lnTo>
                  <a:pt x="186118" y="293212"/>
                </a:lnTo>
                <a:lnTo>
                  <a:pt x="181214" y="301188"/>
                </a:lnTo>
                <a:lnTo>
                  <a:pt x="176039" y="308411"/>
                </a:lnTo>
                <a:lnTo>
                  <a:pt x="170684" y="315132"/>
                </a:lnTo>
                <a:lnTo>
                  <a:pt x="165209" y="321516"/>
                </a:lnTo>
                <a:lnTo>
                  <a:pt x="159655" y="326725"/>
                </a:lnTo>
                <a:lnTo>
                  <a:pt x="154046" y="331151"/>
                </a:lnTo>
                <a:lnTo>
                  <a:pt x="148402" y="335054"/>
                </a:lnTo>
                <a:lnTo>
                  <a:pt x="143687" y="339561"/>
                </a:lnTo>
                <a:lnTo>
                  <a:pt x="139591" y="344470"/>
                </a:lnTo>
                <a:lnTo>
                  <a:pt x="135908" y="349648"/>
                </a:lnTo>
                <a:lnTo>
                  <a:pt x="131548" y="354052"/>
                </a:lnTo>
                <a:lnTo>
                  <a:pt x="126736" y="357942"/>
                </a:lnTo>
                <a:lnTo>
                  <a:pt x="121623" y="361486"/>
                </a:lnTo>
                <a:lnTo>
                  <a:pt x="116309" y="364803"/>
                </a:lnTo>
                <a:lnTo>
                  <a:pt x="110862" y="367966"/>
                </a:lnTo>
                <a:lnTo>
                  <a:pt x="99729" y="374020"/>
                </a:lnTo>
                <a:lnTo>
                  <a:pt x="88431" y="379886"/>
                </a:lnTo>
                <a:lnTo>
                  <a:pt x="82751" y="381831"/>
                </a:lnTo>
                <a:lnTo>
                  <a:pt x="77060" y="383128"/>
                </a:lnTo>
                <a:lnTo>
                  <a:pt x="71361" y="383993"/>
                </a:lnTo>
                <a:lnTo>
                  <a:pt x="65656" y="384569"/>
                </a:lnTo>
                <a:lnTo>
                  <a:pt x="59948" y="384954"/>
                </a:lnTo>
                <a:lnTo>
                  <a:pt x="54238" y="385209"/>
                </a:lnTo>
                <a:lnTo>
                  <a:pt x="42813" y="385494"/>
                </a:lnTo>
                <a:lnTo>
                  <a:pt x="37099" y="385570"/>
                </a:lnTo>
                <a:lnTo>
                  <a:pt x="32337" y="384668"/>
                </a:lnTo>
                <a:lnTo>
                  <a:pt x="28211" y="383114"/>
                </a:lnTo>
                <a:lnTo>
                  <a:pt x="21085" y="379800"/>
                </a:lnTo>
                <a:lnTo>
                  <a:pt x="14744" y="378327"/>
                </a:lnTo>
                <a:lnTo>
                  <a:pt x="8750" y="375133"/>
                </a:lnTo>
                <a:lnTo>
                  <a:pt x="1692" y="369872"/>
                </a:lnTo>
                <a:lnTo>
                  <a:pt x="1113" y="368488"/>
                </a:lnTo>
                <a:lnTo>
                  <a:pt x="107" y="361310"/>
                </a:lnTo>
                <a:lnTo>
                  <a:pt x="0" y="351289"/>
                </a:lnTo>
                <a:lnTo>
                  <a:pt x="937" y="347527"/>
                </a:lnTo>
                <a:lnTo>
                  <a:pt x="4519" y="340806"/>
                </a:lnTo>
                <a:lnTo>
                  <a:pt x="11890" y="331667"/>
                </a:lnTo>
                <a:lnTo>
                  <a:pt x="17324" y="323280"/>
                </a:lnTo>
                <a:lnTo>
                  <a:pt x="22914" y="314155"/>
                </a:lnTo>
                <a:lnTo>
                  <a:pt x="28574" y="306924"/>
                </a:lnTo>
                <a:lnTo>
                  <a:pt x="34264" y="297996"/>
                </a:lnTo>
                <a:lnTo>
                  <a:pt x="37115" y="292948"/>
                </a:lnTo>
                <a:lnTo>
                  <a:pt x="40921" y="289582"/>
                </a:lnTo>
                <a:lnTo>
                  <a:pt x="45363" y="287339"/>
                </a:lnTo>
                <a:lnTo>
                  <a:pt x="50229" y="285843"/>
                </a:lnTo>
                <a:lnTo>
                  <a:pt x="54426" y="283894"/>
                </a:lnTo>
                <a:lnTo>
                  <a:pt x="61629" y="279187"/>
                </a:lnTo>
                <a:lnTo>
                  <a:pt x="65836" y="277551"/>
                </a:lnTo>
                <a:lnTo>
                  <a:pt x="70546" y="276460"/>
                </a:lnTo>
                <a:lnTo>
                  <a:pt x="75590" y="275733"/>
                </a:lnTo>
                <a:lnTo>
                  <a:pt x="80858" y="275249"/>
                </a:lnTo>
                <a:lnTo>
                  <a:pt x="86275" y="274925"/>
                </a:lnTo>
                <a:lnTo>
                  <a:pt x="96422" y="274566"/>
                </a:lnTo>
                <a:lnTo>
                  <a:pt x="108441" y="274364"/>
                </a:lnTo>
                <a:lnTo>
                  <a:pt x="118338" y="274317"/>
                </a:lnTo>
                <a:lnTo>
                  <a:pt x="122692" y="275257"/>
                </a:lnTo>
                <a:lnTo>
                  <a:pt x="133370" y="280178"/>
                </a:lnTo>
                <a:lnTo>
                  <a:pt x="139578" y="281663"/>
                </a:lnTo>
                <a:lnTo>
                  <a:pt x="142567" y="283964"/>
                </a:lnTo>
                <a:lnTo>
                  <a:pt x="148428" y="291601"/>
                </a:lnTo>
                <a:lnTo>
                  <a:pt x="151668" y="298805"/>
                </a:lnTo>
                <a:lnTo>
                  <a:pt x="152531" y="302060"/>
                </a:lnTo>
                <a:lnTo>
                  <a:pt x="155013" y="305182"/>
                </a:lnTo>
                <a:lnTo>
                  <a:pt x="158572" y="308216"/>
                </a:lnTo>
                <a:lnTo>
                  <a:pt x="162849" y="311191"/>
                </a:lnTo>
                <a:lnTo>
                  <a:pt x="165701" y="314127"/>
                </a:lnTo>
                <a:lnTo>
                  <a:pt x="167602" y="317037"/>
                </a:lnTo>
                <a:lnTo>
                  <a:pt x="170667" y="322810"/>
                </a:lnTo>
                <a:lnTo>
                  <a:pt x="176795" y="331415"/>
                </a:lnTo>
                <a:lnTo>
                  <a:pt x="179558" y="341164"/>
                </a:lnTo>
                <a:lnTo>
                  <a:pt x="186707" y="349421"/>
                </a:lnTo>
                <a:lnTo>
                  <a:pt x="188547" y="351429"/>
                </a:lnTo>
                <a:lnTo>
                  <a:pt x="188549" y="3428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MARTPenAnnotation916"/>
          <p:cNvSpPr/>
          <p:nvPr/>
        </p:nvSpPr>
        <p:spPr>
          <a:xfrm>
            <a:off x="3714840" y="5829480"/>
            <a:ext cx="25200" cy="239400"/>
          </a:xfrm>
          <a:custGeom>
            <a:avLst/>
            <a:gdLst>
              <a:gd name="textAreaLeft" fmla="*/ 0 w 25200"/>
              <a:gd name="textAreaRight" fmla="*/ 25560 w 2520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25708" h="240030">
                <a:moveTo>
                  <a:pt x="8572" y="0"/>
                </a:moveTo>
                <a:lnTo>
                  <a:pt x="15953" y="0"/>
                </a:lnTo>
                <a:lnTo>
                  <a:pt x="17302" y="953"/>
                </a:lnTo>
                <a:lnTo>
                  <a:pt x="19155" y="2540"/>
                </a:lnTo>
                <a:lnTo>
                  <a:pt x="21342" y="4551"/>
                </a:lnTo>
                <a:lnTo>
                  <a:pt x="22800" y="6843"/>
                </a:lnTo>
                <a:lnTo>
                  <a:pt x="23772" y="9325"/>
                </a:lnTo>
                <a:lnTo>
                  <a:pt x="24421" y="11931"/>
                </a:lnTo>
                <a:lnTo>
                  <a:pt x="25141" y="17367"/>
                </a:lnTo>
                <a:lnTo>
                  <a:pt x="25461" y="22959"/>
                </a:lnTo>
                <a:lnTo>
                  <a:pt x="25603" y="28619"/>
                </a:lnTo>
                <a:lnTo>
                  <a:pt x="25707" y="57655"/>
                </a:lnTo>
                <a:lnTo>
                  <a:pt x="24758" y="63202"/>
                </a:lnTo>
                <a:lnTo>
                  <a:pt x="23173" y="68805"/>
                </a:lnTo>
                <a:lnTo>
                  <a:pt x="21163" y="74445"/>
                </a:lnTo>
                <a:lnTo>
                  <a:pt x="19823" y="80109"/>
                </a:lnTo>
                <a:lnTo>
                  <a:pt x="18931" y="85791"/>
                </a:lnTo>
                <a:lnTo>
                  <a:pt x="18335" y="91484"/>
                </a:lnTo>
                <a:lnTo>
                  <a:pt x="17938" y="97184"/>
                </a:lnTo>
                <a:lnTo>
                  <a:pt x="17674" y="102889"/>
                </a:lnTo>
                <a:lnTo>
                  <a:pt x="17497" y="108598"/>
                </a:lnTo>
                <a:lnTo>
                  <a:pt x="16427" y="114308"/>
                </a:lnTo>
                <a:lnTo>
                  <a:pt x="14761" y="120020"/>
                </a:lnTo>
                <a:lnTo>
                  <a:pt x="12698" y="125733"/>
                </a:lnTo>
                <a:lnTo>
                  <a:pt x="11323" y="131448"/>
                </a:lnTo>
                <a:lnTo>
                  <a:pt x="10406" y="137162"/>
                </a:lnTo>
                <a:lnTo>
                  <a:pt x="9795" y="142876"/>
                </a:lnTo>
                <a:lnTo>
                  <a:pt x="9387" y="148590"/>
                </a:lnTo>
                <a:lnTo>
                  <a:pt x="9116" y="154305"/>
                </a:lnTo>
                <a:lnTo>
                  <a:pt x="8813" y="165735"/>
                </a:lnTo>
                <a:lnTo>
                  <a:pt x="8573" y="217125"/>
                </a:lnTo>
                <a:lnTo>
                  <a:pt x="7620" y="219998"/>
                </a:lnTo>
                <a:lnTo>
                  <a:pt x="6032" y="222865"/>
                </a:lnTo>
                <a:lnTo>
                  <a:pt x="4021" y="225730"/>
                </a:lnTo>
                <a:lnTo>
                  <a:pt x="2681" y="228591"/>
                </a:lnTo>
                <a:lnTo>
                  <a:pt x="1787" y="231451"/>
                </a:lnTo>
                <a:lnTo>
                  <a:pt x="0" y="2400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MARTPenAnnotation917"/>
          <p:cNvSpPr/>
          <p:nvPr/>
        </p:nvSpPr>
        <p:spPr>
          <a:xfrm>
            <a:off x="3568680" y="6129360"/>
            <a:ext cx="291960" cy="17280"/>
          </a:xfrm>
          <a:custGeom>
            <a:avLst/>
            <a:gdLst>
              <a:gd name="textAreaLeft" fmla="*/ 0 w 291960"/>
              <a:gd name="textAreaRight" fmla="*/ 292320 w 2919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91361" h="16793">
                <a:moveTo>
                  <a:pt x="8467" y="8573"/>
                </a:moveTo>
                <a:lnTo>
                  <a:pt x="0" y="8573"/>
                </a:lnTo>
                <a:lnTo>
                  <a:pt x="15498" y="8573"/>
                </a:lnTo>
                <a:lnTo>
                  <a:pt x="16964" y="9525"/>
                </a:lnTo>
                <a:lnTo>
                  <a:pt x="18895" y="11113"/>
                </a:lnTo>
                <a:lnTo>
                  <a:pt x="21134" y="13124"/>
                </a:lnTo>
                <a:lnTo>
                  <a:pt x="23579" y="14464"/>
                </a:lnTo>
                <a:lnTo>
                  <a:pt x="26162" y="15358"/>
                </a:lnTo>
                <a:lnTo>
                  <a:pt x="28837" y="15954"/>
                </a:lnTo>
                <a:lnTo>
                  <a:pt x="32524" y="16351"/>
                </a:lnTo>
                <a:lnTo>
                  <a:pt x="36888" y="16616"/>
                </a:lnTo>
                <a:lnTo>
                  <a:pt x="41702" y="16792"/>
                </a:lnTo>
                <a:lnTo>
                  <a:pt x="45864" y="15958"/>
                </a:lnTo>
                <a:lnTo>
                  <a:pt x="49591" y="14448"/>
                </a:lnTo>
                <a:lnTo>
                  <a:pt x="53029" y="12490"/>
                </a:lnTo>
                <a:lnTo>
                  <a:pt x="57225" y="11184"/>
                </a:lnTo>
                <a:lnTo>
                  <a:pt x="61927" y="10313"/>
                </a:lnTo>
                <a:lnTo>
                  <a:pt x="66968" y="9733"/>
                </a:lnTo>
                <a:lnTo>
                  <a:pt x="71280" y="9346"/>
                </a:lnTo>
                <a:lnTo>
                  <a:pt x="78612" y="8917"/>
                </a:lnTo>
                <a:lnTo>
                  <a:pt x="82853" y="7850"/>
                </a:lnTo>
                <a:lnTo>
                  <a:pt x="87585" y="6186"/>
                </a:lnTo>
                <a:lnTo>
                  <a:pt x="92645" y="4124"/>
                </a:lnTo>
                <a:lnTo>
                  <a:pt x="97923" y="2749"/>
                </a:lnTo>
                <a:lnTo>
                  <a:pt x="103347" y="1833"/>
                </a:lnTo>
                <a:lnTo>
                  <a:pt x="108869" y="1222"/>
                </a:lnTo>
                <a:lnTo>
                  <a:pt x="114454" y="815"/>
                </a:lnTo>
                <a:lnTo>
                  <a:pt x="120083" y="543"/>
                </a:lnTo>
                <a:lnTo>
                  <a:pt x="131417" y="242"/>
                </a:lnTo>
                <a:lnTo>
                  <a:pt x="217230" y="1"/>
                </a:lnTo>
                <a:lnTo>
                  <a:pt x="241111" y="0"/>
                </a:lnTo>
                <a:lnTo>
                  <a:pt x="245478" y="953"/>
                </a:lnTo>
                <a:lnTo>
                  <a:pt x="250295" y="2541"/>
                </a:lnTo>
                <a:lnTo>
                  <a:pt x="255411" y="4551"/>
                </a:lnTo>
                <a:lnTo>
                  <a:pt x="259774" y="5892"/>
                </a:lnTo>
                <a:lnTo>
                  <a:pt x="263635" y="6785"/>
                </a:lnTo>
                <a:lnTo>
                  <a:pt x="267162" y="7381"/>
                </a:lnTo>
                <a:lnTo>
                  <a:pt x="270466" y="7778"/>
                </a:lnTo>
                <a:lnTo>
                  <a:pt x="276676" y="8219"/>
                </a:lnTo>
                <a:lnTo>
                  <a:pt x="285527" y="8468"/>
                </a:lnTo>
                <a:lnTo>
                  <a:pt x="291360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MARTPenAnnotation918"/>
          <p:cNvSpPr/>
          <p:nvPr/>
        </p:nvSpPr>
        <p:spPr>
          <a:xfrm>
            <a:off x="3679920" y="6173640"/>
            <a:ext cx="231840" cy="212760"/>
          </a:xfrm>
          <a:custGeom>
            <a:avLst/>
            <a:gdLst>
              <a:gd name="textAreaLeft" fmla="*/ 0 w 231840"/>
              <a:gd name="textAreaRight" fmla="*/ 232200 w 2318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31414" h="212694">
                <a:moveTo>
                  <a:pt x="17100" y="75533"/>
                </a:moveTo>
                <a:lnTo>
                  <a:pt x="17100" y="59685"/>
                </a:lnTo>
                <a:lnTo>
                  <a:pt x="21651" y="54222"/>
                </a:lnTo>
                <a:lnTo>
                  <a:pt x="26425" y="49234"/>
                </a:lnTo>
                <a:lnTo>
                  <a:pt x="37252" y="38271"/>
                </a:lnTo>
                <a:lnTo>
                  <a:pt x="40059" y="34499"/>
                </a:lnTo>
                <a:lnTo>
                  <a:pt x="42884" y="30080"/>
                </a:lnTo>
                <a:lnTo>
                  <a:pt x="45720" y="25228"/>
                </a:lnTo>
                <a:lnTo>
                  <a:pt x="48562" y="21994"/>
                </a:lnTo>
                <a:lnTo>
                  <a:pt x="51410" y="19838"/>
                </a:lnTo>
                <a:lnTo>
                  <a:pt x="67376" y="11827"/>
                </a:lnTo>
                <a:lnTo>
                  <a:pt x="71572" y="9250"/>
                </a:lnTo>
                <a:lnTo>
                  <a:pt x="78775" y="3846"/>
                </a:lnTo>
                <a:lnTo>
                  <a:pt x="82982" y="2024"/>
                </a:lnTo>
                <a:lnTo>
                  <a:pt x="87692" y="810"/>
                </a:lnTo>
                <a:lnTo>
                  <a:pt x="92736" y="0"/>
                </a:lnTo>
                <a:lnTo>
                  <a:pt x="97052" y="413"/>
                </a:lnTo>
                <a:lnTo>
                  <a:pt x="100881" y="1640"/>
                </a:lnTo>
                <a:lnTo>
                  <a:pt x="107676" y="4592"/>
                </a:lnTo>
                <a:lnTo>
                  <a:pt x="113872" y="5904"/>
                </a:lnTo>
                <a:lnTo>
                  <a:pt x="115904" y="7206"/>
                </a:lnTo>
                <a:lnTo>
                  <a:pt x="117260" y="9027"/>
                </a:lnTo>
                <a:lnTo>
                  <a:pt x="118163" y="11193"/>
                </a:lnTo>
                <a:lnTo>
                  <a:pt x="124247" y="16140"/>
                </a:lnTo>
                <a:lnTo>
                  <a:pt x="128537" y="18792"/>
                </a:lnTo>
                <a:lnTo>
                  <a:pt x="131396" y="21514"/>
                </a:lnTo>
                <a:lnTo>
                  <a:pt x="133303" y="24280"/>
                </a:lnTo>
                <a:lnTo>
                  <a:pt x="136373" y="29894"/>
                </a:lnTo>
                <a:lnTo>
                  <a:pt x="140913" y="35564"/>
                </a:lnTo>
                <a:lnTo>
                  <a:pt x="142505" y="39362"/>
                </a:lnTo>
                <a:lnTo>
                  <a:pt x="143566" y="43799"/>
                </a:lnTo>
                <a:lnTo>
                  <a:pt x="144273" y="48662"/>
                </a:lnTo>
                <a:lnTo>
                  <a:pt x="144745" y="52857"/>
                </a:lnTo>
                <a:lnTo>
                  <a:pt x="145059" y="56606"/>
                </a:lnTo>
                <a:lnTo>
                  <a:pt x="145269" y="60057"/>
                </a:lnTo>
                <a:lnTo>
                  <a:pt x="145501" y="71512"/>
                </a:lnTo>
                <a:lnTo>
                  <a:pt x="145564" y="78568"/>
                </a:lnTo>
                <a:lnTo>
                  <a:pt x="144652" y="85176"/>
                </a:lnTo>
                <a:lnTo>
                  <a:pt x="143093" y="91487"/>
                </a:lnTo>
                <a:lnTo>
                  <a:pt x="141100" y="97599"/>
                </a:lnTo>
                <a:lnTo>
                  <a:pt x="138820" y="103579"/>
                </a:lnTo>
                <a:lnTo>
                  <a:pt x="136347" y="109471"/>
                </a:lnTo>
                <a:lnTo>
                  <a:pt x="133745" y="115303"/>
                </a:lnTo>
                <a:lnTo>
                  <a:pt x="131059" y="122049"/>
                </a:lnTo>
                <a:lnTo>
                  <a:pt x="125533" y="137164"/>
                </a:lnTo>
                <a:lnTo>
                  <a:pt x="122727" y="144243"/>
                </a:lnTo>
                <a:lnTo>
                  <a:pt x="119903" y="150867"/>
                </a:lnTo>
                <a:lnTo>
                  <a:pt x="117068" y="157189"/>
                </a:lnTo>
                <a:lnTo>
                  <a:pt x="113273" y="162355"/>
                </a:lnTo>
                <a:lnTo>
                  <a:pt x="108838" y="166752"/>
                </a:lnTo>
                <a:lnTo>
                  <a:pt x="103977" y="170635"/>
                </a:lnTo>
                <a:lnTo>
                  <a:pt x="99783" y="175130"/>
                </a:lnTo>
                <a:lnTo>
                  <a:pt x="96034" y="180031"/>
                </a:lnTo>
                <a:lnTo>
                  <a:pt x="92583" y="185204"/>
                </a:lnTo>
                <a:lnTo>
                  <a:pt x="89330" y="189604"/>
                </a:lnTo>
                <a:lnTo>
                  <a:pt x="86208" y="193490"/>
                </a:lnTo>
                <a:lnTo>
                  <a:pt x="83175" y="197034"/>
                </a:lnTo>
                <a:lnTo>
                  <a:pt x="79247" y="199397"/>
                </a:lnTo>
                <a:lnTo>
                  <a:pt x="74725" y="200971"/>
                </a:lnTo>
                <a:lnTo>
                  <a:pt x="69804" y="202021"/>
                </a:lnTo>
                <a:lnTo>
                  <a:pt x="65571" y="202721"/>
                </a:lnTo>
                <a:lnTo>
                  <a:pt x="61797" y="203188"/>
                </a:lnTo>
                <a:lnTo>
                  <a:pt x="58328" y="203499"/>
                </a:lnTo>
                <a:lnTo>
                  <a:pt x="54111" y="203706"/>
                </a:lnTo>
                <a:lnTo>
                  <a:pt x="44344" y="203937"/>
                </a:lnTo>
                <a:lnTo>
                  <a:pt x="5704" y="204119"/>
                </a:lnTo>
                <a:lnTo>
                  <a:pt x="3788" y="203167"/>
                </a:lnTo>
                <a:lnTo>
                  <a:pt x="2510" y="201581"/>
                </a:lnTo>
                <a:lnTo>
                  <a:pt x="460" y="196739"/>
                </a:lnTo>
                <a:lnTo>
                  <a:pt x="105" y="191350"/>
                </a:lnTo>
                <a:lnTo>
                  <a:pt x="0" y="188272"/>
                </a:lnTo>
                <a:lnTo>
                  <a:pt x="4519" y="182809"/>
                </a:lnTo>
                <a:lnTo>
                  <a:pt x="9287" y="177821"/>
                </a:lnTo>
                <a:lnTo>
                  <a:pt x="11891" y="175158"/>
                </a:lnTo>
                <a:lnTo>
                  <a:pt x="15533" y="173382"/>
                </a:lnTo>
                <a:lnTo>
                  <a:pt x="19865" y="172198"/>
                </a:lnTo>
                <a:lnTo>
                  <a:pt x="24659" y="171409"/>
                </a:lnTo>
                <a:lnTo>
                  <a:pt x="28807" y="169930"/>
                </a:lnTo>
                <a:lnTo>
                  <a:pt x="35956" y="165747"/>
                </a:lnTo>
                <a:lnTo>
                  <a:pt x="40148" y="164251"/>
                </a:lnTo>
                <a:lnTo>
                  <a:pt x="44848" y="163254"/>
                </a:lnTo>
                <a:lnTo>
                  <a:pt x="49886" y="162588"/>
                </a:lnTo>
                <a:lnTo>
                  <a:pt x="55150" y="162145"/>
                </a:lnTo>
                <a:lnTo>
                  <a:pt x="60565" y="161849"/>
                </a:lnTo>
                <a:lnTo>
                  <a:pt x="71660" y="161521"/>
                </a:lnTo>
                <a:lnTo>
                  <a:pt x="82942" y="161375"/>
                </a:lnTo>
                <a:lnTo>
                  <a:pt x="88617" y="162288"/>
                </a:lnTo>
                <a:lnTo>
                  <a:pt x="94306" y="163850"/>
                </a:lnTo>
                <a:lnTo>
                  <a:pt x="100003" y="165844"/>
                </a:lnTo>
                <a:lnTo>
                  <a:pt x="105706" y="167173"/>
                </a:lnTo>
                <a:lnTo>
                  <a:pt x="111414" y="168059"/>
                </a:lnTo>
                <a:lnTo>
                  <a:pt x="117124" y="168649"/>
                </a:lnTo>
                <a:lnTo>
                  <a:pt x="122835" y="169996"/>
                </a:lnTo>
                <a:lnTo>
                  <a:pt x="128547" y="171845"/>
                </a:lnTo>
                <a:lnTo>
                  <a:pt x="134261" y="174031"/>
                </a:lnTo>
                <a:lnTo>
                  <a:pt x="139975" y="176442"/>
                </a:lnTo>
                <a:lnTo>
                  <a:pt x="145689" y="179000"/>
                </a:lnTo>
                <a:lnTo>
                  <a:pt x="157119" y="184383"/>
                </a:lnTo>
                <a:lnTo>
                  <a:pt x="168548" y="189951"/>
                </a:lnTo>
                <a:lnTo>
                  <a:pt x="173311" y="192769"/>
                </a:lnTo>
                <a:lnTo>
                  <a:pt x="177438" y="195601"/>
                </a:lnTo>
                <a:lnTo>
                  <a:pt x="181142" y="198440"/>
                </a:lnTo>
                <a:lnTo>
                  <a:pt x="185517" y="200334"/>
                </a:lnTo>
                <a:lnTo>
                  <a:pt x="190338" y="201596"/>
                </a:lnTo>
                <a:lnTo>
                  <a:pt x="195457" y="202437"/>
                </a:lnTo>
                <a:lnTo>
                  <a:pt x="199822" y="203951"/>
                </a:lnTo>
                <a:lnTo>
                  <a:pt x="203685" y="205913"/>
                </a:lnTo>
                <a:lnTo>
                  <a:pt x="207213" y="208173"/>
                </a:lnTo>
                <a:lnTo>
                  <a:pt x="211469" y="209679"/>
                </a:lnTo>
                <a:lnTo>
                  <a:pt x="216212" y="210684"/>
                </a:lnTo>
                <a:lnTo>
                  <a:pt x="231413" y="2126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MARTPenAnnotation919"/>
          <p:cNvSpPr/>
          <p:nvPr/>
        </p:nvSpPr>
        <p:spPr>
          <a:xfrm>
            <a:off x="4178160" y="6094440"/>
            <a:ext cx="128880" cy="146160"/>
          </a:xfrm>
          <a:custGeom>
            <a:avLst/>
            <a:gdLst>
              <a:gd name="textAreaLeft" fmla="*/ 0 w 128880"/>
              <a:gd name="textAreaRight" fmla="*/ 129240 w 1288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8576" h="145609">
                <a:moveTo>
                  <a:pt x="128575" y="0"/>
                </a:moveTo>
                <a:lnTo>
                  <a:pt x="99634" y="0"/>
                </a:lnTo>
                <a:lnTo>
                  <a:pt x="96898" y="953"/>
                </a:lnTo>
                <a:lnTo>
                  <a:pt x="94122" y="2540"/>
                </a:lnTo>
                <a:lnTo>
                  <a:pt x="91319" y="4551"/>
                </a:lnTo>
                <a:lnTo>
                  <a:pt x="87545" y="5892"/>
                </a:lnTo>
                <a:lnTo>
                  <a:pt x="83124" y="6785"/>
                </a:lnTo>
                <a:lnTo>
                  <a:pt x="78272" y="7381"/>
                </a:lnTo>
                <a:lnTo>
                  <a:pt x="74085" y="9683"/>
                </a:lnTo>
                <a:lnTo>
                  <a:pt x="70341" y="13123"/>
                </a:lnTo>
                <a:lnTo>
                  <a:pt x="66892" y="17321"/>
                </a:lnTo>
                <a:lnTo>
                  <a:pt x="63641" y="21073"/>
                </a:lnTo>
                <a:lnTo>
                  <a:pt x="60520" y="24526"/>
                </a:lnTo>
                <a:lnTo>
                  <a:pt x="57488" y="27781"/>
                </a:lnTo>
                <a:lnTo>
                  <a:pt x="53561" y="30903"/>
                </a:lnTo>
                <a:lnTo>
                  <a:pt x="49038" y="33937"/>
                </a:lnTo>
                <a:lnTo>
                  <a:pt x="44118" y="36912"/>
                </a:lnTo>
                <a:lnTo>
                  <a:pt x="39885" y="40800"/>
                </a:lnTo>
                <a:lnTo>
                  <a:pt x="36111" y="45298"/>
                </a:lnTo>
                <a:lnTo>
                  <a:pt x="32642" y="50201"/>
                </a:lnTo>
                <a:lnTo>
                  <a:pt x="29377" y="55375"/>
                </a:lnTo>
                <a:lnTo>
                  <a:pt x="26248" y="60729"/>
                </a:lnTo>
                <a:lnTo>
                  <a:pt x="23210" y="66204"/>
                </a:lnTo>
                <a:lnTo>
                  <a:pt x="20231" y="70806"/>
                </a:lnTo>
                <a:lnTo>
                  <a:pt x="17294" y="74826"/>
                </a:lnTo>
                <a:lnTo>
                  <a:pt x="14383" y="78460"/>
                </a:lnTo>
                <a:lnTo>
                  <a:pt x="11489" y="82786"/>
                </a:lnTo>
                <a:lnTo>
                  <a:pt x="8608" y="87576"/>
                </a:lnTo>
                <a:lnTo>
                  <a:pt x="5735" y="92674"/>
                </a:lnTo>
                <a:lnTo>
                  <a:pt x="3819" y="97978"/>
                </a:lnTo>
                <a:lnTo>
                  <a:pt x="2542" y="103418"/>
                </a:lnTo>
                <a:lnTo>
                  <a:pt x="492" y="116737"/>
                </a:lnTo>
                <a:lnTo>
                  <a:pt x="324" y="119735"/>
                </a:lnTo>
                <a:lnTo>
                  <a:pt x="32" y="134489"/>
                </a:lnTo>
                <a:lnTo>
                  <a:pt x="0" y="140920"/>
                </a:lnTo>
                <a:lnTo>
                  <a:pt x="948" y="142524"/>
                </a:lnTo>
                <a:lnTo>
                  <a:pt x="2534" y="143594"/>
                </a:lnTo>
                <a:lnTo>
                  <a:pt x="4542" y="144307"/>
                </a:lnTo>
                <a:lnTo>
                  <a:pt x="6834" y="144782"/>
                </a:lnTo>
                <a:lnTo>
                  <a:pt x="9315" y="145099"/>
                </a:lnTo>
                <a:lnTo>
                  <a:pt x="11921" y="145310"/>
                </a:lnTo>
                <a:lnTo>
                  <a:pt x="14610" y="145451"/>
                </a:lnTo>
                <a:lnTo>
                  <a:pt x="20139" y="145608"/>
                </a:lnTo>
                <a:lnTo>
                  <a:pt x="22947" y="144696"/>
                </a:lnTo>
                <a:lnTo>
                  <a:pt x="25771" y="143137"/>
                </a:lnTo>
                <a:lnTo>
                  <a:pt x="28607" y="141144"/>
                </a:lnTo>
                <a:lnTo>
                  <a:pt x="31449" y="139817"/>
                </a:lnTo>
                <a:lnTo>
                  <a:pt x="34297" y="138931"/>
                </a:lnTo>
                <a:lnTo>
                  <a:pt x="37148" y="138341"/>
                </a:lnTo>
                <a:lnTo>
                  <a:pt x="40001" y="136995"/>
                </a:lnTo>
                <a:lnTo>
                  <a:pt x="42856" y="135145"/>
                </a:lnTo>
                <a:lnTo>
                  <a:pt x="45712" y="132959"/>
                </a:lnTo>
                <a:lnTo>
                  <a:pt x="47615" y="130550"/>
                </a:lnTo>
                <a:lnTo>
                  <a:pt x="48884" y="127990"/>
                </a:lnTo>
                <a:lnTo>
                  <a:pt x="49730" y="125332"/>
                </a:lnTo>
                <a:lnTo>
                  <a:pt x="51247" y="121655"/>
                </a:lnTo>
                <a:lnTo>
                  <a:pt x="53210" y="117298"/>
                </a:lnTo>
                <a:lnTo>
                  <a:pt x="55472" y="112489"/>
                </a:lnTo>
                <a:lnTo>
                  <a:pt x="57933" y="108330"/>
                </a:lnTo>
                <a:lnTo>
                  <a:pt x="60525" y="104605"/>
                </a:lnTo>
                <a:lnTo>
                  <a:pt x="63206" y="101169"/>
                </a:lnTo>
                <a:lnTo>
                  <a:pt x="65946" y="96974"/>
                </a:lnTo>
                <a:lnTo>
                  <a:pt x="68725" y="92272"/>
                </a:lnTo>
                <a:lnTo>
                  <a:pt x="71530" y="87232"/>
                </a:lnTo>
                <a:lnTo>
                  <a:pt x="74352" y="82920"/>
                </a:lnTo>
                <a:lnTo>
                  <a:pt x="77186" y="79092"/>
                </a:lnTo>
                <a:lnTo>
                  <a:pt x="80029" y="75588"/>
                </a:lnTo>
                <a:lnTo>
                  <a:pt x="81923" y="71347"/>
                </a:lnTo>
                <a:lnTo>
                  <a:pt x="83186" y="66615"/>
                </a:lnTo>
                <a:lnTo>
                  <a:pt x="84028" y="61555"/>
                </a:lnTo>
                <a:lnTo>
                  <a:pt x="84589" y="57229"/>
                </a:lnTo>
                <a:lnTo>
                  <a:pt x="84964" y="53393"/>
                </a:lnTo>
                <a:lnTo>
                  <a:pt x="85214" y="49883"/>
                </a:lnTo>
                <a:lnTo>
                  <a:pt x="85380" y="46590"/>
                </a:lnTo>
                <a:lnTo>
                  <a:pt x="85564" y="40392"/>
                </a:lnTo>
                <a:lnTo>
                  <a:pt x="85693" y="25769"/>
                </a:lnTo>
                <a:lnTo>
                  <a:pt x="85709" y="14298"/>
                </a:lnTo>
                <a:lnTo>
                  <a:pt x="84758" y="12389"/>
                </a:lnTo>
                <a:lnTo>
                  <a:pt x="83171" y="11117"/>
                </a:lnTo>
                <a:lnTo>
                  <a:pt x="81161" y="10269"/>
                </a:lnTo>
                <a:lnTo>
                  <a:pt x="78868" y="9703"/>
                </a:lnTo>
                <a:lnTo>
                  <a:pt x="76387" y="9326"/>
                </a:lnTo>
                <a:lnTo>
                  <a:pt x="68568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MARTPenAnnotation920"/>
          <p:cNvSpPr/>
          <p:nvPr/>
        </p:nvSpPr>
        <p:spPr>
          <a:xfrm>
            <a:off x="4322880" y="6046920"/>
            <a:ext cx="284040" cy="1857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82894" h="184948">
                <a:moveTo>
                  <a:pt x="0" y="4939"/>
                </a:moveTo>
                <a:lnTo>
                  <a:pt x="4551" y="388"/>
                </a:lnTo>
                <a:lnTo>
                  <a:pt x="6844" y="0"/>
                </a:lnTo>
                <a:lnTo>
                  <a:pt x="9325" y="694"/>
                </a:lnTo>
                <a:lnTo>
                  <a:pt x="11932" y="2109"/>
                </a:lnTo>
                <a:lnTo>
                  <a:pt x="17368" y="3681"/>
                </a:lnTo>
                <a:lnTo>
                  <a:pt x="23911" y="4380"/>
                </a:lnTo>
                <a:lnTo>
                  <a:pt x="28324" y="4566"/>
                </a:lnTo>
                <a:lnTo>
                  <a:pt x="41095" y="4828"/>
                </a:lnTo>
                <a:lnTo>
                  <a:pt x="44541" y="4865"/>
                </a:lnTo>
                <a:lnTo>
                  <a:pt x="48745" y="5842"/>
                </a:lnTo>
                <a:lnTo>
                  <a:pt x="53452" y="7446"/>
                </a:lnTo>
                <a:lnTo>
                  <a:pt x="58494" y="9468"/>
                </a:lnTo>
                <a:lnTo>
                  <a:pt x="66637" y="14254"/>
                </a:lnTo>
                <a:lnTo>
                  <a:pt x="73432" y="19556"/>
                </a:lnTo>
                <a:lnTo>
                  <a:pt x="79626" y="25088"/>
                </a:lnTo>
                <a:lnTo>
                  <a:pt x="82612" y="28849"/>
                </a:lnTo>
                <a:lnTo>
                  <a:pt x="85554" y="33261"/>
                </a:lnTo>
                <a:lnTo>
                  <a:pt x="88469" y="38108"/>
                </a:lnTo>
                <a:lnTo>
                  <a:pt x="91364" y="43245"/>
                </a:lnTo>
                <a:lnTo>
                  <a:pt x="97121" y="54031"/>
                </a:lnTo>
                <a:lnTo>
                  <a:pt x="99990" y="60527"/>
                </a:lnTo>
                <a:lnTo>
                  <a:pt x="102855" y="67715"/>
                </a:lnTo>
                <a:lnTo>
                  <a:pt x="105717" y="75365"/>
                </a:lnTo>
                <a:lnTo>
                  <a:pt x="107626" y="82369"/>
                </a:lnTo>
                <a:lnTo>
                  <a:pt x="108898" y="88944"/>
                </a:lnTo>
                <a:lnTo>
                  <a:pt x="109746" y="95232"/>
                </a:lnTo>
                <a:lnTo>
                  <a:pt x="110312" y="101329"/>
                </a:lnTo>
                <a:lnTo>
                  <a:pt x="110688" y="107299"/>
                </a:lnTo>
                <a:lnTo>
                  <a:pt x="110940" y="113184"/>
                </a:lnTo>
                <a:lnTo>
                  <a:pt x="111219" y="127343"/>
                </a:lnTo>
                <a:lnTo>
                  <a:pt x="111294" y="135119"/>
                </a:lnTo>
                <a:lnTo>
                  <a:pt x="110391" y="142208"/>
                </a:lnTo>
                <a:lnTo>
                  <a:pt x="108836" y="148839"/>
                </a:lnTo>
                <a:lnTo>
                  <a:pt x="106848" y="155165"/>
                </a:lnTo>
                <a:lnTo>
                  <a:pt x="105522" y="160335"/>
                </a:lnTo>
                <a:lnTo>
                  <a:pt x="104638" y="164733"/>
                </a:lnTo>
                <a:lnTo>
                  <a:pt x="104049" y="168619"/>
                </a:lnTo>
                <a:lnTo>
                  <a:pt x="102703" y="172161"/>
                </a:lnTo>
                <a:lnTo>
                  <a:pt x="100854" y="175476"/>
                </a:lnTo>
                <a:lnTo>
                  <a:pt x="94331" y="184913"/>
                </a:lnTo>
                <a:lnTo>
                  <a:pt x="89757" y="184947"/>
                </a:lnTo>
                <a:lnTo>
                  <a:pt x="88413" y="183999"/>
                </a:lnTo>
                <a:lnTo>
                  <a:pt x="87517" y="182415"/>
                </a:lnTo>
                <a:lnTo>
                  <a:pt x="86919" y="180406"/>
                </a:lnTo>
                <a:lnTo>
                  <a:pt x="86521" y="177162"/>
                </a:lnTo>
                <a:lnTo>
                  <a:pt x="86256" y="173094"/>
                </a:lnTo>
                <a:lnTo>
                  <a:pt x="86079" y="168478"/>
                </a:lnTo>
                <a:lnTo>
                  <a:pt x="85829" y="152878"/>
                </a:lnTo>
                <a:lnTo>
                  <a:pt x="86747" y="147380"/>
                </a:lnTo>
                <a:lnTo>
                  <a:pt x="88312" y="141809"/>
                </a:lnTo>
                <a:lnTo>
                  <a:pt x="95064" y="122328"/>
                </a:lnTo>
                <a:lnTo>
                  <a:pt x="97666" y="114630"/>
                </a:lnTo>
                <a:lnTo>
                  <a:pt x="100353" y="107594"/>
                </a:lnTo>
                <a:lnTo>
                  <a:pt x="103097" y="100998"/>
                </a:lnTo>
                <a:lnTo>
                  <a:pt x="105879" y="94696"/>
                </a:lnTo>
                <a:lnTo>
                  <a:pt x="109639" y="87637"/>
                </a:lnTo>
                <a:lnTo>
                  <a:pt x="114050" y="80074"/>
                </a:lnTo>
                <a:lnTo>
                  <a:pt x="118896" y="72173"/>
                </a:lnTo>
                <a:lnTo>
                  <a:pt x="124031" y="65002"/>
                </a:lnTo>
                <a:lnTo>
                  <a:pt x="129360" y="58316"/>
                </a:lnTo>
                <a:lnTo>
                  <a:pt x="134818" y="51953"/>
                </a:lnTo>
                <a:lnTo>
                  <a:pt x="140361" y="46759"/>
                </a:lnTo>
                <a:lnTo>
                  <a:pt x="145961" y="42345"/>
                </a:lnTo>
                <a:lnTo>
                  <a:pt x="151600" y="38448"/>
                </a:lnTo>
                <a:lnTo>
                  <a:pt x="156312" y="34899"/>
                </a:lnTo>
                <a:lnTo>
                  <a:pt x="160405" y="31580"/>
                </a:lnTo>
                <a:lnTo>
                  <a:pt x="164087" y="28414"/>
                </a:lnTo>
                <a:lnTo>
                  <a:pt x="169399" y="26304"/>
                </a:lnTo>
                <a:lnTo>
                  <a:pt x="175797" y="24897"/>
                </a:lnTo>
                <a:lnTo>
                  <a:pt x="182921" y="23959"/>
                </a:lnTo>
                <a:lnTo>
                  <a:pt x="189575" y="23334"/>
                </a:lnTo>
                <a:lnTo>
                  <a:pt x="195916" y="22917"/>
                </a:lnTo>
                <a:lnTo>
                  <a:pt x="202048" y="22640"/>
                </a:lnTo>
                <a:lnTo>
                  <a:pt x="213941" y="22331"/>
                </a:lnTo>
                <a:lnTo>
                  <a:pt x="219780" y="22249"/>
                </a:lnTo>
                <a:lnTo>
                  <a:pt x="226530" y="23146"/>
                </a:lnTo>
                <a:lnTo>
                  <a:pt x="233888" y="24697"/>
                </a:lnTo>
                <a:lnTo>
                  <a:pt x="241650" y="26683"/>
                </a:lnTo>
                <a:lnTo>
                  <a:pt x="248730" y="28961"/>
                </a:lnTo>
                <a:lnTo>
                  <a:pt x="255355" y="31431"/>
                </a:lnTo>
                <a:lnTo>
                  <a:pt x="261677" y="34030"/>
                </a:lnTo>
                <a:lnTo>
                  <a:pt x="266844" y="35763"/>
                </a:lnTo>
                <a:lnTo>
                  <a:pt x="271241" y="36918"/>
                </a:lnTo>
                <a:lnTo>
                  <a:pt x="282893" y="392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MARTPenAnnotation921"/>
          <p:cNvSpPr/>
          <p:nvPr/>
        </p:nvSpPr>
        <p:spPr>
          <a:xfrm>
            <a:off x="4957920" y="6103800"/>
            <a:ext cx="317520" cy="33480"/>
          </a:xfrm>
          <a:custGeom>
            <a:avLst/>
            <a:gdLst>
              <a:gd name="textAreaLeft" fmla="*/ 0 w 317520"/>
              <a:gd name="textAreaRight" fmla="*/ 317520 w 3175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17153" h="34291">
                <a:moveTo>
                  <a:pt x="8541" y="34290"/>
                </a:moveTo>
                <a:lnTo>
                  <a:pt x="0" y="34290"/>
                </a:lnTo>
                <a:lnTo>
                  <a:pt x="41702" y="34290"/>
                </a:lnTo>
                <a:lnTo>
                  <a:pt x="46841" y="33337"/>
                </a:lnTo>
                <a:lnTo>
                  <a:pt x="52172" y="31750"/>
                </a:lnTo>
                <a:lnTo>
                  <a:pt x="57631" y="29739"/>
                </a:lnTo>
                <a:lnTo>
                  <a:pt x="63176" y="28398"/>
                </a:lnTo>
                <a:lnTo>
                  <a:pt x="68776" y="27504"/>
                </a:lnTo>
                <a:lnTo>
                  <a:pt x="74416" y="26908"/>
                </a:lnTo>
                <a:lnTo>
                  <a:pt x="80080" y="26512"/>
                </a:lnTo>
                <a:lnTo>
                  <a:pt x="85761" y="26246"/>
                </a:lnTo>
                <a:lnTo>
                  <a:pt x="97154" y="25953"/>
                </a:lnTo>
                <a:lnTo>
                  <a:pt x="108567" y="25822"/>
                </a:lnTo>
                <a:lnTo>
                  <a:pt x="114278" y="24834"/>
                </a:lnTo>
                <a:lnTo>
                  <a:pt x="119990" y="23224"/>
                </a:lnTo>
                <a:lnTo>
                  <a:pt x="125703" y="21198"/>
                </a:lnTo>
                <a:lnTo>
                  <a:pt x="131417" y="19846"/>
                </a:lnTo>
                <a:lnTo>
                  <a:pt x="137131" y="18946"/>
                </a:lnTo>
                <a:lnTo>
                  <a:pt x="142845" y="18345"/>
                </a:lnTo>
                <a:lnTo>
                  <a:pt x="148560" y="16993"/>
                </a:lnTo>
                <a:lnTo>
                  <a:pt x="154275" y="15139"/>
                </a:lnTo>
                <a:lnTo>
                  <a:pt x="159989" y="12950"/>
                </a:lnTo>
                <a:lnTo>
                  <a:pt x="166657" y="11491"/>
                </a:lnTo>
                <a:lnTo>
                  <a:pt x="173959" y="10518"/>
                </a:lnTo>
                <a:lnTo>
                  <a:pt x="181685" y="9869"/>
                </a:lnTo>
                <a:lnTo>
                  <a:pt x="188740" y="9437"/>
                </a:lnTo>
                <a:lnTo>
                  <a:pt x="201660" y="8957"/>
                </a:lnTo>
                <a:lnTo>
                  <a:pt x="207772" y="7876"/>
                </a:lnTo>
                <a:lnTo>
                  <a:pt x="213752" y="6203"/>
                </a:lnTo>
                <a:lnTo>
                  <a:pt x="219644" y="4135"/>
                </a:lnTo>
                <a:lnTo>
                  <a:pt x="225476" y="2756"/>
                </a:lnTo>
                <a:lnTo>
                  <a:pt x="231270" y="1838"/>
                </a:lnTo>
                <a:lnTo>
                  <a:pt x="237037" y="1225"/>
                </a:lnTo>
                <a:lnTo>
                  <a:pt x="242787" y="816"/>
                </a:lnTo>
                <a:lnTo>
                  <a:pt x="248525" y="544"/>
                </a:lnTo>
                <a:lnTo>
                  <a:pt x="263163" y="161"/>
                </a:lnTo>
                <a:lnTo>
                  <a:pt x="297078" y="2"/>
                </a:lnTo>
                <a:lnTo>
                  <a:pt x="3171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MARTPenAnnotation922"/>
          <p:cNvSpPr/>
          <p:nvPr/>
        </p:nvSpPr>
        <p:spPr>
          <a:xfrm>
            <a:off x="5257800" y="5897520"/>
            <a:ext cx="333360" cy="420840"/>
          </a:xfrm>
          <a:custGeom>
            <a:avLst/>
            <a:gdLst>
              <a:gd name="textAreaLeft" fmla="*/ 0 w 333360"/>
              <a:gd name="textAreaRight" fmla="*/ 333720 w 33336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333813" h="420019">
                <a:moveTo>
                  <a:pt x="94297" y="34256"/>
                </a:moveTo>
                <a:lnTo>
                  <a:pt x="94297" y="26875"/>
                </a:lnTo>
                <a:lnTo>
                  <a:pt x="95250" y="26477"/>
                </a:lnTo>
                <a:lnTo>
                  <a:pt x="98848" y="26036"/>
                </a:lnTo>
                <a:lnTo>
                  <a:pt x="100188" y="24966"/>
                </a:lnTo>
                <a:lnTo>
                  <a:pt x="101082" y="23300"/>
                </a:lnTo>
                <a:lnTo>
                  <a:pt x="101678" y="21237"/>
                </a:lnTo>
                <a:lnTo>
                  <a:pt x="103027" y="19862"/>
                </a:lnTo>
                <a:lnTo>
                  <a:pt x="104880" y="18944"/>
                </a:lnTo>
                <a:lnTo>
                  <a:pt x="110431" y="16973"/>
                </a:lnTo>
                <a:lnTo>
                  <a:pt x="119247" y="12922"/>
                </a:lnTo>
                <a:lnTo>
                  <a:pt x="129516" y="10486"/>
                </a:lnTo>
                <a:lnTo>
                  <a:pt x="134921" y="9837"/>
                </a:lnTo>
                <a:lnTo>
                  <a:pt x="140430" y="8452"/>
                </a:lnTo>
                <a:lnTo>
                  <a:pt x="146007" y="6575"/>
                </a:lnTo>
                <a:lnTo>
                  <a:pt x="156332" y="2904"/>
                </a:lnTo>
                <a:lnTo>
                  <a:pt x="164096" y="1271"/>
                </a:lnTo>
                <a:lnTo>
                  <a:pt x="173261" y="546"/>
                </a:lnTo>
                <a:lnTo>
                  <a:pt x="183684" y="224"/>
                </a:lnTo>
                <a:lnTo>
                  <a:pt x="207010" y="0"/>
                </a:lnTo>
                <a:lnTo>
                  <a:pt x="216146" y="2521"/>
                </a:lnTo>
                <a:lnTo>
                  <a:pt x="225605" y="5864"/>
                </a:lnTo>
                <a:lnTo>
                  <a:pt x="232984" y="7350"/>
                </a:lnTo>
                <a:lnTo>
                  <a:pt x="239438" y="10550"/>
                </a:lnTo>
                <a:lnTo>
                  <a:pt x="248427" y="17707"/>
                </a:lnTo>
                <a:lnTo>
                  <a:pt x="251343" y="20366"/>
                </a:lnTo>
                <a:lnTo>
                  <a:pt x="253286" y="23090"/>
                </a:lnTo>
                <a:lnTo>
                  <a:pt x="255447" y="28659"/>
                </a:lnTo>
                <a:lnTo>
                  <a:pt x="256663" y="37148"/>
                </a:lnTo>
                <a:lnTo>
                  <a:pt x="257023" y="50247"/>
                </a:lnTo>
                <a:lnTo>
                  <a:pt x="257130" y="61642"/>
                </a:lnTo>
                <a:lnTo>
                  <a:pt x="254614" y="70557"/>
                </a:lnTo>
                <a:lnTo>
                  <a:pt x="250322" y="80870"/>
                </a:lnTo>
                <a:lnTo>
                  <a:pt x="245239" y="91803"/>
                </a:lnTo>
                <a:lnTo>
                  <a:pt x="237265" y="103013"/>
                </a:lnTo>
                <a:lnTo>
                  <a:pt x="227371" y="113392"/>
                </a:lnTo>
                <a:lnTo>
                  <a:pt x="222066" y="117493"/>
                </a:lnTo>
                <a:lnTo>
                  <a:pt x="216623" y="121180"/>
                </a:lnTo>
                <a:lnTo>
                  <a:pt x="208037" y="130356"/>
                </a:lnTo>
                <a:lnTo>
                  <a:pt x="204414" y="135470"/>
                </a:lnTo>
                <a:lnTo>
                  <a:pt x="195308" y="143693"/>
                </a:lnTo>
                <a:lnTo>
                  <a:pt x="185863" y="150522"/>
                </a:lnTo>
                <a:lnTo>
                  <a:pt x="178491" y="156732"/>
                </a:lnTo>
                <a:lnTo>
                  <a:pt x="168985" y="165583"/>
                </a:lnTo>
                <a:lnTo>
                  <a:pt x="165044" y="167528"/>
                </a:lnTo>
                <a:lnTo>
                  <a:pt x="155585" y="169687"/>
                </a:lnTo>
                <a:lnTo>
                  <a:pt x="147571" y="173188"/>
                </a:lnTo>
                <a:lnTo>
                  <a:pt x="140834" y="176965"/>
                </a:lnTo>
                <a:lnTo>
                  <a:pt x="131288" y="179391"/>
                </a:lnTo>
                <a:lnTo>
                  <a:pt x="128634" y="179978"/>
                </a:lnTo>
                <a:lnTo>
                  <a:pt x="128591" y="172606"/>
                </a:lnTo>
                <a:lnTo>
                  <a:pt x="133669" y="171945"/>
                </a:lnTo>
                <a:lnTo>
                  <a:pt x="137690" y="171768"/>
                </a:lnTo>
                <a:lnTo>
                  <a:pt x="141323" y="170698"/>
                </a:lnTo>
                <a:lnTo>
                  <a:pt x="147900" y="166969"/>
                </a:lnTo>
                <a:lnTo>
                  <a:pt x="156538" y="162137"/>
                </a:lnTo>
                <a:lnTo>
                  <a:pt x="165775" y="157767"/>
                </a:lnTo>
                <a:lnTo>
                  <a:pt x="173055" y="155825"/>
                </a:lnTo>
                <a:lnTo>
                  <a:pt x="178235" y="154354"/>
                </a:lnTo>
                <a:lnTo>
                  <a:pt x="191610" y="150181"/>
                </a:lnTo>
                <a:lnTo>
                  <a:pt x="198225" y="148686"/>
                </a:lnTo>
                <a:lnTo>
                  <a:pt x="204540" y="147691"/>
                </a:lnTo>
                <a:lnTo>
                  <a:pt x="210654" y="147026"/>
                </a:lnTo>
                <a:lnTo>
                  <a:pt x="216637" y="147536"/>
                </a:lnTo>
                <a:lnTo>
                  <a:pt x="222529" y="148828"/>
                </a:lnTo>
                <a:lnTo>
                  <a:pt x="228363" y="150643"/>
                </a:lnTo>
                <a:lnTo>
                  <a:pt x="234157" y="151852"/>
                </a:lnTo>
                <a:lnTo>
                  <a:pt x="239924" y="152658"/>
                </a:lnTo>
                <a:lnTo>
                  <a:pt x="245674" y="153196"/>
                </a:lnTo>
                <a:lnTo>
                  <a:pt x="251413" y="154507"/>
                </a:lnTo>
                <a:lnTo>
                  <a:pt x="257143" y="156333"/>
                </a:lnTo>
                <a:lnTo>
                  <a:pt x="262869" y="158503"/>
                </a:lnTo>
                <a:lnTo>
                  <a:pt x="268591" y="160902"/>
                </a:lnTo>
                <a:lnTo>
                  <a:pt x="274311" y="163454"/>
                </a:lnTo>
                <a:lnTo>
                  <a:pt x="285746" y="168830"/>
                </a:lnTo>
                <a:lnTo>
                  <a:pt x="297177" y="174394"/>
                </a:lnTo>
                <a:lnTo>
                  <a:pt x="301941" y="178163"/>
                </a:lnTo>
                <a:lnTo>
                  <a:pt x="309773" y="187433"/>
                </a:lnTo>
                <a:lnTo>
                  <a:pt x="316429" y="197902"/>
                </a:lnTo>
                <a:lnTo>
                  <a:pt x="322562" y="208905"/>
                </a:lnTo>
                <a:lnTo>
                  <a:pt x="328463" y="220145"/>
                </a:lnTo>
                <a:lnTo>
                  <a:pt x="331721" y="231490"/>
                </a:lnTo>
                <a:lnTo>
                  <a:pt x="333169" y="243835"/>
                </a:lnTo>
                <a:lnTo>
                  <a:pt x="333555" y="251128"/>
                </a:lnTo>
                <a:lnTo>
                  <a:pt x="333812" y="258847"/>
                </a:lnTo>
                <a:lnTo>
                  <a:pt x="333031" y="266851"/>
                </a:lnTo>
                <a:lnTo>
                  <a:pt x="331558" y="275044"/>
                </a:lnTo>
                <a:lnTo>
                  <a:pt x="329624" y="283364"/>
                </a:lnTo>
                <a:lnTo>
                  <a:pt x="327382" y="291767"/>
                </a:lnTo>
                <a:lnTo>
                  <a:pt x="322350" y="308725"/>
                </a:lnTo>
                <a:lnTo>
                  <a:pt x="318722" y="316295"/>
                </a:lnTo>
                <a:lnTo>
                  <a:pt x="314399" y="323247"/>
                </a:lnTo>
                <a:lnTo>
                  <a:pt x="305468" y="336051"/>
                </a:lnTo>
                <a:lnTo>
                  <a:pt x="298323" y="348092"/>
                </a:lnTo>
                <a:lnTo>
                  <a:pt x="291973" y="359793"/>
                </a:lnTo>
                <a:lnTo>
                  <a:pt x="285023" y="371344"/>
                </a:lnTo>
                <a:lnTo>
                  <a:pt x="275584" y="382828"/>
                </a:lnTo>
                <a:lnTo>
                  <a:pt x="270400" y="387605"/>
                </a:lnTo>
                <a:lnTo>
                  <a:pt x="265039" y="391742"/>
                </a:lnTo>
                <a:lnTo>
                  <a:pt x="254955" y="397926"/>
                </a:lnTo>
                <a:lnTo>
                  <a:pt x="247298" y="400675"/>
                </a:lnTo>
                <a:lnTo>
                  <a:pt x="238180" y="401896"/>
                </a:lnTo>
                <a:lnTo>
                  <a:pt x="233082" y="402222"/>
                </a:lnTo>
                <a:lnTo>
                  <a:pt x="227778" y="403392"/>
                </a:lnTo>
                <a:lnTo>
                  <a:pt x="222337" y="405124"/>
                </a:lnTo>
                <a:lnTo>
                  <a:pt x="216804" y="407231"/>
                </a:lnTo>
                <a:lnTo>
                  <a:pt x="211211" y="408636"/>
                </a:lnTo>
                <a:lnTo>
                  <a:pt x="205577" y="409573"/>
                </a:lnTo>
                <a:lnTo>
                  <a:pt x="199916" y="410197"/>
                </a:lnTo>
                <a:lnTo>
                  <a:pt x="194238" y="410613"/>
                </a:lnTo>
                <a:lnTo>
                  <a:pt x="188547" y="410891"/>
                </a:lnTo>
                <a:lnTo>
                  <a:pt x="177143" y="411199"/>
                </a:lnTo>
                <a:lnTo>
                  <a:pt x="114300" y="411443"/>
                </a:lnTo>
                <a:lnTo>
                  <a:pt x="70246" y="411446"/>
                </a:lnTo>
                <a:lnTo>
                  <a:pt x="65880" y="412398"/>
                </a:lnTo>
                <a:lnTo>
                  <a:pt x="55186" y="417337"/>
                </a:lnTo>
                <a:lnTo>
                  <a:pt x="48974" y="418827"/>
                </a:lnTo>
                <a:lnTo>
                  <a:pt x="40499" y="419489"/>
                </a:lnTo>
                <a:lnTo>
                  <a:pt x="31334" y="419783"/>
                </a:lnTo>
                <a:lnTo>
                  <a:pt x="17690" y="419972"/>
                </a:lnTo>
                <a:lnTo>
                  <a:pt x="0" y="4200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ing the square root [proper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k, square root both sid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14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8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MARTPenAnnotation773"/>
          <p:cNvSpPr/>
          <p:nvPr/>
        </p:nvSpPr>
        <p:spPr>
          <a:xfrm>
            <a:off x="3071880" y="2392200"/>
            <a:ext cx="239760" cy="247680"/>
          </a:xfrm>
          <a:custGeom>
            <a:avLst/>
            <a:gdLst>
              <a:gd name="textAreaLeft" fmla="*/ 0 w 239760"/>
              <a:gd name="textAreaRight" fmla="*/ 240120 w 2397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39636" h="248604">
                <a:moveTo>
                  <a:pt x="8220" y="0"/>
                </a:moveTo>
                <a:lnTo>
                  <a:pt x="839" y="0"/>
                </a:lnTo>
                <a:lnTo>
                  <a:pt x="442" y="953"/>
                </a:lnTo>
                <a:lnTo>
                  <a:pt x="0" y="4551"/>
                </a:lnTo>
                <a:lnTo>
                  <a:pt x="835" y="5891"/>
                </a:lnTo>
                <a:lnTo>
                  <a:pt x="2344" y="6785"/>
                </a:lnTo>
                <a:lnTo>
                  <a:pt x="7059" y="8220"/>
                </a:lnTo>
                <a:lnTo>
                  <a:pt x="7446" y="9290"/>
                </a:lnTo>
                <a:lnTo>
                  <a:pt x="7990" y="15347"/>
                </a:lnTo>
                <a:lnTo>
                  <a:pt x="8117" y="20473"/>
                </a:lnTo>
                <a:lnTo>
                  <a:pt x="9104" y="22221"/>
                </a:lnTo>
                <a:lnTo>
                  <a:pt x="10714" y="23387"/>
                </a:lnTo>
                <a:lnTo>
                  <a:pt x="12740" y="24164"/>
                </a:lnTo>
                <a:lnTo>
                  <a:pt x="14091" y="25634"/>
                </a:lnTo>
                <a:lnTo>
                  <a:pt x="14991" y="27567"/>
                </a:lnTo>
                <a:lnTo>
                  <a:pt x="15591" y="29808"/>
                </a:lnTo>
                <a:lnTo>
                  <a:pt x="18799" y="34838"/>
                </a:lnTo>
                <a:lnTo>
                  <a:pt x="23399" y="40249"/>
                </a:lnTo>
                <a:lnTo>
                  <a:pt x="28618" y="45828"/>
                </a:lnTo>
                <a:lnTo>
                  <a:pt x="36912" y="54325"/>
                </a:lnTo>
                <a:lnTo>
                  <a:pt x="38778" y="57171"/>
                </a:lnTo>
                <a:lnTo>
                  <a:pt x="40851" y="62875"/>
                </a:lnTo>
                <a:lnTo>
                  <a:pt x="44312" y="68584"/>
                </a:lnTo>
                <a:lnTo>
                  <a:pt x="49026" y="74297"/>
                </a:lnTo>
                <a:lnTo>
                  <a:pt x="54296" y="80011"/>
                </a:lnTo>
                <a:lnTo>
                  <a:pt x="78497" y="104536"/>
                </a:lnTo>
                <a:lnTo>
                  <a:pt x="96700" y="122768"/>
                </a:lnTo>
                <a:lnTo>
                  <a:pt x="99591" y="126613"/>
                </a:lnTo>
                <a:lnTo>
                  <a:pt x="102472" y="131081"/>
                </a:lnTo>
                <a:lnTo>
                  <a:pt x="105344" y="135965"/>
                </a:lnTo>
                <a:lnTo>
                  <a:pt x="109165" y="140173"/>
                </a:lnTo>
                <a:lnTo>
                  <a:pt x="113616" y="143931"/>
                </a:lnTo>
                <a:lnTo>
                  <a:pt x="118489" y="147389"/>
                </a:lnTo>
                <a:lnTo>
                  <a:pt x="122690" y="150647"/>
                </a:lnTo>
                <a:lnTo>
                  <a:pt x="129898" y="156807"/>
                </a:lnTo>
                <a:lnTo>
                  <a:pt x="133154" y="160735"/>
                </a:lnTo>
                <a:lnTo>
                  <a:pt x="136276" y="165259"/>
                </a:lnTo>
                <a:lnTo>
                  <a:pt x="139311" y="170180"/>
                </a:lnTo>
                <a:lnTo>
                  <a:pt x="143239" y="174414"/>
                </a:lnTo>
                <a:lnTo>
                  <a:pt x="147762" y="178188"/>
                </a:lnTo>
                <a:lnTo>
                  <a:pt x="152683" y="181657"/>
                </a:lnTo>
                <a:lnTo>
                  <a:pt x="156916" y="184922"/>
                </a:lnTo>
                <a:lnTo>
                  <a:pt x="164159" y="191090"/>
                </a:lnTo>
                <a:lnTo>
                  <a:pt x="170554" y="197007"/>
                </a:lnTo>
                <a:lnTo>
                  <a:pt x="179509" y="205692"/>
                </a:lnTo>
                <a:lnTo>
                  <a:pt x="191068" y="217161"/>
                </a:lnTo>
                <a:lnTo>
                  <a:pt x="193936" y="219069"/>
                </a:lnTo>
                <a:lnTo>
                  <a:pt x="199663" y="221189"/>
                </a:lnTo>
                <a:lnTo>
                  <a:pt x="205383" y="224671"/>
                </a:lnTo>
                <a:lnTo>
                  <a:pt x="211100" y="229394"/>
                </a:lnTo>
                <a:lnTo>
                  <a:pt x="216816" y="234668"/>
                </a:lnTo>
                <a:lnTo>
                  <a:pt x="222355" y="239923"/>
                </a:lnTo>
                <a:lnTo>
                  <a:pt x="226581" y="244110"/>
                </a:lnTo>
                <a:lnTo>
                  <a:pt x="229042" y="245608"/>
                </a:lnTo>
                <a:lnTo>
                  <a:pt x="236103" y="247715"/>
                </a:lnTo>
                <a:lnTo>
                  <a:pt x="239635" y="248592"/>
                </a:lnTo>
                <a:lnTo>
                  <a:pt x="231105" y="2486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MARTPenAnnotation774"/>
          <p:cNvSpPr/>
          <p:nvPr/>
        </p:nvSpPr>
        <p:spPr>
          <a:xfrm>
            <a:off x="3036960" y="2392200"/>
            <a:ext cx="274680" cy="230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274321" h="231428">
                <a:moveTo>
                  <a:pt x="274320" y="8542"/>
                </a:moveTo>
                <a:lnTo>
                  <a:pt x="274320" y="74"/>
                </a:lnTo>
                <a:lnTo>
                  <a:pt x="269769" y="0"/>
                </a:lnTo>
                <a:lnTo>
                  <a:pt x="268429" y="942"/>
                </a:lnTo>
                <a:lnTo>
                  <a:pt x="267535" y="2523"/>
                </a:lnTo>
                <a:lnTo>
                  <a:pt x="266939" y="4529"/>
                </a:lnTo>
                <a:lnTo>
                  <a:pt x="265589" y="5866"/>
                </a:lnTo>
                <a:lnTo>
                  <a:pt x="263737" y="6758"/>
                </a:lnTo>
                <a:lnTo>
                  <a:pt x="261550" y="7352"/>
                </a:lnTo>
                <a:lnTo>
                  <a:pt x="260091" y="8701"/>
                </a:lnTo>
                <a:lnTo>
                  <a:pt x="259119" y="10553"/>
                </a:lnTo>
                <a:lnTo>
                  <a:pt x="258471" y="12740"/>
                </a:lnTo>
                <a:lnTo>
                  <a:pt x="257087" y="14198"/>
                </a:lnTo>
                <a:lnTo>
                  <a:pt x="255211" y="15170"/>
                </a:lnTo>
                <a:lnTo>
                  <a:pt x="253008" y="15818"/>
                </a:lnTo>
                <a:lnTo>
                  <a:pt x="251540" y="17202"/>
                </a:lnTo>
                <a:lnTo>
                  <a:pt x="250561" y="19078"/>
                </a:lnTo>
                <a:lnTo>
                  <a:pt x="249908" y="21281"/>
                </a:lnTo>
                <a:lnTo>
                  <a:pt x="247568" y="23702"/>
                </a:lnTo>
                <a:lnTo>
                  <a:pt x="239888" y="28932"/>
                </a:lnTo>
                <a:lnTo>
                  <a:pt x="236125" y="32613"/>
                </a:lnTo>
                <a:lnTo>
                  <a:pt x="232664" y="36971"/>
                </a:lnTo>
                <a:lnTo>
                  <a:pt x="229404" y="41782"/>
                </a:lnTo>
                <a:lnTo>
                  <a:pt x="225326" y="45942"/>
                </a:lnTo>
                <a:lnTo>
                  <a:pt x="220703" y="49668"/>
                </a:lnTo>
                <a:lnTo>
                  <a:pt x="215715" y="53104"/>
                </a:lnTo>
                <a:lnTo>
                  <a:pt x="211438" y="57300"/>
                </a:lnTo>
                <a:lnTo>
                  <a:pt x="207633" y="62002"/>
                </a:lnTo>
                <a:lnTo>
                  <a:pt x="204145" y="67042"/>
                </a:lnTo>
                <a:lnTo>
                  <a:pt x="200866" y="72307"/>
                </a:lnTo>
                <a:lnTo>
                  <a:pt x="197729" y="77722"/>
                </a:lnTo>
                <a:lnTo>
                  <a:pt x="194684" y="83237"/>
                </a:lnTo>
                <a:lnTo>
                  <a:pt x="189797" y="87866"/>
                </a:lnTo>
                <a:lnTo>
                  <a:pt x="183681" y="91904"/>
                </a:lnTo>
                <a:lnTo>
                  <a:pt x="176747" y="95549"/>
                </a:lnTo>
                <a:lnTo>
                  <a:pt x="170219" y="99884"/>
                </a:lnTo>
                <a:lnTo>
                  <a:pt x="163962" y="104679"/>
                </a:lnTo>
                <a:lnTo>
                  <a:pt x="157885" y="109781"/>
                </a:lnTo>
                <a:lnTo>
                  <a:pt x="151929" y="115087"/>
                </a:lnTo>
                <a:lnTo>
                  <a:pt x="140232" y="126063"/>
                </a:lnTo>
                <a:lnTo>
                  <a:pt x="134445" y="130704"/>
                </a:lnTo>
                <a:lnTo>
                  <a:pt x="128683" y="134751"/>
                </a:lnTo>
                <a:lnTo>
                  <a:pt x="122936" y="138401"/>
                </a:lnTo>
                <a:lnTo>
                  <a:pt x="118152" y="142740"/>
                </a:lnTo>
                <a:lnTo>
                  <a:pt x="114011" y="147537"/>
                </a:lnTo>
                <a:lnTo>
                  <a:pt x="110297" y="152640"/>
                </a:lnTo>
                <a:lnTo>
                  <a:pt x="105916" y="156995"/>
                </a:lnTo>
                <a:lnTo>
                  <a:pt x="101091" y="160850"/>
                </a:lnTo>
                <a:lnTo>
                  <a:pt x="95969" y="164373"/>
                </a:lnTo>
                <a:lnTo>
                  <a:pt x="90649" y="168627"/>
                </a:lnTo>
                <a:lnTo>
                  <a:pt x="85198" y="173367"/>
                </a:lnTo>
                <a:lnTo>
                  <a:pt x="75013" y="182762"/>
                </a:lnTo>
                <a:lnTo>
                  <a:pt x="67312" y="190113"/>
                </a:lnTo>
                <a:lnTo>
                  <a:pt x="62972" y="193407"/>
                </a:lnTo>
                <a:lnTo>
                  <a:pt x="58174" y="196555"/>
                </a:lnTo>
                <a:lnTo>
                  <a:pt x="53070" y="199606"/>
                </a:lnTo>
                <a:lnTo>
                  <a:pt x="44859" y="205537"/>
                </a:lnTo>
                <a:lnTo>
                  <a:pt x="38035" y="211348"/>
                </a:lnTo>
                <a:lnTo>
                  <a:pt x="31827" y="217105"/>
                </a:lnTo>
                <a:lnTo>
                  <a:pt x="27885" y="219021"/>
                </a:lnTo>
                <a:lnTo>
                  <a:pt x="23353" y="220299"/>
                </a:lnTo>
                <a:lnTo>
                  <a:pt x="18426" y="221151"/>
                </a:lnTo>
                <a:lnTo>
                  <a:pt x="15142" y="222671"/>
                </a:lnTo>
                <a:lnTo>
                  <a:pt x="12952" y="224637"/>
                </a:lnTo>
                <a:lnTo>
                  <a:pt x="11492" y="226900"/>
                </a:lnTo>
                <a:lnTo>
                  <a:pt x="9566" y="228409"/>
                </a:lnTo>
                <a:lnTo>
                  <a:pt x="7330" y="229415"/>
                </a:lnTo>
                <a:lnTo>
                  <a:pt x="0" y="2314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MARTPenAnnotation775"/>
          <p:cNvSpPr/>
          <p:nvPr/>
        </p:nvSpPr>
        <p:spPr>
          <a:xfrm>
            <a:off x="3457440" y="2486160"/>
            <a:ext cx="265320" cy="7920"/>
          </a:xfrm>
          <a:custGeom>
            <a:avLst/>
            <a:gdLst>
              <a:gd name="textAreaLeft" fmla="*/ 0 w 265320"/>
              <a:gd name="textAreaRight" fmla="*/ 265680 w 2653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65748" h="8573">
                <a:moveTo>
                  <a:pt x="0" y="0"/>
                </a:moveTo>
                <a:lnTo>
                  <a:pt x="251071" y="0"/>
                </a:lnTo>
                <a:lnTo>
                  <a:pt x="253106" y="952"/>
                </a:lnTo>
                <a:lnTo>
                  <a:pt x="254462" y="2539"/>
                </a:lnTo>
                <a:lnTo>
                  <a:pt x="256638" y="7380"/>
                </a:lnTo>
                <a:lnTo>
                  <a:pt x="257770" y="7778"/>
                </a:lnTo>
                <a:lnTo>
                  <a:pt x="259477" y="8043"/>
                </a:lnTo>
                <a:lnTo>
                  <a:pt x="265747" y="85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MARTPenAnnotation776"/>
          <p:cNvSpPr/>
          <p:nvPr/>
        </p:nvSpPr>
        <p:spPr>
          <a:xfrm>
            <a:off x="3475080" y="2563920"/>
            <a:ext cx="282600" cy="15840"/>
          </a:xfrm>
          <a:custGeom>
            <a:avLst/>
            <a:gdLst>
              <a:gd name="textAreaLeft" fmla="*/ 0 w 282600"/>
              <a:gd name="textAreaRight" fmla="*/ 282960 w 282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82893" h="17146">
                <a:moveTo>
                  <a:pt x="0" y="0"/>
                </a:moveTo>
                <a:lnTo>
                  <a:pt x="28692" y="0"/>
                </a:lnTo>
                <a:lnTo>
                  <a:pt x="32463" y="953"/>
                </a:lnTo>
                <a:lnTo>
                  <a:pt x="36882" y="2540"/>
                </a:lnTo>
                <a:lnTo>
                  <a:pt x="41733" y="4551"/>
                </a:lnTo>
                <a:lnTo>
                  <a:pt x="46872" y="5891"/>
                </a:lnTo>
                <a:lnTo>
                  <a:pt x="52203" y="6785"/>
                </a:lnTo>
                <a:lnTo>
                  <a:pt x="57662" y="7381"/>
                </a:lnTo>
                <a:lnTo>
                  <a:pt x="62254" y="7778"/>
                </a:lnTo>
                <a:lnTo>
                  <a:pt x="69895" y="8220"/>
                </a:lnTo>
                <a:lnTo>
                  <a:pt x="79007" y="8416"/>
                </a:lnTo>
                <a:lnTo>
                  <a:pt x="84103" y="8468"/>
                </a:lnTo>
                <a:lnTo>
                  <a:pt x="89407" y="9455"/>
                </a:lnTo>
                <a:lnTo>
                  <a:pt x="94847" y="11066"/>
                </a:lnTo>
                <a:lnTo>
                  <a:pt x="100378" y="13092"/>
                </a:lnTo>
                <a:lnTo>
                  <a:pt x="105019" y="14443"/>
                </a:lnTo>
                <a:lnTo>
                  <a:pt x="109065" y="15344"/>
                </a:lnTo>
                <a:lnTo>
                  <a:pt x="112715" y="15944"/>
                </a:lnTo>
                <a:lnTo>
                  <a:pt x="118005" y="16345"/>
                </a:lnTo>
                <a:lnTo>
                  <a:pt x="124390" y="16611"/>
                </a:lnTo>
                <a:lnTo>
                  <a:pt x="146067" y="17040"/>
                </a:lnTo>
                <a:lnTo>
                  <a:pt x="150718" y="16122"/>
                </a:lnTo>
                <a:lnTo>
                  <a:pt x="155723" y="14558"/>
                </a:lnTo>
                <a:lnTo>
                  <a:pt x="160966" y="12563"/>
                </a:lnTo>
                <a:lnTo>
                  <a:pt x="166365" y="11233"/>
                </a:lnTo>
                <a:lnTo>
                  <a:pt x="171870" y="10346"/>
                </a:lnTo>
                <a:lnTo>
                  <a:pt x="177445" y="9755"/>
                </a:lnTo>
                <a:lnTo>
                  <a:pt x="183067" y="9361"/>
                </a:lnTo>
                <a:lnTo>
                  <a:pt x="188719" y="9098"/>
                </a:lnTo>
                <a:lnTo>
                  <a:pt x="200080" y="8806"/>
                </a:lnTo>
                <a:lnTo>
                  <a:pt x="268560" y="8573"/>
                </a:lnTo>
                <a:lnTo>
                  <a:pt x="271433" y="9525"/>
                </a:lnTo>
                <a:lnTo>
                  <a:pt x="274300" y="11113"/>
                </a:lnTo>
                <a:lnTo>
                  <a:pt x="282892" y="17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MARTPenAnnotation777"/>
          <p:cNvSpPr/>
          <p:nvPr/>
        </p:nvSpPr>
        <p:spPr>
          <a:xfrm>
            <a:off x="3997440" y="2425680"/>
            <a:ext cx="376200" cy="17640"/>
          </a:xfrm>
          <a:custGeom>
            <a:avLst/>
            <a:gdLst>
              <a:gd name="textAreaLeft" fmla="*/ 0 w 376200"/>
              <a:gd name="textAreaRight" fmla="*/ 376560 w 3762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75847" h="17146">
                <a:moveTo>
                  <a:pt x="0" y="17145"/>
                </a:moveTo>
                <a:lnTo>
                  <a:pt x="0" y="12594"/>
                </a:lnTo>
                <a:lnTo>
                  <a:pt x="953" y="11253"/>
                </a:lnTo>
                <a:lnTo>
                  <a:pt x="2540" y="10360"/>
                </a:lnTo>
                <a:lnTo>
                  <a:pt x="7381" y="8926"/>
                </a:lnTo>
                <a:lnTo>
                  <a:pt x="8730" y="7855"/>
                </a:lnTo>
                <a:lnTo>
                  <a:pt x="10583" y="6189"/>
                </a:lnTo>
                <a:lnTo>
                  <a:pt x="15849" y="1223"/>
                </a:lnTo>
                <a:lnTo>
                  <a:pt x="17233" y="815"/>
                </a:lnTo>
                <a:lnTo>
                  <a:pt x="21312" y="362"/>
                </a:lnTo>
                <a:lnTo>
                  <a:pt x="30217" y="48"/>
                </a:lnTo>
                <a:lnTo>
                  <a:pt x="108696" y="0"/>
                </a:lnTo>
                <a:lnTo>
                  <a:pt x="114374" y="953"/>
                </a:lnTo>
                <a:lnTo>
                  <a:pt x="120065" y="2540"/>
                </a:lnTo>
                <a:lnTo>
                  <a:pt x="125763" y="4551"/>
                </a:lnTo>
                <a:lnTo>
                  <a:pt x="131467" y="5892"/>
                </a:lnTo>
                <a:lnTo>
                  <a:pt x="137174" y="6785"/>
                </a:lnTo>
                <a:lnTo>
                  <a:pt x="142885" y="7381"/>
                </a:lnTo>
                <a:lnTo>
                  <a:pt x="148597" y="7778"/>
                </a:lnTo>
                <a:lnTo>
                  <a:pt x="160023" y="8220"/>
                </a:lnTo>
                <a:lnTo>
                  <a:pt x="195381" y="8526"/>
                </a:lnTo>
                <a:lnTo>
                  <a:pt x="279673" y="8572"/>
                </a:lnTo>
                <a:lnTo>
                  <a:pt x="286461" y="9525"/>
                </a:lnTo>
                <a:lnTo>
                  <a:pt x="293844" y="11113"/>
                </a:lnTo>
                <a:lnTo>
                  <a:pt x="301623" y="13123"/>
                </a:lnTo>
                <a:lnTo>
                  <a:pt x="307763" y="14464"/>
                </a:lnTo>
                <a:lnTo>
                  <a:pt x="312807" y="15358"/>
                </a:lnTo>
                <a:lnTo>
                  <a:pt x="317123" y="15953"/>
                </a:lnTo>
                <a:lnTo>
                  <a:pt x="321905" y="16351"/>
                </a:lnTo>
                <a:lnTo>
                  <a:pt x="332299" y="16792"/>
                </a:lnTo>
                <a:lnTo>
                  <a:pt x="344310" y="17040"/>
                </a:lnTo>
                <a:lnTo>
                  <a:pt x="375846" y="17145"/>
                </a:lnTo>
                <a:lnTo>
                  <a:pt x="368617" y="17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MARTPenAnnotation778"/>
          <p:cNvSpPr/>
          <p:nvPr/>
        </p:nvSpPr>
        <p:spPr>
          <a:xfrm>
            <a:off x="4194000" y="2340000"/>
            <a:ext cx="95400" cy="231840"/>
          </a:xfrm>
          <a:custGeom>
            <a:avLst/>
            <a:gdLst>
              <a:gd name="textAreaLeft" fmla="*/ 0 w 95400"/>
              <a:gd name="textAreaRight" fmla="*/ 95760 w 954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94299" h="231450">
                <a:moveTo>
                  <a:pt x="0" y="8563"/>
                </a:moveTo>
                <a:lnTo>
                  <a:pt x="0" y="22"/>
                </a:lnTo>
                <a:lnTo>
                  <a:pt x="4552" y="0"/>
                </a:lnTo>
                <a:lnTo>
                  <a:pt x="5892" y="950"/>
                </a:lnTo>
                <a:lnTo>
                  <a:pt x="6786" y="2535"/>
                </a:lnTo>
                <a:lnTo>
                  <a:pt x="7382" y="4545"/>
                </a:lnTo>
                <a:lnTo>
                  <a:pt x="8731" y="5884"/>
                </a:lnTo>
                <a:lnTo>
                  <a:pt x="10584" y="6777"/>
                </a:lnTo>
                <a:lnTo>
                  <a:pt x="12771" y="7373"/>
                </a:lnTo>
                <a:lnTo>
                  <a:pt x="15182" y="8722"/>
                </a:lnTo>
                <a:lnTo>
                  <a:pt x="17742" y="10574"/>
                </a:lnTo>
                <a:lnTo>
                  <a:pt x="20400" y="12762"/>
                </a:lnTo>
                <a:lnTo>
                  <a:pt x="22173" y="15172"/>
                </a:lnTo>
                <a:lnTo>
                  <a:pt x="24143" y="20391"/>
                </a:lnTo>
                <a:lnTo>
                  <a:pt x="24667" y="24068"/>
                </a:lnTo>
                <a:lnTo>
                  <a:pt x="25018" y="28425"/>
                </a:lnTo>
                <a:lnTo>
                  <a:pt x="25251" y="33235"/>
                </a:lnTo>
                <a:lnTo>
                  <a:pt x="26360" y="37393"/>
                </a:lnTo>
                <a:lnTo>
                  <a:pt x="28051" y="41118"/>
                </a:lnTo>
                <a:lnTo>
                  <a:pt x="30130" y="44554"/>
                </a:lnTo>
                <a:lnTo>
                  <a:pt x="31517" y="48750"/>
                </a:lnTo>
                <a:lnTo>
                  <a:pt x="32441" y="53452"/>
                </a:lnTo>
                <a:lnTo>
                  <a:pt x="33058" y="58492"/>
                </a:lnTo>
                <a:lnTo>
                  <a:pt x="34421" y="62804"/>
                </a:lnTo>
                <a:lnTo>
                  <a:pt x="36283" y="66631"/>
                </a:lnTo>
                <a:lnTo>
                  <a:pt x="38476" y="70135"/>
                </a:lnTo>
                <a:lnTo>
                  <a:pt x="39939" y="74376"/>
                </a:lnTo>
                <a:lnTo>
                  <a:pt x="40913" y="79109"/>
                </a:lnTo>
                <a:lnTo>
                  <a:pt x="41563" y="84169"/>
                </a:lnTo>
                <a:lnTo>
                  <a:pt x="41997" y="89447"/>
                </a:lnTo>
                <a:lnTo>
                  <a:pt x="42285" y="94871"/>
                </a:lnTo>
                <a:lnTo>
                  <a:pt x="42478" y="100392"/>
                </a:lnTo>
                <a:lnTo>
                  <a:pt x="43559" y="105025"/>
                </a:lnTo>
                <a:lnTo>
                  <a:pt x="45232" y="109066"/>
                </a:lnTo>
                <a:lnTo>
                  <a:pt x="47299" y="112713"/>
                </a:lnTo>
                <a:lnTo>
                  <a:pt x="48678" y="117049"/>
                </a:lnTo>
                <a:lnTo>
                  <a:pt x="49597" y="121845"/>
                </a:lnTo>
                <a:lnTo>
                  <a:pt x="50210" y="126947"/>
                </a:lnTo>
                <a:lnTo>
                  <a:pt x="50619" y="131301"/>
                </a:lnTo>
                <a:lnTo>
                  <a:pt x="50891" y="135156"/>
                </a:lnTo>
                <a:lnTo>
                  <a:pt x="51072" y="138678"/>
                </a:lnTo>
                <a:lnTo>
                  <a:pt x="52146" y="142932"/>
                </a:lnTo>
                <a:lnTo>
                  <a:pt x="53814" y="147672"/>
                </a:lnTo>
                <a:lnTo>
                  <a:pt x="55879" y="152738"/>
                </a:lnTo>
                <a:lnTo>
                  <a:pt x="58208" y="157067"/>
                </a:lnTo>
                <a:lnTo>
                  <a:pt x="60713" y="160906"/>
                </a:lnTo>
                <a:lnTo>
                  <a:pt x="63335" y="164418"/>
                </a:lnTo>
                <a:lnTo>
                  <a:pt x="66249" y="170860"/>
                </a:lnTo>
                <a:lnTo>
                  <a:pt x="67026" y="173911"/>
                </a:lnTo>
                <a:lnTo>
                  <a:pt x="68497" y="176898"/>
                </a:lnTo>
                <a:lnTo>
                  <a:pt x="70430" y="179841"/>
                </a:lnTo>
                <a:lnTo>
                  <a:pt x="72671" y="182756"/>
                </a:lnTo>
                <a:lnTo>
                  <a:pt x="74165" y="186605"/>
                </a:lnTo>
                <a:lnTo>
                  <a:pt x="75161" y="191075"/>
                </a:lnTo>
                <a:lnTo>
                  <a:pt x="75825" y="195960"/>
                </a:lnTo>
                <a:lnTo>
                  <a:pt x="76268" y="200170"/>
                </a:lnTo>
                <a:lnTo>
                  <a:pt x="76760" y="207387"/>
                </a:lnTo>
                <a:lnTo>
                  <a:pt x="77843" y="209692"/>
                </a:lnTo>
                <a:lnTo>
                  <a:pt x="79518" y="211230"/>
                </a:lnTo>
                <a:lnTo>
                  <a:pt x="81587" y="212254"/>
                </a:lnTo>
                <a:lnTo>
                  <a:pt x="83919" y="213890"/>
                </a:lnTo>
                <a:lnTo>
                  <a:pt x="86426" y="215933"/>
                </a:lnTo>
                <a:lnTo>
                  <a:pt x="93837" y="222470"/>
                </a:lnTo>
                <a:lnTo>
                  <a:pt x="94093" y="225236"/>
                </a:lnTo>
                <a:lnTo>
                  <a:pt x="94298" y="2314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MARTPenAnnotation779"/>
          <p:cNvSpPr/>
          <p:nvPr/>
        </p:nvSpPr>
        <p:spPr>
          <a:xfrm>
            <a:off x="4065480" y="2598840"/>
            <a:ext cx="357120" cy="23760"/>
          </a:xfrm>
          <a:custGeom>
            <a:avLst/>
            <a:gdLst>
              <a:gd name="textAreaLeft" fmla="*/ 0 w 357120"/>
              <a:gd name="textAreaRight" fmla="*/ 357480 w 3571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56382" h="24518">
                <a:moveTo>
                  <a:pt x="0" y="24517"/>
                </a:moveTo>
                <a:lnTo>
                  <a:pt x="0" y="15953"/>
                </a:lnTo>
                <a:lnTo>
                  <a:pt x="41390" y="15944"/>
                </a:lnTo>
                <a:lnTo>
                  <a:pt x="46643" y="14992"/>
                </a:lnTo>
                <a:lnTo>
                  <a:pt x="52050" y="13404"/>
                </a:lnTo>
                <a:lnTo>
                  <a:pt x="57560" y="11393"/>
                </a:lnTo>
                <a:lnTo>
                  <a:pt x="64091" y="10053"/>
                </a:lnTo>
                <a:lnTo>
                  <a:pt x="71302" y="9159"/>
                </a:lnTo>
                <a:lnTo>
                  <a:pt x="78968" y="8563"/>
                </a:lnTo>
                <a:lnTo>
                  <a:pt x="85983" y="8166"/>
                </a:lnTo>
                <a:lnTo>
                  <a:pt x="98857" y="7725"/>
                </a:lnTo>
                <a:lnTo>
                  <a:pt x="121366" y="7476"/>
                </a:lnTo>
                <a:lnTo>
                  <a:pt x="129488" y="6489"/>
                </a:lnTo>
                <a:lnTo>
                  <a:pt x="137761" y="4878"/>
                </a:lnTo>
                <a:lnTo>
                  <a:pt x="146133" y="2852"/>
                </a:lnTo>
                <a:lnTo>
                  <a:pt x="153620" y="1501"/>
                </a:lnTo>
                <a:lnTo>
                  <a:pt x="160516" y="600"/>
                </a:lnTo>
                <a:lnTo>
                  <a:pt x="167018" y="0"/>
                </a:lnTo>
                <a:lnTo>
                  <a:pt x="174210" y="552"/>
                </a:lnTo>
                <a:lnTo>
                  <a:pt x="181863" y="1873"/>
                </a:lnTo>
                <a:lnTo>
                  <a:pt x="189822" y="3706"/>
                </a:lnTo>
                <a:lnTo>
                  <a:pt x="197033" y="4928"/>
                </a:lnTo>
                <a:lnTo>
                  <a:pt x="203746" y="5742"/>
                </a:lnTo>
                <a:lnTo>
                  <a:pt x="210125" y="6285"/>
                </a:lnTo>
                <a:lnTo>
                  <a:pt x="217236" y="6647"/>
                </a:lnTo>
                <a:lnTo>
                  <a:pt x="232757" y="7050"/>
                </a:lnTo>
                <a:lnTo>
                  <a:pt x="282720" y="7359"/>
                </a:lnTo>
                <a:lnTo>
                  <a:pt x="288493" y="7363"/>
                </a:lnTo>
                <a:lnTo>
                  <a:pt x="293294" y="8318"/>
                </a:lnTo>
                <a:lnTo>
                  <a:pt x="297446" y="9908"/>
                </a:lnTo>
                <a:lnTo>
                  <a:pt x="301168" y="11920"/>
                </a:lnTo>
                <a:lnTo>
                  <a:pt x="305553" y="13261"/>
                </a:lnTo>
                <a:lnTo>
                  <a:pt x="310382" y="14156"/>
                </a:lnTo>
                <a:lnTo>
                  <a:pt x="315507" y="14752"/>
                </a:lnTo>
                <a:lnTo>
                  <a:pt x="323740" y="15414"/>
                </a:lnTo>
                <a:lnTo>
                  <a:pt x="333731" y="15787"/>
                </a:lnTo>
                <a:lnTo>
                  <a:pt x="351321" y="15943"/>
                </a:lnTo>
                <a:lnTo>
                  <a:pt x="356381" y="15944"/>
                </a:lnTo>
                <a:lnTo>
                  <a:pt x="351473" y="159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MARTPenAnnotation780"/>
          <p:cNvSpPr/>
          <p:nvPr/>
        </p:nvSpPr>
        <p:spPr>
          <a:xfrm>
            <a:off x="4589640" y="2332080"/>
            <a:ext cx="60120" cy="282600"/>
          </a:xfrm>
          <a:custGeom>
            <a:avLst/>
            <a:gdLst>
              <a:gd name="textAreaLeft" fmla="*/ 0 w 60120"/>
              <a:gd name="textAreaRight" fmla="*/ 60480 w 6012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60008" h="282893">
                <a:moveTo>
                  <a:pt x="0" y="0"/>
                </a:moveTo>
                <a:lnTo>
                  <a:pt x="0" y="20399"/>
                </a:lnTo>
                <a:lnTo>
                  <a:pt x="952" y="23125"/>
                </a:lnTo>
                <a:lnTo>
                  <a:pt x="2540" y="25894"/>
                </a:lnTo>
                <a:lnTo>
                  <a:pt x="4550" y="28692"/>
                </a:lnTo>
                <a:lnTo>
                  <a:pt x="5891" y="31510"/>
                </a:lnTo>
                <a:lnTo>
                  <a:pt x="7381" y="37182"/>
                </a:lnTo>
                <a:lnTo>
                  <a:pt x="8219" y="45730"/>
                </a:lnTo>
                <a:lnTo>
                  <a:pt x="9289" y="49536"/>
                </a:lnTo>
                <a:lnTo>
                  <a:pt x="10955" y="53979"/>
                </a:lnTo>
                <a:lnTo>
                  <a:pt x="13018" y="58846"/>
                </a:lnTo>
                <a:lnTo>
                  <a:pt x="14394" y="63996"/>
                </a:lnTo>
                <a:lnTo>
                  <a:pt x="15311" y="69334"/>
                </a:lnTo>
                <a:lnTo>
                  <a:pt x="15922" y="74797"/>
                </a:lnTo>
                <a:lnTo>
                  <a:pt x="16601" y="83408"/>
                </a:lnTo>
                <a:lnTo>
                  <a:pt x="16782" y="87037"/>
                </a:lnTo>
                <a:lnTo>
                  <a:pt x="17855" y="91363"/>
                </a:lnTo>
                <a:lnTo>
                  <a:pt x="19524" y="96150"/>
                </a:lnTo>
                <a:lnTo>
                  <a:pt x="21588" y="101248"/>
                </a:lnTo>
                <a:lnTo>
                  <a:pt x="22964" y="106551"/>
                </a:lnTo>
                <a:lnTo>
                  <a:pt x="23882" y="111991"/>
                </a:lnTo>
                <a:lnTo>
                  <a:pt x="24494" y="117523"/>
                </a:lnTo>
                <a:lnTo>
                  <a:pt x="24901" y="123116"/>
                </a:lnTo>
                <a:lnTo>
                  <a:pt x="25173" y="128750"/>
                </a:lnTo>
                <a:lnTo>
                  <a:pt x="25475" y="140089"/>
                </a:lnTo>
                <a:lnTo>
                  <a:pt x="25610" y="151479"/>
                </a:lnTo>
                <a:lnTo>
                  <a:pt x="26598" y="157184"/>
                </a:lnTo>
                <a:lnTo>
                  <a:pt x="28209" y="162891"/>
                </a:lnTo>
                <a:lnTo>
                  <a:pt x="30236" y="168602"/>
                </a:lnTo>
                <a:lnTo>
                  <a:pt x="31587" y="174313"/>
                </a:lnTo>
                <a:lnTo>
                  <a:pt x="32488" y="180026"/>
                </a:lnTo>
                <a:lnTo>
                  <a:pt x="33089" y="185740"/>
                </a:lnTo>
                <a:lnTo>
                  <a:pt x="34441" y="191454"/>
                </a:lnTo>
                <a:lnTo>
                  <a:pt x="36296" y="197168"/>
                </a:lnTo>
                <a:lnTo>
                  <a:pt x="38485" y="202883"/>
                </a:lnTo>
                <a:lnTo>
                  <a:pt x="39944" y="207645"/>
                </a:lnTo>
                <a:lnTo>
                  <a:pt x="41565" y="215477"/>
                </a:lnTo>
                <a:lnTo>
                  <a:pt x="41998" y="219851"/>
                </a:lnTo>
                <a:lnTo>
                  <a:pt x="42285" y="224672"/>
                </a:lnTo>
                <a:lnTo>
                  <a:pt x="42606" y="234157"/>
                </a:lnTo>
                <a:lnTo>
                  <a:pt x="42749" y="241547"/>
                </a:lnTo>
                <a:lnTo>
                  <a:pt x="43739" y="244851"/>
                </a:lnTo>
                <a:lnTo>
                  <a:pt x="45351" y="248006"/>
                </a:lnTo>
                <a:lnTo>
                  <a:pt x="47380" y="251063"/>
                </a:lnTo>
                <a:lnTo>
                  <a:pt x="48731" y="254052"/>
                </a:lnTo>
                <a:lnTo>
                  <a:pt x="50233" y="259914"/>
                </a:lnTo>
                <a:lnTo>
                  <a:pt x="51586" y="261859"/>
                </a:lnTo>
                <a:lnTo>
                  <a:pt x="53441" y="263155"/>
                </a:lnTo>
                <a:lnTo>
                  <a:pt x="55629" y="264019"/>
                </a:lnTo>
                <a:lnTo>
                  <a:pt x="57088" y="265548"/>
                </a:lnTo>
                <a:lnTo>
                  <a:pt x="58062" y="267519"/>
                </a:lnTo>
                <a:lnTo>
                  <a:pt x="59623" y="272976"/>
                </a:lnTo>
                <a:lnTo>
                  <a:pt x="59973" y="281582"/>
                </a:lnTo>
                <a:lnTo>
                  <a:pt x="60007" y="2828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MARTPenAnnotation781"/>
          <p:cNvSpPr/>
          <p:nvPr/>
        </p:nvSpPr>
        <p:spPr>
          <a:xfrm>
            <a:off x="4735440" y="2297160"/>
            <a:ext cx="385920" cy="291960"/>
          </a:xfrm>
          <a:custGeom>
            <a:avLst/>
            <a:gdLst>
              <a:gd name="textAreaLeft" fmla="*/ 0 w 385920"/>
              <a:gd name="textAreaRight" fmla="*/ 386280 w 3859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385411" h="291035">
                <a:moveTo>
                  <a:pt x="8220" y="102473"/>
                </a:moveTo>
                <a:lnTo>
                  <a:pt x="3669" y="102473"/>
                </a:lnTo>
                <a:lnTo>
                  <a:pt x="2328" y="101520"/>
                </a:lnTo>
                <a:lnTo>
                  <a:pt x="1434" y="99933"/>
                </a:lnTo>
                <a:lnTo>
                  <a:pt x="0" y="95092"/>
                </a:lnTo>
                <a:lnTo>
                  <a:pt x="2344" y="91890"/>
                </a:lnTo>
                <a:lnTo>
                  <a:pt x="4303" y="89702"/>
                </a:lnTo>
                <a:lnTo>
                  <a:pt x="5608" y="86339"/>
                </a:lnTo>
                <a:lnTo>
                  <a:pt x="7059" y="77522"/>
                </a:lnTo>
                <a:lnTo>
                  <a:pt x="7704" y="69793"/>
                </a:lnTo>
                <a:lnTo>
                  <a:pt x="7876" y="66399"/>
                </a:lnTo>
                <a:lnTo>
                  <a:pt x="8943" y="64136"/>
                </a:lnTo>
                <a:lnTo>
                  <a:pt x="10607" y="62627"/>
                </a:lnTo>
                <a:lnTo>
                  <a:pt x="12668" y="61622"/>
                </a:lnTo>
                <a:lnTo>
                  <a:pt x="22822" y="53163"/>
                </a:lnTo>
                <a:lnTo>
                  <a:pt x="32125" y="45106"/>
                </a:lnTo>
                <a:lnTo>
                  <a:pt x="41386" y="39511"/>
                </a:lnTo>
                <a:lnTo>
                  <a:pt x="51853" y="33850"/>
                </a:lnTo>
                <a:lnTo>
                  <a:pt x="79758" y="19599"/>
                </a:lnTo>
                <a:lnTo>
                  <a:pt x="91132" y="13888"/>
                </a:lnTo>
                <a:lnTo>
                  <a:pt x="97785" y="11983"/>
                </a:lnTo>
                <a:lnTo>
                  <a:pt x="105077" y="10714"/>
                </a:lnTo>
                <a:lnTo>
                  <a:pt x="112796" y="9868"/>
                </a:lnTo>
                <a:lnTo>
                  <a:pt x="119847" y="8351"/>
                </a:lnTo>
                <a:lnTo>
                  <a:pt x="126453" y="6387"/>
                </a:lnTo>
                <a:lnTo>
                  <a:pt x="132762" y="4126"/>
                </a:lnTo>
                <a:lnTo>
                  <a:pt x="138873" y="2618"/>
                </a:lnTo>
                <a:lnTo>
                  <a:pt x="150743" y="943"/>
                </a:lnTo>
                <a:lnTo>
                  <a:pt x="162368" y="198"/>
                </a:lnTo>
                <a:lnTo>
                  <a:pt x="168136" y="0"/>
                </a:lnTo>
                <a:lnTo>
                  <a:pt x="179623" y="2319"/>
                </a:lnTo>
                <a:lnTo>
                  <a:pt x="191079" y="5573"/>
                </a:lnTo>
                <a:lnTo>
                  <a:pt x="202521" y="7018"/>
                </a:lnTo>
                <a:lnTo>
                  <a:pt x="211416" y="10201"/>
                </a:lnTo>
                <a:lnTo>
                  <a:pt x="215121" y="12383"/>
                </a:lnTo>
                <a:lnTo>
                  <a:pt x="217591" y="14790"/>
                </a:lnTo>
                <a:lnTo>
                  <a:pt x="219238" y="17348"/>
                </a:lnTo>
                <a:lnTo>
                  <a:pt x="220336" y="20005"/>
                </a:lnTo>
                <a:lnTo>
                  <a:pt x="226432" y="28296"/>
                </a:lnTo>
                <a:lnTo>
                  <a:pt x="227990" y="32067"/>
                </a:lnTo>
                <a:lnTo>
                  <a:pt x="229028" y="36485"/>
                </a:lnTo>
                <a:lnTo>
                  <a:pt x="230182" y="45522"/>
                </a:lnTo>
                <a:lnTo>
                  <a:pt x="230694" y="52714"/>
                </a:lnTo>
                <a:lnTo>
                  <a:pt x="228382" y="61625"/>
                </a:lnTo>
                <a:lnTo>
                  <a:pt x="226432" y="66668"/>
                </a:lnTo>
                <a:lnTo>
                  <a:pt x="225132" y="71936"/>
                </a:lnTo>
                <a:lnTo>
                  <a:pt x="224265" y="77352"/>
                </a:lnTo>
                <a:lnTo>
                  <a:pt x="223688" y="82868"/>
                </a:lnTo>
                <a:lnTo>
                  <a:pt x="222350" y="88450"/>
                </a:lnTo>
                <a:lnTo>
                  <a:pt x="220505" y="94077"/>
                </a:lnTo>
                <a:lnTo>
                  <a:pt x="218324" y="99733"/>
                </a:lnTo>
                <a:lnTo>
                  <a:pt x="215917" y="105409"/>
                </a:lnTo>
                <a:lnTo>
                  <a:pt x="210702" y="116795"/>
                </a:lnTo>
                <a:lnTo>
                  <a:pt x="207025" y="121546"/>
                </a:lnTo>
                <a:lnTo>
                  <a:pt x="197860" y="129365"/>
                </a:lnTo>
                <a:lnTo>
                  <a:pt x="193701" y="133736"/>
                </a:lnTo>
                <a:lnTo>
                  <a:pt x="189977" y="138555"/>
                </a:lnTo>
                <a:lnTo>
                  <a:pt x="186541" y="143672"/>
                </a:lnTo>
                <a:lnTo>
                  <a:pt x="182346" y="148989"/>
                </a:lnTo>
                <a:lnTo>
                  <a:pt x="177644" y="154439"/>
                </a:lnTo>
                <a:lnTo>
                  <a:pt x="172604" y="159976"/>
                </a:lnTo>
                <a:lnTo>
                  <a:pt x="168292" y="165574"/>
                </a:lnTo>
                <a:lnTo>
                  <a:pt x="164464" y="171210"/>
                </a:lnTo>
                <a:lnTo>
                  <a:pt x="160960" y="176873"/>
                </a:lnTo>
                <a:lnTo>
                  <a:pt x="151987" y="185704"/>
                </a:lnTo>
                <a:lnTo>
                  <a:pt x="142601" y="192805"/>
                </a:lnTo>
                <a:lnTo>
                  <a:pt x="135255" y="199135"/>
                </a:lnTo>
                <a:lnTo>
                  <a:pt x="125764" y="208054"/>
                </a:lnTo>
                <a:lnTo>
                  <a:pt x="116919" y="216729"/>
                </a:lnTo>
                <a:lnTo>
                  <a:pt x="111141" y="225008"/>
                </a:lnTo>
                <a:lnTo>
                  <a:pt x="108266" y="229883"/>
                </a:lnTo>
                <a:lnTo>
                  <a:pt x="105397" y="233133"/>
                </a:lnTo>
                <a:lnTo>
                  <a:pt x="102532" y="235299"/>
                </a:lnTo>
                <a:lnTo>
                  <a:pt x="99670" y="236744"/>
                </a:lnTo>
                <a:lnTo>
                  <a:pt x="97761" y="238659"/>
                </a:lnTo>
                <a:lnTo>
                  <a:pt x="96489" y="240889"/>
                </a:lnTo>
                <a:lnTo>
                  <a:pt x="95075" y="245906"/>
                </a:lnTo>
                <a:lnTo>
                  <a:pt x="94447" y="251311"/>
                </a:lnTo>
                <a:lnTo>
                  <a:pt x="93327" y="254086"/>
                </a:lnTo>
                <a:lnTo>
                  <a:pt x="87226" y="262843"/>
                </a:lnTo>
                <a:lnTo>
                  <a:pt x="86608" y="263679"/>
                </a:lnTo>
                <a:lnTo>
                  <a:pt x="85921" y="267147"/>
                </a:lnTo>
                <a:lnTo>
                  <a:pt x="85393" y="274611"/>
                </a:lnTo>
                <a:lnTo>
                  <a:pt x="85381" y="278356"/>
                </a:lnTo>
                <a:lnTo>
                  <a:pt x="86331" y="279736"/>
                </a:lnTo>
                <a:lnTo>
                  <a:pt x="87917" y="280655"/>
                </a:lnTo>
                <a:lnTo>
                  <a:pt x="89926" y="281269"/>
                </a:lnTo>
                <a:lnTo>
                  <a:pt x="91266" y="282630"/>
                </a:lnTo>
                <a:lnTo>
                  <a:pt x="92159" y="284490"/>
                </a:lnTo>
                <a:lnTo>
                  <a:pt x="92754" y="286683"/>
                </a:lnTo>
                <a:lnTo>
                  <a:pt x="94103" y="288144"/>
                </a:lnTo>
                <a:lnTo>
                  <a:pt x="95955" y="289119"/>
                </a:lnTo>
                <a:lnTo>
                  <a:pt x="100553" y="290201"/>
                </a:lnTo>
                <a:lnTo>
                  <a:pt x="109449" y="290811"/>
                </a:lnTo>
                <a:lnTo>
                  <a:pt x="126499" y="291017"/>
                </a:lnTo>
                <a:lnTo>
                  <a:pt x="129935" y="291034"/>
                </a:lnTo>
                <a:lnTo>
                  <a:pt x="138833" y="288513"/>
                </a:lnTo>
                <a:lnTo>
                  <a:pt x="149137" y="284217"/>
                </a:lnTo>
                <a:lnTo>
                  <a:pt x="160068" y="279133"/>
                </a:lnTo>
                <a:lnTo>
                  <a:pt x="166601" y="277396"/>
                </a:lnTo>
                <a:lnTo>
                  <a:pt x="173815" y="276238"/>
                </a:lnTo>
                <a:lnTo>
                  <a:pt x="181481" y="275466"/>
                </a:lnTo>
                <a:lnTo>
                  <a:pt x="189450" y="273999"/>
                </a:lnTo>
                <a:lnTo>
                  <a:pt x="197620" y="272069"/>
                </a:lnTo>
                <a:lnTo>
                  <a:pt x="205924" y="269829"/>
                </a:lnTo>
                <a:lnTo>
                  <a:pt x="222771" y="264801"/>
                </a:lnTo>
                <a:lnTo>
                  <a:pt x="256869" y="253812"/>
                </a:lnTo>
                <a:lnTo>
                  <a:pt x="264474" y="251943"/>
                </a:lnTo>
                <a:lnTo>
                  <a:pt x="271448" y="250697"/>
                </a:lnTo>
                <a:lnTo>
                  <a:pt x="278003" y="249866"/>
                </a:lnTo>
                <a:lnTo>
                  <a:pt x="285230" y="248360"/>
                </a:lnTo>
                <a:lnTo>
                  <a:pt x="292906" y="246403"/>
                </a:lnTo>
                <a:lnTo>
                  <a:pt x="300881" y="244146"/>
                </a:lnTo>
                <a:lnTo>
                  <a:pt x="308102" y="242642"/>
                </a:lnTo>
                <a:lnTo>
                  <a:pt x="314821" y="241639"/>
                </a:lnTo>
                <a:lnTo>
                  <a:pt x="321206" y="240970"/>
                </a:lnTo>
                <a:lnTo>
                  <a:pt x="327367" y="239571"/>
                </a:lnTo>
                <a:lnTo>
                  <a:pt x="344188" y="234006"/>
                </a:lnTo>
                <a:lnTo>
                  <a:pt x="355628" y="231933"/>
                </a:lnTo>
                <a:lnTo>
                  <a:pt x="365049" y="231319"/>
                </a:lnTo>
                <a:lnTo>
                  <a:pt x="370963" y="231175"/>
                </a:lnTo>
                <a:lnTo>
                  <a:pt x="372921" y="232089"/>
                </a:lnTo>
                <a:lnTo>
                  <a:pt x="374227" y="233651"/>
                </a:lnTo>
                <a:lnTo>
                  <a:pt x="375097" y="235645"/>
                </a:lnTo>
                <a:lnTo>
                  <a:pt x="376629" y="236974"/>
                </a:lnTo>
                <a:lnTo>
                  <a:pt x="378603" y="237860"/>
                </a:lnTo>
                <a:lnTo>
                  <a:pt x="385410" y="2396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MARTPenAnnotation782"/>
          <p:cNvSpPr/>
          <p:nvPr/>
        </p:nvSpPr>
        <p:spPr>
          <a:xfrm>
            <a:off x="885960" y="3257640"/>
            <a:ext cx="539640" cy="42840"/>
          </a:xfrm>
          <a:custGeom>
            <a:avLst/>
            <a:gdLst>
              <a:gd name="textAreaLeft" fmla="*/ 0 w 539640"/>
              <a:gd name="textAreaRight" fmla="*/ 540000 w 53964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540069" h="42863">
                <a:moveTo>
                  <a:pt x="0" y="42862"/>
                </a:moveTo>
                <a:lnTo>
                  <a:pt x="0" y="34299"/>
                </a:lnTo>
                <a:lnTo>
                  <a:pt x="130285" y="34290"/>
                </a:lnTo>
                <a:lnTo>
                  <a:pt x="138292" y="33337"/>
                </a:lnTo>
                <a:lnTo>
                  <a:pt x="146487" y="31750"/>
                </a:lnTo>
                <a:lnTo>
                  <a:pt x="154808" y="29739"/>
                </a:lnTo>
                <a:lnTo>
                  <a:pt x="163213" y="28398"/>
                </a:lnTo>
                <a:lnTo>
                  <a:pt x="171674" y="27504"/>
                </a:lnTo>
                <a:lnTo>
                  <a:pt x="180172" y="26909"/>
                </a:lnTo>
                <a:lnTo>
                  <a:pt x="189647" y="26511"/>
                </a:lnTo>
                <a:lnTo>
                  <a:pt x="210335" y="26070"/>
                </a:lnTo>
                <a:lnTo>
                  <a:pt x="220234" y="25000"/>
                </a:lnTo>
                <a:lnTo>
                  <a:pt x="229690" y="23334"/>
                </a:lnTo>
                <a:lnTo>
                  <a:pt x="238852" y="21271"/>
                </a:lnTo>
                <a:lnTo>
                  <a:pt x="248770" y="19896"/>
                </a:lnTo>
                <a:lnTo>
                  <a:pt x="259192" y="18979"/>
                </a:lnTo>
                <a:lnTo>
                  <a:pt x="269950" y="18367"/>
                </a:lnTo>
                <a:lnTo>
                  <a:pt x="279979" y="17007"/>
                </a:lnTo>
                <a:lnTo>
                  <a:pt x="289523" y="15148"/>
                </a:lnTo>
                <a:lnTo>
                  <a:pt x="298743" y="12956"/>
                </a:lnTo>
                <a:lnTo>
                  <a:pt x="307747" y="11495"/>
                </a:lnTo>
                <a:lnTo>
                  <a:pt x="316607" y="10521"/>
                </a:lnTo>
                <a:lnTo>
                  <a:pt x="325372" y="9871"/>
                </a:lnTo>
                <a:lnTo>
                  <a:pt x="335025" y="9438"/>
                </a:lnTo>
                <a:lnTo>
                  <a:pt x="355910" y="8957"/>
                </a:lnTo>
                <a:lnTo>
                  <a:pt x="384537" y="8686"/>
                </a:lnTo>
                <a:lnTo>
                  <a:pt x="393519" y="7696"/>
                </a:lnTo>
                <a:lnTo>
                  <a:pt x="402363" y="6083"/>
                </a:lnTo>
                <a:lnTo>
                  <a:pt x="411117" y="4055"/>
                </a:lnTo>
                <a:lnTo>
                  <a:pt x="418858" y="2703"/>
                </a:lnTo>
                <a:lnTo>
                  <a:pt x="425924" y="1802"/>
                </a:lnTo>
                <a:lnTo>
                  <a:pt x="438855" y="801"/>
                </a:lnTo>
                <a:lnTo>
                  <a:pt x="450952" y="356"/>
                </a:lnTo>
                <a:lnTo>
                  <a:pt x="474240" y="70"/>
                </a:lnTo>
                <a:lnTo>
                  <a:pt x="508130" y="3"/>
                </a:lnTo>
                <a:lnTo>
                  <a:pt x="511156" y="954"/>
                </a:lnTo>
                <a:lnTo>
                  <a:pt x="514126" y="2541"/>
                </a:lnTo>
                <a:lnTo>
                  <a:pt x="517058" y="4551"/>
                </a:lnTo>
                <a:lnTo>
                  <a:pt x="519965" y="4939"/>
                </a:lnTo>
                <a:lnTo>
                  <a:pt x="522856" y="4245"/>
                </a:lnTo>
                <a:lnTo>
                  <a:pt x="529789" y="838"/>
                </a:lnTo>
                <a:lnTo>
                  <a:pt x="54006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MARTPenAnnotation783"/>
          <p:cNvSpPr/>
          <p:nvPr/>
        </p:nvSpPr>
        <p:spPr>
          <a:xfrm>
            <a:off x="988920" y="3394080"/>
            <a:ext cx="333360" cy="189000"/>
          </a:xfrm>
          <a:custGeom>
            <a:avLst/>
            <a:gdLst>
              <a:gd name="textAreaLeft" fmla="*/ 0 w 333360"/>
              <a:gd name="textAreaRight" fmla="*/ 333720 w 33336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334189" h="188198">
                <a:moveTo>
                  <a:pt x="25578" y="25716"/>
                </a:moveTo>
                <a:lnTo>
                  <a:pt x="25578" y="18335"/>
                </a:lnTo>
                <a:lnTo>
                  <a:pt x="30129" y="12946"/>
                </a:lnTo>
                <a:lnTo>
                  <a:pt x="32422" y="11488"/>
                </a:lnTo>
                <a:lnTo>
                  <a:pt x="37510" y="9868"/>
                </a:lnTo>
                <a:lnTo>
                  <a:pt x="45729" y="8955"/>
                </a:lnTo>
                <a:lnTo>
                  <a:pt x="53901" y="6202"/>
                </a:lnTo>
                <a:lnTo>
                  <a:pt x="62931" y="2756"/>
                </a:lnTo>
                <a:lnTo>
                  <a:pt x="70119" y="1224"/>
                </a:lnTo>
                <a:lnTo>
                  <a:pt x="79029" y="543"/>
                </a:lnTo>
                <a:lnTo>
                  <a:pt x="91170" y="106"/>
                </a:lnTo>
                <a:lnTo>
                  <a:pt x="143153" y="0"/>
                </a:lnTo>
                <a:lnTo>
                  <a:pt x="148729" y="952"/>
                </a:lnTo>
                <a:lnTo>
                  <a:pt x="154351" y="2539"/>
                </a:lnTo>
                <a:lnTo>
                  <a:pt x="160004" y="4550"/>
                </a:lnTo>
                <a:lnTo>
                  <a:pt x="165678" y="6843"/>
                </a:lnTo>
                <a:lnTo>
                  <a:pt x="171366" y="9324"/>
                </a:lnTo>
                <a:lnTo>
                  <a:pt x="177062" y="11931"/>
                </a:lnTo>
                <a:lnTo>
                  <a:pt x="185932" y="17367"/>
                </a:lnTo>
                <a:lnTo>
                  <a:pt x="189631" y="20150"/>
                </a:lnTo>
                <a:lnTo>
                  <a:pt x="192096" y="22958"/>
                </a:lnTo>
                <a:lnTo>
                  <a:pt x="193740" y="25782"/>
                </a:lnTo>
                <a:lnTo>
                  <a:pt x="194836" y="28618"/>
                </a:lnTo>
                <a:lnTo>
                  <a:pt x="196519" y="30508"/>
                </a:lnTo>
                <a:lnTo>
                  <a:pt x="198594" y="31768"/>
                </a:lnTo>
                <a:lnTo>
                  <a:pt x="200929" y="32608"/>
                </a:lnTo>
                <a:lnTo>
                  <a:pt x="206064" y="36082"/>
                </a:lnTo>
                <a:lnTo>
                  <a:pt x="208767" y="38342"/>
                </a:lnTo>
                <a:lnTo>
                  <a:pt x="210569" y="41753"/>
                </a:lnTo>
                <a:lnTo>
                  <a:pt x="211770" y="45932"/>
                </a:lnTo>
                <a:lnTo>
                  <a:pt x="212571" y="50624"/>
                </a:lnTo>
                <a:lnTo>
                  <a:pt x="213105" y="54704"/>
                </a:lnTo>
                <a:lnTo>
                  <a:pt x="213461" y="58376"/>
                </a:lnTo>
                <a:lnTo>
                  <a:pt x="213698" y="61777"/>
                </a:lnTo>
                <a:lnTo>
                  <a:pt x="213857" y="65949"/>
                </a:lnTo>
                <a:lnTo>
                  <a:pt x="214079" y="80923"/>
                </a:lnTo>
                <a:lnTo>
                  <a:pt x="214160" y="104153"/>
                </a:lnTo>
                <a:lnTo>
                  <a:pt x="213212" y="107535"/>
                </a:lnTo>
                <a:lnTo>
                  <a:pt x="211627" y="110742"/>
                </a:lnTo>
                <a:lnTo>
                  <a:pt x="209619" y="113832"/>
                </a:lnTo>
                <a:lnTo>
                  <a:pt x="207327" y="117798"/>
                </a:lnTo>
                <a:lnTo>
                  <a:pt x="202240" y="127284"/>
                </a:lnTo>
                <a:lnTo>
                  <a:pt x="199550" y="131528"/>
                </a:lnTo>
                <a:lnTo>
                  <a:pt x="196804" y="135310"/>
                </a:lnTo>
                <a:lnTo>
                  <a:pt x="194021" y="138784"/>
                </a:lnTo>
                <a:lnTo>
                  <a:pt x="190261" y="142052"/>
                </a:lnTo>
                <a:lnTo>
                  <a:pt x="185849" y="145183"/>
                </a:lnTo>
                <a:lnTo>
                  <a:pt x="181003" y="148223"/>
                </a:lnTo>
                <a:lnTo>
                  <a:pt x="176820" y="151203"/>
                </a:lnTo>
                <a:lnTo>
                  <a:pt x="169632" y="157053"/>
                </a:lnTo>
                <a:lnTo>
                  <a:pt x="160722" y="162828"/>
                </a:lnTo>
                <a:lnTo>
                  <a:pt x="150412" y="168570"/>
                </a:lnTo>
                <a:lnTo>
                  <a:pt x="139480" y="174297"/>
                </a:lnTo>
                <a:lnTo>
                  <a:pt x="133897" y="176205"/>
                </a:lnTo>
                <a:lnTo>
                  <a:pt x="128271" y="177477"/>
                </a:lnTo>
                <a:lnTo>
                  <a:pt x="122615" y="178325"/>
                </a:lnTo>
                <a:lnTo>
                  <a:pt x="116939" y="179843"/>
                </a:lnTo>
                <a:lnTo>
                  <a:pt x="111250" y="181807"/>
                </a:lnTo>
                <a:lnTo>
                  <a:pt x="105553" y="184069"/>
                </a:lnTo>
                <a:lnTo>
                  <a:pt x="99850" y="185577"/>
                </a:lnTo>
                <a:lnTo>
                  <a:pt x="94143" y="186583"/>
                </a:lnTo>
                <a:lnTo>
                  <a:pt x="88432" y="187253"/>
                </a:lnTo>
                <a:lnTo>
                  <a:pt x="79548" y="187998"/>
                </a:lnTo>
                <a:lnTo>
                  <a:pt x="75846" y="188197"/>
                </a:lnTo>
                <a:lnTo>
                  <a:pt x="66652" y="185877"/>
                </a:lnTo>
                <a:lnTo>
                  <a:pt x="56215" y="182624"/>
                </a:lnTo>
                <a:lnTo>
                  <a:pt x="50765" y="181756"/>
                </a:lnTo>
                <a:lnTo>
                  <a:pt x="45227" y="181178"/>
                </a:lnTo>
                <a:lnTo>
                  <a:pt x="36533" y="177995"/>
                </a:lnTo>
                <a:lnTo>
                  <a:pt x="29495" y="174358"/>
                </a:lnTo>
                <a:lnTo>
                  <a:pt x="23191" y="172742"/>
                </a:lnTo>
                <a:lnTo>
                  <a:pt x="21129" y="171358"/>
                </a:lnTo>
                <a:lnTo>
                  <a:pt x="19755" y="169483"/>
                </a:lnTo>
                <a:lnTo>
                  <a:pt x="18838" y="167281"/>
                </a:lnTo>
                <a:lnTo>
                  <a:pt x="15280" y="162294"/>
                </a:lnTo>
                <a:lnTo>
                  <a:pt x="12998" y="159630"/>
                </a:lnTo>
                <a:lnTo>
                  <a:pt x="10524" y="157855"/>
                </a:lnTo>
                <a:lnTo>
                  <a:pt x="5235" y="155882"/>
                </a:lnTo>
                <a:lnTo>
                  <a:pt x="3443" y="154403"/>
                </a:lnTo>
                <a:lnTo>
                  <a:pt x="2249" y="152465"/>
                </a:lnTo>
                <a:lnTo>
                  <a:pt x="922" y="147771"/>
                </a:lnTo>
                <a:lnTo>
                  <a:pt x="332" y="142511"/>
                </a:lnTo>
                <a:lnTo>
                  <a:pt x="0" y="138745"/>
                </a:lnTo>
                <a:lnTo>
                  <a:pt x="2463" y="135323"/>
                </a:lnTo>
                <a:lnTo>
                  <a:pt x="6732" y="130628"/>
                </a:lnTo>
                <a:lnTo>
                  <a:pt x="11804" y="125366"/>
                </a:lnTo>
                <a:lnTo>
                  <a:pt x="15443" y="123582"/>
                </a:lnTo>
                <a:lnTo>
                  <a:pt x="24566" y="121599"/>
                </a:lnTo>
                <a:lnTo>
                  <a:pt x="34971" y="118178"/>
                </a:lnTo>
                <a:lnTo>
                  <a:pt x="40412" y="115933"/>
                </a:lnTo>
                <a:lnTo>
                  <a:pt x="45945" y="113483"/>
                </a:lnTo>
                <a:lnTo>
                  <a:pt x="57172" y="108221"/>
                </a:lnTo>
                <a:lnTo>
                  <a:pt x="62833" y="106437"/>
                </a:lnTo>
                <a:lnTo>
                  <a:pt x="68512" y="105247"/>
                </a:lnTo>
                <a:lnTo>
                  <a:pt x="74203" y="104454"/>
                </a:lnTo>
                <a:lnTo>
                  <a:pt x="80855" y="103926"/>
                </a:lnTo>
                <a:lnTo>
                  <a:pt x="88147" y="103573"/>
                </a:lnTo>
                <a:lnTo>
                  <a:pt x="102916" y="103182"/>
                </a:lnTo>
                <a:lnTo>
                  <a:pt x="133811" y="102910"/>
                </a:lnTo>
                <a:lnTo>
                  <a:pt x="139643" y="103849"/>
                </a:lnTo>
                <a:lnTo>
                  <a:pt x="145437" y="105427"/>
                </a:lnTo>
                <a:lnTo>
                  <a:pt x="151204" y="107432"/>
                </a:lnTo>
                <a:lnTo>
                  <a:pt x="156953" y="108768"/>
                </a:lnTo>
                <a:lnTo>
                  <a:pt x="162692" y="109659"/>
                </a:lnTo>
                <a:lnTo>
                  <a:pt x="168422" y="110253"/>
                </a:lnTo>
                <a:lnTo>
                  <a:pt x="174147" y="111602"/>
                </a:lnTo>
                <a:lnTo>
                  <a:pt x="179869" y="113453"/>
                </a:lnTo>
                <a:lnTo>
                  <a:pt x="185589" y="115640"/>
                </a:lnTo>
                <a:lnTo>
                  <a:pt x="191307" y="117098"/>
                </a:lnTo>
                <a:lnTo>
                  <a:pt x="197024" y="118070"/>
                </a:lnTo>
                <a:lnTo>
                  <a:pt x="202740" y="118718"/>
                </a:lnTo>
                <a:lnTo>
                  <a:pt x="208456" y="120102"/>
                </a:lnTo>
                <a:lnTo>
                  <a:pt x="214172" y="121978"/>
                </a:lnTo>
                <a:lnTo>
                  <a:pt x="219887" y="124181"/>
                </a:lnTo>
                <a:lnTo>
                  <a:pt x="228778" y="129168"/>
                </a:lnTo>
                <a:lnTo>
                  <a:pt x="232482" y="131832"/>
                </a:lnTo>
                <a:lnTo>
                  <a:pt x="241678" y="134791"/>
                </a:lnTo>
                <a:lnTo>
                  <a:pt x="252115" y="137059"/>
                </a:lnTo>
                <a:lnTo>
                  <a:pt x="257565" y="138997"/>
                </a:lnTo>
                <a:lnTo>
                  <a:pt x="263103" y="141242"/>
                </a:lnTo>
                <a:lnTo>
                  <a:pt x="266796" y="143691"/>
                </a:lnTo>
                <a:lnTo>
                  <a:pt x="269257" y="146276"/>
                </a:lnTo>
                <a:lnTo>
                  <a:pt x="270898" y="148952"/>
                </a:lnTo>
                <a:lnTo>
                  <a:pt x="272945" y="150736"/>
                </a:lnTo>
                <a:lnTo>
                  <a:pt x="275262" y="151925"/>
                </a:lnTo>
                <a:lnTo>
                  <a:pt x="277759" y="152718"/>
                </a:lnTo>
                <a:lnTo>
                  <a:pt x="283073" y="156139"/>
                </a:lnTo>
                <a:lnTo>
                  <a:pt x="288610" y="160834"/>
                </a:lnTo>
                <a:lnTo>
                  <a:pt x="294246" y="166096"/>
                </a:lnTo>
                <a:lnTo>
                  <a:pt x="297083" y="167880"/>
                </a:lnTo>
                <a:lnTo>
                  <a:pt x="302774" y="169863"/>
                </a:lnTo>
                <a:lnTo>
                  <a:pt x="311334" y="170979"/>
                </a:lnTo>
                <a:lnTo>
                  <a:pt x="319902" y="171309"/>
                </a:lnTo>
                <a:lnTo>
                  <a:pt x="322759" y="172308"/>
                </a:lnTo>
                <a:lnTo>
                  <a:pt x="325616" y="173927"/>
                </a:lnTo>
                <a:lnTo>
                  <a:pt x="334188" y="1800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MARTPenAnnotation784"/>
          <p:cNvSpPr/>
          <p:nvPr/>
        </p:nvSpPr>
        <p:spPr>
          <a:xfrm>
            <a:off x="1725480" y="3265560"/>
            <a:ext cx="481320" cy="27000"/>
          </a:xfrm>
          <a:custGeom>
            <a:avLst/>
            <a:gdLst>
              <a:gd name="textAreaLeft" fmla="*/ 0 w 481320"/>
              <a:gd name="textAreaRight" fmla="*/ 481680 w 4813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0061" h="25719">
                <a:moveTo>
                  <a:pt x="0" y="25718"/>
                </a:moveTo>
                <a:lnTo>
                  <a:pt x="0" y="17498"/>
                </a:lnTo>
                <a:lnTo>
                  <a:pt x="12771" y="17154"/>
                </a:lnTo>
                <a:lnTo>
                  <a:pt x="128750" y="17145"/>
                </a:lnTo>
                <a:lnTo>
                  <a:pt x="137268" y="16193"/>
                </a:lnTo>
                <a:lnTo>
                  <a:pt x="145805" y="14605"/>
                </a:lnTo>
                <a:lnTo>
                  <a:pt x="154354" y="12594"/>
                </a:lnTo>
                <a:lnTo>
                  <a:pt x="163862" y="11253"/>
                </a:lnTo>
                <a:lnTo>
                  <a:pt x="174012" y="10360"/>
                </a:lnTo>
                <a:lnTo>
                  <a:pt x="184588" y="9764"/>
                </a:lnTo>
                <a:lnTo>
                  <a:pt x="203959" y="9102"/>
                </a:lnTo>
                <a:lnTo>
                  <a:pt x="239679" y="8677"/>
                </a:lnTo>
                <a:lnTo>
                  <a:pt x="434189" y="8573"/>
                </a:lnTo>
                <a:lnTo>
                  <a:pt x="439955" y="7620"/>
                </a:lnTo>
                <a:lnTo>
                  <a:pt x="445703" y="6032"/>
                </a:lnTo>
                <a:lnTo>
                  <a:pt x="459516" y="1192"/>
                </a:lnTo>
                <a:lnTo>
                  <a:pt x="463944" y="530"/>
                </a:lnTo>
                <a:lnTo>
                  <a:pt x="478427" y="31"/>
                </a:lnTo>
                <a:lnTo>
                  <a:pt x="4800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MARTPenAnnotation785"/>
          <p:cNvSpPr/>
          <p:nvPr/>
        </p:nvSpPr>
        <p:spPr>
          <a:xfrm>
            <a:off x="1789200" y="3368520"/>
            <a:ext cx="331560" cy="196920"/>
          </a:xfrm>
          <a:custGeom>
            <a:avLst/>
            <a:gdLst>
              <a:gd name="textAreaLeft" fmla="*/ 0 w 331560"/>
              <a:gd name="textAreaRight" fmla="*/ 331920 w 3315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330616" h="197166">
                <a:moveTo>
                  <a:pt x="39151" y="34287"/>
                </a:moveTo>
                <a:lnTo>
                  <a:pt x="31770" y="34287"/>
                </a:lnTo>
                <a:lnTo>
                  <a:pt x="31372" y="33334"/>
                </a:lnTo>
                <a:lnTo>
                  <a:pt x="30931" y="29736"/>
                </a:lnTo>
                <a:lnTo>
                  <a:pt x="29861" y="28396"/>
                </a:lnTo>
                <a:lnTo>
                  <a:pt x="28195" y="27502"/>
                </a:lnTo>
                <a:lnTo>
                  <a:pt x="22037" y="25724"/>
                </a:lnTo>
                <a:lnTo>
                  <a:pt x="22015" y="21167"/>
                </a:lnTo>
                <a:lnTo>
                  <a:pt x="22964" y="19825"/>
                </a:lnTo>
                <a:lnTo>
                  <a:pt x="24550" y="18931"/>
                </a:lnTo>
                <a:lnTo>
                  <a:pt x="31689" y="16425"/>
                </a:lnTo>
                <a:lnTo>
                  <a:pt x="39327" y="12696"/>
                </a:lnTo>
                <a:lnTo>
                  <a:pt x="46531" y="10404"/>
                </a:lnTo>
                <a:lnTo>
                  <a:pt x="53861" y="9385"/>
                </a:lnTo>
                <a:lnTo>
                  <a:pt x="63469" y="8932"/>
                </a:lnTo>
                <a:lnTo>
                  <a:pt x="67745" y="7858"/>
                </a:lnTo>
                <a:lnTo>
                  <a:pt x="75036" y="4126"/>
                </a:lnTo>
                <a:lnTo>
                  <a:pt x="80220" y="2750"/>
                </a:lnTo>
                <a:lnTo>
                  <a:pt x="86532" y="1832"/>
                </a:lnTo>
                <a:lnTo>
                  <a:pt x="93598" y="1220"/>
                </a:lnTo>
                <a:lnTo>
                  <a:pt x="100214" y="813"/>
                </a:lnTo>
                <a:lnTo>
                  <a:pt x="112645" y="360"/>
                </a:lnTo>
                <a:lnTo>
                  <a:pt x="136147" y="69"/>
                </a:lnTo>
                <a:lnTo>
                  <a:pt x="174639" y="0"/>
                </a:lnTo>
                <a:lnTo>
                  <a:pt x="179958" y="952"/>
                </a:lnTo>
                <a:lnTo>
                  <a:pt x="185410" y="2538"/>
                </a:lnTo>
                <a:lnTo>
                  <a:pt x="195595" y="5889"/>
                </a:lnTo>
                <a:lnTo>
                  <a:pt x="203296" y="7378"/>
                </a:lnTo>
                <a:lnTo>
                  <a:pt x="209894" y="10580"/>
                </a:lnTo>
                <a:lnTo>
                  <a:pt x="216002" y="15178"/>
                </a:lnTo>
                <a:lnTo>
                  <a:pt x="221891" y="20397"/>
                </a:lnTo>
                <a:lnTo>
                  <a:pt x="227683" y="25891"/>
                </a:lnTo>
                <a:lnTo>
                  <a:pt x="230562" y="28690"/>
                </a:lnTo>
                <a:lnTo>
                  <a:pt x="232480" y="31508"/>
                </a:lnTo>
                <a:lnTo>
                  <a:pt x="234612" y="37180"/>
                </a:lnTo>
                <a:lnTo>
                  <a:pt x="235560" y="42875"/>
                </a:lnTo>
                <a:lnTo>
                  <a:pt x="235813" y="45727"/>
                </a:lnTo>
                <a:lnTo>
                  <a:pt x="235028" y="48582"/>
                </a:lnTo>
                <a:lnTo>
                  <a:pt x="231618" y="54293"/>
                </a:lnTo>
                <a:lnTo>
                  <a:pt x="229466" y="60006"/>
                </a:lnTo>
                <a:lnTo>
                  <a:pt x="228510" y="65720"/>
                </a:lnTo>
                <a:lnTo>
                  <a:pt x="228085" y="71435"/>
                </a:lnTo>
                <a:lnTo>
                  <a:pt x="227897" y="79690"/>
                </a:lnTo>
                <a:lnTo>
                  <a:pt x="227846" y="84558"/>
                </a:lnTo>
                <a:lnTo>
                  <a:pt x="226860" y="88756"/>
                </a:lnTo>
                <a:lnTo>
                  <a:pt x="225250" y="92507"/>
                </a:lnTo>
                <a:lnTo>
                  <a:pt x="223225" y="95960"/>
                </a:lnTo>
                <a:lnTo>
                  <a:pt x="220922" y="99215"/>
                </a:lnTo>
                <a:lnTo>
                  <a:pt x="215823" y="105371"/>
                </a:lnTo>
                <a:lnTo>
                  <a:pt x="214082" y="108347"/>
                </a:lnTo>
                <a:lnTo>
                  <a:pt x="212148" y="114193"/>
                </a:lnTo>
                <a:lnTo>
                  <a:pt x="209727" y="117085"/>
                </a:lnTo>
                <a:lnTo>
                  <a:pt x="201957" y="122839"/>
                </a:lnTo>
                <a:lnTo>
                  <a:pt x="194694" y="128571"/>
                </a:lnTo>
                <a:lnTo>
                  <a:pt x="187338" y="134293"/>
                </a:lnTo>
                <a:lnTo>
                  <a:pt x="177719" y="140012"/>
                </a:lnTo>
                <a:lnTo>
                  <a:pt x="169634" y="145728"/>
                </a:lnTo>
                <a:lnTo>
                  <a:pt x="162866" y="151444"/>
                </a:lnTo>
                <a:lnTo>
                  <a:pt x="156682" y="157159"/>
                </a:lnTo>
                <a:lnTo>
                  <a:pt x="147847" y="165732"/>
                </a:lnTo>
                <a:lnTo>
                  <a:pt x="139196" y="174305"/>
                </a:lnTo>
                <a:lnTo>
                  <a:pt x="135375" y="176210"/>
                </a:lnTo>
                <a:lnTo>
                  <a:pt x="126049" y="178326"/>
                </a:lnTo>
                <a:lnTo>
                  <a:pt x="118095" y="179267"/>
                </a:lnTo>
                <a:lnTo>
                  <a:pt x="114640" y="179518"/>
                </a:lnTo>
                <a:lnTo>
                  <a:pt x="105721" y="182337"/>
                </a:lnTo>
                <a:lnTo>
                  <a:pt x="96360" y="185812"/>
                </a:lnTo>
                <a:lnTo>
                  <a:pt x="89024" y="187356"/>
                </a:lnTo>
                <a:lnTo>
                  <a:pt x="80049" y="188043"/>
                </a:lnTo>
                <a:lnTo>
                  <a:pt x="70663" y="188348"/>
                </a:lnTo>
                <a:lnTo>
                  <a:pt x="63316" y="188484"/>
                </a:lnTo>
                <a:lnTo>
                  <a:pt x="60023" y="187567"/>
                </a:lnTo>
                <a:lnTo>
                  <a:pt x="50838" y="182679"/>
                </a:lnTo>
                <a:lnTo>
                  <a:pt x="44980" y="181202"/>
                </a:lnTo>
                <a:lnTo>
                  <a:pt x="36327" y="180370"/>
                </a:lnTo>
                <a:lnTo>
                  <a:pt x="33458" y="179301"/>
                </a:lnTo>
                <a:lnTo>
                  <a:pt x="24870" y="174198"/>
                </a:lnTo>
                <a:lnTo>
                  <a:pt x="19151" y="172670"/>
                </a:lnTo>
                <a:lnTo>
                  <a:pt x="17245" y="171309"/>
                </a:lnTo>
                <a:lnTo>
                  <a:pt x="15974" y="169451"/>
                </a:lnTo>
                <a:lnTo>
                  <a:pt x="15127" y="167258"/>
                </a:lnTo>
                <a:lnTo>
                  <a:pt x="11646" y="162283"/>
                </a:lnTo>
                <a:lnTo>
                  <a:pt x="9384" y="159623"/>
                </a:lnTo>
                <a:lnTo>
                  <a:pt x="7876" y="156897"/>
                </a:lnTo>
                <a:lnTo>
                  <a:pt x="6201" y="151328"/>
                </a:lnTo>
                <a:lnTo>
                  <a:pt x="5258" y="147388"/>
                </a:lnTo>
                <a:lnTo>
                  <a:pt x="427" y="141670"/>
                </a:lnTo>
                <a:lnTo>
                  <a:pt x="0" y="140166"/>
                </a:lnTo>
                <a:lnTo>
                  <a:pt x="668" y="139163"/>
                </a:lnTo>
                <a:lnTo>
                  <a:pt x="2065" y="138494"/>
                </a:lnTo>
                <a:lnTo>
                  <a:pt x="2997" y="137096"/>
                </a:lnTo>
                <a:lnTo>
                  <a:pt x="4032" y="133002"/>
                </a:lnTo>
                <a:lnTo>
                  <a:pt x="5261" y="131530"/>
                </a:lnTo>
                <a:lnTo>
                  <a:pt x="7032" y="130548"/>
                </a:lnTo>
                <a:lnTo>
                  <a:pt x="9166" y="129894"/>
                </a:lnTo>
                <a:lnTo>
                  <a:pt x="16616" y="129167"/>
                </a:lnTo>
                <a:lnTo>
                  <a:pt x="21270" y="128972"/>
                </a:lnTo>
                <a:lnTo>
                  <a:pt x="25325" y="127891"/>
                </a:lnTo>
                <a:lnTo>
                  <a:pt x="32371" y="124149"/>
                </a:lnTo>
                <a:lnTo>
                  <a:pt x="41217" y="121851"/>
                </a:lnTo>
                <a:lnTo>
                  <a:pt x="51499" y="120829"/>
                </a:lnTo>
                <a:lnTo>
                  <a:pt x="56908" y="120557"/>
                </a:lnTo>
                <a:lnTo>
                  <a:pt x="67998" y="120254"/>
                </a:lnTo>
                <a:lnTo>
                  <a:pt x="100887" y="120044"/>
                </a:lnTo>
                <a:lnTo>
                  <a:pt x="107931" y="120986"/>
                </a:lnTo>
                <a:lnTo>
                  <a:pt x="114532" y="122566"/>
                </a:lnTo>
                <a:lnTo>
                  <a:pt x="120837" y="124573"/>
                </a:lnTo>
                <a:lnTo>
                  <a:pt x="127898" y="125910"/>
                </a:lnTo>
                <a:lnTo>
                  <a:pt x="135463" y="126802"/>
                </a:lnTo>
                <a:lnTo>
                  <a:pt x="143364" y="127396"/>
                </a:lnTo>
                <a:lnTo>
                  <a:pt x="151489" y="127792"/>
                </a:lnTo>
                <a:lnTo>
                  <a:pt x="168136" y="128233"/>
                </a:lnTo>
                <a:lnTo>
                  <a:pt x="176576" y="129302"/>
                </a:lnTo>
                <a:lnTo>
                  <a:pt x="185060" y="130968"/>
                </a:lnTo>
                <a:lnTo>
                  <a:pt x="193573" y="133031"/>
                </a:lnTo>
                <a:lnTo>
                  <a:pt x="201154" y="135359"/>
                </a:lnTo>
                <a:lnTo>
                  <a:pt x="208113" y="137863"/>
                </a:lnTo>
                <a:lnTo>
                  <a:pt x="214657" y="140485"/>
                </a:lnTo>
                <a:lnTo>
                  <a:pt x="229548" y="145939"/>
                </a:lnTo>
                <a:lnTo>
                  <a:pt x="237520" y="148727"/>
                </a:lnTo>
                <a:lnTo>
                  <a:pt x="244739" y="151538"/>
                </a:lnTo>
                <a:lnTo>
                  <a:pt x="251457" y="154364"/>
                </a:lnTo>
                <a:lnTo>
                  <a:pt x="257841" y="157201"/>
                </a:lnTo>
                <a:lnTo>
                  <a:pt x="264954" y="160997"/>
                </a:lnTo>
                <a:lnTo>
                  <a:pt x="272554" y="165433"/>
                </a:lnTo>
                <a:lnTo>
                  <a:pt x="280477" y="170295"/>
                </a:lnTo>
                <a:lnTo>
                  <a:pt x="286713" y="174489"/>
                </a:lnTo>
                <a:lnTo>
                  <a:pt x="291822" y="178238"/>
                </a:lnTo>
                <a:lnTo>
                  <a:pt x="300039" y="183990"/>
                </a:lnTo>
                <a:lnTo>
                  <a:pt x="310020" y="188181"/>
                </a:lnTo>
                <a:lnTo>
                  <a:pt x="319010" y="194080"/>
                </a:lnTo>
                <a:lnTo>
                  <a:pt x="328899" y="196759"/>
                </a:lnTo>
                <a:lnTo>
                  <a:pt x="330615" y="1971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MARTPenAnnotation786"/>
          <p:cNvSpPr/>
          <p:nvPr/>
        </p:nvSpPr>
        <p:spPr>
          <a:xfrm>
            <a:off x="1160640" y="4054320"/>
            <a:ext cx="204480" cy="360360"/>
          </a:xfrm>
          <a:custGeom>
            <a:avLst/>
            <a:gdLst>
              <a:gd name="textAreaLeft" fmla="*/ 0 w 204480"/>
              <a:gd name="textAreaRight" fmla="*/ 204840 w 2044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05710" h="360046">
                <a:moveTo>
                  <a:pt x="8542" y="0"/>
                </a:moveTo>
                <a:lnTo>
                  <a:pt x="322" y="0"/>
                </a:lnTo>
                <a:lnTo>
                  <a:pt x="16" y="9325"/>
                </a:lnTo>
                <a:lnTo>
                  <a:pt x="0" y="11932"/>
                </a:lnTo>
                <a:lnTo>
                  <a:pt x="943" y="14622"/>
                </a:lnTo>
                <a:lnTo>
                  <a:pt x="5867" y="22959"/>
                </a:lnTo>
                <a:lnTo>
                  <a:pt x="8702" y="32415"/>
                </a:lnTo>
                <a:lnTo>
                  <a:pt x="12740" y="41711"/>
                </a:lnTo>
                <a:lnTo>
                  <a:pt x="17710" y="52194"/>
                </a:lnTo>
                <a:lnTo>
                  <a:pt x="28662" y="74445"/>
                </a:lnTo>
                <a:lnTo>
                  <a:pt x="32433" y="80110"/>
                </a:lnTo>
                <a:lnTo>
                  <a:pt x="36852" y="85792"/>
                </a:lnTo>
                <a:lnTo>
                  <a:pt x="41703" y="91485"/>
                </a:lnTo>
                <a:lnTo>
                  <a:pt x="45889" y="97185"/>
                </a:lnTo>
                <a:lnTo>
                  <a:pt x="49633" y="102890"/>
                </a:lnTo>
                <a:lnTo>
                  <a:pt x="53081" y="108598"/>
                </a:lnTo>
                <a:lnTo>
                  <a:pt x="56332" y="115261"/>
                </a:lnTo>
                <a:lnTo>
                  <a:pt x="59452" y="122561"/>
                </a:lnTo>
                <a:lnTo>
                  <a:pt x="62484" y="130285"/>
                </a:lnTo>
                <a:lnTo>
                  <a:pt x="66411" y="137339"/>
                </a:lnTo>
                <a:lnTo>
                  <a:pt x="70934" y="143947"/>
                </a:lnTo>
                <a:lnTo>
                  <a:pt x="75854" y="150257"/>
                </a:lnTo>
                <a:lnTo>
                  <a:pt x="81039" y="157321"/>
                </a:lnTo>
                <a:lnTo>
                  <a:pt x="91880" y="172791"/>
                </a:lnTo>
                <a:lnTo>
                  <a:pt x="96486" y="180916"/>
                </a:lnTo>
                <a:lnTo>
                  <a:pt x="100509" y="189191"/>
                </a:lnTo>
                <a:lnTo>
                  <a:pt x="104143" y="197565"/>
                </a:lnTo>
                <a:lnTo>
                  <a:pt x="108471" y="205052"/>
                </a:lnTo>
                <a:lnTo>
                  <a:pt x="113261" y="211949"/>
                </a:lnTo>
                <a:lnTo>
                  <a:pt x="118360" y="218452"/>
                </a:lnTo>
                <a:lnTo>
                  <a:pt x="122712" y="224692"/>
                </a:lnTo>
                <a:lnTo>
                  <a:pt x="126565" y="230757"/>
                </a:lnTo>
                <a:lnTo>
                  <a:pt x="130087" y="236706"/>
                </a:lnTo>
                <a:lnTo>
                  <a:pt x="133387" y="242576"/>
                </a:lnTo>
                <a:lnTo>
                  <a:pt x="139594" y="254179"/>
                </a:lnTo>
                <a:lnTo>
                  <a:pt x="157097" y="288595"/>
                </a:lnTo>
                <a:lnTo>
                  <a:pt x="162831" y="297492"/>
                </a:lnTo>
                <a:lnTo>
                  <a:pt x="165694" y="301198"/>
                </a:lnTo>
                <a:lnTo>
                  <a:pt x="167602" y="305574"/>
                </a:lnTo>
                <a:lnTo>
                  <a:pt x="169723" y="315516"/>
                </a:lnTo>
                <a:lnTo>
                  <a:pt x="173205" y="323745"/>
                </a:lnTo>
                <a:lnTo>
                  <a:pt x="177928" y="330577"/>
                </a:lnTo>
                <a:lnTo>
                  <a:pt x="183202" y="336788"/>
                </a:lnTo>
                <a:lnTo>
                  <a:pt x="186976" y="341089"/>
                </a:lnTo>
                <a:lnTo>
                  <a:pt x="187505" y="342645"/>
                </a:lnTo>
                <a:lnTo>
                  <a:pt x="188094" y="346914"/>
                </a:lnTo>
                <a:lnTo>
                  <a:pt x="189203" y="349386"/>
                </a:lnTo>
                <a:lnTo>
                  <a:pt x="195288" y="357658"/>
                </a:lnTo>
                <a:lnTo>
                  <a:pt x="195904" y="358454"/>
                </a:lnTo>
                <a:lnTo>
                  <a:pt x="197267" y="358984"/>
                </a:lnTo>
                <a:lnTo>
                  <a:pt x="199129" y="359338"/>
                </a:lnTo>
                <a:lnTo>
                  <a:pt x="205709" y="3600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MARTPenAnnotation787"/>
          <p:cNvSpPr/>
          <p:nvPr/>
        </p:nvSpPr>
        <p:spPr>
          <a:xfrm>
            <a:off x="1135080" y="4106880"/>
            <a:ext cx="230040" cy="299880"/>
          </a:xfrm>
          <a:custGeom>
            <a:avLst/>
            <a:gdLst>
              <a:gd name="textAreaLeft" fmla="*/ 0 w 230040"/>
              <a:gd name="textAreaRight" fmla="*/ 230400 w 23004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231454" h="300039">
                <a:moveTo>
                  <a:pt x="231453" y="0"/>
                </a:moveTo>
                <a:lnTo>
                  <a:pt x="224073" y="7381"/>
                </a:lnTo>
                <a:lnTo>
                  <a:pt x="220870" y="13123"/>
                </a:lnTo>
                <a:lnTo>
                  <a:pt x="217225" y="21073"/>
                </a:lnTo>
                <a:lnTo>
                  <a:pt x="215605" y="27781"/>
                </a:lnTo>
                <a:lnTo>
                  <a:pt x="209804" y="36477"/>
                </a:lnTo>
                <a:lnTo>
                  <a:pt x="205591" y="41463"/>
                </a:lnTo>
                <a:lnTo>
                  <a:pt x="201829" y="46692"/>
                </a:lnTo>
                <a:lnTo>
                  <a:pt x="198369" y="52083"/>
                </a:lnTo>
                <a:lnTo>
                  <a:pt x="195110" y="57582"/>
                </a:lnTo>
                <a:lnTo>
                  <a:pt x="186408" y="71312"/>
                </a:lnTo>
                <a:lnTo>
                  <a:pt x="181421" y="78974"/>
                </a:lnTo>
                <a:lnTo>
                  <a:pt x="176191" y="85987"/>
                </a:lnTo>
                <a:lnTo>
                  <a:pt x="170799" y="92567"/>
                </a:lnTo>
                <a:lnTo>
                  <a:pt x="165300" y="98859"/>
                </a:lnTo>
                <a:lnTo>
                  <a:pt x="159729" y="105911"/>
                </a:lnTo>
                <a:lnTo>
                  <a:pt x="154109" y="113470"/>
                </a:lnTo>
                <a:lnTo>
                  <a:pt x="142786" y="129488"/>
                </a:lnTo>
                <a:lnTo>
                  <a:pt x="131403" y="146133"/>
                </a:lnTo>
                <a:lnTo>
                  <a:pt x="124748" y="154572"/>
                </a:lnTo>
                <a:lnTo>
                  <a:pt x="117454" y="163056"/>
                </a:lnTo>
                <a:lnTo>
                  <a:pt x="109734" y="171569"/>
                </a:lnTo>
                <a:lnTo>
                  <a:pt x="102682" y="180102"/>
                </a:lnTo>
                <a:lnTo>
                  <a:pt x="96076" y="188648"/>
                </a:lnTo>
                <a:lnTo>
                  <a:pt x="89767" y="197203"/>
                </a:lnTo>
                <a:lnTo>
                  <a:pt x="83656" y="204811"/>
                </a:lnTo>
                <a:lnTo>
                  <a:pt x="77677" y="211788"/>
                </a:lnTo>
                <a:lnTo>
                  <a:pt x="71785" y="218345"/>
                </a:lnTo>
                <a:lnTo>
                  <a:pt x="66906" y="224621"/>
                </a:lnTo>
                <a:lnTo>
                  <a:pt x="62700" y="230710"/>
                </a:lnTo>
                <a:lnTo>
                  <a:pt x="58944" y="236674"/>
                </a:lnTo>
                <a:lnTo>
                  <a:pt x="54534" y="242555"/>
                </a:lnTo>
                <a:lnTo>
                  <a:pt x="49690" y="248381"/>
                </a:lnTo>
                <a:lnTo>
                  <a:pt x="44555" y="254170"/>
                </a:lnTo>
                <a:lnTo>
                  <a:pt x="40180" y="259934"/>
                </a:lnTo>
                <a:lnTo>
                  <a:pt x="36310" y="265682"/>
                </a:lnTo>
                <a:lnTo>
                  <a:pt x="32778" y="271419"/>
                </a:lnTo>
                <a:lnTo>
                  <a:pt x="26313" y="280333"/>
                </a:lnTo>
                <a:lnTo>
                  <a:pt x="20265" y="287470"/>
                </a:lnTo>
                <a:lnTo>
                  <a:pt x="14402" y="293817"/>
                </a:lnTo>
                <a:lnTo>
                  <a:pt x="11505" y="295891"/>
                </a:lnTo>
                <a:lnTo>
                  <a:pt x="5746" y="298195"/>
                </a:lnTo>
                <a:lnTo>
                  <a:pt x="2" y="300035"/>
                </a:lnTo>
                <a:lnTo>
                  <a:pt x="0" y="300036"/>
                </a:lnTo>
                <a:lnTo>
                  <a:pt x="8568" y="3000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MARTPenAnnotation788"/>
          <p:cNvSpPr/>
          <p:nvPr/>
        </p:nvSpPr>
        <p:spPr>
          <a:xfrm>
            <a:off x="1450800" y="3986280"/>
            <a:ext cx="360360" cy="136440"/>
          </a:xfrm>
          <a:custGeom>
            <a:avLst/>
            <a:gdLst>
              <a:gd name="textAreaLeft" fmla="*/ 0 w 360360"/>
              <a:gd name="textAreaRight" fmla="*/ 360720 w 3603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360046" h="137044">
                <a:moveTo>
                  <a:pt x="0" y="77036"/>
                </a:moveTo>
                <a:lnTo>
                  <a:pt x="0" y="72485"/>
                </a:lnTo>
                <a:lnTo>
                  <a:pt x="953" y="70192"/>
                </a:lnTo>
                <a:lnTo>
                  <a:pt x="2540" y="67711"/>
                </a:lnTo>
                <a:lnTo>
                  <a:pt x="7381" y="61435"/>
                </a:lnTo>
                <a:lnTo>
                  <a:pt x="10583" y="58037"/>
                </a:lnTo>
                <a:lnTo>
                  <a:pt x="28693" y="39780"/>
                </a:lnTo>
                <a:lnTo>
                  <a:pt x="32464" y="36958"/>
                </a:lnTo>
                <a:lnTo>
                  <a:pt x="36883" y="34125"/>
                </a:lnTo>
                <a:lnTo>
                  <a:pt x="41734" y="31283"/>
                </a:lnTo>
                <a:lnTo>
                  <a:pt x="52204" y="28126"/>
                </a:lnTo>
                <a:lnTo>
                  <a:pt x="57663" y="27284"/>
                </a:lnTo>
                <a:lnTo>
                  <a:pt x="66268" y="23809"/>
                </a:lnTo>
                <a:lnTo>
                  <a:pt x="69896" y="21549"/>
                </a:lnTo>
                <a:lnTo>
                  <a:pt x="74220" y="19089"/>
                </a:lnTo>
                <a:lnTo>
                  <a:pt x="84105" y="13817"/>
                </a:lnTo>
                <a:lnTo>
                  <a:pt x="94848" y="10838"/>
                </a:lnTo>
                <a:lnTo>
                  <a:pt x="105972" y="8562"/>
                </a:lnTo>
                <a:lnTo>
                  <a:pt x="111606" y="6622"/>
                </a:lnTo>
                <a:lnTo>
                  <a:pt x="117266" y="4375"/>
                </a:lnTo>
                <a:lnTo>
                  <a:pt x="122945" y="2878"/>
                </a:lnTo>
                <a:lnTo>
                  <a:pt x="128636" y="1880"/>
                </a:lnTo>
                <a:lnTo>
                  <a:pt x="134335" y="1214"/>
                </a:lnTo>
                <a:lnTo>
                  <a:pt x="140039" y="771"/>
                </a:lnTo>
                <a:lnTo>
                  <a:pt x="145747" y="475"/>
                </a:lnTo>
                <a:lnTo>
                  <a:pt x="160342" y="58"/>
                </a:lnTo>
                <a:lnTo>
                  <a:pt x="164045" y="0"/>
                </a:lnTo>
                <a:lnTo>
                  <a:pt x="167466" y="914"/>
                </a:lnTo>
                <a:lnTo>
                  <a:pt x="173807" y="4469"/>
                </a:lnTo>
                <a:lnTo>
                  <a:pt x="179800" y="6684"/>
                </a:lnTo>
                <a:lnTo>
                  <a:pt x="182732" y="7274"/>
                </a:lnTo>
                <a:lnTo>
                  <a:pt x="188530" y="10470"/>
                </a:lnTo>
                <a:lnTo>
                  <a:pt x="191409" y="12657"/>
                </a:lnTo>
                <a:lnTo>
                  <a:pt x="193329" y="15066"/>
                </a:lnTo>
                <a:lnTo>
                  <a:pt x="194609" y="17625"/>
                </a:lnTo>
                <a:lnTo>
                  <a:pt x="195462" y="20284"/>
                </a:lnTo>
                <a:lnTo>
                  <a:pt x="196030" y="23008"/>
                </a:lnTo>
                <a:lnTo>
                  <a:pt x="196409" y="25778"/>
                </a:lnTo>
                <a:lnTo>
                  <a:pt x="196663" y="28576"/>
                </a:lnTo>
                <a:lnTo>
                  <a:pt x="196831" y="31394"/>
                </a:lnTo>
                <a:lnTo>
                  <a:pt x="197018" y="37066"/>
                </a:lnTo>
                <a:lnTo>
                  <a:pt x="196116" y="40864"/>
                </a:lnTo>
                <a:lnTo>
                  <a:pt x="194562" y="45301"/>
                </a:lnTo>
                <a:lnTo>
                  <a:pt x="192573" y="50164"/>
                </a:lnTo>
                <a:lnTo>
                  <a:pt x="190294" y="54359"/>
                </a:lnTo>
                <a:lnTo>
                  <a:pt x="187823" y="58108"/>
                </a:lnTo>
                <a:lnTo>
                  <a:pt x="185223" y="61559"/>
                </a:lnTo>
                <a:lnTo>
                  <a:pt x="182537" y="65766"/>
                </a:lnTo>
                <a:lnTo>
                  <a:pt x="179794" y="70475"/>
                </a:lnTo>
                <a:lnTo>
                  <a:pt x="177013" y="75519"/>
                </a:lnTo>
                <a:lnTo>
                  <a:pt x="173254" y="79835"/>
                </a:lnTo>
                <a:lnTo>
                  <a:pt x="168843" y="83664"/>
                </a:lnTo>
                <a:lnTo>
                  <a:pt x="163997" y="87170"/>
                </a:lnTo>
                <a:lnTo>
                  <a:pt x="159814" y="90459"/>
                </a:lnTo>
                <a:lnTo>
                  <a:pt x="156073" y="93605"/>
                </a:lnTo>
                <a:lnTo>
                  <a:pt x="152626" y="96654"/>
                </a:lnTo>
                <a:lnTo>
                  <a:pt x="143717" y="105122"/>
                </a:lnTo>
                <a:lnTo>
                  <a:pt x="127026" y="121530"/>
                </a:lnTo>
                <a:lnTo>
                  <a:pt x="123736" y="123844"/>
                </a:lnTo>
                <a:lnTo>
                  <a:pt x="114556" y="128052"/>
                </a:lnTo>
                <a:lnTo>
                  <a:pt x="111613" y="130097"/>
                </a:lnTo>
                <a:lnTo>
                  <a:pt x="108699" y="132412"/>
                </a:lnTo>
                <a:lnTo>
                  <a:pt x="104851" y="133956"/>
                </a:lnTo>
                <a:lnTo>
                  <a:pt x="95496" y="135671"/>
                </a:lnTo>
                <a:lnTo>
                  <a:pt x="85979" y="137008"/>
                </a:lnTo>
                <a:lnTo>
                  <a:pt x="127459" y="137043"/>
                </a:lnTo>
                <a:lnTo>
                  <a:pt x="137929" y="134503"/>
                </a:lnTo>
                <a:lnTo>
                  <a:pt x="143388" y="132492"/>
                </a:lnTo>
                <a:lnTo>
                  <a:pt x="149884" y="131152"/>
                </a:lnTo>
                <a:lnTo>
                  <a:pt x="157073" y="130258"/>
                </a:lnTo>
                <a:lnTo>
                  <a:pt x="164723" y="129662"/>
                </a:lnTo>
                <a:lnTo>
                  <a:pt x="171728" y="129265"/>
                </a:lnTo>
                <a:lnTo>
                  <a:pt x="184591" y="128824"/>
                </a:lnTo>
                <a:lnTo>
                  <a:pt x="202543" y="128576"/>
                </a:lnTo>
                <a:lnTo>
                  <a:pt x="210276" y="127588"/>
                </a:lnTo>
                <a:lnTo>
                  <a:pt x="219242" y="125977"/>
                </a:lnTo>
                <a:lnTo>
                  <a:pt x="229029" y="123951"/>
                </a:lnTo>
                <a:lnTo>
                  <a:pt x="237459" y="122600"/>
                </a:lnTo>
                <a:lnTo>
                  <a:pt x="244983" y="121699"/>
                </a:lnTo>
                <a:lnTo>
                  <a:pt x="251905" y="121099"/>
                </a:lnTo>
                <a:lnTo>
                  <a:pt x="259377" y="120698"/>
                </a:lnTo>
                <a:lnTo>
                  <a:pt x="275299" y="120254"/>
                </a:lnTo>
                <a:lnTo>
                  <a:pt x="360045" y="1198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MARTPenAnnotation789"/>
          <p:cNvSpPr/>
          <p:nvPr/>
        </p:nvSpPr>
        <p:spPr>
          <a:xfrm>
            <a:off x="1863720" y="4183200"/>
            <a:ext cx="214200" cy="17280"/>
          </a:xfrm>
          <a:custGeom>
            <a:avLst/>
            <a:gdLst>
              <a:gd name="textAreaLeft" fmla="*/ 0 w 214200"/>
              <a:gd name="textAreaRight" fmla="*/ 214560 w 2142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14314" h="17147">
                <a:moveTo>
                  <a:pt x="0" y="17146"/>
                </a:moveTo>
                <a:lnTo>
                  <a:pt x="0" y="8926"/>
                </a:lnTo>
                <a:lnTo>
                  <a:pt x="5892" y="8643"/>
                </a:lnTo>
                <a:lnTo>
                  <a:pt x="10583" y="8587"/>
                </a:lnTo>
                <a:lnTo>
                  <a:pt x="52783" y="8573"/>
                </a:lnTo>
                <a:lnTo>
                  <a:pt x="57096" y="7621"/>
                </a:lnTo>
                <a:lnTo>
                  <a:pt x="61877" y="6033"/>
                </a:lnTo>
                <a:lnTo>
                  <a:pt x="66969" y="4022"/>
                </a:lnTo>
                <a:lnTo>
                  <a:pt x="72269" y="2682"/>
                </a:lnTo>
                <a:lnTo>
                  <a:pt x="77707" y="1788"/>
                </a:lnTo>
                <a:lnTo>
                  <a:pt x="83237" y="1192"/>
                </a:lnTo>
                <a:lnTo>
                  <a:pt x="88829" y="795"/>
                </a:lnTo>
                <a:lnTo>
                  <a:pt x="94462" y="530"/>
                </a:lnTo>
                <a:lnTo>
                  <a:pt x="108952" y="157"/>
                </a:lnTo>
                <a:lnTo>
                  <a:pt x="195609" y="0"/>
                </a:lnTo>
                <a:lnTo>
                  <a:pt x="198986" y="953"/>
                </a:lnTo>
                <a:lnTo>
                  <a:pt x="201238" y="2541"/>
                </a:lnTo>
                <a:lnTo>
                  <a:pt x="202739" y="4551"/>
                </a:lnTo>
                <a:lnTo>
                  <a:pt x="204692" y="5892"/>
                </a:lnTo>
                <a:lnTo>
                  <a:pt x="206946" y="6786"/>
                </a:lnTo>
                <a:lnTo>
                  <a:pt x="214313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MARTPenAnnotation790"/>
          <p:cNvSpPr/>
          <p:nvPr/>
        </p:nvSpPr>
        <p:spPr>
          <a:xfrm>
            <a:off x="1854360" y="4286160"/>
            <a:ext cx="257040" cy="17640"/>
          </a:xfrm>
          <a:custGeom>
            <a:avLst/>
            <a:gdLst>
              <a:gd name="textAreaLeft" fmla="*/ 0 w 257040"/>
              <a:gd name="textAreaRight" fmla="*/ 257400 w 25704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57145" h="17146">
                <a:moveTo>
                  <a:pt x="8541" y="0"/>
                </a:moveTo>
                <a:lnTo>
                  <a:pt x="0" y="0"/>
                </a:lnTo>
                <a:lnTo>
                  <a:pt x="146868" y="0"/>
                </a:lnTo>
                <a:lnTo>
                  <a:pt x="150290" y="952"/>
                </a:lnTo>
                <a:lnTo>
                  <a:pt x="153523" y="2540"/>
                </a:lnTo>
                <a:lnTo>
                  <a:pt x="156630" y="4550"/>
                </a:lnTo>
                <a:lnTo>
                  <a:pt x="160608" y="5891"/>
                </a:lnTo>
                <a:lnTo>
                  <a:pt x="165164" y="6785"/>
                </a:lnTo>
                <a:lnTo>
                  <a:pt x="170106" y="7380"/>
                </a:lnTo>
                <a:lnTo>
                  <a:pt x="174354" y="7778"/>
                </a:lnTo>
                <a:lnTo>
                  <a:pt x="181613" y="8219"/>
                </a:lnTo>
                <a:lnTo>
                  <a:pt x="188015" y="8415"/>
                </a:lnTo>
                <a:lnTo>
                  <a:pt x="199514" y="8526"/>
                </a:lnTo>
                <a:lnTo>
                  <a:pt x="241557" y="8571"/>
                </a:lnTo>
                <a:lnTo>
                  <a:pt x="244848" y="9524"/>
                </a:lnTo>
                <a:lnTo>
                  <a:pt x="247994" y="11112"/>
                </a:lnTo>
                <a:lnTo>
                  <a:pt x="257144" y="17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MARTPenAnnotation791"/>
          <p:cNvSpPr/>
          <p:nvPr/>
        </p:nvSpPr>
        <p:spPr>
          <a:xfrm>
            <a:off x="2567160" y="3917880"/>
            <a:ext cx="196560" cy="231840"/>
          </a:xfrm>
          <a:custGeom>
            <a:avLst/>
            <a:gdLst>
              <a:gd name="textAreaLeft" fmla="*/ 0 w 196560"/>
              <a:gd name="textAreaRight" fmla="*/ 196920 w 1965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96663" h="231442">
                <a:moveTo>
                  <a:pt x="196662" y="17142"/>
                </a:moveTo>
                <a:lnTo>
                  <a:pt x="192111" y="17142"/>
                </a:lnTo>
                <a:lnTo>
                  <a:pt x="189818" y="16190"/>
                </a:lnTo>
                <a:lnTo>
                  <a:pt x="184730" y="12591"/>
                </a:lnTo>
                <a:lnTo>
                  <a:pt x="181062" y="9761"/>
                </a:lnTo>
                <a:lnTo>
                  <a:pt x="177664" y="9099"/>
                </a:lnTo>
                <a:lnTo>
                  <a:pt x="175424" y="8923"/>
                </a:lnTo>
                <a:lnTo>
                  <a:pt x="172978" y="7852"/>
                </a:lnTo>
                <a:lnTo>
                  <a:pt x="167721" y="4124"/>
                </a:lnTo>
                <a:lnTo>
                  <a:pt x="162209" y="1831"/>
                </a:lnTo>
                <a:lnTo>
                  <a:pt x="156585" y="812"/>
                </a:lnTo>
                <a:lnTo>
                  <a:pt x="150910" y="359"/>
                </a:lnTo>
                <a:lnTo>
                  <a:pt x="145213" y="158"/>
                </a:lnTo>
                <a:lnTo>
                  <a:pt x="133794" y="29"/>
                </a:lnTo>
                <a:lnTo>
                  <a:pt x="104720" y="0"/>
                </a:lnTo>
                <a:lnTo>
                  <a:pt x="99172" y="951"/>
                </a:lnTo>
                <a:lnTo>
                  <a:pt x="93569" y="2538"/>
                </a:lnTo>
                <a:lnTo>
                  <a:pt x="87928" y="4549"/>
                </a:lnTo>
                <a:lnTo>
                  <a:pt x="83215" y="5889"/>
                </a:lnTo>
                <a:lnTo>
                  <a:pt x="79121" y="6782"/>
                </a:lnTo>
                <a:lnTo>
                  <a:pt x="75439" y="7378"/>
                </a:lnTo>
                <a:lnTo>
                  <a:pt x="71079" y="7775"/>
                </a:lnTo>
                <a:lnTo>
                  <a:pt x="66267" y="8040"/>
                </a:lnTo>
                <a:lnTo>
                  <a:pt x="61155" y="8217"/>
                </a:lnTo>
                <a:lnTo>
                  <a:pt x="55841" y="9287"/>
                </a:lnTo>
                <a:lnTo>
                  <a:pt x="50394" y="10953"/>
                </a:lnTo>
                <a:lnTo>
                  <a:pt x="44858" y="13016"/>
                </a:lnTo>
                <a:lnTo>
                  <a:pt x="40214" y="14391"/>
                </a:lnTo>
                <a:lnTo>
                  <a:pt x="36166" y="15308"/>
                </a:lnTo>
                <a:lnTo>
                  <a:pt x="32515" y="15920"/>
                </a:lnTo>
                <a:lnTo>
                  <a:pt x="29128" y="17280"/>
                </a:lnTo>
                <a:lnTo>
                  <a:pt x="25918" y="19139"/>
                </a:lnTo>
                <a:lnTo>
                  <a:pt x="19810" y="23744"/>
                </a:lnTo>
                <a:lnTo>
                  <a:pt x="13921" y="28966"/>
                </a:lnTo>
                <a:lnTo>
                  <a:pt x="11017" y="30740"/>
                </a:lnTo>
                <a:lnTo>
                  <a:pt x="5251" y="32711"/>
                </a:lnTo>
                <a:lnTo>
                  <a:pt x="3332" y="34189"/>
                </a:lnTo>
                <a:lnTo>
                  <a:pt x="2053" y="36127"/>
                </a:lnTo>
                <a:lnTo>
                  <a:pt x="632" y="40819"/>
                </a:lnTo>
                <a:lnTo>
                  <a:pt x="0" y="46081"/>
                </a:lnTo>
                <a:lnTo>
                  <a:pt x="784" y="48817"/>
                </a:lnTo>
                <a:lnTo>
                  <a:pt x="4195" y="54397"/>
                </a:lnTo>
                <a:lnTo>
                  <a:pt x="8886" y="60052"/>
                </a:lnTo>
                <a:lnTo>
                  <a:pt x="11471" y="62894"/>
                </a:lnTo>
                <a:lnTo>
                  <a:pt x="14146" y="64788"/>
                </a:lnTo>
                <a:lnTo>
                  <a:pt x="19659" y="66893"/>
                </a:lnTo>
                <a:lnTo>
                  <a:pt x="25284" y="70369"/>
                </a:lnTo>
                <a:lnTo>
                  <a:pt x="28117" y="72629"/>
                </a:lnTo>
                <a:lnTo>
                  <a:pt x="31911" y="75088"/>
                </a:lnTo>
                <a:lnTo>
                  <a:pt x="36346" y="77680"/>
                </a:lnTo>
                <a:lnTo>
                  <a:pt x="41207" y="80361"/>
                </a:lnTo>
                <a:lnTo>
                  <a:pt x="45400" y="83101"/>
                </a:lnTo>
                <a:lnTo>
                  <a:pt x="49148" y="85879"/>
                </a:lnTo>
                <a:lnTo>
                  <a:pt x="52600" y="88684"/>
                </a:lnTo>
                <a:lnTo>
                  <a:pt x="56806" y="91507"/>
                </a:lnTo>
                <a:lnTo>
                  <a:pt x="61514" y="94341"/>
                </a:lnTo>
                <a:lnTo>
                  <a:pt x="66558" y="97183"/>
                </a:lnTo>
                <a:lnTo>
                  <a:pt x="77243" y="102881"/>
                </a:lnTo>
                <a:lnTo>
                  <a:pt x="99625" y="114300"/>
                </a:lnTo>
                <a:lnTo>
                  <a:pt x="104348" y="117157"/>
                </a:lnTo>
                <a:lnTo>
                  <a:pt x="108449" y="120013"/>
                </a:lnTo>
                <a:lnTo>
                  <a:pt x="112136" y="122871"/>
                </a:lnTo>
                <a:lnTo>
                  <a:pt x="116499" y="125728"/>
                </a:lnTo>
                <a:lnTo>
                  <a:pt x="121312" y="128585"/>
                </a:lnTo>
                <a:lnTo>
                  <a:pt x="126427" y="131443"/>
                </a:lnTo>
                <a:lnTo>
                  <a:pt x="130788" y="134300"/>
                </a:lnTo>
                <a:lnTo>
                  <a:pt x="134649" y="137157"/>
                </a:lnTo>
                <a:lnTo>
                  <a:pt x="138175" y="140015"/>
                </a:lnTo>
                <a:lnTo>
                  <a:pt x="141478" y="142872"/>
                </a:lnTo>
                <a:lnTo>
                  <a:pt x="144633" y="145730"/>
                </a:lnTo>
                <a:lnTo>
                  <a:pt x="147688" y="148587"/>
                </a:lnTo>
                <a:lnTo>
                  <a:pt x="149725" y="152397"/>
                </a:lnTo>
                <a:lnTo>
                  <a:pt x="151083" y="156842"/>
                </a:lnTo>
                <a:lnTo>
                  <a:pt x="151989" y="161710"/>
                </a:lnTo>
                <a:lnTo>
                  <a:pt x="152592" y="165909"/>
                </a:lnTo>
                <a:lnTo>
                  <a:pt x="153263" y="173113"/>
                </a:lnTo>
                <a:lnTo>
                  <a:pt x="153561" y="179490"/>
                </a:lnTo>
                <a:lnTo>
                  <a:pt x="153693" y="186452"/>
                </a:lnTo>
                <a:lnTo>
                  <a:pt x="153752" y="195896"/>
                </a:lnTo>
                <a:lnTo>
                  <a:pt x="152816" y="200129"/>
                </a:lnTo>
                <a:lnTo>
                  <a:pt x="151239" y="203903"/>
                </a:lnTo>
                <a:lnTo>
                  <a:pt x="146946" y="210637"/>
                </a:lnTo>
                <a:lnTo>
                  <a:pt x="141864" y="216805"/>
                </a:lnTo>
                <a:lnTo>
                  <a:pt x="138222" y="219783"/>
                </a:lnTo>
                <a:lnTo>
                  <a:pt x="133890" y="222721"/>
                </a:lnTo>
                <a:lnTo>
                  <a:pt x="122350" y="229730"/>
                </a:lnTo>
                <a:lnTo>
                  <a:pt x="119498" y="230304"/>
                </a:lnTo>
                <a:lnTo>
                  <a:pt x="115692" y="230688"/>
                </a:lnTo>
                <a:lnTo>
                  <a:pt x="107335" y="231114"/>
                </a:lnTo>
                <a:lnTo>
                  <a:pt x="100446" y="231303"/>
                </a:lnTo>
                <a:lnTo>
                  <a:pt x="79614" y="231441"/>
                </a:lnTo>
                <a:lnTo>
                  <a:pt x="77673" y="230493"/>
                </a:lnTo>
                <a:lnTo>
                  <a:pt x="72976" y="226900"/>
                </a:lnTo>
                <a:lnTo>
                  <a:pt x="67713" y="222128"/>
                </a:lnTo>
                <a:lnTo>
                  <a:pt x="64976" y="219522"/>
                </a:lnTo>
                <a:lnTo>
                  <a:pt x="62199" y="217784"/>
                </a:lnTo>
                <a:lnTo>
                  <a:pt x="56573" y="215854"/>
                </a:lnTo>
                <a:lnTo>
                  <a:pt x="53739" y="213434"/>
                </a:lnTo>
                <a:lnTo>
                  <a:pt x="50898" y="209916"/>
                </a:lnTo>
                <a:lnTo>
                  <a:pt x="48051" y="205666"/>
                </a:lnTo>
                <a:lnTo>
                  <a:pt x="46153" y="201879"/>
                </a:lnTo>
                <a:lnTo>
                  <a:pt x="44044" y="195132"/>
                </a:lnTo>
                <a:lnTo>
                  <a:pt x="43107" y="188959"/>
                </a:lnTo>
                <a:lnTo>
                  <a:pt x="42690" y="182088"/>
                </a:lnTo>
                <a:lnTo>
                  <a:pt x="42455" y="168462"/>
                </a:lnTo>
                <a:lnTo>
                  <a:pt x="42401" y="161230"/>
                </a:lnTo>
                <a:lnTo>
                  <a:pt x="43339" y="157016"/>
                </a:lnTo>
                <a:lnTo>
                  <a:pt x="44917" y="152301"/>
                </a:lnTo>
                <a:lnTo>
                  <a:pt x="46921" y="147253"/>
                </a:lnTo>
                <a:lnTo>
                  <a:pt x="49210" y="142935"/>
                </a:lnTo>
                <a:lnTo>
                  <a:pt x="51688" y="139104"/>
                </a:lnTo>
                <a:lnTo>
                  <a:pt x="54293" y="135598"/>
                </a:lnTo>
                <a:lnTo>
                  <a:pt x="56982" y="131355"/>
                </a:lnTo>
                <a:lnTo>
                  <a:pt x="59727" y="126622"/>
                </a:lnTo>
                <a:lnTo>
                  <a:pt x="62509" y="121561"/>
                </a:lnTo>
                <a:lnTo>
                  <a:pt x="65317" y="117234"/>
                </a:lnTo>
                <a:lnTo>
                  <a:pt x="68141" y="113398"/>
                </a:lnTo>
                <a:lnTo>
                  <a:pt x="70976" y="109888"/>
                </a:lnTo>
                <a:lnTo>
                  <a:pt x="74772" y="106595"/>
                </a:lnTo>
                <a:lnTo>
                  <a:pt x="79207" y="103447"/>
                </a:lnTo>
                <a:lnTo>
                  <a:pt x="84069" y="100397"/>
                </a:lnTo>
                <a:lnTo>
                  <a:pt x="88262" y="97410"/>
                </a:lnTo>
                <a:lnTo>
                  <a:pt x="92010" y="94467"/>
                </a:lnTo>
                <a:lnTo>
                  <a:pt x="95462" y="91552"/>
                </a:lnTo>
                <a:lnTo>
                  <a:pt x="99668" y="88656"/>
                </a:lnTo>
                <a:lnTo>
                  <a:pt x="104377" y="85773"/>
                </a:lnTo>
                <a:lnTo>
                  <a:pt x="109421" y="82899"/>
                </a:lnTo>
                <a:lnTo>
                  <a:pt x="113736" y="80982"/>
                </a:lnTo>
                <a:lnTo>
                  <a:pt x="117566" y="79705"/>
                </a:lnTo>
                <a:lnTo>
                  <a:pt x="121071" y="78853"/>
                </a:lnTo>
                <a:lnTo>
                  <a:pt x="125313" y="77333"/>
                </a:lnTo>
                <a:lnTo>
                  <a:pt x="130046" y="75367"/>
                </a:lnTo>
                <a:lnTo>
                  <a:pt x="135106" y="73104"/>
                </a:lnTo>
                <a:lnTo>
                  <a:pt x="140385" y="71595"/>
                </a:lnTo>
                <a:lnTo>
                  <a:pt x="145809" y="70589"/>
                </a:lnTo>
                <a:lnTo>
                  <a:pt x="151330" y="69918"/>
                </a:lnTo>
                <a:lnTo>
                  <a:pt x="155963" y="68519"/>
                </a:lnTo>
                <a:lnTo>
                  <a:pt x="160004" y="66633"/>
                </a:lnTo>
                <a:lnTo>
                  <a:pt x="163651" y="64424"/>
                </a:lnTo>
                <a:lnTo>
                  <a:pt x="167035" y="62951"/>
                </a:lnTo>
                <a:lnTo>
                  <a:pt x="170243" y="61969"/>
                </a:lnTo>
                <a:lnTo>
                  <a:pt x="179517" y="600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MARTPenAnnotation792"/>
          <p:cNvSpPr/>
          <p:nvPr/>
        </p:nvSpPr>
        <p:spPr>
          <a:xfrm>
            <a:off x="2908440" y="3892680"/>
            <a:ext cx="17280" cy="264960"/>
          </a:xfrm>
          <a:custGeom>
            <a:avLst/>
            <a:gdLst>
              <a:gd name="textAreaLeft" fmla="*/ 0 w 17280"/>
              <a:gd name="textAreaRight" fmla="*/ 17640 w 172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7145" h="265717">
                <a:moveTo>
                  <a:pt x="0" y="17114"/>
                </a:moveTo>
                <a:lnTo>
                  <a:pt x="0" y="8894"/>
                </a:lnTo>
                <a:lnTo>
                  <a:pt x="952" y="7824"/>
                </a:lnTo>
                <a:lnTo>
                  <a:pt x="8219" y="331"/>
                </a:lnTo>
                <a:lnTo>
                  <a:pt x="7384" y="210"/>
                </a:lnTo>
                <a:lnTo>
                  <a:pt x="5875" y="130"/>
                </a:lnTo>
                <a:lnTo>
                  <a:pt x="1160" y="0"/>
                </a:lnTo>
                <a:lnTo>
                  <a:pt x="1726" y="942"/>
                </a:lnTo>
                <a:lnTo>
                  <a:pt x="3055" y="2523"/>
                </a:lnTo>
                <a:lnTo>
                  <a:pt x="7482" y="7352"/>
                </a:lnTo>
                <a:lnTo>
                  <a:pt x="7845" y="8701"/>
                </a:lnTo>
                <a:lnTo>
                  <a:pt x="8357" y="15150"/>
                </a:lnTo>
                <a:lnTo>
                  <a:pt x="8508" y="23094"/>
                </a:lnTo>
                <a:lnTo>
                  <a:pt x="8572" y="141656"/>
                </a:lnTo>
                <a:lnTo>
                  <a:pt x="9525" y="147767"/>
                </a:lnTo>
                <a:lnTo>
                  <a:pt x="11112" y="153746"/>
                </a:lnTo>
                <a:lnTo>
                  <a:pt x="13123" y="159636"/>
                </a:lnTo>
                <a:lnTo>
                  <a:pt x="14463" y="165469"/>
                </a:lnTo>
                <a:lnTo>
                  <a:pt x="15357" y="171262"/>
                </a:lnTo>
                <a:lnTo>
                  <a:pt x="15953" y="177030"/>
                </a:lnTo>
                <a:lnTo>
                  <a:pt x="15398" y="182779"/>
                </a:lnTo>
                <a:lnTo>
                  <a:pt x="14075" y="188517"/>
                </a:lnTo>
                <a:lnTo>
                  <a:pt x="12240" y="194248"/>
                </a:lnTo>
                <a:lnTo>
                  <a:pt x="11018" y="199973"/>
                </a:lnTo>
                <a:lnTo>
                  <a:pt x="10203" y="205695"/>
                </a:lnTo>
                <a:lnTo>
                  <a:pt x="9659" y="211415"/>
                </a:lnTo>
                <a:lnTo>
                  <a:pt x="9297" y="216180"/>
                </a:lnTo>
                <a:lnTo>
                  <a:pt x="8894" y="224015"/>
                </a:lnTo>
                <a:lnTo>
                  <a:pt x="8715" y="233212"/>
                </a:lnTo>
                <a:lnTo>
                  <a:pt x="8667" y="238332"/>
                </a:lnTo>
                <a:lnTo>
                  <a:pt x="9588" y="241745"/>
                </a:lnTo>
                <a:lnTo>
                  <a:pt x="11154" y="244020"/>
                </a:lnTo>
                <a:lnTo>
                  <a:pt x="13151" y="245537"/>
                </a:lnTo>
                <a:lnTo>
                  <a:pt x="14482" y="247501"/>
                </a:lnTo>
                <a:lnTo>
                  <a:pt x="15370" y="249763"/>
                </a:lnTo>
                <a:lnTo>
                  <a:pt x="17041" y="256712"/>
                </a:lnTo>
                <a:lnTo>
                  <a:pt x="17098" y="259492"/>
                </a:lnTo>
                <a:lnTo>
                  <a:pt x="17144" y="2657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MARTPenAnnotation793"/>
          <p:cNvSpPr/>
          <p:nvPr/>
        </p:nvSpPr>
        <p:spPr>
          <a:xfrm>
            <a:off x="2540160" y="4200480"/>
            <a:ext cx="523800" cy="42840"/>
          </a:xfrm>
          <a:custGeom>
            <a:avLst/>
            <a:gdLst>
              <a:gd name="textAreaLeft" fmla="*/ 0 w 523800"/>
              <a:gd name="textAreaRight" fmla="*/ 524160 w 52380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522818" h="42863">
                <a:moveTo>
                  <a:pt x="8467" y="42862"/>
                </a:moveTo>
                <a:lnTo>
                  <a:pt x="0" y="42862"/>
                </a:lnTo>
                <a:lnTo>
                  <a:pt x="40520" y="42862"/>
                </a:lnTo>
                <a:lnTo>
                  <a:pt x="46028" y="41910"/>
                </a:lnTo>
                <a:lnTo>
                  <a:pt x="51605" y="40322"/>
                </a:lnTo>
                <a:lnTo>
                  <a:pt x="57228" y="38312"/>
                </a:lnTo>
                <a:lnTo>
                  <a:pt x="63835" y="36971"/>
                </a:lnTo>
                <a:lnTo>
                  <a:pt x="71097" y="36077"/>
                </a:lnTo>
                <a:lnTo>
                  <a:pt x="78795" y="35481"/>
                </a:lnTo>
                <a:lnTo>
                  <a:pt x="86785" y="34132"/>
                </a:lnTo>
                <a:lnTo>
                  <a:pt x="94969" y="32279"/>
                </a:lnTo>
                <a:lnTo>
                  <a:pt x="103283" y="30092"/>
                </a:lnTo>
                <a:lnTo>
                  <a:pt x="111683" y="28633"/>
                </a:lnTo>
                <a:lnTo>
                  <a:pt x="120140" y="27661"/>
                </a:lnTo>
                <a:lnTo>
                  <a:pt x="128636" y="27013"/>
                </a:lnTo>
                <a:lnTo>
                  <a:pt x="137157" y="25629"/>
                </a:lnTo>
                <a:lnTo>
                  <a:pt x="145696" y="23753"/>
                </a:lnTo>
                <a:lnTo>
                  <a:pt x="154245" y="21551"/>
                </a:lnTo>
                <a:lnTo>
                  <a:pt x="162803" y="20082"/>
                </a:lnTo>
                <a:lnTo>
                  <a:pt x="171365" y="19103"/>
                </a:lnTo>
                <a:lnTo>
                  <a:pt x="179931" y="18450"/>
                </a:lnTo>
                <a:lnTo>
                  <a:pt x="189451" y="17062"/>
                </a:lnTo>
                <a:lnTo>
                  <a:pt x="199609" y="15185"/>
                </a:lnTo>
                <a:lnTo>
                  <a:pt x="210190" y="12980"/>
                </a:lnTo>
                <a:lnTo>
                  <a:pt x="221054" y="11511"/>
                </a:lnTo>
                <a:lnTo>
                  <a:pt x="232107" y="10531"/>
                </a:lnTo>
                <a:lnTo>
                  <a:pt x="243285" y="9878"/>
                </a:lnTo>
                <a:lnTo>
                  <a:pt x="254548" y="8490"/>
                </a:lnTo>
                <a:lnTo>
                  <a:pt x="265866" y="6613"/>
                </a:lnTo>
                <a:lnTo>
                  <a:pt x="277221" y="4408"/>
                </a:lnTo>
                <a:lnTo>
                  <a:pt x="288602" y="2939"/>
                </a:lnTo>
                <a:lnTo>
                  <a:pt x="299999" y="1959"/>
                </a:lnTo>
                <a:lnTo>
                  <a:pt x="311407" y="1306"/>
                </a:lnTo>
                <a:lnTo>
                  <a:pt x="331702" y="580"/>
                </a:lnTo>
                <a:lnTo>
                  <a:pt x="368015" y="115"/>
                </a:lnTo>
                <a:lnTo>
                  <a:pt x="5228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MARTPenAnnotation794"/>
          <p:cNvSpPr/>
          <p:nvPr/>
        </p:nvSpPr>
        <p:spPr>
          <a:xfrm>
            <a:off x="2678040" y="4303800"/>
            <a:ext cx="316080" cy="189000"/>
          </a:xfrm>
          <a:custGeom>
            <a:avLst/>
            <a:gdLst>
              <a:gd name="textAreaLeft" fmla="*/ 0 w 316080"/>
              <a:gd name="textAreaRight" fmla="*/ 316440 w 3160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317066" h="188570">
                <a:moveTo>
                  <a:pt x="8455" y="51422"/>
                </a:moveTo>
                <a:lnTo>
                  <a:pt x="3904" y="46872"/>
                </a:lnTo>
                <a:lnTo>
                  <a:pt x="3515" y="45531"/>
                </a:lnTo>
                <a:lnTo>
                  <a:pt x="4209" y="44638"/>
                </a:lnTo>
                <a:lnTo>
                  <a:pt x="5624" y="44042"/>
                </a:lnTo>
                <a:lnTo>
                  <a:pt x="6568" y="42692"/>
                </a:lnTo>
                <a:lnTo>
                  <a:pt x="7895" y="37194"/>
                </a:lnTo>
                <a:lnTo>
                  <a:pt x="8381" y="34662"/>
                </a:lnTo>
                <a:lnTo>
                  <a:pt x="8433" y="29841"/>
                </a:lnTo>
                <a:lnTo>
                  <a:pt x="10345" y="28462"/>
                </a:lnTo>
                <a:lnTo>
                  <a:pt x="17550" y="26931"/>
                </a:lnTo>
                <a:lnTo>
                  <a:pt x="24562" y="23710"/>
                </a:lnTo>
                <a:lnTo>
                  <a:pt x="31806" y="19103"/>
                </a:lnTo>
                <a:lnTo>
                  <a:pt x="41375" y="13881"/>
                </a:lnTo>
                <a:lnTo>
                  <a:pt x="49439" y="8385"/>
                </a:lnTo>
                <a:lnTo>
                  <a:pt x="52922" y="5586"/>
                </a:lnTo>
                <a:lnTo>
                  <a:pt x="58102" y="3720"/>
                </a:lnTo>
                <a:lnTo>
                  <a:pt x="64413" y="2476"/>
                </a:lnTo>
                <a:lnTo>
                  <a:pt x="71478" y="1646"/>
                </a:lnTo>
                <a:lnTo>
                  <a:pt x="78092" y="1093"/>
                </a:lnTo>
                <a:lnTo>
                  <a:pt x="84407" y="725"/>
                </a:lnTo>
                <a:lnTo>
                  <a:pt x="96504" y="315"/>
                </a:lnTo>
                <a:lnTo>
                  <a:pt x="119792" y="52"/>
                </a:lnTo>
                <a:lnTo>
                  <a:pt x="142736" y="0"/>
                </a:lnTo>
                <a:lnTo>
                  <a:pt x="148458" y="948"/>
                </a:lnTo>
                <a:lnTo>
                  <a:pt x="154178" y="2533"/>
                </a:lnTo>
                <a:lnTo>
                  <a:pt x="159896" y="4542"/>
                </a:lnTo>
                <a:lnTo>
                  <a:pt x="168789" y="9315"/>
                </a:lnTo>
                <a:lnTo>
                  <a:pt x="176869" y="14610"/>
                </a:lnTo>
                <a:lnTo>
                  <a:pt x="181691" y="17356"/>
                </a:lnTo>
                <a:lnTo>
                  <a:pt x="191176" y="22947"/>
                </a:lnTo>
                <a:lnTo>
                  <a:pt x="198567" y="28607"/>
                </a:lnTo>
                <a:lnTo>
                  <a:pt x="205026" y="34297"/>
                </a:lnTo>
                <a:lnTo>
                  <a:pt x="208082" y="37148"/>
                </a:lnTo>
                <a:lnTo>
                  <a:pt x="210120" y="40954"/>
                </a:lnTo>
                <a:lnTo>
                  <a:pt x="211478" y="45396"/>
                </a:lnTo>
                <a:lnTo>
                  <a:pt x="212383" y="50262"/>
                </a:lnTo>
                <a:lnTo>
                  <a:pt x="212987" y="54459"/>
                </a:lnTo>
                <a:lnTo>
                  <a:pt x="213389" y="58210"/>
                </a:lnTo>
                <a:lnTo>
                  <a:pt x="213658" y="61662"/>
                </a:lnTo>
                <a:lnTo>
                  <a:pt x="212884" y="66821"/>
                </a:lnTo>
                <a:lnTo>
                  <a:pt x="211416" y="73118"/>
                </a:lnTo>
                <a:lnTo>
                  <a:pt x="209485" y="80174"/>
                </a:lnTo>
                <a:lnTo>
                  <a:pt x="207245" y="85830"/>
                </a:lnTo>
                <a:lnTo>
                  <a:pt x="204799" y="90553"/>
                </a:lnTo>
                <a:lnTo>
                  <a:pt x="202216" y="94655"/>
                </a:lnTo>
                <a:lnTo>
                  <a:pt x="198588" y="99294"/>
                </a:lnTo>
                <a:lnTo>
                  <a:pt x="194266" y="104292"/>
                </a:lnTo>
                <a:lnTo>
                  <a:pt x="189479" y="109529"/>
                </a:lnTo>
                <a:lnTo>
                  <a:pt x="185335" y="114925"/>
                </a:lnTo>
                <a:lnTo>
                  <a:pt x="181620" y="120428"/>
                </a:lnTo>
                <a:lnTo>
                  <a:pt x="178190" y="126001"/>
                </a:lnTo>
                <a:lnTo>
                  <a:pt x="173999" y="131621"/>
                </a:lnTo>
                <a:lnTo>
                  <a:pt x="169300" y="137274"/>
                </a:lnTo>
                <a:lnTo>
                  <a:pt x="164262" y="142946"/>
                </a:lnTo>
                <a:lnTo>
                  <a:pt x="158999" y="147681"/>
                </a:lnTo>
                <a:lnTo>
                  <a:pt x="153585" y="151790"/>
                </a:lnTo>
                <a:lnTo>
                  <a:pt x="148071" y="155482"/>
                </a:lnTo>
                <a:lnTo>
                  <a:pt x="143442" y="158895"/>
                </a:lnTo>
                <a:lnTo>
                  <a:pt x="139403" y="162124"/>
                </a:lnTo>
                <a:lnTo>
                  <a:pt x="135759" y="165229"/>
                </a:lnTo>
                <a:lnTo>
                  <a:pt x="131424" y="168251"/>
                </a:lnTo>
                <a:lnTo>
                  <a:pt x="126629" y="171218"/>
                </a:lnTo>
                <a:lnTo>
                  <a:pt x="121528" y="174149"/>
                </a:lnTo>
                <a:lnTo>
                  <a:pt x="110779" y="179945"/>
                </a:lnTo>
                <a:lnTo>
                  <a:pt x="105246" y="182824"/>
                </a:lnTo>
                <a:lnTo>
                  <a:pt x="99652" y="184744"/>
                </a:lnTo>
                <a:lnTo>
                  <a:pt x="94018" y="186024"/>
                </a:lnTo>
                <a:lnTo>
                  <a:pt x="88357" y="186876"/>
                </a:lnTo>
                <a:lnTo>
                  <a:pt x="82678" y="187445"/>
                </a:lnTo>
                <a:lnTo>
                  <a:pt x="76987" y="187825"/>
                </a:lnTo>
                <a:lnTo>
                  <a:pt x="66536" y="188245"/>
                </a:lnTo>
                <a:lnTo>
                  <a:pt x="58716" y="188433"/>
                </a:lnTo>
                <a:lnTo>
                  <a:pt x="32654" y="188569"/>
                </a:lnTo>
                <a:lnTo>
                  <a:pt x="29350" y="187621"/>
                </a:lnTo>
                <a:lnTo>
                  <a:pt x="20149" y="182688"/>
                </a:lnTo>
                <a:lnTo>
                  <a:pt x="11047" y="180539"/>
                </a:lnTo>
                <a:lnTo>
                  <a:pt x="10183" y="180363"/>
                </a:lnTo>
                <a:lnTo>
                  <a:pt x="4416" y="175564"/>
                </a:lnTo>
                <a:lnTo>
                  <a:pt x="2905" y="173236"/>
                </a:lnTo>
                <a:lnTo>
                  <a:pt x="1225" y="168109"/>
                </a:lnTo>
                <a:lnTo>
                  <a:pt x="0" y="163326"/>
                </a:lnTo>
                <a:lnTo>
                  <a:pt x="4468" y="158451"/>
                </a:lnTo>
                <a:lnTo>
                  <a:pt x="5797" y="156113"/>
                </a:lnTo>
                <a:lnTo>
                  <a:pt x="7273" y="150974"/>
                </a:lnTo>
                <a:lnTo>
                  <a:pt x="9572" y="148270"/>
                </a:lnTo>
                <a:lnTo>
                  <a:pt x="17206" y="142726"/>
                </a:lnTo>
                <a:lnTo>
                  <a:pt x="26949" y="137087"/>
                </a:lnTo>
                <a:lnTo>
                  <a:pt x="32214" y="134250"/>
                </a:lnTo>
                <a:lnTo>
                  <a:pt x="37629" y="132358"/>
                </a:lnTo>
                <a:lnTo>
                  <a:pt x="43144" y="131097"/>
                </a:lnTo>
                <a:lnTo>
                  <a:pt x="48726" y="130257"/>
                </a:lnTo>
                <a:lnTo>
                  <a:pt x="54352" y="128744"/>
                </a:lnTo>
                <a:lnTo>
                  <a:pt x="60008" y="126783"/>
                </a:lnTo>
                <a:lnTo>
                  <a:pt x="65684" y="124523"/>
                </a:lnTo>
                <a:lnTo>
                  <a:pt x="71372" y="123016"/>
                </a:lnTo>
                <a:lnTo>
                  <a:pt x="77070" y="122012"/>
                </a:lnTo>
                <a:lnTo>
                  <a:pt x="82773" y="121341"/>
                </a:lnTo>
                <a:lnTo>
                  <a:pt x="88480" y="119943"/>
                </a:lnTo>
                <a:lnTo>
                  <a:pt x="94190" y="118058"/>
                </a:lnTo>
                <a:lnTo>
                  <a:pt x="99901" y="115849"/>
                </a:lnTo>
                <a:lnTo>
                  <a:pt x="106567" y="114376"/>
                </a:lnTo>
                <a:lnTo>
                  <a:pt x="113868" y="113394"/>
                </a:lnTo>
                <a:lnTo>
                  <a:pt x="121592" y="112739"/>
                </a:lnTo>
                <a:lnTo>
                  <a:pt x="128647" y="112303"/>
                </a:lnTo>
                <a:lnTo>
                  <a:pt x="141566" y="111818"/>
                </a:lnTo>
                <a:lnTo>
                  <a:pt x="148631" y="112641"/>
                </a:lnTo>
                <a:lnTo>
                  <a:pt x="156198" y="114143"/>
                </a:lnTo>
                <a:lnTo>
                  <a:pt x="164100" y="116096"/>
                </a:lnTo>
                <a:lnTo>
                  <a:pt x="171273" y="117398"/>
                </a:lnTo>
                <a:lnTo>
                  <a:pt x="177960" y="118266"/>
                </a:lnTo>
                <a:lnTo>
                  <a:pt x="184323" y="118845"/>
                </a:lnTo>
                <a:lnTo>
                  <a:pt x="191423" y="119231"/>
                </a:lnTo>
                <a:lnTo>
                  <a:pt x="206931" y="119660"/>
                </a:lnTo>
                <a:lnTo>
                  <a:pt x="214115" y="120727"/>
                </a:lnTo>
                <a:lnTo>
                  <a:pt x="220809" y="122390"/>
                </a:lnTo>
                <a:lnTo>
                  <a:pt x="227177" y="124452"/>
                </a:lnTo>
                <a:lnTo>
                  <a:pt x="233327" y="126779"/>
                </a:lnTo>
                <a:lnTo>
                  <a:pt x="239332" y="129282"/>
                </a:lnTo>
                <a:lnTo>
                  <a:pt x="245240" y="131904"/>
                </a:lnTo>
                <a:lnTo>
                  <a:pt x="254345" y="137357"/>
                </a:lnTo>
                <a:lnTo>
                  <a:pt x="261567" y="142956"/>
                </a:lnTo>
                <a:lnTo>
                  <a:pt x="267951" y="148619"/>
                </a:lnTo>
                <a:lnTo>
                  <a:pt x="271940" y="150510"/>
                </a:lnTo>
                <a:lnTo>
                  <a:pt x="281452" y="152612"/>
                </a:lnTo>
                <a:lnTo>
                  <a:pt x="289489" y="156086"/>
                </a:lnTo>
                <a:lnTo>
                  <a:pt x="296236" y="159852"/>
                </a:lnTo>
                <a:lnTo>
                  <a:pt x="305789" y="162270"/>
                </a:lnTo>
                <a:lnTo>
                  <a:pt x="307958" y="162747"/>
                </a:lnTo>
                <a:lnTo>
                  <a:pt x="317065" y="1628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MARTPenAnnotation795"/>
          <p:cNvSpPr/>
          <p:nvPr/>
        </p:nvSpPr>
        <p:spPr>
          <a:xfrm>
            <a:off x="766800" y="3772080"/>
            <a:ext cx="744480" cy="718920"/>
          </a:xfrm>
          <a:custGeom>
            <a:avLst/>
            <a:gdLst>
              <a:gd name="textAreaLeft" fmla="*/ 0 w 744480"/>
              <a:gd name="textAreaRight" fmla="*/ 744840 w 7444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744512" h="719693">
                <a:moveTo>
                  <a:pt x="15848" y="617220"/>
                </a:moveTo>
                <a:lnTo>
                  <a:pt x="0" y="617220"/>
                </a:lnTo>
                <a:lnTo>
                  <a:pt x="10749" y="617220"/>
                </a:lnTo>
                <a:lnTo>
                  <a:pt x="13401" y="618172"/>
                </a:lnTo>
                <a:lnTo>
                  <a:pt x="18888" y="621770"/>
                </a:lnTo>
                <a:lnTo>
                  <a:pt x="39672" y="640179"/>
                </a:lnTo>
                <a:lnTo>
                  <a:pt x="59466" y="651529"/>
                </a:lnTo>
                <a:lnTo>
                  <a:pt x="64929" y="654380"/>
                </a:lnTo>
                <a:lnTo>
                  <a:pt x="73540" y="662628"/>
                </a:lnTo>
                <a:lnTo>
                  <a:pt x="86828" y="678894"/>
                </a:lnTo>
                <a:lnTo>
                  <a:pt x="111772" y="697125"/>
                </a:lnTo>
                <a:lnTo>
                  <a:pt x="121211" y="705771"/>
                </a:lnTo>
                <a:lnTo>
                  <a:pt x="124190" y="707687"/>
                </a:lnTo>
                <a:lnTo>
                  <a:pt x="132934" y="711334"/>
                </a:lnTo>
                <a:lnTo>
                  <a:pt x="142733" y="718749"/>
                </a:lnTo>
                <a:lnTo>
                  <a:pt x="146219" y="719494"/>
                </a:lnTo>
                <a:lnTo>
                  <a:pt x="148482" y="719692"/>
                </a:lnTo>
                <a:lnTo>
                  <a:pt x="149038" y="718873"/>
                </a:lnTo>
                <a:lnTo>
                  <a:pt x="148457" y="717373"/>
                </a:lnTo>
                <a:lnTo>
                  <a:pt x="147116" y="715421"/>
                </a:lnTo>
                <a:lnTo>
                  <a:pt x="145627" y="710712"/>
                </a:lnTo>
                <a:lnTo>
                  <a:pt x="145230" y="708123"/>
                </a:lnTo>
                <a:lnTo>
                  <a:pt x="142249" y="702706"/>
                </a:lnTo>
                <a:lnTo>
                  <a:pt x="140120" y="699928"/>
                </a:lnTo>
                <a:lnTo>
                  <a:pt x="138701" y="696171"/>
                </a:lnTo>
                <a:lnTo>
                  <a:pt x="136704" y="680830"/>
                </a:lnTo>
                <a:lnTo>
                  <a:pt x="135160" y="659562"/>
                </a:lnTo>
                <a:lnTo>
                  <a:pt x="129093" y="638867"/>
                </a:lnTo>
                <a:lnTo>
                  <a:pt x="123964" y="619855"/>
                </a:lnTo>
                <a:lnTo>
                  <a:pt x="121050" y="601247"/>
                </a:lnTo>
                <a:lnTo>
                  <a:pt x="119755" y="582498"/>
                </a:lnTo>
                <a:lnTo>
                  <a:pt x="119179" y="561465"/>
                </a:lnTo>
                <a:lnTo>
                  <a:pt x="116383" y="541958"/>
                </a:lnTo>
                <a:lnTo>
                  <a:pt x="112918" y="522809"/>
                </a:lnTo>
                <a:lnTo>
                  <a:pt x="111378" y="501600"/>
                </a:lnTo>
                <a:lnTo>
                  <a:pt x="108153" y="479473"/>
                </a:lnTo>
                <a:lnTo>
                  <a:pt x="104498" y="457891"/>
                </a:lnTo>
                <a:lnTo>
                  <a:pt x="102873" y="438775"/>
                </a:lnTo>
                <a:lnTo>
                  <a:pt x="99611" y="418213"/>
                </a:lnTo>
                <a:lnTo>
                  <a:pt x="94986" y="396375"/>
                </a:lnTo>
                <a:lnTo>
                  <a:pt x="89756" y="373969"/>
                </a:lnTo>
                <a:lnTo>
                  <a:pt x="86796" y="353851"/>
                </a:lnTo>
                <a:lnTo>
                  <a:pt x="84528" y="335384"/>
                </a:lnTo>
                <a:lnTo>
                  <a:pt x="80345" y="317652"/>
                </a:lnTo>
                <a:lnTo>
                  <a:pt x="77851" y="300246"/>
                </a:lnTo>
                <a:lnTo>
                  <a:pt x="75790" y="282985"/>
                </a:lnTo>
                <a:lnTo>
                  <a:pt x="71699" y="265788"/>
                </a:lnTo>
                <a:lnTo>
                  <a:pt x="64041" y="244593"/>
                </a:lnTo>
                <a:lnTo>
                  <a:pt x="60290" y="226248"/>
                </a:lnTo>
                <a:lnTo>
                  <a:pt x="59179" y="208747"/>
                </a:lnTo>
                <a:lnTo>
                  <a:pt x="58850" y="191496"/>
                </a:lnTo>
                <a:lnTo>
                  <a:pt x="59756" y="186719"/>
                </a:lnTo>
                <a:lnTo>
                  <a:pt x="65514" y="172208"/>
                </a:lnTo>
                <a:lnTo>
                  <a:pt x="66104" y="169098"/>
                </a:lnTo>
                <a:lnTo>
                  <a:pt x="69299" y="163102"/>
                </a:lnTo>
                <a:lnTo>
                  <a:pt x="87404" y="142888"/>
                </a:lnTo>
                <a:lnTo>
                  <a:pt x="91175" y="140978"/>
                </a:lnTo>
                <a:lnTo>
                  <a:pt x="110914" y="135374"/>
                </a:lnTo>
                <a:lnTo>
                  <a:pt x="130059" y="128058"/>
                </a:lnTo>
                <a:lnTo>
                  <a:pt x="162128" y="117052"/>
                </a:lnTo>
                <a:lnTo>
                  <a:pt x="178969" y="113936"/>
                </a:lnTo>
                <a:lnTo>
                  <a:pt x="195979" y="111598"/>
                </a:lnTo>
                <a:lnTo>
                  <a:pt x="213064" y="107384"/>
                </a:lnTo>
                <a:lnTo>
                  <a:pt x="243298" y="99656"/>
                </a:lnTo>
                <a:lnTo>
                  <a:pt x="262670" y="94139"/>
                </a:lnTo>
                <a:lnTo>
                  <a:pt x="281757" y="88512"/>
                </a:lnTo>
                <a:lnTo>
                  <a:pt x="302940" y="82836"/>
                </a:lnTo>
                <a:lnTo>
                  <a:pt x="314875" y="80941"/>
                </a:lnTo>
                <a:lnTo>
                  <a:pt x="327595" y="79678"/>
                </a:lnTo>
                <a:lnTo>
                  <a:pt x="340837" y="78836"/>
                </a:lnTo>
                <a:lnTo>
                  <a:pt x="363170" y="75360"/>
                </a:lnTo>
                <a:lnTo>
                  <a:pt x="394349" y="68049"/>
                </a:lnTo>
                <a:lnTo>
                  <a:pt x="451313" y="54222"/>
                </a:lnTo>
                <a:lnTo>
                  <a:pt x="477676" y="48546"/>
                </a:lnTo>
                <a:lnTo>
                  <a:pt x="500188" y="42848"/>
                </a:lnTo>
                <a:lnTo>
                  <a:pt x="520670" y="38093"/>
                </a:lnTo>
                <a:lnTo>
                  <a:pt x="542474" y="35980"/>
                </a:lnTo>
                <a:lnTo>
                  <a:pt x="562324" y="32501"/>
                </a:lnTo>
                <a:lnTo>
                  <a:pt x="579719" y="28732"/>
                </a:lnTo>
                <a:lnTo>
                  <a:pt x="601175" y="25658"/>
                </a:lnTo>
                <a:lnTo>
                  <a:pt x="616988" y="21563"/>
                </a:lnTo>
                <a:lnTo>
                  <a:pt x="633542" y="19108"/>
                </a:lnTo>
                <a:lnTo>
                  <a:pt x="649471" y="17065"/>
                </a:lnTo>
                <a:lnTo>
                  <a:pt x="670102" y="11512"/>
                </a:lnTo>
                <a:lnTo>
                  <a:pt x="692936" y="8491"/>
                </a:lnTo>
                <a:lnTo>
                  <a:pt x="712190" y="2939"/>
                </a:lnTo>
                <a:lnTo>
                  <a:pt x="733223" y="580"/>
                </a:lnTo>
                <a:lnTo>
                  <a:pt x="74451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MARTPenAnnotation796"/>
          <p:cNvSpPr/>
          <p:nvPr/>
        </p:nvSpPr>
        <p:spPr>
          <a:xfrm>
            <a:off x="2300400" y="3711600"/>
            <a:ext cx="779400" cy="781200"/>
          </a:xfrm>
          <a:custGeom>
            <a:avLst/>
            <a:gdLst>
              <a:gd name="textAreaLeft" fmla="*/ 0 w 779400"/>
              <a:gd name="textAreaRight" fmla="*/ 779760 w 77940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779994" h="780086">
                <a:moveTo>
                  <a:pt x="8467" y="685790"/>
                </a:moveTo>
                <a:lnTo>
                  <a:pt x="0" y="685790"/>
                </a:lnTo>
                <a:lnTo>
                  <a:pt x="11836" y="685790"/>
                </a:lnTo>
                <a:lnTo>
                  <a:pt x="14523" y="686743"/>
                </a:lnTo>
                <a:lnTo>
                  <a:pt x="20049" y="690341"/>
                </a:lnTo>
                <a:lnTo>
                  <a:pt x="28220" y="692575"/>
                </a:lnTo>
                <a:lnTo>
                  <a:pt x="33066" y="693171"/>
                </a:lnTo>
                <a:lnTo>
                  <a:pt x="37249" y="694521"/>
                </a:lnTo>
                <a:lnTo>
                  <a:pt x="44437" y="698560"/>
                </a:lnTo>
                <a:lnTo>
                  <a:pt x="66501" y="718253"/>
                </a:lnTo>
                <a:lnTo>
                  <a:pt x="79108" y="731710"/>
                </a:lnTo>
                <a:lnTo>
                  <a:pt x="82726" y="738901"/>
                </a:lnTo>
                <a:lnTo>
                  <a:pt x="85596" y="742153"/>
                </a:lnTo>
                <a:lnTo>
                  <a:pt x="107851" y="760016"/>
                </a:lnTo>
                <a:lnTo>
                  <a:pt x="113915" y="765770"/>
                </a:lnTo>
                <a:lnTo>
                  <a:pt x="116866" y="767685"/>
                </a:lnTo>
                <a:lnTo>
                  <a:pt x="122685" y="769813"/>
                </a:lnTo>
                <a:lnTo>
                  <a:pt x="124617" y="771332"/>
                </a:lnTo>
                <a:lnTo>
                  <a:pt x="125906" y="773298"/>
                </a:lnTo>
                <a:lnTo>
                  <a:pt x="126765" y="775561"/>
                </a:lnTo>
                <a:lnTo>
                  <a:pt x="128290" y="777070"/>
                </a:lnTo>
                <a:lnTo>
                  <a:pt x="130259" y="778076"/>
                </a:lnTo>
                <a:lnTo>
                  <a:pt x="137044" y="780085"/>
                </a:lnTo>
                <a:lnTo>
                  <a:pt x="141603" y="775536"/>
                </a:lnTo>
                <a:lnTo>
                  <a:pt x="141992" y="773243"/>
                </a:lnTo>
                <a:lnTo>
                  <a:pt x="141299" y="770762"/>
                </a:lnTo>
                <a:lnTo>
                  <a:pt x="139884" y="768155"/>
                </a:lnTo>
                <a:lnTo>
                  <a:pt x="138313" y="760180"/>
                </a:lnTo>
                <a:lnTo>
                  <a:pt x="136268" y="738943"/>
                </a:lnTo>
                <a:lnTo>
                  <a:pt x="131213" y="719002"/>
                </a:lnTo>
                <a:lnTo>
                  <a:pt x="129291" y="698700"/>
                </a:lnTo>
                <a:lnTo>
                  <a:pt x="128842" y="679780"/>
                </a:lnTo>
                <a:lnTo>
                  <a:pt x="128589" y="652259"/>
                </a:lnTo>
                <a:lnTo>
                  <a:pt x="125990" y="632152"/>
                </a:lnTo>
                <a:lnTo>
                  <a:pt x="121660" y="610516"/>
                </a:lnTo>
                <a:lnTo>
                  <a:pt x="116560" y="588200"/>
                </a:lnTo>
                <a:lnTo>
                  <a:pt x="113659" y="565582"/>
                </a:lnTo>
                <a:lnTo>
                  <a:pt x="111417" y="542829"/>
                </a:lnTo>
                <a:lnTo>
                  <a:pt x="107245" y="520017"/>
                </a:lnTo>
                <a:lnTo>
                  <a:pt x="102216" y="497178"/>
                </a:lnTo>
                <a:lnTo>
                  <a:pt x="97758" y="474328"/>
                </a:lnTo>
                <a:lnTo>
                  <a:pt x="95778" y="451472"/>
                </a:lnTo>
                <a:lnTo>
                  <a:pt x="92357" y="431154"/>
                </a:lnTo>
                <a:lnTo>
                  <a:pt x="65586" y="322783"/>
                </a:lnTo>
                <a:lnTo>
                  <a:pt x="62428" y="302521"/>
                </a:lnTo>
                <a:lnTo>
                  <a:pt x="61025" y="283991"/>
                </a:lnTo>
                <a:lnTo>
                  <a:pt x="60401" y="266230"/>
                </a:lnTo>
                <a:lnTo>
                  <a:pt x="57584" y="248812"/>
                </a:lnTo>
                <a:lnTo>
                  <a:pt x="53183" y="225480"/>
                </a:lnTo>
                <a:lnTo>
                  <a:pt x="51879" y="206502"/>
                </a:lnTo>
                <a:lnTo>
                  <a:pt x="51439" y="183023"/>
                </a:lnTo>
                <a:lnTo>
                  <a:pt x="51362" y="165771"/>
                </a:lnTo>
                <a:lnTo>
                  <a:pt x="53884" y="154315"/>
                </a:lnTo>
                <a:lnTo>
                  <a:pt x="58180" y="143826"/>
                </a:lnTo>
                <a:lnTo>
                  <a:pt x="63265" y="135990"/>
                </a:lnTo>
                <a:lnTo>
                  <a:pt x="66159" y="126792"/>
                </a:lnTo>
                <a:lnTo>
                  <a:pt x="66931" y="121672"/>
                </a:lnTo>
                <a:lnTo>
                  <a:pt x="70329" y="113443"/>
                </a:lnTo>
                <a:lnTo>
                  <a:pt x="72568" y="109916"/>
                </a:lnTo>
                <a:lnTo>
                  <a:pt x="80137" y="103456"/>
                </a:lnTo>
                <a:lnTo>
                  <a:pt x="100518" y="91548"/>
                </a:lnTo>
                <a:lnTo>
                  <a:pt x="122888" y="80023"/>
                </a:lnTo>
                <a:lnTo>
                  <a:pt x="134251" y="74295"/>
                </a:lnTo>
                <a:lnTo>
                  <a:pt x="148191" y="71115"/>
                </a:lnTo>
                <a:lnTo>
                  <a:pt x="172105" y="66784"/>
                </a:lnTo>
                <a:lnTo>
                  <a:pt x="188828" y="62061"/>
                </a:lnTo>
                <a:lnTo>
                  <a:pt x="205785" y="56787"/>
                </a:lnTo>
                <a:lnTo>
                  <a:pt x="225387" y="53808"/>
                </a:lnTo>
                <a:lnTo>
                  <a:pt x="246799" y="51532"/>
                </a:lnTo>
                <a:lnTo>
                  <a:pt x="269015" y="47345"/>
                </a:lnTo>
                <a:lnTo>
                  <a:pt x="291589" y="44849"/>
                </a:lnTo>
                <a:lnTo>
                  <a:pt x="314322" y="42787"/>
                </a:lnTo>
                <a:lnTo>
                  <a:pt x="337125" y="38696"/>
                </a:lnTo>
                <a:lnTo>
                  <a:pt x="359960" y="36243"/>
                </a:lnTo>
                <a:lnTo>
                  <a:pt x="383761" y="34200"/>
                </a:lnTo>
                <a:lnTo>
                  <a:pt x="396776" y="32322"/>
                </a:lnTo>
                <a:lnTo>
                  <a:pt x="410215" y="30117"/>
                </a:lnTo>
                <a:lnTo>
                  <a:pt x="423937" y="28647"/>
                </a:lnTo>
                <a:lnTo>
                  <a:pt x="437847" y="27667"/>
                </a:lnTo>
                <a:lnTo>
                  <a:pt x="451883" y="27014"/>
                </a:lnTo>
                <a:lnTo>
                  <a:pt x="466003" y="25626"/>
                </a:lnTo>
                <a:lnTo>
                  <a:pt x="480179" y="23748"/>
                </a:lnTo>
                <a:lnTo>
                  <a:pt x="494392" y="21544"/>
                </a:lnTo>
                <a:lnTo>
                  <a:pt x="508629" y="20074"/>
                </a:lnTo>
                <a:lnTo>
                  <a:pt x="522884" y="19095"/>
                </a:lnTo>
                <a:lnTo>
                  <a:pt x="537149" y="18441"/>
                </a:lnTo>
                <a:lnTo>
                  <a:pt x="550469" y="17054"/>
                </a:lnTo>
                <a:lnTo>
                  <a:pt x="563160" y="15175"/>
                </a:lnTo>
                <a:lnTo>
                  <a:pt x="575430" y="12971"/>
                </a:lnTo>
                <a:lnTo>
                  <a:pt x="588372" y="11502"/>
                </a:lnTo>
                <a:lnTo>
                  <a:pt x="601763" y="10522"/>
                </a:lnTo>
                <a:lnTo>
                  <a:pt x="627437" y="9434"/>
                </a:lnTo>
                <a:lnTo>
                  <a:pt x="648373" y="8950"/>
                </a:lnTo>
                <a:lnTo>
                  <a:pt x="669742" y="6195"/>
                </a:lnTo>
                <a:lnTo>
                  <a:pt x="690035" y="2748"/>
                </a:lnTo>
                <a:lnTo>
                  <a:pt x="712169" y="807"/>
                </a:lnTo>
                <a:lnTo>
                  <a:pt x="730793" y="232"/>
                </a:lnTo>
                <a:lnTo>
                  <a:pt x="768009" y="0"/>
                </a:lnTo>
                <a:lnTo>
                  <a:pt x="770099" y="949"/>
                </a:lnTo>
                <a:lnTo>
                  <a:pt x="774960" y="4544"/>
                </a:lnTo>
                <a:lnTo>
                  <a:pt x="776638" y="6836"/>
                </a:lnTo>
                <a:lnTo>
                  <a:pt x="779993" y="17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MARTPenAnnotation797"/>
          <p:cNvSpPr/>
          <p:nvPr/>
        </p:nvSpPr>
        <p:spPr>
          <a:xfrm>
            <a:off x="1281240" y="4979880"/>
            <a:ext cx="222120" cy="411120"/>
          </a:xfrm>
          <a:custGeom>
            <a:avLst/>
            <a:gdLst>
              <a:gd name="textAreaLeft" fmla="*/ 0 w 222120"/>
              <a:gd name="textAreaRight" fmla="*/ 222480 w 2221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222533" h="410976">
                <a:moveTo>
                  <a:pt x="8220" y="0"/>
                </a:moveTo>
                <a:lnTo>
                  <a:pt x="0" y="0"/>
                </a:lnTo>
                <a:lnTo>
                  <a:pt x="4303" y="4551"/>
                </a:lnTo>
                <a:lnTo>
                  <a:pt x="5609" y="6844"/>
                </a:lnTo>
                <a:lnTo>
                  <a:pt x="8399" y="14622"/>
                </a:lnTo>
                <a:lnTo>
                  <a:pt x="14834" y="23912"/>
                </a:lnTo>
                <a:lnTo>
                  <a:pt x="20050" y="33170"/>
                </a:lnTo>
                <a:lnTo>
                  <a:pt x="25543" y="41095"/>
                </a:lnTo>
                <a:lnTo>
                  <a:pt x="28341" y="44542"/>
                </a:lnTo>
                <a:lnTo>
                  <a:pt x="30206" y="48745"/>
                </a:lnTo>
                <a:lnTo>
                  <a:pt x="32279" y="58494"/>
                </a:lnTo>
                <a:lnTo>
                  <a:pt x="38280" y="69178"/>
                </a:lnTo>
                <a:lnTo>
                  <a:pt x="42548" y="74693"/>
                </a:lnTo>
                <a:lnTo>
                  <a:pt x="47298" y="80276"/>
                </a:lnTo>
                <a:lnTo>
                  <a:pt x="52369" y="85902"/>
                </a:lnTo>
                <a:lnTo>
                  <a:pt x="57655" y="91559"/>
                </a:lnTo>
                <a:lnTo>
                  <a:pt x="62132" y="97234"/>
                </a:lnTo>
                <a:lnTo>
                  <a:pt x="66069" y="102922"/>
                </a:lnTo>
                <a:lnTo>
                  <a:pt x="72983" y="114323"/>
                </a:lnTo>
                <a:lnTo>
                  <a:pt x="79231" y="125741"/>
                </a:lnTo>
                <a:lnTo>
                  <a:pt x="83183" y="132405"/>
                </a:lnTo>
                <a:lnTo>
                  <a:pt x="92654" y="147429"/>
                </a:lnTo>
                <a:lnTo>
                  <a:pt x="97847" y="154483"/>
                </a:lnTo>
                <a:lnTo>
                  <a:pt x="103214" y="161092"/>
                </a:lnTo>
                <a:lnTo>
                  <a:pt x="108697" y="167402"/>
                </a:lnTo>
                <a:lnTo>
                  <a:pt x="114257" y="173514"/>
                </a:lnTo>
                <a:lnTo>
                  <a:pt x="125515" y="185385"/>
                </a:lnTo>
                <a:lnTo>
                  <a:pt x="130232" y="192170"/>
                </a:lnTo>
                <a:lnTo>
                  <a:pt x="134329" y="199551"/>
                </a:lnTo>
                <a:lnTo>
                  <a:pt x="138012" y="207329"/>
                </a:lnTo>
                <a:lnTo>
                  <a:pt x="142373" y="214419"/>
                </a:lnTo>
                <a:lnTo>
                  <a:pt x="147186" y="221051"/>
                </a:lnTo>
                <a:lnTo>
                  <a:pt x="152298" y="227377"/>
                </a:lnTo>
                <a:lnTo>
                  <a:pt x="156660" y="234453"/>
                </a:lnTo>
                <a:lnTo>
                  <a:pt x="160520" y="242027"/>
                </a:lnTo>
                <a:lnTo>
                  <a:pt x="167349" y="257110"/>
                </a:lnTo>
                <a:lnTo>
                  <a:pt x="173559" y="270164"/>
                </a:lnTo>
                <a:lnTo>
                  <a:pt x="177501" y="277264"/>
                </a:lnTo>
                <a:lnTo>
                  <a:pt x="182034" y="284855"/>
                </a:lnTo>
                <a:lnTo>
                  <a:pt x="186961" y="292774"/>
                </a:lnTo>
                <a:lnTo>
                  <a:pt x="191198" y="299958"/>
                </a:lnTo>
                <a:lnTo>
                  <a:pt x="194976" y="306652"/>
                </a:lnTo>
                <a:lnTo>
                  <a:pt x="200760" y="319170"/>
                </a:lnTo>
                <a:lnTo>
                  <a:pt x="203331" y="331083"/>
                </a:lnTo>
                <a:lnTo>
                  <a:pt x="207013" y="342728"/>
                </a:lnTo>
                <a:lnTo>
                  <a:pt x="211825" y="354253"/>
                </a:lnTo>
                <a:lnTo>
                  <a:pt x="217139" y="365726"/>
                </a:lnTo>
                <a:lnTo>
                  <a:pt x="220135" y="374635"/>
                </a:lnTo>
                <a:lnTo>
                  <a:pt x="221822" y="385005"/>
                </a:lnTo>
                <a:lnTo>
                  <a:pt x="222392" y="397043"/>
                </a:lnTo>
                <a:lnTo>
                  <a:pt x="222529" y="410975"/>
                </a:lnTo>
                <a:lnTo>
                  <a:pt x="222532" y="4029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MARTPenAnnotation798"/>
          <p:cNvSpPr/>
          <p:nvPr/>
        </p:nvSpPr>
        <p:spPr>
          <a:xfrm>
            <a:off x="1246320" y="4964040"/>
            <a:ext cx="342720" cy="376200"/>
          </a:xfrm>
          <a:custGeom>
            <a:avLst/>
            <a:gdLst>
              <a:gd name="textAreaLeft" fmla="*/ 0 w 342720"/>
              <a:gd name="textAreaRight" fmla="*/ 343080 w 3427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342901" h="377191">
                <a:moveTo>
                  <a:pt x="342900" y="0"/>
                </a:moveTo>
                <a:lnTo>
                  <a:pt x="327052" y="0"/>
                </a:lnTo>
                <a:lnTo>
                  <a:pt x="326619" y="953"/>
                </a:lnTo>
                <a:lnTo>
                  <a:pt x="326139" y="4551"/>
                </a:lnTo>
                <a:lnTo>
                  <a:pt x="325059" y="6844"/>
                </a:lnTo>
                <a:lnTo>
                  <a:pt x="318035" y="15574"/>
                </a:lnTo>
                <a:lnTo>
                  <a:pt x="309307" y="24702"/>
                </a:lnTo>
                <a:lnTo>
                  <a:pt x="301617" y="35109"/>
                </a:lnTo>
                <a:lnTo>
                  <a:pt x="294072" y="47036"/>
                </a:lnTo>
                <a:lnTo>
                  <a:pt x="268196" y="86275"/>
                </a:lnTo>
                <a:lnTo>
                  <a:pt x="262617" y="93711"/>
                </a:lnTo>
                <a:lnTo>
                  <a:pt x="256994" y="100575"/>
                </a:lnTo>
                <a:lnTo>
                  <a:pt x="251339" y="107055"/>
                </a:lnTo>
                <a:lnTo>
                  <a:pt x="244712" y="114232"/>
                </a:lnTo>
                <a:lnTo>
                  <a:pt x="229729" y="129828"/>
                </a:lnTo>
                <a:lnTo>
                  <a:pt x="222685" y="137987"/>
                </a:lnTo>
                <a:lnTo>
                  <a:pt x="216084" y="146283"/>
                </a:lnTo>
                <a:lnTo>
                  <a:pt x="209779" y="154672"/>
                </a:lnTo>
                <a:lnTo>
                  <a:pt x="202718" y="163122"/>
                </a:lnTo>
                <a:lnTo>
                  <a:pt x="195153" y="171613"/>
                </a:lnTo>
                <a:lnTo>
                  <a:pt x="180080" y="187715"/>
                </a:lnTo>
                <a:lnTo>
                  <a:pt x="167031" y="201222"/>
                </a:lnTo>
                <a:lnTo>
                  <a:pt x="160884" y="208443"/>
                </a:lnTo>
                <a:lnTo>
                  <a:pt x="154881" y="216114"/>
                </a:lnTo>
                <a:lnTo>
                  <a:pt x="148974" y="224086"/>
                </a:lnTo>
                <a:lnTo>
                  <a:pt x="142179" y="231306"/>
                </a:lnTo>
                <a:lnTo>
                  <a:pt x="134791" y="238024"/>
                </a:lnTo>
                <a:lnTo>
                  <a:pt x="127008" y="244408"/>
                </a:lnTo>
                <a:lnTo>
                  <a:pt x="119915" y="251521"/>
                </a:lnTo>
                <a:lnTo>
                  <a:pt x="113281" y="259121"/>
                </a:lnTo>
                <a:lnTo>
                  <a:pt x="106953" y="267045"/>
                </a:lnTo>
                <a:lnTo>
                  <a:pt x="99877" y="274232"/>
                </a:lnTo>
                <a:lnTo>
                  <a:pt x="92303" y="280929"/>
                </a:lnTo>
                <a:lnTo>
                  <a:pt x="84395" y="287299"/>
                </a:lnTo>
                <a:lnTo>
                  <a:pt x="77219" y="293450"/>
                </a:lnTo>
                <a:lnTo>
                  <a:pt x="70529" y="299456"/>
                </a:lnTo>
                <a:lnTo>
                  <a:pt x="58017" y="311209"/>
                </a:lnTo>
                <a:lnTo>
                  <a:pt x="46105" y="322783"/>
                </a:lnTo>
                <a:lnTo>
                  <a:pt x="37002" y="334276"/>
                </a:lnTo>
                <a:lnTo>
                  <a:pt x="29780" y="344783"/>
                </a:lnTo>
                <a:lnTo>
                  <a:pt x="20360" y="356052"/>
                </a:lnTo>
                <a:lnTo>
                  <a:pt x="14446" y="362398"/>
                </a:lnTo>
                <a:lnTo>
                  <a:pt x="12489" y="365424"/>
                </a:lnTo>
                <a:lnTo>
                  <a:pt x="10313" y="371326"/>
                </a:lnTo>
                <a:lnTo>
                  <a:pt x="8781" y="373280"/>
                </a:lnTo>
                <a:lnTo>
                  <a:pt x="6806" y="374584"/>
                </a:lnTo>
                <a:lnTo>
                  <a:pt x="0" y="3771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MARTPenAnnotation799"/>
          <p:cNvSpPr/>
          <p:nvPr/>
        </p:nvSpPr>
        <p:spPr>
          <a:xfrm>
            <a:off x="1785960" y="4997520"/>
            <a:ext cx="307800" cy="25200"/>
          </a:xfrm>
          <a:custGeom>
            <a:avLst/>
            <a:gdLst>
              <a:gd name="textAreaLeft" fmla="*/ 0 w 307800"/>
              <a:gd name="textAreaRight" fmla="*/ 308160 w 3078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08611" h="25356">
                <a:moveTo>
                  <a:pt x="0" y="25355"/>
                </a:moveTo>
                <a:lnTo>
                  <a:pt x="66225" y="25355"/>
                </a:lnTo>
                <a:lnTo>
                  <a:pt x="71773" y="24402"/>
                </a:lnTo>
                <a:lnTo>
                  <a:pt x="77376" y="22815"/>
                </a:lnTo>
                <a:lnTo>
                  <a:pt x="83016" y="20804"/>
                </a:lnTo>
                <a:lnTo>
                  <a:pt x="88682" y="19463"/>
                </a:lnTo>
                <a:lnTo>
                  <a:pt x="94364" y="18569"/>
                </a:lnTo>
                <a:lnTo>
                  <a:pt x="100056" y="17973"/>
                </a:lnTo>
                <a:lnTo>
                  <a:pt x="105757" y="17577"/>
                </a:lnTo>
                <a:lnTo>
                  <a:pt x="111462" y="17311"/>
                </a:lnTo>
                <a:lnTo>
                  <a:pt x="117171" y="17135"/>
                </a:lnTo>
                <a:lnTo>
                  <a:pt x="123834" y="16065"/>
                </a:lnTo>
                <a:lnTo>
                  <a:pt x="131133" y="14399"/>
                </a:lnTo>
                <a:lnTo>
                  <a:pt x="138857" y="12336"/>
                </a:lnTo>
                <a:lnTo>
                  <a:pt x="145911" y="10961"/>
                </a:lnTo>
                <a:lnTo>
                  <a:pt x="152519" y="10044"/>
                </a:lnTo>
                <a:lnTo>
                  <a:pt x="158829" y="9432"/>
                </a:lnTo>
                <a:lnTo>
                  <a:pt x="164941" y="9025"/>
                </a:lnTo>
                <a:lnTo>
                  <a:pt x="170921" y="8753"/>
                </a:lnTo>
                <a:lnTo>
                  <a:pt x="176812" y="8572"/>
                </a:lnTo>
                <a:lnTo>
                  <a:pt x="183597" y="7498"/>
                </a:lnTo>
                <a:lnTo>
                  <a:pt x="190978" y="5830"/>
                </a:lnTo>
                <a:lnTo>
                  <a:pt x="198756" y="3767"/>
                </a:lnTo>
                <a:lnTo>
                  <a:pt x="204894" y="2390"/>
                </a:lnTo>
                <a:lnTo>
                  <a:pt x="209939" y="1472"/>
                </a:lnTo>
                <a:lnTo>
                  <a:pt x="214254" y="860"/>
                </a:lnTo>
                <a:lnTo>
                  <a:pt x="219989" y="453"/>
                </a:lnTo>
                <a:lnTo>
                  <a:pt x="226669" y="181"/>
                </a:lnTo>
                <a:lnTo>
                  <a:pt x="233980" y="0"/>
                </a:lnTo>
                <a:lnTo>
                  <a:pt x="239807" y="831"/>
                </a:lnTo>
                <a:lnTo>
                  <a:pt x="244644" y="2338"/>
                </a:lnTo>
                <a:lnTo>
                  <a:pt x="248821" y="4295"/>
                </a:lnTo>
                <a:lnTo>
                  <a:pt x="253510" y="5600"/>
                </a:lnTo>
                <a:lnTo>
                  <a:pt x="258542" y="6470"/>
                </a:lnTo>
                <a:lnTo>
                  <a:pt x="263801" y="7050"/>
                </a:lnTo>
                <a:lnTo>
                  <a:pt x="272185" y="7694"/>
                </a:lnTo>
                <a:lnTo>
                  <a:pt x="275754" y="7866"/>
                </a:lnTo>
                <a:lnTo>
                  <a:pt x="279086" y="8933"/>
                </a:lnTo>
                <a:lnTo>
                  <a:pt x="282260" y="10597"/>
                </a:lnTo>
                <a:lnTo>
                  <a:pt x="285328" y="12659"/>
                </a:lnTo>
                <a:lnTo>
                  <a:pt x="288326" y="14033"/>
                </a:lnTo>
                <a:lnTo>
                  <a:pt x="291278" y="14950"/>
                </a:lnTo>
                <a:lnTo>
                  <a:pt x="294198" y="15560"/>
                </a:lnTo>
                <a:lnTo>
                  <a:pt x="299982" y="16239"/>
                </a:lnTo>
                <a:lnTo>
                  <a:pt x="308610" y="1678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MARTPenAnnotation800"/>
          <p:cNvSpPr/>
          <p:nvPr/>
        </p:nvSpPr>
        <p:spPr>
          <a:xfrm>
            <a:off x="1828800" y="5075280"/>
            <a:ext cx="351000" cy="25200"/>
          </a:xfrm>
          <a:custGeom>
            <a:avLst/>
            <a:gdLst>
              <a:gd name="textAreaLeft" fmla="*/ 0 w 351000"/>
              <a:gd name="textAreaRight" fmla="*/ 351360 w 3510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51473" h="25718">
                <a:moveTo>
                  <a:pt x="8572" y="25717"/>
                </a:moveTo>
                <a:lnTo>
                  <a:pt x="0" y="25717"/>
                </a:lnTo>
                <a:lnTo>
                  <a:pt x="82074" y="25717"/>
                </a:lnTo>
                <a:lnTo>
                  <a:pt x="88053" y="24765"/>
                </a:lnTo>
                <a:lnTo>
                  <a:pt x="93944" y="23177"/>
                </a:lnTo>
                <a:lnTo>
                  <a:pt x="99777" y="21167"/>
                </a:lnTo>
                <a:lnTo>
                  <a:pt x="106523" y="19825"/>
                </a:lnTo>
                <a:lnTo>
                  <a:pt x="113878" y="18932"/>
                </a:lnTo>
                <a:lnTo>
                  <a:pt x="121638" y="18336"/>
                </a:lnTo>
                <a:lnTo>
                  <a:pt x="129669" y="17939"/>
                </a:lnTo>
                <a:lnTo>
                  <a:pt x="146213" y="17498"/>
                </a:lnTo>
                <a:lnTo>
                  <a:pt x="153673" y="16428"/>
                </a:lnTo>
                <a:lnTo>
                  <a:pt x="160551" y="14762"/>
                </a:lnTo>
                <a:lnTo>
                  <a:pt x="167041" y="12698"/>
                </a:lnTo>
                <a:lnTo>
                  <a:pt x="174226" y="11323"/>
                </a:lnTo>
                <a:lnTo>
                  <a:pt x="181873" y="10406"/>
                </a:lnTo>
                <a:lnTo>
                  <a:pt x="189828" y="9795"/>
                </a:lnTo>
                <a:lnTo>
                  <a:pt x="197037" y="8434"/>
                </a:lnTo>
                <a:lnTo>
                  <a:pt x="203748" y="6576"/>
                </a:lnTo>
                <a:lnTo>
                  <a:pt x="210127" y="4384"/>
                </a:lnTo>
                <a:lnTo>
                  <a:pt x="217237" y="2922"/>
                </a:lnTo>
                <a:lnTo>
                  <a:pt x="224834" y="1948"/>
                </a:lnTo>
                <a:lnTo>
                  <a:pt x="232757" y="1298"/>
                </a:lnTo>
                <a:lnTo>
                  <a:pt x="239944" y="865"/>
                </a:lnTo>
                <a:lnTo>
                  <a:pt x="253009" y="384"/>
                </a:lnTo>
                <a:lnTo>
                  <a:pt x="266523" y="114"/>
                </a:lnTo>
                <a:lnTo>
                  <a:pt x="3514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MARTPenAnnotation801"/>
          <p:cNvSpPr/>
          <p:nvPr/>
        </p:nvSpPr>
        <p:spPr>
          <a:xfrm>
            <a:off x="2446200" y="4894200"/>
            <a:ext cx="325440" cy="17640"/>
          </a:xfrm>
          <a:custGeom>
            <a:avLst/>
            <a:gdLst>
              <a:gd name="textAreaLeft" fmla="*/ 0 w 325440"/>
              <a:gd name="textAreaRight" fmla="*/ 325800 w 32544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25757" h="17146">
                <a:moveTo>
                  <a:pt x="0" y="0"/>
                </a:moveTo>
                <a:lnTo>
                  <a:pt x="7381" y="7381"/>
                </a:lnTo>
                <a:lnTo>
                  <a:pt x="8731" y="7778"/>
                </a:lnTo>
                <a:lnTo>
                  <a:pt x="12771" y="8219"/>
                </a:lnTo>
                <a:lnTo>
                  <a:pt x="20400" y="8468"/>
                </a:lnTo>
                <a:lnTo>
                  <a:pt x="125735" y="8573"/>
                </a:lnTo>
                <a:lnTo>
                  <a:pt x="132401" y="9525"/>
                </a:lnTo>
                <a:lnTo>
                  <a:pt x="139702" y="11113"/>
                </a:lnTo>
                <a:lnTo>
                  <a:pt x="147427" y="13123"/>
                </a:lnTo>
                <a:lnTo>
                  <a:pt x="154483" y="14464"/>
                </a:lnTo>
                <a:lnTo>
                  <a:pt x="161091" y="15358"/>
                </a:lnTo>
                <a:lnTo>
                  <a:pt x="167402" y="15954"/>
                </a:lnTo>
                <a:lnTo>
                  <a:pt x="173514" y="16351"/>
                </a:lnTo>
                <a:lnTo>
                  <a:pt x="179493" y="16615"/>
                </a:lnTo>
                <a:lnTo>
                  <a:pt x="191218" y="16910"/>
                </a:lnTo>
                <a:lnTo>
                  <a:pt x="325756" y="17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MARTPenAnnotation802"/>
          <p:cNvSpPr/>
          <p:nvPr/>
        </p:nvSpPr>
        <p:spPr>
          <a:xfrm>
            <a:off x="2608200" y="4775040"/>
            <a:ext cx="60480" cy="196920"/>
          </a:xfrm>
          <a:custGeom>
            <a:avLst/>
            <a:gdLst>
              <a:gd name="textAreaLeft" fmla="*/ 0 w 60480"/>
              <a:gd name="textAreaRight" fmla="*/ 60840 w 60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9998" h="197169">
                <a:moveTo>
                  <a:pt x="25707" y="0"/>
                </a:moveTo>
                <a:lnTo>
                  <a:pt x="17488" y="0"/>
                </a:lnTo>
                <a:lnTo>
                  <a:pt x="17205" y="5892"/>
                </a:lnTo>
                <a:lnTo>
                  <a:pt x="17149" y="10583"/>
                </a:lnTo>
                <a:lnTo>
                  <a:pt x="17144" y="12770"/>
                </a:lnTo>
                <a:lnTo>
                  <a:pt x="16189" y="15181"/>
                </a:lnTo>
                <a:lnTo>
                  <a:pt x="14599" y="17741"/>
                </a:lnTo>
                <a:lnTo>
                  <a:pt x="9755" y="24142"/>
                </a:lnTo>
                <a:lnTo>
                  <a:pt x="8405" y="26572"/>
                </a:lnTo>
                <a:lnTo>
                  <a:pt x="4365" y="34352"/>
                </a:lnTo>
                <a:lnTo>
                  <a:pt x="2907" y="38142"/>
                </a:lnTo>
                <a:lnTo>
                  <a:pt x="1934" y="41620"/>
                </a:lnTo>
                <a:lnTo>
                  <a:pt x="1286" y="44892"/>
                </a:lnTo>
                <a:lnTo>
                  <a:pt x="854" y="48026"/>
                </a:lnTo>
                <a:lnTo>
                  <a:pt x="374" y="54048"/>
                </a:lnTo>
                <a:lnTo>
                  <a:pt x="161" y="59899"/>
                </a:lnTo>
                <a:lnTo>
                  <a:pt x="24" y="71417"/>
                </a:lnTo>
                <a:lnTo>
                  <a:pt x="0" y="84555"/>
                </a:lnTo>
                <a:lnTo>
                  <a:pt x="949" y="88755"/>
                </a:lnTo>
                <a:lnTo>
                  <a:pt x="2534" y="92508"/>
                </a:lnTo>
                <a:lnTo>
                  <a:pt x="4544" y="95962"/>
                </a:lnTo>
                <a:lnTo>
                  <a:pt x="5883" y="99217"/>
                </a:lnTo>
                <a:lnTo>
                  <a:pt x="7372" y="105374"/>
                </a:lnTo>
                <a:lnTo>
                  <a:pt x="8721" y="109302"/>
                </a:lnTo>
                <a:lnTo>
                  <a:pt x="10574" y="113825"/>
                </a:lnTo>
                <a:lnTo>
                  <a:pt x="12761" y="118746"/>
                </a:lnTo>
                <a:lnTo>
                  <a:pt x="15171" y="122027"/>
                </a:lnTo>
                <a:lnTo>
                  <a:pt x="17731" y="124214"/>
                </a:lnTo>
                <a:lnTo>
                  <a:pt x="20390" y="125671"/>
                </a:lnTo>
                <a:lnTo>
                  <a:pt x="22162" y="128549"/>
                </a:lnTo>
                <a:lnTo>
                  <a:pt x="23344" y="132371"/>
                </a:lnTo>
                <a:lnTo>
                  <a:pt x="24132" y="136825"/>
                </a:lnTo>
                <a:lnTo>
                  <a:pt x="25610" y="139795"/>
                </a:lnTo>
                <a:lnTo>
                  <a:pt x="27547" y="141774"/>
                </a:lnTo>
                <a:lnTo>
                  <a:pt x="29792" y="143093"/>
                </a:lnTo>
                <a:lnTo>
                  <a:pt x="31288" y="144926"/>
                </a:lnTo>
                <a:lnTo>
                  <a:pt x="32285" y="147100"/>
                </a:lnTo>
                <a:lnTo>
                  <a:pt x="32950" y="149501"/>
                </a:lnTo>
                <a:lnTo>
                  <a:pt x="34346" y="152055"/>
                </a:lnTo>
                <a:lnTo>
                  <a:pt x="36229" y="154710"/>
                </a:lnTo>
                <a:lnTo>
                  <a:pt x="38437" y="157433"/>
                </a:lnTo>
                <a:lnTo>
                  <a:pt x="39909" y="160200"/>
                </a:lnTo>
                <a:lnTo>
                  <a:pt x="41544" y="165815"/>
                </a:lnTo>
                <a:lnTo>
                  <a:pt x="42933" y="168646"/>
                </a:lnTo>
                <a:lnTo>
                  <a:pt x="44811" y="171486"/>
                </a:lnTo>
                <a:lnTo>
                  <a:pt x="50118" y="178337"/>
                </a:lnTo>
                <a:lnTo>
                  <a:pt x="50844" y="181813"/>
                </a:lnTo>
                <a:lnTo>
                  <a:pt x="51038" y="184074"/>
                </a:lnTo>
                <a:lnTo>
                  <a:pt x="52120" y="186534"/>
                </a:lnTo>
                <a:lnTo>
                  <a:pt x="53793" y="189126"/>
                </a:lnTo>
                <a:lnTo>
                  <a:pt x="59997" y="1971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MARTPenAnnotation803"/>
          <p:cNvSpPr/>
          <p:nvPr/>
        </p:nvSpPr>
        <p:spPr>
          <a:xfrm>
            <a:off x="2506680" y="5022720"/>
            <a:ext cx="282600" cy="17640"/>
          </a:xfrm>
          <a:custGeom>
            <a:avLst/>
            <a:gdLst>
              <a:gd name="textAreaLeft" fmla="*/ 0 w 282600"/>
              <a:gd name="textAreaRight" fmla="*/ 282960 w 2826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82893" h="17136">
                <a:moveTo>
                  <a:pt x="0" y="8572"/>
                </a:moveTo>
                <a:lnTo>
                  <a:pt x="4551" y="13123"/>
                </a:lnTo>
                <a:lnTo>
                  <a:pt x="6844" y="14464"/>
                </a:lnTo>
                <a:lnTo>
                  <a:pt x="9325" y="15357"/>
                </a:lnTo>
                <a:lnTo>
                  <a:pt x="11932" y="15953"/>
                </a:lnTo>
                <a:lnTo>
                  <a:pt x="14622" y="16350"/>
                </a:lnTo>
                <a:lnTo>
                  <a:pt x="20151" y="16791"/>
                </a:lnTo>
                <a:lnTo>
                  <a:pt x="28324" y="16987"/>
                </a:lnTo>
                <a:lnTo>
                  <a:pt x="58494" y="17135"/>
                </a:lnTo>
                <a:lnTo>
                  <a:pt x="63761" y="16186"/>
                </a:lnTo>
                <a:lnTo>
                  <a:pt x="69178" y="14601"/>
                </a:lnTo>
                <a:lnTo>
                  <a:pt x="74693" y="12591"/>
                </a:lnTo>
                <a:lnTo>
                  <a:pt x="80275" y="11251"/>
                </a:lnTo>
                <a:lnTo>
                  <a:pt x="85902" y="10358"/>
                </a:lnTo>
                <a:lnTo>
                  <a:pt x="91558" y="9763"/>
                </a:lnTo>
                <a:lnTo>
                  <a:pt x="98186" y="9366"/>
                </a:lnTo>
                <a:lnTo>
                  <a:pt x="113171" y="8925"/>
                </a:lnTo>
                <a:lnTo>
                  <a:pt x="134291" y="8642"/>
                </a:lnTo>
                <a:lnTo>
                  <a:pt x="148267" y="8603"/>
                </a:lnTo>
                <a:lnTo>
                  <a:pt x="155042" y="7640"/>
                </a:lnTo>
                <a:lnTo>
                  <a:pt x="161464" y="6046"/>
                </a:lnTo>
                <a:lnTo>
                  <a:pt x="167650" y="4030"/>
                </a:lnTo>
                <a:lnTo>
                  <a:pt x="173679" y="2687"/>
                </a:lnTo>
                <a:lnTo>
                  <a:pt x="179604" y="1791"/>
                </a:lnTo>
                <a:lnTo>
                  <a:pt x="185458" y="1194"/>
                </a:lnTo>
                <a:lnTo>
                  <a:pt x="190314" y="796"/>
                </a:lnTo>
                <a:lnTo>
                  <a:pt x="198249" y="353"/>
                </a:lnTo>
                <a:lnTo>
                  <a:pt x="207491" y="157"/>
                </a:lnTo>
                <a:lnTo>
                  <a:pt x="261183" y="0"/>
                </a:lnTo>
                <a:lnTo>
                  <a:pt x="263657" y="952"/>
                </a:lnTo>
                <a:lnTo>
                  <a:pt x="266259" y="2540"/>
                </a:lnTo>
                <a:lnTo>
                  <a:pt x="272728" y="7381"/>
                </a:lnTo>
                <a:lnTo>
                  <a:pt x="274211" y="7778"/>
                </a:lnTo>
                <a:lnTo>
                  <a:pt x="278399" y="8219"/>
                </a:lnTo>
                <a:lnTo>
                  <a:pt x="282858" y="8569"/>
                </a:lnTo>
                <a:lnTo>
                  <a:pt x="28289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MARTPenAnnotation804"/>
          <p:cNvSpPr/>
          <p:nvPr/>
        </p:nvSpPr>
        <p:spPr>
          <a:xfrm>
            <a:off x="2943360" y="4707000"/>
            <a:ext cx="179280" cy="307800"/>
          </a:xfrm>
          <a:custGeom>
            <a:avLst/>
            <a:gdLst>
              <a:gd name="textAreaLeft" fmla="*/ 0 w 179280"/>
              <a:gd name="textAreaRight" fmla="*/ 179640 w 1792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80021" h="308566">
                <a:moveTo>
                  <a:pt x="162876" y="68535"/>
                </a:moveTo>
                <a:lnTo>
                  <a:pt x="150106" y="55765"/>
                </a:lnTo>
                <a:lnTo>
                  <a:pt x="148647" y="53354"/>
                </a:lnTo>
                <a:lnTo>
                  <a:pt x="145643" y="45410"/>
                </a:lnTo>
                <a:lnTo>
                  <a:pt x="141564" y="39843"/>
                </a:lnTo>
                <a:lnTo>
                  <a:pt x="136577" y="34193"/>
                </a:lnTo>
                <a:lnTo>
                  <a:pt x="133913" y="31353"/>
                </a:lnTo>
                <a:lnTo>
                  <a:pt x="131185" y="29460"/>
                </a:lnTo>
                <a:lnTo>
                  <a:pt x="125614" y="27356"/>
                </a:lnTo>
                <a:lnTo>
                  <a:pt x="122794" y="25842"/>
                </a:lnTo>
                <a:lnTo>
                  <a:pt x="119962" y="23880"/>
                </a:lnTo>
                <a:lnTo>
                  <a:pt x="117122" y="21620"/>
                </a:lnTo>
                <a:lnTo>
                  <a:pt x="114276" y="20114"/>
                </a:lnTo>
                <a:lnTo>
                  <a:pt x="111426" y="19109"/>
                </a:lnTo>
                <a:lnTo>
                  <a:pt x="108573" y="18440"/>
                </a:lnTo>
                <a:lnTo>
                  <a:pt x="104767" y="17993"/>
                </a:lnTo>
                <a:lnTo>
                  <a:pt x="100324" y="17696"/>
                </a:lnTo>
                <a:lnTo>
                  <a:pt x="91260" y="17365"/>
                </a:lnTo>
                <a:lnTo>
                  <a:pt x="80802" y="17179"/>
                </a:lnTo>
                <a:lnTo>
                  <a:pt x="74646" y="17135"/>
                </a:lnTo>
                <a:lnTo>
                  <a:pt x="71671" y="18076"/>
                </a:lnTo>
                <a:lnTo>
                  <a:pt x="68735" y="19656"/>
                </a:lnTo>
                <a:lnTo>
                  <a:pt x="65825" y="21662"/>
                </a:lnTo>
                <a:lnTo>
                  <a:pt x="61981" y="22998"/>
                </a:lnTo>
                <a:lnTo>
                  <a:pt x="57512" y="23890"/>
                </a:lnTo>
                <a:lnTo>
                  <a:pt x="52629" y="24484"/>
                </a:lnTo>
                <a:lnTo>
                  <a:pt x="48420" y="25833"/>
                </a:lnTo>
                <a:lnTo>
                  <a:pt x="44662" y="27684"/>
                </a:lnTo>
                <a:lnTo>
                  <a:pt x="41205" y="29872"/>
                </a:lnTo>
                <a:lnTo>
                  <a:pt x="37947" y="32282"/>
                </a:lnTo>
                <a:lnTo>
                  <a:pt x="34822" y="34841"/>
                </a:lnTo>
                <a:lnTo>
                  <a:pt x="31787" y="37500"/>
                </a:lnTo>
                <a:lnTo>
                  <a:pt x="28811" y="40225"/>
                </a:lnTo>
                <a:lnTo>
                  <a:pt x="22964" y="45793"/>
                </a:lnTo>
                <a:lnTo>
                  <a:pt x="5723" y="62831"/>
                </a:lnTo>
                <a:lnTo>
                  <a:pt x="3815" y="65684"/>
                </a:lnTo>
                <a:lnTo>
                  <a:pt x="1695" y="71395"/>
                </a:lnTo>
                <a:lnTo>
                  <a:pt x="501" y="79966"/>
                </a:lnTo>
                <a:lnTo>
                  <a:pt x="148" y="88538"/>
                </a:lnTo>
                <a:lnTo>
                  <a:pt x="18" y="102825"/>
                </a:lnTo>
                <a:lnTo>
                  <a:pt x="0" y="122828"/>
                </a:lnTo>
                <a:lnTo>
                  <a:pt x="952" y="125685"/>
                </a:lnTo>
                <a:lnTo>
                  <a:pt x="4550" y="131400"/>
                </a:lnTo>
                <a:lnTo>
                  <a:pt x="9324" y="137115"/>
                </a:lnTo>
                <a:lnTo>
                  <a:pt x="15599" y="143994"/>
                </a:lnTo>
                <a:lnTo>
                  <a:pt x="24389" y="152919"/>
                </a:lnTo>
                <a:lnTo>
                  <a:pt x="25784" y="153366"/>
                </a:lnTo>
                <a:lnTo>
                  <a:pt x="29873" y="153863"/>
                </a:lnTo>
                <a:lnTo>
                  <a:pt x="34866" y="154084"/>
                </a:lnTo>
                <a:lnTo>
                  <a:pt x="37531" y="154142"/>
                </a:lnTo>
                <a:lnTo>
                  <a:pt x="40260" y="153230"/>
                </a:lnTo>
                <a:lnTo>
                  <a:pt x="45833" y="149675"/>
                </a:lnTo>
                <a:lnTo>
                  <a:pt x="48652" y="148346"/>
                </a:lnTo>
                <a:lnTo>
                  <a:pt x="51484" y="147460"/>
                </a:lnTo>
                <a:lnTo>
                  <a:pt x="54325" y="146869"/>
                </a:lnTo>
                <a:lnTo>
                  <a:pt x="58123" y="145523"/>
                </a:lnTo>
                <a:lnTo>
                  <a:pt x="62561" y="143673"/>
                </a:lnTo>
                <a:lnTo>
                  <a:pt x="67424" y="141487"/>
                </a:lnTo>
                <a:lnTo>
                  <a:pt x="71619" y="138125"/>
                </a:lnTo>
                <a:lnTo>
                  <a:pt x="75368" y="133978"/>
                </a:lnTo>
                <a:lnTo>
                  <a:pt x="78820" y="129308"/>
                </a:lnTo>
                <a:lnTo>
                  <a:pt x="82074" y="125243"/>
                </a:lnTo>
                <a:lnTo>
                  <a:pt x="85195" y="121581"/>
                </a:lnTo>
                <a:lnTo>
                  <a:pt x="88229" y="118186"/>
                </a:lnTo>
                <a:lnTo>
                  <a:pt x="91204" y="114018"/>
                </a:lnTo>
                <a:lnTo>
                  <a:pt x="94139" y="109335"/>
                </a:lnTo>
                <a:lnTo>
                  <a:pt x="97049" y="104307"/>
                </a:lnTo>
                <a:lnTo>
                  <a:pt x="100894" y="100003"/>
                </a:lnTo>
                <a:lnTo>
                  <a:pt x="105362" y="96182"/>
                </a:lnTo>
                <a:lnTo>
                  <a:pt x="110246" y="92681"/>
                </a:lnTo>
                <a:lnTo>
                  <a:pt x="114454" y="88442"/>
                </a:lnTo>
                <a:lnTo>
                  <a:pt x="118213" y="83712"/>
                </a:lnTo>
                <a:lnTo>
                  <a:pt x="121670" y="78653"/>
                </a:lnTo>
                <a:lnTo>
                  <a:pt x="124928" y="73375"/>
                </a:lnTo>
                <a:lnTo>
                  <a:pt x="128052" y="67952"/>
                </a:lnTo>
                <a:lnTo>
                  <a:pt x="134064" y="56846"/>
                </a:lnTo>
                <a:lnTo>
                  <a:pt x="139911" y="45561"/>
                </a:lnTo>
                <a:lnTo>
                  <a:pt x="142803" y="40836"/>
                </a:lnTo>
                <a:lnTo>
                  <a:pt x="145684" y="36734"/>
                </a:lnTo>
                <a:lnTo>
                  <a:pt x="148557" y="33047"/>
                </a:lnTo>
                <a:lnTo>
                  <a:pt x="151425" y="29636"/>
                </a:lnTo>
                <a:lnTo>
                  <a:pt x="154290" y="26410"/>
                </a:lnTo>
                <a:lnTo>
                  <a:pt x="157152" y="23307"/>
                </a:lnTo>
                <a:lnTo>
                  <a:pt x="159060" y="20285"/>
                </a:lnTo>
                <a:lnTo>
                  <a:pt x="161180" y="14388"/>
                </a:lnTo>
                <a:lnTo>
                  <a:pt x="162373" y="5713"/>
                </a:lnTo>
                <a:lnTo>
                  <a:pt x="162872" y="0"/>
                </a:lnTo>
                <a:lnTo>
                  <a:pt x="162876" y="74304"/>
                </a:lnTo>
                <a:lnTo>
                  <a:pt x="163828" y="80001"/>
                </a:lnTo>
                <a:lnTo>
                  <a:pt x="165416" y="85704"/>
                </a:lnTo>
                <a:lnTo>
                  <a:pt x="167427" y="91412"/>
                </a:lnTo>
                <a:lnTo>
                  <a:pt x="168767" y="97121"/>
                </a:lnTo>
                <a:lnTo>
                  <a:pt x="169661" y="102833"/>
                </a:lnTo>
                <a:lnTo>
                  <a:pt x="170257" y="108545"/>
                </a:lnTo>
                <a:lnTo>
                  <a:pt x="170654" y="115211"/>
                </a:lnTo>
                <a:lnTo>
                  <a:pt x="171095" y="130237"/>
                </a:lnTo>
                <a:lnTo>
                  <a:pt x="171417" y="168194"/>
                </a:lnTo>
                <a:lnTo>
                  <a:pt x="172380" y="174980"/>
                </a:lnTo>
                <a:lnTo>
                  <a:pt x="173975" y="182361"/>
                </a:lnTo>
                <a:lnTo>
                  <a:pt x="175990" y="190139"/>
                </a:lnTo>
                <a:lnTo>
                  <a:pt x="177334" y="197229"/>
                </a:lnTo>
                <a:lnTo>
                  <a:pt x="178229" y="203861"/>
                </a:lnTo>
                <a:lnTo>
                  <a:pt x="178827" y="210188"/>
                </a:lnTo>
                <a:lnTo>
                  <a:pt x="179225" y="216310"/>
                </a:lnTo>
                <a:lnTo>
                  <a:pt x="179490" y="222297"/>
                </a:lnTo>
                <a:lnTo>
                  <a:pt x="179864" y="237284"/>
                </a:lnTo>
                <a:lnTo>
                  <a:pt x="180020" y="288417"/>
                </a:lnTo>
                <a:lnTo>
                  <a:pt x="179068" y="290370"/>
                </a:lnTo>
                <a:lnTo>
                  <a:pt x="174130" y="296718"/>
                </a:lnTo>
                <a:lnTo>
                  <a:pt x="171802" y="299561"/>
                </a:lnTo>
                <a:lnTo>
                  <a:pt x="171553" y="304415"/>
                </a:lnTo>
                <a:lnTo>
                  <a:pt x="170566" y="305799"/>
                </a:lnTo>
                <a:lnTo>
                  <a:pt x="168955" y="306721"/>
                </a:lnTo>
                <a:lnTo>
                  <a:pt x="162876" y="3085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MARTPenAnnotation805"/>
          <p:cNvSpPr/>
          <p:nvPr/>
        </p:nvSpPr>
        <p:spPr>
          <a:xfrm>
            <a:off x="2463840" y="5108400"/>
            <a:ext cx="1054080" cy="43200"/>
          </a:xfrm>
          <a:custGeom>
            <a:avLst/>
            <a:gdLst>
              <a:gd name="textAreaLeft" fmla="*/ 0 w 1054080"/>
              <a:gd name="textAreaRight" fmla="*/ 1054440 w 1054080"/>
              <a:gd name="textAreaTop" fmla="*/ 0 h 43200"/>
              <a:gd name="textAreaBottom" fmla="*/ 43560 h 43200"/>
            </a:gdLst>
            <a:ahLst/>
            <a:rect l="textAreaLeft" t="textAreaTop" r="textAreaRight" b="textAreaBottom"/>
            <a:pathLst>
              <a:path w="1054419" h="42860">
                <a:moveTo>
                  <a:pt x="0" y="34288"/>
                </a:moveTo>
                <a:lnTo>
                  <a:pt x="101313" y="34288"/>
                </a:lnTo>
                <a:lnTo>
                  <a:pt x="106595" y="35241"/>
                </a:lnTo>
                <a:lnTo>
                  <a:pt x="112021" y="36828"/>
                </a:lnTo>
                <a:lnTo>
                  <a:pt x="117543" y="38839"/>
                </a:lnTo>
                <a:lnTo>
                  <a:pt x="123130" y="40179"/>
                </a:lnTo>
                <a:lnTo>
                  <a:pt x="128759" y="41073"/>
                </a:lnTo>
                <a:lnTo>
                  <a:pt x="148324" y="42330"/>
                </a:lnTo>
                <a:lnTo>
                  <a:pt x="175984" y="42756"/>
                </a:lnTo>
                <a:lnTo>
                  <a:pt x="291507" y="42859"/>
                </a:lnTo>
                <a:lnTo>
                  <a:pt x="300066" y="41907"/>
                </a:lnTo>
                <a:lnTo>
                  <a:pt x="308629" y="40320"/>
                </a:lnTo>
                <a:lnTo>
                  <a:pt x="317195" y="38309"/>
                </a:lnTo>
                <a:lnTo>
                  <a:pt x="326716" y="36969"/>
                </a:lnTo>
                <a:lnTo>
                  <a:pt x="336874" y="36075"/>
                </a:lnTo>
                <a:lnTo>
                  <a:pt x="366832" y="34817"/>
                </a:lnTo>
                <a:lnTo>
                  <a:pt x="396346" y="34444"/>
                </a:lnTo>
                <a:lnTo>
                  <a:pt x="445004" y="34319"/>
                </a:lnTo>
                <a:lnTo>
                  <a:pt x="457642" y="33356"/>
                </a:lnTo>
                <a:lnTo>
                  <a:pt x="469877" y="31761"/>
                </a:lnTo>
                <a:lnTo>
                  <a:pt x="481844" y="29746"/>
                </a:lnTo>
                <a:lnTo>
                  <a:pt x="493632" y="28402"/>
                </a:lnTo>
                <a:lnTo>
                  <a:pt x="505301" y="27507"/>
                </a:lnTo>
                <a:lnTo>
                  <a:pt x="516890" y="26910"/>
                </a:lnTo>
                <a:lnTo>
                  <a:pt x="529378" y="25559"/>
                </a:lnTo>
                <a:lnTo>
                  <a:pt x="542467" y="23706"/>
                </a:lnTo>
                <a:lnTo>
                  <a:pt x="555954" y="21518"/>
                </a:lnTo>
                <a:lnTo>
                  <a:pt x="568757" y="20060"/>
                </a:lnTo>
                <a:lnTo>
                  <a:pt x="581101" y="19087"/>
                </a:lnTo>
                <a:lnTo>
                  <a:pt x="593141" y="18439"/>
                </a:lnTo>
                <a:lnTo>
                  <a:pt x="605930" y="17054"/>
                </a:lnTo>
                <a:lnTo>
                  <a:pt x="619219" y="15179"/>
                </a:lnTo>
                <a:lnTo>
                  <a:pt x="632840" y="12976"/>
                </a:lnTo>
                <a:lnTo>
                  <a:pt x="645731" y="11507"/>
                </a:lnTo>
                <a:lnTo>
                  <a:pt x="658135" y="10528"/>
                </a:lnTo>
                <a:lnTo>
                  <a:pt x="683030" y="9440"/>
                </a:lnTo>
                <a:lnTo>
                  <a:pt x="709969" y="8957"/>
                </a:lnTo>
                <a:lnTo>
                  <a:pt x="722868" y="7875"/>
                </a:lnTo>
                <a:lnTo>
                  <a:pt x="735277" y="6202"/>
                </a:lnTo>
                <a:lnTo>
                  <a:pt x="747360" y="4134"/>
                </a:lnTo>
                <a:lnTo>
                  <a:pt x="760178" y="2755"/>
                </a:lnTo>
                <a:lnTo>
                  <a:pt x="773485" y="1836"/>
                </a:lnTo>
                <a:lnTo>
                  <a:pt x="800019" y="815"/>
                </a:lnTo>
                <a:lnTo>
                  <a:pt x="836377" y="240"/>
                </a:lnTo>
                <a:lnTo>
                  <a:pt x="950198" y="0"/>
                </a:lnTo>
                <a:lnTo>
                  <a:pt x="958268" y="952"/>
                </a:lnTo>
                <a:lnTo>
                  <a:pt x="965553" y="2539"/>
                </a:lnTo>
                <a:lnTo>
                  <a:pt x="972315" y="4549"/>
                </a:lnTo>
                <a:lnTo>
                  <a:pt x="978727" y="5890"/>
                </a:lnTo>
                <a:lnTo>
                  <a:pt x="984908" y="6783"/>
                </a:lnTo>
                <a:lnTo>
                  <a:pt x="1005247" y="8041"/>
                </a:lnTo>
                <a:lnTo>
                  <a:pt x="1035966" y="8524"/>
                </a:lnTo>
                <a:lnTo>
                  <a:pt x="1048445" y="8561"/>
                </a:lnTo>
                <a:lnTo>
                  <a:pt x="1050436" y="9517"/>
                </a:lnTo>
                <a:lnTo>
                  <a:pt x="1051763" y="11106"/>
                </a:lnTo>
                <a:lnTo>
                  <a:pt x="1054418" y="171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MARTPenAnnotation806"/>
          <p:cNvSpPr/>
          <p:nvPr/>
        </p:nvSpPr>
        <p:spPr>
          <a:xfrm>
            <a:off x="2386080" y="5221440"/>
            <a:ext cx="977760" cy="444240"/>
          </a:xfrm>
          <a:custGeom>
            <a:avLst/>
            <a:gdLst>
              <a:gd name="textAreaLeft" fmla="*/ 0 w 977760"/>
              <a:gd name="textAreaRight" fmla="*/ 978120 w 9777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977266" h="445737">
                <a:moveTo>
                  <a:pt x="0" y="188595"/>
                </a:moveTo>
                <a:lnTo>
                  <a:pt x="8468" y="188595"/>
                </a:lnTo>
                <a:lnTo>
                  <a:pt x="8542" y="193146"/>
                </a:lnTo>
                <a:lnTo>
                  <a:pt x="9504" y="194487"/>
                </a:lnTo>
                <a:lnTo>
                  <a:pt x="11099" y="195380"/>
                </a:lnTo>
                <a:lnTo>
                  <a:pt x="13114" y="195976"/>
                </a:lnTo>
                <a:lnTo>
                  <a:pt x="17893" y="199178"/>
                </a:lnTo>
                <a:lnTo>
                  <a:pt x="20501" y="201365"/>
                </a:lnTo>
                <a:lnTo>
                  <a:pt x="28723" y="213546"/>
                </a:lnTo>
                <a:lnTo>
                  <a:pt x="40034" y="228837"/>
                </a:lnTo>
                <a:lnTo>
                  <a:pt x="45733" y="238548"/>
                </a:lnTo>
                <a:lnTo>
                  <a:pt x="51441" y="249214"/>
                </a:lnTo>
                <a:lnTo>
                  <a:pt x="62866" y="271583"/>
                </a:lnTo>
                <a:lnTo>
                  <a:pt x="71438" y="284093"/>
                </a:lnTo>
                <a:lnTo>
                  <a:pt x="77153" y="293269"/>
                </a:lnTo>
                <a:lnTo>
                  <a:pt x="82868" y="303696"/>
                </a:lnTo>
                <a:lnTo>
                  <a:pt x="88583" y="314682"/>
                </a:lnTo>
                <a:lnTo>
                  <a:pt x="96838" y="325914"/>
                </a:lnTo>
                <a:lnTo>
                  <a:pt x="105904" y="337256"/>
                </a:lnTo>
                <a:lnTo>
                  <a:pt x="113108" y="348647"/>
                </a:lnTo>
                <a:lnTo>
                  <a:pt x="119485" y="360059"/>
                </a:lnTo>
                <a:lnTo>
                  <a:pt x="126447" y="371481"/>
                </a:lnTo>
                <a:lnTo>
                  <a:pt x="135891" y="382908"/>
                </a:lnTo>
                <a:lnTo>
                  <a:pt x="147368" y="395500"/>
                </a:lnTo>
                <a:lnTo>
                  <a:pt x="159779" y="408288"/>
                </a:lnTo>
                <a:lnTo>
                  <a:pt x="169473" y="417096"/>
                </a:lnTo>
                <a:lnTo>
                  <a:pt x="186793" y="428606"/>
                </a:lnTo>
                <a:lnTo>
                  <a:pt x="190251" y="431470"/>
                </a:lnTo>
                <a:lnTo>
                  <a:pt x="196634" y="434652"/>
                </a:lnTo>
                <a:lnTo>
                  <a:pt x="199669" y="435500"/>
                </a:lnTo>
                <a:lnTo>
                  <a:pt x="205582" y="438983"/>
                </a:lnTo>
                <a:lnTo>
                  <a:pt x="208492" y="441245"/>
                </a:lnTo>
                <a:lnTo>
                  <a:pt x="214266" y="443760"/>
                </a:lnTo>
                <a:lnTo>
                  <a:pt x="222871" y="445174"/>
                </a:lnTo>
                <a:lnTo>
                  <a:pt x="238336" y="445736"/>
                </a:lnTo>
                <a:lnTo>
                  <a:pt x="238901" y="444794"/>
                </a:lnTo>
                <a:lnTo>
                  <a:pt x="239881" y="438386"/>
                </a:lnTo>
                <a:lnTo>
                  <a:pt x="240017" y="425371"/>
                </a:lnTo>
                <a:lnTo>
                  <a:pt x="240030" y="396328"/>
                </a:lnTo>
                <a:lnTo>
                  <a:pt x="237490" y="385378"/>
                </a:lnTo>
                <a:lnTo>
                  <a:pt x="234138" y="374162"/>
                </a:lnTo>
                <a:lnTo>
                  <a:pt x="232649" y="362826"/>
                </a:lnTo>
                <a:lnTo>
                  <a:pt x="231987" y="351439"/>
                </a:lnTo>
                <a:lnTo>
                  <a:pt x="231810" y="345735"/>
                </a:lnTo>
                <a:lnTo>
                  <a:pt x="229074" y="334318"/>
                </a:lnTo>
                <a:lnTo>
                  <a:pt x="225636" y="321941"/>
                </a:lnTo>
                <a:lnTo>
                  <a:pt x="224719" y="314640"/>
                </a:lnTo>
                <a:lnTo>
                  <a:pt x="224107" y="306915"/>
                </a:lnTo>
                <a:lnTo>
                  <a:pt x="223428" y="293252"/>
                </a:lnTo>
                <a:lnTo>
                  <a:pt x="223126" y="280829"/>
                </a:lnTo>
                <a:lnTo>
                  <a:pt x="222888" y="217179"/>
                </a:lnTo>
                <a:lnTo>
                  <a:pt x="220346" y="205744"/>
                </a:lnTo>
                <a:lnTo>
                  <a:pt x="216994" y="194312"/>
                </a:lnTo>
                <a:lnTo>
                  <a:pt x="215504" y="182881"/>
                </a:lnTo>
                <a:lnTo>
                  <a:pt x="214842" y="171451"/>
                </a:lnTo>
                <a:lnTo>
                  <a:pt x="214469" y="156845"/>
                </a:lnTo>
                <a:lnTo>
                  <a:pt x="214315" y="117555"/>
                </a:lnTo>
                <a:lnTo>
                  <a:pt x="215267" y="114564"/>
                </a:lnTo>
                <a:lnTo>
                  <a:pt x="218864" y="108703"/>
                </a:lnTo>
                <a:lnTo>
                  <a:pt x="227982" y="97178"/>
                </a:lnTo>
                <a:lnTo>
                  <a:pt x="231380" y="88590"/>
                </a:lnTo>
                <a:lnTo>
                  <a:pt x="237044" y="80012"/>
                </a:lnTo>
                <a:lnTo>
                  <a:pt x="238703" y="74296"/>
                </a:lnTo>
                <a:lnTo>
                  <a:pt x="241050" y="72391"/>
                </a:lnTo>
                <a:lnTo>
                  <a:pt x="244520" y="71120"/>
                </a:lnTo>
                <a:lnTo>
                  <a:pt x="248738" y="70274"/>
                </a:lnTo>
                <a:lnTo>
                  <a:pt x="255966" y="66793"/>
                </a:lnTo>
                <a:lnTo>
                  <a:pt x="259226" y="64531"/>
                </a:lnTo>
                <a:lnTo>
                  <a:pt x="267929" y="62018"/>
                </a:lnTo>
                <a:lnTo>
                  <a:pt x="278147" y="59948"/>
                </a:lnTo>
                <a:lnTo>
                  <a:pt x="294610" y="54381"/>
                </a:lnTo>
                <a:lnTo>
                  <a:pt x="329590" y="50741"/>
                </a:lnTo>
                <a:lnTo>
                  <a:pt x="358263" y="44701"/>
                </a:lnTo>
                <a:lnTo>
                  <a:pt x="387104" y="43226"/>
                </a:lnTo>
                <a:lnTo>
                  <a:pt x="416428" y="38420"/>
                </a:lnTo>
                <a:lnTo>
                  <a:pt x="444696" y="35513"/>
                </a:lnTo>
                <a:lnTo>
                  <a:pt x="464978" y="34834"/>
                </a:lnTo>
                <a:lnTo>
                  <a:pt x="509042" y="34397"/>
                </a:lnTo>
                <a:lnTo>
                  <a:pt x="531676" y="31798"/>
                </a:lnTo>
                <a:lnTo>
                  <a:pt x="554435" y="28420"/>
                </a:lnTo>
                <a:lnTo>
                  <a:pt x="577251" y="26919"/>
                </a:lnTo>
                <a:lnTo>
                  <a:pt x="600091" y="23711"/>
                </a:lnTo>
                <a:lnTo>
                  <a:pt x="623895" y="20064"/>
                </a:lnTo>
                <a:lnTo>
                  <a:pt x="650349" y="18442"/>
                </a:lnTo>
                <a:lnTo>
                  <a:pt x="675442" y="15181"/>
                </a:lnTo>
                <a:lnTo>
                  <a:pt x="699294" y="11510"/>
                </a:lnTo>
                <a:lnTo>
                  <a:pt x="722595" y="9878"/>
                </a:lnTo>
                <a:lnTo>
                  <a:pt x="745651" y="6613"/>
                </a:lnTo>
                <a:lnTo>
                  <a:pt x="768598" y="2939"/>
                </a:lnTo>
                <a:lnTo>
                  <a:pt x="791496" y="1307"/>
                </a:lnTo>
                <a:lnTo>
                  <a:pt x="821257" y="387"/>
                </a:lnTo>
                <a:lnTo>
                  <a:pt x="961519" y="0"/>
                </a:lnTo>
                <a:lnTo>
                  <a:pt x="964863" y="953"/>
                </a:lnTo>
                <a:lnTo>
                  <a:pt x="977265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MARTPenAnnotation807"/>
          <p:cNvSpPr/>
          <p:nvPr/>
        </p:nvSpPr>
        <p:spPr>
          <a:xfrm>
            <a:off x="2814480" y="5302080"/>
            <a:ext cx="239760" cy="312840"/>
          </a:xfrm>
          <a:custGeom>
            <a:avLst/>
            <a:gdLst>
              <a:gd name="textAreaLeft" fmla="*/ 0 w 239760"/>
              <a:gd name="textAreaRight" fmla="*/ 240120 w 239760"/>
              <a:gd name="textAreaTop" fmla="*/ 0 h 312840"/>
              <a:gd name="textAreaBottom" fmla="*/ 312840 h 312840"/>
            </a:gdLst>
            <a:ahLst/>
            <a:rect l="textAreaLeft" t="textAreaTop" r="textAreaRight" b="textAreaBottom"/>
            <a:pathLst>
              <a:path w="239984" h="313215">
                <a:moveTo>
                  <a:pt x="68533" y="56039"/>
                </a:moveTo>
                <a:lnTo>
                  <a:pt x="68533" y="44108"/>
                </a:lnTo>
                <a:lnTo>
                  <a:pt x="69485" y="41417"/>
                </a:lnTo>
                <a:lnTo>
                  <a:pt x="73084" y="35888"/>
                </a:lnTo>
                <a:lnTo>
                  <a:pt x="80465" y="27420"/>
                </a:lnTo>
                <a:lnTo>
                  <a:pt x="85901" y="21730"/>
                </a:lnTo>
                <a:lnTo>
                  <a:pt x="88684" y="18879"/>
                </a:lnTo>
                <a:lnTo>
                  <a:pt x="92444" y="16026"/>
                </a:lnTo>
                <a:lnTo>
                  <a:pt x="96857" y="13171"/>
                </a:lnTo>
                <a:lnTo>
                  <a:pt x="101703" y="10315"/>
                </a:lnTo>
                <a:lnTo>
                  <a:pt x="106839" y="8412"/>
                </a:lnTo>
                <a:lnTo>
                  <a:pt x="112168" y="7143"/>
                </a:lnTo>
                <a:lnTo>
                  <a:pt x="117625" y="6296"/>
                </a:lnTo>
                <a:lnTo>
                  <a:pt x="123169" y="4780"/>
                </a:lnTo>
                <a:lnTo>
                  <a:pt x="128769" y="2816"/>
                </a:lnTo>
                <a:lnTo>
                  <a:pt x="134408" y="555"/>
                </a:lnTo>
                <a:lnTo>
                  <a:pt x="140072" y="0"/>
                </a:lnTo>
                <a:lnTo>
                  <a:pt x="145753" y="582"/>
                </a:lnTo>
                <a:lnTo>
                  <a:pt x="151446" y="1923"/>
                </a:lnTo>
                <a:lnTo>
                  <a:pt x="157146" y="2817"/>
                </a:lnTo>
                <a:lnTo>
                  <a:pt x="162851" y="3412"/>
                </a:lnTo>
                <a:lnTo>
                  <a:pt x="168559" y="3810"/>
                </a:lnTo>
                <a:lnTo>
                  <a:pt x="174269" y="5027"/>
                </a:lnTo>
                <a:lnTo>
                  <a:pt x="179982" y="6791"/>
                </a:lnTo>
                <a:lnTo>
                  <a:pt x="185695" y="8920"/>
                </a:lnTo>
                <a:lnTo>
                  <a:pt x="190456" y="11291"/>
                </a:lnTo>
                <a:lnTo>
                  <a:pt x="194582" y="13825"/>
                </a:lnTo>
                <a:lnTo>
                  <a:pt x="201708" y="19180"/>
                </a:lnTo>
                <a:lnTo>
                  <a:pt x="208049" y="24735"/>
                </a:lnTo>
                <a:lnTo>
                  <a:pt x="214043" y="32918"/>
                </a:lnTo>
                <a:lnTo>
                  <a:pt x="219881" y="41953"/>
                </a:lnTo>
                <a:lnTo>
                  <a:pt x="225651" y="49144"/>
                </a:lnTo>
                <a:lnTo>
                  <a:pt x="227571" y="54300"/>
                </a:lnTo>
                <a:lnTo>
                  <a:pt x="228851" y="60595"/>
                </a:lnTo>
                <a:lnTo>
                  <a:pt x="229704" y="67649"/>
                </a:lnTo>
                <a:lnTo>
                  <a:pt x="230273" y="74256"/>
                </a:lnTo>
                <a:lnTo>
                  <a:pt x="230652" y="80566"/>
                </a:lnTo>
                <a:lnTo>
                  <a:pt x="231074" y="92657"/>
                </a:lnTo>
                <a:lnTo>
                  <a:pt x="231261" y="104382"/>
                </a:lnTo>
                <a:lnTo>
                  <a:pt x="230358" y="111127"/>
                </a:lnTo>
                <a:lnTo>
                  <a:pt x="228804" y="118482"/>
                </a:lnTo>
                <a:lnTo>
                  <a:pt x="226816" y="126242"/>
                </a:lnTo>
                <a:lnTo>
                  <a:pt x="224537" y="133322"/>
                </a:lnTo>
                <a:lnTo>
                  <a:pt x="222066" y="139946"/>
                </a:lnTo>
                <a:lnTo>
                  <a:pt x="219466" y="146267"/>
                </a:lnTo>
                <a:lnTo>
                  <a:pt x="215827" y="153338"/>
                </a:lnTo>
                <a:lnTo>
                  <a:pt x="211497" y="160911"/>
                </a:lnTo>
                <a:lnTo>
                  <a:pt x="206705" y="168816"/>
                </a:lnTo>
                <a:lnTo>
                  <a:pt x="202557" y="175038"/>
                </a:lnTo>
                <a:lnTo>
                  <a:pt x="195409" y="184493"/>
                </a:lnTo>
                <a:lnTo>
                  <a:pt x="191217" y="189300"/>
                </a:lnTo>
                <a:lnTo>
                  <a:pt x="186518" y="194410"/>
                </a:lnTo>
                <a:lnTo>
                  <a:pt x="176215" y="205167"/>
                </a:lnTo>
                <a:lnTo>
                  <a:pt x="152975" y="228724"/>
                </a:lnTo>
                <a:lnTo>
                  <a:pt x="148640" y="232122"/>
                </a:lnTo>
                <a:lnTo>
                  <a:pt x="143845" y="235340"/>
                </a:lnTo>
                <a:lnTo>
                  <a:pt x="138744" y="238439"/>
                </a:lnTo>
                <a:lnTo>
                  <a:pt x="133437" y="241456"/>
                </a:lnTo>
                <a:lnTo>
                  <a:pt x="122462" y="247349"/>
                </a:lnTo>
                <a:lnTo>
                  <a:pt x="116868" y="249302"/>
                </a:lnTo>
                <a:lnTo>
                  <a:pt x="111234" y="250603"/>
                </a:lnTo>
                <a:lnTo>
                  <a:pt x="105573" y="251471"/>
                </a:lnTo>
                <a:lnTo>
                  <a:pt x="99894" y="252050"/>
                </a:lnTo>
                <a:lnTo>
                  <a:pt x="94202" y="252436"/>
                </a:lnTo>
                <a:lnTo>
                  <a:pt x="88504" y="252693"/>
                </a:lnTo>
                <a:lnTo>
                  <a:pt x="77091" y="252978"/>
                </a:lnTo>
                <a:lnTo>
                  <a:pt x="71381" y="253054"/>
                </a:lnTo>
                <a:lnTo>
                  <a:pt x="65669" y="252153"/>
                </a:lnTo>
                <a:lnTo>
                  <a:pt x="59956" y="250599"/>
                </a:lnTo>
                <a:lnTo>
                  <a:pt x="54243" y="248611"/>
                </a:lnTo>
                <a:lnTo>
                  <a:pt x="49481" y="247285"/>
                </a:lnTo>
                <a:lnTo>
                  <a:pt x="45354" y="246401"/>
                </a:lnTo>
                <a:lnTo>
                  <a:pt x="41650" y="245812"/>
                </a:lnTo>
                <a:lnTo>
                  <a:pt x="37276" y="244467"/>
                </a:lnTo>
                <a:lnTo>
                  <a:pt x="32455" y="242618"/>
                </a:lnTo>
                <a:lnTo>
                  <a:pt x="27336" y="240433"/>
                </a:lnTo>
                <a:lnTo>
                  <a:pt x="22971" y="238023"/>
                </a:lnTo>
                <a:lnTo>
                  <a:pt x="15581" y="232806"/>
                </a:lnTo>
                <a:lnTo>
                  <a:pt x="9121" y="227312"/>
                </a:lnTo>
                <a:lnTo>
                  <a:pt x="1764" y="220575"/>
                </a:lnTo>
                <a:lnTo>
                  <a:pt x="1160" y="219070"/>
                </a:lnTo>
                <a:lnTo>
                  <a:pt x="311" y="212400"/>
                </a:lnTo>
                <a:lnTo>
                  <a:pt x="59" y="204392"/>
                </a:lnTo>
                <a:lnTo>
                  <a:pt x="0" y="198809"/>
                </a:lnTo>
                <a:lnTo>
                  <a:pt x="937" y="196939"/>
                </a:lnTo>
                <a:lnTo>
                  <a:pt x="2514" y="195692"/>
                </a:lnTo>
                <a:lnTo>
                  <a:pt x="4518" y="194862"/>
                </a:lnTo>
                <a:lnTo>
                  <a:pt x="11889" y="189141"/>
                </a:lnTo>
                <a:lnTo>
                  <a:pt x="15530" y="187636"/>
                </a:lnTo>
                <a:lnTo>
                  <a:pt x="19863" y="186633"/>
                </a:lnTo>
                <a:lnTo>
                  <a:pt x="24656" y="185964"/>
                </a:lnTo>
                <a:lnTo>
                  <a:pt x="28804" y="185518"/>
                </a:lnTo>
                <a:lnTo>
                  <a:pt x="35953" y="185023"/>
                </a:lnTo>
                <a:lnTo>
                  <a:pt x="44846" y="184803"/>
                </a:lnTo>
                <a:lnTo>
                  <a:pt x="82939" y="184637"/>
                </a:lnTo>
                <a:lnTo>
                  <a:pt x="88615" y="185586"/>
                </a:lnTo>
                <a:lnTo>
                  <a:pt x="94303" y="187171"/>
                </a:lnTo>
                <a:lnTo>
                  <a:pt x="100001" y="189180"/>
                </a:lnTo>
                <a:lnTo>
                  <a:pt x="105704" y="191473"/>
                </a:lnTo>
                <a:lnTo>
                  <a:pt x="111411" y="193953"/>
                </a:lnTo>
                <a:lnTo>
                  <a:pt x="122832" y="199249"/>
                </a:lnTo>
                <a:lnTo>
                  <a:pt x="134259" y="204778"/>
                </a:lnTo>
                <a:lnTo>
                  <a:pt x="139973" y="208539"/>
                </a:lnTo>
                <a:lnTo>
                  <a:pt x="145687" y="212950"/>
                </a:lnTo>
                <a:lnTo>
                  <a:pt x="151401" y="217797"/>
                </a:lnTo>
                <a:lnTo>
                  <a:pt x="156164" y="221980"/>
                </a:lnTo>
                <a:lnTo>
                  <a:pt x="163995" y="229168"/>
                </a:lnTo>
                <a:lnTo>
                  <a:pt x="178310" y="243121"/>
                </a:lnTo>
                <a:lnTo>
                  <a:pt x="183627" y="247435"/>
                </a:lnTo>
                <a:lnTo>
                  <a:pt x="189078" y="251264"/>
                </a:lnTo>
                <a:lnTo>
                  <a:pt x="194616" y="254769"/>
                </a:lnTo>
                <a:lnTo>
                  <a:pt x="199261" y="258058"/>
                </a:lnTo>
                <a:lnTo>
                  <a:pt x="203310" y="261204"/>
                </a:lnTo>
                <a:lnTo>
                  <a:pt x="206962" y="264253"/>
                </a:lnTo>
                <a:lnTo>
                  <a:pt x="209396" y="267239"/>
                </a:lnTo>
                <a:lnTo>
                  <a:pt x="211019" y="270181"/>
                </a:lnTo>
                <a:lnTo>
                  <a:pt x="212102" y="273096"/>
                </a:lnTo>
                <a:lnTo>
                  <a:pt x="215844" y="278874"/>
                </a:lnTo>
                <a:lnTo>
                  <a:pt x="223306" y="287481"/>
                </a:lnTo>
                <a:lnTo>
                  <a:pt x="226007" y="290344"/>
                </a:lnTo>
                <a:lnTo>
                  <a:pt x="227808" y="293205"/>
                </a:lnTo>
                <a:lnTo>
                  <a:pt x="229810" y="298924"/>
                </a:lnTo>
                <a:lnTo>
                  <a:pt x="231296" y="300830"/>
                </a:lnTo>
                <a:lnTo>
                  <a:pt x="233239" y="302100"/>
                </a:lnTo>
                <a:lnTo>
                  <a:pt x="235487" y="302948"/>
                </a:lnTo>
                <a:lnTo>
                  <a:pt x="236986" y="304465"/>
                </a:lnTo>
                <a:lnTo>
                  <a:pt x="237985" y="306429"/>
                </a:lnTo>
                <a:lnTo>
                  <a:pt x="239983" y="3132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ting the squa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4x-1=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MARTPenAnnotation655"/>
          <p:cNvSpPr/>
          <p:nvPr/>
        </p:nvSpPr>
        <p:spPr>
          <a:xfrm>
            <a:off x="1854360" y="2349360"/>
            <a:ext cx="266400" cy="7920"/>
          </a:xfrm>
          <a:custGeom>
            <a:avLst/>
            <a:gdLst>
              <a:gd name="textAreaLeft" fmla="*/ 0 w 266400"/>
              <a:gd name="textAreaRight" fmla="*/ 266760 w 2664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65739" h="8574">
                <a:moveTo>
                  <a:pt x="8563" y="8573"/>
                </a:moveTo>
                <a:lnTo>
                  <a:pt x="0" y="8573"/>
                </a:lnTo>
                <a:lnTo>
                  <a:pt x="151088" y="8573"/>
                </a:lnTo>
                <a:lnTo>
                  <a:pt x="157873" y="7621"/>
                </a:lnTo>
                <a:lnTo>
                  <a:pt x="165253" y="6033"/>
                </a:lnTo>
                <a:lnTo>
                  <a:pt x="173031" y="4022"/>
                </a:lnTo>
                <a:lnTo>
                  <a:pt x="179168" y="2681"/>
                </a:lnTo>
                <a:lnTo>
                  <a:pt x="184213" y="1788"/>
                </a:lnTo>
                <a:lnTo>
                  <a:pt x="188528" y="1192"/>
                </a:lnTo>
                <a:lnTo>
                  <a:pt x="193310" y="795"/>
                </a:lnTo>
                <a:lnTo>
                  <a:pt x="198403" y="530"/>
                </a:lnTo>
                <a:lnTo>
                  <a:pt x="209141" y="236"/>
                </a:lnTo>
                <a:lnTo>
                  <a:pt x="228135" y="32"/>
                </a:lnTo>
                <a:lnTo>
                  <a:pt x="231144" y="974"/>
                </a:lnTo>
                <a:lnTo>
                  <a:pt x="235055" y="2554"/>
                </a:lnTo>
                <a:lnTo>
                  <a:pt x="245919" y="7384"/>
                </a:lnTo>
                <a:lnTo>
                  <a:pt x="247763" y="7780"/>
                </a:lnTo>
                <a:lnTo>
                  <a:pt x="249945" y="8045"/>
                </a:lnTo>
                <a:lnTo>
                  <a:pt x="252352" y="8221"/>
                </a:lnTo>
                <a:lnTo>
                  <a:pt x="260290" y="8469"/>
                </a:lnTo>
                <a:lnTo>
                  <a:pt x="264124" y="8542"/>
                </a:lnTo>
                <a:lnTo>
                  <a:pt x="264662" y="7600"/>
                </a:lnTo>
                <a:lnTo>
                  <a:pt x="265021" y="6019"/>
                </a:lnTo>
                <a:lnTo>
                  <a:pt x="26573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MARTPenAnnotation656"/>
          <p:cNvSpPr/>
          <p:nvPr/>
        </p:nvSpPr>
        <p:spPr>
          <a:xfrm>
            <a:off x="2000160" y="2212920"/>
            <a:ext cx="85680" cy="308160"/>
          </a:xfrm>
          <a:custGeom>
            <a:avLst/>
            <a:gdLst>
              <a:gd name="textAreaLeft" fmla="*/ 0 w 85680"/>
              <a:gd name="textAreaRight" fmla="*/ 86040 w 856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85619" h="307388">
                <a:moveTo>
                  <a:pt x="17037" y="15923"/>
                </a:moveTo>
                <a:lnTo>
                  <a:pt x="17037" y="8542"/>
                </a:lnTo>
                <a:lnTo>
                  <a:pt x="16085" y="8144"/>
                </a:lnTo>
                <a:lnTo>
                  <a:pt x="14497" y="7880"/>
                </a:lnTo>
                <a:lnTo>
                  <a:pt x="12487" y="7703"/>
                </a:lnTo>
                <a:lnTo>
                  <a:pt x="11146" y="6633"/>
                </a:lnTo>
                <a:lnTo>
                  <a:pt x="10252" y="4967"/>
                </a:lnTo>
                <a:lnTo>
                  <a:pt x="8818" y="0"/>
                </a:lnTo>
                <a:lnTo>
                  <a:pt x="7748" y="545"/>
                </a:lnTo>
                <a:lnTo>
                  <a:pt x="6082" y="1861"/>
                </a:lnTo>
                <a:lnTo>
                  <a:pt x="1115" y="6266"/>
                </a:lnTo>
                <a:lnTo>
                  <a:pt x="708" y="7580"/>
                </a:lnTo>
                <a:lnTo>
                  <a:pt x="54" y="16532"/>
                </a:lnTo>
                <a:lnTo>
                  <a:pt x="0" y="19187"/>
                </a:lnTo>
                <a:lnTo>
                  <a:pt x="917" y="21909"/>
                </a:lnTo>
                <a:lnTo>
                  <a:pt x="2480" y="24676"/>
                </a:lnTo>
                <a:lnTo>
                  <a:pt x="4475" y="27473"/>
                </a:lnTo>
                <a:lnTo>
                  <a:pt x="6692" y="35661"/>
                </a:lnTo>
                <a:lnTo>
                  <a:pt x="7283" y="40512"/>
                </a:lnTo>
                <a:lnTo>
                  <a:pt x="7677" y="45650"/>
                </a:lnTo>
                <a:lnTo>
                  <a:pt x="7940" y="50981"/>
                </a:lnTo>
                <a:lnTo>
                  <a:pt x="8232" y="61984"/>
                </a:lnTo>
                <a:lnTo>
                  <a:pt x="8361" y="73224"/>
                </a:lnTo>
                <a:lnTo>
                  <a:pt x="9348" y="78889"/>
                </a:lnTo>
                <a:lnTo>
                  <a:pt x="10959" y="84570"/>
                </a:lnTo>
                <a:lnTo>
                  <a:pt x="12985" y="90263"/>
                </a:lnTo>
                <a:lnTo>
                  <a:pt x="14336" y="96915"/>
                </a:lnTo>
                <a:lnTo>
                  <a:pt x="15237" y="104208"/>
                </a:lnTo>
                <a:lnTo>
                  <a:pt x="15837" y="111927"/>
                </a:lnTo>
                <a:lnTo>
                  <a:pt x="17190" y="118978"/>
                </a:lnTo>
                <a:lnTo>
                  <a:pt x="19044" y="125584"/>
                </a:lnTo>
                <a:lnTo>
                  <a:pt x="21233" y="131893"/>
                </a:lnTo>
                <a:lnTo>
                  <a:pt x="22692" y="138956"/>
                </a:lnTo>
                <a:lnTo>
                  <a:pt x="23664" y="146522"/>
                </a:lnTo>
                <a:lnTo>
                  <a:pt x="24313" y="154424"/>
                </a:lnTo>
                <a:lnTo>
                  <a:pt x="24745" y="161597"/>
                </a:lnTo>
                <a:lnTo>
                  <a:pt x="25226" y="174647"/>
                </a:lnTo>
                <a:lnTo>
                  <a:pt x="26306" y="181746"/>
                </a:lnTo>
                <a:lnTo>
                  <a:pt x="27979" y="189337"/>
                </a:lnTo>
                <a:lnTo>
                  <a:pt x="30047" y="197254"/>
                </a:lnTo>
                <a:lnTo>
                  <a:pt x="32378" y="204438"/>
                </a:lnTo>
                <a:lnTo>
                  <a:pt x="34884" y="211132"/>
                </a:lnTo>
                <a:lnTo>
                  <a:pt x="37508" y="217500"/>
                </a:lnTo>
                <a:lnTo>
                  <a:pt x="39257" y="223650"/>
                </a:lnTo>
                <a:lnTo>
                  <a:pt x="40423" y="229655"/>
                </a:lnTo>
                <a:lnTo>
                  <a:pt x="41200" y="235563"/>
                </a:lnTo>
                <a:lnTo>
                  <a:pt x="42671" y="240455"/>
                </a:lnTo>
                <a:lnTo>
                  <a:pt x="44604" y="244668"/>
                </a:lnTo>
                <a:lnTo>
                  <a:pt x="46845" y="248430"/>
                </a:lnTo>
                <a:lnTo>
                  <a:pt x="49335" y="257689"/>
                </a:lnTo>
                <a:lnTo>
                  <a:pt x="50000" y="262825"/>
                </a:lnTo>
                <a:lnTo>
                  <a:pt x="51395" y="267202"/>
                </a:lnTo>
                <a:lnTo>
                  <a:pt x="53277" y="271072"/>
                </a:lnTo>
                <a:lnTo>
                  <a:pt x="55485" y="274605"/>
                </a:lnTo>
                <a:lnTo>
                  <a:pt x="57938" y="281070"/>
                </a:lnTo>
                <a:lnTo>
                  <a:pt x="58592" y="284127"/>
                </a:lnTo>
                <a:lnTo>
                  <a:pt x="59980" y="287118"/>
                </a:lnTo>
                <a:lnTo>
                  <a:pt x="61859" y="290065"/>
                </a:lnTo>
                <a:lnTo>
                  <a:pt x="67166" y="297087"/>
                </a:lnTo>
                <a:lnTo>
                  <a:pt x="68554" y="298615"/>
                </a:lnTo>
                <a:lnTo>
                  <a:pt x="76658" y="306990"/>
                </a:lnTo>
                <a:lnTo>
                  <a:pt x="77739" y="307122"/>
                </a:lnTo>
                <a:lnTo>
                  <a:pt x="79413" y="307211"/>
                </a:lnTo>
                <a:lnTo>
                  <a:pt x="85618" y="3073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MARTPenAnnotation657"/>
          <p:cNvSpPr/>
          <p:nvPr/>
        </p:nvSpPr>
        <p:spPr>
          <a:xfrm>
            <a:off x="2197080" y="2178000"/>
            <a:ext cx="77760" cy="358920"/>
          </a:xfrm>
          <a:custGeom>
            <a:avLst/>
            <a:gdLst>
              <a:gd name="textAreaLeft" fmla="*/ 0 w 77760"/>
              <a:gd name="textAreaRight" fmla="*/ 78120 w 777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77153" h="358705">
                <a:moveTo>
                  <a:pt x="0" y="0"/>
                </a:moveTo>
                <a:lnTo>
                  <a:pt x="7381" y="0"/>
                </a:lnTo>
                <a:lnTo>
                  <a:pt x="8731" y="953"/>
                </a:lnTo>
                <a:lnTo>
                  <a:pt x="10583" y="2541"/>
                </a:lnTo>
                <a:lnTo>
                  <a:pt x="12770" y="4551"/>
                </a:lnTo>
                <a:lnTo>
                  <a:pt x="14229" y="6844"/>
                </a:lnTo>
                <a:lnTo>
                  <a:pt x="15849" y="11932"/>
                </a:lnTo>
                <a:lnTo>
                  <a:pt x="16569" y="19909"/>
                </a:lnTo>
                <a:lnTo>
                  <a:pt x="16761" y="24703"/>
                </a:lnTo>
                <a:lnTo>
                  <a:pt x="17841" y="28851"/>
                </a:lnTo>
                <a:lnTo>
                  <a:pt x="19514" y="32569"/>
                </a:lnTo>
                <a:lnTo>
                  <a:pt x="21582" y="36000"/>
                </a:lnTo>
                <a:lnTo>
                  <a:pt x="23913" y="41146"/>
                </a:lnTo>
                <a:lnTo>
                  <a:pt x="26420" y="47433"/>
                </a:lnTo>
                <a:lnTo>
                  <a:pt x="29043" y="54482"/>
                </a:lnTo>
                <a:lnTo>
                  <a:pt x="31744" y="61087"/>
                </a:lnTo>
                <a:lnTo>
                  <a:pt x="34498" y="67395"/>
                </a:lnTo>
                <a:lnTo>
                  <a:pt x="40097" y="79483"/>
                </a:lnTo>
                <a:lnTo>
                  <a:pt x="45761" y="91206"/>
                </a:lnTo>
                <a:lnTo>
                  <a:pt x="47652" y="98905"/>
                </a:lnTo>
                <a:lnTo>
                  <a:pt x="48913" y="107846"/>
                </a:lnTo>
                <a:lnTo>
                  <a:pt x="49754" y="117618"/>
                </a:lnTo>
                <a:lnTo>
                  <a:pt x="50314" y="126990"/>
                </a:lnTo>
                <a:lnTo>
                  <a:pt x="50937" y="145023"/>
                </a:lnTo>
                <a:lnTo>
                  <a:pt x="52055" y="153832"/>
                </a:lnTo>
                <a:lnTo>
                  <a:pt x="53754" y="162562"/>
                </a:lnTo>
                <a:lnTo>
                  <a:pt x="55838" y="171240"/>
                </a:lnTo>
                <a:lnTo>
                  <a:pt x="57228" y="178930"/>
                </a:lnTo>
                <a:lnTo>
                  <a:pt x="58155" y="185962"/>
                </a:lnTo>
                <a:lnTo>
                  <a:pt x="58772" y="192555"/>
                </a:lnTo>
                <a:lnTo>
                  <a:pt x="59184" y="199808"/>
                </a:lnTo>
                <a:lnTo>
                  <a:pt x="59641" y="215486"/>
                </a:lnTo>
                <a:lnTo>
                  <a:pt x="59993" y="280399"/>
                </a:lnTo>
                <a:lnTo>
                  <a:pt x="60005" y="305260"/>
                </a:lnTo>
                <a:lnTo>
                  <a:pt x="60958" y="310187"/>
                </a:lnTo>
                <a:lnTo>
                  <a:pt x="62546" y="314424"/>
                </a:lnTo>
                <a:lnTo>
                  <a:pt x="64557" y="318201"/>
                </a:lnTo>
                <a:lnTo>
                  <a:pt x="66792" y="324938"/>
                </a:lnTo>
                <a:lnTo>
                  <a:pt x="68050" y="334086"/>
                </a:lnTo>
                <a:lnTo>
                  <a:pt x="68227" y="337024"/>
                </a:lnTo>
                <a:lnTo>
                  <a:pt x="69297" y="339936"/>
                </a:lnTo>
                <a:lnTo>
                  <a:pt x="70963" y="342829"/>
                </a:lnTo>
                <a:lnTo>
                  <a:pt x="75930" y="349766"/>
                </a:lnTo>
                <a:lnTo>
                  <a:pt x="76609" y="353254"/>
                </a:lnTo>
                <a:lnTo>
                  <a:pt x="77045" y="358704"/>
                </a:lnTo>
                <a:lnTo>
                  <a:pt x="77152" y="3514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MARTPenAnnotation658"/>
          <p:cNvSpPr/>
          <p:nvPr/>
        </p:nvSpPr>
        <p:spPr>
          <a:xfrm>
            <a:off x="2540160" y="2332080"/>
            <a:ext cx="325440" cy="17280"/>
          </a:xfrm>
          <a:custGeom>
            <a:avLst/>
            <a:gdLst>
              <a:gd name="textAreaLeft" fmla="*/ 0 w 325440"/>
              <a:gd name="textAreaRight" fmla="*/ 325800 w 3254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25756" h="17145">
                <a:moveTo>
                  <a:pt x="0" y="17144"/>
                </a:moveTo>
                <a:lnTo>
                  <a:pt x="137313" y="17144"/>
                </a:lnTo>
                <a:lnTo>
                  <a:pt x="145834" y="16192"/>
                </a:lnTo>
                <a:lnTo>
                  <a:pt x="154373" y="14605"/>
                </a:lnTo>
                <a:lnTo>
                  <a:pt x="162923" y="12594"/>
                </a:lnTo>
                <a:lnTo>
                  <a:pt x="171480" y="11253"/>
                </a:lnTo>
                <a:lnTo>
                  <a:pt x="180043" y="10359"/>
                </a:lnTo>
                <a:lnTo>
                  <a:pt x="188609" y="9764"/>
                </a:lnTo>
                <a:lnTo>
                  <a:pt x="197176" y="9367"/>
                </a:lnTo>
                <a:lnTo>
                  <a:pt x="214317" y="8925"/>
                </a:lnTo>
                <a:lnTo>
                  <a:pt x="221935" y="7855"/>
                </a:lnTo>
                <a:lnTo>
                  <a:pt x="228919" y="6189"/>
                </a:lnTo>
                <a:lnTo>
                  <a:pt x="235480" y="4126"/>
                </a:lnTo>
                <a:lnTo>
                  <a:pt x="242712" y="2750"/>
                </a:lnTo>
                <a:lnTo>
                  <a:pt x="250391" y="1833"/>
                </a:lnTo>
                <a:lnTo>
                  <a:pt x="258367" y="1222"/>
                </a:lnTo>
                <a:lnTo>
                  <a:pt x="265590" y="815"/>
                </a:lnTo>
                <a:lnTo>
                  <a:pt x="278695" y="362"/>
                </a:lnTo>
                <a:lnTo>
                  <a:pt x="305894" y="47"/>
                </a:lnTo>
                <a:lnTo>
                  <a:pt x="32575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MARTPenAnnotation659"/>
          <p:cNvSpPr/>
          <p:nvPr/>
        </p:nvSpPr>
        <p:spPr>
          <a:xfrm>
            <a:off x="2643120" y="2206800"/>
            <a:ext cx="103320" cy="279360"/>
          </a:xfrm>
          <a:custGeom>
            <a:avLst/>
            <a:gdLst>
              <a:gd name="textAreaLeft" fmla="*/ 0 w 103320"/>
              <a:gd name="textAreaRight" fmla="*/ 103680 w 103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02862" h="279240">
                <a:moveTo>
                  <a:pt x="8563" y="13491"/>
                </a:moveTo>
                <a:lnTo>
                  <a:pt x="96" y="5023"/>
                </a:lnTo>
                <a:lnTo>
                  <a:pt x="12" y="0"/>
                </a:lnTo>
                <a:lnTo>
                  <a:pt x="0" y="2098"/>
                </a:lnTo>
                <a:lnTo>
                  <a:pt x="949" y="3038"/>
                </a:lnTo>
                <a:lnTo>
                  <a:pt x="2535" y="3665"/>
                </a:lnTo>
                <a:lnTo>
                  <a:pt x="7373" y="4671"/>
                </a:lnTo>
                <a:lnTo>
                  <a:pt x="10574" y="7349"/>
                </a:lnTo>
                <a:lnTo>
                  <a:pt x="12762" y="9396"/>
                </a:lnTo>
                <a:lnTo>
                  <a:pt x="15172" y="12666"/>
                </a:lnTo>
                <a:lnTo>
                  <a:pt x="17732" y="16751"/>
                </a:lnTo>
                <a:lnTo>
                  <a:pt x="20391" y="21379"/>
                </a:lnTo>
                <a:lnTo>
                  <a:pt x="25885" y="31602"/>
                </a:lnTo>
                <a:lnTo>
                  <a:pt x="28684" y="36995"/>
                </a:lnTo>
                <a:lnTo>
                  <a:pt x="30549" y="42495"/>
                </a:lnTo>
                <a:lnTo>
                  <a:pt x="31793" y="48067"/>
                </a:lnTo>
                <a:lnTo>
                  <a:pt x="32623" y="53687"/>
                </a:lnTo>
                <a:lnTo>
                  <a:pt x="34128" y="59338"/>
                </a:lnTo>
                <a:lnTo>
                  <a:pt x="36084" y="65011"/>
                </a:lnTo>
                <a:lnTo>
                  <a:pt x="38340" y="70698"/>
                </a:lnTo>
                <a:lnTo>
                  <a:pt x="39845" y="76394"/>
                </a:lnTo>
                <a:lnTo>
                  <a:pt x="40848" y="82096"/>
                </a:lnTo>
                <a:lnTo>
                  <a:pt x="41516" y="87803"/>
                </a:lnTo>
                <a:lnTo>
                  <a:pt x="41962" y="94465"/>
                </a:lnTo>
                <a:lnTo>
                  <a:pt x="42259" y="101764"/>
                </a:lnTo>
                <a:lnTo>
                  <a:pt x="42677" y="123148"/>
                </a:lnTo>
                <a:lnTo>
                  <a:pt x="42736" y="129458"/>
                </a:lnTo>
                <a:lnTo>
                  <a:pt x="43728" y="135570"/>
                </a:lnTo>
                <a:lnTo>
                  <a:pt x="45341" y="141550"/>
                </a:lnTo>
                <a:lnTo>
                  <a:pt x="47369" y="147441"/>
                </a:lnTo>
                <a:lnTo>
                  <a:pt x="48722" y="154226"/>
                </a:lnTo>
                <a:lnTo>
                  <a:pt x="49623" y="161607"/>
                </a:lnTo>
                <a:lnTo>
                  <a:pt x="50224" y="169385"/>
                </a:lnTo>
                <a:lnTo>
                  <a:pt x="51577" y="176475"/>
                </a:lnTo>
                <a:lnTo>
                  <a:pt x="53432" y="183107"/>
                </a:lnTo>
                <a:lnTo>
                  <a:pt x="55621" y="189434"/>
                </a:lnTo>
                <a:lnTo>
                  <a:pt x="57080" y="195556"/>
                </a:lnTo>
                <a:lnTo>
                  <a:pt x="58053" y="201543"/>
                </a:lnTo>
                <a:lnTo>
                  <a:pt x="58701" y="207439"/>
                </a:lnTo>
                <a:lnTo>
                  <a:pt x="60086" y="213274"/>
                </a:lnTo>
                <a:lnTo>
                  <a:pt x="61962" y="219070"/>
                </a:lnTo>
                <a:lnTo>
                  <a:pt x="64165" y="224839"/>
                </a:lnTo>
                <a:lnTo>
                  <a:pt x="66586" y="229637"/>
                </a:lnTo>
                <a:lnTo>
                  <a:pt x="69153" y="233788"/>
                </a:lnTo>
                <a:lnTo>
                  <a:pt x="71816" y="237508"/>
                </a:lnTo>
                <a:lnTo>
                  <a:pt x="73592" y="241893"/>
                </a:lnTo>
                <a:lnTo>
                  <a:pt x="74776" y="246722"/>
                </a:lnTo>
                <a:lnTo>
                  <a:pt x="75565" y="251846"/>
                </a:lnTo>
                <a:lnTo>
                  <a:pt x="77044" y="255262"/>
                </a:lnTo>
                <a:lnTo>
                  <a:pt x="78982" y="257539"/>
                </a:lnTo>
                <a:lnTo>
                  <a:pt x="81227" y="259057"/>
                </a:lnTo>
                <a:lnTo>
                  <a:pt x="82723" y="261022"/>
                </a:lnTo>
                <a:lnTo>
                  <a:pt x="83721" y="263284"/>
                </a:lnTo>
                <a:lnTo>
                  <a:pt x="84386" y="265745"/>
                </a:lnTo>
                <a:lnTo>
                  <a:pt x="85782" y="268338"/>
                </a:lnTo>
                <a:lnTo>
                  <a:pt x="87665" y="271019"/>
                </a:lnTo>
                <a:lnTo>
                  <a:pt x="93901" y="278758"/>
                </a:lnTo>
                <a:lnTo>
                  <a:pt x="96656" y="279025"/>
                </a:lnTo>
                <a:lnTo>
                  <a:pt x="102861" y="2792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MARTPenAnnotation660"/>
          <p:cNvSpPr/>
          <p:nvPr/>
        </p:nvSpPr>
        <p:spPr>
          <a:xfrm>
            <a:off x="2986200" y="2117880"/>
            <a:ext cx="102960" cy="403200"/>
          </a:xfrm>
          <a:custGeom>
            <a:avLst/>
            <a:gdLst>
              <a:gd name="textAreaLeft" fmla="*/ 0 w 102960"/>
              <a:gd name="textAreaRight" fmla="*/ 103320 w 10296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102871" h="402908">
                <a:moveTo>
                  <a:pt x="0" y="0"/>
                </a:moveTo>
                <a:lnTo>
                  <a:pt x="0" y="4551"/>
                </a:lnTo>
                <a:lnTo>
                  <a:pt x="952" y="6844"/>
                </a:lnTo>
                <a:lnTo>
                  <a:pt x="2540" y="9325"/>
                </a:lnTo>
                <a:lnTo>
                  <a:pt x="4551" y="11932"/>
                </a:lnTo>
                <a:lnTo>
                  <a:pt x="5891" y="14622"/>
                </a:lnTo>
                <a:lnTo>
                  <a:pt x="8731" y="23912"/>
                </a:lnTo>
                <a:lnTo>
                  <a:pt x="10583" y="28324"/>
                </a:lnTo>
                <a:lnTo>
                  <a:pt x="12770" y="33170"/>
                </a:lnTo>
                <a:lnTo>
                  <a:pt x="15181" y="39258"/>
                </a:lnTo>
                <a:lnTo>
                  <a:pt x="20400" y="53643"/>
                </a:lnTo>
                <a:lnTo>
                  <a:pt x="22172" y="60527"/>
                </a:lnTo>
                <a:lnTo>
                  <a:pt x="23354" y="67022"/>
                </a:lnTo>
                <a:lnTo>
                  <a:pt x="24142" y="73256"/>
                </a:lnTo>
                <a:lnTo>
                  <a:pt x="25620" y="80270"/>
                </a:lnTo>
                <a:lnTo>
                  <a:pt x="27557" y="87803"/>
                </a:lnTo>
                <a:lnTo>
                  <a:pt x="29801" y="95683"/>
                </a:lnTo>
                <a:lnTo>
                  <a:pt x="31298" y="103794"/>
                </a:lnTo>
                <a:lnTo>
                  <a:pt x="32295" y="112058"/>
                </a:lnTo>
                <a:lnTo>
                  <a:pt x="32960" y="120425"/>
                </a:lnTo>
                <a:lnTo>
                  <a:pt x="34356" y="128861"/>
                </a:lnTo>
                <a:lnTo>
                  <a:pt x="36239" y="137343"/>
                </a:lnTo>
                <a:lnTo>
                  <a:pt x="38447" y="145854"/>
                </a:lnTo>
                <a:lnTo>
                  <a:pt x="39919" y="154386"/>
                </a:lnTo>
                <a:lnTo>
                  <a:pt x="40900" y="162932"/>
                </a:lnTo>
                <a:lnTo>
                  <a:pt x="41554" y="171486"/>
                </a:lnTo>
                <a:lnTo>
                  <a:pt x="41990" y="180047"/>
                </a:lnTo>
                <a:lnTo>
                  <a:pt x="42475" y="197178"/>
                </a:lnTo>
                <a:lnTo>
                  <a:pt x="43556" y="205747"/>
                </a:lnTo>
                <a:lnTo>
                  <a:pt x="45230" y="214317"/>
                </a:lnTo>
                <a:lnTo>
                  <a:pt x="47299" y="222888"/>
                </a:lnTo>
                <a:lnTo>
                  <a:pt x="48677" y="231460"/>
                </a:lnTo>
                <a:lnTo>
                  <a:pt x="49597" y="240032"/>
                </a:lnTo>
                <a:lnTo>
                  <a:pt x="50209" y="248604"/>
                </a:lnTo>
                <a:lnTo>
                  <a:pt x="51570" y="257176"/>
                </a:lnTo>
                <a:lnTo>
                  <a:pt x="53430" y="265748"/>
                </a:lnTo>
                <a:lnTo>
                  <a:pt x="55623" y="274320"/>
                </a:lnTo>
                <a:lnTo>
                  <a:pt x="58037" y="281940"/>
                </a:lnTo>
                <a:lnTo>
                  <a:pt x="60599" y="288925"/>
                </a:lnTo>
                <a:lnTo>
                  <a:pt x="63259" y="295487"/>
                </a:lnTo>
                <a:lnTo>
                  <a:pt x="65985" y="301766"/>
                </a:lnTo>
                <a:lnTo>
                  <a:pt x="71555" y="313823"/>
                </a:lnTo>
                <a:lnTo>
                  <a:pt x="74664" y="325532"/>
                </a:lnTo>
                <a:lnTo>
                  <a:pt x="76999" y="337086"/>
                </a:lnTo>
                <a:lnTo>
                  <a:pt x="78955" y="342834"/>
                </a:lnTo>
                <a:lnTo>
                  <a:pt x="81212" y="348571"/>
                </a:lnTo>
                <a:lnTo>
                  <a:pt x="83719" y="360025"/>
                </a:lnTo>
                <a:lnTo>
                  <a:pt x="84388" y="365747"/>
                </a:lnTo>
                <a:lnTo>
                  <a:pt x="85786" y="370514"/>
                </a:lnTo>
                <a:lnTo>
                  <a:pt x="87671" y="374644"/>
                </a:lnTo>
                <a:lnTo>
                  <a:pt x="92988" y="383566"/>
                </a:lnTo>
                <a:lnTo>
                  <a:pt x="93716" y="387326"/>
                </a:lnTo>
                <a:lnTo>
                  <a:pt x="93909" y="389663"/>
                </a:lnTo>
                <a:lnTo>
                  <a:pt x="94991" y="392173"/>
                </a:lnTo>
                <a:lnTo>
                  <a:pt x="96665" y="394798"/>
                </a:lnTo>
                <a:lnTo>
                  <a:pt x="102870" y="4029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MARTPenAnnotation661"/>
          <p:cNvSpPr/>
          <p:nvPr/>
        </p:nvSpPr>
        <p:spPr>
          <a:xfrm>
            <a:off x="1060560" y="2957400"/>
            <a:ext cx="390240" cy="300240"/>
          </a:xfrm>
          <a:custGeom>
            <a:avLst/>
            <a:gdLst>
              <a:gd name="textAreaLeft" fmla="*/ 0 w 390240"/>
              <a:gd name="textAreaRight" fmla="*/ 390600 w 39024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90702" h="300039">
                <a:moveTo>
                  <a:pt x="4939" y="0"/>
                </a:moveTo>
                <a:lnTo>
                  <a:pt x="0" y="0"/>
                </a:lnTo>
                <a:lnTo>
                  <a:pt x="2109" y="0"/>
                </a:lnTo>
                <a:lnTo>
                  <a:pt x="3052" y="953"/>
                </a:lnTo>
                <a:lnTo>
                  <a:pt x="3681" y="2540"/>
                </a:lnTo>
                <a:lnTo>
                  <a:pt x="4100" y="4551"/>
                </a:lnTo>
                <a:lnTo>
                  <a:pt x="5332" y="5892"/>
                </a:lnTo>
                <a:lnTo>
                  <a:pt x="7106" y="6785"/>
                </a:lnTo>
                <a:lnTo>
                  <a:pt x="9241" y="7381"/>
                </a:lnTo>
                <a:lnTo>
                  <a:pt x="14154" y="10583"/>
                </a:lnTo>
                <a:lnTo>
                  <a:pt x="20464" y="15181"/>
                </a:lnTo>
                <a:lnTo>
                  <a:pt x="29619" y="20400"/>
                </a:lnTo>
                <a:lnTo>
                  <a:pt x="32822" y="23125"/>
                </a:lnTo>
                <a:lnTo>
                  <a:pt x="34958" y="25894"/>
                </a:lnTo>
                <a:lnTo>
                  <a:pt x="36382" y="28693"/>
                </a:lnTo>
                <a:lnTo>
                  <a:pt x="43043" y="34342"/>
                </a:lnTo>
                <a:lnTo>
                  <a:pt x="54964" y="42878"/>
                </a:lnTo>
                <a:lnTo>
                  <a:pt x="62415" y="49537"/>
                </a:lnTo>
                <a:lnTo>
                  <a:pt x="72076" y="58847"/>
                </a:lnTo>
                <a:lnTo>
                  <a:pt x="82720" y="66794"/>
                </a:lnTo>
                <a:lnTo>
                  <a:pt x="93801" y="73501"/>
                </a:lnTo>
                <a:lnTo>
                  <a:pt x="105076" y="79658"/>
                </a:lnTo>
                <a:lnTo>
                  <a:pt x="116437" y="88108"/>
                </a:lnTo>
                <a:lnTo>
                  <a:pt x="127836" y="97262"/>
                </a:lnTo>
                <a:lnTo>
                  <a:pt x="139252" y="104505"/>
                </a:lnTo>
                <a:lnTo>
                  <a:pt x="153216" y="113439"/>
                </a:lnTo>
                <a:lnTo>
                  <a:pt x="160940" y="118489"/>
                </a:lnTo>
                <a:lnTo>
                  <a:pt x="168947" y="122807"/>
                </a:lnTo>
                <a:lnTo>
                  <a:pt x="177143" y="126639"/>
                </a:lnTo>
                <a:lnTo>
                  <a:pt x="185464" y="130146"/>
                </a:lnTo>
                <a:lnTo>
                  <a:pt x="192917" y="134389"/>
                </a:lnTo>
                <a:lnTo>
                  <a:pt x="199790" y="139123"/>
                </a:lnTo>
                <a:lnTo>
                  <a:pt x="206277" y="144184"/>
                </a:lnTo>
                <a:lnTo>
                  <a:pt x="213459" y="149462"/>
                </a:lnTo>
                <a:lnTo>
                  <a:pt x="229060" y="160408"/>
                </a:lnTo>
                <a:lnTo>
                  <a:pt x="236268" y="165041"/>
                </a:lnTo>
                <a:lnTo>
                  <a:pt x="242978" y="169083"/>
                </a:lnTo>
                <a:lnTo>
                  <a:pt x="249357" y="172729"/>
                </a:lnTo>
                <a:lnTo>
                  <a:pt x="256467" y="177065"/>
                </a:lnTo>
                <a:lnTo>
                  <a:pt x="271987" y="186963"/>
                </a:lnTo>
                <a:lnTo>
                  <a:pt x="278221" y="192270"/>
                </a:lnTo>
                <a:lnTo>
                  <a:pt x="283329" y="197712"/>
                </a:lnTo>
                <a:lnTo>
                  <a:pt x="287688" y="203246"/>
                </a:lnTo>
                <a:lnTo>
                  <a:pt x="292498" y="208840"/>
                </a:lnTo>
                <a:lnTo>
                  <a:pt x="297610" y="214474"/>
                </a:lnTo>
                <a:lnTo>
                  <a:pt x="311366" y="228965"/>
                </a:lnTo>
                <a:lnTo>
                  <a:pt x="340805" y="258695"/>
                </a:lnTo>
                <a:lnTo>
                  <a:pt x="349793" y="265153"/>
                </a:lnTo>
                <a:lnTo>
                  <a:pt x="359185" y="271199"/>
                </a:lnTo>
                <a:lnTo>
                  <a:pt x="369827" y="279957"/>
                </a:lnTo>
                <a:lnTo>
                  <a:pt x="380321" y="289761"/>
                </a:lnTo>
                <a:lnTo>
                  <a:pt x="381876" y="290329"/>
                </a:lnTo>
                <a:lnTo>
                  <a:pt x="386144" y="290960"/>
                </a:lnTo>
                <a:lnTo>
                  <a:pt x="387663" y="292081"/>
                </a:lnTo>
                <a:lnTo>
                  <a:pt x="388676" y="293781"/>
                </a:lnTo>
                <a:lnTo>
                  <a:pt x="390701" y="3000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MARTPenAnnotation662"/>
          <p:cNvSpPr/>
          <p:nvPr/>
        </p:nvSpPr>
        <p:spPr>
          <a:xfrm>
            <a:off x="1103400" y="2975040"/>
            <a:ext cx="193680" cy="257040"/>
          </a:xfrm>
          <a:custGeom>
            <a:avLst/>
            <a:gdLst>
              <a:gd name="textAreaLeft" fmla="*/ 0 w 193680"/>
              <a:gd name="textAreaRight" fmla="*/ 194040 w 19368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93456" h="257176">
                <a:moveTo>
                  <a:pt x="193455" y="0"/>
                </a:moveTo>
                <a:lnTo>
                  <a:pt x="186075" y="0"/>
                </a:lnTo>
                <a:lnTo>
                  <a:pt x="182872" y="5080"/>
                </a:lnTo>
                <a:lnTo>
                  <a:pt x="178274" y="12735"/>
                </a:lnTo>
                <a:lnTo>
                  <a:pt x="173056" y="19313"/>
                </a:lnTo>
                <a:lnTo>
                  <a:pt x="169378" y="23353"/>
                </a:lnTo>
                <a:lnTo>
                  <a:pt x="160212" y="32922"/>
                </a:lnTo>
                <a:lnTo>
                  <a:pt x="156053" y="39093"/>
                </a:lnTo>
                <a:lnTo>
                  <a:pt x="152328" y="46065"/>
                </a:lnTo>
                <a:lnTo>
                  <a:pt x="148892" y="53569"/>
                </a:lnTo>
                <a:lnTo>
                  <a:pt x="144697" y="61430"/>
                </a:lnTo>
                <a:lnTo>
                  <a:pt x="139995" y="69529"/>
                </a:lnTo>
                <a:lnTo>
                  <a:pt x="134955" y="77785"/>
                </a:lnTo>
                <a:lnTo>
                  <a:pt x="129690" y="85194"/>
                </a:lnTo>
                <a:lnTo>
                  <a:pt x="124275" y="92039"/>
                </a:lnTo>
                <a:lnTo>
                  <a:pt x="118760" y="98507"/>
                </a:lnTo>
                <a:lnTo>
                  <a:pt x="113179" y="105676"/>
                </a:lnTo>
                <a:lnTo>
                  <a:pt x="107553" y="113313"/>
                </a:lnTo>
                <a:lnTo>
                  <a:pt x="101897" y="121262"/>
                </a:lnTo>
                <a:lnTo>
                  <a:pt x="96221" y="128466"/>
                </a:lnTo>
                <a:lnTo>
                  <a:pt x="90533" y="135174"/>
                </a:lnTo>
                <a:lnTo>
                  <a:pt x="84835" y="141551"/>
                </a:lnTo>
                <a:lnTo>
                  <a:pt x="79132" y="148660"/>
                </a:lnTo>
                <a:lnTo>
                  <a:pt x="73425" y="156257"/>
                </a:lnTo>
                <a:lnTo>
                  <a:pt x="67715" y="164179"/>
                </a:lnTo>
                <a:lnTo>
                  <a:pt x="62956" y="171365"/>
                </a:lnTo>
                <a:lnTo>
                  <a:pt x="58831" y="178061"/>
                </a:lnTo>
                <a:lnTo>
                  <a:pt x="55128" y="184430"/>
                </a:lnTo>
                <a:lnTo>
                  <a:pt x="50755" y="190581"/>
                </a:lnTo>
                <a:lnTo>
                  <a:pt x="45934" y="196586"/>
                </a:lnTo>
                <a:lnTo>
                  <a:pt x="40815" y="202495"/>
                </a:lnTo>
                <a:lnTo>
                  <a:pt x="37403" y="208339"/>
                </a:lnTo>
                <a:lnTo>
                  <a:pt x="35128" y="214140"/>
                </a:lnTo>
                <a:lnTo>
                  <a:pt x="33611" y="219913"/>
                </a:lnTo>
                <a:lnTo>
                  <a:pt x="31648" y="224714"/>
                </a:lnTo>
                <a:lnTo>
                  <a:pt x="26926" y="232588"/>
                </a:lnTo>
                <a:lnTo>
                  <a:pt x="21652" y="239262"/>
                </a:lnTo>
                <a:lnTo>
                  <a:pt x="18913" y="242376"/>
                </a:lnTo>
                <a:lnTo>
                  <a:pt x="17086" y="245404"/>
                </a:lnTo>
                <a:lnTo>
                  <a:pt x="15057" y="251308"/>
                </a:lnTo>
                <a:lnTo>
                  <a:pt x="13563" y="253264"/>
                </a:lnTo>
                <a:lnTo>
                  <a:pt x="11615" y="254568"/>
                </a:lnTo>
                <a:lnTo>
                  <a:pt x="5256" y="257023"/>
                </a:lnTo>
                <a:lnTo>
                  <a:pt x="0" y="257145"/>
                </a:lnTo>
                <a:lnTo>
                  <a:pt x="4860" y="257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MARTPenAnnotation663"/>
          <p:cNvSpPr/>
          <p:nvPr/>
        </p:nvSpPr>
        <p:spPr>
          <a:xfrm>
            <a:off x="1417680" y="2803680"/>
            <a:ext cx="368280" cy="161640"/>
          </a:xfrm>
          <a:custGeom>
            <a:avLst/>
            <a:gdLst>
              <a:gd name="textAreaLeft" fmla="*/ 0 w 368280"/>
              <a:gd name="textAreaRight" fmla="*/ 368640 w 36828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368619" h="162411">
                <a:moveTo>
                  <a:pt x="0" y="68112"/>
                </a:moveTo>
                <a:lnTo>
                  <a:pt x="0" y="63561"/>
                </a:lnTo>
                <a:lnTo>
                  <a:pt x="953" y="62220"/>
                </a:lnTo>
                <a:lnTo>
                  <a:pt x="2540" y="61327"/>
                </a:lnTo>
                <a:lnTo>
                  <a:pt x="4551" y="60731"/>
                </a:lnTo>
                <a:lnTo>
                  <a:pt x="9326" y="57529"/>
                </a:lnTo>
                <a:lnTo>
                  <a:pt x="11932" y="55342"/>
                </a:lnTo>
                <a:lnTo>
                  <a:pt x="13670" y="52931"/>
                </a:lnTo>
                <a:lnTo>
                  <a:pt x="14829" y="50371"/>
                </a:lnTo>
                <a:lnTo>
                  <a:pt x="15601" y="47713"/>
                </a:lnTo>
                <a:lnTo>
                  <a:pt x="17068" y="45940"/>
                </a:lnTo>
                <a:lnTo>
                  <a:pt x="18999" y="44758"/>
                </a:lnTo>
                <a:lnTo>
                  <a:pt x="21239" y="43970"/>
                </a:lnTo>
                <a:lnTo>
                  <a:pt x="26267" y="40555"/>
                </a:lnTo>
                <a:lnTo>
                  <a:pt x="28942" y="38311"/>
                </a:lnTo>
                <a:lnTo>
                  <a:pt x="32629" y="36814"/>
                </a:lnTo>
                <a:lnTo>
                  <a:pt x="41807" y="35152"/>
                </a:lnTo>
                <a:lnTo>
                  <a:pt x="49696" y="31873"/>
                </a:lnTo>
                <a:lnTo>
                  <a:pt x="56378" y="28194"/>
                </a:lnTo>
                <a:lnTo>
                  <a:pt x="66446" y="25169"/>
                </a:lnTo>
                <a:lnTo>
                  <a:pt x="75887" y="21087"/>
                </a:lnTo>
                <a:lnTo>
                  <a:pt x="86433" y="18637"/>
                </a:lnTo>
                <a:lnTo>
                  <a:pt x="97470" y="16595"/>
                </a:lnTo>
                <a:lnTo>
                  <a:pt x="108725" y="12513"/>
                </a:lnTo>
                <a:lnTo>
                  <a:pt x="122617" y="7524"/>
                </a:lnTo>
                <a:lnTo>
                  <a:pt x="130323" y="4860"/>
                </a:lnTo>
                <a:lnTo>
                  <a:pt x="137364" y="3084"/>
                </a:lnTo>
                <a:lnTo>
                  <a:pt x="143964" y="1900"/>
                </a:lnTo>
                <a:lnTo>
                  <a:pt x="155424" y="585"/>
                </a:lnTo>
                <a:lnTo>
                  <a:pt x="163693" y="0"/>
                </a:lnTo>
                <a:lnTo>
                  <a:pt x="173083" y="2280"/>
                </a:lnTo>
                <a:lnTo>
                  <a:pt x="182653" y="6468"/>
                </a:lnTo>
                <a:lnTo>
                  <a:pt x="190082" y="11505"/>
                </a:lnTo>
                <a:lnTo>
                  <a:pt x="196559" y="14378"/>
                </a:lnTo>
                <a:lnTo>
                  <a:pt x="199619" y="15144"/>
                </a:lnTo>
                <a:lnTo>
                  <a:pt x="205560" y="18536"/>
                </a:lnTo>
                <a:lnTo>
                  <a:pt x="208478" y="20774"/>
                </a:lnTo>
                <a:lnTo>
                  <a:pt x="210423" y="23218"/>
                </a:lnTo>
                <a:lnTo>
                  <a:pt x="211720" y="25800"/>
                </a:lnTo>
                <a:lnTo>
                  <a:pt x="212584" y="28474"/>
                </a:lnTo>
                <a:lnTo>
                  <a:pt x="214113" y="32162"/>
                </a:lnTo>
                <a:lnTo>
                  <a:pt x="216084" y="36525"/>
                </a:lnTo>
                <a:lnTo>
                  <a:pt x="218351" y="41339"/>
                </a:lnTo>
                <a:lnTo>
                  <a:pt x="218910" y="45501"/>
                </a:lnTo>
                <a:lnTo>
                  <a:pt x="218330" y="49228"/>
                </a:lnTo>
                <a:lnTo>
                  <a:pt x="216991" y="52665"/>
                </a:lnTo>
                <a:lnTo>
                  <a:pt x="216098" y="55909"/>
                </a:lnTo>
                <a:lnTo>
                  <a:pt x="215503" y="59024"/>
                </a:lnTo>
                <a:lnTo>
                  <a:pt x="215107" y="62054"/>
                </a:lnTo>
                <a:lnTo>
                  <a:pt x="213890" y="65978"/>
                </a:lnTo>
                <a:lnTo>
                  <a:pt x="212126" y="70499"/>
                </a:lnTo>
                <a:lnTo>
                  <a:pt x="209997" y="75419"/>
                </a:lnTo>
                <a:lnTo>
                  <a:pt x="205092" y="85964"/>
                </a:lnTo>
                <a:lnTo>
                  <a:pt x="202451" y="91444"/>
                </a:lnTo>
                <a:lnTo>
                  <a:pt x="199738" y="96049"/>
                </a:lnTo>
                <a:lnTo>
                  <a:pt x="196976" y="100072"/>
                </a:lnTo>
                <a:lnTo>
                  <a:pt x="194182" y="103706"/>
                </a:lnTo>
                <a:lnTo>
                  <a:pt x="190415" y="107082"/>
                </a:lnTo>
                <a:lnTo>
                  <a:pt x="185999" y="110284"/>
                </a:lnTo>
                <a:lnTo>
                  <a:pt x="181149" y="113372"/>
                </a:lnTo>
                <a:lnTo>
                  <a:pt x="176964" y="116383"/>
                </a:lnTo>
                <a:lnTo>
                  <a:pt x="173221" y="119342"/>
                </a:lnTo>
                <a:lnTo>
                  <a:pt x="169773" y="122268"/>
                </a:lnTo>
                <a:lnTo>
                  <a:pt x="166522" y="125171"/>
                </a:lnTo>
                <a:lnTo>
                  <a:pt x="160370" y="130937"/>
                </a:lnTo>
                <a:lnTo>
                  <a:pt x="151552" y="139538"/>
                </a:lnTo>
                <a:lnTo>
                  <a:pt x="147707" y="142399"/>
                </a:lnTo>
                <a:lnTo>
                  <a:pt x="143239" y="145259"/>
                </a:lnTo>
                <a:lnTo>
                  <a:pt x="138356" y="148119"/>
                </a:lnTo>
                <a:lnTo>
                  <a:pt x="127849" y="151295"/>
                </a:lnTo>
                <a:lnTo>
                  <a:pt x="111527" y="153824"/>
                </a:lnTo>
                <a:lnTo>
                  <a:pt x="111468" y="158384"/>
                </a:lnTo>
                <a:lnTo>
                  <a:pt x="111443" y="162305"/>
                </a:lnTo>
                <a:lnTo>
                  <a:pt x="120545" y="162379"/>
                </a:lnTo>
                <a:lnTo>
                  <a:pt x="185881" y="162410"/>
                </a:lnTo>
                <a:lnTo>
                  <a:pt x="192501" y="161457"/>
                </a:lnTo>
                <a:lnTo>
                  <a:pt x="199772" y="159870"/>
                </a:lnTo>
                <a:lnTo>
                  <a:pt x="207476" y="157859"/>
                </a:lnTo>
                <a:lnTo>
                  <a:pt x="218577" y="155624"/>
                </a:lnTo>
                <a:lnTo>
                  <a:pt x="227638" y="154632"/>
                </a:lnTo>
                <a:lnTo>
                  <a:pt x="238015" y="154190"/>
                </a:lnTo>
                <a:lnTo>
                  <a:pt x="244402" y="153120"/>
                </a:lnTo>
                <a:lnTo>
                  <a:pt x="251517" y="151454"/>
                </a:lnTo>
                <a:lnTo>
                  <a:pt x="259118" y="149391"/>
                </a:lnTo>
                <a:lnTo>
                  <a:pt x="270104" y="147098"/>
                </a:lnTo>
                <a:lnTo>
                  <a:pt x="280066" y="146080"/>
                </a:lnTo>
                <a:lnTo>
                  <a:pt x="286724" y="145808"/>
                </a:lnTo>
                <a:lnTo>
                  <a:pt x="294019" y="145627"/>
                </a:lnTo>
                <a:lnTo>
                  <a:pt x="300788" y="144553"/>
                </a:lnTo>
                <a:lnTo>
                  <a:pt x="307205" y="142886"/>
                </a:lnTo>
                <a:lnTo>
                  <a:pt x="318464" y="139445"/>
                </a:lnTo>
                <a:lnTo>
                  <a:pt x="326642" y="137916"/>
                </a:lnTo>
                <a:lnTo>
                  <a:pt x="335992" y="137236"/>
                </a:lnTo>
                <a:lnTo>
                  <a:pt x="345545" y="136934"/>
                </a:lnTo>
                <a:lnTo>
                  <a:pt x="359439" y="136740"/>
                </a:lnTo>
                <a:lnTo>
                  <a:pt x="368618" y="1366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MARTPenAnnotation664"/>
          <p:cNvSpPr/>
          <p:nvPr/>
        </p:nvSpPr>
        <p:spPr>
          <a:xfrm>
            <a:off x="1932120" y="3081240"/>
            <a:ext cx="325440" cy="30240"/>
          </a:xfrm>
          <a:custGeom>
            <a:avLst/>
            <a:gdLst>
              <a:gd name="textAreaLeft" fmla="*/ 0 w 325440"/>
              <a:gd name="textAreaRight" fmla="*/ 325800 w 3254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25404" h="30636">
                <a:moveTo>
                  <a:pt x="8220" y="30635"/>
                </a:moveTo>
                <a:lnTo>
                  <a:pt x="0" y="30635"/>
                </a:lnTo>
                <a:lnTo>
                  <a:pt x="19808" y="30635"/>
                </a:lnTo>
                <a:lnTo>
                  <a:pt x="22613" y="29682"/>
                </a:lnTo>
                <a:lnTo>
                  <a:pt x="25435" y="28095"/>
                </a:lnTo>
                <a:lnTo>
                  <a:pt x="28269" y="26084"/>
                </a:lnTo>
                <a:lnTo>
                  <a:pt x="33016" y="24744"/>
                </a:lnTo>
                <a:lnTo>
                  <a:pt x="39038" y="23850"/>
                </a:lnTo>
                <a:lnTo>
                  <a:pt x="45911" y="23254"/>
                </a:lnTo>
                <a:lnTo>
                  <a:pt x="52397" y="22857"/>
                </a:lnTo>
                <a:lnTo>
                  <a:pt x="64684" y="22415"/>
                </a:lnTo>
                <a:lnTo>
                  <a:pt x="71580" y="21346"/>
                </a:lnTo>
                <a:lnTo>
                  <a:pt x="79035" y="19680"/>
                </a:lnTo>
                <a:lnTo>
                  <a:pt x="86863" y="17617"/>
                </a:lnTo>
                <a:lnTo>
                  <a:pt x="94938" y="16241"/>
                </a:lnTo>
                <a:lnTo>
                  <a:pt x="103180" y="15324"/>
                </a:lnTo>
                <a:lnTo>
                  <a:pt x="111531" y="14713"/>
                </a:lnTo>
                <a:lnTo>
                  <a:pt x="119957" y="14305"/>
                </a:lnTo>
                <a:lnTo>
                  <a:pt x="136938" y="13852"/>
                </a:lnTo>
                <a:lnTo>
                  <a:pt x="146420" y="12779"/>
                </a:lnTo>
                <a:lnTo>
                  <a:pt x="156550" y="11111"/>
                </a:lnTo>
                <a:lnTo>
                  <a:pt x="167115" y="9047"/>
                </a:lnTo>
                <a:lnTo>
                  <a:pt x="177015" y="7670"/>
                </a:lnTo>
                <a:lnTo>
                  <a:pt x="186472" y="6753"/>
                </a:lnTo>
                <a:lnTo>
                  <a:pt x="195635" y="6141"/>
                </a:lnTo>
                <a:lnTo>
                  <a:pt x="204601" y="5733"/>
                </a:lnTo>
                <a:lnTo>
                  <a:pt x="222183" y="5280"/>
                </a:lnTo>
                <a:lnTo>
                  <a:pt x="243596" y="5025"/>
                </a:lnTo>
                <a:lnTo>
                  <a:pt x="249910" y="4037"/>
                </a:lnTo>
                <a:lnTo>
                  <a:pt x="256024" y="2425"/>
                </a:lnTo>
                <a:lnTo>
                  <a:pt x="262005" y="399"/>
                </a:lnTo>
                <a:lnTo>
                  <a:pt x="267897" y="0"/>
                </a:lnTo>
                <a:lnTo>
                  <a:pt x="273731" y="687"/>
                </a:lnTo>
                <a:lnTo>
                  <a:pt x="279525" y="2097"/>
                </a:lnTo>
                <a:lnTo>
                  <a:pt x="284340" y="3037"/>
                </a:lnTo>
                <a:lnTo>
                  <a:pt x="288502" y="3664"/>
                </a:lnTo>
                <a:lnTo>
                  <a:pt x="295667" y="4360"/>
                </a:lnTo>
                <a:lnTo>
                  <a:pt x="305056" y="4752"/>
                </a:lnTo>
                <a:lnTo>
                  <a:pt x="316762" y="4885"/>
                </a:lnTo>
                <a:lnTo>
                  <a:pt x="325403" y="49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MARTPenAnnotation665"/>
          <p:cNvSpPr/>
          <p:nvPr/>
        </p:nvSpPr>
        <p:spPr>
          <a:xfrm>
            <a:off x="2043000" y="3000240"/>
            <a:ext cx="85680" cy="265320"/>
          </a:xfrm>
          <a:custGeom>
            <a:avLst/>
            <a:gdLst>
              <a:gd name="textAreaLeft" fmla="*/ 0 w 85680"/>
              <a:gd name="textAreaRight" fmla="*/ 86040 w 8568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85621" h="265748">
                <a:moveTo>
                  <a:pt x="8467" y="0"/>
                </a:moveTo>
                <a:lnTo>
                  <a:pt x="0" y="0"/>
                </a:lnTo>
                <a:lnTo>
                  <a:pt x="4477" y="0"/>
                </a:lnTo>
                <a:lnTo>
                  <a:pt x="5807" y="952"/>
                </a:lnTo>
                <a:lnTo>
                  <a:pt x="6694" y="2539"/>
                </a:lnTo>
                <a:lnTo>
                  <a:pt x="7679" y="6844"/>
                </a:lnTo>
                <a:lnTo>
                  <a:pt x="8117" y="11931"/>
                </a:lnTo>
                <a:lnTo>
                  <a:pt x="9186" y="15574"/>
                </a:lnTo>
                <a:lnTo>
                  <a:pt x="10852" y="19908"/>
                </a:lnTo>
                <a:lnTo>
                  <a:pt x="12915" y="24702"/>
                </a:lnTo>
                <a:lnTo>
                  <a:pt x="17747" y="35108"/>
                </a:lnTo>
                <a:lnTo>
                  <a:pt x="20368" y="40551"/>
                </a:lnTo>
                <a:lnTo>
                  <a:pt x="22117" y="46084"/>
                </a:lnTo>
                <a:lnTo>
                  <a:pt x="23282" y="51677"/>
                </a:lnTo>
                <a:lnTo>
                  <a:pt x="24059" y="57311"/>
                </a:lnTo>
                <a:lnTo>
                  <a:pt x="25529" y="62972"/>
                </a:lnTo>
                <a:lnTo>
                  <a:pt x="27462" y="68652"/>
                </a:lnTo>
                <a:lnTo>
                  <a:pt x="29703" y="74343"/>
                </a:lnTo>
                <a:lnTo>
                  <a:pt x="32149" y="80042"/>
                </a:lnTo>
                <a:lnTo>
                  <a:pt x="37408" y="91454"/>
                </a:lnTo>
                <a:lnTo>
                  <a:pt x="39191" y="98117"/>
                </a:lnTo>
                <a:lnTo>
                  <a:pt x="40380" y="105416"/>
                </a:lnTo>
                <a:lnTo>
                  <a:pt x="41172" y="113140"/>
                </a:lnTo>
                <a:lnTo>
                  <a:pt x="42653" y="120194"/>
                </a:lnTo>
                <a:lnTo>
                  <a:pt x="44593" y="126802"/>
                </a:lnTo>
                <a:lnTo>
                  <a:pt x="46839" y="133112"/>
                </a:lnTo>
                <a:lnTo>
                  <a:pt x="49288" y="139223"/>
                </a:lnTo>
                <a:lnTo>
                  <a:pt x="51874" y="145203"/>
                </a:lnTo>
                <a:lnTo>
                  <a:pt x="54550" y="151094"/>
                </a:lnTo>
                <a:lnTo>
                  <a:pt x="56334" y="157879"/>
                </a:lnTo>
                <a:lnTo>
                  <a:pt x="57524" y="165260"/>
                </a:lnTo>
                <a:lnTo>
                  <a:pt x="58317" y="173039"/>
                </a:lnTo>
                <a:lnTo>
                  <a:pt x="59798" y="180129"/>
                </a:lnTo>
                <a:lnTo>
                  <a:pt x="61738" y="186761"/>
                </a:lnTo>
                <a:lnTo>
                  <a:pt x="63983" y="193087"/>
                </a:lnTo>
                <a:lnTo>
                  <a:pt x="65481" y="198257"/>
                </a:lnTo>
                <a:lnTo>
                  <a:pt x="67144" y="206542"/>
                </a:lnTo>
                <a:lnTo>
                  <a:pt x="68540" y="211037"/>
                </a:lnTo>
                <a:lnTo>
                  <a:pt x="70423" y="215938"/>
                </a:lnTo>
                <a:lnTo>
                  <a:pt x="72631" y="221111"/>
                </a:lnTo>
                <a:lnTo>
                  <a:pt x="75085" y="229399"/>
                </a:lnTo>
                <a:lnTo>
                  <a:pt x="75739" y="232942"/>
                </a:lnTo>
                <a:lnTo>
                  <a:pt x="77128" y="236257"/>
                </a:lnTo>
                <a:lnTo>
                  <a:pt x="79006" y="239420"/>
                </a:lnTo>
                <a:lnTo>
                  <a:pt x="81211" y="242481"/>
                </a:lnTo>
                <a:lnTo>
                  <a:pt x="83660" y="248422"/>
                </a:lnTo>
                <a:lnTo>
                  <a:pt x="85233" y="255446"/>
                </a:lnTo>
                <a:lnTo>
                  <a:pt x="85569" y="263732"/>
                </a:lnTo>
                <a:lnTo>
                  <a:pt x="85620" y="26574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MARTPenAnnotation666"/>
          <p:cNvSpPr/>
          <p:nvPr/>
        </p:nvSpPr>
        <p:spPr>
          <a:xfrm>
            <a:off x="2394000" y="2820960"/>
            <a:ext cx="257040" cy="196920"/>
          </a:xfrm>
          <a:custGeom>
            <a:avLst/>
            <a:gdLst>
              <a:gd name="textAreaLeft" fmla="*/ 0 w 257040"/>
              <a:gd name="textAreaRight" fmla="*/ 257400 w 25704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57133" h="197094">
                <a:moveTo>
                  <a:pt x="8530" y="17105"/>
                </a:moveTo>
                <a:lnTo>
                  <a:pt x="8530" y="418"/>
                </a:lnTo>
                <a:lnTo>
                  <a:pt x="15911" y="0"/>
                </a:lnTo>
                <a:lnTo>
                  <a:pt x="21300" y="4523"/>
                </a:lnTo>
                <a:lnTo>
                  <a:pt x="22758" y="6812"/>
                </a:lnTo>
                <a:lnTo>
                  <a:pt x="24379" y="11895"/>
                </a:lnTo>
                <a:lnTo>
                  <a:pt x="24811" y="15537"/>
                </a:lnTo>
                <a:lnTo>
                  <a:pt x="25099" y="19870"/>
                </a:lnTo>
                <a:lnTo>
                  <a:pt x="25419" y="28811"/>
                </a:lnTo>
                <a:lnTo>
                  <a:pt x="25599" y="40153"/>
                </a:lnTo>
                <a:lnTo>
                  <a:pt x="25665" y="66083"/>
                </a:lnTo>
                <a:lnTo>
                  <a:pt x="24716" y="71665"/>
                </a:lnTo>
                <a:lnTo>
                  <a:pt x="23131" y="77291"/>
                </a:lnTo>
                <a:lnTo>
                  <a:pt x="21121" y="82947"/>
                </a:lnTo>
                <a:lnTo>
                  <a:pt x="18829" y="88622"/>
                </a:lnTo>
                <a:lnTo>
                  <a:pt x="16348" y="94310"/>
                </a:lnTo>
                <a:lnTo>
                  <a:pt x="11052" y="105711"/>
                </a:lnTo>
                <a:lnTo>
                  <a:pt x="5524" y="117128"/>
                </a:lnTo>
                <a:lnTo>
                  <a:pt x="3668" y="122839"/>
                </a:lnTo>
                <a:lnTo>
                  <a:pt x="2431" y="128552"/>
                </a:lnTo>
                <a:lnTo>
                  <a:pt x="1607" y="134266"/>
                </a:lnTo>
                <a:lnTo>
                  <a:pt x="1057" y="139980"/>
                </a:lnTo>
                <a:lnTo>
                  <a:pt x="690" y="145694"/>
                </a:lnTo>
                <a:lnTo>
                  <a:pt x="283" y="156171"/>
                </a:lnTo>
                <a:lnTo>
                  <a:pt x="54" y="167424"/>
                </a:lnTo>
                <a:lnTo>
                  <a:pt x="0" y="173766"/>
                </a:lnTo>
                <a:lnTo>
                  <a:pt x="938" y="176791"/>
                </a:lnTo>
                <a:lnTo>
                  <a:pt x="4521" y="182691"/>
                </a:lnTo>
                <a:lnTo>
                  <a:pt x="6810" y="184646"/>
                </a:lnTo>
                <a:lnTo>
                  <a:pt x="9288" y="185949"/>
                </a:lnTo>
                <a:lnTo>
                  <a:pt x="11893" y="186818"/>
                </a:lnTo>
                <a:lnTo>
                  <a:pt x="13630" y="188349"/>
                </a:lnTo>
                <a:lnTo>
                  <a:pt x="14787" y="190323"/>
                </a:lnTo>
                <a:lnTo>
                  <a:pt x="15559" y="192591"/>
                </a:lnTo>
                <a:lnTo>
                  <a:pt x="17026" y="194103"/>
                </a:lnTo>
                <a:lnTo>
                  <a:pt x="18957" y="195111"/>
                </a:lnTo>
                <a:lnTo>
                  <a:pt x="21196" y="195783"/>
                </a:lnTo>
                <a:lnTo>
                  <a:pt x="28764" y="196530"/>
                </a:lnTo>
                <a:lnTo>
                  <a:pt x="37525" y="196862"/>
                </a:lnTo>
                <a:lnTo>
                  <a:pt x="44595" y="197010"/>
                </a:lnTo>
                <a:lnTo>
                  <a:pt x="58480" y="197093"/>
                </a:lnTo>
                <a:lnTo>
                  <a:pt x="64690" y="196152"/>
                </a:lnTo>
                <a:lnTo>
                  <a:pt x="71687" y="194572"/>
                </a:lnTo>
                <a:lnTo>
                  <a:pt x="79210" y="192566"/>
                </a:lnTo>
                <a:lnTo>
                  <a:pt x="86130" y="191229"/>
                </a:lnTo>
                <a:lnTo>
                  <a:pt x="92648" y="190338"/>
                </a:lnTo>
                <a:lnTo>
                  <a:pt x="98899" y="189744"/>
                </a:lnTo>
                <a:lnTo>
                  <a:pt x="105923" y="188395"/>
                </a:lnTo>
                <a:lnTo>
                  <a:pt x="113464" y="186543"/>
                </a:lnTo>
                <a:lnTo>
                  <a:pt x="121349" y="184356"/>
                </a:lnTo>
                <a:lnTo>
                  <a:pt x="129462" y="182898"/>
                </a:lnTo>
                <a:lnTo>
                  <a:pt x="137729" y="181927"/>
                </a:lnTo>
                <a:lnTo>
                  <a:pt x="146098" y="181279"/>
                </a:lnTo>
                <a:lnTo>
                  <a:pt x="153582" y="180847"/>
                </a:lnTo>
                <a:lnTo>
                  <a:pt x="166978" y="180367"/>
                </a:lnTo>
                <a:lnTo>
                  <a:pt x="191100" y="180058"/>
                </a:lnTo>
                <a:lnTo>
                  <a:pt x="219944" y="179993"/>
                </a:lnTo>
                <a:lnTo>
                  <a:pt x="224720" y="179037"/>
                </a:lnTo>
                <a:lnTo>
                  <a:pt x="235993" y="174093"/>
                </a:lnTo>
                <a:lnTo>
                  <a:pt x="242340" y="172603"/>
                </a:lnTo>
                <a:lnTo>
                  <a:pt x="246717" y="171763"/>
                </a:lnTo>
                <a:lnTo>
                  <a:pt x="252565" y="166964"/>
                </a:lnTo>
                <a:lnTo>
                  <a:pt x="257132" y="1628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MARTPenAnnotation667"/>
          <p:cNvSpPr/>
          <p:nvPr/>
        </p:nvSpPr>
        <p:spPr>
          <a:xfrm>
            <a:off x="2583000" y="2820960"/>
            <a:ext cx="60120" cy="393840"/>
          </a:xfrm>
          <a:custGeom>
            <a:avLst/>
            <a:gdLst>
              <a:gd name="textAreaLeft" fmla="*/ 0 w 60120"/>
              <a:gd name="textAreaRight" fmla="*/ 60480 w 601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59998" h="394231">
                <a:moveTo>
                  <a:pt x="17135" y="8468"/>
                </a:moveTo>
                <a:lnTo>
                  <a:pt x="9754" y="1087"/>
                </a:lnTo>
                <a:lnTo>
                  <a:pt x="8404" y="689"/>
                </a:lnTo>
                <a:lnTo>
                  <a:pt x="6551" y="425"/>
                </a:lnTo>
                <a:lnTo>
                  <a:pt x="1286" y="0"/>
                </a:lnTo>
                <a:lnTo>
                  <a:pt x="854" y="917"/>
                </a:lnTo>
                <a:lnTo>
                  <a:pt x="103" y="7285"/>
                </a:lnTo>
                <a:lnTo>
                  <a:pt x="12" y="20969"/>
                </a:lnTo>
                <a:lnTo>
                  <a:pt x="0" y="27676"/>
                </a:lnTo>
                <a:lnTo>
                  <a:pt x="949" y="31751"/>
                </a:lnTo>
                <a:lnTo>
                  <a:pt x="2534" y="36372"/>
                </a:lnTo>
                <a:lnTo>
                  <a:pt x="4543" y="41358"/>
                </a:lnTo>
                <a:lnTo>
                  <a:pt x="6835" y="46587"/>
                </a:lnTo>
                <a:lnTo>
                  <a:pt x="11922" y="57477"/>
                </a:lnTo>
                <a:lnTo>
                  <a:pt x="13660" y="64001"/>
                </a:lnTo>
                <a:lnTo>
                  <a:pt x="14818" y="71207"/>
                </a:lnTo>
                <a:lnTo>
                  <a:pt x="15590" y="78869"/>
                </a:lnTo>
                <a:lnTo>
                  <a:pt x="17057" y="85882"/>
                </a:lnTo>
                <a:lnTo>
                  <a:pt x="18988" y="92462"/>
                </a:lnTo>
                <a:lnTo>
                  <a:pt x="26256" y="113365"/>
                </a:lnTo>
                <a:lnTo>
                  <a:pt x="37246" y="146028"/>
                </a:lnTo>
                <a:lnTo>
                  <a:pt x="40067" y="153515"/>
                </a:lnTo>
                <a:lnTo>
                  <a:pt x="42900" y="160411"/>
                </a:lnTo>
                <a:lnTo>
                  <a:pt x="45742" y="166913"/>
                </a:lnTo>
                <a:lnTo>
                  <a:pt x="48589" y="174105"/>
                </a:lnTo>
                <a:lnTo>
                  <a:pt x="54292" y="189717"/>
                </a:lnTo>
                <a:lnTo>
                  <a:pt x="56193" y="198833"/>
                </a:lnTo>
                <a:lnTo>
                  <a:pt x="57461" y="208720"/>
                </a:lnTo>
                <a:lnTo>
                  <a:pt x="58306" y="219122"/>
                </a:lnTo>
                <a:lnTo>
                  <a:pt x="58870" y="227961"/>
                </a:lnTo>
                <a:lnTo>
                  <a:pt x="59496" y="242863"/>
                </a:lnTo>
                <a:lnTo>
                  <a:pt x="59849" y="266513"/>
                </a:lnTo>
                <a:lnTo>
                  <a:pt x="59997" y="361062"/>
                </a:lnTo>
                <a:lnTo>
                  <a:pt x="59044" y="365451"/>
                </a:lnTo>
                <a:lnTo>
                  <a:pt x="57457" y="370281"/>
                </a:lnTo>
                <a:lnTo>
                  <a:pt x="52616" y="382620"/>
                </a:lnTo>
                <a:lnTo>
                  <a:pt x="51424" y="3942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MARTPenAnnotation668"/>
          <p:cNvSpPr/>
          <p:nvPr/>
        </p:nvSpPr>
        <p:spPr>
          <a:xfrm>
            <a:off x="2779560" y="2932200"/>
            <a:ext cx="300240" cy="264960"/>
          </a:xfrm>
          <a:custGeom>
            <a:avLst/>
            <a:gdLst>
              <a:gd name="textAreaLeft" fmla="*/ 0 w 300240"/>
              <a:gd name="textAreaRight" fmla="*/ 300600 w 3002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300039" h="265748">
                <a:moveTo>
                  <a:pt x="0" y="0"/>
                </a:moveTo>
                <a:lnTo>
                  <a:pt x="0" y="4550"/>
                </a:lnTo>
                <a:lnTo>
                  <a:pt x="953" y="5891"/>
                </a:lnTo>
                <a:lnTo>
                  <a:pt x="2540" y="6785"/>
                </a:lnTo>
                <a:lnTo>
                  <a:pt x="4551" y="7380"/>
                </a:lnTo>
                <a:lnTo>
                  <a:pt x="9325" y="10582"/>
                </a:lnTo>
                <a:lnTo>
                  <a:pt x="17368" y="17740"/>
                </a:lnTo>
                <a:lnTo>
                  <a:pt x="20151" y="20399"/>
                </a:lnTo>
                <a:lnTo>
                  <a:pt x="25784" y="28434"/>
                </a:lnTo>
                <a:lnTo>
                  <a:pt x="28619" y="33243"/>
                </a:lnTo>
                <a:lnTo>
                  <a:pt x="34310" y="41127"/>
                </a:lnTo>
                <a:lnTo>
                  <a:pt x="40966" y="48759"/>
                </a:lnTo>
                <a:lnTo>
                  <a:pt x="50275" y="58500"/>
                </a:lnTo>
                <a:lnTo>
                  <a:pt x="55424" y="62813"/>
                </a:lnTo>
                <a:lnTo>
                  <a:pt x="60762" y="66640"/>
                </a:lnTo>
                <a:lnTo>
                  <a:pt x="66225" y="70144"/>
                </a:lnTo>
                <a:lnTo>
                  <a:pt x="71773" y="74385"/>
                </a:lnTo>
                <a:lnTo>
                  <a:pt x="77376" y="79117"/>
                </a:lnTo>
                <a:lnTo>
                  <a:pt x="83016" y="84177"/>
                </a:lnTo>
                <a:lnTo>
                  <a:pt x="94364" y="94879"/>
                </a:lnTo>
                <a:lnTo>
                  <a:pt x="117171" y="117272"/>
                </a:lnTo>
                <a:lnTo>
                  <a:pt x="123834" y="121996"/>
                </a:lnTo>
                <a:lnTo>
                  <a:pt x="131134" y="126098"/>
                </a:lnTo>
                <a:lnTo>
                  <a:pt x="138857" y="129785"/>
                </a:lnTo>
                <a:lnTo>
                  <a:pt x="145911" y="134148"/>
                </a:lnTo>
                <a:lnTo>
                  <a:pt x="152519" y="138962"/>
                </a:lnTo>
                <a:lnTo>
                  <a:pt x="158829" y="144076"/>
                </a:lnTo>
                <a:lnTo>
                  <a:pt x="164941" y="149391"/>
                </a:lnTo>
                <a:lnTo>
                  <a:pt x="170921" y="154839"/>
                </a:lnTo>
                <a:lnTo>
                  <a:pt x="182645" y="165972"/>
                </a:lnTo>
                <a:lnTo>
                  <a:pt x="250119" y="232975"/>
                </a:lnTo>
                <a:lnTo>
                  <a:pt x="259119" y="239434"/>
                </a:lnTo>
                <a:lnTo>
                  <a:pt x="264186" y="242490"/>
                </a:lnTo>
                <a:lnTo>
                  <a:pt x="272356" y="248426"/>
                </a:lnTo>
                <a:lnTo>
                  <a:pt x="275868" y="251342"/>
                </a:lnTo>
                <a:lnTo>
                  <a:pt x="282311" y="254582"/>
                </a:lnTo>
                <a:lnTo>
                  <a:pt x="285362" y="255446"/>
                </a:lnTo>
                <a:lnTo>
                  <a:pt x="287396" y="256975"/>
                </a:lnTo>
                <a:lnTo>
                  <a:pt x="288753" y="258946"/>
                </a:lnTo>
                <a:lnTo>
                  <a:pt x="290929" y="264404"/>
                </a:lnTo>
                <a:lnTo>
                  <a:pt x="292060" y="264852"/>
                </a:lnTo>
                <a:lnTo>
                  <a:pt x="300038" y="26574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SMARTPenAnnotation669"/>
          <p:cNvSpPr/>
          <p:nvPr/>
        </p:nvSpPr>
        <p:spPr>
          <a:xfrm>
            <a:off x="2822400" y="2932200"/>
            <a:ext cx="223920" cy="239760"/>
          </a:xfrm>
          <a:custGeom>
            <a:avLst/>
            <a:gdLst>
              <a:gd name="textAreaLeft" fmla="*/ 0 w 223920"/>
              <a:gd name="textAreaRight" fmla="*/ 224280 w 2239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22872" h="239913">
                <a:moveTo>
                  <a:pt x="222871" y="8468"/>
                </a:moveTo>
                <a:lnTo>
                  <a:pt x="214404" y="0"/>
                </a:lnTo>
                <a:lnTo>
                  <a:pt x="214330" y="4477"/>
                </a:lnTo>
                <a:lnTo>
                  <a:pt x="213367" y="6760"/>
                </a:lnTo>
                <a:lnTo>
                  <a:pt x="209757" y="11837"/>
                </a:lnTo>
                <a:lnTo>
                  <a:pt x="204978" y="17268"/>
                </a:lnTo>
                <a:lnTo>
                  <a:pt x="199679" y="23809"/>
                </a:lnTo>
                <a:lnTo>
                  <a:pt x="196932" y="28221"/>
                </a:lnTo>
                <a:lnTo>
                  <a:pt x="194149" y="33066"/>
                </a:lnTo>
                <a:lnTo>
                  <a:pt x="191340" y="37249"/>
                </a:lnTo>
                <a:lnTo>
                  <a:pt x="185680" y="44437"/>
                </a:lnTo>
                <a:lnTo>
                  <a:pt x="181885" y="48640"/>
                </a:lnTo>
                <a:lnTo>
                  <a:pt x="172588" y="58390"/>
                </a:lnTo>
                <a:lnTo>
                  <a:pt x="135303" y="96004"/>
                </a:lnTo>
                <a:lnTo>
                  <a:pt x="128298" y="103973"/>
                </a:lnTo>
                <a:lnTo>
                  <a:pt x="121722" y="112143"/>
                </a:lnTo>
                <a:lnTo>
                  <a:pt x="115434" y="120447"/>
                </a:lnTo>
                <a:lnTo>
                  <a:pt x="109336" y="127888"/>
                </a:lnTo>
                <a:lnTo>
                  <a:pt x="103366" y="134754"/>
                </a:lnTo>
                <a:lnTo>
                  <a:pt x="97481" y="141236"/>
                </a:lnTo>
                <a:lnTo>
                  <a:pt x="91653" y="148415"/>
                </a:lnTo>
                <a:lnTo>
                  <a:pt x="85863" y="156059"/>
                </a:lnTo>
                <a:lnTo>
                  <a:pt x="80097" y="164012"/>
                </a:lnTo>
                <a:lnTo>
                  <a:pt x="73396" y="171219"/>
                </a:lnTo>
                <a:lnTo>
                  <a:pt x="66071" y="177929"/>
                </a:lnTo>
                <a:lnTo>
                  <a:pt x="58331" y="184307"/>
                </a:lnTo>
                <a:lnTo>
                  <a:pt x="51265" y="189511"/>
                </a:lnTo>
                <a:lnTo>
                  <a:pt x="44650" y="193934"/>
                </a:lnTo>
                <a:lnTo>
                  <a:pt x="38335" y="197834"/>
                </a:lnTo>
                <a:lnTo>
                  <a:pt x="33172" y="202340"/>
                </a:lnTo>
                <a:lnTo>
                  <a:pt x="28778" y="207248"/>
                </a:lnTo>
                <a:lnTo>
                  <a:pt x="24895" y="212426"/>
                </a:lnTo>
                <a:lnTo>
                  <a:pt x="21355" y="216830"/>
                </a:lnTo>
                <a:lnTo>
                  <a:pt x="14881" y="224263"/>
                </a:lnTo>
                <a:lnTo>
                  <a:pt x="8829" y="230742"/>
                </a:lnTo>
                <a:lnTo>
                  <a:pt x="6" y="239905"/>
                </a:lnTo>
                <a:lnTo>
                  <a:pt x="0" y="239912"/>
                </a:lnTo>
                <a:lnTo>
                  <a:pt x="8559" y="2313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MARTPenAnnotation670"/>
          <p:cNvSpPr/>
          <p:nvPr/>
        </p:nvSpPr>
        <p:spPr>
          <a:xfrm>
            <a:off x="3432240" y="2982960"/>
            <a:ext cx="333360" cy="17280"/>
          </a:xfrm>
          <a:custGeom>
            <a:avLst/>
            <a:gdLst>
              <a:gd name="textAreaLeft" fmla="*/ 0 w 333360"/>
              <a:gd name="textAreaRight" fmla="*/ 333360 w 3333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34328" h="17146">
                <a:moveTo>
                  <a:pt x="0" y="0"/>
                </a:moveTo>
                <a:lnTo>
                  <a:pt x="4551" y="0"/>
                </a:lnTo>
                <a:lnTo>
                  <a:pt x="6844" y="952"/>
                </a:lnTo>
                <a:lnTo>
                  <a:pt x="9325" y="2540"/>
                </a:lnTo>
                <a:lnTo>
                  <a:pt x="11932" y="4551"/>
                </a:lnTo>
                <a:lnTo>
                  <a:pt x="14622" y="5891"/>
                </a:lnTo>
                <a:lnTo>
                  <a:pt x="17368" y="6785"/>
                </a:lnTo>
                <a:lnTo>
                  <a:pt x="20151" y="7380"/>
                </a:lnTo>
                <a:lnTo>
                  <a:pt x="22959" y="7778"/>
                </a:lnTo>
                <a:lnTo>
                  <a:pt x="28619" y="8219"/>
                </a:lnTo>
                <a:lnTo>
                  <a:pt x="36849" y="8415"/>
                </a:lnTo>
                <a:lnTo>
                  <a:pt x="253819" y="8572"/>
                </a:lnTo>
                <a:lnTo>
                  <a:pt x="259700" y="9525"/>
                </a:lnTo>
                <a:lnTo>
                  <a:pt x="265526" y="11112"/>
                </a:lnTo>
                <a:lnTo>
                  <a:pt x="271315" y="13123"/>
                </a:lnTo>
                <a:lnTo>
                  <a:pt x="277079" y="14463"/>
                </a:lnTo>
                <a:lnTo>
                  <a:pt x="282827" y="15357"/>
                </a:lnTo>
                <a:lnTo>
                  <a:pt x="288564" y="15953"/>
                </a:lnTo>
                <a:lnTo>
                  <a:pt x="293341" y="16350"/>
                </a:lnTo>
                <a:lnTo>
                  <a:pt x="301189" y="16792"/>
                </a:lnTo>
                <a:lnTo>
                  <a:pt x="310962" y="17040"/>
                </a:lnTo>
                <a:lnTo>
                  <a:pt x="334327" y="17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MARTPenAnnotation671"/>
          <p:cNvSpPr/>
          <p:nvPr/>
        </p:nvSpPr>
        <p:spPr>
          <a:xfrm>
            <a:off x="3457440" y="3051000"/>
            <a:ext cx="411120" cy="17640"/>
          </a:xfrm>
          <a:custGeom>
            <a:avLst/>
            <a:gdLst>
              <a:gd name="textAreaLeft" fmla="*/ 0 w 411120"/>
              <a:gd name="textAreaRight" fmla="*/ 411480 w 4111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411480" h="17146">
                <a:moveTo>
                  <a:pt x="0" y="17145"/>
                </a:moveTo>
                <a:lnTo>
                  <a:pt x="78973" y="17145"/>
                </a:lnTo>
                <a:lnTo>
                  <a:pt x="86939" y="16192"/>
                </a:lnTo>
                <a:lnTo>
                  <a:pt x="95106" y="14605"/>
                </a:lnTo>
                <a:lnTo>
                  <a:pt x="103409" y="12594"/>
                </a:lnTo>
                <a:lnTo>
                  <a:pt x="111802" y="11253"/>
                </a:lnTo>
                <a:lnTo>
                  <a:pt x="120255" y="10359"/>
                </a:lnTo>
                <a:lnTo>
                  <a:pt x="128747" y="9764"/>
                </a:lnTo>
                <a:lnTo>
                  <a:pt x="138219" y="9367"/>
                </a:lnTo>
                <a:lnTo>
                  <a:pt x="158903" y="8925"/>
                </a:lnTo>
                <a:lnTo>
                  <a:pt x="169753" y="7855"/>
                </a:lnTo>
                <a:lnTo>
                  <a:pt x="180796" y="6189"/>
                </a:lnTo>
                <a:lnTo>
                  <a:pt x="191968" y="4126"/>
                </a:lnTo>
                <a:lnTo>
                  <a:pt x="202273" y="2750"/>
                </a:lnTo>
                <a:lnTo>
                  <a:pt x="212001" y="1834"/>
                </a:lnTo>
                <a:lnTo>
                  <a:pt x="221344" y="1222"/>
                </a:lnTo>
                <a:lnTo>
                  <a:pt x="230430" y="815"/>
                </a:lnTo>
                <a:lnTo>
                  <a:pt x="248146" y="362"/>
                </a:lnTo>
                <a:lnTo>
                  <a:pt x="41147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MARTPenAnnotation672"/>
          <p:cNvSpPr/>
          <p:nvPr/>
        </p:nvSpPr>
        <p:spPr>
          <a:xfrm>
            <a:off x="3868560" y="305100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2" h="1">
                <a:moveTo>
                  <a:pt x="0" y="0"/>
                </a:moveTo>
                <a:lnTo>
                  <a:pt x="2541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MARTPenAnnotation673"/>
          <p:cNvSpPr/>
          <p:nvPr/>
        </p:nvSpPr>
        <p:spPr>
          <a:xfrm>
            <a:off x="4075200" y="2803680"/>
            <a:ext cx="60120" cy="333360"/>
          </a:xfrm>
          <a:custGeom>
            <a:avLst/>
            <a:gdLst>
              <a:gd name="textAreaLeft" fmla="*/ 0 w 60120"/>
              <a:gd name="textAreaRight" fmla="*/ 60480 w 6012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60008" h="334329">
                <a:moveTo>
                  <a:pt x="0" y="0"/>
                </a:moveTo>
                <a:lnTo>
                  <a:pt x="0" y="49092"/>
                </a:lnTo>
                <a:lnTo>
                  <a:pt x="952" y="54636"/>
                </a:lnTo>
                <a:lnTo>
                  <a:pt x="2540" y="60237"/>
                </a:lnTo>
                <a:lnTo>
                  <a:pt x="4550" y="65875"/>
                </a:lnTo>
                <a:lnTo>
                  <a:pt x="5891" y="72492"/>
                </a:lnTo>
                <a:lnTo>
                  <a:pt x="6785" y="79760"/>
                </a:lnTo>
                <a:lnTo>
                  <a:pt x="7381" y="87464"/>
                </a:lnTo>
                <a:lnTo>
                  <a:pt x="7778" y="95456"/>
                </a:lnTo>
                <a:lnTo>
                  <a:pt x="8219" y="111958"/>
                </a:lnTo>
                <a:lnTo>
                  <a:pt x="9289" y="121311"/>
                </a:lnTo>
                <a:lnTo>
                  <a:pt x="10955" y="131356"/>
                </a:lnTo>
                <a:lnTo>
                  <a:pt x="13018" y="141864"/>
                </a:lnTo>
                <a:lnTo>
                  <a:pt x="14394" y="151726"/>
                </a:lnTo>
                <a:lnTo>
                  <a:pt x="15311" y="161158"/>
                </a:lnTo>
                <a:lnTo>
                  <a:pt x="15922" y="170304"/>
                </a:lnTo>
                <a:lnTo>
                  <a:pt x="17282" y="179258"/>
                </a:lnTo>
                <a:lnTo>
                  <a:pt x="19141" y="188086"/>
                </a:lnTo>
                <a:lnTo>
                  <a:pt x="21333" y="196828"/>
                </a:lnTo>
                <a:lnTo>
                  <a:pt x="22794" y="205514"/>
                </a:lnTo>
                <a:lnTo>
                  <a:pt x="23769" y="214162"/>
                </a:lnTo>
                <a:lnTo>
                  <a:pt x="24418" y="222784"/>
                </a:lnTo>
                <a:lnTo>
                  <a:pt x="24851" y="230438"/>
                </a:lnTo>
                <a:lnTo>
                  <a:pt x="25333" y="244022"/>
                </a:lnTo>
                <a:lnTo>
                  <a:pt x="26413" y="251264"/>
                </a:lnTo>
                <a:lnTo>
                  <a:pt x="28086" y="258949"/>
                </a:lnTo>
                <a:lnTo>
                  <a:pt x="30154" y="266930"/>
                </a:lnTo>
                <a:lnTo>
                  <a:pt x="32485" y="274156"/>
                </a:lnTo>
                <a:lnTo>
                  <a:pt x="34992" y="280878"/>
                </a:lnTo>
                <a:lnTo>
                  <a:pt x="37615" y="287265"/>
                </a:lnTo>
                <a:lnTo>
                  <a:pt x="39364" y="293427"/>
                </a:lnTo>
                <a:lnTo>
                  <a:pt x="40530" y="299441"/>
                </a:lnTo>
                <a:lnTo>
                  <a:pt x="41308" y="305355"/>
                </a:lnTo>
                <a:lnTo>
                  <a:pt x="42171" y="314466"/>
                </a:lnTo>
                <a:lnTo>
                  <a:pt x="42401" y="318229"/>
                </a:lnTo>
                <a:lnTo>
                  <a:pt x="43507" y="321690"/>
                </a:lnTo>
                <a:lnTo>
                  <a:pt x="45197" y="324950"/>
                </a:lnTo>
                <a:lnTo>
                  <a:pt x="51070" y="333779"/>
                </a:lnTo>
                <a:lnTo>
                  <a:pt x="52144" y="333962"/>
                </a:lnTo>
                <a:lnTo>
                  <a:pt x="53813" y="334084"/>
                </a:lnTo>
                <a:lnTo>
                  <a:pt x="60007" y="3343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MARTPenAnnotation674"/>
          <p:cNvSpPr/>
          <p:nvPr/>
        </p:nvSpPr>
        <p:spPr>
          <a:xfrm>
            <a:off x="5951520" y="1920960"/>
            <a:ext cx="223920" cy="118800"/>
          </a:xfrm>
          <a:custGeom>
            <a:avLst/>
            <a:gdLst>
              <a:gd name="textAreaLeft" fmla="*/ 0 w 223920"/>
              <a:gd name="textAreaRight" fmla="*/ 224280 w 2239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222780" h="120007">
                <a:moveTo>
                  <a:pt x="34184" y="8563"/>
                </a:moveTo>
                <a:lnTo>
                  <a:pt x="25965" y="8563"/>
                </a:lnTo>
                <a:lnTo>
                  <a:pt x="25769" y="6023"/>
                </a:lnTo>
                <a:lnTo>
                  <a:pt x="25612" y="21"/>
                </a:lnTo>
                <a:lnTo>
                  <a:pt x="25612" y="0"/>
                </a:lnTo>
                <a:lnTo>
                  <a:pt x="25612" y="37182"/>
                </a:lnTo>
                <a:lnTo>
                  <a:pt x="24659" y="39072"/>
                </a:lnTo>
                <a:lnTo>
                  <a:pt x="23072" y="40333"/>
                </a:lnTo>
                <a:lnTo>
                  <a:pt x="21061" y="41173"/>
                </a:lnTo>
                <a:lnTo>
                  <a:pt x="16287" y="44646"/>
                </a:lnTo>
                <a:lnTo>
                  <a:pt x="13680" y="46906"/>
                </a:lnTo>
                <a:lnTo>
                  <a:pt x="11942" y="49365"/>
                </a:lnTo>
                <a:lnTo>
                  <a:pt x="10784" y="51957"/>
                </a:lnTo>
                <a:lnTo>
                  <a:pt x="10011" y="54637"/>
                </a:lnTo>
                <a:lnTo>
                  <a:pt x="9496" y="58329"/>
                </a:lnTo>
                <a:lnTo>
                  <a:pt x="9153" y="62696"/>
                </a:lnTo>
                <a:lnTo>
                  <a:pt x="8602" y="74289"/>
                </a:lnTo>
                <a:lnTo>
                  <a:pt x="7604" y="76193"/>
                </a:lnTo>
                <a:lnTo>
                  <a:pt x="5987" y="78415"/>
                </a:lnTo>
                <a:lnTo>
                  <a:pt x="3956" y="80848"/>
                </a:lnTo>
                <a:lnTo>
                  <a:pt x="2602" y="83423"/>
                </a:lnTo>
                <a:lnTo>
                  <a:pt x="1699" y="86092"/>
                </a:lnTo>
                <a:lnTo>
                  <a:pt x="251" y="92669"/>
                </a:lnTo>
                <a:lnTo>
                  <a:pt x="52" y="96109"/>
                </a:lnTo>
                <a:lnTo>
                  <a:pt x="0" y="98359"/>
                </a:lnTo>
                <a:lnTo>
                  <a:pt x="917" y="99860"/>
                </a:lnTo>
                <a:lnTo>
                  <a:pt x="2481" y="100860"/>
                </a:lnTo>
                <a:lnTo>
                  <a:pt x="4476" y="101527"/>
                </a:lnTo>
                <a:lnTo>
                  <a:pt x="5806" y="102924"/>
                </a:lnTo>
                <a:lnTo>
                  <a:pt x="6693" y="104808"/>
                </a:lnTo>
                <a:lnTo>
                  <a:pt x="7284" y="107016"/>
                </a:lnTo>
                <a:lnTo>
                  <a:pt x="8631" y="108488"/>
                </a:lnTo>
                <a:lnTo>
                  <a:pt x="10481" y="109470"/>
                </a:lnTo>
                <a:lnTo>
                  <a:pt x="15744" y="111045"/>
                </a:lnTo>
                <a:lnTo>
                  <a:pt x="21206" y="111318"/>
                </a:lnTo>
                <a:lnTo>
                  <a:pt x="28857" y="111399"/>
                </a:lnTo>
                <a:lnTo>
                  <a:pt x="31585" y="112363"/>
                </a:lnTo>
                <a:lnTo>
                  <a:pt x="37156" y="115974"/>
                </a:lnTo>
                <a:lnTo>
                  <a:pt x="40928" y="117318"/>
                </a:lnTo>
                <a:lnTo>
                  <a:pt x="45348" y="118214"/>
                </a:lnTo>
                <a:lnTo>
                  <a:pt x="50199" y="118811"/>
                </a:lnTo>
                <a:lnTo>
                  <a:pt x="54385" y="119209"/>
                </a:lnTo>
                <a:lnTo>
                  <a:pt x="58129" y="119475"/>
                </a:lnTo>
                <a:lnTo>
                  <a:pt x="64829" y="119770"/>
                </a:lnTo>
                <a:lnTo>
                  <a:pt x="70981" y="119901"/>
                </a:lnTo>
                <a:lnTo>
                  <a:pt x="212408" y="120006"/>
                </a:lnTo>
                <a:lnTo>
                  <a:pt x="215947" y="117465"/>
                </a:lnTo>
                <a:lnTo>
                  <a:pt x="222779" y="11143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MARTPenAnnotation675"/>
          <p:cNvSpPr/>
          <p:nvPr/>
        </p:nvSpPr>
        <p:spPr>
          <a:xfrm>
            <a:off x="6114960" y="1911240"/>
            <a:ext cx="68400" cy="292320"/>
          </a:xfrm>
          <a:custGeom>
            <a:avLst/>
            <a:gdLst>
              <a:gd name="textAreaLeft" fmla="*/ 0 w 68400"/>
              <a:gd name="textAreaRight" fmla="*/ 68760 w 6840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68580" h="291352">
                <a:moveTo>
                  <a:pt x="8572" y="25604"/>
                </a:moveTo>
                <a:lnTo>
                  <a:pt x="8572" y="21053"/>
                </a:lnTo>
                <a:lnTo>
                  <a:pt x="7620" y="19712"/>
                </a:lnTo>
                <a:lnTo>
                  <a:pt x="6032" y="18818"/>
                </a:lnTo>
                <a:lnTo>
                  <a:pt x="1191" y="17384"/>
                </a:lnTo>
                <a:lnTo>
                  <a:pt x="794" y="16314"/>
                </a:lnTo>
                <a:lnTo>
                  <a:pt x="70" y="8321"/>
                </a:lnTo>
                <a:lnTo>
                  <a:pt x="1" y="0"/>
                </a:lnTo>
                <a:lnTo>
                  <a:pt x="0" y="12659"/>
                </a:lnTo>
                <a:lnTo>
                  <a:pt x="952" y="16022"/>
                </a:lnTo>
                <a:lnTo>
                  <a:pt x="2540" y="20168"/>
                </a:lnTo>
                <a:lnTo>
                  <a:pt x="4550" y="24838"/>
                </a:lnTo>
                <a:lnTo>
                  <a:pt x="5891" y="28903"/>
                </a:lnTo>
                <a:lnTo>
                  <a:pt x="7380" y="35960"/>
                </a:lnTo>
                <a:lnTo>
                  <a:pt x="8042" y="42271"/>
                </a:lnTo>
                <a:lnTo>
                  <a:pt x="8337" y="49204"/>
                </a:lnTo>
                <a:lnTo>
                  <a:pt x="8467" y="58635"/>
                </a:lnTo>
                <a:lnTo>
                  <a:pt x="9455" y="63817"/>
                </a:lnTo>
                <a:lnTo>
                  <a:pt x="11065" y="69177"/>
                </a:lnTo>
                <a:lnTo>
                  <a:pt x="13092" y="74655"/>
                </a:lnTo>
                <a:lnTo>
                  <a:pt x="14443" y="79259"/>
                </a:lnTo>
                <a:lnTo>
                  <a:pt x="15944" y="86915"/>
                </a:lnTo>
                <a:lnTo>
                  <a:pt x="17297" y="91243"/>
                </a:lnTo>
                <a:lnTo>
                  <a:pt x="19151" y="96033"/>
                </a:lnTo>
                <a:lnTo>
                  <a:pt x="21340" y="101132"/>
                </a:lnTo>
                <a:lnTo>
                  <a:pt x="22799" y="106436"/>
                </a:lnTo>
                <a:lnTo>
                  <a:pt x="23772" y="111877"/>
                </a:lnTo>
                <a:lnTo>
                  <a:pt x="24420" y="117409"/>
                </a:lnTo>
                <a:lnTo>
                  <a:pt x="24853" y="123002"/>
                </a:lnTo>
                <a:lnTo>
                  <a:pt x="25141" y="128636"/>
                </a:lnTo>
                <a:lnTo>
                  <a:pt x="25333" y="134297"/>
                </a:lnTo>
                <a:lnTo>
                  <a:pt x="26413" y="139976"/>
                </a:lnTo>
                <a:lnTo>
                  <a:pt x="28086" y="145667"/>
                </a:lnTo>
                <a:lnTo>
                  <a:pt x="30154" y="151366"/>
                </a:lnTo>
                <a:lnTo>
                  <a:pt x="31532" y="157070"/>
                </a:lnTo>
                <a:lnTo>
                  <a:pt x="32451" y="162778"/>
                </a:lnTo>
                <a:lnTo>
                  <a:pt x="33064" y="168488"/>
                </a:lnTo>
                <a:lnTo>
                  <a:pt x="34425" y="174200"/>
                </a:lnTo>
                <a:lnTo>
                  <a:pt x="36285" y="179913"/>
                </a:lnTo>
                <a:lnTo>
                  <a:pt x="38477" y="185626"/>
                </a:lnTo>
                <a:lnTo>
                  <a:pt x="39939" y="190388"/>
                </a:lnTo>
                <a:lnTo>
                  <a:pt x="41563" y="198219"/>
                </a:lnTo>
                <a:lnTo>
                  <a:pt x="41996" y="202593"/>
                </a:lnTo>
                <a:lnTo>
                  <a:pt x="42285" y="207414"/>
                </a:lnTo>
                <a:lnTo>
                  <a:pt x="42605" y="216898"/>
                </a:lnTo>
                <a:lnTo>
                  <a:pt x="42786" y="228545"/>
                </a:lnTo>
                <a:lnTo>
                  <a:pt x="42852" y="250037"/>
                </a:lnTo>
                <a:lnTo>
                  <a:pt x="43808" y="253331"/>
                </a:lnTo>
                <a:lnTo>
                  <a:pt x="45398" y="256479"/>
                </a:lnTo>
                <a:lnTo>
                  <a:pt x="47410" y="259531"/>
                </a:lnTo>
                <a:lnTo>
                  <a:pt x="48752" y="262518"/>
                </a:lnTo>
                <a:lnTo>
                  <a:pt x="50640" y="270320"/>
                </a:lnTo>
                <a:lnTo>
                  <a:pt x="51199" y="274007"/>
                </a:lnTo>
                <a:lnTo>
                  <a:pt x="51365" y="280709"/>
                </a:lnTo>
                <a:lnTo>
                  <a:pt x="51425" y="289761"/>
                </a:lnTo>
                <a:lnTo>
                  <a:pt x="52381" y="290291"/>
                </a:lnTo>
                <a:lnTo>
                  <a:pt x="53971" y="290644"/>
                </a:lnTo>
                <a:lnTo>
                  <a:pt x="58815" y="291212"/>
                </a:lnTo>
                <a:lnTo>
                  <a:pt x="60164" y="291258"/>
                </a:lnTo>
                <a:lnTo>
                  <a:pt x="68546" y="291351"/>
                </a:lnTo>
                <a:lnTo>
                  <a:pt x="68579" y="2913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MARTPenAnnotation676"/>
          <p:cNvSpPr/>
          <p:nvPr/>
        </p:nvSpPr>
        <p:spPr>
          <a:xfrm>
            <a:off x="6303960" y="2057400"/>
            <a:ext cx="274680" cy="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74291" h="8469">
                <a:moveTo>
                  <a:pt x="8542" y="8468"/>
                </a:moveTo>
                <a:lnTo>
                  <a:pt x="0" y="8468"/>
                </a:lnTo>
                <a:lnTo>
                  <a:pt x="86906" y="8468"/>
                </a:lnTo>
                <a:lnTo>
                  <a:pt x="91265" y="7516"/>
                </a:lnTo>
                <a:lnTo>
                  <a:pt x="96075" y="5928"/>
                </a:lnTo>
                <a:lnTo>
                  <a:pt x="101188" y="3917"/>
                </a:lnTo>
                <a:lnTo>
                  <a:pt x="107453" y="2577"/>
                </a:lnTo>
                <a:lnTo>
                  <a:pt x="114488" y="1683"/>
                </a:lnTo>
                <a:lnTo>
                  <a:pt x="122035" y="1087"/>
                </a:lnTo>
                <a:lnTo>
                  <a:pt x="128971" y="690"/>
                </a:lnTo>
                <a:lnTo>
                  <a:pt x="141759" y="249"/>
                </a:lnTo>
                <a:lnTo>
                  <a:pt x="159668" y="0"/>
                </a:lnTo>
                <a:lnTo>
                  <a:pt x="165490" y="918"/>
                </a:lnTo>
                <a:lnTo>
                  <a:pt x="171277" y="2482"/>
                </a:lnTo>
                <a:lnTo>
                  <a:pt x="177039" y="4477"/>
                </a:lnTo>
                <a:lnTo>
                  <a:pt x="182786" y="5808"/>
                </a:lnTo>
                <a:lnTo>
                  <a:pt x="188522" y="6695"/>
                </a:lnTo>
                <a:lnTo>
                  <a:pt x="194252" y="7286"/>
                </a:lnTo>
                <a:lnTo>
                  <a:pt x="199023" y="7680"/>
                </a:lnTo>
                <a:lnTo>
                  <a:pt x="203158" y="7943"/>
                </a:lnTo>
                <a:lnTo>
                  <a:pt x="206865" y="8118"/>
                </a:lnTo>
                <a:lnTo>
                  <a:pt x="216065" y="8312"/>
                </a:lnTo>
                <a:lnTo>
                  <a:pt x="274290" y="84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MARTPenAnnotation677"/>
          <p:cNvSpPr/>
          <p:nvPr/>
        </p:nvSpPr>
        <p:spPr>
          <a:xfrm>
            <a:off x="6450120" y="1946160"/>
            <a:ext cx="25200" cy="25560"/>
          </a:xfrm>
          <a:custGeom>
            <a:avLst/>
            <a:gdLst>
              <a:gd name="textAreaLeft" fmla="*/ 0 w 25200"/>
              <a:gd name="textAreaRight" fmla="*/ 25560 w 252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5719" h="25719">
                <a:moveTo>
                  <a:pt x="8573" y="25718"/>
                </a:moveTo>
                <a:lnTo>
                  <a:pt x="8573" y="18337"/>
                </a:lnTo>
                <a:lnTo>
                  <a:pt x="7620" y="17939"/>
                </a:lnTo>
                <a:lnTo>
                  <a:pt x="6033" y="17675"/>
                </a:lnTo>
                <a:lnTo>
                  <a:pt x="4022" y="17498"/>
                </a:lnTo>
                <a:lnTo>
                  <a:pt x="2681" y="16428"/>
                </a:lnTo>
                <a:lnTo>
                  <a:pt x="1787" y="14762"/>
                </a:lnTo>
                <a:lnTo>
                  <a:pt x="4" y="8587"/>
                </a:lnTo>
                <a:lnTo>
                  <a:pt x="2" y="8582"/>
                </a:lnTo>
                <a:lnTo>
                  <a:pt x="2" y="8577"/>
                </a:lnTo>
                <a:lnTo>
                  <a:pt x="1" y="8575"/>
                </a:lnTo>
                <a:lnTo>
                  <a:pt x="1" y="8573"/>
                </a:lnTo>
                <a:lnTo>
                  <a:pt x="0" y="1192"/>
                </a:lnTo>
                <a:lnTo>
                  <a:pt x="953" y="795"/>
                </a:lnTo>
                <a:lnTo>
                  <a:pt x="2540" y="530"/>
                </a:lnTo>
                <a:lnTo>
                  <a:pt x="7381" y="105"/>
                </a:lnTo>
                <a:lnTo>
                  <a:pt x="10583" y="47"/>
                </a:lnTo>
                <a:lnTo>
                  <a:pt x="2571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MARTPenAnnotation678"/>
          <p:cNvSpPr/>
          <p:nvPr/>
        </p:nvSpPr>
        <p:spPr>
          <a:xfrm>
            <a:off x="6475320" y="2178000"/>
            <a:ext cx="42840" cy="7920"/>
          </a:xfrm>
          <a:custGeom>
            <a:avLst/>
            <a:gdLst>
              <a:gd name="textAreaLeft" fmla="*/ 0 w 42840"/>
              <a:gd name="textAreaRight" fmla="*/ 43200 w 42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2759" h="8574">
                <a:moveTo>
                  <a:pt x="8468" y="8573"/>
                </a:moveTo>
                <a:lnTo>
                  <a:pt x="0" y="8573"/>
                </a:lnTo>
                <a:lnTo>
                  <a:pt x="16657" y="8573"/>
                </a:lnTo>
                <a:lnTo>
                  <a:pt x="17737" y="7621"/>
                </a:lnTo>
                <a:lnTo>
                  <a:pt x="25250" y="354"/>
                </a:lnTo>
                <a:lnTo>
                  <a:pt x="26323" y="236"/>
                </a:lnTo>
                <a:lnTo>
                  <a:pt x="27992" y="157"/>
                </a:lnTo>
                <a:lnTo>
                  <a:pt x="-32574" y="31"/>
                </a:lnTo>
                <a:lnTo>
                  <a:pt x="-24077" y="3"/>
                </a:lnTo>
                <a:lnTo>
                  <a:pt x="-31256" y="0"/>
                </a:lnTo>
                <a:lnTo>
                  <a:pt x="-2277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MARTPenAnnotation679"/>
          <p:cNvSpPr/>
          <p:nvPr/>
        </p:nvSpPr>
        <p:spPr>
          <a:xfrm>
            <a:off x="6681960" y="1936800"/>
            <a:ext cx="282240" cy="284040"/>
          </a:xfrm>
          <a:custGeom>
            <a:avLst/>
            <a:gdLst>
              <a:gd name="textAreaLeft" fmla="*/ 0 w 282240"/>
              <a:gd name="textAreaRight" fmla="*/ 282600 w 282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81691" h="282858">
                <a:moveTo>
                  <a:pt x="33088" y="77117"/>
                </a:moveTo>
                <a:lnTo>
                  <a:pt x="17487" y="77117"/>
                </a:lnTo>
                <a:lnTo>
                  <a:pt x="14089" y="74577"/>
                </a:lnTo>
                <a:lnTo>
                  <a:pt x="8698" y="69736"/>
                </a:lnTo>
                <a:lnTo>
                  <a:pt x="8255" y="68386"/>
                </a:lnTo>
                <a:lnTo>
                  <a:pt x="7487" y="61268"/>
                </a:lnTo>
                <a:lnTo>
                  <a:pt x="1502" y="53384"/>
                </a:lnTo>
                <a:lnTo>
                  <a:pt x="0" y="48154"/>
                </a:lnTo>
                <a:lnTo>
                  <a:pt x="552" y="46378"/>
                </a:lnTo>
                <a:lnTo>
                  <a:pt x="1872" y="45195"/>
                </a:lnTo>
                <a:lnTo>
                  <a:pt x="3704" y="44405"/>
                </a:lnTo>
                <a:lnTo>
                  <a:pt x="10835" y="38744"/>
                </a:lnTo>
                <a:lnTo>
                  <a:pt x="16213" y="31170"/>
                </a:lnTo>
                <a:lnTo>
                  <a:pt x="21777" y="22406"/>
                </a:lnTo>
                <a:lnTo>
                  <a:pt x="27426" y="15336"/>
                </a:lnTo>
                <a:lnTo>
                  <a:pt x="30266" y="13070"/>
                </a:lnTo>
                <a:lnTo>
                  <a:pt x="33112" y="11559"/>
                </a:lnTo>
                <a:lnTo>
                  <a:pt x="39765" y="8928"/>
                </a:lnTo>
                <a:lnTo>
                  <a:pt x="49073" y="4583"/>
                </a:lnTo>
                <a:lnTo>
                  <a:pt x="54222" y="3044"/>
                </a:lnTo>
                <a:lnTo>
                  <a:pt x="59560" y="2017"/>
                </a:lnTo>
                <a:lnTo>
                  <a:pt x="65024" y="1333"/>
                </a:lnTo>
                <a:lnTo>
                  <a:pt x="70570" y="877"/>
                </a:lnTo>
                <a:lnTo>
                  <a:pt x="76174" y="573"/>
                </a:lnTo>
                <a:lnTo>
                  <a:pt x="87480" y="235"/>
                </a:lnTo>
                <a:lnTo>
                  <a:pt x="111418" y="0"/>
                </a:lnTo>
                <a:lnTo>
                  <a:pt x="115787" y="941"/>
                </a:lnTo>
                <a:lnTo>
                  <a:pt x="120606" y="2520"/>
                </a:lnTo>
                <a:lnTo>
                  <a:pt x="125723" y="4526"/>
                </a:lnTo>
                <a:lnTo>
                  <a:pt x="133949" y="9294"/>
                </a:lnTo>
                <a:lnTo>
                  <a:pt x="140780" y="14589"/>
                </a:lnTo>
                <a:lnTo>
                  <a:pt x="146991" y="20117"/>
                </a:lnTo>
                <a:lnTo>
                  <a:pt x="152926" y="25749"/>
                </a:lnTo>
                <a:lnTo>
                  <a:pt x="155843" y="28584"/>
                </a:lnTo>
                <a:lnTo>
                  <a:pt x="161623" y="36814"/>
                </a:lnTo>
                <a:lnTo>
                  <a:pt x="164498" y="41676"/>
                </a:lnTo>
                <a:lnTo>
                  <a:pt x="166414" y="46822"/>
                </a:lnTo>
                <a:lnTo>
                  <a:pt x="167692" y="52158"/>
                </a:lnTo>
                <a:lnTo>
                  <a:pt x="168544" y="57620"/>
                </a:lnTo>
                <a:lnTo>
                  <a:pt x="169490" y="66229"/>
                </a:lnTo>
                <a:lnTo>
                  <a:pt x="169743" y="69859"/>
                </a:lnTo>
                <a:lnTo>
                  <a:pt x="170864" y="74183"/>
                </a:lnTo>
                <a:lnTo>
                  <a:pt x="172563" y="78971"/>
                </a:lnTo>
                <a:lnTo>
                  <a:pt x="174649" y="84068"/>
                </a:lnTo>
                <a:lnTo>
                  <a:pt x="176039" y="89371"/>
                </a:lnTo>
                <a:lnTo>
                  <a:pt x="176966" y="94811"/>
                </a:lnTo>
                <a:lnTo>
                  <a:pt x="177584" y="100343"/>
                </a:lnTo>
                <a:lnTo>
                  <a:pt x="177044" y="105936"/>
                </a:lnTo>
                <a:lnTo>
                  <a:pt x="175731" y="111570"/>
                </a:lnTo>
                <a:lnTo>
                  <a:pt x="173903" y="117230"/>
                </a:lnTo>
                <a:lnTo>
                  <a:pt x="171732" y="122910"/>
                </a:lnTo>
                <a:lnTo>
                  <a:pt x="169333" y="128600"/>
                </a:lnTo>
                <a:lnTo>
                  <a:pt x="166780" y="134299"/>
                </a:lnTo>
                <a:lnTo>
                  <a:pt x="165078" y="139051"/>
                </a:lnTo>
                <a:lnTo>
                  <a:pt x="163187" y="146871"/>
                </a:lnTo>
                <a:lnTo>
                  <a:pt x="161731" y="151242"/>
                </a:lnTo>
                <a:lnTo>
                  <a:pt x="159807" y="156061"/>
                </a:lnTo>
                <a:lnTo>
                  <a:pt x="157572" y="161179"/>
                </a:lnTo>
                <a:lnTo>
                  <a:pt x="152549" y="169406"/>
                </a:lnTo>
                <a:lnTo>
                  <a:pt x="147142" y="177189"/>
                </a:lnTo>
                <a:lnTo>
                  <a:pt x="144366" y="181932"/>
                </a:lnTo>
                <a:lnTo>
                  <a:pt x="141563" y="186998"/>
                </a:lnTo>
                <a:lnTo>
                  <a:pt x="135909" y="195168"/>
                </a:lnTo>
                <a:lnTo>
                  <a:pt x="133067" y="198680"/>
                </a:lnTo>
                <a:lnTo>
                  <a:pt x="124831" y="205123"/>
                </a:lnTo>
                <a:lnTo>
                  <a:pt x="119967" y="208174"/>
                </a:lnTo>
                <a:lnTo>
                  <a:pt x="112023" y="211565"/>
                </a:lnTo>
                <a:lnTo>
                  <a:pt x="108571" y="212469"/>
                </a:lnTo>
                <a:lnTo>
                  <a:pt x="102196" y="216013"/>
                </a:lnTo>
                <a:lnTo>
                  <a:pt x="96188" y="220764"/>
                </a:lnTo>
                <a:lnTo>
                  <a:pt x="90342" y="226050"/>
                </a:lnTo>
                <a:lnTo>
                  <a:pt x="87450" y="227841"/>
                </a:lnTo>
                <a:lnTo>
                  <a:pt x="81696" y="229830"/>
                </a:lnTo>
                <a:lnTo>
                  <a:pt x="73102" y="230950"/>
                </a:lnTo>
                <a:lnTo>
                  <a:pt x="64842" y="233752"/>
                </a:lnTo>
                <a:lnTo>
                  <a:pt x="59973" y="235833"/>
                </a:lnTo>
                <a:lnTo>
                  <a:pt x="52021" y="238145"/>
                </a:lnTo>
                <a:lnTo>
                  <a:pt x="45312" y="239173"/>
                </a:lnTo>
                <a:lnTo>
                  <a:pt x="37133" y="239751"/>
                </a:lnTo>
                <a:lnTo>
                  <a:pt x="34886" y="239886"/>
                </a:lnTo>
                <a:lnTo>
                  <a:pt x="31347" y="237407"/>
                </a:lnTo>
                <a:lnTo>
                  <a:pt x="22575" y="229408"/>
                </a:lnTo>
                <a:lnTo>
                  <a:pt x="17253" y="224145"/>
                </a:lnTo>
                <a:lnTo>
                  <a:pt x="16816" y="222761"/>
                </a:lnTo>
                <a:lnTo>
                  <a:pt x="16202" y="216261"/>
                </a:lnTo>
                <a:lnTo>
                  <a:pt x="16058" y="211032"/>
                </a:lnTo>
                <a:lnTo>
                  <a:pt x="16971" y="208303"/>
                </a:lnTo>
                <a:lnTo>
                  <a:pt x="20528" y="202732"/>
                </a:lnTo>
                <a:lnTo>
                  <a:pt x="27885" y="194240"/>
                </a:lnTo>
                <a:lnTo>
                  <a:pt x="29619" y="191394"/>
                </a:lnTo>
                <a:lnTo>
                  <a:pt x="31546" y="185692"/>
                </a:lnTo>
                <a:lnTo>
                  <a:pt x="33965" y="182838"/>
                </a:lnTo>
                <a:lnTo>
                  <a:pt x="41733" y="177127"/>
                </a:lnTo>
                <a:lnTo>
                  <a:pt x="46471" y="175223"/>
                </a:lnTo>
                <a:lnTo>
                  <a:pt x="51534" y="173953"/>
                </a:lnTo>
                <a:lnTo>
                  <a:pt x="56816" y="173107"/>
                </a:lnTo>
                <a:lnTo>
                  <a:pt x="62242" y="171590"/>
                </a:lnTo>
                <a:lnTo>
                  <a:pt x="67764" y="169627"/>
                </a:lnTo>
                <a:lnTo>
                  <a:pt x="73350" y="167365"/>
                </a:lnTo>
                <a:lnTo>
                  <a:pt x="78979" y="165858"/>
                </a:lnTo>
                <a:lnTo>
                  <a:pt x="84637" y="164852"/>
                </a:lnTo>
                <a:lnTo>
                  <a:pt x="90314" y="164182"/>
                </a:lnTo>
                <a:lnTo>
                  <a:pt x="96004" y="163736"/>
                </a:lnTo>
                <a:lnTo>
                  <a:pt x="101701" y="163438"/>
                </a:lnTo>
                <a:lnTo>
                  <a:pt x="107405" y="163239"/>
                </a:lnTo>
                <a:lnTo>
                  <a:pt x="113113" y="164059"/>
                </a:lnTo>
                <a:lnTo>
                  <a:pt x="118823" y="165559"/>
                </a:lnTo>
                <a:lnTo>
                  <a:pt x="124535" y="167511"/>
                </a:lnTo>
                <a:lnTo>
                  <a:pt x="130247" y="169764"/>
                </a:lnTo>
                <a:lnTo>
                  <a:pt x="135960" y="172220"/>
                </a:lnTo>
                <a:lnTo>
                  <a:pt x="141675" y="174809"/>
                </a:lnTo>
                <a:lnTo>
                  <a:pt x="147389" y="176535"/>
                </a:lnTo>
                <a:lnTo>
                  <a:pt x="153103" y="177685"/>
                </a:lnTo>
                <a:lnTo>
                  <a:pt x="158819" y="178453"/>
                </a:lnTo>
                <a:lnTo>
                  <a:pt x="164533" y="180869"/>
                </a:lnTo>
                <a:lnTo>
                  <a:pt x="170248" y="184385"/>
                </a:lnTo>
                <a:lnTo>
                  <a:pt x="175963" y="188634"/>
                </a:lnTo>
                <a:lnTo>
                  <a:pt x="180725" y="192419"/>
                </a:lnTo>
                <a:lnTo>
                  <a:pt x="188556" y="199165"/>
                </a:lnTo>
                <a:lnTo>
                  <a:pt x="192931" y="202297"/>
                </a:lnTo>
                <a:lnTo>
                  <a:pt x="197753" y="205338"/>
                </a:lnTo>
                <a:lnTo>
                  <a:pt x="202872" y="208318"/>
                </a:lnTo>
                <a:lnTo>
                  <a:pt x="211100" y="214169"/>
                </a:lnTo>
                <a:lnTo>
                  <a:pt x="217931" y="219944"/>
                </a:lnTo>
                <a:lnTo>
                  <a:pt x="224143" y="225686"/>
                </a:lnTo>
                <a:lnTo>
                  <a:pt x="237546" y="238824"/>
                </a:lnTo>
                <a:lnTo>
                  <a:pt x="243020" y="246777"/>
                </a:lnTo>
                <a:lnTo>
                  <a:pt x="246406" y="253486"/>
                </a:lnTo>
                <a:lnTo>
                  <a:pt x="251086" y="259643"/>
                </a:lnTo>
                <a:lnTo>
                  <a:pt x="259076" y="268465"/>
                </a:lnTo>
                <a:lnTo>
                  <a:pt x="261852" y="270405"/>
                </a:lnTo>
                <a:lnTo>
                  <a:pt x="270609" y="273518"/>
                </a:lnTo>
                <a:lnTo>
                  <a:pt x="271446" y="273774"/>
                </a:lnTo>
                <a:lnTo>
                  <a:pt x="279683" y="281002"/>
                </a:lnTo>
                <a:lnTo>
                  <a:pt x="281690" y="2828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MARTPenAnnotation680"/>
          <p:cNvSpPr/>
          <p:nvPr/>
        </p:nvSpPr>
        <p:spPr>
          <a:xfrm>
            <a:off x="7050240" y="2022480"/>
            <a:ext cx="204480" cy="17280"/>
          </a:xfrm>
          <a:custGeom>
            <a:avLst/>
            <a:gdLst>
              <a:gd name="textAreaLeft" fmla="*/ 0 w 204480"/>
              <a:gd name="textAreaRight" fmla="*/ 204840 w 2044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05741" h="17146">
                <a:moveTo>
                  <a:pt x="0" y="8572"/>
                </a:moveTo>
                <a:lnTo>
                  <a:pt x="0" y="104"/>
                </a:lnTo>
                <a:lnTo>
                  <a:pt x="4551" y="31"/>
                </a:lnTo>
                <a:lnTo>
                  <a:pt x="172968" y="0"/>
                </a:lnTo>
                <a:lnTo>
                  <a:pt x="176272" y="952"/>
                </a:lnTo>
                <a:lnTo>
                  <a:pt x="179427" y="2540"/>
                </a:lnTo>
                <a:lnTo>
                  <a:pt x="186784" y="7380"/>
                </a:lnTo>
                <a:lnTo>
                  <a:pt x="188340" y="7778"/>
                </a:lnTo>
                <a:lnTo>
                  <a:pt x="192609" y="8219"/>
                </a:lnTo>
                <a:lnTo>
                  <a:pt x="195081" y="9289"/>
                </a:lnTo>
                <a:lnTo>
                  <a:pt x="197682" y="10955"/>
                </a:lnTo>
                <a:lnTo>
                  <a:pt x="205740" y="171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MARTPenAnnotation681"/>
          <p:cNvSpPr/>
          <p:nvPr/>
        </p:nvSpPr>
        <p:spPr>
          <a:xfrm>
            <a:off x="7075440" y="2108160"/>
            <a:ext cx="231840" cy="27000"/>
          </a:xfrm>
          <a:custGeom>
            <a:avLst/>
            <a:gdLst>
              <a:gd name="textAreaLeft" fmla="*/ 0 w 231840"/>
              <a:gd name="textAreaRight" fmla="*/ 232200 w 2318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31456" h="25718">
                <a:moveTo>
                  <a:pt x="8570" y="25717"/>
                </a:moveTo>
                <a:lnTo>
                  <a:pt x="351" y="17498"/>
                </a:lnTo>
                <a:lnTo>
                  <a:pt x="233" y="18332"/>
                </a:lnTo>
                <a:lnTo>
                  <a:pt x="155" y="19842"/>
                </a:lnTo>
                <a:lnTo>
                  <a:pt x="0" y="25615"/>
                </a:lnTo>
                <a:lnTo>
                  <a:pt x="4549" y="21136"/>
                </a:lnTo>
                <a:lnTo>
                  <a:pt x="6842" y="19806"/>
                </a:lnTo>
                <a:lnTo>
                  <a:pt x="9323" y="18919"/>
                </a:lnTo>
                <a:lnTo>
                  <a:pt x="11930" y="18327"/>
                </a:lnTo>
                <a:lnTo>
                  <a:pt x="17366" y="17670"/>
                </a:lnTo>
                <a:lnTo>
                  <a:pt x="23910" y="17378"/>
                </a:lnTo>
                <a:lnTo>
                  <a:pt x="44539" y="17175"/>
                </a:lnTo>
                <a:lnTo>
                  <a:pt x="58492" y="17154"/>
                </a:lnTo>
                <a:lnTo>
                  <a:pt x="63758" y="16198"/>
                </a:lnTo>
                <a:lnTo>
                  <a:pt x="69175" y="14609"/>
                </a:lnTo>
                <a:lnTo>
                  <a:pt x="74691" y="12596"/>
                </a:lnTo>
                <a:lnTo>
                  <a:pt x="80273" y="11255"/>
                </a:lnTo>
                <a:lnTo>
                  <a:pt x="85900" y="10361"/>
                </a:lnTo>
                <a:lnTo>
                  <a:pt x="91555" y="9765"/>
                </a:lnTo>
                <a:lnTo>
                  <a:pt x="97232" y="9367"/>
                </a:lnTo>
                <a:lnTo>
                  <a:pt x="102920" y="9102"/>
                </a:lnTo>
                <a:lnTo>
                  <a:pt x="114321" y="8808"/>
                </a:lnTo>
                <a:lnTo>
                  <a:pt x="125738" y="8677"/>
                </a:lnTo>
                <a:lnTo>
                  <a:pt x="131450" y="7689"/>
                </a:lnTo>
                <a:lnTo>
                  <a:pt x="137162" y="6079"/>
                </a:lnTo>
                <a:lnTo>
                  <a:pt x="142876" y="4052"/>
                </a:lnTo>
                <a:lnTo>
                  <a:pt x="148590" y="2701"/>
                </a:lnTo>
                <a:lnTo>
                  <a:pt x="154304" y="1801"/>
                </a:lnTo>
                <a:lnTo>
                  <a:pt x="160018" y="1200"/>
                </a:lnTo>
                <a:lnTo>
                  <a:pt x="165734" y="800"/>
                </a:lnTo>
                <a:lnTo>
                  <a:pt x="171448" y="533"/>
                </a:lnTo>
                <a:lnTo>
                  <a:pt x="186053" y="158"/>
                </a:lnTo>
                <a:lnTo>
                  <a:pt x="229831" y="0"/>
                </a:lnTo>
                <a:lnTo>
                  <a:pt x="23145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MARTPenAnnotation682"/>
          <p:cNvSpPr/>
          <p:nvPr/>
        </p:nvSpPr>
        <p:spPr>
          <a:xfrm>
            <a:off x="7456320" y="1949400"/>
            <a:ext cx="335160" cy="287280"/>
          </a:xfrm>
          <a:custGeom>
            <a:avLst/>
            <a:gdLst>
              <a:gd name="textAreaLeft" fmla="*/ 0 w 335160"/>
              <a:gd name="textAreaRight" fmla="*/ 335160 w 335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335534" h="287735">
                <a:moveTo>
                  <a:pt x="4939" y="64849"/>
                </a:moveTo>
                <a:lnTo>
                  <a:pt x="388" y="60298"/>
                </a:lnTo>
                <a:lnTo>
                  <a:pt x="0" y="58958"/>
                </a:lnTo>
                <a:lnTo>
                  <a:pt x="694" y="58064"/>
                </a:lnTo>
                <a:lnTo>
                  <a:pt x="2109" y="57468"/>
                </a:lnTo>
                <a:lnTo>
                  <a:pt x="3052" y="56118"/>
                </a:lnTo>
                <a:lnTo>
                  <a:pt x="4101" y="52079"/>
                </a:lnTo>
                <a:lnTo>
                  <a:pt x="4691" y="44450"/>
                </a:lnTo>
                <a:lnTo>
                  <a:pt x="5726" y="41724"/>
                </a:lnTo>
                <a:lnTo>
                  <a:pt x="9416" y="36156"/>
                </a:lnTo>
                <a:lnTo>
                  <a:pt x="11734" y="34291"/>
                </a:lnTo>
                <a:lnTo>
                  <a:pt x="14231" y="33047"/>
                </a:lnTo>
                <a:lnTo>
                  <a:pt x="16849" y="32217"/>
                </a:lnTo>
                <a:lnTo>
                  <a:pt x="22297" y="28756"/>
                </a:lnTo>
                <a:lnTo>
                  <a:pt x="28847" y="24043"/>
                </a:lnTo>
                <a:lnTo>
                  <a:pt x="38107" y="18773"/>
                </a:lnTo>
                <a:lnTo>
                  <a:pt x="48573" y="13256"/>
                </a:lnTo>
                <a:lnTo>
                  <a:pt x="54030" y="10451"/>
                </a:lnTo>
                <a:lnTo>
                  <a:pt x="60527" y="8581"/>
                </a:lnTo>
                <a:lnTo>
                  <a:pt x="67715" y="7335"/>
                </a:lnTo>
                <a:lnTo>
                  <a:pt x="75365" y="6504"/>
                </a:lnTo>
                <a:lnTo>
                  <a:pt x="82370" y="5950"/>
                </a:lnTo>
                <a:lnTo>
                  <a:pt x="88944" y="5580"/>
                </a:lnTo>
                <a:lnTo>
                  <a:pt x="95232" y="5334"/>
                </a:lnTo>
                <a:lnTo>
                  <a:pt x="101330" y="4217"/>
                </a:lnTo>
                <a:lnTo>
                  <a:pt x="107299" y="2520"/>
                </a:lnTo>
                <a:lnTo>
                  <a:pt x="113184" y="437"/>
                </a:lnTo>
                <a:lnTo>
                  <a:pt x="119965" y="0"/>
                </a:lnTo>
                <a:lnTo>
                  <a:pt x="127343" y="661"/>
                </a:lnTo>
                <a:lnTo>
                  <a:pt x="135119" y="2055"/>
                </a:lnTo>
                <a:lnTo>
                  <a:pt x="141256" y="2984"/>
                </a:lnTo>
                <a:lnTo>
                  <a:pt x="150614" y="4016"/>
                </a:lnTo>
                <a:lnTo>
                  <a:pt x="160489" y="7015"/>
                </a:lnTo>
                <a:lnTo>
                  <a:pt x="170274" y="10570"/>
                </a:lnTo>
                <a:lnTo>
                  <a:pt x="177799" y="12150"/>
                </a:lnTo>
                <a:lnTo>
                  <a:pt x="184318" y="15392"/>
                </a:lnTo>
                <a:lnTo>
                  <a:pt x="187390" y="17590"/>
                </a:lnTo>
                <a:lnTo>
                  <a:pt x="193343" y="25113"/>
                </a:lnTo>
                <a:lnTo>
                  <a:pt x="199165" y="33853"/>
                </a:lnTo>
                <a:lnTo>
                  <a:pt x="204926" y="40913"/>
                </a:lnTo>
                <a:lnTo>
                  <a:pt x="210663" y="47226"/>
                </a:lnTo>
                <a:lnTo>
                  <a:pt x="213525" y="50243"/>
                </a:lnTo>
                <a:lnTo>
                  <a:pt x="215434" y="54159"/>
                </a:lnTo>
                <a:lnTo>
                  <a:pt x="216706" y="58675"/>
                </a:lnTo>
                <a:lnTo>
                  <a:pt x="217554" y="63591"/>
                </a:lnTo>
                <a:lnTo>
                  <a:pt x="218498" y="71592"/>
                </a:lnTo>
                <a:lnTo>
                  <a:pt x="218749" y="75059"/>
                </a:lnTo>
                <a:lnTo>
                  <a:pt x="221568" y="83992"/>
                </a:lnTo>
                <a:lnTo>
                  <a:pt x="223653" y="89041"/>
                </a:lnTo>
                <a:lnTo>
                  <a:pt x="225044" y="94312"/>
                </a:lnTo>
                <a:lnTo>
                  <a:pt x="225970" y="99731"/>
                </a:lnTo>
                <a:lnTo>
                  <a:pt x="226588" y="105249"/>
                </a:lnTo>
                <a:lnTo>
                  <a:pt x="226048" y="109880"/>
                </a:lnTo>
                <a:lnTo>
                  <a:pt x="224735" y="113919"/>
                </a:lnTo>
                <a:lnTo>
                  <a:pt x="207641" y="148080"/>
                </a:lnTo>
                <a:lnTo>
                  <a:pt x="202027" y="156768"/>
                </a:lnTo>
                <a:lnTo>
                  <a:pt x="196356" y="164757"/>
                </a:lnTo>
                <a:lnTo>
                  <a:pt x="193510" y="169554"/>
                </a:lnTo>
                <a:lnTo>
                  <a:pt x="190661" y="174657"/>
                </a:lnTo>
                <a:lnTo>
                  <a:pt x="182415" y="182868"/>
                </a:lnTo>
                <a:lnTo>
                  <a:pt x="173352" y="189692"/>
                </a:lnTo>
                <a:lnTo>
                  <a:pt x="166149" y="195900"/>
                </a:lnTo>
                <a:lnTo>
                  <a:pt x="157233" y="201834"/>
                </a:lnTo>
                <a:lnTo>
                  <a:pt x="147873" y="207646"/>
                </a:lnTo>
                <a:lnTo>
                  <a:pt x="140537" y="213404"/>
                </a:lnTo>
                <a:lnTo>
                  <a:pt x="131563" y="219139"/>
                </a:lnTo>
                <a:lnTo>
                  <a:pt x="122176" y="223910"/>
                </a:lnTo>
                <a:lnTo>
                  <a:pt x="114830" y="226030"/>
                </a:lnTo>
                <a:lnTo>
                  <a:pt x="105850" y="229513"/>
                </a:lnTo>
                <a:lnTo>
                  <a:pt x="96460" y="233283"/>
                </a:lnTo>
                <a:lnTo>
                  <a:pt x="89113" y="234959"/>
                </a:lnTo>
                <a:lnTo>
                  <a:pt x="80132" y="235703"/>
                </a:lnTo>
                <a:lnTo>
                  <a:pt x="70742" y="236034"/>
                </a:lnTo>
                <a:lnTo>
                  <a:pt x="59150" y="236221"/>
                </a:lnTo>
                <a:lnTo>
                  <a:pt x="37678" y="236289"/>
                </a:lnTo>
                <a:lnTo>
                  <a:pt x="35338" y="235340"/>
                </a:lnTo>
                <a:lnTo>
                  <a:pt x="33777" y="233754"/>
                </a:lnTo>
                <a:lnTo>
                  <a:pt x="32737" y="231745"/>
                </a:lnTo>
                <a:lnTo>
                  <a:pt x="31091" y="230406"/>
                </a:lnTo>
                <a:lnTo>
                  <a:pt x="29041" y="229513"/>
                </a:lnTo>
                <a:lnTo>
                  <a:pt x="26722" y="228917"/>
                </a:lnTo>
                <a:lnTo>
                  <a:pt x="25175" y="227568"/>
                </a:lnTo>
                <a:lnTo>
                  <a:pt x="24145" y="225716"/>
                </a:lnTo>
                <a:lnTo>
                  <a:pt x="23000" y="221118"/>
                </a:lnTo>
                <a:lnTo>
                  <a:pt x="22355" y="213174"/>
                </a:lnTo>
                <a:lnTo>
                  <a:pt x="22205" y="207606"/>
                </a:lnTo>
                <a:lnTo>
                  <a:pt x="23117" y="204788"/>
                </a:lnTo>
                <a:lnTo>
                  <a:pt x="28885" y="195961"/>
                </a:lnTo>
                <a:lnTo>
                  <a:pt x="32672" y="191645"/>
                </a:lnTo>
                <a:lnTo>
                  <a:pt x="42484" y="181653"/>
                </a:lnTo>
                <a:lnTo>
                  <a:pt x="46162" y="179866"/>
                </a:lnTo>
                <a:lnTo>
                  <a:pt x="55328" y="177880"/>
                </a:lnTo>
                <a:lnTo>
                  <a:pt x="65752" y="176998"/>
                </a:lnTo>
                <a:lnTo>
                  <a:pt x="75782" y="176605"/>
                </a:lnTo>
                <a:lnTo>
                  <a:pt x="83415" y="176431"/>
                </a:lnTo>
                <a:lnTo>
                  <a:pt x="97618" y="176333"/>
                </a:lnTo>
                <a:lnTo>
                  <a:pt x="102920" y="177272"/>
                </a:lnTo>
                <a:lnTo>
                  <a:pt x="108360" y="178850"/>
                </a:lnTo>
                <a:lnTo>
                  <a:pt x="113891" y="180855"/>
                </a:lnTo>
                <a:lnTo>
                  <a:pt x="119484" y="183144"/>
                </a:lnTo>
                <a:lnTo>
                  <a:pt x="125117" y="185622"/>
                </a:lnTo>
                <a:lnTo>
                  <a:pt x="130778" y="188227"/>
                </a:lnTo>
                <a:lnTo>
                  <a:pt x="136456" y="189963"/>
                </a:lnTo>
                <a:lnTo>
                  <a:pt x="142147" y="191121"/>
                </a:lnTo>
                <a:lnTo>
                  <a:pt x="147846" y="191893"/>
                </a:lnTo>
                <a:lnTo>
                  <a:pt x="153551" y="193360"/>
                </a:lnTo>
                <a:lnTo>
                  <a:pt x="159259" y="195290"/>
                </a:lnTo>
                <a:lnTo>
                  <a:pt x="164968" y="197530"/>
                </a:lnTo>
                <a:lnTo>
                  <a:pt x="170681" y="199975"/>
                </a:lnTo>
                <a:lnTo>
                  <a:pt x="182108" y="205233"/>
                </a:lnTo>
                <a:lnTo>
                  <a:pt x="187821" y="208921"/>
                </a:lnTo>
                <a:lnTo>
                  <a:pt x="193536" y="213284"/>
                </a:lnTo>
                <a:lnTo>
                  <a:pt x="199250" y="218098"/>
                </a:lnTo>
                <a:lnTo>
                  <a:pt x="204965" y="222260"/>
                </a:lnTo>
                <a:lnTo>
                  <a:pt x="210680" y="225987"/>
                </a:lnTo>
                <a:lnTo>
                  <a:pt x="216395" y="229425"/>
                </a:lnTo>
                <a:lnTo>
                  <a:pt x="222109" y="232669"/>
                </a:lnTo>
                <a:lnTo>
                  <a:pt x="233539" y="238813"/>
                </a:lnTo>
                <a:lnTo>
                  <a:pt x="242430" y="244719"/>
                </a:lnTo>
                <a:lnTo>
                  <a:pt x="250507" y="250519"/>
                </a:lnTo>
                <a:lnTo>
                  <a:pt x="260449" y="256271"/>
                </a:lnTo>
                <a:lnTo>
                  <a:pt x="271216" y="262003"/>
                </a:lnTo>
                <a:lnTo>
                  <a:pt x="281399" y="266773"/>
                </a:lnTo>
                <a:lnTo>
                  <a:pt x="289100" y="268893"/>
                </a:lnTo>
                <a:lnTo>
                  <a:pt x="295698" y="272375"/>
                </a:lnTo>
                <a:lnTo>
                  <a:pt x="298791" y="274637"/>
                </a:lnTo>
                <a:lnTo>
                  <a:pt x="304767" y="277151"/>
                </a:lnTo>
                <a:lnTo>
                  <a:pt x="307695" y="277821"/>
                </a:lnTo>
                <a:lnTo>
                  <a:pt x="313487" y="281106"/>
                </a:lnTo>
                <a:lnTo>
                  <a:pt x="316365" y="283315"/>
                </a:lnTo>
                <a:lnTo>
                  <a:pt x="322103" y="285770"/>
                </a:lnTo>
                <a:lnTo>
                  <a:pt x="330191" y="287619"/>
                </a:lnTo>
                <a:lnTo>
                  <a:pt x="335533" y="287712"/>
                </a:lnTo>
                <a:lnTo>
                  <a:pt x="330694" y="2877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MARTPenAnnotation683"/>
          <p:cNvSpPr/>
          <p:nvPr/>
        </p:nvSpPr>
        <p:spPr>
          <a:xfrm>
            <a:off x="6286680" y="2460600"/>
            <a:ext cx="291960" cy="196920"/>
          </a:xfrm>
          <a:custGeom>
            <a:avLst/>
            <a:gdLst>
              <a:gd name="textAreaLeft" fmla="*/ 0 w 291960"/>
              <a:gd name="textAreaRight" fmla="*/ 292320 w 2919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91318" h="197134">
                <a:moveTo>
                  <a:pt x="8424" y="42860"/>
                </a:moveTo>
                <a:lnTo>
                  <a:pt x="8424" y="26937"/>
                </a:lnTo>
                <a:lnTo>
                  <a:pt x="9377" y="26530"/>
                </a:lnTo>
                <a:lnTo>
                  <a:pt x="12975" y="26077"/>
                </a:lnTo>
                <a:lnTo>
                  <a:pt x="14315" y="25003"/>
                </a:lnTo>
                <a:lnTo>
                  <a:pt x="15209" y="23336"/>
                </a:lnTo>
                <a:lnTo>
                  <a:pt x="15805" y="21271"/>
                </a:lnTo>
                <a:lnTo>
                  <a:pt x="17155" y="19895"/>
                </a:lnTo>
                <a:lnTo>
                  <a:pt x="19007" y="18977"/>
                </a:lnTo>
                <a:lnTo>
                  <a:pt x="21194" y="18366"/>
                </a:lnTo>
                <a:lnTo>
                  <a:pt x="26165" y="15146"/>
                </a:lnTo>
                <a:lnTo>
                  <a:pt x="28824" y="12954"/>
                </a:lnTo>
                <a:lnTo>
                  <a:pt x="31549" y="11492"/>
                </a:lnTo>
                <a:lnTo>
                  <a:pt x="39935" y="8483"/>
                </a:lnTo>
                <a:lnTo>
                  <a:pt x="45606" y="4404"/>
                </a:lnTo>
                <a:lnTo>
                  <a:pt x="49405" y="2935"/>
                </a:lnTo>
                <a:lnTo>
                  <a:pt x="53842" y="1955"/>
                </a:lnTo>
                <a:lnTo>
                  <a:pt x="58705" y="1303"/>
                </a:lnTo>
                <a:lnTo>
                  <a:pt x="63852" y="867"/>
                </a:lnTo>
                <a:lnTo>
                  <a:pt x="69189" y="577"/>
                </a:lnTo>
                <a:lnTo>
                  <a:pt x="83261" y="169"/>
                </a:lnTo>
                <a:lnTo>
                  <a:pt x="106403" y="20"/>
                </a:lnTo>
                <a:lnTo>
                  <a:pt x="129712" y="0"/>
                </a:lnTo>
                <a:lnTo>
                  <a:pt x="134050" y="951"/>
                </a:lnTo>
                <a:lnTo>
                  <a:pt x="138848" y="2538"/>
                </a:lnTo>
                <a:lnTo>
                  <a:pt x="143950" y="4549"/>
                </a:lnTo>
                <a:lnTo>
                  <a:pt x="152160" y="9322"/>
                </a:lnTo>
                <a:lnTo>
                  <a:pt x="158984" y="14619"/>
                </a:lnTo>
                <a:lnTo>
                  <a:pt x="165192" y="20148"/>
                </a:lnTo>
                <a:lnTo>
                  <a:pt x="173666" y="25781"/>
                </a:lnTo>
                <a:lnTo>
                  <a:pt x="178593" y="28616"/>
                </a:lnTo>
                <a:lnTo>
                  <a:pt x="186608" y="31767"/>
                </a:lnTo>
                <a:lnTo>
                  <a:pt x="190078" y="32607"/>
                </a:lnTo>
                <a:lnTo>
                  <a:pt x="192392" y="34119"/>
                </a:lnTo>
                <a:lnTo>
                  <a:pt x="193934" y="36080"/>
                </a:lnTo>
                <a:lnTo>
                  <a:pt x="196600" y="41752"/>
                </a:lnTo>
                <a:lnTo>
                  <a:pt x="200961" y="50622"/>
                </a:lnTo>
                <a:lnTo>
                  <a:pt x="203457" y="54702"/>
                </a:lnTo>
                <a:lnTo>
                  <a:pt x="206073" y="58375"/>
                </a:lnTo>
                <a:lnTo>
                  <a:pt x="208770" y="61775"/>
                </a:lnTo>
                <a:lnTo>
                  <a:pt x="210568" y="64995"/>
                </a:lnTo>
                <a:lnTo>
                  <a:pt x="212566" y="71113"/>
                </a:lnTo>
                <a:lnTo>
                  <a:pt x="213099" y="75030"/>
                </a:lnTo>
                <a:lnTo>
                  <a:pt x="213454" y="79546"/>
                </a:lnTo>
                <a:lnTo>
                  <a:pt x="213690" y="84462"/>
                </a:lnTo>
                <a:lnTo>
                  <a:pt x="213954" y="95005"/>
                </a:lnTo>
                <a:lnTo>
                  <a:pt x="214024" y="100483"/>
                </a:lnTo>
                <a:lnTo>
                  <a:pt x="213118" y="105088"/>
                </a:lnTo>
                <a:lnTo>
                  <a:pt x="211562" y="109110"/>
                </a:lnTo>
                <a:lnTo>
                  <a:pt x="209572" y="112744"/>
                </a:lnTo>
                <a:lnTo>
                  <a:pt x="208245" y="116119"/>
                </a:lnTo>
                <a:lnTo>
                  <a:pt x="207361" y="119322"/>
                </a:lnTo>
                <a:lnTo>
                  <a:pt x="206771" y="122409"/>
                </a:lnTo>
                <a:lnTo>
                  <a:pt x="203576" y="128380"/>
                </a:lnTo>
                <a:lnTo>
                  <a:pt x="198980" y="134209"/>
                </a:lnTo>
                <a:lnTo>
                  <a:pt x="193764" y="139974"/>
                </a:lnTo>
                <a:lnTo>
                  <a:pt x="188270" y="145712"/>
                </a:lnTo>
                <a:lnTo>
                  <a:pt x="159868" y="174304"/>
                </a:lnTo>
                <a:lnTo>
                  <a:pt x="157012" y="176209"/>
                </a:lnTo>
                <a:lnTo>
                  <a:pt x="151298" y="178326"/>
                </a:lnTo>
                <a:lnTo>
                  <a:pt x="143044" y="181807"/>
                </a:lnTo>
                <a:lnTo>
                  <a:pt x="133977" y="185576"/>
                </a:lnTo>
                <a:lnTo>
                  <a:pt x="126773" y="187252"/>
                </a:lnTo>
                <a:lnTo>
                  <a:pt x="117856" y="187996"/>
                </a:lnTo>
                <a:lnTo>
                  <a:pt x="112811" y="188195"/>
                </a:lnTo>
                <a:lnTo>
                  <a:pt x="107543" y="189280"/>
                </a:lnTo>
                <a:lnTo>
                  <a:pt x="102126" y="190956"/>
                </a:lnTo>
                <a:lnTo>
                  <a:pt x="96609" y="193025"/>
                </a:lnTo>
                <a:lnTo>
                  <a:pt x="87940" y="195325"/>
                </a:lnTo>
                <a:lnTo>
                  <a:pt x="79960" y="196347"/>
                </a:lnTo>
                <a:lnTo>
                  <a:pt x="75164" y="196620"/>
                </a:lnTo>
                <a:lnTo>
                  <a:pt x="64756" y="196922"/>
                </a:lnTo>
                <a:lnTo>
                  <a:pt x="45993" y="197133"/>
                </a:lnTo>
                <a:lnTo>
                  <a:pt x="43948" y="196191"/>
                </a:lnTo>
                <a:lnTo>
                  <a:pt x="36518" y="191267"/>
                </a:lnTo>
                <a:lnTo>
                  <a:pt x="31070" y="189781"/>
                </a:lnTo>
                <a:lnTo>
                  <a:pt x="22649" y="188944"/>
                </a:lnTo>
                <a:lnTo>
                  <a:pt x="19812" y="187874"/>
                </a:lnTo>
                <a:lnTo>
                  <a:pt x="11269" y="182770"/>
                </a:lnTo>
                <a:lnTo>
                  <a:pt x="5561" y="181242"/>
                </a:lnTo>
                <a:lnTo>
                  <a:pt x="3658" y="179882"/>
                </a:lnTo>
                <a:lnTo>
                  <a:pt x="2389" y="178023"/>
                </a:lnTo>
                <a:lnTo>
                  <a:pt x="980" y="173417"/>
                </a:lnTo>
                <a:lnTo>
                  <a:pt x="353" y="168195"/>
                </a:lnTo>
                <a:lnTo>
                  <a:pt x="74" y="162699"/>
                </a:lnTo>
                <a:lnTo>
                  <a:pt x="0" y="159900"/>
                </a:lnTo>
                <a:lnTo>
                  <a:pt x="903" y="157082"/>
                </a:lnTo>
                <a:lnTo>
                  <a:pt x="4447" y="151410"/>
                </a:lnTo>
                <a:lnTo>
                  <a:pt x="6656" y="145714"/>
                </a:lnTo>
                <a:lnTo>
                  <a:pt x="7246" y="142862"/>
                </a:lnTo>
                <a:lnTo>
                  <a:pt x="9543" y="140960"/>
                </a:lnTo>
                <a:lnTo>
                  <a:pt x="12980" y="139693"/>
                </a:lnTo>
                <a:lnTo>
                  <a:pt x="17176" y="138847"/>
                </a:lnTo>
                <a:lnTo>
                  <a:pt x="24379" y="135368"/>
                </a:lnTo>
                <a:lnTo>
                  <a:pt x="30755" y="130647"/>
                </a:lnTo>
                <a:lnTo>
                  <a:pt x="36764" y="125374"/>
                </a:lnTo>
                <a:lnTo>
                  <a:pt x="40652" y="123586"/>
                </a:lnTo>
                <a:lnTo>
                  <a:pt x="45150" y="122395"/>
                </a:lnTo>
                <a:lnTo>
                  <a:pt x="50053" y="121601"/>
                </a:lnTo>
                <a:lnTo>
                  <a:pt x="55226" y="121071"/>
                </a:lnTo>
                <a:lnTo>
                  <a:pt x="60580" y="120718"/>
                </a:lnTo>
                <a:lnTo>
                  <a:pt x="66055" y="120483"/>
                </a:lnTo>
                <a:lnTo>
                  <a:pt x="71610" y="119374"/>
                </a:lnTo>
                <a:lnTo>
                  <a:pt x="77218" y="117681"/>
                </a:lnTo>
                <a:lnTo>
                  <a:pt x="82862" y="115601"/>
                </a:lnTo>
                <a:lnTo>
                  <a:pt x="88529" y="114214"/>
                </a:lnTo>
                <a:lnTo>
                  <a:pt x="94212" y="113289"/>
                </a:lnTo>
                <a:lnTo>
                  <a:pt x="99906" y="112673"/>
                </a:lnTo>
                <a:lnTo>
                  <a:pt x="105607" y="112262"/>
                </a:lnTo>
                <a:lnTo>
                  <a:pt x="111313" y="111988"/>
                </a:lnTo>
                <a:lnTo>
                  <a:pt x="117021" y="111805"/>
                </a:lnTo>
                <a:lnTo>
                  <a:pt x="122732" y="112636"/>
                </a:lnTo>
                <a:lnTo>
                  <a:pt x="128445" y="114142"/>
                </a:lnTo>
                <a:lnTo>
                  <a:pt x="134158" y="116099"/>
                </a:lnTo>
                <a:lnTo>
                  <a:pt x="139872" y="117403"/>
                </a:lnTo>
                <a:lnTo>
                  <a:pt x="145586" y="118273"/>
                </a:lnTo>
                <a:lnTo>
                  <a:pt x="151300" y="118853"/>
                </a:lnTo>
                <a:lnTo>
                  <a:pt x="160190" y="122037"/>
                </a:lnTo>
                <a:lnTo>
                  <a:pt x="163894" y="124219"/>
                </a:lnTo>
                <a:lnTo>
                  <a:pt x="168268" y="125674"/>
                </a:lnTo>
                <a:lnTo>
                  <a:pt x="173089" y="126644"/>
                </a:lnTo>
                <a:lnTo>
                  <a:pt x="178208" y="127291"/>
                </a:lnTo>
                <a:lnTo>
                  <a:pt x="183526" y="128675"/>
                </a:lnTo>
                <a:lnTo>
                  <a:pt x="188976" y="130550"/>
                </a:lnTo>
                <a:lnTo>
                  <a:pt x="194515" y="132752"/>
                </a:lnTo>
                <a:lnTo>
                  <a:pt x="203209" y="137739"/>
                </a:lnTo>
                <a:lnTo>
                  <a:pt x="211200" y="143131"/>
                </a:lnTo>
                <a:lnTo>
                  <a:pt x="215998" y="145902"/>
                </a:lnTo>
                <a:lnTo>
                  <a:pt x="221102" y="148702"/>
                </a:lnTo>
                <a:lnTo>
                  <a:pt x="229313" y="151813"/>
                </a:lnTo>
                <a:lnTo>
                  <a:pt x="237089" y="154149"/>
                </a:lnTo>
                <a:lnTo>
                  <a:pt x="241830" y="156105"/>
                </a:lnTo>
                <a:lnTo>
                  <a:pt x="246895" y="158361"/>
                </a:lnTo>
                <a:lnTo>
                  <a:pt x="250272" y="160818"/>
                </a:lnTo>
                <a:lnTo>
                  <a:pt x="252524" y="163409"/>
                </a:lnTo>
                <a:lnTo>
                  <a:pt x="254025" y="166088"/>
                </a:lnTo>
                <a:lnTo>
                  <a:pt x="255978" y="167874"/>
                </a:lnTo>
                <a:lnTo>
                  <a:pt x="258233" y="169065"/>
                </a:lnTo>
                <a:lnTo>
                  <a:pt x="260688" y="169859"/>
                </a:lnTo>
                <a:lnTo>
                  <a:pt x="265956" y="173281"/>
                </a:lnTo>
                <a:lnTo>
                  <a:pt x="272549" y="178689"/>
                </a:lnTo>
                <a:lnTo>
                  <a:pt x="275990" y="179428"/>
                </a:lnTo>
                <a:lnTo>
                  <a:pt x="284691" y="179968"/>
                </a:lnTo>
                <a:lnTo>
                  <a:pt x="291317" y="1800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MARTPenAnnotation684"/>
          <p:cNvSpPr/>
          <p:nvPr/>
        </p:nvSpPr>
        <p:spPr>
          <a:xfrm>
            <a:off x="6578640" y="2340000"/>
            <a:ext cx="214200" cy="103320"/>
          </a:xfrm>
          <a:custGeom>
            <a:avLst/>
            <a:gdLst>
              <a:gd name="textAreaLeft" fmla="*/ 0 w 214200"/>
              <a:gd name="textAreaRight" fmla="*/ 214560 w 2142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213113" h="102652">
                <a:moveTo>
                  <a:pt x="15944" y="42749"/>
                </a:moveTo>
                <a:lnTo>
                  <a:pt x="15944" y="38198"/>
                </a:lnTo>
                <a:lnTo>
                  <a:pt x="14992" y="36857"/>
                </a:lnTo>
                <a:lnTo>
                  <a:pt x="13405" y="35963"/>
                </a:lnTo>
                <a:lnTo>
                  <a:pt x="7725" y="34281"/>
                </a:lnTo>
                <a:lnTo>
                  <a:pt x="7529" y="31683"/>
                </a:lnTo>
                <a:lnTo>
                  <a:pt x="7477" y="29656"/>
                </a:lnTo>
                <a:lnTo>
                  <a:pt x="6489" y="28305"/>
                </a:lnTo>
                <a:lnTo>
                  <a:pt x="4879" y="27405"/>
                </a:lnTo>
                <a:lnTo>
                  <a:pt x="0" y="25959"/>
                </a:lnTo>
                <a:lnTo>
                  <a:pt x="553" y="25841"/>
                </a:lnTo>
                <a:lnTo>
                  <a:pt x="3706" y="25709"/>
                </a:lnTo>
                <a:lnTo>
                  <a:pt x="4928" y="24721"/>
                </a:lnTo>
                <a:lnTo>
                  <a:pt x="5743" y="23110"/>
                </a:lnTo>
                <a:lnTo>
                  <a:pt x="6286" y="21084"/>
                </a:lnTo>
                <a:lnTo>
                  <a:pt x="7601" y="19733"/>
                </a:lnTo>
                <a:lnTo>
                  <a:pt x="9429" y="18832"/>
                </a:lnTo>
                <a:lnTo>
                  <a:pt x="11601" y="18232"/>
                </a:lnTo>
                <a:lnTo>
                  <a:pt x="14954" y="17832"/>
                </a:lnTo>
                <a:lnTo>
                  <a:pt x="19095" y="17565"/>
                </a:lnTo>
                <a:lnTo>
                  <a:pt x="23759" y="17387"/>
                </a:lnTo>
                <a:lnTo>
                  <a:pt x="27822" y="16316"/>
                </a:lnTo>
                <a:lnTo>
                  <a:pt x="31483" y="14649"/>
                </a:lnTo>
                <a:lnTo>
                  <a:pt x="34876" y="12586"/>
                </a:lnTo>
                <a:lnTo>
                  <a:pt x="39043" y="11210"/>
                </a:lnTo>
                <a:lnTo>
                  <a:pt x="43726" y="10293"/>
                </a:lnTo>
                <a:lnTo>
                  <a:pt x="48753" y="9681"/>
                </a:lnTo>
                <a:lnTo>
                  <a:pt x="54009" y="8321"/>
                </a:lnTo>
                <a:lnTo>
                  <a:pt x="59418" y="6462"/>
                </a:lnTo>
                <a:lnTo>
                  <a:pt x="64930" y="4270"/>
                </a:lnTo>
                <a:lnTo>
                  <a:pt x="70509" y="2809"/>
                </a:lnTo>
                <a:lnTo>
                  <a:pt x="76134" y="1834"/>
                </a:lnTo>
                <a:lnTo>
                  <a:pt x="81788" y="1185"/>
                </a:lnTo>
                <a:lnTo>
                  <a:pt x="86510" y="752"/>
                </a:lnTo>
                <a:lnTo>
                  <a:pt x="90610" y="463"/>
                </a:lnTo>
                <a:lnTo>
                  <a:pt x="94297" y="271"/>
                </a:lnTo>
                <a:lnTo>
                  <a:pt x="103473" y="57"/>
                </a:lnTo>
                <a:lnTo>
                  <a:pt x="108587" y="0"/>
                </a:lnTo>
                <a:lnTo>
                  <a:pt x="113901" y="915"/>
                </a:lnTo>
                <a:lnTo>
                  <a:pt x="119349" y="2477"/>
                </a:lnTo>
                <a:lnTo>
                  <a:pt x="132678" y="7277"/>
                </a:lnTo>
                <a:lnTo>
                  <a:pt x="137042" y="10473"/>
                </a:lnTo>
                <a:lnTo>
                  <a:pt x="139538" y="12659"/>
                </a:lnTo>
                <a:lnTo>
                  <a:pt x="142155" y="14116"/>
                </a:lnTo>
                <a:lnTo>
                  <a:pt x="147603" y="15736"/>
                </a:lnTo>
                <a:lnTo>
                  <a:pt x="149437" y="17120"/>
                </a:lnTo>
                <a:lnTo>
                  <a:pt x="150659" y="18995"/>
                </a:lnTo>
                <a:lnTo>
                  <a:pt x="151475" y="21198"/>
                </a:lnTo>
                <a:lnTo>
                  <a:pt x="151066" y="23619"/>
                </a:lnTo>
                <a:lnTo>
                  <a:pt x="149840" y="26186"/>
                </a:lnTo>
                <a:lnTo>
                  <a:pt x="148070" y="28849"/>
                </a:lnTo>
                <a:lnTo>
                  <a:pt x="146891" y="31577"/>
                </a:lnTo>
                <a:lnTo>
                  <a:pt x="146105" y="34348"/>
                </a:lnTo>
                <a:lnTo>
                  <a:pt x="145581" y="37149"/>
                </a:lnTo>
                <a:lnTo>
                  <a:pt x="144279" y="39968"/>
                </a:lnTo>
                <a:lnTo>
                  <a:pt x="142458" y="42800"/>
                </a:lnTo>
                <a:lnTo>
                  <a:pt x="140292" y="45640"/>
                </a:lnTo>
                <a:lnTo>
                  <a:pt x="137896" y="48486"/>
                </a:lnTo>
                <a:lnTo>
                  <a:pt x="135346" y="51336"/>
                </a:lnTo>
                <a:lnTo>
                  <a:pt x="129971" y="57043"/>
                </a:lnTo>
                <a:lnTo>
                  <a:pt x="115921" y="71324"/>
                </a:lnTo>
                <a:lnTo>
                  <a:pt x="112123" y="74182"/>
                </a:lnTo>
                <a:lnTo>
                  <a:pt x="107686" y="77039"/>
                </a:lnTo>
                <a:lnTo>
                  <a:pt x="102824" y="79896"/>
                </a:lnTo>
                <a:lnTo>
                  <a:pt x="98628" y="81801"/>
                </a:lnTo>
                <a:lnTo>
                  <a:pt x="94880" y="83071"/>
                </a:lnTo>
                <a:lnTo>
                  <a:pt x="91428" y="83918"/>
                </a:lnTo>
                <a:lnTo>
                  <a:pt x="88175" y="85435"/>
                </a:lnTo>
                <a:lnTo>
                  <a:pt x="85053" y="87399"/>
                </a:lnTo>
                <a:lnTo>
                  <a:pt x="82019" y="89660"/>
                </a:lnTo>
                <a:lnTo>
                  <a:pt x="76108" y="92173"/>
                </a:lnTo>
                <a:lnTo>
                  <a:pt x="67530" y="94149"/>
                </a:lnTo>
                <a:lnTo>
                  <a:pt x="67447" y="96708"/>
                </a:lnTo>
                <a:lnTo>
                  <a:pt x="67384" y="102402"/>
                </a:lnTo>
                <a:lnTo>
                  <a:pt x="71932" y="102651"/>
                </a:lnTo>
                <a:lnTo>
                  <a:pt x="74225" y="101734"/>
                </a:lnTo>
                <a:lnTo>
                  <a:pt x="76706" y="100170"/>
                </a:lnTo>
                <a:lnTo>
                  <a:pt x="79312" y="98174"/>
                </a:lnTo>
                <a:lnTo>
                  <a:pt x="82954" y="96844"/>
                </a:lnTo>
                <a:lnTo>
                  <a:pt x="87287" y="95957"/>
                </a:lnTo>
                <a:lnTo>
                  <a:pt x="92082" y="95366"/>
                </a:lnTo>
                <a:lnTo>
                  <a:pt x="97183" y="94972"/>
                </a:lnTo>
                <a:lnTo>
                  <a:pt x="102489" y="94709"/>
                </a:lnTo>
                <a:lnTo>
                  <a:pt x="107930" y="94534"/>
                </a:lnTo>
                <a:lnTo>
                  <a:pt x="112511" y="93465"/>
                </a:lnTo>
                <a:lnTo>
                  <a:pt x="116517" y="91799"/>
                </a:lnTo>
                <a:lnTo>
                  <a:pt x="120140" y="89737"/>
                </a:lnTo>
                <a:lnTo>
                  <a:pt x="124461" y="88361"/>
                </a:lnTo>
                <a:lnTo>
                  <a:pt x="129247" y="87445"/>
                </a:lnTo>
                <a:lnTo>
                  <a:pt x="134342" y="86834"/>
                </a:lnTo>
                <a:lnTo>
                  <a:pt x="138691" y="86426"/>
                </a:lnTo>
                <a:lnTo>
                  <a:pt x="142544" y="86154"/>
                </a:lnTo>
                <a:lnTo>
                  <a:pt x="146064" y="85973"/>
                </a:lnTo>
                <a:lnTo>
                  <a:pt x="152515" y="85772"/>
                </a:lnTo>
                <a:lnTo>
                  <a:pt x="167315" y="85632"/>
                </a:lnTo>
                <a:lnTo>
                  <a:pt x="213112" y="856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MARTPenAnnotation685"/>
          <p:cNvSpPr/>
          <p:nvPr/>
        </p:nvSpPr>
        <p:spPr>
          <a:xfrm>
            <a:off x="6946920" y="2486160"/>
            <a:ext cx="136440" cy="7920"/>
          </a:xfrm>
          <a:custGeom>
            <a:avLst/>
            <a:gdLst>
              <a:gd name="textAreaLeft" fmla="*/ 0 w 136440"/>
              <a:gd name="textAreaRight" fmla="*/ 136800 w 136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37161" h="8573">
                <a:moveTo>
                  <a:pt x="0" y="0"/>
                </a:moveTo>
                <a:lnTo>
                  <a:pt x="0" y="8219"/>
                </a:lnTo>
                <a:lnTo>
                  <a:pt x="2541" y="8415"/>
                </a:lnTo>
                <a:lnTo>
                  <a:pt x="6844" y="8502"/>
                </a:lnTo>
                <a:lnTo>
                  <a:pt x="137160" y="85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MARTPenAnnotation686"/>
          <p:cNvSpPr/>
          <p:nvPr/>
        </p:nvSpPr>
        <p:spPr>
          <a:xfrm>
            <a:off x="6929280" y="2546280"/>
            <a:ext cx="206640" cy="17640"/>
          </a:xfrm>
          <a:custGeom>
            <a:avLst/>
            <a:gdLst>
              <a:gd name="textAreaLeft" fmla="*/ 0 w 206640"/>
              <a:gd name="textAreaRight" fmla="*/ 207000 w 20664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05741" h="17146">
                <a:moveTo>
                  <a:pt x="0" y="17145"/>
                </a:moveTo>
                <a:lnTo>
                  <a:pt x="41463" y="17145"/>
                </a:lnTo>
                <a:lnTo>
                  <a:pt x="47644" y="16193"/>
                </a:lnTo>
                <a:lnTo>
                  <a:pt x="54623" y="14605"/>
                </a:lnTo>
                <a:lnTo>
                  <a:pt x="62133" y="12594"/>
                </a:lnTo>
                <a:lnTo>
                  <a:pt x="69044" y="11253"/>
                </a:lnTo>
                <a:lnTo>
                  <a:pt x="75557" y="10360"/>
                </a:lnTo>
                <a:lnTo>
                  <a:pt x="81804" y="9764"/>
                </a:lnTo>
                <a:lnTo>
                  <a:pt x="87874" y="9367"/>
                </a:lnTo>
                <a:lnTo>
                  <a:pt x="93825" y="9102"/>
                </a:lnTo>
                <a:lnTo>
                  <a:pt x="99698" y="8926"/>
                </a:lnTo>
                <a:lnTo>
                  <a:pt x="105518" y="7855"/>
                </a:lnTo>
                <a:lnTo>
                  <a:pt x="111303" y="6189"/>
                </a:lnTo>
                <a:lnTo>
                  <a:pt x="117064" y="4126"/>
                </a:lnTo>
                <a:lnTo>
                  <a:pt x="122810" y="2751"/>
                </a:lnTo>
                <a:lnTo>
                  <a:pt x="128546" y="1834"/>
                </a:lnTo>
                <a:lnTo>
                  <a:pt x="134276" y="1222"/>
                </a:lnTo>
                <a:lnTo>
                  <a:pt x="139047" y="815"/>
                </a:lnTo>
                <a:lnTo>
                  <a:pt x="143180" y="543"/>
                </a:lnTo>
                <a:lnTo>
                  <a:pt x="146888" y="362"/>
                </a:lnTo>
                <a:lnTo>
                  <a:pt x="156089" y="161"/>
                </a:lnTo>
                <a:lnTo>
                  <a:pt x="2057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MARTPenAnnotation687"/>
          <p:cNvSpPr/>
          <p:nvPr/>
        </p:nvSpPr>
        <p:spPr>
          <a:xfrm>
            <a:off x="7315200" y="2400480"/>
            <a:ext cx="239760" cy="102960"/>
          </a:xfrm>
          <a:custGeom>
            <a:avLst/>
            <a:gdLst>
              <a:gd name="textAreaLeft" fmla="*/ 0 w 239760"/>
              <a:gd name="textAreaRight" fmla="*/ 240120 w 23976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240031" h="102868">
                <a:moveTo>
                  <a:pt x="0" y="8570"/>
                </a:moveTo>
                <a:lnTo>
                  <a:pt x="0" y="0"/>
                </a:lnTo>
                <a:lnTo>
                  <a:pt x="0" y="4549"/>
                </a:lnTo>
                <a:lnTo>
                  <a:pt x="952" y="6842"/>
                </a:lnTo>
                <a:lnTo>
                  <a:pt x="2540" y="9323"/>
                </a:lnTo>
                <a:lnTo>
                  <a:pt x="7380" y="15598"/>
                </a:lnTo>
                <a:lnTo>
                  <a:pt x="7778" y="17065"/>
                </a:lnTo>
                <a:lnTo>
                  <a:pt x="8042" y="18996"/>
                </a:lnTo>
                <a:lnTo>
                  <a:pt x="8219" y="21236"/>
                </a:lnTo>
                <a:lnTo>
                  <a:pt x="9290" y="24634"/>
                </a:lnTo>
                <a:lnTo>
                  <a:pt x="10955" y="28804"/>
                </a:lnTo>
                <a:lnTo>
                  <a:pt x="13018" y="33490"/>
                </a:lnTo>
                <a:lnTo>
                  <a:pt x="14394" y="37566"/>
                </a:lnTo>
                <a:lnTo>
                  <a:pt x="15311" y="41235"/>
                </a:lnTo>
                <a:lnTo>
                  <a:pt x="15923" y="44635"/>
                </a:lnTo>
                <a:lnTo>
                  <a:pt x="17282" y="47853"/>
                </a:lnTo>
                <a:lnTo>
                  <a:pt x="19142" y="50951"/>
                </a:lnTo>
                <a:lnTo>
                  <a:pt x="21333" y="53969"/>
                </a:lnTo>
                <a:lnTo>
                  <a:pt x="21842" y="57886"/>
                </a:lnTo>
                <a:lnTo>
                  <a:pt x="21228" y="62402"/>
                </a:lnTo>
                <a:lnTo>
                  <a:pt x="19867" y="67318"/>
                </a:lnTo>
                <a:lnTo>
                  <a:pt x="18960" y="71548"/>
                </a:lnTo>
                <a:lnTo>
                  <a:pt x="18355" y="75320"/>
                </a:lnTo>
                <a:lnTo>
                  <a:pt x="17951" y="78788"/>
                </a:lnTo>
                <a:lnTo>
                  <a:pt x="16730" y="82052"/>
                </a:lnTo>
                <a:lnTo>
                  <a:pt x="14963" y="85180"/>
                </a:lnTo>
                <a:lnTo>
                  <a:pt x="12833" y="88219"/>
                </a:lnTo>
                <a:lnTo>
                  <a:pt x="10460" y="91197"/>
                </a:lnTo>
                <a:lnTo>
                  <a:pt x="7926" y="94134"/>
                </a:lnTo>
                <a:lnTo>
                  <a:pt x="18" y="102848"/>
                </a:lnTo>
                <a:lnTo>
                  <a:pt x="0" y="102866"/>
                </a:lnTo>
                <a:lnTo>
                  <a:pt x="11931" y="102867"/>
                </a:lnTo>
                <a:lnTo>
                  <a:pt x="14622" y="101915"/>
                </a:lnTo>
                <a:lnTo>
                  <a:pt x="17367" y="100328"/>
                </a:lnTo>
                <a:lnTo>
                  <a:pt x="20151" y="98317"/>
                </a:lnTo>
                <a:lnTo>
                  <a:pt x="23911" y="96976"/>
                </a:lnTo>
                <a:lnTo>
                  <a:pt x="28323" y="96082"/>
                </a:lnTo>
                <a:lnTo>
                  <a:pt x="33170" y="95487"/>
                </a:lnTo>
                <a:lnTo>
                  <a:pt x="37353" y="95090"/>
                </a:lnTo>
                <a:lnTo>
                  <a:pt x="44542" y="94648"/>
                </a:lnTo>
                <a:lnTo>
                  <a:pt x="48744" y="93578"/>
                </a:lnTo>
                <a:lnTo>
                  <a:pt x="53451" y="91912"/>
                </a:lnTo>
                <a:lnTo>
                  <a:pt x="58494" y="89849"/>
                </a:lnTo>
                <a:lnTo>
                  <a:pt x="63761" y="88473"/>
                </a:lnTo>
                <a:lnTo>
                  <a:pt x="69177" y="87556"/>
                </a:lnTo>
                <a:lnTo>
                  <a:pt x="74693" y="86945"/>
                </a:lnTo>
                <a:lnTo>
                  <a:pt x="81227" y="86538"/>
                </a:lnTo>
                <a:lnTo>
                  <a:pt x="96108" y="86085"/>
                </a:lnTo>
                <a:lnTo>
                  <a:pt x="128073" y="85770"/>
                </a:lnTo>
                <a:lnTo>
                  <a:pt x="207256" y="85723"/>
                </a:lnTo>
                <a:lnTo>
                  <a:pt x="210560" y="86675"/>
                </a:lnTo>
                <a:lnTo>
                  <a:pt x="213716" y="88262"/>
                </a:lnTo>
                <a:lnTo>
                  <a:pt x="221073" y="93103"/>
                </a:lnTo>
                <a:lnTo>
                  <a:pt x="224620" y="93766"/>
                </a:lnTo>
                <a:lnTo>
                  <a:pt x="231971" y="94138"/>
                </a:lnTo>
                <a:lnTo>
                  <a:pt x="240030" y="942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MARTPenAnnotation688"/>
          <p:cNvSpPr/>
          <p:nvPr/>
        </p:nvSpPr>
        <p:spPr>
          <a:xfrm>
            <a:off x="7478640" y="2374920"/>
            <a:ext cx="50760" cy="290520"/>
          </a:xfrm>
          <a:custGeom>
            <a:avLst/>
            <a:gdLst>
              <a:gd name="textAreaLeft" fmla="*/ 0 w 50760"/>
              <a:gd name="textAreaRight" fmla="*/ 51120 w 507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51433" h="291457">
                <a:moveTo>
                  <a:pt x="8570" y="8564"/>
                </a:moveTo>
                <a:lnTo>
                  <a:pt x="8570" y="4013"/>
                </a:lnTo>
                <a:lnTo>
                  <a:pt x="7618" y="2672"/>
                </a:lnTo>
                <a:lnTo>
                  <a:pt x="6030" y="1778"/>
                </a:lnTo>
                <a:lnTo>
                  <a:pt x="28" y="0"/>
                </a:lnTo>
                <a:lnTo>
                  <a:pt x="0" y="11924"/>
                </a:lnTo>
                <a:lnTo>
                  <a:pt x="952" y="14614"/>
                </a:lnTo>
                <a:lnTo>
                  <a:pt x="2538" y="17359"/>
                </a:lnTo>
                <a:lnTo>
                  <a:pt x="4549" y="20143"/>
                </a:lnTo>
                <a:lnTo>
                  <a:pt x="6842" y="24855"/>
                </a:lnTo>
                <a:lnTo>
                  <a:pt x="9322" y="30855"/>
                </a:lnTo>
                <a:lnTo>
                  <a:pt x="11929" y="37712"/>
                </a:lnTo>
                <a:lnTo>
                  <a:pt x="13667" y="44188"/>
                </a:lnTo>
                <a:lnTo>
                  <a:pt x="14825" y="50411"/>
                </a:lnTo>
                <a:lnTo>
                  <a:pt x="15598" y="56464"/>
                </a:lnTo>
                <a:lnTo>
                  <a:pt x="17064" y="63357"/>
                </a:lnTo>
                <a:lnTo>
                  <a:pt x="18996" y="70810"/>
                </a:lnTo>
                <a:lnTo>
                  <a:pt x="21235" y="78636"/>
                </a:lnTo>
                <a:lnTo>
                  <a:pt x="22728" y="85759"/>
                </a:lnTo>
                <a:lnTo>
                  <a:pt x="23724" y="92412"/>
                </a:lnTo>
                <a:lnTo>
                  <a:pt x="24388" y="98752"/>
                </a:lnTo>
                <a:lnTo>
                  <a:pt x="25782" y="105837"/>
                </a:lnTo>
                <a:lnTo>
                  <a:pt x="27665" y="113418"/>
                </a:lnTo>
                <a:lnTo>
                  <a:pt x="29873" y="121329"/>
                </a:lnTo>
                <a:lnTo>
                  <a:pt x="31344" y="129461"/>
                </a:lnTo>
                <a:lnTo>
                  <a:pt x="32325" y="137739"/>
                </a:lnTo>
                <a:lnTo>
                  <a:pt x="32980" y="146115"/>
                </a:lnTo>
                <a:lnTo>
                  <a:pt x="33415" y="154557"/>
                </a:lnTo>
                <a:lnTo>
                  <a:pt x="33899" y="171557"/>
                </a:lnTo>
                <a:lnTo>
                  <a:pt x="34173" y="197193"/>
                </a:lnTo>
                <a:lnTo>
                  <a:pt x="35163" y="204801"/>
                </a:lnTo>
                <a:lnTo>
                  <a:pt x="36776" y="211779"/>
                </a:lnTo>
                <a:lnTo>
                  <a:pt x="38804" y="218336"/>
                </a:lnTo>
                <a:lnTo>
                  <a:pt x="40156" y="224612"/>
                </a:lnTo>
                <a:lnTo>
                  <a:pt x="41057" y="230701"/>
                </a:lnTo>
                <a:lnTo>
                  <a:pt x="41657" y="236665"/>
                </a:lnTo>
                <a:lnTo>
                  <a:pt x="42058" y="242546"/>
                </a:lnTo>
                <a:lnTo>
                  <a:pt x="42326" y="248372"/>
                </a:lnTo>
                <a:lnTo>
                  <a:pt x="42504" y="254161"/>
                </a:lnTo>
                <a:lnTo>
                  <a:pt x="43575" y="258973"/>
                </a:lnTo>
                <a:lnTo>
                  <a:pt x="45241" y="263133"/>
                </a:lnTo>
                <a:lnTo>
                  <a:pt x="47305" y="266859"/>
                </a:lnTo>
                <a:lnTo>
                  <a:pt x="48681" y="270296"/>
                </a:lnTo>
                <a:lnTo>
                  <a:pt x="50210" y="276654"/>
                </a:lnTo>
                <a:lnTo>
                  <a:pt x="51191" y="282605"/>
                </a:lnTo>
                <a:lnTo>
                  <a:pt x="51432" y="2914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MARTPenAnnotation689"/>
          <p:cNvSpPr/>
          <p:nvPr/>
        </p:nvSpPr>
        <p:spPr>
          <a:xfrm>
            <a:off x="2411280" y="3421080"/>
            <a:ext cx="292320" cy="25560"/>
          </a:xfrm>
          <a:custGeom>
            <a:avLst/>
            <a:gdLst>
              <a:gd name="textAreaLeft" fmla="*/ 0 w 292320"/>
              <a:gd name="textAreaRight" fmla="*/ 292320 w 2923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91466" h="25719">
                <a:moveTo>
                  <a:pt x="0" y="25718"/>
                </a:moveTo>
                <a:lnTo>
                  <a:pt x="0" y="21167"/>
                </a:lnTo>
                <a:lnTo>
                  <a:pt x="953" y="19826"/>
                </a:lnTo>
                <a:lnTo>
                  <a:pt x="2540" y="18932"/>
                </a:lnTo>
                <a:lnTo>
                  <a:pt x="4552" y="18337"/>
                </a:lnTo>
                <a:lnTo>
                  <a:pt x="9326" y="17675"/>
                </a:lnTo>
                <a:lnTo>
                  <a:pt x="15601" y="17250"/>
                </a:lnTo>
                <a:lnTo>
                  <a:pt x="18021" y="16262"/>
                </a:lnTo>
                <a:lnTo>
                  <a:pt x="21539" y="14652"/>
                </a:lnTo>
                <a:lnTo>
                  <a:pt x="25789" y="12625"/>
                </a:lnTo>
                <a:lnTo>
                  <a:pt x="30528" y="11274"/>
                </a:lnTo>
                <a:lnTo>
                  <a:pt x="35592" y="10374"/>
                </a:lnTo>
                <a:lnTo>
                  <a:pt x="40873" y="9773"/>
                </a:lnTo>
                <a:lnTo>
                  <a:pt x="46299" y="9373"/>
                </a:lnTo>
                <a:lnTo>
                  <a:pt x="51821" y="9106"/>
                </a:lnTo>
                <a:lnTo>
                  <a:pt x="57408" y="8928"/>
                </a:lnTo>
                <a:lnTo>
                  <a:pt x="64942" y="7857"/>
                </a:lnTo>
                <a:lnTo>
                  <a:pt x="73775" y="6191"/>
                </a:lnTo>
                <a:lnTo>
                  <a:pt x="83473" y="4127"/>
                </a:lnTo>
                <a:lnTo>
                  <a:pt x="91844" y="2752"/>
                </a:lnTo>
                <a:lnTo>
                  <a:pt x="99329" y="1834"/>
                </a:lnTo>
                <a:lnTo>
                  <a:pt x="106225" y="1223"/>
                </a:lnTo>
                <a:lnTo>
                  <a:pt x="113679" y="815"/>
                </a:lnTo>
                <a:lnTo>
                  <a:pt x="129582" y="363"/>
                </a:lnTo>
                <a:lnTo>
                  <a:pt x="168179" y="32"/>
                </a:lnTo>
                <a:lnTo>
                  <a:pt x="29146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MARTPenAnnotation690"/>
          <p:cNvSpPr/>
          <p:nvPr/>
        </p:nvSpPr>
        <p:spPr>
          <a:xfrm>
            <a:off x="2540160" y="3317760"/>
            <a:ext cx="77760" cy="290520"/>
          </a:xfrm>
          <a:custGeom>
            <a:avLst/>
            <a:gdLst>
              <a:gd name="textAreaLeft" fmla="*/ 0 w 77760"/>
              <a:gd name="textAreaRight" fmla="*/ 78120 w 777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77122" h="291466">
                <a:moveTo>
                  <a:pt x="8541" y="0"/>
                </a:moveTo>
                <a:lnTo>
                  <a:pt x="74" y="0"/>
                </a:lnTo>
                <a:lnTo>
                  <a:pt x="0" y="4551"/>
                </a:lnTo>
                <a:lnTo>
                  <a:pt x="942" y="6844"/>
                </a:lnTo>
                <a:lnTo>
                  <a:pt x="2523" y="9325"/>
                </a:lnTo>
                <a:lnTo>
                  <a:pt x="4529" y="11932"/>
                </a:lnTo>
                <a:lnTo>
                  <a:pt x="5866" y="14622"/>
                </a:lnTo>
                <a:lnTo>
                  <a:pt x="7353" y="20151"/>
                </a:lnTo>
                <a:lnTo>
                  <a:pt x="8701" y="22959"/>
                </a:lnTo>
                <a:lnTo>
                  <a:pt x="10553" y="25784"/>
                </a:lnTo>
                <a:lnTo>
                  <a:pt x="12740" y="28619"/>
                </a:lnTo>
                <a:lnTo>
                  <a:pt x="15151" y="32414"/>
                </a:lnTo>
                <a:lnTo>
                  <a:pt x="17710" y="36850"/>
                </a:lnTo>
                <a:lnTo>
                  <a:pt x="20369" y="41711"/>
                </a:lnTo>
                <a:lnTo>
                  <a:pt x="23094" y="47810"/>
                </a:lnTo>
                <a:lnTo>
                  <a:pt x="25863" y="54734"/>
                </a:lnTo>
                <a:lnTo>
                  <a:pt x="28662" y="62206"/>
                </a:lnTo>
                <a:lnTo>
                  <a:pt x="31480" y="69094"/>
                </a:lnTo>
                <a:lnTo>
                  <a:pt x="34311" y="75590"/>
                </a:lnTo>
                <a:lnTo>
                  <a:pt x="37151" y="81826"/>
                </a:lnTo>
                <a:lnTo>
                  <a:pt x="38092" y="87888"/>
                </a:lnTo>
                <a:lnTo>
                  <a:pt x="37767" y="93835"/>
                </a:lnTo>
                <a:lnTo>
                  <a:pt x="36598" y="99704"/>
                </a:lnTo>
                <a:lnTo>
                  <a:pt x="36770" y="106474"/>
                </a:lnTo>
                <a:lnTo>
                  <a:pt x="37838" y="113845"/>
                </a:lnTo>
                <a:lnTo>
                  <a:pt x="39503" y="121617"/>
                </a:lnTo>
                <a:lnTo>
                  <a:pt x="40612" y="128703"/>
                </a:lnTo>
                <a:lnTo>
                  <a:pt x="41352" y="135332"/>
                </a:lnTo>
                <a:lnTo>
                  <a:pt x="41845" y="141657"/>
                </a:lnTo>
                <a:lnTo>
                  <a:pt x="42174" y="147777"/>
                </a:lnTo>
                <a:lnTo>
                  <a:pt x="42539" y="159659"/>
                </a:lnTo>
                <a:lnTo>
                  <a:pt x="43589" y="165495"/>
                </a:lnTo>
                <a:lnTo>
                  <a:pt x="45242" y="171290"/>
                </a:lnTo>
                <a:lnTo>
                  <a:pt x="47295" y="177058"/>
                </a:lnTo>
                <a:lnTo>
                  <a:pt x="48665" y="182809"/>
                </a:lnTo>
                <a:lnTo>
                  <a:pt x="49578" y="188547"/>
                </a:lnTo>
                <a:lnTo>
                  <a:pt x="50187" y="194279"/>
                </a:lnTo>
                <a:lnTo>
                  <a:pt x="50592" y="200004"/>
                </a:lnTo>
                <a:lnTo>
                  <a:pt x="50863" y="205726"/>
                </a:lnTo>
                <a:lnTo>
                  <a:pt x="51163" y="217164"/>
                </a:lnTo>
                <a:lnTo>
                  <a:pt x="51297" y="228597"/>
                </a:lnTo>
                <a:lnTo>
                  <a:pt x="52285" y="233361"/>
                </a:lnTo>
                <a:lnTo>
                  <a:pt x="53897" y="237489"/>
                </a:lnTo>
                <a:lnTo>
                  <a:pt x="55923" y="241193"/>
                </a:lnTo>
                <a:lnTo>
                  <a:pt x="58175" y="247850"/>
                </a:lnTo>
                <a:lnTo>
                  <a:pt x="59176" y="254935"/>
                </a:lnTo>
                <a:lnTo>
                  <a:pt x="59443" y="259492"/>
                </a:lnTo>
                <a:lnTo>
                  <a:pt x="59621" y="264435"/>
                </a:lnTo>
                <a:lnTo>
                  <a:pt x="60692" y="268683"/>
                </a:lnTo>
                <a:lnTo>
                  <a:pt x="62358" y="272466"/>
                </a:lnTo>
                <a:lnTo>
                  <a:pt x="67326" y="280833"/>
                </a:lnTo>
                <a:lnTo>
                  <a:pt x="68006" y="284518"/>
                </a:lnTo>
                <a:lnTo>
                  <a:pt x="68187" y="286833"/>
                </a:lnTo>
                <a:lnTo>
                  <a:pt x="69260" y="288377"/>
                </a:lnTo>
                <a:lnTo>
                  <a:pt x="70928" y="289406"/>
                </a:lnTo>
                <a:lnTo>
                  <a:pt x="77121" y="29146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MARTPenAnnotation691"/>
          <p:cNvSpPr/>
          <p:nvPr/>
        </p:nvSpPr>
        <p:spPr>
          <a:xfrm>
            <a:off x="2809800" y="3317760"/>
            <a:ext cx="287280" cy="85680"/>
          </a:xfrm>
          <a:custGeom>
            <a:avLst/>
            <a:gdLst>
              <a:gd name="textAreaLeft" fmla="*/ 0 w 287280"/>
              <a:gd name="textAreaRight" fmla="*/ 287640 w 28728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87832" h="85723">
                <a:moveTo>
                  <a:pt x="4939" y="0"/>
                </a:moveTo>
                <a:lnTo>
                  <a:pt x="0" y="0"/>
                </a:lnTo>
                <a:lnTo>
                  <a:pt x="4690" y="0"/>
                </a:lnTo>
                <a:lnTo>
                  <a:pt x="4829" y="2540"/>
                </a:lnTo>
                <a:lnTo>
                  <a:pt x="4865" y="4551"/>
                </a:lnTo>
                <a:lnTo>
                  <a:pt x="5842" y="5892"/>
                </a:lnTo>
                <a:lnTo>
                  <a:pt x="7446" y="6785"/>
                </a:lnTo>
                <a:lnTo>
                  <a:pt x="9468" y="7381"/>
                </a:lnTo>
                <a:lnTo>
                  <a:pt x="11768" y="8731"/>
                </a:lnTo>
                <a:lnTo>
                  <a:pt x="14254" y="10583"/>
                </a:lnTo>
                <a:lnTo>
                  <a:pt x="16864" y="12770"/>
                </a:lnTo>
                <a:lnTo>
                  <a:pt x="18604" y="15181"/>
                </a:lnTo>
                <a:lnTo>
                  <a:pt x="19764" y="17741"/>
                </a:lnTo>
                <a:lnTo>
                  <a:pt x="20537" y="20400"/>
                </a:lnTo>
                <a:lnTo>
                  <a:pt x="21053" y="23125"/>
                </a:lnTo>
                <a:lnTo>
                  <a:pt x="21397" y="25894"/>
                </a:lnTo>
                <a:lnTo>
                  <a:pt x="21626" y="28693"/>
                </a:lnTo>
                <a:lnTo>
                  <a:pt x="21778" y="31511"/>
                </a:lnTo>
                <a:lnTo>
                  <a:pt x="21948" y="37182"/>
                </a:lnTo>
                <a:lnTo>
                  <a:pt x="22044" y="45730"/>
                </a:lnTo>
                <a:lnTo>
                  <a:pt x="21105" y="48585"/>
                </a:lnTo>
                <a:lnTo>
                  <a:pt x="19526" y="51440"/>
                </a:lnTo>
                <a:lnTo>
                  <a:pt x="17521" y="54296"/>
                </a:lnTo>
                <a:lnTo>
                  <a:pt x="16185" y="57152"/>
                </a:lnTo>
                <a:lnTo>
                  <a:pt x="15294" y="60009"/>
                </a:lnTo>
                <a:lnTo>
                  <a:pt x="14700" y="62866"/>
                </a:lnTo>
                <a:lnTo>
                  <a:pt x="14304" y="65723"/>
                </a:lnTo>
                <a:lnTo>
                  <a:pt x="14040" y="68581"/>
                </a:lnTo>
                <a:lnTo>
                  <a:pt x="13864" y="71438"/>
                </a:lnTo>
                <a:lnTo>
                  <a:pt x="14699" y="73343"/>
                </a:lnTo>
                <a:lnTo>
                  <a:pt x="16208" y="74613"/>
                </a:lnTo>
                <a:lnTo>
                  <a:pt x="18166" y="75459"/>
                </a:lnTo>
                <a:lnTo>
                  <a:pt x="19473" y="76976"/>
                </a:lnTo>
                <a:lnTo>
                  <a:pt x="20343" y="78940"/>
                </a:lnTo>
                <a:lnTo>
                  <a:pt x="20923" y="81202"/>
                </a:lnTo>
                <a:lnTo>
                  <a:pt x="22263" y="82709"/>
                </a:lnTo>
                <a:lnTo>
                  <a:pt x="24108" y="83715"/>
                </a:lnTo>
                <a:lnTo>
                  <a:pt x="28699" y="84832"/>
                </a:lnTo>
                <a:lnTo>
                  <a:pt x="37654" y="85607"/>
                </a:lnTo>
                <a:lnTo>
                  <a:pt x="45762" y="85702"/>
                </a:lnTo>
                <a:lnTo>
                  <a:pt x="63890" y="85722"/>
                </a:lnTo>
                <a:lnTo>
                  <a:pt x="69005" y="84770"/>
                </a:lnTo>
                <a:lnTo>
                  <a:pt x="74319" y="83184"/>
                </a:lnTo>
                <a:lnTo>
                  <a:pt x="79768" y="81173"/>
                </a:lnTo>
                <a:lnTo>
                  <a:pt x="88361" y="78939"/>
                </a:lnTo>
                <a:lnTo>
                  <a:pt x="97260" y="76994"/>
                </a:lnTo>
                <a:lnTo>
                  <a:pt x="103634" y="75142"/>
                </a:lnTo>
                <a:lnTo>
                  <a:pt x="110741" y="72955"/>
                </a:lnTo>
                <a:lnTo>
                  <a:pt x="116431" y="71496"/>
                </a:lnTo>
                <a:lnTo>
                  <a:pt x="125293" y="69876"/>
                </a:lnTo>
                <a:lnTo>
                  <a:pt x="130895" y="68492"/>
                </a:lnTo>
                <a:lnTo>
                  <a:pt x="137487" y="66616"/>
                </a:lnTo>
                <a:lnTo>
                  <a:pt x="144740" y="64413"/>
                </a:lnTo>
                <a:lnTo>
                  <a:pt x="151479" y="62945"/>
                </a:lnTo>
                <a:lnTo>
                  <a:pt x="157878" y="61966"/>
                </a:lnTo>
                <a:lnTo>
                  <a:pt x="164048" y="61313"/>
                </a:lnTo>
                <a:lnTo>
                  <a:pt x="170067" y="59925"/>
                </a:lnTo>
                <a:lnTo>
                  <a:pt x="175984" y="58048"/>
                </a:lnTo>
                <a:lnTo>
                  <a:pt x="181834" y="55844"/>
                </a:lnTo>
                <a:lnTo>
                  <a:pt x="187639" y="54374"/>
                </a:lnTo>
                <a:lnTo>
                  <a:pt x="193414" y="53394"/>
                </a:lnTo>
                <a:lnTo>
                  <a:pt x="199169" y="52741"/>
                </a:lnTo>
                <a:lnTo>
                  <a:pt x="204911" y="52306"/>
                </a:lnTo>
                <a:lnTo>
                  <a:pt x="210643" y="52016"/>
                </a:lnTo>
                <a:lnTo>
                  <a:pt x="225273" y="51607"/>
                </a:lnTo>
                <a:lnTo>
                  <a:pt x="255058" y="51445"/>
                </a:lnTo>
                <a:lnTo>
                  <a:pt x="258363" y="52395"/>
                </a:lnTo>
                <a:lnTo>
                  <a:pt x="261518" y="53979"/>
                </a:lnTo>
                <a:lnTo>
                  <a:pt x="264574" y="55989"/>
                </a:lnTo>
                <a:lnTo>
                  <a:pt x="270510" y="58222"/>
                </a:lnTo>
                <a:lnTo>
                  <a:pt x="279207" y="59478"/>
                </a:lnTo>
                <a:lnTo>
                  <a:pt x="287831" y="600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MARTPenAnnotation692"/>
          <p:cNvSpPr/>
          <p:nvPr/>
        </p:nvSpPr>
        <p:spPr>
          <a:xfrm>
            <a:off x="3011400" y="3249720"/>
            <a:ext cx="25560" cy="325440"/>
          </a:xfrm>
          <a:custGeom>
            <a:avLst/>
            <a:gdLst>
              <a:gd name="textAreaLeft" fmla="*/ 0 w 25560"/>
              <a:gd name="textAreaRight" fmla="*/ 25920 w 2556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25719" h="325756">
                <a:moveTo>
                  <a:pt x="0" y="0"/>
                </a:moveTo>
                <a:lnTo>
                  <a:pt x="0" y="27781"/>
                </a:lnTo>
                <a:lnTo>
                  <a:pt x="953" y="32808"/>
                </a:lnTo>
                <a:lnTo>
                  <a:pt x="2540" y="39017"/>
                </a:lnTo>
                <a:lnTo>
                  <a:pt x="4551" y="46014"/>
                </a:lnTo>
                <a:lnTo>
                  <a:pt x="6844" y="52583"/>
                </a:lnTo>
                <a:lnTo>
                  <a:pt x="9326" y="58868"/>
                </a:lnTo>
                <a:lnTo>
                  <a:pt x="11932" y="64963"/>
                </a:lnTo>
                <a:lnTo>
                  <a:pt x="13670" y="71884"/>
                </a:lnTo>
                <a:lnTo>
                  <a:pt x="14828" y="79355"/>
                </a:lnTo>
                <a:lnTo>
                  <a:pt x="15601" y="87194"/>
                </a:lnTo>
                <a:lnTo>
                  <a:pt x="17068" y="96229"/>
                </a:lnTo>
                <a:lnTo>
                  <a:pt x="18999" y="106063"/>
                </a:lnTo>
                <a:lnTo>
                  <a:pt x="21239" y="116428"/>
                </a:lnTo>
                <a:lnTo>
                  <a:pt x="22732" y="125244"/>
                </a:lnTo>
                <a:lnTo>
                  <a:pt x="23727" y="133026"/>
                </a:lnTo>
                <a:lnTo>
                  <a:pt x="24391" y="140119"/>
                </a:lnTo>
                <a:lnTo>
                  <a:pt x="23881" y="147705"/>
                </a:lnTo>
                <a:lnTo>
                  <a:pt x="22588" y="155620"/>
                </a:lnTo>
                <a:lnTo>
                  <a:pt x="20774" y="163755"/>
                </a:lnTo>
                <a:lnTo>
                  <a:pt x="19564" y="172035"/>
                </a:lnTo>
                <a:lnTo>
                  <a:pt x="18758" y="180412"/>
                </a:lnTo>
                <a:lnTo>
                  <a:pt x="18220" y="188855"/>
                </a:lnTo>
                <a:lnTo>
                  <a:pt x="17623" y="203316"/>
                </a:lnTo>
                <a:lnTo>
                  <a:pt x="17358" y="217045"/>
                </a:lnTo>
                <a:lnTo>
                  <a:pt x="17240" y="232672"/>
                </a:lnTo>
                <a:lnTo>
                  <a:pt x="16256" y="239887"/>
                </a:lnTo>
                <a:lnTo>
                  <a:pt x="14647" y="246602"/>
                </a:lnTo>
                <a:lnTo>
                  <a:pt x="12623" y="252984"/>
                </a:lnTo>
                <a:lnTo>
                  <a:pt x="11273" y="259144"/>
                </a:lnTo>
                <a:lnTo>
                  <a:pt x="10373" y="265155"/>
                </a:lnTo>
                <a:lnTo>
                  <a:pt x="9773" y="271068"/>
                </a:lnTo>
                <a:lnTo>
                  <a:pt x="9106" y="280177"/>
                </a:lnTo>
                <a:lnTo>
                  <a:pt x="8810" y="287401"/>
                </a:lnTo>
                <a:lnTo>
                  <a:pt x="8678" y="293786"/>
                </a:lnTo>
                <a:lnTo>
                  <a:pt x="9596" y="296823"/>
                </a:lnTo>
                <a:lnTo>
                  <a:pt x="11160" y="299799"/>
                </a:lnTo>
                <a:lnTo>
                  <a:pt x="13155" y="302736"/>
                </a:lnTo>
                <a:lnTo>
                  <a:pt x="14485" y="305647"/>
                </a:lnTo>
                <a:lnTo>
                  <a:pt x="15372" y="308539"/>
                </a:lnTo>
                <a:lnTo>
                  <a:pt x="17042" y="316677"/>
                </a:lnTo>
                <a:lnTo>
                  <a:pt x="18029" y="317798"/>
                </a:lnTo>
                <a:lnTo>
                  <a:pt x="25718" y="3257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MARTPenAnnotation693"/>
          <p:cNvSpPr/>
          <p:nvPr/>
        </p:nvSpPr>
        <p:spPr>
          <a:xfrm>
            <a:off x="3765600" y="3319560"/>
            <a:ext cx="299880" cy="23760"/>
          </a:xfrm>
          <a:custGeom>
            <a:avLst/>
            <a:gdLst>
              <a:gd name="textAreaLeft" fmla="*/ 0 w 299880"/>
              <a:gd name="textAreaRight" fmla="*/ 300240 w 2998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00039" h="24525">
                <a:moveTo>
                  <a:pt x="0" y="24524"/>
                </a:moveTo>
                <a:lnTo>
                  <a:pt x="8220" y="24524"/>
                </a:lnTo>
                <a:lnTo>
                  <a:pt x="9290" y="23571"/>
                </a:lnTo>
                <a:lnTo>
                  <a:pt x="13019" y="19973"/>
                </a:lnTo>
                <a:lnTo>
                  <a:pt x="16299" y="18632"/>
                </a:lnTo>
                <a:lnTo>
                  <a:pt x="20391" y="17738"/>
                </a:lnTo>
                <a:lnTo>
                  <a:pt x="25025" y="17143"/>
                </a:lnTo>
                <a:lnTo>
                  <a:pt x="30018" y="16746"/>
                </a:lnTo>
                <a:lnTo>
                  <a:pt x="35252" y="16481"/>
                </a:lnTo>
                <a:lnTo>
                  <a:pt x="46148" y="16186"/>
                </a:lnTo>
                <a:lnTo>
                  <a:pt x="74352" y="15982"/>
                </a:lnTo>
                <a:lnTo>
                  <a:pt x="81001" y="15019"/>
                </a:lnTo>
                <a:lnTo>
                  <a:pt x="88291" y="13425"/>
                </a:lnTo>
                <a:lnTo>
                  <a:pt x="96008" y="11410"/>
                </a:lnTo>
                <a:lnTo>
                  <a:pt x="104011" y="10066"/>
                </a:lnTo>
                <a:lnTo>
                  <a:pt x="112203" y="9170"/>
                </a:lnTo>
                <a:lnTo>
                  <a:pt x="120522" y="8573"/>
                </a:lnTo>
                <a:lnTo>
                  <a:pt x="128926" y="8175"/>
                </a:lnTo>
                <a:lnTo>
                  <a:pt x="145883" y="7733"/>
                </a:lnTo>
                <a:lnTo>
                  <a:pt x="185250" y="7410"/>
                </a:lnTo>
                <a:lnTo>
                  <a:pt x="191127" y="6447"/>
                </a:lnTo>
                <a:lnTo>
                  <a:pt x="196951" y="4853"/>
                </a:lnTo>
                <a:lnTo>
                  <a:pt x="202738" y="2837"/>
                </a:lnTo>
                <a:lnTo>
                  <a:pt x="208502" y="1494"/>
                </a:lnTo>
                <a:lnTo>
                  <a:pt x="214249" y="597"/>
                </a:lnTo>
                <a:lnTo>
                  <a:pt x="219985" y="0"/>
                </a:lnTo>
                <a:lnTo>
                  <a:pt x="225714" y="555"/>
                </a:lnTo>
                <a:lnTo>
                  <a:pt x="231439" y="1877"/>
                </a:lnTo>
                <a:lnTo>
                  <a:pt x="237160" y="3711"/>
                </a:lnTo>
                <a:lnTo>
                  <a:pt x="242879" y="4933"/>
                </a:lnTo>
                <a:lnTo>
                  <a:pt x="248597" y="5748"/>
                </a:lnTo>
                <a:lnTo>
                  <a:pt x="254315" y="6292"/>
                </a:lnTo>
                <a:lnTo>
                  <a:pt x="263206" y="6896"/>
                </a:lnTo>
                <a:lnTo>
                  <a:pt x="266911" y="7056"/>
                </a:lnTo>
                <a:lnTo>
                  <a:pt x="270333" y="8116"/>
                </a:lnTo>
                <a:lnTo>
                  <a:pt x="273567" y="9776"/>
                </a:lnTo>
                <a:lnTo>
                  <a:pt x="276676" y="11834"/>
                </a:lnTo>
                <a:lnTo>
                  <a:pt x="279701" y="13206"/>
                </a:lnTo>
                <a:lnTo>
                  <a:pt x="282670" y="14121"/>
                </a:lnTo>
                <a:lnTo>
                  <a:pt x="289728" y="15590"/>
                </a:lnTo>
                <a:lnTo>
                  <a:pt x="293234" y="15790"/>
                </a:lnTo>
                <a:lnTo>
                  <a:pt x="300038" y="159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MARTPenAnnotation694"/>
          <p:cNvSpPr/>
          <p:nvPr/>
        </p:nvSpPr>
        <p:spPr>
          <a:xfrm>
            <a:off x="3936960" y="3222720"/>
            <a:ext cx="27000" cy="274680"/>
          </a:xfrm>
          <a:custGeom>
            <a:avLst/>
            <a:gdLst>
              <a:gd name="textAreaLeft" fmla="*/ 0 w 27000"/>
              <a:gd name="textAreaRight" fmla="*/ 27360 w 270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5718" h="274320">
                <a:moveTo>
                  <a:pt x="8572" y="0"/>
                </a:moveTo>
                <a:lnTo>
                  <a:pt x="353" y="0"/>
                </a:lnTo>
                <a:lnTo>
                  <a:pt x="69" y="6844"/>
                </a:lnTo>
                <a:lnTo>
                  <a:pt x="0" y="61324"/>
                </a:lnTo>
                <a:lnTo>
                  <a:pt x="952" y="66600"/>
                </a:lnTo>
                <a:lnTo>
                  <a:pt x="2540" y="72975"/>
                </a:lnTo>
                <a:lnTo>
                  <a:pt x="4551" y="80082"/>
                </a:lnTo>
                <a:lnTo>
                  <a:pt x="5891" y="86725"/>
                </a:lnTo>
                <a:lnTo>
                  <a:pt x="6785" y="93060"/>
                </a:lnTo>
                <a:lnTo>
                  <a:pt x="7381" y="99187"/>
                </a:lnTo>
                <a:lnTo>
                  <a:pt x="7778" y="105177"/>
                </a:lnTo>
                <a:lnTo>
                  <a:pt x="8042" y="111076"/>
                </a:lnTo>
                <a:lnTo>
                  <a:pt x="8336" y="123662"/>
                </a:lnTo>
                <a:lnTo>
                  <a:pt x="8467" y="138780"/>
                </a:lnTo>
                <a:lnTo>
                  <a:pt x="9455" y="145860"/>
                </a:lnTo>
                <a:lnTo>
                  <a:pt x="11066" y="152485"/>
                </a:lnTo>
                <a:lnTo>
                  <a:pt x="13092" y="158807"/>
                </a:lnTo>
                <a:lnTo>
                  <a:pt x="14443" y="164926"/>
                </a:lnTo>
                <a:lnTo>
                  <a:pt x="15343" y="170911"/>
                </a:lnTo>
                <a:lnTo>
                  <a:pt x="15944" y="176805"/>
                </a:lnTo>
                <a:lnTo>
                  <a:pt x="16344" y="182640"/>
                </a:lnTo>
                <a:lnTo>
                  <a:pt x="16611" y="188435"/>
                </a:lnTo>
                <a:lnTo>
                  <a:pt x="16908" y="199953"/>
                </a:lnTo>
                <a:lnTo>
                  <a:pt x="17142" y="250119"/>
                </a:lnTo>
                <a:lnTo>
                  <a:pt x="18095" y="253423"/>
                </a:lnTo>
                <a:lnTo>
                  <a:pt x="19683" y="256579"/>
                </a:lnTo>
                <a:lnTo>
                  <a:pt x="21695" y="259635"/>
                </a:lnTo>
                <a:lnTo>
                  <a:pt x="23036" y="262625"/>
                </a:lnTo>
                <a:lnTo>
                  <a:pt x="23929" y="265570"/>
                </a:lnTo>
                <a:lnTo>
                  <a:pt x="25717" y="27431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MARTPenAnnotation695"/>
          <p:cNvSpPr/>
          <p:nvPr/>
        </p:nvSpPr>
        <p:spPr>
          <a:xfrm>
            <a:off x="4211640" y="3222720"/>
            <a:ext cx="231840" cy="112680"/>
          </a:xfrm>
          <a:custGeom>
            <a:avLst/>
            <a:gdLst>
              <a:gd name="textAreaLeft" fmla="*/ 0 w 231840"/>
              <a:gd name="textAreaRight" fmla="*/ 232200 w 2318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231456" h="111443">
                <a:moveTo>
                  <a:pt x="8570" y="0"/>
                </a:moveTo>
                <a:lnTo>
                  <a:pt x="8570" y="4551"/>
                </a:lnTo>
                <a:lnTo>
                  <a:pt x="9523" y="5891"/>
                </a:lnTo>
                <a:lnTo>
                  <a:pt x="11110" y="6785"/>
                </a:lnTo>
                <a:lnTo>
                  <a:pt x="13121" y="7380"/>
                </a:lnTo>
                <a:lnTo>
                  <a:pt x="14462" y="8730"/>
                </a:lnTo>
                <a:lnTo>
                  <a:pt x="15355" y="10583"/>
                </a:lnTo>
                <a:lnTo>
                  <a:pt x="15951" y="12770"/>
                </a:lnTo>
                <a:lnTo>
                  <a:pt x="16348" y="15181"/>
                </a:lnTo>
                <a:lnTo>
                  <a:pt x="16613" y="17740"/>
                </a:lnTo>
                <a:lnTo>
                  <a:pt x="16789" y="20399"/>
                </a:lnTo>
                <a:lnTo>
                  <a:pt x="16907" y="23124"/>
                </a:lnTo>
                <a:lnTo>
                  <a:pt x="17038" y="28693"/>
                </a:lnTo>
                <a:lnTo>
                  <a:pt x="16120" y="32463"/>
                </a:lnTo>
                <a:lnTo>
                  <a:pt x="14556" y="36882"/>
                </a:lnTo>
                <a:lnTo>
                  <a:pt x="12561" y="41733"/>
                </a:lnTo>
                <a:lnTo>
                  <a:pt x="11230" y="45919"/>
                </a:lnTo>
                <a:lnTo>
                  <a:pt x="10344" y="49663"/>
                </a:lnTo>
                <a:lnTo>
                  <a:pt x="9753" y="53111"/>
                </a:lnTo>
                <a:lnTo>
                  <a:pt x="9358" y="56362"/>
                </a:lnTo>
                <a:lnTo>
                  <a:pt x="9096" y="59482"/>
                </a:lnTo>
                <a:lnTo>
                  <a:pt x="8921" y="62515"/>
                </a:lnTo>
                <a:lnTo>
                  <a:pt x="7851" y="65489"/>
                </a:lnTo>
                <a:lnTo>
                  <a:pt x="6186" y="68424"/>
                </a:lnTo>
                <a:lnTo>
                  <a:pt x="4123" y="71333"/>
                </a:lnTo>
                <a:lnTo>
                  <a:pt x="2748" y="74225"/>
                </a:lnTo>
                <a:lnTo>
                  <a:pt x="1831" y="77106"/>
                </a:lnTo>
                <a:lnTo>
                  <a:pt x="1220" y="79979"/>
                </a:lnTo>
                <a:lnTo>
                  <a:pt x="812" y="82847"/>
                </a:lnTo>
                <a:lnTo>
                  <a:pt x="541" y="85711"/>
                </a:lnTo>
                <a:lnTo>
                  <a:pt x="105" y="92601"/>
                </a:lnTo>
                <a:lnTo>
                  <a:pt x="45" y="96083"/>
                </a:lnTo>
                <a:lnTo>
                  <a:pt x="0" y="109853"/>
                </a:lnTo>
                <a:lnTo>
                  <a:pt x="952" y="110383"/>
                </a:lnTo>
                <a:lnTo>
                  <a:pt x="4549" y="110971"/>
                </a:lnTo>
                <a:lnTo>
                  <a:pt x="9323" y="111233"/>
                </a:lnTo>
                <a:lnTo>
                  <a:pt x="15598" y="111401"/>
                </a:lnTo>
                <a:lnTo>
                  <a:pt x="54300" y="111442"/>
                </a:lnTo>
                <a:lnTo>
                  <a:pt x="58106" y="110490"/>
                </a:lnTo>
                <a:lnTo>
                  <a:pt x="62549" y="108902"/>
                </a:lnTo>
                <a:lnTo>
                  <a:pt x="67417" y="106891"/>
                </a:lnTo>
                <a:lnTo>
                  <a:pt x="72566" y="105551"/>
                </a:lnTo>
                <a:lnTo>
                  <a:pt x="77904" y="104657"/>
                </a:lnTo>
                <a:lnTo>
                  <a:pt x="83368" y="104061"/>
                </a:lnTo>
                <a:lnTo>
                  <a:pt x="88915" y="103664"/>
                </a:lnTo>
                <a:lnTo>
                  <a:pt x="94518" y="103399"/>
                </a:lnTo>
                <a:lnTo>
                  <a:pt x="100159" y="103223"/>
                </a:lnTo>
                <a:lnTo>
                  <a:pt x="105824" y="102152"/>
                </a:lnTo>
                <a:lnTo>
                  <a:pt x="111507" y="100487"/>
                </a:lnTo>
                <a:lnTo>
                  <a:pt x="117199" y="98424"/>
                </a:lnTo>
                <a:lnTo>
                  <a:pt x="122900" y="97048"/>
                </a:lnTo>
                <a:lnTo>
                  <a:pt x="128605" y="96131"/>
                </a:lnTo>
                <a:lnTo>
                  <a:pt x="134313" y="95519"/>
                </a:lnTo>
                <a:lnTo>
                  <a:pt x="139071" y="94160"/>
                </a:lnTo>
                <a:lnTo>
                  <a:pt x="143196" y="92300"/>
                </a:lnTo>
                <a:lnTo>
                  <a:pt x="146898" y="90109"/>
                </a:lnTo>
                <a:lnTo>
                  <a:pt x="151271" y="88647"/>
                </a:lnTo>
                <a:lnTo>
                  <a:pt x="156092" y="87673"/>
                </a:lnTo>
                <a:lnTo>
                  <a:pt x="161210" y="87023"/>
                </a:lnTo>
                <a:lnTo>
                  <a:pt x="166528" y="86591"/>
                </a:lnTo>
                <a:lnTo>
                  <a:pt x="171978" y="86302"/>
                </a:lnTo>
                <a:lnTo>
                  <a:pt x="186210" y="85896"/>
                </a:lnTo>
                <a:lnTo>
                  <a:pt x="208068" y="85740"/>
                </a:lnTo>
                <a:lnTo>
                  <a:pt x="231455" y="8572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MARTPenAnnotation696"/>
          <p:cNvSpPr/>
          <p:nvPr/>
        </p:nvSpPr>
        <p:spPr>
          <a:xfrm>
            <a:off x="4357800" y="3179880"/>
            <a:ext cx="42840" cy="342720"/>
          </a:xfrm>
          <a:custGeom>
            <a:avLst/>
            <a:gdLst>
              <a:gd name="textAreaLeft" fmla="*/ 0 w 42840"/>
              <a:gd name="textAreaRight" fmla="*/ 43200 w 428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42445" h="342901">
                <a:moveTo>
                  <a:pt x="25333" y="0"/>
                </a:moveTo>
                <a:lnTo>
                  <a:pt x="4000" y="0"/>
                </a:lnTo>
                <a:lnTo>
                  <a:pt x="2539" y="953"/>
                </a:lnTo>
                <a:lnTo>
                  <a:pt x="1564" y="2540"/>
                </a:lnTo>
                <a:lnTo>
                  <a:pt x="482" y="6844"/>
                </a:lnTo>
                <a:lnTo>
                  <a:pt x="0" y="11932"/>
                </a:lnTo>
                <a:lnTo>
                  <a:pt x="825" y="15575"/>
                </a:lnTo>
                <a:lnTo>
                  <a:pt x="2327" y="19908"/>
                </a:lnTo>
                <a:lnTo>
                  <a:pt x="4281" y="24702"/>
                </a:lnTo>
                <a:lnTo>
                  <a:pt x="5583" y="29803"/>
                </a:lnTo>
                <a:lnTo>
                  <a:pt x="6452" y="35109"/>
                </a:lnTo>
                <a:lnTo>
                  <a:pt x="7031" y="40551"/>
                </a:lnTo>
                <a:lnTo>
                  <a:pt x="8369" y="46084"/>
                </a:lnTo>
                <a:lnTo>
                  <a:pt x="10214" y="51678"/>
                </a:lnTo>
                <a:lnTo>
                  <a:pt x="12396" y="57312"/>
                </a:lnTo>
                <a:lnTo>
                  <a:pt x="17361" y="71192"/>
                </a:lnTo>
                <a:lnTo>
                  <a:pt x="20019" y="78894"/>
                </a:lnTo>
                <a:lnTo>
                  <a:pt x="21790" y="86886"/>
                </a:lnTo>
                <a:lnTo>
                  <a:pt x="22971" y="95072"/>
                </a:lnTo>
                <a:lnTo>
                  <a:pt x="23759" y="103386"/>
                </a:lnTo>
                <a:lnTo>
                  <a:pt x="25236" y="111786"/>
                </a:lnTo>
                <a:lnTo>
                  <a:pt x="27174" y="120244"/>
                </a:lnTo>
                <a:lnTo>
                  <a:pt x="29418" y="128740"/>
                </a:lnTo>
                <a:lnTo>
                  <a:pt x="30914" y="137262"/>
                </a:lnTo>
                <a:lnTo>
                  <a:pt x="31911" y="145801"/>
                </a:lnTo>
                <a:lnTo>
                  <a:pt x="32576" y="154351"/>
                </a:lnTo>
                <a:lnTo>
                  <a:pt x="33972" y="161955"/>
                </a:lnTo>
                <a:lnTo>
                  <a:pt x="35855" y="168930"/>
                </a:lnTo>
                <a:lnTo>
                  <a:pt x="38063" y="175485"/>
                </a:lnTo>
                <a:lnTo>
                  <a:pt x="39535" y="182713"/>
                </a:lnTo>
                <a:lnTo>
                  <a:pt x="40516" y="190388"/>
                </a:lnTo>
                <a:lnTo>
                  <a:pt x="41170" y="198363"/>
                </a:lnTo>
                <a:lnTo>
                  <a:pt x="41606" y="206537"/>
                </a:lnTo>
                <a:lnTo>
                  <a:pt x="42091" y="223239"/>
                </a:lnTo>
                <a:lnTo>
                  <a:pt x="42444" y="269800"/>
                </a:lnTo>
                <a:lnTo>
                  <a:pt x="41503" y="276069"/>
                </a:lnTo>
                <a:lnTo>
                  <a:pt x="39924" y="282154"/>
                </a:lnTo>
                <a:lnTo>
                  <a:pt x="37918" y="288115"/>
                </a:lnTo>
                <a:lnTo>
                  <a:pt x="36580" y="293994"/>
                </a:lnTo>
                <a:lnTo>
                  <a:pt x="35689" y="299819"/>
                </a:lnTo>
                <a:lnTo>
                  <a:pt x="35095" y="305607"/>
                </a:lnTo>
                <a:lnTo>
                  <a:pt x="33746" y="310418"/>
                </a:lnTo>
                <a:lnTo>
                  <a:pt x="31894" y="314578"/>
                </a:lnTo>
                <a:lnTo>
                  <a:pt x="29708" y="318304"/>
                </a:lnTo>
                <a:lnTo>
                  <a:pt x="28250" y="321740"/>
                </a:lnTo>
                <a:lnTo>
                  <a:pt x="27278" y="324983"/>
                </a:lnTo>
                <a:lnTo>
                  <a:pt x="25718" y="332482"/>
                </a:lnTo>
                <a:lnTo>
                  <a:pt x="25333" y="3429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MARTPenAnnotation697"/>
          <p:cNvSpPr/>
          <p:nvPr/>
        </p:nvSpPr>
        <p:spPr>
          <a:xfrm>
            <a:off x="825480" y="3772080"/>
            <a:ext cx="214200" cy="368280"/>
          </a:xfrm>
          <a:custGeom>
            <a:avLst/>
            <a:gdLst>
              <a:gd name="textAreaLeft" fmla="*/ 0 w 214200"/>
              <a:gd name="textAreaRight" fmla="*/ 214560 w 21420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4104" h="368618">
                <a:moveTo>
                  <a:pt x="16936" y="0"/>
                </a:moveTo>
                <a:lnTo>
                  <a:pt x="0" y="0"/>
                </a:lnTo>
                <a:lnTo>
                  <a:pt x="8955" y="4550"/>
                </a:lnTo>
                <a:lnTo>
                  <a:pt x="11615" y="6844"/>
                </a:lnTo>
                <a:lnTo>
                  <a:pt x="13389" y="9325"/>
                </a:lnTo>
                <a:lnTo>
                  <a:pt x="15359" y="14621"/>
                </a:lnTo>
                <a:lnTo>
                  <a:pt x="16235" y="20151"/>
                </a:lnTo>
                <a:lnTo>
                  <a:pt x="17421" y="22959"/>
                </a:lnTo>
                <a:lnTo>
                  <a:pt x="22689" y="31462"/>
                </a:lnTo>
                <a:lnTo>
                  <a:pt x="24255" y="37160"/>
                </a:lnTo>
                <a:lnTo>
                  <a:pt x="24951" y="45408"/>
                </a:lnTo>
                <a:lnTo>
                  <a:pt x="25137" y="50274"/>
                </a:lnTo>
                <a:lnTo>
                  <a:pt x="26213" y="54471"/>
                </a:lnTo>
                <a:lnTo>
                  <a:pt x="32279" y="65881"/>
                </a:lnTo>
                <a:lnTo>
                  <a:pt x="37408" y="75635"/>
                </a:lnTo>
                <a:lnTo>
                  <a:pt x="40322" y="86321"/>
                </a:lnTo>
                <a:lnTo>
                  <a:pt x="41099" y="91837"/>
                </a:lnTo>
                <a:lnTo>
                  <a:pt x="43522" y="97420"/>
                </a:lnTo>
                <a:lnTo>
                  <a:pt x="47043" y="103046"/>
                </a:lnTo>
                <a:lnTo>
                  <a:pt x="51295" y="108702"/>
                </a:lnTo>
                <a:lnTo>
                  <a:pt x="55082" y="114378"/>
                </a:lnTo>
                <a:lnTo>
                  <a:pt x="58559" y="120067"/>
                </a:lnTo>
                <a:lnTo>
                  <a:pt x="64963" y="131468"/>
                </a:lnTo>
                <a:lnTo>
                  <a:pt x="70984" y="142885"/>
                </a:lnTo>
                <a:lnTo>
                  <a:pt x="79728" y="160023"/>
                </a:lnTo>
                <a:lnTo>
                  <a:pt x="82610" y="166689"/>
                </a:lnTo>
                <a:lnTo>
                  <a:pt x="85484" y="173991"/>
                </a:lnTo>
                <a:lnTo>
                  <a:pt x="88352" y="181716"/>
                </a:lnTo>
                <a:lnTo>
                  <a:pt x="91217" y="188771"/>
                </a:lnTo>
                <a:lnTo>
                  <a:pt x="94079" y="195380"/>
                </a:lnTo>
                <a:lnTo>
                  <a:pt x="99799" y="207803"/>
                </a:lnTo>
                <a:lnTo>
                  <a:pt x="105517" y="219674"/>
                </a:lnTo>
                <a:lnTo>
                  <a:pt x="108375" y="226459"/>
                </a:lnTo>
                <a:lnTo>
                  <a:pt x="111233" y="233840"/>
                </a:lnTo>
                <a:lnTo>
                  <a:pt x="114090" y="241618"/>
                </a:lnTo>
                <a:lnTo>
                  <a:pt x="116948" y="248709"/>
                </a:lnTo>
                <a:lnTo>
                  <a:pt x="119806" y="255341"/>
                </a:lnTo>
                <a:lnTo>
                  <a:pt x="125521" y="267789"/>
                </a:lnTo>
                <a:lnTo>
                  <a:pt x="136951" y="291304"/>
                </a:lnTo>
                <a:lnTo>
                  <a:pt x="142666" y="301871"/>
                </a:lnTo>
                <a:lnTo>
                  <a:pt x="148381" y="309742"/>
                </a:lnTo>
                <a:lnTo>
                  <a:pt x="154096" y="318955"/>
                </a:lnTo>
                <a:lnTo>
                  <a:pt x="159811" y="328448"/>
                </a:lnTo>
                <a:lnTo>
                  <a:pt x="165526" y="335842"/>
                </a:lnTo>
                <a:lnTo>
                  <a:pt x="171241" y="342303"/>
                </a:lnTo>
                <a:lnTo>
                  <a:pt x="176956" y="348350"/>
                </a:lnTo>
                <a:lnTo>
                  <a:pt x="182671" y="354212"/>
                </a:lnTo>
                <a:lnTo>
                  <a:pt x="185528" y="356156"/>
                </a:lnTo>
                <a:lnTo>
                  <a:pt x="191243" y="358316"/>
                </a:lnTo>
                <a:lnTo>
                  <a:pt x="193148" y="359845"/>
                </a:lnTo>
                <a:lnTo>
                  <a:pt x="194418" y="361817"/>
                </a:lnTo>
                <a:lnTo>
                  <a:pt x="195265" y="364083"/>
                </a:lnTo>
                <a:lnTo>
                  <a:pt x="196782" y="365595"/>
                </a:lnTo>
                <a:lnTo>
                  <a:pt x="198746" y="366602"/>
                </a:lnTo>
                <a:lnTo>
                  <a:pt x="204191" y="368219"/>
                </a:lnTo>
                <a:lnTo>
                  <a:pt x="207475" y="368440"/>
                </a:lnTo>
                <a:lnTo>
                  <a:pt x="214103" y="3686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MARTPenAnnotation698"/>
          <p:cNvSpPr/>
          <p:nvPr/>
        </p:nvSpPr>
        <p:spPr>
          <a:xfrm>
            <a:off x="808200" y="3832200"/>
            <a:ext cx="206280" cy="333360"/>
          </a:xfrm>
          <a:custGeom>
            <a:avLst/>
            <a:gdLst>
              <a:gd name="textAreaLeft" fmla="*/ 0 w 206280"/>
              <a:gd name="textAreaRight" fmla="*/ 206640 w 2062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05624" h="333016">
                <a:moveTo>
                  <a:pt x="205623" y="0"/>
                </a:moveTo>
                <a:lnTo>
                  <a:pt x="189774" y="0"/>
                </a:lnTo>
                <a:lnTo>
                  <a:pt x="189342" y="953"/>
                </a:lnTo>
                <a:lnTo>
                  <a:pt x="188862" y="4551"/>
                </a:lnTo>
                <a:lnTo>
                  <a:pt x="187781" y="6844"/>
                </a:lnTo>
                <a:lnTo>
                  <a:pt x="181710" y="15575"/>
                </a:lnTo>
                <a:lnTo>
                  <a:pt x="176580" y="24702"/>
                </a:lnTo>
                <a:lnTo>
                  <a:pt x="168337" y="40551"/>
                </a:lnTo>
                <a:lnTo>
                  <a:pt x="164573" y="46084"/>
                </a:lnTo>
                <a:lnTo>
                  <a:pt x="160159" y="51678"/>
                </a:lnTo>
                <a:lnTo>
                  <a:pt x="155311" y="57312"/>
                </a:lnTo>
                <a:lnTo>
                  <a:pt x="150174" y="63926"/>
                </a:lnTo>
                <a:lnTo>
                  <a:pt x="144845" y="71192"/>
                </a:lnTo>
                <a:lnTo>
                  <a:pt x="139387" y="78894"/>
                </a:lnTo>
                <a:lnTo>
                  <a:pt x="134795" y="85934"/>
                </a:lnTo>
                <a:lnTo>
                  <a:pt x="130782" y="92531"/>
                </a:lnTo>
                <a:lnTo>
                  <a:pt x="127154" y="98835"/>
                </a:lnTo>
                <a:lnTo>
                  <a:pt x="122830" y="105895"/>
                </a:lnTo>
                <a:lnTo>
                  <a:pt x="112946" y="121359"/>
                </a:lnTo>
                <a:lnTo>
                  <a:pt x="107644" y="128531"/>
                </a:lnTo>
                <a:lnTo>
                  <a:pt x="102203" y="135218"/>
                </a:lnTo>
                <a:lnTo>
                  <a:pt x="96672" y="141580"/>
                </a:lnTo>
                <a:lnTo>
                  <a:pt x="92031" y="147727"/>
                </a:lnTo>
                <a:lnTo>
                  <a:pt x="87985" y="153729"/>
                </a:lnTo>
                <a:lnTo>
                  <a:pt x="84335" y="159636"/>
                </a:lnTo>
                <a:lnTo>
                  <a:pt x="80949" y="165479"/>
                </a:lnTo>
                <a:lnTo>
                  <a:pt x="74648" y="177051"/>
                </a:lnTo>
                <a:lnTo>
                  <a:pt x="70681" y="183757"/>
                </a:lnTo>
                <a:lnTo>
                  <a:pt x="61194" y="198827"/>
                </a:lnTo>
                <a:lnTo>
                  <a:pt x="55997" y="205894"/>
                </a:lnTo>
                <a:lnTo>
                  <a:pt x="50627" y="212510"/>
                </a:lnTo>
                <a:lnTo>
                  <a:pt x="45142" y="218826"/>
                </a:lnTo>
                <a:lnTo>
                  <a:pt x="40533" y="224942"/>
                </a:lnTo>
                <a:lnTo>
                  <a:pt x="36508" y="230924"/>
                </a:lnTo>
                <a:lnTo>
                  <a:pt x="32872" y="236817"/>
                </a:lnTo>
                <a:lnTo>
                  <a:pt x="30448" y="242650"/>
                </a:lnTo>
                <a:lnTo>
                  <a:pt x="28832" y="248445"/>
                </a:lnTo>
                <a:lnTo>
                  <a:pt x="27755" y="254212"/>
                </a:lnTo>
                <a:lnTo>
                  <a:pt x="26084" y="259962"/>
                </a:lnTo>
                <a:lnTo>
                  <a:pt x="24018" y="265701"/>
                </a:lnTo>
                <a:lnTo>
                  <a:pt x="21688" y="271431"/>
                </a:lnTo>
                <a:lnTo>
                  <a:pt x="16559" y="280339"/>
                </a:lnTo>
                <a:lnTo>
                  <a:pt x="13858" y="284047"/>
                </a:lnTo>
                <a:lnTo>
                  <a:pt x="10856" y="293248"/>
                </a:lnTo>
                <a:lnTo>
                  <a:pt x="10056" y="298369"/>
                </a:lnTo>
                <a:lnTo>
                  <a:pt x="6627" y="306598"/>
                </a:lnTo>
                <a:lnTo>
                  <a:pt x="1215" y="315092"/>
                </a:lnTo>
                <a:lnTo>
                  <a:pt x="475" y="318793"/>
                </a:lnTo>
                <a:lnTo>
                  <a:pt x="0" y="324380"/>
                </a:lnTo>
                <a:lnTo>
                  <a:pt x="2475" y="327684"/>
                </a:lnTo>
                <a:lnTo>
                  <a:pt x="7274" y="333015"/>
                </a:lnTo>
                <a:lnTo>
                  <a:pt x="7668" y="332500"/>
                </a:lnTo>
                <a:lnTo>
                  <a:pt x="8455" y="3257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MARTPenAnnotation699"/>
          <p:cNvSpPr/>
          <p:nvPr/>
        </p:nvSpPr>
        <p:spPr>
          <a:xfrm>
            <a:off x="1100160" y="3703680"/>
            <a:ext cx="385920" cy="179280"/>
          </a:xfrm>
          <a:custGeom>
            <a:avLst/>
            <a:gdLst>
              <a:gd name="textAreaLeft" fmla="*/ 0 w 385920"/>
              <a:gd name="textAreaRight" fmla="*/ 386280 w 3859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385763" h="179908">
                <a:moveTo>
                  <a:pt x="0" y="102755"/>
                </a:moveTo>
                <a:lnTo>
                  <a:pt x="0" y="98204"/>
                </a:lnTo>
                <a:lnTo>
                  <a:pt x="952" y="94958"/>
                </a:lnTo>
                <a:lnTo>
                  <a:pt x="2540" y="90889"/>
                </a:lnTo>
                <a:lnTo>
                  <a:pt x="4551" y="86272"/>
                </a:lnTo>
                <a:lnTo>
                  <a:pt x="6844" y="83194"/>
                </a:lnTo>
                <a:lnTo>
                  <a:pt x="9325" y="81142"/>
                </a:lnTo>
                <a:lnTo>
                  <a:pt x="14622" y="77909"/>
                </a:lnTo>
                <a:lnTo>
                  <a:pt x="20151" y="73297"/>
                </a:lnTo>
                <a:lnTo>
                  <a:pt x="22959" y="69781"/>
                </a:lnTo>
                <a:lnTo>
                  <a:pt x="25784" y="65533"/>
                </a:lnTo>
                <a:lnTo>
                  <a:pt x="28619" y="60795"/>
                </a:lnTo>
                <a:lnTo>
                  <a:pt x="32414" y="56684"/>
                </a:lnTo>
                <a:lnTo>
                  <a:pt x="36849" y="52991"/>
                </a:lnTo>
                <a:lnTo>
                  <a:pt x="41711" y="49576"/>
                </a:lnTo>
                <a:lnTo>
                  <a:pt x="46858" y="46347"/>
                </a:lnTo>
                <a:lnTo>
                  <a:pt x="52193" y="43242"/>
                </a:lnTo>
                <a:lnTo>
                  <a:pt x="57655" y="40220"/>
                </a:lnTo>
                <a:lnTo>
                  <a:pt x="62249" y="36300"/>
                </a:lnTo>
                <a:lnTo>
                  <a:pt x="66265" y="31781"/>
                </a:lnTo>
                <a:lnTo>
                  <a:pt x="69894" y="26864"/>
                </a:lnTo>
                <a:lnTo>
                  <a:pt x="75171" y="23586"/>
                </a:lnTo>
                <a:lnTo>
                  <a:pt x="81546" y="21401"/>
                </a:lnTo>
                <a:lnTo>
                  <a:pt x="88654" y="19943"/>
                </a:lnTo>
                <a:lnTo>
                  <a:pt x="95298" y="18020"/>
                </a:lnTo>
                <a:lnTo>
                  <a:pt x="101632" y="15785"/>
                </a:lnTo>
                <a:lnTo>
                  <a:pt x="112797" y="11714"/>
                </a:lnTo>
                <a:lnTo>
                  <a:pt x="120935" y="9905"/>
                </a:lnTo>
                <a:lnTo>
                  <a:pt x="130266" y="6561"/>
                </a:lnTo>
                <a:lnTo>
                  <a:pt x="140764" y="2852"/>
                </a:lnTo>
                <a:lnTo>
                  <a:pt x="151779" y="1203"/>
                </a:lnTo>
                <a:lnTo>
                  <a:pt x="163025" y="471"/>
                </a:lnTo>
                <a:lnTo>
                  <a:pt x="174373" y="145"/>
                </a:lnTo>
                <a:lnTo>
                  <a:pt x="185767" y="0"/>
                </a:lnTo>
                <a:lnTo>
                  <a:pt x="190519" y="914"/>
                </a:lnTo>
                <a:lnTo>
                  <a:pt x="201759" y="5799"/>
                </a:lnTo>
                <a:lnTo>
                  <a:pt x="208098" y="7276"/>
                </a:lnTo>
                <a:lnTo>
                  <a:pt x="210170" y="8622"/>
                </a:lnTo>
                <a:lnTo>
                  <a:pt x="211551" y="10472"/>
                </a:lnTo>
                <a:lnTo>
                  <a:pt x="212471" y="12658"/>
                </a:lnTo>
                <a:lnTo>
                  <a:pt x="216034" y="17627"/>
                </a:lnTo>
                <a:lnTo>
                  <a:pt x="218318" y="20285"/>
                </a:lnTo>
                <a:lnTo>
                  <a:pt x="219840" y="23963"/>
                </a:lnTo>
                <a:lnTo>
                  <a:pt x="220855" y="28319"/>
                </a:lnTo>
                <a:lnTo>
                  <a:pt x="221532" y="33128"/>
                </a:lnTo>
                <a:lnTo>
                  <a:pt x="221030" y="37287"/>
                </a:lnTo>
                <a:lnTo>
                  <a:pt x="219743" y="41012"/>
                </a:lnTo>
                <a:lnTo>
                  <a:pt x="217933" y="44448"/>
                </a:lnTo>
                <a:lnTo>
                  <a:pt x="216726" y="48644"/>
                </a:lnTo>
                <a:lnTo>
                  <a:pt x="215922" y="53346"/>
                </a:lnTo>
                <a:lnTo>
                  <a:pt x="215385" y="58385"/>
                </a:lnTo>
                <a:lnTo>
                  <a:pt x="213123" y="63650"/>
                </a:lnTo>
                <a:lnTo>
                  <a:pt x="209709" y="69065"/>
                </a:lnTo>
                <a:lnTo>
                  <a:pt x="205529" y="74580"/>
                </a:lnTo>
                <a:lnTo>
                  <a:pt x="201789" y="80161"/>
                </a:lnTo>
                <a:lnTo>
                  <a:pt x="198344" y="85787"/>
                </a:lnTo>
                <a:lnTo>
                  <a:pt x="195094" y="91443"/>
                </a:lnTo>
                <a:lnTo>
                  <a:pt x="191023" y="96166"/>
                </a:lnTo>
                <a:lnTo>
                  <a:pt x="186403" y="100268"/>
                </a:lnTo>
                <a:lnTo>
                  <a:pt x="181419" y="103954"/>
                </a:lnTo>
                <a:lnTo>
                  <a:pt x="176191" y="108317"/>
                </a:lnTo>
                <a:lnTo>
                  <a:pt x="170801" y="113130"/>
                </a:lnTo>
                <a:lnTo>
                  <a:pt x="159731" y="123558"/>
                </a:lnTo>
                <a:lnTo>
                  <a:pt x="135958" y="146887"/>
                </a:lnTo>
                <a:lnTo>
                  <a:pt x="131596" y="150273"/>
                </a:lnTo>
                <a:lnTo>
                  <a:pt x="126783" y="153484"/>
                </a:lnTo>
                <a:lnTo>
                  <a:pt x="121670" y="156577"/>
                </a:lnTo>
                <a:lnTo>
                  <a:pt x="117308" y="159591"/>
                </a:lnTo>
                <a:lnTo>
                  <a:pt x="113448" y="162553"/>
                </a:lnTo>
                <a:lnTo>
                  <a:pt x="109922" y="165480"/>
                </a:lnTo>
                <a:lnTo>
                  <a:pt x="103464" y="168732"/>
                </a:lnTo>
                <a:lnTo>
                  <a:pt x="94473" y="170564"/>
                </a:lnTo>
                <a:lnTo>
                  <a:pt x="91557" y="170821"/>
                </a:lnTo>
                <a:lnTo>
                  <a:pt x="89613" y="171944"/>
                </a:lnTo>
                <a:lnTo>
                  <a:pt x="88317" y="173646"/>
                </a:lnTo>
                <a:lnTo>
                  <a:pt x="87453" y="175733"/>
                </a:lnTo>
                <a:lnTo>
                  <a:pt x="85925" y="177125"/>
                </a:lnTo>
                <a:lnTo>
                  <a:pt x="83953" y="178052"/>
                </a:lnTo>
                <a:lnTo>
                  <a:pt x="78496" y="179541"/>
                </a:lnTo>
                <a:lnTo>
                  <a:pt x="79000" y="179663"/>
                </a:lnTo>
                <a:lnTo>
                  <a:pt x="89958" y="179898"/>
                </a:lnTo>
                <a:lnTo>
                  <a:pt x="121717" y="179907"/>
                </a:lnTo>
                <a:lnTo>
                  <a:pt x="130614" y="177367"/>
                </a:lnTo>
                <a:lnTo>
                  <a:pt x="140918" y="174015"/>
                </a:lnTo>
                <a:lnTo>
                  <a:pt x="151848" y="172526"/>
                </a:lnTo>
                <a:lnTo>
                  <a:pt x="163055" y="171864"/>
                </a:lnTo>
                <a:lnTo>
                  <a:pt x="175339" y="171570"/>
                </a:lnTo>
                <a:lnTo>
                  <a:pt x="240182" y="171344"/>
                </a:lnTo>
                <a:lnTo>
                  <a:pt x="248704" y="170389"/>
                </a:lnTo>
                <a:lnTo>
                  <a:pt x="257242" y="168799"/>
                </a:lnTo>
                <a:lnTo>
                  <a:pt x="265792" y="166786"/>
                </a:lnTo>
                <a:lnTo>
                  <a:pt x="274350" y="165445"/>
                </a:lnTo>
                <a:lnTo>
                  <a:pt x="282913" y="164551"/>
                </a:lnTo>
                <a:lnTo>
                  <a:pt x="291478" y="163954"/>
                </a:lnTo>
                <a:lnTo>
                  <a:pt x="300046" y="163557"/>
                </a:lnTo>
                <a:lnTo>
                  <a:pt x="317186" y="163116"/>
                </a:lnTo>
                <a:lnTo>
                  <a:pt x="385762" y="1627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MARTPenAnnotation700"/>
          <p:cNvSpPr/>
          <p:nvPr/>
        </p:nvSpPr>
        <p:spPr>
          <a:xfrm>
            <a:off x="1579680" y="3925800"/>
            <a:ext cx="317520" cy="25560"/>
          </a:xfrm>
          <a:custGeom>
            <a:avLst/>
            <a:gdLst>
              <a:gd name="textAreaLeft" fmla="*/ 0 w 317520"/>
              <a:gd name="textAreaRight" fmla="*/ 317880 w 3175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17183" h="25715">
                <a:moveTo>
                  <a:pt x="0" y="25714"/>
                </a:moveTo>
                <a:lnTo>
                  <a:pt x="33170" y="25714"/>
                </a:lnTo>
                <a:lnTo>
                  <a:pt x="37353" y="24762"/>
                </a:lnTo>
                <a:lnTo>
                  <a:pt x="41095" y="23174"/>
                </a:lnTo>
                <a:lnTo>
                  <a:pt x="44541" y="21163"/>
                </a:lnTo>
                <a:lnTo>
                  <a:pt x="48744" y="19823"/>
                </a:lnTo>
                <a:lnTo>
                  <a:pt x="53451" y="18929"/>
                </a:lnTo>
                <a:lnTo>
                  <a:pt x="58494" y="18333"/>
                </a:lnTo>
                <a:lnTo>
                  <a:pt x="63761" y="16983"/>
                </a:lnTo>
                <a:lnTo>
                  <a:pt x="69177" y="15131"/>
                </a:lnTo>
                <a:lnTo>
                  <a:pt x="74693" y="12944"/>
                </a:lnTo>
                <a:lnTo>
                  <a:pt x="80276" y="11486"/>
                </a:lnTo>
                <a:lnTo>
                  <a:pt x="85902" y="10513"/>
                </a:lnTo>
                <a:lnTo>
                  <a:pt x="91558" y="9865"/>
                </a:lnTo>
                <a:lnTo>
                  <a:pt x="97233" y="9433"/>
                </a:lnTo>
                <a:lnTo>
                  <a:pt x="102922" y="9145"/>
                </a:lnTo>
                <a:lnTo>
                  <a:pt x="108620" y="8953"/>
                </a:lnTo>
                <a:lnTo>
                  <a:pt x="115276" y="7873"/>
                </a:lnTo>
                <a:lnTo>
                  <a:pt x="122571" y="6200"/>
                </a:lnTo>
                <a:lnTo>
                  <a:pt x="130291" y="4132"/>
                </a:lnTo>
                <a:lnTo>
                  <a:pt x="137343" y="2754"/>
                </a:lnTo>
                <a:lnTo>
                  <a:pt x="143950" y="1835"/>
                </a:lnTo>
                <a:lnTo>
                  <a:pt x="150259" y="1222"/>
                </a:lnTo>
                <a:lnTo>
                  <a:pt x="157323" y="813"/>
                </a:lnTo>
                <a:lnTo>
                  <a:pt x="172791" y="360"/>
                </a:lnTo>
                <a:lnTo>
                  <a:pt x="205164" y="44"/>
                </a:lnTo>
                <a:lnTo>
                  <a:pt x="245711" y="0"/>
                </a:lnTo>
                <a:lnTo>
                  <a:pt x="251438" y="951"/>
                </a:lnTo>
                <a:lnTo>
                  <a:pt x="257160" y="2538"/>
                </a:lnTo>
                <a:lnTo>
                  <a:pt x="262880" y="4548"/>
                </a:lnTo>
                <a:lnTo>
                  <a:pt x="267646" y="5889"/>
                </a:lnTo>
                <a:lnTo>
                  <a:pt x="271776" y="6782"/>
                </a:lnTo>
                <a:lnTo>
                  <a:pt x="275481" y="7378"/>
                </a:lnTo>
                <a:lnTo>
                  <a:pt x="282138" y="8040"/>
                </a:lnTo>
                <a:lnTo>
                  <a:pt x="285248" y="8216"/>
                </a:lnTo>
                <a:lnTo>
                  <a:pt x="289225" y="9287"/>
                </a:lnTo>
                <a:lnTo>
                  <a:pt x="293782" y="10952"/>
                </a:lnTo>
                <a:lnTo>
                  <a:pt x="298724" y="13015"/>
                </a:lnTo>
                <a:lnTo>
                  <a:pt x="302972" y="14391"/>
                </a:lnTo>
                <a:lnTo>
                  <a:pt x="306756" y="15308"/>
                </a:lnTo>
                <a:lnTo>
                  <a:pt x="317182" y="171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MARTPenAnnotation701"/>
          <p:cNvSpPr/>
          <p:nvPr/>
        </p:nvSpPr>
        <p:spPr>
          <a:xfrm>
            <a:off x="1735200" y="3807000"/>
            <a:ext cx="58680" cy="315720"/>
          </a:xfrm>
          <a:custGeom>
            <a:avLst/>
            <a:gdLst>
              <a:gd name="textAreaLeft" fmla="*/ 0 w 58680"/>
              <a:gd name="textAreaRight" fmla="*/ 59040 w 5868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60005" h="316831">
                <a:moveTo>
                  <a:pt x="8570" y="8220"/>
                </a:moveTo>
                <a:lnTo>
                  <a:pt x="350" y="0"/>
                </a:lnTo>
                <a:lnTo>
                  <a:pt x="18" y="8399"/>
                </a:lnTo>
                <a:lnTo>
                  <a:pt x="0" y="20050"/>
                </a:lnTo>
                <a:lnTo>
                  <a:pt x="951" y="23726"/>
                </a:lnTo>
                <a:lnTo>
                  <a:pt x="2538" y="28083"/>
                </a:lnTo>
                <a:lnTo>
                  <a:pt x="4549" y="32892"/>
                </a:lnTo>
                <a:lnTo>
                  <a:pt x="5889" y="37050"/>
                </a:lnTo>
                <a:lnTo>
                  <a:pt x="7378" y="44211"/>
                </a:lnTo>
                <a:lnTo>
                  <a:pt x="8040" y="53108"/>
                </a:lnTo>
                <a:lnTo>
                  <a:pt x="8216" y="58148"/>
                </a:lnTo>
                <a:lnTo>
                  <a:pt x="8500" y="85816"/>
                </a:lnTo>
                <a:lnTo>
                  <a:pt x="8538" y="98587"/>
                </a:lnTo>
                <a:lnTo>
                  <a:pt x="9501" y="105612"/>
                </a:lnTo>
                <a:lnTo>
                  <a:pt x="11096" y="113153"/>
                </a:lnTo>
                <a:lnTo>
                  <a:pt x="13111" y="121038"/>
                </a:lnTo>
                <a:lnTo>
                  <a:pt x="14455" y="128199"/>
                </a:lnTo>
                <a:lnTo>
                  <a:pt x="15350" y="134879"/>
                </a:lnTo>
                <a:lnTo>
                  <a:pt x="15948" y="141237"/>
                </a:lnTo>
                <a:lnTo>
                  <a:pt x="17298" y="148333"/>
                </a:lnTo>
                <a:lnTo>
                  <a:pt x="19151" y="155921"/>
                </a:lnTo>
                <a:lnTo>
                  <a:pt x="21339" y="163838"/>
                </a:lnTo>
                <a:lnTo>
                  <a:pt x="22798" y="171020"/>
                </a:lnTo>
                <a:lnTo>
                  <a:pt x="23770" y="177714"/>
                </a:lnTo>
                <a:lnTo>
                  <a:pt x="24418" y="184081"/>
                </a:lnTo>
                <a:lnTo>
                  <a:pt x="24850" y="191183"/>
                </a:lnTo>
                <a:lnTo>
                  <a:pt x="25330" y="206695"/>
                </a:lnTo>
                <a:lnTo>
                  <a:pt x="25601" y="226942"/>
                </a:lnTo>
                <a:lnTo>
                  <a:pt x="26591" y="233092"/>
                </a:lnTo>
                <a:lnTo>
                  <a:pt x="28204" y="239097"/>
                </a:lnTo>
                <a:lnTo>
                  <a:pt x="30231" y="245006"/>
                </a:lnTo>
                <a:lnTo>
                  <a:pt x="31583" y="249897"/>
                </a:lnTo>
                <a:lnTo>
                  <a:pt x="33085" y="257872"/>
                </a:lnTo>
                <a:lnTo>
                  <a:pt x="33753" y="267132"/>
                </a:lnTo>
                <a:lnTo>
                  <a:pt x="33931" y="272268"/>
                </a:lnTo>
                <a:lnTo>
                  <a:pt x="35002" y="276644"/>
                </a:lnTo>
                <a:lnTo>
                  <a:pt x="36669" y="280515"/>
                </a:lnTo>
                <a:lnTo>
                  <a:pt x="38732" y="284047"/>
                </a:lnTo>
                <a:lnTo>
                  <a:pt x="40108" y="287355"/>
                </a:lnTo>
                <a:lnTo>
                  <a:pt x="41637" y="293570"/>
                </a:lnTo>
                <a:lnTo>
                  <a:pt x="42497" y="302424"/>
                </a:lnTo>
                <a:lnTo>
                  <a:pt x="43570" y="304369"/>
                </a:lnTo>
                <a:lnTo>
                  <a:pt x="45239" y="305665"/>
                </a:lnTo>
                <a:lnTo>
                  <a:pt x="47303" y="306529"/>
                </a:lnTo>
                <a:lnTo>
                  <a:pt x="49632" y="308058"/>
                </a:lnTo>
                <a:lnTo>
                  <a:pt x="52137" y="310029"/>
                </a:lnTo>
                <a:lnTo>
                  <a:pt x="60004" y="3168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MARTPenAnnotation702"/>
          <p:cNvSpPr/>
          <p:nvPr/>
        </p:nvSpPr>
        <p:spPr>
          <a:xfrm>
            <a:off x="2052720" y="3728880"/>
            <a:ext cx="247680" cy="154080"/>
          </a:xfrm>
          <a:custGeom>
            <a:avLst/>
            <a:gdLst>
              <a:gd name="textAreaLeft" fmla="*/ 0 w 247680"/>
              <a:gd name="textAreaRight" fmla="*/ 248040 w 247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247377" h="153919">
                <a:moveTo>
                  <a:pt x="24491" y="0"/>
                </a:moveTo>
                <a:lnTo>
                  <a:pt x="11774" y="0"/>
                </a:lnTo>
                <a:lnTo>
                  <a:pt x="15185" y="0"/>
                </a:lnTo>
                <a:lnTo>
                  <a:pt x="20252" y="4551"/>
                </a:lnTo>
                <a:lnTo>
                  <a:pt x="24606" y="8731"/>
                </a:lnTo>
                <a:lnTo>
                  <a:pt x="28670" y="12771"/>
                </a:lnTo>
                <a:lnTo>
                  <a:pt x="30134" y="16134"/>
                </a:lnTo>
                <a:lnTo>
                  <a:pt x="31111" y="20281"/>
                </a:lnTo>
                <a:lnTo>
                  <a:pt x="31761" y="24950"/>
                </a:lnTo>
                <a:lnTo>
                  <a:pt x="32195" y="29016"/>
                </a:lnTo>
                <a:lnTo>
                  <a:pt x="32485" y="32679"/>
                </a:lnTo>
                <a:lnTo>
                  <a:pt x="32678" y="36074"/>
                </a:lnTo>
                <a:lnTo>
                  <a:pt x="31854" y="40242"/>
                </a:lnTo>
                <a:lnTo>
                  <a:pt x="30352" y="44926"/>
                </a:lnTo>
                <a:lnTo>
                  <a:pt x="28398" y="49953"/>
                </a:lnTo>
                <a:lnTo>
                  <a:pt x="26143" y="55209"/>
                </a:lnTo>
                <a:lnTo>
                  <a:pt x="21098" y="66130"/>
                </a:lnTo>
                <a:lnTo>
                  <a:pt x="19372" y="70757"/>
                </a:lnTo>
                <a:lnTo>
                  <a:pt x="18220" y="74793"/>
                </a:lnTo>
                <a:lnTo>
                  <a:pt x="17453" y="78437"/>
                </a:lnTo>
                <a:lnTo>
                  <a:pt x="15989" y="82772"/>
                </a:lnTo>
                <a:lnTo>
                  <a:pt x="14060" y="87566"/>
                </a:lnTo>
                <a:lnTo>
                  <a:pt x="11822" y="92668"/>
                </a:lnTo>
                <a:lnTo>
                  <a:pt x="10330" y="97021"/>
                </a:lnTo>
                <a:lnTo>
                  <a:pt x="9335" y="100876"/>
                </a:lnTo>
                <a:lnTo>
                  <a:pt x="8672" y="104398"/>
                </a:lnTo>
                <a:lnTo>
                  <a:pt x="8230" y="107698"/>
                </a:lnTo>
                <a:lnTo>
                  <a:pt x="7935" y="110852"/>
                </a:lnTo>
                <a:lnTo>
                  <a:pt x="7739" y="113906"/>
                </a:lnTo>
                <a:lnTo>
                  <a:pt x="6656" y="116895"/>
                </a:lnTo>
                <a:lnTo>
                  <a:pt x="4981" y="119840"/>
                </a:lnTo>
                <a:lnTo>
                  <a:pt x="0" y="126860"/>
                </a:lnTo>
                <a:lnTo>
                  <a:pt x="544" y="128388"/>
                </a:lnTo>
                <a:lnTo>
                  <a:pt x="3688" y="132626"/>
                </a:lnTo>
                <a:lnTo>
                  <a:pt x="6262" y="135817"/>
                </a:lnTo>
                <a:lnTo>
                  <a:pt x="6864" y="139103"/>
                </a:lnTo>
                <a:lnTo>
                  <a:pt x="7251" y="144423"/>
                </a:lnTo>
                <a:lnTo>
                  <a:pt x="9844" y="147691"/>
                </a:lnTo>
                <a:lnTo>
                  <a:pt x="11869" y="149896"/>
                </a:lnTo>
                <a:lnTo>
                  <a:pt x="14171" y="151365"/>
                </a:lnTo>
                <a:lnTo>
                  <a:pt x="19269" y="152998"/>
                </a:lnTo>
                <a:lnTo>
                  <a:pt x="24710" y="153725"/>
                </a:lnTo>
                <a:lnTo>
                  <a:pt x="27495" y="153918"/>
                </a:lnTo>
                <a:lnTo>
                  <a:pt x="31256" y="153095"/>
                </a:lnTo>
                <a:lnTo>
                  <a:pt x="35669" y="151593"/>
                </a:lnTo>
                <a:lnTo>
                  <a:pt x="40515" y="149640"/>
                </a:lnTo>
                <a:lnTo>
                  <a:pt x="45651" y="148337"/>
                </a:lnTo>
                <a:lnTo>
                  <a:pt x="50980" y="147469"/>
                </a:lnTo>
                <a:lnTo>
                  <a:pt x="56438" y="146890"/>
                </a:lnTo>
                <a:lnTo>
                  <a:pt x="61029" y="146504"/>
                </a:lnTo>
                <a:lnTo>
                  <a:pt x="68670" y="146076"/>
                </a:lnTo>
                <a:lnTo>
                  <a:pt x="72994" y="145009"/>
                </a:lnTo>
                <a:lnTo>
                  <a:pt x="77781" y="143345"/>
                </a:lnTo>
                <a:lnTo>
                  <a:pt x="82878" y="141283"/>
                </a:lnTo>
                <a:lnTo>
                  <a:pt x="89133" y="139909"/>
                </a:lnTo>
                <a:lnTo>
                  <a:pt x="96161" y="138993"/>
                </a:lnTo>
                <a:lnTo>
                  <a:pt x="103703" y="138382"/>
                </a:lnTo>
                <a:lnTo>
                  <a:pt x="110637" y="137022"/>
                </a:lnTo>
                <a:lnTo>
                  <a:pt x="117164" y="135163"/>
                </a:lnTo>
                <a:lnTo>
                  <a:pt x="123421" y="132971"/>
                </a:lnTo>
                <a:lnTo>
                  <a:pt x="129496" y="131510"/>
                </a:lnTo>
                <a:lnTo>
                  <a:pt x="135452" y="130536"/>
                </a:lnTo>
                <a:lnTo>
                  <a:pt x="141328" y="129887"/>
                </a:lnTo>
                <a:lnTo>
                  <a:pt x="147150" y="129453"/>
                </a:lnTo>
                <a:lnTo>
                  <a:pt x="152936" y="129165"/>
                </a:lnTo>
                <a:lnTo>
                  <a:pt x="164445" y="128844"/>
                </a:lnTo>
                <a:lnTo>
                  <a:pt x="210050" y="128594"/>
                </a:lnTo>
                <a:lnTo>
                  <a:pt x="231748" y="128589"/>
                </a:lnTo>
                <a:lnTo>
                  <a:pt x="235053" y="129541"/>
                </a:lnTo>
                <a:lnTo>
                  <a:pt x="241264" y="133139"/>
                </a:lnTo>
                <a:lnTo>
                  <a:pt x="247376" y="1371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MARTPenAnnotation703"/>
          <p:cNvSpPr/>
          <p:nvPr/>
        </p:nvSpPr>
        <p:spPr>
          <a:xfrm>
            <a:off x="2239920" y="3711600"/>
            <a:ext cx="42840" cy="403200"/>
          </a:xfrm>
          <a:custGeom>
            <a:avLst/>
            <a:gdLst>
              <a:gd name="textAreaLeft" fmla="*/ 0 w 42840"/>
              <a:gd name="textAreaRight" fmla="*/ 43200 w 4284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42830" h="402556">
                <a:moveTo>
                  <a:pt x="17112" y="8220"/>
                </a:moveTo>
                <a:lnTo>
                  <a:pt x="9731" y="839"/>
                </a:lnTo>
                <a:lnTo>
                  <a:pt x="8381" y="441"/>
                </a:lnTo>
                <a:lnTo>
                  <a:pt x="6528" y="177"/>
                </a:lnTo>
                <a:lnTo>
                  <a:pt x="4341" y="0"/>
                </a:lnTo>
                <a:lnTo>
                  <a:pt x="2883" y="835"/>
                </a:lnTo>
                <a:lnTo>
                  <a:pt x="1911" y="2344"/>
                </a:lnTo>
                <a:lnTo>
                  <a:pt x="351" y="7059"/>
                </a:lnTo>
                <a:lnTo>
                  <a:pt x="42" y="15787"/>
                </a:lnTo>
                <a:lnTo>
                  <a:pt x="0" y="24600"/>
                </a:lnTo>
                <a:lnTo>
                  <a:pt x="941" y="29618"/>
                </a:lnTo>
                <a:lnTo>
                  <a:pt x="2521" y="34867"/>
                </a:lnTo>
                <a:lnTo>
                  <a:pt x="4527" y="40272"/>
                </a:lnTo>
                <a:lnTo>
                  <a:pt x="5865" y="45781"/>
                </a:lnTo>
                <a:lnTo>
                  <a:pt x="6756" y="51358"/>
                </a:lnTo>
                <a:lnTo>
                  <a:pt x="7350" y="56981"/>
                </a:lnTo>
                <a:lnTo>
                  <a:pt x="8699" y="62635"/>
                </a:lnTo>
                <a:lnTo>
                  <a:pt x="10551" y="68309"/>
                </a:lnTo>
                <a:lnTo>
                  <a:pt x="12738" y="73997"/>
                </a:lnTo>
                <a:lnTo>
                  <a:pt x="14196" y="80646"/>
                </a:lnTo>
                <a:lnTo>
                  <a:pt x="15168" y="87936"/>
                </a:lnTo>
                <a:lnTo>
                  <a:pt x="15816" y="95654"/>
                </a:lnTo>
                <a:lnTo>
                  <a:pt x="16248" y="103656"/>
                </a:lnTo>
                <a:lnTo>
                  <a:pt x="16727" y="120169"/>
                </a:lnTo>
                <a:lnTo>
                  <a:pt x="17808" y="128572"/>
                </a:lnTo>
                <a:lnTo>
                  <a:pt x="19481" y="137032"/>
                </a:lnTo>
                <a:lnTo>
                  <a:pt x="21549" y="145530"/>
                </a:lnTo>
                <a:lnTo>
                  <a:pt x="22927" y="154052"/>
                </a:lnTo>
                <a:lnTo>
                  <a:pt x="23846" y="162591"/>
                </a:lnTo>
                <a:lnTo>
                  <a:pt x="24459" y="171141"/>
                </a:lnTo>
                <a:lnTo>
                  <a:pt x="25819" y="179699"/>
                </a:lnTo>
                <a:lnTo>
                  <a:pt x="27679" y="188262"/>
                </a:lnTo>
                <a:lnTo>
                  <a:pt x="29872" y="196828"/>
                </a:lnTo>
                <a:lnTo>
                  <a:pt x="31334" y="205396"/>
                </a:lnTo>
                <a:lnTo>
                  <a:pt x="32308" y="213966"/>
                </a:lnTo>
                <a:lnTo>
                  <a:pt x="32957" y="222536"/>
                </a:lnTo>
                <a:lnTo>
                  <a:pt x="32438" y="232060"/>
                </a:lnTo>
                <a:lnTo>
                  <a:pt x="31139" y="242219"/>
                </a:lnTo>
                <a:lnTo>
                  <a:pt x="29321" y="252802"/>
                </a:lnTo>
                <a:lnTo>
                  <a:pt x="28108" y="261762"/>
                </a:lnTo>
                <a:lnTo>
                  <a:pt x="27300" y="269640"/>
                </a:lnTo>
                <a:lnTo>
                  <a:pt x="26761" y="276798"/>
                </a:lnTo>
                <a:lnTo>
                  <a:pt x="26402" y="284426"/>
                </a:lnTo>
                <a:lnTo>
                  <a:pt x="26003" y="300523"/>
                </a:lnTo>
                <a:lnTo>
                  <a:pt x="25687" y="370478"/>
                </a:lnTo>
                <a:lnTo>
                  <a:pt x="26638" y="373550"/>
                </a:lnTo>
                <a:lnTo>
                  <a:pt x="28225" y="376551"/>
                </a:lnTo>
                <a:lnTo>
                  <a:pt x="30236" y="379504"/>
                </a:lnTo>
                <a:lnTo>
                  <a:pt x="31576" y="382425"/>
                </a:lnTo>
                <a:lnTo>
                  <a:pt x="32469" y="385325"/>
                </a:lnTo>
                <a:lnTo>
                  <a:pt x="33903" y="392272"/>
                </a:lnTo>
                <a:lnTo>
                  <a:pt x="34974" y="393795"/>
                </a:lnTo>
                <a:lnTo>
                  <a:pt x="36640" y="395762"/>
                </a:lnTo>
                <a:lnTo>
                  <a:pt x="42829" y="4025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MARTPenAnnotation704"/>
          <p:cNvSpPr/>
          <p:nvPr/>
        </p:nvSpPr>
        <p:spPr>
          <a:xfrm>
            <a:off x="2381400" y="3849840"/>
            <a:ext cx="279360" cy="257040"/>
          </a:xfrm>
          <a:custGeom>
            <a:avLst/>
            <a:gdLst>
              <a:gd name="textAreaLeft" fmla="*/ 0 w 279360"/>
              <a:gd name="textAreaRight" fmla="*/ 279720 w 27936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79260" h="257176">
                <a:moveTo>
                  <a:pt x="4939" y="0"/>
                </a:moveTo>
                <a:lnTo>
                  <a:pt x="0" y="0"/>
                </a:lnTo>
                <a:lnTo>
                  <a:pt x="4100" y="0"/>
                </a:lnTo>
                <a:lnTo>
                  <a:pt x="11617" y="5892"/>
                </a:lnTo>
                <a:lnTo>
                  <a:pt x="16797" y="7381"/>
                </a:lnTo>
                <a:lnTo>
                  <a:pt x="19512" y="9683"/>
                </a:lnTo>
                <a:lnTo>
                  <a:pt x="25068" y="17321"/>
                </a:lnTo>
                <a:lnTo>
                  <a:pt x="33253" y="24526"/>
                </a:lnTo>
                <a:lnTo>
                  <a:pt x="38102" y="27781"/>
                </a:lnTo>
                <a:lnTo>
                  <a:pt x="41335" y="31856"/>
                </a:lnTo>
                <a:lnTo>
                  <a:pt x="43491" y="36477"/>
                </a:lnTo>
                <a:lnTo>
                  <a:pt x="44928" y="41463"/>
                </a:lnTo>
                <a:lnTo>
                  <a:pt x="47791" y="46692"/>
                </a:lnTo>
                <a:lnTo>
                  <a:pt x="51604" y="52083"/>
                </a:lnTo>
                <a:lnTo>
                  <a:pt x="56052" y="57582"/>
                </a:lnTo>
                <a:lnTo>
                  <a:pt x="60922" y="63153"/>
                </a:lnTo>
                <a:lnTo>
                  <a:pt x="66073" y="68772"/>
                </a:lnTo>
                <a:lnTo>
                  <a:pt x="71413" y="74423"/>
                </a:lnTo>
                <a:lnTo>
                  <a:pt x="75925" y="80095"/>
                </a:lnTo>
                <a:lnTo>
                  <a:pt x="79885" y="85782"/>
                </a:lnTo>
                <a:lnTo>
                  <a:pt x="83478" y="91478"/>
                </a:lnTo>
                <a:lnTo>
                  <a:pt x="87778" y="97180"/>
                </a:lnTo>
                <a:lnTo>
                  <a:pt x="92551" y="102887"/>
                </a:lnTo>
                <a:lnTo>
                  <a:pt x="97637" y="108596"/>
                </a:lnTo>
                <a:lnTo>
                  <a:pt x="108368" y="120020"/>
                </a:lnTo>
                <a:lnTo>
                  <a:pt x="130779" y="142876"/>
                </a:lnTo>
                <a:lnTo>
                  <a:pt x="137410" y="148591"/>
                </a:lnTo>
                <a:lnTo>
                  <a:pt x="144688" y="154305"/>
                </a:lnTo>
                <a:lnTo>
                  <a:pt x="152398" y="160021"/>
                </a:lnTo>
                <a:lnTo>
                  <a:pt x="158490" y="165735"/>
                </a:lnTo>
                <a:lnTo>
                  <a:pt x="163504" y="171450"/>
                </a:lnTo>
                <a:lnTo>
                  <a:pt x="167799" y="177165"/>
                </a:lnTo>
                <a:lnTo>
                  <a:pt x="172567" y="182880"/>
                </a:lnTo>
                <a:lnTo>
                  <a:pt x="177651" y="188595"/>
                </a:lnTo>
                <a:lnTo>
                  <a:pt x="182945" y="194310"/>
                </a:lnTo>
                <a:lnTo>
                  <a:pt x="188380" y="199073"/>
                </a:lnTo>
                <a:lnTo>
                  <a:pt x="193908" y="203200"/>
                </a:lnTo>
                <a:lnTo>
                  <a:pt x="199498" y="206904"/>
                </a:lnTo>
                <a:lnTo>
                  <a:pt x="205130" y="211279"/>
                </a:lnTo>
                <a:lnTo>
                  <a:pt x="210790" y="216100"/>
                </a:lnTo>
                <a:lnTo>
                  <a:pt x="216468" y="221219"/>
                </a:lnTo>
                <a:lnTo>
                  <a:pt x="222158" y="225584"/>
                </a:lnTo>
                <a:lnTo>
                  <a:pt x="227857" y="229447"/>
                </a:lnTo>
                <a:lnTo>
                  <a:pt x="233561" y="232975"/>
                </a:lnTo>
                <a:lnTo>
                  <a:pt x="239268" y="236279"/>
                </a:lnTo>
                <a:lnTo>
                  <a:pt x="250690" y="242490"/>
                </a:lnTo>
                <a:lnTo>
                  <a:pt x="254498" y="245480"/>
                </a:lnTo>
                <a:lnTo>
                  <a:pt x="257037" y="248426"/>
                </a:lnTo>
                <a:lnTo>
                  <a:pt x="258729" y="251343"/>
                </a:lnTo>
                <a:lnTo>
                  <a:pt x="261762" y="253287"/>
                </a:lnTo>
                <a:lnTo>
                  <a:pt x="270213" y="255447"/>
                </a:lnTo>
                <a:lnTo>
                  <a:pt x="279259" y="257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MARTPenAnnotation705"/>
          <p:cNvSpPr/>
          <p:nvPr/>
        </p:nvSpPr>
        <p:spPr>
          <a:xfrm>
            <a:off x="2436840" y="3840120"/>
            <a:ext cx="206280" cy="239760"/>
          </a:xfrm>
          <a:custGeom>
            <a:avLst/>
            <a:gdLst>
              <a:gd name="textAreaLeft" fmla="*/ 0 w 206280"/>
              <a:gd name="textAreaRight" fmla="*/ 206640 w 2062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05623" h="239678">
                <a:moveTo>
                  <a:pt x="205622" y="8219"/>
                </a:moveTo>
                <a:lnTo>
                  <a:pt x="201071" y="8219"/>
                </a:lnTo>
                <a:lnTo>
                  <a:pt x="199730" y="7267"/>
                </a:lnTo>
                <a:lnTo>
                  <a:pt x="198837" y="5679"/>
                </a:lnTo>
                <a:lnTo>
                  <a:pt x="197402" y="838"/>
                </a:lnTo>
                <a:lnTo>
                  <a:pt x="196332" y="441"/>
                </a:lnTo>
                <a:lnTo>
                  <a:pt x="192603" y="0"/>
                </a:lnTo>
                <a:lnTo>
                  <a:pt x="191228" y="835"/>
                </a:lnTo>
                <a:lnTo>
                  <a:pt x="190311" y="2344"/>
                </a:lnTo>
                <a:lnTo>
                  <a:pt x="189700" y="4302"/>
                </a:lnTo>
                <a:lnTo>
                  <a:pt x="188340" y="5608"/>
                </a:lnTo>
                <a:lnTo>
                  <a:pt x="186480" y="6478"/>
                </a:lnTo>
                <a:lnTo>
                  <a:pt x="184288" y="7058"/>
                </a:lnTo>
                <a:lnTo>
                  <a:pt x="182827" y="9350"/>
                </a:lnTo>
                <a:lnTo>
                  <a:pt x="181853" y="12784"/>
                </a:lnTo>
                <a:lnTo>
                  <a:pt x="181203" y="16977"/>
                </a:lnTo>
                <a:lnTo>
                  <a:pt x="178865" y="21678"/>
                </a:lnTo>
                <a:lnTo>
                  <a:pt x="175402" y="26716"/>
                </a:lnTo>
                <a:lnTo>
                  <a:pt x="171187" y="31981"/>
                </a:lnTo>
                <a:lnTo>
                  <a:pt x="167426" y="38348"/>
                </a:lnTo>
                <a:lnTo>
                  <a:pt x="163965" y="45450"/>
                </a:lnTo>
                <a:lnTo>
                  <a:pt x="160706" y="53042"/>
                </a:lnTo>
                <a:lnTo>
                  <a:pt x="156628" y="60009"/>
                </a:lnTo>
                <a:lnTo>
                  <a:pt x="152004" y="66558"/>
                </a:lnTo>
                <a:lnTo>
                  <a:pt x="147017" y="72829"/>
                </a:lnTo>
                <a:lnTo>
                  <a:pt x="141787" y="79867"/>
                </a:lnTo>
                <a:lnTo>
                  <a:pt x="130896" y="95308"/>
                </a:lnTo>
                <a:lnTo>
                  <a:pt x="126277" y="103426"/>
                </a:lnTo>
                <a:lnTo>
                  <a:pt x="122246" y="111695"/>
                </a:lnTo>
                <a:lnTo>
                  <a:pt x="118605" y="120065"/>
                </a:lnTo>
                <a:lnTo>
                  <a:pt x="113321" y="127551"/>
                </a:lnTo>
                <a:lnTo>
                  <a:pt x="106940" y="134446"/>
                </a:lnTo>
                <a:lnTo>
                  <a:pt x="99829" y="140948"/>
                </a:lnTo>
                <a:lnTo>
                  <a:pt x="94136" y="148140"/>
                </a:lnTo>
                <a:lnTo>
                  <a:pt x="89388" y="155792"/>
                </a:lnTo>
                <a:lnTo>
                  <a:pt x="85270" y="163751"/>
                </a:lnTo>
                <a:lnTo>
                  <a:pt x="80620" y="170962"/>
                </a:lnTo>
                <a:lnTo>
                  <a:pt x="75615" y="177675"/>
                </a:lnTo>
                <a:lnTo>
                  <a:pt x="70373" y="184054"/>
                </a:lnTo>
                <a:lnTo>
                  <a:pt x="64021" y="190213"/>
                </a:lnTo>
                <a:lnTo>
                  <a:pt x="56929" y="196223"/>
                </a:lnTo>
                <a:lnTo>
                  <a:pt x="49343" y="202135"/>
                </a:lnTo>
                <a:lnTo>
                  <a:pt x="43334" y="207029"/>
                </a:lnTo>
                <a:lnTo>
                  <a:pt x="38375" y="211244"/>
                </a:lnTo>
                <a:lnTo>
                  <a:pt x="34116" y="215007"/>
                </a:lnTo>
                <a:lnTo>
                  <a:pt x="26845" y="221727"/>
                </a:lnTo>
                <a:lnTo>
                  <a:pt x="23572" y="224852"/>
                </a:lnTo>
                <a:lnTo>
                  <a:pt x="20438" y="226936"/>
                </a:lnTo>
                <a:lnTo>
                  <a:pt x="14415" y="229252"/>
                </a:lnTo>
                <a:lnTo>
                  <a:pt x="10221" y="230555"/>
                </a:lnTo>
                <a:lnTo>
                  <a:pt x="4427" y="235492"/>
                </a:lnTo>
                <a:lnTo>
                  <a:pt x="0" y="239568"/>
                </a:lnTo>
                <a:lnTo>
                  <a:pt x="5797" y="239655"/>
                </a:lnTo>
                <a:lnTo>
                  <a:pt x="17027" y="2396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MARTPenAnnotation706"/>
          <p:cNvSpPr/>
          <p:nvPr/>
        </p:nvSpPr>
        <p:spPr>
          <a:xfrm>
            <a:off x="2797200" y="3892680"/>
            <a:ext cx="377640" cy="331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77191" h="34290">
                <a:moveTo>
                  <a:pt x="0" y="34289"/>
                </a:moveTo>
                <a:lnTo>
                  <a:pt x="4551" y="34289"/>
                </a:lnTo>
                <a:lnTo>
                  <a:pt x="6844" y="33337"/>
                </a:lnTo>
                <a:lnTo>
                  <a:pt x="9325" y="31750"/>
                </a:lnTo>
                <a:lnTo>
                  <a:pt x="11932" y="29739"/>
                </a:lnTo>
                <a:lnTo>
                  <a:pt x="14622" y="28398"/>
                </a:lnTo>
                <a:lnTo>
                  <a:pt x="17368" y="27505"/>
                </a:lnTo>
                <a:lnTo>
                  <a:pt x="23911" y="26512"/>
                </a:lnTo>
                <a:lnTo>
                  <a:pt x="33170" y="26070"/>
                </a:lnTo>
                <a:lnTo>
                  <a:pt x="38306" y="25000"/>
                </a:lnTo>
                <a:lnTo>
                  <a:pt x="43635" y="23334"/>
                </a:lnTo>
                <a:lnTo>
                  <a:pt x="49092" y="21271"/>
                </a:lnTo>
                <a:lnTo>
                  <a:pt x="55588" y="19895"/>
                </a:lnTo>
                <a:lnTo>
                  <a:pt x="62776" y="18978"/>
                </a:lnTo>
                <a:lnTo>
                  <a:pt x="70426" y="18367"/>
                </a:lnTo>
                <a:lnTo>
                  <a:pt x="77430" y="17960"/>
                </a:lnTo>
                <a:lnTo>
                  <a:pt x="90293" y="17507"/>
                </a:lnTo>
                <a:lnTo>
                  <a:pt x="97343" y="16434"/>
                </a:lnTo>
                <a:lnTo>
                  <a:pt x="104900" y="14765"/>
                </a:lnTo>
                <a:lnTo>
                  <a:pt x="112796" y="12701"/>
                </a:lnTo>
                <a:lnTo>
                  <a:pt x="120918" y="11325"/>
                </a:lnTo>
                <a:lnTo>
                  <a:pt x="129189" y="10407"/>
                </a:lnTo>
                <a:lnTo>
                  <a:pt x="137561" y="9796"/>
                </a:lnTo>
                <a:lnTo>
                  <a:pt x="146000" y="9388"/>
                </a:lnTo>
                <a:lnTo>
                  <a:pt x="162997" y="8935"/>
                </a:lnTo>
                <a:lnTo>
                  <a:pt x="184080" y="8680"/>
                </a:lnTo>
                <a:lnTo>
                  <a:pt x="191299" y="7691"/>
                </a:lnTo>
                <a:lnTo>
                  <a:pt x="198971" y="6080"/>
                </a:lnTo>
                <a:lnTo>
                  <a:pt x="206942" y="4053"/>
                </a:lnTo>
                <a:lnTo>
                  <a:pt x="215114" y="2702"/>
                </a:lnTo>
                <a:lnTo>
                  <a:pt x="223419" y="1801"/>
                </a:lnTo>
                <a:lnTo>
                  <a:pt x="231814" y="1201"/>
                </a:lnTo>
                <a:lnTo>
                  <a:pt x="240267" y="800"/>
                </a:lnTo>
                <a:lnTo>
                  <a:pt x="257281" y="355"/>
                </a:lnTo>
                <a:lnTo>
                  <a:pt x="302567" y="21"/>
                </a:lnTo>
                <a:lnTo>
                  <a:pt x="3771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MARTPenAnnotation707"/>
          <p:cNvSpPr/>
          <p:nvPr/>
        </p:nvSpPr>
        <p:spPr>
          <a:xfrm>
            <a:off x="2951280" y="3789360"/>
            <a:ext cx="77760" cy="307800"/>
          </a:xfrm>
          <a:custGeom>
            <a:avLst/>
            <a:gdLst>
              <a:gd name="textAreaLeft" fmla="*/ 0 w 77760"/>
              <a:gd name="textAreaRight" fmla="*/ 78120 w 7776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77151" h="308610">
                <a:moveTo>
                  <a:pt x="8569" y="0"/>
                </a:moveTo>
                <a:lnTo>
                  <a:pt x="350" y="0"/>
                </a:lnTo>
                <a:lnTo>
                  <a:pt x="44" y="9325"/>
                </a:lnTo>
                <a:lnTo>
                  <a:pt x="0" y="40551"/>
                </a:lnTo>
                <a:lnTo>
                  <a:pt x="951" y="46084"/>
                </a:lnTo>
                <a:lnTo>
                  <a:pt x="2538" y="51677"/>
                </a:lnTo>
                <a:lnTo>
                  <a:pt x="4549" y="57312"/>
                </a:lnTo>
                <a:lnTo>
                  <a:pt x="5889" y="63925"/>
                </a:lnTo>
                <a:lnTo>
                  <a:pt x="6782" y="71191"/>
                </a:lnTo>
                <a:lnTo>
                  <a:pt x="7378" y="78893"/>
                </a:lnTo>
                <a:lnTo>
                  <a:pt x="7775" y="85933"/>
                </a:lnTo>
                <a:lnTo>
                  <a:pt x="8216" y="98835"/>
                </a:lnTo>
                <a:lnTo>
                  <a:pt x="9287" y="105895"/>
                </a:lnTo>
                <a:lnTo>
                  <a:pt x="10953" y="113459"/>
                </a:lnTo>
                <a:lnTo>
                  <a:pt x="13016" y="121359"/>
                </a:lnTo>
                <a:lnTo>
                  <a:pt x="15344" y="129484"/>
                </a:lnTo>
                <a:lnTo>
                  <a:pt x="20470" y="146131"/>
                </a:lnTo>
                <a:lnTo>
                  <a:pt x="23171" y="153618"/>
                </a:lnTo>
                <a:lnTo>
                  <a:pt x="25924" y="160514"/>
                </a:lnTo>
                <a:lnTo>
                  <a:pt x="28712" y="167017"/>
                </a:lnTo>
                <a:lnTo>
                  <a:pt x="30570" y="174209"/>
                </a:lnTo>
                <a:lnTo>
                  <a:pt x="31809" y="181862"/>
                </a:lnTo>
                <a:lnTo>
                  <a:pt x="32635" y="189821"/>
                </a:lnTo>
                <a:lnTo>
                  <a:pt x="34138" y="197033"/>
                </a:lnTo>
                <a:lnTo>
                  <a:pt x="36093" y="203745"/>
                </a:lnTo>
                <a:lnTo>
                  <a:pt x="38348" y="210125"/>
                </a:lnTo>
                <a:lnTo>
                  <a:pt x="39852" y="216283"/>
                </a:lnTo>
                <a:lnTo>
                  <a:pt x="40855" y="222294"/>
                </a:lnTo>
                <a:lnTo>
                  <a:pt x="41523" y="228205"/>
                </a:lnTo>
                <a:lnTo>
                  <a:pt x="42921" y="234052"/>
                </a:lnTo>
                <a:lnTo>
                  <a:pt x="44805" y="239855"/>
                </a:lnTo>
                <a:lnTo>
                  <a:pt x="47014" y="245628"/>
                </a:lnTo>
                <a:lnTo>
                  <a:pt x="48487" y="250429"/>
                </a:lnTo>
                <a:lnTo>
                  <a:pt x="50123" y="258304"/>
                </a:lnTo>
                <a:lnTo>
                  <a:pt x="51512" y="262690"/>
                </a:lnTo>
                <a:lnTo>
                  <a:pt x="53390" y="267519"/>
                </a:lnTo>
                <a:lnTo>
                  <a:pt x="55595" y="272643"/>
                </a:lnTo>
                <a:lnTo>
                  <a:pt x="57065" y="277012"/>
                </a:lnTo>
                <a:lnTo>
                  <a:pt x="58698" y="284407"/>
                </a:lnTo>
                <a:lnTo>
                  <a:pt x="60086" y="287712"/>
                </a:lnTo>
                <a:lnTo>
                  <a:pt x="61964" y="290867"/>
                </a:lnTo>
                <a:lnTo>
                  <a:pt x="64168" y="293924"/>
                </a:lnTo>
                <a:lnTo>
                  <a:pt x="66590" y="295962"/>
                </a:lnTo>
                <a:lnTo>
                  <a:pt x="69158" y="297320"/>
                </a:lnTo>
                <a:lnTo>
                  <a:pt x="71822" y="298226"/>
                </a:lnTo>
                <a:lnTo>
                  <a:pt x="73598" y="299782"/>
                </a:lnTo>
                <a:lnTo>
                  <a:pt x="74782" y="301772"/>
                </a:lnTo>
                <a:lnTo>
                  <a:pt x="77150" y="30860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MARTPenAnnotation708"/>
          <p:cNvSpPr/>
          <p:nvPr/>
        </p:nvSpPr>
        <p:spPr>
          <a:xfrm>
            <a:off x="3278160" y="3703680"/>
            <a:ext cx="247680" cy="154080"/>
          </a:xfrm>
          <a:custGeom>
            <a:avLst/>
            <a:gdLst>
              <a:gd name="textAreaLeft" fmla="*/ 0 w 247680"/>
              <a:gd name="textAreaRight" fmla="*/ 248040 w 247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248571" h="154274">
                <a:moveTo>
                  <a:pt x="8541" y="8541"/>
                </a:moveTo>
                <a:lnTo>
                  <a:pt x="8541" y="0"/>
                </a:lnTo>
                <a:lnTo>
                  <a:pt x="8541" y="4529"/>
                </a:lnTo>
                <a:lnTo>
                  <a:pt x="9493" y="5866"/>
                </a:lnTo>
                <a:lnTo>
                  <a:pt x="11080" y="6758"/>
                </a:lnTo>
                <a:lnTo>
                  <a:pt x="13091" y="7352"/>
                </a:lnTo>
                <a:lnTo>
                  <a:pt x="14432" y="9653"/>
                </a:lnTo>
                <a:lnTo>
                  <a:pt x="15326" y="13093"/>
                </a:lnTo>
                <a:lnTo>
                  <a:pt x="15921" y="17290"/>
                </a:lnTo>
                <a:lnTo>
                  <a:pt x="16319" y="21041"/>
                </a:lnTo>
                <a:lnTo>
                  <a:pt x="16583" y="24495"/>
                </a:lnTo>
                <a:lnTo>
                  <a:pt x="16760" y="27749"/>
                </a:lnTo>
                <a:lnTo>
                  <a:pt x="16956" y="36446"/>
                </a:lnTo>
                <a:lnTo>
                  <a:pt x="17009" y="41432"/>
                </a:lnTo>
                <a:lnTo>
                  <a:pt x="16091" y="45708"/>
                </a:lnTo>
                <a:lnTo>
                  <a:pt x="14527" y="49512"/>
                </a:lnTo>
                <a:lnTo>
                  <a:pt x="12531" y="53000"/>
                </a:lnTo>
                <a:lnTo>
                  <a:pt x="11201" y="57230"/>
                </a:lnTo>
                <a:lnTo>
                  <a:pt x="10314" y="61955"/>
                </a:lnTo>
                <a:lnTo>
                  <a:pt x="9723" y="67011"/>
                </a:lnTo>
                <a:lnTo>
                  <a:pt x="9329" y="72286"/>
                </a:lnTo>
                <a:lnTo>
                  <a:pt x="9066" y="77708"/>
                </a:lnTo>
                <a:lnTo>
                  <a:pt x="8891" y="83227"/>
                </a:lnTo>
                <a:lnTo>
                  <a:pt x="7822" y="87859"/>
                </a:lnTo>
                <a:lnTo>
                  <a:pt x="6156" y="91900"/>
                </a:lnTo>
                <a:lnTo>
                  <a:pt x="4093" y="95546"/>
                </a:lnTo>
                <a:lnTo>
                  <a:pt x="2718" y="99882"/>
                </a:lnTo>
                <a:lnTo>
                  <a:pt x="1802" y="104677"/>
                </a:lnTo>
                <a:lnTo>
                  <a:pt x="1191" y="109780"/>
                </a:lnTo>
                <a:lnTo>
                  <a:pt x="783" y="114133"/>
                </a:lnTo>
                <a:lnTo>
                  <a:pt x="511" y="117989"/>
                </a:lnTo>
                <a:lnTo>
                  <a:pt x="330" y="121511"/>
                </a:lnTo>
                <a:lnTo>
                  <a:pt x="129" y="127965"/>
                </a:lnTo>
                <a:lnTo>
                  <a:pt x="0" y="139869"/>
                </a:lnTo>
                <a:lnTo>
                  <a:pt x="942" y="141813"/>
                </a:lnTo>
                <a:lnTo>
                  <a:pt x="2522" y="143109"/>
                </a:lnTo>
                <a:lnTo>
                  <a:pt x="4528" y="143973"/>
                </a:lnTo>
                <a:lnTo>
                  <a:pt x="5866" y="145502"/>
                </a:lnTo>
                <a:lnTo>
                  <a:pt x="6757" y="147473"/>
                </a:lnTo>
                <a:lnTo>
                  <a:pt x="8188" y="152930"/>
                </a:lnTo>
                <a:lnTo>
                  <a:pt x="9258" y="153378"/>
                </a:lnTo>
                <a:lnTo>
                  <a:pt x="15315" y="154008"/>
                </a:lnTo>
                <a:lnTo>
                  <a:pt x="24132" y="154239"/>
                </a:lnTo>
                <a:lnTo>
                  <a:pt x="58567" y="154273"/>
                </a:lnTo>
                <a:lnTo>
                  <a:pt x="63799" y="153320"/>
                </a:lnTo>
                <a:lnTo>
                  <a:pt x="69192" y="151733"/>
                </a:lnTo>
                <a:lnTo>
                  <a:pt x="74692" y="149723"/>
                </a:lnTo>
                <a:lnTo>
                  <a:pt x="80264" y="148382"/>
                </a:lnTo>
                <a:lnTo>
                  <a:pt x="85884" y="147488"/>
                </a:lnTo>
                <a:lnTo>
                  <a:pt x="91535" y="146893"/>
                </a:lnTo>
                <a:lnTo>
                  <a:pt x="97208" y="145543"/>
                </a:lnTo>
                <a:lnTo>
                  <a:pt x="102894" y="143690"/>
                </a:lnTo>
                <a:lnTo>
                  <a:pt x="108591" y="141503"/>
                </a:lnTo>
                <a:lnTo>
                  <a:pt x="114293" y="140045"/>
                </a:lnTo>
                <a:lnTo>
                  <a:pt x="120000" y="139073"/>
                </a:lnTo>
                <a:lnTo>
                  <a:pt x="125709" y="138425"/>
                </a:lnTo>
                <a:lnTo>
                  <a:pt x="131420" y="137993"/>
                </a:lnTo>
                <a:lnTo>
                  <a:pt x="137133" y="137705"/>
                </a:lnTo>
                <a:lnTo>
                  <a:pt x="148560" y="137385"/>
                </a:lnTo>
                <a:lnTo>
                  <a:pt x="194278" y="137139"/>
                </a:lnTo>
                <a:lnTo>
                  <a:pt x="216637" y="137130"/>
                </a:lnTo>
                <a:lnTo>
                  <a:pt x="219661" y="138081"/>
                </a:lnTo>
                <a:lnTo>
                  <a:pt x="225562" y="141680"/>
                </a:lnTo>
                <a:lnTo>
                  <a:pt x="231359" y="143914"/>
                </a:lnTo>
                <a:lnTo>
                  <a:pt x="237111" y="144907"/>
                </a:lnTo>
                <a:lnTo>
                  <a:pt x="244752" y="145466"/>
                </a:lnTo>
                <a:lnTo>
                  <a:pt x="248570" y="1457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MARTPenAnnotation709"/>
          <p:cNvSpPr/>
          <p:nvPr/>
        </p:nvSpPr>
        <p:spPr>
          <a:xfrm>
            <a:off x="3465360" y="3711600"/>
            <a:ext cx="69840" cy="342720"/>
          </a:xfrm>
          <a:custGeom>
            <a:avLst/>
            <a:gdLst>
              <a:gd name="textAreaLeft" fmla="*/ 0 w 69840"/>
              <a:gd name="textAreaRight" fmla="*/ 70200 w 698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68578" h="342892">
                <a:moveTo>
                  <a:pt x="8570" y="8564"/>
                </a:moveTo>
                <a:lnTo>
                  <a:pt x="8570" y="4013"/>
                </a:lnTo>
                <a:lnTo>
                  <a:pt x="7617" y="2672"/>
                </a:lnTo>
                <a:lnTo>
                  <a:pt x="6029" y="1778"/>
                </a:lnTo>
                <a:lnTo>
                  <a:pt x="28" y="0"/>
                </a:lnTo>
                <a:lnTo>
                  <a:pt x="0" y="11924"/>
                </a:lnTo>
                <a:lnTo>
                  <a:pt x="951" y="15566"/>
                </a:lnTo>
                <a:lnTo>
                  <a:pt x="2538" y="19899"/>
                </a:lnTo>
                <a:lnTo>
                  <a:pt x="4549" y="24693"/>
                </a:lnTo>
                <a:lnTo>
                  <a:pt x="6841" y="29794"/>
                </a:lnTo>
                <a:lnTo>
                  <a:pt x="11929" y="40542"/>
                </a:lnTo>
                <a:lnTo>
                  <a:pt x="13667" y="47028"/>
                </a:lnTo>
                <a:lnTo>
                  <a:pt x="14825" y="54209"/>
                </a:lnTo>
                <a:lnTo>
                  <a:pt x="15597" y="61854"/>
                </a:lnTo>
                <a:lnTo>
                  <a:pt x="17064" y="69808"/>
                </a:lnTo>
                <a:lnTo>
                  <a:pt x="18996" y="77968"/>
                </a:lnTo>
                <a:lnTo>
                  <a:pt x="21235" y="86266"/>
                </a:lnTo>
                <a:lnTo>
                  <a:pt x="22728" y="94655"/>
                </a:lnTo>
                <a:lnTo>
                  <a:pt x="23724" y="103106"/>
                </a:lnTo>
                <a:lnTo>
                  <a:pt x="24387" y="111597"/>
                </a:lnTo>
                <a:lnTo>
                  <a:pt x="25782" y="120115"/>
                </a:lnTo>
                <a:lnTo>
                  <a:pt x="27665" y="128651"/>
                </a:lnTo>
                <a:lnTo>
                  <a:pt x="29872" y="137200"/>
                </a:lnTo>
                <a:lnTo>
                  <a:pt x="31344" y="145756"/>
                </a:lnTo>
                <a:lnTo>
                  <a:pt x="32325" y="154318"/>
                </a:lnTo>
                <a:lnTo>
                  <a:pt x="32979" y="162883"/>
                </a:lnTo>
                <a:lnTo>
                  <a:pt x="33415" y="171451"/>
                </a:lnTo>
                <a:lnTo>
                  <a:pt x="33899" y="188591"/>
                </a:lnTo>
                <a:lnTo>
                  <a:pt x="34272" y="254626"/>
                </a:lnTo>
                <a:lnTo>
                  <a:pt x="34284" y="279525"/>
                </a:lnTo>
                <a:lnTo>
                  <a:pt x="35238" y="285406"/>
                </a:lnTo>
                <a:lnTo>
                  <a:pt x="36826" y="291233"/>
                </a:lnTo>
                <a:lnTo>
                  <a:pt x="38837" y="297023"/>
                </a:lnTo>
                <a:lnTo>
                  <a:pt x="40178" y="301835"/>
                </a:lnTo>
                <a:lnTo>
                  <a:pt x="41668" y="309721"/>
                </a:lnTo>
                <a:lnTo>
                  <a:pt x="42506" y="319516"/>
                </a:lnTo>
                <a:lnTo>
                  <a:pt x="43577" y="322546"/>
                </a:lnTo>
                <a:lnTo>
                  <a:pt x="45243" y="325518"/>
                </a:lnTo>
                <a:lnTo>
                  <a:pt x="47306" y="328451"/>
                </a:lnTo>
                <a:lnTo>
                  <a:pt x="49634" y="330407"/>
                </a:lnTo>
                <a:lnTo>
                  <a:pt x="52138" y="331711"/>
                </a:lnTo>
                <a:lnTo>
                  <a:pt x="54760" y="332580"/>
                </a:lnTo>
                <a:lnTo>
                  <a:pt x="56508" y="334112"/>
                </a:lnTo>
                <a:lnTo>
                  <a:pt x="57674" y="336086"/>
                </a:lnTo>
                <a:lnTo>
                  <a:pt x="58451" y="338354"/>
                </a:lnTo>
                <a:lnTo>
                  <a:pt x="59921" y="339867"/>
                </a:lnTo>
                <a:lnTo>
                  <a:pt x="61854" y="340875"/>
                </a:lnTo>
                <a:lnTo>
                  <a:pt x="68577" y="34289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MARTPenAnnotation710"/>
          <p:cNvSpPr/>
          <p:nvPr/>
        </p:nvSpPr>
        <p:spPr>
          <a:xfrm>
            <a:off x="3846600" y="3822840"/>
            <a:ext cx="236520" cy="360"/>
          </a:xfrm>
          <a:custGeom>
            <a:avLst/>
            <a:gdLst>
              <a:gd name="textAreaLeft" fmla="*/ 0 w 236520"/>
              <a:gd name="textAreaRight" fmla="*/ 236880 w 2365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36397" h="1">
                <a:moveTo>
                  <a:pt x="4938" y="0"/>
                </a:moveTo>
                <a:lnTo>
                  <a:pt x="0" y="0"/>
                </a:lnTo>
                <a:lnTo>
                  <a:pt x="23639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MARTPenAnnotation711"/>
          <p:cNvSpPr/>
          <p:nvPr/>
        </p:nvSpPr>
        <p:spPr>
          <a:xfrm>
            <a:off x="3868560" y="3892680"/>
            <a:ext cx="249480" cy="33120"/>
          </a:xfrm>
          <a:custGeom>
            <a:avLst/>
            <a:gdLst>
              <a:gd name="textAreaLeft" fmla="*/ 0 w 249480"/>
              <a:gd name="textAreaRight" fmla="*/ 249840 w 2494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48250" h="34290">
                <a:moveTo>
                  <a:pt x="8219" y="0"/>
                </a:moveTo>
                <a:lnTo>
                  <a:pt x="0" y="0"/>
                </a:lnTo>
                <a:lnTo>
                  <a:pt x="7058" y="0"/>
                </a:lnTo>
                <a:lnTo>
                  <a:pt x="8398" y="952"/>
                </a:lnTo>
                <a:lnTo>
                  <a:pt x="10243" y="2539"/>
                </a:lnTo>
                <a:lnTo>
                  <a:pt x="12425" y="4551"/>
                </a:lnTo>
                <a:lnTo>
                  <a:pt x="15786" y="5891"/>
                </a:lnTo>
                <a:lnTo>
                  <a:pt x="19931" y="6785"/>
                </a:lnTo>
                <a:lnTo>
                  <a:pt x="24600" y="7381"/>
                </a:lnTo>
                <a:lnTo>
                  <a:pt x="29617" y="8731"/>
                </a:lnTo>
                <a:lnTo>
                  <a:pt x="34867" y="10583"/>
                </a:lnTo>
                <a:lnTo>
                  <a:pt x="40271" y="12770"/>
                </a:lnTo>
                <a:lnTo>
                  <a:pt x="45780" y="14228"/>
                </a:lnTo>
                <a:lnTo>
                  <a:pt x="51357" y="15200"/>
                </a:lnTo>
                <a:lnTo>
                  <a:pt x="56980" y="15849"/>
                </a:lnTo>
                <a:lnTo>
                  <a:pt x="62634" y="16280"/>
                </a:lnTo>
                <a:lnTo>
                  <a:pt x="68308" y="16568"/>
                </a:lnTo>
                <a:lnTo>
                  <a:pt x="73996" y="16761"/>
                </a:lnTo>
                <a:lnTo>
                  <a:pt x="95654" y="17031"/>
                </a:lnTo>
                <a:lnTo>
                  <a:pt x="140978" y="17135"/>
                </a:lnTo>
                <a:lnTo>
                  <a:pt x="148161" y="18090"/>
                </a:lnTo>
                <a:lnTo>
                  <a:pt x="155806" y="19680"/>
                </a:lnTo>
                <a:lnTo>
                  <a:pt x="163760" y="21693"/>
                </a:lnTo>
                <a:lnTo>
                  <a:pt x="170968" y="23034"/>
                </a:lnTo>
                <a:lnTo>
                  <a:pt x="177679" y="23928"/>
                </a:lnTo>
                <a:lnTo>
                  <a:pt x="184057" y="24525"/>
                </a:lnTo>
                <a:lnTo>
                  <a:pt x="191167" y="24922"/>
                </a:lnTo>
                <a:lnTo>
                  <a:pt x="206686" y="25364"/>
                </a:lnTo>
                <a:lnTo>
                  <a:pt x="214826" y="26434"/>
                </a:lnTo>
                <a:lnTo>
                  <a:pt x="223109" y="28100"/>
                </a:lnTo>
                <a:lnTo>
                  <a:pt x="248249" y="342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MARTPenAnnotation712"/>
          <p:cNvSpPr/>
          <p:nvPr/>
        </p:nvSpPr>
        <p:spPr>
          <a:xfrm>
            <a:off x="4435560" y="3618000"/>
            <a:ext cx="323640" cy="376200"/>
          </a:xfrm>
          <a:custGeom>
            <a:avLst/>
            <a:gdLst>
              <a:gd name="textAreaLeft" fmla="*/ 0 w 323640"/>
              <a:gd name="textAreaRight" fmla="*/ 323640 w 32364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323544" h="375816">
                <a:moveTo>
                  <a:pt x="222518" y="8541"/>
                </a:moveTo>
                <a:lnTo>
                  <a:pt x="222518" y="1160"/>
                </a:lnTo>
                <a:lnTo>
                  <a:pt x="221565" y="763"/>
                </a:lnTo>
                <a:lnTo>
                  <a:pt x="213192" y="126"/>
                </a:lnTo>
                <a:lnTo>
                  <a:pt x="205150" y="15"/>
                </a:lnTo>
                <a:lnTo>
                  <a:pt x="202366" y="0"/>
                </a:lnTo>
                <a:lnTo>
                  <a:pt x="194194" y="2522"/>
                </a:lnTo>
                <a:lnTo>
                  <a:pt x="184212" y="6819"/>
                </a:lnTo>
                <a:lnTo>
                  <a:pt x="173426" y="11903"/>
                </a:lnTo>
                <a:lnTo>
                  <a:pt x="167882" y="13640"/>
                </a:lnTo>
                <a:lnTo>
                  <a:pt x="162281" y="14798"/>
                </a:lnTo>
                <a:lnTo>
                  <a:pt x="156642" y="15570"/>
                </a:lnTo>
                <a:lnTo>
                  <a:pt x="150026" y="16084"/>
                </a:lnTo>
                <a:lnTo>
                  <a:pt x="142757" y="16428"/>
                </a:lnTo>
                <a:lnTo>
                  <a:pt x="135054" y="16656"/>
                </a:lnTo>
                <a:lnTo>
                  <a:pt x="127061" y="17761"/>
                </a:lnTo>
                <a:lnTo>
                  <a:pt x="118875" y="19450"/>
                </a:lnTo>
                <a:lnTo>
                  <a:pt x="110560" y="21529"/>
                </a:lnTo>
                <a:lnTo>
                  <a:pt x="103112" y="22915"/>
                </a:lnTo>
                <a:lnTo>
                  <a:pt x="96241" y="23838"/>
                </a:lnTo>
                <a:lnTo>
                  <a:pt x="89756" y="24454"/>
                </a:lnTo>
                <a:lnTo>
                  <a:pt x="83527" y="24865"/>
                </a:lnTo>
                <a:lnTo>
                  <a:pt x="77470" y="25139"/>
                </a:lnTo>
                <a:lnTo>
                  <a:pt x="65659" y="25443"/>
                </a:lnTo>
                <a:lnTo>
                  <a:pt x="3816" y="25686"/>
                </a:lnTo>
                <a:lnTo>
                  <a:pt x="2422" y="26639"/>
                </a:lnTo>
                <a:lnTo>
                  <a:pt x="1492" y="28226"/>
                </a:lnTo>
                <a:lnTo>
                  <a:pt x="0" y="33067"/>
                </a:lnTo>
                <a:lnTo>
                  <a:pt x="2336" y="36269"/>
                </a:lnTo>
                <a:lnTo>
                  <a:pt x="4292" y="38457"/>
                </a:lnTo>
                <a:lnTo>
                  <a:pt x="5597" y="40867"/>
                </a:lnTo>
                <a:lnTo>
                  <a:pt x="7045" y="46086"/>
                </a:lnTo>
                <a:lnTo>
                  <a:pt x="7690" y="54120"/>
                </a:lnTo>
                <a:lnTo>
                  <a:pt x="7976" y="64041"/>
                </a:lnTo>
                <a:lnTo>
                  <a:pt x="8103" y="74800"/>
                </a:lnTo>
                <a:lnTo>
                  <a:pt x="10700" y="85932"/>
                </a:lnTo>
                <a:lnTo>
                  <a:pt x="14076" y="97230"/>
                </a:lnTo>
                <a:lnTo>
                  <a:pt x="15577" y="108601"/>
                </a:lnTo>
                <a:lnTo>
                  <a:pt x="15977" y="115253"/>
                </a:lnTo>
                <a:lnTo>
                  <a:pt x="16422" y="130263"/>
                </a:lnTo>
                <a:lnTo>
                  <a:pt x="16672" y="150229"/>
                </a:lnTo>
                <a:lnTo>
                  <a:pt x="15755" y="156340"/>
                </a:lnTo>
                <a:lnTo>
                  <a:pt x="14191" y="162318"/>
                </a:lnTo>
                <a:lnTo>
                  <a:pt x="10866" y="174042"/>
                </a:lnTo>
                <a:lnTo>
                  <a:pt x="9387" y="185602"/>
                </a:lnTo>
                <a:lnTo>
                  <a:pt x="8730" y="194550"/>
                </a:lnTo>
                <a:lnTo>
                  <a:pt x="8555" y="198269"/>
                </a:lnTo>
                <a:lnTo>
                  <a:pt x="9391" y="201702"/>
                </a:lnTo>
                <a:lnTo>
                  <a:pt x="15617" y="212437"/>
                </a:lnTo>
                <a:lnTo>
                  <a:pt x="24057" y="221500"/>
                </a:lnTo>
                <a:lnTo>
                  <a:pt x="25440" y="221951"/>
                </a:lnTo>
                <a:lnTo>
                  <a:pt x="32617" y="222735"/>
                </a:lnTo>
                <a:lnTo>
                  <a:pt x="42638" y="218268"/>
                </a:lnTo>
                <a:lnTo>
                  <a:pt x="49861" y="216053"/>
                </a:lnTo>
                <a:lnTo>
                  <a:pt x="58152" y="214116"/>
                </a:lnTo>
                <a:lnTo>
                  <a:pt x="71361" y="210080"/>
                </a:lnTo>
                <a:lnTo>
                  <a:pt x="119924" y="194161"/>
                </a:lnTo>
                <a:lnTo>
                  <a:pt x="127452" y="191343"/>
                </a:lnTo>
                <a:lnTo>
                  <a:pt x="134376" y="188511"/>
                </a:lnTo>
                <a:lnTo>
                  <a:pt x="140896" y="185671"/>
                </a:lnTo>
                <a:lnTo>
                  <a:pt x="149053" y="183778"/>
                </a:lnTo>
                <a:lnTo>
                  <a:pt x="158301" y="182516"/>
                </a:lnTo>
                <a:lnTo>
                  <a:pt x="168277" y="181674"/>
                </a:lnTo>
                <a:lnTo>
                  <a:pt x="177785" y="181113"/>
                </a:lnTo>
                <a:lnTo>
                  <a:pt x="195969" y="180490"/>
                </a:lnTo>
                <a:lnTo>
                  <a:pt x="217720" y="180139"/>
                </a:lnTo>
                <a:lnTo>
                  <a:pt x="225034" y="181042"/>
                </a:lnTo>
                <a:lnTo>
                  <a:pt x="232768" y="182597"/>
                </a:lnTo>
                <a:lnTo>
                  <a:pt x="240781" y="184586"/>
                </a:lnTo>
                <a:lnTo>
                  <a:pt x="248028" y="186864"/>
                </a:lnTo>
                <a:lnTo>
                  <a:pt x="254765" y="189336"/>
                </a:lnTo>
                <a:lnTo>
                  <a:pt x="261161" y="191936"/>
                </a:lnTo>
                <a:lnTo>
                  <a:pt x="267329" y="195574"/>
                </a:lnTo>
                <a:lnTo>
                  <a:pt x="273347" y="199905"/>
                </a:lnTo>
                <a:lnTo>
                  <a:pt x="279264" y="204697"/>
                </a:lnTo>
                <a:lnTo>
                  <a:pt x="285113" y="209796"/>
                </a:lnTo>
                <a:lnTo>
                  <a:pt x="290918" y="215102"/>
                </a:lnTo>
                <a:lnTo>
                  <a:pt x="296693" y="220543"/>
                </a:lnTo>
                <a:lnTo>
                  <a:pt x="305649" y="231669"/>
                </a:lnTo>
                <a:lnTo>
                  <a:pt x="312805" y="242012"/>
                </a:lnTo>
                <a:lnTo>
                  <a:pt x="319160" y="249784"/>
                </a:lnTo>
                <a:lnTo>
                  <a:pt x="321236" y="255094"/>
                </a:lnTo>
                <a:lnTo>
                  <a:pt x="322620" y="261493"/>
                </a:lnTo>
                <a:lnTo>
                  <a:pt x="323543" y="268615"/>
                </a:lnTo>
                <a:lnTo>
                  <a:pt x="323205" y="275269"/>
                </a:lnTo>
                <a:lnTo>
                  <a:pt x="322027" y="281610"/>
                </a:lnTo>
                <a:lnTo>
                  <a:pt x="320290" y="287742"/>
                </a:lnTo>
                <a:lnTo>
                  <a:pt x="319132" y="293735"/>
                </a:lnTo>
                <a:lnTo>
                  <a:pt x="317845" y="305474"/>
                </a:lnTo>
                <a:lnTo>
                  <a:pt x="315596" y="310319"/>
                </a:lnTo>
                <a:lnTo>
                  <a:pt x="312193" y="314501"/>
                </a:lnTo>
                <a:lnTo>
                  <a:pt x="303330" y="322641"/>
                </a:lnTo>
                <a:lnTo>
                  <a:pt x="293042" y="332608"/>
                </a:lnTo>
                <a:lnTo>
                  <a:pt x="287631" y="336981"/>
                </a:lnTo>
                <a:lnTo>
                  <a:pt x="282119" y="340849"/>
                </a:lnTo>
                <a:lnTo>
                  <a:pt x="276539" y="344380"/>
                </a:lnTo>
                <a:lnTo>
                  <a:pt x="270915" y="347686"/>
                </a:lnTo>
                <a:lnTo>
                  <a:pt x="265259" y="350843"/>
                </a:lnTo>
                <a:lnTo>
                  <a:pt x="259585" y="353899"/>
                </a:lnTo>
                <a:lnTo>
                  <a:pt x="252944" y="356890"/>
                </a:lnTo>
                <a:lnTo>
                  <a:pt x="245659" y="359836"/>
                </a:lnTo>
                <a:lnTo>
                  <a:pt x="237945" y="362753"/>
                </a:lnTo>
                <a:lnTo>
                  <a:pt x="229945" y="364697"/>
                </a:lnTo>
                <a:lnTo>
                  <a:pt x="221755" y="365994"/>
                </a:lnTo>
                <a:lnTo>
                  <a:pt x="213436" y="366858"/>
                </a:lnTo>
                <a:lnTo>
                  <a:pt x="205033" y="368386"/>
                </a:lnTo>
                <a:lnTo>
                  <a:pt x="196574" y="370358"/>
                </a:lnTo>
                <a:lnTo>
                  <a:pt x="188077" y="372625"/>
                </a:lnTo>
                <a:lnTo>
                  <a:pt x="179555" y="374136"/>
                </a:lnTo>
                <a:lnTo>
                  <a:pt x="171016" y="375144"/>
                </a:lnTo>
                <a:lnTo>
                  <a:pt x="162465" y="375815"/>
                </a:lnTo>
                <a:lnTo>
                  <a:pt x="153908" y="375310"/>
                </a:lnTo>
                <a:lnTo>
                  <a:pt x="145345" y="374022"/>
                </a:lnTo>
                <a:lnTo>
                  <a:pt x="136779" y="372210"/>
                </a:lnTo>
                <a:lnTo>
                  <a:pt x="129164" y="371002"/>
                </a:lnTo>
                <a:lnTo>
                  <a:pt x="122181" y="370196"/>
                </a:lnTo>
                <a:lnTo>
                  <a:pt x="115622" y="369660"/>
                </a:lnTo>
                <a:lnTo>
                  <a:pt x="108392" y="368349"/>
                </a:lnTo>
                <a:lnTo>
                  <a:pt x="100714" y="366523"/>
                </a:lnTo>
                <a:lnTo>
                  <a:pt x="92737" y="364353"/>
                </a:lnTo>
                <a:lnTo>
                  <a:pt x="85515" y="361955"/>
                </a:lnTo>
                <a:lnTo>
                  <a:pt x="78794" y="359402"/>
                </a:lnTo>
                <a:lnTo>
                  <a:pt x="72410" y="356749"/>
                </a:lnTo>
                <a:lnTo>
                  <a:pt x="62776" y="353800"/>
                </a:lnTo>
                <a:lnTo>
                  <a:pt x="54366" y="352490"/>
                </a:lnTo>
                <a:lnTo>
                  <a:pt x="44279" y="351907"/>
                </a:lnTo>
                <a:lnTo>
                  <a:pt x="39874" y="350799"/>
                </a:lnTo>
                <a:lnTo>
                  <a:pt x="30077" y="345642"/>
                </a:lnTo>
                <a:lnTo>
                  <a:pt x="27451" y="344101"/>
                </a:lnTo>
                <a:lnTo>
                  <a:pt x="23744" y="343416"/>
                </a:lnTo>
                <a:lnTo>
                  <a:pt x="16777" y="3428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MARTPenAnnotation713"/>
          <p:cNvSpPr/>
          <p:nvPr/>
        </p:nvSpPr>
        <p:spPr>
          <a:xfrm>
            <a:off x="714240" y="4251240"/>
            <a:ext cx="239760" cy="541440"/>
          </a:xfrm>
          <a:custGeom>
            <a:avLst/>
            <a:gdLst>
              <a:gd name="textAreaLeft" fmla="*/ 0 w 239760"/>
              <a:gd name="textAreaRight" fmla="*/ 240120 w 23976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239922" h="540058">
                <a:moveTo>
                  <a:pt x="239921" y="17143"/>
                </a:moveTo>
                <a:lnTo>
                  <a:pt x="235371" y="17143"/>
                </a:lnTo>
                <a:lnTo>
                  <a:pt x="233077" y="16191"/>
                </a:lnTo>
                <a:lnTo>
                  <a:pt x="226252" y="11252"/>
                </a:lnTo>
                <a:lnTo>
                  <a:pt x="224321" y="9763"/>
                </a:lnTo>
                <a:lnTo>
                  <a:pt x="218383" y="9101"/>
                </a:lnTo>
                <a:lnTo>
                  <a:pt x="214132" y="8924"/>
                </a:lnTo>
                <a:lnTo>
                  <a:pt x="211299" y="7854"/>
                </a:lnTo>
                <a:lnTo>
                  <a:pt x="209410" y="6188"/>
                </a:lnTo>
                <a:lnTo>
                  <a:pt x="208150" y="4125"/>
                </a:lnTo>
                <a:lnTo>
                  <a:pt x="205406" y="2749"/>
                </a:lnTo>
                <a:lnTo>
                  <a:pt x="201671" y="1832"/>
                </a:lnTo>
                <a:lnTo>
                  <a:pt x="189258" y="106"/>
                </a:lnTo>
                <a:lnTo>
                  <a:pt x="181795" y="20"/>
                </a:lnTo>
                <a:lnTo>
                  <a:pt x="167254" y="0"/>
                </a:lnTo>
                <a:lnTo>
                  <a:pt x="164807" y="952"/>
                </a:lnTo>
                <a:lnTo>
                  <a:pt x="159547" y="4550"/>
                </a:lnTo>
                <a:lnTo>
                  <a:pt x="154035" y="9324"/>
                </a:lnTo>
                <a:lnTo>
                  <a:pt x="151231" y="11930"/>
                </a:lnTo>
                <a:lnTo>
                  <a:pt x="145576" y="19907"/>
                </a:lnTo>
                <a:lnTo>
                  <a:pt x="139888" y="28849"/>
                </a:lnTo>
                <a:lnTo>
                  <a:pt x="134184" y="35998"/>
                </a:lnTo>
                <a:lnTo>
                  <a:pt x="130378" y="40191"/>
                </a:lnTo>
                <a:lnTo>
                  <a:pt x="121068" y="49929"/>
                </a:lnTo>
                <a:lnTo>
                  <a:pt x="115918" y="56146"/>
                </a:lnTo>
                <a:lnTo>
                  <a:pt x="110580" y="63148"/>
                </a:lnTo>
                <a:lnTo>
                  <a:pt x="105116" y="70673"/>
                </a:lnTo>
                <a:lnTo>
                  <a:pt x="99569" y="77595"/>
                </a:lnTo>
                <a:lnTo>
                  <a:pt x="93966" y="84115"/>
                </a:lnTo>
                <a:lnTo>
                  <a:pt x="88325" y="90366"/>
                </a:lnTo>
                <a:lnTo>
                  <a:pt x="83612" y="96439"/>
                </a:lnTo>
                <a:lnTo>
                  <a:pt x="79518" y="102392"/>
                </a:lnTo>
                <a:lnTo>
                  <a:pt x="75836" y="108266"/>
                </a:lnTo>
                <a:lnTo>
                  <a:pt x="71476" y="114087"/>
                </a:lnTo>
                <a:lnTo>
                  <a:pt x="66664" y="119872"/>
                </a:lnTo>
                <a:lnTo>
                  <a:pt x="61552" y="125634"/>
                </a:lnTo>
                <a:lnTo>
                  <a:pt x="57191" y="132333"/>
                </a:lnTo>
                <a:lnTo>
                  <a:pt x="49805" y="147396"/>
                </a:lnTo>
                <a:lnTo>
                  <a:pt x="45550" y="154461"/>
                </a:lnTo>
                <a:lnTo>
                  <a:pt x="40808" y="161076"/>
                </a:lnTo>
                <a:lnTo>
                  <a:pt x="35742" y="167391"/>
                </a:lnTo>
                <a:lnTo>
                  <a:pt x="31411" y="173506"/>
                </a:lnTo>
                <a:lnTo>
                  <a:pt x="24060" y="185380"/>
                </a:lnTo>
                <a:lnTo>
                  <a:pt x="17618" y="197008"/>
                </a:lnTo>
                <a:lnTo>
                  <a:pt x="12532" y="208526"/>
                </a:lnTo>
                <a:lnTo>
                  <a:pt x="10272" y="219995"/>
                </a:lnTo>
                <a:lnTo>
                  <a:pt x="9268" y="233982"/>
                </a:lnTo>
                <a:lnTo>
                  <a:pt x="7869" y="248771"/>
                </a:lnTo>
                <a:lnTo>
                  <a:pt x="4072" y="261694"/>
                </a:lnTo>
                <a:lnTo>
                  <a:pt x="1749" y="276328"/>
                </a:lnTo>
                <a:lnTo>
                  <a:pt x="717" y="291404"/>
                </a:lnTo>
                <a:lnTo>
                  <a:pt x="258" y="304455"/>
                </a:lnTo>
                <a:lnTo>
                  <a:pt x="0" y="322512"/>
                </a:lnTo>
                <a:lnTo>
                  <a:pt x="2480" y="336695"/>
                </a:lnTo>
                <a:lnTo>
                  <a:pt x="5804" y="351571"/>
                </a:lnTo>
                <a:lnTo>
                  <a:pt x="7282" y="364533"/>
                </a:lnTo>
                <a:lnTo>
                  <a:pt x="10479" y="376644"/>
                </a:lnTo>
                <a:lnTo>
                  <a:pt x="14122" y="388377"/>
                </a:lnTo>
                <a:lnTo>
                  <a:pt x="15741" y="399941"/>
                </a:lnTo>
                <a:lnTo>
                  <a:pt x="18078" y="405692"/>
                </a:lnTo>
                <a:lnTo>
                  <a:pt x="21541" y="411431"/>
                </a:lnTo>
                <a:lnTo>
                  <a:pt x="25754" y="417162"/>
                </a:lnTo>
                <a:lnTo>
                  <a:pt x="30436" y="428609"/>
                </a:lnTo>
                <a:lnTo>
                  <a:pt x="33469" y="440048"/>
                </a:lnTo>
                <a:lnTo>
                  <a:pt x="40532" y="456244"/>
                </a:lnTo>
                <a:lnTo>
                  <a:pt x="48657" y="468452"/>
                </a:lnTo>
                <a:lnTo>
                  <a:pt x="54268" y="478392"/>
                </a:lnTo>
                <a:lnTo>
                  <a:pt x="58050" y="482758"/>
                </a:lnTo>
                <a:lnTo>
                  <a:pt x="62476" y="486621"/>
                </a:lnTo>
                <a:lnTo>
                  <a:pt x="67332" y="490148"/>
                </a:lnTo>
                <a:lnTo>
                  <a:pt x="70569" y="493453"/>
                </a:lnTo>
                <a:lnTo>
                  <a:pt x="72728" y="496608"/>
                </a:lnTo>
                <a:lnTo>
                  <a:pt x="76078" y="502654"/>
                </a:lnTo>
                <a:lnTo>
                  <a:pt x="83319" y="511413"/>
                </a:lnTo>
                <a:lnTo>
                  <a:pt x="88723" y="517171"/>
                </a:lnTo>
                <a:lnTo>
                  <a:pt x="97120" y="525769"/>
                </a:lnTo>
                <a:lnTo>
                  <a:pt x="100906" y="527677"/>
                </a:lnTo>
                <a:lnTo>
                  <a:pt x="105334" y="528949"/>
                </a:lnTo>
                <a:lnTo>
                  <a:pt x="117028" y="530991"/>
                </a:lnTo>
                <a:lnTo>
                  <a:pt x="121167" y="533810"/>
                </a:lnTo>
                <a:lnTo>
                  <a:pt x="128051" y="539700"/>
                </a:lnTo>
                <a:lnTo>
                  <a:pt x="135208" y="540018"/>
                </a:lnTo>
                <a:lnTo>
                  <a:pt x="136687" y="540057"/>
                </a:lnTo>
                <a:lnTo>
                  <a:pt x="137051" y="5314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MARTPenAnnotation714"/>
          <p:cNvSpPr/>
          <p:nvPr/>
        </p:nvSpPr>
        <p:spPr>
          <a:xfrm>
            <a:off x="1974960" y="4226040"/>
            <a:ext cx="196920" cy="446040"/>
          </a:xfrm>
          <a:custGeom>
            <a:avLst/>
            <a:gdLst>
              <a:gd name="textAreaLeft" fmla="*/ 0 w 196920"/>
              <a:gd name="textAreaRight" fmla="*/ 197280 w 19692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97010" h="445771">
                <a:moveTo>
                  <a:pt x="0" y="0"/>
                </a:moveTo>
                <a:lnTo>
                  <a:pt x="8220" y="0"/>
                </a:lnTo>
                <a:lnTo>
                  <a:pt x="13019" y="4551"/>
                </a:lnTo>
                <a:lnTo>
                  <a:pt x="15347" y="5891"/>
                </a:lnTo>
                <a:lnTo>
                  <a:pt x="20473" y="7381"/>
                </a:lnTo>
                <a:lnTo>
                  <a:pt x="25927" y="8043"/>
                </a:lnTo>
                <a:lnTo>
                  <a:pt x="28714" y="8220"/>
                </a:lnTo>
                <a:lnTo>
                  <a:pt x="31525" y="9290"/>
                </a:lnTo>
                <a:lnTo>
                  <a:pt x="37189" y="13019"/>
                </a:lnTo>
                <a:lnTo>
                  <a:pt x="42881" y="15311"/>
                </a:lnTo>
                <a:lnTo>
                  <a:pt x="45732" y="15923"/>
                </a:lnTo>
                <a:lnTo>
                  <a:pt x="51440" y="19142"/>
                </a:lnTo>
                <a:lnTo>
                  <a:pt x="57152" y="23747"/>
                </a:lnTo>
                <a:lnTo>
                  <a:pt x="62866" y="28969"/>
                </a:lnTo>
                <a:lnTo>
                  <a:pt x="66676" y="31695"/>
                </a:lnTo>
                <a:lnTo>
                  <a:pt x="71120" y="34465"/>
                </a:lnTo>
                <a:lnTo>
                  <a:pt x="75988" y="37265"/>
                </a:lnTo>
                <a:lnTo>
                  <a:pt x="86478" y="42915"/>
                </a:lnTo>
                <a:lnTo>
                  <a:pt x="91942" y="45755"/>
                </a:lnTo>
                <a:lnTo>
                  <a:pt x="96537" y="48601"/>
                </a:lnTo>
                <a:lnTo>
                  <a:pt x="100553" y="51451"/>
                </a:lnTo>
                <a:lnTo>
                  <a:pt x="104183" y="54303"/>
                </a:lnTo>
                <a:lnTo>
                  <a:pt x="108508" y="57157"/>
                </a:lnTo>
                <a:lnTo>
                  <a:pt x="113296" y="60012"/>
                </a:lnTo>
                <a:lnTo>
                  <a:pt x="118393" y="62868"/>
                </a:lnTo>
                <a:lnTo>
                  <a:pt x="129137" y="68582"/>
                </a:lnTo>
                <a:lnTo>
                  <a:pt x="134669" y="71439"/>
                </a:lnTo>
                <a:lnTo>
                  <a:pt x="139309" y="75248"/>
                </a:lnTo>
                <a:lnTo>
                  <a:pt x="143355" y="79693"/>
                </a:lnTo>
                <a:lnTo>
                  <a:pt x="147005" y="84561"/>
                </a:lnTo>
                <a:lnTo>
                  <a:pt x="150391" y="89712"/>
                </a:lnTo>
                <a:lnTo>
                  <a:pt x="153601" y="95050"/>
                </a:lnTo>
                <a:lnTo>
                  <a:pt x="156693" y="100514"/>
                </a:lnTo>
                <a:lnTo>
                  <a:pt x="160659" y="105109"/>
                </a:lnTo>
                <a:lnTo>
                  <a:pt x="165209" y="109125"/>
                </a:lnTo>
                <a:lnTo>
                  <a:pt x="170147" y="112755"/>
                </a:lnTo>
                <a:lnTo>
                  <a:pt x="174391" y="117080"/>
                </a:lnTo>
                <a:lnTo>
                  <a:pt x="178173" y="121868"/>
                </a:lnTo>
                <a:lnTo>
                  <a:pt x="181647" y="126965"/>
                </a:lnTo>
                <a:lnTo>
                  <a:pt x="184916" y="132269"/>
                </a:lnTo>
                <a:lnTo>
                  <a:pt x="188047" y="137709"/>
                </a:lnTo>
                <a:lnTo>
                  <a:pt x="191087" y="143241"/>
                </a:lnTo>
                <a:lnTo>
                  <a:pt x="194465" y="154468"/>
                </a:lnTo>
                <a:lnTo>
                  <a:pt x="195966" y="166760"/>
                </a:lnTo>
                <a:lnTo>
                  <a:pt x="196367" y="174039"/>
                </a:lnTo>
                <a:lnTo>
                  <a:pt x="196812" y="189746"/>
                </a:lnTo>
                <a:lnTo>
                  <a:pt x="197009" y="206251"/>
                </a:lnTo>
                <a:lnTo>
                  <a:pt x="196109" y="213701"/>
                </a:lnTo>
                <a:lnTo>
                  <a:pt x="192570" y="227058"/>
                </a:lnTo>
                <a:lnTo>
                  <a:pt x="191245" y="234240"/>
                </a:lnTo>
                <a:lnTo>
                  <a:pt x="190362" y="241885"/>
                </a:lnTo>
                <a:lnTo>
                  <a:pt x="189773" y="249839"/>
                </a:lnTo>
                <a:lnTo>
                  <a:pt x="188428" y="258000"/>
                </a:lnTo>
                <a:lnTo>
                  <a:pt x="186578" y="266297"/>
                </a:lnTo>
                <a:lnTo>
                  <a:pt x="184393" y="274687"/>
                </a:lnTo>
                <a:lnTo>
                  <a:pt x="181984" y="282185"/>
                </a:lnTo>
                <a:lnTo>
                  <a:pt x="176767" y="295595"/>
                </a:lnTo>
                <a:lnTo>
                  <a:pt x="173090" y="302791"/>
                </a:lnTo>
                <a:lnTo>
                  <a:pt x="168733" y="310446"/>
                </a:lnTo>
                <a:lnTo>
                  <a:pt x="163924" y="318406"/>
                </a:lnTo>
                <a:lnTo>
                  <a:pt x="159765" y="325618"/>
                </a:lnTo>
                <a:lnTo>
                  <a:pt x="152604" y="338712"/>
                </a:lnTo>
                <a:lnTo>
                  <a:pt x="148408" y="344871"/>
                </a:lnTo>
                <a:lnTo>
                  <a:pt x="143706" y="350881"/>
                </a:lnTo>
                <a:lnTo>
                  <a:pt x="138667" y="356793"/>
                </a:lnTo>
                <a:lnTo>
                  <a:pt x="134355" y="362640"/>
                </a:lnTo>
                <a:lnTo>
                  <a:pt x="130527" y="368442"/>
                </a:lnTo>
                <a:lnTo>
                  <a:pt x="127023" y="374215"/>
                </a:lnTo>
                <a:lnTo>
                  <a:pt x="123735" y="379017"/>
                </a:lnTo>
                <a:lnTo>
                  <a:pt x="120590" y="383171"/>
                </a:lnTo>
                <a:lnTo>
                  <a:pt x="117541" y="386892"/>
                </a:lnTo>
                <a:lnTo>
                  <a:pt x="115508" y="391278"/>
                </a:lnTo>
                <a:lnTo>
                  <a:pt x="113249" y="401232"/>
                </a:lnTo>
                <a:lnTo>
                  <a:pt x="110742" y="405600"/>
                </a:lnTo>
                <a:lnTo>
                  <a:pt x="107166" y="409465"/>
                </a:lnTo>
                <a:lnTo>
                  <a:pt x="102876" y="412994"/>
                </a:lnTo>
                <a:lnTo>
                  <a:pt x="100016" y="416299"/>
                </a:lnTo>
                <a:lnTo>
                  <a:pt x="98110" y="419456"/>
                </a:lnTo>
                <a:lnTo>
                  <a:pt x="96839" y="422512"/>
                </a:lnTo>
                <a:lnTo>
                  <a:pt x="95040" y="424550"/>
                </a:lnTo>
                <a:lnTo>
                  <a:pt x="92887" y="425908"/>
                </a:lnTo>
                <a:lnTo>
                  <a:pt x="90500" y="426814"/>
                </a:lnTo>
                <a:lnTo>
                  <a:pt x="85307" y="430360"/>
                </a:lnTo>
                <a:lnTo>
                  <a:pt x="82589" y="432639"/>
                </a:lnTo>
                <a:lnTo>
                  <a:pt x="80777" y="435111"/>
                </a:lnTo>
                <a:lnTo>
                  <a:pt x="78763" y="440398"/>
                </a:lnTo>
                <a:lnTo>
                  <a:pt x="77274" y="442188"/>
                </a:lnTo>
                <a:lnTo>
                  <a:pt x="75328" y="443383"/>
                </a:lnTo>
                <a:lnTo>
                  <a:pt x="68632" y="445752"/>
                </a:lnTo>
                <a:lnTo>
                  <a:pt x="68580" y="445770"/>
                </a:lnTo>
                <a:lnTo>
                  <a:pt x="68580" y="437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MARTPenAnnotation715"/>
          <p:cNvSpPr/>
          <p:nvPr/>
        </p:nvSpPr>
        <p:spPr>
          <a:xfrm>
            <a:off x="2317680" y="4175280"/>
            <a:ext cx="214560" cy="547560"/>
          </a:xfrm>
          <a:custGeom>
            <a:avLst/>
            <a:gdLst>
              <a:gd name="textAreaLeft" fmla="*/ 0 w 214560"/>
              <a:gd name="textAreaRight" fmla="*/ 214920 w 214560"/>
              <a:gd name="textAreaTop" fmla="*/ 0 h 547560"/>
              <a:gd name="textAreaBottom" fmla="*/ 547920 h 547560"/>
            </a:gdLst>
            <a:ahLst/>
            <a:rect l="textAreaLeft" t="textAreaTop" r="textAreaRight" b="textAreaBottom"/>
            <a:pathLst>
              <a:path w="214195" h="548641">
                <a:moveTo>
                  <a:pt x="214194" y="0"/>
                </a:moveTo>
                <a:lnTo>
                  <a:pt x="198346" y="0"/>
                </a:lnTo>
                <a:lnTo>
                  <a:pt x="197914" y="953"/>
                </a:lnTo>
                <a:lnTo>
                  <a:pt x="197433" y="4551"/>
                </a:lnTo>
                <a:lnTo>
                  <a:pt x="196353" y="6844"/>
                </a:lnTo>
                <a:lnTo>
                  <a:pt x="190281" y="14622"/>
                </a:lnTo>
                <a:lnTo>
                  <a:pt x="185151" y="20151"/>
                </a:lnTo>
                <a:lnTo>
                  <a:pt x="172357" y="33170"/>
                </a:lnTo>
                <a:lnTo>
                  <a:pt x="167253" y="37353"/>
                </a:lnTo>
                <a:lnTo>
                  <a:pt x="161945" y="41095"/>
                </a:lnTo>
                <a:lnTo>
                  <a:pt x="156502" y="44542"/>
                </a:lnTo>
                <a:lnTo>
                  <a:pt x="151920" y="49697"/>
                </a:lnTo>
                <a:lnTo>
                  <a:pt x="147913" y="55991"/>
                </a:lnTo>
                <a:lnTo>
                  <a:pt x="144289" y="63045"/>
                </a:lnTo>
                <a:lnTo>
                  <a:pt x="139969" y="69653"/>
                </a:lnTo>
                <a:lnTo>
                  <a:pt x="135183" y="75963"/>
                </a:lnTo>
                <a:lnTo>
                  <a:pt x="130088" y="82075"/>
                </a:lnTo>
                <a:lnTo>
                  <a:pt x="124786" y="88054"/>
                </a:lnTo>
                <a:lnTo>
                  <a:pt x="113815" y="99778"/>
                </a:lnTo>
                <a:lnTo>
                  <a:pt x="96928" y="117088"/>
                </a:lnTo>
                <a:lnTo>
                  <a:pt x="91249" y="123779"/>
                </a:lnTo>
                <a:lnTo>
                  <a:pt x="85559" y="131097"/>
                </a:lnTo>
                <a:lnTo>
                  <a:pt x="79860" y="138833"/>
                </a:lnTo>
                <a:lnTo>
                  <a:pt x="68447" y="155049"/>
                </a:lnTo>
                <a:lnTo>
                  <a:pt x="62737" y="163373"/>
                </a:lnTo>
                <a:lnTo>
                  <a:pt x="57978" y="170828"/>
                </a:lnTo>
                <a:lnTo>
                  <a:pt x="53853" y="177703"/>
                </a:lnTo>
                <a:lnTo>
                  <a:pt x="50150" y="184192"/>
                </a:lnTo>
                <a:lnTo>
                  <a:pt x="43496" y="199020"/>
                </a:lnTo>
                <a:lnTo>
                  <a:pt x="37363" y="215136"/>
                </a:lnTo>
                <a:lnTo>
                  <a:pt x="28556" y="240275"/>
                </a:lnTo>
                <a:lnTo>
                  <a:pt x="14182" y="282925"/>
                </a:lnTo>
                <a:lnTo>
                  <a:pt x="11000" y="300052"/>
                </a:lnTo>
                <a:lnTo>
                  <a:pt x="8633" y="316237"/>
                </a:lnTo>
                <a:lnTo>
                  <a:pt x="4406" y="329780"/>
                </a:lnTo>
                <a:lnTo>
                  <a:pt x="1893" y="344689"/>
                </a:lnTo>
                <a:lnTo>
                  <a:pt x="776" y="360840"/>
                </a:lnTo>
                <a:lnTo>
                  <a:pt x="279" y="377544"/>
                </a:lnTo>
                <a:lnTo>
                  <a:pt x="0" y="398462"/>
                </a:lnTo>
                <a:lnTo>
                  <a:pt x="2474" y="413314"/>
                </a:lnTo>
                <a:lnTo>
                  <a:pt x="6749" y="429440"/>
                </a:lnTo>
                <a:lnTo>
                  <a:pt x="11824" y="446132"/>
                </a:lnTo>
                <a:lnTo>
                  <a:pt x="17254" y="460536"/>
                </a:lnTo>
                <a:lnTo>
                  <a:pt x="22843" y="473288"/>
                </a:lnTo>
                <a:lnTo>
                  <a:pt x="28502" y="485305"/>
                </a:lnTo>
                <a:lnTo>
                  <a:pt x="34192" y="494457"/>
                </a:lnTo>
                <a:lnTo>
                  <a:pt x="37043" y="498230"/>
                </a:lnTo>
                <a:lnTo>
                  <a:pt x="40848" y="501699"/>
                </a:lnTo>
                <a:lnTo>
                  <a:pt x="45290" y="504963"/>
                </a:lnTo>
                <a:lnTo>
                  <a:pt x="50157" y="508092"/>
                </a:lnTo>
                <a:lnTo>
                  <a:pt x="54354" y="511131"/>
                </a:lnTo>
                <a:lnTo>
                  <a:pt x="58104" y="514109"/>
                </a:lnTo>
                <a:lnTo>
                  <a:pt x="61556" y="517047"/>
                </a:lnTo>
                <a:lnTo>
                  <a:pt x="67933" y="522851"/>
                </a:lnTo>
                <a:lnTo>
                  <a:pt x="70967" y="525732"/>
                </a:lnTo>
                <a:lnTo>
                  <a:pt x="74894" y="527653"/>
                </a:lnTo>
                <a:lnTo>
                  <a:pt x="79418" y="528934"/>
                </a:lnTo>
                <a:lnTo>
                  <a:pt x="84338" y="529788"/>
                </a:lnTo>
                <a:lnTo>
                  <a:pt x="88571" y="530356"/>
                </a:lnTo>
                <a:lnTo>
                  <a:pt x="92346" y="530736"/>
                </a:lnTo>
                <a:lnTo>
                  <a:pt x="95815" y="530989"/>
                </a:lnTo>
                <a:lnTo>
                  <a:pt x="99080" y="532110"/>
                </a:lnTo>
                <a:lnTo>
                  <a:pt x="105247" y="535896"/>
                </a:lnTo>
                <a:lnTo>
                  <a:pt x="111163" y="538214"/>
                </a:lnTo>
                <a:lnTo>
                  <a:pt x="116968" y="539244"/>
                </a:lnTo>
                <a:lnTo>
                  <a:pt x="122723" y="539701"/>
                </a:lnTo>
                <a:lnTo>
                  <a:pt x="126543" y="540776"/>
                </a:lnTo>
                <a:lnTo>
                  <a:pt x="130995" y="542445"/>
                </a:lnTo>
                <a:lnTo>
                  <a:pt x="135868" y="544510"/>
                </a:lnTo>
                <a:lnTo>
                  <a:pt x="140070" y="545887"/>
                </a:lnTo>
                <a:lnTo>
                  <a:pt x="143823" y="546805"/>
                </a:lnTo>
                <a:lnTo>
                  <a:pt x="147278" y="547416"/>
                </a:lnTo>
                <a:lnTo>
                  <a:pt x="153656" y="548096"/>
                </a:lnTo>
                <a:lnTo>
                  <a:pt x="159666" y="548398"/>
                </a:lnTo>
                <a:lnTo>
                  <a:pt x="171332" y="5486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MARTPenAnnotation716"/>
          <p:cNvSpPr/>
          <p:nvPr/>
        </p:nvSpPr>
        <p:spPr>
          <a:xfrm>
            <a:off x="3406680" y="4175280"/>
            <a:ext cx="212760" cy="444240"/>
          </a:xfrm>
          <a:custGeom>
            <a:avLst/>
            <a:gdLst>
              <a:gd name="textAreaLeft" fmla="*/ 0 w 212760"/>
              <a:gd name="textAreaRight" fmla="*/ 213120 w 2127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212586" h="445370">
                <a:moveTo>
                  <a:pt x="0" y="8569"/>
                </a:moveTo>
                <a:lnTo>
                  <a:pt x="0" y="102"/>
                </a:lnTo>
                <a:lnTo>
                  <a:pt x="5892" y="18"/>
                </a:lnTo>
                <a:lnTo>
                  <a:pt x="12771" y="0"/>
                </a:lnTo>
                <a:lnTo>
                  <a:pt x="15182" y="951"/>
                </a:lnTo>
                <a:lnTo>
                  <a:pt x="20400" y="4549"/>
                </a:lnTo>
                <a:lnTo>
                  <a:pt x="24077" y="5889"/>
                </a:lnTo>
                <a:lnTo>
                  <a:pt x="28435" y="6782"/>
                </a:lnTo>
                <a:lnTo>
                  <a:pt x="33244" y="7378"/>
                </a:lnTo>
                <a:lnTo>
                  <a:pt x="37403" y="7775"/>
                </a:lnTo>
                <a:lnTo>
                  <a:pt x="41128" y="8040"/>
                </a:lnTo>
                <a:lnTo>
                  <a:pt x="44564" y="8217"/>
                </a:lnTo>
                <a:lnTo>
                  <a:pt x="48759" y="9287"/>
                </a:lnTo>
                <a:lnTo>
                  <a:pt x="53461" y="10953"/>
                </a:lnTo>
                <a:lnTo>
                  <a:pt x="58501" y="13016"/>
                </a:lnTo>
                <a:lnTo>
                  <a:pt x="62813" y="15344"/>
                </a:lnTo>
                <a:lnTo>
                  <a:pt x="66641" y="17848"/>
                </a:lnTo>
                <a:lnTo>
                  <a:pt x="70145" y="20470"/>
                </a:lnTo>
                <a:lnTo>
                  <a:pt x="74386" y="23171"/>
                </a:lnTo>
                <a:lnTo>
                  <a:pt x="79118" y="25924"/>
                </a:lnTo>
                <a:lnTo>
                  <a:pt x="84178" y="28712"/>
                </a:lnTo>
                <a:lnTo>
                  <a:pt x="89456" y="30570"/>
                </a:lnTo>
                <a:lnTo>
                  <a:pt x="94880" y="31809"/>
                </a:lnTo>
                <a:lnTo>
                  <a:pt x="100402" y="32635"/>
                </a:lnTo>
                <a:lnTo>
                  <a:pt x="105987" y="34138"/>
                </a:lnTo>
                <a:lnTo>
                  <a:pt x="111616" y="36093"/>
                </a:lnTo>
                <a:lnTo>
                  <a:pt x="117273" y="38349"/>
                </a:lnTo>
                <a:lnTo>
                  <a:pt x="122950" y="41757"/>
                </a:lnTo>
                <a:lnTo>
                  <a:pt x="128639" y="45935"/>
                </a:lnTo>
                <a:lnTo>
                  <a:pt x="134337" y="50625"/>
                </a:lnTo>
                <a:lnTo>
                  <a:pt x="140041" y="55656"/>
                </a:lnTo>
                <a:lnTo>
                  <a:pt x="151458" y="66327"/>
                </a:lnTo>
                <a:lnTo>
                  <a:pt x="156217" y="71840"/>
                </a:lnTo>
                <a:lnTo>
                  <a:pt x="160342" y="77419"/>
                </a:lnTo>
                <a:lnTo>
                  <a:pt x="164045" y="83045"/>
                </a:lnTo>
                <a:lnTo>
                  <a:pt x="168419" y="87747"/>
                </a:lnTo>
                <a:lnTo>
                  <a:pt x="173239" y="91834"/>
                </a:lnTo>
                <a:lnTo>
                  <a:pt x="178358" y="95512"/>
                </a:lnTo>
                <a:lnTo>
                  <a:pt x="182723" y="99869"/>
                </a:lnTo>
                <a:lnTo>
                  <a:pt x="186586" y="104678"/>
                </a:lnTo>
                <a:lnTo>
                  <a:pt x="190113" y="109790"/>
                </a:lnTo>
                <a:lnTo>
                  <a:pt x="196572" y="123089"/>
                </a:lnTo>
                <a:lnTo>
                  <a:pt x="199628" y="130636"/>
                </a:lnTo>
                <a:lnTo>
                  <a:pt x="205564" y="144101"/>
                </a:lnTo>
                <a:lnTo>
                  <a:pt x="208481" y="150359"/>
                </a:lnTo>
                <a:lnTo>
                  <a:pt x="210425" y="157388"/>
                </a:lnTo>
                <a:lnTo>
                  <a:pt x="211721" y="164932"/>
                </a:lnTo>
                <a:lnTo>
                  <a:pt x="212585" y="172819"/>
                </a:lnTo>
                <a:lnTo>
                  <a:pt x="212209" y="180934"/>
                </a:lnTo>
                <a:lnTo>
                  <a:pt x="211005" y="189202"/>
                </a:lnTo>
                <a:lnTo>
                  <a:pt x="209250" y="197571"/>
                </a:lnTo>
                <a:lnTo>
                  <a:pt x="208080" y="206008"/>
                </a:lnTo>
                <a:lnTo>
                  <a:pt x="207300" y="214490"/>
                </a:lnTo>
                <a:lnTo>
                  <a:pt x="206781" y="223003"/>
                </a:lnTo>
                <a:lnTo>
                  <a:pt x="204528" y="231535"/>
                </a:lnTo>
                <a:lnTo>
                  <a:pt x="201122" y="240081"/>
                </a:lnTo>
                <a:lnTo>
                  <a:pt x="196947" y="248635"/>
                </a:lnTo>
                <a:lnTo>
                  <a:pt x="193211" y="257196"/>
                </a:lnTo>
                <a:lnTo>
                  <a:pt x="189767" y="265760"/>
                </a:lnTo>
                <a:lnTo>
                  <a:pt x="186519" y="274328"/>
                </a:lnTo>
                <a:lnTo>
                  <a:pt x="182448" y="282896"/>
                </a:lnTo>
                <a:lnTo>
                  <a:pt x="177830" y="291467"/>
                </a:lnTo>
                <a:lnTo>
                  <a:pt x="172846" y="300038"/>
                </a:lnTo>
                <a:lnTo>
                  <a:pt x="162228" y="317181"/>
                </a:lnTo>
                <a:lnTo>
                  <a:pt x="156730" y="325753"/>
                </a:lnTo>
                <a:lnTo>
                  <a:pt x="151159" y="333373"/>
                </a:lnTo>
                <a:lnTo>
                  <a:pt x="145540" y="340357"/>
                </a:lnTo>
                <a:lnTo>
                  <a:pt x="139889" y="346919"/>
                </a:lnTo>
                <a:lnTo>
                  <a:pt x="134217" y="354151"/>
                </a:lnTo>
                <a:lnTo>
                  <a:pt x="128531" y="361830"/>
                </a:lnTo>
                <a:lnTo>
                  <a:pt x="122835" y="369807"/>
                </a:lnTo>
                <a:lnTo>
                  <a:pt x="117133" y="376077"/>
                </a:lnTo>
                <a:lnTo>
                  <a:pt x="111426" y="381209"/>
                </a:lnTo>
                <a:lnTo>
                  <a:pt x="105717" y="385583"/>
                </a:lnTo>
                <a:lnTo>
                  <a:pt x="100006" y="390405"/>
                </a:lnTo>
                <a:lnTo>
                  <a:pt x="94293" y="395524"/>
                </a:lnTo>
                <a:lnTo>
                  <a:pt x="79692" y="409290"/>
                </a:lnTo>
                <a:lnTo>
                  <a:pt x="75988" y="412877"/>
                </a:lnTo>
                <a:lnTo>
                  <a:pt x="71614" y="416220"/>
                </a:lnTo>
                <a:lnTo>
                  <a:pt x="66793" y="419402"/>
                </a:lnTo>
                <a:lnTo>
                  <a:pt x="61674" y="422475"/>
                </a:lnTo>
                <a:lnTo>
                  <a:pt x="57308" y="425477"/>
                </a:lnTo>
                <a:lnTo>
                  <a:pt x="53446" y="428430"/>
                </a:lnTo>
                <a:lnTo>
                  <a:pt x="49918" y="431352"/>
                </a:lnTo>
                <a:lnTo>
                  <a:pt x="43458" y="434598"/>
                </a:lnTo>
                <a:lnTo>
                  <a:pt x="40403" y="435463"/>
                </a:lnTo>
                <a:lnTo>
                  <a:pt x="34467" y="438965"/>
                </a:lnTo>
                <a:lnTo>
                  <a:pt x="27446" y="444423"/>
                </a:lnTo>
                <a:lnTo>
                  <a:pt x="23946" y="445170"/>
                </a:lnTo>
                <a:lnTo>
                  <a:pt x="21679" y="445369"/>
                </a:lnTo>
                <a:lnTo>
                  <a:pt x="20168" y="444549"/>
                </a:lnTo>
                <a:lnTo>
                  <a:pt x="19160" y="443050"/>
                </a:lnTo>
                <a:lnTo>
                  <a:pt x="18489" y="441098"/>
                </a:lnTo>
                <a:lnTo>
                  <a:pt x="17089" y="439797"/>
                </a:lnTo>
                <a:lnTo>
                  <a:pt x="15203" y="438930"/>
                </a:lnTo>
                <a:lnTo>
                  <a:pt x="8961" y="437296"/>
                </a:lnTo>
                <a:lnTo>
                  <a:pt x="8573" y="4286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MARTPenAnnotation717"/>
          <p:cNvSpPr/>
          <p:nvPr/>
        </p:nvSpPr>
        <p:spPr>
          <a:xfrm>
            <a:off x="1049400" y="4363920"/>
            <a:ext cx="272880" cy="290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74312" h="291466">
                <a:moveTo>
                  <a:pt x="8563" y="0"/>
                </a:moveTo>
                <a:lnTo>
                  <a:pt x="0" y="0"/>
                </a:lnTo>
                <a:lnTo>
                  <a:pt x="12761" y="12770"/>
                </a:lnTo>
                <a:lnTo>
                  <a:pt x="14220" y="15181"/>
                </a:lnTo>
                <a:lnTo>
                  <a:pt x="17224" y="23125"/>
                </a:lnTo>
                <a:lnTo>
                  <a:pt x="21303" y="28693"/>
                </a:lnTo>
                <a:lnTo>
                  <a:pt x="28830" y="34342"/>
                </a:lnTo>
                <a:lnTo>
                  <a:pt x="33505" y="37182"/>
                </a:lnTo>
                <a:lnTo>
                  <a:pt x="41238" y="45418"/>
                </a:lnTo>
                <a:lnTo>
                  <a:pt x="44634" y="50281"/>
                </a:lnTo>
                <a:lnTo>
                  <a:pt x="48803" y="54476"/>
                </a:lnTo>
                <a:lnTo>
                  <a:pt x="53487" y="58225"/>
                </a:lnTo>
                <a:lnTo>
                  <a:pt x="58515" y="61677"/>
                </a:lnTo>
                <a:lnTo>
                  <a:pt x="63772" y="65883"/>
                </a:lnTo>
                <a:lnTo>
                  <a:pt x="69182" y="70592"/>
                </a:lnTo>
                <a:lnTo>
                  <a:pt x="74693" y="75636"/>
                </a:lnTo>
                <a:lnTo>
                  <a:pt x="79320" y="80904"/>
                </a:lnTo>
                <a:lnTo>
                  <a:pt x="83357" y="86321"/>
                </a:lnTo>
                <a:lnTo>
                  <a:pt x="87001" y="91838"/>
                </a:lnTo>
                <a:lnTo>
                  <a:pt x="90383" y="97420"/>
                </a:lnTo>
                <a:lnTo>
                  <a:pt x="93590" y="103047"/>
                </a:lnTo>
                <a:lnTo>
                  <a:pt x="96680" y="108703"/>
                </a:lnTo>
                <a:lnTo>
                  <a:pt x="100645" y="114379"/>
                </a:lnTo>
                <a:lnTo>
                  <a:pt x="105194" y="120067"/>
                </a:lnTo>
                <a:lnTo>
                  <a:pt x="110131" y="125765"/>
                </a:lnTo>
                <a:lnTo>
                  <a:pt x="115328" y="131468"/>
                </a:lnTo>
                <a:lnTo>
                  <a:pt x="126182" y="142886"/>
                </a:lnTo>
                <a:lnTo>
                  <a:pt x="172617" y="189760"/>
                </a:lnTo>
                <a:lnTo>
                  <a:pt x="176035" y="194134"/>
                </a:lnTo>
                <a:lnTo>
                  <a:pt x="179266" y="198955"/>
                </a:lnTo>
                <a:lnTo>
                  <a:pt x="182373" y="204075"/>
                </a:lnTo>
                <a:lnTo>
                  <a:pt x="190905" y="212302"/>
                </a:lnTo>
                <a:lnTo>
                  <a:pt x="195847" y="215830"/>
                </a:lnTo>
                <a:lnTo>
                  <a:pt x="203878" y="222290"/>
                </a:lnTo>
                <a:lnTo>
                  <a:pt x="207353" y="225345"/>
                </a:lnTo>
                <a:lnTo>
                  <a:pt x="213754" y="233821"/>
                </a:lnTo>
                <a:lnTo>
                  <a:pt x="216795" y="238748"/>
                </a:lnTo>
                <a:lnTo>
                  <a:pt x="222713" y="246763"/>
                </a:lnTo>
                <a:lnTo>
                  <a:pt x="228519" y="253500"/>
                </a:lnTo>
                <a:lnTo>
                  <a:pt x="234274" y="259669"/>
                </a:lnTo>
                <a:lnTo>
                  <a:pt x="237142" y="261695"/>
                </a:lnTo>
                <a:lnTo>
                  <a:pt x="242869" y="263947"/>
                </a:lnTo>
                <a:lnTo>
                  <a:pt x="248589" y="267487"/>
                </a:lnTo>
                <a:lnTo>
                  <a:pt x="254307" y="272235"/>
                </a:lnTo>
                <a:lnTo>
                  <a:pt x="261928" y="279312"/>
                </a:lnTo>
                <a:lnTo>
                  <a:pt x="265237" y="282421"/>
                </a:lnTo>
                <a:lnTo>
                  <a:pt x="270141" y="282753"/>
                </a:lnTo>
                <a:lnTo>
                  <a:pt x="271531" y="283752"/>
                </a:lnTo>
                <a:lnTo>
                  <a:pt x="272457" y="285371"/>
                </a:lnTo>
                <a:lnTo>
                  <a:pt x="274311" y="2914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MARTPenAnnotation718"/>
          <p:cNvSpPr/>
          <p:nvPr/>
        </p:nvSpPr>
        <p:spPr>
          <a:xfrm>
            <a:off x="1039680" y="4329000"/>
            <a:ext cx="292320" cy="335160"/>
          </a:xfrm>
          <a:custGeom>
            <a:avLst/>
            <a:gdLst>
              <a:gd name="textAreaLeft" fmla="*/ 0 w 292320"/>
              <a:gd name="textAreaRight" fmla="*/ 292320 w 29232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91466" h="334329">
                <a:moveTo>
                  <a:pt x="291465" y="0"/>
                </a:moveTo>
                <a:lnTo>
                  <a:pt x="286915" y="4551"/>
                </a:lnTo>
                <a:lnTo>
                  <a:pt x="282140" y="11865"/>
                </a:lnTo>
                <a:lnTo>
                  <a:pt x="276843" y="21466"/>
                </a:lnTo>
                <a:lnTo>
                  <a:pt x="271314" y="32083"/>
                </a:lnTo>
                <a:lnTo>
                  <a:pt x="267554" y="37581"/>
                </a:lnTo>
                <a:lnTo>
                  <a:pt x="263142" y="43152"/>
                </a:lnTo>
                <a:lnTo>
                  <a:pt x="258296" y="48771"/>
                </a:lnTo>
                <a:lnTo>
                  <a:pt x="253160" y="54421"/>
                </a:lnTo>
                <a:lnTo>
                  <a:pt x="242373" y="65780"/>
                </a:lnTo>
                <a:lnTo>
                  <a:pt x="236830" y="72429"/>
                </a:lnTo>
                <a:lnTo>
                  <a:pt x="231229" y="79718"/>
                </a:lnTo>
                <a:lnTo>
                  <a:pt x="225590" y="87435"/>
                </a:lnTo>
                <a:lnTo>
                  <a:pt x="219926" y="94485"/>
                </a:lnTo>
                <a:lnTo>
                  <a:pt x="214245" y="101090"/>
                </a:lnTo>
                <a:lnTo>
                  <a:pt x="208553" y="107398"/>
                </a:lnTo>
                <a:lnTo>
                  <a:pt x="202853" y="114462"/>
                </a:lnTo>
                <a:lnTo>
                  <a:pt x="197148" y="122028"/>
                </a:lnTo>
                <a:lnTo>
                  <a:pt x="191440" y="129929"/>
                </a:lnTo>
                <a:lnTo>
                  <a:pt x="184777" y="138054"/>
                </a:lnTo>
                <a:lnTo>
                  <a:pt x="177477" y="146329"/>
                </a:lnTo>
                <a:lnTo>
                  <a:pt x="162699" y="162190"/>
                </a:lnTo>
                <a:lnTo>
                  <a:pt x="149781" y="175590"/>
                </a:lnTo>
                <a:lnTo>
                  <a:pt x="143669" y="182783"/>
                </a:lnTo>
                <a:lnTo>
                  <a:pt x="137689" y="190435"/>
                </a:lnTo>
                <a:lnTo>
                  <a:pt x="131798" y="198394"/>
                </a:lnTo>
                <a:lnTo>
                  <a:pt x="125966" y="205605"/>
                </a:lnTo>
                <a:lnTo>
                  <a:pt x="120172" y="212318"/>
                </a:lnTo>
                <a:lnTo>
                  <a:pt x="114405" y="218698"/>
                </a:lnTo>
                <a:lnTo>
                  <a:pt x="109608" y="224856"/>
                </a:lnTo>
                <a:lnTo>
                  <a:pt x="105457" y="230867"/>
                </a:lnTo>
                <a:lnTo>
                  <a:pt x="101737" y="236779"/>
                </a:lnTo>
                <a:lnTo>
                  <a:pt x="97352" y="242625"/>
                </a:lnTo>
                <a:lnTo>
                  <a:pt x="92524" y="248427"/>
                </a:lnTo>
                <a:lnTo>
                  <a:pt x="87401" y="254200"/>
                </a:lnTo>
                <a:lnTo>
                  <a:pt x="82080" y="259002"/>
                </a:lnTo>
                <a:lnTo>
                  <a:pt x="76627" y="263156"/>
                </a:lnTo>
                <a:lnTo>
                  <a:pt x="71088" y="266877"/>
                </a:lnTo>
                <a:lnTo>
                  <a:pt x="62392" y="276092"/>
                </a:lnTo>
                <a:lnTo>
                  <a:pt x="55353" y="285585"/>
                </a:lnTo>
                <a:lnTo>
                  <a:pt x="49049" y="292979"/>
                </a:lnTo>
                <a:lnTo>
                  <a:pt x="40145" y="302497"/>
                </a:lnTo>
                <a:lnTo>
                  <a:pt x="31474" y="311350"/>
                </a:lnTo>
                <a:lnTo>
                  <a:pt x="28603" y="313294"/>
                </a:lnTo>
                <a:lnTo>
                  <a:pt x="22873" y="315454"/>
                </a:lnTo>
                <a:lnTo>
                  <a:pt x="20964" y="316983"/>
                </a:lnTo>
                <a:lnTo>
                  <a:pt x="19691" y="318955"/>
                </a:lnTo>
                <a:lnTo>
                  <a:pt x="18842" y="321221"/>
                </a:lnTo>
                <a:lnTo>
                  <a:pt x="17324" y="322732"/>
                </a:lnTo>
                <a:lnTo>
                  <a:pt x="15360" y="323740"/>
                </a:lnTo>
                <a:lnTo>
                  <a:pt x="10637" y="324860"/>
                </a:lnTo>
                <a:lnTo>
                  <a:pt x="1589" y="325637"/>
                </a:lnTo>
                <a:lnTo>
                  <a:pt x="1060" y="326629"/>
                </a:lnTo>
                <a:lnTo>
                  <a:pt x="0" y="3343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MARTPenAnnotation719"/>
          <p:cNvSpPr/>
          <p:nvPr/>
        </p:nvSpPr>
        <p:spPr>
          <a:xfrm>
            <a:off x="1477800" y="4371840"/>
            <a:ext cx="43200" cy="231840"/>
          </a:xfrm>
          <a:custGeom>
            <a:avLst/>
            <a:gdLst>
              <a:gd name="textAreaLeft" fmla="*/ 0 w 43200"/>
              <a:gd name="textAreaRight" fmla="*/ 43560 w 432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2510" h="231458">
                <a:moveTo>
                  <a:pt x="8219" y="0"/>
                </a:moveTo>
                <a:lnTo>
                  <a:pt x="3669" y="0"/>
                </a:lnTo>
                <a:lnTo>
                  <a:pt x="2328" y="952"/>
                </a:lnTo>
                <a:lnTo>
                  <a:pt x="1434" y="2540"/>
                </a:lnTo>
                <a:lnTo>
                  <a:pt x="0" y="7380"/>
                </a:lnTo>
                <a:lnTo>
                  <a:pt x="835" y="7778"/>
                </a:lnTo>
                <a:lnTo>
                  <a:pt x="2344" y="8042"/>
                </a:lnTo>
                <a:lnTo>
                  <a:pt x="4302" y="8219"/>
                </a:lnTo>
                <a:lnTo>
                  <a:pt x="5608" y="9289"/>
                </a:lnTo>
                <a:lnTo>
                  <a:pt x="6478" y="10955"/>
                </a:lnTo>
                <a:lnTo>
                  <a:pt x="7876" y="15922"/>
                </a:lnTo>
                <a:lnTo>
                  <a:pt x="8152" y="22794"/>
                </a:lnTo>
                <a:lnTo>
                  <a:pt x="8189" y="24419"/>
                </a:lnTo>
                <a:lnTo>
                  <a:pt x="9152" y="25804"/>
                </a:lnTo>
                <a:lnTo>
                  <a:pt x="10746" y="27680"/>
                </a:lnTo>
                <a:lnTo>
                  <a:pt x="12761" y="29883"/>
                </a:lnTo>
                <a:lnTo>
                  <a:pt x="14105" y="32305"/>
                </a:lnTo>
                <a:lnTo>
                  <a:pt x="15001" y="34871"/>
                </a:lnTo>
                <a:lnTo>
                  <a:pt x="15996" y="40263"/>
                </a:lnTo>
                <a:lnTo>
                  <a:pt x="16438" y="45835"/>
                </a:lnTo>
                <a:lnTo>
                  <a:pt x="16635" y="54026"/>
                </a:lnTo>
                <a:lnTo>
                  <a:pt x="16783" y="84210"/>
                </a:lnTo>
                <a:lnTo>
                  <a:pt x="17738" y="89478"/>
                </a:lnTo>
                <a:lnTo>
                  <a:pt x="19328" y="94894"/>
                </a:lnTo>
                <a:lnTo>
                  <a:pt x="21340" y="100410"/>
                </a:lnTo>
                <a:lnTo>
                  <a:pt x="22682" y="105993"/>
                </a:lnTo>
                <a:lnTo>
                  <a:pt x="23576" y="111619"/>
                </a:lnTo>
                <a:lnTo>
                  <a:pt x="24172" y="117276"/>
                </a:lnTo>
                <a:lnTo>
                  <a:pt x="24570" y="121998"/>
                </a:lnTo>
                <a:lnTo>
                  <a:pt x="24835" y="126100"/>
                </a:lnTo>
                <a:lnTo>
                  <a:pt x="25011" y="129786"/>
                </a:lnTo>
                <a:lnTo>
                  <a:pt x="25207" y="138963"/>
                </a:lnTo>
                <a:lnTo>
                  <a:pt x="25364" y="199910"/>
                </a:lnTo>
                <a:lnTo>
                  <a:pt x="26317" y="202805"/>
                </a:lnTo>
                <a:lnTo>
                  <a:pt x="27904" y="205688"/>
                </a:lnTo>
                <a:lnTo>
                  <a:pt x="29915" y="208563"/>
                </a:lnTo>
                <a:lnTo>
                  <a:pt x="31256" y="211432"/>
                </a:lnTo>
                <a:lnTo>
                  <a:pt x="32150" y="214297"/>
                </a:lnTo>
                <a:lnTo>
                  <a:pt x="33584" y="221188"/>
                </a:lnTo>
                <a:lnTo>
                  <a:pt x="33832" y="226933"/>
                </a:lnTo>
                <a:lnTo>
                  <a:pt x="33906" y="230116"/>
                </a:lnTo>
                <a:lnTo>
                  <a:pt x="34869" y="230563"/>
                </a:lnTo>
                <a:lnTo>
                  <a:pt x="36463" y="230862"/>
                </a:lnTo>
                <a:lnTo>
                  <a:pt x="42509" y="2314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MARTPenAnnotation720"/>
          <p:cNvSpPr/>
          <p:nvPr/>
        </p:nvSpPr>
        <p:spPr>
          <a:xfrm>
            <a:off x="1392120" y="4414680"/>
            <a:ext cx="351000" cy="78120"/>
          </a:xfrm>
          <a:custGeom>
            <a:avLst/>
            <a:gdLst>
              <a:gd name="textAreaLeft" fmla="*/ 0 w 351000"/>
              <a:gd name="textAreaRight" fmla="*/ 351360 w 351000"/>
              <a:gd name="textAreaTop" fmla="*/ 0 h 78120"/>
              <a:gd name="textAreaBottom" fmla="*/ 78480 h 78120"/>
            </a:gdLst>
            <a:ahLst/>
            <a:rect l="textAreaLeft" t="textAreaTop" r="textAreaRight" b="textAreaBottom"/>
            <a:pathLst>
              <a:path w="351474" h="77154">
                <a:moveTo>
                  <a:pt x="0" y="77153"/>
                </a:moveTo>
                <a:lnTo>
                  <a:pt x="40551" y="77153"/>
                </a:lnTo>
                <a:lnTo>
                  <a:pt x="46084" y="76200"/>
                </a:lnTo>
                <a:lnTo>
                  <a:pt x="51677" y="74613"/>
                </a:lnTo>
                <a:lnTo>
                  <a:pt x="57311" y="72602"/>
                </a:lnTo>
                <a:lnTo>
                  <a:pt x="62973" y="70309"/>
                </a:lnTo>
                <a:lnTo>
                  <a:pt x="68652" y="67828"/>
                </a:lnTo>
                <a:lnTo>
                  <a:pt x="74343" y="65221"/>
                </a:lnTo>
                <a:lnTo>
                  <a:pt x="80994" y="63483"/>
                </a:lnTo>
                <a:lnTo>
                  <a:pt x="88286" y="62325"/>
                </a:lnTo>
                <a:lnTo>
                  <a:pt x="96005" y="61552"/>
                </a:lnTo>
                <a:lnTo>
                  <a:pt x="104008" y="60085"/>
                </a:lnTo>
                <a:lnTo>
                  <a:pt x="112201" y="58154"/>
                </a:lnTo>
                <a:lnTo>
                  <a:pt x="120521" y="55914"/>
                </a:lnTo>
                <a:lnTo>
                  <a:pt x="127972" y="53469"/>
                </a:lnTo>
                <a:lnTo>
                  <a:pt x="134845" y="50886"/>
                </a:lnTo>
                <a:lnTo>
                  <a:pt x="141332" y="48211"/>
                </a:lnTo>
                <a:lnTo>
                  <a:pt x="148513" y="46428"/>
                </a:lnTo>
                <a:lnTo>
                  <a:pt x="156159" y="45240"/>
                </a:lnTo>
                <a:lnTo>
                  <a:pt x="164113" y="44447"/>
                </a:lnTo>
                <a:lnTo>
                  <a:pt x="172274" y="42967"/>
                </a:lnTo>
                <a:lnTo>
                  <a:pt x="180572" y="41027"/>
                </a:lnTo>
                <a:lnTo>
                  <a:pt x="188961" y="38781"/>
                </a:lnTo>
                <a:lnTo>
                  <a:pt x="196459" y="37285"/>
                </a:lnTo>
                <a:lnTo>
                  <a:pt x="203363" y="36286"/>
                </a:lnTo>
                <a:lnTo>
                  <a:pt x="209870" y="35621"/>
                </a:lnTo>
                <a:lnTo>
                  <a:pt x="217066" y="34225"/>
                </a:lnTo>
                <a:lnTo>
                  <a:pt x="224721" y="32341"/>
                </a:lnTo>
                <a:lnTo>
                  <a:pt x="232681" y="30133"/>
                </a:lnTo>
                <a:lnTo>
                  <a:pt x="239893" y="27709"/>
                </a:lnTo>
                <a:lnTo>
                  <a:pt x="246606" y="25140"/>
                </a:lnTo>
                <a:lnTo>
                  <a:pt x="252987" y="22475"/>
                </a:lnTo>
                <a:lnTo>
                  <a:pt x="259145" y="20699"/>
                </a:lnTo>
                <a:lnTo>
                  <a:pt x="265156" y="19514"/>
                </a:lnTo>
                <a:lnTo>
                  <a:pt x="271068" y="18725"/>
                </a:lnTo>
                <a:lnTo>
                  <a:pt x="276915" y="17245"/>
                </a:lnTo>
                <a:lnTo>
                  <a:pt x="282717" y="15307"/>
                </a:lnTo>
                <a:lnTo>
                  <a:pt x="288491" y="13062"/>
                </a:lnTo>
                <a:lnTo>
                  <a:pt x="294245" y="11566"/>
                </a:lnTo>
                <a:lnTo>
                  <a:pt x="299986" y="10568"/>
                </a:lnTo>
                <a:lnTo>
                  <a:pt x="305718" y="9902"/>
                </a:lnTo>
                <a:lnTo>
                  <a:pt x="311445" y="9460"/>
                </a:lnTo>
                <a:lnTo>
                  <a:pt x="317167" y="9164"/>
                </a:lnTo>
                <a:lnTo>
                  <a:pt x="322887" y="8967"/>
                </a:lnTo>
                <a:lnTo>
                  <a:pt x="328606" y="7883"/>
                </a:lnTo>
                <a:lnTo>
                  <a:pt x="334323" y="6208"/>
                </a:lnTo>
                <a:lnTo>
                  <a:pt x="35147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MARTPenAnnotation721"/>
          <p:cNvSpPr/>
          <p:nvPr/>
        </p:nvSpPr>
        <p:spPr>
          <a:xfrm>
            <a:off x="1751040" y="4286160"/>
            <a:ext cx="266760" cy="239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65748" h="240024">
                <a:moveTo>
                  <a:pt x="0" y="42859"/>
                </a:moveTo>
                <a:lnTo>
                  <a:pt x="0" y="34640"/>
                </a:lnTo>
                <a:lnTo>
                  <a:pt x="6844" y="27512"/>
                </a:lnTo>
                <a:lnTo>
                  <a:pt x="11932" y="22386"/>
                </a:lnTo>
                <a:lnTo>
                  <a:pt x="14622" y="20638"/>
                </a:lnTo>
                <a:lnTo>
                  <a:pt x="20151" y="18695"/>
                </a:lnTo>
                <a:lnTo>
                  <a:pt x="25784" y="15292"/>
                </a:lnTo>
                <a:lnTo>
                  <a:pt x="31462" y="10605"/>
                </a:lnTo>
                <a:lnTo>
                  <a:pt x="37161" y="5346"/>
                </a:lnTo>
                <a:lnTo>
                  <a:pt x="40966" y="3563"/>
                </a:lnTo>
                <a:lnTo>
                  <a:pt x="45408" y="2374"/>
                </a:lnTo>
                <a:lnTo>
                  <a:pt x="50275" y="1582"/>
                </a:lnTo>
                <a:lnTo>
                  <a:pt x="55424" y="1053"/>
                </a:lnTo>
                <a:lnTo>
                  <a:pt x="60762" y="701"/>
                </a:lnTo>
                <a:lnTo>
                  <a:pt x="66225" y="466"/>
                </a:lnTo>
                <a:lnTo>
                  <a:pt x="77376" y="205"/>
                </a:lnTo>
                <a:lnTo>
                  <a:pt x="134306" y="0"/>
                </a:lnTo>
                <a:lnTo>
                  <a:pt x="139068" y="951"/>
                </a:lnTo>
                <a:lnTo>
                  <a:pt x="146898" y="4549"/>
                </a:lnTo>
                <a:lnTo>
                  <a:pt x="153553" y="9322"/>
                </a:lnTo>
                <a:lnTo>
                  <a:pt x="159686" y="14619"/>
                </a:lnTo>
                <a:lnTo>
                  <a:pt x="165586" y="20148"/>
                </a:lnTo>
                <a:lnTo>
                  <a:pt x="167541" y="22956"/>
                </a:lnTo>
                <a:lnTo>
                  <a:pt x="169713" y="28616"/>
                </a:lnTo>
                <a:lnTo>
                  <a:pt x="169339" y="32411"/>
                </a:lnTo>
                <a:lnTo>
                  <a:pt x="168138" y="36846"/>
                </a:lnTo>
                <a:lnTo>
                  <a:pt x="166384" y="41708"/>
                </a:lnTo>
                <a:lnTo>
                  <a:pt x="165216" y="46854"/>
                </a:lnTo>
                <a:lnTo>
                  <a:pt x="164436" y="52190"/>
                </a:lnTo>
                <a:lnTo>
                  <a:pt x="163917" y="57652"/>
                </a:lnTo>
                <a:lnTo>
                  <a:pt x="161665" y="63198"/>
                </a:lnTo>
                <a:lnTo>
                  <a:pt x="158259" y="68801"/>
                </a:lnTo>
                <a:lnTo>
                  <a:pt x="154084" y="74442"/>
                </a:lnTo>
                <a:lnTo>
                  <a:pt x="150347" y="81059"/>
                </a:lnTo>
                <a:lnTo>
                  <a:pt x="146904" y="88328"/>
                </a:lnTo>
                <a:lnTo>
                  <a:pt x="143656" y="96032"/>
                </a:lnTo>
                <a:lnTo>
                  <a:pt x="139586" y="103073"/>
                </a:lnTo>
                <a:lnTo>
                  <a:pt x="134967" y="109672"/>
                </a:lnTo>
                <a:lnTo>
                  <a:pt x="129983" y="115975"/>
                </a:lnTo>
                <a:lnTo>
                  <a:pt x="124755" y="123036"/>
                </a:lnTo>
                <a:lnTo>
                  <a:pt x="113867" y="138501"/>
                </a:lnTo>
                <a:lnTo>
                  <a:pt x="108296" y="145672"/>
                </a:lnTo>
                <a:lnTo>
                  <a:pt x="102677" y="152359"/>
                </a:lnTo>
                <a:lnTo>
                  <a:pt x="97026" y="158721"/>
                </a:lnTo>
                <a:lnTo>
                  <a:pt x="85668" y="170871"/>
                </a:lnTo>
                <a:lnTo>
                  <a:pt x="62854" y="194193"/>
                </a:lnTo>
                <a:lnTo>
                  <a:pt x="58095" y="199946"/>
                </a:lnTo>
                <a:lnTo>
                  <a:pt x="53970" y="205686"/>
                </a:lnTo>
                <a:lnTo>
                  <a:pt x="50267" y="211418"/>
                </a:lnTo>
                <a:lnTo>
                  <a:pt x="46847" y="216192"/>
                </a:lnTo>
                <a:lnTo>
                  <a:pt x="43613" y="220327"/>
                </a:lnTo>
                <a:lnTo>
                  <a:pt x="36132" y="229256"/>
                </a:lnTo>
                <a:lnTo>
                  <a:pt x="35518" y="230941"/>
                </a:lnTo>
                <a:lnTo>
                  <a:pt x="34532" y="237950"/>
                </a:lnTo>
                <a:lnTo>
                  <a:pt x="34338" y="239616"/>
                </a:lnTo>
                <a:lnTo>
                  <a:pt x="41675" y="239990"/>
                </a:lnTo>
                <a:lnTo>
                  <a:pt x="62071" y="240023"/>
                </a:lnTo>
                <a:lnTo>
                  <a:pt x="66146" y="239072"/>
                </a:lnTo>
                <a:lnTo>
                  <a:pt x="70767" y="237485"/>
                </a:lnTo>
                <a:lnTo>
                  <a:pt x="75753" y="235475"/>
                </a:lnTo>
                <a:lnTo>
                  <a:pt x="80982" y="234135"/>
                </a:lnTo>
                <a:lnTo>
                  <a:pt x="86373" y="233242"/>
                </a:lnTo>
                <a:lnTo>
                  <a:pt x="91872" y="232645"/>
                </a:lnTo>
                <a:lnTo>
                  <a:pt x="97443" y="231296"/>
                </a:lnTo>
                <a:lnTo>
                  <a:pt x="103062" y="229443"/>
                </a:lnTo>
                <a:lnTo>
                  <a:pt x="108713" y="227256"/>
                </a:lnTo>
                <a:lnTo>
                  <a:pt x="115338" y="225798"/>
                </a:lnTo>
                <a:lnTo>
                  <a:pt x="122612" y="224826"/>
                </a:lnTo>
                <a:lnTo>
                  <a:pt x="130319" y="224178"/>
                </a:lnTo>
                <a:lnTo>
                  <a:pt x="138314" y="222793"/>
                </a:lnTo>
                <a:lnTo>
                  <a:pt x="146502" y="220918"/>
                </a:lnTo>
                <a:lnTo>
                  <a:pt x="154818" y="218715"/>
                </a:lnTo>
                <a:lnTo>
                  <a:pt x="162267" y="216294"/>
                </a:lnTo>
                <a:lnTo>
                  <a:pt x="169138" y="213727"/>
                </a:lnTo>
                <a:lnTo>
                  <a:pt x="175624" y="211063"/>
                </a:lnTo>
                <a:lnTo>
                  <a:pt x="182805" y="209288"/>
                </a:lnTo>
                <a:lnTo>
                  <a:pt x="190450" y="208104"/>
                </a:lnTo>
                <a:lnTo>
                  <a:pt x="198404" y="207315"/>
                </a:lnTo>
                <a:lnTo>
                  <a:pt x="206564" y="206789"/>
                </a:lnTo>
                <a:lnTo>
                  <a:pt x="214862" y="206438"/>
                </a:lnTo>
                <a:lnTo>
                  <a:pt x="231702" y="206048"/>
                </a:lnTo>
                <a:lnTo>
                  <a:pt x="265747" y="2057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MARTPenAnnotation722"/>
          <p:cNvSpPr/>
          <p:nvPr/>
        </p:nvSpPr>
        <p:spPr>
          <a:xfrm>
            <a:off x="2608200" y="4354560"/>
            <a:ext cx="206280" cy="223920"/>
          </a:xfrm>
          <a:custGeom>
            <a:avLst/>
            <a:gdLst>
              <a:gd name="textAreaLeft" fmla="*/ 0 w 206280"/>
              <a:gd name="textAreaRight" fmla="*/ 206640 w 20628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205740" h="222887">
                <a:moveTo>
                  <a:pt x="25716" y="0"/>
                </a:moveTo>
                <a:lnTo>
                  <a:pt x="1326" y="0"/>
                </a:lnTo>
                <a:lnTo>
                  <a:pt x="884" y="953"/>
                </a:lnTo>
                <a:lnTo>
                  <a:pt x="116" y="7381"/>
                </a:lnTo>
                <a:lnTo>
                  <a:pt x="34" y="12771"/>
                </a:lnTo>
                <a:lnTo>
                  <a:pt x="0" y="45402"/>
                </a:lnTo>
                <a:lnTo>
                  <a:pt x="952" y="48366"/>
                </a:lnTo>
                <a:lnTo>
                  <a:pt x="4550" y="54199"/>
                </a:lnTo>
                <a:lnTo>
                  <a:pt x="7795" y="57088"/>
                </a:lnTo>
                <a:lnTo>
                  <a:pt x="11864" y="59966"/>
                </a:lnTo>
                <a:lnTo>
                  <a:pt x="16482" y="62838"/>
                </a:lnTo>
                <a:lnTo>
                  <a:pt x="20513" y="66657"/>
                </a:lnTo>
                <a:lnTo>
                  <a:pt x="24152" y="71108"/>
                </a:lnTo>
                <a:lnTo>
                  <a:pt x="27531" y="75981"/>
                </a:lnTo>
                <a:lnTo>
                  <a:pt x="30736" y="80182"/>
                </a:lnTo>
                <a:lnTo>
                  <a:pt x="33825" y="83934"/>
                </a:lnTo>
                <a:lnTo>
                  <a:pt x="36837" y="87389"/>
                </a:lnTo>
                <a:lnTo>
                  <a:pt x="40750" y="90645"/>
                </a:lnTo>
                <a:lnTo>
                  <a:pt x="45264" y="93768"/>
                </a:lnTo>
                <a:lnTo>
                  <a:pt x="50178" y="96802"/>
                </a:lnTo>
                <a:lnTo>
                  <a:pt x="55359" y="99777"/>
                </a:lnTo>
                <a:lnTo>
                  <a:pt x="66196" y="105623"/>
                </a:lnTo>
                <a:lnTo>
                  <a:pt x="70800" y="109469"/>
                </a:lnTo>
                <a:lnTo>
                  <a:pt x="74822" y="113937"/>
                </a:lnTo>
                <a:lnTo>
                  <a:pt x="78456" y="118821"/>
                </a:lnTo>
                <a:lnTo>
                  <a:pt x="82784" y="123029"/>
                </a:lnTo>
                <a:lnTo>
                  <a:pt x="87574" y="126787"/>
                </a:lnTo>
                <a:lnTo>
                  <a:pt x="92672" y="130245"/>
                </a:lnTo>
                <a:lnTo>
                  <a:pt x="97024" y="133503"/>
                </a:lnTo>
                <a:lnTo>
                  <a:pt x="100877" y="136627"/>
                </a:lnTo>
                <a:lnTo>
                  <a:pt x="104399" y="139663"/>
                </a:lnTo>
                <a:lnTo>
                  <a:pt x="107698" y="142639"/>
                </a:lnTo>
                <a:lnTo>
                  <a:pt x="113906" y="148485"/>
                </a:lnTo>
                <a:lnTo>
                  <a:pt x="174297" y="208589"/>
                </a:lnTo>
                <a:lnTo>
                  <a:pt x="177158" y="210497"/>
                </a:lnTo>
                <a:lnTo>
                  <a:pt x="182876" y="212617"/>
                </a:lnTo>
                <a:lnTo>
                  <a:pt x="188593" y="216099"/>
                </a:lnTo>
                <a:lnTo>
                  <a:pt x="191451" y="218362"/>
                </a:lnTo>
                <a:lnTo>
                  <a:pt x="194308" y="219870"/>
                </a:lnTo>
                <a:lnTo>
                  <a:pt x="197166" y="220875"/>
                </a:lnTo>
                <a:lnTo>
                  <a:pt x="205739" y="2228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MARTPenAnnotation723"/>
          <p:cNvSpPr/>
          <p:nvPr/>
        </p:nvSpPr>
        <p:spPr>
          <a:xfrm>
            <a:off x="2814480" y="457848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1" h="1">
                <a:moveTo>
                  <a:pt x="0" y="0"/>
                </a:moveTo>
                <a:lnTo>
                  <a:pt x="254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MARTPenAnnotation724"/>
          <p:cNvSpPr/>
          <p:nvPr/>
        </p:nvSpPr>
        <p:spPr>
          <a:xfrm>
            <a:off x="2617920" y="4321080"/>
            <a:ext cx="239760" cy="214560"/>
          </a:xfrm>
          <a:custGeom>
            <a:avLst/>
            <a:gdLst>
              <a:gd name="textAreaLeft" fmla="*/ 0 w 239760"/>
              <a:gd name="textAreaRight" fmla="*/ 240120 w 23976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39882" h="213960">
                <a:moveTo>
                  <a:pt x="239881" y="8219"/>
                </a:moveTo>
                <a:lnTo>
                  <a:pt x="232500" y="838"/>
                </a:lnTo>
                <a:lnTo>
                  <a:pt x="229297" y="176"/>
                </a:lnTo>
                <a:lnTo>
                  <a:pt x="227110" y="0"/>
                </a:lnTo>
                <a:lnTo>
                  <a:pt x="225652" y="835"/>
                </a:lnTo>
                <a:lnTo>
                  <a:pt x="224680" y="2343"/>
                </a:lnTo>
                <a:lnTo>
                  <a:pt x="224032" y="4302"/>
                </a:lnTo>
                <a:lnTo>
                  <a:pt x="220772" y="9018"/>
                </a:lnTo>
                <a:lnTo>
                  <a:pt x="216147" y="14289"/>
                </a:lnTo>
                <a:lnTo>
                  <a:pt x="210918" y="19807"/>
                </a:lnTo>
                <a:lnTo>
                  <a:pt x="165427" y="65522"/>
                </a:lnTo>
                <a:lnTo>
                  <a:pt x="158812" y="71186"/>
                </a:lnTo>
                <a:lnTo>
                  <a:pt x="151545" y="76867"/>
                </a:lnTo>
                <a:lnTo>
                  <a:pt x="143843" y="82559"/>
                </a:lnTo>
                <a:lnTo>
                  <a:pt x="136803" y="88259"/>
                </a:lnTo>
                <a:lnTo>
                  <a:pt x="130205" y="93965"/>
                </a:lnTo>
                <a:lnTo>
                  <a:pt x="123901" y="99672"/>
                </a:lnTo>
                <a:lnTo>
                  <a:pt x="116841" y="105383"/>
                </a:lnTo>
                <a:lnTo>
                  <a:pt x="109276" y="111095"/>
                </a:lnTo>
                <a:lnTo>
                  <a:pt x="101376" y="116808"/>
                </a:lnTo>
                <a:lnTo>
                  <a:pt x="94204" y="122522"/>
                </a:lnTo>
                <a:lnTo>
                  <a:pt x="87518" y="128236"/>
                </a:lnTo>
                <a:lnTo>
                  <a:pt x="81155" y="133950"/>
                </a:lnTo>
                <a:lnTo>
                  <a:pt x="75009" y="138713"/>
                </a:lnTo>
                <a:lnTo>
                  <a:pt x="69006" y="142840"/>
                </a:lnTo>
                <a:lnTo>
                  <a:pt x="63099" y="146544"/>
                </a:lnTo>
                <a:lnTo>
                  <a:pt x="57256" y="150918"/>
                </a:lnTo>
                <a:lnTo>
                  <a:pt x="51456" y="155739"/>
                </a:lnTo>
                <a:lnTo>
                  <a:pt x="40884" y="165224"/>
                </a:lnTo>
                <a:lnTo>
                  <a:pt x="33010" y="172614"/>
                </a:lnTo>
                <a:lnTo>
                  <a:pt x="29577" y="174966"/>
                </a:lnTo>
                <a:lnTo>
                  <a:pt x="23222" y="177579"/>
                </a:lnTo>
                <a:lnTo>
                  <a:pt x="17223" y="181280"/>
                </a:lnTo>
                <a:lnTo>
                  <a:pt x="11381" y="186100"/>
                </a:lnTo>
                <a:lnTo>
                  <a:pt x="5610" y="191417"/>
                </a:lnTo>
                <a:lnTo>
                  <a:pt x="1557" y="195215"/>
                </a:lnTo>
                <a:lnTo>
                  <a:pt x="988" y="196701"/>
                </a:lnTo>
                <a:lnTo>
                  <a:pt x="188" y="202390"/>
                </a:lnTo>
                <a:lnTo>
                  <a:pt x="0" y="204054"/>
                </a:lnTo>
                <a:lnTo>
                  <a:pt x="2457" y="207334"/>
                </a:lnTo>
                <a:lnTo>
                  <a:pt x="8423" y="2139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MARTPenAnnotation725"/>
          <p:cNvSpPr/>
          <p:nvPr/>
        </p:nvSpPr>
        <p:spPr>
          <a:xfrm>
            <a:off x="2917800" y="4379760"/>
            <a:ext cx="308160" cy="27000"/>
          </a:xfrm>
          <a:custGeom>
            <a:avLst/>
            <a:gdLst>
              <a:gd name="textAreaLeft" fmla="*/ 0 w 308160"/>
              <a:gd name="textAreaRight" fmla="*/ 308520 w 3081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308611" h="25719">
                <a:moveTo>
                  <a:pt x="0" y="25718"/>
                </a:moveTo>
                <a:lnTo>
                  <a:pt x="41711" y="25718"/>
                </a:lnTo>
                <a:lnTo>
                  <a:pt x="46857" y="24765"/>
                </a:lnTo>
                <a:lnTo>
                  <a:pt x="52193" y="23178"/>
                </a:lnTo>
                <a:lnTo>
                  <a:pt x="57655" y="21167"/>
                </a:lnTo>
                <a:lnTo>
                  <a:pt x="63202" y="19826"/>
                </a:lnTo>
                <a:lnTo>
                  <a:pt x="68805" y="18932"/>
                </a:lnTo>
                <a:lnTo>
                  <a:pt x="74445" y="18336"/>
                </a:lnTo>
                <a:lnTo>
                  <a:pt x="81062" y="17939"/>
                </a:lnTo>
                <a:lnTo>
                  <a:pt x="96035" y="17498"/>
                </a:lnTo>
                <a:lnTo>
                  <a:pt x="115979" y="17250"/>
                </a:lnTo>
                <a:lnTo>
                  <a:pt x="123039" y="16262"/>
                </a:lnTo>
                <a:lnTo>
                  <a:pt x="130604" y="14652"/>
                </a:lnTo>
                <a:lnTo>
                  <a:pt x="138504" y="12625"/>
                </a:lnTo>
                <a:lnTo>
                  <a:pt x="146629" y="11274"/>
                </a:lnTo>
                <a:lnTo>
                  <a:pt x="154902" y="10374"/>
                </a:lnTo>
                <a:lnTo>
                  <a:pt x="163276" y="9773"/>
                </a:lnTo>
                <a:lnTo>
                  <a:pt x="170763" y="9373"/>
                </a:lnTo>
                <a:lnTo>
                  <a:pt x="184162" y="8928"/>
                </a:lnTo>
                <a:lnTo>
                  <a:pt x="206967" y="8678"/>
                </a:lnTo>
                <a:lnTo>
                  <a:pt x="214178" y="7690"/>
                </a:lnTo>
                <a:lnTo>
                  <a:pt x="220890" y="6079"/>
                </a:lnTo>
                <a:lnTo>
                  <a:pt x="227270" y="4053"/>
                </a:lnTo>
                <a:lnTo>
                  <a:pt x="233428" y="2702"/>
                </a:lnTo>
                <a:lnTo>
                  <a:pt x="239439" y="1801"/>
                </a:lnTo>
                <a:lnTo>
                  <a:pt x="245351" y="1201"/>
                </a:lnTo>
                <a:lnTo>
                  <a:pt x="251197" y="801"/>
                </a:lnTo>
                <a:lnTo>
                  <a:pt x="257000" y="534"/>
                </a:lnTo>
                <a:lnTo>
                  <a:pt x="271728" y="158"/>
                </a:lnTo>
                <a:lnTo>
                  <a:pt x="30861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MARTPenAnnotation726"/>
          <p:cNvSpPr/>
          <p:nvPr/>
        </p:nvSpPr>
        <p:spPr>
          <a:xfrm>
            <a:off x="3063960" y="4286160"/>
            <a:ext cx="58680" cy="257400"/>
          </a:xfrm>
          <a:custGeom>
            <a:avLst/>
            <a:gdLst>
              <a:gd name="textAreaLeft" fmla="*/ 0 w 58680"/>
              <a:gd name="textAreaRight" fmla="*/ 59040 w 58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60008" h="257176">
                <a:moveTo>
                  <a:pt x="8572" y="0"/>
                </a:moveTo>
                <a:lnTo>
                  <a:pt x="1191" y="0"/>
                </a:lnTo>
                <a:lnTo>
                  <a:pt x="529" y="5079"/>
                </a:lnTo>
                <a:lnTo>
                  <a:pt x="235" y="12735"/>
                </a:lnTo>
                <a:lnTo>
                  <a:pt x="104" y="19312"/>
                </a:lnTo>
                <a:lnTo>
                  <a:pt x="0" y="92643"/>
                </a:lnTo>
                <a:lnTo>
                  <a:pt x="952" y="97956"/>
                </a:lnTo>
                <a:lnTo>
                  <a:pt x="2540" y="103404"/>
                </a:lnTo>
                <a:lnTo>
                  <a:pt x="4551" y="108941"/>
                </a:lnTo>
                <a:lnTo>
                  <a:pt x="5891" y="114537"/>
                </a:lnTo>
                <a:lnTo>
                  <a:pt x="6785" y="120173"/>
                </a:lnTo>
                <a:lnTo>
                  <a:pt x="7380" y="125836"/>
                </a:lnTo>
                <a:lnTo>
                  <a:pt x="8730" y="132468"/>
                </a:lnTo>
                <a:lnTo>
                  <a:pt x="10582" y="139746"/>
                </a:lnTo>
                <a:lnTo>
                  <a:pt x="12770" y="147457"/>
                </a:lnTo>
                <a:lnTo>
                  <a:pt x="14228" y="154502"/>
                </a:lnTo>
                <a:lnTo>
                  <a:pt x="15200" y="161103"/>
                </a:lnTo>
                <a:lnTo>
                  <a:pt x="15848" y="167410"/>
                </a:lnTo>
                <a:lnTo>
                  <a:pt x="17233" y="172566"/>
                </a:lnTo>
                <a:lnTo>
                  <a:pt x="19108" y="176957"/>
                </a:lnTo>
                <a:lnTo>
                  <a:pt x="21311" y="180836"/>
                </a:lnTo>
                <a:lnTo>
                  <a:pt x="22780" y="185327"/>
                </a:lnTo>
                <a:lnTo>
                  <a:pt x="23759" y="190227"/>
                </a:lnTo>
                <a:lnTo>
                  <a:pt x="24412" y="195398"/>
                </a:lnTo>
                <a:lnTo>
                  <a:pt x="25799" y="199797"/>
                </a:lnTo>
                <a:lnTo>
                  <a:pt x="27677" y="203683"/>
                </a:lnTo>
                <a:lnTo>
                  <a:pt x="29881" y="207226"/>
                </a:lnTo>
                <a:lnTo>
                  <a:pt x="32303" y="211493"/>
                </a:lnTo>
                <a:lnTo>
                  <a:pt x="37534" y="221314"/>
                </a:lnTo>
                <a:lnTo>
                  <a:pt x="39310" y="225648"/>
                </a:lnTo>
                <a:lnTo>
                  <a:pt x="40494" y="229489"/>
                </a:lnTo>
                <a:lnTo>
                  <a:pt x="41283" y="233003"/>
                </a:lnTo>
                <a:lnTo>
                  <a:pt x="42762" y="236297"/>
                </a:lnTo>
                <a:lnTo>
                  <a:pt x="44701" y="239447"/>
                </a:lnTo>
                <a:lnTo>
                  <a:pt x="46945" y="242498"/>
                </a:lnTo>
                <a:lnTo>
                  <a:pt x="48442" y="245485"/>
                </a:lnTo>
                <a:lnTo>
                  <a:pt x="50104" y="251345"/>
                </a:lnTo>
                <a:lnTo>
                  <a:pt x="51500" y="253288"/>
                </a:lnTo>
                <a:lnTo>
                  <a:pt x="53383" y="254584"/>
                </a:lnTo>
                <a:lnTo>
                  <a:pt x="60007" y="257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MARTPenAnnotation727"/>
          <p:cNvSpPr/>
          <p:nvPr/>
        </p:nvSpPr>
        <p:spPr>
          <a:xfrm>
            <a:off x="3218040" y="4235400"/>
            <a:ext cx="274320" cy="214200"/>
          </a:xfrm>
          <a:custGeom>
            <a:avLst/>
            <a:gdLst>
              <a:gd name="textAreaLeft" fmla="*/ 0 w 274320"/>
              <a:gd name="textAreaRight" fmla="*/ 274680 w 27432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74321" h="214193">
                <a:moveTo>
                  <a:pt x="0" y="68463"/>
                </a:moveTo>
                <a:lnTo>
                  <a:pt x="0" y="56531"/>
                </a:lnTo>
                <a:lnTo>
                  <a:pt x="953" y="54793"/>
                </a:lnTo>
                <a:lnTo>
                  <a:pt x="2540" y="53635"/>
                </a:lnTo>
                <a:lnTo>
                  <a:pt x="4551" y="52862"/>
                </a:lnTo>
                <a:lnTo>
                  <a:pt x="5892" y="51395"/>
                </a:lnTo>
                <a:lnTo>
                  <a:pt x="6786" y="49464"/>
                </a:lnTo>
                <a:lnTo>
                  <a:pt x="7381" y="47224"/>
                </a:lnTo>
                <a:lnTo>
                  <a:pt x="10583" y="42196"/>
                </a:lnTo>
                <a:lnTo>
                  <a:pt x="15181" y="36786"/>
                </a:lnTo>
                <a:lnTo>
                  <a:pt x="20400" y="31207"/>
                </a:lnTo>
                <a:lnTo>
                  <a:pt x="34343" y="17013"/>
                </a:lnTo>
                <a:lnTo>
                  <a:pt x="37183" y="14160"/>
                </a:lnTo>
                <a:lnTo>
                  <a:pt x="40981" y="12259"/>
                </a:lnTo>
                <a:lnTo>
                  <a:pt x="45419" y="10991"/>
                </a:lnTo>
                <a:lnTo>
                  <a:pt x="50282" y="10146"/>
                </a:lnTo>
                <a:lnTo>
                  <a:pt x="58225" y="6666"/>
                </a:lnTo>
                <a:lnTo>
                  <a:pt x="64931" y="2898"/>
                </a:lnTo>
                <a:lnTo>
                  <a:pt x="71086" y="1222"/>
                </a:lnTo>
                <a:lnTo>
                  <a:pt x="79536" y="478"/>
                </a:lnTo>
                <a:lnTo>
                  <a:pt x="84457" y="280"/>
                </a:lnTo>
                <a:lnTo>
                  <a:pt x="95004" y="59"/>
                </a:lnTo>
                <a:lnTo>
                  <a:pt x="100484" y="0"/>
                </a:lnTo>
                <a:lnTo>
                  <a:pt x="105090" y="914"/>
                </a:lnTo>
                <a:lnTo>
                  <a:pt x="116122" y="5797"/>
                </a:lnTo>
                <a:lnTo>
                  <a:pt x="122412" y="7274"/>
                </a:lnTo>
                <a:lnTo>
                  <a:pt x="128383" y="10470"/>
                </a:lnTo>
                <a:lnTo>
                  <a:pt x="134212" y="15066"/>
                </a:lnTo>
                <a:lnTo>
                  <a:pt x="139978" y="20283"/>
                </a:lnTo>
                <a:lnTo>
                  <a:pt x="142849" y="23961"/>
                </a:lnTo>
                <a:lnTo>
                  <a:pt x="145715" y="28317"/>
                </a:lnTo>
                <a:lnTo>
                  <a:pt x="148579" y="33126"/>
                </a:lnTo>
                <a:lnTo>
                  <a:pt x="150488" y="37285"/>
                </a:lnTo>
                <a:lnTo>
                  <a:pt x="151760" y="41010"/>
                </a:lnTo>
                <a:lnTo>
                  <a:pt x="152609" y="44446"/>
                </a:lnTo>
                <a:lnTo>
                  <a:pt x="152222" y="48642"/>
                </a:lnTo>
                <a:lnTo>
                  <a:pt x="151011" y="53344"/>
                </a:lnTo>
                <a:lnTo>
                  <a:pt x="149252" y="58383"/>
                </a:lnTo>
                <a:lnTo>
                  <a:pt x="148079" y="63648"/>
                </a:lnTo>
                <a:lnTo>
                  <a:pt x="147297" y="69063"/>
                </a:lnTo>
                <a:lnTo>
                  <a:pt x="146776" y="74578"/>
                </a:lnTo>
                <a:lnTo>
                  <a:pt x="145475" y="80160"/>
                </a:lnTo>
                <a:lnTo>
                  <a:pt x="143657" y="85786"/>
                </a:lnTo>
                <a:lnTo>
                  <a:pt x="141491" y="91441"/>
                </a:lnTo>
                <a:lnTo>
                  <a:pt x="139095" y="97117"/>
                </a:lnTo>
                <a:lnTo>
                  <a:pt x="136545" y="102805"/>
                </a:lnTo>
                <a:lnTo>
                  <a:pt x="131172" y="114206"/>
                </a:lnTo>
                <a:lnTo>
                  <a:pt x="125609" y="125623"/>
                </a:lnTo>
                <a:lnTo>
                  <a:pt x="123745" y="131335"/>
                </a:lnTo>
                <a:lnTo>
                  <a:pt x="122502" y="137047"/>
                </a:lnTo>
                <a:lnTo>
                  <a:pt x="121673" y="142761"/>
                </a:lnTo>
                <a:lnTo>
                  <a:pt x="120168" y="147522"/>
                </a:lnTo>
                <a:lnTo>
                  <a:pt x="118212" y="151649"/>
                </a:lnTo>
                <a:lnTo>
                  <a:pt x="115956" y="155353"/>
                </a:lnTo>
                <a:lnTo>
                  <a:pt x="113499" y="159727"/>
                </a:lnTo>
                <a:lnTo>
                  <a:pt x="108229" y="169667"/>
                </a:lnTo>
                <a:lnTo>
                  <a:pt x="105491" y="174032"/>
                </a:lnTo>
                <a:lnTo>
                  <a:pt x="102712" y="177895"/>
                </a:lnTo>
                <a:lnTo>
                  <a:pt x="99907" y="181422"/>
                </a:lnTo>
                <a:lnTo>
                  <a:pt x="94251" y="187882"/>
                </a:lnTo>
                <a:lnTo>
                  <a:pt x="91409" y="190938"/>
                </a:lnTo>
                <a:lnTo>
                  <a:pt x="89514" y="193928"/>
                </a:lnTo>
                <a:lnTo>
                  <a:pt x="87410" y="199790"/>
                </a:lnTo>
                <a:lnTo>
                  <a:pt x="86224" y="203894"/>
                </a:lnTo>
                <a:lnTo>
                  <a:pt x="81322" y="209661"/>
                </a:lnTo>
                <a:lnTo>
                  <a:pt x="77519" y="213798"/>
                </a:lnTo>
                <a:lnTo>
                  <a:pt x="85382" y="214185"/>
                </a:lnTo>
                <a:lnTo>
                  <a:pt x="94725" y="214192"/>
                </a:lnTo>
                <a:lnTo>
                  <a:pt x="98393" y="213241"/>
                </a:lnTo>
                <a:lnTo>
                  <a:pt x="105008" y="209643"/>
                </a:lnTo>
                <a:lnTo>
                  <a:pt x="111123" y="207410"/>
                </a:lnTo>
                <a:lnTo>
                  <a:pt x="117968" y="205464"/>
                </a:lnTo>
                <a:lnTo>
                  <a:pt x="122461" y="203612"/>
                </a:lnTo>
                <a:lnTo>
                  <a:pt x="127361" y="201425"/>
                </a:lnTo>
                <a:lnTo>
                  <a:pt x="137885" y="196455"/>
                </a:lnTo>
                <a:lnTo>
                  <a:pt x="143358" y="193796"/>
                </a:lnTo>
                <a:lnTo>
                  <a:pt x="148912" y="192023"/>
                </a:lnTo>
                <a:lnTo>
                  <a:pt x="154520" y="190841"/>
                </a:lnTo>
                <a:lnTo>
                  <a:pt x="160164" y="190054"/>
                </a:lnTo>
                <a:lnTo>
                  <a:pt x="165831" y="188575"/>
                </a:lnTo>
                <a:lnTo>
                  <a:pt x="171514" y="186638"/>
                </a:lnTo>
                <a:lnTo>
                  <a:pt x="177208" y="184394"/>
                </a:lnTo>
                <a:lnTo>
                  <a:pt x="182909" y="182897"/>
                </a:lnTo>
                <a:lnTo>
                  <a:pt x="188614" y="181900"/>
                </a:lnTo>
                <a:lnTo>
                  <a:pt x="194323" y="181235"/>
                </a:lnTo>
                <a:lnTo>
                  <a:pt x="200986" y="179839"/>
                </a:lnTo>
                <a:lnTo>
                  <a:pt x="208286" y="177956"/>
                </a:lnTo>
                <a:lnTo>
                  <a:pt x="216010" y="175749"/>
                </a:lnTo>
                <a:lnTo>
                  <a:pt x="223064" y="174277"/>
                </a:lnTo>
                <a:lnTo>
                  <a:pt x="229673" y="173295"/>
                </a:lnTo>
                <a:lnTo>
                  <a:pt x="235983" y="172641"/>
                </a:lnTo>
                <a:lnTo>
                  <a:pt x="243047" y="172205"/>
                </a:lnTo>
                <a:lnTo>
                  <a:pt x="274320" y="1713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MARTPenAnnotation728"/>
          <p:cNvSpPr/>
          <p:nvPr/>
        </p:nvSpPr>
        <p:spPr>
          <a:xfrm>
            <a:off x="3936960" y="4303800"/>
            <a:ext cx="223920" cy="17280"/>
          </a:xfrm>
          <a:custGeom>
            <a:avLst/>
            <a:gdLst>
              <a:gd name="textAreaLeft" fmla="*/ 0 w 223920"/>
              <a:gd name="textAreaRight" fmla="*/ 224280 w 2239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22887" h="17144">
                <a:moveTo>
                  <a:pt x="0" y="8570"/>
                </a:moveTo>
                <a:lnTo>
                  <a:pt x="13093" y="8570"/>
                </a:lnTo>
                <a:lnTo>
                  <a:pt x="15396" y="7618"/>
                </a:lnTo>
                <a:lnTo>
                  <a:pt x="17884" y="6030"/>
                </a:lnTo>
                <a:lnTo>
                  <a:pt x="20496" y="4019"/>
                </a:lnTo>
                <a:lnTo>
                  <a:pt x="23189" y="2679"/>
                </a:lnTo>
                <a:lnTo>
                  <a:pt x="25937" y="1785"/>
                </a:lnTo>
                <a:lnTo>
                  <a:pt x="28722" y="1189"/>
                </a:lnTo>
                <a:lnTo>
                  <a:pt x="31531" y="792"/>
                </a:lnTo>
                <a:lnTo>
                  <a:pt x="37191" y="351"/>
                </a:lnTo>
                <a:lnTo>
                  <a:pt x="47962" y="155"/>
                </a:lnTo>
                <a:lnTo>
                  <a:pt x="108526" y="0"/>
                </a:lnTo>
                <a:lnTo>
                  <a:pt x="115213" y="952"/>
                </a:lnTo>
                <a:lnTo>
                  <a:pt x="122529" y="2539"/>
                </a:lnTo>
                <a:lnTo>
                  <a:pt x="130263" y="4549"/>
                </a:lnTo>
                <a:lnTo>
                  <a:pt x="137325" y="5889"/>
                </a:lnTo>
                <a:lnTo>
                  <a:pt x="143938" y="6783"/>
                </a:lnTo>
                <a:lnTo>
                  <a:pt x="150251" y="7379"/>
                </a:lnTo>
                <a:lnTo>
                  <a:pt x="156365" y="7776"/>
                </a:lnTo>
                <a:lnTo>
                  <a:pt x="162346" y="8040"/>
                </a:lnTo>
                <a:lnTo>
                  <a:pt x="177325" y="8413"/>
                </a:lnTo>
                <a:lnTo>
                  <a:pt x="181082" y="8466"/>
                </a:lnTo>
                <a:lnTo>
                  <a:pt x="185492" y="9453"/>
                </a:lnTo>
                <a:lnTo>
                  <a:pt x="190336" y="11064"/>
                </a:lnTo>
                <a:lnTo>
                  <a:pt x="195471" y="13090"/>
                </a:lnTo>
                <a:lnTo>
                  <a:pt x="199847" y="14441"/>
                </a:lnTo>
                <a:lnTo>
                  <a:pt x="203716" y="15342"/>
                </a:lnTo>
                <a:lnTo>
                  <a:pt x="207249" y="15942"/>
                </a:lnTo>
                <a:lnTo>
                  <a:pt x="210556" y="16342"/>
                </a:lnTo>
                <a:lnTo>
                  <a:pt x="216771" y="16787"/>
                </a:lnTo>
                <a:lnTo>
                  <a:pt x="222886" y="17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MARTPenAnnotation729"/>
          <p:cNvSpPr/>
          <p:nvPr/>
        </p:nvSpPr>
        <p:spPr>
          <a:xfrm>
            <a:off x="3936960" y="4354560"/>
            <a:ext cx="335160" cy="34920"/>
          </a:xfrm>
          <a:custGeom>
            <a:avLst/>
            <a:gdLst>
              <a:gd name="textAreaLeft" fmla="*/ 0 w 335160"/>
              <a:gd name="textAreaRight" fmla="*/ 335520 w 3351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334329" h="34292">
                <a:moveTo>
                  <a:pt x="0" y="34291"/>
                </a:moveTo>
                <a:lnTo>
                  <a:pt x="7382" y="26910"/>
                </a:lnTo>
                <a:lnTo>
                  <a:pt x="10584" y="26248"/>
                </a:lnTo>
                <a:lnTo>
                  <a:pt x="12771" y="26071"/>
                </a:lnTo>
                <a:lnTo>
                  <a:pt x="17087" y="25001"/>
                </a:lnTo>
                <a:lnTo>
                  <a:pt x="22821" y="23335"/>
                </a:lnTo>
                <a:lnTo>
                  <a:pt x="29502" y="21272"/>
                </a:lnTo>
                <a:lnTo>
                  <a:pt x="35861" y="19896"/>
                </a:lnTo>
                <a:lnTo>
                  <a:pt x="42005" y="18979"/>
                </a:lnTo>
                <a:lnTo>
                  <a:pt x="48006" y="18368"/>
                </a:lnTo>
                <a:lnTo>
                  <a:pt x="53912" y="17961"/>
                </a:lnTo>
                <a:lnTo>
                  <a:pt x="59754" y="17689"/>
                </a:lnTo>
                <a:lnTo>
                  <a:pt x="72278" y="17387"/>
                </a:lnTo>
                <a:lnTo>
                  <a:pt x="129924" y="17155"/>
                </a:lnTo>
                <a:lnTo>
                  <a:pt x="138051" y="16199"/>
                </a:lnTo>
                <a:lnTo>
                  <a:pt x="146327" y="14610"/>
                </a:lnTo>
                <a:lnTo>
                  <a:pt x="154701" y="12598"/>
                </a:lnTo>
                <a:lnTo>
                  <a:pt x="163142" y="11256"/>
                </a:lnTo>
                <a:lnTo>
                  <a:pt x="171626" y="10362"/>
                </a:lnTo>
                <a:lnTo>
                  <a:pt x="180140" y="9765"/>
                </a:lnTo>
                <a:lnTo>
                  <a:pt x="187721" y="9368"/>
                </a:lnTo>
                <a:lnTo>
                  <a:pt x="201224" y="8927"/>
                </a:lnTo>
                <a:lnTo>
                  <a:pt x="244408" y="8604"/>
                </a:lnTo>
                <a:lnTo>
                  <a:pt x="267045" y="8582"/>
                </a:lnTo>
                <a:lnTo>
                  <a:pt x="275185" y="7627"/>
                </a:lnTo>
                <a:lnTo>
                  <a:pt x="283469" y="6037"/>
                </a:lnTo>
                <a:lnTo>
                  <a:pt x="291850" y="4025"/>
                </a:lnTo>
                <a:lnTo>
                  <a:pt x="298389" y="2684"/>
                </a:lnTo>
                <a:lnTo>
                  <a:pt x="303701" y="1789"/>
                </a:lnTo>
                <a:lnTo>
                  <a:pt x="313096" y="796"/>
                </a:lnTo>
                <a:lnTo>
                  <a:pt x="318269" y="531"/>
                </a:lnTo>
                <a:lnTo>
                  <a:pt x="33432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MARTPenAnnotation730"/>
          <p:cNvSpPr/>
          <p:nvPr/>
        </p:nvSpPr>
        <p:spPr>
          <a:xfrm>
            <a:off x="4521240" y="4159080"/>
            <a:ext cx="272880" cy="324000"/>
          </a:xfrm>
          <a:custGeom>
            <a:avLst/>
            <a:gdLst>
              <a:gd name="textAreaLeft" fmla="*/ 0 w 272880"/>
              <a:gd name="textAreaRight" fmla="*/ 273240 w 2728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73783" h="324564">
                <a:moveTo>
                  <a:pt x="222885" y="7381"/>
                </a:moveTo>
                <a:lnTo>
                  <a:pt x="222885" y="2830"/>
                </a:lnTo>
                <a:lnTo>
                  <a:pt x="221932" y="1489"/>
                </a:lnTo>
                <a:lnTo>
                  <a:pt x="220345" y="595"/>
                </a:lnTo>
                <a:lnTo>
                  <a:pt x="218334" y="0"/>
                </a:lnTo>
                <a:lnTo>
                  <a:pt x="216041" y="555"/>
                </a:lnTo>
                <a:lnTo>
                  <a:pt x="208263" y="4935"/>
                </a:lnTo>
                <a:lnTo>
                  <a:pt x="202733" y="6294"/>
                </a:lnTo>
                <a:lnTo>
                  <a:pt x="194561" y="9437"/>
                </a:lnTo>
                <a:lnTo>
                  <a:pt x="189715" y="11610"/>
                </a:lnTo>
                <a:lnTo>
                  <a:pt x="183626" y="14010"/>
                </a:lnTo>
                <a:lnTo>
                  <a:pt x="169242" y="19217"/>
                </a:lnTo>
                <a:lnTo>
                  <a:pt x="162358" y="20986"/>
                </a:lnTo>
                <a:lnTo>
                  <a:pt x="155863" y="22166"/>
                </a:lnTo>
                <a:lnTo>
                  <a:pt x="149629" y="22953"/>
                </a:lnTo>
                <a:lnTo>
                  <a:pt x="142615" y="24430"/>
                </a:lnTo>
                <a:lnTo>
                  <a:pt x="135081" y="26366"/>
                </a:lnTo>
                <a:lnTo>
                  <a:pt x="127202" y="28610"/>
                </a:lnTo>
                <a:lnTo>
                  <a:pt x="120043" y="30106"/>
                </a:lnTo>
                <a:lnTo>
                  <a:pt x="113366" y="31104"/>
                </a:lnTo>
                <a:lnTo>
                  <a:pt x="107010" y="31768"/>
                </a:lnTo>
                <a:lnTo>
                  <a:pt x="99915" y="32211"/>
                </a:lnTo>
                <a:lnTo>
                  <a:pt x="84411" y="32704"/>
                </a:lnTo>
                <a:lnTo>
                  <a:pt x="52014" y="33046"/>
                </a:lnTo>
                <a:lnTo>
                  <a:pt x="44" y="33098"/>
                </a:lnTo>
                <a:lnTo>
                  <a:pt x="8" y="40894"/>
                </a:lnTo>
                <a:lnTo>
                  <a:pt x="0" y="182867"/>
                </a:lnTo>
                <a:lnTo>
                  <a:pt x="952" y="184379"/>
                </a:lnTo>
                <a:lnTo>
                  <a:pt x="2540" y="185387"/>
                </a:lnTo>
                <a:lnTo>
                  <a:pt x="7381" y="187005"/>
                </a:lnTo>
                <a:lnTo>
                  <a:pt x="12770" y="187285"/>
                </a:lnTo>
                <a:lnTo>
                  <a:pt x="15181" y="186372"/>
                </a:lnTo>
                <a:lnTo>
                  <a:pt x="24076" y="180536"/>
                </a:lnTo>
                <a:lnTo>
                  <a:pt x="28434" y="178063"/>
                </a:lnTo>
                <a:lnTo>
                  <a:pt x="33243" y="175461"/>
                </a:lnTo>
                <a:lnTo>
                  <a:pt x="41127" y="170031"/>
                </a:lnTo>
                <a:lnTo>
                  <a:pt x="48758" y="164442"/>
                </a:lnTo>
                <a:lnTo>
                  <a:pt x="53460" y="161618"/>
                </a:lnTo>
                <a:lnTo>
                  <a:pt x="58500" y="158783"/>
                </a:lnTo>
                <a:lnTo>
                  <a:pt x="64717" y="156893"/>
                </a:lnTo>
                <a:lnTo>
                  <a:pt x="71720" y="155633"/>
                </a:lnTo>
                <a:lnTo>
                  <a:pt x="79245" y="154793"/>
                </a:lnTo>
                <a:lnTo>
                  <a:pt x="86168" y="153280"/>
                </a:lnTo>
                <a:lnTo>
                  <a:pt x="92687" y="151320"/>
                </a:lnTo>
                <a:lnTo>
                  <a:pt x="105965" y="146601"/>
                </a:lnTo>
                <a:lnTo>
                  <a:pt x="121390" y="141329"/>
                </a:lnTo>
                <a:lnTo>
                  <a:pt x="128551" y="139542"/>
                </a:lnTo>
                <a:lnTo>
                  <a:pt x="135231" y="138351"/>
                </a:lnTo>
                <a:lnTo>
                  <a:pt x="141589" y="137557"/>
                </a:lnTo>
                <a:lnTo>
                  <a:pt x="147732" y="137027"/>
                </a:lnTo>
                <a:lnTo>
                  <a:pt x="153733" y="136674"/>
                </a:lnTo>
                <a:lnTo>
                  <a:pt x="159638" y="136439"/>
                </a:lnTo>
                <a:lnTo>
                  <a:pt x="165481" y="137234"/>
                </a:lnTo>
                <a:lnTo>
                  <a:pt x="171280" y="138717"/>
                </a:lnTo>
                <a:lnTo>
                  <a:pt x="177052" y="140658"/>
                </a:lnTo>
                <a:lnTo>
                  <a:pt x="183757" y="141952"/>
                </a:lnTo>
                <a:lnTo>
                  <a:pt x="191085" y="142815"/>
                </a:lnTo>
                <a:lnTo>
                  <a:pt x="198827" y="143390"/>
                </a:lnTo>
                <a:lnTo>
                  <a:pt x="205894" y="144726"/>
                </a:lnTo>
                <a:lnTo>
                  <a:pt x="212510" y="146570"/>
                </a:lnTo>
                <a:lnTo>
                  <a:pt x="218825" y="148751"/>
                </a:lnTo>
                <a:lnTo>
                  <a:pt x="223988" y="151157"/>
                </a:lnTo>
                <a:lnTo>
                  <a:pt x="232265" y="156372"/>
                </a:lnTo>
                <a:lnTo>
                  <a:pt x="236758" y="160048"/>
                </a:lnTo>
                <a:lnTo>
                  <a:pt x="241659" y="164404"/>
                </a:lnTo>
                <a:lnTo>
                  <a:pt x="246831" y="169213"/>
                </a:lnTo>
                <a:lnTo>
                  <a:pt x="251231" y="174324"/>
                </a:lnTo>
                <a:lnTo>
                  <a:pt x="255117" y="179636"/>
                </a:lnTo>
                <a:lnTo>
                  <a:pt x="261975" y="189666"/>
                </a:lnTo>
                <a:lnTo>
                  <a:pt x="268198" y="197299"/>
                </a:lnTo>
                <a:lnTo>
                  <a:pt x="270239" y="201620"/>
                </a:lnTo>
                <a:lnTo>
                  <a:pt x="272506" y="211502"/>
                </a:lnTo>
                <a:lnTo>
                  <a:pt x="273110" y="216804"/>
                </a:lnTo>
                <a:lnTo>
                  <a:pt x="273514" y="222244"/>
                </a:lnTo>
                <a:lnTo>
                  <a:pt x="273782" y="227775"/>
                </a:lnTo>
                <a:lnTo>
                  <a:pt x="273009" y="232415"/>
                </a:lnTo>
                <a:lnTo>
                  <a:pt x="269610" y="240111"/>
                </a:lnTo>
                <a:lnTo>
                  <a:pt x="262341" y="254350"/>
                </a:lnTo>
                <a:lnTo>
                  <a:pt x="256930" y="262559"/>
                </a:lnTo>
                <a:lnTo>
                  <a:pt x="248530" y="272537"/>
                </a:lnTo>
                <a:lnTo>
                  <a:pt x="245697" y="275591"/>
                </a:lnTo>
                <a:lnTo>
                  <a:pt x="237468" y="281525"/>
                </a:lnTo>
                <a:lnTo>
                  <a:pt x="232607" y="284441"/>
                </a:lnTo>
                <a:lnTo>
                  <a:pt x="227461" y="287338"/>
                </a:lnTo>
                <a:lnTo>
                  <a:pt x="216663" y="293096"/>
                </a:lnTo>
                <a:lnTo>
                  <a:pt x="199875" y="301693"/>
                </a:lnTo>
                <a:lnTo>
                  <a:pt x="194210" y="303601"/>
                </a:lnTo>
                <a:lnTo>
                  <a:pt x="188528" y="304874"/>
                </a:lnTo>
                <a:lnTo>
                  <a:pt x="182835" y="305722"/>
                </a:lnTo>
                <a:lnTo>
                  <a:pt x="176183" y="306287"/>
                </a:lnTo>
                <a:lnTo>
                  <a:pt x="168890" y="306664"/>
                </a:lnTo>
                <a:lnTo>
                  <a:pt x="150054" y="307195"/>
                </a:lnTo>
                <a:lnTo>
                  <a:pt x="145755" y="307269"/>
                </a:lnTo>
                <a:lnTo>
                  <a:pt x="140985" y="308271"/>
                </a:lnTo>
                <a:lnTo>
                  <a:pt x="135900" y="309892"/>
                </a:lnTo>
                <a:lnTo>
                  <a:pt x="130605" y="311925"/>
                </a:lnTo>
                <a:lnTo>
                  <a:pt x="125170" y="313280"/>
                </a:lnTo>
                <a:lnTo>
                  <a:pt x="119642" y="314183"/>
                </a:lnTo>
                <a:lnTo>
                  <a:pt x="114051" y="314786"/>
                </a:lnTo>
                <a:lnTo>
                  <a:pt x="108419" y="315188"/>
                </a:lnTo>
                <a:lnTo>
                  <a:pt x="102759" y="315455"/>
                </a:lnTo>
                <a:lnTo>
                  <a:pt x="91391" y="315753"/>
                </a:lnTo>
                <a:lnTo>
                  <a:pt x="62858" y="315959"/>
                </a:lnTo>
                <a:lnTo>
                  <a:pt x="58098" y="316922"/>
                </a:lnTo>
                <a:lnTo>
                  <a:pt x="46847" y="321876"/>
                </a:lnTo>
                <a:lnTo>
                  <a:pt x="43614" y="322772"/>
                </a:lnTo>
                <a:lnTo>
                  <a:pt x="34289" y="3245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MARTPenAnnotation731"/>
          <p:cNvSpPr/>
          <p:nvPr/>
        </p:nvSpPr>
        <p:spPr>
          <a:xfrm>
            <a:off x="1530360" y="4818240"/>
            <a:ext cx="204840" cy="496800"/>
          </a:xfrm>
          <a:custGeom>
            <a:avLst/>
            <a:gdLst>
              <a:gd name="textAreaLeft" fmla="*/ 0 w 204840"/>
              <a:gd name="textAreaRight" fmla="*/ 205200 w 20484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04429" h="497205">
                <a:moveTo>
                  <a:pt x="204428" y="8571"/>
                </a:moveTo>
                <a:lnTo>
                  <a:pt x="199877" y="8571"/>
                </a:lnTo>
                <a:lnTo>
                  <a:pt x="198536" y="7619"/>
                </a:lnTo>
                <a:lnTo>
                  <a:pt x="197643" y="6032"/>
                </a:lnTo>
                <a:lnTo>
                  <a:pt x="195865" y="30"/>
                </a:lnTo>
                <a:lnTo>
                  <a:pt x="175705" y="0"/>
                </a:lnTo>
                <a:lnTo>
                  <a:pt x="173849" y="952"/>
                </a:lnTo>
                <a:lnTo>
                  <a:pt x="172612" y="2539"/>
                </a:lnTo>
                <a:lnTo>
                  <a:pt x="171787" y="4549"/>
                </a:lnTo>
                <a:lnTo>
                  <a:pt x="165791" y="9324"/>
                </a:lnTo>
                <a:lnTo>
                  <a:pt x="161525" y="11930"/>
                </a:lnTo>
                <a:lnTo>
                  <a:pt x="158681" y="14621"/>
                </a:lnTo>
                <a:lnTo>
                  <a:pt x="156785" y="17367"/>
                </a:lnTo>
                <a:lnTo>
                  <a:pt x="155521" y="20150"/>
                </a:lnTo>
                <a:lnTo>
                  <a:pt x="152773" y="22958"/>
                </a:lnTo>
                <a:lnTo>
                  <a:pt x="149037" y="25782"/>
                </a:lnTo>
                <a:lnTo>
                  <a:pt x="144640" y="28618"/>
                </a:lnTo>
                <a:lnTo>
                  <a:pt x="140757" y="31461"/>
                </a:lnTo>
                <a:lnTo>
                  <a:pt x="137216" y="34308"/>
                </a:lnTo>
                <a:lnTo>
                  <a:pt x="133902" y="37159"/>
                </a:lnTo>
                <a:lnTo>
                  <a:pt x="129789" y="40012"/>
                </a:lnTo>
                <a:lnTo>
                  <a:pt x="125141" y="42867"/>
                </a:lnTo>
                <a:lnTo>
                  <a:pt x="120137" y="45723"/>
                </a:lnTo>
                <a:lnTo>
                  <a:pt x="115849" y="49531"/>
                </a:lnTo>
                <a:lnTo>
                  <a:pt x="112038" y="53976"/>
                </a:lnTo>
                <a:lnTo>
                  <a:pt x="108544" y="58843"/>
                </a:lnTo>
                <a:lnTo>
                  <a:pt x="104311" y="63041"/>
                </a:lnTo>
                <a:lnTo>
                  <a:pt x="99583" y="66792"/>
                </a:lnTo>
                <a:lnTo>
                  <a:pt x="94526" y="70245"/>
                </a:lnTo>
                <a:lnTo>
                  <a:pt x="90203" y="75404"/>
                </a:lnTo>
                <a:lnTo>
                  <a:pt x="86368" y="81702"/>
                </a:lnTo>
                <a:lnTo>
                  <a:pt x="82859" y="88757"/>
                </a:lnTo>
                <a:lnTo>
                  <a:pt x="78614" y="95366"/>
                </a:lnTo>
                <a:lnTo>
                  <a:pt x="73880" y="101677"/>
                </a:lnTo>
                <a:lnTo>
                  <a:pt x="68818" y="107790"/>
                </a:lnTo>
                <a:lnTo>
                  <a:pt x="64491" y="114722"/>
                </a:lnTo>
                <a:lnTo>
                  <a:pt x="60654" y="122201"/>
                </a:lnTo>
                <a:lnTo>
                  <a:pt x="53851" y="137178"/>
                </a:lnTo>
                <a:lnTo>
                  <a:pt x="47653" y="150185"/>
                </a:lnTo>
                <a:lnTo>
                  <a:pt x="43713" y="156320"/>
                </a:lnTo>
                <a:lnTo>
                  <a:pt x="39182" y="162316"/>
                </a:lnTo>
                <a:lnTo>
                  <a:pt x="34257" y="168218"/>
                </a:lnTo>
                <a:lnTo>
                  <a:pt x="30020" y="175010"/>
                </a:lnTo>
                <a:lnTo>
                  <a:pt x="26244" y="182395"/>
                </a:lnTo>
                <a:lnTo>
                  <a:pt x="20460" y="197269"/>
                </a:lnTo>
                <a:lnTo>
                  <a:pt x="17889" y="210230"/>
                </a:lnTo>
                <a:lnTo>
                  <a:pt x="14207" y="222339"/>
                </a:lnTo>
                <a:lnTo>
                  <a:pt x="10348" y="234071"/>
                </a:lnTo>
                <a:lnTo>
                  <a:pt x="8633" y="245636"/>
                </a:lnTo>
                <a:lnTo>
                  <a:pt x="5330" y="257126"/>
                </a:lnTo>
                <a:lnTo>
                  <a:pt x="1640" y="268583"/>
                </a:lnTo>
                <a:lnTo>
                  <a:pt x="0" y="280025"/>
                </a:lnTo>
                <a:lnTo>
                  <a:pt x="1811" y="294000"/>
                </a:lnTo>
                <a:lnTo>
                  <a:pt x="4838" y="307831"/>
                </a:lnTo>
                <a:lnTo>
                  <a:pt x="7495" y="321925"/>
                </a:lnTo>
                <a:lnTo>
                  <a:pt x="11493" y="332307"/>
                </a:lnTo>
                <a:lnTo>
                  <a:pt x="16444" y="343271"/>
                </a:lnTo>
                <a:lnTo>
                  <a:pt x="24586" y="360154"/>
                </a:lnTo>
                <a:lnTo>
                  <a:pt x="35871" y="382925"/>
                </a:lnTo>
                <a:lnTo>
                  <a:pt x="39669" y="388633"/>
                </a:lnTo>
                <a:lnTo>
                  <a:pt x="44106" y="394343"/>
                </a:lnTo>
                <a:lnTo>
                  <a:pt x="48969" y="400055"/>
                </a:lnTo>
                <a:lnTo>
                  <a:pt x="53164" y="404815"/>
                </a:lnTo>
                <a:lnTo>
                  <a:pt x="60364" y="412645"/>
                </a:lnTo>
                <a:lnTo>
                  <a:pt x="74324" y="426958"/>
                </a:lnTo>
                <a:lnTo>
                  <a:pt x="78640" y="432276"/>
                </a:lnTo>
                <a:lnTo>
                  <a:pt x="82469" y="437726"/>
                </a:lnTo>
                <a:lnTo>
                  <a:pt x="85974" y="443265"/>
                </a:lnTo>
                <a:lnTo>
                  <a:pt x="90217" y="447909"/>
                </a:lnTo>
                <a:lnTo>
                  <a:pt x="94950" y="451958"/>
                </a:lnTo>
                <a:lnTo>
                  <a:pt x="100010" y="455610"/>
                </a:lnTo>
                <a:lnTo>
                  <a:pt x="104336" y="459950"/>
                </a:lnTo>
                <a:lnTo>
                  <a:pt x="108173" y="464747"/>
                </a:lnTo>
                <a:lnTo>
                  <a:pt x="111683" y="469851"/>
                </a:lnTo>
                <a:lnTo>
                  <a:pt x="114975" y="474206"/>
                </a:lnTo>
                <a:lnTo>
                  <a:pt x="121174" y="481585"/>
                </a:lnTo>
                <a:lnTo>
                  <a:pt x="125113" y="484886"/>
                </a:lnTo>
                <a:lnTo>
                  <a:pt x="129644" y="488039"/>
                </a:lnTo>
                <a:lnTo>
                  <a:pt x="134569" y="491095"/>
                </a:lnTo>
                <a:lnTo>
                  <a:pt x="139758" y="493131"/>
                </a:lnTo>
                <a:lnTo>
                  <a:pt x="145122" y="494489"/>
                </a:lnTo>
                <a:lnTo>
                  <a:pt x="150603" y="495394"/>
                </a:lnTo>
                <a:lnTo>
                  <a:pt x="155210" y="495997"/>
                </a:lnTo>
                <a:lnTo>
                  <a:pt x="159233" y="496399"/>
                </a:lnTo>
                <a:lnTo>
                  <a:pt x="162868" y="496667"/>
                </a:lnTo>
                <a:lnTo>
                  <a:pt x="167196" y="496846"/>
                </a:lnTo>
                <a:lnTo>
                  <a:pt x="177086" y="497045"/>
                </a:lnTo>
                <a:lnTo>
                  <a:pt x="204428" y="4972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MARTPenAnnotation732"/>
          <p:cNvSpPr/>
          <p:nvPr/>
        </p:nvSpPr>
        <p:spPr>
          <a:xfrm>
            <a:off x="1765440" y="4971960"/>
            <a:ext cx="260280" cy="239760"/>
          </a:xfrm>
          <a:custGeom>
            <a:avLst/>
            <a:gdLst>
              <a:gd name="textAreaLeft" fmla="*/ 0 w 260280"/>
              <a:gd name="textAreaRight" fmla="*/ 260640 w 2602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61321" h="239999">
                <a:moveTo>
                  <a:pt x="12717" y="8541"/>
                </a:moveTo>
                <a:lnTo>
                  <a:pt x="8167" y="8541"/>
                </a:lnTo>
                <a:lnTo>
                  <a:pt x="5873" y="7589"/>
                </a:lnTo>
                <a:lnTo>
                  <a:pt x="786" y="3991"/>
                </a:lnTo>
                <a:lnTo>
                  <a:pt x="0" y="2650"/>
                </a:lnTo>
                <a:lnTo>
                  <a:pt x="429" y="1756"/>
                </a:lnTo>
                <a:lnTo>
                  <a:pt x="3927" y="73"/>
                </a:lnTo>
                <a:lnTo>
                  <a:pt x="8631" y="0"/>
                </a:lnTo>
                <a:lnTo>
                  <a:pt x="10946" y="942"/>
                </a:lnTo>
                <a:lnTo>
                  <a:pt x="18964" y="6758"/>
                </a:lnTo>
                <a:lnTo>
                  <a:pt x="22161" y="8701"/>
                </a:lnTo>
                <a:lnTo>
                  <a:pt x="29932" y="12739"/>
                </a:lnTo>
                <a:lnTo>
                  <a:pt x="37196" y="15170"/>
                </a:lnTo>
                <a:lnTo>
                  <a:pt x="40466" y="15818"/>
                </a:lnTo>
                <a:lnTo>
                  <a:pt x="46640" y="19078"/>
                </a:lnTo>
                <a:lnTo>
                  <a:pt x="52559" y="23702"/>
                </a:lnTo>
                <a:lnTo>
                  <a:pt x="58365" y="28931"/>
                </a:lnTo>
                <a:lnTo>
                  <a:pt x="62199" y="31660"/>
                </a:lnTo>
                <a:lnTo>
                  <a:pt x="66660" y="34431"/>
                </a:lnTo>
                <a:lnTo>
                  <a:pt x="71539" y="37231"/>
                </a:lnTo>
                <a:lnTo>
                  <a:pt x="76697" y="41003"/>
                </a:lnTo>
                <a:lnTo>
                  <a:pt x="82040" y="45422"/>
                </a:lnTo>
                <a:lnTo>
                  <a:pt x="87508" y="50274"/>
                </a:lnTo>
                <a:lnTo>
                  <a:pt x="93058" y="54460"/>
                </a:lnTo>
                <a:lnTo>
                  <a:pt x="98663" y="58204"/>
                </a:lnTo>
                <a:lnTo>
                  <a:pt x="104304" y="61652"/>
                </a:lnTo>
                <a:lnTo>
                  <a:pt x="109970" y="65856"/>
                </a:lnTo>
                <a:lnTo>
                  <a:pt x="115653" y="70563"/>
                </a:lnTo>
                <a:lnTo>
                  <a:pt x="121346" y="75607"/>
                </a:lnTo>
                <a:lnTo>
                  <a:pt x="132752" y="86291"/>
                </a:lnTo>
                <a:lnTo>
                  <a:pt x="138460" y="91807"/>
                </a:lnTo>
                <a:lnTo>
                  <a:pt x="143219" y="97389"/>
                </a:lnTo>
                <a:lnTo>
                  <a:pt x="147343" y="103015"/>
                </a:lnTo>
                <a:lnTo>
                  <a:pt x="151045" y="108672"/>
                </a:lnTo>
                <a:lnTo>
                  <a:pt x="155419" y="114348"/>
                </a:lnTo>
                <a:lnTo>
                  <a:pt x="160239" y="120036"/>
                </a:lnTo>
                <a:lnTo>
                  <a:pt x="165358" y="125734"/>
                </a:lnTo>
                <a:lnTo>
                  <a:pt x="176125" y="137144"/>
                </a:lnTo>
                <a:lnTo>
                  <a:pt x="181664" y="142854"/>
                </a:lnTo>
                <a:lnTo>
                  <a:pt x="185356" y="148566"/>
                </a:lnTo>
                <a:lnTo>
                  <a:pt x="187817" y="154278"/>
                </a:lnTo>
                <a:lnTo>
                  <a:pt x="189458" y="159992"/>
                </a:lnTo>
                <a:lnTo>
                  <a:pt x="192457" y="164753"/>
                </a:lnTo>
                <a:lnTo>
                  <a:pt x="196361" y="168880"/>
                </a:lnTo>
                <a:lnTo>
                  <a:pt x="200869" y="172584"/>
                </a:lnTo>
                <a:lnTo>
                  <a:pt x="204827" y="176958"/>
                </a:lnTo>
                <a:lnTo>
                  <a:pt x="208418" y="181779"/>
                </a:lnTo>
                <a:lnTo>
                  <a:pt x="211765" y="186898"/>
                </a:lnTo>
                <a:lnTo>
                  <a:pt x="214948" y="192216"/>
                </a:lnTo>
                <a:lnTo>
                  <a:pt x="218023" y="197666"/>
                </a:lnTo>
                <a:lnTo>
                  <a:pt x="221025" y="203205"/>
                </a:lnTo>
                <a:lnTo>
                  <a:pt x="223979" y="207849"/>
                </a:lnTo>
                <a:lnTo>
                  <a:pt x="226901" y="211898"/>
                </a:lnTo>
                <a:lnTo>
                  <a:pt x="232688" y="218937"/>
                </a:lnTo>
                <a:lnTo>
                  <a:pt x="238435" y="225240"/>
                </a:lnTo>
                <a:lnTo>
                  <a:pt x="247025" y="234144"/>
                </a:lnTo>
                <a:lnTo>
                  <a:pt x="249885" y="236096"/>
                </a:lnTo>
                <a:lnTo>
                  <a:pt x="257509" y="238842"/>
                </a:lnTo>
                <a:lnTo>
                  <a:pt x="261320" y="2399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MARTPenAnnotation733"/>
          <p:cNvSpPr/>
          <p:nvPr/>
        </p:nvSpPr>
        <p:spPr>
          <a:xfrm>
            <a:off x="1806480" y="4921200"/>
            <a:ext cx="211320" cy="273240"/>
          </a:xfrm>
          <a:custGeom>
            <a:avLst/>
            <a:gdLst>
              <a:gd name="textAreaLeft" fmla="*/ 0 w 211320"/>
              <a:gd name="textAreaRight" fmla="*/ 211680 w 21132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210342" h="274321">
                <a:moveTo>
                  <a:pt x="210341" y="0"/>
                </a:moveTo>
                <a:lnTo>
                  <a:pt x="205791" y="0"/>
                </a:lnTo>
                <a:lnTo>
                  <a:pt x="204450" y="952"/>
                </a:lnTo>
                <a:lnTo>
                  <a:pt x="203556" y="2540"/>
                </a:lnTo>
                <a:lnTo>
                  <a:pt x="202961" y="4551"/>
                </a:lnTo>
                <a:lnTo>
                  <a:pt x="199759" y="9325"/>
                </a:lnTo>
                <a:lnTo>
                  <a:pt x="197571" y="11931"/>
                </a:lnTo>
                <a:lnTo>
                  <a:pt x="196113" y="15574"/>
                </a:lnTo>
                <a:lnTo>
                  <a:pt x="195141" y="19908"/>
                </a:lnTo>
                <a:lnTo>
                  <a:pt x="194493" y="24702"/>
                </a:lnTo>
                <a:lnTo>
                  <a:pt x="192155" y="29802"/>
                </a:lnTo>
                <a:lnTo>
                  <a:pt x="188693" y="35108"/>
                </a:lnTo>
                <a:lnTo>
                  <a:pt x="184479" y="40551"/>
                </a:lnTo>
                <a:lnTo>
                  <a:pt x="179765" y="46084"/>
                </a:lnTo>
                <a:lnTo>
                  <a:pt x="174717" y="51678"/>
                </a:lnTo>
                <a:lnTo>
                  <a:pt x="169447" y="57311"/>
                </a:lnTo>
                <a:lnTo>
                  <a:pt x="164028" y="63925"/>
                </a:lnTo>
                <a:lnTo>
                  <a:pt x="158511" y="71191"/>
                </a:lnTo>
                <a:lnTo>
                  <a:pt x="147301" y="86885"/>
                </a:lnTo>
                <a:lnTo>
                  <a:pt x="118878" y="128740"/>
                </a:lnTo>
                <a:lnTo>
                  <a:pt x="112219" y="137261"/>
                </a:lnTo>
                <a:lnTo>
                  <a:pt x="104921" y="145800"/>
                </a:lnTo>
                <a:lnTo>
                  <a:pt x="97199" y="154350"/>
                </a:lnTo>
                <a:lnTo>
                  <a:pt x="91098" y="162908"/>
                </a:lnTo>
                <a:lnTo>
                  <a:pt x="86078" y="171470"/>
                </a:lnTo>
                <a:lnTo>
                  <a:pt x="81779" y="180036"/>
                </a:lnTo>
                <a:lnTo>
                  <a:pt x="77008" y="187651"/>
                </a:lnTo>
                <a:lnTo>
                  <a:pt x="71923" y="194633"/>
                </a:lnTo>
                <a:lnTo>
                  <a:pt x="66627" y="201193"/>
                </a:lnTo>
                <a:lnTo>
                  <a:pt x="61192" y="207471"/>
                </a:lnTo>
                <a:lnTo>
                  <a:pt x="55664" y="213561"/>
                </a:lnTo>
                <a:lnTo>
                  <a:pt x="41321" y="228695"/>
                </a:lnTo>
                <a:lnTo>
                  <a:pt x="37653" y="232473"/>
                </a:lnTo>
                <a:lnTo>
                  <a:pt x="34256" y="236897"/>
                </a:lnTo>
                <a:lnTo>
                  <a:pt x="31039" y="241751"/>
                </a:lnTo>
                <a:lnTo>
                  <a:pt x="27941" y="246893"/>
                </a:lnTo>
                <a:lnTo>
                  <a:pt x="21960" y="255145"/>
                </a:lnTo>
                <a:lnTo>
                  <a:pt x="19031" y="258679"/>
                </a:lnTo>
                <a:lnTo>
                  <a:pt x="16126" y="261035"/>
                </a:lnTo>
                <a:lnTo>
                  <a:pt x="13237" y="262606"/>
                </a:lnTo>
                <a:lnTo>
                  <a:pt x="10359" y="263653"/>
                </a:lnTo>
                <a:lnTo>
                  <a:pt x="8440" y="265303"/>
                </a:lnTo>
                <a:lnTo>
                  <a:pt x="7160" y="267357"/>
                </a:lnTo>
                <a:lnTo>
                  <a:pt x="6307" y="269677"/>
                </a:lnTo>
                <a:lnTo>
                  <a:pt x="4786" y="271225"/>
                </a:lnTo>
                <a:lnTo>
                  <a:pt x="2820" y="272257"/>
                </a:lnTo>
                <a:lnTo>
                  <a:pt x="556" y="272944"/>
                </a:lnTo>
                <a:lnTo>
                  <a:pt x="0" y="273403"/>
                </a:lnTo>
                <a:lnTo>
                  <a:pt x="581" y="273709"/>
                </a:lnTo>
                <a:lnTo>
                  <a:pt x="4601" y="2743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MARTPenAnnotation734"/>
          <p:cNvSpPr/>
          <p:nvPr/>
        </p:nvSpPr>
        <p:spPr>
          <a:xfrm>
            <a:off x="2120760" y="5014800"/>
            <a:ext cx="351000" cy="7920"/>
          </a:xfrm>
          <a:custGeom>
            <a:avLst/>
            <a:gdLst>
              <a:gd name="textAreaLeft" fmla="*/ 0 w 351000"/>
              <a:gd name="textAreaRight" fmla="*/ 351360 w 3510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351474" h="8573">
                <a:moveTo>
                  <a:pt x="0" y="8572"/>
                </a:moveTo>
                <a:lnTo>
                  <a:pt x="39713" y="8572"/>
                </a:lnTo>
                <a:lnTo>
                  <a:pt x="46478" y="7619"/>
                </a:lnTo>
                <a:lnTo>
                  <a:pt x="53845" y="6032"/>
                </a:lnTo>
                <a:lnTo>
                  <a:pt x="61615" y="4021"/>
                </a:lnTo>
                <a:lnTo>
                  <a:pt x="68699" y="2680"/>
                </a:lnTo>
                <a:lnTo>
                  <a:pt x="75327" y="1786"/>
                </a:lnTo>
                <a:lnTo>
                  <a:pt x="81651" y="1190"/>
                </a:lnTo>
                <a:lnTo>
                  <a:pt x="88724" y="794"/>
                </a:lnTo>
                <a:lnTo>
                  <a:pt x="104203" y="352"/>
                </a:lnTo>
                <a:lnTo>
                  <a:pt x="182727" y="5"/>
                </a:lnTo>
                <a:lnTo>
                  <a:pt x="241328" y="0"/>
                </a:lnTo>
                <a:lnTo>
                  <a:pt x="248515" y="952"/>
                </a:lnTo>
                <a:lnTo>
                  <a:pt x="255212" y="2539"/>
                </a:lnTo>
                <a:lnTo>
                  <a:pt x="261582" y="4550"/>
                </a:lnTo>
                <a:lnTo>
                  <a:pt x="268685" y="5891"/>
                </a:lnTo>
                <a:lnTo>
                  <a:pt x="276279" y="6784"/>
                </a:lnTo>
                <a:lnTo>
                  <a:pt x="290431" y="7777"/>
                </a:lnTo>
                <a:lnTo>
                  <a:pt x="299896" y="8218"/>
                </a:lnTo>
                <a:lnTo>
                  <a:pt x="309817" y="8415"/>
                </a:lnTo>
                <a:lnTo>
                  <a:pt x="351473" y="85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MARTPenAnnotation735"/>
          <p:cNvSpPr/>
          <p:nvPr/>
        </p:nvSpPr>
        <p:spPr>
          <a:xfrm>
            <a:off x="2300400" y="4911840"/>
            <a:ext cx="25200" cy="257040"/>
          </a:xfrm>
          <a:custGeom>
            <a:avLst/>
            <a:gdLst>
              <a:gd name="textAreaLeft" fmla="*/ 0 w 25200"/>
              <a:gd name="textAreaRight" fmla="*/ 25560 w 2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5613" h="257160">
                <a:moveTo>
                  <a:pt x="17040" y="0"/>
                </a:moveTo>
                <a:lnTo>
                  <a:pt x="8477" y="0"/>
                </a:lnTo>
                <a:lnTo>
                  <a:pt x="8467" y="62111"/>
                </a:lnTo>
                <a:lnTo>
                  <a:pt x="7515" y="69030"/>
                </a:lnTo>
                <a:lnTo>
                  <a:pt x="5927" y="75547"/>
                </a:lnTo>
                <a:lnTo>
                  <a:pt x="3917" y="81798"/>
                </a:lnTo>
                <a:lnTo>
                  <a:pt x="2576" y="88822"/>
                </a:lnTo>
                <a:lnTo>
                  <a:pt x="1682" y="96362"/>
                </a:lnTo>
                <a:lnTo>
                  <a:pt x="1087" y="104247"/>
                </a:lnTo>
                <a:lnTo>
                  <a:pt x="690" y="112361"/>
                </a:lnTo>
                <a:lnTo>
                  <a:pt x="248" y="128995"/>
                </a:lnTo>
                <a:lnTo>
                  <a:pt x="0" y="149875"/>
                </a:lnTo>
                <a:lnTo>
                  <a:pt x="917" y="157067"/>
                </a:lnTo>
                <a:lnTo>
                  <a:pt x="2481" y="164719"/>
                </a:lnTo>
                <a:lnTo>
                  <a:pt x="4477" y="172678"/>
                </a:lnTo>
                <a:lnTo>
                  <a:pt x="5807" y="179889"/>
                </a:lnTo>
                <a:lnTo>
                  <a:pt x="6694" y="186601"/>
                </a:lnTo>
                <a:lnTo>
                  <a:pt x="7285" y="192981"/>
                </a:lnTo>
                <a:lnTo>
                  <a:pt x="7679" y="199139"/>
                </a:lnTo>
                <a:lnTo>
                  <a:pt x="8117" y="211061"/>
                </a:lnTo>
                <a:lnTo>
                  <a:pt x="8363" y="223933"/>
                </a:lnTo>
                <a:lnTo>
                  <a:pt x="9351" y="228346"/>
                </a:lnTo>
                <a:lnTo>
                  <a:pt x="10961" y="233193"/>
                </a:lnTo>
                <a:lnTo>
                  <a:pt x="12988" y="238330"/>
                </a:lnTo>
                <a:lnTo>
                  <a:pt x="14338" y="242706"/>
                </a:lnTo>
                <a:lnTo>
                  <a:pt x="15239" y="246577"/>
                </a:lnTo>
                <a:lnTo>
                  <a:pt x="17009" y="256992"/>
                </a:lnTo>
                <a:lnTo>
                  <a:pt x="17972" y="257053"/>
                </a:lnTo>
                <a:lnTo>
                  <a:pt x="24418" y="257159"/>
                </a:lnTo>
                <a:lnTo>
                  <a:pt x="24816" y="256212"/>
                </a:lnTo>
                <a:lnTo>
                  <a:pt x="25612" y="2486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MARTPenAnnotation736"/>
          <p:cNvSpPr/>
          <p:nvPr/>
        </p:nvSpPr>
        <p:spPr>
          <a:xfrm>
            <a:off x="2496960" y="4878360"/>
            <a:ext cx="300240" cy="230040"/>
          </a:xfrm>
          <a:custGeom>
            <a:avLst/>
            <a:gdLst>
              <a:gd name="textAreaLeft" fmla="*/ 0 w 300240"/>
              <a:gd name="textAreaRight" fmla="*/ 300600 w 300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300039" h="231438">
                <a:moveTo>
                  <a:pt x="0" y="51424"/>
                </a:moveTo>
                <a:lnTo>
                  <a:pt x="0" y="39493"/>
                </a:lnTo>
                <a:lnTo>
                  <a:pt x="953" y="37755"/>
                </a:lnTo>
                <a:lnTo>
                  <a:pt x="2540" y="36597"/>
                </a:lnTo>
                <a:lnTo>
                  <a:pt x="4552" y="35824"/>
                </a:lnTo>
                <a:lnTo>
                  <a:pt x="11932" y="30186"/>
                </a:lnTo>
                <a:lnTo>
                  <a:pt x="17369" y="25158"/>
                </a:lnTo>
                <a:lnTo>
                  <a:pt x="25784" y="16971"/>
                </a:lnTo>
                <a:lnTo>
                  <a:pt x="28619" y="14168"/>
                </a:lnTo>
                <a:lnTo>
                  <a:pt x="32415" y="12300"/>
                </a:lnTo>
                <a:lnTo>
                  <a:pt x="46858" y="8717"/>
                </a:lnTo>
                <a:lnTo>
                  <a:pt x="52194" y="6760"/>
                </a:lnTo>
                <a:lnTo>
                  <a:pt x="57656" y="4503"/>
                </a:lnTo>
                <a:lnTo>
                  <a:pt x="63203" y="2998"/>
                </a:lnTo>
                <a:lnTo>
                  <a:pt x="68805" y="1995"/>
                </a:lnTo>
                <a:lnTo>
                  <a:pt x="74445" y="1327"/>
                </a:lnTo>
                <a:lnTo>
                  <a:pt x="83252" y="583"/>
                </a:lnTo>
                <a:lnTo>
                  <a:pt x="91293" y="253"/>
                </a:lnTo>
                <a:lnTo>
                  <a:pt x="111978" y="41"/>
                </a:lnTo>
                <a:lnTo>
                  <a:pt x="134409" y="0"/>
                </a:lnTo>
                <a:lnTo>
                  <a:pt x="140088" y="949"/>
                </a:lnTo>
                <a:lnTo>
                  <a:pt x="145780" y="2534"/>
                </a:lnTo>
                <a:lnTo>
                  <a:pt x="151479" y="4543"/>
                </a:lnTo>
                <a:lnTo>
                  <a:pt x="160352" y="9316"/>
                </a:lnTo>
                <a:lnTo>
                  <a:pt x="168423" y="14612"/>
                </a:lnTo>
                <a:lnTo>
                  <a:pt x="173242" y="17357"/>
                </a:lnTo>
                <a:lnTo>
                  <a:pt x="178360" y="20141"/>
                </a:lnTo>
                <a:lnTo>
                  <a:pt x="181772" y="22948"/>
                </a:lnTo>
                <a:lnTo>
                  <a:pt x="184046" y="25773"/>
                </a:lnTo>
                <a:lnTo>
                  <a:pt x="187526" y="31451"/>
                </a:lnTo>
                <a:lnTo>
                  <a:pt x="192248" y="37150"/>
                </a:lnTo>
                <a:lnTo>
                  <a:pt x="193888" y="40955"/>
                </a:lnTo>
                <a:lnTo>
                  <a:pt x="194981" y="45398"/>
                </a:lnTo>
                <a:lnTo>
                  <a:pt x="195710" y="50264"/>
                </a:lnTo>
                <a:lnTo>
                  <a:pt x="195244" y="54461"/>
                </a:lnTo>
                <a:lnTo>
                  <a:pt x="193980" y="58211"/>
                </a:lnTo>
                <a:lnTo>
                  <a:pt x="192185" y="61664"/>
                </a:lnTo>
                <a:lnTo>
                  <a:pt x="190989" y="65871"/>
                </a:lnTo>
                <a:lnTo>
                  <a:pt x="190191" y="70580"/>
                </a:lnTo>
                <a:lnTo>
                  <a:pt x="189659" y="75625"/>
                </a:lnTo>
                <a:lnTo>
                  <a:pt x="187400" y="81845"/>
                </a:lnTo>
                <a:lnTo>
                  <a:pt x="183988" y="88850"/>
                </a:lnTo>
                <a:lnTo>
                  <a:pt x="179809" y="96377"/>
                </a:lnTo>
                <a:lnTo>
                  <a:pt x="175118" y="103301"/>
                </a:lnTo>
                <a:lnTo>
                  <a:pt x="170085" y="109821"/>
                </a:lnTo>
                <a:lnTo>
                  <a:pt x="164825" y="116073"/>
                </a:lnTo>
                <a:lnTo>
                  <a:pt x="159414" y="122146"/>
                </a:lnTo>
                <a:lnTo>
                  <a:pt x="148321" y="133974"/>
                </a:lnTo>
                <a:lnTo>
                  <a:pt x="142696" y="140747"/>
                </a:lnTo>
                <a:lnTo>
                  <a:pt x="137041" y="148120"/>
                </a:lnTo>
                <a:lnTo>
                  <a:pt x="131366" y="155893"/>
                </a:lnTo>
                <a:lnTo>
                  <a:pt x="126630" y="162980"/>
                </a:lnTo>
                <a:lnTo>
                  <a:pt x="122520" y="169610"/>
                </a:lnTo>
                <a:lnTo>
                  <a:pt x="118828" y="175935"/>
                </a:lnTo>
                <a:lnTo>
                  <a:pt x="114461" y="182056"/>
                </a:lnTo>
                <a:lnTo>
                  <a:pt x="109645" y="188042"/>
                </a:lnTo>
                <a:lnTo>
                  <a:pt x="104529" y="193938"/>
                </a:lnTo>
                <a:lnTo>
                  <a:pt x="99214" y="198821"/>
                </a:lnTo>
                <a:lnTo>
                  <a:pt x="93765" y="203029"/>
                </a:lnTo>
                <a:lnTo>
                  <a:pt x="88228" y="206787"/>
                </a:lnTo>
                <a:lnTo>
                  <a:pt x="79535" y="213502"/>
                </a:lnTo>
                <a:lnTo>
                  <a:pt x="75884" y="216626"/>
                </a:lnTo>
                <a:lnTo>
                  <a:pt x="69286" y="220097"/>
                </a:lnTo>
                <a:lnTo>
                  <a:pt x="66193" y="221023"/>
                </a:lnTo>
                <a:lnTo>
                  <a:pt x="64132" y="222593"/>
                </a:lnTo>
                <a:lnTo>
                  <a:pt x="62757" y="224591"/>
                </a:lnTo>
                <a:lnTo>
                  <a:pt x="60056" y="231328"/>
                </a:lnTo>
                <a:lnTo>
                  <a:pt x="69339" y="231431"/>
                </a:lnTo>
                <a:lnTo>
                  <a:pt x="71944" y="231437"/>
                </a:lnTo>
                <a:lnTo>
                  <a:pt x="74633" y="230487"/>
                </a:lnTo>
                <a:lnTo>
                  <a:pt x="82968" y="225553"/>
                </a:lnTo>
                <a:lnTo>
                  <a:pt x="88628" y="224065"/>
                </a:lnTo>
                <a:lnTo>
                  <a:pt x="96858" y="220863"/>
                </a:lnTo>
                <a:lnTo>
                  <a:pt x="101720" y="218676"/>
                </a:lnTo>
                <a:lnTo>
                  <a:pt x="112201" y="213706"/>
                </a:lnTo>
                <a:lnTo>
                  <a:pt x="117664" y="211047"/>
                </a:lnTo>
                <a:lnTo>
                  <a:pt x="123210" y="209274"/>
                </a:lnTo>
                <a:lnTo>
                  <a:pt x="128813" y="208092"/>
                </a:lnTo>
                <a:lnTo>
                  <a:pt x="134453" y="207305"/>
                </a:lnTo>
                <a:lnTo>
                  <a:pt x="140118" y="205827"/>
                </a:lnTo>
                <a:lnTo>
                  <a:pt x="145800" y="203889"/>
                </a:lnTo>
                <a:lnTo>
                  <a:pt x="151493" y="201645"/>
                </a:lnTo>
                <a:lnTo>
                  <a:pt x="165438" y="196611"/>
                </a:lnTo>
                <a:lnTo>
                  <a:pt x="173157" y="193935"/>
                </a:lnTo>
                <a:lnTo>
                  <a:pt x="180208" y="192152"/>
                </a:lnTo>
                <a:lnTo>
                  <a:pt x="186814" y="190963"/>
                </a:lnTo>
                <a:lnTo>
                  <a:pt x="193123" y="190170"/>
                </a:lnTo>
                <a:lnTo>
                  <a:pt x="200186" y="188689"/>
                </a:lnTo>
                <a:lnTo>
                  <a:pt x="207753" y="186749"/>
                </a:lnTo>
                <a:lnTo>
                  <a:pt x="215655" y="184503"/>
                </a:lnTo>
                <a:lnTo>
                  <a:pt x="222827" y="183006"/>
                </a:lnTo>
                <a:lnTo>
                  <a:pt x="229514" y="182008"/>
                </a:lnTo>
                <a:lnTo>
                  <a:pt x="235877" y="181342"/>
                </a:lnTo>
                <a:lnTo>
                  <a:pt x="242976" y="179946"/>
                </a:lnTo>
                <a:lnTo>
                  <a:pt x="250567" y="178063"/>
                </a:lnTo>
                <a:lnTo>
                  <a:pt x="258485" y="175855"/>
                </a:lnTo>
                <a:lnTo>
                  <a:pt x="264716" y="174383"/>
                </a:lnTo>
                <a:lnTo>
                  <a:pt x="269823" y="173402"/>
                </a:lnTo>
                <a:lnTo>
                  <a:pt x="278989" y="171359"/>
                </a:lnTo>
                <a:lnTo>
                  <a:pt x="284100" y="169481"/>
                </a:lnTo>
                <a:lnTo>
                  <a:pt x="300038" y="1628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MARTPenAnnotation737"/>
          <p:cNvSpPr/>
          <p:nvPr/>
        </p:nvSpPr>
        <p:spPr>
          <a:xfrm>
            <a:off x="2849400" y="4808520"/>
            <a:ext cx="171720" cy="370080"/>
          </a:xfrm>
          <a:custGeom>
            <a:avLst/>
            <a:gdLst>
              <a:gd name="textAreaLeft" fmla="*/ 0 w 171720"/>
              <a:gd name="textAreaRight" fmla="*/ 172080 w 1717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171292" h="368576">
                <a:moveTo>
                  <a:pt x="0" y="8572"/>
                </a:moveTo>
                <a:lnTo>
                  <a:pt x="0" y="104"/>
                </a:lnTo>
                <a:lnTo>
                  <a:pt x="4551" y="30"/>
                </a:lnTo>
                <a:lnTo>
                  <a:pt x="40551" y="0"/>
                </a:lnTo>
                <a:lnTo>
                  <a:pt x="45131" y="952"/>
                </a:lnTo>
                <a:lnTo>
                  <a:pt x="49138" y="2539"/>
                </a:lnTo>
                <a:lnTo>
                  <a:pt x="52761" y="4550"/>
                </a:lnTo>
                <a:lnTo>
                  <a:pt x="61867" y="9325"/>
                </a:lnTo>
                <a:lnTo>
                  <a:pt x="83235" y="20150"/>
                </a:lnTo>
                <a:lnTo>
                  <a:pt x="88827" y="23911"/>
                </a:lnTo>
                <a:lnTo>
                  <a:pt x="94461" y="28323"/>
                </a:lnTo>
                <a:lnTo>
                  <a:pt x="100121" y="33169"/>
                </a:lnTo>
                <a:lnTo>
                  <a:pt x="105800" y="38305"/>
                </a:lnTo>
                <a:lnTo>
                  <a:pt x="117190" y="49091"/>
                </a:lnTo>
                <a:lnTo>
                  <a:pt x="121942" y="54635"/>
                </a:lnTo>
                <a:lnTo>
                  <a:pt x="126062" y="60235"/>
                </a:lnTo>
                <a:lnTo>
                  <a:pt x="129761" y="65874"/>
                </a:lnTo>
                <a:lnTo>
                  <a:pt x="134133" y="71538"/>
                </a:lnTo>
                <a:lnTo>
                  <a:pt x="138952" y="77220"/>
                </a:lnTo>
                <a:lnTo>
                  <a:pt x="144069" y="82912"/>
                </a:lnTo>
                <a:lnTo>
                  <a:pt x="148434" y="89565"/>
                </a:lnTo>
                <a:lnTo>
                  <a:pt x="152296" y="96857"/>
                </a:lnTo>
                <a:lnTo>
                  <a:pt x="159127" y="111627"/>
                </a:lnTo>
                <a:lnTo>
                  <a:pt x="165338" y="124542"/>
                </a:lnTo>
                <a:lnTo>
                  <a:pt x="167375" y="131605"/>
                </a:lnTo>
                <a:lnTo>
                  <a:pt x="168734" y="139171"/>
                </a:lnTo>
                <a:lnTo>
                  <a:pt x="169639" y="147073"/>
                </a:lnTo>
                <a:lnTo>
                  <a:pt x="170243" y="155199"/>
                </a:lnTo>
                <a:lnTo>
                  <a:pt x="170645" y="163473"/>
                </a:lnTo>
                <a:lnTo>
                  <a:pt x="171092" y="180287"/>
                </a:lnTo>
                <a:lnTo>
                  <a:pt x="171291" y="197284"/>
                </a:lnTo>
                <a:lnTo>
                  <a:pt x="170391" y="205818"/>
                </a:lnTo>
                <a:lnTo>
                  <a:pt x="168839" y="214364"/>
                </a:lnTo>
                <a:lnTo>
                  <a:pt x="166852" y="222919"/>
                </a:lnTo>
                <a:lnTo>
                  <a:pt x="164575" y="231480"/>
                </a:lnTo>
                <a:lnTo>
                  <a:pt x="159504" y="248612"/>
                </a:lnTo>
                <a:lnTo>
                  <a:pt x="155866" y="257182"/>
                </a:lnTo>
                <a:lnTo>
                  <a:pt x="151536" y="265751"/>
                </a:lnTo>
                <a:lnTo>
                  <a:pt x="142597" y="281941"/>
                </a:lnTo>
                <a:lnTo>
                  <a:pt x="132209" y="301766"/>
                </a:lnTo>
                <a:lnTo>
                  <a:pt x="126070" y="313823"/>
                </a:lnTo>
                <a:lnTo>
                  <a:pt x="122146" y="319705"/>
                </a:lnTo>
                <a:lnTo>
                  <a:pt x="117626" y="325531"/>
                </a:lnTo>
                <a:lnTo>
                  <a:pt x="112707" y="331320"/>
                </a:lnTo>
                <a:lnTo>
                  <a:pt x="109428" y="336133"/>
                </a:lnTo>
                <a:lnTo>
                  <a:pt x="105785" y="344019"/>
                </a:lnTo>
                <a:lnTo>
                  <a:pt x="103861" y="346504"/>
                </a:lnTo>
                <a:lnTo>
                  <a:pt x="101626" y="348160"/>
                </a:lnTo>
                <a:lnTo>
                  <a:pt x="99183" y="349264"/>
                </a:lnTo>
                <a:lnTo>
                  <a:pt x="93929" y="353030"/>
                </a:lnTo>
                <a:lnTo>
                  <a:pt x="91194" y="355368"/>
                </a:lnTo>
                <a:lnTo>
                  <a:pt x="88419" y="357879"/>
                </a:lnTo>
                <a:lnTo>
                  <a:pt x="78824" y="367014"/>
                </a:lnTo>
                <a:lnTo>
                  <a:pt x="77315" y="367549"/>
                </a:lnTo>
                <a:lnTo>
                  <a:pt x="73097" y="368142"/>
                </a:lnTo>
                <a:lnTo>
                  <a:pt x="68977" y="368575"/>
                </a:lnTo>
                <a:lnTo>
                  <a:pt x="68580" y="3600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MARTPenAnnotation738"/>
          <p:cNvSpPr/>
          <p:nvPr/>
        </p:nvSpPr>
        <p:spPr>
          <a:xfrm>
            <a:off x="3071880" y="4749840"/>
            <a:ext cx="334800" cy="93600"/>
          </a:xfrm>
          <a:custGeom>
            <a:avLst/>
            <a:gdLst>
              <a:gd name="textAreaLeft" fmla="*/ 0 w 334800"/>
              <a:gd name="textAreaRight" fmla="*/ 334800 w 3348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34223" h="94295">
                <a:moveTo>
                  <a:pt x="8468" y="51432"/>
                </a:moveTo>
                <a:lnTo>
                  <a:pt x="248" y="43212"/>
                </a:lnTo>
                <a:lnTo>
                  <a:pt x="52" y="40476"/>
                </a:lnTo>
                <a:lnTo>
                  <a:pt x="0" y="38413"/>
                </a:lnTo>
                <a:lnTo>
                  <a:pt x="917" y="37038"/>
                </a:lnTo>
                <a:lnTo>
                  <a:pt x="2481" y="36120"/>
                </a:lnTo>
                <a:lnTo>
                  <a:pt x="4477" y="35509"/>
                </a:lnTo>
                <a:lnTo>
                  <a:pt x="6760" y="34149"/>
                </a:lnTo>
                <a:lnTo>
                  <a:pt x="9234" y="32290"/>
                </a:lnTo>
                <a:lnTo>
                  <a:pt x="11836" y="30098"/>
                </a:lnTo>
                <a:lnTo>
                  <a:pt x="15475" y="28637"/>
                </a:lnTo>
                <a:lnTo>
                  <a:pt x="24600" y="27013"/>
                </a:lnTo>
                <a:lnTo>
                  <a:pt x="28747" y="25628"/>
                </a:lnTo>
                <a:lnTo>
                  <a:pt x="32465" y="23751"/>
                </a:lnTo>
                <a:lnTo>
                  <a:pt x="35896" y="21548"/>
                </a:lnTo>
                <a:lnTo>
                  <a:pt x="42248" y="19100"/>
                </a:lnTo>
                <a:lnTo>
                  <a:pt x="49198" y="17060"/>
                </a:lnTo>
                <a:lnTo>
                  <a:pt x="53719" y="15182"/>
                </a:lnTo>
                <a:lnTo>
                  <a:pt x="58638" y="12978"/>
                </a:lnTo>
                <a:lnTo>
                  <a:pt x="69183" y="7988"/>
                </a:lnTo>
                <a:lnTo>
                  <a:pt x="74662" y="5325"/>
                </a:lnTo>
                <a:lnTo>
                  <a:pt x="80220" y="3548"/>
                </a:lnTo>
                <a:lnTo>
                  <a:pt x="85830" y="2365"/>
                </a:lnTo>
                <a:lnTo>
                  <a:pt x="91475" y="1575"/>
                </a:lnTo>
                <a:lnTo>
                  <a:pt x="97143" y="1049"/>
                </a:lnTo>
                <a:lnTo>
                  <a:pt x="102827" y="698"/>
                </a:lnTo>
                <a:lnTo>
                  <a:pt x="113270" y="308"/>
                </a:lnTo>
                <a:lnTo>
                  <a:pt x="121086" y="135"/>
                </a:lnTo>
                <a:lnTo>
                  <a:pt x="164042" y="0"/>
                </a:lnTo>
                <a:lnTo>
                  <a:pt x="167429" y="952"/>
                </a:lnTo>
                <a:lnTo>
                  <a:pt x="170639" y="2538"/>
                </a:lnTo>
                <a:lnTo>
                  <a:pt x="173732" y="4549"/>
                </a:lnTo>
                <a:lnTo>
                  <a:pt x="175794" y="6842"/>
                </a:lnTo>
                <a:lnTo>
                  <a:pt x="177168" y="9322"/>
                </a:lnTo>
                <a:lnTo>
                  <a:pt x="178085" y="11929"/>
                </a:lnTo>
                <a:lnTo>
                  <a:pt x="178696" y="14619"/>
                </a:lnTo>
                <a:lnTo>
                  <a:pt x="179103" y="17365"/>
                </a:lnTo>
                <a:lnTo>
                  <a:pt x="179375" y="20148"/>
                </a:lnTo>
                <a:lnTo>
                  <a:pt x="179556" y="22956"/>
                </a:lnTo>
                <a:lnTo>
                  <a:pt x="179676" y="25780"/>
                </a:lnTo>
                <a:lnTo>
                  <a:pt x="179757" y="28616"/>
                </a:lnTo>
                <a:lnTo>
                  <a:pt x="178858" y="31459"/>
                </a:lnTo>
                <a:lnTo>
                  <a:pt x="177306" y="34307"/>
                </a:lnTo>
                <a:lnTo>
                  <a:pt x="175319" y="37157"/>
                </a:lnTo>
                <a:lnTo>
                  <a:pt x="173994" y="40010"/>
                </a:lnTo>
                <a:lnTo>
                  <a:pt x="173111" y="42865"/>
                </a:lnTo>
                <a:lnTo>
                  <a:pt x="172522" y="45721"/>
                </a:lnTo>
                <a:lnTo>
                  <a:pt x="170225" y="48577"/>
                </a:lnTo>
                <a:lnTo>
                  <a:pt x="166788" y="51434"/>
                </a:lnTo>
                <a:lnTo>
                  <a:pt x="162592" y="54291"/>
                </a:lnTo>
                <a:lnTo>
                  <a:pt x="159795" y="57147"/>
                </a:lnTo>
                <a:lnTo>
                  <a:pt x="157930" y="60005"/>
                </a:lnTo>
                <a:lnTo>
                  <a:pt x="156687" y="62862"/>
                </a:lnTo>
                <a:lnTo>
                  <a:pt x="154905" y="65719"/>
                </a:lnTo>
                <a:lnTo>
                  <a:pt x="152765" y="68577"/>
                </a:lnTo>
                <a:lnTo>
                  <a:pt x="150386" y="71434"/>
                </a:lnTo>
                <a:lnTo>
                  <a:pt x="147847" y="74292"/>
                </a:lnTo>
                <a:lnTo>
                  <a:pt x="142486" y="80007"/>
                </a:lnTo>
                <a:lnTo>
                  <a:pt x="128502" y="94275"/>
                </a:lnTo>
                <a:lnTo>
                  <a:pt x="128487" y="94291"/>
                </a:lnTo>
                <a:lnTo>
                  <a:pt x="148634" y="94294"/>
                </a:lnTo>
                <a:lnTo>
                  <a:pt x="156806" y="91754"/>
                </a:lnTo>
                <a:lnTo>
                  <a:pt x="161653" y="89744"/>
                </a:lnTo>
                <a:lnTo>
                  <a:pt x="165836" y="87450"/>
                </a:lnTo>
                <a:lnTo>
                  <a:pt x="169577" y="84969"/>
                </a:lnTo>
                <a:lnTo>
                  <a:pt x="173024" y="82363"/>
                </a:lnTo>
                <a:lnTo>
                  <a:pt x="177227" y="80625"/>
                </a:lnTo>
                <a:lnTo>
                  <a:pt x="186977" y="78694"/>
                </a:lnTo>
                <a:lnTo>
                  <a:pt x="192244" y="77226"/>
                </a:lnTo>
                <a:lnTo>
                  <a:pt x="197660" y="75296"/>
                </a:lnTo>
                <a:lnTo>
                  <a:pt x="203176" y="73056"/>
                </a:lnTo>
                <a:lnTo>
                  <a:pt x="209710" y="71563"/>
                </a:lnTo>
                <a:lnTo>
                  <a:pt x="216924" y="70568"/>
                </a:lnTo>
                <a:lnTo>
                  <a:pt x="224591" y="69904"/>
                </a:lnTo>
                <a:lnTo>
                  <a:pt x="231608" y="68509"/>
                </a:lnTo>
                <a:lnTo>
                  <a:pt x="238190" y="66627"/>
                </a:lnTo>
                <a:lnTo>
                  <a:pt x="244484" y="64419"/>
                </a:lnTo>
                <a:lnTo>
                  <a:pt x="250584" y="62947"/>
                </a:lnTo>
                <a:lnTo>
                  <a:pt x="256556" y="61966"/>
                </a:lnTo>
                <a:lnTo>
                  <a:pt x="262443" y="61312"/>
                </a:lnTo>
                <a:lnTo>
                  <a:pt x="268272" y="60876"/>
                </a:lnTo>
                <a:lnTo>
                  <a:pt x="274063" y="60585"/>
                </a:lnTo>
                <a:lnTo>
                  <a:pt x="285577" y="60263"/>
                </a:lnTo>
                <a:lnTo>
                  <a:pt x="334222" y="600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MARTPenAnnotation739"/>
          <p:cNvSpPr/>
          <p:nvPr/>
        </p:nvSpPr>
        <p:spPr>
          <a:xfrm>
            <a:off x="3551400" y="4886280"/>
            <a:ext cx="241200" cy="50760"/>
          </a:xfrm>
          <a:custGeom>
            <a:avLst/>
            <a:gdLst>
              <a:gd name="textAreaLeft" fmla="*/ 0 w 241200"/>
              <a:gd name="textAreaRight" fmla="*/ 241560 w 2412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40031" h="51436">
                <a:moveTo>
                  <a:pt x="0" y="51435"/>
                </a:moveTo>
                <a:lnTo>
                  <a:pt x="0" y="44053"/>
                </a:lnTo>
                <a:lnTo>
                  <a:pt x="953" y="43657"/>
                </a:lnTo>
                <a:lnTo>
                  <a:pt x="6844" y="43098"/>
                </a:lnTo>
                <a:lnTo>
                  <a:pt x="11932" y="42967"/>
                </a:lnTo>
                <a:lnTo>
                  <a:pt x="15574" y="41979"/>
                </a:lnTo>
                <a:lnTo>
                  <a:pt x="19908" y="40369"/>
                </a:lnTo>
                <a:lnTo>
                  <a:pt x="24702" y="38343"/>
                </a:lnTo>
                <a:lnTo>
                  <a:pt x="28850" y="36991"/>
                </a:lnTo>
                <a:lnTo>
                  <a:pt x="36000" y="35490"/>
                </a:lnTo>
                <a:lnTo>
                  <a:pt x="40192" y="35090"/>
                </a:lnTo>
                <a:lnTo>
                  <a:pt x="44892" y="34823"/>
                </a:lnTo>
                <a:lnTo>
                  <a:pt x="49931" y="34645"/>
                </a:lnTo>
                <a:lnTo>
                  <a:pt x="55195" y="33574"/>
                </a:lnTo>
                <a:lnTo>
                  <a:pt x="60609" y="31908"/>
                </a:lnTo>
                <a:lnTo>
                  <a:pt x="66123" y="29844"/>
                </a:lnTo>
                <a:lnTo>
                  <a:pt x="71705" y="28469"/>
                </a:lnTo>
                <a:lnTo>
                  <a:pt x="77331" y="27552"/>
                </a:lnTo>
                <a:lnTo>
                  <a:pt x="82986" y="26940"/>
                </a:lnTo>
                <a:lnTo>
                  <a:pt x="88662" y="25580"/>
                </a:lnTo>
                <a:lnTo>
                  <a:pt x="94350" y="23721"/>
                </a:lnTo>
                <a:lnTo>
                  <a:pt x="100048" y="21529"/>
                </a:lnTo>
                <a:lnTo>
                  <a:pt x="105751" y="20067"/>
                </a:lnTo>
                <a:lnTo>
                  <a:pt x="111458" y="19093"/>
                </a:lnTo>
                <a:lnTo>
                  <a:pt x="117168" y="18443"/>
                </a:lnTo>
                <a:lnTo>
                  <a:pt x="122880" y="17058"/>
                </a:lnTo>
                <a:lnTo>
                  <a:pt x="128592" y="15182"/>
                </a:lnTo>
                <a:lnTo>
                  <a:pt x="134306" y="12979"/>
                </a:lnTo>
                <a:lnTo>
                  <a:pt x="140019" y="11510"/>
                </a:lnTo>
                <a:lnTo>
                  <a:pt x="145734" y="10531"/>
                </a:lnTo>
                <a:lnTo>
                  <a:pt x="151449" y="9878"/>
                </a:lnTo>
                <a:lnTo>
                  <a:pt x="157164" y="9443"/>
                </a:lnTo>
                <a:lnTo>
                  <a:pt x="162878" y="9152"/>
                </a:lnTo>
                <a:lnTo>
                  <a:pt x="174308" y="8830"/>
                </a:lnTo>
                <a:lnTo>
                  <a:pt x="185738" y="8687"/>
                </a:lnTo>
                <a:lnTo>
                  <a:pt x="191452" y="7696"/>
                </a:lnTo>
                <a:lnTo>
                  <a:pt x="197167" y="6083"/>
                </a:lnTo>
                <a:lnTo>
                  <a:pt x="202883" y="4055"/>
                </a:lnTo>
                <a:lnTo>
                  <a:pt x="207645" y="2703"/>
                </a:lnTo>
                <a:lnTo>
                  <a:pt x="211773" y="1802"/>
                </a:lnTo>
                <a:lnTo>
                  <a:pt x="218898" y="801"/>
                </a:lnTo>
                <a:lnTo>
                  <a:pt x="225241" y="356"/>
                </a:lnTo>
                <a:lnTo>
                  <a:pt x="231235" y="158"/>
                </a:lnTo>
                <a:lnTo>
                  <a:pt x="24003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MARTPenAnnotation740"/>
          <p:cNvSpPr/>
          <p:nvPr/>
        </p:nvSpPr>
        <p:spPr>
          <a:xfrm>
            <a:off x="3594240" y="4954680"/>
            <a:ext cx="326880" cy="42840"/>
          </a:xfrm>
          <a:custGeom>
            <a:avLst/>
            <a:gdLst>
              <a:gd name="textAreaLeft" fmla="*/ 0 w 326880"/>
              <a:gd name="textAreaRight" fmla="*/ 327240 w 3268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25744" h="42864">
                <a:moveTo>
                  <a:pt x="17133" y="42863"/>
                </a:moveTo>
                <a:lnTo>
                  <a:pt x="0" y="42863"/>
                </a:lnTo>
                <a:lnTo>
                  <a:pt x="4543" y="38312"/>
                </a:lnTo>
                <a:lnTo>
                  <a:pt x="6835" y="36971"/>
                </a:lnTo>
                <a:lnTo>
                  <a:pt x="9315" y="36078"/>
                </a:lnTo>
                <a:lnTo>
                  <a:pt x="17357" y="34820"/>
                </a:lnTo>
                <a:lnTo>
                  <a:pt x="25772" y="34448"/>
                </a:lnTo>
                <a:lnTo>
                  <a:pt x="28608" y="34395"/>
                </a:lnTo>
                <a:lnTo>
                  <a:pt x="32403" y="33408"/>
                </a:lnTo>
                <a:lnTo>
                  <a:pt x="36838" y="31797"/>
                </a:lnTo>
                <a:lnTo>
                  <a:pt x="41700" y="29771"/>
                </a:lnTo>
                <a:lnTo>
                  <a:pt x="46846" y="28420"/>
                </a:lnTo>
                <a:lnTo>
                  <a:pt x="52182" y="27520"/>
                </a:lnTo>
                <a:lnTo>
                  <a:pt x="57644" y="26919"/>
                </a:lnTo>
                <a:lnTo>
                  <a:pt x="63191" y="25566"/>
                </a:lnTo>
                <a:lnTo>
                  <a:pt x="68793" y="23712"/>
                </a:lnTo>
                <a:lnTo>
                  <a:pt x="74433" y="21523"/>
                </a:lnTo>
                <a:lnTo>
                  <a:pt x="88320" y="16551"/>
                </a:lnTo>
                <a:lnTo>
                  <a:pt x="96024" y="13892"/>
                </a:lnTo>
                <a:lnTo>
                  <a:pt x="103065" y="12119"/>
                </a:lnTo>
                <a:lnTo>
                  <a:pt x="109663" y="10937"/>
                </a:lnTo>
                <a:lnTo>
                  <a:pt x="115967" y="10149"/>
                </a:lnTo>
                <a:lnTo>
                  <a:pt x="123028" y="9624"/>
                </a:lnTo>
                <a:lnTo>
                  <a:pt x="130592" y="9273"/>
                </a:lnTo>
                <a:lnTo>
                  <a:pt x="138493" y="9040"/>
                </a:lnTo>
                <a:lnTo>
                  <a:pt x="145664" y="7932"/>
                </a:lnTo>
                <a:lnTo>
                  <a:pt x="152351" y="6241"/>
                </a:lnTo>
                <a:lnTo>
                  <a:pt x="158713" y="4161"/>
                </a:lnTo>
                <a:lnTo>
                  <a:pt x="165813" y="2774"/>
                </a:lnTo>
                <a:lnTo>
                  <a:pt x="173403" y="1850"/>
                </a:lnTo>
                <a:lnTo>
                  <a:pt x="181321" y="1233"/>
                </a:lnTo>
                <a:lnTo>
                  <a:pt x="188504" y="822"/>
                </a:lnTo>
                <a:lnTo>
                  <a:pt x="201566" y="366"/>
                </a:lnTo>
                <a:lnTo>
                  <a:pt x="225473" y="73"/>
                </a:lnTo>
                <a:lnTo>
                  <a:pt x="32574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MARTPenAnnotation741"/>
          <p:cNvSpPr/>
          <p:nvPr/>
        </p:nvSpPr>
        <p:spPr>
          <a:xfrm>
            <a:off x="4100400" y="4732200"/>
            <a:ext cx="300240" cy="333360"/>
          </a:xfrm>
          <a:custGeom>
            <a:avLst/>
            <a:gdLst>
              <a:gd name="textAreaLeft" fmla="*/ 0 w 300240"/>
              <a:gd name="textAreaRight" fmla="*/ 300600 w 3002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300035" h="334291">
                <a:moveTo>
                  <a:pt x="300034" y="8570"/>
                </a:moveTo>
                <a:lnTo>
                  <a:pt x="300034" y="4019"/>
                </a:lnTo>
                <a:lnTo>
                  <a:pt x="299081" y="2678"/>
                </a:lnTo>
                <a:lnTo>
                  <a:pt x="297494" y="1785"/>
                </a:lnTo>
                <a:lnTo>
                  <a:pt x="292652" y="351"/>
                </a:lnTo>
                <a:lnTo>
                  <a:pt x="284853" y="68"/>
                </a:lnTo>
                <a:lnTo>
                  <a:pt x="258300" y="0"/>
                </a:lnTo>
                <a:lnTo>
                  <a:pt x="253162" y="952"/>
                </a:lnTo>
                <a:lnTo>
                  <a:pt x="247830" y="2539"/>
                </a:lnTo>
                <a:lnTo>
                  <a:pt x="242372" y="4549"/>
                </a:lnTo>
                <a:lnTo>
                  <a:pt x="236827" y="5889"/>
                </a:lnTo>
                <a:lnTo>
                  <a:pt x="231226" y="6783"/>
                </a:lnTo>
                <a:lnTo>
                  <a:pt x="225587" y="7379"/>
                </a:lnTo>
                <a:lnTo>
                  <a:pt x="218970" y="8728"/>
                </a:lnTo>
                <a:lnTo>
                  <a:pt x="211701" y="10581"/>
                </a:lnTo>
                <a:lnTo>
                  <a:pt x="203998" y="12768"/>
                </a:lnTo>
                <a:lnTo>
                  <a:pt x="196005" y="14226"/>
                </a:lnTo>
                <a:lnTo>
                  <a:pt x="187819" y="15198"/>
                </a:lnTo>
                <a:lnTo>
                  <a:pt x="179504" y="15847"/>
                </a:lnTo>
                <a:lnTo>
                  <a:pt x="172055" y="17231"/>
                </a:lnTo>
                <a:lnTo>
                  <a:pt x="165184" y="19107"/>
                </a:lnTo>
                <a:lnTo>
                  <a:pt x="158699" y="21309"/>
                </a:lnTo>
                <a:lnTo>
                  <a:pt x="152471" y="22778"/>
                </a:lnTo>
                <a:lnTo>
                  <a:pt x="146413" y="23757"/>
                </a:lnTo>
                <a:lnTo>
                  <a:pt x="140470" y="24410"/>
                </a:lnTo>
                <a:lnTo>
                  <a:pt x="134603" y="23892"/>
                </a:lnTo>
                <a:lnTo>
                  <a:pt x="128787" y="22595"/>
                </a:lnTo>
                <a:lnTo>
                  <a:pt x="123004" y="20777"/>
                </a:lnTo>
                <a:lnTo>
                  <a:pt x="117243" y="19566"/>
                </a:lnTo>
                <a:lnTo>
                  <a:pt x="111498" y="18758"/>
                </a:lnTo>
                <a:lnTo>
                  <a:pt x="105764" y="18220"/>
                </a:lnTo>
                <a:lnTo>
                  <a:pt x="100035" y="17861"/>
                </a:lnTo>
                <a:lnTo>
                  <a:pt x="88590" y="17462"/>
                </a:lnTo>
                <a:lnTo>
                  <a:pt x="83824" y="16403"/>
                </a:lnTo>
                <a:lnTo>
                  <a:pt x="72565" y="11314"/>
                </a:lnTo>
                <a:lnTo>
                  <a:pt x="63196" y="8431"/>
                </a:lnTo>
                <a:lnTo>
                  <a:pt x="54388" y="2920"/>
                </a:lnTo>
                <a:lnTo>
                  <a:pt x="45418" y="575"/>
                </a:lnTo>
                <a:lnTo>
                  <a:pt x="43008" y="32"/>
                </a:lnTo>
                <a:lnTo>
                  <a:pt x="42878" y="9327"/>
                </a:lnTo>
                <a:lnTo>
                  <a:pt x="42872" y="11933"/>
                </a:lnTo>
                <a:lnTo>
                  <a:pt x="40325" y="19907"/>
                </a:lnTo>
                <a:lnTo>
                  <a:pt x="36970" y="29802"/>
                </a:lnTo>
                <a:lnTo>
                  <a:pt x="36076" y="35107"/>
                </a:lnTo>
                <a:lnTo>
                  <a:pt x="35479" y="40549"/>
                </a:lnTo>
                <a:lnTo>
                  <a:pt x="34128" y="47034"/>
                </a:lnTo>
                <a:lnTo>
                  <a:pt x="32276" y="54215"/>
                </a:lnTo>
                <a:lnTo>
                  <a:pt x="30089" y="61860"/>
                </a:lnTo>
                <a:lnTo>
                  <a:pt x="27678" y="68862"/>
                </a:lnTo>
                <a:lnTo>
                  <a:pt x="25118" y="75434"/>
                </a:lnTo>
                <a:lnTo>
                  <a:pt x="22459" y="81722"/>
                </a:lnTo>
                <a:lnTo>
                  <a:pt x="19734" y="88770"/>
                </a:lnTo>
                <a:lnTo>
                  <a:pt x="14166" y="104222"/>
                </a:lnTo>
                <a:lnTo>
                  <a:pt x="11348" y="111390"/>
                </a:lnTo>
                <a:lnTo>
                  <a:pt x="8516" y="118074"/>
                </a:lnTo>
                <a:lnTo>
                  <a:pt x="5676" y="124435"/>
                </a:lnTo>
                <a:lnTo>
                  <a:pt x="3783" y="130581"/>
                </a:lnTo>
                <a:lnTo>
                  <a:pt x="2521" y="136583"/>
                </a:lnTo>
                <a:lnTo>
                  <a:pt x="1679" y="142490"/>
                </a:lnTo>
                <a:lnTo>
                  <a:pt x="1118" y="148333"/>
                </a:lnTo>
                <a:lnTo>
                  <a:pt x="744" y="154132"/>
                </a:lnTo>
                <a:lnTo>
                  <a:pt x="328" y="164704"/>
                </a:lnTo>
                <a:lnTo>
                  <a:pt x="95" y="176011"/>
                </a:lnTo>
                <a:lnTo>
                  <a:pt x="0" y="188046"/>
                </a:lnTo>
                <a:lnTo>
                  <a:pt x="2538" y="188350"/>
                </a:lnTo>
                <a:lnTo>
                  <a:pt x="9321" y="188521"/>
                </a:lnTo>
                <a:lnTo>
                  <a:pt x="11928" y="188545"/>
                </a:lnTo>
                <a:lnTo>
                  <a:pt x="14618" y="187608"/>
                </a:lnTo>
                <a:lnTo>
                  <a:pt x="20147" y="184027"/>
                </a:lnTo>
                <a:lnTo>
                  <a:pt x="28319" y="181801"/>
                </a:lnTo>
                <a:lnTo>
                  <a:pt x="33166" y="181208"/>
                </a:lnTo>
                <a:lnTo>
                  <a:pt x="37350" y="179859"/>
                </a:lnTo>
                <a:lnTo>
                  <a:pt x="44537" y="175821"/>
                </a:lnTo>
                <a:lnTo>
                  <a:pt x="49693" y="173411"/>
                </a:lnTo>
                <a:lnTo>
                  <a:pt x="55987" y="170851"/>
                </a:lnTo>
                <a:lnTo>
                  <a:pt x="63041" y="168193"/>
                </a:lnTo>
                <a:lnTo>
                  <a:pt x="69649" y="165468"/>
                </a:lnTo>
                <a:lnTo>
                  <a:pt x="75959" y="162698"/>
                </a:lnTo>
                <a:lnTo>
                  <a:pt x="82070" y="159900"/>
                </a:lnTo>
                <a:lnTo>
                  <a:pt x="89002" y="157081"/>
                </a:lnTo>
                <a:lnTo>
                  <a:pt x="96481" y="154250"/>
                </a:lnTo>
                <a:lnTo>
                  <a:pt x="104324" y="151410"/>
                </a:lnTo>
                <a:lnTo>
                  <a:pt x="111458" y="148564"/>
                </a:lnTo>
                <a:lnTo>
                  <a:pt x="118119" y="145714"/>
                </a:lnTo>
                <a:lnTo>
                  <a:pt x="124465" y="142862"/>
                </a:lnTo>
                <a:lnTo>
                  <a:pt x="131553" y="140961"/>
                </a:lnTo>
                <a:lnTo>
                  <a:pt x="139135" y="139693"/>
                </a:lnTo>
                <a:lnTo>
                  <a:pt x="147048" y="138848"/>
                </a:lnTo>
                <a:lnTo>
                  <a:pt x="154228" y="138284"/>
                </a:lnTo>
                <a:lnTo>
                  <a:pt x="160920" y="137909"/>
                </a:lnTo>
                <a:lnTo>
                  <a:pt x="173435" y="137492"/>
                </a:lnTo>
                <a:lnTo>
                  <a:pt x="185348" y="137306"/>
                </a:lnTo>
                <a:lnTo>
                  <a:pt x="191191" y="138209"/>
                </a:lnTo>
                <a:lnTo>
                  <a:pt x="196993" y="139764"/>
                </a:lnTo>
                <a:lnTo>
                  <a:pt x="202764" y="141752"/>
                </a:lnTo>
                <a:lnTo>
                  <a:pt x="208517" y="143078"/>
                </a:lnTo>
                <a:lnTo>
                  <a:pt x="214258" y="143962"/>
                </a:lnTo>
                <a:lnTo>
                  <a:pt x="219990" y="144552"/>
                </a:lnTo>
                <a:lnTo>
                  <a:pt x="225716" y="145897"/>
                </a:lnTo>
                <a:lnTo>
                  <a:pt x="231438" y="147747"/>
                </a:lnTo>
                <a:lnTo>
                  <a:pt x="237159" y="149931"/>
                </a:lnTo>
                <a:lnTo>
                  <a:pt x="241924" y="153294"/>
                </a:lnTo>
                <a:lnTo>
                  <a:pt x="249759" y="162109"/>
                </a:lnTo>
                <a:lnTo>
                  <a:pt x="256417" y="169837"/>
                </a:lnTo>
                <a:lnTo>
                  <a:pt x="262551" y="177399"/>
                </a:lnTo>
                <a:lnTo>
                  <a:pt x="268452" y="187110"/>
                </a:lnTo>
                <a:lnTo>
                  <a:pt x="271710" y="195236"/>
                </a:lnTo>
                <a:lnTo>
                  <a:pt x="273158" y="202975"/>
                </a:lnTo>
                <a:lnTo>
                  <a:pt x="273801" y="212765"/>
                </a:lnTo>
                <a:lnTo>
                  <a:pt x="273020" y="218043"/>
                </a:lnTo>
                <a:lnTo>
                  <a:pt x="271547" y="223466"/>
                </a:lnTo>
                <a:lnTo>
                  <a:pt x="269613" y="228987"/>
                </a:lnTo>
                <a:lnTo>
                  <a:pt x="267371" y="234572"/>
                </a:lnTo>
                <a:lnTo>
                  <a:pt x="264923" y="240200"/>
                </a:lnTo>
                <a:lnTo>
                  <a:pt x="262339" y="245858"/>
                </a:lnTo>
                <a:lnTo>
                  <a:pt x="258711" y="251534"/>
                </a:lnTo>
                <a:lnTo>
                  <a:pt x="254388" y="257224"/>
                </a:lnTo>
                <a:lnTo>
                  <a:pt x="249601" y="262922"/>
                </a:lnTo>
                <a:lnTo>
                  <a:pt x="244504" y="268625"/>
                </a:lnTo>
                <a:lnTo>
                  <a:pt x="233762" y="280043"/>
                </a:lnTo>
                <a:lnTo>
                  <a:pt x="229182" y="285754"/>
                </a:lnTo>
                <a:lnTo>
                  <a:pt x="225177" y="291467"/>
                </a:lnTo>
                <a:lnTo>
                  <a:pt x="221554" y="297181"/>
                </a:lnTo>
                <a:lnTo>
                  <a:pt x="212449" y="306069"/>
                </a:lnTo>
                <a:lnTo>
                  <a:pt x="207354" y="309773"/>
                </a:lnTo>
                <a:lnTo>
                  <a:pt x="202052" y="313194"/>
                </a:lnTo>
                <a:lnTo>
                  <a:pt x="196613" y="316428"/>
                </a:lnTo>
                <a:lnTo>
                  <a:pt x="191081" y="319536"/>
                </a:lnTo>
                <a:lnTo>
                  <a:pt x="185489" y="321608"/>
                </a:lnTo>
                <a:lnTo>
                  <a:pt x="179855" y="322990"/>
                </a:lnTo>
                <a:lnTo>
                  <a:pt x="174194" y="323911"/>
                </a:lnTo>
                <a:lnTo>
                  <a:pt x="168516" y="325477"/>
                </a:lnTo>
                <a:lnTo>
                  <a:pt x="162825" y="327474"/>
                </a:lnTo>
                <a:lnTo>
                  <a:pt x="157126" y="329758"/>
                </a:lnTo>
                <a:lnTo>
                  <a:pt x="151422" y="331280"/>
                </a:lnTo>
                <a:lnTo>
                  <a:pt x="145714" y="332295"/>
                </a:lnTo>
                <a:lnTo>
                  <a:pt x="140004" y="332971"/>
                </a:lnTo>
                <a:lnTo>
                  <a:pt x="131119" y="333724"/>
                </a:lnTo>
                <a:lnTo>
                  <a:pt x="123043" y="334058"/>
                </a:lnTo>
                <a:lnTo>
                  <a:pt x="101349" y="334290"/>
                </a:lnTo>
                <a:lnTo>
                  <a:pt x="98044" y="333349"/>
                </a:lnTo>
                <a:lnTo>
                  <a:pt x="88843" y="328427"/>
                </a:lnTo>
                <a:lnTo>
                  <a:pt x="79741" y="326281"/>
                </a:lnTo>
                <a:lnTo>
                  <a:pt x="77348" y="325987"/>
                </a:lnTo>
                <a:lnTo>
                  <a:pt x="68576" y="3257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MARTPenAnnotation742"/>
          <p:cNvSpPr/>
          <p:nvPr/>
        </p:nvSpPr>
        <p:spPr>
          <a:xfrm>
            <a:off x="1220760" y="4749840"/>
            <a:ext cx="461880" cy="658800"/>
          </a:xfrm>
          <a:custGeom>
            <a:avLst/>
            <a:gdLst>
              <a:gd name="textAreaLeft" fmla="*/ 0 w 461880"/>
              <a:gd name="textAreaRight" fmla="*/ 462240 w 46188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462916" h="660082">
                <a:moveTo>
                  <a:pt x="0" y="497205"/>
                </a:moveTo>
                <a:lnTo>
                  <a:pt x="0" y="501755"/>
                </a:lnTo>
                <a:lnTo>
                  <a:pt x="952" y="503096"/>
                </a:lnTo>
                <a:lnTo>
                  <a:pt x="2540" y="503990"/>
                </a:lnTo>
                <a:lnTo>
                  <a:pt x="4551" y="504586"/>
                </a:lnTo>
                <a:lnTo>
                  <a:pt x="9325" y="507788"/>
                </a:lnTo>
                <a:lnTo>
                  <a:pt x="11932" y="509975"/>
                </a:lnTo>
                <a:lnTo>
                  <a:pt x="13670" y="512386"/>
                </a:lnTo>
                <a:lnTo>
                  <a:pt x="17068" y="520330"/>
                </a:lnTo>
                <a:lnTo>
                  <a:pt x="28941" y="534387"/>
                </a:lnTo>
                <a:lnTo>
                  <a:pt x="40077" y="551681"/>
                </a:lnTo>
                <a:lnTo>
                  <a:pt x="53989" y="567796"/>
                </a:lnTo>
                <a:lnTo>
                  <a:pt x="63048" y="578109"/>
                </a:lnTo>
                <a:lnTo>
                  <a:pt x="76624" y="597711"/>
                </a:lnTo>
                <a:lnTo>
                  <a:pt x="85568" y="610487"/>
                </a:lnTo>
                <a:lnTo>
                  <a:pt x="94251" y="623798"/>
                </a:lnTo>
                <a:lnTo>
                  <a:pt x="102856" y="636314"/>
                </a:lnTo>
                <a:lnTo>
                  <a:pt x="111439" y="649547"/>
                </a:lnTo>
                <a:lnTo>
                  <a:pt x="114297" y="653059"/>
                </a:lnTo>
                <a:lnTo>
                  <a:pt x="117156" y="655400"/>
                </a:lnTo>
                <a:lnTo>
                  <a:pt x="120014" y="656961"/>
                </a:lnTo>
                <a:lnTo>
                  <a:pt x="125729" y="658695"/>
                </a:lnTo>
                <a:lnTo>
                  <a:pt x="137116" y="660077"/>
                </a:lnTo>
                <a:lnTo>
                  <a:pt x="142090" y="660081"/>
                </a:lnTo>
                <a:lnTo>
                  <a:pt x="139986" y="660081"/>
                </a:lnTo>
                <a:lnTo>
                  <a:pt x="139044" y="659129"/>
                </a:lnTo>
                <a:lnTo>
                  <a:pt x="138416" y="657542"/>
                </a:lnTo>
                <a:lnTo>
                  <a:pt x="137718" y="652285"/>
                </a:lnTo>
                <a:lnTo>
                  <a:pt x="137270" y="633389"/>
                </a:lnTo>
                <a:lnTo>
                  <a:pt x="137166" y="589751"/>
                </a:lnTo>
                <a:lnTo>
                  <a:pt x="134623" y="573579"/>
                </a:lnTo>
                <a:lnTo>
                  <a:pt x="131270" y="557819"/>
                </a:lnTo>
                <a:lnTo>
                  <a:pt x="128430" y="537284"/>
                </a:lnTo>
                <a:lnTo>
                  <a:pt x="124390" y="521685"/>
                </a:lnTo>
                <a:lnTo>
                  <a:pt x="121959" y="505227"/>
                </a:lnTo>
                <a:lnTo>
                  <a:pt x="120879" y="488388"/>
                </a:lnTo>
                <a:lnTo>
                  <a:pt x="120399" y="471379"/>
                </a:lnTo>
                <a:lnTo>
                  <a:pt x="117646" y="454294"/>
                </a:lnTo>
                <a:lnTo>
                  <a:pt x="114200" y="437176"/>
                </a:lnTo>
                <a:lnTo>
                  <a:pt x="112668" y="420043"/>
                </a:lnTo>
                <a:lnTo>
                  <a:pt x="109447" y="402903"/>
                </a:lnTo>
                <a:lnTo>
                  <a:pt x="104841" y="385761"/>
                </a:lnTo>
                <a:lnTo>
                  <a:pt x="99618" y="368616"/>
                </a:lnTo>
                <a:lnTo>
                  <a:pt x="96662" y="351472"/>
                </a:lnTo>
                <a:lnTo>
                  <a:pt x="95349" y="335279"/>
                </a:lnTo>
                <a:lnTo>
                  <a:pt x="94765" y="321733"/>
                </a:lnTo>
                <a:lnTo>
                  <a:pt x="91965" y="306822"/>
                </a:lnTo>
                <a:lnTo>
                  <a:pt x="88498" y="291623"/>
                </a:lnTo>
                <a:lnTo>
                  <a:pt x="86958" y="278518"/>
                </a:lnTo>
                <a:lnTo>
                  <a:pt x="84642" y="272356"/>
                </a:lnTo>
                <a:lnTo>
                  <a:pt x="74186" y="254582"/>
                </a:lnTo>
                <a:lnTo>
                  <a:pt x="71071" y="243005"/>
                </a:lnTo>
                <a:lnTo>
                  <a:pt x="69318" y="225777"/>
                </a:lnTo>
                <a:lnTo>
                  <a:pt x="66368" y="214328"/>
                </a:lnTo>
                <a:lnTo>
                  <a:pt x="61892" y="199712"/>
                </a:lnTo>
                <a:lnTo>
                  <a:pt x="60380" y="181689"/>
                </a:lnTo>
                <a:lnTo>
                  <a:pt x="60056" y="163473"/>
                </a:lnTo>
                <a:lnTo>
                  <a:pt x="60017" y="151565"/>
                </a:lnTo>
                <a:lnTo>
                  <a:pt x="60966" y="148668"/>
                </a:lnTo>
                <a:lnTo>
                  <a:pt x="65901" y="140040"/>
                </a:lnTo>
                <a:lnTo>
                  <a:pt x="67389" y="134313"/>
                </a:lnTo>
                <a:lnTo>
                  <a:pt x="68738" y="132404"/>
                </a:lnTo>
                <a:lnTo>
                  <a:pt x="70591" y="131132"/>
                </a:lnTo>
                <a:lnTo>
                  <a:pt x="72778" y="130284"/>
                </a:lnTo>
                <a:lnTo>
                  <a:pt x="80407" y="124539"/>
                </a:lnTo>
                <a:lnTo>
                  <a:pt x="94350" y="111285"/>
                </a:lnTo>
                <a:lnTo>
                  <a:pt x="97190" y="108480"/>
                </a:lnTo>
                <a:lnTo>
                  <a:pt x="100988" y="106610"/>
                </a:lnTo>
                <a:lnTo>
                  <a:pt x="114483" y="103026"/>
                </a:lnTo>
                <a:lnTo>
                  <a:pt x="121684" y="98811"/>
                </a:lnTo>
                <a:lnTo>
                  <a:pt x="131093" y="91084"/>
                </a:lnTo>
                <a:lnTo>
                  <a:pt x="135020" y="89298"/>
                </a:lnTo>
                <a:lnTo>
                  <a:pt x="144464" y="87313"/>
                </a:lnTo>
                <a:lnTo>
                  <a:pt x="155011" y="83891"/>
                </a:lnTo>
                <a:lnTo>
                  <a:pt x="166049" y="79194"/>
                </a:lnTo>
                <a:lnTo>
                  <a:pt x="177305" y="73932"/>
                </a:lnTo>
                <a:lnTo>
                  <a:pt x="188657" y="70959"/>
                </a:lnTo>
                <a:lnTo>
                  <a:pt x="200052" y="68684"/>
                </a:lnTo>
                <a:lnTo>
                  <a:pt x="211467" y="64498"/>
                </a:lnTo>
                <a:lnTo>
                  <a:pt x="225430" y="59463"/>
                </a:lnTo>
                <a:lnTo>
                  <a:pt x="233155" y="56787"/>
                </a:lnTo>
                <a:lnTo>
                  <a:pt x="241161" y="55003"/>
                </a:lnTo>
                <a:lnTo>
                  <a:pt x="249357" y="53814"/>
                </a:lnTo>
                <a:lnTo>
                  <a:pt x="257678" y="53020"/>
                </a:lnTo>
                <a:lnTo>
                  <a:pt x="266083" y="51539"/>
                </a:lnTo>
                <a:lnTo>
                  <a:pt x="274543" y="49600"/>
                </a:lnTo>
                <a:lnTo>
                  <a:pt x="283042" y="47353"/>
                </a:lnTo>
                <a:lnTo>
                  <a:pt x="290612" y="44904"/>
                </a:lnTo>
                <a:lnTo>
                  <a:pt x="304103" y="39642"/>
                </a:lnTo>
                <a:lnTo>
                  <a:pt x="311320" y="37858"/>
                </a:lnTo>
                <a:lnTo>
                  <a:pt x="318989" y="36669"/>
                </a:lnTo>
                <a:lnTo>
                  <a:pt x="326960" y="35875"/>
                </a:lnTo>
                <a:lnTo>
                  <a:pt x="340895" y="32455"/>
                </a:lnTo>
                <a:lnTo>
                  <a:pt x="369915" y="22497"/>
                </a:lnTo>
                <a:lnTo>
                  <a:pt x="381259" y="19524"/>
                </a:lnTo>
                <a:lnTo>
                  <a:pt x="390429" y="17249"/>
                </a:lnTo>
                <a:lnTo>
                  <a:pt x="400854" y="13064"/>
                </a:lnTo>
                <a:lnTo>
                  <a:pt x="411837" y="10568"/>
                </a:lnTo>
                <a:lnTo>
                  <a:pt x="426191" y="9164"/>
                </a:lnTo>
                <a:lnTo>
                  <a:pt x="435023" y="8689"/>
                </a:lnTo>
                <a:lnTo>
                  <a:pt x="438771" y="6084"/>
                </a:lnTo>
                <a:lnTo>
                  <a:pt x="441104" y="4056"/>
                </a:lnTo>
                <a:lnTo>
                  <a:pt x="443612" y="2704"/>
                </a:lnTo>
                <a:lnTo>
                  <a:pt x="448938" y="1202"/>
                </a:lnTo>
                <a:lnTo>
                  <a:pt x="46291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MARTPenAnnotation743"/>
          <p:cNvSpPr/>
          <p:nvPr/>
        </p:nvSpPr>
        <p:spPr>
          <a:xfrm>
            <a:off x="3886200" y="4586400"/>
            <a:ext cx="453960" cy="600120"/>
          </a:xfrm>
          <a:custGeom>
            <a:avLst/>
            <a:gdLst>
              <a:gd name="textAreaLeft" fmla="*/ 0 w 453960"/>
              <a:gd name="textAreaRight" fmla="*/ 454320 w 45396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454343" h="599711">
                <a:moveTo>
                  <a:pt x="0" y="540067"/>
                </a:moveTo>
                <a:lnTo>
                  <a:pt x="4550" y="540067"/>
                </a:lnTo>
                <a:lnTo>
                  <a:pt x="5891" y="541020"/>
                </a:lnTo>
                <a:lnTo>
                  <a:pt x="6785" y="542608"/>
                </a:lnTo>
                <a:lnTo>
                  <a:pt x="7380" y="544619"/>
                </a:lnTo>
                <a:lnTo>
                  <a:pt x="8730" y="545959"/>
                </a:lnTo>
                <a:lnTo>
                  <a:pt x="10583" y="546853"/>
                </a:lnTo>
                <a:lnTo>
                  <a:pt x="16133" y="548798"/>
                </a:lnTo>
                <a:lnTo>
                  <a:pt x="29015" y="554296"/>
                </a:lnTo>
                <a:lnTo>
                  <a:pt x="36073" y="555916"/>
                </a:lnTo>
                <a:lnTo>
                  <a:pt x="49952" y="556828"/>
                </a:lnTo>
                <a:lnTo>
                  <a:pt x="60618" y="559582"/>
                </a:lnTo>
                <a:lnTo>
                  <a:pt x="70756" y="563981"/>
                </a:lnTo>
                <a:lnTo>
                  <a:pt x="78437" y="569111"/>
                </a:lnTo>
                <a:lnTo>
                  <a:pt x="87566" y="572026"/>
                </a:lnTo>
                <a:lnTo>
                  <a:pt x="97973" y="574274"/>
                </a:lnTo>
                <a:lnTo>
                  <a:pt x="108948" y="578448"/>
                </a:lnTo>
                <a:lnTo>
                  <a:pt x="121286" y="586153"/>
                </a:lnTo>
                <a:lnTo>
                  <a:pt x="130423" y="589125"/>
                </a:lnTo>
                <a:lnTo>
                  <a:pt x="143736" y="590798"/>
                </a:lnTo>
                <a:lnTo>
                  <a:pt x="147259" y="591033"/>
                </a:lnTo>
                <a:lnTo>
                  <a:pt x="161319" y="595914"/>
                </a:lnTo>
                <a:lnTo>
                  <a:pt x="168448" y="598843"/>
                </a:lnTo>
                <a:lnTo>
                  <a:pt x="175111" y="599710"/>
                </a:lnTo>
                <a:lnTo>
                  <a:pt x="177700" y="598879"/>
                </a:lnTo>
                <a:lnTo>
                  <a:pt x="186971" y="592662"/>
                </a:lnTo>
                <a:lnTo>
                  <a:pt x="187512" y="591323"/>
                </a:lnTo>
                <a:lnTo>
                  <a:pt x="188274" y="584888"/>
                </a:lnTo>
                <a:lnTo>
                  <a:pt x="188452" y="579672"/>
                </a:lnTo>
                <a:lnTo>
                  <a:pt x="187547" y="576949"/>
                </a:lnTo>
                <a:lnTo>
                  <a:pt x="184001" y="571381"/>
                </a:lnTo>
                <a:lnTo>
                  <a:pt x="181791" y="563192"/>
                </a:lnTo>
                <a:lnTo>
                  <a:pt x="179856" y="553203"/>
                </a:lnTo>
                <a:lnTo>
                  <a:pt x="174364" y="536869"/>
                </a:lnTo>
                <a:lnTo>
                  <a:pt x="172313" y="519011"/>
                </a:lnTo>
                <a:lnTo>
                  <a:pt x="171834" y="504039"/>
                </a:lnTo>
                <a:lnTo>
                  <a:pt x="169080" y="490400"/>
                </a:lnTo>
                <a:lnTo>
                  <a:pt x="159552" y="461571"/>
                </a:lnTo>
                <a:lnTo>
                  <a:pt x="156850" y="452494"/>
                </a:lnTo>
                <a:lnTo>
                  <a:pt x="148497" y="422468"/>
                </a:lnTo>
                <a:lnTo>
                  <a:pt x="142834" y="403981"/>
                </a:lnTo>
                <a:lnTo>
                  <a:pt x="125726" y="351567"/>
                </a:lnTo>
                <a:lnTo>
                  <a:pt x="122553" y="334370"/>
                </a:lnTo>
                <a:lnTo>
                  <a:pt x="120190" y="317202"/>
                </a:lnTo>
                <a:lnTo>
                  <a:pt x="115965" y="300046"/>
                </a:lnTo>
                <a:lnTo>
                  <a:pt x="110912" y="282896"/>
                </a:lnTo>
                <a:lnTo>
                  <a:pt x="105492" y="266702"/>
                </a:lnTo>
                <a:lnTo>
                  <a:pt x="97085" y="245922"/>
                </a:lnTo>
                <a:lnTo>
                  <a:pt x="91408" y="230266"/>
                </a:lnTo>
                <a:lnTo>
                  <a:pt x="85711" y="216323"/>
                </a:lnTo>
                <a:lnTo>
                  <a:pt x="77148" y="197764"/>
                </a:lnTo>
                <a:lnTo>
                  <a:pt x="57149" y="157197"/>
                </a:lnTo>
                <a:lnTo>
                  <a:pt x="53974" y="148288"/>
                </a:lnTo>
                <a:lnTo>
                  <a:pt x="53128" y="144579"/>
                </a:lnTo>
                <a:lnTo>
                  <a:pt x="49647" y="137917"/>
                </a:lnTo>
                <a:lnTo>
                  <a:pt x="47385" y="134807"/>
                </a:lnTo>
                <a:lnTo>
                  <a:pt x="44873" y="128812"/>
                </a:lnTo>
                <a:lnTo>
                  <a:pt x="44203" y="125880"/>
                </a:lnTo>
                <a:lnTo>
                  <a:pt x="40918" y="120081"/>
                </a:lnTo>
                <a:lnTo>
                  <a:pt x="35599" y="113149"/>
                </a:lnTo>
                <a:lnTo>
                  <a:pt x="34871" y="109661"/>
                </a:lnTo>
                <a:lnTo>
                  <a:pt x="34404" y="99661"/>
                </a:lnTo>
                <a:lnTo>
                  <a:pt x="35319" y="97873"/>
                </a:lnTo>
                <a:lnTo>
                  <a:pt x="36881" y="96681"/>
                </a:lnTo>
                <a:lnTo>
                  <a:pt x="38875" y="95887"/>
                </a:lnTo>
                <a:lnTo>
                  <a:pt x="46232" y="94769"/>
                </a:lnTo>
                <a:lnTo>
                  <a:pt x="48918" y="93659"/>
                </a:lnTo>
                <a:lnTo>
                  <a:pt x="62614" y="85034"/>
                </a:lnTo>
                <a:lnTo>
                  <a:pt x="72596" y="79703"/>
                </a:lnTo>
                <a:lnTo>
                  <a:pt x="83382" y="74159"/>
                </a:lnTo>
                <a:lnTo>
                  <a:pt x="94526" y="71060"/>
                </a:lnTo>
                <a:lnTo>
                  <a:pt x="106781" y="68730"/>
                </a:lnTo>
                <a:lnTo>
                  <a:pt x="114050" y="66775"/>
                </a:lnTo>
                <a:lnTo>
                  <a:pt x="129746" y="62063"/>
                </a:lnTo>
                <a:lnTo>
                  <a:pt x="146247" y="56793"/>
                </a:lnTo>
                <a:lnTo>
                  <a:pt x="155600" y="55007"/>
                </a:lnTo>
                <a:lnTo>
                  <a:pt x="165646" y="53817"/>
                </a:lnTo>
                <a:lnTo>
                  <a:pt x="176153" y="53023"/>
                </a:lnTo>
                <a:lnTo>
                  <a:pt x="186015" y="51541"/>
                </a:lnTo>
                <a:lnTo>
                  <a:pt x="195448" y="49601"/>
                </a:lnTo>
                <a:lnTo>
                  <a:pt x="235668" y="39643"/>
                </a:lnTo>
                <a:lnTo>
                  <a:pt x="245695" y="36906"/>
                </a:lnTo>
                <a:lnTo>
                  <a:pt x="264455" y="31326"/>
                </a:lnTo>
                <a:lnTo>
                  <a:pt x="274411" y="29456"/>
                </a:lnTo>
                <a:lnTo>
                  <a:pt x="284858" y="28210"/>
                </a:lnTo>
                <a:lnTo>
                  <a:pt x="295633" y="27379"/>
                </a:lnTo>
                <a:lnTo>
                  <a:pt x="305673" y="25873"/>
                </a:lnTo>
                <a:lnTo>
                  <a:pt x="315224" y="23916"/>
                </a:lnTo>
                <a:lnTo>
                  <a:pt x="324449" y="21660"/>
                </a:lnTo>
                <a:lnTo>
                  <a:pt x="332504" y="19202"/>
                </a:lnTo>
                <a:lnTo>
                  <a:pt x="346535" y="13932"/>
                </a:lnTo>
                <a:lnTo>
                  <a:pt x="353896" y="12146"/>
                </a:lnTo>
                <a:lnTo>
                  <a:pt x="361660" y="10955"/>
                </a:lnTo>
                <a:lnTo>
                  <a:pt x="369694" y="10161"/>
                </a:lnTo>
                <a:lnTo>
                  <a:pt x="383701" y="6739"/>
                </a:lnTo>
                <a:lnTo>
                  <a:pt x="396276" y="2995"/>
                </a:lnTo>
                <a:lnTo>
                  <a:pt x="408215" y="1331"/>
                </a:lnTo>
                <a:lnTo>
                  <a:pt x="419871" y="592"/>
                </a:lnTo>
                <a:lnTo>
                  <a:pt x="434603" y="175"/>
                </a:lnTo>
                <a:lnTo>
                  <a:pt x="45434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MARTPenAnnotation744"/>
          <p:cNvSpPr/>
          <p:nvPr/>
        </p:nvSpPr>
        <p:spPr>
          <a:xfrm>
            <a:off x="4349880" y="4586400"/>
            <a:ext cx="1440" cy="360"/>
          </a:xfrm>
          <a:custGeom>
            <a:avLst/>
            <a:gdLst>
              <a:gd name="textAreaLeft" fmla="*/ 0 w 1440"/>
              <a:gd name="textAreaRight" fmla="*/ 1800 w 1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1" h="1">
                <a:moveTo>
                  <a:pt x="0" y="0"/>
                </a:moveTo>
                <a:lnTo>
                  <a:pt x="254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MARTPenAnnotation745"/>
          <p:cNvSpPr/>
          <p:nvPr/>
        </p:nvSpPr>
        <p:spPr>
          <a:xfrm>
            <a:off x="5943600" y="3257640"/>
            <a:ext cx="264960" cy="291960"/>
          </a:xfrm>
          <a:custGeom>
            <a:avLst/>
            <a:gdLst>
              <a:gd name="textAreaLeft" fmla="*/ 0 w 264960"/>
              <a:gd name="textAreaRight" fmla="*/ 265320 w 264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265748" h="291466">
                <a:moveTo>
                  <a:pt x="0" y="0"/>
                </a:moveTo>
                <a:lnTo>
                  <a:pt x="0" y="11931"/>
                </a:lnTo>
                <a:lnTo>
                  <a:pt x="952" y="14621"/>
                </a:lnTo>
                <a:lnTo>
                  <a:pt x="4550" y="20151"/>
                </a:lnTo>
                <a:lnTo>
                  <a:pt x="6843" y="22006"/>
                </a:lnTo>
                <a:lnTo>
                  <a:pt x="9325" y="23243"/>
                </a:lnTo>
                <a:lnTo>
                  <a:pt x="11931" y="24068"/>
                </a:lnTo>
                <a:lnTo>
                  <a:pt x="14621" y="26523"/>
                </a:lnTo>
                <a:lnTo>
                  <a:pt x="20151" y="34330"/>
                </a:lnTo>
                <a:lnTo>
                  <a:pt x="28323" y="41610"/>
                </a:lnTo>
                <a:lnTo>
                  <a:pt x="33170" y="44885"/>
                </a:lnTo>
                <a:lnTo>
                  <a:pt x="41095" y="53604"/>
                </a:lnTo>
                <a:lnTo>
                  <a:pt x="44541" y="58596"/>
                </a:lnTo>
                <a:lnTo>
                  <a:pt x="48744" y="63829"/>
                </a:lnTo>
                <a:lnTo>
                  <a:pt x="53451" y="69222"/>
                </a:lnTo>
                <a:lnTo>
                  <a:pt x="58494" y="74723"/>
                </a:lnTo>
                <a:lnTo>
                  <a:pt x="63761" y="79343"/>
                </a:lnTo>
                <a:lnTo>
                  <a:pt x="69177" y="83375"/>
                </a:lnTo>
                <a:lnTo>
                  <a:pt x="74693" y="87016"/>
                </a:lnTo>
                <a:lnTo>
                  <a:pt x="79323" y="92300"/>
                </a:lnTo>
                <a:lnTo>
                  <a:pt x="83361" y="98681"/>
                </a:lnTo>
                <a:lnTo>
                  <a:pt x="87007" y="105792"/>
                </a:lnTo>
                <a:lnTo>
                  <a:pt x="92295" y="112438"/>
                </a:lnTo>
                <a:lnTo>
                  <a:pt x="98677" y="118774"/>
                </a:lnTo>
                <a:lnTo>
                  <a:pt x="105790" y="124902"/>
                </a:lnTo>
                <a:lnTo>
                  <a:pt x="112436" y="130893"/>
                </a:lnTo>
                <a:lnTo>
                  <a:pt x="124902" y="142630"/>
                </a:lnTo>
                <a:lnTo>
                  <a:pt x="131845" y="148426"/>
                </a:lnTo>
                <a:lnTo>
                  <a:pt x="139331" y="154196"/>
                </a:lnTo>
                <a:lnTo>
                  <a:pt x="147180" y="159947"/>
                </a:lnTo>
                <a:lnTo>
                  <a:pt x="153365" y="165686"/>
                </a:lnTo>
                <a:lnTo>
                  <a:pt x="158441" y="171417"/>
                </a:lnTo>
                <a:lnTo>
                  <a:pt x="162777" y="177143"/>
                </a:lnTo>
                <a:lnTo>
                  <a:pt x="167573" y="182865"/>
                </a:lnTo>
                <a:lnTo>
                  <a:pt x="172675" y="188585"/>
                </a:lnTo>
                <a:lnTo>
                  <a:pt x="177981" y="194303"/>
                </a:lnTo>
                <a:lnTo>
                  <a:pt x="182472" y="200021"/>
                </a:lnTo>
                <a:lnTo>
                  <a:pt x="186418" y="205737"/>
                </a:lnTo>
                <a:lnTo>
                  <a:pt x="190001" y="211452"/>
                </a:lnTo>
                <a:lnTo>
                  <a:pt x="194295" y="216216"/>
                </a:lnTo>
                <a:lnTo>
                  <a:pt x="199062" y="220344"/>
                </a:lnTo>
                <a:lnTo>
                  <a:pt x="204146" y="224048"/>
                </a:lnTo>
                <a:lnTo>
                  <a:pt x="208487" y="228423"/>
                </a:lnTo>
                <a:lnTo>
                  <a:pt x="212334" y="233245"/>
                </a:lnTo>
                <a:lnTo>
                  <a:pt x="215851" y="238364"/>
                </a:lnTo>
                <a:lnTo>
                  <a:pt x="222298" y="246591"/>
                </a:lnTo>
                <a:lnTo>
                  <a:pt x="228339" y="253424"/>
                </a:lnTo>
                <a:lnTo>
                  <a:pt x="234199" y="259635"/>
                </a:lnTo>
                <a:lnTo>
                  <a:pt x="238047" y="262625"/>
                </a:lnTo>
                <a:lnTo>
                  <a:pt x="242518" y="265570"/>
                </a:lnTo>
                <a:lnTo>
                  <a:pt x="247404" y="268487"/>
                </a:lnTo>
                <a:lnTo>
                  <a:pt x="250661" y="271384"/>
                </a:lnTo>
                <a:lnTo>
                  <a:pt x="252832" y="274267"/>
                </a:lnTo>
                <a:lnTo>
                  <a:pt x="256317" y="281189"/>
                </a:lnTo>
                <a:lnTo>
                  <a:pt x="264480" y="290124"/>
                </a:lnTo>
                <a:lnTo>
                  <a:pt x="265747" y="2914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MARTPenAnnotation746"/>
          <p:cNvSpPr/>
          <p:nvPr/>
        </p:nvSpPr>
        <p:spPr>
          <a:xfrm>
            <a:off x="5986440" y="3265560"/>
            <a:ext cx="214200" cy="257040"/>
          </a:xfrm>
          <a:custGeom>
            <a:avLst/>
            <a:gdLst>
              <a:gd name="textAreaLeft" fmla="*/ 0 w 214200"/>
              <a:gd name="textAreaRight" fmla="*/ 214560 w 214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4314" h="257176">
                <a:moveTo>
                  <a:pt x="214313" y="0"/>
                </a:moveTo>
                <a:lnTo>
                  <a:pt x="214313" y="4551"/>
                </a:lnTo>
                <a:lnTo>
                  <a:pt x="213360" y="6844"/>
                </a:lnTo>
                <a:lnTo>
                  <a:pt x="207469" y="15574"/>
                </a:lnTo>
                <a:lnTo>
                  <a:pt x="204987" y="19908"/>
                </a:lnTo>
                <a:lnTo>
                  <a:pt x="202381" y="24702"/>
                </a:lnTo>
                <a:lnTo>
                  <a:pt x="198738" y="29803"/>
                </a:lnTo>
                <a:lnTo>
                  <a:pt x="194405" y="35109"/>
                </a:lnTo>
                <a:lnTo>
                  <a:pt x="189611" y="40551"/>
                </a:lnTo>
                <a:lnTo>
                  <a:pt x="185462" y="46084"/>
                </a:lnTo>
                <a:lnTo>
                  <a:pt x="181744" y="51678"/>
                </a:lnTo>
                <a:lnTo>
                  <a:pt x="178313" y="57312"/>
                </a:lnTo>
                <a:lnTo>
                  <a:pt x="173168" y="63925"/>
                </a:lnTo>
                <a:lnTo>
                  <a:pt x="166880" y="71192"/>
                </a:lnTo>
                <a:lnTo>
                  <a:pt x="159831" y="78894"/>
                </a:lnTo>
                <a:lnTo>
                  <a:pt x="153227" y="86886"/>
                </a:lnTo>
                <a:lnTo>
                  <a:pt x="146919" y="95072"/>
                </a:lnTo>
                <a:lnTo>
                  <a:pt x="140808" y="103386"/>
                </a:lnTo>
                <a:lnTo>
                  <a:pt x="128939" y="120244"/>
                </a:lnTo>
                <a:lnTo>
                  <a:pt x="123107" y="128740"/>
                </a:lnTo>
                <a:lnTo>
                  <a:pt x="117314" y="136310"/>
                </a:lnTo>
                <a:lnTo>
                  <a:pt x="111547" y="143260"/>
                </a:lnTo>
                <a:lnTo>
                  <a:pt x="105797" y="149800"/>
                </a:lnTo>
                <a:lnTo>
                  <a:pt x="100059" y="157016"/>
                </a:lnTo>
                <a:lnTo>
                  <a:pt x="94328" y="164685"/>
                </a:lnTo>
                <a:lnTo>
                  <a:pt x="88603" y="172655"/>
                </a:lnTo>
                <a:lnTo>
                  <a:pt x="82881" y="179873"/>
                </a:lnTo>
                <a:lnTo>
                  <a:pt x="77162" y="186591"/>
                </a:lnTo>
                <a:lnTo>
                  <a:pt x="71444" y="192974"/>
                </a:lnTo>
                <a:lnTo>
                  <a:pt x="60010" y="205146"/>
                </a:lnTo>
                <a:lnTo>
                  <a:pt x="41699" y="223932"/>
                </a:lnTo>
                <a:lnTo>
                  <a:pt x="37324" y="227393"/>
                </a:lnTo>
                <a:lnTo>
                  <a:pt x="32503" y="230653"/>
                </a:lnTo>
                <a:lnTo>
                  <a:pt x="27384" y="233779"/>
                </a:lnTo>
                <a:lnTo>
                  <a:pt x="23018" y="236815"/>
                </a:lnTo>
                <a:lnTo>
                  <a:pt x="19156" y="239792"/>
                </a:lnTo>
                <a:lnTo>
                  <a:pt x="15628" y="242728"/>
                </a:lnTo>
                <a:lnTo>
                  <a:pt x="9168" y="248532"/>
                </a:lnTo>
                <a:lnTo>
                  <a:pt x="6" y="257169"/>
                </a:lnTo>
                <a:lnTo>
                  <a:pt x="3" y="257173"/>
                </a:lnTo>
                <a:lnTo>
                  <a:pt x="2" y="257174"/>
                </a:lnTo>
                <a:lnTo>
                  <a:pt x="0" y="257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MARTPenAnnotation747"/>
          <p:cNvSpPr/>
          <p:nvPr/>
        </p:nvSpPr>
        <p:spPr>
          <a:xfrm>
            <a:off x="6311880" y="3343320"/>
            <a:ext cx="360360" cy="17280"/>
          </a:xfrm>
          <a:custGeom>
            <a:avLst/>
            <a:gdLst>
              <a:gd name="textAreaLeft" fmla="*/ 0 w 360360"/>
              <a:gd name="textAreaRight" fmla="*/ 360720 w 3603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60046" h="17146">
                <a:moveTo>
                  <a:pt x="0" y="17145"/>
                </a:moveTo>
                <a:lnTo>
                  <a:pt x="4551" y="17145"/>
                </a:lnTo>
                <a:lnTo>
                  <a:pt x="5891" y="16192"/>
                </a:lnTo>
                <a:lnTo>
                  <a:pt x="6785" y="14604"/>
                </a:lnTo>
                <a:lnTo>
                  <a:pt x="7381" y="12594"/>
                </a:lnTo>
                <a:lnTo>
                  <a:pt x="9683" y="11253"/>
                </a:lnTo>
                <a:lnTo>
                  <a:pt x="13123" y="10359"/>
                </a:lnTo>
                <a:lnTo>
                  <a:pt x="17321" y="9764"/>
                </a:lnTo>
                <a:lnTo>
                  <a:pt x="21072" y="9367"/>
                </a:lnTo>
                <a:lnTo>
                  <a:pt x="27780" y="8925"/>
                </a:lnTo>
                <a:lnTo>
                  <a:pt x="36477" y="8729"/>
                </a:lnTo>
                <a:lnTo>
                  <a:pt x="57582" y="8603"/>
                </a:lnTo>
                <a:lnTo>
                  <a:pt x="64105" y="7640"/>
                </a:lnTo>
                <a:lnTo>
                  <a:pt x="71312" y="6046"/>
                </a:lnTo>
                <a:lnTo>
                  <a:pt x="78974" y="4031"/>
                </a:lnTo>
                <a:lnTo>
                  <a:pt x="85987" y="2687"/>
                </a:lnTo>
                <a:lnTo>
                  <a:pt x="92567" y="1791"/>
                </a:lnTo>
                <a:lnTo>
                  <a:pt x="98859" y="1194"/>
                </a:lnTo>
                <a:lnTo>
                  <a:pt x="105911" y="796"/>
                </a:lnTo>
                <a:lnTo>
                  <a:pt x="121367" y="353"/>
                </a:lnTo>
                <a:lnTo>
                  <a:pt x="197203" y="9"/>
                </a:lnTo>
                <a:lnTo>
                  <a:pt x="332627" y="0"/>
                </a:lnTo>
                <a:lnTo>
                  <a:pt x="337004" y="952"/>
                </a:lnTo>
                <a:lnTo>
                  <a:pt x="340874" y="2540"/>
                </a:lnTo>
                <a:lnTo>
                  <a:pt x="344407" y="4550"/>
                </a:lnTo>
                <a:lnTo>
                  <a:pt x="347715" y="5891"/>
                </a:lnTo>
                <a:lnTo>
                  <a:pt x="350873" y="6785"/>
                </a:lnTo>
                <a:lnTo>
                  <a:pt x="360045" y="85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MARTPenAnnotation748"/>
          <p:cNvSpPr/>
          <p:nvPr/>
        </p:nvSpPr>
        <p:spPr>
          <a:xfrm>
            <a:off x="6475320" y="3214800"/>
            <a:ext cx="103320" cy="342720"/>
          </a:xfrm>
          <a:custGeom>
            <a:avLst/>
            <a:gdLst>
              <a:gd name="textAreaLeft" fmla="*/ 0 w 103320"/>
              <a:gd name="textAreaRight" fmla="*/ 103680 w 10332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02862" h="342901">
                <a:moveTo>
                  <a:pt x="8563" y="0"/>
                </a:moveTo>
                <a:lnTo>
                  <a:pt x="21" y="0"/>
                </a:lnTo>
                <a:lnTo>
                  <a:pt x="0" y="9102"/>
                </a:lnTo>
                <a:lnTo>
                  <a:pt x="949" y="12735"/>
                </a:lnTo>
                <a:lnTo>
                  <a:pt x="2535" y="16110"/>
                </a:lnTo>
                <a:lnTo>
                  <a:pt x="4544" y="19313"/>
                </a:lnTo>
                <a:lnTo>
                  <a:pt x="6777" y="27951"/>
                </a:lnTo>
                <a:lnTo>
                  <a:pt x="8722" y="38140"/>
                </a:lnTo>
                <a:lnTo>
                  <a:pt x="10574" y="43524"/>
                </a:lnTo>
                <a:lnTo>
                  <a:pt x="12762" y="49019"/>
                </a:lnTo>
                <a:lnTo>
                  <a:pt x="14220" y="54587"/>
                </a:lnTo>
                <a:lnTo>
                  <a:pt x="15192" y="60204"/>
                </a:lnTo>
                <a:lnTo>
                  <a:pt x="15840" y="65853"/>
                </a:lnTo>
                <a:lnTo>
                  <a:pt x="17224" y="71525"/>
                </a:lnTo>
                <a:lnTo>
                  <a:pt x="19100" y="77211"/>
                </a:lnTo>
                <a:lnTo>
                  <a:pt x="21302" y="82907"/>
                </a:lnTo>
                <a:lnTo>
                  <a:pt x="22771" y="88609"/>
                </a:lnTo>
                <a:lnTo>
                  <a:pt x="23750" y="94315"/>
                </a:lnTo>
                <a:lnTo>
                  <a:pt x="24403" y="100024"/>
                </a:lnTo>
                <a:lnTo>
                  <a:pt x="24838" y="106688"/>
                </a:lnTo>
                <a:lnTo>
                  <a:pt x="25128" y="113988"/>
                </a:lnTo>
                <a:lnTo>
                  <a:pt x="25321" y="121712"/>
                </a:lnTo>
                <a:lnTo>
                  <a:pt x="26403" y="128766"/>
                </a:lnTo>
                <a:lnTo>
                  <a:pt x="28076" y="135374"/>
                </a:lnTo>
                <a:lnTo>
                  <a:pt x="30144" y="141684"/>
                </a:lnTo>
                <a:lnTo>
                  <a:pt x="32475" y="147796"/>
                </a:lnTo>
                <a:lnTo>
                  <a:pt x="34982" y="153776"/>
                </a:lnTo>
                <a:lnTo>
                  <a:pt x="37606" y="159667"/>
                </a:lnTo>
                <a:lnTo>
                  <a:pt x="39354" y="166453"/>
                </a:lnTo>
                <a:lnTo>
                  <a:pt x="40521" y="173833"/>
                </a:lnTo>
                <a:lnTo>
                  <a:pt x="41299" y="181612"/>
                </a:lnTo>
                <a:lnTo>
                  <a:pt x="43722" y="188702"/>
                </a:lnTo>
                <a:lnTo>
                  <a:pt x="47242" y="195334"/>
                </a:lnTo>
                <a:lnTo>
                  <a:pt x="51494" y="201660"/>
                </a:lnTo>
                <a:lnTo>
                  <a:pt x="55281" y="207782"/>
                </a:lnTo>
                <a:lnTo>
                  <a:pt x="58759" y="213769"/>
                </a:lnTo>
                <a:lnTo>
                  <a:pt x="62029" y="219665"/>
                </a:lnTo>
                <a:lnTo>
                  <a:pt x="64210" y="225501"/>
                </a:lnTo>
                <a:lnTo>
                  <a:pt x="65664" y="231297"/>
                </a:lnTo>
                <a:lnTo>
                  <a:pt x="66633" y="237065"/>
                </a:lnTo>
                <a:lnTo>
                  <a:pt x="68231" y="242816"/>
                </a:lnTo>
                <a:lnTo>
                  <a:pt x="70249" y="248555"/>
                </a:lnTo>
                <a:lnTo>
                  <a:pt x="72547" y="254286"/>
                </a:lnTo>
                <a:lnTo>
                  <a:pt x="75100" y="263194"/>
                </a:lnTo>
                <a:lnTo>
                  <a:pt x="77188" y="271280"/>
                </a:lnTo>
                <a:lnTo>
                  <a:pt x="79078" y="276103"/>
                </a:lnTo>
                <a:lnTo>
                  <a:pt x="81291" y="281224"/>
                </a:lnTo>
                <a:lnTo>
                  <a:pt x="83749" y="289454"/>
                </a:lnTo>
                <a:lnTo>
                  <a:pt x="84404" y="292982"/>
                </a:lnTo>
                <a:lnTo>
                  <a:pt x="85794" y="296286"/>
                </a:lnTo>
                <a:lnTo>
                  <a:pt x="87673" y="299442"/>
                </a:lnTo>
                <a:lnTo>
                  <a:pt x="89878" y="302498"/>
                </a:lnTo>
                <a:lnTo>
                  <a:pt x="92328" y="310974"/>
                </a:lnTo>
                <a:lnTo>
                  <a:pt x="93902" y="322835"/>
                </a:lnTo>
                <a:lnTo>
                  <a:pt x="96656" y="326997"/>
                </a:lnTo>
                <a:lnTo>
                  <a:pt x="98724" y="329441"/>
                </a:lnTo>
                <a:lnTo>
                  <a:pt x="100103" y="332022"/>
                </a:lnTo>
                <a:lnTo>
                  <a:pt x="102316" y="340469"/>
                </a:lnTo>
                <a:lnTo>
                  <a:pt x="102861" y="3429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MARTPenAnnotation749"/>
          <p:cNvSpPr/>
          <p:nvPr/>
        </p:nvSpPr>
        <p:spPr>
          <a:xfrm>
            <a:off x="6680160" y="3219480"/>
            <a:ext cx="385920" cy="270000"/>
          </a:xfrm>
          <a:custGeom>
            <a:avLst/>
            <a:gdLst>
              <a:gd name="textAreaLeft" fmla="*/ 0 w 385920"/>
              <a:gd name="textAreaRight" fmla="*/ 386280 w 3859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385764" h="269431">
                <a:moveTo>
                  <a:pt x="0" y="64053"/>
                </a:moveTo>
                <a:lnTo>
                  <a:pt x="21239" y="42815"/>
                </a:lnTo>
                <a:lnTo>
                  <a:pt x="28807" y="37786"/>
                </a:lnTo>
                <a:lnTo>
                  <a:pt x="37569" y="32377"/>
                </a:lnTo>
                <a:lnTo>
                  <a:pt x="48808" y="23976"/>
                </a:lnTo>
                <a:lnTo>
                  <a:pt x="58523" y="18301"/>
                </a:lnTo>
                <a:lnTo>
                  <a:pt x="64733" y="16407"/>
                </a:lnTo>
                <a:lnTo>
                  <a:pt x="71730" y="15144"/>
                </a:lnTo>
                <a:lnTo>
                  <a:pt x="79253" y="14302"/>
                </a:lnTo>
                <a:lnTo>
                  <a:pt x="87126" y="12788"/>
                </a:lnTo>
                <a:lnTo>
                  <a:pt x="95232" y="10827"/>
                </a:lnTo>
                <a:lnTo>
                  <a:pt x="103492" y="8566"/>
                </a:lnTo>
                <a:lnTo>
                  <a:pt x="110906" y="6107"/>
                </a:lnTo>
                <a:lnTo>
                  <a:pt x="117752" y="3515"/>
                </a:lnTo>
                <a:lnTo>
                  <a:pt x="124221" y="834"/>
                </a:lnTo>
                <a:lnTo>
                  <a:pt x="131392" y="0"/>
                </a:lnTo>
                <a:lnTo>
                  <a:pt x="139030" y="396"/>
                </a:lnTo>
                <a:lnTo>
                  <a:pt x="146979" y="1612"/>
                </a:lnTo>
                <a:lnTo>
                  <a:pt x="154184" y="2424"/>
                </a:lnTo>
                <a:lnTo>
                  <a:pt x="160892" y="2964"/>
                </a:lnTo>
                <a:lnTo>
                  <a:pt x="167269" y="3325"/>
                </a:lnTo>
                <a:lnTo>
                  <a:pt x="179435" y="3725"/>
                </a:lnTo>
                <a:lnTo>
                  <a:pt x="185346" y="3832"/>
                </a:lnTo>
                <a:lnTo>
                  <a:pt x="196994" y="6491"/>
                </a:lnTo>
                <a:lnTo>
                  <a:pt x="207568" y="10847"/>
                </a:lnTo>
                <a:lnTo>
                  <a:pt x="215443" y="15959"/>
                </a:lnTo>
                <a:lnTo>
                  <a:pt x="217923" y="18655"/>
                </a:lnTo>
                <a:lnTo>
                  <a:pt x="219578" y="21405"/>
                </a:lnTo>
                <a:lnTo>
                  <a:pt x="220681" y="24191"/>
                </a:lnTo>
                <a:lnTo>
                  <a:pt x="224446" y="29827"/>
                </a:lnTo>
                <a:lnTo>
                  <a:pt x="226783" y="32663"/>
                </a:lnTo>
                <a:lnTo>
                  <a:pt x="228341" y="36459"/>
                </a:lnTo>
                <a:lnTo>
                  <a:pt x="229380" y="40894"/>
                </a:lnTo>
                <a:lnTo>
                  <a:pt x="230072" y="45756"/>
                </a:lnTo>
                <a:lnTo>
                  <a:pt x="229582" y="50903"/>
                </a:lnTo>
                <a:lnTo>
                  <a:pt x="228303" y="56239"/>
                </a:lnTo>
                <a:lnTo>
                  <a:pt x="226497" y="61701"/>
                </a:lnTo>
                <a:lnTo>
                  <a:pt x="224341" y="67248"/>
                </a:lnTo>
                <a:lnTo>
                  <a:pt x="221950" y="72850"/>
                </a:lnTo>
                <a:lnTo>
                  <a:pt x="216755" y="84155"/>
                </a:lnTo>
                <a:lnTo>
                  <a:pt x="211271" y="95530"/>
                </a:lnTo>
                <a:lnTo>
                  <a:pt x="208475" y="102183"/>
                </a:lnTo>
                <a:lnTo>
                  <a:pt x="205658" y="109475"/>
                </a:lnTo>
                <a:lnTo>
                  <a:pt x="202828" y="117195"/>
                </a:lnTo>
                <a:lnTo>
                  <a:pt x="199036" y="124246"/>
                </a:lnTo>
                <a:lnTo>
                  <a:pt x="194604" y="130852"/>
                </a:lnTo>
                <a:lnTo>
                  <a:pt x="189744" y="137160"/>
                </a:lnTo>
                <a:lnTo>
                  <a:pt x="184598" y="143271"/>
                </a:lnTo>
                <a:lnTo>
                  <a:pt x="179263" y="149250"/>
                </a:lnTo>
                <a:lnTo>
                  <a:pt x="173802" y="155141"/>
                </a:lnTo>
                <a:lnTo>
                  <a:pt x="168256" y="161926"/>
                </a:lnTo>
                <a:lnTo>
                  <a:pt x="162653" y="169307"/>
                </a:lnTo>
                <a:lnTo>
                  <a:pt x="157013" y="177085"/>
                </a:lnTo>
                <a:lnTo>
                  <a:pt x="152300" y="183222"/>
                </a:lnTo>
                <a:lnTo>
                  <a:pt x="148206" y="188267"/>
                </a:lnTo>
                <a:lnTo>
                  <a:pt x="144524" y="192582"/>
                </a:lnTo>
                <a:lnTo>
                  <a:pt x="142070" y="197364"/>
                </a:lnTo>
                <a:lnTo>
                  <a:pt x="140434" y="202457"/>
                </a:lnTo>
                <a:lnTo>
                  <a:pt x="139342" y="207758"/>
                </a:lnTo>
                <a:lnTo>
                  <a:pt x="137662" y="212243"/>
                </a:lnTo>
                <a:lnTo>
                  <a:pt x="133257" y="219768"/>
                </a:lnTo>
                <a:lnTo>
                  <a:pt x="128123" y="226287"/>
                </a:lnTo>
                <a:lnTo>
                  <a:pt x="125421" y="229359"/>
                </a:lnTo>
                <a:lnTo>
                  <a:pt x="123619" y="232360"/>
                </a:lnTo>
                <a:lnTo>
                  <a:pt x="121617" y="238233"/>
                </a:lnTo>
                <a:lnTo>
                  <a:pt x="120728" y="244019"/>
                </a:lnTo>
                <a:lnTo>
                  <a:pt x="120157" y="250944"/>
                </a:lnTo>
                <a:lnTo>
                  <a:pt x="120034" y="259209"/>
                </a:lnTo>
                <a:lnTo>
                  <a:pt x="120028" y="259880"/>
                </a:lnTo>
                <a:lnTo>
                  <a:pt x="120976" y="260326"/>
                </a:lnTo>
                <a:lnTo>
                  <a:pt x="124570" y="260823"/>
                </a:lnTo>
                <a:lnTo>
                  <a:pt x="126862" y="261908"/>
                </a:lnTo>
                <a:lnTo>
                  <a:pt x="134639" y="267034"/>
                </a:lnTo>
                <a:lnTo>
                  <a:pt x="140167" y="268567"/>
                </a:lnTo>
                <a:lnTo>
                  <a:pt x="148339" y="269248"/>
                </a:lnTo>
                <a:lnTo>
                  <a:pt x="153186" y="269430"/>
                </a:lnTo>
                <a:lnTo>
                  <a:pt x="157369" y="268598"/>
                </a:lnTo>
                <a:lnTo>
                  <a:pt x="168760" y="263830"/>
                </a:lnTo>
                <a:lnTo>
                  <a:pt x="178510" y="262380"/>
                </a:lnTo>
                <a:lnTo>
                  <a:pt x="189193" y="261736"/>
                </a:lnTo>
                <a:lnTo>
                  <a:pt x="194709" y="261565"/>
                </a:lnTo>
                <a:lnTo>
                  <a:pt x="199339" y="260497"/>
                </a:lnTo>
                <a:lnTo>
                  <a:pt x="207023" y="256772"/>
                </a:lnTo>
                <a:lnTo>
                  <a:pt x="218693" y="254481"/>
                </a:lnTo>
                <a:lnTo>
                  <a:pt x="225806" y="253870"/>
                </a:lnTo>
                <a:lnTo>
                  <a:pt x="236249" y="250651"/>
                </a:lnTo>
                <a:lnTo>
                  <a:pt x="240366" y="248459"/>
                </a:lnTo>
                <a:lnTo>
                  <a:pt x="245970" y="246998"/>
                </a:lnTo>
                <a:lnTo>
                  <a:pt x="252562" y="246024"/>
                </a:lnTo>
                <a:lnTo>
                  <a:pt x="259815" y="245374"/>
                </a:lnTo>
                <a:lnTo>
                  <a:pt x="266555" y="244941"/>
                </a:lnTo>
                <a:lnTo>
                  <a:pt x="279124" y="244461"/>
                </a:lnTo>
                <a:lnTo>
                  <a:pt x="291061" y="241707"/>
                </a:lnTo>
                <a:lnTo>
                  <a:pt x="302716" y="238260"/>
                </a:lnTo>
                <a:lnTo>
                  <a:pt x="314246" y="236728"/>
                </a:lnTo>
                <a:lnTo>
                  <a:pt x="323180" y="236048"/>
                </a:lnTo>
                <a:lnTo>
                  <a:pt x="333565" y="235665"/>
                </a:lnTo>
                <a:lnTo>
                  <a:pt x="350159" y="235535"/>
                </a:lnTo>
                <a:lnTo>
                  <a:pt x="385763" y="2355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MARTPenAnnotation750"/>
          <p:cNvSpPr/>
          <p:nvPr/>
        </p:nvSpPr>
        <p:spPr>
          <a:xfrm>
            <a:off x="7093080" y="3257640"/>
            <a:ext cx="290520" cy="252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91466" h="25718">
                <a:moveTo>
                  <a:pt x="0" y="25717"/>
                </a:moveTo>
                <a:lnTo>
                  <a:pt x="4551" y="25717"/>
                </a:lnTo>
                <a:lnTo>
                  <a:pt x="5891" y="24765"/>
                </a:lnTo>
                <a:lnTo>
                  <a:pt x="6785" y="23177"/>
                </a:lnTo>
                <a:lnTo>
                  <a:pt x="7381" y="21166"/>
                </a:lnTo>
                <a:lnTo>
                  <a:pt x="8731" y="19825"/>
                </a:lnTo>
                <a:lnTo>
                  <a:pt x="10583" y="18932"/>
                </a:lnTo>
                <a:lnTo>
                  <a:pt x="12770" y="18336"/>
                </a:lnTo>
                <a:lnTo>
                  <a:pt x="20281" y="17674"/>
                </a:lnTo>
                <a:lnTo>
                  <a:pt x="29016" y="17380"/>
                </a:lnTo>
                <a:lnTo>
                  <a:pt x="40241" y="17214"/>
                </a:lnTo>
                <a:lnTo>
                  <a:pt x="49952" y="17176"/>
                </a:lnTo>
                <a:lnTo>
                  <a:pt x="55209" y="16213"/>
                </a:lnTo>
                <a:lnTo>
                  <a:pt x="60618" y="14618"/>
                </a:lnTo>
                <a:lnTo>
                  <a:pt x="66129" y="12603"/>
                </a:lnTo>
                <a:lnTo>
                  <a:pt x="72661" y="11259"/>
                </a:lnTo>
                <a:lnTo>
                  <a:pt x="79873" y="10364"/>
                </a:lnTo>
                <a:lnTo>
                  <a:pt x="87538" y="9766"/>
                </a:lnTo>
                <a:lnTo>
                  <a:pt x="95506" y="9368"/>
                </a:lnTo>
                <a:lnTo>
                  <a:pt x="111980" y="8926"/>
                </a:lnTo>
                <a:lnTo>
                  <a:pt x="120373" y="7856"/>
                </a:lnTo>
                <a:lnTo>
                  <a:pt x="128826" y="6189"/>
                </a:lnTo>
                <a:lnTo>
                  <a:pt x="137319" y="4126"/>
                </a:lnTo>
                <a:lnTo>
                  <a:pt x="145838" y="2750"/>
                </a:lnTo>
                <a:lnTo>
                  <a:pt x="154376" y="1834"/>
                </a:lnTo>
                <a:lnTo>
                  <a:pt x="162924" y="1222"/>
                </a:lnTo>
                <a:lnTo>
                  <a:pt x="170529" y="815"/>
                </a:lnTo>
                <a:lnTo>
                  <a:pt x="184057" y="362"/>
                </a:lnTo>
                <a:lnTo>
                  <a:pt x="220876" y="48"/>
                </a:lnTo>
                <a:lnTo>
                  <a:pt x="277018" y="0"/>
                </a:lnTo>
                <a:lnTo>
                  <a:pt x="279929" y="952"/>
                </a:lnTo>
                <a:lnTo>
                  <a:pt x="282821" y="2540"/>
                </a:lnTo>
                <a:lnTo>
                  <a:pt x="289757" y="7380"/>
                </a:lnTo>
                <a:lnTo>
                  <a:pt x="290327" y="8730"/>
                </a:lnTo>
                <a:lnTo>
                  <a:pt x="290706" y="10583"/>
                </a:lnTo>
                <a:lnTo>
                  <a:pt x="291465" y="17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MARTPenAnnotation751"/>
          <p:cNvSpPr/>
          <p:nvPr/>
        </p:nvSpPr>
        <p:spPr>
          <a:xfrm>
            <a:off x="7118280" y="3325680"/>
            <a:ext cx="325440" cy="42840"/>
          </a:xfrm>
          <a:custGeom>
            <a:avLst/>
            <a:gdLst>
              <a:gd name="textAreaLeft" fmla="*/ 0 w 325440"/>
              <a:gd name="textAreaRight" fmla="*/ 325800 w 3254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25756" h="42755">
                <a:moveTo>
                  <a:pt x="0" y="42754"/>
                </a:moveTo>
                <a:lnTo>
                  <a:pt x="50275" y="42754"/>
                </a:lnTo>
                <a:lnTo>
                  <a:pt x="55424" y="41802"/>
                </a:lnTo>
                <a:lnTo>
                  <a:pt x="60762" y="40214"/>
                </a:lnTo>
                <a:lnTo>
                  <a:pt x="66226" y="38203"/>
                </a:lnTo>
                <a:lnTo>
                  <a:pt x="72725" y="36862"/>
                </a:lnTo>
                <a:lnTo>
                  <a:pt x="79917" y="35969"/>
                </a:lnTo>
                <a:lnTo>
                  <a:pt x="87567" y="35373"/>
                </a:lnTo>
                <a:lnTo>
                  <a:pt x="94573" y="34023"/>
                </a:lnTo>
                <a:lnTo>
                  <a:pt x="101149" y="32171"/>
                </a:lnTo>
                <a:lnTo>
                  <a:pt x="107438" y="29984"/>
                </a:lnTo>
                <a:lnTo>
                  <a:pt x="114488" y="28525"/>
                </a:lnTo>
                <a:lnTo>
                  <a:pt x="122045" y="27553"/>
                </a:lnTo>
                <a:lnTo>
                  <a:pt x="129941" y="26905"/>
                </a:lnTo>
                <a:lnTo>
                  <a:pt x="138063" y="25520"/>
                </a:lnTo>
                <a:lnTo>
                  <a:pt x="146334" y="23645"/>
                </a:lnTo>
                <a:lnTo>
                  <a:pt x="154707" y="21442"/>
                </a:lnTo>
                <a:lnTo>
                  <a:pt x="163145" y="19021"/>
                </a:lnTo>
                <a:lnTo>
                  <a:pt x="180142" y="13791"/>
                </a:lnTo>
                <a:lnTo>
                  <a:pt x="188674" y="12015"/>
                </a:lnTo>
                <a:lnTo>
                  <a:pt x="197220" y="10832"/>
                </a:lnTo>
                <a:lnTo>
                  <a:pt x="205776" y="10042"/>
                </a:lnTo>
                <a:lnTo>
                  <a:pt x="213384" y="9516"/>
                </a:lnTo>
                <a:lnTo>
                  <a:pt x="220361" y="9166"/>
                </a:lnTo>
                <a:lnTo>
                  <a:pt x="226917" y="8932"/>
                </a:lnTo>
                <a:lnTo>
                  <a:pt x="233193" y="7823"/>
                </a:lnTo>
                <a:lnTo>
                  <a:pt x="239282" y="6132"/>
                </a:lnTo>
                <a:lnTo>
                  <a:pt x="245247" y="4052"/>
                </a:lnTo>
                <a:lnTo>
                  <a:pt x="251128" y="2665"/>
                </a:lnTo>
                <a:lnTo>
                  <a:pt x="256954" y="1741"/>
                </a:lnTo>
                <a:lnTo>
                  <a:pt x="262743" y="1124"/>
                </a:lnTo>
                <a:lnTo>
                  <a:pt x="268507" y="713"/>
                </a:lnTo>
                <a:lnTo>
                  <a:pt x="274254" y="439"/>
                </a:lnTo>
                <a:lnTo>
                  <a:pt x="285721" y="135"/>
                </a:lnTo>
                <a:lnTo>
                  <a:pt x="297167" y="0"/>
                </a:lnTo>
                <a:lnTo>
                  <a:pt x="301934" y="916"/>
                </a:lnTo>
                <a:lnTo>
                  <a:pt x="306065" y="2480"/>
                </a:lnTo>
                <a:lnTo>
                  <a:pt x="309771" y="4474"/>
                </a:lnTo>
                <a:lnTo>
                  <a:pt x="313194" y="5805"/>
                </a:lnTo>
                <a:lnTo>
                  <a:pt x="316428" y="6691"/>
                </a:lnTo>
                <a:lnTo>
                  <a:pt x="325755" y="84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MARTPenAnnotation752"/>
          <p:cNvSpPr/>
          <p:nvPr/>
        </p:nvSpPr>
        <p:spPr>
          <a:xfrm>
            <a:off x="7623000" y="3292560"/>
            <a:ext cx="274680" cy="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74322" h="8573">
                <a:moveTo>
                  <a:pt x="0" y="0"/>
                </a:moveTo>
                <a:lnTo>
                  <a:pt x="67169" y="0"/>
                </a:lnTo>
                <a:lnTo>
                  <a:pt x="71450" y="952"/>
                </a:lnTo>
                <a:lnTo>
                  <a:pt x="75255" y="2539"/>
                </a:lnTo>
                <a:lnTo>
                  <a:pt x="78746" y="4551"/>
                </a:lnTo>
                <a:lnTo>
                  <a:pt x="82977" y="4939"/>
                </a:lnTo>
                <a:lnTo>
                  <a:pt x="87704" y="4245"/>
                </a:lnTo>
                <a:lnTo>
                  <a:pt x="92759" y="2830"/>
                </a:lnTo>
                <a:lnTo>
                  <a:pt x="98035" y="1886"/>
                </a:lnTo>
                <a:lnTo>
                  <a:pt x="103457" y="1257"/>
                </a:lnTo>
                <a:lnTo>
                  <a:pt x="108976" y="838"/>
                </a:lnTo>
                <a:lnTo>
                  <a:pt x="114561" y="559"/>
                </a:lnTo>
                <a:lnTo>
                  <a:pt x="125846" y="248"/>
                </a:lnTo>
                <a:lnTo>
                  <a:pt x="177169" y="6"/>
                </a:lnTo>
                <a:lnTo>
                  <a:pt x="263989" y="0"/>
                </a:lnTo>
                <a:lnTo>
                  <a:pt x="265528" y="952"/>
                </a:lnTo>
                <a:lnTo>
                  <a:pt x="267506" y="2539"/>
                </a:lnTo>
                <a:lnTo>
                  <a:pt x="274321" y="85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MARTPenAnnotation753"/>
          <p:cNvSpPr/>
          <p:nvPr/>
        </p:nvSpPr>
        <p:spPr>
          <a:xfrm>
            <a:off x="7743960" y="3164040"/>
            <a:ext cx="64800" cy="247320"/>
          </a:xfrm>
          <a:custGeom>
            <a:avLst/>
            <a:gdLst>
              <a:gd name="textAreaLeft" fmla="*/ 0 w 64800"/>
              <a:gd name="textAreaRight" fmla="*/ 65160 w 64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64871" h="248603">
                <a:moveTo>
                  <a:pt x="8572" y="0"/>
                </a:moveTo>
                <a:lnTo>
                  <a:pt x="1192" y="0"/>
                </a:lnTo>
                <a:lnTo>
                  <a:pt x="5174" y="0"/>
                </a:lnTo>
                <a:lnTo>
                  <a:pt x="2935" y="0"/>
                </a:lnTo>
                <a:lnTo>
                  <a:pt x="1957" y="953"/>
                </a:lnTo>
                <a:lnTo>
                  <a:pt x="1304" y="2540"/>
                </a:lnTo>
                <a:lnTo>
                  <a:pt x="257" y="7381"/>
                </a:lnTo>
                <a:lnTo>
                  <a:pt x="76" y="12770"/>
                </a:lnTo>
                <a:lnTo>
                  <a:pt x="0" y="44892"/>
                </a:lnTo>
                <a:lnTo>
                  <a:pt x="952" y="48978"/>
                </a:lnTo>
                <a:lnTo>
                  <a:pt x="2540" y="53607"/>
                </a:lnTo>
                <a:lnTo>
                  <a:pt x="4550" y="58598"/>
                </a:lnTo>
                <a:lnTo>
                  <a:pt x="5891" y="62878"/>
                </a:lnTo>
                <a:lnTo>
                  <a:pt x="7380" y="70173"/>
                </a:lnTo>
                <a:lnTo>
                  <a:pt x="8731" y="74405"/>
                </a:lnTo>
                <a:lnTo>
                  <a:pt x="10583" y="79131"/>
                </a:lnTo>
                <a:lnTo>
                  <a:pt x="12770" y="84186"/>
                </a:lnTo>
                <a:lnTo>
                  <a:pt x="14229" y="89462"/>
                </a:lnTo>
                <a:lnTo>
                  <a:pt x="15201" y="94884"/>
                </a:lnTo>
                <a:lnTo>
                  <a:pt x="15848" y="100403"/>
                </a:lnTo>
                <a:lnTo>
                  <a:pt x="17233" y="105036"/>
                </a:lnTo>
                <a:lnTo>
                  <a:pt x="19108" y="109076"/>
                </a:lnTo>
                <a:lnTo>
                  <a:pt x="21311" y="112723"/>
                </a:lnTo>
                <a:lnTo>
                  <a:pt x="22780" y="117058"/>
                </a:lnTo>
                <a:lnTo>
                  <a:pt x="23759" y="121854"/>
                </a:lnTo>
                <a:lnTo>
                  <a:pt x="24412" y="126956"/>
                </a:lnTo>
                <a:lnTo>
                  <a:pt x="25799" y="131310"/>
                </a:lnTo>
                <a:lnTo>
                  <a:pt x="27677" y="135165"/>
                </a:lnTo>
                <a:lnTo>
                  <a:pt x="29881" y="138687"/>
                </a:lnTo>
                <a:lnTo>
                  <a:pt x="31350" y="142941"/>
                </a:lnTo>
                <a:lnTo>
                  <a:pt x="32331" y="147681"/>
                </a:lnTo>
                <a:lnTo>
                  <a:pt x="32984" y="152747"/>
                </a:lnTo>
                <a:lnTo>
                  <a:pt x="34372" y="157076"/>
                </a:lnTo>
                <a:lnTo>
                  <a:pt x="36249" y="160915"/>
                </a:lnTo>
                <a:lnTo>
                  <a:pt x="38454" y="164427"/>
                </a:lnTo>
                <a:lnTo>
                  <a:pt x="39923" y="168673"/>
                </a:lnTo>
                <a:lnTo>
                  <a:pt x="40903" y="173409"/>
                </a:lnTo>
                <a:lnTo>
                  <a:pt x="41556" y="178471"/>
                </a:lnTo>
                <a:lnTo>
                  <a:pt x="41992" y="182798"/>
                </a:lnTo>
                <a:lnTo>
                  <a:pt x="42475" y="190146"/>
                </a:lnTo>
                <a:lnTo>
                  <a:pt x="43557" y="193439"/>
                </a:lnTo>
                <a:lnTo>
                  <a:pt x="45230" y="196587"/>
                </a:lnTo>
                <a:lnTo>
                  <a:pt x="47298" y="199638"/>
                </a:lnTo>
                <a:lnTo>
                  <a:pt x="48677" y="202625"/>
                </a:lnTo>
                <a:lnTo>
                  <a:pt x="50209" y="208483"/>
                </a:lnTo>
                <a:lnTo>
                  <a:pt x="51570" y="211379"/>
                </a:lnTo>
                <a:lnTo>
                  <a:pt x="53430" y="214261"/>
                </a:lnTo>
                <a:lnTo>
                  <a:pt x="55622" y="217136"/>
                </a:lnTo>
                <a:lnTo>
                  <a:pt x="57084" y="220005"/>
                </a:lnTo>
                <a:lnTo>
                  <a:pt x="58708" y="225733"/>
                </a:lnTo>
                <a:lnTo>
                  <a:pt x="59430" y="231453"/>
                </a:lnTo>
                <a:lnTo>
                  <a:pt x="59622" y="234312"/>
                </a:lnTo>
                <a:lnTo>
                  <a:pt x="60703" y="237171"/>
                </a:lnTo>
                <a:lnTo>
                  <a:pt x="62376" y="240029"/>
                </a:lnTo>
                <a:lnTo>
                  <a:pt x="64444" y="242886"/>
                </a:lnTo>
                <a:lnTo>
                  <a:pt x="64870" y="244792"/>
                </a:lnTo>
                <a:lnTo>
                  <a:pt x="64202" y="246062"/>
                </a:lnTo>
                <a:lnTo>
                  <a:pt x="60007" y="2486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MARTPenAnnotation754"/>
          <p:cNvSpPr/>
          <p:nvPr/>
        </p:nvSpPr>
        <p:spPr>
          <a:xfrm>
            <a:off x="7615080" y="3471840"/>
            <a:ext cx="317520" cy="7920"/>
          </a:xfrm>
          <a:custGeom>
            <a:avLst/>
            <a:gdLst>
              <a:gd name="textAreaLeft" fmla="*/ 0 w 317520"/>
              <a:gd name="textAreaRight" fmla="*/ 317880 w 317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317183" h="8574">
                <a:moveTo>
                  <a:pt x="0" y="0"/>
                </a:moveTo>
                <a:lnTo>
                  <a:pt x="317062" y="0"/>
                </a:lnTo>
                <a:lnTo>
                  <a:pt x="317102" y="953"/>
                </a:lnTo>
                <a:lnTo>
                  <a:pt x="317182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MARTPenAnnotation755"/>
          <p:cNvSpPr/>
          <p:nvPr/>
        </p:nvSpPr>
        <p:spPr>
          <a:xfrm>
            <a:off x="8026560" y="3035160"/>
            <a:ext cx="609480" cy="454320"/>
          </a:xfrm>
          <a:custGeom>
            <a:avLst/>
            <a:gdLst>
              <a:gd name="textAreaLeft" fmla="*/ 0 w 609480"/>
              <a:gd name="textAreaRight" fmla="*/ 609480 w 60948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608635" h="454307">
                <a:moveTo>
                  <a:pt x="0" y="257173"/>
                </a:moveTo>
                <a:lnTo>
                  <a:pt x="0" y="261724"/>
                </a:lnTo>
                <a:lnTo>
                  <a:pt x="952" y="264016"/>
                </a:lnTo>
                <a:lnTo>
                  <a:pt x="6844" y="271795"/>
                </a:lnTo>
                <a:lnTo>
                  <a:pt x="11931" y="277324"/>
                </a:lnTo>
                <a:lnTo>
                  <a:pt x="13670" y="280132"/>
                </a:lnTo>
                <a:lnTo>
                  <a:pt x="15600" y="285791"/>
                </a:lnTo>
                <a:lnTo>
                  <a:pt x="18020" y="288635"/>
                </a:lnTo>
                <a:lnTo>
                  <a:pt x="28623" y="297186"/>
                </a:lnTo>
                <a:lnTo>
                  <a:pt x="30512" y="300041"/>
                </a:lnTo>
                <a:lnTo>
                  <a:pt x="33564" y="305753"/>
                </a:lnTo>
                <a:lnTo>
                  <a:pt x="38095" y="311467"/>
                </a:lnTo>
                <a:lnTo>
                  <a:pt x="54656" y="322895"/>
                </a:lnTo>
                <a:lnTo>
                  <a:pt x="61757" y="328610"/>
                </a:lnTo>
                <a:lnTo>
                  <a:pt x="71109" y="341733"/>
                </a:lnTo>
                <a:lnTo>
                  <a:pt x="79913" y="353136"/>
                </a:lnTo>
                <a:lnTo>
                  <a:pt x="91421" y="366475"/>
                </a:lnTo>
                <a:lnTo>
                  <a:pt x="97146" y="375919"/>
                </a:lnTo>
                <a:lnTo>
                  <a:pt x="105406" y="383926"/>
                </a:lnTo>
                <a:lnTo>
                  <a:pt x="125888" y="399806"/>
                </a:lnTo>
                <a:lnTo>
                  <a:pt x="135642" y="405655"/>
                </a:lnTo>
                <a:lnTo>
                  <a:pt x="139006" y="409501"/>
                </a:lnTo>
                <a:lnTo>
                  <a:pt x="141248" y="413970"/>
                </a:lnTo>
                <a:lnTo>
                  <a:pt x="144692" y="423063"/>
                </a:lnTo>
                <a:lnTo>
                  <a:pt x="149397" y="430279"/>
                </a:lnTo>
                <a:lnTo>
                  <a:pt x="151986" y="432584"/>
                </a:lnTo>
                <a:lnTo>
                  <a:pt x="154664" y="434122"/>
                </a:lnTo>
                <a:lnTo>
                  <a:pt x="157402" y="435146"/>
                </a:lnTo>
                <a:lnTo>
                  <a:pt x="159228" y="436781"/>
                </a:lnTo>
                <a:lnTo>
                  <a:pt x="160445" y="438824"/>
                </a:lnTo>
                <a:lnTo>
                  <a:pt x="162397" y="444396"/>
                </a:lnTo>
                <a:lnTo>
                  <a:pt x="171418" y="454306"/>
                </a:lnTo>
                <a:lnTo>
                  <a:pt x="171448" y="446956"/>
                </a:lnTo>
                <a:lnTo>
                  <a:pt x="165558" y="439158"/>
                </a:lnTo>
                <a:lnTo>
                  <a:pt x="164069" y="433940"/>
                </a:lnTo>
                <a:lnTo>
                  <a:pt x="163230" y="421096"/>
                </a:lnTo>
                <a:lnTo>
                  <a:pt x="162161" y="416938"/>
                </a:lnTo>
                <a:lnTo>
                  <a:pt x="156140" y="403419"/>
                </a:lnTo>
                <a:lnTo>
                  <a:pt x="154168" y="396466"/>
                </a:lnTo>
                <a:lnTo>
                  <a:pt x="150118" y="387026"/>
                </a:lnTo>
                <a:lnTo>
                  <a:pt x="147681" y="376480"/>
                </a:lnTo>
                <a:lnTo>
                  <a:pt x="146599" y="365443"/>
                </a:lnTo>
                <a:lnTo>
                  <a:pt x="146118" y="354188"/>
                </a:lnTo>
                <a:lnTo>
                  <a:pt x="143364" y="340295"/>
                </a:lnTo>
                <a:lnTo>
                  <a:pt x="141296" y="332590"/>
                </a:lnTo>
                <a:lnTo>
                  <a:pt x="138999" y="318949"/>
                </a:lnTo>
                <a:lnTo>
                  <a:pt x="137977" y="306536"/>
                </a:lnTo>
                <a:lnTo>
                  <a:pt x="137523" y="294670"/>
                </a:lnTo>
                <a:lnTo>
                  <a:pt x="134781" y="283045"/>
                </a:lnTo>
                <a:lnTo>
                  <a:pt x="130388" y="271529"/>
                </a:lnTo>
                <a:lnTo>
                  <a:pt x="125260" y="260061"/>
                </a:lnTo>
                <a:lnTo>
                  <a:pt x="122346" y="248613"/>
                </a:lnTo>
                <a:lnTo>
                  <a:pt x="121051" y="236224"/>
                </a:lnTo>
                <a:lnTo>
                  <a:pt x="120705" y="228919"/>
                </a:lnTo>
                <a:lnTo>
                  <a:pt x="120475" y="221192"/>
                </a:lnTo>
                <a:lnTo>
                  <a:pt x="117681" y="207526"/>
                </a:lnTo>
                <a:lnTo>
                  <a:pt x="114214" y="195102"/>
                </a:lnTo>
                <a:lnTo>
                  <a:pt x="112676" y="183231"/>
                </a:lnTo>
                <a:lnTo>
                  <a:pt x="111990" y="171604"/>
                </a:lnTo>
                <a:lnTo>
                  <a:pt x="111687" y="160087"/>
                </a:lnTo>
                <a:lnTo>
                  <a:pt x="111552" y="148618"/>
                </a:lnTo>
                <a:lnTo>
                  <a:pt x="108951" y="137171"/>
                </a:lnTo>
                <a:lnTo>
                  <a:pt x="105573" y="126686"/>
                </a:lnTo>
                <a:lnTo>
                  <a:pt x="103671" y="114476"/>
                </a:lnTo>
                <a:lnTo>
                  <a:pt x="103226" y="104534"/>
                </a:lnTo>
                <a:lnTo>
                  <a:pt x="102155" y="100169"/>
                </a:lnTo>
                <a:lnTo>
                  <a:pt x="96132" y="86319"/>
                </a:lnTo>
                <a:lnTo>
                  <a:pt x="94842" y="74787"/>
                </a:lnTo>
                <a:lnTo>
                  <a:pt x="94459" y="61845"/>
                </a:lnTo>
                <a:lnTo>
                  <a:pt x="94307" y="47491"/>
                </a:lnTo>
                <a:lnTo>
                  <a:pt x="95256" y="45947"/>
                </a:lnTo>
                <a:lnTo>
                  <a:pt x="96842" y="44918"/>
                </a:lnTo>
                <a:lnTo>
                  <a:pt x="98851" y="44232"/>
                </a:lnTo>
                <a:lnTo>
                  <a:pt x="103623" y="40930"/>
                </a:lnTo>
                <a:lnTo>
                  <a:pt x="106230" y="38716"/>
                </a:lnTo>
                <a:lnTo>
                  <a:pt x="108919" y="37240"/>
                </a:lnTo>
                <a:lnTo>
                  <a:pt x="114449" y="35600"/>
                </a:lnTo>
                <a:lnTo>
                  <a:pt x="131147" y="34460"/>
                </a:lnTo>
                <a:lnTo>
                  <a:pt x="223422" y="34288"/>
                </a:lnTo>
                <a:lnTo>
                  <a:pt x="240269" y="31748"/>
                </a:lnTo>
                <a:lnTo>
                  <a:pt x="257282" y="28396"/>
                </a:lnTo>
                <a:lnTo>
                  <a:pt x="274367" y="26907"/>
                </a:lnTo>
                <a:lnTo>
                  <a:pt x="283876" y="25557"/>
                </a:lnTo>
                <a:lnTo>
                  <a:pt x="294026" y="23705"/>
                </a:lnTo>
                <a:lnTo>
                  <a:pt x="304602" y="21517"/>
                </a:lnTo>
                <a:lnTo>
                  <a:pt x="314511" y="20059"/>
                </a:lnTo>
                <a:lnTo>
                  <a:pt x="333140" y="18439"/>
                </a:lnTo>
                <a:lnTo>
                  <a:pt x="343062" y="18007"/>
                </a:lnTo>
                <a:lnTo>
                  <a:pt x="364245" y="17527"/>
                </a:lnTo>
                <a:lnTo>
                  <a:pt x="374274" y="16446"/>
                </a:lnTo>
                <a:lnTo>
                  <a:pt x="393040" y="12705"/>
                </a:lnTo>
                <a:lnTo>
                  <a:pt x="402997" y="11327"/>
                </a:lnTo>
                <a:lnTo>
                  <a:pt x="413444" y="10408"/>
                </a:lnTo>
                <a:lnTo>
                  <a:pt x="424219" y="9796"/>
                </a:lnTo>
                <a:lnTo>
                  <a:pt x="443812" y="9115"/>
                </a:lnTo>
                <a:lnTo>
                  <a:pt x="462044" y="7860"/>
                </a:lnTo>
                <a:lnTo>
                  <a:pt x="479673" y="4127"/>
                </a:lnTo>
                <a:lnTo>
                  <a:pt x="497034" y="1833"/>
                </a:lnTo>
                <a:lnTo>
                  <a:pt x="514274" y="813"/>
                </a:lnTo>
                <a:lnTo>
                  <a:pt x="531461" y="360"/>
                </a:lnTo>
                <a:lnTo>
                  <a:pt x="575926" y="19"/>
                </a:lnTo>
                <a:lnTo>
                  <a:pt x="593814" y="0"/>
                </a:lnTo>
                <a:lnTo>
                  <a:pt x="596853" y="952"/>
                </a:lnTo>
                <a:lnTo>
                  <a:pt x="608628" y="8556"/>
                </a:lnTo>
                <a:lnTo>
                  <a:pt x="608634" y="8561"/>
                </a:lnTo>
                <a:lnTo>
                  <a:pt x="604092" y="13118"/>
                </a:lnTo>
                <a:lnTo>
                  <a:pt x="601801" y="14460"/>
                </a:lnTo>
                <a:lnTo>
                  <a:pt x="591502" y="17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MARTPenAnnotation756"/>
          <p:cNvSpPr/>
          <p:nvPr/>
        </p:nvSpPr>
        <p:spPr>
          <a:xfrm>
            <a:off x="8352000" y="3154320"/>
            <a:ext cx="241200" cy="273240"/>
          </a:xfrm>
          <a:custGeom>
            <a:avLst/>
            <a:gdLst>
              <a:gd name="textAreaLeft" fmla="*/ 0 w 241200"/>
              <a:gd name="textAreaRight" fmla="*/ 241560 w 2412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239913" h="272980">
                <a:moveTo>
                  <a:pt x="205740" y="0"/>
                </a:moveTo>
                <a:lnTo>
                  <a:pt x="138312" y="0"/>
                </a:lnTo>
                <a:lnTo>
                  <a:pt x="133166" y="952"/>
                </a:lnTo>
                <a:lnTo>
                  <a:pt x="127830" y="2540"/>
                </a:lnTo>
                <a:lnTo>
                  <a:pt x="122368" y="4551"/>
                </a:lnTo>
                <a:lnTo>
                  <a:pt x="116821" y="4938"/>
                </a:lnTo>
                <a:lnTo>
                  <a:pt x="111218" y="4245"/>
                </a:lnTo>
                <a:lnTo>
                  <a:pt x="105578" y="2830"/>
                </a:lnTo>
                <a:lnTo>
                  <a:pt x="100865" y="1886"/>
                </a:lnTo>
                <a:lnTo>
                  <a:pt x="96771" y="1257"/>
                </a:lnTo>
                <a:lnTo>
                  <a:pt x="93089" y="838"/>
                </a:lnTo>
                <a:lnTo>
                  <a:pt x="88729" y="559"/>
                </a:lnTo>
                <a:lnTo>
                  <a:pt x="83918" y="372"/>
                </a:lnTo>
                <a:lnTo>
                  <a:pt x="67059" y="73"/>
                </a:lnTo>
                <a:lnTo>
                  <a:pt x="21065" y="0"/>
                </a:lnTo>
                <a:lnTo>
                  <a:pt x="25481" y="0"/>
                </a:lnTo>
                <a:lnTo>
                  <a:pt x="21096" y="4551"/>
                </a:lnTo>
                <a:lnTo>
                  <a:pt x="19779" y="6844"/>
                </a:lnTo>
                <a:lnTo>
                  <a:pt x="18316" y="11931"/>
                </a:lnTo>
                <a:lnTo>
                  <a:pt x="17492" y="20151"/>
                </a:lnTo>
                <a:lnTo>
                  <a:pt x="17248" y="28619"/>
                </a:lnTo>
                <a:lnTo>
                  <a:pt x="17155" y="45724"/>
                </a:lnTo>
                <a:lnTo>
                  <a:pt x="19689" y="53976"/>
                </a:lnTo>
                <a:lnTo>
                  <a:pt x="21699" y="58844"/>
                </a:lnTo>
                <a:lnTo>
                  <a:pt x="22085" y="63042"/>
                </a:lnTo>
                <a:lnTo>
                  <a:pt x="21392" y="66793"/>
                </a:lnTo>
                <a:lnTo>
                  <a:pt x="19033" y="73501"/>
                </a:lnTo>
                <a:lnTo>
                  <a:pt x="17984" y="79656"/>
                </a:lnTo>
                <a:lnTo>
                  <a:pt x="17517" y="85568"/>
                </a:lnTo>
                <a:lnTo>
                  <a:pt x="17310" y="91370"/>
                </a:lnTo>
                <a:lnTo>
                  <a:pt x="17178" y="102856"/>
                </a:lnTo>
                <a:lnTo>
                  <a:pt x="17145" y="128190"/>
                </a:lnTo>
                <a:lnTo>
                  <a:pt x="21696" y="133020"/>
                </a:lnTo>
                <a:lnTo>
                  <a:pt x="23989" y="134400"/>
                </a:lnTo>
                <a:lnTo>
                  <a:pt x="30815" y="136342"/>
                </a:lnTo>
                <a:lnTo>
                  <a:pt x="32745" y="136796"/>
                </a:lnTo>
                <a:lnTo>
                  <a:pt x="33261" y="135965"/>
                </a:lnTo>
                <a:lnTo>
                  <a:pt x="33833" y="132501"/>
                </a:lnTo>
                <a:lnTo>
                  <a:pt x="34938" y="131196"/>
                </a:lnTo>
                <a:lnTo>
                  <a:pt x="36627" y="130327"/>
                </a:lnTo>
                <a:lnTo>
                  <a:pt x="38705" y="129747"/>
                </a:lnTo>
                <a:lnTo>
                  <a:pt x="46095" y="129102"/>
                </a:lnTo>
                <a:lnTo>
                  <a:pt x="55730" y="128816"/>
                </a:lnTo>
                <a:lnTo>
                  <a:pt x="66362" y="128689"/>
                </a:lnTo>
                <a:lnTo>
                  <a:pt x="70910" y="127702"/>
                </a:lnTo>
                <a:lnTo>
                  <a:pt x="74896" y="126093"/>
                </a:lnTo>
                <a:lnTo>
                  <a:pt x="78507" y="124066"/>
                </a:lnTo>
                <a:lnTo>
                  <a:pt x="82818" y="122716"/>
                </a:lnTo>
                <a:lnTo>
                  <a:pt x="87597" y="121816"/>
                </a:lnTo>
                <a:lnTo>
                  <a:pt x="92688" y="121215"/>
                </a:lnTo>
                <a:lnTo>
                  <a:pt x="97988" y="120815"/>
                </a:lnTo>
                <a:lnTo>
                  <a:pt x="103425" y="120548"/>
                </a:lnTo>
                <a:lnTo>
                  <a:pt x="114546" y="120252"/>
                </a:lnTo>
                <a:lnTo>
                  <a:pt x="147458" y="120046"/>
                </a:lnTo>
                <a:lnTo>
                  <a:pt x="154503" y="120988"/>
                </a:lnTo>
                <a:lnTo>
                  <a:pt x="161105" y="122568"/>
                </a:lnTo>
                <a:lnTo>
                  <a:pt x="167411" y="124575"/>
                </a:lnTo>
                <a:lnTo>
                  <a:pt x="172568" y="125912"/>
                </a:lnTo>
                <a:lnTo>
                  <a:pt x="176957" y="126804"/>
                </a:lnTo>
                <a:lnTo>
                  <a:pt x="180837" y="127398"/>
                </a:lnTo>
                <a:lnTo>
                  <a:pt x="185328" y="128747"/>
                </a:lnTo>
                <a:lnTo>
                  <a:pt x="190228" y="130599"/>
                </a:lnTo>
                <a:lnTo>
                  <a:pt x="195398" y="132786"/>
                </a:lnTo>
                <a:lnTo>
                  <a:pt x="199797" y="135196"/>
                </a:lnTo>
                <a:lnTo>
                  <a:pt x="207227" y="140414"/>
                </a:lnTo>
                <a:lnTo>
                  <a:pt x="213704" y="145909"/>
                </a:lnTo>
                <a:lnTo>
                  <a:pt x="219757" y="151526"/>
                </a:lnTo>
                <a:lnTo>
                  <a:pt x="225623" y="157197"/>
                </a:lnTo>
                <a:lnTo>
                  <a:pt x="227568" y="160043"/>
                </a:lnTo>
                <a:lnTo>
                  <a:pt x="229728" y="165745"/>
                </a:lnTo>
                <a:lnTo>
                  <a:pt x="233229" y="171454"/>
                </a:lnTo>
                <a:lnTo>
                  <a:pt x="235497" y="174310"/>
                </a:lnTo>
                <a:lnTo>
                  <a:pt x="237008" y="178119"/>
                </a:lnTo>
                <a:lnTo>
                  <a:pt x="238016" y="182563"/>
                </a:lnTo>
                <a:lnTo>
                  <a:pt x="238688" y="187431"/>
                </a:lnTo>
                <a:lnTo>
                  <a:pt x="239433" y="195380"/>
                </a:lnTo>
                <a:lnTo>
                  <a:pt x="239764" y="203041"/>
                </a:lnTo>
                <a:lnTo>
                  <a:pt x="239912" y="212795"/>
                </a:lnTo>
                <a:lnTo>
                  <a:pt x="238047" y="217111"/>
                </a:lnTo>
                <a:lnTo>
                  <a:pt x="234898" y="220940"/>
                </a:lnTo>
                <a:lnTo>
                  <a:pt x="230894" y="224446"/>
                </a:lnTo>
                <a:lnTo>
                  <a:pt x="223904" y="230881"/>
                </a:lnTo>
                <a:lnTo>
                  <a:pt x="216670" y="236916"/>
                </a:lnTo>
                <a:lnTo>
                  <a:pt x="212075" y="239859"/>
                </a:lnTo>
                <a:lnTo>
                  <a:pt x="207106" y="242773"/>
                </a:lnTo>
                <a:lnTo>
                  <a:pt x="201888" y="245669"/>
                </a:lnTo>
                <a:lnTo>
                  <a:pt x="191010" y="251426"/>
                </a:lnTo>
                <a:lnTo>
                  <a:pt x="174177" y="260022"/>
                </a:lnTo>
                <a:lnTo>
                  <a:pt x="168505" y="261930"/>
                </a:lnTo>
                <a:lnTo>
                  <a:pt x="162820" y="263203"/>
                </a:lnTo>
                <a:lnTo>
                  <a:pt x="157124" y="264051"/>
                </a:lnTo>
                <a:lnTo>
                  <a:pt x="151422" y="265568"/>
                </a:lnTo>
                <a:lnTo>
                  <a:pt x="145716" y="267533"/>
                </a:lnTo>
                <a:lnTo>
                  <a:pt x="140006" y="269795"/>
                </a:lnTo>
                <a:lnTo>
                  <a:pt x="134295" y="271303"/>
                </a:lnTo>
                <a:lnTo>
                  <a:pt x="128583" y="272309"/>
                </a:lnTo>
                <a:lnTo>
                  <a:pt x="122870" y="272979"/>
                </a:lnTo>
                <a:lnTo>
                  <a:pt x="116203" y="272473"/>
                </a:lnTo>
                <a:lnTo>
                  <a:pt x="108902" y="271184"/>
                </a:lnTo>
                <a:lnTo>
                  <a:pt x="101176" y="269371"/>
                </a:lnTo>
                <a:lnTo>
                  <a:pt x="94120" y="268163"/>
                </a:lnTo>
                <a:lnTo>
                  <a:pt x="87512" y="267358"/>
                </a:lnTo>
                <a:lnTo>
                  <a:pt x="81201" y="266821"/>
                </a:lnTo>
                <a:lnTo>
                  <a:pt x="76042" y="266463"/>
                </a:lnTo>
                <a:lnTo>
                  <a:pt x="67769" y="266065"/>
                </a:lnTo>
                <a:lnTo>
                  <a:pt x="63277" y="265007"/>
                </a:lnTo>
                <a:lnTo>
                  <a:pt x="58377" y="263348"/>
                </a:lnTo>
                <a:lnTo>
                  <a:pt x="53206" y="261290"/>
                </a:lnTo>
                <a:lnTo>
                  <a:pt x="48805" y="258966"/>
                </a:lnTo>
                <a:lnTo>
                  <a:pt x="41376" y="253843"/>
                </a:lnTo>
                <a:lnTo>
                  <a:pt x="34899" y="250931"/>
                </a:lnTo>
                <a:lnTo>
                  <a:pt x="31839" y="250155"/>
                </a:lnTo>
                <a:lnTo>
                  <a:pt x="25898" y="246752"/>
                </a:lnTo>
                <a:lnTo>
                  <a:pt x="22980" y="244511"/>
                </a:lnTo>
                <a:lnTo>
                  <a:pt x="17199" y="242021"/>
                </a:lnTo>
                <a:lnTo>
                  <a:pt x="11454" y="240915"/>
                </a:lnTo>
                <a:lnTo>
                  <a:pt x="5725" y="240423"/>
                </a:lnTo>
                <a:lnTo>
                  <a:pt x="3817" y="239339"/>
                </a:lnTo>
                <a:lnTo>
                  <a:pt x="2545" y="237665"/>
                </a:lnTo>
                <a:lnTo>
                  <a:pt x="0" y="2314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MARTPenAnnotation757"/>
          <p:cNvSpPr/>
          <p:nvPr/>
        </p:nvSpPr>
        <p:spPr>
          <a:xfrm>
            <a:off x="6458040" y="3807000"/>
            <a:ext cx="222120" cy="25200"/>
          </a:xfrm>
          <a:custGeom>
            <a:avLst/>
            <a:gdLst>
              <a:gd name="textAreaLeft" fmla="*/ 0 w 222120"/>
              <a:gd name="textAreaRight" fmla="*/ 222480 w 2221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22885" h="25718">
                <a:moveTo>
                  <a:pt x="0" y="0"/>
                </a:moveTo>
                <a:lnTo>
                  <a:pt x="7380" y="0"/>
                </a:lnTo>
                <a:lnTo>
                  <a:pt x="7778" y="952"/>
                </a:lnTo>
                <a:lnTo>
                  <a:pt x="8042" y="2539"/>
                </a:lnTo>
                <a:lnTo>
                  <a:pt x="8467" y="7381"/>
                </a:lnTo>
                <a:lnTo>
                  <a:pt x="9455" y="7778"/>
                </a:lnTo>
                <a:lnTo>
                  <a:pt x="15944" y="8467"/>
                </a:lnTo>
                <a:lnTo>
                  <a:pt x="21340" y="8541"/>
                </a:lnTo>
                <a:lnTo>
                  <a:pt x="121318" y="8572"/>
                </a:lnTo>
                <a:lnTo>
                  <a:pt x="125647" y="9525"/>
                </a:lnTo>
                <a:lnTo>
                  <a:pt x="130436" y="11112"/>
                </a:lnTo>
                <a:lnTo>
                  <a:pt x="135535" y="13123"/>
                </a:lnTo>
                <a:lnTo>
                  <a:pt x="139886" y="14464"/>
                </a:lnTo>
                <a:lnTo>
                  <a:pt x="143740" y="15357"/>
                </a:lnTo>
                <a:lnTo>
                  <a:pt x="147261" y="15953"/>
                </a:lnTo>
                <a:lnTo>
                  <a:pt x="151514" y="16350"/>
                </a:lnTo>
                <a:lnTo>
                  <a:pt x="156254" y="16615"/>
                </a:lnTo>
                <a:lnTo>
                  <a:pt x="168448" y="17040"/>
                </a:lnTo>
                <a:lnTo>
                  <a:pt x="185948" y="17135"/>
                </a:lnTo>
                <a:lnTo>
                  <a:pt x="187783" y="18091"/>
                </a:lnTo>
                <a:lnTo>
                  <a:pt x="189958" y="19681"/>
                </a:lnTo>
                <a:lnTo>
                  <a:pt x="192361" y="21693"/>
                </a:lnTo>
                <a:lnTo>
                  <a:pt x="194916" y="23034"/>
                </a:lnTo>
                <a:lnTo>
                  <a:pt x="197571" y="23928"/>
                </a:lnTo>
                <a:lnTo>
                  <a:pt x="204126" y="25364"/>
                </a:lnTo>
                <a:lnTo>
                  <a:pt x="209812" y="25612"/>
                </a:lnTo>
                <a:lnTo>
                  <a:pt x="216676" y="25713"/>
                </a:lnTo>
                <a:lnTo>
                  <a:pt x="222884" y="257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MARTPenAnnotation758"/>
          <p:cNvSpPr/>
          <p:nvPr/>
        </p:nvSpPr>
        <p:spPr>
          <a:xfrm>
            <a:off x="6700680" y="3678120"/>
            <a:ext cx="331920" cy="358920"/>
          </a:xfrm>
          <a:custGeom>
            <a:avLst/>
            <a:gdLst>
              <a:gd name="textAreaLeft" fmla="*/ 0 w 331920"/>
              <a:gd name="textAreaRight" fmla="*/ 332280 w 3319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330695" h="360043">
                <a:moveTo>
                  <a:pt x="4939" y="51432"/>
                </a:moveTo>
                <a:lnTo>
                  <a:pt x="388" y="51432"/>
                </a:lnTo>
                <a:lnTo>
                  <a:pt x="0" y="50479"/>
                </a:lnTo>
                <a:lnTo>
                  <a:pt x="694" y="48892"/>
                </a:lnTo>
                <a:lnTo>
                  <a:pt x="4690" y="43212"/>
                </a:lnTo>
                <a:lnTo>
                  <a:pt x="9416" y="38413"/>
                </a:lnTo>
                <a:lnTo>
                  <a:pt x="10781" y="36085"/>
                </a:lnTo>
                <a:lnTo>
                  <a:pt x="12298" y="30959"/>
                </a:lnTo>
                <a:lnTo>
                  <a:pt x="13656" y="29211"/>
                </a:lnTo>
                <a:lnTo>
                  <a:pt x="15512" y="28045"/>
                </a:lnTo>
                <a:lnTo>
                  <a:pt x="25217" y="23865"/>
                </a:lnTo>
                <a:lnTo>
                  <a:pt x="29887" y="21624"/>
                </a:lnTo>
                <a:lnTo>
                  <a:pt x="40157" y="19134"/>
                </a:lnTo>
                <a:lnTo>
                  <a:pt x="45563" y="18470"/>
                </a:lnTo>
                <a:lnTo>
                  <a:pt x="49167" y="17075"/>
                </a:lnTo>
                <a:lnTo>
                  <a:pt x="51569" y="15192"/>
                </a:lnTo>
                <a:lnTo>
                  <a:pt x="53171" y="12985"/>
                </a:lnTo>
                <a:lnTo>
                  <a:pt x="56144" y="11513"/>
                </a:lnTo>
                <a:lnTo>
                  <a:pt x="64527" y="9878"/>
                </a:lnTo>
                <a:lnTo>
                  <a:pt x="72062" y="6611"/>
                </a:lnTo>
                <a:lnTo>
                  <a:pt x="75405" y="4407"/>
                </a:lnTo>
                <a:lnTo>
                  <a:pt x="84200" y="1957"/>
                </a:lnTo>
                <a:lnTo>
                  <a:pt x="94458" y="868"/>
                </a:lnTo>
                <a:lnTo>
                  <a:pt x="99861" y="578"/>
                </a:lnTo>
                <a:lnTo>
                  <a:pt x="114026" y="169"/>
                </a:lnTo>
                <a:lnTo>
                  <a:pt x="140105" y="12"/>
                </a:lnTo>
                <a:lnTo>
                  <a:pt x="153136" y="0"/>
                </a:lnTo>
                <a:lnTo>
                  <a:pt x="156124" y="951"/>
                </a:lnTo>
                <a:lnTo>
                  <a:pt x="164881" y="5889"/>
                </a:lnTo>
                <a:lnTo>
                  <a:pt x="174461" y="8728"/>
                </a:lnTo>
                <a:lnTo>
                  <a:pt x="183787" y="12767"/>
                </a:lnTo>
                <a:lnTo>
                  <a:pt x="191742" y="15198"/>
                </a:lnTo>
                <a:lnTo>
                  <a:pt x="195197" y="15846"/>
                </a:lnTo>
                <a:lnTo>
                  <a:pt x="201576" y="19106"/>
                </a:lnTo>
                <a:lnTo>
                  <a:pt x="210521" y="26296"/>
                </a:lnTo>
                <a:lnTo>
                  <a:pt x="213432" y="28960"/>
                </a:lnTo>
                <a:lnTo>
                  <a:pt x="215372" y="31688"/>
                </a:lnTo>
                <a:lnTo>
                  <a:pt x="219054" y="40079"/>
                </a:lnTo>
                <a:lnTo>
                  <a:pt x="225755" y="48597"/>
                </a:lnTo>
                <a:lnTo>
                  <a:pt x="231032" y="54300"/>
                </a:lnTo>
                <a:lnTo>
                  <a:pt x="232821" y="57154"/>
                </a:lnTo>
                <a:lnTo>
                  <a:pt x="234807" y="62865"/>
                </a:lnTo>
                <a:lnTo>
                  <a:pt x="235690" y="71118"/>
                </a:lnTo>
                <a:lnTo>
                  <a:pt x="235926" y="75986"/>
                </a:lnTo>
                <a:lnTo>
                  <a:pt x="237035" y="80184"/>
                </a:lnTo>
                <a:lnTo>
                  <a:pt x="242195" y="90643"/>
                </a:lnTo>
                <a:lnTo>
                  <a:pt x="243736" y="96799"/>
                </a:lnTo>
                <a:lnTo>
                  <a:pt x="244421" y="105250"/>
                </a:lnTo>
                <a:lnTo>
                  <a:pt x="244726" y="114404"/>
                </a:lnTo>
                <a:lnTo>
                  <a:pt x="244861" y="121647"/>
                </a:lnTo>
                <a:lnTo>
                  <a:pt x="242381" y="130581"/>
                </a:lnTo>
                <a:lnTo>
                  <a:pt x="239057" y="139949"/>
                </a:lnTo>
                <a:lnTo>
                  <a:pt x="237578" y="147288"/>
                </a:lnTo>
                <a:lnTo>
                  <a:pt x="234382" y="156265"/>
                </a:lnTo>
                <a:lnTo>
                  <a:pt x="229786" y="165652"/>
                </a:lnTo>
                <a:lnTo>
                  <a:pt x="224568" y="172999"/>
                </a:lnTo>
                <a:lnTo>
                  <a:pt x="222796" y="177244"/>
                </a:lnTo>
                <a:lnTo>
                  <a:pt x="220828" y="187041"/>
                </a:lnTo>
                <a:lnTo>
                  <a:pt x="218397" y="191368"/>
                </a:lnTo>
                <a:lnTo>
                  <a:pt x="210617" y="198716"/>
                </a:lnTo>
                <a:lnTo>
                  <a:pt x="203350" y="207696"/>
                </a:lnTo>
                <a:lnTo>
                  <a:pt x="196944" y="217085"/>
                </a:lnTo>
                <a:lnTo>
                  <a:pt x="190922" y="224433"/>
                </a:lnTo>
                <a:lnTo>
                  <a:pt x="185071" y="233414"/>
                </a:lnTo>
                <a:lnTo>
                  <a:pt x="182177" y="238476"/>
                </a:lnTo>
                <a:lnTo>
                  <a:pt x="173882" y="246640"/>
                </a:lnTo>
                <a:lnTo>
                  <a:pt x="164797" y="253444"/>
                </a:lnTo>
                <a:lnTo>
                  <a:pt x="157585" y="259643"/>
                </a:lnTo>
                <a:lnTo>
                  <a:pt x="148169" y="268487"/>
                </a:lnTo>
                <a:lnTo>
                  <a:pt x="139347" y="277140"/>
                </a:lnTo>
                <a:lnTo>
                  <a:pt x="136454" y="279057"/>
                </a:lnTo>
                <a:lnTo>
                  <a:pt x="127832" y="282706"/>
                </a:lnTo>
                <a:lnTo>
                  <a:pt x="119245" y="288445"/>
                </a:lnTo>
                <a:lnTo>
                  <a:pt x="113527" y="290121"/>
                </a:lnTo>
                <a:lnTo>
                  <a:pt x="104952" y="291065"/>
                </a:lnTo>
                <a:lnTo>
                  <a:pt x="96697" y="291286"/>
                </a:lnTo>
                <a:lnTo>
                  <a:pt x="73844" y="291452"/>
                </a:lnTo>
                <a:lnTo>
                  <a:pt x="70879" y="290503"/>
                </a:lnTo>
                <a:lnTo>
                  <a:pt x="68902" y="288918"/>
                </a:lnTo>
                <a:lnTo>
                  <a:pt x="67583" y="286908"/>
                </a:lnTo>
                <a:lnTo>
                  <a:pt x="65752" y="285569"/>
                </a:lnTo>
                <a:lnTo>
                  <a:pt x="58623" y="282731"/>
                </a:lnTo>
                <a:lnTo>
                  <a:pt x="49415" y="275613"/>
                </a:lnTo>
                <a:lnTo>
                  <a:pt x="48878" y="274229"/>
                </a:lnTo>
                <a:lnTo>
                  <a:pt x="47944" y="267050"/>
                </a:lnTo>
                <a:lnTo>
                  <a:pt x="47810" y="257090"/>
                </a:lnTo>
                <a:lnTo>
                  <a:pt x="47802" y="249906"/>
                </a:lnTo>
                <a:lnTo>
                  <a:pt x="52353" y="244436"/>
                </a:lnTo>
                <a:lnTo>
                  <a:pt x="59667" y="239446"/>
                </a:lnTo>
                <a:lnTo>
                  <a:pt x="68315" y="235007"/>
                </a:lnTo>
                <a:lnTo>
                  <a:pt x="75334" y="233033"/>
                </a:lnTo>
                <a:lnTo>
                  <a:pt x="84168" y="232156"/>
                </a:lnTo>
                <a:lnTo>
                  <a:pt x="89191" y="231923"/>
                </a:lnTo>
                <a:lnTo>
                  <a:pt x="93492" y="230814"/>
                </a:lnTo>
                <a:lnTo>
                  <a:pt x="100811" y="227043"/>
                </a:lnTo>
                <a:lnTo>
                  <a:pt x="109779" y="224731"/>
                </a:lnTo>
                <a:lnTo>
                  <a:pt x="114837" y="224115"/>
                </a:lnTo>
                <a:lnTo>
                  <a:pt x="120115" y="223704"/>
                </a:lnTo>
                <a:lnTo>
                  <a:pt x="125538" y="223430"/>
                </a:lnTo>
                <a:lnTo>
                  <a:pt x="136644" y="223126"/>
                </a:lnTo>
                <a:lnTo>
                  <a:pt x="147930" y="222991"/>
                </a:lnTo>
                <a:lnTo>
                  <a:pt x="153606" y="223907"/>
                </a:lnTo>
                <a:lnTo>
                  <a:pt x="159296" y="225470"/>
                </a:lnTo>
                <a:lnTo>
                  <a:pt x="164993" y="227465"/>
                </a:lnTo>
                <a:lnTo>
                  <a:pt x="170696" y="228795"/>
                </a:lnTo>
                <a:lnTo>
                  <a:pt x="176404" y="229682"/>
                </a:lnTo>
                <a:lnTo>
                  <a:pt x="182114" y="230273"/>
                </a:lnTo>
                <a:lnTo>
                  <a:pt x="190998" y="233469"/>
                </a:lnTo>
                <a:lnTo>
                  <a:pt x="199075" y="238065"/>
                </a:lnTo>
                <a:lnTo>
                  <a:pt x="209014" y="243283"/>
                </a:lnTo>
                <a:lnTo>
                  <a:pt x="242216" y="260065"/>
                </a:lnTo>
                <a:lnTo>
                  <a:pt x="251048" y="265760"/>
                </a:lnTo>
                <a:lnTo>
                  <a:pt x="254736" y="268613"/>
                </a:lnTo>
                <a:lnTo>
                  <a:pt x="261375" y="276862"/>
                </a:lnTo>
                <a:lnTo>
                  <a:pt x="267501" y="285925"/>
                </a:lnTo>
                <a:lnTo>
                  <a:pt x="273399" y="293129"/>
                </a:lnTo>
                <a:lnTo>
                  <a:pt x="281735" y="302046"/>
                </a:lnTo>
                <a:lnTo>
                  <a:pt x="289884" y="311406"/>
                </a:lnTo>
                <a:lnTo>
                  <a:pt x="295425" y="322031"/>
                </a:lnTo>
                <a:lnTo>
                  <a:pt x="302675" y="331211"/>
                </a:lnTo>
                <a:lnTo>
                  <a:pt x="311929" y="341170"/>
                </a:lnTo>
                <a:lnTo>
                  <a:pt x="317620" y="346936"/>
                </a:lnTo>
                <a:lnTo>
                  <a:pt x="320073" y="348448"/>
                </a:lnTo>
                <a:lnTo>
                  <a:pt x="329107" y="351072"/>
                </a:lnTo>
                <a:lnTo>
                  <a:pt x="329636" y="352157"/>
                </a:lnTo>
                <a:lnTo>
                  <a:pt x="330694" y="3600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MARTPenAnnotation759"/>
          <p:cNvSpPr/>
          <p:nvPr/>
        </p:nvSpPr>
        <p:spPr>
          <a:xfrm>
            <a:off x="7486560" y="3814920"/>
            <a:ext cx="282600" cy="17280"/>
          </a:xfrm>
          <a:custGeom>
            <a:avLst/>
            <a:gdLst>
              <a:gd name="textAreaLeft" fmla="*/ 0 w 282600"/>
              <a:gd name="textAreaRight" fmla="*/ 282960 w 2826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82893" h="17041">
                <a:moveTo>
                  <a:pt x="0" y="0"/>
                </a:moveTo>
                <a:lnTo>
                  <a:pt x="4550" y="0"/>
                </a:lnTo>
                <a:lnTo>
                  <a:pt x="5891" y="953"/>
                </a:lnTo>
                <a:lnTo>
                  <a:pt x="6784" y="2540"/>
                </a:lnTo>
                <a:lnTo>
                  <a:pt x="7380" y="4551"/>
                </a:lnTo>
                <a:lnTo>
                  <a:pt x="8731" y="5892"/>
                </a:lnTo>
                <a:lnTo>
                  <a:pt x="10583" y="6785"/>
                </a:lnTo>
                <a:lnTo>
                  <a:pt x="12770" y="7381"/>
                </a:lnTo>
                <a:lnTo>
                  <a:pt x="15181" y="7778"/>
                </a:lnTo>
                <a:lnTo>
                  <a:pt x="20400" y="8220"/>
                </a:lnTo>
                <a:lnTo>
                  <a:pt x="28692" y="8468"/>
                </a:lnTo>
                <a:lnTo>
                  <a:pt x="31511" y="9455"/>
                </a:lnTo>
                <a:lnTo>
                  <a:pt x="34342" y="11066"/>
                </a:lnTo>
                <a:lnTo>
                  <a:pt x="37182" y="13093"/>
                </a:lnTo>
                <a:lnTo>
                  <a:pt x="40980" y="14443"/>
                </a:lnTo>
                <a:lnTo>
                  <a:pt x="45418" y="15344"/>
                </a:lnTo>
                <a:lnTo>
                  <a:pt x="50280" y="15944"/>
                </a:lnTo>
                <a:lnTo>
                  <a:pt x="54475" y="16344"/>
                </a:lnTo>
                <a:lnTo>
                  <a:pt x="61676" y="16789"/>
                </a:lnTo>
                <a:lnTo>
                  <a:pt x="70591" y="16987"/>
                </a:lnTo>
                <a:lnTo>
                  <a:pt x="75636" y="17040"/>
                </a:lnTo>
                <a:lnTo>
                  <a:pt x="80904" y="16122"/>
                </a:lnTo>
                <a:lnTo>
                  <a:pt x="86321" y="14558"/>
                </a:lnTo>
                <a:lnTo>
                  <a:pt x="91837" y="12563"/>
                </a:lnTo>
                <a:lnTo>
                  <a:pt x="98372" y="11233"/>
                </a:lnTo>
                <a:lnTo>
                  <a:pt x="105586" y="10346"/>
                </a:lnTo>
                <a:lnTo>
                  <a:pt x="113253" y="9755"/>
                </a:lnTo>
                <a:lnTo>
                  <a:pt x="120270" y="9361"/>
                </a:lnTo>
                <a:lnTo>
                  <a:pt x="133146" y="8923"/>
                </a:lnTo>
                <a:lnTo>
                  <a:pt x="156934" y="8642"/>
                </a:lnTo>
                <a:lnTo>
                  <a:pt x="168490" y="8603"/>
                </a:lnTo>
                <a:lnTo>
                  <a:pt x="175192" y="7641"/>
                </a:lnTo>
                <a:lnTo>
                  <a:pt x="182517" y="6047"/>
                </a:lnTo>
                <a:lnTo>
                  <a:pt x="190258" y="4031"/>
                </a:lnTo>
                <a:lnTo>
                  <a:pt x="196370" y="2687"/>
                </a:lnTo>
                <a:lnTo>
                  <a:pt x="201399" y="1792"/>
                </a:lnTo>
                <a:lnTo>
                  <a:pt x="205703" y="1195"/>
                </a:lnTo>
                <a:lnTo>
                  <a:pt x="210478" y="796"/>
                </a:lnTo>
                <a:lnTo>
                  <a:pt x="215565" y="531"/>
                </a:lnTo>
                <a:lnTo>
                  <a:pt x="229289" y="158"/>
                </a:lnTo>
                <a:lnTo>
                  <a:pt x="242458" y="31"/>
                </a:lnTo>
                <a:lnTo>
                  <a:pt x="245459" y="973"/>
                </a:lnTo>
                <a:lnTo>
                  <a:pt x="248411" y="2554"/>
                </a:lnTo>
                <a:lnTo>
                  <a:pt x="251332" y="4560"/>
                </a:lnTo>
                <a:lnTo>
                  <a:pt x="254233" y="5898"/>
                </a:lnTo>
                <a:lnTo>
                  <a:pt x="257118" y="6790"/>
                </a:lnTo>
                <a:lnTo>
                  <a:pt x="259994" y="7384"/>
                </a:lnTo>
                <a:lnTo>
                  <a:pt x="262865" y="7780"/>
                </a:lnTo>
                <a:lnTo>
                  <a:pt x="268593" y="8220"/>
                </a:lnTo>
                <a:lnTo>
                  <a:pt x="277174" y="8468"/>
                </a:lnTo>
                <a:lnTo>
                  <a:pt x="282892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MARTPenAnnotation760"/>
          <p:cNvSpPr/>
          <p:nvPr/>
        </p:nvSpPr>
        <p:spPr>
          <a:xfrm>
            <a:off x="7846920" y="3668760"/>
            <a:ext cx="351000" cy="291960"/>
          </a:xfrm>
          <a:custGeom>
            <a:avLst/>
            <a:gdLst>
              <a:gd name="textAreaLeft" fmla="*/ 0 w 351000"/>
              <a:gd name="textAreaRight" fmla="*/ 351360 w 3510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351474" h="291432">
                <a:moveTo>
                  <a:pt x="0" y="42828"/>
                </a:moveTo>
                <a:lnTo>
                  <a:pt x="4552" y="38277"/>
                </a:lnTo>
                <a:lnTo>
                  <a:pt x="5892" y="35984"/>
                </a:lnTo>
                <a:lnTo>
                  <a:pt x="7382" y="30896"/>
                </a:lnTo>
                <a:lnTo>
                  <a:pt x="8731" y="29159"/>
                </a:lnTo>
                <a:lnTo>
                  <a:pt x="10584" y="28000"/>
                </a:lnTo>
                <a:lnTo>
                  <a:pt x="12772" y="27228"/>
                </a:lnTo>
                <a:lnTo>
                  <a:pt x="17742" y="23829"/>
                </a:lnTo>
                <a:lnTo>
                  <a:pt x="20401" y="21590"/>
                </a:lnTo>
                <a:lnTo>
                  <a:pt x="23126" y="20097"/>
                </a:lnTo>
                <a:lnTo>
                  <a:pt x="32464" y="17043"/>
                </a:lnTo>
                <a:lnTo>
                  <a:pt x="41734" y="12953"/>
                </a:lnTo>
                <a:lnTo>
                  <a:pt x="52204" y="10500"/>
                </a:lnTo>
                <a:lnTo>
                  <a:pt x="57663" y="9846"/>
                </a:lnTo>
                <a:lnTo>
                  <a:pt x="66268" y="6580"/>
                </a:lnTo>
                <a:lnTo>
                  <a:pt x="73268" y="2905"/>
                </a:lnTo>
                <a:lnTo>
                  <a:pt x="79553" y="1272"/>
                </a:lnTo>
                <a:lnTo>
                  <a:pt x="88062" y="546"/>
                </a:lnTo>
                <a:lnTo>
                  <a:pt x="97242" y="224"/>
                </a:lnTo>
                <a:lnTo>
                  <a:pt x="107765" y="42"/>
                </a:lnTo>
                <a:lnTo>
                  <a:pt x="113936" y="0"/>
                </a:lnTo>
                <a:lnTo>
                  <a:pt x="116915" y="941"/>
                </a:lnTo>
                <a:lnTo>
                  <a:pt x="122766" y="4526"/>
                </a:lnTo>
                <a:lnTo>
                  <a:pt x="131081" y="6755"/>
                </a:lnTo>
                <a:lnTo>
                  <a:pt x="140173" y="7746"/>
                </a:lnTo>
                <a:lnTo>
                  <a:pt x="147390" y="8186"/>
                </a:lnTo>
                <a:lnTo>
                  <a:pt x="150647" y="9256"/>
                </a:lnTo>
                <a:lnTo>
                  <a:pt x="156808" y="12985"/>
                </a:lnTo>
                <a:lnTo>
                  <a:pt x="165630" y="20439"/>
                </a:lnTo>
                <a:lnTo>
                  <a:pt x="169475" y="22187"/>
                </a:lnTo>
                <a:lnTo>
                  <a:pt x="178828" y="24129"/>
                </a:lnTo>
                <a:lnTo>
                  <a:pt x="186794" y="27532"/>
                </a:lnTo>
                <a:lnTo>
                  <a:pt x="190252" y="29774"/>
                </a:lnTo>
                <a:lnTo>
                  <a:pt x="192557" y="32220"/>
                </a:lnTo>
                <a:lnTo>
                  <a:pt x="194095" y="34804"/>
                </a:lnTo>
                <a:lnTo>
                  <a:pt x="196755" y="41166"/>
                </a:lnTo>
                <a:lnTo>
                  <a:pt x="201111" y="50345"/>
                </a:lnTo>
                <a:lnTo>
                  <a:pt x="203683" y="58234"/>
                </a:lnTo>
                <a:lnTo>
                  <a:pt x="204826" y="65868"/>
                </a:lnTo>
                <a:lnTo>
                  <a:pt x="205132" y="70570"/>
                </a:lnTo>
                <a:lnTo>
                  <a:pt x="205470" y="79923"/>
                </a:lnTo>
                <a:lnTo>
                  <a:pt x="205620" y="87255"/>
                </a:lnTo>
                <a:lnTo>
                  <a:pt x="203147" y="96228"/>
                </a:lnTo>
                <a:lnTo>
                  <a:pt x="201154" y="101288"/>
                </a:lnTo>
                <a:lnTo>
                  <a:pt x="198940" y="109451"/>
                </a:lnTo>
                <a:lnTo>
                  <a:pt x="197003" y="117206"/>
                </a:lnTo>
                <a:lnTo>
                  <a:pt x="195153" y="121941"/>
                </a:lnTo>
                <a:lnTo>
                  <a:pt x="192967" y="127002"/>
                </a:lnTo>
                <a:lnTo>
                  <a:pt x="187999" y="137706"/>
                </a:lnTo>
                <a:lnTo>
                  <a:pt x="185340" y="143228"/>
                </a:lnTo>
                <a:lnTo>
                  <a:pt x="181663" y="148814"/>
                </a:lnTo>
                <a:lnTo>
                  <a:pt x="177306" y="154443"/>
                </a:lnTo>
                <a:lnTo>
                  <a:pt x="172497" y="160100"/>
                </a:lnTo>
                <a:lnTo>
                  <a:pt x="167385" y="165777"/>
                </a:lnTo>
                <a:lnTo>
                  <a:pt x="156626" y="177165"/>
                </a:lnTo>
                <a:lnTo>
                  <a:pt x="151091" y="181916"/>
                </a:lnTo>
                <a:lnTo>
                  <a:pt x="145494" y="186036"/>
                </a:lnTo>
                <a:lnTo>
                  <a:pt x="139859" y="189735"/>
                </a:lnTo>
                <a:lnTo>
                  <a:pt x="134197" y="194106"/>
                </a:lnTo>
                <a:lnTo>
                  <a:pt x="128518" y="198925"/>
                </a:lnTo>
                <a:lnTo>
                  <a:pt x="118080" y="208407"/>
                </a:lnTo>
                <a:lnTo>
                  <a:pt x="110265" y="215796"/>
                </a:lnTo>
                <a:lnTo>
                  <a:pt x="101077" y="222255"/>
                </a:lnTo>
                <a:lnTo>
                  <a:pt x="90643" y="228301"/>
                </a:lnTo>
                <a:lnTo>
                  <a:pt x="79656" y="234163"/>
                </a:lnTo>
                <a:lnTo>
                  <a:pt x="70963" y="239943"/>
                </a:lnTo>
                <a:lnTo>
                  <a:pt x="67312" y="242818"/>
                </a:lnTo>
                <a:lnTo>
                  <a:pt x="60714" y="246013"/>
                </a:lnTo>
                <a:lnTo>
                  <a:pt x="57621" y="246865"/>
                </a:lnTo>
                <a:lnTo>
                  <a:pt x="51645" y="250351"/>
                </a:lnTo>
                <a:lnTo>
                  <a:pt x="48718" y="252614"/>
                </a:lnTo>
                <a:lnTo>
                  <a:pt x="42925" y="255129"/>
                </a:lnTo>
                <a:lnTo>
                  <a:pt x="34310" y="256545"/>
                </a:lnTo>
                <a:lnTo>
                  <a:pt x="26221" y="257106"/>
                </a:lnTo>
                <a:lnTo>
                  <a:pt x="25867" y="261681"/>
                </a:lnTo>
                <a:lnTo>
                  <a:pt x="26770" y="263025"/>
                </a:lnTo>
                <a:lnTo>
                  <a:pt x="28325" y="263921"/>
                </a:lnTo>
                <a:lnTo>
                  <a:pt x="33112" y="265359"/>
                </a:lnTo>
                <a:lnTo>
                  <a:pt x="43460" y="265667"/>
                </a:lnTo>
                <a:lnTo>
                  <a:pt x="46118" y="265682"/>
                </a:lnTo>
                <a:lnTo>
                  <a:pt x="54152" y="268239"/>
                </a:lnTo>
                <a:lnTo>
                  <a:pt x="63120" y="271598"/>
                </a:lnTo>
                <a:lnTo>
                  <a:pt x="70282" y="273091"/>
                </a:lnTo>
                <a:lnTo>
                  <a:pt x="79179" y="273755"/>
                </a:lnTo>
                <a:lnTo>
                  <a:pt x="89483" y="274050"/>
                </a:lnTo>
                <a:lnTo>
                  <a:pt x="140994" y="274279"/>
                </a:lnTo>
                <a:lnTo>
                  <a:pt x="218732" y="274286"/>
                </a:lnTo>
                <a:lnTo>
                  <a:pt x="224879" y="275238"/>
                </a:lnTo>
                <a:lnTo>
                  <a:pt x="230882" y="276826"/>
                </a:lnTo>
                <a:lnTo>
                  <a:pt x="236790" y="278836"/>
                </a:lnTo>
                <a:lnTo>
                  <a:pt x="243585" y="280177"/>
                </a:lnTo>
                <a:lnTo>
                  <a:pt x="250972" y="281071"/>
                </a:lnTo>
                <a:lnTo>
                  <a:pt x="264896" y="282064"/>
                </a:lnTo>
                <a:lnTo>
                  <a:pt x="274259" y="282505"/>
                </a:lnTo>
                <a:lnTo>
                  <a:pt x="284136" y="282701"/>
                </a:lnTo>
                <a:lnTo>
                  <a:pt x="289437" y="282754"/>
                </a:lnTo>
                <a:lnTo>
                  <a:pt x="300407" y="285352"/>
                </a:lnTo>
                <a:lnTo>
                  <a:pt x="310680" y="288729"/>
                </a:lnTo>
                <a:lnTo>
                  <a:pt x="318420" y="290230"/>
                </a:lnTo>
                <a:lnTo>
                  <a:pt x="328133" y="291075"/>
                </a:lnTo>
                <a:lnTo>
                  <a:pt x="338592" y="291384"/>
                </a:lnTo>
                <a:lnTo>
                  <a:pt x="351429" y="291430"/>
                </a:lnTo>
                <a:lnTo>
                  <a:pt x="351473" y="2914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MARTPenAnnotation761"/>
          <p:cNvSpPr/>
          <p:nvPr/>
        </p:nvSpPr>
        <p:spPr>
          <a:xfrm>
            <a:off x="6064200" y="4400640"/>
            <a:ext cx="282600" cy="271440"/>
          </a:xfrm>
          <a:custGeom>
            <a:avLst/>
            <a:gdLst>
              <a:gd name="textAreaLeft" fmla="*/ 0 w 282600"/>
              <a:gd name="textAreaRight" fmla="*/ 282960 w 2826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82893" h="270687">
                <a:moveTo>
                  <a:pt x="0" y="4939"/>
                </a:moveTo>
                <a:lnTo>
                  <a:pt x="0" y="0"/>
                </a:lnTo>
                <a:lnTo>
                  <a:pt x="0" y="4865"/>
                </a:lnTo>
                <a:lnTo>
                  <a:pt x="4551" y="9467"/>
                </a:lnTo>
                <a:lnTo>
                  <a:pt x="6843" y="10815"/>
                </a:lnTo>
                <a:lnTo>
                  <a:pt x="14622" y="13665"/>
                </a:lnTo>
                <a:lnTo>
                  <a:pt x="22959" y="20118"/>
                </a:lnTo>
                <a:lnTo>
                  <a:pt x="31461" y="28063"/>
                </a:lnTo>
                <a:lnTo>
                  <a:pt x="45724" y="42121"/>
                </a:lnTo>
                <a:lnTo>
                  <a:pt x="51436" y="50356"/>
                </a:lnTo>
                <a:lnTo>
                  <a:pt x="54293" y="55220"/>
                </a:lnTo>
                <a:lnTo>
                  <a:pt x="62548" y="63163"/>
                </a:lnTo>
                <a:lnTo>
                  <a:pt x="67416" y="66615"/>
                </a:lnTo>
                <a:lnTo>
                  <a:pt x="72567" y="70821"/>
                </a:lnTo>
                <a:lnTo>
                  <a:pt x="77905" y="75530"/>
                </a:lnTo>
                <a:lnTo>
                  <a:pt x="87964" y="84890"/>
                </a:lnTo>
                <a:lnTo>
                  <a:pt x="95610" y="92226"/>
                </a:lnTo>
                <a:lnTo>
                  <a:pt x="98982" y="96467"/>
                </a:lnTo>
                <a:lnTo>
                  <a:pt x="102183" y="101200"/>
                </a:lnTo>
                <a:lnTo>
                  <a:pt x="105270" y="106260"/>
                </a:lnTo>
                <a:lnTo>
                  <a:pt x="113779" y="114423"/>
                </a:lnTo>
                <a:lnTo>
                  <a:pt x="118715" y="117933"/>
                </a:lnTo>
                <a:lnTo>
                  <a:pt x="122958" y="122178"/>
                </a:lnTo>
                <a:lnTo>
                  <a:pt x="126740" y="126914"/>
                </a:lnTo>
                <a:lnTo>
                  <a:pt x="130213" y="131975"/>
                </a:lnTo>
                <a:lnTo>
                  <a:pt x="134434" y="137255"/>
                </a:lnTo>
                <a:lnTo>
                  <a:pt x="139152" y="142679"/>
                </a:lnTo>
                <a:lnTo>
                  <a:pt x="144202" y="148201"/>
                </a:lnTo>
                <a:lnTo>
                  <a:pt x="149475" y="152834"/>
                </a:lnTo>
                <a:lnTo>
                  <a:pt x="154895" y="156876"/>
                </a:lnTo>
                <a:lnTo>
                  <a:pt x="160413" y="160523"/>
                </a:lnTo>
                <a:lnTo>
                  <a:pt x="165997" y="164859"/>
                </a:lnTo>
                <a:lnTo>
                  <a:pt x="171624" y="169655"/>
                </a:lnTo>
                <a:lnTo>
                  <a:pt x="177281" y="174757"/>
                </a:lnTo>
                <a:lnTo>
                  <a:pt x="188646" y="185506"/>
                </a:lnTo>
                <a:lnTo>
                  <a:pt x="232975" y="229351"/>
                </a:lnTo>
                <a:lnTo>
                  <a:pt x="242490" y="238859"/>
                </a:lnTo>
                <a:lnTo>
                  <a:pt x="250966" y="244793"/>
                </a:lnTo>
                <a:lnTo>
                  <a:pt x="255893" y="247709"/>
                </a:lnTo>
                <a:lnTo>
                  <a:pt x="259177" y="250606"/>
                </a:lnTo>
                <a:lnTo>
                  <a:pt x="261368" y="253489"/>
                </a:lnTo>
                <a:lnTo>
                  <a:pt x="262827" y="256364"/>
                </a:lnTo>
                <a:lnTo>
                  <a:pt x="264753" y="258281"/>
                </a:lnTo>
                <a:lnTo>
                  <a:pt x="266990" y="259558"/>
                </a:lnTo>
                <a:lnTo>
                  <a:pt x="269432" y="260410"/>
                </a:lnTo>
                <a:lnTo>
                  <a:pt x="271062" y="261930"/>
                </a:lnTo>
                <a:lnTo>
                  <a:pt x="272148" y="263897"/>
                </a:lnTo>
                <a:lnTo>
                  <a:pt x="272872" y="266160"/>
                </a:lnTo>
                <a:lnTo>
                  <a:pt x="274307" y="267669"/>
                </a:lnTo>
                <a:lnTo>
                  <a:pt x="276216" y="268674"/>
                </a:lnTo>
                <a:lnTo>
                  <a:pt x="282892" y="2706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MARTPenAnnotation762"/>
          <p:cNvSpPr/>
          <p:nvPr/>
        </p:nvSpPr>
        <p:spPr>
          <a:xfrm>
            <a:off x="6097680" y="4379760"/>
            <a:ext cx="214200" cy="2574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214303" h="257176">
                <a:moveTo>
                  <a:pt x="214302" y="0"/>
                </a:moveTo>
                <a:lnTo>
                  <a:pt x="209751" y="0"/>
                </a:lnTo>
                <a:lnTo>
                  <a:pt x="208410" y="953"/>
                </a:lnTo>
                <a:lnTo>
                  <a:pt x="207517" y="2540"/>
                </a:lnTo>
                <a:lnTo>
                  <a:pt x="206921" y="4551"/>
                </a:lnTo>
                <a:lnTo>
                  <a:pt x="203719" y="9325"/>
                </a:lnTo>
                <a:lnTo>
                  <a:pt x="199121" y="14622"/>
                </a:lnTo>
                <a:lnTo>
                  <a:pt x="193902" y="20151"/>
                </a:lnTo>
                <a:lnTo>
                  <a:pt x="181059" y="33170"/>
                </a:lnTo>
                <a:lnTo>
                  <a:pt x="175947" y="39258"/>
                </a:lnTo>
                <a:lnTo>
                  <a:pt x="170635" y="46175"/>
                </a:lnTo>
                <a:lnTo>
                  <a:pt x="165188" y="53643"/>
                </a:lnTo>
                <a:lnTo>
                  <a:pt x="159652" y="60527"/>
                </a:lnTo>
                <a:lnTo>
                  <a:pt x="154056" y="67021"/>
                </a:lnTo>
                <a:lnTo>
                  <a:pt x="148420" y="73256"/>
                </a:lnTo>
                <a:lnTo>
                  <a:pt x="142759" y="80270"/>
                </a:lnTo>
                <a:lnTo>
                  <a:pt x="137079" y="87803"/>
                </a:lnTo>
                <a:lnTo>
                  <a:pt x="131387" y="95683"/>
                </a:lnTo>
                <a:lnTo>
                  <a:pt x="126641" y="102841"/>
                </a:lnTo>
                <a:lnTo>
                  <a:pt x="122524" y="109519"/>
                </a:lnTo>
                <a:lnTo>
                  <a:pt x="118826" y="115875"/>
                </a:lnTo>
                <a:lnTo>
                  <a:pt x="113504" y="122970"/>
                </a:lnTo>
                <a:lnTo>
                  <a:pt x="107099" y="130557"/>
                </a:lnTo>
                <a:lnTo>
                  <a:pt x="99970" y="138474"/>
                </a:lnTo>
                <a:lnTo>
                  <a:pt x="86971" y="152349"/>
                </a:lnTo>
                <a:lnTo>
                  <a:pt x="80837" y="158716"/>
                </a:lnTo>
                <a:lnTo>
                  <a:pt x="75795" y="164866"/>
                </a:lnTo>
                <a:lnTo>
                  <a:pt x="71482" y="170870"/>
                </a:lnTo>
                <a:lnTo>
                  <a:pt x="67654" y="176779"/>
                </a:lnTo>
                <a:lnTo>
                  <a:pt x="63196" y="182622"/>
                </a:lnTo>
                <a:lnTo>
                  <a:pt x="58320" y="188424"/>
                </a:lnTo>
                <a:lnTo>
                  <a:pt x="53164" y="194196"/>
                </a:lnTo>
                <a:lnTo>
                  <a:pt x="42355" y="205689"/>
                </a:lnTo>
                <a:lnTo>
                  <a:pt x="24445" y="224039"/>
                </a:lnTo>
                <a:lnTo>
                  <a:pt x="22008" y="227464"/>
                </a:lnTo>
                <a:lnTo>
                  <a:pt x="19301" y="233810"/>
                </a:lnTo>
                <a:lnTo>
                  <a:pt x="15557" y="239806"/>
                </a:lnTo>
                <a:lnTo>
                  <a:pt x="9944" y="246865"/>
                </a:lnTo>
                <a:lnTo>
                  <a:pt x="4421" y="252639"/>
                </a:lnTo>
                <a:lnTo>
                  <a:pt x="0" y="257165"/>
                </a:lnTo>
                <a:lnTo>
                  <a:pt x="8562" y="257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MARTPenAnnotation763"/>
          <p:cNvSpPr/>
          <p:nvPr/>
        </p:nvSpPr>
        <p:spPr>
          <a:xfrm>
            <a:off x="6535800" y="4406760"/>
            <a:ext cx="307800" cy="25560"/>
          </a:xfrm>
          <a:custGeom>
            <a:avLst/>
            <a:gdLst>
              <a:gd name="textAreaLeft" fmla="*/ 0 w 307800"/>
              <a:gd name="textAreaRight" fmla="*/ 308160 w 307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08611" h="25718">
                <a:moveTo>
                  <a:pt x="0" y="25717"/>
                </a:moveTo>
                <a:lnTo>
                  <a:pt x="7381" y="25717"/>
                </a:lnTo>
                <a:lnTo>
                  <a:pt x="8731" y="24765"/>
                </a:lnTo>
                <a:lnTo>
                  <a:pt x="10583" y="23177"/>
                </a:lnTo>
                <a:lnTo>
                  <a:pt x="12771" y="21167"/>
                </a:lnTo>
                <a:lnTo>
                  <a:pt x="15181" y="19826"/>
                </a:lnTo>
                <a:lnTo>
                  <a:pt x="17741" y="18932"/>
                </a:lnTo>
                <a:lnTo>
                  <a:pt x="20400" y="18336"/>
                </a:lnTo>
                <a:lnTo>
                  <a:pt x="28434" y="17674"/>
                </a:lnTo>
                <a:lnTo>
                  <a:pt x="38355" y="17380"/>
                </a:lnTo>
                <a:lnTo>
                  <a:pt x="90296" y="17154"/>
                </a:lnTo>
                <a:lnTo>
                  <a:pt x="97345" y="16198"/>
                </a:lnTo>
                <a:lnTo>
                  <a:pt x="104902" y="14609"/>
                </a:lnTo>
                <a:lnTo>
                  <a:pt x="112797" y="12597"/>
                </a:lnTo>
                <a:lnTo>
                  <a:pt x="119965" y="11255"/>
                </a:lnTo>
                <a:lnTo>
                  <a:pt x="126650" y="10361"/>
                </a:lnTo>
                <a:lnTo>
                  <a:pt x="133011" y="9765"/>
                </a:lnTo>
                <a:lnTo>
                  <a:pt x="140109" y="9367"/>
                </a:lnTo>
                <a:lnTo>
                  <a:pt x="155615" y="8926"/>
                </a:lnTo>
                <a:lnTo>
                  <a:pt x="163751" y="7855"/>
                </a:lnTo>
                <a:lnTo>
                  <a:pt x="172033" y="6189"/>
                </a:lnTo>
                <a:lnTo>
                  <a:pt x="180412" y="4126"/>
                </a:lnTo>
                <a:lnTo>
                  <a:pt x="187902" y="2751"/>
                </a:lnTo>
                <a:lnTo>
                  <a:pt x="194801" y="1834"/>
                </a:lnTo>
                <a:lnTo>
                  <a:pt x="201304" y="1222"/>
                </a:lnTo>
                <a:lnTo>
                  <a:pt x="207546" y="815"/>
                </a:lnTo>
                <a:lnTo>
                  <a:pt x="213611" y="543"/>
                </a:lnTo>
                <a:lnTo>
                  <a:pt x="225431" y="241"/>
                </a:lnTo>
                <a:lnTo>
                  <a:pt x="295117" y="0"/>
                </a:lnTo>
                <a:lnTo>
                  <a:pt x="296757" y="952"/>
                </a:lnTo>
                <a:lnTo>
                  <a:pt x="297850" y="2540"/>
                </a:lnTo>
                <a:lnTo>
                  <a:pt x="298580" y="4551"/>
                </a:lnTo>
                <a:lnTo>
                  <a:pt x="300018" y="5891"/>
                </a:lnTo>
                <a:lnTo>
                  <a:pt x="301930" y="6785"/>
                </a:lnTo>
                <a:lnTo>
                  <a:pt x="308610" y="85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MARTPenAnnotation764"/>
          <p:cNvSpPr/>
          <p:nvPr/>
        </p:nvSpPr>
        <p:spPr>
          <a:xfrm>
            <a:off x="6535800" y="4535640"/>
            <a:ext cx="368280" cy="25200"/>
          </a:xfrm>
          <a:custGeom>
            <a:avLst/>
            <a:gdLst>
              <a:gd name="textAreaLeft" fmla="*/ 0 w 368280"/>
              <a:gd name="textAreaRight" fmla="*/ 368640 w 3682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68511" h="25719">
                <a:moveTo>
                  <a:pt x="17038" y="0"/>
                </a:moveTo>
                <a:lnTo>
                  <a:pt x="4019" y="0"/>
                </a:lnTo>
                <a:lnTo>
                  <a:pt x="2644" y="953"/>
                </a:lnTo>
                <a:lnTo>
                  <a:pt x="1727" y="2540"/>
                </a:lnTo>
                <a:lnTo>
                  <a:pt x="0" y="8219"/>
                </a:lnTo>
                <a:lnTo>
                  <a:pt x="4476" y="8468"/>
                </a:lnTo>
                <a:lnTo>
                  <a:pt x="6758" y="9455"/>
                </a:lnTo>
                <a:lnTo>
                  <a:pt x="9233" y="11066"/>
                </a:lnTo>
                <a:lnTo>
                  <a:pt x="11834" y="13093"/>
                </a:lnTo>
                <a:lnTo>
                  <a:pt x="14521" y="14444"/>
                </a:lnTo>
                <a:lnTo>
                  <a:pt x="17266" y="15344"/>
                </a:lnTo>
                <a:lnTo>
                  <a:pt x="20047" y="15944"/>
                </a:lnTo>
                <a:lnTo>
                  <a:pt x="28219" y="16612"/>
                </a:lnTo>
                <a:lnTo>
                  <a:pt x="38199" y="16908"/>
                </a:lnTo>
                <a:lnTo>
                  <a:pt x="82806" y="17136"/>
                </a:lnTo>
                <a:lnTo>
                  <a:pt x="241469" y="17145"/>
                </a:lnTo>
                <a:lnTo>
                  <a:pt x="248573" y="18098"/>
                </a:lnTo>
                <a:lnTo>
                  <a:pt x="255216" y="19685"/>
                </a:lnTo>
                <a:lnTo>
                  <a:pt x="261548" y="21696"/>
                </a:lnTo>
                <a:lnTo>
                  <a:pt x="268627" y="23037"/>
                </a:lnTo>
                <a:lnTo>
                  <a:pt x="276204" y="23930"/>
                </a:lnTo>
                <a:lnTo>
                  <a:pt x="284113" y="24526"/>
                </a:lnTo>
                <a:lnTo>
                  <a:pt x="291291" y="24923"/>
                </a:lnTo>
                <a:lnTo>
                  <a:pt x="304345" y="25364"/>
                </a:lnTo>
                <a:lnTo>
                  <a:pt x="328249" y="25648"/>
                </a:lnTo>
                <a:lnTo>
                  <a:pt x="368510" y="257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MARTPenAnnotation765"/>
          <p:cNvSpPr/>
          <p:nvPr/>
        </p:nvSpPr>
        <p:spPr>
          <a:xfrm>
            <a:off x="7126200" y="4440240"/>
            <a:ext cx="292320" cy="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291465" h="8574">
                <a:moveTo>
                  <a:pt x="0" y="0"/>
                </a:moveTo>
                <a:lnTo>
                  <a:pt x="0" y="4552"/>
                </a:lnTo>
                <a:lnTo>
                  <a:pt x="952" y="5892"/>
                </a:lnTo>
                <a:lnTo>
                  <a:pt x="2540" y="6786"/>
                </a:lnTo>
                <a:lnTo>
                  <a:pt x="7381" y="8220"/>
                </a:lnTo>
                <a:lnTo>
                  <a:pt x="12770" y="8469"/>
                </a:lnTo>
                <a:lnTo>
                  <a:pt x="36882" y="8569"/>
                </a:lnTo>
                <a:lnTo>
                  <a:pt x="113149" y="8573"/>
                </a:lnTo>
                <a:lnTo>
                  <a:pt x="120199" y="7621"/>
                </a:lnTo>
                <a:lnTo>
                  <a:pt x="126805" y="6033"/>
                </a:lnTo>
                <a:lnTo>
                  <a:pt x="133114" y="4023"/>
                </a:lnTo>
                <a:lnTo>
                  <a:pt x="140178" y="2682"/>
                </a:lnTo>
                <a:lnTo>
                  <a:pt x="147744" y="1788"/>
                </a:lnTo>
                <a:lnTo>
                  <a:pt x="155646" y="1192"/>
                </a:lnTo>
                <a:lnTo>
                  <a:pt x="162819" y="795"/>
                </a:lnTo>
                <a:lnTo>
                  <a:pt x="175869" y="354"/>
                </a:lnTo>
                <a:lnTo>
                  <a:pt x="200722" y="71"/>
                </a:lnTo>
                <a:lnTo>
                  <a:pt x="29146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MARTPenAnnotation766"/>
          <p:cNvSpPr/>
          <p:nvPr/>
        </p:nvSpPr>
        <p:spPr>
          <a:xfrm>
            <a:off x="7426440" y="444024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1" h="1">
                <a:moveTo>
                  <a:pt x="0" y="0"/>
                </a:moveTo>
                <a:lnTo>
                  <a:pt x="254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MARTPenAnnotation767"/>
          <p:cNvSpPr/>
          <p:nvPr/>
        </p:nvSpPr>
        <p:spPr>
          <a:xfrm>
            <a:off x="7426440" y="4287960"/>
            <a:ext cx="291960" cy="349200"/>
          </a:xfrm>
          <a:custGeom>
            <a:avLst/>
            <a:gdLst>
              <a:gd name="textAreaLeft" fmla="*/ 0 w 291960"/>
              <a:gd name="textAreaRight" fmla="*/ 292320 w 2919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91466" h="350166">
                <a:moveTo>
                  <a:pt x="0" y="84418"/>
                </a:moveTo>
                <a:lnTo>
                  <a:pt x="0" y="79867"/>
                </a:lnTo>
                <a:lnTo>
                  <a:pt x="953" y="77574"/>
                </a:lnTo>
                <a:lnTo>
                  <a:pt x="7381" y="68817"/>
                </a:lnTo>
                <a:lnTo>
                  <a:pt x="12771" y="63179"/>
                </a:lnTo>
                <a:lnTo>
                  <a:pt x="14229" y="60734"/>
                </a:lnTo>
                <a:lnTo>
                  <a:pt x="17233" y="52741"/>
                </a:lnTo>
                <a:lnTo>
                  <a:pt x="23733" y="43388"/>
                </a:lnTo>
                <a:lnTo>
                  <a:pt x="28963" y="34115"/>
                </a:lnTo>
                <a:lnTo>
                  <a:pt x="32644" y="30880"/>
                </a:lnTo>
                <a:lnTo>
                  <a:pt x="37003" y="28723"/>
                </a:lnTo>
                <a:lnTo>
                  <a:pt x="45973" y="25375"/>
                </a:lnTo>
                <a:lnTo>
                  <a:pt x="53135" y="20711"/>
                </a:lnTo>
                <a:lnTo>
                  <a:pt x="62033" y="18004"/>
                </a:lnTo>
                <a:lnTo>
                  <a:pt x="67073" y="17282"/>
                </a:lnTo>
                <a:lnTo>
                  <a:pt x="72338" y="15848"/>
                </a:lnTo>
                <a:lnTo>
                  <a:pt x="77753" y="13940"/>
                </a:lnTo>
                <a:lnTo>
                  <a:pt x="83267" y="11715"/>
                </a:lnTo>
                <a:lnTo>
                  <a:pt x="88849" y="10231"/>
                </a:lnTo>
                <a:lnTo>
                  <a:pt x="94475" y="9243"/>
                </a:lnTo>
                <a:lnTo>
                  <a:pt x="100131" y="8584"/>
                </a:lnTo>
                <a:lnTo>
                  <a:pt x="105806" y="7192"/>
                </a:lnTo>
                <a:lnTo>
                  <a:pt x="111495" y="5311"/>
                </a:lnTo>
                <a:lnTo>
                  <a:pt x="117192" y="3105"/>
                </a:lnTo>
                <a:lnTo>
                  <a:pt x="122896" y="1634"/>
                </a:lnTo>
                <a:lnTo>
                  <a:pt x="128603" y="654"/>
                </a:lnTo>
                <a:lnTo>
                  <a:pt x="134313" y="0"/>
                </a:lnTo>
                <a:lnTo>
                  <a:pt x="140024" y="517"/>
                </a:lnTo>
                <a:lnTo>
                  <a:pt x="145737" y="1814"/>
                </a:lnTo>
                <a:lnTo>
                  <a:pt x="151451" y="3631"/>
                </a:lnTo>
                <a:lnTo>
                  <a:pt x="158117" y="4842"/>
                </a:lnTo>
                <a:lnTo>
                  <a:pt x="165419" y="5650"/>
                </a:lnTo>
                <a:lnTo>
                  <a:pt x="173144" y="6188"/>
                </a:lnTo>
                <a:lnTo>
                  <a:pt x="179247" y="7500"/>
                </a:lnTo>
                <a:lnTo>
                  <a:pt x="184268" y="9327"/>
                </a:lnTo>
                <a:lnTo>
                  <a:pt x="203721" y="19102"/>
                </a:lnTo>
                <a:lnTo>
                  <a:pt x="212146" y="24591"/>
                </a:lnTo>
                <a:lnTo>
                  <a:pt x="215725" y="27388"/>
                </a:lnTo>
                <a:lnTo>
                  <a:pt x="222243" y="35576"/>
                </a:lnTo>
                <a:lnTo>
                  <a:pt x="225315" y="40427"/>
                </a:lnTo>
                <a:lnTo>
                  <a:pt x="228727" y="50896"/>
                </a:lnTo>
                <a:lnTo>
                  <a:pt x="229637" y="56355"/>
                </a:lnTo>
                <a:lnTo>
                  <a:pt x="230244" y="61899"/>
                </a:lnTo>
                <a:lnTo>
                  <a:pt x="230648" y="67500"/>
                </a:lnTo>
                <a:lnTo>
                  <a:pt x="230918" y="73140"/>
                </a:lnTo>
                <a:lnTo>
                  <a:pt x="231218" y="87025"/>
                </a:lnTo>
                <a:lnTo>
                  <a:pt x="231444" y="137197"/>
                </a:lnTo>
                <a:lnTo>
                  <a:pt x="229544" y="145322"/>
                </a:lnTo>
                <a:lnTo>
                  <a:pt x="226372" y="153595"/>
                </a:lnTo>
                <a:lnTo>
                  <a:pt x="212144" y="182855"/>
                </a:lnTo>
                <a:lnTo>
                  <a:pt x="208105" y="190047"/>
                </a:lnTo>
                <a:lnTo>
                  <a:pt x="203506" y="197700"/>
                </a:lnTo>
                <a:lnTo>
                  <a:pt x="198536" y="205659"/>
                </a:lnTo>
                <a:lnTo>
                  <a:pt x="193318" y="212870"/>
                </a:lnTo>
                <a:lnTo>
                  <a:pt x="187934" y="219583"/>
                </a:lnTo>
                <a:lnTo>
                  <a:pt x="182440" y="225963"/>
                </a:lnTo>
                <a:lnTo>
                  <a:pt x="176871" y="233073"/>
                </a:lnTo>
                <a:lnTo>
                  <a:pt x="171254" y="240672"/>
                </a:lnTo>
                <a:lnTo>
                  <a:pt x="165604" y="248595"/>
                </a:lnTo>
                <a:lnTo>
                  <a:pt x="160886" y="255781"/>
                </a:lnTo>
                <a:lnTo>
                  <a:pt x="156787" y="262478"/>
                </a:lnTo>
                <a:lnTo>
                  <a:pt x="153102" y="268847"/>
                </a:lnTo>
                <a:lnTo>
                  <a:pt x="148741" y="274045"/>
                </a:lnTo>
                <a:lnTo>
                  <a:pt x="143928" y="278463"/>
                </a:lnTo>
                <a:lnTo>
                  <a:pt x="138814" y="282362"/>
                </a:lnTo>
                <a:lnTo>
                  <a:pt x="130593" y="291773"/>
                </a:lnTo>
                <a:lnTo>
                  <a:pt x="127067" y="296949"/>
                </a:lnTo>
                <a:lnTo>
                  <a:pt x="118069" y="305241"/>
                </a:lnTo>
                <a:lnTo>
                  <a:pt x="113003" y="308786"/>
                </a:lnTo>
                <a:lnTo>
                  <a:pt x="104833" y="312724"/>
                </a:lnTo>
                <a:lnTo>
                  <a:pt x="97075" y="315427"/>
                </a:lnTo>
                <a:lnTo>
                  <a:pt x="92340" y="317482"/>
                </a:lnTo>
                <a:lnTo>
                  <a:pt x="87277" y="319804"/>
                </a:lnTo>
                <a:lnTo>
                  <a:pt x="79113" y="322384"/>
                </a:lnTo>
                <a:lnTo>
                  <a:pt x="72308" y="323530"/>
                </a:lnTo>
                <a:lnTo>
                  <a:pt x="66109" y="324040"/>
                </a:lnTo>
                <a:lnTo>
                  <a:pt x="57639" y="324266"/>
                </a:lnTo>
                <a:lnTo>
                  <a:pt x="52714" y="324327"/>
                </a:lnTo>
                <a:lnTo>
                  <a:pt x="48478" y="323415"/>
                </a:lnTo>
                <a:lnTo>
                  <a:pt x="41230" y="319861"/>
                </a:lnTo>
                <a:lnTo>
                  <a:pt x="34835" y="315107"/>
                </a:lnTo>
                <a:lnTo>
                  <a:pt x="31796" y="312506"/>
                </a:lnTo>
                <a:lnTo>
                  <a:pt x="28817" y="310771"/>
                </a:lnTo>
                <a:lnTo>
                  <a:pt x="22968" y="308844"/>
                </a:lnTo>
                <a:lnTo>
                  <a:pt x="21027" y="307378"/>
                </a:lnTo>
                <a:lnTo>
                  <a:pt x="19733" y="305448"/>
                </a:lnTo>
                <a:lnTo>
                  <a:pt x="18870" y="303208"/>
                </a:lnTo>
                <a:lnTo>
                  <a:pt x="11595" y="292771"/>
                </a:lnTo>
                <a:lnTo>
                  <a:pt x="8515" y="284370"/>
                </a:lnTo>
                <a:lnTo>
                  <a:pt x="4419" y="278695"/>
                </a:lnTo>
                <a:lnTo>
                  <a:pt x="3899" y="275848"/>
                </a:lnTo>
                <a:lnTo>
                  <a:pt x="4505" y="272999"/>
                </a:lnTo>
                <a:lnTo>
                  <a:pt x="6764" y="267291"/>
                </a:lnTo>
                <a:lnTo>
                  <a:pt x="7769" y="261580"/>
                </a:lnTo>
                <a:lnTo>
                  <a:pt x="8990" y="259676"/>
                </a:lnTo>
                <a:lnTo>
                  <a:pt x="10755" y="258406"/>
                </a:lnTo>
                <a:lnTo>
                  <a:pt x="12886" y="257560"/>
                </a:lnTo>
                <a:lnTo>
                  <a:pt x="14306" y="256043"/>
                </a:lnTo>
                <a:lnTo>
                  <a:pt x="15252" y="254080"/>
                </a:lnTo>
                <a:lnTo>
                  <a:pt x="15883" y="251819"/>
                </a:lnTo>
                <a:lnTo>
                  <a:pt x="19125" y="246766"/>
                </a:lnTo>
                <a:lnTo>
                  <a:pt x="21322" y="244084"/>
                </a:lnTo>
                <a:lnTo>
                  <a:pt x="28844" y="238565"/>
                </a:lnTo>
                <a:lnTo>
                  <a:pt x="37585" y="232938"/>
                </a:lnTo>
                <a:lnTo>
                  <a:pt x="44644" y="227261"/>
                </a:lnTo>
                <a:lnTo>
                  <a:pt x="48813" y="225367"/>
                </a:lnTo>
                <a:lnTo>
                  <a:pt x="53497" y="224104"/>
                </a:lnTo>
                <a:lnTo>
                  <a:pt x="58525" y="223262"/>
                </a:lnTo>
                <a:lnTo>
                  <a:pt x="66651" y="219786"/>
                </a:lnTo>
                <a:lnTo>
                  <a:pt x="70151" y="217526"/>
                </a:lnTo>
                <a:lnTo>
                  <a:pt x="79121" y="215014"/>
                </a:lnTo>
                <a:lnTo>
                  <a:pt x="84180" y="214344"/>
                </a:lnTo>
                <a:lnTo>
                  <a:pt x="89457" y="213898"/>
                </a:lnTo>
                <a:lnTo>
                  <a:pt x="94881" y="213601"/>
                </a:lnTo>
                <a:lnTo>
                  <a:pt x="100401" y="213402"/>
                </a:lnTo>
                <a:lnTo>
                  <a:pt x="105987" y="214222"/>
                </a:lnTo>
                <a:lnTo>
                  <a:pt x="111616" y="215722"/>
                </a:lnTo>
                <a:lnTo>
                  <a:pt x="117273" y="217674"/>
                </a:lnTo>
                <a:lnTo>
                  <a:pt x="122949" y="218975"/>
                </a:lnTo>
                <a:lnTo>
                  <a:pt x="128639" y="219843"/>
                </a:lnTo>
                <a:lnTo>
                  <a:pt x="134337" y="220421"/>
                </a:lnTo>
                <a:lnTo>
                  <a:pt x="143208" y="223604"/>
                </a:lnTo>
                <a:lnTo>
                  <a:pt x="152231" y="228193"/>
                </a:lnTo>
                <a:lnTo>
                  <a:pt x="158637" y="230750"/>
                </a:lnTo>
                <a:lnTo>
                  <a:pt x="165765" y="233408"/>
                </a:lnTo>
                <a:lnTo>
                  <a:pt x="172422" y="236132"/>
                </a:lnTo>
                <a:lnTo>
                  <a:pt x="178766" y="238900"/>
                </a:lnTo>
                <a:lnTo>
                  <a:pt x="184900" y="241699"/>
                </a:lnTo>
                <a:lnTo>
                  <a:pt x="189941" y="244517"/>
                </a:lnTo>
                <a:lnTo>
                  <a:pt x="202541" y="253034"/>
                </a:lnTo>
                <a:lnTo>
                  <a:pt x="207417" y="255883"/>
                </a:lnTo>
                <a:lnTo>
                  <a:pt x="212573" y="258736"/>
                </a:lnTo>
                <a:lnTo>
                  <a:pt x="220842" y="264445"/>
                </a:lnTo>
                <a:lnTo>
                  <a:pt x="227693" y="270157"/>
                </a:lnTo>
                <a:lnTo>
                  <a:pt x="233912" y="275871"/>
                </a:lnTo>
                <a:lnTo>
                  <a:pt x="239851" y="284125"/>
                </a:lnTo>
                <a:lnTo>
                  <a:pt x="245665" y="293192"/>
                </a:lnTo>
                <a:lnTo>
                  <a:pt x="254294" y="303651"/>
                </a:lnTo>
                <a:lnTo>
                  <a:pt x="262883" y="313735"/>
                </a:lnTo>
                <a:lnTo>
                  <a:pt x="268603" y="323179"/>
                </a:lnTo>
                <a:lnTo>
                  <a:pt x="272626" y="330104"/>
                </a:lnTo>
                <a:lnTo>
                  <a:pt x="273567" y="334264"/>
                </a:lnTo>
                <a:lnTo>
                  <a:pt x="273818" y="336707"/>
                </a:lnTo>
                <a:lnTo>
                  <a:pt x="274938" y="339288"/>
                </a:lnTo>
                <a:lnTo>
                  <a:pt x="282785" y="350023"/>
                </a:lnTo>
                <a:lnTo>
                  <a:pt x="291465" y="3501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MARTPenAnnotation768"/>
          <p:cNvSpPr/>
          <p:nvPr/>
        </p:nvSpPr>
        <p:spPr>
          <a:xfrm>
            <a:off x="7907400" y="4286160"/>
            <a:ext cx="33120" cy="222480"/>
          </a:xfrm>
          <a:custGeom>
            <a:avLst/>
            <a:gdLst>
              <a:gd name="textAreaLeft" fmla="*/ 0 w 33120"/>
              <a:gd name="textAreaRight" fmla="*/ 33480 w 3312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34185" h="222886">
                <a:moveTo>
                  <a:pt x="0" y="0"/>
                </a:moveTo>
                <a:lnTo>
                  <a:pt x="0" y="7380"/>
                </a:lnTo>
                <a:lnTo>
                  <a:pt x="952" y="8730"/>
                </a:lnTo>
                <a:lnTo>
                  <a:pt x="2540" y="10583"/>
                </a:lnTo>
                <a:lnTo>
                  <a:pt x="7382" y="15849"/>
                </a:lnTo>
                <a:lnTo>
                  <a:pt x="8043" y="21649"/>
                </a:lnTo>
                <a:lnTo>
                  <a:pt x="8337" y="29624"/>
                </a:lnTo>
                <a:lnTo>
                  <a:pt x="8503" y="39469"/>
                </a:lnTo>
                <a:lnTo>
                  <a:pt x="8563" y="58773"/>
                </a:lnTo>
                <a:lnTo>
                  <a:pt x="9518" y="62994"/>
                </a:lnTo>
                <a:lnTo>
                  <a:pt x="11108" y="66761"/>
                </a:lnTo>
                <a:lnTo>
                  <a:pt x="13120" y="70225"/>
                </a:lnTo>
                <a:lnTo>
                  <a:pt x="17897" y="79154"/>
                </a:lnTo>
                <a:lnTo>
                  <a:pt x="20504" y="84201"/>
                </a:lnTo>
                <a:lnTo>
                  <a:pt x="22241" y="89472"/>
                </a:lnTo>
                <a:lnTo>
                  <a:pt x="23401" y="94890"/>
                </a:lnTo>
                <a:lnTo>
                  <a:pt x="24173" y="100408"/>
                </a:lnTo>
                <a:lnTo>
                  <a:pt x="24688" y="105991"/>
                </a:lnTo>
                <a:lnTo>
                  <a:pt x="25031" y="111618"/>
                </a:lnTo>
                <a:lnTo>
                  <a:pt x="25413" y="122951"/>
                </a:lnTo>
                <a:lnTo>
                  <a:pt x="25582" y="134337"/>
                </a:lnTo>
                <a:lnTo>
                  <a:pt x="26580" y="140041"/>
                </a:lnTo>
                <a:lnTo>
                  <a:pt x="28198" y="145748"/>
                </a:lnTo>
                <a:lnTo>
                  <a:pt x="30229" y="151457"/>
                </a:lnTo>
                <a:lnTo>
                  <a:pt x="31582" y="157169"/>
                </a:lnTo>
                <a:lnTo>
                  <a:pt x="32485" y="162882"/>
                </a:lnTo>
                <a:lnTo>
                  <a:pt x="33087" y="168595"/>
                </a:lnTo>
                <a:lnTo>
                  <a:pt x="33487" y="173357"/>
                </a:lnTo>
                <a:lnTo>
                  <a:pt x="33755" y="177483"/>
                </a:lnTo>
                <a:lnTo>
                  <a:pt x="34052" y="184609"/>
                </a:lnTo>
                <a:lnTo>
                  <a:pt x="34184" y="190951"/>
                </a:lnTo>
                <a:lnTo>
                  <a:pt x="33268" y="193975"/>
                </a:lnTo>
                <a:lnTo>
                  <a:pt x="31703" y="196944"/>
                </a:lnTo>
                <a:lnTo>
                  <a:pt x="29708" y="199876"/>
                </a:lnTo>
                <a:lnTo>
                  <a:pt x="28377" y="202783"/>
                </a:lnTo>
                <a:lnTo>
                  <a:pt x="27492" y="205674"/>
                </a:lnTo>
                <a:lnTo>
                  <a:pt x="26506" y="211425"/>
                </a:lnTo>
                <a:lnTo>
                  <a:pt x="26068" y="217157"/>
                </a:lnTo>
                <a:lnTo>
                  <a:pt x="25717" y="2228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MARTPenAnnotation769"/>
          <p:cNvSpPr/>
          <p:nvPr/>
        </p:nvSpPr>
        <p:spPr>
          <a:xfrm>
            <a:off x="7829640" y="4371840"/>
            <a:ext cx="291960" cy="255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91113" h="25325">
                <a:moveTo>
                  <a:pt x="8219" y="8210"/>
                </a:moveTo>
                <a:lnTo>
                  <a:pt x="0" y="8210"/>
                </a:lnTo>
                <a:lnTo>
                  <a:pt x="7059" y="8210"/>
                </a:lnTo>
                <a:lnTo>
                  <a:pt x="8398" y="9163"/>
                </a:lnTo>
                <a:lnTo>
                  <a:pt x="10244" y="10750"/>
                </a:lnTo>
                <a:lnTo>
                  <a:pt x="12426" y="12761"/>
                </a:lnTo>
                <a:lnTo>
                  <a:pt x="14834" y="14101"/>
                </a:lnTo>
                <a:lnTo>
                  <a:pt x="17391" y="14995"/>
                </a:lnTo>
                <a:lnTo>
                  <a:pt x="20049" y="15591"/>
                </a:lnTo>
                <a:lnTo>
                  <a:pt x="25542" y="16253"/>
                </a:lnTo>
                <a:lnTo>
                  <a:pt x="28340" y="16429"/>
                </a:lnTo>
                <a:lnTo>
                  <a:pt x="31159" y="17500"/>
                </a:lnTo>
                <a:lnTo>
                  <a:pt x="33989" y="19166"/>
                </a:lnTo>
                <a:lnTo>
                  <a:pt x="36830" y="21229"/>
                </a:lnTo>
                <a:lnTo>
                  <a:pt x="39675" y="22604"/>
                </a:lnTo>
                <a:lnTo>
                  <a:pt x="42525" y="23521"/>
                </a:lnTo>
                <a:lnTo>
                  <a:pt x="45377" y="24132"/>
                </a:lnTo>
                <a:lnTo>
                  <a:pt x="50136" y="24540"/>
                </a:lnTo>
                <a:lnTo>
                  <a:pt x="56166" y="24812"/>
                </a:lnTo>
                <a:lnTo>
                  <a:pt x="75765" y="25194"/>
                </a:lnTo>
                <a:lnTo>
                  <a:pt x="99454" y="25324"/>
                </a:lnTo>
                <a:lnTo>
                  <a:pt x="105239" y="24381"/>
                </a:lnTo>
                <a:lnTo>
                  <a:pt x="110998" y="22801"/>
                </a:lnTo>
                <a:lnTo>
                  <a:pt x="116744" y="20795"/>
                </a:lnTo>
                <a:lnTo>
                  <a:pt x="123432" y="19458"/>
                </a:lnTo>
                <a:lnTo>
                  <a:pt x="130748" y="18566"/>
                </a:lnTo>
                <a:lnTo>
                  <a:pt x="138482" y="17971"/>
                </a:lnTo>
                <a:lnTo>
                  <a:pt x="145543" y="17575"/>
                </a:lnTo>
                <a:lnTo>
                  <a:pt x="158470" y="17135"/>
                </a:lnTo>
                <a:lnTo>
                  <a:pt x="165536" y="16065"/>
                </a:lnTo>
                <a:lnTo>
                  <a:pt x="173105" y="14399"/>
                </a:lnTo>
                <a:lnTo>
                  <a:pt x="181008" y="12336"/>
                </a:lnTo>
                <a:lnTo>
                  <a:pt x="188182" y="10961"/>
                </a:lnTo>
                <a:lnTo>
                  <a:pt x="194869" y="10044"/>
                </a:lnTo>
                <a:lnTo>
                  <a:pt x="201232" y="9433"/>
                </a:lnTo>
                <a:lnTo>
                  <a:pt x="207380" y="9025"/>
                </a:lnTo>
                <a:lnTo>
                  <a:pt x="213382" y="8754"/>
                </a:lnTo>
                <a:lnTo>
                  <a:pt x="219290" y="8572"/>
                </a:lnTo>
                <a:lnTo>
                  <a:pt x="226085" y="7499"/>
                </a:lnTo>
                <a:lnTo>
                  <a:pt x="233473" y="5831"/>
                </a:lnTo>
                <a:lnTo>
                  <a:pt x="241256" y="3767"/>
                </a:lnTo>
                <a:lnTo>
                  <a:pt x="247397" y="2390"/>
                </a:lnTo>
                <a:lnTo>
                  <a:pt x="252443" y="1473"/>
                </a:lnTo>
                <a:lnTo>
                  <a:pt x="256759" y="861"/>
                </a:lnTo>
                <a:lnTo>
                  <a:pt x="264096" y="182"/>
                </a:lnTo>
                <a:lnTo>
                  <a:pt x="267387" y="0"/>
                </a:lnTo>
                <a:lnTo>
                  <a:pt x="270532" y="832"/>
                </a:lnTo>
                <a:lnTo>
                  <a:pt x="273582" y="2339"/>
                </a:lnTo>
                <a:lnTo>
                  <a:pt x="276568" y="4296"/>
                </a:lnTo>
                <a:lnTo>
                  <a:pt x="279511" y="5601"/>
                </a:lnTo>
                <a:lnTo>
                  <a:pt x="282425" y="6471"/>
                </a:lnTo>
                <a:lnTo>
                  <a:pt x="291112" y="82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MARTPenAnnotation770"/>
          <p:cNvSpPr/>
          <p:nvPr/>
        </p:nvSpPr>
        <p:spPr>
          <a:xfrm>
            <a:off x="7786800" y="4560840"/>
            <a:ext cx="334800" cy="25560"/>
          </a:xfrm>
          <a:custGeom>
            <a:avLst/>
            <a:gdLst>
              <a:gd name="textAreaLeft" fmla="*/ 0 w 334800"/>
              <a:gd name="textAreaRight" fmla="*/ 335160 w 334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34329" h="25717">
                <a:moveTo>
                  <a:pt x="0" y="8571"/>
                </a:moveTo>
                <a:lnTo>
                  <a:pt x="4551" y="13122"/>
                </a:lnTo>
                <a:lnTo>
                  <a:pt x="6845" y="14462"/>
                </a:lnTo>
                <a:lnTo>
                  <a:pt x="9326" y="15356"/>
                </a:lnTo>
                <a:lnTo>
                  <a:pt x="11932" y="15952"/>
                </a:lnTo>
                <a:lnTo>
                  <a:pt x="17368" y="16614"/>
                </a:lnTo>
                <a:lnTo>
                  <a:pt x="20151" y="16791"/>
                </a:lnTo>
                <a:lnTo>
                  <a:pt x="23912" y="15956"/>
                </a:lnTo>
                <a:lnTo>
                  <a:pt x="28324" y="14447"/>
                </a:lnTo>
                <a:lnTo>
                  <a:pt x="33170" y="12488"/>
                </a:lnTo>
                <a:lnTo>
                  <a:pt x="38305" y="11182"/>
                </a:lnTo>
                <a:lnTo>
                  <a:pt x="43635" y="10312"/>
                </a:lnTo>
                <a:lnTo>
                  <a:pt x="49092" y="9732"/>
                </a:lnTo>
                <a:lnTo>
                  <a:pt x="54635" y="9345"/>
                </a:lnTo>
                <a:lnTo>
                  <a:pt x="60236" y="9087"/>
                </a:lnTo>
                <a:lnTo>
                  <a:pt x="71539" y="8800"/>
                </a:lnTo>
                <a:lnTo>
                  <a:pt x="104577" y="8602"/>
                </a:lnTo>
                <a:lnTo>
                  <a:pt x="112580" y="7639"/>
                </a:lnTo>
                <a:lnTo>
                  <a:pt x="120774" y="6044"/>
                </a:lnTo>
                <a:lnTo>
                  <a:pt x="129093" y="4029"/>
                </a:lnTo>
                <a:lnTo>
                  <a:pt x="137497" y="2686"/>
                </a:lnTo>
                <a:lnTo>
                  <a:pt x="145958" y="1790"/>
                </a:lnTo>
                <a:lnTo>
                  <a:pt x="154455" y="1193"/>
                </a:lnTo>
                <a:lnTo>
                  <a:pt x="162978" y="795"/>
                </a:lnTo>
                <a:lnTo>
                  <a:pt x="180067" y="352"/>
                </a:lnTo>
                <a:lnTo>
                  <a:pt x="231303" y="20"/>
                </a:lnTo>
                <a:lnTo>
                  <a:pt x="279918" y="0"/>
                </a:lnTo>
                <a:lnTo>
                  <a:pt x="285672" y="952"/>
                </a:lnTo>
                <a:lnTo>
                  <a:pt x="291412" y="2539"/>
                </a:lnTo>
                <a:lnTo>
                  <a:pt x="297145" y="4549"/>
                </a:lnTo>
                <a:lnTo>
                  <a:pt x="301919" y="5890"/>
                </a:lnTo>
                <a:lnTo>
                  <a:pt x="306055" y="6784"/>
                </a:lnTo>
                <a:lnTo>
                  <a:pt x="309764" y="7380"/>
                </a:lnTo>
                <a:lnTo>
                  <a:pt x="316426" y="8041"/>
                </a:lnTo>
                <a:lnTo>
                  <a:pt x="319535" y="8218"/>
                </a:lnTo>
                <a:lnTo>
                  <a:pt x="321609" y="9288"/>
                </a:lnTo>
                <a:lnTo>
                  <a:pt x="322990" y="10954"/>
                </a:lnTo>
                <a:lnTo>
                  <a:pt x="323912" y="13018"/>
                </a:lnTo>
                <a:lnTo>
                  <a:pt x="325479" y="14393"/>
                </a:lnTo>
                <a:lnTo>
                  <a:pt x="327476" y="15310"/>
                </a:lnTo>
                <a:lnTo>
                  <a:pt x="332974" y="16782"/>
                </a:lnTo>
                <a:lnTo>
                  <a:pt x="333425" y="17854"/>
                </a:lnTo>
                <a:lnTo>
                  <a:pt x="333726" y="19523"/>
                </a:lnTo>
                <a:lnTo>
                  <a:pt x="334328" y="257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MARTPenAnnotation771"/>
          <p:cNvSpPr/>
          <p:nvPr/>
        </p:nvSpPr>
        <p:spPr>
          <a:xfrm>
            <a:off x="8223120" y="4175280"/>
            <a:ext cx="617760" cy="428400"/>
          </a:xfrm>
          <a:custGeom>
            <a:avLst/>
            <a:gdLst>
              <a:gd name="textAreaLeft" fmla="*/ 0 w 617760"/>
              <a:gd name="textAreaRight" fmla="*/ 618120 w 617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617222" h="428499">
                <a:moveTo>
                  <a:pt x="0" y="282884"/>
                </a:moveTo>
                <a:lnTo>
                  <a:pt x="0" y="291103"/>
                </a:lnTo>
                <a:lnTo>
                  <a:pt x="4551" y="295902"/>
                </a:lnTo>
                <a:lnTo>
                  <a:pt x="5892" y="298230"/>
                </a:lnTo>
                <a:lnTo>
                  <a:pt x="8731" y="306057"/>
                </a:lnTo>
                <a:lnTo>
                  <a:pt x="17742" y="317236"/>
                </a:lnTo>
                <a:lnTo>
                  <a:pt x="28693" y="328616"/>
                </a:lnTo>
                <a:lnTo>
                  <a:pt x="30559" y="331469"/>
                </a:lnTo>
                <a:lnTo>
                  <a:pt x="36093" y="345433"/>
                </a:lnTo>
                <a:lnTo>
                  <a:pt x="40806" y="354498"/>
                </a:lnTo>
                <a:lnTo>
                  <a:pt x="48815" y="364957"/>
                </a:lnTo>
                <a:lnTo>
                  <a:pt x="54398" y="371113"/>
                </a:lnTo>
                <a:lnTo>
                  <a:pt x="75379" y="385707"/>
                </a:lnTo>
                <a:lnTo>
                  <a:pt x="88233" y="397175"/>
                </a:lnTo>
                <a:lnTo>
                  <a:pt x="100897" y="408611"/>
                </a:lnTo>
                <a:lnTo>
                  <a:pt x="119039" y="419867"/>
                </a:lnTo>
                <a:lnTo>
                  <a:pt x="127143" y="427275"/>
                </a:lnTo>
                <a:lnTo>
                  <a:pt x="130485" y="428021"/>
                </a:lnTo>
                <a:lnTo>
                  <a:pt x="135842" y="428498"/>
                </a:lnTo>
                <a:lnTo>
                  <a:pt x="136281" y="427586"/>
                </a:lnTo>
                <a:lnTo>
                  <a:pt x="136900" y="421749"/>
                </a:lnTo>
                <a:lnTo>
                  <a:pt x="137126" y="408462"/>
                </a:lnTo>
                <a:lnTo>
                  <a:pt x="137160" y="132776"/>
                </a:lnTo>
                <a:lnTo>
                  <a:pt x="134621" y="120602"/>
                </a:lnTo>
                <a:lnTo>
                  <a:pt x="131269" y="108841"/>
                </a:lnTo>
                <a:lnTo>
                  <a:pt x="129780" y="97264"/>
                </a:lnTo>
                <a:lnTo>
                  <a:pt x="128942" y="84587"/>
                </a:lnTo>
                <a:lnTo>
                  <a:pt x="128745" y="75372"/>
                </a:lnTo>
                <a:lnTo>
                  <a:pt x="128597" y="48967"/>
                </a:lnTo>
                <a:lnTo>
                  <a:pt x="129547" y="45976"/>
                </a:lnTo>
                <a:lnTo>
                  <a:pt x="135970" y="36009"/>
                </a:lnTo>
                <a:lnTo>
                  <a:pt x="141359" y="30242"/>
                </a:lnTo>
                <a:lnTo>
                  <a:pt x="143770" y="28731"/>
                </a:lnTo>
                <a:lnTo>
                  <a:pt x="148989" y="27052"/>
                </a:lnTo>
                <a:lnTo>
                  <a:pt x="165470" y="25886"/>
                </a:lnTo>
                <a:lnTo>
                  <a:pt x="170322" y="25827"/>
                </a:lnTo>
                <a:lnTo>
                  <a:pt x="180791" y="23221"/>
                </a:lnTo>
                <a:lnTo>
                  <a:pt x="186250" y="21193"/>
                </a:lnTo>
                <a:lnTo>
                  <a:pt x="199936" y="18939"/>
                </a:lnTo>
                <a:lnTo>
                  <a:pt x="215543" y="16985"/>
                </a:lnTo>
                <a:lnTo>
                  <a:pt x="232006" y="12941"/>
                </a:lnTo>
                <a:lnTo>
                  <a:pt x="248846" y="10509"/>
                </a:lnTo>
                <a:lnTo>
                  <a:pt x="265856" y="9428"/>
                </a:lnTo>
                <a:lnTo>
                  <a:pt x="282941" y="8948"/>
                </a:lnTo>
                <a:lnTo>
                  <a:pt x="346264" y="8597"/>
                </a:lnTo>
                <a:lnTo>
                  <a:pt x="357526" y="7634"/>
                </a:lnTo>
                <a:lnTo>
                  <a:pt x="368843" y="6039"/>
                </a:lnTo>
                <a:lnTo>
                  <a:pt x="380198" y="4023"/>
                </a:lnTo>
                <a:lnTo>
                  <a:pt x="390626" y="2679"/>
                </a:lnTo>
                <a:lnTo>
                  <a:pt x="409831" y="1186"/>
                </a:lnTo>
                <a:lnTo>
                  <a:pt x="419906" y="788"/>
                </a:lnTo>
                <a:lnTo>
                  <a:pt x="441260" y="345"/>
                </a:lnTo>
                <a:lnTo>
                  <a:pt x="531026" y="0"/>
                </a:lnTo>
                <a:lnTo>
                  <a:pt x="545892" y="2535"/>
                </a:lnTo>
                <a:lnTo>
                  <a:pt x="558848" y="5885"/>
                </a:lnTo>
                <a:lnTo>
                  <a:pt x="575902" y="8722"/>
                </a:lnTo>
                <a:lnTo>
                  <a:pt x="590680" y="15192"/>
                </a:lnTo>
                <a:lnTo>
                  <a:pt x="602771" y="16752"/>
                </a:lnTo>
                <a:lnTo>
                  <a:pt x="605683" y="17833"/>
                </a:lnTo>
                <a:lnTo>
                  <a:pt x="615512" y="24483"/>
                </a:lnTo>
                <a:lnTo>
                  <a:pt x="616082" y="25844"/>
                </a:lnTo>
                <a:lnTo>
                  <a:pt x="617221" y="342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MARTPenAnnotation772"/>
          <p:cNvSpPr/>
          <p:nvPr/>
        </p:nvSpPr>
        <p:spPr>
          <a:xfrm>
            <a:off x="8447040" y="4268880"/>
            <a:ext cx="274680" cy="325440"/>
          </a:xfrm>
          <a:custGeom>
            <a:avLst/>
            <a:gdLst>
              <a:gd name="textAreaLeft" fmla="*/ 0 w 274680"/>
              <a:gd name="textAreaRight" fmla="*/ 275040 w 27468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274322" h="325742">
                <a:moveTo>
                  <a:pt x="274321" y="8572"/>
                </a:moveTo>
                <a:lnTo>
                  <a:pt x="274321" y="1191"/>
                </a:lnTo>
                <a:lnTo>
                  <a:pt x="273368" y="794"/>
                </a:lnTo>
                <a:lnTo>
                  <a:pt x="265590" y="70"/>
                </a:lnTo>
                <a:lnTo>
                  <a:pt x="212108" y="0"/>
                </a:lnTo>
                <a:lnTo>
                  <a:pt x="205223" y="952"/>
                </a:lnTo>
                <a:lnTo>
                  <a:pt x="198728" y="2540"/>
                </a:lnTo>
                <a:lnTo>
                  <a:pt x="192494" y="4551"/>
                </a:lnTo>
                <a:lnTo>
                  <a:pt x="186431" y="5891"/>
                </a:lnTo>
                <a:lnTo>
                  <a:pt x="180485" y="6785"/>
                </a:lnTo>
                <a:lnTo>
                  <a:pt x="174616" y="7380"/>
                </a:lnTo>
                <a:lnTo>
                  <a:pt x="169751" y="7778"/>
                </a:lnTo>
                <a:lnTo>
                  <a:pt x="161806" y="8219"/>
                </a:lnTo>
                <a:lnTo>
                  <a:pt x="152559" y="8415"/>
                </a:lnTo>
                <a:lnTo>
                  <a:pt x="94345" y="8572"/>
                </a:lnTo>
                <a:lnTo>
                  <a:pt x="94313" y="13123"/>
                </a:lnTo>
                <a:lnTo>
                  <a:pt x="93355" y="14463"/>
                </a:lnTo>
                <a:lnTo>
                  <a:pt x="91764" y="15357"/>
                </a:lnTo>
                <a:lnTo>
                  <a:pt x="89751" y="15953"/>
                </a:lnTo>
                <a:lnTo>
                  <a:pt x="88410" y="17303"/>
                </a:lnTo>
                <a:lnTo>
                  <a:pt x="87515" y="19155"/>
                </a:lnTo>
                <a:lnTo>
                  <a:pt x="86918" y="21342"/>
                </a:lnTo>
                <a:lnTo>
                  <a:pt x="86256" y="28853"/>
                </a:lnTo>
                <a:lnTo>
                  <a:pt x="85961" y="37588"/>
                </a:lnTo>
                <a:lnTo>
                  <a:pt x="85796" y="48813"/>
                </a:lnTo>
                <a:lnTo>
                  <a:pt x="85757" y="58525"/>
                </a:lnTo>
                <a:lnTo>
                  <a:pt x="84794" y="63781"/>
                </a:lnTo>
                <a:lnTo>
                  <a:pt x="83200" y="69191"/>
                </a:lnTo>
                <a:lnTo>
                  <a:pt x="79840" y="79329"/>
                </a:lnTo>
                <a:lnTo>
                  <a:pt x="78347" y="87010"/>
                </a:lnTo>
                <a:lnTo>
                  <a:pt x="75144" y="96138"/>
                </a:lnTo>
                <a:lnTo>
                  <a:pt x="72955" y="101240"/>
                </a:lnTo>
                <a:lnTo>
                  <a:pt x="67985" y="111988"/>
                </a:lnTo>
                <a:lnTo>
                  <a:pt x="63554" y="122162"/>
                </a:lnTo>
                <a:lnTo>
                  <a:pt x="61584" y="129859"/>
                </a:lnTo>
                <a:lnTo>
                  <a:pt x="60475" y="139547"/>
                </a:lnTo>
                <a:lnTo>
                  <a:pt x="59366" y="142561"/>
                </a:lnTo>
                <a:lnTo>
                  <a:pt x="52668" y="152570"/>
                </a:lnTo>
                <a:lnTo>
                  <a:pt x="51445" y="154292"/>
                </a:lnTo>
                <a:lnTo>
                  <a:pt x="55989" y="154300"/>
                </a:lnTo>
                <a:lnTo>
                  <a:pt x="58281" y="153349"/>
                </a:lnTo>
                <a:lnTo>
                  <a:pt x="66057" y="148412"/>
                </a:lnTo>
                <a:lnTo>
                  <a:pt x="74395" y="145573"/>
                </a:lnTo>
                <a:lnTo>
                  <a:pt x="80055" y="141534"/>
                </a:lnTo>
                <a:lnTo>
                  <a:pt x="88285" y="136564"/>
                </a:lnTo>
                <a:lnTo>
                  <a:pt x="98293" y="131180"/>
                </a:lnTo>
                <a:lnTo>
                  <a:pt x="125881" y="117123"/>
                </a:lnTo>
                <a:lnTo>
                  <a:pt x="131546" y="115229"/>
                </a:lnTo>
                <a:lnTo>
                  <a:pt x="137227" y="113966"/>
                </a:lnTo>
                <a:lnTo>
                  <a:pt x="142920" y="113125"/>
                </a:lnTo>
                <a:lnTo>
                  <a:pt x="148621" y="112564"/>
                </a:lnTo>
                <a:lnTo>
                  <a:pt x="154326" y="112190"/>
                </a:lnTo>
                <a:lnTo>
                  <a:pt x="160034" y="111941"/>
                </a:lnTo>
                <a:lnTo>
                  <a:pt x="171457" y="111664"/>
                </a:lnTo>
                <a:lnTo>
                  <a:pt x="177169" y="111590"/>
                </a:lnTo>
                <a:lnTo>
                  <a:pt x="182883" y="112493"/>
                </a:lnTo>
                <a:lnTo>
                  <a:pt x="188598" y="114048"/>
                </a:lnTo>
                <a:lnTo>
                  <a:pt x="194312" y="116037"/>
                </a:lnTo>
                <a:lnTo>
                  <a:pt x="200027" y="118315"/>
                </a:lnTo>
                <a:lnTo>
                  <a:pt x="205742" y="120787"/>
                </a:lnTo>
                <a:lnTo>
                  <a:pt x="211456" y="123387"/>
                </a:lnTo>
                <a:lnTo>
                  <a:pt x="216219" y="126073"/>
                </a:lnTo>
                <a:lnTo>
                  <a:pt x="224050" y="131597"/>
                </a:lnTo>
                <a:lnTo>
                  <a:pt x="230705" y="137227"/>
                </a:lnTo>
                <a:lnTo>
                  <a:pt x="233814" y="140063"/>
                </a:lnTo>
                <a:lnTo>
                  <a:pt x="239808" y="148292"/>
                </a:lnTo>
                <a:lnTo>
                  <a:pt x="242740" y="153154"/>
                </a:lnTo>
                <a:lnTo>
                  <a:pt x="244694" y="158300"/>
                </a:lnTo>
                <a:lnTo>
                  <a:pt x="245998" y="163636"/>
                </a:lnTo>
                <a:lnTo>
                  <a:pt x="246866" y="169098"/>
                </a:lnTo>
                <a:lnTo>
                  <a:pt x="247445" y="174645"/>
                </a:lnTo>
                <a:lnTo>
                  <a:pt x="247831" y="180247"/>
                </a:lnTo>
                <a:lnTo>
                  <a:pt x="248088" y="185887"/>
                </a:lnTo>
                <a:lnTo>
                  <a:pt x="248375" y="197234"/>
                </a:lnTo>
                <a:lnTo>
                  <a:pt x="248450" y="202926"/>
                </a:lnTo>
                <a:lnTo>
                  <a:pt x="247549" y="208627"/>
                </a:lnTo>
                <a:lnTo>
                  <a:pt x="245995" y="214332"/>
                </a:lnTo>
                <a:lnTo>
                  <a:pt x="244007" y="220040"/>
                </a:lnTo>
                <a:lnTo>
                  <a:pt x="240777" y="226703"/>
                </a:lnTo>
                <a:lnTo>
                  <a:pt x="236718" y="234003"/>
                </a:lnTo>
                <a:lnTo>
                  <a:pt x="232108" y="241727"/>
                </a:lnTo>
                <a:lnTo>
                  <a:pt x="227129" y="248781"/>
                </a:lnTo>
                <a:lnTo>
                  <a:pt x="221904" y="255389"/>
                </a:lnTo>
                <a:lnTo>
                  <a:pt x="216517" y="261699"/>
                </a:lnTo>
                <a:lnTo>
                  <a:pt x="211020" y="268764"/>
                </a:lnTo>
                <a:lnTo>
                  <a:pt x="205450" y="276331"/>
                </a:lnTo>
                <a:lnTo>
                  <a:pt x="199831" y="284232"/>
                </a:lnTo>
                <a:lnTo>
                  <a:pt x="193229" y="290453"/>
                </a:lnTo>
                <a:lnTo>
                  <a:pt x="185969" y="295553"/>
                </a:lnTo>
                <a:lnTo>
                  <a:pt x="171236" y="303759"/>
                </a:lnTo>
                <a:lnTo>
                  <a:pt x="158338" y="310581"/>
                </a:lnTo>
                <a:lnTo>
                  <a:pt x="151279" y="313734"/>
                </a:lnTo>
                <a:lnTo>
                  <a:pt x="143715" y="316789"/>
                </a:lnTo>
                <a:lnTo>
                  <a:pt x="135816" y="319777"/>
                </a:lnTo>
                <a:lnTo>
                  <a:pt x="128644" y="321770"/>
                </a:lnTo>
                <a:lnTo>
                  <a:pt x="121958" y="323098"/>
                </a:lnTo>
                <a:lnTo>
                  <a:pt x="115595" y="323984"/>
                </a:lnTo>
                <a:lnTo>
                  <a:pt x="109449" y="324574"/>
                </a:lnTo>
                <a:lnTo>
                  <a:pt x="103446" y="324968"/>
                </a:lnTo>
                <a:lnTo>
                  <a:pt x="97540" y="325230"/>
                </a:lnTo>
                <a:lnTo>
                  <a:pt x="85896" y="325522"/>
                </a:lnTo>
                <a:lnTo>
                  <a:pt x="45730" y="325741"/>
                </a:lnTo>
                <a:lnTo>
                  <a:pt x="40965" y="324793"/>
                </a:lnTo>
                <a:lnTo>
                  <a:pt x="29706" y="319861"/>
                </a:lnTo>
                <a:lnTo>
                  <a:pt x="23362" y="318372"/>
                </a:lnTo>
                <a:lnTo>
                  <a:pt x="17368" y="315171"/>
                </a:lnTo>
                <a:lnTo>
                  <a:pt x="10311" y="309906"/>
                </a:lnTo>
                <a:lnTo>
                  <a:pt x="6806" y="309186"/>
                </a:lnTo>
                <a:lnTo>
                  <a:pt x="0" y="3086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quadratic formul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b ± √b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4a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0x-1=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MARTPenAnnotation526"/>
          <p:cNvSpPr/>
          <p:nvPr/>
        </p:nvSpPr>
        <p:spPr>
          <a:xfrm>
            <a:off x="2189160" y="1679400"/>
            <a:ext cx="1568520" cy="1764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568617" h="17146">
                <a:moveTo>
                  <a:pt x="0" y="17145"/>
                </a:moveTo>
                <a:lnTo>
                  <a:pt x="20505" y="17145"/>
                </a:lnTo>
                <a:lnTo>
                  <a:pt x="23195" y="16192"/>
                </a:lnTo>
                <a:lnTo>
                  <a:pt x="25941" y="14604"/>
                </a:lnTo>
                <a:lnTo>
                  <a:pt x="32641" y="9764"/>
                </a:lnTo>
                <a:lnTo>
                  <a:pt x="35096" y="9366"/>
                </a:lnTo>
                <a:lnTo>
                  <a:pt x="42903" y="8925"/>
                </a:lnTo>
                <a:lnTo>
                  <a:pt x="86998" y="8573"/>
                </a:lnTo>
                <a:lnTo>
                  <a:pt x="118424" y="8572"/>
                </a:lnTo>
                <a:lnTo>
                  <a:pt x="123717" y="7620"/>
                </a:lnTo>
                <a:lnTo>
                  <a:pt x="129151" y="6032"/>
                </a:lnTo>
                <a:lnTo>
                  <a:pt x="134678" y="4021"/>
                </a:lnTo>
                <a:lnTo>
                  <a:pt x="139316" y="2681"/>
                </a:lnTo>
                <a:lnTo>
                  <a:pt x="143360" y="1787"/>
                </a:lnTo>
                <a:lnTo>
                  <a:pt x="147008" y="1191"/>
                </a:lnTo>
                <a:lnTo>
                  <a:pt x="151346" y="794"/>
                </a:lnTo>
                <a:lnTo>
                  <a:pt x="161245" y="353"/>
                </a:lnTo>
                <a:lnTo>
                  <a:pt x="205788" y="13"/>
                </a:lnTo>
                <a:lnTo>
                  <a:pt x="211487" y="9"/>
                </a:lnTo>
                <a:lnTo>
                  <a:pt x="216239" y="958"/>
                </a:lnTo>
                <a:lnTo>
                  <a:pt x="220360" y="2544"/>
                </a:lnTo>
                <a:lnTo>
                  <a:pt x="224059" y="4553"/>
                </a:lnTo>
                <a:lnTo>
                  <a:pt x="228430" y="5893"/>
                </a:lnTo>
                <a:lnTo>
                  <a:pt x="233250" y="6786"/>
                </a:lnTo>
                <a:lnTo>
                  <a:pt x="238367" y="7381"/>
                </a:lnTo>
                <a:lnTo>
                  <a:pt x="243684" y="7778"/>
                </a:lnTo>
                <a:lnTo>
                  <a:pt x="254672" y="8219"/>
                </a:lnTo>
                <a:lnTo>
                  <a:pt x="299283" y="8551"/>
                </a:lnTo>
                <a:lnTo>
                  <a:pt x="382574" y="8572"/>
                </a:lnTo>
                <a:lnTo>
                  <a:pt x="388400" y="9524"/>
                </a:lnTo>
                <a:lnTo>
                  <a:pt x="394188" y="11112"/>
                </a:lnTo>
                <a:lnTo>
                  <a:pt x="399952" y="13123"/>
                </a:lnTo>
                <a:lnTo>
                  <a:pt x="406653" y="14463"/>
                </a:lnTo>
                <a:lnTo>
                  <a:pt x="413977" y="15357"/>
                </a:lnTo>
                <a:lnTo>
                  <a:pt x="421717" y="15953"/>
                </a:lnTo>
                <a:lnTo>
                  <a:pt x="428782" y="15398"/>
                </a:lnTo>
                <a:lnTo>
                  <a:pt x="435397" y="14075"/>
                </a:lnTo>
                <a:lnTo>
                  <a:pt x="441713" y="12241"/>
                </a:lnTo>
                <a:lnTo>
                  <a:pt x="448780" y="11018"/>
                </a:lnTo>
                <a:lnTo>
                  <a:pt x="456349" y="10203"/>
                </a:lnTo>
                <a:lnTo>
                  <a:pt x="464253" y="9659"/>
                </a:lnTo>
                <a:lnTo>
                  <a:pt x="471427" y="9297"/>
                </a:lnTo>
                <a:lnTo>
                  <a:pt x="484479" y="8894"/>
                </a:lnTo>
                <a:lnTo>
                  <a:pt x="491579" y="9739"/>
                </a:lnTo>
                <a:lnTo>
                  <a:pt x="499169" y="11255"/>
                </a:lnTo>
                <a:lnTo>
                  <a:pt x="507087" y="13218"/>
                </a:lnTo>
                <a:lnTo>
                  <a:pt x="514271" y="14527"/>
                </a:lnTo>
                <a:lnTo>
                  <a:pt x="520965" y="15400"/>
                </a:lnTo>
                <a:lnTo>
                  <a:pt x="527332" y="15981"/>
                </a:lnTo>
                <a:lnTo>
                  <a:pt x="534435" y="16369"/>
                </a:lnTo>
                <a:lnTo>
                  <a:pt x="549947" y="16800"/>
                </a:lnTo>
                <a:lnTo>
                  <a:pt x="1134430" y="17145"/>
                </a:lnTo>
                <a:lnTo>
                  <a:pt x="1145859" y="16192"/>
                </a:lnTo>
                <a:lnTo>
                  <a:pt x="1157289" y="14604"/>
                </a:lnTo>
                <a:lnTo>
                  <a:pt x="1168718" y="12594"/>
                </a:lnTo>
                <a:lnTo>
                  <a:pt x="1180148" y="11253"/>
                </a:lnTo>
                <a:lnTo>
                  <a:pt x="1191578" y="10360"/>
                </a:lnTo>
                <a:lnTo>
                  <a:pt x="1203008" y="9764"/>
                </a:lnTo>
                <a:lnTo>
                  <a:pt x="1225868" y="9102"/>
                </a:lnTo>
                <a:lnTo>
                  <a:pt x="1301327" y="8603"/>
                </a:lnTo>
                <a:lnTo>
                  <a:pt x="1361688" y="8575"/>
                </a:lnTo>
                <a:lnTo>
                  <a:pt x="1371659" y="9526"/>
                </a:lnTo>
                <a:lnTo>
                  <a:pt x="1382117" y="11113"/>
                </a:lnTo>
                <a:lnTo>
                  <a:pt x="1392899" y="13124"/>
                </a:lnTo>
                <a:lnTo>
                  <a:pt x="1402945" y="14464"/>
                </a:lnTo>
                <a:lnTo>
                  <a:pt x="1412499" y="15358"/>
                </a:lnTo>
                <a:lnTo>
                  <a:pt x="1421726" y="15953"/>
                </a:lnTo>
                <a:lnTo>
                  <a:pt x="1430735" y="16350"/>
                </a:lnTo>
                <a:lnTo>
                  <a:pt x="1457067" y="15957"/>
                </a:lnTo>
                <a:lnTo>
                  <a:pt x="1465726" y="14448"/>
                </a:lnTo>
                <a:lnTo>
                  <a:pt x="1474355" y="12489"/>
                </a:lnTo>
                <a:lnTo>
                  <a:pt x="1482014" y="11183"/>
                </a:lnTo>
                <a:lnTo>
                  <a:pt x="1489024" y="10313"/>
                </a:lnTo>
                <a:lnTo>
                  <a:pt x="1495603" y="9733"/>
                </a:lnTo>
                <a:lnTo>
                  <a:pt x="1501894" y="9346"/>
                </a:lnTo>
                <a:lnTo>
                  <a:pt x="1513963" y="8916"/>
                </a:lnTo>
                <a:lnTo>
                  <a:pt x="1544170" y="8602"/>
                </a:lnTo>
                <a:lnTo>
                  <a:pt x="1547607" y="7640"/>
                </a:lnTo>
                <a:lnTo>
                  <a:pt x="1550850" y="6045"/>
                </a:lnTo>
                <a:lnTo>
                  <a:pt x="1553965" y="4030"/>
                </a:lnTo>
                <a:lnTo>
                  <a:pt x="1556995" y="2687"/>
                </a:lnTo>
                <a:lnTo>
                  <a:pt x="1559967" y="1791"/>
                </a:lnTo>
                <a:lnTo>
                  <a:pt x="1568616" y="31"/>
                </a:lnTo>
                <a:lnTo>
                  <a:pt x="153447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MARTPenAnnotation527"/>
          <p:cNvSpPr/>
          <p:nvPr/>
        </p:nvSpPr>
        <p:spPr>
          <a:xfrm>
            <a:off x="4135320" y="2049480"/>
            <a:ext cx="398520" cy="33480"/>
          </a:xfrm>
          <a:custGeom>
            <a:avLst/>
            <a:gdLst>
              <a:gd name="textAreaLeft" fmla="*/ 0 w 398520"/>
              <a:gd name="textAreaRight" fmla="*/ 398880 w 3985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99091" h="34291">
                <a:moveTo>
                  <a:pt x="8468" y="34290"/>
                </a:moveTo>
                <a:lnTo>
                  <a:pt x="0" y="34290"/>
                </a:lnTo>
                <a:lnTo>
                  <a:pt x="8117" y="34290"/>
                </a:lnTo>
                <a:lnTo>
                  <a:pt x="9186" y="33337"/>
                </a:lnTo>
                <a:lnTo>
                  <a:pt x="15818" y="26909"/>
                </a:lnTo>
                <a:lnTo>
                  <a:pt x="19037" y="26247"/>
                </a:lnTo>
                <a:lnTo>
                  <a:pt x="28864" y="25822"/>
                </a:lnTo>
                <a:lnTo>
                  <a:pt x="70392" y="25718"/>
                </a:lnTo>
                <a:lnTo>
                  <a:pt x="74515" y="24766"/>
                </a:lnTo>
                <a:lnTo>
                  <a:pt x="79170" y="23178"/>
                </a:lnTo>
                <a:lnTo>
                  <a:pt x="84178" y="21167"/>
                </a:lnTo>
                <a:lnTo>
                  <a:pt x="88468" y="19826"/>
                </a:lnTo>
                <a:lnTo>
                  <a:pt x="92281" y="18933"/>
                </a:lnTo>
                <a:lnTo>
                  <a:pt x="99058" y="17940"/>
                </a:lnTo>
                <a:lnTo>
                  <a:pt x="109181" y="17380"/>
                </a:lnTo>
                <a:lnTo>
                  <a:pt x="130116" y="17176"/>
                </a:lnTo>
                <a:lnTo>
                  <a:pt x="254575" y="17145"/>
                </a:lnTo>
                <a:lnTo>
                  <a:pt x="259217" y="16193"/>
                </a:lnTo>
                <a:lnTo>
                  <a:pt x="263264" y="14605"/>
                </a:lnTo>
                <a:lnTo>
                  <a:pt x="266914" y="12594"/>
                </a:lnTo>
                <a:lnTo>
                  <a:pt x="271253" y="11254"/>
                </a:lnTo>
                <a:lnTo>
                  <a:pt x="276050" y="10360"/>
                </a:lnTo>
                <a:lnTo>
                  <a:pt x="286461" y="9367"/>
                </a:lnTo>
                <a:lnTo>
                  <a:pt x="297437" y="8926"/>
                </a:lnTo>
                <a:lnTo>
                  <a:pt x="309776" y="8677"/>
                </a:lnTo>
                <a:lnTo>
                  <a:pt x="349809" y="8575"/>
                </a:lnTo>
                <a:lnTo>
                  <a:pt x="354139" y="7622"/>
                </a:lnTo>
                <a:lnTo>
                  <a:pt x="357977" y="6034"/>
                </a:lnTo>
                <a:lnTo>
                  <a:pt x="361489" y="4023"/>
                </a:lnTo>
                <a:lnTo>
                  <a:pt x="364783" y="2682"/>
                </a:lnTo>
                <a:lnTo>
                  <a:pt x="367931" y="1788"/>
                </a:lnTo>
                <a:lnTo>
                  <a:pt x="373969" y="795"/>
                </a:lnTo>
                <a:lnTo>
                  <a:pt x="385459" y="70"/>
                </a:lnTo>
                <a:lnTo>
                  <a:pt x="399090" y="1"/>
                </a:lnTo>
                <a:lnTo>
                  <a:pt x="39423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MARTPenAnnotation528"/>
          <p:cNvSpPr/>
          <p:nvPr/>
        </p:nvSpPr>
        <p:spPr>
          <a:xfrm>
            <a:off x="4649760" y="1928880"/>
            <a:ext cx="50760" cy="350640"/>
          </a:xfrm>
          <a:custGeom>
            <a:avLst/>
            <a:gdLst>
              <a:gd name="textAreaLeft" fmla="*/ 0 w 50760"/>
              <a:gd name="textAreaRight" fmla="*/ 51120 w 5076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51434" h="351474">
                <a:moveTo>
                  <a:pt x="8571" y="0"/>
                </a:moveTo>
                <a:lnTo>
                  <a:pt x="0" y="0"/>
                </a:lnTo>
                <a:lnTo>
                  <a:pt x="4549" y="0"/>
                </a:lnTo>
                <a:lnTo>
                  <a:pt x="5890" y="953"/>
                </a:lnTo>
                <a:lnTo>
                  <a:pt x="6784" y="2540"/>
                </a:lnTo>
                <a:lnTo>
                  <a:pt x="7776" y="6844"/>
                </a:lnTo>
                <a:lnTo>
                  <a:pt x="8218" y="11932"/>
                </a:lnTo>
                <a:lnTo>
                  <a:pt x="9288" y="14622"/>
                </a:lnTo>
                <a:lnTo>
                  <a:pt x="10954" y="17368"/>
                </a:lnTo>
                <a:lnTo>
                  <a:pt x="13017" y="20151"/>
                </a:lnTo>
                <a:lnTo>
                  <a:pt x="14392" y="22959"/>
                </a:lnTo>
                <a:lnTo>
                  <a:pt x="15920" y="28619"/>
                </a:lnTo>
                <a:lnTo>
                  <a:pt x="16781" y="37161"/>
                </a:lnTo>
                <a:lnTo>
                  <a:pt x="17854" y="40966"/>
                </a:lnTo>
                <a:lnTo>
                  <a:pt x="19522" y="45408"/>
                </a:lnTo>
                <a:lnTo>
                  <a:pt x="21587" y="50275"/>
                </a:lnTo>
                <a:lnTo>
                  <a:pt x="22963" y="54471"/>
                </a:lnTo>
                <a:lnTo>
                  <a:pt x="24492" y="61675"/>
                </a:lnTo>
                <a:lnTo>
                  <a:pt x="25172" y="70591"/>
                </a:lnTo>
                <a:lnTo>
                  <a:pt x="25474" y="80904"/>
                </a:lnTo>
                <a:lnTo>
                  <a:pt x="25706" y="125765"/>
                </a:lnTo>
                <a:lnTo>
                  <a:pt x="26662" y="131468"/>
                </a:lnTo>
                <a:lnTo>
                  <a:pt x="28251" y="137176"/>
                </a:lnTo>
                <a:lnTo>
                  <a:pt x="30264" y="142885"/>
                </a:lnTo>
                <a:lnTo>
                  <a:pt x="31606" y="148597"/>
                </a:lnTo>
                <a:lnTo>
                  <a:pt x="32500" y="154310"/>
                </a:lnTo>
                <a:lnTo>
                  <a:pt x="33095" y="160023"/>
                </a:lnTo>
                <a:lnTo>
                  <a:pt x="33493" y="165737"/>
                </a:lnTo>
                <a:lnTo>
                  <a:pt x="33758" y="171452"/>
                </a:lnTo>
                <a:lnTo>
                  <a:pt x="34053" y="182881"/>
                </a:lnTo>
                <a:lnTo>
                  <a:pt x="34257" y="206904"/>
                </a:lnTo>
                <a:lnTo>
                  <a:pt x="35220" y="211279"/>
                </a:lnTo>
                <a:lnTo>
                  <a:pt x="36814" y="216100"/>
                </a:lnTo>
                <a:lnTo>
                  <a:pt x="38830" y="221219"/>
                </a:lnTo>
                <a:lnTo>
                  <a:pt x="40173" y="226537"/>
                </a:lnTo>
                <a:lnTo>
                  <a:pt x="41069" y="231987"/>
                </a:lnTo>
                <a:lnTo>
                  <a:pt x="41666" y="237526"/>
                </a:lnTo>
                <a:lnTo>
                  <a:pt x="42064" y="243123"/>
                </a:lnTo>
                <a:lnTo>
                  <a:pt x="42330" y="248759"/>
                </a:lnTo>
                <a:lnTo>
                  <a:pt x="42507" y="254422"/>
                </a:lnTo>
                <a:lnTo>
                  <a:pt x="43577" y="259150"/>
                </a:lnTo>
                <a:lnTo>
                  <a:pt x="45243" y="263254"/>
                </a:lnTo>
                <a:lnTo>
                  <a:pt x="47306" y="266943"/>
                </a:lnTo>
                <a:lnTo>
                  <a:pt x="48682" y="271307"/>
                </a:lnTo>
                <a:lnTo>
                  <a:pt x="50210" y="281236"/>
                </a:lnTo>
                <a:lnTo>
                  <a:pt x="49666" y="285598"/>
                </a:lnTo>
                <a:lnTo>
                  <a:pt x="48349" y="289459"/>
                </a:lnTo>
                <a:lnTo>
                  <a:pt x="46520" y="292985"/>
                </a:lnTo>
                <a:lnTo>
                  <a:pt x="46253" y="296288"/>
                </a:lnTo>
                <a:lnTo>
                  <a:pt x="47027" y="299443"/>
                </a:lnTo>
                <a:lnTo>
                  <a:pt x="48496" y="302499"/>
                </a:lnTo>
                <a:lnTo>
                  <a:pt x="49475" y="305489"/>
                </a:lnTo>
                <a:lnTo>
                  <a:pt x="50853" y="314247"/>
                </a:lnTo>
                <a:lnTo>
                  <a:pt x="51261" y="322874"/>
                </a:lnTo>
                <a:lnTo>
                  <a:pt x="51411" y="332631"/>
                </a:lnTo>
                <a:lnTo>
                  <a:pt x="51433" y="3514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MARTPenAnnotation529"/>
          <p:cNvSpPr/>
          <p:nvPr/>
        </p:nvSpPr>
        <p:spPr>
          <a:xfrm>
            <a:off x="4811760" y="1938240"/>
            <a:ext cx="214200" cy="351000"/>
          </a:xfrm>
          <a:custGeom>
            <a:avLst/>
            <a:gdLst>
              <a:gd name="textAreaLeft" fmla="*/ 0 w 214200"/>
              <a:gd name="textAreaRight" fmla="*/ 214560 w 21420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4187" h="351002">
                <a:moveTo>
                  <a:pt x="42853" y="8219"/>
                </a:moveTo>
                <a:lnTo>
                  <a:pt x="42853" y="3668"/>
                </a:lnTo>
                <a:lnTo>
                  <a:pt x="41901" y="2328"/>
                </a:lnTo>
                <a:lnTo>
                  <a:pt x="40313" y="1434"/>
                </a:lnTo>
                <a:lnTo>
                  <a:pt x="35472" y="0"/>
                </a:lnTo>
                <a:lnTo>
                  <a:pt x="35075" y="834"/>
                </a:lnTo>
                <a:lnTo>
                  <a:pt x="34385" y="7058"/>
                </a:lnTo>
                <a:lnTo>
                  <a:pt x="34311" y="12426"/>
                </a:lnTo>
                <a:lnTo>
                  <a:pt x="33348" y="13881"/>
                </a:lnTo>
                <a:lnTo>
                  <a:pt x="31754" y="14851"/>
                </a:lnTo>
                <a:lnTo>
                  <a:pt x="29739" y="15498"/>
                </a:lnTo>
                <a:lnTo>
                  <a:pt x="28395" y="17834"/>
                </a:lnTo>
                <a:lnTo>
                  <a:pt x="26902" y="25510"/>
                </a:lnTo>
                <a:lnTo>
                  <a:pt x="26062" y="35991"/>
                </a:lnTo>
                <a:lnTo>
                  <a:pt x="24991" y="39116"/>
                </a:lnTo>
                <a:lnTo>
                  <a:pt x="21262" y="45129"/>
                </a:lnTo>
                <a:lnTo>
                  <a:pt x="18969" y="53516"/>
                </a:lnTo>
                <a:lnTo>
                  <a:pt x="17951" y="62641"/>
                </a:lnTo>
                <a:lnTo>
                  <a:pt x="17497" y="69872"/>
                </a:lnTo>
                <a:lnTo>
                  <a:pt x="14756" y="78800"/>
                </a:lnTo>
                <a:lnTo>
                  <a:pt x="11316" y="89118"/>
                </a:lnTo>
                <a:lnTo>
                  <a:pt x="9786" y="100054"/>
                </a:lnTo>
                <a:lnTo>
                  <a:pt x="9379" y="105638"/>
                </a:lnTo>
                <a:lnTo>
                  <a:pt x="9107" y="111265"/>
                </a:lnTo>
                <a:lnTo>
                  <a:pt x="8926" y="116921"/>
                </a:lnTo>
                <a:lnTo>
                  <a:pt x="7852" y="122597"/>
                </a:lnTo>
                <a:lnTo>
                  <a:pt x="6184" y="128286"/>
                </a:lnTo>
                <a:lnTo>
                  <a:pt x="4120" y="133984"/>
                </a:lnTo>
                <a:lnTo>
                  <a:pt x="2743" y="139687"/>
                </a:lnTo>
                <a:lnTo>
                  <a:pt x="1826" y="145394"/>
                </a:lnTo>
                <a:lnTo>
                  <a:pt x="1214" y="151104"/>
                </a:lnTo>
                <a:lnTo>
                  <a:pt x="806" y="156816"/>
                </a:lnTo>
                <a:lnTo>
                  <a:pt x="534" y="162529"/>
                </a:lnTo>
                <a:lnTo>
                  <a:pt x="232" y="173956"/>
                </a:lnTo>
                <a:lnTo>
                  <a:pt x="0" y="219674"/>
                </a:lnTo>
                <a:lnTo>
                  <a:pt x="950" y="225389"/>
                </a:lnTo>
                <a:lnTo>
                  <a:pt x="2535" y="231104"/>
                </a:lnTo>
                <a:lnTo>
                  <a:pt x="4544" y="236819"/>
                </a:lnTo>
                <a:lnTo>
                  <a:pt x="5884" y="242534"/>
                </a:lnTo>
                <a:lnTo>
                  <a:pt x="6777" y="248249"/>
                </a:lnTo>
                <a:lnTo>
                  <a:pt x="7373" y="253964"/>
                </a:lnTo>
                <a:lnTo>
                  <a:pt x="10574" y="262854"/>
                </a:lnTo>
                <a:lnTo>
                  <a:pt x="12761" y="266558"/>
                </a:lnTo>
                <a:lnTo>
                  <a:pt x="15191" y="275754"/>
                </a:lnTo>
                <a:lnTo>
                  <a:pt x="17224" y="286191"/>
                </a:lnTo>
                <a:lnTo>
                  <a:pt x="19100" y="291641"/>
                </a:lnTo>
                <a:lnTo>
                  <a:pt x="22771" y="301824"/>
                </a:lnTo>
                <a:lnTo>
                  <a:pt x="24402" y="309525"/>
                </a:lnTo>
                <a:lnTo>
                  <a:pt x="27668" y="316123"/>
                </a:lnTo>
                <a:lnTo>
                  <a:pt x="32294" y="322230"/>
                </a:lnTo>
                <a:lnTo>
                  <a:pt x="37525" y="328120"/>
                </a:lnTo>
                <a:lnTo>
                  <a:pt x="43025" y="333912"/>
                </a:lnTo>
                <a:lnTo>
                  <a:pt x="45825" y="336790"/>
                </a:lnTo>
                <a:lnTo>
                  <a:pt x="48644" y="338709"/>
                </a:lnTo>
                <a:lnTo>
                  <a:pt x="54317" y="340841"/>
                </a:lnTo>
                <a:lnTo>
                  <a:pt x="60013" y="344329"/>
                </a:lnTo>
                <a:lnTo>
                  <a:pt x="62866" y="346592"/>
                </a:lnTo>
                <a:lnTo>
                  <a:pt x="65720" y="348101"/>
                </a:lnTo>
                <a:lnTo>
                  <a:pt x="71431" y="349778"/>
                </a:lnTo>
                <a:lnTo>
                  <a:pt x="77145" y="350523"/>
                </a:lnTo>
                <a:lnTo>
                  <a:pt x="83811" y="350854"/>
                </a:lnTo>
                <a:lnTo>
                  <a:pt x="93124" y="351001"/>
                </a:lnTo>
                <a:lnTo>
                  <a:pt x="96369" y="350088"/>
                </a:lnTo>
                <a:lnTo>
                  <a:pt x="98533" y="348527"/>
                </a:lnTo>
                <a:lnTo>
                  <a:pt x="99976" y="346534"/>
                </a:lnTo>
                <a:lnTo>
                  <a:pt x="102842" y="345205"/>
                </a:lnTo>
                <a:lnTo>
                  <a:pt x="106659" y="344319"/>
                </a:lnTo>
                <a:lnTo>
                  <a:pt x="111108" y="343728"/>
                </a:lnTo>
                <a:lnTo>
                  <a:pt x="115026" y="342382"/>
                </a:lnTo>
                <a:lnTo>
                  <a:pt x="118591" y="340532"/>
                </a:lnTo>
                <a:lnTo>
                  <a:pt x="125092" y="335936"/>
                </a:lnTo>
                <a:lnTo>
                  <a:pt x="131156" y="330719"/>
                </a:lnTo>
                <a:lnTo>
                  <a:pt x="137027" y="325225"/>
                </a:lnTo>
                <a:lnTo>
                  <a:pt x="151422" y="311091"/>
                </a:lnTo>
                <a:lnTo>
                  <a:pt x="178848" y="283702"/>
                </a:lnTo>
                <a:lnTo>
                  <a:pt x="184258" y="275754"/>
                </a:lnTo>
                <a:lnTo>
                  <a:pt x="187614" y="268093"/>
                </a:lnTo>
                <a:lnTo>
                  <a:pt x="194860" y="253070"/>
                </a:lnTo>
                <a:lnTo>
                  <a:pt x="200264" y="242137"/>
                </a:lnTo>
                <a:lnTo>
                  <a:pt x="203301" y="233468"/>
                </a:lnTo>
                <a:lnTo>
                  <a:pt x="205603" y="225487"/>
                </a:lnTo>
                <a:lnTo>
                  <a:pt x="209802" y="215590"/>
                </a:lnTo>
                <a:lnTo>
                  <a:pt x="212302" y="204841"/>
                </a:lnTo>
                <a:lnTo>
                  <a:pt x="213414" y="194667"/>
                </a:lnTo>
                <a:lnTo>
                  <a:pt x="213908" y="186970"/>
                </a:lnTo>
                <a:lnTo>
                  <a:pt x="214127" y="177834"/>
                </a:lnTo>
                <a:lnTo>
                  <a:pt x="214186" y="172731"/>
                </a:lnTo>
                <a:lnTo>
                  <a:pt x="211711" y="161980"/>
                </a:lnTo>
                <a:lnTo>
                  <a:pt x="209718" y="156446"/>
                </a:lnTo>
                <a:lnTo>
                  <a:pt x="208389" y="150852"/>
                </a:lnTo>
                <a:lnTo>
                  <a:pt x="207503" y="145218"/>
                </a:lnTo>
                <a:lnTo>
                  <a:pt x="206912" y="139557"/>
                </a:lnTo>
                <a:lnTo>
                  <a:pt x="205565" y="133877"/>
                </a:lnTo>
                <a:lnTo>
                  <a:pt x="203716" y="128186"/>
                </a:lnTo>
                <a:lnTo>
                  <a:pt x="201530" y="122487"/>
                </a:lnTo>
                <a:lnTo>
                  <a:pt x="199120" y="116783"/>
                </a:lnTo>
                <a:lnTo>
                  <a:pt x="196561" y="111075"/>
                </a:lnTo>
                <a:lnTo>
                  <a:pt x="191178" y="99653"/>
                </a:lnTo>
                <a:lnTo>
                  <a:pt x="177121" y="71083"/>
                </a:lnTo>
                <a:lnTo>
                  <a:pt x="173322" y="66321"/>
                </a:lnTo>
                <a:lnTo>
                  <a:pt x="168885" y="62194"/>
                </a:lnTo>
                <a:lnTo>
                  <a:pt x="164022" y="58490"/>
                </a:lnTo>
                <a:lnTo>
                  <a:pt x="159828" y="54115"/>
                </a:lnTo>
                <a:lnTo>
                  <a:pt x="156079" y="49294"/>
                </a:lnTo>
                <a:lnTo>
                  <a:pt x="152627" y="44175"/>
                </a:lnTo>
                <a:lnTo>
                  <a:pt x="148421" y="40762"/>
                </a:lnTo>
                <a:lnTo>
                  <a:pt x="143711" y="38487"/>
                </a:lnTo>
                <a:lnTo>
                  <a:pt x="138667" y="36970"/>
                </a:lnTo>
                <a:lnTo>
                  <a:pt x="133399" y="35006"/>
                </a:lnTo>
                <a:lnTo>
                  <a:pt x="127982" y="32745"/>
                </a:lnTo>
                <a:lnTo>
                  <a:pt x="122466" y="30285"/>
                </a:lnTo>
                <a:lnTo>
                  <a:pt x="116883" y="28644"/>
                </a:lnTo>
                <a:lnTo>
                  <a:pt x="111256" y="27551"/>
                </a:lnTo>
                <a:lnTo>
                  <a:pt x="105601" y="26822"/>
                </a:lnTo>
                <a:lnTo>
                  <a:pt x="99925" y="27288"/>
                </a:lnTo>
                <a:lnTo>
                  <a:pt x="94236" y="28552"/>
                </a:lnTo>
                <a:lnTo>
                  <a:pt x="88538" y="30347"/>
                </a:lnTo>
                <a:lnTo>
                  <a:pt x="82835" y="31543"/>
                </a:lnTo>
                <a:lnTo>
                  <a:pt x="77128" y="32341"/>
                </a:lnTo>
                <a:lnTo>
                  <a:pt x="71418" y="32873"/>
                </a:lnTo>
                <a:lnTo>
                  <a:pt x="66658" y="33227"/>
                </a:lnTo>
                <a:lnTo>
                  <a:pt x="62534" y="33464"/>
                </a:lnTo>
                <a:lnTo>
                  <a:pt x="55410" y="33726"/>
                </a:lnTo>
                <a:lnTo>
                  <a:pt x="46044" y="33874"/>
                </a:lnTo>
                <a:lnTo>
                  <a:pt x="27414" y="33934"/>
                </a:lnTo>
                <a:lnTo>
                  <a:pt x="26845" y="34887"/>
                </a:lnTo>
                <a:lnTo>
                  <a:pt x="25708" y="4250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MARTPenAnnotation530"/>
          <p:cNvSpPr/>
          <p:nvPr/>
        </p:nvSpPr>
        <p:spPr>
          <a:xfrm>
            <a:off x="5146560" y="2065320"/>
            <a:ext cx="222480" cy="17640"/>
          </a:xfrm>
          <a:custGeom>
            <a:avLst/>
            <a:gdLst>
              <a:gd name="textAreaLeft" fmla="*/ 0 w 222480"/>
              <a:gd name="textAreaRight" fmla="*/ 222840 w 2224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22886" h="17041">
                <a:moveTo>
                  <a:pt x="8572" y="0"/>
                </a:moveTo>
                <a:lnTo>
                  <a:pt x="31" y="8542"/>
                </a:lnTo>
                <a:lnTo>
                  <a:pt x="3" y="8570"/>
                </a:lnTo>
                <a:lnTo>
                  <a:pt x="0" y="8572"/>
                </a:lnTo>
                <a:lnTo>
                  <a:pt x="7381" y="15954"/>
                </a:lnTo>
                <a:lnTo>
                  <a:pt x="9683" y="16351"/>
                </a:lnTo>
                <a:lnTo>
                  <a:pt x="13123" y="16615"/>
                </a:lnTo>
                <a:lnTo>
                  <a:pt x="23230" y="17040"/>
                </a:lnTo>
                <a:lnTo>
                  <a:pt x="25964" y="16123"/>
                </a:lnTo>
                <a:lnTo>
                  <a:pt x="29692" y="14559"/>
                </a:lnTo>
                <a:lnTo>
                  <a:pt x="34082" y="12563"/>
                </a:lnTo>
                <a:lnTo>
                  <a:pt x="38914" y="11233"/>
                </a:lnTo>
                <a:lnTo>
                  <a:pt x="44040" y="10346"/>
                </a:lnTo>
                <a:lnTo>
                  <a:pt x="49363" y="9755"/>
                </a:lnTo>
                <a:lnTo>
                  <a:pt x="53863" y="9361"/>
                </a:lnTo>
                <a:lnTo>
                  <a:pt x="57817" y="9098"/>
                </a:lnTo>
                <a:lnTo>
                  <a:pt x="64749" y="8806"/>
                </a:lnTo>
                <a:lnTo>
                  <a:pt x="71005" y="8676"/>
                </a:lnTo>
                <a:lnTo>
                  <a:pt x="134343" y="8573"/>
                </a:lnTo>
                <a:lnTo>
                  <a:pt x="139092" y="7621"/>
                </a:lnTo>
                <a:lnTo>
                  <a:pt x="143211" y="6033"/>
                </a:lnTo>
                <a:lnTo>
                  <a:pt x="146909" y="4022"/>
                </a:lnTo>
                <a:lnTo>
                  <a:pt x="151279" y="2681"/>
                </a:lnTo>
                <a:lnTo>
                  <a:pt x="156098" y="1788"/>
                </a:lnTo>
                <a:lnTo>
                  <a:pt x="161215" y="1192"/>
                </a:lnTo>
                <a:lnTo>
                  <a:pt x="165580" y="1747"/>
                </a:lnTo>
                <a:lnTo>
                  <a:pt x="169441" y="3070"/>
                </a:lnTo>
                <a:lnTo>
                  <a:pt x="172968" y="4904"/>
                </a:lnTo>
                <a:lnTo>
                  <a:pt x="177225" y="6127"/>
                </a:lnTo>
                <a:lnTo>
                  <a:pt x="181967" y="6942"/>
                </a:lnTo>
                <a:lnTo>
                  <a:pt x="187034" y="7486"/>
                </a:lnTo>
                <a:lnTo>
                  <a:pt x="191364" y="7848"/>
                </a:lnTo>
                <a:lnTo>
                  <a:pt x="195204" y="8089"/>
                </a:lnTo>
                <a:lnTo>
                  <a:pt x="202010" y="8358"/>
                </a:lnTo>
                <a:lnTo>
                  <a:pt x="212504" y="8544"/>
                </a:lnTo>
                <a:lnTo>
                  <a:pt x="222885" y="85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MARTPenAnnotation531"/>
          <p:cNvSpPr/>
          <p:nvPr/>
        </p:nvSpPr>
        <p:spPr>
          <a:xfrm>
            <a:off x="5232240" y="1971720"/>
            <a:ext cx="60480" cy="239760"/>
          </a:xfrm>
          <a:custGeom>
            <a:avLst/>
            <a:gdLst>
              <a:gd name="textAreaLeft" fmla="*/ 0 w 60480"/>
              <a:gd name="textAreaRight" fmla="*/ 60840 w 604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0008" h="240031">
                <a:moveTo>
                  <a:pt x="8571" y="0"/>
                </a:moveTo>
                <a:lnTo>
                  <a:pt x="8" y="0"/>
                </a:lnTo>
                <a:lnTo>
                  <a:pt x="0" y="11931"/>
                </a:lnTo>
                <a:lnTo>
                  <a:pt x="952" y="14621"/>
                </a:lnTo>
                <a:lnTo>
                  <a:pt x="2539" y="17368"/>
                </a:lnTo>
                <a:lnTo>
                  <a:pt x="4550" y="20151"/>
                </a:lnTo>
                <a:lnTo>
                  <a:pt x="5891" y="22959"/>
                </a:lnTo>
                <a:lnTo>
                  <a:pt x="7380" y="28618"/>
                </a:lnTo>
                <a:lnTo>
                  <a:pt x="8730" y="32414"/>
                </a:lnTo>
                <a:lnTo>
                  <a:pt x="10582" y="36849"/>
                </a:lnTo>
                <a:lnTo>
                  <a:pt x="12769" y="41711"/>
                </a:lnTo>
                <a:lnTo>
                  <a:pt x="17740" y="52193"/>
                </a:lnTo>
                <a:lnTo>
                  <a:pt x="20399" y="57655"/>
                </a:lnTo>
                <a:lnTo>
                  <a:pt x="22171" y="63202"/>
                </a:lnTo>
                <a:lnTo>
                  <a:pt x="23353" y="68804"/>
                </a:lnTo>
                <a:lnTo>
                  <a:pt x="24141" y="74444"/>
                </a:lnTo>
                <a:lnTo>
                  <a:pt x="24666" y="79157"/>
                </a:lnTo>
                <a:lnTo>
                  <a:pt x="25017" y="83251"/>
                </a:lnTo>
                <a:lnTo>
                  <a:pt x="25250" y="86933"/>
                </a:lnTo>
                <a:lnTo>
                  <a:pt x="26358" y="91293"/>
                </a:lnTo>
                <a:lnTo>
                  <a:pt x="28049" y="96104"/>
                </a:lnTo>
                <a:lnTo>
                  <a:pt x="30129" y="101217"/>
                </a:lnTo>
                <a:lnTo>
                  <a:pt x="31516" y="106530"/>
                </a:lnTo>
                <a:lnTo>
                  <a:pt x="32440" y="111978"/>
                </a:lnTo>
                <a:lnTo>
                  <a:pt x="33057" y="117514"/>
                </a:lnTo>
                <a:lnTo>
                  <a:pt x="33468" y="123110"/>
                </a:lnTo>
                <a:lnTo>
                  <a:pt x="33741" y="128746"/>
                </a:lnTo>
                <a:lnTo>
                  <a:pt x="33924" y="134408"/>
                </a:lnTo>
                <a:lnTo>
                  <a:pt x="34998" y="140087"/>
                </a:lnTo>
                <a:lnTo>
                  <a:pt x="36667" y="145779"/>
                </a:lnTo>
                <a:lnTo>
                  <a:pt x="38732" y="151478"/>
                </a:lnTo>
                <a:lnTo>
                  <a:pt x="40108" y="157183"/>
                </a:lnTo>
                <a:lnTo>
                  <a:pt x="41026" y="162891"/>
                </a:lnTo>
                <a:lnTo>
                  <a:pt x="41638" y="168601"/>
                </a:lnTo>
                <a:lnTo>
                  <a:pt x="42046" y="174313"/>
                </a:lnTo>
                <a:lnTo>
                  <a:pt x="42318" y="180026"/>
                </a:lnTo>
                <a:lnTo>
                  <a:pt x="42700" y="194628"/>
                </a:lnTo>
                <a:lnTo>
                  <a:pt x="42754" y="198332"/>
                </a:lnTo>
                <a:lnTo>
                  <a:pt x="43743" y="201754"/>
                </a:lnTo>
                <a:lnTo>
                  <a:pt x="45354" y="204987"/>
                </a:lnTo>
                <a:lnTo>
                  <a:pt x="47381" y="208096"/>
                </a:lnTo>
                <a:lnTo>
                  <a:pt x="48731" y="211120"/>
                </a:lnTo>
                <a:lnTo>
                  <a:pt x="50233" y="217021"/>
                </a:lnTo>
                <a:lnTo>
                  <a:pt x="51586" y="219928"/>
                </a:lnTo>
                <a:lnTo>
                  <a:pt x="53440" y="222819"/>
                </a:lnTo>
                <a:lnTo>
                  <a:pt x="58709" y="229751"/>
                </a:lnTo>
                <a:lnTo>
                  <a:pt x="59430" y="233239"/>
                </a:lnTo>
                <a:lnTo>
                  <a:pt x="60007" y="2400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MARTPenAnnotation532"/>
          <p:cNvSpPr/>
          <p:nvPr/>
        </p:nvSpPr>
        <p:spPr>
          <a:xfrm>
            <a:off x="5137200" y="2236680"/>
            <a:ext cx="342720" cy="34920"/>
          </a:xfrm>
          <a:custGeom>
            <a:avLst/>
            <a:gdLst>
              <a:gd name="textAreaLeft" fmla="*/ 0 w 342720"/>
              <a:gd name="textAreaRight" fmla="*/ 343080 w 34272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342870" h="34186">
                <a:moveTo>
                  <a:pt x="8542" y="17145"/>
                </a:moveTo>
                <a:lnTo>
                  <a:pt x="0" y="17145"/>
                </a:lnTo>
                <a:lnTo>
                  <a:pt x="74319" y="17145"/>
                </a:lnTo>
                <a:lnTo>
                  <a:pt x="80016" y="18098"/>
                </a:lnTo>
                <a:lnTo>
                  <a:pt x="85719" y="19685"/>
                </a:lnTo>
                <a:lnTo>
                  <a:pt x="91426" y="21696"/>
                </a:lnTo>
                <a:lnTo>
                  <a:pt x="97135" y="23037"/>
                </a:lnTo>
                <a:lnTo>
                  <a:pt x="102847" y="23930"/>
                </a:lnTo>
                <a:lnTo>
                  <a:pt x="108559" y="24526"/>
                </a:lnTo>
                <a:lnTo>
                  <a:pt x="114273" y="24923"/>
                </a:lnTo>
                <a:lnTo>
                  <a:pt x="119986" y="25188"/>
                </a:lnTo>
                <a:lnTo>
                  <a:pt x="131415" y="25482"/>
                </a:lnTo>
                <a:lnTo>
                  <a:pt x="155439" y="25687"/>
                </a:lnTo>
                <a:lnTo>
                  <a:pt x="159813" y="26649"/>
                </a:lnTo>
                <a:lnTo>
                  <a:pt x="164634" y="28244"/>
                </a:lnTo>
                <a:lnTo>
                  <a:pt x="169754" y="30259"/>
                </a:lnTo>
                <a:lnTo>
                  <a:pt x="175071" y="31603"/>
                </a:lnTo>
                <a:lnTo>
                  <a:pt x="180522" y="32498"/>
                </a:lnTo>
                <a:lnTo>
                  <a:pt x="186060" y="33096"/>
                </a:lnTo>
                <a:lnTo>
                  <a:pt x="191657" y="33494"/>
                </a:lnTo>
                <a:lnTo>
                  <a:pt x="197294" y="33759"/>
                </a:lnTo>
                <a:lnTo>
                  <a:pt x="208637" y="34054"/>
                </a:lnTo>
                <a:lnTo>
                  <a:pt x="220028" y="34185"/>
                </a:lnTo>
                <a:lnTo>
                  <a:pt x="225733" y="33268"/>
                </a:lnTo>
                <a:lnTo>
                  <a:pt x="231441" y="31704"/>
                </a:lnTo>
                <a:lnTo>
                  <a:pt x="237152" y="29708"/>
                </a:lnTo>
                <a:lnTo>
                  <a:pt x="241911" y="28378"/>
                </a:lnTo>
                <a:lnTo>
                  <a:pt x="246036" y="27491"/>
                </a:lnTo>
                <a:lnTo>
                  <a:pt x="254112" y="26506"/>
                </a:lnTo>
                <a:lnTo>
                  <a:pt x="264052" y="26068"/>
                </a:lnTo>
                <a:lnTo>
                  <a:pt x="280358" y="25821"/>
                </a:lnTo>
                <a:lnTo>
                  <a:pt x="285002" y="24834"/>
                </a:lnTo>
                <a:lnTo>
                  <a:pt x="289052" y="23224"/>
                </a:lnTo>
                <a:lnTo>
                  <a:pt x="292704" y="21197"/>
                </a:lnTo>
                <a:lnTo>
                  <a:pt x="297043" y="19847"/>
                </a:lnTo>
                <a:lnTo>
                  <a:pt x="301841" y="18946"/>
                </a:lnTo>
                <a:lnTo>
                  <a:pt x="306945" y="18346"/>
                </a:lnTo>
                <a:lnTo>
                  <a:pt x="311300" y="16993"/>
                </a:lnTo>
                <a:lnTo>
                  <a:pt x="315156" y="15139"/>
                </a:lnTo>
                <a:lnTo>
                  <a:pt x="318678" y="12950"/>
                </a:lnTo>
                <a:lnTo>
                  <a:pt x="321980" y="11491"/>
                </a:lnTo>
                <a:lnTo>
                  <a:pt x="325133" y="10518"/>
                </a:lnTo>
                <a:lnTo>
                  <a:pt x="328188" y="9870"/>
                </a:lnTo>
                <a:lnTo>
                  <a:pt x="331177" y="8485"/>
                </a:lnTo>
                <a:lnTo>
                  <a:pt x="334122" y="6609"/>
                </a:lnTo>
                <a:lnTo>
                  <a:pt x="34286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MARTPenAnnotation533"/>
          <p:cNvSpPr/>
          <p:nvPr/>
        </p:nvSpPr>
        <p:spPr>
          <a:xfrm>
            <a:off x="5506920" y="1714680"/>
            <a:ext cx="2700360" cy="591840"/>
          </a:xfrm>
          <a:custGeom>
            <a:avLst/>
            <a:gdLst>
              <a:gd name="textAreaLeft" fmla="*/ 0 w 2700360"/>
              <a:gd name="textAreaRight" fmla="*/ 2700720 w 2700360"/>
              <a:gd name="textAreaTop" fmla="*/ 0 h 591840"/>
              <a:gd name="textAreaBottom" fmla="*/ 592200 h 591840"/>
            </a:gdLst>
            <a:ahLst/>
            <a:rect l="textAreaLeft" t="textAreaTop" r="textAreaRight" b="textAreaBottom"/>
            <a:pathLst>
              <a:path w="2700329" h="591500">
                <a:moveTo>
                  <a:pt x="0" y="462914"/>
                </a:moveTo>
                <a:lnTo>
                  <a:pt x="8219" y="462914"/>
                </a:lnTo>
                <a:lnTo>
                  <a:pt x="26309" y="480655"/>
                </a:lnTo>
                <a:lnTo>
                  <a:pt x="41815" y="496158"/>
                </a:lnTo>
                <a:lnTo>
                  <a:pt x="47160" y="504042"/>
                </a:lnTo>
                <a:lnTo>
                  <a:pt x="48584" y="507478"/>
                </a:lnTo>
                <a:lnTo>
                  <a:pt x="51440" y="510721"/>
                </a:lnTo>
                <a:lnTo>
                  <a:pt x="63607" y="520789"/>
                </a:lnTo>
                <a:lnTo>
                  <a:pt x="76735" y="538234"/>
                </a:lnTo>
                <a:lnTo>
                  <a:pt x="91385" y="554113"/>
                </a:lnTo>
                <a:lnTo>
                  <a:pt x="124064" y="586978"/>
                </a:lnTo>
                <a:lnTo>
                  <a:pt x="126525" y="588486"/>
                </a:lnTo>
                <a:lnTo>
                  <a:pt x="137148" y="591499"/>
                </a:lnTo>
                <a:lnTo>
                  <a:pt x="137159" y="579570"/>
                </a:lnTo>
                <a:lnTo>
                  <a:pt x="136207" y="576880"/>
                </a:lnTo>
                <a:lnTo>
                  <a:pt x="132609" y="571351"/>
                </a:lnTo>
                <a:lnTo>
                  <a:pt x="130375" y="563179"/>
                </a:lnTo>
                <a:lnTo>
                  <a:pt x="129117" y="547867"/>
                </a:lnTo>
                <a:lnTo>
                  <a:pt x="128823" y="535914"/>
                </a:lnTo>
                <a:lnTo>
                  <a:pt x="128692" y="521076"/>
                </a:lnTo>
                <a:lnTo>
                  <a:pt x="126094" y="507497"/>
                </a:lnTo>
                <a:lnTo>
                  <a:pt x="122717" y="494159"/>
                </a:lnTo>
                <a:lnTo>
                  <a:pt x="121216" y="478706"/>
                </a:lnTo>
                <a:lnTo>
                  <a:pt x="118009" y="464853"/>
                </a:lnTo>
                <a:lnTo>
                  <a:pt x="108189" y="435887"/>
                </a:lnTo>
                <a:lnTo>
                  <a:pt x="105234" y="419470"/>
                </a:lnTo>
                <a:lnTo>
                  <a:pt x="102968" y="402648"/>
                </a:lnTo>
                <a:lnTo>
                  <a:pt x="98786" y="385647"/>
                </a:lnTo>
                <a:lnTo>
                  <a:pt x="96293" y="371106"/>
                </a:lnTo>
                <a:lnTo>
                  <a:pt x="94232" y="357341"/>
                </a:lnTo>
                <a:lnTo>
                  <a:pt x="90141" y="341698"/>
                </a:lnTo>
                <a:lnTo>
                  <a:pt x="85148" y="325221"/>
                </a:lnTo>
                <a:lnTo>
                  <a:pt x="80706" y="309325"/>
                </a:lnTo>
                <a:lnTo>
                  <a:pt x="78732" y="295910"/>
                </a:lnTo>
                <a:lnTo>
                  <a:pt x="73070" y="277647"/>
                </a:lnTo>
                <a:lnTo>
                  <a:pt x="68514" y="254410"/>
                </a:lnTo>
                <a:lnTo>
                  <a:pt x="62952" y="237200"/>
                </a:lnTo>
                <a:lnTo>
                  <a:pt x="59928" y="220035"/>
                </a:lnTo>
                <a:lnTo>
                  <a:pt x="54374" y="202884"/>
                </a:lnTo>
                <a:lnTo>
                  <a:pt x="52306" y="185738"/>
                </a:lnTo>
                <a:lnTo>
                  <a:pt x="51694" y="169545"/>
                </a:lnTo>
                <a:lnTo>
                  <a:pt x="51486" y="152517"/>
                </a:lnTo>
                <a:lnTo>
                  <a:pt x="51445" y="135642"/>
                </a:lnTo>
                <a:lnTo>
                  <a:pt x="52395" y="132338"/>
                </a:lnTo>
                <a:lnTo>
                  <a:pt x="57328" y="123137"/>
                </a:lnTo>
                <a:lnTo>
                  <a:pt x="58817" y="117275"/>
                </a:lnTo>
                <a:lnTo>
                  <a:pt x="59903" y="104573"/>
                </a:lnTo>
                <a:lnTo>
                  <a:pt x="62501" y="101087"/>
                </a:lnTo>
                <a:lnTo>
                  <a:pt x="75856" y="87034"/>
                </a:lnTo>
                <a:lnTo>
                  <a:pt x="77240" y="86597"/>
                </a:lnTo>
                <a:lnTo>
                  <a:pt x="88971" y="85839"/>
                </a:lnTo>
                <a:lnTo>
                  <a:pt x="91699" y="84849"/>
                </a:lnTo>
                <a:lnTo>
                  <a:pt x="97270" y="81208"/>
                </a:lnTo>
                <a:lnTo>
                  <a:pt x="105461" y="78955"/>
                </a:lnTo>
                <a:lnTo>
                  <a:pt x="188228" y="77156"/>
                </a:lnTo>
                <a:lnTo>
                  <a:pt x="240192" y="76200"/>
                </a:lnTo>
                <a:lnTo>
                  <a:pt x="267755" y="70367"/>
                </a:lnTo>
                <a:lnTo>
                  <a:pt x="346956" y="68611"/>
                </a:lnTo>
                <a:lnTo>
                  <a:pt x="422221" y="57998"/>
                </a:lnTo>
                <a:lnTo>
                  <a:pt x="466201" y="52731"/>
                </a:lnTo>
                <a:lnTo>
                  <a:pt x="546760" y="45619"/>
                </a:lnTo>
                <a:lnTo>
                  <a:pt x="622143" y="43104"/>
                </a:lnTo>
                <a:lnTo>
                  <a:pt x="697337" y="36992"/>
                </a:lnTo>
                <a:lnTo>
                  <a:pt x="775270" y="33574"/>
                </a:lnTo>
                <a:lnTo>
                  <a:pt x="845937" y="26940"/>
                </a:lnTo>
                <a:lnTo>
                  <a:pt x="917273" y="25878"/>
                </a:lnTo>
                <a:lnTo>
                  <a:pt x="989650" y="19847"/>
                </a:lnTo>
                <a:lnTo>
                  <a:pt x="1067514" y="17500"/>
                </a:lnTo>
                <a:lnTo>
                  <a:pt x="1398624" y="17145"/>
                </a:lnTo>
                <a:lnTo>
                  <a:pt x="1483214" y="10360"/>
                </a:lnTo>
                <a:lnTo>
                  <a:pt x="1562899" y="8807"/>
                </a:lnTo>
                <a:lnTo>
                  <a:pt x="1741440" y="8575"/>
                </a:lnTo>
                <a:lnTo>
                  <a:pt x="1823563" y="1787"/>
                </a:lnTo>
                <a:lnTo>
                  <a:pt x="1903911" y="235"/>
                </a:lnTo>
                <a:lnTo>
                  <a:pt x="2367528" y="0"/>
                </a:lnTo>
                <a:lnTo>
                  <a:pt x="2450685" y="7778"/>
                </a:lnTo>
                <a:lnTo>
                  <a:pt x="2528457" y="8541"/>
                </a:lnTo>
                <a:lnTo>
                  <a:pt x="2607761" y="17861"/>
                </a:lnTo>
                <a:lnTo>
                  <a:pt x="2632773" y="24494"/>
                </a:lnTo>
                <a:lnTo>
                  <a:pt x="2678634" y="25714"/>
                </a:lnTo>
                <a:lnTo>
                  <a:pt x="2680154" y="26668"/>
                </a:lnTo>
                <a:lnTo>
                  <a:pt x="2681167" y="28256"/>
                </a:lnTo>
                <a:lnTo>
                  <a:pt x="2681842" y="30267"/>
                </a:lnTo>
                <a:lnTo>
                  <a:pt x="2683245" y="31608"/>
                </a:lnTo>
                <a:lnTo>
                  <a:pt x="2685132" y="32502"/>
                </a:lnTo>
                <a:lnTo>
                  <a:pt x="2691730" y="34280"/>
                </a:lnTo>
                <a:lnTo>
                  <a:pt x="2691762" y="26908"/>
                </a:lnTo>
                <a:lnTo>
                  <a:pt x="2692715" y="26511"/>
                </a:lnTo>
                <a:lnTo>
                  <a:pt x="2699145" y="25822"/>
                </a:lnTo>
                <a:lnTo>
                  <a:pt x="2699543" y="24834"/>
                </a:lnTo>
                <a:lnTo>
                  <a:pt x="2700328" y="9031"/>
                </a:lnTo>
                <a:lnTo>
                  <a:pt x="2692956" y="8612"/>
                </a:lnTo>
                <a:lnTo>
                  <a:pt x="2692559" y="7647"/>
                </a:lnTo>
                <a:lnTo>
                  <a:pt x="269176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MARTPenAnnotation534"/>
          <p:cNvSpPr/>
          <p:nvPr/>
        </p:nvSpPr>
        <p:spPr>
          <a:xfrm>
            <a:off x="5797440" y="1979640"/>
            <a:ext cx="77760" cy="331920"/>
          </a:xfrm>
          <a:custGeom>
            <a:avLst/>
            <a:gdLst>
              <a:gd name="textAreaLeft" fmla="*/ 0 w 77760"/>
              <a:gd name="textAreaRight" fmla="*/ 78120 w 7776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77145" h="330589">
                <a:moveTo>
                  <a:pt x="8564" y="0"/>
                </a:moveTo>
                <a:lnTo>
                  <a:pt x="344" y="0"/>
                </a:lnTo>
                <a:lnTo>
                  <a:pt x="37" y="9325"/>
                </a:lnTo>
                <a:lnTo>
                  <a:pt x="0" y="15600"/>
                </a:lnTo>
                <a:lnTo>
                  <a:pt x="949" y="17068"/>
                </a:lnTo>
                <a:lnTo>
                  <a:pt x="2535" y="18998"/>
                </a:lnTo>
                <a:lnTo>
                  <a:pt x="4545" y="21238"/>
                </a:lnTo>
                <a:lnTo>
                  <a:pt x="5884" y="24637"/>
                </a:lnTo>
                <a:lnTo>
                  <a:pt x="7373" y="33492"/>
                </a:lnTo>
                <a:lnTo>
                  <a:pt x="8035" y="41238"/>
                </a:lnTo>
                <a:lnTo>
                  <a:pt x="8407" y="50954"/>
                </a:lnTo>
                <a:lnTo>
                  <a:pt x="8459" y="53972"/>
                </a:lnTo>
                <a:lnTo>
                  <a:pt x="9446" y="57889"/>
                </a:lnTo>
                <a:lnTo>
                  <a:pt x="11057" y="62405"/>
                </a:lnTo>
                <a:lnTo>
                  <a:pt x="13084" y="67321"/>
                </a:lnTo>
                <a:lnTo>
                  <a:pt x="14435" y="72503"/>
                </a:lnTo>
                <a:lnTo>
                  <a:pt x="15335" y="77863"/>
                </a:lnTo>
                <a:lnTo>
                  <a:pt x="15936" y="83341"/>
                </a:lnTo>
                <a:lnTo>
                  <a:pt x="16335" y="88898"/>
                </a:lnTo>
                <a:lnTo>
                  <a:pt x="16602" y="94508"/>
                </a:lnTo>
                <a:lnTo>
                  <a:pt x="16899" y="105821"/>
                </a:lnTo>
                <a:lnTo>
                  <a:pt x="17031" y="117199"/>
                </a:lnTo>
                <a:lnTo>
                  <a:pt x="18018" y="122900"/>
                </a:lnTo>
                <a:lnTo>
                  <a:pt x="19629" y="128606"/>
                </a:lnTo>
                <a:lnTo>
                  <a:pt x="21655" y="134315"/>
                </a:lnTo>
                <a:lnTo>
                  <a:pt x="23007" y="140026"/>
                </a:lnTo>
                <a:lnTo>
                  <a:pt x="23908" y="145738"/>
                </a:lnTo>
                <a:lnTo>
                  <a:pt x="24508" y="151451"/>
                </a:lnTo>
                <a:lnTo>
                  <a:pt x="25860" y="158117"/>
                </a:lnTo>
                <a:lnTo>
                  <a:pt x="27715" y="165419"/>
                </a:lnTo>
                <a:lnTo>
                  <a:pt x="29904" y="173145"/>
                </a:lnTo>
                <a:lnTo>
                  <a:pt x="31363" y="180200"/>
                </a:lnTo>
                <a:lnTo>
                  <a:pt x="32335" y="186808"/>
                </a:lnTo>
                <a:lnTo>
                  <a:pt x="32984" y="193119"/>
                </a:lnTo>
                <a:lnTo>
                  <a:pt x="33417" y="199231"/>
                </a:lnTo>
                <a:lnTo>
                  <a:pt x="33704" y="205211"/>
                </a:lnTo>
                <a:lnTo>
                  <a:pt x="33897" y="211102"/>
                </a:lnTo>
                <a:lnTo>
                  <a:pt x="34978" y="216935"/>
                </a:lnTo>
                <a:lnTo>
                  <a:pt x="36650" y="222728"/>
                </a:lnTo>
                <a:lnTo>
                  <a:pt x="41049" y="235198"/>
                </a:lnTo>
                <a:lnTo>
                  <a:pt x="46179" y="250265"/>
                </a:lnTo>
                <a:lnTo>
                  <a:pt x="47928" y="257331"/>
                </a:lnTo>
                <a:lnTo>
                  <a:pt x="49094" y="263946"/>
                </a:lnTo>
                <a:lnTo>
                  <a:pt x="49872" y="270262"/>
                </a:lnTo>
                <a:lnTo>
                  <a:pt x="50735" y="279819"/>
                </a:lnTo>
                <a:lnTo>
                  <a:pt x="51119" y="288194"/>
                </a:lnTo>
                <a:lnTo>
                  <a:pt x="51289" y="298267"/>
                </a:lnTo>
                <a:lnTo>
                  <a:pt x="52288" y="302667"/>
                </a:lnTo>
                <a:lnTo>
                  <a:pt x="53905" y="306553"/>
                </a:lnTo>
                <a:lnTo>
                  <a:pt x="55937" y="310096"/>
                </a:lnTo>
                <a:lnTo>
                  <a:pt x="58193" y="316573"/>
                </a:lnTo>
                <a:lnTo>
                  <a:pt x="59893" y="325218"/>
                </a:lnTo>
                <a:lnTo>
                  <a:pt x="59978" y="330588"/>
                </a:lnTo>
                <a:lnTo>
                  <a:pt x="59989" y="328538"/>
                </a:lnTo>
                <a:lnTo>
                  <a:pt x="60945" y="327610"/>
                </a:lnTo>
                <a:lnTo>
                  <a:pt x="62534" y="326992"/>
                </a:lnTo>
                <a:lnTo>
                  <a:pt x="64547" y="326580"/>
                </a:lnTo>
                <a:lnTo>
                  <a:pt x="65888" y="325352"/>
                </a:lnTo>
                <a:lnTo>
                  <a:pt x="66783" y="323582"/>
                </a:lnTo>
                <a:lnTo>
                  <a:pt x="67379" y="321448"/>
                </a:lnTo>
                <a:lnTo>
                  <a:pt x="68729" y="319074"/>
                </a:lnTo>
                <a:lnTo>
                  <a:pt x="70581" y="316538"/>
                </a:lnTo>
                <a:lnTo>
                  <a:pt x="72769" y="313896"/>
                </a:lnTo>
                <a:lnTo>
                  <a:pt x="74227" y="311181"/>
                </a:lnTo>
                <a:lnTo>
                  <a:pt x="75199" y="308419"/>
                </a:lnTo>
                <a:lnTo>
                  <a:pt x="77144" y="3000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MARTPenAnnotation535"/>
          <p:cNvSpPr/>
          <p:nvPr/>
        </p:nvSpPr>
        <p:spPr>
          <a:xfrm>
            <a:off x="5951520" y="1989000"/>
            <a:ext cx="214200" cy="300240"/>
          </a:xfrm>
          <a:custGeom>
            <a:avLst/>
            <a:gdLst>
              <a:gd name="textAreaLeft" fmla="*/ 0 w 214200"/>
              <a:gd name="textAreaRight" fmla="*/ 214560 w 21420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214163" h="299920">
                <a:moveTo>
                  <a:pt x="34258" y="0"/>
                </a:moveTo>
                <a:lnTo>
                  <a:pt x="26039" y="0"/>
                </a:lnTo>
                <a:lnTo>
                  <a:pt x="21239" y="4550"/>
                </a:lnTo>
                <a:lnTo>
                  <a:pt x="19864" y="6843"/>
                </a:lnTo>
                <a:lnTo>
                  <a:pt x="18336" y="11931"/>
                </a:lnTo>
                <a:lnTo>
                  <a:pt x="17657" y="19907"/>
                </a:lnTo>
                <a:lnTo>
                  <a:pt x="17475" y="24702"/>
                </a:lnTo>
                <a:lnTo>
                  <a:pt x="16402" y="29803"/>
                </a:lnTo>
                <a:lnTo>
                  <a:pt x="14734" y="35108"/>
                </a:lnTo>
                <a:lnTo>
                  <a:pt x="12670" y="40550"/>
                </a:lnTo>
                <a:lnTo>
                  <a:pt x="10376" y="49137"/>
                </a:lnTo>
                <a:lnTo>
                  <a:pt x="9356" y="57081"/>
                </a:lnTo>
                <a:lnTo>
                  <a:pt x="9084" y="61867"/>
                </a:lnTo>
                <a:lnTo>
                  <a:pt x="8903" y="66962"/>
                </a:lnTo>
                <a:lnTo>
                  <a:pt x="7829" y="72263"/>
                </a:lnTo>
                <a:lnTo>
                  <a:pt x="6162" y="77703"/>
                </a:lnTo>
                <a:lnTo>
                  <a:pt x="4097" y="83234"/>
                </a:lnTo>
                <a:lnTo>
                  <a:pt x="2721" y="88827"/>
                </a:lnTo>
                <a:lnTo>
                  <a:pt x="1803" y="94460"/>
                </a:lnTo>
                <a:lnTo>
                  <a:pt x="1191" y="100121"/>
                </a:lnTo>
                <a:lnTo>
                  <a:pt x="784" y="105800"/>
                </a:lnTo>
                <a:lnTo>
                  <a:pt x="512" y="111490"/>
                </a:lnTo>
                <a:lnTo>
                  <a:pt x="210" y="122894"/>
                </a:lnTo>
                <a:lnTo>
                  <a:pt x="0" y="151450"/>
                </a:lnTo>
                <a:lnTo>
                  <a:pt x="942" y="158116"/>
                </a:lnTo>
                <a:lnTo>
                  <a:pt x="2522" y="165418"/>
                </a:lnTo>
                <a:lnTo>
                  <a:pt x="4528" y="173144"/>
                </a:lnTo>
                <a:lnTo>
                  <a:pt x="5866" y="180199"/>
                </a:lnTo>
                <a:lnTo>
                  <a:pt x="6757" y="186808"/>
                </a:lnTo>
                <a:lnTo>
                  <a:pt x="7352" y="193118"/>
                </a:lnTo>
                <a:lnTo>
                  <a:pt x="8701" y="199230"/>
                </a:lnTo>
                <a:lnTo>
                  <a:pt x="10552" y="205210"/>
                </a:lnTo>
                <a:lnTo>
                  <a:pt x="12739" y="211102"/>
                </a:lnTo>
                <a:lnTo>
                  <a:pt x="15149" y="216934"/>
                </a:lnTo>
                <a:lnTo>
                  <a:pt x="17709" y="222728"/>
                </a:lnTo>
                <a:lnTo>
                  <a:pt x="23093" y="234245"/>
                </a:lnTo>
                <a:lnTo>
                  <a:pt x="28661" y="245714"/>
                </a:lnTo>
                <a:lnTo>
                  <a:pt x="31771" y="254621"/>
                </a:lnTo>
                <a:lnTo>
                  <a:pt x="32599" y="258330"/>
                </a:lnTo>
                <a:lnTo>
                  <a:pt x="35058" y="261755"/>
                </a:lnTo>
                <a:lnTo>
                  <a:pt x="38601" y="264990"/>
                </a:lnTo>
                <a:lnTo>
                  <a:pt x="42868" y="268100"/>
                </a:lnTo>
                <a:lnTo>
                  <a:pt x="46666" y="271126"/>
                </a:lnTo>
                <a:lnTo>
                  <a:pt x="50150" y="274095"/>
                </a:lnTo>
                <a:lnTo>
                  <a:pt x="53425" y="277027"/>
                </a:lnTo>
                <a:lnTo>
                  <a:pt x="57514" y="279935"/>
                </a:lnTo>
                <a:lnTo>
                  <a:pt x="62144" y="282826"/>
                </a:lnTo>
                <a:lnTo>
                  <a:pt x="67136" y="285705"/>
                </a:lnTo>
                <a:lnTo>
                  <a:pt x="71417" y="287625"/>
                </a:lnTo>
                <a:lnTo>
                  <a:pt x="75223" y="288905"/>
                </a:lnTo>
                <a:lnTo>
                  <a:pt x="78713" y="289758"/>
                </a:lnTo>
                <a:lnTo>
                  <a:pt x="82945" y="291280"/>
                </a:lnTo>
                <a:lnTo>
                  <a:pt x="87671" y="293246"/>
                </a:lnTo>
                <a:lnTo>
                  <a:pt x="92727" y="295510"/>
                </a:lnTo>
                <a:lnTo>
                  <a:pt x="97050" y="297019"/>
                </a:lnTo>
                <a:lnTo>
                  <a:pt x="100884" y="298025"/>
                </a:lnTo>
                <a:lnTo>
                  <a:pt x="104393" y="298695"/>
                </a:lnTo>
                <a:lnTo>
                  <a:pt x="110832" y="299441"/>
                </a:lnTo>
                <a:lnTo>
                  <a:pt x="116868" y="299772"/>
                </a:lnTo>
                <a:lnTo>
                  <a:pt x="122726" y="299919"/>
                </a:lnTo>
                <a:lnTo>
                  <a:pt x="126574" y="299006"/>
                </a:lnTo>
                <a:lnTo>
                  <a:pt x="131045" y="297445"/>
                </a:lnTo>
                <a:lnTo>
                  <a:pt x="135930" y="295451"/>
                </a:lnTo>
                <a:lnTo>
                  <a:pt x="140139" y="293170"/>
                </a:lnTo>
                <a:lnTo>
                  <a:pt x="143898" y="290696"/>
                </a:lnTo>
                <a:lnTo>
                  <a:pt x="147357" y="288095"/>
                </a:lnTo>
                <a:lnTo>
                  <a:pt x="153739" y="282664"/>
                </a:lnTo>
                <a:lnTo>
                  <a:pt x="159751" y="277076"/>
                </a:lnTo>
                <a:lnTo>
                  <a:pt x="169443" y="267622"/>
                </a:lnTo>
                <a:lnTo>
                  <a:pt x="178795" y="258325"/>
                </a:lnTo>
                <a:lnTo>
                  <a:pt x="183004" y="253179"/>
                </a:lnTo>
                <a:lnTo>
                  <a:pt x="186762" y="247844"/>
                </a:lnTo>
                <a:lnTo>
                  <a:pt x="190219" y="242381"/>
                </a:lnTo>
                <a:lnTo>
                  <a:pt x="193478" y="236835"/>
                </a:lnTo>
                <a:lnTo>
                  <a:pt x="196602" y="231232"/>
                </a:lnTo>
                <a:lnTo>
                  <a:pt x="199637" y="225592"/>
                </a:lnTo>
                <a:lnTo>
                  <a:pt x="201661" y="218975"/>
                </a:lnTo>
                <a:lnTo>
                  <a:pt x="203010" y="211706"/>
                </a:lnTo>
                <a:lnTo>
                  <a:pt x="203909" y="204002"/>
                </a:lnTo>
                <a:lnTo>
                  <a:pt x="205462" y="196961"/>
                </a:lnTo>
                <a:lnTo>
                  <a:pt x="207449" y="190362"/>
                </a:lnTo>
                <a:lnTo>
                  <a:pt x="209726" y="184058"/>
                </a:lnTo>
                <a:lnTo>
                  <a:pt x="211244" y="177950"/>
                </a:lnTo>
                <a:lnTo>
                  <a:pt x="212256" y="171973"/>
                </a:lnTo>
                <a:lnTo>
                  <a:pt x="212931" y="166084"/>
                </a:lnTo>
                <a:lnTo>
                  <a:pt x="213381" y="160252"/>
                </a:lnTo>
                <a:lnTo>
                  <a:pt x="213681" y="154460"/>
                </a:lnTo>
                <a:lnTo>
                  <a:pt x="214014" y="142944"/>
                </a:lnTo>
                <a:lnTo>
                  <a:pt x="214162" y="131475"/>
                </a:lnTo>
                <a:lnTo>
                  <a:pt x="213249" y="125750"/>
                </a:lnTo>
                <a:lnTo>
                  <a:pt x="211688" y="120028"/>
                </a:lnTo>
                <a:lnTo>
                  <a:pt x="209695" y="114309"/>
                </a:lnTo>
                <a:lnTo>
                  <a:pt x="208366" y="108591"/>
                </a:lnTo>
                <a:lnTo>
                  <a:pt x="207480" y="102874"/>
                </a:lnTo>
                <a:lnTo>
                  <a:pt x="206889" y="97157"/>
                </a:lnTo>
                <a:lnTo>
                  <a:pt x="205543" y="91441"/>
                </a:lnTo>
                <a:lnTo>
                  <a:pt x="203693" y="85726"/>
                </a:lnTo>
                <a:lnTo>
                  <a:pt x="201507" y="80010"/>
                </a:lnTo>
                <a:lnTo>
                  <a:pt x="196538" y="71120"/>
                </a:lnTo>
                <a:lnTo>
                  <a:pt x="191155" y="63994"/>
                </a:lnTo>
                <a:lnTo>
                  <a:pt x="185588" y="57651"/>
                </a:lnTo>
                <a:lnTo>
                  <a:pt x="179938" y="51657"/>
                </a:lnTo>
                <a:lnTo>
                  <a:pt x="177098" y="48726"/>
                </a:lnTo>
                <a:lnTo>
                  <a:pt x="173300" y="45819"/>
                </a:lnTo>
                <a:lnTo>
                  <a:pt x="168863" y="42928"/>
                </a:lnTo>
                <a:lnTo>
                  <a:pt x="164000" y="40048"/>
                </a:lnTo>
                <a:lnTo>
                  <a:pt x="159805" y="37176"/>
                </a:lnTo>
                <a:lnTo>
                  <a:pt x="156056" y="34309"/>
                </a:lnTo>
                <a:lnTo>
                  <a:pt x="152604" y="31445"/>
                </a:lnTo>
                <a:lnTo>
                  <a:pt x="148398" y="29536"/>
                </a:lnTo>
                <a:lnTo>
                  <a:pt x="143689" y="28263"/>
                </a:lnTo>
                <a:lnTo>
                  <a:pt x="138644" y="27414"/>
                </a:lnTo>
                <a:lnTo>
                  <a:pt x="134329" y="26849"/>
                </a:lnTo>
                <a:lnTo>
                  <a:pt x="130500" y="26471"/>
                </a:lnTo>
                <a:lnTo>
                  <a:pt x="126994" y="26220"/>
                </a:lnTo>
                <a:lnTo>
                  <a:pt x="122752" y="26052"/>
                </a:lnTo>
                <a:lnTo>
                  <a:pt x="112959" y="25866"/>
                </a:lnTo>
                <a:lnTo>
                  <a:pt x="96735" y="25761"/>
                </a:lnTo>
                <a:lnTo>
                  <a:pt x="91150" y="26699"/>
                </a:lnTo>
                <a:lnTo>
                  <a:pt x="85521" y="28277"/>
                </a:lnTo>
                <a:lnTo>
                  <a:pt x="79863" y="30281"/>
                </a:lnTo>
                <a:lnTo>
                  <a:pt x="75139" y="31617"/>
                </a:lnTo>
                <a:lnTo>
                  <a:pt x="71037" y="32508"/>
                </a:lnTo>
                <a:lnTo>
                  <a:pt x="67350" y="33102"/>
                </a:lnTo>
                <a:lnTo>
                  <a:pt x="60713" y="36302"/>
                </a:lnTo>
                <a:lnTo>
                  <a:pt x="57610" y="38489"/>
                </a:lnTo>
                <a:lnTo>
                  <a:pt x="51622" y="40918"/>
                </a:lnTo>
                <a:lnTo>
                  <a:pt x="48691" y="41566"/>
                </a:lnTo>
                <a:lnTo>
                  <a:pt x="42895" y="44826"/>
                </a:lnTo>
                <a:lnTo>
                  <a:pt x="34258" y="514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MARTPenAnnotation536"/>
          <p:cNvSpPr/>
          <p:nvPr/>
        </p:nvSpPr>
        <p:spPr>
          <a:xfrm>
            <a:off x="6149880" y="1887480"/>
            <a:ext cx="290520" cy="162000"/>
          </a:xfrm>
          <a:custGeom>
            <a:avLst/>
            <a:gdLst>
              <a:gd name="textAreaLeft" fmla="*/ 0 w 290520"/>
              <a:gd name="textAreaRight" fmla="*/ 290880 w 29052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291465" h="161567">
                <a:moveTo>
                  <a:pt x="0" y="41554"/>
                </a:moveTo>
                <a:lnTo>
                  <a:pt x="0" y="33086"/>
                </a:lnTo>
                <a:lnTo>
                  <a:pt x="4551" y="28462"/>
                </a:lnTo>
                <a:lnTo>
                  <a:pt x="5891" y="26158"/>
                </a:lnTo>
                <a:lnTo>
                  <a:pt x="6785" y="23670"/>
                </a:lnTo>
                <a:lnTo>
                  <a:pt x="7381" y="21059"/>
                </a:lnTo>
                <a:lnTo>
                  <a:pt x="8730" y="19318"/>
                </a:lnTo>
                <a:lnTo>
                  <a:pt x="10583" y="18158"/>
                </a:lnTo>
                <a:lnTo>
                  <a:pt x="16133" y="15916"/>
                </a:lnTo>
                <a:lnTo>
                  <a:pt x="24950" y="11744"/>
                </a:lnTo>
                <a:lnTo>
                  <a:pt x="29968" y="10251"/>
                </a:lnTo>
                <a:lnTo>
                  <a:pt x="35219" y="9255"/>
                </a:lnTo>
                <a:lnTo>
                  <a:pt x="40624" y="8591"/>
                </a:lnTo>
                <a:lnTo>
                  <a:pt x="49170" y="5314"/>
                </a:lnTo>
                <a:lnTo>
                  <a:pt x="52782" y="3107"/>
                </a:lnTo>
                <a:lnTo>
                  <a:pt x="61876" y="654"/>
                </a:lnTo>
                <a:lnTo>
                  <a:pt x="66968" y="0"/>
                </a:lnTo>
                <a:lnTo>
                  <a:pt x="72268" y="516"/>
                </a:lnTo>
                <a:lnTo>
                  <a:pt x="77706" y="1813"/>
                </a:lnTo>
                <a:lnTo>
                  <a:pt x="83236" y="3630"/>
                </a:lnTo>
                <a:lnTo>
                  <a:pt x="91921" y="5649"/>
                </a:lnTo>
                <a:lnTo>
                  <a:pt x="98956" y="6546"/>
                </a:lnTo>
                <a:lnTo>
                  <a:pt x="105258" y="6945"/>
                </a:lnTo>
                <a:lnTo>
                  <a:pt x="108272" y="8004"/>
                </a:lnTo>
                <a:lnTo>
                  <a:pt x="114161" y="11720"/>
                </a:lnTo>
                <a:lnTo>
                  <a:pt x="119953" y="16547"/>
                </a:lnTo>
                <a:lnTo>
                  <a:pt x="122831" y="19168"/>
                </a:lnTo>
                <a:lnTo>
                  <a:pt x="128569" y="24620"/>
                </a:lnTo>
                <a:lnTo>
                  <a:pt x="131432" y="27407"/>
                </a:lnTo>
                <a:lnTo>
                  <a:pt x="133342" y="30218"/>
                </a:lnTo>
                <a:lnTo>
                  <a:pt x="134614" y="33044"/>
                </a:lnTo>
                <a:lnTo>
                  <a:pt x="135463" y="35881"/>
                </a:lnTo>
                <a:lnTo>
                  <a:pt x="136980" y="38724"/>
                </a:lnTo>
                <a:lnTo>
                  <a:pt x="138945" y="41573"/>
                </a:lnTo>
                <a:lnTo>
                  <a:pt x="141208" y="44424"/>
                </a:lnTo>
                <a:lnTo>
                  <a:pt x="142716" y="48230"/>
                </a:lnTo>
                <a:lnTo>
                  <a:pt x="143721" y="52672"/>
                </a:lnTo>
                <a:lnTo>
                  <a:pt x="144392" y="57538"/>
                </a:lnTo>
                <a:lnTo>
                  <a:pt x="144838" y="61736"/>
                </a:lnTo>
                <a:lnTo>
                  <a:pt x="145137" y="65486"/>
                </a:lnTo>
                <a:lnTo>
                  <a:pt x="145335" y="68939"/>
                </a:lnTo>
                <a:lnTo>
                  <a:pt x="144515" y="73145"/>
                </a:lnTo>
                <a:lnTo>
                  <a:pt x="143015" y="77855"/>
                </a:lnTo>
                <a:lnTo>
                  <a:pt x="141063" y="82900"/>
                </a:lnTo>
                <a:lnTo>
                  <a:pt x="139762" y="88168"/>
                </a:lnTo>
                <a:lnTo>
                  <a:pt x="138895" y="93585"/>
                </a:lnTo>
                <a:lnTo>
                  <a:pt x="138316" y="99101"/>
                </a:lnTo>
                <a:lnTo>
                  <a:pt x="137931" y="103731"/>
                </a:lnTo>
                <a:lnTo>
                  <a:pt x="137674" y="107771"/>
                </a:lnTo>
                <a:lnTo>
                  <a:pt x="137503" y="111416"/>
                </a:lnTo>
                <a:lnTo>
                  <a:pt x="136436" y="114799"/>
                </a:lnTo>
                <a:lnTo>
                  <a:pt x="134772" y="118006"/>
                </a:lnTo>
                <a:lnTo>
                  <a:pt x="132710" y="121097"/>
                </a:lnTo>
                <a:lnTo>
                  <a:pt x="131336" y="124110"/>
                </a:lnTo>
                <a:lnTo>
                  <a:pt x="130420" y="127072"/>
                </a:lnTo>
                <a:lnTo>
                  <a:pt x="129809" y="129998"/>
                </a:lnTo>
                <a:lnTo>
                  <a:pt x="129402" y="132902"/>
                </a:lnTo>
                <a:lnTo>
                  <a:pt x="129130" y="135790"/>
                </a:lnTo>
                <a:lnTo>
                  <a:pt x="128949" y="138668"/>
                </a:lnTo>
                <a:lnTo>
                  <a:pt x="128748" y="144406"/>
                </a:lnTo>
                <a:lnTo>
                  <a:pt x="128596" y="152494"/>
                </a:lnTo>
                <a:lnTo>
                  <a:pt x="128588" y="160333"/>
                </a:lnTo>
                <a:lnTo>
                  <a:pt x="129540" y="160745"/>
                </a:lnTo>
                <a:lnTo>
                  <a:pt x="137318" y="161497"/>
                </a:lnTo>
                <a:lnTo>
                  <a:pt x="161830" y="161566"/>
                </a:lnTo>
                <a:lnTo>
                  <a:pt x="165990" y="160615"/>
                </a:lnTo>
                <a:lnTo>
                  <a:pt x="176394" y="155677"/>
                </a:lnTo>
                <a:lnTo>
                  <a:pt x="182537" y="154188"/>
                </a:lnTo>
                <a:lnTo>
                  <a:pt x="190983" y="153526"/>
                </a:lnTo>
                <a:lnTo>
                  <a:pt x="195901" y="153350"/>
                </a:lnTo>
                <a:lnTo>
                  <a:pt x="201086" y="152279"/>
                </a:lnTo>
                <a:lnTo>
                  <a:pt x="206447" y="150613"/>
                </a:lnTo>
                <a:lnTo>
                  <a:pt x="211926" y="148550"/>
                </a:lnTo>
                <a:lnTo>
                  <a:pt x="220554" y="146258"/>
                </a:lnTo>
                <a:lnTo>
                  <a:pt x="228516" y="145239"/>
                </a:lnTo>
                <a:lnTo>
                  <a:pt x="233307" y="144967"/>
                </a:lnTo>
                <a:lnTo>
                  <a:pt x="243709" y="144666"/>
                </a:lnTo>
                <a:lnTo>
                  <a:pt x="291464" y="1444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MARTPenAnnotation537"/>
          <p:cNvSpPr/>
          <p:nvPr/>
        </p:nvSpPr>
        <p:spPr>
          <a:xfrm>
            <a:off x="6526080" y="2160720"/>
            <a:ext cx="223920" cy="25200"/>
          </a:xfrm>
          <a:custGeom>
            <a:avLst/>
            <a:gdLst>
              <a:gd name="textAreaLeft" fmla="*/ 0 w 223920"/>
              <a:gd name="textAreaRight" fmla="*/ 224280 w 2239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22886" h="25718">
                <a:moveTo>
                  <a:pt x="0" y="25717"/>
                </a:moveTo>
                <a:lnTo>
                  <a:pt x="12770" y="25717"/>
                </a:lnTo>
                <a:lnTo>
                  <a:pt x="15181" y="24765"/>
                </a:lnTo>
                <a:lnTo>
                  <a:pt x="17741" y="23177"/>
                </a:lnTo>
                <a:lnTo>
                  <a:pt x="20399" y="21166"/>
                </a:lnTo>
                <a:lnTo>
                  <a:pt x="24077" y="19826"/>
                </a:lnTo>
                <a:lnTo>
                  <a:pt x="28434" y="18932"/>
                </a:lnTo>
                <a:lnTo>
                  <a:pt x="33243" y="18336"/>
                </a:lnTo>
                <a:lnTo>
                  <a:pt x="38354" y="16986"/>
                </a:lnTo>
                <a:lnTo>
                  <a:pt x="43667" y="15134"/>
                </a:lnTo>
                <a:lnTo>
                  <a:pt x="49114" y="12947"/>
                </a:lnTo>
                <a:lnTo>
                  <a:pt x="53697" y="11489"/>
                </a:lnTo>
                <a:lnTo>
                  <a:pt x="57706" y="10516"/>
                </a:lnTo>
                <a:lnTo>
                  <a:pt x="61330" y="9868"/>
                </a:lnTo>
                <a:lnTo>
                  <a:pt x="65652" y="9436"/>
                </a:lnTo>
                <a:lnTo>
                  <a:pt x="70438" y="9148"/>
                </a:lnTo>
                <a:lnTo>
                  <a:pt x="75533" y="8956"/>
                </a:lnTo>
                <a:lnTo>
                  <a:pt x="80835" y="7875"/>
                </a:lnTo>
                <a:lnTo>
                  <a:pt x="86275" y="6203"/>
                </a:lnTo>
                <a:lnTo>
                  <a:pt x="91807" y="4135"/>
                </a:lnTo>
                <a:lnTo>
                  <a:pt x="98352" y="2757"/>
                </a:lnTo>
                <a:lnTo>
                  <a:pt x="105573" y="1837"/>
                </a:lnTo>
                <a:lnTo>
                  <a:pt x="113244" y="1225"/>
                </a:lnTo>
                <a:lnTo>
                  <a:pt x="120264" y="816"/>
                </a:lnTo>
                <a:lnTo>
                  <a:pt x="133143" y="363"/>
                </a:lnTo>
                <a:lnTo>
                  <a:pt x="155980" y="71"/>
                </a:lnTo>
                <a:lnTo>
                  <a:pt x="22288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MARTPenAnnotation538"/>
          <p:cNvSpPr/>
          <p:nvPr/>
        </p:nvSpPr>
        <p:spPr>
          <a:xfrm>
            <a:off x="6826320" y="1936800"/>
            <a:ext cx="282600" cy="155520"/>
          </a:xfrm>
          <a:custGeom>
            <a:avLst/>
            <a:gdLst>
              <a:gd name="textAreaLeft" fmla="*/ 0 w 282600"/>
              <a:gd name="textAreaRight" fmla="*/ 282960 w 28260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82880" h="154296">
                <a:moveTo>
                  <a:pt x="17132" y="8563"/>
                </a:moveTo>
                <a:lnTo>
                  <a:pt x="17132" y="1182"/>
                </a:lnTo>
                <a:lnTo>
                  <a:pt x="18085" y="785"/>
                </a:lnTo>
                <a:lnTo>
                  <a:pt x="25352" y="22"/>
                </a:lnTo>
                <a:lnTo>
                  <a:pt x="30151" y="0"/>
                </a:lnTo>
                <a:lnTo>
                  <a:pt x="31526" y="949"/>
                </a:lnTo>
                <a:lnTo>
                  <a:pt x="32443" y="2535"/>
                </a:lnTo>
                <a:lnTo>
                  <a:pt x="33462" y="6836"/>
                </a:lnTo>
                <a:lnTo>
                  <a:pt x="33734" y="9317"/>
                </a:lnTo>
                <a:lnTo>
                  <a:pt x="33915" y="11923"/>
                </a:lnTo>
                <a:lnTo>
                  <a:pt x="34036" y="14613"/>
                </a:lnTo>
                <a:lnTo>
                  <a:pt x="34170" y="20142"/>
                </a:lnTo>
                <a:lnTo>
                  <a:pt x="33253" y="23902"/>
                </a:lnTo>
                <a:lnTo>
                  <a:pt x="31690" y="28314"/>
                </a:lnTo>
                <a:lnTo>
                  <a:pt x="29695" y="33160"/>
                </a:lnTo>
                <a:lnTo>
                  <a:pt x="28365" y="38296"/>
                </a:lnTo>
                <a:lnTo>
                  <a:pt x="27478" y="43625"/>
                </a:lnTo>
                <a:lnTo>
                  <a:pt x="26887" y="49083"/>
                </a:lnTo>
                <a:lnTo>
                  <a:pt x="25540" y="53674"/>
                </a:lnTo>
                <a:lnTo>
                  <a:pt x="23690" y="57687"/>
                </a:lnTo>
                <a:lnTo>
                  <a:pt x="21504" y="61315"/>
                </a:lnTo>
                <a:lnTo>
                  <a:pt x="20047" y="65638"/>
                </a:lnTo>
                <a:lnTo>
                  <a:pt x="19075" y="70426"/>
                </a:lnTo>
                <a:lnTo>
                  <a:pt x="18427" y="75522"/>
                </a:lnTo>
                <a:lnTo>
                  <a:pt x="17043" y="80825"/>
                </a:lnTo>
                <a:lnTo>
                  <a:pt x="15168" y="86265"/>
                </a:lnTo>
                <a:lnTo>
                  <a:pt x="12965" y="91797"/>
                </a:lnTo>
                <a:lnTo>
                  <a:pt x="10544" y="96437"/>
                </a:lnTo>
                <a:lnTo>
                  <a:pt x="7978" y="100483"/>
                </a:lnTo>
                <a:lnTo>
                  <a:pt x="5314" y="104133"/>
                </a:lnTo>
                <a:lnTo>
                  <a:pt x="3539" y="107519"/>
                </a:lnTo>
                <a:lnTo>
                  <a:pt x="2355" y="110729"/>
                </a:lnTo>
                <a:lnTo>
                  <a:pt x="455" y="118173"/>
                </a:lnTo>
                <a:lnTo>
                  <a:pt x="195" y="121731"/>
                </a:lnTo>
                <a:lnTo>
                  <a:pt x="0" y="128177"/>
                </a:lnTo>
                <a:lnTo>
                  <a:pt x="6833" y="128499"/>
                </a:lnTo>
                <a:lnTo>
                  <a:pt x="49080" y="128577"/>
                </a:lnTo>
                <a:lnTo>
                  <a:pt x="54623" y="127625"/>
                </a:lnTo>
                <a:lnTo>
                  <a:pt x="60224" y="126038"/>
                </a:lnTo>
                <a:lnTo>
                  <a:pt x="65862" y="124027"/>
                </a:lnTo>
                <a:lnTo>
                  <a:pt x="71526" y="122687"/>
                </a:lnTo>
                <a:lnTo>
                  <a:pt x="77207" y="121793"/>
                </a:lnTo>
                <a:lnTo>
                  <a:pt x="82899" y="121197"/>
                </a:lnTo>
                <a:lnTo>
                  <a:pt x="88600" y="120800"/>
                </a:lnTo>
                <a:lnTo>
                  <a:pt x="94305" y="120535"/>
                </a:lnTo>
                <a:lnTo>
                  <a:pt x="106676" y="120241"/>
                </a:lnTo>
                <a:lnTo>
                  <a:pt x="194266" y="120006"/>
                </a:lnTo>
                <a:lnTo>
                  <a:pt x="199991" y="120959"/>
                </a:lnTo>
                <a:lnTo>
                  <a:pt x="205714" y="122546"/>
                </a:lnTo>
                <a:lnTo>
                  <a:pt x="211433" y="124557"/>
                </a:lnTo>
                <a:lnTo>
                  <a:pt x="216198" y="125897"/>
                </a:lnTo>
                <a:lnTo>
                  <a:pt x="224033" y="127386"/>
                </a:lnTo>
                <a:lnTo>
                  <a:pt x="228409" y="128736"/>
                </a:lnTo>
                <a:lnTo>
                  <a:pt x="233230" y="130589"/>
                </a:lnTo>
                <a:lnTo>
                  <a:pt x="238350" y="132776"/>
                </a:lnTo>
                <a:lnTo>
                  <a:pt x="246578" y="135206"/>
                </a:lnTo>
                <a:lnTo>
                  <a:pt x="250106" y="135854"/>
                </a:lnTo>
                <a:lnTo>
                  <a:pt x="256566" y="139114"/>
                </a:lnTo>
                <a:lnTo>
                  <a:pt x="259622" y="141317"/>
                </a:lnTo>
                <a:lnTo>
                  <a:pt x="265558" y="143765"/>
                </a:lnTo>
                <a:lnTo>
                  <a:pt x="272578" y="145336"/>
                </a:lnTo>
                <a:lnTo>
                  <a:pt x="273155" y="146418"/>
                </a:lnTo>
                <a:lnTo>
                  <a:pt x="273795" y="150159"/>
                </a:lnTo>
                <a:lnTo>
                  <a:pt x="274155" y="153070"/>
                </a:lnTo>
                <a:lnTo>
                  <a:pt x="275158" y="153478"/>
                </a:lnTo>
                <a:lnTo>
                  <a:pt x="282879" y="1542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MARTPenAnnotation539"/>
          <p:cNvSpPr/>
          <p:nvPr/>
        </p:nvSpPr>
        <p:spPr>
          <a:xfrm>
            <a:off x="7015320" y="1928880"/>
            <a:ext cx="85680" cy="334800"/>
          </a:xfrm>
          <a:custGeom>
            <a:avLst/>
            <a:gdLst>
              <a:gd name="textAreaLeft" fmla="*/ 0 w 85680"/>
              <a:gd name="textAreaRight" fmla="*/ 86040 w 8568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85726" h="334328">
                <a:moveTo>
                  <a:pt x="0" y="0"/>
                </a:moveTo>
                <a:lnTo>
                  <a:pt x="0" y="24702"/>
                </a:lnTo>
                <a:lnTo>
                  <a:pt x="2540" y="35109"/>
                </a:lnTo>
                <a:lnTo>
                  <a:pt x="4551" y="40551"/>
                </a:lnTo>
                <a:lnTo>
                  <a:pt x="5892" y="47036"/>
                </a:lnTo>
                <a:lnTo>
                  <a:pt x="6785" y="54218"/>
                </a:lnTo>
                <a:lnTo>
                  <a:pt x="7381" y="61863"/>
                </a:lnTo>
                <a:lnTo>
                  <a:pt x="7779" y="68864"/>
                </a:lnTo>
                <a:lnTo>
                  <a:pt x="8220" y="81724"/>
                </a:lnTo>
                <a:lnTo>
                  <a:pt x="8503" y="106454"/>
                </a:lnTo>
                <a:lnTo>
                  <a:pt x="8541" y="121608"/>
                </a:lnTo>
                <a:lnTo>
                  <a:pt x="9504" y="128697"/>
                </a:lnTo>
                <a:lnTo>
                  <a:pt x="11099" y="135328"/>
                </a:lnTo>
                <a:lnTo>
                  <a:pt x="13114" y="141654"/>
                </a:lnTo>
                <a:lnTo>
                  <a:pt x="14458" y="148728"/>
                </a:lnTo>
                <a:lnTo>
                  <a:pt x="15353" y="156302"/>
                </a:lnTo>
                <a:lnTo>
                  <a:pt x="15950" y="164209"/>
                </a:lnTo>
                <a:lnTo>
                  <a:pt x="16349" y="171385"/>
                </a:lnTo>
                <a:lnTo>
                  <a:pt x="16790" y="184439"/>
                </a:lnTo>
                <a:lnTo>
                  <a:pt x="17861" y="191539"/>
                </a:lnTo>
                <a:lnTo>
                  <a:pt x="19527" y="199130"/>
                </a:lnTo>
                <a:lnTo>
                  <a:pt x="21592" y="207048"/>
                </a:lnTo>
                <a:lnTo>
                  <a:pt x="22967" y="214232"/>
                </a:lnTo>
                <a:lnTo>
                  <a:pt x="23884" y="220927"/>
                </a:lnTo>
                <a:lnTo>
                  <a:pt x="24495" y="227294"/>
                </a:lnTo>
                <a:lnTo>
                  <a:pt x="25855" y="233445"/>
                </a:lnTo>
                <a:lnTo>
                  <a:pt x="27715" y="239450"/>
                </a:lnTo>
                <a:lnTo>
                  <a:pt x="29907" y="245358"/>
                </a:lnTo>
                <a:lnTo>
                  <a:pt x="32342" y="254463"/>
                </a:lnTo>
                <a:lnTo>
                  <a:pt x="34377" y="262637"/>
                </a:lnTo>
                <a:lnTo>
                  <a:pt x="36253" y="267484"/>
                </a:lnTo>
                <a:lnTo>
                  <a:pt x="38456" y="272620"/>
                </a:lnTo>
                <a:lnTo>
                  <a:pt x="40904" y="280867"/>
                </a:lnTo>
                <a:lnTo>
                  <a:pt x="42282" y="290865"/>
                </a:lnTo>
                <a:lnTo>
                  <a:pt x="42476" y="293922"/>
                </a:lnTo>
                <a:lnTo>
                  <a:pt x="43557" y="296913"/>
                </a:lnTo>
                <a:lnTo>
                  <a:pt x="45231" y="299860"/>
                </a:lnTo>
                <a:lnTo>
                  <a:pt x="47299" y="302776"/>
                </a:lnTo>
                <a:lnTo>
                  <a:pt x="49630" y="305673"/>
                </a:lnTo>
                <a:lnTo>
                  <a:pt x="52136" y="308558"/>
                </a:lnTo>
                <a:lnTo>
                  <a:pt x="54760" y="311432"/>
                </a:lnTo>
                <a:lnTo>
                  <a:pt x="56509" y="314302"/>
                </a:lnTo>
                <a:lnTo>
                  <a:pt x="58453" y="320030"/>
                </a:lnTo>
                <a:lnTo>
                  <a:pt x="59923" y="321938"/>
                </a:lnTo>
                <a:lnTo>
                  <a:pt x="61857" y="323210"/>
                </a:lnTo>
                <a:lnTo>
                  <a:pt x="64098" y="324059"/>
                </a:lnTo>
                <a:lnTo>
                  <a:pt x="66545" y="324624"/>
                </a:lnTo>
                <a:lnTo>
                  <a:pt x="69128" y="325001"/>
                </a:lnTo>
                <a:lnTo>
                  <a:pt x="71803" y="325252"/>
                </a:lnTo>
                <a:lnTo>
                  <a:pt x="73586" y="326373"/>
                </a:lnTo>
                <a:lnTo>
                  <a:pt x="74775" y="328072"/>
                </a:lnTo>
                <a:lnTo>
                  <a:pt x="76683" y="333092"/>
                </a:lnTo>
                <a:lnTo>
                  <a:pt x="77792" y="333504"/>
                </a:lnTo>
                <a:lnTo>
                  <a:pt x="79484" y="333778"/>
                </a:lnTo>
                <a:lnTo>
                  <a:pt x="85725" y="3343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MARTPenAnnotation540"/>
          <p:cNvSpPr/>
          <p:nvPr/>
        </p:nvSpPr>
        <p:spPr>
          <a:xfrm>
            <a:off x="7211880" y="1878120"/>
            <a:ext cx="163800" cy="411120"/>
          </a:xfrm>
          <a:custGeom>
            <a:avLst/>
            <a:gdLst>
              <a:gd name="textAreaLeft" fmla="*/ 0 w 163800"/>
              <a:gd name="textAreaRight" fmla="*/ 164160 w 1638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162869" h="411478">
                <a:moveTo>
                  <a:pt x="94288" y="0"/>
                </a:moveTo>
                <a:lnTo>
                  <a:pt x="86069" y="0"/>
                </a:lnTo>
                <a:lnTo>
                  <a:pt x="81269" y="4551"/>
                </a:lnTo>
                <a:lnTo>
                  <a:pt x="78366" y="7381"/>
                </a:lnTo>
                <a:lnTo>
                  <a:pt x="77958" y="8731"/>
                </a:lnTo>
                <a:lnTo>
                  <a:pt x="77505" y="12770"/>
                </a:lnTo>
                <a:lnTo>
                  <a:pt x="76432" y="15181"/>
                </a:lnTo>
                <a:lnTo>
                  <a:pt x="72700" y="20400"/>
                </a:lnTo>
                <a:lnTo>
                  <a:pt x="67866" y="25894"/>
                </a:lnTo>
                <a:lnTo>
                  <a:pt x="65243" y="28693"/>
                </a:lnTo>
                <a:lnTo>
                  <a:pt x="63495" y="31511"/>
                </a:lnTo>
                <a:lnTo>
                  <a:pt x="60082" y="40028"/>
                </a:lnTo>
                <a:lnTo>
                  <a:pt x="55908" y="45730"/>
                </a:lnTo>
                <a:lnTo>
                  <a:pt x="50878" y="53980"/>
                </a:lnTo>
                <a:lnTo>
                  <a:pt x="45467" y="63996"/>
                </a:lnTo>
                <a:lnTo>
                  <a:pt x="39888" y="74798"/>
                </a:lnTo>
                <a:lnTo>
                  <a:pt x="36114" y="80345"/>
                </a:lnTo>
                <a:lnTo>
                  <a:pt x="31693" y="85948"/>
                </a:lnTo>
                <a:lnTo>
                  <a:pt x="26840" y="91589"/>
                </a:lnTo>
                <a:lnTo>
                  <a:pt x="23606" y="97254"/>
                </a:lnTo>
                <a:lnTo>
                  <a:pt x="20011" y="108629"/>
                </a:lnTo>
                <a:lnTo>
                  <a:pt x="15874" y="117495"/>
                </a:lnTo>
                <a:lnTo>
                  <a:pt x="13437" y="121192"/>
                </a:lnTo>
                <a:lnTo>
                  <a:pt x="10729" y="130381"/>
                </a:lnTo>
                <a:lnTo>
                  <a:pt x="9526" y="140814"/>
                </a:lnTo>
                <a:lnTo>
                  <a:pt x="8991" y="151802"/>
                </a:lnTo>
                <a:lnTo>
                  <a:pt x="6213" y="163035"/>
                </a:lnTo>
                <a:lnTo>
                  <a:pt x="2757" y="174377"/>
                </a:lnTo>
                <a:lnTo>
                  <a:pt x="1219" y="185769"/>
                </a:lnTo>
                <a:lnTo>
                  <a:pt x="537" y="197181"/>
                </a:lnTo>
                <a:lnTo>
                  <a:pt x="233" y="208604"/>
                </a:lnTo>
                <a:lnTo>
                  <a:pt x="0" y="254318"/>
                </a:lnTo>
                <a:lnTo>
                  <a:pt x="2535" y="265748"/>
                </a:lnTo>
                <a:lnTo>
                  <a:pt x="5883" y="277178"/>
                </a:lnTo>
                <a:lnTo>
                  <a:pt x="7373" y="288608"/>
                </a:lnTo>
                <a:lnTo>
                  <a:pt x="10574" y="300037"/>
                </a:lnTo>
                <a:lnTo>
                  <a:pt x="15172" y="310515"/>
                </a:lnTo>
                <a:lnTo>
                  <a:pt x="17732" y="314643"/>
                </a:lnTo>
                <a:lnTo>
                  <a:pt x="20390" y="318347"/>
                </a:lnTo>
                <a:lnTo>
                  <a:pt x="24068" y="322721"/>
                </a:lnTo>
                <a:lnTo>
                  <a:pt x="28425" y="327542"/>
                </a:lnTo>
                <a:lnTo>
                  <a:pt x="33235" y="332662"/>
                </a:lnTo>
                <a:lnTo>
                  <a:pt x="38345" y="337027"/>
                </a:lnTo>
                <a:lnTo>
                  <a:pt x="43658" y="340890"/>
                </a:lnTo>
                <a:lnTo>
                  <a:pt x="49105" y="344417"/>
                </a:lnTo>
                <a:lnTo>
                  <a:pt x="53688" y="347722"/>
                </a:lnTo>
                <a:lnTo>
                  <a:pt x="57697" y="350877"/>
                </a:lnTo>
                <a:lnTo>
                  <a:pt x="61321" y="353933"/>
                </a:lnTo>
                <a:lnTo>
                  <a:pt x="64690" y="357875"/>
                </a:lnTo>
                <a:lnTo>
                  <a:pt x="67889" y="362409"/>
                </a:lnTo>
                <a:lnTo>
                  <a:pt x="70974" y="367336"/>
                </a:lnTo>
                <a:lnTo>
                  <a:pt x="74935" y="371573"/>
                </a:lnTo>
                <a:lnTo>
                  <a:pt x="79481" y="375350"/>
                </a:lnTo>
                <a:lnTo>
                  <a:pt x="84417" y="378821"/>
                </a:lnTo>
                <a:lnTo>
                  <a:pt x="88660" y="382087"/>
                </a:lnTo>
                <a:lnTo>
                  <a:pt x="92441" y="385218"/>
                </a:lnTo>
                <a:lnTo>
                  <a:pt x="95914" y="388257"/>
                </a:lnTo>
                <a:lnTo>
                  <a:pt x="99182" y="390283"/>
                </a:lnTo>
                <a:lnTo>
                  <a:pt x="102313" y="391634"/>
                </a:lnTo>
                <a:lnTo>
                  <a:pt x="105353" y="392534"/>
                </a:lnTo>
                <a:lnTo>
                  <a:pt x="108332" y="394087"/>
                </a:lnTo>
                <a:lnTo>
                  <a:pt x="111272" y="396075"/>
                </a:lnTo>
                <a:lnTo>
                  <a:pt x="114182" y="398352"/>
                </a:lnTo>
                <a:lnTo>
                  <a:pt x="118029" y="399871"/>
                </a:lnTo>
                <a:lnTo>
                  <a:pt x="122497" y="400883"/>
                </a:lnTo>
                <a:lnTo>
                  <a:pt x="134256" y="402508"/>
                </a:lnTo>
                <a:lnTo>
                  <a:pt x="138404" y="402730"/>
                </a:lnTo>
                <a:lnTo>
                  <a:pt x="140844" y="402789"/>
                </a:lnTo>
                <a:lnTo>
                  <a:pt x="143423" y="403781"/>
                </a:lnTo>
                <a:lnTo>
                  <a:pt x="146094" y="405395"/>
                </a:lnTo>
                <a:lnTo>
                  <a:pt x="152675" y="410278"/>
                </a:lnTo>
                <a:lnTo>
                  <a:pt x="156116" y="410946"/>
                </a:lnTo>
                <a:lnTo>
                  <a:pt x="162834" y="411477"/>
                </a:lnTo>
                <a:lnTo>
                  <a:pt x="162868" y="4029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MARTPenAnnotation541"/>
          <p:cNvSpPr/>
          <p:nvPr/>
        </p:nvSpPr>
        <p:spPr>
          <a:xfrm>
            <a:off x="7350120" y="1965240"/>
            <a:ext cx="247680" cy="244440"/>
          </a:xfrm>
          <a:custGeom>
            <a:avLst/>
            <a:gdLst>
              <a:gd name="textAreaLeft" fmla="*/ 0 w 247680"/>
              <a:gd name="textAreaRight" fmla="*/ 248040 w 247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46888" h="245434">
                <a:moveTo>
                  <a:pt x="7381" y="49993"/>
                </a:moveTo>
                <a:lnTo>
                  <a:pt x="2830" y="49993"/>
                </a:lnTo>
                <a:lnTo>
                  <a:pt x="1490" y="49041"/>
                </a:lnTo>
                <a:lnTo>
                  <a:pt x="596" y="47453"/>
                </a:lnTo>
                <a:lnTo>
                  <a:pt x="0" y="45442"/>
                </a:lnTo>
                <a:lnTo>
                  <a:pt x="556" y="44102"/>
                </a:lnTo>
                <a:lnTo>
                  <a:pt x="1878" y="43208"/>
                </a:lnTo>
                <a:lnTo>
                  <a:pt x="3713" y="42612"/>
                </a:lnTo>
                <a:lnTo>
                  <a:pt x="4935" y="41262"/>
                </a:lnTo>
                <a:lnTo>
                  <a:pt x="5751" y="39410"/>
                </a:lnTo>
                <a:lnTo>
                  <a:pt x="6293" y="37223"/>
                </a:lnTo>
                <a:lnTo>
                  <a:pt x="8562" y="34812"/>
                </a:lnTo>
                <a:lnTo>
                  <a:pt x="16161" y="29594"/>
                </a:lnTo>
                <a:lnTo>
                  <a:pt x="20854" y="25916"/>
                </a:lnTo>
                <a:lnTo>
                  <a:pt x="25888" y="21559"/>
                </a:lnTo>
                <a:lnTo>
                  <a:pt x="31149" y="16750"/>
                </a:lnTo>
                <a:lnTo>
                  <a:pt x="36561" y="13543"/>
                </a:lnTo>
                <a:lnTo>
                  <a:pt x="42074" y="11406"/>
                </a:lnTo>
                <a:lnTo>
                  <a:pt x="47655" y="9981"/>
                </a:lnTo>
                <a:lnTo>
                  <a:pt x="53281" y="8078"/>
                </a:lnTo>
                <a:lnTo>
                  <a:pt x="58936" y="5857"/>
                </a:lnTo>
                <a:lnTo>
                  <a:pt x="64612" y="3424"/>
                </a:lnTo>
                <a:lnTo>
                  <a:pt x="70299" y="1802"/>
                </a:lnTo>
                <a:lnTo>
                  <a:pt x="75997" y="721"/>
                </a:lnTo>
                <a:lnTo>
                  <a:pt x="81700" y="0"/>
                </a:lnTo>
                <a:lnTo>
                  <a:pt x="87406" y="472"/>
                </a:lnTo>
                <a:lnTo>
                  <a:pt x="93117" y="1739"/>
                </a:lnTo>
                <a:lnTo>
                  <a:pt x="98828" y="3536"/>
                </a:lnTo>
                <a:lnTo>
                  <a:pt x="104540" y="4734"/>
                </a:lnTo>
                <a:lnTo>
                  <a:pt x="110254" y="5533"/>
                </a:lnTo>
                <a:lnTo>
                  <a:pt x="115967" y="6065"/>
                </a:lnTo>
                <a:lnTo>
                  <a:pt x="120730" y="7373"/>
                </a:lnTo>
                <a:lnTo>
                  <a:pt x="124857" y="9197"/>
                </a:lnTo>
                <a:lnTo>
                  <a:pt x="131983" y="13764"/>
                </a:lnTo>
                <a:lnTo>
                  <a:pt x="138325" y="18969"/>
                </a:lnTo>
                <a:lnTo>
                  <a:pt x="140397" y="21690"/>
                </a:lnTo>
                <a:lnTo>
                  <a:pt x="142699" y="27254"/>
                </a:lnTo>
                <a:lnTo>
                  <a:pt x="143313" y="31024"/>
                </a:lnTo>
                <a:lnTo>
                  <a:pt x="143723" y="35442"/>
                </a:lnTo>
                <a:lnTo>
                  <a:pt x="143995" y="40292"/>
                </a:lnTo>
                <a:lnTo>
                  <a:pt x="143225" y="44478"/>
                </a:lnTo>
                <a:lnTo>
                  <a:pt x="139829" y="51670"/>
                </a:lnTo>
                <a:lnTo>
                  <a:pt x="135145" y="60581"/>
                </a:lnTo>
                <a:lnTo>
                  <a:pt x="132562" y="65624"/>
                </a:lnTo>
                <a:lnTo>
                  <a:pt x="129887" y="69939"/>
                </a:lnTo>
                <a:lnTo>
                  <a:pt x="124376" y="77273"/>
                </a:lnTo>
                <a:lnTo>
                  <a:pt x="120621" y="80562"/>
                </a:lnTo>
                <a:lnTo>
                  <a:pt x="116212" y="83707"/>
                </a:lnTo>
                <a:lnTo>
                  <a:pt x="111367" y="86757"/>
                </a:lnTo>
                <a:lnTo>
                  <a:pt x="108138" y="89742"/>
                </a:lnTo>
                <a:lnTo>
                  <a:pt x="105984" y="92685"/>
                </a:lnTo>
                <a:lnTo>
                  <a:pt x="104549" y="95600"/>
                </a:lnTo>
                <a:lnTo>
                  <a:pt x="102640" y="97542"/>
                </a:lnTo>
                <a:lnTo>
                  <a:pt x="100414" y="98837"/>
                </a:lnTo>
                <a:lnTo>
                  <a:pt x="97979" y="99701"/>
                </a:lnTo>
                <a:lnTo>
                  <a:pt x="96354" y="101229"/>
                </a:lnTo>
                <a:lnTo>
                  <a:pt x="95272" y="103200"/>
                </a:lnTo>
                <a:lnTo>
                  <a:pt x="93534" y="108657"/>
                </a:lnTo>
                <a:lnTo>
                  <a:pt x="94344" y="109105"/>
                </a:lnTo>
                <a:lnTo>
                  <a:pt x="100524" y="109883"/>
                </a:lnTo>
                <a:lnTo>
                  <a:pt x="105887" y="105415"/>
                </a:lnTo>
                <a:lnTo>
                  <a:pt x="109247" y="104086"/>
                </a:lnTo>
                <a:lnTo>
                  <a:pt x="113392" y="103200"/>
                </a:lnTo>
                <a:lnTo>
                  <a:pt x="118060" y="102609"/>
                </a:lnTo>
                <a:lnTo>
                  <a:pt x="122124" y="102216"/>
                </a:lnTo>
                <a:lnTo>
                  <a:pt x="129181" y="101778"/>
                </a:lnTo>
                <a:lnTo>
                  <a:pt x="140572" y="101584"/>
                </a:lnTo>
                <a:lnTo>
                  <a:pt x="147610" y="101532"/>
                </a:lnTo>
                <a:lnTo>
                  <a:pt x="154207" y="100545"/>
                </a:lnTo>
                <a:lnTo>
                  <a:pt x="160510" y="98934"/>
                </a:lnTo>
                <a:lnTo>
                  <a:pt x="166618" y="96908"/>
                </a:lnTo>
                <a:lnTo>
                  <a:pt x="172593" y="96510"/>
                </a:lnTo>
                <a:lnTo>
                  <a:pt x="178482" y="97197"/>
                </a:lnTo>
                <a:lnTo>
                  <a:pt x="184314" y="98607"/>
                </a:lnTo>
                <a:lnTo>
                  <a:pt x="191059" y="99548"/>
                </a:lnTo>
                <a:lnTo>
                  <a:pt x="198414" y="100174"/>
                </a:lnTo>
                <a:lnTo>
                  <a:pt x="212299" y="100871"/>
                </a:lnTo>
                <a:lnTo>
                  <a:pt x="221646" y="101180"/>
                </a:lnTo>
                <a:lnTo>
                  <a:pt x="225472" y="102215"/>
                </a:lnTo>
                <a:lnTo>
                  <a:pt x="232263" y="105906"/>
                </a:lnTo>
                <a:lnTo>
                  <a:pt x="238456" y="113261"/>
                </a:lnTo>
                <a:lnTo>
                  <a:pt x="241441" y="117889"/>
                </a:lnTo>
                <a:lnTo>
                  <a:pt x="243432" y="121927"/>
                </a:lnTo>
                <a:lnTo>
                  <a:pt x="245642" y="128954"/>
                </a:lnTo>
                <a:lnTo>
                  <a:pt x="246232" y="133114"/>
                </a:lnTo>
                <a:lnTo>
                  <a:pt x="246625" y="137792"/>
                </a:lnTo>
                <a:lnTo>
                  <a:pt x="246887" y="142815"/>
                </a:lnTo>
                <a:lnTo>
                  <a:pt x="246109" y="147117"/>
                </a:lnTo>
                <a:lnTo>
                  <a:pt x="242705" y="154437"/>
                </a:lnTo>
                <a:lnTo>
                  <a:pt x="239511" y="158675"/>
                </a:lnTo>
                <a:lnTo>
                  <a:pt x="235477" y="163405"/>
                </a:lnTo>
                <a:lnTo>
                  <a:pt x="230882" y="168463"/>
                </a:lnTo>
                <a:lnTo>
                  <a:pt x="226867" y="173741"/>
                </a:lnTo>
                <a:lnTo>
                  <a:pt x="223238" y="179164"/>
                </a:lnTo>
                <a:lnTo>
                  <a:pt x="219866" y="184684"/>
                </a:lnTo>
                <a:lnTo>
                  <a:pt x="215712" y="189317"/>
                </a:lnTo>
                <a:lnTo>
                  <a:pt x="211038" y="193358"/>
                </a:lnTo>
                <a:lnTo>
                  <a:pt x="206018" y="197005"/>
                </a:lnTo>
                <a:lnTo>
                  <a:pt x="200765" y="201341"/>
                </a:lnTo>
                <a:lnTo>
                  <a:pt x="195359" y="206137"/>
                </a:lnTo>
                <a:lnTo>
                  <a:pt x="189850" y="211239"/>
                </a:lnTo>
                <a:lnTo>
                  <a:pt x="184272" y="215593"/>
                </a:lnTo>
                <a:lnTo>
                  <a:pt x="178648" y="219448"/>
                </a:lnTo>
                <a:lnTo>
                  <a:pt x="172994" y="222970"/>
                </a:lnTo>
                <a:lnTo>
                  <a:pt x="167320" y="226271"/>
                </a:lnTo>
                <a:lnTo>
                  <a:pt x="155935" y="232479"/>
                </a:lnTo>
                <a:lnTo>
                  <a:pt x="151185" y="235468"/>
                </a:lnTo>
                <a:lnTo>
                  <a:pt x="147065" y="238413"/>
                </a:lnTo>
                <a:lnTo>
                  <a:pt x="143366" y="241329"/>
                </a:lnTo>
                <a:lnTo>
                  <a:pt x="138995" y="243273"/>
                </a:lnTo>
                <a:lnTo>
                  <a:pt x="134176" y="244569"/>
                </a:lnTo>
                <a:lnTo>
                  <a:pt x="129060" y="245433"/>
                </a:lnTo>
                <a:lnTo>
                  <a:pt x="124695" y="245056"/>
                </a:lnTo>
                <a:lnTo>
                  <a:pt x="120833" y="243853"/>
                </a:lnTo>
                <a:lnTo>
                  <a:pt x="112341" y="239628"/>
                </a:lnTo>
                <a:lnTo>
                  <a:pt x="106319" y="234346"/>
                </a:lnTo>
                <a:lnTo>
                  <a:pt x="104773" y="231950"/>
                </a:lnTo>
                <a:lnTo>
                  <a:pt x="102596" y="224979"/>
                </a:lnTo>
                <a:lnTo>
                  <a:pt x="102086" y="223015"/>
                </a:lnTo>
                <a:lnTo>
                  <a:pt x="101860" y="219602"/>
                </a:lnTo>
                <a:lnTo>
                  <a:pt x="101678" y="21287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MARTPenAnnotation542"/>
          <p:cNvSpPr/>
          <p:nvPr/>
        </p:nvSpPr>
        <p:spPr>
          <a:xfrm>
            <a:off x="7547040" y="1886040"/>
            <a:ext cx="255600" cy="377640"/>
          </a:xfrm>
          <a:custGeom>
            <a:avLst/>
            <a:gdLst>
              <a:gd name="textAreaLeft" fmla="*/ 0 w 255600"/>
              <a:gd name="textAreaRight" fmla="*/ 255960 w 25560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255407" h="377053">
                <a:moveTo>
                  <a:pt x="0" y="8563"/>
                </a:moveTo>
                <a:lnTo>
                  <a:pt x="0" y="344"/>
                </a:lnTo>
                <a:lnTo>
                  <a:pt x="7797" y="60"/>
                </a:lnTo>
                <a:lnTo>
                  <a:pt x="27532" y="0"/>
                </a:lnTo>
                <a:lnTo>
                  <a:pt x="32643" y="949"/>
                </a:lnTo>
                <a:lnTo>
                  <a:pt x="38907" y="2535"/>
                </a:lnTo>
                <a:lnTo>
                  <a:pt x="45940" y="4544"/>
                </a:lnTo>
                <a:lnTo>
                  <a:pt x="52534" y="5884"/>
                </a:lnTo>
                <a:lnTo>
                  <a:pt x="58836" y="6777"/>
                </a:lnTo>
                <a:lnTo>
                  <a:pt x="64941" y="7372"/>
                </a:lnTo>
                <a:lnTo>
                  <a:pt x="70917" y="8722"/>
                </a:lnTo>
                <a:lnTo>
                  <a:pt x="76806" y="10574"/>
                </a:lnTo>
                <a:lnTo>
                  <a:pt x="82637" y="12761"/>
                </a:lnTo>
                <a:lnTo>
                  <a:pt x="104495" y="20390"/>
                </a:lnTo>
                <a:lnTo>
                  <a:pt x="154448" y="37173"/>
                </a:lnTo>
                <a:lnTo>
                  <a:pt x="162020" y="40971"/>
                </a:lnTo>
                <a:lnTo>
                  <a:pt x="168974" y="45409"/>
                </a:lnTo>
                <a:lnTo>
                  <a:pt x="175515" y="50272"/>
                </a:lnTo>
                <a:lnTo>
                  <a:pt x="181779" y="55419"/>
                </a:lnTo>
                <a:lnTo>
                  <a:pt x="187861" y="60755"/>
                </a:lnTo>
                <a:lnTo>
                  <a:pt x="193821" y="66218"/>
                </a:lnTo>
                <a:lnTo>
                  <a:pt x="200651" y="71765"/>
                </a:lnTo>
                <a:lnTo>
                  <a:pt x="208063" y="77367"/>
                </a:lnTo>
                <a:lnTo>
                  <a:pt x="215861" y="83008"/>
                </a:lnTo>
                <a:lnTo>
                  <a:pt x="222012" y="88673"/>
                </a:lnTo>
                <a:lnTo>
                  <a:pt x="227066" y="94355"/>
                </a:lnTo>
                <a:lnTo>
                  <a:pt x="231387" y="100047"/>
                </a:lnTo>
                <a:lnTo>
                  <a:pt x="238729" y="111453"/>
                </a:lnTo>
                <a:lnTo>
                  <a:pt x="242020" y="117161"/>
                </a:lnTo>
                <a:lnTo>
                  <a:pt x="245167" y="123824"/>
                </a:lnTo>
                <a:lnTo>
                  <a:pt x="248217" y="131124"/>
                </a:lnTo>
                <a:lnTo>
                  <a:pt x="251204" y="138848"/>
                </a:lnTo>
                <a:lnTo>
                  <a:pt x="253194" y="146855"/>
                </a:lnTo>
                <a:lnTo>
                  <a:pt x="254521" y="155050"/>
                </a:lnTo>
                <a:lnTo>
                  <a:pt x="255406" y="163371"/>
                </a:lnTo>
                <a:lnTo>
                  <a:pt x="255043" y="170823"/>
                </a:lnTo>
                <a:lnTo>
                  <a:pt x="253849" y="177697"/>
                </a:lnTo>
                <a:lnTo>
                  <a:pt x="252101" y="184184"/>
                </a:lnTo>
                <a:lnTo>
                  <a:pt x="250934" y="192319"/>
                </a:lnTo>
                <a:lnTo>
                  <a:pt x="250157" y="201552"/>
                </a:lnTo>
                <a:lnTo>
                  <a:pt x="249639" y="211517"/>
                </a:lnTo>
                <a:lnTo>
                  <a:pt x="248341" y="221018"/>
                </a:lnTo>
                <a:lnTo>
                  <a:pt x="246523" y="230210"/>
                </a:lnTo>
                <a:lnTo>
                  <a:pt x="244359" y="239195"/>
                </a:lnTo>
                <a:lnTo>
                  <a:pt x="241011" y="248043"/>
                </a:lnTo>
                <a:lnTo>
                  <a:pt x="236874" y="256799"/>
                </a:lnTo>
                <a:lnTo>
                  <a:pt x="232211" y="265493"/>
                </a:lnTo>
                <a:lnTo>
                  <a:pt x="227197" y="273195"/>
                </a:lnTo>
                <a:lnTo>
                  <a:pt x="221950" y="280234"/>
                </a:lnTo>
                <a:lnTo>
                  <a:pt x="216547" y="286832"/>
                </a:lnTo>
                <a:lnTo>
                  <a:pt x="211992" y="294088"/>
                </a:lnTo>
                <a:lnTo>
                  <a:pt x="208003" y="301783"/>
                </a:lnTo>
                <a:lnTo>
                  <a:pt x="204391" y="309771"/>
                </a:lnTo>
                <a:lnTo>
                  <a:pt x="200078" y="317001"/>
                </a:lnTo>
                <a:lnTo>
                  <a:pt x="195298" y="323726"/>
                </a:lnTo>
                <a:lnTo>
                  <a:pt x="190206" y="330114"/>
                </a:lnTo>
                <a:lnTo>
                  <a:pt x="185859" y="335325"/>
                </a:lnTo>
                <a:lnTo>
                  <a:pt x="178489" y="343656"/>
                </a:lnTo>
                <a:lnTo>
                  <a:pt x="172039" y="353073"/>
                </a:lnTo>
                <a:lnTo>
                  <a:pt x="168985" y="358252"/>
                </a:lnTo>
                <a:lnTo>
                  <a:pt x="165997" y="361703"/>
                </a:lnTo>
                <a:lnTo>
                  <a:pt x="163053" y="364005"/>
                </a:lnTo>
                <a:lnTo>
                  <a:pt x="160137" y="365539"/>
                </a:lnTo>
                <a:lnTo>
                  <a:pt x="158192" y="367515"/>
                </a:lnTo>
                <a:lnTo>
                  <a:pt x="156897" y="369784"/>
                </a:lnTo>
                <a:lnTo>
                  <a:pt x="154351" y="377052"/>
                </a:lnTo>
                <a:lnTo>
                  <a:pt x="154311" y="367839"/>
                </a:lnTo>
                <a:lnTo>
                  <a:pt x="154305" y="3600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MARTPenAnnotation543"/>
          <p:cNvSpPr/>
          <p:nvPr/>
        </p:nvSpPr>
        <p:spPr>
          <a:xfrm>
            <a:off x="7834320" y="1878120"/>
            <a:ext cx="217440" cy="401400"/>
          </a:xfrm>
          <a:custGeom>
            <a:avLst/>
            <a:gdLst>
              <a:gd name="textAreaLeft" fmla="*/ 0 w 217440"/>
              <a:gd name="textAreaRight" fmla="*/ 217800 w 217440"/>
              <a:gd name="textAreaTop" fmla="*/ 0 h 401400"/>
              <a:gd name="textAreaBottom" fmla="*/ 401760 h 401400"/>
            </a:gdLst>
            <a:ahLst/>
            <a:rect l="textAreaLeft" t="textAreaTop" r="textAreaRight" b="textAreaBottom"/>
            <a:pathLst>
              <a:path w="218129" h="402905">
                <a:moveTo>
                  <a:pt x="115259" y="0"/>
                </a:moveTo>
                <a:lnTo>
                  <a:pt x="86318" y="0"/>
                </a:lnTo>
                <a:lnTo>
                  <a:pt x="84535" y="953"/>
                </a:lnTo>
                <a:lnTo>
                  <a:pt x="83346" y="2540"/>
                </a:lnTo>
                <a:lnTo>
                  <a:pt x="82554" y="4551"/>
                </a:lnTo>
                <a:lnTo>
                  <a:pt x="76887" y="11932"/>
                </a:lnTo>
                <a:lnTo>
                  <a:pt x="71852" y="19908"/>
                </a:lnTo>
                <a:lnTo>
                  <a:pt x="69176" y="24702"/>
                </a:lnTo>
                <a:lnTo>
                  <a:pt x="65486" y="28851"/>
                </a:lnTo>
                <a:lnTo>
                  <a:pt x="61122" y="32569"/>
                </a:lnTo>
                <a:lnTo>
                  <a:pt x="56308" y="36000"/>
                </a:lnTo>
                <a:lnTo>
                  <a:pt x="52145" y="40192"/>
                </a:lnTo>
                <a:lnTo>
                  <a:pt x="48419" y="44893"/>
                </a:lnTo>
                <a:lnTo>
                  <a:pt x="44982" y="49931"/>
                </a:lnTo>
                <a:lnTo>
                  <a:pt x="41162" y="60609"/>
                </a:lnTo>
                <a:lnTo>
                  <a:pt x="38512" y="72657"/>
                </a:lnTo>
                <a:lnTo>
                  <a:pt x="36471" y="79871"/>
                </a:lnTo>
                <a:lnTo>
                  <a:pt x="34159" y="87537"/>
                </a:lnTo>
                <a:lnTo>
                  <a:pt x="31665" y="94553"/>
                </a:lnTo>
                <a:lnTo>
                  <a:pt x="29049" y="101135"/>
                </a:lnTo>
                <a:lnTo>
                  <a:pt x="23603" y="113529"/>
                </a:lnTo>
                <a:lnTo>
                  <a:pt x="18008" y="125387"/>
                </a:lnTo>
                <a:lnTo>
                  <a:pt x="950" y="159990"/>
                </a:lnTo>
                <a:lnTo>
                  <a:pt x="0" y="165715"/>
                </a:lnTo>
                <a:lnTo>
                  <a:pt x="1485" y="177156"/>
                </a:lnTo>
                <a:lnTo>
                  <a:pt x="2780" y="188591"/>
                </a:lnTo>
                <a:lnTo>
                  <a:pt x="3355" y="200023"/>
                </a:lnTo>
                <a:lnTo>
                  <a:pt x="3611" y="211454"/>
                </a:lnTo>
                <a:lnTo>
                  <a:pt x="3755" y="228600"/>
                </a:lnTo>
                <a:lnTo>
                  <a:pt x="5681" y="235267"/>
                </a:lnTo>
                <a:lnTo>
                  <a:pt x="8869" y="242570"/>
                </a:lnTo>
                <a:lnTo>
                  <a:pt x="12900" y="250296"/>
                </a:lnTo>
                <a:lnTo>
                  <a:pt x="16539" y="256399"/>
                </a:lnTo>
                <a:lnTo>
                  <a:pt x="23123" y="265720"/>
                </a:lnTo>
                <a:lnTo>
                  <a:pt x="29225" y="278118"/>
                </a:lnTo>
                <a:lnTo>
                  <a:pt x="32185" y="285425"/>
                </a:lnTo>
                <a:lnTo>
                  <a:pt x="35111" y="292201"/>
                </a:lnTo>
                <a:lnTo>
                  <a:pt x="40904" y="304809"/>
                </a:lnTo>
                <a:lnTo>
                  <a:pt x="46651" y="314223"/>
                </a:lnTo>
                <a:lnTo>
                  <a:pt x="52382" y="322535"/>
                </a:lnTo>
                <a:lnTo>
                  <a:pt x="58102" y="332579"/>
                </a:lnTo>
                <a:lnTo>
                  <a:pt x="63821" y="343393"/>
                </a:lnTo>
                <a:lnTo>
                  <a:pt x="69537" y="353597"/>
                </a:lnTo>
                <a:lnTo>
                  <a:pt x="75253" y="361307"/>
                </a:lnTo>
                <a:lnTo>
                  <a:pt x="80969" y="367908"/>
                </a:lnTo>
                <a:lnTo>
                  <a:pt x="83826" y="371002"/>
                </a:lnTo>
                <a:lnTo>
                  <a:pt x="87636" y="374017"/>
                </a:lnTo>
                <a:lnTo>
                  <a:pt x="92081" y="376980"/>
                </a:lnTo>
                <a:lnTo>
                  <a:pt x="96950" y="379907"/>
                </a:lnTo>
                <a:lnTo>
                  <a:pt x="101147" y="382811"/>
                </a:lnTo>
                <a:lnTo>
                  <a:pt x="104899" y="385700"/>
                </a:lnTo>
                <a:lnTo>
                  <a:pt x="111606" y="391450"/>
                </a:lnTo>
                <a:lnTo>
                  <a:pt x="117764" y="397180"/>
                </a:lnTo>
                <a:lnTo>
                  <a:pt x="121691" y="399089"/>
                </a:lnTo>
                <a:lnTo>
                  <a:pt x="126215" y="400362"/>
                </a:lnTo>
                <a:lnTo>
                  <a:pt x="131135" y="401211"/>
                </a:lnTo>
                <a:lnTo>
                  <a:pt x="135368" y="401776"/>
                </a:lnTo>
                <a:lnTo>
                  <a:pt x="139142" y="402153"/>
                </a:lnTo>
                <a:lnTo>
                  <a:pt x="145876" y="402572"/>
                </a:lnTo>
                <a:lnTo>
                  <a:pt x="152044" y="402759"/>
                </a:lnTo>
                <a:lnTo>
                  <a:pt x="166496" y="402899"/>
                </a:lnTo>
                <a:lnTo>
                  <a:pt x="170733" y="402904"/>
                </a:lnTo>
                <a:lnTo>
                  <a:pt x="173196" y="401952"/>
                </a:lnTo>
                <a:lnTo>
                  <a:pt x="182167" y="396063"/>
                </a:lnTo>
                <a:lnTo>
                  <a:pt x="186534" y="393582"/>
                </a:lnTo>
                <a:lnTo>
                  <a:pt x="191351" y="390976"/>
                </a:lnTo>
                <a:lnTo>
                  <a:pt x="195513" y="389238"/>
                </a:lnTo>
                <a:lnTo>
                  <a:pt x="199242" y="388079"/>
                </a:lnTo>
                <a:lnTo>
                  <a:pt x="202680" y="387307"/>
                </a:lnTo>
                <a:lnTo>
                  <a:pt x="209040" y="383909"/>
                </a:lnTo>
                <a:lnTo>
                  <a:pt x="218128" y="3771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MARTPenAnnotation544"/>
          <p:cNvSpPr/>
          <p:nvPr/>
        </p:nvSpPr>
        <p:spPr>
          <a:xfrm>
            <a:off x="7910640" y="2092320"/>
            <a:ext cx="201600" cy="255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02107" h="25719">
                <a:moveTo>
                  <a:pt x="13511" y="17146"/>
                </a:moveTo>
                <a:lnTo>
                  <a:pt x="5292" y="17146"/>
                </a:lnTo>
                <a:lnTo>
                  <a:pt x="5174" y="18098"/>
                </a:lnTo>
                <a:lnTo>
                  <a:pt x="5096" y="19686"/>
                </a:lnTo>
                <a:lnTo>
                  <a:pt x="4942" y="25613"/>
                </a:lnTo>
                <a:lnTo>
                  <a:pt x="0" y="25697"/>
                </a:lnTo>
                <a:lnTo>
                  <a:pt x="14019" y="25718"/>
                </a:lnTo>
                <a:lnTo>
                  <a:pt x="17659" y="24765"/>
                </a:lnTo>
                <a:lnTo>
                  <a:pt x="21039" y="23178"/>
                </a:lnTo>
                <a:lnTo>
                  <a:pt x="24244" y="21167"/>
                </a:lnTo>
                <a:lnTo>
                  <a:pt x="27335" y="19827"/>
                </a:lnTo>
                <a:lnTo>
                  <a:pt x="30346" y="18933"/>
                </a:lnTo>
                <a:lnTo>
                  <a:pt x="33307" y="18337"/>
                </a:lnTo>
                <a:lnTo>
                  <a:pt x="37186" y="17940"/>
                </a:lnTo>
                <a:lnTo>
                  <a:pt x="41677" y="17675"/>
                </a:lnTo>
                <a:lnTo>
                  <a:pt x="51747" y="17381"/>
                </a:lnTo>
                <a:lnTo>
                  <a:pt x="62573" y="17250"/>
                </a:lnTo>
                <a:lnTo>
                  <a:pt x="68126" y="16263"/>
                </a:lnTo>
                <a:lnTo>
                  <a:pt x="73734" y="14652"/>
                </a:lnTo>
                <a:lnTo>
                  <a:pt x="79377" y="12626"/>
                </a:lnTo>
                <a:lnTo>
                  <a:pt x="85044" y="11275"/>
                </a:lnTo>
                <a:lnTo>
                  <a:pt x="90727" y="10374"/>
                </a:lnTo>
                <a:lnTo>
                  <a:pt x="96421" y="9774"/>
                </a:lnTo>
                <a:lnTo>
                  <a:pt x="102122" y="9374"/>
                </a:lnTo>
                <a:lnTo>
                  <a:pt x="107828" y="9107"/>
                </a:lnTo>
                <a:lnTo>
                  <a:pt x="113537" y="8929"/>
                </a:lnTo>
                <a:lnTo>
                  <a:pt x="119247" y="7858"/>
                </a:lnTo>
                <a:lnTo>
                  <a:pt x="124960" y="6191"/>
                </a:lnTo>
                <a:lnTo>
                  <a:pt x="130673" y="4128"/>
                </a:lnTo>
                <a:lnTo>
                  <a:pt x="135434" y="2752"/>
                </a:lnTo>
                <a:lnTo>
                  <a:pt x="139560" y="1835"/>
                </a:lnTo>
                <a:lnTo>
                  <a:pt x="143264" y="1223"/>
                </a:lnTo>
                <a:lnTo>
                  <a:pt x="147638" y="816"/>
                </a:lnTo>
                <a:lnTo>
                  <a:pt x="152460" y="544"/>
                </a:lnTo>
                <a:lnTo>
                  <a:pt x="161944" y="242"/>
                </a:lnTo>
                <a:lnTo>
                  <a:pt x="175793" y="48"/>
                </a:lnTo>
                <a:lnTo>
                  <a:pt x="20210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MARTPenAnnotation545"/>
          <p:cNvSpPr/>
          <p:nvPr/>
        </p:nvSpPr>
        <p:spPr>
          <a:xfrm>
            <a:off x="8129520" y="1963800"/>
            <a:ext cx="98640" cy="264960"/>
          </a:xfrm>
          <a:custGeom>
            <a:avLst/>
            <a:gdLst>
              <a:gd name="textAreaLeft" fmla="*/ 0 w 98640"/>
              <a:gd name="textAreaRight" fmla="*/ 99000 w 986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99057" h="265736">
                <a:moveTo>
                  <a:pt x="8467" y="0"/>
                </a:moveTo>
                <a:lnTo>
                  <a:pt x="0" y="0"/>
                </a:lnTo>
                <a:lnTo>
                  <a:pt x="2482" y="2540"/>
                </a:lnTo>
                <a:lnTo>
                  <a:pt x="4478" y="4551"/>
                </a:lnTo>
                <a:lnTo>
                  <a:pt x="5808" y="6844"/>
                </a:lnTo>
                <a:lnTo>
                  <a:pt x="7285" y="11932"/>
                </a:lnTo>
                <a:lnTo>
                  <a:pt x="8117" y="20151"/>
                </a:lnTo>
                <a:lnTo>
                  <a:pt x="10852" y="28324"/>
                </a:lnTo>
                <a:lnTo>
                  <a:pt x="12915" y="33170"/>
                </a:lnTo>
                <a:lnTo>
                  <a:pt x="13337" y="38306"/>
                </a:lnTo>
                <a:lnTo>
                  <a:pt x="12667" y="43635"/>
                </a:lnTo>
                <a:lnTo>
                  <a:pt x="11266" y="49093"/>
                </a:lnTo>
                <a:lnTo>
                  <a:pt x="11287" y="54636"/>
                </a:lnTo>
                <a:lnTo>
                  <a:pt x="12252" y="60236"/>
                </a:lnTo>
                <a:lnTo>
                  <a:pt x="13848" y="65875"/>
                </a:lnTo>
                <a:lnTo>
                  <a:pt x="14912" y="71539"/>
                </a:lnTo>
                <a:lnTo>
                  <a:pt x="15621" y="77220"/>
                </a:lnTo>
                <a:lnTo>
                  <a:pt x="16094" y="82913"/>
                </a:lnTo>
                <a:lnTo>
                  <a:pt x="17362" y="88613"/>
                </a:lnTo>
                <a:lnTo>
                  <a:pt x="19160" y="94318"/>
                </a:lnTo>
                <a:lnTo>
                  <a:pt x="21311" y="100026"/>
                </a:lnTo>
                <a:lnTo>
                  <a:pt x="22746" y="105737"/>
                </a:lnTo>
                <a:lnTo>
                  <a:pt x="23701" y="111449"/>
                </a:lnTo>
                <a:lnTo>
                  <a:pt x="24338" y="117162"/>
                </a:lnTo>
                <a:lnTo>
                  <a:pt x="25715" y="122875"/>
                </a:lnTo>
                <a:lnTo>
                  <a:pt x="27586" y="128589"/>
                </a:lnTo>
                <a:lnTo>
                  <a:pt x="29785" y="134304"/>
                </a:lnTo>
                <a:lnTo>
                  <a:pt x="32205" y="140018"/>
                </a:lnTo>
                <a:lnTo>
                  <a:pt x="37432" y="151448"/>
                </a:lnTo>
                <a:lnTo>
                  <a:pt x="39208" y="157163"/>
                </a:lnTo>
                <a:lnTo>
                  <a:pt x="40392" y="162878"/>
                </a:lnTo>
                <a:lnTo>
                  <a:pt x="41181" y="168593"/>
                </a:lnTo>
                <a:lnTo>
                  <a:pt x="42658" y="173355"/>
                </a:lnTo>
                <a:lnTo>
                  <a:pt x="44596" y="177483"/>
                </a:lnTo>
                <a:lnTo>
                  <a:pt x="46841" y="181187"/>
                </a:lnTo>
                <a:lnTo>
                  <a:pt x="49290" y="185561"/>
                </a:lnTo>
                <a:lnTo>
                  <a:pt x="54551" y="195502"/>
                </a:lnTo>
                <a:lnTo>
                  <a:pt x="62868" y="211808"/>
                </a:lnTo>
                <a:lnTo>
                  <a:pt x="65689" y="216453"/>
                </a:lnTo>
                <a:lnTo>
                  <a:pt x="68523" y="220502"/>
                </a:lnTo>
                <a:lnTo>
                  <a:pt x="71365" y="224154"/>
                </a:lnTo>
                <a:lnTo>
                  <a:pt x="73260" y="227541"/>
                </a:lnTo>
                <a:lnTo>
                  <a:pt x="75364" y="233844"/>
                </a:lnTo>
                <a:lnTo>
                  <a:pt x="76878" y="236859"/>
                </a:lnTo>
                <a:lnTo>
                  <a:pt x="78839" y="239821"/>
                </a:lnTo>
                <a:lnTo>
                  <a:pt x="81099" y="242748"/>
                </a:lnTo>
                <a:lnTo>
                  <a:pt x="83611" y="248541"/>
                </a:lnTo>
                <a:lnTo>
                  <a:pt x="84281" y="251419"/>
                </a:lnTo>
                <a:lnTo>
                  <a:pt x="85680" y="254290"/>
                </a:lnTo>
                <a:lnTo>
                  <a:pt x="87566" y="257157"/>
                </a:lnTo>
                <a:lnTo>
                  <a:pt x="93806" y="265245"/>
                </a:lnTo>
                <a:lnTo>
                  <a:pt x="96560" y="265524"/>
                </a:lnTo>
                <a:lnTo>
                  <a:pt x="99056" y="265648"/>
                </a:lnTo>
                <a:lnTo>
                  <a:pt x="96057" y="265718"/>
                </a:lnTo>
                <a:lnTo>
                  <a:pt x="95021" y="265735"/>
                </a:lnTo>
                <a:lnTo>
                  <a:pt x="94745" y="264786"/>
                </a:lnTo>
                <a:lnTo>
                  <a:pt x="94192" y="2571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MARTPenAnnotation546"/>
          <p:cNvSpPr/>
          <p:nvPr/>
        </p:nvSpPr>
        <p:spPr>
          <a:xfrm>
            <a:off x="8197920" y="1928880"/>
            <a:ext cx="206280" cy="334800"/>
          </a:xfrm>
          <a:custGeom>
            <a:avLst/>
            <a:gdLst>
              <a:gd name="textAreaLeft" fmla="*/ 0 w 206280"/>
              <a:gd name="textAreaRight" fmla="*/ 206640 w 206280"/>
              <a:gd name="textAreaTop" fmla="*/ 0 h 334800"/>
              <a:gd name="textAreaBottom" fmla="*/ 334800 h 334800"/>
            </a:gdLst>
            <a:ahLst/>
            <a:rect l="textAreaLeft" t="textAreaTop" r="textAreaRight" b="textAreaBottom"/>
            <a:pathLst>
              <a:path w="205588" h="334325">
                <a:moveTo>
                  <a:pt x="0" y="8570"/>
                </a:moveTo>
                <a:lnTo>
                  <a:pt x="7382" y="1189"/>
                </a:lnTo>
                <a:lnTo>
                  <a:pt x="10583" y="527"/>
                </a:lnTo>
                <a:lnTo>
                  <a:pt x="15850" y="102"/>
                </a:lnTo>
                <a:lnTo>
                  <a:pt x="36344" y="6"/>
                </a:lnTo>
                <a:lnTo>
                  <a:pt x="50033" y="0"/>
                </a:lnTo>
                <a:lnTo>
                  <a:pt x="55263" y="951"/>
                </a:lnTo>
                <a:lnTo>
                  <a:pt x="60654" y="2538"/>
                </a:lnTo>
                <a:lnTo>
                  <a:pt x="66154" y="4549"/>
                </a:lnTo>
                <a:lnTo>
                  <a:pt x="71725" y="7794"/>
                </a:lnTo>
                <a:lnTo>
                  <a:pt x="77344" y="11863"/>
                </a:lnTo>
                <a:lnTo>
                  <a:pt x="82994" y="16480"/>
                </a:lnTo>
                <a:lnTo>
                  <a:pt x="87715" y="20510"/>
                </a:lnTo>
                <a:lnTo>
                  <a:pt x="91814" y="24150"/>
                </a:lnTo>
                <a:lnTo>
                  <a:pt x="95500" y="27529"/>
                </a:lnTo>
                <a:lnTo>
                  <a:pt x="100814" y="30734"/>
                </a:lnTo>
                <a:lnTo>
                  <a:pt x="107214" y="33824"/>
                </a:lnTo>
                <a:lnTo>
                  <a:pt x="114338" y="36835"/>
                </a:lnTo>
                <a:lnTo>
                  <a:pt x="120994" y="40749"/>
                </a:lnTo>
                <a:lnTo>
                  <a:pt x="127335" y="45262"/>
                </a:lnTo>
                <a:lnTo>
                  <a:pt x="133467" y="50176"/>
                </a:lnTo>
                <a:lnTo>
                  <a:pt x="139461" y="55357"/>
                </a:lnTo>
                <a:lnTo>
                  <a:pt x="145361" y="60717"/>
                </a:lnTo>
                <a:lnTo>
                  <a:pt x="156998" y="71751"/>
                </a:lnTo>
                <a:lnTo>
                  <a:pt x="168519" y="83005"/>
                </a:lnTo>
                <a:lnTo>
                  <a:pt x="173307" y="88673"/>
                </a:lnTo>
                <a:lnTo>
                  <a:pt x="177451" y="94357"/>
                </a:lnTo>
                <a:lnTo>
                  <a:pt x="181165" y="100051"/>
                </a:lnTo>
                <a:lnTo>
                  <a:pt x="184594" y="105752"/>
                </a:lnTo>
                <a:lnTo>
                  <a:pt x="187833" y="111458"/>
                </a:lnTo>
                <a:lnTo>
                  <a:pt x="193971" y="122878"/>
                </a:lnTo>
                <a:lnTo>
                  <a:pt x="199875" y="134303"/>
                </a:lnTo>
                <a:lnTo>
                  <a:pt x="201830" y="140970"/>
                </a:lnTo>
                <a:lnTo>
                  <a:pt x="203134" y="148271"/>
                </a:lnTo>
                <a:lnTo>
                  <a:pt x="204002" y="155997"/>
                </a:lnTo>
                <a:lnTo>
                  <a:pt x="204582" y="163052"/>
                </a:lnTo>
                <a:lnTo>
                  <a:pt x="204968" y="169660"/>
                </a:lnTo>
                <a:lnTo>
                  <a:pt x="205225" y="175971"/>
                </a:lnTo>
                <a:lnTo>
                  <a:pt x="205512" y="190603"/>
                </a:lnTo>
                <a:lnTo>
                  <a:pt x="205587" y="198505"/>
                </a:lnTo>
                <a:lnTo>
                  <a:pt x="204686" y="205678"/>
                </a:lnTo>
                <a:lnTo>
                  <a:pt x="203132" y="212365"/>
                </a:lnTo>
                <a:lnTo>
                  <a:pt x="201144" y="218728"/>
                </a:lnTo>
                <a:lnTo>
                  <a:pt x="198866" y="224875"/>
                </a:lnTo>
                <a:lnTo>
                  <a:pt x="196395" y="230878"/>
                </a:lnTo>
                <a:lnTo>
                  <a:pt x="193796" y="236785"/>
                </a:lnTo>
                <a:lnTo>
                  <a:pt x="191110" y="243581"/>
                </a:lnTo>
                <a:lnTo>
                  <a:pt x="185585" y="258752"/>
                </a:lnTo>
                <a:lnTo>
                  <a:pt x="181826" y="264893"/>
                </a:lnTo>
                <a:lnTo>
                  <a:pt x="177415" y="269939"/>
                </a:lnTo>
                <a:lnTo>
                  <a:pt x="172570" y="274256"/>
                </a:lnTo>
                <a:lnTo>
                  <a:pt x="168386" y="279039"/>
                </a:lnTo>
                <a:lnTo>
                  <a:pt x="164645" y="284132"/>
                </a:lnTo>
                <a:lnTo>
                  <a:pt x="161198" y="289433"/>
                </a:lnTo>
                <a:lnTo>
                  <a:pt x="157948" y="294872"/>
                </a:lnTo>
                <a:lnTo>
                  <a:pt x="154830" y="300403"/>
                </a:lnTo>
                <a:lnTo>
                  <a:pt x="148823" y="310676"/>
                </a:lnTo>
                <a:lnTo>
                  <a:pt x="142978" y="318417"/>
                </a:lnTo>
                <a:lnTo>
                  <a:pt x="139134" y="321814"/>
                </a:lnTo>
                <a:lnTo>
                  <a:pt x="134667" y="325032"/>
                </a:lnTo>
                <a:lnTo>
                  <a:pt x="122910" y="332489"/>
                </a:lnTo>
                <a:lnTo>
                  <a:pt x="118761" y="333509"/>
                </a:lnTo>
                <a:lnTo>
                  <a:pt x="112888" y="334163"/>
                </a:lnTo>
                <a:lnTo>
                  <a:pt x="107321" y="334277"/>
                </a:lnTo>
                <a:lnTo>
                  <a:pt x="94298" y="3343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MARTPenAnnotation547"/>
          <p:cNvSpPr/>
          <p:nvPr/>
        </p:nvSpPr>
        <p:spPr>
          <a:xfrm>
            <a:off x="8129520" y="1731960"/>
            <a:ext cx="720720" cy="50760"/>
          </a:xfrm>
          <a:custGeom>
            <a:avLst/>
            <a:gdLst>
              <a:gd name="textAreaLeft" fmla="*/ 0 w 720720"/>
              <a:gd name="textAreaRight" fmla="*/ 721080 w 7207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20091" h="51436">
                <a:moveTo>
                  <a:pt x="0" y="17144"/>
                </a:moveTo>
                <a:lnTo>
                  <a:pt x="8220" y="8925"/>
                </a:lnTo>
                <a:lnTo>
                  <a:pt x="20474" y="8603"/>
                </a:lnTo>
                <a:lnTo>
                  <a:pt x="23174" y="7640"/>
                </a:lnTo>
                <a:lnTo>
                  <a:pt x="25927" y="6046"/>
                </a:lnTo>
                <a:lnTo>
                  <a:pt x="28715" y="4031"/>
                </a:lnTo>
                <a:lnTo>
                  <a:pt x="31525" y="2687"/>
                </a:lnTo>
                <a:lnTo>
                  <a:pt x="37188" y="1194"/>
                </a:lnTo>
                <a:lnTo>
                  <a:pt x="58847" y="104"/>
                </a:lnTo>
                <a:lnTo>
                  <a:pt x="345898" y="0"/>
                </a:lnTo>
                <a:lnTo>
                  <a:pt x="357281" y="952"/>
                </a:lnTo>
                <a:lnTo>
                  <a:pt x="368681" y="2540"/>
                </a:lnTo>
                <a:lnTo>
                  <a:pt x="380088" y="4550"/>
                </a:lnTo>
                <a:lnTo>
                  <a:pt x="390553" y="5891"/>
                </a:lnTo>
                <a:lnTo>
                  <a:pt x="409800" y="7380"/>
                </a:lnTo>
                <a:lnTo>
                  <a:pt x="420836" y="8730"/>
                </a:lnTo>
                <a:lnTo>
                  <a:pt x="432958" y="10582"/>
                </a:lnTo>
                <a:lnTo>
                  <a:pt x="445801" y="12770"/>
                </a:lnTo>
                <a:lnTo>
                  <a:pt x="458174" y="14228"/>
                </a:lnTo>
                <a:lnTo>
                  <a:pt x="470232" y="15200"/>
                </a:lnTo>
                <a:lnTo>
                  <a:pt x="482081" y="15848"/>
                </a:lnTo>
                <a:lnTo>
                  <a:pt x="502865" y="16569"/>
                </a:lnTo>
                <a:lnTo>
                  <a:pt x="521628" y="17841"/>
                </a:lnTo>
                <a:lnTo>
                  <a:pt x="530633" y="19514"/>
                </a:lnTo>
                <a:lnTo>
                  <a:pt x="539492" y="21582"/>
                </a:lnTo>
                <a:lnTo>
                  <a:pt x="548256" y="22960"/>
                </a:lnTo>
                <a:lnTo>
                  <a:pt x="565614" y="24492"/>
                </a:lnTo>
                <a:lnTo>
                  <a:pt x="574243" y="25853"/>
                </a:lnTo>
                <a:lnTo>
                  <a:pt x="582854" y="27712"/>
                </a:lnTo>
                <a:lnTo>
                  <a:pt x="591452" y="29905"/>
                </a:lnTo>
                <a:lnTo>
                  <a:pt x="599089" y="31366"/>
                </a:lnTo>
                <a:lnTo>
                  <a:pt x="606085" y="32341"/>
                </a:lnTo>
                <a:lnTo>
                  <a:pt x="627573" y="33712"/>
                </a:lnTo>
                <a:lnTo>
                  <a:pt x="649498" y="34118"/>
                </a:lnTo>
                <a:lnTo>
                  <a:pt x="655884" y="34175"/>
                </a:lnTo>
                <a:lnTo>
                  <a:pt x="662046" y="35166"/>
                </a:lnTo>
                <a:lnTo>
                  <a:pt x="668058" y="36779"/>
                </a:lnTo>
                <a:lnTo>
                  <a:pt x="673973" y="38807"/>
                </a:lnTo>
                <a:lnTo>
                  <a:pt x="678867" y="40158"/>
                </a:lnTo>
                <a:lnTo>
                  <a:pt x="686846" y="41660"/>
                </a:lnTo>
                <a:lnTo>
                  <a:pt x="705247" y="42704"/>
                </a:lnTo>
                <a:lnTo>
                  <a:pt x="719221" y="42853"/>
                </a:lnTo>
                <a:lnTo>
                  <a:pt x="719511" y="43808"/>
                </a:lnTo>
                <a:lnTo>
                  <a:pt x="719704" y="45398"/>
                </a:lnTo>
                <a:lnTo>
                  <a:pt x="720090" y="514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MARTPenAnnotation548"/>
          <p:cNvSpPr/>
          <p:nvPr/>
        </p:nvSpPr>
        <p:spPr>
          <a:xfrm>
            <a:off x="4272120" y="2306520"/>
            <a:ext cx="4475160" cy="111240"/>
          </a:xfrm>
          <a:custGeom>
            <a:avLst/>
            <a:gdLst>
              <a:gd name="textAreaLeft" fmla="*/ 0 w 4475160"/>
              <a:gd name="textAreaRight" fmla="*/ 4475520 w 447516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4474424" h="111444">
                <a:moveTo>
                  <a:pt x="8541" y="111443"/>
                </a:moveTo>
                <a:lnTo>
                  <a:pt x="0" y="111443"/>
                </a:lnTo>
                <a:lnTo>
                  <a:pt x="4529" y="111443"/>
                </a:lnTo>
                <a:lnTo>
                  <a:pt x="6819" y="110490"/>
                </a:lnTo>
                <a:lnTo>
                  <a:pt x="9298" y="108903"/>
                </a:lnTo>
                <a:lnTo>
                  <a:pt x="11904" y="106892"/>
                </a:lnTo>
                <a:lnTo>
                  <a:pt x="14593" y="105551"/>
                </a:lnTo>
                <a:lnTo>
                  <a:pt x="20121" y="104062"/>
                </a:lnTo>
                <a:lnTo>
                  <a:pt x="129617" y="101919"/>
                </a:lnTo>
                <a:lnTo>
                  <a:pt x="139741" y="100331"/>
                </a:lnTo>
                <a:lnTo>
                  <a:pt x="160197" y="96979"/>
                </a:lnTo>
                <a:lnTo>
                  <a:pt x="289608" y="94318"/>
                </a:lnTo>
                <a:lnTo>
                  <a:pt x="434707" y="94298"/>
                </a:lnTo>
                <a:lnTo>
                  <a:pt x="463061" y="91758"/>
                </a:lnTo>
                <a:lnTo>
                  <a:pt x="491538" y="88406"/>
                </a:lnTo>
                <a:lnTo>
                  <a:pt x="534345" y="85567"/>
                </a:lnTo>
                <a:lnTo>
                  <a:pt x="548625" y="83715"/>
                </a:lnTo>
                <a:lnTo>
                  <a:pt x="562907" y="81527"/>
                </a:lnTo>
                <a:lnTo>
                  <a:pt x="621001" y="77064"/>
                </a:lnTo>
                <a:lnTo>
                  <a:pt x="636875" y="75189"/>
                </a:lnTo>
                <a:lnTo>
                  <a:pt x="653173" y="72986"/>
                </a:lnTo>
                <a:lnTo>
                  <a:pt x="714503" y="68498"/>
                </a:lnTo>
                <a:lnTo>
                  <a:pt x="730642" y="66620"/>
                </a:lnTo>
                <a:lnTo>
                  <a:pt x="747117" y="64416"/>
                </a:lnTo>
                <a:lnTo>
                  <a:pt x="808730" y="59926"/>
                </a:lnTo>
                <a:lnTo>
                  <a:pt x="824893" y="58048"/>
                </a:lnTo>
                <a:lnTo>
                  <a:pt x="841384" y="55844"/>
                </a:lnTo>
                <a:lnTo>
                  <a:pt x="908912" y="51353"/>
                </a:lnTo>
                <a:lnTo>
                  <a:pt x="925972" y="49476"/>
                </a:lnTo>
                <a:lnTo>
                  <a:pt x="943059" y="47271"/>
                </a:lnTo>
                <a:lnTo>
                  <a:pt x="1010594" y="42781"/>
                </a:lnTo>
                <a:lnTo>
                  <a:pt x="1026144" y="40903"/>
                </a:lnTo>
                <a:lnTo>
                  <a:pt x="1041273" y="38699"/>
                </a:lnTo>
                <a:lnTo>
                  <a:pt x="1094422" y="35596"/>
                </a:lnTo>
                <a:lnTo>
                  <a:pt x="1165271" y="33596"/>
                </a:lnTo>
                <a:lnTo>
                  <a:pt x="1182602" y="31922"/>
                </a:lnTo>
                <a:lnTo>
                  <a:pt x="1217099" y="28475"/>
                </a:lnTo>
                <a:lnTo>
                  <a:pt x="1321072" y="25007"/>
                </a:lnTo>
                <a:lnTo>
                  <a:pt x="1339809" y="23339"/>
                </a:lnTo>
                <a:lnTo>
                  <a:pt x="1377456" y="19898"/>
                </a:lnTo>
                <a:lnTo>
                  <a:pt x="1482776" y="16434"/>
                </a:lnTo>
                <a:lnTo>
                  <a:pt x="1500000" y="14766"/>
                </a:lnTo>
                <a:lnTo>
                  <a:pt x="1534377" y="11325"/>
                </a:lnTo>
                <a:lnTo>
                  <a:pt x="1637310" y="7862"/>
                </a:lnTo>
                <a:lnTo>
                  <a:pt x="1654457" y="6194"/>
                </a:lnTo>
                <a:lnTo>
                  <a:pt x="1689702" y="2753"/>
                </a:lnTo>
                <a:lnTo>
                  <a:pt x="1816810" y="161"/>
                </a:lnTo>
                <a:lnTo>
                  <a:pt x="2245964" y="0"/>
                </a:lnTo>
                <a:lnTo>
                  <a:pt x="2280254" y="2540"/>
                </a:lnTo>
                <a:lnTo>
                  <a:pt x="2314544" y="5891"/>
                </a:lnTo>
                <a:lnTo>
                  <a:pt x="2411523" y="9290"/>
                </a:lnTo>
                <a:lnTo>
                  <a:pt x="2427774" y="10955"/>
                </a:lnTo>
                <a:lnTo>
                  <a:pt x="2461071" y="14394"/>
                </a:lnTo>
                <a:lnTo>
                  <a:pt x="2557325" y="17856"/>
                </a:lnTo>
                <a:lnTo>
                  <a:pt x="2573553" y="19524"/>
                </a:lnTo>
                <a:lnTo>
                  <a:pt x="2606824" y="22965"/>
                </a:lnTo>
                <a:lnTo>
                  <a:pt x="2751605" y="26598"/>
                </a:lnTo>
                <a:lnTo>
                  <a:pt x="2766890" y="28210"/>
                </a:lnTo>
                <a:lnTo>
                  <a:pt x="2796574" y="31588"/>
                </a:lnTo>
                <a:lnTo>
                  <a:pt x="2840062" y="34442"/>
                </a:lnTo>
                <a:lnTo>
                  <a:pt x="2854436" y="36296"/>
                </a:lnTo>
                <a:lnTo>
                  <a:pt x="2868782" y="38485"/>
                </a:lnTo>
                <a:lnTo>
                  <a:pt x="2931917" y="42950"/>
                </a:lnTo>
                <a:lnTo>
                  <a:pt x="2947106" y="44826"/>
                </a:lnTo>
                <a:lnTo>
                  <a:pt x="2961995" y="47029"/>
                </a:lnTo>
                <a:lnTo>
                  <a:pt x="3010254" y="50130"/>
                </a:lnTo>
                <a:lnTo>
                  <a:pt x="3071870" y="52130"/>
                </a:lnTo>
                <a:lnTo>
                  <a:pt x="3088032" y="53803"/>
                </a:lnTo>
                <a:lnTo>
                  <a:pt x="3120279" y="57250"/>
                </a:lnTo>
                <a:lnTo>
                  <a:pt x="3166162" y="60143"/>
                </a:lnTo>
                <a:lnTo>
                  <a:pt x="3182327" y="62003"/>
                </a:lnTo>
                <a:lnTo>
                  <a:pt x="3198818" y="64195"/>
                </a:lnTo>
                <a:lnTo>
                  <a:pt x="3249333" y="67281"/>
                </a:lnTo>
                <a:lnTo>
                  <a:pt x="3311711" y="69276"/>
                </a:lnTo>
                <a:lnTo>
                  <a:pt x="3327938" y="70949"/>
                </a:lnTo>
                <a:lnTo>
                  <a:pt x="3360254" y="74395"/>
                </a:lnTo>
                <a:lnTo>
                  <a:pt x="3454600" y="77863"/>
                </a:lnTo>
                <a:lnTo>
                  <a:pt x="3469869" y="79531"/>
                </a:lnTo>
                <a:lnTo>
                  <a:pt x="3499534" y="82972"/>
                </a:lnTo>
                <a:lnTo>
                  <a:pt x="3637702" y="85653"/>
                </a:lnTo>
                <a:lnTo>
                  <a:pt x="3774470" y="86676"/>
                </a:lnTo>
                <a:lnTo>
                  <a:pt x="3788843" y="88264"/>
                </a:lnTo>
                <a:lnTo>
                  <a:pt x="3817513" y="91616"/>
                </a:lnTo>
                <a:lnTo>
                  <a:pt x="3945223" y="94228"/>
                </a:lnTo>
                <a:lnTo>
                  <a:pt x="4371908" y="94298"/>
                </a:lnTo>
                <a:lnTo>
                  <a:pt x="4386534" y="96837"/>
                </a:lnTo>
                <a:lnTo>
                  <a:pt x="4400336" y="100189"/>
                </a:lnTo>
                <a:lnTo>
                  <a:pt x="4474423" y="102870"/>
                </a:lnTo>
                <a:lnTo>
                  <a:pt x="4472101" y="105410"/>
                </a:lnTo>
                <a:lnTo>
                  <a:pt x="4466241" y="11144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MARTPenAnnotation549"/>
          <p:cNvSpPr/>
          <p:nvPr/>
        </p:nvSpPr>
        <p:spPr>
          <a:xfrm>
            <a:off x="5840280" y="2446200"/>
            <a:ext cx="385920" cy="262080"/>
          </a:xfrm>
          <a:custGeom>
            <a:avLst/>
            <a:gdLst>
              <a:gd name="textAreaLeft" fmla="*/ 0 w 385920"/>
              <a:gd name="textAreaRight" fmla="*/ 386280 w 385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385604" h="261802">
                <a:moveTo>
                  <a:pt x="34131" y="56061"/>
                </a:moveTo>
                <a:lnTo>
                  <a:pt x="34131" y="48680"/>
                </a:lnTo>
                <a:lnTo>
                  <a:pt x="35083" y="48283"/>
                </a:lnTo>
                <a:lnTo>
                  <a:pt x="38681" y="47841"/>
                </a:lnTo>
                <a:lnTo>
                  <a:pt x="40974" y="46771"/>
                </a:lnTo>
                <a:lnTo>
                  <a:pt x="48753" y="40714"/>
                </a:lnTo>
                <a:lnTo>
                  <a:pt x="58042" y="32887"/>
                </a:lnTo>
                <a:lnTo>
                  <a:pt x="67301" y="27346"/>
                </a:lnTo>
                <a:lnTo>
                  <a:pt x="77765" y="24249"/>
                </a:lnTo>
                <a:lnTo>
                  <a:pt x="88766" y="21919"/>
                </a:lnTo>
                <a:lnTo>
                  <a:pt x="100005" y="17709"/>
                </a:lnTo>
                <a:lnTo>
                  <a:pt x="113891" y="12663"/>
                </a:lnTo>
                <a:lnTo>
                  <a:pt x="121594" y="9984"/>
                </a:lnTo>
                <a:lnTo>
                  <a:pt x="128634" y="8198"/>
                </a:lnTo>
                <a:lnTo>
                  <a:pt x="135233" y="7007"/>
                </a:lnTo>
                <a:lnTo>
                  <a:pt x="141537" y="6213"/>
                </a:lnTo>
                <a:lnTo>
                  <a:pt x="148598" y="4732"/>
                </a:lnTo>
                <a:lnTo>
                  <a:pt x="156162" y="2791"/>
                </a:lnTo>
                <a:lnTo>
                  <a:pt x="164063" y="545"/>
                </a:lnTo>
                <a:lnTo>
                  <a:pt x="172187" y="0"/>
                </a:lnTo>
                <a:lnTo>
                  <a:pt x="180460" y="590"/>
                </a:lnTo>
                <a:lnTo>
                  <a:pt x="188834" y="1935"/>
                </a:lnTo>
                <a:lnTo>
                  <a:pt x="196321" y="2832"/>
                </a:lnTo>
                <a:lnTo>
                  <a:pt x="203218" y="3430"/>
                </a:lnTo>
                <a:lnTo>
                  <a:pt x="209720" y="3828"/>
                </a:lnTo>
                <a:lnTo>
                  <a:pt x="215961" y="5047"/>
                </a:lnTo>
                <a:lnTo>
                  <a:pt x="227974" y="8940"/>
                </a:lnTo>
                <a:lnTo>
                  <a:pt x="239663" y="13846"/>
                </a:lnTo>
                <a:lnTo>
                  <a:pt x="251208" y="19201"/>
                </a:lnTo>
                <a:lnTo>
                  <a:pt x="262690" y="24756"/>
                </a:lnTo>
                <a:lnTo>
                  <a:pt x="266513" y="28523"/>
                </a:lnTo>
                <a:lnTo>
                  <a:pt x="269062" y="32940"/>
                </a:lnTo>
                <a:lnTo>
                  <a:pt x="270761" y="37789"/>
                </a:lnTo>
                <a:lnTo>
                  <a:pt x="272847" y="42927"/>
                </a:lnTo>
                <a:lnTo>
                  <a:pt x="275190" y="48257"/>
                </a:lnTo>
                <a:lnTo>
                  <a:pt x="277704" y="53716"/>
                </a:lnTo>
                <a:lnTo>
                  <a:pt x="279381" y="59260"/>
                </a:lnTo>
                <a:lnTo>
                  <a:pt x="280498" y="64861"/>
                </a:lnTo>
                <a:lnTo>
                  <a:pt x="281243" y="70500"/>
                </a:lnTo>
                <a:lnTo>
                  <a:pt x="280787" y="76164"/>
                </a:lnTo>
                <a:lnTo>
                  <a:pt x="279531" y="81846"/>
                </a:lnTo>
                <a:lnTo>
                  <a:pt x="277741" y="87538"/>
                </a:lnTo>
                <a:lnTo>
                  <a:pt x="276548" y="93238"/>
                </a:lnTo>
                <a:lnTo>
                  <a:pt x="275751" y="98943"/>
                </a:lnTo>
                <a:lnTo>
                  <a:pt x="275221" y="104651"/>
                </a:lnTo>
                <a:lnTo>
                  <a:pt x="273915" y="110362"/>
                </a:lnTo>
                <a:lnTo>
                  <a:pt x="272092" y="116074"/>
                </a:lnTo>
                <a:lnTo>
                  <a:pt x="269924" y="121787"/>
                </a:lnTo>
                <a:lnTo>
                  <a:pt x="267526" y="127501"/>
                </a:lnTo>
                <a:lnTo>
                  <a:pt x="264975" y="133215"/>
                </a:lnTo>
                <a:lnTo>
                  <a:pt x="262322" y="138929"/>
                </a:lnTo>
                <a:lnTo>
                  <a:pt x="258648" y="144644"/>
                </a:lnTo>
                <a:lnTo>
                  <a:pt x="254294" y="150359"/>
                </a:lnTo>
                <a:lnTo>
                  <a:pt x="249486" y="156073"/>
                </a:lnTo>
                <a:lnTo>
                  <a:pt x="245328" y="160836"/>
                </a:lnTo>
                <a:lnTo>
                  <a:pt x="238169" y="168667"/>
                </a:lnTo>
                <a:lnTo>
                  <a:pt x="224233" y="182982"/>
                </a:lnTo>
                <a:lnTo>
                  <a:pt x="212589" y="194738"/>
                </a:lnTo>
                <a:lnTo>
                  <a:pt x="203615" y="201197"/>
                </a:lnTo>
                <a:lnTo>
                  <a:pt x="194230" y="207243"/>
                </a:lnTo>
                <a:lnTo>
                  <a:pt x="186883" y="213105"/>
                </a:lnTo>
                <a:lnTo>
                  <a:pt x="177903" y="218886"/>
                </a:lnTo>
                <a:lnTo>
                  <a:pt x="167562" y="224630"/>
                </a:lnTo>
                <a:lnTo>
                  <a:pt x="156616" y="230358"/>
                </a:lnTo>
                <a:lnTo>
                  <a:pt x="145401" y="233538"/>
                </a:lnTo>
                <a:lnTo>
                  <a:pt x="134067" y="234952"/>
                </a:lnTo>
                <a:lnTo>
                  <a:pt x="122679" y="235580"/>
                </a:lnTo>
                <a:lnTo>
                  <a:pt x="111268" y="235860"/>
                </a:lnTo>
                <a:lnTo>
                  <a:pt x="71277" y="236070"/>
                </a:lnTo>
                <a:lnTo>
                  <a:pt x="59848" y="233537"/>
                </a:lnTo>
                <a:lnTo>
                  <a:pt x="49370" y="230189"/>
                </a:lnTo>
                <a:lnTo>
                  <a:pt x="41539" y="228701"/>
                </a:lnTo>
                <a:lnTo>
                  <a:pt x="32343" y="225500"/>
                </a:lnTo>
                <a:lnTo>
                  <a:pt x="22859" y="220902"/>
                </a:lnTo>
                <a:lnTo>
                  <a:pt x="12164" y="212958"/>
                </a:lnTo>
                <a:lnTo>
                  <a:pt x="5953" y="207390"/>
                </a:lnTo>
                <a:lnTo>
                  <a:pt x="3915" y="204572"/>
                </a:lnTo>
                <a:lnTo>
                  <a:pt x="1652" y="198901"/>
                </a:lnTo>
                <a:lnTo>
                  <a:pt x="646" y="193205"/>
                </a:lnTo>
                <a:lnTo>
                  <a:pt x="199" y="187498"/>
                </a:lnTo>
                <a:lnTo>
                  <a:pt x="0" y="181788"/>
                </a:lnTo>
                <a:lnTo>
                  <a:pt x="899" y="177979"/>
                </a:lnTo>
                <a:lnTo>
                  <a:pt x="2452" y="173534"/>
                </a:lnTo>
                <a:lnTo>
                  <a:pt x="4439" y="168666"/>
                </a:lnTo>
                <a:lnTo>
                  <a:pt x="9187" y="160718"/>
                </a:lnTo>
                <a:lnTo>
                  <a:pt x="14472" y="154010"/>
                </a:lnTo>
                <a:lnTo>
                  <a:pt x="19996" y="147854"/>
                </a:lnTo>
                <a:lnTo>
                  <a:pt x="28166" y="141943"/>
                </a:lnTo>
                <a:lnTo>
                  <a:pt x="33012" y="139033"/>
                </a:lnTo>
                <a:lnTo>
                  <a:pt x="43476" y="135800"/>
                </a:lnTo>
                <a:lnTo>
                  <a:pt x="54477" y="133410"/>
                </a:lnTo>
                <a:lnTo>
                  <a:pt x="65716" y="129173"/>
                </a:lnTo>
                <a:lnTo>
                  <a:pt x="77061" y="126655"/>
                </a:lnTo>
                <a:lnTo>
                  <a:pt x="88453" y="125536"/>
                </a:lnTo>
                <a:lnTo>
                  <a:pt x="99866" y="125039"/>
                </a:lnTo>
                <a:lnTo>
                  <a:pt x="121553" y="124759"/>
                </a:lnTo>
                <a:lnTo>
                  <a:pt x="141525" y="124676"/>
                </a:lnTo>
                <a:lnTo>
                  <a:pt x="148589" y="125616"/>
                </a:lnTo>
                <a:lnTo>
                  <a:pt x="156157" y="127196"/>
                </a:lnTo>
                <a:lnTo>
                  <a:pt x="164058" y="129202"/>
                </a:lnTo>
                <a:lnTo>
                  <a:pt x="171232" y="130539"/>
                </a:lnTo>
                <a:lnTo>
                  <a:pt x="177919" y="131430"/>
                </a:lnTo>
                <a:lnTo>
                  <a:pt x="184282" y="132025"/>
                </a:lnTo>
                <a:lnTo>
                  <a:pt x="190429" y="133373"/>
                </a:lnTo>
                <a:lnTo>
                  <a:pt x="202339" y="137412"/>
                </a:lnTo>
                <a:lnTo>
                  <a:pt x="213982" y="142382"/>
                </a:lnTo>
                <a:lnTo>
                  <a:pt x="225507" y="148718"/>
                </a:lnTo>
                <a:lnTo>
                  <a:pt x="231248" y="153075"/>
                </a:lnTo>
                <a:lnTo>
                  <a:pt x="236979" y="157884"/>
                </a:lnTo>
                <a:lnTo>
                  <a:pt x="248428" y="165768"/>
                </a:lnTo>
                <a:lnTo>
                  <a:pt x="259866" y="173400"/>
                </a:lnTo>
                <a:lnTo>
                  <a:pt x="265584" y="178101"/>
                </a:lnTo>
                <a:lnTo>
                  <a:pt x="271300" y="183141"/>
                </a:lnTo>
                <a:lnTo>
                  <a:pt x="282732" y="191281"/>
                </a:lnTo>
                <a:lnTo>
                  <a:pt x="293210" y="198073"/>
                </a:lnTo>
                <a:lnTo>
                  <a:pt x="301042" y="204267"/>
                </a:lnTo>
                <a:lnTo>
                  <a:pt x="310238" y="210195"/>
                </a:lnTo>
                <a:lnTo>
                  <a:pt x="319722" y="216005"/>
                </a:lnTo>
                <a:lnTo>
                  <a:pt x="327113" y="221762"/>
                </a:lnTo>
                <a:lnTo>
                  <a:pt x="333573" y="227496"/>
                </a:lnTo>
                <a:lnTo>
                  <a:pt x="340571" y="233219"/>
                </a:lnTo>
                <a:lnTo>
                  <a:pt x="350031" y="238937"/>
                </a:lnTo>
                <a:lnTo>
                  <a:pt x="358046" y="242114"/>
                </a:lnTo>
                <a:lnTo>
                  <a:pt x="361517" y="242961"/>
                </a:lnTo>
                <a:lnTo>
                  <a:pt x="367913" y="246443"/>
                </a:lnTo>
                <a:lnTo>
                  <a:pt x="376869" y="253758"/>
                </a:lnTo>
                <a:lnTo>
                  <a:pt x="385603" y="2618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MARTPenAnnotation550"/>
          <p:cNvSpPr/>
          <p:nvPr/>
        </p:nvSpPr>
        <p:spPr>
          <a:xfrm>
            <a:off x="6251400" y="2435400"/>
            <a:ext cx="206640" cy="290160"/>
          </a:xfrm>
          <a:custGeom>
            <a:avLst/>
            <a:gdLst>
              <a:gd name="textAreaLeft" fmla="*/ 0 w 206640"/>
              <a:gd name="textAreaRight" fmla="*/ 207000 w 206640"/>
              <a:gd name="textAreaTop" fmla="*/ 0 h 290160"/>
              <a:gd name="textAreaBottom" fmla="*/ 290520 h 290160"/>
            </a:gdLst>
            <a:ahLst/>
            <a:rect l="textAreaLeft" t="textAreaTop" r="textAreaRight" b="textAreaBottom"/>
            <a:pathLst>
              <a:path w="205592" h="291433">
                <a:moveTo>
                  <a:pt x="102720" y="0"/>
                </a:moveTo>
                <a:lnTo>
                  <a:pt x="98170" y="0"/>
                </a:lnTo>
                <a:lnTo>
                  <a:pt x="96829" y="953"/>
                </a:lnTo>
                <a:lnTo>
                  <a:pt x="95935" y="2541"/>
                </a:lnTo>
                <a:lnTo>
                  <a:pt x="95339" y="4552"/>
                </a:lnTo>
                <a:lnTo>
                  <a:pt x="92138" y="9326"/>
                </a:lnTo>
                <a:lnTo>
                  <a:pt x="87540" y="15575"/>
                </a:lnTo>
                <a:lnTo>
                  <a:pt x="84980" y="19909"/>
                </a:lnTo>
                <a:lnTo>
                  <a:pt x="82321" y="24703"/>
                </a:lnTo>
                <a:lnTo>
                  <a:pt x="76827" y="35109"/>
                </a:lnTo>
                <a:lnTo>
                  <a:pt x="74028" y="40551"/>
                </a:lnTo>
                <a:lnTo>
                  <a:pt x="70257" y="46084"/>
                </a:lnTo>
                <a:lnTo>
                  <a:pt x="65839" y="51678"/>
                </a:lnTo>
                <a:lnTo>
                  <a:pt x="60987" y="57312"/>
                </a:lnTo>
                <a:lnTo>
                  <a:pt x="55848" y="62973"/>
                </a:lnTo>
                <a:lnTo>
                  <a:pt x="45058" y="74344"/>
                </a:lnTo>
                <a:lnTo>
                  <a:pt x="40467" y="80042"/>
                </a:lnTo>
                <a:lnTo>
                  <a:pt x="36453" y="85747"/>
                </a:lnTo>
                <a:lnTo>
                  <a:pt x="32825" y="91455"/>
                </a:lnTo>
                <a:lnTo>
                  <a:pt x="29454" y="98118"/>
                </a:lnTo>
                <a:lnTo>
                  <a:pt x="26253" y="105417"/>
                </a:lnTo>
                <a:lnTo>
                  <a:pt x="23168" y="113141"/>
                </a:lnTo>
                <a:lnTo>
                  <a:pt x="20157" y="120195"/>
                </a:lnTo>
                <a:lnTo>
                  <a:pt x="14274" y="133113"/>
                </a:lnTo>
                <a:lnTo>
                  <a:pt x="5606" y="151095"/>
                </a:lnTo>
                <a:lnTo>
                  <a:pt x="3687" y="156928"/>
                </a:lnTo>
                <a:lnTo>
                  <a:pt x="2409" y="162721"/>
                </a:lnTo>
                <a:lnTo>
                  <a:pt x="1556" y="168489"/>
                </a:lnTo>
                <a:lnTo>
                  <a:pt x="987" y="174238"/>
                </a:lnTo>
                <a:lnTo>
                  <a:pt x="609" y="179977"/>
                </a:lnTo>
                <a:lnTo>
                  <a:pt x="356" y="185707"/>
                </a:lnTo>
                <a:lnTo>
                  <a:pt x="76" y="197154"/>
                </a:lnTo>
                <a:lnTo>
                  <a:pt x="0" y="202874"/>
                </a:lnTo>
                <a:lnTo>
                  <a:pt x="903" y="208592"/>
                </a:lnTo>
                <a:lnTo>
                  <a:pt x="2457" y="214309"/>
                </a:lnTo>
                <a:lnTo>
                  <a:pt x="4446" y="220025"/>
                </a:lnTo>
                <a:lnTo>
                  <a:pt x="9195" y="228917"/>
                </a:lnTo>
                <a:lnTo>
                  <a:pt x="15434" y="236996"/>
                </a:lnTo>
                <a:lnTo>
                  <a:pt x="19764" y="241818"/>
                </a:lnTo>
                <a:lnTo>
                  <a:pt x="32421" y="255165"/>
                </a:lnTo>
                <a:lnTo>
                  <a:pt x="45231" y="268209"/>
                </a:lnTo>
                <a:lnTo>
                  <a:pt x="49154" y="270246"/>
                </a:lnTo>
                <a:lnTo>
                  <a:pt x="53675" y="271604"/>
                </a:lnTo>
                <a:lnTo>
                  <a:pt x="58593" y="272509"/>
                </a:lnTo>
                <a:lnTo>
                  <a:pt x="63777" y="274066"/>
                </a:lnTo>
                <a:lnTo>
                  <a:pt x="69138" y="276056"/>
                </a:lnTo>
                <a:lnTo>
                  <a:pt x="74617" y="278335"/>
                </a:lnTo>
                <a:lnTo>
                  <a:pt x="80175" y="279854"/>
                </a:lnTo>
                <a:lnTo>
                  <a:pt x="85785" y="280867"/>
                </a:lnTo>
                <a:lnTo>
                  <a:pt x="91430" y="281542"/>
                </a:lnTo>
                <a:lnTo>
                  <a:pt x="97099" y="282945"/>
                </a:lnTo>
                <a:lnTo>
                  <a:pt x="102783" y="284833"/>
                </a:lnTo>
                <a:lnTo>
                  <a:pt x="108477" y="287044"/>
                </a:lnTo>
                <a:lnTo>
                  <a:pt x="113226" y="288518"/>
                </a:lnTo>
                <a:lnTo>
                  <a:pt x="117344" y="289500"/>
                </a:lnTo>
                <a:lnTo>
                  <a:pt x="121042" y="290155"/>
                </a:lnTo>
                <a:lnTo>
                  <a:pt x="125412" y="290592"/>
                </a:lnTo>
                <a:lnTo>
                  <a:pt x="130231" y="290883"/>
                </a:lnTo>
                <a:lnTo>
                  <a:pt x="140665" y="291207"/>
                </a:lnTo>
                <a:lnTo>
                  <a:pt x="163997" y="291432"/>
                </a:lnTo>
                <a:lnTo>
                  <a:pt x="168337" y="290490"/>
                </a:lnTo>
                <a:lnTo>
                  <a:pt x="173134" y="288910"/>
                </a:lnTo>
                <a:lnTo>
                  <a:pt x="178238" y="286905"/>
                </a:lnTo>
                <a:lnTo>
                  <a:pt x="182593" y="285568"/>
                </a:lnTo>
                <a:lnTo>
                  <a:pt x="186449" y="284676"/>
                </a:lnTo>
                <a:lnTo>
                  <a:pt x="189972" y="284082"/>
                </a:lnTo>
                <a:lnTo>
                  <a:pt x="193273" y="283685"/>
                </a:lnTo>
                <a:lnTo>
                  <a:pt x="196427" y="283421"/>
                </a:lnTo>
                <a:lnTo>
                  <a:pt x="205591" y="28289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MARTPenAnnotation551"/>
          <p:cNvSpPr/>
          <p:nvPr/>
        </p:nvSpPr>
        <p:spPr>
          <a:xfrm>
            <a:off x="6450120" y="2494080"/>
            <a:ext cx="230040" cy="214200"/>
          </a:xfrm>
          <a:custGeom>
            <a:avLst/>
            <a:gdLst>
              <a:gd name="textAreaLeft" fmla="*/ 0 w 230040"/>
              <a:gd name="textAreaRight" fmla="*/ 230400 w 2300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30912" h="214069">
                <a:moveTo>
                  <a:pt x="0" y="42746"/>
                </a:moveTo>
                <a:lnTo>
                  <a:pt x="7381" y="35365"/>
                </a:lnTo>
                <a:lnTo>
                  <a:pt x="8043" y="32162"/>
                </a:lnTo>
                <a:lnTo>
                  <a:pt x="8219" y="29975"/>
                </a:lnTo>
                <a:lnTo>
                  <a:pt x="10242" y="27564"/>
                </a:lnTo>
                <a:lnTo>
                  <a:pt x="13495" y="25005"/>
                </a:lnTo>
                <a:lnTo>
                  <a:pt x="17569" y="22346"/>
                </a:lnTo>
                <a:lnTo>
                  <a:pt x="24637" y="16852"/>
                </a:lnTo>
                <a:lnTo>
                  <a:pt x="27854" y="14053"/>
                </a:lnTo>
                <a:lnTo>
                  <a:pt x="31905" y="12187"/>
                </a:lnTo>
                <a:lnTo>
                  <a:pt x="36510" y="10943"/>
                </a:lnTo>
                <a:lnTo>
                  <a:pt x="41485" y="10114"/>
                </a:lnTo>
                <a:lnTo>
                  <a:pt x="46707" y="8609"/>
                </a:lnTo>
                <a:lnTo>
                  <a:pt x="52093" y="6653"/>
                </a:lnTo>
                <a:lnTo>
                  <a:pt x="57589" y="4396"/>
                </a:lnTo>
                <a:lnTo>
                  <a:pt x="63158" y="2892"/>
                </a:lnTo>
                <a:lnTo>
                  <a:pt x="68775" y="1889"/>
                </a:lnTo>
                <a:lnTo>
                  <a:pt x="74425" y="1220"/>
                </a:lnTo>
                <a:lnTo>
                  <a:pt x="80097" y="775"/>
                </a:lnTo>
                <a:lnTo>
                  <a:pt x="85783" y="477"/>
                </a:lnTo>
                <a:lnTo>
                  <a:pt x="100347" y="59"/>
                </a:lnTo>
                <a:lnTo>
                  <a:pt x="104046" y="0"/>
                </a:lnTo>
                <a:lnTo>
                  <a:pt x="108416" y="914"/>
                </a:lnTo>
                <a:lnTo>
                  <a:pt x="113235" y="2475"/>
                </a:lnTo>
                <a:lnTo>
                  <a:pt x="118353" y="4469"/>
                </a:lnTo>
                <a:lnTo>
                  <a:pt x="122717" y="5798"/>
                </a:lnTo>
                <a:lnTo>
                  <a:pt x="126578" y="6684"/>
                </a:lnTo>
                <a:lnTo>
                  <a:pt x="130106" y="7274"/>
                </a:lnTo>
                <a:lnTo>
                  <a:pt x="136565" y="10471"/>
                </a:lnTo>
                <a:lnTo>
                  <a:pt x="139621" y="12656"/>
                </a:lnTo>
                <a:lnTo>
                  <a:pt x="141658" y="15066"/>
                </a:lnTo>
                <a:lnTo>
                  <a:pt x="143016" y="17625"/>
                </a:lnTo>
                <a:lnTo>
                  <a:pt x="143922" y="20284"/>
                </a:lnTo>
                <a:lnTo>
                  <a:pt x="143573" y="23009"/>
                </a:lnTo>
                <a:lnTo>
                  <a:pt x="142388" y="25777"/>
                </a:lnTo>
                <a:lnTo>
                  <a:pt x="138531" y="32347"/>
                </a:lnTo>
                <a:lnTo>
                  <a:pt x="133642" y="41616"/>
                </a:lnTo>
                <a:lnTo>
                  <a:pt x="131005" y="45803"/>
                </a:lnTo>
                <a:lnTo>
                  <a:pt x="128294" y="49546"/>
                </a:lnTo>
                <a:lnTo>
                  <a:pt x="125534" y="52995"/>
                </a:lnTo>
                <a:lnTo>
                  <a:pt x="121790" y="56245"/>
                </a:lnTo>
                <a:lnTo>
                  <a:pt x="117388" y="59365"/>
                </a:lnTo>
                <a:lnTo>
                  <a:pt x="112548" y="62398"/>
                </a:lnTo>
                <a:lnTo>
                  <a:pt x="108370" y="65372"/>
                </a:lnTo>
                <a:lnTo>
                  <a:pt x="101187" y="71217"/>
                </a:lnTo>
                <a:lnTo>
                  <a:pt x="96985" y="74109"/>
                </a:lnTo>
                <a:lnTo>
                  <a:pt x="92280" y="76990"/>
                </a:lnTo>
                <a:lnTo>
                  <a:pt x="87237" y="79862"/>
                </a:lnTo>
                <a:lnTo>
                  <a:pt x="82923" y="82730"/>
                </a:lnTo>
                <a:lnTo>
                  <a:pt x="79095" y="85594"/>
                </a:lnTo>
                <a:lnTo>
                  <a:pt x="72300" y="91317"/>
                </a:lnTo>
                <a:lnTo>
                  <a:pt x="66106" y="97035"/>
                </a:lnTo>
                <a:lnTo>
                  <a:pt x="60543" y="102251"/>
                </a:lnTo>
                <a:lnTo>
                  <a:pt x="62785" y="102530"/>
                </a:lnTo>
                <a:lnTo>
                  <a:pt x="69403" y="102687"/>
                </a:lnTo>
                <a:lnTo>
                  <a:pt x="80173" y="102740"/>
                </a:lnTo>
                <a:lnTo>
                  <a:pt x="83929" y="101792"/>
                </a:lnTo>
                <a:lnTo>
                  <a:pt x="88337" y="100207"/>
                </a:lnTo>
                <a:lnTo>
                  <a:pt x="93181" y="98198"/>
                </a:lnTo>
                <a:lnTo>
                  <a:pt x="98317" y="96859"/>
                </a:lnTo>
                <a:lnTo>
                  <a:pt x="103644" y="95966"/>
                </a:lnTo>
                <a:lnTo>
                  <a:pt x="109101" y="95371"/>
                </a:lnTo>
                <a:lnTo>
                  <a:pt x="114644" y="94974"/>
                </a:lnTo>
                <a:lnTo>
                  <a:pt x="120244" y="94710"/>
                </a:lnTo>
                <a:lnTo>
                  <a:pt x="132500" y="94416"/>
                </a:lnTo>
                <a:lnTo>
                  <a:pt x="185389" y="94190"/>
                </a:lnTo>
                <a:lnTo>
                  <a:pt x="191220" y="95139"/>
                </a:lnTo>
                <a:lnTo>
                  <a:pt x="197013" y="96725"/>
                </a:lnTo>
                <a:lnTo>
                  <a:pt x="202779" y="98734"/>
                </a:lnTo>
                <a:lnTo>
                  <a:pt x="207576" y="100074"/>
                </a:lnTo>
                <a:lnTo>
                  <a:pt x="211727" y="100967"/>
                </a:lnTo>
                <a:lnTo>
                  <a:pt x="215447" y="101562"/>
                </a:lnTo>
                <a:lnTo>
                  <a:pt x="222119" y="104764"/>
                </a:lnTo>
                <a:lnTo>
                  <a:pt x="225231" y="106951"/>
                </a:lnTo>
                <a:lnTo>
                  <a:pt x="227307" y="109362"/>
                </a:lnTo>
                <a:lnTo>
                  <a:pt x="228691" y="111922"/>
                </a:lnTo>
                <a:lnTo>
                  <a:pt x="230228" y="117306"/>
                </a:lnTo>
                <a:lnTo>
                  <a:pt x="230911" y="122873"/>
                </a:lnTo>
                <a:lnTo>
                  <a:pt x="230140" y="126644"/>
                </a:lnTo>
                <a:lnTo>
                  <a:pt x="228675" y="131063"/>
                </a:lnTo>
                <a:lnTo>
                  <a:pt x="226744" y="135914"/>
                </a:lnTo>
                <a:lnTo>
                  <a:pt x="224505" y="140100"/>
                </a:lnTo>
                <a:lnTo>
                  <a:pt x="222060" y="143844"/>
                </a:lnTo>
                <a:lnTo>
                  <a:pt x="219477" y="147292"/>
                </a:lnTo>
                <a:lnTo>
                  <a:pt x="215851" y="151495"/>
                </a:lnTo>
                <a:lnTo>
                  <a:pt x="211528" y="156203"/>
                </a:lnTo>
                <a:lnTo>
                  <a:pt x="206742" y="161246"/>
                </a:lnTo>
                <a:lnTo>
                  <a:pt x="201645" y="165561"/>
                </a:lnTo>
                <a:lnTo>
                  <a:pt x="196342" y="169390"/>
                </a:lnTo>
                <a:lnTo>
                  <a:pt x="190902" y="172895"/>
                </a:lnTo>
                <a:lnTo>
                  <a:pt x="185371" y="176185"/>
                </a:lnTo>
                <a:lnTo>
                  <a:pt x="179778" y="179330"/>
                </a:lnTo>
                <a:lnTo>
                  <a:pt x="174145" y="182379"/>
                </a:lnTo>
                <a:lnTo>
                  <a:pt x="167532" y="186317"/>
                </a:lnTo>
                <a:lnTo>
                  <a:pt x="152564" y="195773"/>
                </a:lnTo>
                <a:lnTo>
                  <a:pt x="145524" y="199056"/>
                </a:lnTo>
                <a:lnTo>
                  <a:pt x="138926" y="201245"/>
                </a:lnTo>
                <a:lnTo>
                  <a:pt x="132622" y="202705"/>
                </a:lnTo>
                <a:lnTo>
                  <a:pt x="127468" y="204630"/>
                </a:lnTo>
                <a:lnTo>
                  <a:pt x="123079" y="206866"/>
                </a:lnTo>
                <a:lnTo>
                  <a:pt x="119200" y="209309"/>
                </a:lnTo>
                <a:lnTo>
                  <a:pt x="114709" y="210938"/>
                </a:lnTo>
                <a:lnTo>
                  <a:pt x="109810" y="212024"/>
                </a:lnTo>
                <a:lnTo>
                  <a:pt x="104639" y="212748"/>
                </a:lnTo>
                <a:lnTo>
                  <a:pt x="100240" y="213230"/>
                </a:lnTo>
                <a:lnTo>
                  <a:pt x="96354" y="213552"/>
                </a:lnTo>
                <a:lnTo>
                  <a:pt x="87825" y="214068"/>
                </a:lnTo>
                <a:lnTo>
                  <a:pt x="84118" y="211599"/>
                </a:lnTo>
                <a:lnTo>
                  <a:pt x="81796" y="209607"/>
                </a:lnTo>
                <a:lnTo>
                  <a:pt x="80249" y="207326"/>
                </a:lnTo>
                <a:lnTo>
                  <a:pt x="78529" y="202253"/>
                </a:lnTo>
                <a:lnTo>
                  <a:pt x="77560" y="198592"/>
                </a:lnTo>
                <a:lnTo>
                  <a:pt x="77334" y="195196"/>
                </a:lnTo>
                <a:lnTo>
                  <a:pt x="77153" y="18847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MARTPenAnnotation552"/>
          <p:cNvSpPr/>
          <p:nvPr/>
        </p:nvSpPr>
        <p:spPr>
          <a:xfrm>
            <a:off x="6664320" y="2435400"/>
            <a:ext cx="255600" cy="320400"/>
          </a:xfrm>
          <a:custGeom>
            <a:avLst/>
            <a:gdLst>
              <a:gd name="textAreaLeft" fmla="*/ 0 w 255600"/>
              <a:gd name="textAreaRight" fmla="*/ 255960 w 25560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w="256546" h="321991">
                <a:moveTo>
                  <a:pt x="0" y="8563"/>
                </a:moveTo>
                <a:lnTo>
                  <a:pt x="0" y="4012"/>
                </a:lnTo>
                <a:lnTo>
                  <a:pt x="952" y="2671"/>
                </a:lnTo>
                <a:lnTo>
                  <a:pt x="2540" y="1778"/>
                </a:lnTo>
                <a:lnTo>
                  <a:pt x="7381" y="344"/>
                </a:lnTo>
                <a:lnTo>
                  <a:pt x="12770" y="95"/>
                </a:lnTo>
                <a:lnTo>
                  <a:pt x="36073" y="0"/>
                </a:lnTo>
                <a:lnTo>
                  <a:pt x="40241" y="949"/>
                </a:lnTo>
                <a:lnTo>
                  <a:pt x="44925" y="2535"/>
                </a:lnTo>
                <a:lnTo>
                  <a:pt x="49952" y="4544"/>
                </a:lnTo>
                <a:lnTo>
                  <a:pt x="56161" y="5884"/>
                </a:lnTo>
                <a:lnTo>
                  <a:pt x="63159" y="6777"/>
                </a:lnTo>
                <a:lnTo>
                  <a:pt x="70681" y="7372"/>
                </a:lnTo>
                <a:lnTo>
                  <a:pt x="78553" y="8722"/>
                </a:lnTo>
                <a:lnTo>
                  <a:pt x="86659" y="10574"/>
                </a:lnTo>
                <a:lnTo>
                  <a:pt x="94919" y="12761"/>
                </a:lnTo>
                <a:lnTo>
                  <a:pt x="111718" y="17731"/>
                </a:lnTo>
                <a:lnTo>
                  <a:pt x="120199" y="20390"/>
                </a:lnTo>
                <a:lnTo>
                  <a:pt x="127758" y="23115"/>
                </a:lnTo>
                <a:lnTo>
                  <a:pt x="134702" y="25885"/>
                </a:lnTo>
                <a:lnTo>
                  <a:pt x="141236" y="28683"/>
                </a:lnTo>
                <a:lnTo>
                  <a:pt x="148450" y="32454"/>
                </a:lnTo>
                <a:lnTo>
                  <a:pt x="156116" y="36873"/>
                </a:lnTo>
                <a:lnTo>
                  <a:pt x="164085" y="41724"/>
                </a:lnTo>
                <a:lnTo>
                  <a:pt x="171302" y="45910"/>
                </a:lnTo>
                <a:lnTo>
                  <a:pt x="184402" y="53102"/>
                </a:lnTo>
                <a:lnTo>
                  <a:pt x="191514" y="57306"/>
                </a:lnTo>
                <a:lnTo>
                  <a:pt x="207037" y="67056"/>
                </a:lnTo>
                <a:lnTo>
                  <a:pt x="213273" y="73276"/>
                </a:lnTo>
                <a:lnTo>
                  <a:pt x="218381" y="80280"/>
                </a:lnTo>
                <a:lnTo>
                  <a:pt x="222740" y="87807"/>
                </a:lnTo>
                <a:lnTo>
                  <a:pt x="227551" y="94730"/>
                </a:lnTo>
                <a:lnTo>
                  <a:pt x="232662" y="101250"/>
                </a:lnTo>
                <a:lnTo>
                  <a:pt x="237976" y="107502"/>
                </a:lnTo>
                <a:lnTo>
                  <a:pt x="242470" y="113575"/>
                </a:lnTo>
                <a:lnTo>
                  <a:pt x="246419" y="119528"/>
                </a:lnTo>
                <a:lnTo>
                  <a:pt x="250005" y="125402"/>
                </a:lnTo>
                <a:lnTo>
                  <a:pt x="252394" y="132176"/>
                </a:lnTo>
                <a:lnTo>
                  <a:pt x="253987" y="139549"/>
                </a:lnTo>
                <a:lnTo>
                  <a:pt x="255050" y="147322"/>
                </a:lnTo>
                <a:lnTo>
                  <a:pt x="255758" y="155362"/>
                </a:lnTo>
                <a:lnTo>
                  <a:pt x="256231" y="163579"/>
                </a:lnTo>
                <a:lnTo>
                  <a:pt x="256545" y="171914"/>
                </a:lnTo>
                <a:lnTo>
                  <a:pt x="255803" y="179376"/>
                </a:lnTo>
                <a:lnTo>
                  <a:pt x="254355" y="186256"/>
                </a:lnTo>
                <a:lnTo>
                  <a:pt x="250207" y="199933"/>
                </a:lnTo>
                <a:lnTo>
                  <a:pt x="245188" y="215536"/>
                </a:lnTo>
                <a:lnTo>
                  <a:pt x="242516" y="222745"/>
                </a:lnTo>
                <a:lnTo>
                  <a:pt x="239782" y="229456"/>
                </a:lnTo>
                <a:lnTo>
                  <a:pt x="237008" y="235835"/>
                </a:lnTo>
                <a:lnTo>
                  <a:pt x="233252" y="241993"/>
                </a:lnTo>
                <a:lnTo>
                  <a:pt x="228844" y="248003"/>
                </a:lnTo>
                <a:lnTo>
                  <a:pt x="224000" y="253914"/>
                </a:lnTo>
                <a:lnTo>
                  <a:pt x="219819" y="259761"/>
                </a:lnTo>
                <a:lnTo>
                  <a:pt x="216078" y="265563"/>
                </a:lnTo>
                <a:lnTo>
                  <a:pt x="212632" y="271336"/>
                </a:lnTo>
                <a:lnTo>
                  <a:pt x="208430" y="276138"/>
                </a:lnTo>
                <a:lnTo>
                  <a:pt x="203723" y="280291"/>
                </a:lnTo>
                <a:lnTo>
                  <a:pt x="198681" y="284013"/>
                </a:lnTo>
                <a:lnTo>
                  <a:pt x="194365" y="288399"/>
                </a:lnTo>
                <a:lnTo>
                  <a:pt x="187032" y="298352"/>
                </a:lnTo>
                <a:lnTo>
                  <a:pt x="180598" y="306586"/>
                </a:lnTo>
                <a:lnTo>
                  <a:pt x="177549" y="310115"/>
                </a:lnTo>
                <a:lnTo>
                  <a:pt x="174563" y="312468"/>
                </a:lnTo>
                <a:lnTo>
                  <a:pt x="168706" y="315082"/>
                </a:lnTo>
                <a:lnTo>
                  <a:pt x="162928" y="316244"/>
                </a:lnTo>
                <a:lnTo>
                  <a:pt x="160053" y="316553"/>
                </a:lnTo>
                <a:lnTo>
                  <a:pt x="158137" y="317713"/>
                </a:lnTo>
                <a:lnTo>
                  <a:pt x="156859" y="319438"/>
                </a:lnTo>
                <a:lnTo>
                  <a:pt x="156008" y="321540"/>
                </a:lnTo>
                <a:lnTo>
                  <a:pt x="155441" y="321990"/>
                </a:lnTo>
                <a:lnTo>
                  <a:pt x="155062" y="321337"/>
                </a:lnTo>
                <a:lnTo>
                  <a:pt x="154454" y="317995"/>
                </a:lnTo>
                <a:lnTo>
                  <a:pt x="153452" y="317721"/>
                </a:lnTo>
                <a:lnTo>
                  <a:pt x="145732" y="3171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MARTPenAnnotation553"/>
          <p:cNvSpPr/>
          <p:nvPr/>
        </p:nvSpPr>
        <p:spPr>
          <a:xfrm>
            <a:off x="3911760" y="3360600"/>
            <a:ext cx="317520" cy="42840"/>
          </a:xfrm>
          <a:custGeom>
            <a:avLst/>
            <a:gdLst>
              <a:gd name="textAreaLeft" fmla="*/ 0 w 317520"/>
              <a:gd name="textAreaRight" fmla="*/ 317880 w 31752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17184" h="42478">
                <a:moveTo>
                  <a:pt x="0" y="17145"/>
                </a:moveTo>
                <a:lnTo>
                  <a:pt x="0" y="25364"/>
                </a:lnTo>
                <a:lnTo>
                  <a:pt x="953" y="26434"/>
                </a:lnTo>
                <a:lnTo>
                  <a:pt x="4551" y="30163"/>
                </a:lnTo>
                <a:lnTo>
                  <a:pt x="6844" y="31539"/>
                </a:lnTo>
                <a:lnTo>
                  <a:pt x="9325" y="32456"/>
                </a:lnTo>
                <a:lnTo>
                  <a:pt x="11931" y="33067"/>
                </a:lnTo>
                <a:lnTo>
                  <a:pt x="14622" y="34427"/>
                </a:lnTo>
                <a:lnTo>
                  <a:pt x="17368" y="36286"/>
                </a:lnTo>
                <a:lnTo>
                  <a:pt x="20151" y="38478"/>
                </a:lnTo>
                <a:lnTo>
                  <a:pt x="23911" y="39940"/>
                </a:lnTo>
                <a:lnTo>
                  <a:pt x="28324" y="40914"/>
                </a:lnTo>
                <a:lnTo>
                  <a:pt x="33170" y="41563"/>
                </a:lnTo>
                <a:lnTo>
                  <a:pt x="38306" y="41996"/>
                </a:lnTo>
                <a:lnTo>
                  <a:pt x="43635" y="42285"/>
                </a:lnTo>
                <a:lnTo>
                  <a:pt x="49092" y="42477"/>
                </a:lnTo>
                <a:lnTo>
                  <a:pt x="55588" y="41653"/>
                </a:lnTo>
                <a:lnTo>
                  <a:pt x="62776" y="40151"/>
                </a:lnTo>
                <a:lnTo>
                  <a:pt x="70426" y="38197"/>
                </a:lnTo>
                <a:lnTo>
                  <a:pt x="77430" y="36895"/>
                </a:lnTo>
                <a:lnTo>
                  <a:pt x="84005" y="36026"/>
                </a:lnTo>
                <a:lnTo>
                  <a:pt x="90294" y="35447"/>
                </a:lnTo>
                <a:lnTo>
                  <a:pt x="97343" y="35061"/>
                </a:lnTo>
                <a:lnTo>
                  <a:pt x="112796" y="34633"/>
                </a:lnTo>
                <a:lnTo>
                  <a:pt x="120917" y="33566"/>
                </a:lnTo>
                <a:lnTo>
                  <a:pt x="129189" y="31902"/>
                </a:lnTo>
                <a:lnTo>
                  <a:pt x="137561" y="29840"/>
                </a:lnTo>
                <a:lnTo>
                  <a:pt x="146000" y="28466"/>
                </a:lnTo>
                <a:lnTo>
                  <a:pt x="154484" y="27550"/>
                </a:lnTo>
                <a:lnTo>
                  <a:pt x="162996" y="26939"/>
                </a:lnTo>
                <a:lnTo>
                  <a:pt x="170577" y="26532"/>
                </a:lnTo>
                <a:lnTo>
                  <a:pt x="184079" y="26079"/>
                </a:lnTo>
                <a:lnTo>
                  <a:pt x="191299" y="25006"/>
                </a:lnTo>
                <a:lnTo>
                  <a:pt x="198970" y="23338"/>
                </a:lnTo>
                <a:lnTo>
                  <a:pt x="206942" y="21273"/>
                </a:lnTo>
                <a:lnTo>
                  <a:pt x="214161" y="19897"/>
                </a:lnTo>
                <a:lnTo>
                  <a:pt x="220879" y="18980"/>
                </a:lnTo>
                <a:lnTo>
                  <a:pt x="227263" y="18368"/>
                </a:lnTo>
                <a:lnTo>
                  <a:pt x="233424" y="17960"/>
                </a:lnTo>
                <a:lnTo>
                  <a:pt x="239436" y="17688"/>
                </a:lnTo>
                <a:lnTo>
                  <a:pt x="251196" y="17386"/>
                </a:lnTo>
                <a:lnTo>
                  <a:pt x="262772" y="17252"/>
                </a:lnTo>
                <a:lnTo>
                  <a:pt x="267574" y="16264"/>
                </a:lnTo>
                <a:lnTo>
                  <a:pt x="271728" y="14653"/>
                </a:lnTo>
                <a:lnTo>
                  <a:pt x="275449" y="12626"/>
                </a:lnTo>
                <a:lnTo>
                  <a:pt x="279835" y="11274"/>
                </a:lnTo>
                <a:lnTo>
                  <a:pt x="284665" y="10374"/>
                </a:lnTo>
                <a:lnTo>
                  <a:pt x="294158" y="9373"/>
                </a:lnTo>
                <a:lnTo>
                  <a:pt x="301552" y="8928"/>
                </a:lnTo>
                <a:lnTo>
                  <a:pt x="311070" y="8677"/>
                </a:lnTo>
                <a:lnTo>
                  <a:pt x="313107" y="7690"/>
                </a:lnTo>
                <a:lnTo>
                  <a:pt x="314466" y="6079"/>
                </a:lnTo>
                <a:lnTo>
                  <a:pt x="31718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MARTPenAnnotation554"/>
          <p:cNvSpPr/>
          <p:nvPr/>
        </p:nvSpPr>
        <p:spPr>
          <a:xfrm>
            <a:off x="3979800" y="3454560"/>
            <a:ext cx="300240" cy="34920"/>
          </a:xfrm>
          <a:custGeom>
            <a:avLst/>
            <a:gdLst>
              <a:gd name="textAreaLeft" fmla="*/ 0 w 300240"/>
              <a:gd name="textAreaRight" fmla="*/ 300600 w 30024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300038" h="34288">
                <a:moveTo>
                  <a:pt x="0" y="25718"/>
                </a:moveTo>
                <a:lnTo>
                  <a:pt x="4551" y="25718"/>
                </a:lnTo>
                <a:lnTo>
                  <a:pt x="6844" y="26670"/>
                </a:lnTo>
                <a:lnTo>
                  <a:pt x="9325" y="28258"/>
                </a:lnTo>
                <a:lnTo>
                  <a:pt x="11932" y="30269"/>
                </a:lnTo>
                <a:lnTo>
                  <a:pt x="14622" y="31609"/>
                </a:lnTo>
                <a:lnTo>
                  <a:pt x="17368" y="32503"/>
                </a:lnTo>
                <a:lnTo>
                  <a:pt x="22959" y="33496"/>
                </a:lnTo>
                <a:lnTo>
                  <a:pt x="28619" y="33937"/>
                </a:lnTo>
                <a:lnTo>
                  <a:pt x="36850" y="34133"/>
                </a:lnTo>
                <a:lnTo>
                  <a:pt x="83265" y="34287"/>
                </a:lnTo>
                <a:lnTo>
                  <a:pt x="88848" y="33336"/>
                </a:lnTo>
                <a:lnTo>
                  <a:pt x="94474" y="31749"/>
                </a:lnTo>
                <a:lnTo>
                  <a:pt x="100131" y="29738"/>
                </a:lnTo>
                <a:lnTo>
                  <a:pt x="105806" y="28398"/>
                </a:lnTo>
                <a:lnTo>
                  <a:pt x="111495" y="27504"/>
                </a:lnTo>
                <a:lnTo>
                  <a:pt x="117193" y="26909"/>
                </a:lnTo>
                <a:lnTo>
                  <a:pt x="122896" y="25559"/>
                </a:lnTo>
                <a:lnTo>
                  <a:pt x="128603" y="23707"/>
                </a:lnTo>
                <a:lnTo>
                  <a:pt x="134313" y="21520"/>
                </a:lnTo>
                <a:lnTo>
                  <a:pt x="140977" y="20061"/>
                </a:lnTo>
                <a:lnTo>
                  <a:pt x="148278" y="19089"/>
                </a:lnTo>
                <a:lnTo>
                  <a:pt x="156001" y="18441"/>
                </a:lnTo>
                <a:lnTo>
                  <a:pt x="163056" y="17057"/>
                </a:lnTo>
                <a:lnTo>
                  <a:pt x="169664" y="15181"/>
                </a:lnTo>
                <a:lnTo>
                  <a:pt x="175974" y="12978"/>
                </a:lnTo>
                <a:lnTo>
                  <a:pt x="182086" y="11510"/>
                </a:lnTo>
                <a:lnTo>
                  <a:pt x="188066" y="10531"/>
                </a:lnTo>
                <a:lnTo>
                  <a:pt x="193957" y="9878"/>
                </a:lnTo>
                <a:lnTo>
                  <a:pt x="200742" y="9443"/>
                </a:lnTo>
                <a:lnTo>
                  <a:pt x="208123" y="9153"/>
                </a:lnTo>
                <a:lnTo>
                  <a:pt x="215901" y="8959"/>
                </a:lnTo>
                <a:lnTo>
                  <a:pt x="222992" y="7878"/>
                </a:lnTo>
                <a:lnTo>
                  <a:pt x="229623" y="6205"/>
                </a:lnTo>
                <a:lnTo>
                  <a:pt x="235950" y="4136"/>
                </a:lnTo>
                <a:lnTo>
                  <a:pt x="242073" y="2758"/>
                </a:lnTo>
                <a:lnTo>
                  <a:pt x="248060" y="1839"/>
                </a:lnTo>
                <a:lnTo>
                  <a:pt x="253956" y="1226"/>
                </a:lnTo>
                <a:lnTo>
                  <a:pt x="259791" y="817"/>
                </a:lnTo>
                <a:lnTo>
                  <a:pt x="265587" y="545"/>
                </a:lnTo>
                <a:lnTo>
                  <a:pt x="280305" y="162"/>
                </a:lnTo>
                <a:lnTo>
                  <a:pt x="30003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MARTPenAnnotation555"/>
          <p:cNvSpPr/>
          <p:nvPr/>
        </p:nvSpPr>
        <p:spPr>
          <a:xfrm>
            <a:off x="4529160" y="3308400"/>
            <a:ext cx="264960" cy="17280"/>
          </a:xfrm>
          <a:custGeom>
            <a:avLst/>
            <a:gdLst>
              <a:gd name="textAreaLeft" fmla="*/ 0 w 264960"/>
              <a:gd name="textAreaRight" fmla="*/ 265320 w 2649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65748" h="17145">
                <a:moveTo>
                  <a:pt x="0" y="17144"/>
                </a:moveTo>
                <a:lnTo>
                  <a:pt x="28619" y="17144"/>
                </a:lnTo>
                <a:lnTo>
                  <a:pt x="31462" y="16192"/>
                </a:lnTo>
                <a:lnTo>
                  <a:pt x="34310" y="14605"/>
                </a:lnTo>
                <a:lnTo>
                  <a:pt x="37161" y="12594"/>
                </a:lnTo>
                <a:lnTo>
                  <a:pt x="40966" y="11253"/>
                </a:lnTo>
                <a:lnTo>
                  <a:pt x="45408" y="10360"/>
                </a:lnTo>
                <a:lnTo>
                  <a:pt x="50275" y="9764"/>
                </a:lnTo>
                <a:lnTo>
                  <a:pt x="56376" y="9367"/>
                </a:lnTo>
                <a:lnTo>
                  <a:pt x="63302" y="9102"/>
                </a:lnTo>
                <a:lnTo>
                  <a:pt x="84161" y="8729"/>
                </a:lnTo>
                <a:lnTo>
                  <a:pt x="130189" y="8581"/>
                </a:lnTo>
                <a:lnTo>
                  <a:pt x="137276" y="7626"/>
                </a:lnTo>
                <a:lnTo>
                  <a:pt x="143904" y="6036"/>
                </a:lnTo>
                <a:lnTo>
                  <a:pt x="150228" y="4024"/>
                </a:lnTo>
                <a:lnTo>
                  <a:pt x="157302" y="2683"/>
                </a:lnTo>
                <a:lnTo>
                  <a:pt x="164876" y="1788"/>
                </a:lnTo>
                <a:lnTo>
                  <a:pt x="172782" y="1192"/>
                </a:lnTo>
                <a:lnTo>
                  <a:pt x="179958" y="795"/>
                </a:lnTo>
                <a:lnTo>
                  <a:pt x="193011" y="353"/>
                </a:lnTo>
                <a:lnTo>
                  <a:pt x="216914" y="69"/>
                </a:lnTo>
                <a:lnTo>
                  <a:pt x="26574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MARTPenAnnotation556"/>
          <p:cNvSpPr/>
          <p:nvPr/>
        </p:nvSpPr>
        <p:spPr>
          <a:xfrm>
            <a:off x="4892760" y="3173400"/>
            <a:ext cx="39600" cy="263520"/>
          </a:xfrm>
          <a:custGeom>
            <a:avLst/>
            <a:gdLst>
              <a:gd name="textAreaLeft" fmla="*/ 0 w 39600"/>
              <a:gd name="textAreaRight" fmla="*/ 39960 w 396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9001" h="264557">
                <a:moveTo>
                  <a:pt x="4709" y="7381"/>
                </a:moveTo>
                <a:lnTo>
                  <a:pt x="4709" y="0"/>
                </a:lnTo>
                <a:lnTo>
                  <a:pt x="4709" y="3712"/>
                </a:lnTo>
                <a:lnTo>
                  <a:pt x="5662" y="4935"/>
                </a:lnTo>
                <a:lnTo>
                  <a:pt x="7250" y="5751"/>
                </a:lnTo>
                <a:lnTo>
                  <a:pt x="9260" y="6294"/>
                </a:lnTo>
                <a:lnTo>
                  <a:pt x="10601" y="7609"/>
                </a:lnTo>
                <a:lnTo>
                  <a:pt x="11495" y="9438"/>
                </a:lnTo>
                <a:lnTo>
                  <a:pt x="12488" y="14010"/>
                </a:lnTo>
                <a:lnTo>
                  <a:pt x="12929" y="19217"/>
                </a:lnTo>
                <a:lnTo>
                  <a:pt x="12094" y="22892"/>
                </a:lnTo>
                <a:lnTo>
                  <a:pt x="10585" y="27247"/>
                </a:lnTo>
                <a:lnTo>
                  <a:pt x="8626" y="32055"/>
                </a:lnTo>
                <a:lnTo>
                  <a:pt x="7321" y="37165"/>
                </a:lnTo>
                <a:lnTo>
                  <a:pt x="6450" y="42477"/>
                </a:lnTo>
                <a:lnTo>
                  <a:pt x="5870" y="47923"/>
                </a:lnTo>
                <a:lnTo>
                  <a:pt x="4530" y="53459"/>
                </a:lnTo>
                <a:lnTo>
                  <a:pt x="2685" y="59055"/>
                </a:lnTo>
                <a:lnTo>
                  <a:pt x="503" y="64690"/>
                </a:lnTo>
                <a:lnTo>
                  <a:pt x="0" y="70352"/>
                </a:lnTo>
                <a:lnTo>
                  <a:pt x="617" y="76032"/>
                </a:lnTo>
                <a:lnTo>
                  <a:pt x="1981" y="81723"/>
                </a:lnTo>
                <a:lnTo>
                  <a:pt x="2891" y="87422"/>
                </a:lnTo>
                <a:lnTo>
                  <a:pt x="3497" y="93127"/>
                </a:lnTo>
                <a:lnTo>
                  <a:pt x="3901" y="98835"/>
                </a:lnTo>
                <a:lnTo>
                  <a:pt x="4171" y="104545"/>
                </a:lnTo>
                <a:lnTo>
                  <a:pt x="4470" y="115970"/>
                </a:lnTo>
                <a:lnTo>
                  <a:pt x="4688" y="150257"/>
                </a:lnTo>
                <a:lnTo>
                  <a:pt x="5648" y="155971"/>
                </a:lnTo>
                <a:lnTo>
                  <a:pt x="7240" y="161686"/>
                </a:lnTo>
                <a:lnTo>
                  <a:pt x="9254" y="167401"/>
                </a:lnTo>
                <a:lnTo>
                  <a:pt x="10597" y="173116"/>
                </a:lnTo>
                <a:lnTo>
                  <a:pt x="11492" y="178831"/>
                </a:lnTo>
                <a:lnTo>
                  <a:pt x="12088" y="184546"/>
                </a:lnTo>
                <a:lnTo>
                  <a:pt x="12486" y="190261"/>
                </a:lnTo>
                <a:lnTo>
                  <a:pt x="12752" y="195976"/>
                </a:lnTo>
                <a:lnTo>
                  <a:pt x="13047" y="207406"/>
                </a:lnTo>
                <a:lnTo>
                  <a:pt x="13178" y="218836"/>
                </a:lnTo>
                <a:lnTo>
                  <a:pt x="14165" y="223599"/>
                </a:lnTo>
                <a:lnTo>
                  <a:pt x="15776" y="227726"/>
                </a:lnTo>
                <a:lnTo>
                  <a:pt x="17802" y="231430"/>
                </a:lnTo>
                <a:lnTo>
                  <a:pt x="19153" y="234852"/>
                </a:lnTo>
                <a:lnTo>
                  <a:pt x="20053" y="238086"/>
                </a:lnTo>
                <a:lnTo>
                  <a:pt x="20654" y="241194"/>
                </a:lnTo>
                <a:lnTo>
                  <a:pt x="22006" y="244219"/>
                </a:lnTo>
                <a:lnTo>
                  <a:pt x="23861" y="247188"/>
                </a:lnTo>
                <a:lnTo>
                  <a:pt x="29130" y="254246"/>
                </a:lnTo>
                <a:lnTo>
                  <a:pt x="29851" y="257752"/>
                </a:lnTo>
                <a:lnTo>
                  <a:pt x="30313" y="263212"/>
                </a:lnTo>
                <a:lnTo>
                  <a:pt x="31304" y="263660"/>
                </a:lnTo>
                <a:lnTo>
                  <a:pt x="32917" y="263959"/>
                </a:lnTo>
                <a:lnTo>
                  <a:pt x="39000" y="2645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MARTPenAnnotation557"/>
          <p:cNvSpPr/>
          <p:nvPr/>
        </p:nvSpPr>
        <p:spPr>
          <a:xfrm>
            <a:off x="5043600" y="3171960"/>
            <a:ext cx="206280" cy="226800"/>
          </a:xfrm>
          <a:custGeom>
            <a:avLst/>
            <a:gdLst>
              <a:gd name="textAreaLeft" fmla="*/ 0 w 206280"/>
              <a:gd name="textAreaRight" fmla="*/ 206640 w 2062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205661" h="227489">
                <a:moveTo>
                  <a:pt x="51399" y="17145"/>
                </a:moveTo>
                <a:lnTo>
                  <a:pt x="42858" y="8603"/>
                </a:lnTo>
                <a:lnTo>
                  <a:pt x="42836" y="8581"/>
                </a:lnTo>
                <a:lnTo>
                  <a:pt x="42829" y="13126"/>
                </a:lnTo>
                <a:lnTo>
                  <a:pt x="41876" y="15418"/>
                </a:lnTo>
                <a:lnTo>
                  <a:pt x="38276" y="20505"/>
                </a:lnTo>
                <a:lnTo>
                  <a:pt x="36935" y="24147"/>
                </a:lnTo>
                <a:lnTo>
                  <a:pt x="36042" y="28481"/>
                </a:lnTo>
                <a:lnTo>
                  <a:pt x="35446" y="33274"/>
                </a:lnTo>
                <a:lnTo>
                  <a:pt x="33144" y="37423"/>
                </a:lnTo>
                <a:lnTo>
                  <a:pt x="29704" y="41141"/>
                </a:lnTo>
                <a:lnTo>
                  <a:pt x="25505" y="44572"/>
                </a:lnTo>
                <a:lnTo>
                  <a:pt x="21754" y="48765"/>
                </a:lnTo>
                <a:lnTo>
                  <a:pt x="18301" y="53465"/>
                </a:lnTo>
                <a:lnTo>
                  <a:pt x="15046" y="58503"/>
                </a:lnTo>
                <a:lnTo>
                  <a:pt x="12876" y="63767"/>
                </a:lnTo>
                <a:lnTo>
                  <a:pt x="11429" y="69181"/>
                </a:lnTo>
                <a:lnTo>
                  <a:pt x="10466" y="74696"/>
                </a:lnTo>
                <a:lnTo>
                  <a:pt x="8870" y="80277"/>
                </a:lnTo>
                <a:lnTo>
                  <a:pt x="6854" y="85903"/>
                </a:lnTo>
                <a:lnTo>
                  <a:pt x="4558" y="91559"/>
                </a:lnTo>
                <a:lnTo>
                  <a:pt x="3026" y="97234"/>
                </a:lnTo>
                <a:lnTo>
                  <a:pt x="2006" y="102922"/>
                </a:lnTo>
                <a:lnTo>
                  <a:pt x="1325" y="108620"/>
                </a:lnTo>
                <a:lnTo>
                  <a:pt x="871" y="114323"/>
                </a:lnTo>
                <a:lnTo>
                  <a:pt x="569" y="120030"/>
                </a:lnTo>
                <a:lnTo>
                  <a:pt x="143" y="134624"/>
                </a:lnTo>
                <a:lnTo>
                  <a:pt x="0" y="152640"/>
                </a:lnTo>
                <a:lnTo>
                  <a:pt x="940" y="157957"/>
                </a:lnTo>
                <a:lnTo>
                  <a:pt x="2520" y="163407"/>
                </a:lnTo>
                <a:lnTo>
                  <a:pt x="4525" y="168945"/>
                </a:lnTo>
                <a:lnTo>
                  <a:pt x="6815" y="173590"/>
                </a:lnTo>
                <a:lnTo>
                  <a:pt x="9294" y="177639"/>
                </a:lnTo>
                <a:lnTo>
                  <a:pt x="14588" y="184678"/>
                </a:lnTo>
                <a:lnTo>
                  <a:pt x="20116" y="190982"/>
                </a:lnTo>
                <a:lnTo>
                  <a:pt x="25748" y="196958"/>
                </a:lnTo>
                <a:lnTo>
                  <a:pt x="42832" y="214294"/>
                </a:lnTo>
                <a:lnTo>
                  <a:pt x="45688" y="217157"/>
                </a:lnTo>
                <a:lnTo>
                  <a:pt x="49497" y="219066"/>
                </a:lnTo>
                <a:lnTo>
                  <a:pt x="53941" y="220339"/>
                </a:lnTo>
                <a:lnTo>
                  <a:pt x="58808" y="221188"/>
                </a:lnTo>
                <a:lnTo>
                  <a:pt x="63006" y="222706"/>
                </a:lnTo>
                <a:lnTo>
                  <a:pt x="66757" y="224670"/>
                </a:lnTo>
                <a:lnTo>
                  <a:pt x="70210" y="226933"/>
                </a:lnTo>
                <a:lnTo>
                  <a:pt x="74417" y="227488"/>
                </a:lnTo>
                <a:lnTo>
                  <a:pt x="79127" y="226906"/>
                </a:lnTo>
                <a:lnTo>
                  <a:pt x="84172" y="225566"/>
                </a:lnTo>
                <a:lnTo>
                  <a:pt x="89440" y="224672"/>
                </a:lnTo>
                <a:lnTo>
                  <a:pt x="94857" y="224076"/>
                </a:lnTo>
                <a:lnTo>
                  <a:pt x="100374" y="223679"/>
                </a:lnTo>
                <a:lnTo>
                  <a:pt x="105956" y="222462"/>
                </a:lnTo>
                <a:lnTo>
                  <a:pt x="111583" y="220698"/>
                </a:lnTo>
                <a:lnTo>
                  <a:pt x="117239" y="218569"/>
                </a:lnTo>
                <a:lnTo>
                  <a:pt x="122915" y="216198"/>
                </a:lnTo>
                <a:lnTo>
                  <a:pt x="128604" y="213664"/>
                </a:lnTo>
                <a:lnTo>
                  <a:pt x="134302" y="211023"/>
                </a:lnTo>
                <a:lnTo>
                  <a:pt x="139052" y="208309"/>
                </a:lnTo>
                <a:lnTo>
                  <a:pt x="143172" y="205547"/>
                </a:lnTo>
                <a:lnTo>
                  <a:pt x="146871" y="202754"/>
                </a:lnTo>
                <a:lnTo>
                  <a:pt x="151242" y="199939"/>
                </a:lnTo>
                <a:lnTo>
                  <a:pt x="156061" y="197110"/>
                </a:lnTo>
                <a:lnTo>
                  <a:pt x="161179" y="194272"/>
                </a:lnTo>
                <a:lnTo>
                  <a:pt x="165543" y="191427"/>
                </a:lnTo>
                <a:lnTo>
                  <a:pt x="169405" y="188578"/>
                </a:lnTo>
                <a:lnTo>
                  <a:pt x="172932" y="185726"/>
                </a:lnTo>
                <a:lnTo>
                  <a:pt x="176236" y="182872"/>
                </a:lnTo>
                <a:lnTo>
                  <a:pt x="182447" y="177161"/>
                </a:lnTo>
                <a:lnTo>
                  <a:pt x="185437" y="173352"/>
                </a:lnTo>
                <a:lnTo>
                  <a:pt x="188383" y="168908"/>
                </a:lnTo>
                <a:lnTo>
                  <a:pt x="191299" y="164040"/>
                </a:lnTo>
                <a:lnTo>
                  <a:pt x="194196" y="159842"/>
                </a:lnTo>
                <a:lnTo>
                  <a:pt x="197079" y="156092"/>
                </a:lnTo>
                <a:lnTo>
                  <a:pt x="199954" y="152639"/>
                </a:lnTo>
                <a:lnTo>
                  <a:pt x="201871" y="148432"/>
                </a:lnTo>
                <a:lnTo>
                  <a:pt x="203148" y="143722"/>
                </a:lnTo>
                <a:lnTo>
                  <a:pt x="204000" y="138677"/>
                </a:lnTo>
                <a:lnTo>
                  <a:pt x="204569" y="133408"/>
                </a:lnTo>
                <a:lnTo>
                  <a:pt x="204947" y="127991"/>
                </a:lnTo>
                <a:lnTo>
                  <a:pt x="205199" y="122475"/>
                </a:lnTo>
                <a:lnTo>
                  <a:pt x="205479" y="111266"/>
                </a:lnTo>
                <a:lnTo>
                  <a:pt x="205660" y="93098"/>
                </a:lnTo>
                <a:lnTo>
                  <a:pt x="204722" y="88735"/>
                </a:lnTo>
                <a:lnTo>
                  <a:pt x="203144" y="83922"/>
                </a:lnTo>
                <a:lnTo>
                  <a:pt x="201140" y="78807"/>
                </a:lnTo>
                <a:lnTo>
                  <a:pt x="198851" y="74446"/>
                </a:lnTo>
                <a:lnTo>
                  <a:pt x="196373" y="70585"/>
                </a:lnTo>
                <a:lnTo>
                  <a:pt x="193768" y="67059"/>
                </a:lnTo>
                <a:lnTo>
                  <a:pt x="191079" y="62804"/>
                </a:lnTo>
                <a:lnTo>
                  <a:pt x="188335" y="58061"/>
                </a:lnTo>
                <a:lnTo>
                  <a:pt x="185552" y="52995"/>
                </a:lnTo>
                <a:lnTo>
                  <a:pt x="182744" y="48665"/>
                </a:lnTo>
                <a:lnTo>
                  <a:pt x="179920" y="44826"/>
                </a:lnTo>
                <a:lnTo>
                  <a:pt x="177085" y="41314"/>
                </a:lnTo>
                <a:lnTo>
                  <a:pt x="173289" y="37067"/>
                </a:lnTo>
                <a:lnTo>
                  <a:pt x="163993" y="27269"/>
                </a:lnTo>
                <a:lnTo>
                  <a:pt x="158846" y="22942"/>
                </a:lnTo>
                <a:lnTo>
                  <a:pt x="153511" y="19104"/>
                </a:lnTo>
                <a:lnTo>
                  <a:pt x="148048" y="15594"/>
                </a:lnTo>
                <a:lnTo>
                  <a:pt x="143454" y="13253"/>
                </a:lnTo>
                <a:lnTo>
                  <a:pt x="139439" y="11693"/>
                </a:lnTo>
                <a:lnTo>
                  <a:pt x="135810" y="10653"/>
                </a:lnTo>
                <a:lnTo>
                  <a:pt x="132438" y="9007"/>
                </a:lnTo>
                <a:lnTo>
                  <a:pt x="126152" y="4638"/>
                </a:lnTo>
                <a:lnTo>
                  <a:pt x="122189" y="3092"/>
                </a:lnTo>
                <a:lnTo>
                  <a:pt x="117642" y="2061"/>
                </a:lnTo>
                <a:lnTo>
                  <a:pt x="112706" y="1374"/>
                </a:lnTo>
                <a:lnTo>
                  <a:pt x="108463" y="916"/>
                </a:lnTo>
                <a:lnTo>
                  <a:pt x="104682" y="611"/>
                </a:lnTo>
                <a:lnTo>
                  <a:pt x="101208" y="407"/>
                </a:lnTo>
                <a:lnTo>
                  <a:pt x="94809" y="180"/>
                </a:lnTo>
                <a:lnTo>
                  <a:pt x="8568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MARTPenAnnotation558"/>
          <p:cNvSpPr/>
          <p:nvPr/>
        </p:nvSpPr>
        <p:spPr>
          <a:xfrm>
            <a:off x="5403960" y="3232080"/>
            <a:ext cx="282600" cy="25560"/>
          </a:xfrm>
          <a:custGeom>
            <a:avLst/>
            <a:gdLst>
              <a:gd name="textAreaLeft" fmla="*/ 0 w 282600"/>
              <a:gd name="textAreaRight" fmla="*/ 282960 w 2826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82894" h="25611">
                <a:moveTo>
                  <a:pt x="0" y="25610"/>
                </a:moveTo>
                <a:lnTo>
                  <a:pt x="40551" y="25610"/>
                </a:lnTo>
                <a:lnTo>
                  <a:pt x="46084" y="24657"/>
                </a:lnTo>
                <a:lnTo>
                  <a:pt x="51678" y="23070"/>
                </a:lnTo>
                <a:lnTo>
                  <a:pt x="57312" y="21059"/>
                </a:lnTo>
                <a:lnTo>
                  <a:pt x="63925" y="19718"/>
                </a:lnTo>
                <a:lnTo>
                  <a:pt x="71192" y="18824"/>
                </a:lnTo>
                <a:lnTo>
                  <a:pt x="78894" y="18229"/>
                </a:lnTo>
                <a:lnTo>
                  <a:pt x="86886" y="16879"/>
                </a:lnTo>
                <a:lnTo>
                  <a:pt x="95071" y="15027"/>
                </a:lnTo>
                <a:lnTo>
                  <a:pt x="103386" y="12839"/>
                </a:lnTo>
                <a:lnTo>
                  <a:pt x="111786" y="11381"/>
                </a:lnTo>
                <a:lnTo>
                  <a:pt x="120244" y="10409"/>
                </a:lnTo>
                <a:lnTo>
                  <a:pt x="128740" y="9761"/>
                </a:lnTo>
                <a:lnTo>
                  <a:pt x="137262" y="9329"/>
                </a:lnTo>
                <a:lnTo>
                  <a:pt x="154350" y="8849"/>
                </a:lnTo>
                <a:lnTo>
                  <a:pt x="162908" y="7768"/>
                </a:lnTo>
                <a:lnTo>
                  <a:pt x="171470" y="6095"/>
                </a:lnTo>
                <a:lnTo>
                  <a:pt x="180036" y="4027"/>
                </a:lnTo>
                <a:lnTo>
                  <a:pt x="188604" y="2649"/>
                </a:lnTo>
                <a:lnTo>
                  <a:pt x="197174" y="1730"/>
                </a:lnTo>
                <a:lnTo>
                  <a:pt x="205744" y="1117"/>
                </a:lnTo>
                <a:lnTo>
                  <a:pt x="213363" y="709"/>
                </a:lnTo>
                <a:lnTo>
                  <a:pt x="226908" y="255"/>
                </a:lnTo>
                <a:lnTo>
                  <a:pt x="245244" y="0"/>
                </a:lnTo>
                <a:lnTo>
                  <a:pt x="250173" y="916"/>
                </a:lnTo>
                <a:lnTo>
                  <a:pt x="254412" y="2480"/>
                </a:lnTo>
                <a:lnTo>
                  <a:pt x="258191" y="4475"/>
                </a:lnTo>
                <a:lnTo>
                  <a:pt x="261662" y="5805"/>
                </a:lnTo>
                <a:lnTo>
                  <a:pt x="264929" y="6691"/>
                </a:lnTo>
                <a:lnTo>
                  <a:pt x="268059" y="7283"/>
                </a:lnTo>
                <a:lnTo>
                  <a:pt x="274078" y="7939"/>
                </a:lnTo>
                <a:lnTo>
                  <a:pt x="282893" y="846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MARTPenAnnotation559"/>
          <p:cNvSpPr/>
          <p:nvPr/>
        </p:nvSpPr>
        <p:spPr>
          <a:xfrm>
            <a:off x="5499000" y="3146400"/>
            <a:ext cx="66600" cy="247680"/>
          </a:xfrm>
          <a:custGeom>
            <a:avLst/>
            <a:gdLst>
              <a:gd name="textAreaLeft" fmla="*/ 0 w 66600"/>
              <a:gd name="textAreaRight" fmla="*/ 66960 w 666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67358" h="248604">
                <a:moveTo>
                  <a:pt x="15923" y="0"/>
                </a:moveTo>
                <a:lnTo>
                  <a:pt x="2904" y="0"/>
                </a:lnTo>
                <a:lnTo>
                  <a:pt x="1528" y="953"/>
                </a:lnTo>
                <a:lnTo>
                  <a:pt x="611" y="2540"/>
                </a:lnTo>
                <a:lnTo>
                  <a:pt x="0" y="4551"/>
                </a:lnTo>
                <a:lnTo>
                  <a:pt x="545" y="5892"/>
                </a:lnTo>
                <a:lnTo>
                  <a:pt x="1861" y="6785"/>
                </a:lnTo>
                <a:lnTo>
                  <a:pt x="3691" y="7381"/>
                </a:lnTo>
                <a:lnTo>
                  <a:pt x="4911" y="9683"/>
                </a:lnTo>
                <a:lnTo>
                  <a:pt x="6266" y="17321"/>
                </a:lnTo>
                <a:lnTo>
                  <a:pt x="6868" y="24526"/>
                </a:lnTo>
                <a:lnTo>
                  <a:pt x="7029" y="27781"/>
                </a:lnTo>
                <a:lnTo>
                  <a:pt x="8088" y="31855"/>
                </a:lnTo>
                <a:lnTo>
                  <a:pt x="9747" y="36477"/>
                </a:lnTo>
                <a:lnTo>
                  <a:pt x="11806" y="41463"/>
                </a:lnTo>
                <a:lnTo>
                  <a:pt x="13178" y="46692"/>
                </a:lnTo>
                <a:lnTo>
                  <a:pt x="14093" y="52083"/>
                </a:lnTo>
                <a:lnTo>
                  <a:pt x="14703" y="57582"/>
                </a:lnTo>
                <a:lnTo>
                  <a:pt x="16062" y="63153"/>
                </a:lnTo>
                <a:lnTo>
                  <a:pt x="17921" y="68772"/>
                </a:lnTo>
                <a:lnTo>
                  <a:pt x="20112" y="74423"/>
                </a:lnTo>
                <a:lnTo>
                  <a:pt x="21573" y="81048"/>
                </a:lnTo>
                <a:lnTo>
                  <a:pt x="22547" y="88322"/>
                </a:lnTo>
                <a:lnTo>
                  <a:pt x="23196" y="96029"/>
                </a:lnTo>
                <a:lnTo>
                  <a:pt x="24582" y="103072"/>
                </a:lnTo>
                <a:lnTo>
                  <a:pt x="26458" y="109672"/>
                </a:lnTo>
                <a:lnTo>
                  <a:pt x="28661" y="115977"/>
                </a:lnTo>
                <a:lnTo>
                  <a:pt x="30130" y="122086"/>
                </a:lnTo>
                <a:lnTo>
                  <a:pt x="31109" y="128063"/>
                </a:lnTo>
                <a:lnTo>
                  <a:pt x="31762" y="133953"/>
                </a:lnTo>
                <a:lnTo>
                  <a:pt x="33150" y="139785"/>
                </a:lnTo>
                <a:lnTo>
                  <a:pt x="35028" y="145577"/>
                </a:lnTo>
                <a:lnTo>
                  <a:pt x="37232" y="151344"/>
                </a:lnTo>
                <a:lnTo>
                  <a:pt x="39654" y="157094"/>
                </a:lnTo>
                <a:lnTo>
                  <a:pt x="42221" y="162832"/>
                </a:lnTo>
                <a:lnTo>
                  <a:pt x="44885" y="168562"/>
                </a:lnTo>
                <a:lnTo>
                  <a:pt x="46661" y="173335"/>
                </a:lnTo>
                <a:lnTo>
                  <a:pt x="47845" y="177469"/>
                </a:lnTo>
                <a:lnTo>
                  <a:pt x="48634" y="181178"/>
                </a:lnTo>
                <a:lnTo>
                  <a:pt x="49160" y="185555"/>
                </a:lnTo>
                <a:lnTo>
                  <a:pt x="49511" y="190378"/>
                </a:lnTo>
                <a:lnTo>
                  <a:pt x="49745" y="195499"/>
                </a:lnTo>
                <a:lnTo>
                  <a:pt x="50853" y="199865"/>
                </a:lnTo>
                <a:lnTo>
                  <a:pt x="52545" y="203728"/>
                </a:lnTo>
                <a:lnTo>
                  <a:pt x="54625" y="207257"/>
                </a:lnTo>
                <a:lnTo>
                  <a:pt x="56012" y="210561"/>
                </a:lnTo>
                <a:lnTo>
                  <a:pt x="57553" y="216773"/>
                </a:lnTo>
                <a:lnTo>
                  <a:pt x="58237" y="222709"/>
                </a:lnTo>
                <a:lnTo>
                  <a:pt x="58420" y="225625"/>
                </a:lnTo>
                <a:lnTo>
                  <a:pt x="59494" y="228522"/>
                </a:lnTo>
                <a:lnTo>
                  <a:pt x="61162" y="231405"/>
                </a:lnTo>
                <a:lnTo>
                  <a:pt x="66134" y="238327"/>
                </a:lnTo>
                <a:lnTo>
                  <a:pt x="66814" y="241813"/>
                </a:lnTo>
                <a:lnTo>
                  <a:pt x="67357" y="2486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MARTPenAnnotation560"/>
          <p:cNvSpPr/>
          <p:nvPr/>
        </p:nvSpPr>
        <p:spPr>
          <a:xfrm>
            <a:off x="5369040" y="3411360"/>
            <a:ext cx="317520" cy="25560"/>
          </a:xfrm>
          <a:custGeom>
            <a:avLst/>
            <a:gdLst>
              <a:gd name="textAreaLeft" fmla="*/ 0 w 317520"/>
              <a:gd name="textAreaRight" fmla="*/ 317520 w 3175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17079" h="25678">
                <a:moveTo>
                  <a:pt x="8468" y="17136"/>
                </a:moveTo>
                <a:lnTo>
                  <a:pt x="0" y="17136"/>
                </a:lnTo>
                <a:lnTo>
                  <a:pt x="2482" y="19676"/>
                </a:lnTo>
                <a:lnTo>
                  <a:pt x="4477" y="21686"/>
                </a:lnTo>
                <a:lnTo>
                  <a:pt x="6760" y="23027"/>
                </a:lnTo>
                <a:lnTo>
                  <a:pt x="9234" y="23921"/>
                </a:lnTo>
                <a:lnTo>
                  <a:pt x="15498" y="25355"/>
                </a:lnTo>
                <a:lnTo>
                  <a:pt x="21435" y="25551"/>
                </a:lnTo>
                <a:lnTo>
                  <a:pt x="40768" y="25677"/>
                </a:lnTo>
                <a:lnTo>
                  <a:pt x="46194" y="24735"/>
                </a:lnTo>
                <a:lnTo>
                  <a:pt x="51716" y="23154"/>
                </a:lnTo>
                <a:lnTo>
                  <a:pt x="57303" y="21148"/>
                </a:lnTo>
                <a:lnTo>
                  <a:pt x="63884" y="19811"/>
                </a:lnTo>
                <a:lnTo>
                  <a:pt x="71129" y="18919"/>
                </a:lnTo>
                <a:lnTo>
                  <a:pt x="78817" y="18325"/>
                </a:lnTo>
                <a:lnTo>
                  <a:pt x="85847" y="17928"/>
                </a:lnTo>
                <a:lnTo>
                  <a:pt x="98739" y="17488"/>
                </a:lnTo>
                <a:lnTo>
                  <a:pt x="104843" y="16418"/>
                </a:lnTo>
                <a:lnTo>
                  <a:pt x="110818" y="14752"/>
                </a:lnTo>
                <a:lnTo>
                  <a:pt x="116706" y="12689"/>
                </a:lnTo>
                <a:lnTo>
                  <a:pt x="122537" y="11314"/>
                </a:lnTo>
                <a:lnTo>
                  <a:pt x="128329" y="10397"/>
                </a:lnTo>
                <a:lnTo>
                  <a:pt x="134095" y="9786"/>
                </a:lnTo>
                <a:lnTo>
                  <a:pt x="140796" y="9378"/>
                </a:lnTo>
                <a:lnTo>
                  <a:pt x="155863" y="8926"/>
                </a:lnTo>
                <a:lnTo>
                  <a:pt x="163881" y="7852"/>
                </a:lnTo>
                <a:lnTo>
                  <a:pt x="172084" y="6184"/>
                </a:lnTo>
                <a:lnTo>
                  <a:pt x="180410" y="4120"/>
                </a:lnTo>
                <a:lnTo>
                  <a:pt x="187866" y="2743"/>
                </a:lnTo>
                <a:lnTo>
                  <a:pt x="194742" y="1826"/>
                </a:lnTo>
                <a:lnTo>
                  <a:pt x="201230" y="1214"/>
                </a:lnTo>
                <a:lnTo>
                  <a:pt x="208414" y="806"/>
                </a:lnTo>
                <a:lnTo>
                  <a:pt x="224015" y="353"/>
                </a:lnTo>
                <a:lnTo>
                  <a:pt x="259020" y="38"/>
                </a:lnTo>
                <a:lnTo>
                  <a:pt x="287194" y="0"/>
                </a:lnTo>
                <a:lnTo>
                  <a:pt x="292393" y="949"/>
                </a:lnTo>
                <a:lnTo>
                  <a:pt x="296811" y="2535"/>
                </a:lnTo>
                <a:lnTo>
                  <a:pt x="300710" y="4544"/>
                </a:lnTo>
                <a:lnTo>
                  <a:pt x="304260" y="5884"/>
                </a:lnTo>
                <a:lnTo>
                  <a:pt x="307580" y="6777"/>
                </a:lnTo>
                <a:lnTo>
                  <a:pt x="317078" y="85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MARTPenAnnotation561"/>
          <p:cNvSpPr/>
          <p:nvPr/>
        </p:nvSpPr>
        <p:spPr>
          <a:xfrm>
            <a:off x="5764320" y="2897280"/>
            <a:ext cx="2786040" cy="53964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786064" h="539950">
                <a:moveTo>
                  <a:pt x="0" y="420052"/>
                </a:moveTo>
                <a:lnTo>
                  <a:pt x="0" y="424603"/>
                </a:lnTo>
                <a:lnTo>
                  <a:pt x="953" y="425944"/>
                </a:lnTo>
                <a:lnTo>
                  <a:pt x="2540" y="426837"/>
                </a:lnTo>
                <a:lnTo>
                  <a:pt x="4551" y="427433"/>
                </a:lnTo>
                <a:lnTo>
                  <a:pt x="5892" y="428783"/>
                </a:lnTo>
                <a:lnTo>
                  <a:pt x="6785" y="430635"/>
                </a:lnTo>
                <a:lnTo>
                  <a:pt x="7381" y="432822"/>
                </a:lnTo>
                <a:lnTo>
                  <a:pt x="10583" y="437793"/>
                </a:lnTo>
                <a:lnTo>
                  <a:pt x="12770" y="440452"/>
                </a:lnTo>
                <a:lnTo>
                  <a:pt x="14228" y="443177"/>
                </a:lnTo>
                <a:lnTo>
                  <a:pt x="19109" y="456934"/>
                </a:lnTo>
                <a:lnTo>
                  <a:pt x="23733" y="465972"/>
                </a:lnTo>
                <a:lnTo>
                  <a:pt x="34463" y="482075"/>
                </a:lnTo>
                <a:lnTo>
                  <a:pt x="42914" y="495261"/>
                </a:lnTo>
                <a:lnTo>
                  <a:pt x="57157" y="511236"/>
                </a:lnTo>
                <a:lnTo>
                  <a:pt x="62868" y="517093"/>
                </a:lnTo>
                <a:lnTo>
                  <a:pt x="75989" y="525746"/>
                </a:lnTo>
                <a:lnTo>
                  <a:pt x="83938" y="528940"/>
                </a:lnTo>
                <a:lnTo>
                  <a:pt x="87391" y="529791"/>
                </a:lnTo>
                <a:lnTo>
                  <a:pt x="89693" y="531312"/>
                </a:lnTo>
                <a:lnTo>
                  <a:pt x="91228" y="533278"/>
                </a:lnTo>
                <a:lnTo>
                  <a:pt x="92251" y="535541"/>
                </a:lnTo>
                <a:lnTo>
                  <a:pt x="93886" y="537049"/>
                </a:lnTo>
                <a:lnTo>
                  <a:pt x="95928" y="538055"/>
                </a:lnTo>
                <a:lnTo>
                  <a:pt x="102464" y="539949"/>
                </a:lnTo>
                <a:lnTo>
                  <a:pt x="102835" y="532676"/>
                </a:lnTo>
                <a:lnTo>
                  <a:pt x="93758" y="527294"/>
                </a:lnTo>
                <a:lnTo>
                  <a:pt x="91080" y="523932"/>
                </a:lnTo>
                <a:lnTo>
                  <a:pt x="89295" y="519785"/>
                </a:lnTo>
                <a:lnTo>
                  <a:pt x="88105" y="515116"/>
                </a:lnTo>
                <a:lnTo>
                  <a:pt x="84243" y="507387"/>
                </a:lnTo>
                <a:lnTo>
                  <a:pt x="76714" y="495142"/>
                </a:lnTo>
                <a:lnTo>
                  <a:pt x="74002" y="490114"/>
                </a:lnTo>
                <a:lnTo>
                  <a:pt x="70990" y="476908"/>
                </a:lnTo>
                <a:lnTo>
                  <a:pt x="68699" y="462467"/>
                </a:lnTo>
                <a:lnTo>
                  <a:pt x="64505" y="449698"/>
                </a:lnTo>
                <a:lnTo>
                  <a:pt x="59466" y="437673"/>
                </a:lnTo>
                <a:lnTo>
                  <a:pt x="54052" y="425026"/>
                </a:lnTo>
                <a:lnTo>
                  <a:pt x="48471" y="409880"/>
                </a:lnTo>
                <a:lnTo>
                  <a:pt x="42815" y="396164"/>
                </a:lnTo>
                <a:lnTo>
                  <a:pt x="37127" y="382765"/>
                </a:lnTo>
                <a:lnTo>
                  <a:pt x="31423" y="367285"/>
                </a:lnTo>
                <a:lnTo>
                  <a:pt x="28253" y="350880"/>
                </a:lnTo>
                <a:lnTo>
                  <a:pt x="25892" y="334064"/>
                </a:lnTo>
                <a:lnTo>
                  <a:pt x="23929" y="325579"/>
                </a:lnTo>
                <a:lnTo>
                  <a:pt x="21668" y="317065"/>
                </a:lnTo>
                <a:lnTo>
                  <a:pt x="20160" y="308532"/>
                </a:lnTo>
                <a:lnTo>
                  <a:pt x="19155" y="299985"/>
                </a:lnTo>
                <a:lnTo>
                  <a:pt x="18485" y="291430"/>
                </a:lnTo>
                <a:lnTo>
                  <a:pt x="18039" y="282869"/>
                </a:lnTo>
                <a:lnTo>
                  <a:pt x="17542" y="265737"/>
                </a:lnTo>
                <a:lnTo>
                  <a:pt x="17263" y="244577"/>
                </a:lnTo>
                <a:lnTo>
                  <a:pt x="19738" y="232208"/>
                </a:lnTo>
                <a:lnTo>
                  <a:pt x="23060" y="219409"/>
                </a:lnTo>
                <a:lnTo>
                  <a:pt x="24536" y="204195"/>
                </a:lnTo>
                <a:lnTo>
                  <a:pt x="25193" y="190448"/>
                </a:lnTo>
                <a:lnTo>
                  <a:pt x="25562" y="174539"/>
                </a:lnTo>
                <a:lnTo>
                  <a:pt x="25614" y="170651"/>
                </a:lnTo>
                <a:lnTo>
                  <a:pt x="28212" y="161252"/>
                </a:lnTo>
                <a:lnTo>
                  <a:pt x="32489" y="147791"/>
                </a:lnTo>
                <a:lnTo>
                  <a:pt x="33090" y="144247"/>
                </a:lnTo>
                <a:lnTo>
                  <a:pt x="36296" y="137770"/>
                </a:lnTo>
                <a:lnTo>
                  <a:pt x="38485" y="134709"/>
                </a:lnTo>
                <a:lnTo>
                  <a:pt x="40897" y="132668"/>
                </a:lnTo>
                <a:lnTo>
                  <a:pt x="43457" y="131308"/>
                </a:lnTo>
                <a:lnTo>
                  <a:pt x="46116" y="130401"/>
                </a:lnTo>
                <a:lnTo>
                  <a:pt x="47889" y="128844"/>
                </a:lnTo>
                <a:lnTo>
                  <a:pt x="49071" y="126853"/>
                </a:lnTo>
                <a:lnTo>
                  <a:pt x="49859" y="124574"/>
                </a:lnTo>
                <a:lnTo>
                  <a:pt x="53275" y="119501"/>
                </a:lnTo>
                <a:lnTo>
                  <a:pt x="55519" y="116815"/>
                </a:lnTo>
                <a:lnTo>
                  <a:pt x="58920" y="115024"/>
                </a:lnTo>
                <a:lnTo>
                  <a:pt x="67779" y="113034"/>
                </a:lnTo>
                <a:lnTo>
                  <a:pt x="83097" y="110804"/>
                </a:lnTo>
                <a:lnTo>
                  <a:pt x="98070" y="105644"/>
                </a:lnTo>
                <a:lnTo>
                  <a:pt x="114571" y="102739"/>
                </a:lnTo>
                <a:lnTo>
                  <a:pt x="132478" y="97222"/>
                </a:lnTo>
                <a:lnTo>
                  <a:pt x="224103" y="88428"/>
                </a:lnTo>
                <a:lnTo>
                  <a:pt x="309334" y="85795"/>
                </a:lnTo>
                <a:lnTo>
                  <a:pt x="340151" y="84793"/>
                </a:lnTo>
                <a:lnTo>
                  <a:pt x="412072" y="77683"/>
                </a:lnTo>
                <a:lnTo>
                  <a:pt x="491525" y="77183"/>
                </a:lnTo>
                <a:lnTo>
                  <a:pt x="572005" y="69774"/>
                </a:lnTo>
                <a:lnTo>
                  <a:pt x="657270" y="64134"/>
                </a:lnTo>
                <a:lnTo>
                  <a:pt x="757241" y="54357"/>
                </a:lnTo>
                <a:lnTo>
                  <a:pt x="849806" y="50739"/>
                </a:lnTo>
                <a:lnTo>
                  <a:pt x="934552" y="44087"/>
                </a:lnTo>
                <a:lnTo>
                  <a:pt x="1003964" y="37213"/>
                </a:lnTo>
                <a:lnTo>
                  <a:pt x="1078354" y="32327"/>
                </a:lnTo>
                <a:lnTo>
                  <a:pt x="1152914" y="27023"/>
                </a:lnTo>
                <a:lnTo>
                  <a:pt x="1229942" y="25023"/>
                </a:lnTo>
                <a:lnTo>
                  <a:pt x="1316869" y="18370"/>
                </a:lnTo>
                <a:lnTo>
                  <a:pt x="1389046" y="17387"/>
                </a:lnTo>
                <a:lnTo>
                  <a:pt x="1477215" y="17176"/>
                </a:lnTo>
                <a:lnTo>
                  <a:pt x="1569882" y="10364"/>
                </a:lnTo>
                <a:lnTo>
                  <a:pt x="1644446" y="8926"/>
                </a:lnTo>
                <a:lnTo>
                  <a:pt x="2280284" y="8572"/>
                </a:lnTo>
                <a:lnTo>
                  <a:pt x="2359225" y="15357"/>
                </a:lnTo>
                <a:lnTo>
                  <a:pt x="2436555" y="22801"/>
                </a:lnTo>
                <a:lnTo>
                  <a:pt x="2516250" y="25461"/>
                </a:lnTo>
                <a:lnTo>
                  <a:pt x="2584980" y="26647"/>
                </a:lnTo>
                <a:lnTo>
                  <a:pt x="2657322" y="33936"/>
                </a:lnTo>
                <a:lnTo>
                  <a:pt x="2672012" y="31592"/>
                </a:lnTo>
                <a:lnTo>
                  <a:pt x="2684891" y="28328"/>
                </a:lnTo>
                <a:lnTo>
                  <a:pt x="2736970" y="25747"/>
                </a:lnTo>
                <a:lnTo>
                  <a:pt x="2739999" y="24785"/>
                </a:lnTo>
                <a:lnTo>
                  <a:pt x="2748813" y="19832"/>
                </a:lnTo>
                <a:lnTo>
                  <a:pt x="2754585" y="18339"/>
                </a:lnTo>
                <a:lnTo>
                  <a:pt x="2763190" y="17499"/>
                </a:lnTo>
                <a:lnTo>
                  <a:pt x="2765098" y="16428"/>
                </a:lnTo>
                <a:lnTo>
                  <a:pt x="2766372" y="14762"/>
                </a:lnTo>
                <a:lnTo>
                  <a:pt x="2767220" y="12699"/>
                </a:lnTo>
                <a:lnTo>
                  <a:pt x="2768739" y="11323"/>
                </a:lnTo>
                <a:lnTo>
                  <a:pt x="2770704" y="10406"/>
                </a:lnTo>
                <a:lnTo>
                  <a:pt x="2776149" y="8934"/>
                </a:lnTo>
                <a:lnTo>
                  <a:pt x="2784753" y="8604"/>
                </a:lnTo>
                <a:lnTo>
                  <a:pt x="2785190" y="7641"/>
                </a:lnTo>
                <a:lnTo>
                  <a:pt x="278606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MARTPenAnnotation562"/>
          <p:cNvSpPr/>
          <p:nvPr/>
        </p:nvSpPr>
        <p:spPr>
          <a:xfrm>
            <a:off x="6037200" y="3086280"/>
            <a:ext cx="69840" cy="307800"/>
          </a:xfrm>
          <a:custGeom>
            <a:avLst/>
            <a:gdLst>
              <a:gd name="textAreaLeft" fmla="*/ 0 w 69840"/>
              <a:gd name="textAreaRight" fmla="*/ 70200 w 6984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68581" h="307300">
                <a:moveTo>
                  <a:pt x="0" y="0"/>
                </a:moveTo>
                <a:lnTo>
                  <a:pt x="4939" y="0"/>
                </a:lnTo>
                <a:lnTo>
                  <a:pt x="2830" y="0"/>
                </a:lnTo>
                <a:lnTo>
                  <a:pt x="7629" y="0"/>
                </a:lnTo>
                <a:lnTo>
                  <a:pt x="7944" y="952"/>
                </a:lnTo>
                <a:lnTo>
                  <a:pt x="8449" y="9325"/>
                </a:lnTo>
                <a:lnTo>
                  <a:pt x="8561" y="25783"/>
                </a:lnTo>
                <a:lnTo>
                  <a:pt x="8565" y="28619"/>
                </a:lnTo>
                <a:lnTo>
                  <a:pt x="9520" y="32414"/>
                </a:lnTo>
                <a:lnTo>
                  <a:pt x="11110" y="36849"/>
                </a:lnTo>
                <a:lnTo>
                  <a:pt x="13122" y="41711"/>
                </a:lnTo>
                <a:lnTo>
                  <a:pt x="14463" y="46857"/>
                </a:lnTo>
                <a:lnTo>
                  <a:pt x="15357" y="52193"/>
                </a:lnTo>
                <a:lnTo>
                  <a:pt x="15953" y="57655"/>
                </a:lnTo>
                <a:lnTo>
                  <a:pt x="16350" y="63202"/>
                </a:lnTo>
                <a:lnTo>
                  <a:pt x="16615" y="68804"/>
                </a:lnTo>
                <a:lnTo>
                  <a:pt x="16792" y="74444"/>
                </a:lnTo>
                <a:lnTo>
                  <a:pt x="17862" y="81062"/>
                </a:lnTo>
                <a:lnTo>
                  <a:pt x="19528" y="88331"/>
                </a:lnTo>
                <a:lnTo>
                  <a:pt x="21591" y="96035"/>
                </a:lnTo>
                <a:lnTo>
                  <a:pt x="22967" y="103075"/>
                </a:lnTo>
                <a:lnTo>
                  <a:pt x="23884" y="109674"/>
                </a:lnTo>
                <a:lnTo>
                  <a:pt x="24495" y="115979"/>
                </a:lnTo>
                <a:lnTo>
                  <a:pt x="24902" y="123039"/>
                </a:lnTo>
                <a:lnTo>
                  <a:pt x="25355" y="138504"/>
                </a:lnTo>
                <a:lnTo>
                  <a:pt x="25670" y="173414"/>
                </a:lnTo>
                <a:lnTo>
                  <a:pt x="25708" y="201577"/>
                </a:lnTo>
                <a:lnTo>
                  <a:pt x="26664" y="207727"/>
                </a:lnTo>
                <a:lnTo>
                  <a:pt x="28254" y="213732"/>
                </a:lnTo>
                <a:lnTo>
                  <a:pt x="30266" y="219641"/>
                </a:lnTo>
                <a:lnTo>
                  <a:pt x="31608" y="225484"/>
                </a:lnTo>
                <a:lnTo>
                  <a:pt x="32502" y="231285"/>
                </a:lnTo>
                <a:lnTo>
                  <a:pt x="33097" y="237058"/>
                </a:lnTo>
                <a:lnTo>
                  <a:pt x="33760" y="246011"/>
                </a:lnTo>
                <a:lnTo>
                  <a:pt x="33937" y="249732"/>
                </a:lnTo>
                <a:lnTo>
                  <a:pt x="35007" y="254118"/>
                </a:lnTo>
                <a:lnTo>
                  <a:pt x="36673" y="258947"/>
                </a:lnTo>
                <a:lnTo>
                  <a:pt x="38736" y="264071"/>
                </a:lnTo>
                <a:lnTo>
                  <a:pt x="40112" y="268440"/>
                </a:lnTo>
                <a:lnTo>
                  <a:pt x="41640" y="275834"/>
                </a:lnTo>
                <a:lnTo>
                  <a:pt x="43000" y="279139"/>
                </a:lnTo>
                <a:lnTo>
                  <a:pt x="44859" y="282295"/>
                </a:lnTo>
                <a:lnTo>
                  <a:pt x="50136" y="289654"/>
                </a:lnTo>
                <a:lnTo>
                  <a:pt x="51522" y="291210"/>
                </a:lnTo>
                <a:lnTo>
                  <a:pt x="58702" y="298686"/>
                </a:lnTo>
                <a:lnTo>
                  <a:pt x="67274" y="307299"/>
                </a:lnTo>
                <a:lnTo>
                  <a:pt x="67709" y="306784"/>
                </a:lnTo>
                <a:lnTo>
                  <a:pt x="68580" y="30003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MARTPenAnnotation563"/>
          <p:cNvSpPr/>
          <p:nvPr/>
        </p:nvSpPr>
        <p:spPr>
          <a:xfrm>
            <a:off x="6175440" y="3129120"/>
            <a:ext cx="196920" cy="239400"/>
          </a:xfrm>
          <a:custGeom>
            <a:avLst/>
            <a:gdLst>
              <a:gd name="textAreaLeft" fmla="*/ 0 w 196920"/>
              <a:gd name="textAreaRight" fmla="*/ 197280 w 1969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96632" h="239986">
                <a:moveTo>
                  <a:pt x="34255" y="0"/>
                </a:moveTo>
                <a:lnTo>
                  <a:pt x="26874" y="7381"/>
                </a:lnTo>
                <a:lnTo>
                  <a:pt x="23672" y="13123"/>
                </a:lnTo>
                <a:lnTo>
                  <a:pt x="13856" y="32331"/>
                </a:lnTo>
                <a:lnTo>
                  <a:pt x="12083" y="37747"/>
                </a:lnTo>
                <a:lnTo>
                  <a:pt x="10901" y="43262"/>
                </a:lnTo>
                <a:lnTo>
                  <a:pt x="10113" y="48844"/>
                </a:lnTo>
                <a:lnTo>
                  <a:pt x="8635" y="54470"/>
                </a:lnTo>
                <a:lnTo>
                  <a:pt x="6698" y="60126"/>
                </a:lnTo>
                <a:lnTo>
                  <a:pt x="4454" y="65801"/>
                </a:lnTo>
                <a:lnTo>
                  <a:pt x="2957" y="71490"/>
                </a:lnTo>
                <a:lnTo>
                  <a:pt x="1960" y="77188"/>
                </a:lnTo>
                <a:lnTo>
                  <a:pt x="1295" y="82891"/>
                </a:lnTo>
                <a:lnTo>
                  <a:pt x="852" y="88598"/>
                </a:lnTo>
                <a:lnTo>
                  <a:pt x="556" y="94308"/>
                </a:lnTo>
                <a:lnTo>
                  <a:pt x="228" y="105732"/>
                </a:lnTo>
                <a:lnTo>
                  <a:pt x="0" y="134303"/>
                </a:lnTo>
                <a:lnTo>
                  <a:pt x="941" y="140018"/>
                </a:lnTo>
                <a:lnTo>
                  <a:pt x="2520" y="145733"/>
                </a:lnTo>
                <a:lnTo>
                  <a:pt x="4526" y="151448"/>
                </a:lnTo>
                <a:lnTo>
                  <a:pt x="6816" y="157163"/>
                </a:lnTo>
                <a:lnTo>
                  <a:pt x="9295" y="162878"/>
                </a:lnTo>
                <a:lnTo>
                  <a:pt x="14589" y="174308"/>
                </a:lnTo>
                <a:lnTo>
                  <a:pt x="28584" y="202883"/>
                </a:lnTo>
                <a:lnTo>
                  <a:pt x="32380" y="207645"/>
                </a:lnTo>
                <a:lnTo>
                  <a:pt x="36815" y="211773"/>
                </a:lnTo>
                <a:lnTo>
                  <a:pt x="41676" y="215477"/>
                </a:lnTo>
                <a:lnTo>
                  <a:pt x="46823" y="218899"/>
                </a:lnTo>
                <a:lnTo>
                  <a:pt x="52159" y="222133"/>
                </a:lnTo>
                <a:lnTo>
                  <a:pt x="57620" y="225241"/>
                </a:lnTo>
                <a:lnTo>
                  <a:pt x="62214" y="228266"/>
                </a:lnTo>
                <a:lnTo>
                  <a:pt x="66230" y="231235"/>
                </a:lnTo>
                <a:lnTo>
                  <a:pt x="69859" y="234166"/>
                </a:lnTo>
                <a:lnTo>
                  <a:pt x="74184" y="236121"/>
                </a:lnTo>
                <a:lnTo>
                  <a:pt x="78972" y="237424"/>
                </a:lnTo>
                <a:lnTo>
                  <a:pt x="84068" y="238293"/>
                </a:lnTo>
                <a:lnTo>
                  <a:pt x="89371" y="238872"/>
                </a:lnTo>
                <a:lnTo>
                  <a:pt x="94812" y="239258"/>
                </a:lnTo>
                <a:lnTo>
                  <a:pt x="104984" y="239687"/>
                </a:lnTo>
                <a:lnTo>
                  <a:pt x="116066" y="239928"/>
                </a:lnTo>
                <a:lnTo>
                  <a:pt x="122368" y="239985"/>
                </a:lnTo>
                <a:lnTo>
                  <a:pt x="126334" y="239047"/>
                </a:lnTo>
                <a:lnTo>
                  <a:pt x="130884" y="237470"/>
                </a:lnTo>
                <a:lnTo>
                  <a:pt x="135822" y="235466"/>
                </a:lnTo>
                <a:lnTo>
                  <a:pt x="140066" y="233177"/>
                </a:lnTo>
                <a:lnTo>
                  <a:pt x="143849" y="230699"/>
                </a:lnTo>
                <a:lnTo>
                  <a:pt x="147322" y="228094"/>
                </a:lnTo>
                <a:lnTo>
                  <a:pt x="150591" y="224453"/>
                </a:lnTo>
                <a:lnTo>
                  <a:pt x="153722" y="220120"/>
                </a:lnTo>
                <a:lnTo>
                  <a:pt x="156762" y="215327"/>
                </a:lnTo>
                <a:lnTo>
                  <a:pt x="159741" y="211179"/>
                </a:lnTo>
                <a:lnTo>
                  <a:pt x="165592" y="204030"/>
                </a:lnTo>
                <a:lnTo>
                  <a:pt x="168485" y="199837"/>
                </a:lnTo>
                <a:lnTo>
                  <a:pt x="171367" y="195137"/>
                </a:lnTo>
                <a:lnTo>
                  <a:pt x="174240" y="190099"/>
                </a:lnTo>
                <a:lnTo>
                  <a:pt x="179973" y="179421"/>
                </a:lnTo>
                <a:lnTo>
                  <a:pt x="182836" y="173906"/>
                </a:lnTo>
                <a:lnTo>
                  <a:pt x="185696" y="169278"/>
                </a:lnTo>
                <a:lnTo>
                  <a:pt x="188556" y="165240"/>
                </a:lnTo>
                <a:lnTo>
                  <a:pt x="191415" y="161595"/>
                </a:lnTo>
                <a:lnTo>
                  <a:pt x="193321" y="157260"/>
                </a:lnTo>
                <a:lnTo>
                  <a:pt x="194591" y="152465"/>
                </a:lnTo>
                <a:lnTo>
                  <a:pt x="195438" y="147363"/>
                </a:lnTo>
                <a:lnTo>
                  <a:pt x="196003" y="142057"/>
                </a:lnTo>
                <a:lnTo>
                  <a:pt x="196379" y="136615"/>
                </a:lnTo>
                <a:lnTo>
                  <a:pt x="196631" y="131082"/>
                </a:lnTo>
                <a:lnTo>
                  <a:pt x="195845" y="125488"/>
                </a:lnTo>
                <a:lnTo>
                  <a:pt x="194369" y="119854"/>
                </a:lnTo>
                <a:lnTo>
                  <a:pt x="192433" y="114192"/>
                </a:lnTo>
                <a:lnTo>
                  <a:pt x="190190" y="108513"/>
                </a:lnTo>
                <a:lnTo>
                  <a:pt x="187741" y="102822"/>
                </a:lnTo>
                <a:lnTo>
                  <a:pt x="185157" y="97123"/>
                </a:lnTo>
                <a:lnTo>
                  <a:pt x="182481" y="92371"/>
                </a:lnTo>
                <a:lnTo>
                  <a:pt x="179745" y="88251"/>
                </a:lnTo>
                <a:lnTo>
                  <a:pt x="176969" y="84551"/>
                </a:lnTo>
                <a:lnTo>
                  <a:pt x="174165" y="80180"/>
                </a:lnTo>
                <a:lnTo>
                  <a:pt x="171343" y="75361"/>
                </a:lnTo>
                <a:lnTo>
                  <a:pt x="168510" y="70243"/>
                </a:lnTo>
                <a:lnTo>
                  <a:pt x="165669" y="65879"/>
                </a:lnTo>
                <a:lnTo>
                  <a:pt x="159971" y="58489"/>
                </a:lnTo>
                <a:lnTo>
                  <a:pt x="154264" y="52031"/>
                </a:lnTo>
                <a:lnTo>
                  <a:pt x="151408" y="48974"/>
                </a:lnTo>
                <a:lnTo>
                  <a:pt x="138288" y="35572"/>
                </a:lnTo>
                <a:lnTo>
                  <a:pt x="133138" y="32287"/>
                </a:lnTo>
                <a:lnTo>
                  <a:pt x="127800" y="30097"/>
                </a:lnTo>
                <a:lnTo>
                  <a:pt x="122336" y="28637"/>
                </a:lnTo>
                <a:lnTo>
                  <a:pt x="116788" y="26712"/>
                </a:lnTo>
                <a:lnTo>
                  <a:pt x="111185" y="24475"/>
                </a:lnTo>
                <a:lnTo>
                  <a:pt x="105544" y="22032"/>
                </a:lnTo>
                <a:lnTo>
                  <a:pt x="100831" y="19450"/>
                </a:lnTo>
                <a:lnTo>
                  <a:pt x="96736" y="16777"/>
                </a:lnTo>
                <a:lnTo>
                  <a:pt x="93054" y="14042"/>
                </a:lnTo>
                <a:lnTo>
                  <a:pt x="88695" y="12219"/>
                </a:lnTo>
                <a:lnTo>
                  <a:pt x="83883" y="11003"/>
                </a:lnTo>
                <a:lnTo>
                  <a:pt x="78770" y="10193"/>
                </a:lnTo>
                <a:lnTo>
                  <a:pt x="74409" y="9653"/>
                </a:lnTo>
                <a:lnTo>
                  <a:pt x="70550" y="9293"/>
                </a:lnTo>
                <a:lnTo>
                  <a:pt x="67024" y="9053"/>
                </a:lnTo>
                <a:lnTo>
                  <a:pt x="63721" y="8893"/>
                </a:lnTo>
                <a:lnTo>
                  <a:pt x="57511" y="8715"/>
                </a:lnTo>
                <a:lnTo>
                  <a:pt x="34760" y="8574"/>
                </a:lnTo>
                <a:lnTo>
                  <a:pt x="34480" y="11113"/>
                </a:lnTo>
                <a:lnTo>
                  <a:pt x="34255" y="171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MARTPenAnnotation564"/>
          <p:cNvSpPr/>
          <p:nvPr/>
        </p:nvSpPr>
        <p:spPr>
          <a:xfrm>
            <a:off x="6543720" y="3086280"/>
            <a:ext cx="257040" cy="239400"/>
          </a:xfrm>
          <a:custGeom>
            <a:avLst/>
            <a:gdLst>
              <a:gd name="textAreaLeft" fmla="*/ 0 w 257040"/>
              <a:gd name="textAreaRight" fmla="*/ 257400 w 25704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257131" h="240017">
                <a:moveTo>
                  <a:pt x="25717" y="0"/>
                </a:moveTo>
                <a:lnTo>
                  <a:pt x="8612" y="0"/>
                </a:lnTo>
                <a:lnTo>
                  <a:pt x="8584" y="4551"/>
                </a:lnTo>
                <a:lnTo>
                  <a:pt x="7628" y="6844"/>
                </a:lnTo>
                <a:lnTo>
                  <a:pt x="4025" y="11931"/>
                </a:lnTo>
                <a:lnTo>
                  <a:pt x="2683" y="14621"/>
                </a:lnTo>
                <a:lnTo>
                  <a:pt x="1192" y="20151"/>
                </a:lnTo>
                <a:lnTo>
                  <a:pt x="530" y="25783"/>
                </a:lnTo>
                <a:lnTo>
                  <a:pt x="235" y="32414"/>
                </a:lnTo>
                <a:lnTo>
                  <a:pt x="46" y="52193"/>
                </a:lnTo>
                <a:lnTo>
                  <a:pt x="0" y="121183"/>
                </a:lnTo>
                <a:lnTo>
                  <a:pt x="952" y="125556"/>
                </a:lnTo>
                <a:lnTo>
                  <a:pt x="2540" y="130376"/>
                </a:lnTo>
                <a:lnTo>
                  <a:pt x="4550" y="135495"/>
                </a:lnTo>
                <a:lnTo>
                  <a:pt x="5891" y="140812"/>
                </a:lnTo>
                <a:lnTo>
                  <a:pt x="6784" y="146262"/>
                </a:lnTo>
                <a:lnTo>
                  <a:pt x="7380" y="151801"/>
                </a:lnTo>
                <a:lnTo>
                  <a:pt x="8730" y="157398"/>
                </a:lnTo>
                <a:lnTo>
                  <a:pt x="10583" y="163034"/>
                </a:lnTo>
                <a:lnTo>
                  <a:pt x="12770" y="168697"/>
                </a:lnTo>
                <a:lnTo>
                  <a:pt x="15181" y="174377"/>
                </a:lnTo>
                <a:lnTo>
                  <a:pt x="20400" y="185768"/>
                </a:lnTo>
                <a:lnTo>
                  <a:pt x="23124" y="190520"/>
                </a:lnTo>
                <a:lnTo>
                  <a:pt x="25894" y="194641"/>
                </a:lnTo>
                <a:lnTo>
                  <a:pt x="28692" y="198340"/>
                </a:lnTo>
                <a:lnTo>
                  <a:pt x="31511" y="202712"/>
                </a:lnTo>
                <a:lnTo>
                  <a:pt x="34342" y="207531"/>
                </a:lnTo>
                <a:lnTo>
                  <a:pt x="37182" y="212649"/>
                </a:lnTo>
                <a:lnTo>
                  <a:pt x="40028" y="217013"/>
                </a:lnTo>
                <a:lnTo>
                  <a:pt x="45730" y="224403"/>
                </a:lnTo>
                <a:lnTo>
                  <a:pt x="49537" y="227707"/>
                </a:lnTo>
                <a:lnTo>
                  <a:pt x="53979" y="230862"/>
                </a:lnTo>
                <a:lnTo>
                  <a:pt x="58846" y="233918"/>
                </a:lnTo>
                <a:lnTo>
                  <a:pt x="66794" y="237313"/>
                </a:lnTo>
                <a:lnTo>
                  <a:pt x="74453" y="238822"/>
                </a:lnTo>
                <a:lnTo>
                  <a:pt x="79163" y="239225"/>
                </a:lnTo>
                <a:lnTo>
                  <a:pt x="84208" y="239493"/>
                </a:lnTo>
                <a:lnTo>
                  <a:pt x="94893" y="239791"/>
                </a:lnTo>
                <a:lnTo>
                  <a:pt x="129786" y="240016"/>
                </a:lnTo>
                <a:lnTo>
                  <a:pt x="134149" y="239068"/>
                </a:lnTo>
                <a:lnTo>
                  <a:pt x="138962" y="237483"/>
                </a:lnTo>
                <a:lnTo>
                  <a:pt x="144077" y="235475"/>
                </a:lnTo>
                <a:lnTo>
                  <a:pt x="149391" y="233183"/>
                </a:lnTo>
                <a:lnTo>
                  <a:pt x="160376" y="228097"/>
                </a:lnTo>
                <a:lnTo>
                  <a:pt x="165020" y="225407"/>
                </a:lnTo>
                <a:lnTo>
                  <a:pt x="172719" y="219878"/>
                </a:lnTo>
                <a:lnTo>
                  <a:pt x="177058" y="217070"/>
                </a:lnTo>
                <a:lnTo>
                  <a:pt x="181857" y="214246"/>
                </a:lnTo>
                <a:lnTo>
                  <a:pt x="186960" y="211411"/>
                </a:lnTo>
                <a:lnTo>
                  <a:pt x="197711" y="205720"/>
                </a:lnTo>
                <a:lnTo>
                  <a:pt x="203244" y="202869"/>
                </a:lnTo>
                <a:lnTo>
                  <a:pt x="207886" y="199063"/>
                </a:lnTo>
                <a:lnTo>
                  <a:pt x="211933" y="194621"/>
                </a:lnTo>
                <a:lnTo>
                  <a:pt x="215583" y="189755"/>
                </a:lnTo>
                <a:lnTo>
                  <a:pt x="218970" y="185558"/>
                </a:lnTo>
                <a:lnTo>
                  <a:pt x="225273" y="178355"/>
                </a:lnTo>
                <a:lnTo>
                  <a:pt x="228286" y="174148"/>
                </a:lnTo>
                <a:lnTo>
                  <a:pt x="231248" y="169439"/>
                </a:lnTo>
                <a:lnTo>
                  <a:pt x="234175" y="164394"/>
                </a:lnTo>
                <a:lnTo>
                  <a:pt x="239968" y="153709"/>
                </a:lnTo>
                <a:lnTo>
                  <a:pt x="242846" y="148193"/>
                </a:lnTo>
                <a:lnTo>
                  <a:pt x="245717" y="143562"/>
                </a:lnTo>
                <a:lnTo>
                  <a:pt x="248584" y="139523"/>
                </a:lnTo>
                <a:lnTo>
                  <a:pt x="251447" y="135878"/>
                </a:lnTo>
                <a:lnTo>
                  <a:pt x="253357" y="131542"/>
                </a:lnTo>
                <a:lnTo>
                  <a:pt x="254629" y="126747"/>
                </a:lnTo>
                <a:lnTo>
                  <a:pt x="255478" y="121646"/>
                </a:lnTo>
                <a:lnTo>
                  <a:pt x="256044" y="116339"/>
                </a:lnTo>
                <a:lnTo>
                  <a:pt x="256420" y="110897"/>
                </a:lnTo>
                <a:lnTo>
                  <a:pt x="256839" y="100722"/>
                </a:lnTo>
                <a:lnTo>
                  <a:pt x="257075" y="89639"/>
                </a:lnTo>
                <a:lnTo>
                  <a:pt x="257130" y="83337"/>
                </a:lnTo>
                <a:lnTo>
                  <a:pt x="256193" y="79370"/>
                </a:lnTo>
                <a:lnTo>
                  <a:pt x="254615" y="74821"/>
                </a:lnTo>
                <a:lnTo>
                  <a:pt x="252611" y="69883"/>
                </a:lnTo>
                <a:lnTo>
                  <a:pt x="249370" y="65639"/>
                </a:lnTo>
                <a:lnTo>
                  <a:pt x="245304" y="61856"/>
                </a:lnTo>
                <a:lnTo>
                  <a:pt x="240688" y="58382"/>
                </a:lnTo>
                <a:lnTo>
                  <a:pt x="233020" y="51983"/>
                </a:lnTo>
                <a:lnTo>
                  <a:pt x="226437" y="45963"/>
                </a:lnTo>
                <a:lnTo>
                  <a:pt x="220336" y="40113"/>
                </a:lnTo>
                <a:lnTo>
                  <a:pt x="216423" y="37219"/>
                </a:lnTo>
                <a:lnTo>
                  <a:pt x="211909" y="34338"/>
                </a:lnTo>
                <a:lnTo>
                  <a:pt x="206995" y="31464"/>
                </a:lnTo>
                <a:lnTo>
                  <a:pt x="201814" y="28596"/>
                </a:lnTo>
                <a:lnTo>
                  <a:pt x="190977" y="22869"/>
                </a:lnTo>
                <a:lnTo>
                  <a:pt x="186373" y="20008"/>
                </a:lnTo>
                <a:lnTo>
                  <a:pt x="178717" y="14290"/>
                </a:lnTo>
                <a:lnTo>
                  <a:pt x="174390" y="12384"/>
                </a:lnTo>
                <a:lnTo>
                  <a:pt x="169600" y="11113"/>
                </a:lnTo>
                <a:lnTo>
                  <a:pt x="164502" y="10266"/>
                </a:lnTo>
                <a:lnTo>
                  <a:pt x="159198" y="8749"/>
                </a:lnTo>
                <a:lnTo>
                  <a:pt x="153757" y="6785"/>
                </a:lnTo>
                <a:lnTo>
                  <a:pt x="148224" y="4523"/>
                </a:lnTo>
                <a:lnTo>
                  <a:pt x="142631" y="3015"/>
                </a:lnTo>
                <a:lnTo>
                  <a:pt x="136997" y="2010"/>
                </a:lnTo>
                <a:lnTo>
                  <a:pt x="131336" y="1340"/>
                </a:lnTo>
                <a:lnTo>
                  <a:pt x="125658" y="893"/>
                </a:lnTo>
                <a:lnTo>
                  <a:pt x="119967" y="595"/>
                </a:lnTo>
                <a:lnTo>
                  <a:pt x="108563" y="264"/>
                </a:lnTo>
                <a:lnTo>
                  <a:pt x="75364" y="15"/>
                </a:lnTo>
                <a:lnTo>
                  <a:pt x="26200" y="0"/>
                </a:lnTo>
                <a:lnTo>
                  <a:pt x="28471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MARTPenAnnotation565"/>
          <p:cNvSpPr/>
          <p:nvPr/>
        </p:nvSpPr>
        <p:spPr>
          <a:xfrm>
            <a:off x="7083360" y="3078000"/>
            <a:ext cx="60480" cy="230400"/>
          </a:xfrm>
          <a:custGeom>
            <a:avLst/>
            <a:gdLst>
              <a:gd name="textAreaLeft" fmla="*/ 0 w 60480"/>
              <a:gd name="textAreaRight" fmla="*/ 60840 w 6048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60009" h="231459">
                <a:moveTo>
                  <a:pt x="0" y="0"/>
                </a:moveTo>
                <a:lnTo>
                  <a:pt x="4551" y="4551"/>
                </a:lnTo>
                <a:lnTo>
                  <a:pt x="5891" y="6844"/>
                </a:lnTo>
                <a:lnTo>
                  <a:pt x="7381" y="11932"/>
                </a:lnTo>
                <a:lnTo>
                  <a:pt x="8220" y="15601"/>
                </a:lnTo>
                <a:lnTo>
                  <a:pt x="8416" y="21539"/>
                </a:lnTo>
                <a:lnTo>
                  <a:pt x="8542" y="36322"/>
                </a:lnTo>
                <a:lnTo>
                  <a:pt x="9504" y="40407"/>
                </a:lnTo>
                <a:lnTo>
                  <a:pt x="11099" y="45036"/>
                </a:lnTo>
                <a:lnTo>
                  <a:pt x="13114" y="50026"/>
                </a:lnTo>
                <a:lnTo>
                  <a:pt x="14458" y="55259"/>
                </a:lnTo>
                <a:lnTo>
                  <a:pt x="15354" y="60651"/>
                </a:lnTo>
                <a:lnTo>
                  <a:pt x="15950" y="66152"/>
                </a:lnTo>
                <a:lnTo>
                  <a:pt x="17302" y="71724"/>
                </a:lnTo>
                <a:lnTo>
                  <a:pt x="19154" y="77343"/>
                </a:lnTo>
                <a:lnTo>
                  <a:pt x="21342" y="82995"/>
                </a:lnTo>
                <a:lnTo>
                  <a:pt x="22800" y="88667"/>
                </a:lnTo>
                <a:lnTo>
                  <a:pt x="23773" y="94354"/>
                </a:lnTo>
                <a:lnTo>
                  <a:pt x="24421" y="100050"/>
                </a:lnTo>
                <a:lnTo>
                  <a:pt x="25806" y="105753"/>
                </a:lnTo>
                <a:lnTo>
                  <a:pt x="27681" y="111459"/>
                </a:lnTo>
                <a:lnTo>
                  <a:pt x="29884" y="117169"/>
                </a:lnTo>
                <a:lnTo>
                  <a:pt x="31353" y="122880"/>
                </a:lnTo>
                <a:lnTo>
                  <a:pt x="32332" y="128592"/>
                </a:lnTo>
                <a:lnTo>
                  <a:pt x="32984" y="134306"/>
                </a:lnTo>
                <a:lnTo>
                  <a:pt x="33420" y="139067"/>
                </a:lnTo>
                <a:lnTo>
                  <a:pt x="33710" y="143194"/>
                </a:lnTo>
                <a:lnTo>
                  <a:pt x="33904" y="146898"/>
                </a:lnTo>
                <a:lnTo>
                  <a:pt x="34118" y="156093"/>
                </a:lnTo>
                <a:lnTo>
                  <a:pt x="34176" y="161212"/>
                </a:lnTo>
                <a:lnTo>
                  <a:pt x="35166" y="166530"/>
                </a:lnTo>
                <a:lnTo>
                  <a:pt x="36779" y="171980"/>
                </a:lnTo>
                <a:lnTo>
                  <a:pt x="38807" y="177518"/>
                </a:lnTo>
                <a:lnTo>
                  <a:pt x="41111" y="182163"/>
                </a:lnTo>
                <a:lnTo>
                  <a:pt x="43600" y="186212"/>
                </a:lnTo>
                <a:lnTo>
                  <a:pt x="46211" y="189864"/>
                </a:lnTo>
                <a:lnTo>
                  <a:pt x="47953" y="193251"/>
                </a:lnTo>
                <a:lnTo>
                  <a:pt x="49114" y="196461"/>
                </a:lnTo>
                <a:lnTo>
                  <a:pt x="49887" y="199555"/>
                </a:lnTo>
                <a:lnTo>
                  <a:pt x="51355" y="203521"/>
                </a:lnTo>
                <a:lnTo>
                  <a:pt x="53287" y="208071"/>
                </a:lnTo>
                <a:lnTo>
                  <a:pt x="58680" y="219959"/>
                </a:lnTo>
                <a:lnTo>
                  <a:pt x="59615" y="226569"/>
                </a:lnTo>
                <a:lnTo>
                  <a:pt x="60008" y="2314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MARTPenAnnotation566"/>
          <p:cNvSpPr/>
          <p:nvPr/>
        </p:nvSpPr>
        <p:spPr>
          <a:xfrm>
            <a:off x="6972480" y="3189240"/>
            <a:ext cx="334800" cy="17640"/>
          </a:xfrm>
          <a:custGeom>
            <a:avLst/>
            <a:gdLst>
              <a:gd name="textAreaLeft" fmla="*/ 0 w 334800"/>
              <a:gd name="textAreaRight" fmla="*/ 334800 w 3348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34325" h="17114">
                <a:moveTo>
                  <a:pt x="8569" y="17113"/>
                </a:moveTo>
                <a:lnTo>
                  <a:pt x="0" y="17113"/>
                </a:lnTo>
                <a:lnTo>
                  <a:pt x="73501" y="17113"/>
                </a:lnTo>
                <a:lnTo>
                  <a:pt x="80432" y="16161"/>
                </a:lnTo>
                <a:lnTo>
                  <a:pt x="87911" y="14574"/>
                </a:lnTo>
                <a:lnTo>
                  <a:pt x="95753" y="12563"/>
                </a:lnTo>
                <a:lnTo>
                  <a:pt x="103839" y="11222"/>
                </a:lnTo>
                <a:lnTo>
                  <a:pt x="112088" y="10328"/>
                </a:lnTo>
                <a:lnTo>
                  <a:pt x="120443" y="9733"/>
                </a:lnTo>
                <a:lnTo>
                  <a:pt x="128872" y="9336"/>
                </a:lnTo>
                <a:lnTo>
                  <a:pt x="145857" y="8894"/>
                </a:lnTo>
                <a:lnTo>
                  <a:pt x="197175" y="8572"/>
                </a:lnTo>
                <a:lnTo>
                  <a:pt x="205744" y="7609"/>
                </a:lnTo>
                <a:lnTo>
                  <a:pt x="214314" y="6015"/>
                </a:lnTo>
                <a:lnTo>
                  <a:pt x="222884" y="4000"/>
                </a:lnTo>
                <a:lnTo>
                  <a:pt x="230504" y="2656"/>
                </a:lnTo>
                <a:lnTo>
                  <a:pt x="237488" y="1760"/>
                </a:lnTo>
                <a:lnTo>
                  <a:pt x="244049" y="1163"/>
                </a:lnTo>
                <a:lnTo>
                  <a:pt x="250329" y="765"/>
                </a:lnTo>
                <a:lnTo>
                  <a:pt x="262385" y="322"/>
                </a:lnTo>
                <a:lnTo>
                  <a:pt x="284695" y="39"/>
                </a:lnTo>
                <a:lnTo>
                  <a:pt x="292582" y="0"/>
                </a:lnTo>
                <a:lnTo>
                  <a:pt x="296018" y="942"/>
                </a:lnTo>
                <a:lnTo>
                  <a:pt x="299262" y="2522"/>
                </a:lnTo>
                <a:lnTo>
                  <a:pt x="302377" y="4529"/>
                </a:lnTo>
                <a:lnTo>
                  <a:pt x="306358" y="5866"/>
                </a:lnTo>
                <a:lnTo>
                  <a:pt x="310918" y="6758"/>
                </a:lnTo>
                <a:lnTo>
                  <a:pt x="322822" y="8189"/>
                </a:lnTo>
                <a:lnTo>
                  <a:pt x="326990" y="8385"/>
                </a:lnTo>
                <a:lnTo>
                  <a:pt x="334324" y="85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MARTPenAnnotation567"/>
          <p:cNvSpPr/>
          <p:nvPr/>
        </p:nvSpPr>
        <p:spPr>
          <a:xfrm>
            <a:off x="7350120" y="3068640"/>
            <a:ext cx="111240" cy="249120"/>
          </a:xfrm>
          <a:custGeom>
            <a:avLst/>
            <a:gdLst>
              <a:gd name="textAreaLeft" fmla="*/ 0 w 111240"/>
              <a:gd name="textAreaRight" fmla="*/ 111600 w 1112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1443" h="248603">
                <a:moveTo>
                  <a:pt x="0" y="0"/>
                </a:moveTo>
                <a:lnTo>
                  <a:pt x="7381" y="0"/>
                </a:lnTo>
                <a:lnTo>
                  <a:pt x="10583" y="2540"/>
                </a:lnTo>
                <a:lnTo>
                  <a:pt x="12770" y="4551"/>
                </a:lnTo>
                <a:lnTo>
                  <a:pt x="14228" y="6844"/>
                </a:lnTo>
                <a:lnTo>
                  <a:pt x="15848" y="11931"/>
                </a:lnTo>
                <a:lnTo>
                  <a:pt x="16568" y="17368"/>
                </a:lnTo>
                <a:lnTo>
                  <a:pt x="16761" y="20151"/>
                </a:lnTo>
                <a:lnTo>
                  <a:pt x="17841" y="23911"/>
                </a:lnTo>
                <a:lnTo>
                  <a:pt x="19514" y="28323"/>
                </a:lnTo>
                <a:lnTo>
                  <a:pt x="21581" y="33170"/>
                </a:lnTo>
                <a:lnTo>
                  <a:pt x="22960" y="38305"/>
                </a:lnTo>
                <a:lnTo>
                  <a:pt x="23879" y="43634"/>
                </a:lnTo>
                <a:lnTo>
                  <a:pt x="24492" y="49092"/>
                </a:lnTo>
                <a:lnTo>
                  <a:pt x="25852" y="54635"/>
                </a:lnTo>
                <a:lnTo>
                  <a:pt x="27713" y="60236"/>
                </a:lnTo>
                <a:lnTo>
                  <a:pt x="29905" y="65875"/>
                </a:lnTo>
                <a:lnTo>
                  <a:pt x="31366" y="71539"/>
                </a:lnTo>
                <a:lnTo>
                  <a:pt x="32341" y="77220"/>
                </a:lnTo>
                <a:lnTo>
                  <a:pt x="32991" y="82912"/>
                </a:lnTo>
                <a:lnTo>
                  <a:pt x="33424" y="88612"/>
                </a:lnTo>
                <a:lnTo>
                  <a:pt x="33712" y="94317"/>
                </a:lnTo>
                <a:lnTo>
                  <a:pt x="33905" y="100025"/>
                </a:lnTo>
                <a:lnTo>
                  <a:pt x="34985" y="105736"/>
                </a:lnTo>
                <a:lnTo>
                  <a:pt x="36659" y="111448"/>
                </a:lnTo>
                <a:lnTo>
                  <a:pt x="38727" y="117161"/>
                </a:lnTo>
                <a:lnTo>
                  <a:pt x="40105" y="122875"/>
                </a:lnTo>
                <a:lnTo>
                  <a:pt x="41024" y="128589"/>
                </a:lnTo>
                <a:lnTo>
                  <a:pt x="41637" y="134303"/>
                </a:lnTo>
                <a:lnTo>
                  <a:pt x="42998" y="140018"/>
                </a:lnTo>
                <a:lnTo>
                  <a:pt x="44857" y="145733"/>
                </a:lnTo>
                <a:lnTo>
                  <a:pt x="47050" y="151448"/>
                </a:lnTo>
                <a:lnTo>
                  <a:pt x="48511" y="156210"/>
                </a:lnTo>
                <a:lnTo>
                  <a:pt x="49486" y="160337"/>
                </a:lnTo>
                <a:lnTo>
                  <a:pt x="50135" y="164041"/>
                </a:lnTo>
                <a:lnTo>
                  <a:pt x="51521" y="168416"/>
                </a:lnTo>
                <a:lnTo>
                  <a:pt x="53397" y="173237"/>
                </a:lnTo>
                <a:lnTo>
                  <a:pt x="55600" y="178356"/>
                </a:lnTo>
                <a:lnTo>
                  <a:pt x="60589" y="189124"/>
                </a:lnTo>
                <a:lnTo>
                  <a:pt x="63252" y="194663"/>
                </a:lnTo>
                <a:lnTo>
                  <a:pt x="65981" y="199307"/>
                </a:lnTo>
                <a:lnTo>
                  <a:pt x="68752" y="203356"/>
                </a:lnTo>
                <a:lnTo>
                  <a:pt x="71552" y="207008"/>
                </a:lnTo>
                <a:lnTo>
                  <a:pt x="74371" y="210395"/>
                </a:lnTo>
                <a:lnTo>
                  <a:pt x="77203" y="213606"/>
                </a:lnTo>
                <a:lnTo>
                  <a:pt x="82890" y="219713"/>
                </a:lnTo>
                <a:lnTo>
                  <a:pt x="92606" y="229723"/>
                </a:lnTo>
                <a:lnTo>
                  <a:pt x="111442" y="24860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MARTPenAnnotation568"/>
          <p:cNvSpPr/>
          <p:nvPr/>
        </p:nvSpPr>
        <p:spPr>
          <a:xfrm>
            <a:off x="7494480" y="3086280"/>
            <a:ext cx="385920" cy="179280"/>
          </a:xfrm>
          <a:custGeom>
            <a:avLst/>
            <a:gdLst>
              <a:gd name="textAreaLeft" fmla="*/ 0 w 385920"/>
              <a:gd name="textAreaRight" fmla="*/ 386280 w 3859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385216" h="180004">
                <a:moveTo>
                  <a:pt x="0" y="42852"/>
                </a:moveTo>
                <a:lnTo>
                  <a:pt x="0" y="34633"/>
                </a:lnTo>
                <a:lnTo>
                  <a:pt x="4551" y="29833"/>
                </a:lnTo>
                <a:lnTo>
                  <a:pt x="8219" y="26069"/>
                </a:lnTo>
                <a:lnTo>
                  <a:pt x="17570" y="21264"/>
                </a:lnTo>
                <a:lnTo>
                  <a:pt x="24636" y="18970"/>
                </a:lnTo>
                <a:lnTo>
                  <a:pt x="27855" y="18358"/>
                </a:lnTo>
                <a:lnTo>
                  <a:pt x="33970" y="15138"/>
                </a:lnTo>
                <a:lnTo>
                  <a:pt x="36934" y="12946"/>
                </a:lnTo>
                <a:lnTo>
                  <a:pt x="45308" y="10511"/>
                </a:lnTo>
                <a:lnTo>
                  <a:pt x="55379" y="8475"/>
                </a:lnTo>
                <a:lnTo>
                  <a:pt x="66206" y="4396"/>
                </a:lnTo>
                <a:lnTo>
                  <a:pt x="77367" y="1948"/>
                </a:lnTo>
                <a:lnTo>
                  <a:pt x="83011" y="1295"/>
                </a:lnTo>
                <a:lnTo>
                  <a:pt x="89630" y="860"/>
                </a:lnTo>
                <a:lnTo>
                  <a:pt x="96901" y="570"/>
                </a:lnTo>
                <a:lnTo>
                  <a:pt x="118247" y="162"/>
                </a:lnTo>
                <a:lnTo>
                  <a:pt x="159916" y="0"/>
                </a:lnTo>
                <a:lnTo>
                  <a:pt x="164714" y="949"/>
                </a:lnTo>
                <a:lnTo>
                  <a:pt x="176015" y="5883"/>
                </a:lnTo>
                <a:lnTo>
                  <a:pt x="182369" y="7371"/>
                </a:lnTo>
                <a:lnTo>
                  <a:pt x="188368" y="10573"/>
                </a:lnTo>
                <a:lnTo>
                  <a:pt x="191301" y="12760"/>
                </a:lnTo>
                <a:lnTo>
                  <a:pt x="193257" y="15171"/>
                </a:lnTo>
                <a:lnTo>
                  <a:pt x="194560" y="17730"/>
                </a:lnTo>
                <a:lnTo>
                  <a:pt x="195429" y="20389"/>
                </a:lnTo>
                <a:lnTo>
                  <a:pt x="195056" y="24067"/>
                </a:lnTo>
                <a:lnTo>
                  <a:pt x="193855" y="28424"/>
                </a:lnTo>
                <a:lnTo>
                  <a:pt x="192101" y="33233"/>
                </a:lnTo>
                <a:lnTo>
                  <a:pt x="190933" y="37392"/>
                </a:lnTo>
                <a:lnTo>
                  <a:pt x="190153" y="41117"/>
                </a:lnTo>
                <a:lnTo>
                  <a:pt x="189634" y="44553"/>
                </a:lnTo>
                <a:lnTo>
                  <a:pt x="188336" y="48749"/>
                </a:lnTo>
                <a:lnTo>
                  <a:pt x="186517" y="53450"/>
                </a:lnTo>
                <a:lnTo>
                  <a:pt x="184352" y="58490"/>
                </a:lnTo>
                <a:lnTo>
                  <a:pt x="179407" y="69170"/>
                </a:lnTo>
                <a:lnTo>
                  <a:pt x="168471" y="91548"/>
                </a:lnTo>
                <a:lnTo>
                  <a:pt x="164701" y="96271"/>
                </a:lnTo>
                <a:lnTo>
                  <a:pt x="160283" y="100372"/>
                </a:lnTo>
                <a:lnTo>
                  <a:pt x="155433" y="104059"/>
                </a:lnTo>
                <a:lnTo>
                  <a:pt x="151247" y="108422"/>
                </a:lnTo>
                <a:lnTo>
                  <a:pt x="147504" y="113235"/>
                </a:lnTo>
                <a:lnTo>
                  <a:pt x="144055" y="118349"/>
                </a:lnTo>
                <a:lnTo>
                  <a:pt x="139852" y="122711"/>
                </a:lnTo>
                <a:lnTo>
                  <a:pt x="135145" y="126571"/>
                </a:lnTo>
                <a:lnTo>
                  <a:pt x="130102" y="130097"/>
                </a:lnTo>
                <a:lnTo>
                  <a:pt x="126739" y="133401"/>
                </a:lnTo>
                <a:lnTo>
                  <a:pt x="124498" y="136555"/>
                </a:lnTo>
                <a:lnTo>
                  <a:pt x="123004" y="139611"/>
                </a:lnTo>
                <a:lnTo>
                  <a:pt x="121055" y="142601"/>
                </a:lnTo>
                <a:lnTo>
                  <a:pt x="118803" y="145546"/>
                </a:lnTo>
                <a:lnTo>
                  <a:pt x="116350" y="148462"/>
                </a:lnTo>
                <a:lnTo>
                  <a:pt x="114715" y="151359"/>
                </a:lnTo>
                <a:lnTo>
                  <a:pt x="113624" y="154242"/>
                </a:lnTo>
                <a:lnTo>
                  <a:pt x="112897" y="157117"/>
                </a:lnTo>
                <a:lnTo>
                  <a:pt x="112412" y="159987"/>
                </a:lnTo>
                <a:lnTo>
                  <a:pt x="112088" y="162852"/>
                </a:lnTo>
                <a:lnTo>
                  <a:pt x="111480" y="170937"/>
                </a:lnTo>
                <a:lnTo>
                  <a:pt x="116005" y="175842"/>
                </a:lnTo>
                <a:lnTo>
                  <a:pt x="118827" y="178777"/>
                </a:lnTo>
                <a:lnTo>
                  <a:pt x="120175" y="179188"/>
                </a:lnTo>
                <a:lnTo>
                  <a:pt x="131724" y="179849"/>
                </a:lnTo>
                <a:lnTo>
                  <a:pt x="156845" y="180003"/>
                </a:lnTo>
                <a:lnTo>
                  <a:pt x="167816" y="177468"/>
                </a:lnTo>
                <a:lnTo>
                  <a:pt x="174742" y="175458"/>
                </a:lnTo>
                <a:lnTo>
                  <a:pt x="181265" y="174119"/>
                </a:lnTo>
                <a:lnTo>
                  <a:pt x="187518" y="173226"/>
                </a:lnTo>
                <a:lnTo>
                  <a:pt x="199546" y="172234"/>
                </a:lnTo>
                <a:lnTo>
                  <a:pt x="211242" y="171793"/>
                </a:lnTo>
                <a:lnTo>
                  <a:pt x="217981" y="170722"/>
                </a:lnTo>
                <a:lnTo>
                  <a:pt x="225330" y="169057"/>
                </a:lnTo>
                <a:lnTo>
                  <a:pt x="233088" y="166994"/>
                </a:lnTo>
                <a:lnTo>
                  <a:pt x="240164" y="165618"/>
                </a:lnTo>
                <a:lnTo>
                  <a:pt x="246787" y="164701"/>
                </a:lnTo>
                <a:lnTo>
                  <a:pt x="253107" y="164090"/>
                </a:lnTo>
                <a:lnTo>
                  <a:pt x="260179" y="162730"/>
                </a:lnTo>
                <a:lnTo>
                  <a:pt x="267750" y="160870"/>
                </a:lnTo>
                <a:lnTo>
                  <a:pt x="275655" y="158678"/>
                </a:lnTo>
                <a:lnTo>
                  <a:pt x="283782" y="157217"/>
                </a:lnTo>
                <a:lnTo>
                  <a:pt x="292058" y="156243"/>
                </a:lnTo>
                <a:lnTo>
                  <a:pt x="300433" y="155593"/>
                </a:lnTo>
                <a:lnTo>
                  <a:pt x="307921" y="154208"/>
                </a:lnTo>
                <a:lnTo>
                  <a:pt x="314819" y="152332"/>
                </a:lnTo>
                <a:lnTo>
                  <a:pt x="321321" y="150129"/>
                </a:lnTo>
                <a:lnTo>
                  <a:pt x="327562" y="148660"/>
                </a:lnTo>
                <a:lnTo>
                  <a:pt x="339575" y="147028"/>
                </a:lnTo>
                <a:lnTo>
                  <a:pt x="351265" y="146302"/>
                </a:lnTo>
                <a:lnTo>
                  <a:pt x="366016" y="145894"/>
                </a:lnTo>
                <a:lnTo>
                  <a:pt x="379533" y="145756"/>
                </a:lnTo>
                <a:lnTo>
                  <a:pt x="381610" y="146697"/>
                </a:lnTo>
                <a:lnTo>
                  <a:pt x="382994" y="148277"/>
                </a:lnTo>
                <a:lnTo>
                  <a:pt x="385215" y="153106"/>
                </a:lnTo>
                <a:lnTo>
                  <a:pt x="384445" y="153502"/>
                </a:lnTo>
                <a:lnTo>
                  <a:pt x="377190" y="1542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MARTPenAnnotation569"/>
          <p:cNvSpPr/>
          <p:nvPr/>
        </p:nvSpPr>
        <p:spPr>
          <a:xfrm>
            <a:off x="4923000" y="3476520"/>
            <a:ext cx="3309840" cy="115920"/>
          </a:xfrm>
          <a:custGeom>
            <a:avLst/>
            <a:gdLst>
              <a:gd name="textAreaLeft" fmla="*/ 0 w 3309840"/>
              <a:gd name="textAreaRight" fmla="*/ 3310200 w 33098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3308986" h="115688">
                <a:moveTo>
                  <a:pt x="0" y="115687"/>
                </a:moveTo>
                <a:lnTo>
                  <a:pt x="72492" y="114735"/>
                </a:lnTo>
                <a:lnTo>
                  <a:pt x="87463" y="111136"/>
                </a:lnTo>
                <a:lnTo>
                  <a:pt x="128817" y="107644"/>
                </a:lnTo>
                <a:lnTo>
                  <a:pt x="223281" y="107121"/>
                </a:lnTo>
                <a:lnTo>
                  <a:pt x="321096" y="106162"/>
                </a:lnTo>
                <a:lnTo>
                  <a:pt x="344957" y="102564"/>
                </a:lnTo>
                <a:lnTo>
                  <a:pt x="392272" y="98384"/>
                </a:lnTo>
                <a:lnTo>
                  <a:pt x="405342" y="96532"/>
                </a:lnTo>
                <a:lnTo>
                  <a:pt x="418818" y="94344"/>
                </a:lnTo>
                <a:lnTo>
                  <a:pt x="468775" y="90834"/>
                </a:lnTo>
                <a:lnTo>
                  <a:pt x="568501" y="87480"/>
                </a:lnTo>
                <a:lnTo>
                  <a:pt x="600329" y="84101"/>
                </a:lnTo>
                <a:lnTo>
                  <a:pt x="645976" y="81245"/>
                </a:lnTo>
                <a:lnTo>
                  <a:pt x="662108" y="79391"/>
                </a:lnTo>
                <a:lnTo>
                  <a:pt x="678578" y="77202"/>
                </a:lnTo>
                <a:lnTo>
                  <a:pt x="745122" y="72737"/>
                </a:lnTo>
                <a:lnTo>
                  <a:pt x="760591" y="70861"/>
                </a:lnTo>
                <a:lnTo>
                  <a:pt x="775665" y="68658"/>
                </a:lnTo>
                <a:lnTo>
                  <a:pt x="824187" y="65558"/>
                </a:lnTo>
                <a:lnTo>
                  <a:pt x="860335" y="62292"/>
                </a:lnTo>
                <a:lnTo>
                  <a:pt x="879310" y="60088"/>
                </a:lnTo>
                <a:lnTo>
                  <a:pt x="950825" y="55598"/>
                </a:lnTo>
                <a:lnTo>
                  <a:pt x="968211" y="53720"/>
                </a:lnTo>
                <a:lnTo>
                  <a:pt x="985516" y="51516"/>
                </a:lnTo>
                <a:lnTo>
                  <a:pt x="1054354" y="47025"/>
                </a:lnTo>
                <a:lnTo>
                  <a:pt x="1071520" y="45148"/>
                </a:lnTo>
                <a:lnTo>
                  <a:pt x="1088679" y="42943"/>
                </a:lnTo>
                <a:lnTo>
                  <a:pt x="1163173" y="38453"/>
                </a:lnTo>
                <a:lnTo>
                  <a:pt x="1181214" y="36575"/>
                </a:lnTo>
                <a:lnTo>
                  <a:pt x="1198956" y="34371"/>
                </a:lnTo>
                <a:lnTo>
                  <a:pt x="1269447" y="29880"/>
                </a:lnTo>
                <a:lnTo>
                  <a:pt x="1288258" y="28003"/>
                </a:lnTo>
                <a:lnTo>
                  <a:pt x="1307466" y="25798"/>
                </a:lnTo>
                <a:lnTo>
                  <a:pt x="1386201" y="22260"/>
                </a:lnTo>
                <a:lnTo>
                  <a:pt x="1485941" y="21505"/>
                </a:lnTo>
                <a:lnTo>
                  <a:pt x="1525923" y="18900"/>
                </a:lnTo>
                <a:lnTo>
                  <a:pt x="1565919" y="15521"/>
                </a:lnTo>
                <a:lnTo>
                  <a:pt x="1685926" y="12102"/>
                </a:lnTo>
                <a:lnTo>
                  <a:pt x="1705928" y="10435"/>
                </a:lnTo>
                <a:lnTo>
                  <a:pt x="1745933" y="6996"/>
                </a:lnTo>
                <a:lnTo>
                  <a:pt x="1845945" y="4607"/>
                </a:lnTo>
                <a:lnTo>
                  <a:pt x="2219009" y="4245"/>
                </a:lnTo>
                <a:lnTo>
                  <a:pt x="2258767" y="1705"/>
                </a:lnTo>
                <a:lnTo>
                  <a:pt x="2315819" y="0"/>
                </a:lnTo>
                <a:lnTo>
                  <a:pt x="2394831" y="3406"/>
                </a:lnTo>
                <a:lnTo>
                  <a:pt x="2686403" y="4243"/>
                </a:lnTo>
                <a:lnTo>
                  <a:pt x="2726212" y="6784"/>
                </a:lnTo>
                <a:lnTo>
                  <a:pt x="2765178" y="10135"/>
                </a:lnTo>
                <a:lnTo>
                  <a:pt x="2854150" y="12464"/>
                </a:lnTo>
                <a:lnTo>
                  <a:pt x="2937763" y="15310"/>
                </a:lnTo>
                <a:lnTo>
                  <a:pt x="2968738" y="18688"/>
                </a:lnTo>
                <a:lnTo>
                  <a:pt x="3061391" y="21152"/>
                </a:lnTo>
                <a:lnTo>
                  <a:pt x="3227188" y="21389"/>
                </a:lnTo>
                <a:lnTo>
                  <a:pt x="3244373" y="23929"/>
                </a:lnTo>
                <a:lnTo>
                  <a:pt x="3258361" y="27281"/>
                </a:lnTo>
                <a:lnTo>
                  <a:pt x="3284162" y="29609"/>
                </a:lnTo>
                <a:lnTo>
                  <a:pt x="3287674" y="30679"/>
                </a:lnTo>
                <a:lnTo>
                  <a:pt x="3290968" y="32345"/>
                </a:lnTo>
                <a:lnTo>
                  <a:pt x="3294116" y="34408"/>
                </a:lnTo>
                <a:lnTo>
                  <a:pt x="3300154" y="36701"/>
                </a:lnTo>
                <a:lnTo>
                  <a:pt x="3308985" y="385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MARTPenAnnotation570"/>
          <p:cNvSpPr/>
          <p:nvPr/>
        </p:nvSpPr>
        <p:spPr>
          <a:xfrm>
            <a:off x="6226200" y="3549600"/>
            <a:ext cx="244440" cy="290520"/>
          </a:xfrm>
          <a:custGeom>
            <a:avLst/>
            <a:gdLst>
              <a:gd name="textAreaLeft" fmla="*/ 0 w 244440"/>
              <a:gd name="textAreaRight" fmla="*/ 244800 w 2444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44857" h="291361">
                <a:moveTo>
                  <a:pt x="85712" y="8468"/>
                </a:moveTo>
                <a:lnTo>
                  <a:pt x="85712" y="0"/>
                </a:lnTo>
                <a:lnTo>
                  <a:pt x="85712" y="4478"/>
                </a:lnTo>
                <a:lnTo>
                  <a:pt x="84760" y="5808"/>
                </a:lnTo>
                <a:lnTo>
                  <a:pt x="83172" y="6694"/>
                </a:lnTo>
                <a:lnTo>
                  <a:pt x="78331" y="8118"/>
                </a:lnTo>
                <a:lnTo>
                  <a:pt x="72942" y="12915"/>
                </a:lnTo>
                <a:lnTo>
                  <a:pt x="65312" y="20369"/>
                </a:lnTo>
                <a:lnTo>
                  <a:pt x="63540" y="23070"/>
                </a:lnTo>
                <a:lnTo>
                  <a:pt x="60092" y="31421"/>
                </a:lnTo>
                <a:lnTo>
                  <a:pt x="53462" y="39928"/>
                </a:lnTo>
                <a:lnTo>
                  <a:pt x="48201" y="45628"/>
                </a:lnTo>
                <a:lnTo>
                  <a:pt x="42688" y="53876"/>
                </a:lnTo>
                <a:lnTo>
                  <a:pt x="39884" y="58742"/>
                </a:lnTo>
                <a:lnTo>
                  <a:pt x="34229" y="69230"/>
                </a:lnTo>
                <a:lnTo>
                  <a:pt x="31388" y="74693"/>
                </a:lnTo>
                <a:lnTo>
                  <a:pt x="25690" y="83304"/>
                </a:lnTo>
                <a:lnTo>
                  <a:pt x="22838" y="86934"/>
                </a:lnTo>
                <a:lnTo>
                  <a:pt x="20936" y="91259"/>
                </a:lnTo>
                <a:lnTo>
                  <a:pt x="19668" y="96047"/>
                </a:lnTo>
                <a:lnTo>
                  <a:pt x="18823" y="101144"/>
                </a:lnTo>
                <a:lnTo>
                  <a:pt x="17307" y="106447"/>
                </a:lnTo>
                <a:lnTo>
                  <a:pt x="15344" y="111887"/>
                </a:lnTo>
                <a:lnTo>
                  <a:pt x="13082" y="117419"/>
                </a:lnTo>
                <a:lnTo>
                  <a:pt x="10622" y="123012"/>
                </a:lnTo>
                <a:lnTo>
                  <a:pt x="5349" y="134306"/>
                </a:lnTo>
                <a:lnTo>
                  <a:pt x="3562" y="139985"/>
                </a:lnTo>
                <a:lnTo>
                  <a:pt x="2370" y="145676"/>
                </a:lnTo>
                <a:lnTo>
                  <a:pt x="1576" y="151376"/>
                </a:lnTo>
                <a:lnTo>
                  <a:pt x="693" y="160247"/>
                </a:lnTo>
                <a:lnTo>
                  <a:pt x="301" y="168318"/>
                </a:lnTo>
                <a:lnTo>
                  <a:pt x="49" y="186482"/>
                </a:lnTo>
                <a:lnTo>
                  <a:pt x="0" y="204075"/>
                </a:lnTo>
                <a:lnTo>
                  <a:pt x="948" y="208405"/>
                </a:lnTo>
                <a:lnTo>
                  <a:pt x="4542" y="215756"/>
                </a:lnTo>
                <a:lnTo>
                  <a:pt x="9314" y="224739"/>
                </a:lnTo>
                <a:lnTo>
                  <a:pt x="11920" y="229801"/>
                </a:lnTo>
                <a:lnTo>
                  <a:pt x="17355" y="237966"/>
                </a:lnTo>
                <a:lnTo>
                  <a:pt x="22947" y="244769"/>
                </a:lnTo>
                <a:lnTo>
                  <a:pt x="28606" y="250968"/>
                </a:lnTo>
                <a:lnTo>
                  <a:pt x="32402" y="253955"/>
                </a:lnTo>
                <a:lnTo>
                  <a:pt x="36837" y="256899"/>
                </a:lnTo>
                <a:lnTo>
                  <a:pt x="41698" y="259813"/>
                </a:lnTo>
                <a:lnTo>
                  <a:pt x="45892" y="261756"/>
                </a:lnTo>
                <a:lnTo>
                  <a:pt x="53092" y="263916"/>
                </a:lnTo>
                <a:lnTo>
                  <a:pt x="57298" y="265444"/>
                </a:lnTo>
                <a:lnTo>
                  <a:pt x="62007" y="267415"/>
                </a:lnTo>
                <a:lnTo>
                  <a:pt x="67051" y="269682"/>
                </a:lnTo>
                <a:lnTo>
                  <a:pt x="72319" y="271193"/>
                </a:lnTo>
                <a:lnTo>
                  <a:pt x="77736" y="272201"/>
                </a:lnTo>
                <a:lnTo>
                  <a:pt x="83252" y="272872"/>
                </a:lnTo>
                <a:lnTo>
                  <a:pt x="87882" y="273320"/>
                </a:lnTo>
                <a:lnTo>
                  <a:pt x="91921" y="273618"/>
                </a:lnTo>
                <a:lnTo>
                  <a:pt x="95566" y="273818"/>
                </a:lnTo>
                <a:lnTo>
                  <a:pt x="104697" y="274039"/>
                </a:lnTo>
                <a:lnTo>
                  <a:pt x="126080" y="274181"/>
                </a:lnTo>
                <a:lnTo>
                  <a:pt x="131674" y="273240"/>
                </a:lnTo>
                <a:lnTo>
                  <a:pt x="137309" y="271660"/>
                </a:lnTo>
                <a:lnTo>
                  <a:pt x="142969" y="269654"/>
                </a:lnTo>
                <a:lnTo>
                  <a:pt x="148649" y="267365"/>
                </a:lnTo>
                <a:lnTo>
                  <a:pt x="154340" y="264886"/>
                </a:lnTo>
                <a:lnTo>
                  <a:pt x="160039" y="262281"/>
                </a:lnTo>
                <a:lnTo>
                  <a:pt x="165743" y="260544"/>
                </a:lnTo>
                <a:lnTo>
                  <a:pt x="171451" y="259386"/>
                </a:lnTo>
                <a:lnTo>
                  <a:pt x="177162" y="258614"/>
                </a:lnTo>
                <a:lnTo>
                  <a:pt x="182874" y="257147"/>
                </a:lnTo>
                <a:lnTo>
                  <a:pt x="188586" y="255217"/>
                </a:lnTo>
                <a:lnTo>
                  <a:pt x="194300" y="252977"/>
                </a:lnTo>
                <a:lnTo>
                  <a:pt x="199062" y="250532"/>
                </a:lnTo>
                <a:lnTo>
                  <a:pt x="203188" y="247949"/>
                </a:lnTo>
                <a:lnTo>
                  <a:pt x="210314" y="242539"/>
                </a:lnTo>
                <a:lnTo>
                  <a:pt x="216655" y="236959"/>
                </a:lnTo>
                <a:lnTo>
                  <a:pt x="222649" y="231305"/>
                </a:lnTo>
                <a:lnTo>
                  <a:pt x="234258" y="219914"/>
                </a:lnTo>
                <a:lnTo>
                  <a:pt x="236178" y="217060"/>
                </a:lnTo>
                <a:lnTo>
                  <a:pt x="238311" y="211348"/>
                </a:lnTo>
                <a:lnTo>
                  <a:pt x="239511" y="202777"/>
                </a:lnTo>
                <a:lnTo>
                  <a:pt x="240633" y="199920"/>
                </a:lnTo>
                <a:lnTo>
                  <a:pt x="244418" y="194206"/>
                </a:lnTo>
                <a:lnTo>
                  <a:pt x="244856" y="192301"/>
                </a:lnTo>
                <a:lnTo>
                  <a:pt x="244196" y="191031"/>
                </a:lnTo>
                <a:lnTo>
                  <a:pt x="242803" y="190184"/>
                </a:lnTo>
                <a:lnTo>
                  <a:pt x="241874" y="188667"/>
                </a:lnTo>
                <a:lnTo>
                  <a:pt x="240843" y="184442"/>
                </a:lnTo>
                <a:lnTo>
                  <a:pt x="237844" y="179389"/>
                </a:lnTo>
                <a:lnTo>
                  <a:pt x="235711" y="176708"/>
                </a:lnTo>
                <a:lnTo>
                  <a:pt x="233337" y="174920"/>
                </a:lnTo>
                <a:lnTo>
                  <a:pt x="228158" y="172934"/>
                </a:lnTo>
                <a:lnTo>
                  <a:pt x="222681" y="172052"/>
                </a:lnTo>
                <a:lnTo>
                  <a:pt x="216120" y="171660"/>
                </a:lnTo>
                <a:lnTo>
                  <a:pt x="202668" y="171439"/>
                </a:lnTo>
                <a:lnTo>
                  <a:pt x="195478" y="171387"/>
                </a:lnTo>
                <a:lnTo>
                  <a:pt x="191274" y="172325"/>
                </a:lnTo>
                <a:lnTo>
                  <a:pt x="186567" y="173904"/>
                </a:lnTo>
                <a:lnTo>
                  <a:pt x="181524" y="175909"/>
                </a:lnTo>
                <a:lnTo>
                  <a:pt x="176256" y="178198"/>
                </a:lnTo>
                <a:lnTo>
                  <a:pt x="165324" y="183281"/>
                </a:lnTo>
                <a:lnTo>
                  <a:pt x="160694" y="185970"/>
                </a:lnTo>
                <a:lnTo>
                  <a:pt x="156655" y="188715"/>
                </a:lnTo>
                <a:lnTo>
                  <a:pt x="153010" y="191498"/>
                </a:lnTo>
                <a:lnTo>
                  <a:pt x="148675" y="194305"/>
                </a:lnTo>
                <a:lnTo>
                  <a:pt x="143880" y="197130"/>
                </a:lnTo>
                <a:lnTo>
                  <a:pt x="138778" y="199965"/>
                </a:lnTo>
                <a:lnTo>
                  <a:pt x="133472" y="203760"/>
                </a:lnTo>
                <a:lnTo>
                  <a:pt x="128029" y="208195"/>
                </a:lnTo>
                <a:lnTo>
                  <a:pt x="122496" y="213057"/>
                </a:lnTo>
                <a:lnTo>
                  <a:pt x="116902" y="217251"/>
                </a:lnTo>
                <a:lnTo>
                  <a:pt x="111269" y="220999"/>
                </a:lnTo>
                <a:lnTo>
                  <a:pt x="105607" y="224451"/>
                </a:lnTo>
                <a:lnTo>
                  <a:pt x="99928" y="228656"/>
                </a:lnTo>
                <a:lnTo>
                  <a:pt x="94237" y="233366"/>
                </a:lnTo>
                <a:lnTo>
                  <a:pt x="83786" y="242725"/>
                </a:lnTo>
                <a:lnTo>
                  <a:pt x="75966" y="250059"/>
                </a:lnTo>
                <a:lnTo>
                  <a:pt x="73499" y="253349"/>
                </a:lnTo>
                <a:lnTo>
                  <a:pt x="70759" y="259544"/>
                </a:lnTo>
                <a:lnTo>
                  <a:pt x="67001" y="265472"/>
                </a:lnTo>
                <a:lnTo>
                  <a:pt x="64666" y="268387"/>
                </a:lnTo>
                <a:lnTo>
                  <a:pt x="62156" y="270330"/>
                </a:lnTo>
                <a:lnTo>
                  <a:pt x="59531" y="271625"/>
                </a:lnTo>
                <a:lnTo>
                  <a:pt x="56828" y="272489"/>
                </a:lnTo>
                <a:lnTo>
                  <a:pt x="55026" y="274017"/>
                </a:lnTo>
                <a:lnTo>
                  <a:pt x="53825" y="275988"/>
                </a:lnTo>
                <a:lnTo>
                  <a:pt x="51897" y="281445"/>
                </a:lnTo>
                <a:lnTo>
                  <a:pt x="51485" y="289396"/>
                </a:lnTo>
                <a:lnTo>
                  <a:pt x="51422" y="2913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MARTPenAnnotation571"/>
          <p:cNvSpPr/>
          <p:nvPr/>
        </p:nvSpPr>
        <p:spPr>
          <a:xfrm>
            <a:off x="4032360" y="4346640"/>
            <a:ext cx="298440" cy="792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98800" h="8573">
                <a:moveTo>
                  <a:pt x="0" y="0"/>
                </a:moveTo>
                <a:lnTo>
                  <a:pt x="20400" y="0"/>
                </a:lnTo>
                <a:lnTo>
                  <a:pt x="23125" y="953"/>
                </a:lnTo>
                <a:lnTo>
                  <a:pt x="25894" y="2540"/>
                </a:lnTo>
                <a:lnTo>
                  <a:pt x="28693" y="4551"/>
                </a:lnTo>
                <a:lnTo>
                  <a:pt x="32463" y="5891"/>
                </a:lnTo>
                <a:lnTo>
                  <a:pt x="36883" y="6785"/>
                </a:lnTo>
                <a:lnTo>
                  <a:pt x="41733" y="7381"/>
                </a:lnTo>
                <a:lnTo>
                  <a:pt x="46872" y="7778"/>
                </a:lnTo>
                <a:lnTo>
                  <a:pt x="52203" y="8043"/>
                </a:lnTo>
                <a:lnTo>
                  <a:pt x="63206" y="8337"/>
                </a:lnTo>
                <a:lnTo>
                  <a:pt x="113149" y="8564"/>
                </a:lnTo>
                <a:lnTo>
                  <a:pt x="120200" y="7614"/>
                </a:lnTo>
                <a:lnTo>
                  <a:pt x="126806" y="6028"/>
                </a:lnTo>
                <a:lnTo>
                  <a:pt x="133115" y="4019"/>
                </a:lnTo>
                <a:lnTo>
                  <a:pt x="139226" y="2679"/>
                </a:lnTo>
                <a:lnTo>
                  <a:pt x="145204" y="1786"/>
                </a:lnTo>
                <a:lnTo>
                  <a:pt x="151096" y="1191"/>
                </a:lnTo>
                <a:lnTo>
                  <a:pt x="157880" y="794"/>
                </a:lnTo>
                <a:lnTo>
                  <a:pt x="173039" y="353"/>
                </a:lnTo>
                <a:lnTo>
                  <a:pt x="239742" y="6"/>
                </a:lnTo>
                <a:lnTo>
                  <a:pt x="285328" y="0"/>
                </a:lnTo>
                <a:lnTo>
                  <a:pt x="287373" y="953"/>
                </a:lnTo>
                <a:lnTo>
                  <a:pt x="288737" y="2540"/>
                </a:lnTo>
                <a:lnTo>
                  <a:pt x="290926" y="7381"/>
                </a:lnTo>
                <a:lnTo>
                  <a:pt x="292058" y="7778"/>
                </a:lnTo>
                <a:lnTo>
                  <a:pt x="293765" y="8043"/>
                </a:lnTo>
                <a:lnTo>
                  <a:pt x="298799" y="8468"/>
                </a:lnTo>
                <a:lnTo>
                  <a:pt x="291465" y="85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MARTPenAnnotation572"/>
          <p:cNvSpPr/>
          <p:nvPr/>
        </p:nvSpPr>
        <p:spPr>
          <a:xfrm>
            <a:off x="4322880" y="4354560"/>
            <a:ext cx="2880" cy="360"/>
          </a:xfrm>
          <a:custGeom>
            <a:avLst/>
            <a:gdLst>
              <a:gd name="textAreaLeft" fmla="*/ 0 w 2880"/>
              <a:gd name="textAreaRight" fmla="*/ 3240 w 2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1" h="1">
                <a:moveTo>
                  <a:pt x="0" y="0"/>
                </a:moveTo>
                <a:lnTo>
                  <a:pt x="254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SMARTPenAnnotation573"/>
          <p:cNvSpPr/>
          <p:nvPr/>
        </p:nvSpPr>
        <p:spPr>
          <a:xfrm>
            <a:off x="4092480" y="4422600"/>
            <a:ext cx="265320" cy="27000"/>
          </a:xfrm>
          <a:custGeom>
            <a:avLst/>
            <a:gdLst>
              <a:gd name="textAreaLeft" fmla="*/ 0 w 265320"/>
              <a:gd name="textAreaRight" fmla="*/ 265680 w 2653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65748" h="25718">
                <a:moveTo>
                  <a:pt x="0" y="25717"/>
                </a:moveTo>
                <a:lnTo>
                  <a:pt x="33243" y="25717"/>
                </a:lnTo>
                <a:lnTo>
                  <a:pt x="37402" y="24765"/>
                </a:lnTo>
                <a:lnTo>
                  <a:pt x="41127" y="23177"/>
                </a:lnTo>
                <a:lnTo>
                  <a:pt x="44562" y="21167"/>
                </a:lnTo>
                <a:lnTo>
                  <a:pt x="49711" y="19826"/>
                </a:lnTo>
                <a:lnTo>
                  <a:pt x="56001" y="18932"/>
                </a:lnTo>
                <a:lnTo>
                  <a:pt x="63051" y="18336"/>
                </a:lnTo>
                <a:lnTo>
                  <a:pt x="69656" y="17939"/>
                </a:lnTo>
                <a:lnTo>
                  <a:pt x="82076" y="17498"/>
                </a:lnTo>
                <a:lnTo>
                  <a:pt x="99778" y="17249"/>
                </a:lnTo>
                <a:lnTo>
                  <a:pt x="105571" y="16262"/>
                </a:lnTo>
                <a:lnTo>
                  <a:pt x="111338" y="14652"/>
                </a:lnTo>
                <a:lnTo>
                  <a:pt x="117087" y="12625"/>
                </a:lnTo>
                <a:lnTo>
                  <a:pt x="122826" y="11274"/>
                </a:lnTo>
                <a:lnTo>
                  <a:pt x="128556" y="10374"/>
                </a:lnTo>
                <a:lnTo>
                  <a:pt x="134282" y="9773"/>
                </a:lnTo>
                <a:lnTo>
                  <a:pt x="140003" y="9373"/>
                </a:lnTo>
                <a:lnTo>
                  <a:pt x="145723" y="9106"/>
                </a:lnTo>
                <a:lnTo>
                  <a:pt x="157158" y="8810"/>
                </a:lnTo>
                <a:lnTo>
                  <a:pt x="250128" y="8572"/>
                </a:lnTo>
                <a:lnTo>
                  <a:pt x="253430" y="7620"/>
                </a:lnTo>
                <a:lnTo>
                  <a:pt x="256583" y="6032"/>
                </a:lnTo>
                <a:lnTo>
                  <a:pt x="26574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MARTPenAnnotation574"/>
          <p:cNvSpPr/>
          <p:nvPr/>
        </p:nvSpPr>
        <p:spPr>
          <a:xfrm>
            <a:off x="4735440" y="4286160"/>
            <a:ext cx="282600" cy="15840"/>
          </a:xfrm>
          <a:custGeom>
            <a:avLst/>
            <a:gdLst>
              <a:gd name="textAreaLeft" fmla="*/ 0 w 282600"/>
              <a:gd name="textAreaRight" fmla="*/ 282960 w 282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82894" h="15923">
                <a:moveTo>
                  <a:pt x="0" y="8541"/>
                </a:moveTo>
                <a:lnTo>
                  <a:pt x="12770" y="8541"/>
                </a:lnTo>
                <a:lnTo>
                  <a:pt x="15181" y="9494"/>
                </a:lnTo>
                <a:lnTo>
                  <a:pt x="17741" y="11081"/>
                </a:lnTo>
                <a:lnTo>
                  <a:pt x="20400" y="13092"/>
                </a:lnTo>
                <a:lnTo>
                  <a:pt x="24077" y="14432"/>
                </a:lnTo>
                <a:lnTo>
                  <a:pt x="28434" y="15326"/>
                </a:lnTo>
                <a:lnTo>
                  <a:pt x="33243" y="15922"/>
                </a:lnTo>
                <a:lnTo>
                  <a:pt x="37403" y="15367"/>
                </a:lnTo>
                <a:lnTo>
                  <a:pt x="41127" y="14044"/>
                </a:lnTo>
                <a:lnTo>
                  <a:pt x="44563" y="12210"/>
                </a:lnTo>
                <a:lnTo>
                  <a:pt x="48759" y="10987"/>
                </a:lnTo>
                <a:lnTo>
                  <a:pt x="53461" y="10172"/>
                </a:lnTo>
                <a:lnTo>
                  <a:pt x="58500" y="9628"/>
                </a:lnTo>
                <a:lnTo>
                  <a:pt x="63765" y="9266"/>
                </a:lnTo>
                <a:lnTo>
                  <a:pt x="69180" y="9024"/>
                </a:lnTo>
                <a:lnTo>
                  <a:pt x="80277" y="8756"/>
                </a:lnTo>
                <a:lnTo>
                  <a:pt x="125741" y="8549"/>
                </a:lnTo>
                <a:lnTo>
                  <a:pt x="131452" y="7594"/>
                </a:lnTo>
                <a:lnTo>
                  <a:pt x="137165" y="6005"/>
                </a:lnTo>
                <a:lnTo>
                  <a:pt x="142878" y="3993"/>
                </a:lnTo>
                <a:lnTo>
                  <a:pt x="148592" y="2651"/>
                </a:lnTo>
                <a:lnTo>
                  <a:pt x="154307" y="1757"/>
                </a:lnTo>
                <a:lnTo>
                  <a:pt x="160021" y="1161"/>
                </a:lnTo>
                <a:lnTo>
                  <a:pt x="165736" y="764"/>
                </a:lnTo>
                <a:lnTo>
                  <a:pt x="171451" y="499"/>
                </a:lnTo>
                <a:lnTo>
                  <a:pt x="182880" y="204"/>
                </a:lnTo>
                <a:lnTo>
                  <a:pt x="211455" y="0"/>
                </a:lnTo>
                <a:lnTo>
                  <a:pt x="216218" y="942"/>
                </a:lnTo>
                <a:lnTo>
                  <a:pt x="220345" y="2523"/>
                </a:lnTo>
                <a:lnTo>
                  <a:pt x="224049" y="4529"/>
                </a:lnTo>
                <a:lnTo>
                  <a:pt x="228424" y="5866"/>
                </a:lnTo>
                <a:lnTo>
                  <a:pt x="233245" y="6758"/>
                </a:lnTo>
                <a:lnTo>
                  <a:pt x="238364" y="7352"/>
                </a:lnTo>
                <a:lnTo>
                  <a:pt x="243682" y="7749"/>
                </a:lnTo>
                <a:lnTo>
                  <a:pt x="249132" y="8013"/>
                </a:lnTo>
                <a:lnTo>
                  <a:pt x="263365" y="8385"/>
                </a:lnTo>
                <a:lnTo>
                  <a:pt x="282893" y="85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SMARTPenAnnotation575"/>
          <p:cNvSpPr/>
          <p:nvPr/>
        </p:nvSpPr>
        <p:spPr>
          <a:xfrm>
            <a:off x="5094360" y="4157640"/>
            <a:ext cx="27000" cy="257040"/>
          </a:xfrm>
          <a:custGeom>
            <a:avLst/>
            <a:gdLst>
              <a:gd name="textAreaLeft" fmla="*/ 0 w 27000"/>
              <a:gd name="textAreaRight" fmla="*/ 27360 w 270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5615" h="257176">
                <a:moveTo>
                  <a:pt x="17041" y="0"/>
                </a:moveTo>
                <a:lnTo>
                  <a:pt x="17041" y="20151"/>
                </a:lnTo>
                <a:lnTo>
                  <a:pt x="16089" y="22959"/>
                </a:lnTo>
                <a:lnTo>
                  <a:pt x="14501" y="25784"/>
                </a:lnTo>
                <a:lnTo>
                  <a:pt x="12490" y="28619"/>
                </a:lnTo>
                <a:lnTo>
                  <a:pt x="11149" y="32415"/>
                </a:lnTo>
                <a:lnTo>
                  <a:pt x="10256" y="36850"/>
                </a:lnTo>
                <a:lnTo>
                  <a:pt x="9660" y="41711"/>
                </a:lnTo>
                <a:lnTo>
                  <a:pt x="8998" y="49654"/>
                </a:lnTo>
                <a:lnTo>
                  <a:pt x="8822" y="53105"/>
                </a:lnTo>
                <a:lnTo>
                  <a:pt x="8626" y="64560"/>
                </a:lnTo>
                <a:lnTo>
                  <a:pt x="8499" y="90646"/>
                </a:lnTo>
                <a:lnTo>
                  <a:pt x="7536" y="95673"/>
                </a:lnTo>
                <a:lnTo>
                  <a:pt x="5942" y="99977"/>
                </a:lnTo>
                <a:lnTo>
                  <a:pt x="3927" y="103799"/>
                </a:lnTo>
                <a:lnTo>
                  <a:pt x="2583" y="108252"/>
                </a:lnTo>
                <a:lnTo>
                  <a:pt x="1688" y="113126"/>
                </a:lnTo>
                <a:lnTo>
                  <a:pt x="1090" y="118279"/>
                </a:lnTo>
                <a:lnTo>
                  <a:pt x="692" y="123620"/>
                </a:lnTo>
                <a:lnTo>
                  <a:pt x="427" y="129086"/>
                </a:lnTo>
                <a:lnTo>
                  <a:pt x="132" y="141192"/>
                </a:lnTo>
                <a:lnTo>
                  <a:pt x="0" y="156097"/>
                </a:lnTo>
                <a:lnTo>
                  <a:pt x="918" y="162167"/>
                </a:lnTo>
                <a:lnTo>
                  <a:pt x="2483" y="167167"/>
                </a:lnTo>
                <a:lnTo>
                  <a:pt x="4478" y="171452"/>
                </a:lnTo>
                <a:lnTo>
                  <a:pt x="5808" y="176214"/>
                </a:lnTo>
                <a:lnTo>
                  <a:pt x="6695" y="181294"/>
                </a:lnTo>
                <a:lnTo>
                  <a:pt x="7286" y="186585"/>
                </a:lnTo>
                <a:lnTo>
                  <a:pt x="7681" y="191065"/>
                </a:lnTo>
                <a:lnTo>
                  <a:pt x="8118" y="198583"/>
                </a:lnTo>
                <a:lnTo>
                  <a:pt x="8313" y="207639"/>
                </a:lnTo>
                <a:lnTo>
                  <a:pt x="8365" y="212721"/>
                </a:lnTo>
                <a:lnTo>
                  <a:pt x="9352" y="217062"/>
                </a:lnTo>
                <a:lnTo>
                  <a:pt x="10962" y="220908"/>
                </a:lnTo>
                <a:lnTo>
                  <a:pt x="12988" y="224425"/>
                </a:lnTo>
                <a:lnTo>
                  <a:pt x="14340" y="227721"/>
                </a:lnTo>
                <a:lnTo>
                  <a:pt x="15240" y="230872"/>
                </a:lnTo>
                <a:lnTo>
                  <a:pt x="15841" y="233924"/>
                </a:lnTo>
                <a:lnTo>
                  <a:pt x="16507" y="239857"/>
                </a:lnTo>
                <a:lnTo>
                  <a:pt x="16936" y="246875"/>
                </a:lnTo>
                <a:lnTo>
                  <a:pt x="17923" y="248403"/>
                </a:lnTo>
                <a:lnTo>
                  <a:pt x="19534" y="250375"/>
                </a:lnTo>
                <a:lnTo>
                  <a:pt x="25614" y="2571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MARTPenAnnotation576"/>
          <p:cNvSpPr/>
          <p:nvPr/>
        </p:nvSpPr>
        <p:spPr>
          <a:xfrm>
            <a:off x="5240160" y="4175280"/>
            <a:ext cx="206640" cy="204480"/>
          </a:xfrm>
          <a:custGeom>
            <a:avLst/>
            <a:gdLst>
              <a:gd name="textAreaLeft" fmla="*/ 0 w 206640"/>
              <a:gd name="textAreaRight" fmla="*/ 207000 w 206640"/>
              <a:gd name="textAreaTop" fmla="*/ 0 h 204480"/>
              <a:gd name="textAreaBottom" fmla="*/ 204840 h 204480"/>
            </a:gdLst>
            <a:ahLst/>
            <a:rect l="textAreaLeft" t="textAreaTop" r="textAreaRight" b="textAreaBottom"/>
            <a:pathLst>
              <a:path w="205577" h="205697">
                <a:moveTo>
                  <a:pt x="34279" y="0"/>
                </a:moveTo>
                <a:lnTo>
                  <a:pt x="25716" y="0"/>
                </a:lnTo>
                <a:lnTo>
                  <a:pt x="25707" y="11932"/>
                </a:lnTo>
                <a:lnTo>
                  <a:pt x="24754" y="14622"/>
                </a:lnTo>
                <a:lnTo>
                  <a:pt x="21155" y="20151"/>
                </a:lnTo>
                <a:lnTo>
                  <a:pt x="18921" y="25784"/>
                </a:lnTo>
                <a:lnTo>
                  <a:pt x="18325" y="28619"/>
                </a:lnTo>
                <a:lnTo>
                  <a:pt x="16975" y="32415"/>
                </a:lnTo>
                <a:lnTo>
                  <a:pt x="15123" y="36850"/>
                </a:lnTo>
                <a:lnTo>
                  <a:pt x="12936" y="41711"/>
                </a:lnTo>
                <a:lnTo>
                  <a:pt x="10525" y="45905"/>
                </a:lnTo>
                <a:lnTo>
                  <a:pt x="7965" y="49654"/>
                </a:lnTo>
                <a:lnTo>
                  <a:pt x="5307" y="53105"/>
                </a:lnTo>
                <a:lnTo>
                  <a:pt x="3534" y="57311"/>
                </a:lnTo>
                <a:lnTo>
                  <a:pt x="2352" y="62020"/>
                </a:lnTo>
                <a:lnTo>
                  <a:pt x="1564" y="67064"/>
                </a:lnTo>
                <a:lnTo>
                  <a:pt x="1039" y="72332"/>
                </a:lnTo>
                <a:lnTo>
                  <a:pt x="689" y="77749"/>
                </a:lnTo>
                <a:lnTo>
                  <a:pt x="456" y="83265"/>
                </a:lnTo>
                <a:lnTo>
                  <a:pt x="196" y="94475"/>
                </a:lnTo>
                <a:lnTo>
                  <a:pt x="0" y="134313"/>
                </a:lnTo>
                <a:lnTo>
                  <a:pt x="949" y="140025"/>
                </a:lnTo>
                <a:lnTo>
                  <a:pt x="2534" y="145737"/>
                </a:lnTo>
                <a:lnTo>
                  <a:pt x="4543" y="151451"/>
                </a:lnTo>
                <a:lnTo>
                  <a:pt x="6835" y="156212"/>
                </a:lnTo>
                <a:lnTo>
                  <a:pt x="9315" y="160339"/>
                </a:lnTo>
                <a:lnTo>
                  <a:pt x="11922" y="164043"/>
                </a:lnTo>
                <a:lnTo>
                  <a:pt x="13659" y="167464"/>
                </a:lnTo>
                <a:lnTo>
                  <a:pt x="15589" y="173806"/>
                </a:lnTo>
                <a:lnTo>
                  <a:pt x="18987" y="179800"/>
                </a:lnTo>
                <a:lnTo>
                  <a:pt x="23672" y="185639"/>
                </a:lnTo>
                <a:lnTo>
                  <a:pt x="28930" y="191409"/>
                </a:lnTo>
                <a:lnTo>
                  <a:pt x="32618" y="194281"/>
                </a:lnTo>
                <a:lnTo>
                  <a:pt x="36982" y="197148"/>
                </a:lnTo>
                <a:lnTo>
                  <a:pt x="41795" y="200012"/>
                </a:lnTo>
                <a:lnTo>
                  <a:pt x="45957" y="201921"/>
                </a:lnTo>
                <a:lnTo>
                  <a:pt x="49684" y="203194"/>
                </a:lnTo>
                <a:lnTo>
                  <a:pt x="53122" y="204043"/>
                </a:lnTo>
                <a:lnTo>
                  <a:pt x="59481" y="204986"/>
                </a:lnTo>
                <a:lnTo>
                  <a:pt x="62510" y="205237"/>
                </a:lnTo>
                <a:lnTo>
                  <a:pt x="66434" y="205405"/>
                </a:lnTo>
                <a:lnTo>
                  <a:pt x="80107" y="205641"/>
                </a:lnTo>
                <a:lnTo>
                  <a:pt x="87350" y="205696"/>
                </a:lnTo>
                <a:lnTo>
                  <a:pt x="91567" y="204758"/>
                </a:lnTo>
                <a:lnTo>
                  <a:pt x="96283" y="203180"/>
                </a:lnTo>
                <a:lnTo>
                  <a:pt x="101332" y="201176"/>
                </a:lnTo>
                <a:lnTo>
                  <a:pt x="106604" y="198888"/>
                </a:lnTo>
                <a:lnTo>
                  <a:pt x="117541" y="193805"/>
                </a:lnTo>
                <a:lnTo>
                  <a:pt x="122171" y="191116"/>
                </a:lnTo>
                <a:lnTo>
                  <a:pt x="126212" y="188371"/>
                </a:lnTo>
                <a:lnTo>
                  <a:pt x="129857" y="185588"/>
                </a:lnTo>
                <a:lnTo>
                  <a:pt x="133240" y="182780"/>
                </a:lnTo>
                <a:lnTo>
                  <a:pt x="139539" y="177121"/>
                </a:lnTo>
                <a:lnTo>
                  <a:pt x="148053" y="168891"/>
                </a:lnTo>
                <a:lnTo>
                  <a:pt x="169042" y="148084"/>
                </a:lnTo>
                <a:lnTo>
                  <a:pt x="173651" y="142538"/>
                </a:lnTo>
                <a:lnTo>
                  <a:pt x="177676" y="136936"/>
                </a:lnTo>
                <a:lnTo>
                  <a:pt x="181312" y="131295"/>
                </a:lnTo>
                <a:lnTo>
                  <a:pt x="184688" y="126583"/>
                </a:lnTo>
                <a:lnTo>
                  <a:pt x="187892" y="122489"/>
                </a:lnTo>
                <a:lnTo>
                  <a:pt x="190980" y="118806"/>
                </a:lnTo>
                <a:lnTo>
                  <a:pt x="193991" y="114447"/>
                </a:lnTo>
                <a:lnTo>
                  <a:pt x="196951" y="109635"/>
                </a:lnTo>
                <a:lnTo>
                  <a:pt x="199877" y="104523"/>
                </a:lnTo>
                <a:lnTo>
                  <a:pt x="201827" y="100162"/>
                </a:lnTo>
                <a:lnTo>
                  <a:pt x="203128" y="96302"/>
                </a:lnTo>
                <a:lnTo>
                  <a:pt x="203995" y="92777"/>
                </a:lnTo>
                <a:lnTo>
                  <a:pt x="204573" y="89473"/>
                </a:lnTo>
                <a:lnTo>
                  <a:pt x="205215" y="83264"/>
                </a:lnTo>
                <a:lnTo>
                  <a:pt x="205500" y="77329"/>
                </a:lnTo>
                <a:lnTo>
                  <a:pt x="205576" y="74412"/>
                </a:lnTo>
                <a:lnTo>
                  <a:pt x="204675" y="71515"/>
                </a:lnTo>
                <a:lnTo>
                  <a:pt x="201132" y="65757"/>
                </a:lnTo>
                <a:lnTo>
                  <a:pt x="196383" y="60023"/>
                </a:lnTo>
                <a:lnTo>
                  <a:pt x="191098" y="54299"/>
                </a:lnTo>
                <a:lnTo>
                  <a:pt x="185573" y="48580"/>
                </a:lnTo>
                <a:lnTo>
                  <a:pt x="181815" y="46675"/>
                </a:lnTo>
                <a:lnTo>
                  <a:pt x="177403" y="45404"/>
                </a:lnTo>
                <a:lnTo>
                  <a:pt x="172558" y="44557"/>
                </a:lnTo>
                <a:lnTo>
                  <a:pt x="167422" y="43039"/>
                </a:lnTo>
                <a:lnTo>
                  <a:pt x="162093" y="41075"/>
                </a:lnTo>
                <a:lnTo>
                  <a:pt x="156636" y="38814"/>
                </a:lnTo>
                <a:lnTo>
                  <a:pt x="151093" y="37306"/>
                </a:lnTo>
                <a:lnTo>
                  <a:pt x="145492" y="36301"/>
                </a:lnTo>
                <a:lnTo>
                  <a:pt x="139854" y="35630"/>
                </a:lnTo>
                <a:lnTo>
                  <a:pt x="134189" y="35184"/>
                </a:lnTo>
                <a:lnTo>
                  <a:pt x="128508" y="34886"/>
                </a:lnTo>
                <a:lnTo>
                  <a:pt x="117116" y="34555"/>
                </a:lnTo>
                <a:lnTo>
                  <a:pt x="76962" y="34313"/>
                </a:lnTo>
                <a:lnTo>
                  <a:pt x="8561" y="342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SMARTPenAnnotation577"/>
          <p:cNvSpPr/>
          <p:nvPr/>
        </p:nvSpPr>
        <p:spPr>
          <a:xfrm>
            <a:off x="5600880" y="4165560"/>
            <a:ext cx="264960" cy="17640"/>
          </a:xfrm>
          <a:custGeom>
            <a:avLst/>
            <a:gdLst>
              <a:gd name="textAreaLeft" fmla="*/ 0 w 264960"/>
              <a:gd name="textAreaRight" fmla="*/ 265320 w 2649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65748" h="17041">
                <a:moveTo>
                  <a:pt x="0" y="8572"/>
                </a:moveTo>
                <a:lnTo>
                  <a:pt x="20151" y="8572"/>
                </a:lnTo>
                <a:lnTo>
                  <a:pt x="23911" y="9525"/>
                </a:lnTo>
                <a:lnTo>
                  <a:pt x="28323" y="11112"/>
                </a:lnTo>
                <a:lnTo>
                  <a:pt x="33170" y="13123"/>
                </a:lnTo>
                <a:lnTo>
                  <a:pt x="37353" y="14463"/>
                </a:lnTo>
                <a:lnTo>
                  <a:pt x="41095" y="15357"/>
                </a:lnTo>
                <a:lnTo>
                  <a:pt x="44541" y="15953"/>
                </a:lnTo>
                <a:lnTo>
                  <a:pt x="48744" y="16350"/>
                </a:lnTo>
                <a:lnTo>
                  <a:pt x="53451" y="16615"/>
                </a:lnTo>
                <a:lnTo>
                  <a:pt x="63761" y="16909"/>
                </a:lnTo>
                <a:lnTo>
                  <a:pt x="74693" y="17040"/>
                </a:lnTo>
                <a:lnTo>
                  <a:pt x="80275" y="16122"/>
                </a:lnTo>
                <a:lnTo>
                  <a:pt x="85902" y="14558"/>
                </a:lnTo>
                <a:lnTo>
                  <a:pt x="91558" y="12563"/>
                </a:lnTo>
                <a:lnTo>
                  <a:pt x="98186" y="11233"/>
                </a:lnTo>
                <a:lnTo>
                  <a:pt x="105462" y="10346"/>
                </a:lnTo>
                <a:lnTo>
                  <a:pt x="113170" y="9755"/>
                </a:lnTo>
                <a:lnTo>
                  <a:pt x="120214" y="9360"/>
                </a:lnTo>
                <a:lnTo>
                  <a:pt x="133121" y="8922"/>
                </a:lnTo>
                <a:lnTo>
                  <a:pt x="139229" y="7853"/>
                </a:lnTo>
                <a:lnTo>
                  <a:pt x="145207" y="6188"/>
                </a:lnTo>
                <a:lnTo>
                  <a:pt x="151097" y="4125"/>
                </a:lnTo>
                <a:lnTo>
                  <a:pt x="156928" y="2750"/>
                </a:lnTo>
                <a:lnTo>
                  <a:pt x="162722" y="1833"/>
                </a:lnTo>
                <a:lnTo>
                  <a:pt x="168488" y="1222"/>
                </a:lnTo>
                <a:lnTo>
                  <a:pt x="174238" y="815"/>
                </a:lnTo>
                <a:lnTo>
                  <a:pt x="179976" y="543"/>
                </a:lnTo>
                <a:lnTo>
                  <a:pt x="191431" y="241"/>
                </a:lnTo>
                <a:lnTo>
                  <a:pt x="26574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SMARTPenAnnotation578"/>
          <p:cNvSpPr/>
          <p:nvPr/>
        </p:nvSpPr>
        <p:spPr>
          <a:xfrm>
            <a:off x="5711760" y="4071960"/>
            <a:ext cx="47520" cy="249120"/>
          </a:xfrm>
          <a:custGeom>
            <a:avLst/>
            <a:gdLst>
              <a:gd name="textAreaLeft" fmla="*/ 0 w 47520"/>
              <a:gd name="textAreaRight" fmla="*/ 47880 w 475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47696" h="248604">
                <a:moveTo>
                  <a:pt x="8468" y="0"/>
                </a:moveTo>
                <a:lnTo>
                  <a:pt x="248" y="0"/>
                </a:lnTo>
                <a:lnTo>
                  <a:pt x="0" y="4551"/>
                </a:lnTo>
                <a:lnTo>
                  <a:pt x="917" y="5892"/>
                </a:lnTo>
                <a:lnTo>
                  <a:pt x="2482" y="6785"/>
                </a:lnTo>
                <a:lnTo>
                  <a:pt x="4477" y="7381"/>
                </a:lnTo>
                <a:lnTo>
                  <a:pt x="5807" y="8731"/>
                </a:lnTo>
                <a:lnTo>
                  <a:pt x="6694" y="10583"/>
                </a:lnTo>
                <a:lnTo>
                  <a:pt x="7286" y="12771"/>
                </a:lnTo>
                <a:lnTo>
                  <a:pt x="8632" y="16134"/>
                </a:lnTo>
                <a:lnTo>
                  <a:pt x="10482" y="20281"/>
                </a:lnTo>
                <a:lnTo>
                  <a:pt x="12669" y="24950"/>
                </a:lnTo>
                <a:lnTo>
                  <a:pt x="14125" y="29016"/>
                </a:lnTo>
                <a:lnTo>
                  <a:pt x="15097" y="32679"/>
                </a:lnTo>
                <a:lnTo>
                  <a:pt x="16176" y="40241"/>
                </a:lnTo>
                <a:lnTo>
                  <a:pt x="16464" y="44926"/>
                </a:lnTo>
                <a:lnTo>
                  <a:pt x="16656" y="49953"/>
                </a:lnTo>
                <a:lnTo>
                  <a:pt x="17736" y="54257"/>
                </a:lnTo>
                <a:lnTo>
                  <a:pt x="19410" y="58079"/>
                </a:lnTo>
                <a:lnTo>
                  <a:pt x="21477" y="61579"/>
                </a:lnTo>
                <a:lnTo>
                  <a:pt x="23809" y="65818"/>
                </a:lnTo>
                <a:lnTo>
                  <a:pt x="28938" y="75607"/>
                </a:lnTo>
                <a:lnTo>
                  <a:pt x="30687" y="80885"/>
                </a:lnTo>
                <a:lnTo>
                  <a:pt x="31853" y="86308"/>
                </a:lnTo>
                <a:lnTo>
                  <a:pt x="32631" y="91829"/>
                </a:lnTo>
                <a:lnTo>
                  <a:pt x="34101" y="97415"/>
                </a:lnTo>
                <a:lnTo>
                  <a:pt x="36034" y="103043"/>
                </a:lnTo>
                <a:lnTo>
                  <a:pt x="38276" y="108700"/>
                </a:lnTo>
                <a:lnTo>
                  <a:pt x="39769" y="114377"/>
                </a:lnTo>
                <a:lnTo>
                  <a:pt x="40766" y="120066"/>
                </a:lnTo>
                <a:lnTo>
                  <a:pt x="41430" y="125764"/>
                </a:lnTo>
                <a:lnTo>
                  <a:pt x="41872" y="131468"/>
                </a:lnTo>
                <a:lnTo>
                  <a:pt x="42167" y="137175"/>
                </a:lnTo>
                <a:lnTo>
                  <a:pt x="42495" y="148597"/>
                </a:lnTo>
                <a:lnTo>
                  <a:pt x="42742" y="188595"/>
                </a:lnTo>
                <a:lnTo>
                  <a:pt x="42754" y="206904"/>
                </a:lnTo>
                <a:lnTo>
                  <a:pt x="43708" y="211279"/>
                </a:lnTo>
                <a:lnTo>
                  <a:pt x="45296" y="216100"/>
                </a:lnTo>
                <a:lnTo>
                  <a:pt x="47308" y="221219"/>
                </a:lnTo>
                <a:lnTo>
                  <a:pt x="47695" y="224632"/>
                </a:lnTo>
                <a:lnTo>
                  <a:pt x="47003" y="226907"/>
                </a:lnTo>
                <a:lnTo>
                  <a:pt x="45587" y="228424"/>
                </a:lnTo>
                <a:lnTo>
                  <a:pt x="44644" y="230387"/>
                </a:lnTo>
                <a:lnTo>
                  <a:pt x="43596" y="235109"/>
                </a:lnTo>
                <a:lnTo>
                  <a:pt x="43130" y="240383"/>
                </a:lnTo>
                <a:lnTo>
                  <a:pt x="42757" y="2486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MARTPenAnnotation579"/>
          <p:cNvSpPr/>
          <p:nvPr/>
        </p:nvSpPr>
        <p:spPr>
          <a:xfrm>
            <a:off x="5583240" y="4354560"/>
            <a:ext cx="325440" cy="25200"/>
          </a:xfrm>
          <a:custGeom>
            <a:avLst/>
            <a:gdLst>
              <a:gd name="textAreaLeft" fmla="*/ 0 w 325440"/>
              <a:gd name="textAreaRight" fmla="*/ 325800 w 3254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25756" h="25719">
                <a:moveTo>
                  <a:pt x="0" y="25718"/>
                </a:moveTo>
                <a:lnTo>
                  <a:pt x="7382" y="25718"/>
                </a:lnTo>
                <a:lnTo>
                  <a:pt x="8731" y="24766"/>
                </a:lnTo>
                <a:lnTo>
                  <a:pt x="10584" y="23178"/>
                </a:lnTo>
                <a:lnTo>
                  <a:pt x="12771" y="21167"/>
                </a:lnTo>
                <a:lnTo>
                  <a:pt x="15182" y="19827"/>
                </a:lnTo>
                <a:lnTo>
                  <a:pt x="17742" y="18933"/>
                </a:lnTo>
                <a:lnTo>
                  <a:pt x="20400" y="18337"/>
                </a:lnTo>
                <a:lnTo>
                  <a:pt x="28435" y="17675"/>
                </a:lnTo>
                <a:lnTo>
                  <a:pt x="38355" y="17381"/>
                </a:lnTo>
                <a:lnTo>
                  <a:pt x="65882" y="17177"/>
                </a:lnTo>
                <a:lnTo>
                  <a:pt x="72497" y="16214"/>
                </a:lnTo>
                <a:lnTo>
                  <a:pt x="79764" y="14619"/>
                </a:lnTo>
                <a:lnTo>
                  <a:pt x="87466" y="12604"/>
                </a:lnTo>
                <a:lnTo>
                  <a:pt x="94506" y="11260"/>
                </a:lnTo>
                <a:lnTo>
                  <a:pt x="101104" y="10365"/>
                </a:lnTo>
                <a:lnTo>
                  <a:pt x="107408" y="9767"/>
                </a:lnTo>
                <a:lnTo>
                  <a:pt x="114468" y="9369"/>
                </a:lnTo>
                <a:lnTo>
                  <a:pt x="129933" y="8927"/>
                </a:lnTo>
                <a:lnTo>
                  <a:pt x="138057" y="7857"/>
                </a:lnTo>
                <a:lnTo>
                  <a:pt x="146331" y="6190"/>
                </a:lnTo>
                <a:lnTo>
                  <a:pt x="154704" y="4127"/>
                </a:lnTo>
                <a:lnTo>
                  <a:pt x="162191" y="2752"/>
                </a:lnTo>
                <a:lnTo>
                  <a:pt x="169088" y="1835"/>
                </a:lnTo>
                <a:lnTo>
                  <a:pt x="175590" y="1223"/>
                </a:lnTo>
                <a:lnTo>
                  <a:pt x="181831" y="816"/>
                </a:lnTo>
                <a:lnTo>
                  <a:pt x="187896" y="544"/>
                </a:lnTo>
                <a:lnTo>
                  <a:pt x="200667" y="242"/>
                </a:lnTo>
                <a:lnTo>
                  <a:pt x="32575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MARTPenAnnotation580"/>
          <p:cNvSpPr/>
          <p:nvPr/>
        </p:nvSpPr>
        <p:spPr>
          <a:xfrm>
            <a:off x="5969160" y="4003560"/>
            <a:ext cx="1431720" cy="376200"/>
          </a:xfrm>
          <a:custGeom>
            <a:avLst/>
            <a:gdLst>
              <a:gd name="textAreaLeft" fmla="*/ 0 w 1431720"/>
              <a:gd name="textAreaRight" fmla="*/ 1432080 w 14317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431609" h="376825">
                <a:moveTo>
                  <a:pt x="0" y="231458"/>
                </a:moveTo>
                <a:lnTo>
                  <a:pt x="0" y="238839"/>
                </a:lnTo>
                <a:lnTo>
                  <a:pt x="5891" y="246639"/>
                </a:lnTo>
                <a:lnTo>
                  <a:pt x="8730" y="254583"/>
                </a:lnTo>
                <a:lnTo>
                  <a:pt x="17741" y="265800"/>
                </a:lnTo>
                <a:lnTo>
                  <a:pt x="28693" y="277188"/>
                </a:lnTo>
                <a:lnTo>
                  <a:pt x="53111" y="301705"/>
                </a:lnTo>
                <a:lnTo>
                  <a:pt x="59483" y="310621"/>
                </a:lnTo>
                <a:lnTo>
                  <a:pt x="62515" y="315666"/>
                </a:lnTo>
                <a:lnTo>
                  <a:pt x="70964" y="323811"/>
                </a:lnTo>
                <a:lnTo>
                  <a:pt x="86432" y="333751"/>
                </a:lnTo>
                <a:lnTo>
                  <a:pt x="100540" y="342730"/>
                </a:lnTo>
                <a:lnTo>
                  <a:pt x="113839" y="354296"/>
                </a:lnTo>
                <a:lnTo>
                  <a:pt x="127287" y="362893"/>
                </a:lnTo>
                <a:lnTo>
                  <a:pt x="135312" y="366073"/>
                </a:lnTo>
                <a:lnTo>
                  <a:pt x="145185" y="367864"/>
                </a:lnTo>
                <a:lnTo>
                  <a:pt x="148225" y="368115"/>
                </a:lnTo>
                <a:lnTo>
                  <a:pt x="151204" y="369235"/>
                </a:lnTo>
                <a:lnTo>
                  <a:pt x="162366" y="376824"/>
                </a:lnTo>
                <a:lnTo>
                  <a:pt x="162650" y="374487"/>
                </a:lnTo>
                <a:lnTo>
                  <a:pt x="162864" y="364410"/>
                </a:lnTo>
                <a:lnTo>
                  <a:pt x="162878" y="328076"/>
                </a:lnTo>
                <a:lnTo>
                  <a:pt x="161925" y="323492"/>
                </a:lnTo>
                <a:lnTo>
                  <a:pt x="158326" y="315859"/>
                </a:lnTo>
                <a:lnTo>
                  <a:pt x="153553" y="304212"/>
                </a:lnTo>
                <a:lnTo>
                  <a:pt x="150946" y="297106"/>
                </a:lnTo>
                <a:lnTo>
                  <a:pt x="149208" y="290463"/>
                </a:lnTo>
                <a:lnTo>
                  <a:pt x="148050" y="284130"/>
                </a:lnTo>
                <a:lnTo>
                  <a:pt x="147277" y="278002"/>
                </a:lnTo>
                <a:lnTo>
                  <a:pt x="145810" y="272013"/>
                </a:lnTo>
                <a:lnTo>
                  <a:pt x="141639" y="260277"/>
                </a:lnTo>
                <a:lnTo>
                  <a:pt x="140146" y="253528"/>
                </a:lnTo>
                <a:lnTo>
                  <a:pt x="139151" y="246171"/>
                </a:lnTo>
                <a:lnTo>
                  <a:pt x="138488" y="238409"/>
                </a:lnTo>
                <a:lnTo>
                  <a:pt x="137092" y="231329"/>
                </a:lnTo>
                <a:lnTo>
                  <a:pt x="135210" y="224705"/>
                </a:lnTo>
                <a:lnTo>
                  <a:pt x="133002" y="218383"/>
                </a:lnTo>
                <a:lnTo>
                  <a:pt x="131531" y="211311"/>
                </a:lnTo>
                <a:lnTo>
                  <a:pt x="130550" y="203739"/>
                </a:lnTo>
                <a:lnTo>
                  <a:pt x="129895" y="195833"/>
                </a:lnTo>
                <a:lnTo>
                  <a:pt x="129460" y="188658"/>
                </a:lnTo>
                <a:lnTo>
                  <a:pt x="128975" y="175606"/>
                </a:lnTo>
                <a:lnTo>
                  <a:pt x="128702" y="157547"/>
                </a:lnTo>
                <a:lnTo>
                  <a:pt x="128588" y="91589"/>
                </a:lnTo>
                <a:lnTo>
                  <a:pt x="129540" y="89635"/>
                </a:lnTo>
                <a:lnTo>
                  <a:pt x="131128" y="88332"/>
                </a:lnTo>
                <a:lnTo>
                  <a:pt x="133138" y="87463"/>
                </a:lnTo>
                <a:lnTo>
                  <a:pt x="143209" y="80177"/>
                </a:lnTo>
                <a:lnTo>
                  <a:pt x="166893" y="71527"/>
                </a:lnTo>
                <a:lnTo>
                  <a:pt x="182271" y="68501"/>
                </a:lnTo>
                <a:lnTo>
                  <a:pt x="189912" y="64417"/>
                </a:lnTo>
                <a:lnTo>
                  <a:pt x="201563" y="61968"/>
                </a:lnTo>
                <a:lnTo>
                  <a:pt x="215314" y="59926"/>
                </a:lnTo>
                <a:lnTo>
                  <a:pt x="235670" y="54374"/>
                </a:lnTo>
                <a:lnTo>
                  <a:pt x="273177" y="52016"/>
                </a:lnTo>
                <a:lnTo>
                  <a:pt x="290957" y="50740"/>
                </a:lnTo>
                <a:lnTo>
                  <a:pt x="328195" y="44701"/>
                </a:lnTo>
                <a:lnTo>
                  <a:pt x="371957" y="38675"/>
                </a:lnTo>
                <a:lnTo>
                  <a:pt x="405908" y="35589"/>
                </a:lnTo>
                <a:lnTo>
                  <a:pt x="444648" y="34675"/>
                </a:lnTo>
                <a:lnTo>
                  <a:pt x="481738" y="29853"/>
                </a:lnTo>
                <a:lnTo>
                  <a:pt x="521409" y="26943"/>
                </a:lnTo>
                <a:lnTo>
                  <a:pt x="563326" y="26081"/>
                </a:lnTo>
                <a:lnTo>
                  <a:pt x="605908" y="21274"/>
                </a:lnTo>
                <a:lnTo>
                  <a:pt x="648688" y="18369"/>
                </a:lnTo>
                <a:lnTo>
                  <a:pt x="679783" y="17689"/>
                </a:lnTo>
                <a:lnTo>
                  <a:pt x="711701" y="16434"/>
                </a:lnTo>
                <a:lnTo>
                  <a:pt x="741761" y="12702"/>
                </a:lnTo>
                <a:lnTo>
                  <a:pt x="773537" y="10408"/>
                </a:lnTo>
                <a:lnTo>
                  <a:pt x="805757" y="9388"/>
                </a:lnTo>
                <a:lnTo>
                  <a:pt x="879726" y="8680"/>
                </a:lnTo>
                <a:lnTo>
                  <a:pt x="911055" y="6080"/>
                </a:lnTo>
                <a:lnTo>
                  <a:pt x="943076" y="2702"/>
                </a:lnTo>
                <a:lnTo>
                  <a:pt x="973182" y="1202"/>
                </a:lnTo>
                <a:lnTo>
                  <a:pt x="1016907" y="356"/>
                </a:lnTo>
                <a:lnTo>
                  <a:pt x="1368207" y="0"/>
                </a:lnTo>
                <a:lnTo>
                  <a:pt x="1373148" y="953"/>
                </a:lnTo>
                <a:lnTo>
                  <a:pt x="1387922" y="6785"/>
                </a:lnTo>
                <a:lnTo>
                  <a:pt x="1400013" y="8219"/>
                </a:lnTo>
                <a:lnTo>
                  <a:pt x="1431608" y="85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MARTPenAnnotation581"/>
          <p:cNvSpPr/>
          <p:nvPr/>
        </p:nvSpPr>
        <p:spPr>
          <a:xfrm>
            <a:off x="6294600" y="4097160"/>
            <a:ext cx="69840" cy="249480"/>
          </a:xfrm>
          <a:custGeom>
            <a:avLst/>
            <a:gdLst>
              <a:gd name="textAreaLeft" fmla="*/ 0 w 69840"/>
              <a:gd name="textAreaRight" fmla="*/ 70200 w 6984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68477" h="248604">
                <a:moveTo>
                  <a:pt x="8469" y="0"/>
                </a:moveTo>
                <a:lnTo>
                  <a:pt x="249" y="0"/>
                </a:lnTo>
                <a:lnTo>
                  <a:pt x="0" y="4551"/>
                </a:lnTo>
                <a:lnTo>
                  <a:pt x="918" y="5892"/>
                </a:lnTo>
                <a:lnTo>
                  <a:pt x="2483" y="6786"/>
                </a:lnTo>
                <a:lnTo>
                  <a:pt x="4478" y="7381"/>
                </a:lnTo>
                <a:lnTo>
                  <a:pt x="5808" y="8731"/>
                </a:lnTo>
                <a:lnTo>
                  <a:pt x="6695" y="10583"/>
                </a:lnTo>
                <a:lnTo>
                  <a:pt x="7286" y="12771"/>
                </a:lnTo>
                <a:lnTo>
                  <a:pt x="8633" y="14229"/>
                </a:lnTo>
                <a:lnTo>
                  <a:pt x="10483" y="15201"/>
                </a:lnTo>
                <a:lnTo>
                  <a:pt x="12669" y="15849"/>
                </a:lnTo>
                <a:lnTo>
                  <a:pt x="14127" y="18187"/>
                </a:lnTo>
                <a:lnTo>
                  <a:pt x="15746" y="25863"/>
                </a:lnTo>
                <a:lnTo>
                  <a:pt x="17130" y="29625"/>
                </a:lnTo>
                <a:lnTo>
                  <a:pt x="19005" y="33085"/>
                </a:lnTo>
                <a:lnTo>
                  <a:pt x="21208" y="36344"/>
                </a:lnTo>
                <a:lnTo>
                  <a:pt x="22677" y="40422"/>
                </a:lnTo>
                <a:lnTo>
                  <a:pt x="23656" y="45046"/>
                </a:lnTo>
                <a:lnTo>
                  <a:pt x="24308" y="50033"/>
                </a:lnTo>
                <a:lnTo>
                  <a:pt x="25696" y="55263"/>
                </a:lnTo>
                <a:lnTo>
                  <a:pt x="27574" y="60655"/>
                </a:lnTo>
                <a:lnTo>
                  <a:pt x="29778" y="66155"/>
                </a:lnTo>
                <a:lnTo>
                  <a:pt x="31247" y="71726"/>
                </a:lnTo>
                <a:lnTo>
                  <a:pt x="32227" y="77345"/>
                </a:lnTo>
                <a:lnTo>
                  <a:pt x="32880" y="82996"/>
                </a:lnTo>
                <a:lnTo>
                  <a:pt x="33316" y="88668"/>
                </a:lnTo>
                <a:lnTo>
                  <a:pt x="33606" y="94355"/>
                </a:lnTo>
                <a:lnTo>
                  <a:pt x="33799" y="100051"/>
                </a:lnTo>
                <a:lnTo>
                  <a:pt x="34881" y="105753"/>
                </a:lnTo>
                <a:lnTo>
                  <a:pt x="36554" y="111460"/>
                </a:lnTo>
                <a:lnTo>
                  <a:pt x="38623" y="117169"/>
                </a:lnTo>
                <a:lnTo>
                  <a:pt x="39049" y="122881"/>
                </a:lnTo>
                <a:lnTo>
                  <a:pt x="38380" y="128593"/>
                </a:lnTo>
                <a:lnTo>
                  <a:pt x="36982" y="134307"/>
                </a:lnTo>
                <a:lnTo>
                  <a:pt x="37002" y="140020"/>
                </a:lnTo>
                <a:lnTo>
                  <a:pt x="37969" y="145735"/>
                </a:lnTo>
                <a:lnTo>
                  <a:pt x="39565" y="151449"/>
                </a:lnTo>
                <a:lnTo>
                  <a:pt x="40629" y="157164"/>
                </a:lnTo>
                <a:lnTo>
                  <a:pt x="41339" y="162878"/>
                </a:lnTo>
                <a:lnTo>
                  <a:pt x="41813" y="168594"/>
                </a:lnTo>
                <a:lnTo>
                  <a:pt x="43080" y="173356"/>
                </a:lnTo>
                <a:lnTo>
                  <a:pt x="44878" y="177483"/>
                </a:lnTo>
                <a:lnTo>
                  <a:pt x="47029" y="181187"/>
                </a:lnTo>
                <a:lnTo>
                  <a:pt x="48463" y="185562"/>
                </a:lnTo>
                <a:lnTo>
                  <a:pt x="49419" y="190383"/>
                </a:lnTo>
                <a:lnTo>
                  <a:pt x="50056" y="195502"/>
                </a:lnTo>
                <a:lnTo>
                  <a:pt x="50481" y="199867"/>
                </a:lnTo>
                <a:lnTo>
                  <a:pt x="50953" y="207258"/>
                </a:lnTo>
                <a:lnTo>
                  <a:pt x="51163" y="213717"/>
                </a:lnTo>
                <a:lnTo>
                  <a:pt x="51298" y="225626"/>
                </a:lnTo>
                <a:lnTo>
                  <a:pt x="51328" y="238327"/>
                </a:lnTo>
                <a:lnTo>
                  <a:pt x="52282" y="239847"/>
                </a:lnTo>
                <a:lnTo>
                  <a:pt x="53870" y="241814"/>
                </a:lnTo>
                <a:lnTo>
                  <a:pt x="58712" y="247262"/>
                </a:lnTo>
                <a:lnTo>
                  <a:pt x="60062" y="247709"/>
                </a:lnTo>
                <a:lnTo>
                  <a:pt x="61914" y="248007"/>
                </a:lnTo>
                <a:lnTo>
                  <a:pt x="68476" y="2486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MARTPenAnnotation582"/>
          <p:cNvSpPr/>
          <p:nvPr/>
        </p:nvSpPr>
        <p:spPr>
          <a:xfrm>
            <a:off x="6475320" y="4106880"/>
            <a:ext cx="68400" cy="264960"/>
          </a:xfrm>
          <a:custGeom>
            <a:avLst/>
            <a:gdLst>
              <a:gd name="textAreaLeft" fmla="*/ 0 w 68400"/>
              <a:gd name="textAreaRight" fmla="*/ 68760 w 6840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68581" h="265749">
                <a:moveTo>
                  <a:pt x="0" y="0"/>
                </a:moveTo>
                <a:lnTo>
                  <a:pt x="0" y="33243"/>
                </a:lnTo>
                <a:lnTo>
                  <a:pt x="952" y="38355"/>
                </a:lnTo>
                <a:lnTo>
                  <a:pt x="2540" y="43668"/>
                </a:lnTo>
                <a:lnTo>
                  <a:pt x="4550" y="49114"/>
                </a:lnTo>
                <a:lnTo>
                  <a:pt x="5891" y="54650"/>
                </a:lnTo>
                <a:lnTo>
                  <a:pt x="6785" y="60246"/>
                </a:lnTo>
                <a:lnTo>
                  <a:pt x="7381" y="65881"/>
                </a:lnTo>
                <a:lnTo>
                  <a:pt x="7778" y="71543"/>
                </a:lnTo>
                <a:lnTo>
                  <a:pt x="8042" y="77223"/>
                </a:lnTo>
                <a:lnTo>
                  <a:pt x="8337" y="88614"/>
                </a:lnTo>
                <a:lnTo>
                  <a:pt x="8467" y="100027"/>
                </a:lnTo>
                <a:lnTo>
                  <a:pt x="9455" y="106689"/>
                </a:lnTo>
                <a:lnTo>
                  <a:pt x="11066" y="113989"/>
                </a:lnTo>
                <a:lnTo>
                  <a:pt x="13092" y="121712"/>
                </a:lnTo>
                <a:lnTo>
                  <a:pt x="15396" y="128767"/>
                </a:lnTo>
                <a:lnTo>
                  <a:pt x="17883" y="135374"/>
                </a:lnTo>
                <a:lnTo>
                  <a:pt x="20495" y="141685"/>
                </a:lnTo>
                <a:lnTo>
                  <a:pt x="22235" y="147797"/>
                </a:lnTo>
                <a:lnTo>
                  <a:pt x="23396" y="153776"/>
                </a:lnTo>
                <a:lnTo>
                  <a:pt x="24170" y="159668"/>
                </a:lnTo>
                <a:lnTo>
                  <a:pt x="24686" y="165500"/>
                </a:lnTo>
                <a:lnTo>
                  <a:pt x="25029" y="171293"/>
                </a:lnTo>
                <a:lnTo>
                  <a:pt x="25259" y="177061"/>
                </a:lnTo>
                <a:lnTo>
                  <a:pt x="26364" y="182811"/>
                </a:lnTo>
                <a:lnTo>
                  <a:pt x="28053" y="188549"/>
                </a:lnTo>
                <a:lnTo>
                  <a:pt x="30132" y="194279"/>
                </a:lnTo>
                <a:lnTo>
                  <a:pt x="32471" y="200005"/>
                </a:lnTo>
                <a:lnTo>
                  <a:pt x="34982" y="205726"/>
                </a:lnTo>
                <a:lnTo>
                  <a:pt x="37609" y="211446"/>
                </a:lnTo>
                <a:lnTo>
                  <a:pt x="39360" y="216211"/>
                </a:lnTo>
                <a:lnTo>
                  <a:pt x="41305" y="224047"/>
                </a:lnTo>
                <a:lnTo>
                  <a:pt x="42776" y="228422"/>
                </a:lnTo>
                <a:lnTo>
                  <a:pt x="44710" y="233244"/>
                </a:lnTo>
                <a:lnTo>
                  <a:pt x="50106" y="245568"/>
                </a:lnTo>
                <a:lnTo>
                  <a:pt x="51501" y="247533"/>
                </a:lnTo>
                <a:lnTo>
                  <a:pt x="53384" y="249794"/>
                </a:lnTo>
                <a:lnTo>
                  <a:pt x="55592" y="252255"/>
                </a:lnTo>
                <a:lnTo>
                  <a:pt x="58016" y="253895"/>
                </a:lnTo>
                <a:lnTo>
                  <a:pt x="60585" y="254988"/>
                </a:lnTo>
                <a:lnTo>
                  <a:pt x="63250" y="255717"/>
                </a:lnTo>
                <a:lnTo>
                  <a:pt x="65026" y="257156"/>
                </a:lnTo>
                <a:lnTo>
                  <a:pt x="66211" y="259067"/>
                </a:lnTo>
                <a:lnTo>
                  <a:pt x="68580" y="2657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MARTPenAnnotation583"/>
          <p:cNvSpPr/>
          <p:nvPr/>
        </p:nvSpPr>
        <p:spPr>
          <a:xfrm>
            <a:off x="6621480" y="4089240"/>
            <a:ext cx="385920" cy="222480"/>
          </a:xfrm>
          <a:custGeom>
            <a:avLst/>
            <a:gdLst>
              <a:gd name="textAreaLeft" fmla="*/ 0 w 385920"/>
              <a:gd name="textAreaRight" fmla="*/ 386280 w 38592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385764" h="222486">
                <a:moveTo>
                  <a:pt x="0" y="76756"/>
                </a:moveTo>
                <a:lnTo>
                  <a:pt x="0" y="64824"/>
                </a:lnTo>
                <a:lnTo>
                  <a:pt x="953" y="63086"/>
                </a:lnTo>
                <a:lnTo>
                  <a:pt x="2540" y="61928"/>
                </a:lnTo>
                <a:lnTo>
                  <a:pt x="4551" y="61156"/>
                </a:lnTo>
                <a:lnTo>
                  <a:pt x="5891" y="59688"/>
                </a:lnTo>
                <a:lnTo>
                  <a:pt x="6785" y="57757"/>
                </a:lnTo>
                <a:lnTo>
                  <a:pt x="7778" y="53072"/>
                </a:lnTo>
                <a:lnTo>
                  <a:pt x="8219" y="47814"/>
                </a:lnTo>
                <a:lnTo>
                  <a:pt x="10242" y="45079"/>
                </a:lnTo>
                <a:lnTo>
                  <a:pt x="17570" y="39500"/>
                </a:lnTo>
                <a:lnTo>
                  <a:pt x="24637" y="36385"/>
                </a:lnTo>
                <a:lnTo>
                  <a:pt x="27854" y="35554"/>
                </a:lnTo>
                <a:lnTo>
                  <a:pt x="33970" y="32092"/>
                </a:lnTo>
                <a:lnTo>
                  <a:pt x="40815" y="27377"/>
                </a:lnTo>
                <a:lnTo>
                  <a:pt x="50207" y="22107"/>
                </a:lnTo>
                <a:lnTo>
                  <a:pt x="66205" y="13785"/>
                </a:lnTo>
                <a:lnTo>
                  <a:pt x="77368" y="10669"/>
                </a:lnTo>
                <a:lnTo>
                  <a:pt x="88678" y="8331"/>
                </a:lnTo>
                <a:lnTo>
                  <a:pt x="100055" y="4117"/>
                </a:lnTo>
                <a:lnTo>
                  <a:pt x="111462" y="1610"/>
                </a:lnTo>
                <a:lnTo>
                  <a:pt x="121928" y="495"/>
                </a:lnTo>
                <a:lnTo>
                  <a:pt x="129755" y="0"/>
                </a:lnTo>
                <a:lnTo>
                  <a:pt x="138950" y="2319"/>
                </a:lnTo>
                <a:lnTo>
                  <a:pt x="148433" y="5573"/>
                </a:lnTo>
                <a:lnTo>
                  <a:pt x="155823" y="7019"/>
                </a:lnTo>
                <a:lnTo>
                  <a:pt x="162282" y="10202"/>
                </a:lnTo>
                <a:lnTo>
                  <a:pt x="165338" y="12384"/>
                </a:lnTo>
                <a:lnTo>
                  <a:pt x="167376" y="14791"/>
                </a:lnTo>
                <a:lnTo>
                  <a:pt x="168734" y="17349"/>
                </a:lnTo>
                <a:lnTo>
                  <a:pt x="169639" y="20006"/>
                </a:lnTo>
                <a:lnTo>
                  <a:pt x="170243" y="23682"/>
                </a:lnTo>
                <a:lnTo>
                  <a:pt x="170646" y="28039"/>
                </a:lnTo>
                <a:lnTo>
                  <a:pt x="170914" y="32848"/>
                </a:lnTo>
                <a:lnTo>
                  <a:pt x="170140" y="37006"/>
                </a:lnTo>
                <a:lnTo>
                  <a:pt x="168672" y="40731"/>
                </a:lnTo>
                <a:lnTo>
                  <a:pt x="166740" y="44167"/>
                </a:lnTo>
                <a:lnTo>
                  <a:pt x="165453" y="48362"/>
                </a:lnTo>
                <a:lnTo>
                  <a:pt x="164594" y="53064"/>
                </a:lnTo>
                <a:lnTo>
                  <a:pt x="164022" y="58104"/>
                </a:lnTo>
                <a:lnTo>
                  <a:pt x="161735" y="63369"/>
                </a:lnTo>
                <a:lnTo>
                  <a:pt x="158306" y="68783"/>
                </a:lnTo>
                <a:lnTo>
                  <a:pt x="154115" y="74299"/>
                </a:lnTo>
                <a:lnTo>
                  <a:pt x="150368" y="79880"/>
                </a:lnTo>
                <a:lnTo>
                  <a:pt x="146918" y="85506"/>
                </a:lnTo>
                <a:lnTo>
                  <a:pt x="143665" y="91162"/>
                </a:lnTo>
                <a:lnTo>
                  <a:pt x="137512" y="102526"/>
                </a:lnTo>
                <a:lnTo>
                  <a:pt x="134537" y="108224"/>
                </a:lnTo>
                <a:lnTo>
                  <a:pt x="130649" y="114879"/>
                </a:lnTo>
                <a:lnTo>
                  <a:pt x="117027" y="136947"/>
                </a:lnTo>
                <a:lnTo>
                  <a:pt x="113261" y="143553"/>
                </a:lnTo>
                <a:lnTo>
                  <a:pt x="106536" y="155973"/>
                </a:lnTo>
                <a:lnTo>
                  <a:pt x="94457" y="179469"/>
                </a:lnTo>
                <a:lnTo>
                  <a:pt x="91547" y="185236"/>
                </a:lnTo>
                <a:lnTo>
                  <a:pt x="87701" y="190034"/>
                </a:lnTo>
                <a:lnTo>
                  <a:pt x="83232" y="194184"/>
                </a:lnTo>
                <a:lnTo>
                  <a:pt x="78348" y="197904"/>
                </a:lnTo>
                <a:lnTo>
                  <a:pt x="75092" y="201336"/>
                </a:lnTo>
                <a:lnTo>
                  <a:pt x="72922" y="204577"/>
                </a:lnTo>
                <a:lnTo>
                  <a:pt x="71475" y="207690"/>
                </a:lnTo>
                <a:lnTo>
                  <a:pt x="69557" y="209765"/>
                </a:lnTo>
                <a:lnTo>
                  <a:pt x="67326" y="211149"/>
                </a:lnTo>
                <a:lnTo>
                  <a:pt x="64887" y="212071"/>
                </a:lnTo>
                <a:lnTo>
                  <a:pt x="63261" y="213638"/>
                </a:lnTo>
                <a:lnTo>
                  <a:pt x="62176" y="215636"/>
                </a:lnTo>
                <a:lnTo>
                  <a:pt x="60436" y="221135"/>
                </a:lnTo>
                <a:lnTo>
                  <a:pt x="61246" y="221586"/>
                </a:lnTo>
                <a:lnTo>
                  <a:pt x="67425" y="222369"/>
                </a:lnTo>
                <a:lnTo>
                  <a:pt x="77754" y="222473"/>
                </a:lnTo>
                <a:lnTo>
                  <a:pt x="93252" y="222485"/>
                </a:lnTo>
                <a:lnTo>
                  <a:pt x="103675" y="219947"/>
                </a:lnTo>
                <a:lnTo>
                  <a:pt x="114658" y="215644"/>
                </a:lnTo>
                <a:lnTo>
                  <a:pt x="125889" y="210556"/>
                </a:lnTo>
                <a:lnTo>
                  <a:pt x="132504" y="208818"/>
                </a:lnTo>
                <a:lnTo>
                  <a:pt x="139771" y="207660"/>
                </a:lnTo>
                <a:lnTo>
                  <a:pt x="147473" y="206888"/>
                </a:lnTo>
                <a:lnTo>
                  <a:pt x="155466" y="205420"/>
                </a:lnTo>
                <a:lnTo>
                  <a:pt x="163651" y="203489"/>
                </a:lnTo>
                <a:lnTo>
                  <a:pt x="171966" y="201250"/>
                </a:lnTo>
                <a:lnTo>
                  <a:pt x="181319" y="199757"/>
                </a:lnTo>
                <a:lnTo>
                  <a:pt x="191364" y="198761"/>
                </a:lnTo>
                <a:lnTo>
                  <a:pt x="201872" y="198098"/>
                </a:lnTo>
                <a:lnTo>
                  <a:pt x="221166" y="197360"/>
                </a:lnTo>
                <a:lnTo>
                  <a:pt x="230311" y="197164"/>
                </a:lnTo>
                <a:lnTo>
                  <a:pt x="238314" y="196081"/>
                </a:lnTo>
                <a:lnTo>
                  <a:pt x="245553" y="194406"/>
                </a:lnTo>
                <a:lnTo>
                  <a:pt x="252285" y="192337"/>
                </a:lnTo>
                <a:lnTo>
                  <a:pt x="259629" y="190957"/>
                </a:lnTo>
                <a:lnTo>
                  <a:pt x="267384" y="190038"/>
                </a:lnTo>
                <a:lnTo>
                  <a:pt x="275411" y="189424"/>
                </a:lnTo>
                <a:lnTo>
                  <a:pt x="282667" y="189016"/>
                </a:lnTo>
                <a:lnTo>
                  <a:pt x="295810" y="188561"/>
                </a:lnTo>
                <a:lnTo>
                  <a:pt x="301982" y="187488"/>
                </a:lnTo>
                <a:lnTo>
                  <a:pt x="313920" y="183755"/>
                </a:lnTo>
                <a:lnTo>
                  <a:pt x="320722" y="182378"/>
                </a:lnTo>
                <a:lnTo>
                  <a:pt x="328115" y="181461"/>
                </a:lnTo>
                <a:lnTo>
                  <a:pt x="335901" y="180849"/>
                </a:lnTo>
                <a:lnTo>
                  <a:pt x="342044" y="181394"/>
                </a:lnTo>
                <a:lnTo>
                  <a:pt x="356193" y="185759"/>
                </a:lnTo>
                <a:lnTo>
                  <a:pt x="366588" y="187114"/>
                </a:lnTo>
                <a:lnTo>
                  <a:pt x="378600" y="187877"/>
                </a:lnTo>
                <a:lnTo>
                  <a:pt x="385763" y="18819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MARTPenAnnotation584"/>
          <p:cNvSpPr/>
          <p:nvPr/>
        </p:nvSpPr>
        <p:spPr>
          <a:xfrm>
            <a:off x="4983120" y="4500720"/>
            <a:ext cx="2211480" cy="6804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2211706" h="68549">
                <a:moveTo>
                  <a:pt x="0" y="68548"/>
                </a:moveTo>
                <a:lnTo>
                  <a:pt x="231494" y="68548"/>
                </a:lnTo>
                <a:lnTo>
                  <a:pt x="241007" y="67596"/>
                </a:lnTo>
                <a:lnTo>
                  <a:pt x="251159" y="66009"/>
                </a:lnTo>
                <a:lnTo>
                  <a:pt x="261737" y="63997"/>
                </a:lnTo>
                <a:lnTo>
                  <a:pt x="272599" y="62656"/>
                </a:lnTo>
                <a:lnTo>
                  <a:pt x="306089" y="60770"/>
                </a:lnTo>
                <a:lnTo>
                  <a:pt x="374362" y="60046"/>
                </a:lnTo>
                <a:lnTo>
                  <a:pt x="409584" y="59044"/>
                </a:lnTo>
                <a:lnTo>
                  <a:pt x="422599" y="57449"/>
                </a:lnTo>
                <a:lnTo>
                  <a:pt x="436038" y="55434"/>
                </a:lnTo>
                <a:lnTo>
                  <a:pt x="449759" y="54090"/>
                </a:lnTo>
                <a:lnTo>
                  <a:pt x="477706" y="52598"/>
                </a:lnTo>
                <a:lnTo>
                  <a:pt x="492778" y="51247"/>
                </a:lnTo>
                <a:lnTo>
                  <a:pt x="508541" y="49394"/>
                </a:lnTo>
                <a:lnTo>
                  <a:pt x="524765" y="47206"/>
                </a:lnTo>
                <a:lnTo>
                  <a:pt x="540344" y="45747"/>
                </a:lnTo>
                <a:lnTo>
                  <a:pt x="570353" y="44127"/>
                </a:lnTo>
                <a:lnTo>
                  <a:pt x="585023" y="42742"/>
                </a:lnTo>
                <a:lnTo>
                  <a:pt x="599565" y="40867"/>
                </a:lnTo>
                <a:lnTo>
                  <a:pt x="614023" y="38664"/>
                </a:lnTo>
                <a:lnTo>
                  <a:pt x="629377" y="37196"/>
                </a:lnTo>
                <a:lnTo>
                  <a:pt x="661676" y="35564"/>
                </a:lnTo>
                <a:lnTo>
                  <a:pt x="677337" y="34176"/>
                </a:lnTo>
                <a:lnTo>
                  <a:pt x="692541" y="32298"/>
                </a:lnTo>
                <a:lnTo>
                  <a:pt x="707439" y="30094"/>
                </a:lnTo>
                <a:lnTo>
                  <a:pt x="723087" y="28624"/>
                </a:lnTo>
                <a:lnTo>
                  <a:pt x="755712" y="26992"/>
                </a:lnTo>
                <a:lnTo>
                  <a:pt x="772413" y="25604"/>
                </a:lnTo>
                <a:lnTo>
                  <a:pt x="789262" y="23726"/>
                </a:lnTo>
                <a:lnTo>
                  <a:pt x="806210" y="21522"/>
                </a:lnTo>
                <a:lnTo>
                  <a:pt x="824176" y="20052"/>
                </a:lnTo>
                <a:lnTo>
                  <a:pt x="880365" y="17984"/>
                </a:lnTo>
                <a:lnTo>
                  <a:pt x="933632" y="16419"/>
                </a:lnTo>
                <a:lnTo>
                  <a:pt x="951034" y="14745"/>
                </a:lnTo>
                <a:lnTo>
                  <a:pt x="968350" y="12677"/>
                </a:lnTo>
                <a:lnTo>
                  <a:pt x="986562" y="11298"/>
                </a:lnTo>
                <a:lnTo>
                  <a:pt x="1044049" y="9358"/>
                </a:lnTo>
                <a:lnTo>
                  <a:pt x="1102357" y="7830"/>
                </a:lnTo>
                <a:lnTo>
                  <a:pt x="1120668" y="6162"/>
                </a:lnTo>
                <a:lnTo>
                  <a:pt x="1138589" y="4097"/>
                </a:lnTo>
                <a:lnTo>
                  <a:pt x="1157205" y="2721"/>
                </a:lnTo>
                <a:lnTo>
                  <a:pt x="1214307" y="784"/>
                </a:lnTo>
                <a:lnTo>
                  <a:pt x="1361720" y="0"/>
                </a:lnTo>
                <a:lnTo>
                  <a:pt x="1380254" y="942"/>
                </a:lnTo>
                <a:lnTo>
                  <a:pt x="1399277" y="2522"/>
                </a:lnTo>
                <a:lnTo>
                  <a:pt x="1418626" y="4529"/>
                </a:lnTo>
                <a:lnTo>
                  <a:pt x="1438193" y="5866"/>
                </a:lnTo>
                <a:lnTo>
                  <a:pt x="1496636" y="7748"/>
                </a:lnTo>
                <a:lnTo>
                  <a:pt x="1589996" y="8436"/>
                </a:lnTo>
                <a:lnTo>
                  <a:pt x="1607686" y="9423"/>
                </a:lnTo>
                <a:lnTo>
                  <a:pt x="1624240" y="11034"/>
                </a:lnTo>
                <a:lnTo>
                  <a:pt x="1640039" y="13061"/>
                </a:lnTo>
                <a:lnTo>
                  <a:pt x="1656287" y="14412"/>
                </a:lnTo>
                <a:lnTo>
                  <a:pt x="1706459" y="16313"/>
                </a:lnTo>
                <a:lnTo>
                  <a:pt x="1787172" y="17008"/>
                </a:lnTo>
                <a:lnTo>
                  <a:pt x="1802954" y="17995"/>
                </a:lnTo>
                <a:lnTo>
                  <a:pt x="1819189" y="19606"/>
                </a:lnTo>
                <a:lnTo>
                  <a:pt x="1835728" y="21633"/>
                </a:lnTo>
                <a:lnTo>
                  <a:pt x="1851516" y="22984"/>
                </a:lnTo>
                <a:lnTo>
                  <a:pt x="1895539" y="24885"/>
                </a:lnTo>
                <a:lnTo>
                  <a:pt x="1961321" y="25580"/>
                </a:lnTo>
                <a:lnTo>
                  <a:pt x="2076929" y="25683"/>
                </a:lnTo>
                <a:lnTo>
                  <a:pt x="2086612" y="26636"/>
                </a:lnTo>
                <a:lnTo>
                  <a:pt x="2094973" y="28224"/>
                </a:lnTo>
                <a:lnTo>
                  <a:pt x="2102451" y="30236"/>
                </a:lnTo>
                <a:lnTo>
                  <a:pt x="2110294" y="31577"/>
                </a:lnTo>
                <a:lnTo>
                  <a:pt x="2134033" y="33463"/>
                </a:lnTo>
                <a:lnTo>
                  <a:pt x="2182999" y="34227"/>
                </a:lnTo>
                <a:lnTo>
                  <a:pt x="2187805" y="35190"/>
                </a:lnTo>
                <a:lnTo>
                  <a:pt x="2191962" y="36784"/>
                </a:lnTo>
                <a:lnTo>
                  <a:pt x="2200927" y="41636"/>
                </a:lnTo>
                <a:lnTo>
                  <a:pt x="2202614" y="42987"/>
                </a:lnTo>
                <a:lnTo>
                  <a:pt x="2204693" y="44840"/>
                </a:lnTo>
                <a:lnTo>
                  <a:pt x="2211705" y="514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MARTPenAnnotation585"/>
          <p:cNvSpPr/>
          <p:nvPr/>
        </p:nvSpPr>
        <p:spPr>
          <a:xfrm>
            <a:off x="5703840" y="4578480"/>
            <a:ext cx="239760" cy="290520"/>
          </a:xfrm>
          <a:custGeom>
            <a:avLst/>
            <a:gdLst>
              <a:gd name="textAreaLeft" fmla="*/ 0 w 239760"/>
              <a:gd name="textAreaRight" fmla="*/ 240120 w 2397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39995" h="291358">
                <a:moveTo>
                  <a:pt x="94263" y="8468"/>
                </a:moveTo>
                <a:lnTo>
                  <a:pt x="89712" y="8468"/>
                </a:lnTo>
                <a:lnTo>
                  <a:pt x="87419" y="7516"/>
                </a:lnTo>
                <a:lnTo>
                  <a:pt x="80594" y="2576"/>
                </a:lnTo>
                <a:lnTo>
                  <a:pt x="77253" y="0"/>
                </a:lnTo>
                <a:lnTo>
                  <a:pt x="77130" y="7286"/>
                </a:lnTo>
                <a:lnTo>
                  <a:pt x="76174" y="7680"/>
                </a:lnTo>
                <a:lnTo>
                  <a:pt x="72571" y="8118"/>
                </a:lnTo>
                <a:lnTo>
                  <a:pt x="71229" y="9187"/>
                </a:lnTo>
                <a:lnTo>
                  <a:pt x="70335" y="10852"/>
                </a:lnTo>
                <a:lnTo>
                  <a:pt x="68899" y="15818"/>
                </a:lnTo>
                <a:lnTo>
                  <a:pt x="64100" y="21229"/>
                </a:lnTo>
                <a:lnTo>
                  <a:pt x="62724" y="23643"/>
                </a:lnTo>
                <a:lnTo>
                  <a:pt x="59836" y="31591"/>
                </a:lnTo>
                <a:lnTo>
                  <a:pt x="55785" y="37160"/>
                </a:lnTo>
                <a:lnTo>
                  <a:pt x="50809" y="45350"/>
                </a:lnTo>
                <a:lnTo>
                  <a:pt x="45422" y="54388"/>
                </a:lnTo>
                <a:lnTo>
                  <a:pt x="39853" y="61579"/>
                </a:lnTo>
                <a:lnTo>
                  <a:pt x="34204" y="70491"/>
                </a:lnTo>
                <a:lnTo>
                  <a:pt x="31363" y="75534"/>
                </a:lnTo>
                <a:lnTo>
                  <a:pt x="28208" y="83678"/>
                </a:lnTo>
                <a:lnTo>
                  <a:pt x="25852" y="91425"/>
                </a:lnTo>
                <a:lnTo>
                  <a:pt x="23891" y="96158"/>
                </a:lnTo>
                <a:lnTo>
                  <a:pt x="21631" y="101218"/>
                </a:lnTo>
                <a:lnTo>
                  <a:pt x="16579" y="111921"/>
                </a:lnTo>
                <a:lnTo>
                  <a:pt x="13899" y="117442"/>
                </a:lnTo>
                <a:lnTo>
                  <a:pt x="10921" y="126115"/>
                </a:lnTo>
                <a:lnTo>
                  <a:pt x="8645" y="134098"/>
                </a:lnTo>
                <a:lnTo>
                  <a:pt x="6704" y="138894"/>
                </a:lnTo>
                <a:lnTo>
                  <a:pt x="4458" y="143996"/>
                </a:lnTo>
                <a:lnTo>
                  <a:pt x="2960" y="149303"/>
                </a:lnTo>
                <a:lnTo>
                  <a:pt x="1962" y="154745"/>
                </a:lnTo>
                <a:lnTo>
                  <a:pt x="1297" y="160279"/>
                </a:lnTo>
                <a:lnTo>
                  <a:pt x="557" y="168967"/>
                </a:lnTo>
                <a:lnTo>
                  <a:pt x="229" y="176956"/>
                </a:lnTo>
                <a:lnTo>
                  <a:pt x="0" y="198590"/>
                </a:lnTo>
                <a:lnTo>
                  <a:pt x="2521" y="207584"/>
                </a:lnTo>
                <a:lnTo>
                  <a:pt x="4527" y="212650"/>
                </a:lnTo>
                <a:lnTo>
                  <a:pt x="6755" y="220818"/>
                </a:lnTo>
                <a:lnTo>
                  <a:pt x="7350" y="224330"/>
                </a:lnTo>
                <a:lnTo>
                  <a:pt x="10550" y="230772"/>
                </a:lnTo>
                <a:lnTo>
                  <a:pt x="15147" y="237762"/>
                </a:lnTo>
                <a:lnTo>
                  <a:pt x="17707" y="242293"/>
                </a:lnTo>
                <a:lnTo>
                  <a:pt x="20365" y="247219"/>
                </a:lnTo>
                <a:lnTo>
                  <a:pt x="23320" y="255232"/>
                </a:lnTo>
                <a:lnTo>
                  <a:pt x="24108" y="258702"/>
                </a:lnTo>
                <a:lnTo>
                  <a:pt x="26538" y="261968"/>
                </a:lnTo>
                <a:lnTo>
                  <a:pt x="30063" y="265098"/>
                </a:lnTo>
                <a:lnTo>
                  <a:pt x="34318" y="268137"/>
                </a:lnTo>
                <a:lnTo>
                  <a:pt x="41586" y="274055"/>
                </a:lnTo>
                <a:lnTo>
                  <a:pt x="44857" y="276966"/>
                </a:lnTo>
                <a:lnTo>
                  <a:pt x="47991" y="278906"/>
                </a:lnTo>
                <a:lnTo>
                  <a:pt x="54013" y="281063"/>
                </a:lnTo>
                <a:lnTo>
                  <a:pt x="59864" y="284561"/>
                </a:lnTo>
                <a:lnTo>
                  <a:pt x="62758" y="286828"/>
                </a:lnTo>
                <a:lnTo>
                  <a:pt x="66592" y="288339"/>
                </a:lnTo>
                <a:lnTo>
                  <a:pt x="71053" y="289346"/>
                </a:lnTo>
                <a:lnTo>
                  <a:pt x="75932" y="290018"/>
                </a:lnTo>
                <a:lnTo>
                  <a:pt x="81090" y="290466"/>
                </a:lnTo>
                <a:lnTo>
                  <a:pt x="86434" y="290764"/>
                </a:lnTo>
                <a:lnTo>
                  <a:pt x="96498" y="291095"/>
                </a:lnTo>
                <a:lnTo>
                  <a:pt x="110720" y="291308"/>
                </a:lnTo>
                <a:lnTo>
                  <a:pt x="143302" y="291357"/>
                </a:lnTo>
                <a:lnTo>
                  <a:pt x="148863" y="290406"/>
                </a:lnTo>
                <a:lnTo>
                  <a:pt x="154476" y="288819"/>
                </a:lnTo>
                <a:lnTo>
                  <a:pt x="160122" y="286809"/>
                </a:lnTo>
                <a:lnTo>
                  <a:pt x="164839" y="285469"/>
                </a:lnTo>
                <a:lnTo>
                  <a:pt x="168936" y="284576"/>
                </a:lnTo>
                <a:lnTo>
                  <a:pt x="172620" y="283979"/>
                </a:lnTo>
                <a:lnTo>
                  <a:pt x="176981" y="282630"/>
                </a:lnTo>
                <a:lnTo>
                  <a:pt x="181794" y="280778"/>
                </a:lnTo>
                <a:lnTo>
                  <a:pt x="186906" y="278590"/>
                </a:lnTo>
                <a:lnTo>
                  <a:pt x="191268" y="276180"/>
                </a:lnTo>
                <a:lnTo>
                  <a:pt x="198654" y="270961"/>
                </a:lnTo>
                <a:lnTo>
                  <a:pt x="205112" y="265467"/>
                </a:lnTo>
                <a:lnTo>
                  <a:pt x="211157" y="259850"/>
                </a:lnTo>
                <a:lnTo>
                  <a:pt x="222799" y="248483"/>
                </a:lnTo>
                <a:lnTo>
                  <a:pt x="228543" y="241824"/>
                </a:lnTo>
                <a:lnTo>
                  <a:pt x="231408" y="237381"/>
                </a:lnTo>
                <a:lnTo>
                  <a:pt x="236179" y="228317"/>
                </a:lnTo>
                <a:lnTo>
                  <a:pt x="238299" y="221114"/>
                </a:lnTo>
                <a:lnTo>
                  <a:pt x="239242" y="214737"/>
                </a:lnTo>
                <a:lnTo>
                  <a:pt x="239661" y="207776"/>
                </a:lnTo>
                <a:lnTo>
                  <a:pt x="239896" y="194099"/>
                </a:lnTo>
                <a:lnTo>
                  <a:pt x="239994" y="159948"/>
                </a:lnTo>
                <a:lnTo>
                  <a:pt x="239042" y="157079"/>
                </a:lnTo>
                <a:lnTo>
                  <a:pt x="235445" y="151353"/>
                </a:lnTo>
                <a:lnTo>
                  <a:pt x="228064" y="142773"/>
                </a:lnTo>
                <a:lnTo>
                  <a:pt x="225374" y="140867"/>
                </a:lnTo>
                <a:lnTo>
                  <a:pt x="219844" y="138750"/>
                </a:lnTo>
                <a:lnTo>
                  <a:pt x="214212" y="135269"/>
                </a:lnTo>
                <a:lnTo>
                  <a:pt x="211377" y="133007"/>
                </a:lnTo>
                <a:lnTo>
                  <a:pt x="208533" y="131499"/>
                </a:lnTo>
                <a:lnTo>
                  <a:pt x="202835" y="129824"/>
                </a:lnTo>
                <a:lnTo>
                  <a:pt x="197127" y="129079"/>
                </a:lnTo>
                <a:lnTo>
                  <a:pt x="191416" y="128748"/>
                </a:lnTo>
                <a:lnTo>
                  <a:pt x="185702" y="128601"/>
                </a:lnTo>
                <a:lnTo>
                  <a:pt x="182845" y="129514"/>
                </a:lnTo>
                <a:lnTo>
                  <a:pt x="177130" y="133069"/>
                </a:lnTo>
                <a:lnTo>
                  <a:pt x="173321" y="134398"/>
                </a:lnTo>
                <a:lnTo>
                  <a:pt x="168875" y="135284"/>
                </a:lnTo>
                <a:lnTo>
                  <a:pt x="164007" y="135874"/>
                </a:lnTo>
                <a:lnTo>
                  <a:pt x="160762" y="137220"/>
                </a:lnTo>
                <a:lnTo>
                  <a:pt x="158598" y="139070"/>
                </a:lnTo>
                <a:lnTo>
                  <a:pt x="157156" y="141256"/>
                </a:lnTo>
                <a:lnTo>
                  <a:pt x="150473" y="146225"/>
                </a:lnTo>
                <a:lnTo>
                  <a:pt x="146023" y="148883"/>
                </a:lnTo>
                <a:lnTo>
                  <a:pt x="143058" y="152561"/>
                </a:lnTo>
                <a:lnTo>
                  <a:pt x="141081" y="156918"/>
                </a:lnTo>
                <a:lnTo>
                  <a:pt x="137931" y="165886"/>
                </a:lnTo>
                <a:lnTo>
                  <a:pt x="133355" y="173047"/>
                </a:lnTo>
                <a:lnTo>
                  <a:pt x="128148" y="181944"/>
                </a:lnTo>
                <a:lnTo>
                  <a:pt x="125425" y="186984"/>
                </a:lnTo>
                <a:lnTo>
                  <a:pt x="122400" y="195124"/>
                </a:lnTo>
                <a:lnTo>
                  <a:pt x="121056" y="201916"/>
                </a:lnTo>
                <a:lnTo>
                  <a:pt x="120459" y="208110"/>
                </a:lnTo>
                <a:lnTo>
                  <a:pt x="120122" y="216953"/>
                </a:lnTo>
                <a:lnTo>
                  <a:pt x="119993" y="234200"/>
                </a:lnTo>
                <a:lnTo>
                  <a:pt x="119980" y="265611"/>
                </a:lnTo>
                <a:lnTo>
                  <a:pt x="128553" y="27421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MARTPenAnnotation586"/>
          <p:cNvSpPr/>
          <p:nvPr/>
        </p:nvSpPr>
        <p:spPr>
          <a:xfrm>
            <a:off x="285840" y="4021200"/>
            <a:ext cx="1739880" cy="487440"/>
          </a:xfrm>
          <a:custGeom>
            <a:avLst/>
            <a:gdLst>
              <a:gd name="textAreaLeft" fmla="*/ 0 w 1739880"/>
              <a:gd name="textAreaRight" fmla="*/ 1740240 w 173988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1740219" h="488267">
                <a:moveTo>
                  <a:pt x="0" y="188241"/>
                </a:moveTo>
                <a:lnTo>
                  <a:pt x="0" y="192792"/>
                </a:lnTo>
                <a:lnTo>
                  <a:pt x="953" y="194132"/>
                </a:lnTo>
                <a:lnTo>
                  <a:pt x="2540" y="195026"/>
                </a:lnTo>
                <a:lnTo>
                  <a:pt x="4551" y="195622"/>
                </a:lnTo>
                <a:lnTo>
                  <a:pt x="5892" y="196972"/>
                </a:lnTo>
                <a:lnTo>
                  <a:pt x="6785" y="198824"/>
                </a:lnTo>
                <a:lnTo>
                  <a:pt x="7779" y="203422"/>
                </a:lnTo>
                <a:lnTo>
                  <a:pt x="8220" y="208641"/>
                </a:lnTo>
                <a:lnTo>
                  <a:pt x="13019" y="221485"/>
                </a:lnTo>
                <a:lnTo>
                  <a:pt x="17283" y="236048"/>
                </a:lnTo>
                <a:lnTo>
                  <a:pt x="26310" y="250636"/>
                </a:lnTo>
                <a:lnTo>
                  <a:pt x="34466" y="263561"/>
                </a:lnTo>
                <a:lnTo>
                  <a:pt x="42915" y="275963"/>
                </a:lnTo>
                <a:lnTo>
                  <a:pt x="48601" y="286284"/>
                </a:lnTo>
                <a:lnTo>
                  <a:pt x="57157" y="302804"/>
                </a:lnTo>
                <a:lnTo>
                  <a:pt x="62868" y="314088"/>
                </a:lnTo>
                <a:lnTo>
                  <a:pt x="71122" y="325453"/>
                </a:lnTo>
                <a:lnTo>
                  <a:pt x="80187" y="336854"/>
                </a:lnTo>
                <a:lnTo>
                  <a:pt x="87392" y="348271"/>
                </a:lnTo>
                <a:lnTo>
                  <a:pt x="98848" y="359696"/>
                </a:lnTo>
                <a:lnTo>
                  <a:pt x="111560" y="371123"/>
                </a:lnTo>
                <a:lnTo>
                  <a:pt x="125024" y="388267"/>
                </a:lnTo>
                <a:lnTo>
                  <a:pt x="135259" y="399696"/>
                </a:lnTo>
                <a:lnTo>
                  <a:pt x="146158" y="411126"/>
                </a:lnTo>
                <a:lnTo>
                  <a:pt x="157352" y="421604"/>
                </a:lnTo>
                <a:lnTo>
                  <a:pt x="174364" y="433810"/>
                </a:lnTo>
                <a:lnTo>
                  <a:pt x="190517" y="449068"/>
                </a:lnTo>
                <a:lnTo>
                  <a:pt x="198340" y="460057"/>
                </a:lnTo>
                <a:lnTo>
                  <a:pt x="202711" y="463749"/>
                </a:lnTo>
                <a:lnTo>
                  <a:pt x="207531" y="466211"/>
                </a:lnTo>
                <a:lnTo>
                  <a:pt x="217014" y="469898"/>
                </a:lnTo>
                <a:lnTo>
                  <a:pt x="224403" y="474712"/>
                </a:lnTo>
                <a:lnTo>
                  <a:pt x="226755" y="477329"/>
                </a:lnTo>
                <a:lnTo>
                  <a:pt x="228322" y="480026"/>
                </a:lnTo>
                <a:lnTo>
                  <a:pt x="229368" y="482778"/>
                </a:lnTo>
                <a:lnTo>
                  <a:pt x="231017" y="484611"/>
                </a:lnTo>
                <a:lnTo>
                  <a:pt x="233069" y="485834"/>
                </a:lnTo>
                <a:lnTo>
                  <a:pt x="239995" y="488266"/>
                </a:lnTo>
                <a:lnTo>
                  <a:pt x="244571" y="483724"/>
                </a:lnTo>
                <a:lnTo>
                  <a:pt x="244962" y="482385"/>
                </a:lnTo>
                <a:lnTo>
                  <a:pt x="244271" y="481492"/>
                </a:lnTo>
                <a:lnTo>
                  <a:pt x="242857" y="480897"/>
                </a:lnTo>
                <a:lnTo>
                  <a:pt x="241915" y="479547"/>
                </a:lnTo>
                <a:lnTo>
                  <a:pt x="240868" y="475508"/>
                </a:lnTo>
                <a:lnTo>
                  <a:pt x="240279" y="463328"/>
                </a:lnTo>
                <a:lnTo>
                  <a:pt x="240104" y="447654"/>
                </a:lnTo>
                <a:lnTo>
                  <a:pt x="239127" y="443098"/>
                </a:lnTo>
                <a:lnTo>
                  <a:pt x="234154" y="431183"/>
                </a:lnTo>
                <a:lnTo>
                  <a:pt x="232656" y="421310"/>
                </a:lnTo>
                <a:lnTo>
                  <a:pt x="229450" y="408032"/>
                </a:lnTo>
                <a:lnTo>
                  <a:pt x="225803" y="393559"/>
                </a:lnTo>
                <a:lnTo>
                  <a:pt x="224182" y="380776"/>
                </a:lnTo>
                <a:lnTo>
                  <a:pt x="223462" y="368745"/>
                </a:lnTo>
                <a:lnTo>
                  <a:pt x="223270" y="362869"/>
                </a:lnTo>
                <a:lnTo>
                  <a:pt x="220516" y="351261"/>
                </a:lnTo>
                <a:lnTo>
                  <a:pt x="217070" y="338799"/>
                </a:lnTo>
                <a:lnTo>
                  <a:pt x="215538" y="323736"/>
                </a:lnTo>
                <a:lnTo>
                  <a:pt x="212318" y="310056"/>
                </a:lnTo>
                <a:lnTo>
                  <a:pt x="202489" y="281201"/>
                </a:lnTo>
                <a:lnTo>
                  <a:pt x="199533" y="267339"/>
                </a:lnTo>
                <a:lnTo>
                  <a:pt x="198745" y="260976"/>
                </a:lnTo>
                <a:lnTo>
                  <a:pt x="192789" y="246285"/>
                </a:lnTo>
                <a:lnTo>
                  <a:pt x="181265" y="224489"/>
                </a:lnTo>
                <a:lnTo>
                  <a:pt x="160093" y="182641"/>
                </a:lnTo>
                <a:lnTo>
                  <a:pt x="154338" y="168607"/>
                </a:lnTo>
                <a:lnTo>
                  <a:pt x="147652" y="153797"/>
                </a:lnTo>
                <a:lnTo>
                  <a:pt x="138331" y="140865"/>
                </a:lnTo>
                <a:lnTo>
                  <a:pt x="126924" y="127426"/>
                </a:lnTo>
                <a:lnTo>
                  <a:pt x="124621" y="122932"/>
                </a:lnTo>
                <a:lnTo>
                  <a:pt x="120428" y="107507"/>
                </a:lnTo>
                <a:lnTo>
                  <a:pt x="116071" y="96479"/>
                </a:lnTo>
                <a:lnTo>
                  <a:pt x="110960" y="85228"/>
                </a:lnTo>
                <a:lnTo>
                  <a:pt x="105513" y="74830"/>
                </a:lnTo>
                <a:lnTo>
                  <a:pt x="94256" y="60394"/>
                </a:lnTo>
                <a:lnTo>
                  <a:pt x="91412" y="57290"/>
                </a:lnTo>
                <a:lnTo>
                  <a:pt x="89517" y="54268"/>
                </a:lnTo>
                <a:lnTo>
                  <a:pt x="87410" y="48370"/>
                </a:lnTo>
                <a:lnTo>
                  <a:pt x="86058" y="36823"/>
                </a:lnTo>
                <a:lnTo>
                  <a:pt x="85873" y="31092"/>
                </a:lnTo>
                <a:lnTo>
                  <a:pt x="86777" y="29182"/>
                </a:lnTo>
                <a:lnTo>
                  <a:pt x="88331" y="27909"/>
                </a:lnTo>
                <a:lnTo>
                  <a:pt x="90320" y="27061"/>
                </a:lnTo>
                <a:lnTo>
                  <a:pt x="91646" y="25543"/>
                </a:lnTo>
                <a:lnTo>
                  <a:pt x="92530" y="23578"/>
                </a:lnTo>
                <a:lnTo>
                  <a:pt x="93119" y="21316"/>
                </a:lnTo>
                <a:lnTo>
                  <a:pt x="94465" y="19807"/>
                </a:lnTo>
                <a:lnTo>
                  <a:pt x="96314" y="18802"/>
                </a:lnTo>
                <a:lnTo>
                  <a:pt x="101575" y="17188"/>
                </a:lnTo>
                <a:lnTo>
                  <a:pt x="151613" y="16792"/>
                </a:lnTo>
                <a:lnTo>
                  <a:pt x="746973" y="16791"/>
                </a:lnTo>
                <a:lnTo>
                  <a:pt x="814918" y="10006"/>
                </a:lnTo>
                <a:lnTo>
                  <a:pt x="857407" y="8748"/>
                </a:lnTo>
                <a:lnTo>
                  <a:pt x="957272" y="8250"/>
                </a:lnTo>
                <a:lnTo>
                  <a:pt x="1000128" y="3677"/>
                </a:lnTo>
                <a:lnTo>
                  <a:pt x="1042989" y="840"/>
                </a:lnTo>
                <a:lnTo>
                  <a:pt x="1085851" y="0"/>
                </a:lnTo>
                <a:lnTo>
                  <a:pt x="1128713" y="4302"/>
                </a:lnTo>
                <a:lnTo>
                  <a:pt x="1171575" y="7058"/>
                </a:lnTo>
                <a:lnTo>
                  <a:pt x="1214438" y="7875"/>
                </a:lnTo>
                <a:lnTo>
                  <a:pt x="1488644" y="8219"/>
                </a:lnTo>
                <a:lnTo>
                  <a:pt x="1553395" y="15004"/>
                </a:lnTo>
                <a:lnTo>
                  <a:pt x="1604572" y="20989"/>
                </a:lnTo>
                <a:lnTo>
                  <a:pt x="1650418" y="24499"/>
                </a:lnTo>
                <a:lnTo>
                  <a:pt x="1698726" y="26240"/>
                </a:lnTo>
                <a:lnTo>
                  <a:pt x="1727529" y="33135"/>
                </a:lnTo>
                <a:lnTo>
                  <a:pt x="1738359" y="33831"/>
                </a:lnTo>
                <a:lnTo>
                  <a:pt x="1738979" y="34818"/>
                </a:lnTo>
                <a:lnTo>
                  <a:pt x="1740218" y="4250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MARTPenAnnotation587"/>
          <p:cNvSpPr/>
          <p:nvPr/>
        </p:nvSpPr>
        <p:spPr>
          <a:xfrm>
            <a:off x="906480" y="4122720"/>
            <a:ext cx="65160" cy="385920"/>
          </a:xfrm>
          <a:custGeom>
            <a:avLst/>
            <a:gdLst>
              <a:gd name="textAreaLeft" fmla="*/ 0 w 65160"/>
              <a:gd name="textAreaRight" fmla="*/ 65520 w 6516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64877" h="385764">
                <a:moveTo>
                  <a:pt x="22014" y="0"/>
                </a:moveTo>
                <a:lnTo>
                  <a:pt x="13546" y="0"/>
                </a:lnTo>
                <a:lnTo>
                  <a:pt x="13443" y="10956"/>
                </a:lnTo>
                <a:lnTo>
                  <a:pt x="13442" y="13019"/>
                </a:lnTo>
                <a:lnTo>
                  <a:pt x="12489" y="15347"/>
                </a:lnTo>
                <a:lnTo>
                  <a:pt x="10902" y="17851"/>
                </a:lnTo>
                <a:lnTo>
                  <a:pt x="8891" y="20473"/>
                </a:lnTo>
                <a:lnTo>
                  <a:pt x="7550" y="23174"/>
                </a:lnTo>
                <a:lnTo>
                  <a:pt x="6061" y="28715"/>
                </a:lnTo>
                <a:lnTo>
                  <a:pt x="5222" y="37189"/>
                </a:lnTo>
                <a:lnTo>
                  <a:pt x="4152" y="40985"/>
                </a:lnTo>
                <a:lnTo>
                  <a:pt x="2486" y="45421"/>
                </a:lnTo>
                <a:lnTo>
                  <a:pt x="423" y="50283"/>
                </a:lnTo>
                <a:lnTo>
                  <a:pt x="0" y="54477"/>
                </a:lnTo>
                <a:lnTo>
                  <a:pt x="670" y="58226"/>
                </a:lnTo>
                <a:lnTo>
                  <a:pt x="2070" y="61677"/>
                </a:lnTo>
                <a:lnTo>
                  <a:pt x="3625" y="70592"/>
                </a:lnTo>
                <a:lnTo>
                  <a:pt x="4316" y="79952"/>
                </a:lnTo>
                <a:lnTo>
                  <a:pt x="4705" y="91529"/>
                </a:lnTo>
                <a:lnTo>
                  <a:pt x="4796" y="101322"/>
                </a:lnTo>
                <a:lnTo>
                  <a:pt x="5773" y="106600"/>
                </a:lnTo>
                <a:lnTo>
                  <a:pt x="7377" y="112025"/>
                </a:lnTo>
                <a:lnTo>
                  <a:pt x="9398" y="117545"/>
                </a:lnTo>
                <a:lnTo>
                  <a:pt x="10746" y="123131"/>
                </a:lnTo>
                <a:lnTo>
                  <a:pt x="12243" y="134418"/>
                </a:lnTo>
                <a:lnTo>
                  <a:pt x="12909" y="145784"/>
                </a:lnTo>
                <a:lnTo>
                  <a:pt x="13087" y="151482"/>
                </a:lnTo>
                <a:lnTo>
                  <a:pt x="14157" y="158138"/>
                </a:lnTo>
                <a:lnTo>
                  <a:pt x="15824" y="165433"/>
                </a:lnTo>
                <a:lnTo>
                  <a:pt x="17887" y="173154"/>
                </a:lnTo>
                <a:lnTo>
                  <a:pt x="19263" y="180206"/>
                </a:lnTo>
                <a:lnTo>
                  <a:pt x="20180" y="186812"/>
                </a:lnTo>
                <a:lnTo>
                  <a:pt x="20791" y="193122"/>
                </a:lnTo>
                <a:lnTo>
                  <a:pt x="21199" y="199233"/>
                </a:lnTo>
                <a:lnTo>
                  <a:pt x="21652" y="211103"/>
                </a:lnTo>
                <a:lnTo>
                  <a:pt x="22725" y="216935"/>
                </a:lnTo>
                <a:lnTo>
                  <a:pt x="24393" y="222728"/>
                </a:lnTo>
                <a:lnTo>
                  <a:pt x="28786" y="235198"/>
                </a:lnTo>
                <a:lnTo>
                  <a:pt x="33914" y="250265"/>
                </a:lnTo>
                <a:lnTo>
                  <a:pt x="35662" y="257331"/>
                </a:lnTo>
                <a:lnTo>
                  <a:pt x="36828" y="263947"/>
                </a:lnTo>
                <a:lnTo>
                  <a:pt x="37605" y="270262"/>
                </a:lnTo>
                <a:lnTo>
                  <a:pt x="38123" y="276377"/>
                </a:lnTo>
                <a:lnTo>
                  <a:pt x="38698" y="288252"/>
                </a:lnTo>
                <a:lnTo>
                  <a:pt x="39804" y="294085"/>
                </a:lnTo>
                <a:lnTo>
                  <a:pt x="41494" y="299880"/>
                </a:lnTo>
                <a:lnTo>
                  <a:pt x="43573" y="305647"/>
                </a:lnTo>
                <a:lnTo>
                  <a:pt x="44007" y="310445"/>
                </a:lnTo>
                <a:lnTo>
                  <a:pt x="43343" y="314596"/>
                </a:lnTo>
                <a:lnTo>
                  <a:pt x="41949" y="318315"/>
                </a:lnTo>
                <a:lnTo>
                  <a:pt x="41971" y="322701"/>
                </a:lnTo>
                <a:lnTo>
                  <a:pt x="42939" y="327529"/>
                </a:lnTo>
                <a:lnTo>
                  <a:pt x="44536" y="332652"/>
                </a:lnTo>
                <a:lnTo>
                  <a:pt x="46311" y="340886"/>
                </a:lnTo>
                <a:lnTo>
                  <a:pt x="47100" y="348672"/>
                </a:lnTo>
                <a:lnTo>
                  <a:pt x="47451" y="358483"/>
                </a:lnTo>
                <a:lnTo>
                  <a:pt x="48497" y="361861"/>
                </a:lnTo>
                <a:lnTo>
                  <a:pt x="50147" y="364113"/>
                </a:lnTo>
                <a:lnTo>
                  <a:pt x="52199" y="365615"/>
                </a:lnTo>
                <a:lnTo>
                  <a:pt x="53567" y="367568"/>
                </a:lnTo>
                <a:lnTo>
                  <a:pt x="55493" y="373916"/>
                </a:lnTo>
                <a:lnTo>
                  <a:pt x="55944" y="375735"/>
                </a:lnTo>
                <a:lnTo>
                  <a:pt x="57016" y="377172"/>
                </a:lnTo>
                <a:lnTo>
                  <a:pt x="58684" y="379084"/>
                </a:lnTo>
                <a:lnTo>
                  <a:pt x="64855" y="385739"/>
                </a:lnTo>
                <a:lnTo>
                  <a:pt x="64876" y="3857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MARTPenAnnotation588"/>
          <p:cNvSpPr/>
          <p:nvPr/>
        </p:nvSpPr>
        <p:spPr>
          <a:xfrm>
            <a:off x="1168560" y="4140360"/>
            <a:ext cx="60120" cy="350640"/>
          </a:xfrm>
          <a:custGeom>
            <a:avLst/>
            <a:gdLst>
              <a:gd name="textAreaLeft" fmla="*/ 0 w 60120"/>
              <a:gd name="textAreaRight" fmla="*/ 60480 w 6012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60008" h="349882">
                <a:moveTo>
                  <a:pt x="0" y="0"/>
                </a:moveTo>
                <a:lnTo>
                  <a:pt x="0" y="17321"/>
                </a:lnTo>
                <a:lnTo>
                  <a:pt x="952" y="21072"/>
                </a:lnTo>
                <a:lnTo>
                  <a:pt x="2540" y="24526"/>
                </a:lnTo>
                <a:lnTo>
                  <a:pt x="4551" y="27781"/>
                </a:lnTo>
                <a:lnTo>
                  <a:pt x="5891" y="31855"/>
                </a:lnTo>
                <a:lnTo>
                  <a:pt x="7381" y="41463"/>
                </a:lnTo>
                <a:lnTo>
                  <a:pt x="8043" y="52083"/>
                </a:lnTo>
                <a:lnTo>
                  <a:pt x="8337" y="63153"/>
                </a:lnTo>
                <a:lnTo>
                  <a:pt x="8468" y="74423"/>
                </a:lnTo>
                <a:lnTo>
                  <a:pt x="9455" y="81048"/>
                </a:lnTo>
                <a:lnTo>
                  <a:pt x="11066" y="88322"/>
                </a:lnTo>
                <a:lnTo>
                  <a:pt x="13092" y="96029"/>
                </a:lnTo>
                <a:lnTo>
                  <a:pt x="14443" y="104024"/>
                </a:lnTo>
                <a:lnTo>
                  <a:pt x="15344" y="112212"/>
                </a:lnTo>
                <a:lnTo>
                  <a:pt x="15944" y="120528"/>
                </a:lnTo>
                <a:lnTo>
                  <a:pt x="16344" y="127977"/>
                </a:lnTo>
                <a:lnTo>
                  <a:pt x="16789" y="141334"/>
                </a:lnTo>
                <a:lnTo>
                  <a:pt x="17860" y="148515"/>
                </a:lnTo>
                <a:lnTo>
                  <a:pt x="19527" y="156160"/>
                </a:lnTo>
                <a:lnTo>
                  <a:pt x="21590" y="164114"/>
                </a:lnTo>
                <a:lnTo>
                  <a:pt x="23919" y="171322"/>
                </a:lnTo>
                <a:lnTo>
                  <a:pt x="26423" y="178032"/>
                </a:lnTo>
                <a:lnTo>
                  <a:pt x="29045" y="184411"/>
                </a:lnTo>
                <a:lnTo>
                  <a:pt x="30794" y="191521"/>
                </a:lnTo>
                <a:lnTo>
                  <a:pt x="31959" y="199118"/>
                </a:lnTo>
                <a:lnTo>
                  <a:pt x="32736" y="207040"/>
                </a:lnTo>
                <a:lnTo>
                  <a:pt x="33254" y="214227"/>
                </a:lnTo>
                <a:lnTo>
                  <a:pt x="33599" y="220923"/>
                </a:lnTo>
                <a:lnTo>
                  <a:pt x="33829" y="227292"/>
                </a:lnTo>
                <a:lnTo>
                  <a:pt x="34935" y="233443"/>
                </a:lnTo>
                <a:lnTo>
                  <a:pt x="36625" y="239449"/>
                </a:lnTo>
                <a:lnTo>
                  <a:pt x="38704" y="245357"/>
                </a:lnTo>
                <a:lnTo>
                  <a:pt x="40090" y="251202"/>
                </a:lnTo>
                <a:lnTo>
                  <a:pt x="41014" y="257003"/>
                </a:lnTo>
                <a:lnTo>
                  <a:pt x="41630" y="262775"/>
                </a:lnTo>
                <a:lnTo>
                  <a:pt x="42041" y="268528"/>
                </a:lnTo>
                <a:lnTo>
                  <a:pt x="42315" y="274269"/>
                </a:lnTo>
                <a:lnTo>
                  <a:pt x="42700" y="288910"/>
                </a:lnTo>
                <a:lnTo>
                  <a:pt x="42853" y="318699"/>
                </a:lnTo>
                <a:lnTo>
                  <a:pt x="43809" y="322004"/>
                </a:lnTo>
                <a:lnTo>
                  <a:pt x="45398" y="325159"/>
                </a:lnTo>
                <a:lnTo>
                  <a:pt x="50243" y="332517"/>
                </a:lnTo>
                <a:lnTo>
                  <a:pt x="50905" y="336063"/>
                </a:lnTo>
                <a:lnTo>
                  <a:pt x="51330" y="346101"/>
                </a:lnTo>
                <a:lnTo>
                  <a:pt x="51404" y="349881"/>
                </a:lnTo>
                <a:lnTo>
                  <a:pt x="51432" y="343952"/>
                </a:lnTo>
                <a:lnTo>
                  <a:pt x="52386" y="343602"/>
                </a:lnTo>
                <a:lnTo>
                  <a:pt x="53974" y="343368"/>
                </a:lnTo>
                <a:lnTo>
                  <a:pt x="60007" y="3429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MARTPenAnnotation589"/>
          <p:cNvSpPr/>
          <p:nvPr/>
        </p:nvSpPr>
        <p:spPr>
          <a:xfrm>
            <a:off x="1400040" y="4122720"/>
            <a:ext cx="514440" cy="274680"/>
          </a:xfrm>
          <a:custGeom>
            <a:avLst/>
            <a:gdLst>
              <a:gd name="textAreaLeft" fmla="*/ 0 w 514440"/>
              <a:gd name="textAreaRight" fmla="*/ 514800 w 5144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514352" h="274318">
                <a:moveTo>
                  <a:pt x="0" y="68577"/>
                </a:moveTo>
                <a:lnTo>
                  <a:pt x="0" y="61196"/>
                </a:lnTo>
                <a:lnTo>
                  <a:pt x="5892" y="53396"/>
                </a:lnTo>
                <a:lnTo>
                  <a:pt x="7381" y="48177"/>
                </a:lnTo>
                <a:lnTo>
                  <a:pt x="8220" y="39884"/>
                </a:lnTo>
                <a:lnTo>
                  <a:pt x="9290" y="37066"/>
                </a:lnTo>
                <a:lnTo>
                  <a:pt x="13019" y="31395"/>
                </a:lnTo>
                <a:lnTo>
                  <a:pt x="20474" y="22847"/>
                </a:lnTo>
                <a:lnTo>
                  <a:pt x="24127" y="20946"/>
                </a:lnTo>
                <a:lnTo>
                  <a:pt x="37417" y="17317"/>
                </a:lnTo>
                <a:lnTo>
                  <a:pt x="48764" y="11585"/>
                </a:lnTo>
                <a:lnTo>
                  <a:pt x="63767" y="8510"/>
                </a:lnTo>
                <a:lnTo>
                  <a:pt x="79325" y="2943"/>
                </a:lnTo>
                <a:lnTo>
                  <a:pt x="91343" y="870"/>
                </a:lnTo>
                <a:lnTo>
                  <a:pt x="106546" y="256"/>
                </a:lnTo>
                <a:lnTo>
                  <a:pt x="134198" y="20"/>
                </a:lnTo>
                <a:lnTo>
                  <a:pt x="155832" y="0"/>
                </a:lnTo>
                <a:lnTo>
                  <a:pt x="164826" y="2539"/>
                </a:lnTo>
                <a:lnTo>
                  <a:pt x="174221" y="6842"/>
                </a:lnTo>
                <a:lnTo>
                  <a:pt x="184866" y="14619"/>
                </a:lnTo>
                <a:lnTo>
                  <a:pt x="195004" y="22956"/>
                </a:lnTo>
                <a:lnTo>
                  <a:pt x="208698" y="31459"/>
                </a:lnTo>
                <a:lnTo>
                  <a:pt x="219211" y="40011"/>
                </a:lnTo>
                <a:lnTo>
                  <a:pt x="225380" y="45721"/>
                </a:lnTo>
                <a:lnTo>
                  <a:pt x="227406" y="49530"/>
                </a:lnTo>
                <a:lnTo>
                  <a:pt x="228756" y="53974"/>
                </a:lnTo>
                <a:lnTo>
                  <a:pt x="229657" y="58841"/>
                </a:lnTo>
                <a:lnTo>
                  <a:pt x="231210" y="63992"/>
                </a:lnTo>
                <a:lnTo>
                  <a:pt x="233198" y="69330"/>
                </a:lnTo>
                <a:lnTo>
                  <a:pt x="235475" y="74794"/>
                </a:lnTo>
                <a:lnTo>
                  <a:pt x="236041" y="79389"/>
                </a:lnTo>
                <a:lnTo>
                  <a:pt x="235466" y="83405"/>
                </a:lnTo>
                <a:lnTo>
                  <a:pt x="234130" y="87035"/>
                </a:lnTo>
                <a:lnTo>
                  <a:pt x="233239" y="91360"/>
                </a:lnTo>
                <a:lnTo>
                  <a:pt x="232645" y="96148"/>
                </a:lnTo>
                <a:lnTo>
                  <a:pt x="232250" y="101245"/>
                </a:lnTo>
                <a:lnTo>
                  <a:pt x="231033" y="107501"/>
                </a:lnTo>
                <a:lnTo>
                  <a:pt x="229270" y="114529"/>
                </a:lnTo>
                <a:lnTo>
                  <a:pt x="227142" y="122072"/>
                </a:lnTo>
                <a:lnTo>
                  <a:pt x="224771" y="129005"/>
                </a:lnTo>
                <a:lnTo>
                  <a:pt x="222237" y="135532"/>
                </a:lnTo>
                <a:lnTo>
                  <a:pt x="219596" y="141789"/>
                </a:lnTo>
                <a:lnTo>
                  <a:pt x="216882" y="146913"/>
                </a:lnTo>
                <a:lnTo>
                  <a:pt x="211327" y="155146"/>
                </a:lnTo>
                <a:lnTo>
                  <a:pt x="207560" y="159627"/>
                </a:lnTo>
                <a:lnTo>
                  <a:pt x="203144" y="164520"/>
                </a:lnTo>
                <a:lnTo>
                  <a:pt x="198294" y="169686"/>
                </a:lnTo>
                <a:lnTo>
                  <a:pt x="187826" y="177967"/>
                </a:lnTo>
                <a:lnTo>
                  <a:pt x="182367" y="181509"/>
                </a:lnTo>
                <a:lnTo>
                  <a:pt x="177776" y="185775"/>
                </a:lnTo>
                <a:lnTo>
                  <a:pt x="173763" y="190524"/>
                </a:lnTo>
                <a:lnTo>
                  <a:pt x="170134" y="195595"/>
                </a:lnTo>
                <a:lnTo>
                  <a:pt x="161023" y="203770"/>
                </a:lnTo>
                <a:lnTo>
                  <a:pt x="150623" y="211530"/>
                </a:lnTo>
                <a:lnTo>
                  <a:pt x="145183" y="216267"/>
                </a:lnTo>
                <a:lnTo>
                  <a:pt x="135011" y="225657"/>
                </a:lnTo>
                <a:lnTo>
                  <a:pt x="123929" y="236299"/>
                </a:lnTo>
                <a:lnTo>
                  <a:pt x="117627" y="242497"/>
                </a:lnTo>
                <a:lnTo>
                  <a:pt x="109112" y="248427"/>
                </a:lnTo>
                <a:lnTo>
                  <a:pt x="99929" y="254238"/>
                </a:lnTo>
                <a:lnTo>
                  <a:pt x="90357" y="261912"/>
                </a:lnTo>
                <a:lnTo>
                  <a:pt x="81784" y="269791"/>
                </a:lnTo>
                <a:lnTo>
                  <a:pt x="78525" y="272976"/>
                </a:lnTo>
                <a:lnTo>
                  <a:pt x="77115" y="273423"/>
                </a:lnTo>
                <a:lnTo>
                  <a:pt x="72485" y="274052"/>
                </a:lnTo>
                <a:lnTo>
                  <a:pt x="86372" y="274312"/>
                </a:lnTo>
                <a:lnTo>
                  <a:pt x="475395" y="274317"/>
                </a:lnTo>
                <a:lnTo>
                  <a:pt x="480760" y="273365"/>
                </a:lnTo>
                <a:lnTo>
                  <a:pt x="493814" y="268425"/>
                </a:lnTo>
                <a:lnTo>
                  <a:pt x="509730" y="266274"/>
                </a:lnTo>
                <a:lnTo>
                  <a:pt x="511270" y="266098"/>
                </a:lnTo>
                <a:lnTo>
                  <a:pt x="512297" y="266932"/>
                </a:lnTo>
                <a:lnTo>
                  <a:pt x="512981" y="268442"/>
                </a:lnTo>
                <a:lnTo>
                  <a:pt x="514351" y="2743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MARTPenAnnotation590"/>
          <p:cNvSpPr/>
          <p:nvPr/>
        </p:nvSpPr>
        <p:spPr>
          <a:xfrm>
            <a:off x="1120680" y="4525920"/>
            <a:ext cx="219240" cy="343080"/>
          </a:xfrm>
          <a:custGeom>
            <a:avLst/>
            <a:gdLst>
              <a:gd name="textAreaLeft" fmla="*/ 0 w 219240"/>
              <a:gd name="textAreaRight" fmla="*/ 219600 w 2192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9161" h="342901">
                <a:moveTo>
                  <a:pt x="219160" y="0"/>
                </a:moveTo>
                <a:lnTo>
                  <a:pt x="219160" y="4552"/>
                </a:lnTo>
                <a:lnTo>
                  <a:pt x="218207" y="6844"/>
                </a:lnTo>
                <a:lnTo>
                  <a:pt x="212316" y="14623"/>
                </a:lnTo>
                <a:lnTo>
                  <a:pt x="207228" y="20152"/>
                </a:lnTo>
                <a:lnTo>
                  <a:pt x="199009" y="28620"/>
                </a:lnTo>
                <a:lnTo>
                  <a:pt x="193377" y="36850"/>
                </a:lnTo>
                <a:lnTo>
                  <a:pt x="187698" y="46858"/>
                </a:lnTo>
                <a:lnTo>
                  <a:pt x="181999" y="57656"/>
                </a:lnTo>
                <a:lnTo>
                  <a:pt x="178194" y="63203"/>
                </a:lnTo>
                <a:lnTo>
                  <a:pt x="173752" y="68806"/>
                </a:lnTo>
                <a:lnTo>
                  <a:pt x="168885" y="74445"/>
                </a:lnTo>
                <a:lnTo>
                  <a:pt x="164689" y="80110"/>
                </a:lnTo>
                <a:lnTo>
                  <a:pt x="160938" y="85792"/>
                </a:lnTo>
                <a:lnTo>
                  <a:pt x="157485" y="91485"/>
                </a:lnTo>
                <a:lnTo>
                  <a:pt x="153279" y="97185"/>
                </a:lnTo>
                <a:lnTo>
                  <a:pt x="148569" y="102891"/>
                </a:lnTo>
                <a:lnTo>
                  <a:pt x="143524" y="108599"/>
                </a:lnTo>
                <a:lnTo>
                  <a:pt x="132839" y="120021"/>
                </a:lnTo>
                <a:lnTo>
                  <a:pt x="127323" y="125735"/>
                </a:lnTo>
                <a:lnTo>
                  <a:pt x="122693" y="132401"/>
                </a:lnTo>
                <a:lnTo>
                  <a:pt x="118653" y="139702"/>
                </a:lnTo>
                <a:lnTo>
                  <a:pt x="108418" y="161091"/>
                </a:lnTo>
                <a:lnTo>
                  <a:pt x="105327" y="167402"/>
                </a:lnTo>
                <a:lnTo>
                  <a:pt x="101361" y="173514"/>
                </a:lnTo>
                <a:lnTo>
                  <a:pt x="96813" y="179494"/>
                </a:lnTo>
                <a:lnTo>
                  <a:pt x="91875" y="185385"/>
                </a:lnTo>
                <a:lnTo>
                  <a:pt x="86678" y="191218"/>
                </a:lnTo>
                <a:lnTo>
                  <a:pt x="75824" y="202779"/>
                </a:lnTo>
                <a:lnTo>
                  <a:pt x="71215" y="209481"/>
                </a:lnTo>
                <a:lnTo>
                  <a:pt x="67190" y="216807"/>
                </a:lnTo>
                <a:lnTo>
                  <a:pt x="63554" y="224548"/>
                </a:lnTo>
                <a:lnTo>
                  <a:pt x="59225" y="231614"/>
                </a:lnTo>
                <a:lnTo>
                  <a:pt x="54434" y="238230"/>
                </a:lnTo>
                <a:lnTo>
                  <a:pt x="49335" y="244545"/>
                </a:lnTo>
                <a:lnTo>
                  <a:pt x="44984" y="250660"/>
                </a:lnTo>
                <a:lnTo>
                  <a:pt x="41130" y="256642"/>
                </a:lnTo>
                <a:lnTo>
                  <a:pt x="37608" y="262535"/>
                </a:lnTo>
                <a:lnTo>
                  <a:pt x="31155" y="271623"/>
                </a:lnTo>
                <a:lnTo>
                  <a:pt x="28101" y="275380"/>
                </a:lnTo>
                <a:lnTo>
                  <a:pt x="26065" y="279789"/>
                </a:lnTo>
                <a:lnTo>
                  <a:pt x="23802" y="289769"/>
                </a:lnTo>
                <a:lnTo>
                  <a:pt x="22797" y="298014"/>
                </a:lnTo>
                <a:lnTo>
                  <a:pt x="22529" y="301546"/>
                </a:lnTo>
                <a:lnTo>
                  <a:pt x="21397" y="304853"/>
                </a:lnTo>
                <a:lnTo>
                  <a:pt x="17600" y="311069"/>
                </a:lnTo>
                <a:lnTo>
                  <a:pt x="12738" y="317006"/>
                </a:lnTo>
                <a:lnTo>
                  <a:pt x="10108" y="319922"/>
                </a:lnTo>
                <a:lnTo>
                  <a:pt x="8354" y="322819"/>
                </a:lnTo>
                <a:lnTo>
                  <a:pt x="6406" y="328578"/>
                </a:lnTo>
                <a:lnTo>
                  <a:pt x="5309" y="337176"/>
                </a:lnTo>
                <a:lnTo>
                  <a:pt x="4203" y="339084"/>
                </a:lnTo>
                <a:lnTo>
                  <a:pt x="2513" y="340356"/>
                </a:lnTo>
                <a:lnTo>
                  <a:pt x="433" y="341204"/>
                </a:lnTo>
                <a:lnTo>
                  <a:pt x="0" y="341770"/>
                </a:lnTo>
                <a:lnTo>
                  <a:pt x="663" y="342147"/>
                </a:lnTo>
                <a:lnTo>
                  <a:pt x="4847" y="3429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MARTPenAnnotation591"/>
          <p:cNvSpPr/>
          <p:nvPr/>
        </p:nvSpPr>
        <p:spPr>
          <a:xfrm>
            <a:off x="739800" y="4869000"/>
            <a:ext cx="325440" cy="334800"/>
          </a:xfrm>
          <a:custGeom>
            <a:avLst/>
            <a:gdLst>
              <a:gd name="textAreaLeft" fmla="*/ 0 w 325440"/>
              <a:gd name="textAreaRight" fmla="*/ 325800 w 32544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324818" h="334295">
                <a:moveTo>
                  <a:pt x="179624" y="17146"/>
                </a:moveTo>
                <a:lnTo>
                  <a:pt x="179624" y="9765"/>
                </a:lnTo>
                <a:lnTo>
                  <a:pt x="180577" y="9367"/>
                </a:lnTo>
                <a:lnTo>
                  <a:pt x="188092" y="8582"/>
                </a:lnTo>
                <a:lnTo>
                  <a:pt x="188188" y="1193"/>
                </a:lnTo>
                <a:lnTo>
                  <a:pt x="187238" y="795"/>
                </a:lnTo>
                <a:lnTo>
                  <a:pt x="180399" y="236"/>
                </a:lnTo>
                <a:lnTo>
                  <a:pt x="171714" y="105"/>
                </a:lnTo>
                <a:lnTo>
                  <a:pt x="166730" y="1023"/>
                </a:lnTo>
                <a:lnTo>
                  <a:pt x="161503" y="2587"/>
                </a:lnTo>
                <a:lnTo>
                  <a:pt x="156114" y="4582"/>
                </a:lnTo>
                <a:lnTo>
                  <a:pt x="150616" y="5913"/>
                </a:lnTo>
                <a:lnTo>
                  <a:pt x="145045" y="6800"/>
                </a:lnTo>
                <a:lnTo>
                  <a:pt x="139427" y="7391"/>
                </a:lnTo>
                <a:lnTo>
                  <a:pt x="133776" y="7785"/>
                </a:lnTo>
                <a:lnTo>
                  <a:pt x="128104" y="8048"/>
                </a:lnTo>
                <a:lnTo>
                  <a:pt x="122417" y="8222"/>
                </a:lnTo>
                <a:lnTo>
                  <a:pt x="116721" y="9292"/>
                </a:lnTo>
                <a:lnTo>
                  <a:pt x="111019" y="10958"/>
                </a:lnTo>
                <a:lnTo>
                  <a:pt x="98651" y="15348"/>
                </a:lnTo>
                <a:lnTo>
                  <a:pt x="83628" y="20474"/>
                </a:lnTo>
                <a:lnTo>
                  <a:pt x="76575" y="23175"/>
                </a:lnTo>
                <a:lnTo>
                  <a:pt x="69967" y="25928"/>
                </a:lnTo>
                <a:lnTo>
                  <a:pt x="63657" y="28715"/>
                </a:lnTo>
                <a:lnTo>
                  <a:pt x="57545" y="30574"/>
                </a:lnTo>
                <a:lnTo>
                  <a:pt x="51566" y="31812"/>
                </a:lnTo>
                <a:lnTo>
                  <a:pt x="45674" y="32639"/>
                </a:lnTo>
                <a:lnTo>
                  <a:pt x="36589" y="36096"/>
                </a:lnTo>
                <a:lnTo>
                  <a:pt x="29375" y="40808"/>
                </a:lnTo>
                <a:lnTo>
                  <a:pt x="19959" y="48816"/>
                </a:lnTo>
                <a:lnTo>
                  <a:pt x="9915" y="58346"/>
                </a:lnTo>
                <a:lnTo>
                  <a:pt x="4139" y="64067"/>
                </a:lnTo>
                <a:lnTo>
                  <a:pt x="2627" y="66524"/>
                </a:lnTo>
                <a:lnTo>
                  <a:pt x="0" y="75565"/>
                </a:lnTo>
                <a:lnTo>
                  <a:pt x="820" y="77047"/>
                </a:lnTo>
                <a:lnTo>
                  <a:pt x="8979" y="86269"/>
                </a:lnTo>
                <a:lnTo>
                  <a:pt x="11569" y="88945"/>
                </a:lnTo>
                <a:lnTo>
                  <a:pt x="19525" y="94459"/>
                </a:lnTo>
                <a:lnTo>
                  <a:pt x="24314" y="97263"/>
                </a:lnTo>
                <a:lnTo>
                  <a:pt x="30364" y="100084"/>
                </a:lnTo>
                <a:lnTo>
                  <a:pt x="37255" y="102918"/>
                </a:lnTo>
                <a:lnTo>
                  <a:pt x="44707" y="105760"/>
                </a:lnTo>
                <a:lnTo>
                  <a:pt x="60606" y="111457"/>
                </a:lnTo>
                <a:lnTo>
                  <a:pt x="68846" y="114310"/>
                </a:lnTo>
                <a:lnTo>
                  <a:pt x="76245" y="117165"/>
                </a:lnTo>
                <a:lnTo>
                  <a:pt x="83082" y="120020"/>
                </a:lnTo>
                <a:lnTo>
                  <a:pt x="89545" y="122876"/>
                </a:lnTo>
                <a:lnTo>
                  <a:pt x="97664" y="125732"/>
                </a:lnTo>
                <a:lnTo>
                  <a:pt x="106887" y="128589"/>
                </a:lnTo>
                <a:lnTo>
                  <a:pt x="126341" y="134304"/>
                </a:lnTo>
                <a:lnTo>
                  <a:pt x="162114" y="145733"/>
                </a:lnTo>
                <a:lnTo>
                  <a:pt x="170809" y="148591"/>
                </a:lnTo>
                <a:lnTo>
                  <a:pt x="179462" y="152400"/>
                </a:lnTo>
                <a:lnTo>
                  <a:pt x="188089" y="156846"/>
                </a:lnTo>
                <a:lnTo>
                  <a:pt x="196697" y="161714"/>
                </a:lnTo>
                <a:lnTo>
                  <a:pt x="205294" y="165912"/>
                </a:lnTo>
                <a:lnTo>
                  <a:pt x="213882" y="169663"/>
                </a:lnTo>
                <a:lnTo>
                  <a:pt x="222466" y="173117"/>
                </a:lnTo>
                <a:lnTo>
                  <a:pt x="230093" y="176371"/>
                </a:lnTo>
                <a:lnTo>
                  <a:pt x="243647" y="182527"/>
                </a:lnTo>
                <a:lnTo>
                  <a:pt x="250881" y="186455"/>
                </a:lnTo>
                <a:lnTo>
                  <a:pt x="258562" y="190979"/>
                </a:lnTo>
                <a:lnTo>
                  <a:pt x="266539" y="195899"/>
                </a:lnTo>
                <a:lnTo>
                  <a:pt x="272810" y="201085"/>
                </a:lnTo>
                <a:lnTo>
                  <a:pt x="277943" y="206447"/>
                </a:lnTo>
                <a:lnTo>
                  <a:pt x="287139" y="216532"/>
                </a:lnTo>
                <a:lnTo>
                  <a:pt x="292258" y="220555"/>
                </a:lnTo>
                <a:lnTo>
                  <a:pt x="297576" y="224189"/>
                </a:lnTo>
                <a:lnTo>
                  <a:pt x="306025" y="233307"/>
                </a:lnTo>
                <a:lnTo>
                  <a:pt x="312955" y="242758"/>
                </a:lnTo>
                <a:lnTo>
                  <a:pt x="319210" y="250132"/>
                </a:lnTo>
                <a:lnTo>
                  <a:pt x="321259" y="254385"/>
                </a:lnTo>
                <a:lnTo>
                  <a:pt x="323536" y="264190"/>
                </a:lnTo>
                <a:lnTo>
                  <a:pt x="324547" y="272359"/>
                </a:lnTo>
                <a:lnTo>
                  <a:pt x="324817" y="275870"/>
                </a:lnTo>
                <a:lnTo>
                  <a:pt x="324045" y="279164"/>
                </a:lnTo>
                <a:lnTo>
                  <a:pt x="319359" y="288350"/>
                </a:lnTo>
                <a:lnTo>
                  <a:pt x="317929" y="294208"/>
                </a:lnTo>
                <a:lnTo>
                  <a:pt x="314753" y="299987"/>
                </a:lnTo>
                <a:lnTo>
                  <a:pt x="312573" y="302861"/>
                </a:lnTo>
                <a:lnTo>
                  <a:pt x="310150" y="308596"/>
                </a:lnTo>
                <a:lnTo>
                  <a:pt x="309504" y="311458"/>
                </a:lnTo>
                <a:lnTo>
                  <a:pt x="306246" y="317178"/>
                </a:lnTo>
                <a:lnTo>
                  <a:pt x="304044" y="320037"/>
                </a:lnTo>
                <a:lnTo>
                  <a:pt x="300671" y="321944"/>
                </a:lnTo>
                <a:lnTo>
                  <a:pt x="291843" y="324061"/>
                </a:lnTo>
                <a:lnTo>
                  <a:pt x="284109" y="327543"/>
                </a:lnTo>
                <a:lnTo>
                  <a:pt x="280713" y="329804"/>
                </a:lnTo>
                <a:lnTo>
                  <a:pt x="271860" y="332318"/>
                </a:lnTo>
                <a:lnTo>
                  <a:pt x="262528" y="333434"/>
                </a:lnTo>
                <a:lnTo>
                  <a:pt x="255206" y="333931"/>
                </a:lnTo>
                <a:lnTo>
                  <a:pt x="246236" y="334152"/>
                </a:lnTo>
                <a:lnTo>
                  <a:pt x="229506" y="334294"/>
                </a:lnTo>
                <a:lnTo>
                  <a:pt x="220527" y="331773"/>
                </a:lnTo>
                <a:lnTo>
                  <a:pt x="211138" y="328430"/>
                </a:lnTo>
                <a:lnTo>
                  <a:pt x="203791" y="326944"/>
                </a:lnTo>
                <a:lnTo>
                  <a:pt x="197350" y="323744"/>
                </a:lnTo>
                <a:lnTo>
                  <a:pt x="194299" y="321557"/>
                </a:lnTo>
                <a:lnTo>
                  <a:pt x="192265" y="319147"/>
                </a:lnTo>
                <a:lnTo>
                  <a:pt x="190909" y="316587"/>
                </a:lnTo>
                <a:lnTo>
                  <a:pt x="190005" y="313929"/>
                </a:lnTo>
                <a:lnTo>
                  <a:pt x="187497" y="312156"/>
                </a:lnTo>
                <a:lnTo>
                  <a:pt x="179631" y="310187"/>
                </a:lnTo>
                <a:lnTo>
                  <a:pt x="176771" y="307756"/>
                </a:lnTo>
                <a:lnTo>
                  <a:pt x="174865" y="304231"/>
                </a:lnTo>
                <a:lnTo>
                  <a:pt x="173594" y="299976"/>
                </a:lnTo>
                <a:lnTo>
                  <a:pt x="169642" y="292708"/>
                </a:lnTo>
                <a:lnTo>
                  <a:pt x="167254" y="289437"/>
                </a:lnTo>
                <a:lnTo>
                  <a:pt x="164602" y="283261"/>
                </a:lnTo>
                <a:lnTo>
                  <a:pt x="163894" y="280281"/>
                </a:lnTo>
                <a:lnTo>
                  <a:pt x="160568" y="274429"/>
                </a:lnTo>
                <a:lnTo>
                  <a:pt x="158348" y="271535"/>
                </a:lnTo>
                <a:lnTo>
                  <a:pt x="155881" y="265781"/>
                </a:lnTo>
                <a:lnTo>
                  <a:pt x="154784" y="259095"/>
                </a:lnTo>
                <a:lnTo>
                  <a:pt x="154297" y="249774"/>
                </a:lnTo>
                <a:lnTo>
                  <a:pt x="155119" y="245574"/>
                </a:lnTo>
                <a:lnTo>
                  <a:pt x="158573" y="238367"/>
                </a:lnTo>
                <a:lnTo>
                  <a:pt x="165873" y="228954"/>
                </a:lnTo>
                <a:lnTo>
                  <a:pt x="167599" y="225027"/>
                </a:lnTo>
                <a:lnTo>
                  <a:pt x="169517" y="215583"/>
                </a:lnTo>
                <a:lnTo>
                  <a:pt x="172910" y="207575"/>
                </a:lnTo>
                <a:lnTo>
                  <a:pt x="180175" y="197712"/>
                </a:lnTo>
                <a:lnTo>
                  <a:pt x="185584" y="190742"/>
                </a:lnTo>
                <a:lnTo>
                  <a:pt x="191163" y="181294"/>
                </a:lnTo>
                <a:lnTo>
                  <a:pt x="196818" y="173286"/>
                </a:lnTo>
                <a:lnTo>
                  <a:pt x="202506" y="165599"/>
                </a:lnTo>
                <a:lnTo>
                  <a:pt x="208209" y="155832"/>
                </a:lnTo>
                <a:lnTo>
                  <a:pt x="213919" y="147682"/>
                </a:lnTo>
                <a:lnTo>
                  <a:pt x="219631" y="139931"/>
                </a:lnTo>
                <a:lnTo>
                  <a:pt x="225345" y="130137"/>
                </a:lnTo>
                <a:lnTo>
                  <a:pt x="228520" y="121974"/>
                </a:lnTo>
                <a:lnTo>
                  <a:pt x="229931" y="114219"/>
                </a:lnTo>
                <a:lnTo>
                  <a:pt x="230558" y="104422"/>
                </a:lnTo>
                <a:lnTo>
                  <a:pt x="231677" y="99142"/>
                </a:lnTo>
                <a:lnTo>
                  <a:pt x="233377" y="93717"/>
                </a:lnTo>
                <a:lnTo>
                  <a:pt x="236852" y="83563"/>
                </a:lnTo>
                <a:lnTo>
                  <a:pt x="238396" y="75874"/>
                </a:lnTo>
                <a:lnTo>
                  <a:pt x="239083" y="66742"/>
                </a:lnTo>
                <a:lnTo>
                  <a:pt x="239266" y="61640"/>
                </a:lnTo>
                <a:lnTo>
                  <a:pt x="238435" y="57286"/>
                </a:lnTo>
                <a:lnTo>
                  <a:pt x="233668" y="46607"/>
                </a:lnTo>
                <a:lnTo>
                  <a:pt x="232219" y="40400"/>
                </a:lnTo>
                <a:lnTo>
                  <a:pt x="229035" y="34466"/>
                </a:lnTo>
                <a:lnTo>
                  <a:pt x="226852" y="31550"/>
                </a:lnTo>
                <a:lnTo>
                  <a:pt x="224427" y="25770"/>
                </a:lnTo>
                <a:lnTo>
                  <a:pt x="223062" y="17161"/>
                </a:lnTo>
                <a:lnTo>
                  <a:pt x="222657" y="8578"/>
                </a:lnTo>
                <a:lnTo>
                  <a:pt x="222600" y="5719"/>
                </a:lnTo>
                <a:lnTo>
                  <a:pt x="221610" y="3813"/>
                </a:lnTo>
                <a:lnTo>
                  <a:pt x="219997" y="2542"/>
                </a:lnTo>
                <a:lnTo>
                  <a:pt x="2139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MARTPenAnnotation592"/>
          <p:cNvSpPr/>
          <p:nvPr/>
        </p:nvSpPr>
        <p:spPr>
          <a:xfrm>
            <a:off x="399960" y="4697280"/>
            <a:ext cx="478080" cy="463680"/>
          </a:xfrm>
          <a:custGeom>
            <a:avLst/>
            <a:gdLst>
              <a:gd name="textAreaLeft" fmla="*/ 0 w 478080"/>
              <a:gd name="textAreaRight" fmla="*/ 478440 w 4780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476427" h="462882">
                <a:moveTo>
                  <a:pt x="4938" y="300038"/>
                </a:moveTo>
                <a:lnTo>
                  <a:pt x="388" y="300038"/>
                </a:lnTo>
                <a:lnTo>
                  <a:pt x="0" y="300991"/>
                </a:lnTo>
                <a:lnTo>
                  <a:pt x="693" y="302578"/>
                </a:lnTo>
                <a:lnTo>
                  <a:pt x="4690" y="308258"/>
                </a:lnTo>
                <a:lnTo>
                  <a:pt x="9416" y="313057"/>
                </a:lnTo>
                <a:lnTo>
                  <a:pt x="16848" y="325062"/>
                </a:lnTo>
                <a:lnTo>
                  <a:pt x="25083" y="336134"/>
                </a:lnTo>
                <a:lnTo>
                  <a:pt x="33259" y="342433"/>
                </a:lnTo>
                <a:lnTo>
                  <a:pt x="38106" y="345447"/>
                </a:lnTo>
                <a:lnTo>
                  <a:pt x="46032" y="353875"/>
                </a:lnTo>
                <a:lnTo>
                  <a:pt x="55849" y="366790"/>
                </a:lnTo>
                <a:lnTo>
                  <a:pt x="58882" y="370257"/>
                </a:lnTo>
                <a:lnTo>
                  <a:pt x="72251" y="379687"/>
                </a:lnTo>
                <a:lnTo>
                  <a:pt x="80258" y="388143"/>
                </a:lnTo>
                <a:lnTo>
                  <a:pt x="83726" y="393064"/>
                </a:lnTo>
                <a:lnTo>
                  <a:pt x="92660" y="401073"/>
                </a:lnTo>
                <a:lnTo>
                  <a:pt x="105860" y="410937"/>
                </a:lnTo>
                <a:lnTo>
                  <a:pt x="118344" y="422432"/>
                </a:lnTo>
                <a:lnTo>
                  <a:pt x="135078" y="438832"/>
                </a:lnTo>
                <a:lnTo>
                  <a:pt x="149120" y="448266"/>
                </a:lnTo>
                <a:lnTo>
                  <a:pt x="157284" y="451642"/>
                </a:lnTo>
                <a:lnTo>
                  <a:pt x="160795" y="452542"/>
                </a:lnTo>
                <a:lnTo>
                  <a:pt x="167235" y="456083"/>
                </a:lnTo>
                <a:lnTo>
                  <a:pt x="175853" y="462516"/>
                </a:lnTo>
                <a:lnTo>
                  <a:pt x="183722" y="462881"/>
                </a:lnTo>
                <a:lnTo>
                  <a:pt x="189145" y="458354"/>
                </a:lnTo>
                <a:lnTo>
                  <a:pt x="190608" y="456065"/>
                </a:lnTo>
                <a:lnTo>
                  <a:pt x="192233" y="450981"/>
                </a:lnTo>
                <a:lnTo>
                  <a:pt x="193362" y="437131"/>
                </a:lnTo>
                <a:lnTo>
                  <a:pt x="193483" y="426066"/>
                </a:lnTo>
                <a:lnTo>
                  <a:pt x="193531" y="383920"/>
                </a:lnTo>
                <a:lnTo>
                  <a:pt x="190992" y="370339"/>
                </a:lnTo>
                <a:lnTo>
                  <a:pt x="187642" y="357000"/>
                </a:lnTo>
                <a:lnTo>
                  <a:pt x="186748" y="349443"/>
                </a:lnTo>
                <a:lnTo>
                  <a:pt x="186152" y="341547"/>
                </a:lnTo>
                <a:lnTo>
                  <a:pt x="185490" y="327694"/>
                </a:lnTo>
                <a:lnTo>
                  <a:pt x="184244" y="315187"/>
                </a:lnTo>
                <a:lnTo>
                  <a:pt x="180515" y="303278"/>
                </a:lnTo>
                <a:lnTo>
                  <a:pt x="178222" y="289096"/>
                </a:lnTo>
                <a:lnTo>
                  <a:pt x="177611" y="281313"/>
                </a:lnTo>
                <a:lnTo>
                  <a:pt x="177203" y="273267"/>
                </a:lnTo>
                <a:lnTo>
                  <a:pt x="176751" y="256707"/>
                </a:lnTo>
                <a:lnTo>
                  <a:pt x="174009" y="242363"/>
                </a:lnTo>
                <a:lnTo>
                  <a:pt x="170569" y="229637"/>
                </a:lnTo>
                <a:lnTo>
                  <a:pt x="169039" y="217631"/>
                </a:lnTo>
                <a:lnTo>
                  <a:pt x="168360" y="203405"/>
                </a:lnTo>
                <a:lnTo>
                  <a:pt x="167977" y="181871"/>
                </a:lnTo>
                <a:lnTo>
                  <a:pt x="167819" y="130286"/>
                </a:lnTo>
                <a:lnTo>
                  <a:pt x="168770" y="125910"/>
                </a:lnTo>
                <a:lnTo>
                  <a:pt x="173708" y="114248"/>
                </a:lnTo>
                <a:lnTo>
                  <a:pt x="175594" y="101056"/>
                </a:lnTo>
                <a:lnTo>
                  <a:pt x="176035" y="97302"/>
                </a:lnTo>
                <a:lnTo>
                  <a:pt x="178772" y="93093"/>
                </a:lnTo>
                <a:lnTo>
                  <a:pt x="180835" y="90637"/>
                </a:lnTo>
                <a:lnTo>
                  <a:pt x="182210" y="88048"/>
                </a:lnTo>
                <a:lnTo>
                  <a:pt x="184599" y="78776"/>
                </a:lnTo>
                <a:lnTo>
                  <a:pt x="189404" y="73084"/>
                </a:lnTo>
                <a:lnTo>
                  <a:pt x="191733" y="71582"/>
                </a:lnTo>
                <a:lnTo>
                  <a:pt x="199562" y="68518"/>
                </a:lnTo>
                <a:lnTo>
                  <a:pt x="207914" y="62953"/>
                </a:lnTo>
                <a:lnTo>
                  <a:pt x="216421" y="59928"/>
                </a:lnTo>
                <a:lnTo>
                  <a:pt x="222121" y="55845"/>
                </a:lnTo>
                <a:lnTo>
                  <a:pt x="225927" y="54375"/>
                </a:lnTo>
                <a:lnTo>
                  <a:pt x="240385" y="51354"/>
                </a:lnTo>
                <a:lnTo>
                  <a:pt x="251186" y="47272"/>
                </a:lnTo>
                <a:lnTo>
                  <a:pt x="263427" y="44169"/>
                </a:lnTo>
                <a:lnTo>
                  <a:pt x="277637" y="43250"/>
                </a:lnTo>
                <a:lnTo>
                  <a:pt x="290920" y="40495"/>
                </a:lnTo>
                <a:lnTo>
                  <a:pt x="305396" y="37049"/>
                </a:lnTo>
                <a:lnTo>
                  <a:pt x="318180" y="35516"/>
                </a:lnTo>
                <a:lnTo>
                  <a:pt x="330212" y="32295"/>
                </a:lnTo>
                <a:lnTo>
                  <a:pt x="342862" y="28641"/>
                </a:lnTo>
                <a:lnTo>
                  <a:pt x="350236" y="27667"/>
                </a:lnTo>
                <a:lnTo>
                  <a:pt x="365096" y="25632"/>
                </a:lnTo>
                <a:lnTo>
                  <a:pt x="378051" y="21552"/>
                </a:lnTo>
                <a:lnTo>
                  <a:pt x="390159" y="19104"/>
                </a:lnTo>
                <a:lnTo>
                  <a:pt x="400937" y="18016"/>
                </a:lnTo>
                <a:lnTo>
                  <a:pt x="408903" y="17533"/>
                </a:lnTo>
                <a:lnTo>
                  <a:pt x="423293" y="12710"/>
                </a:lnTo>
                <a:lnTo>
                  <a:pt x="437426" y="9391"/>
                </a:lnTo>
                <a:lnTo>
                  <a:pt x="440043" y="8936"/>
                </a:lnTo>
                <a:lnTo>
                  <a:pt x="443746" y="6195"/>
                </a:lnTo>
                <a:lnTo>
                  <a:pt x="446066" y="4130"/>
                </a:lnTo>
                <a:lnTo>
                  <a:pt x="449519" y="2753"/>
                </a:lnTo>
                <a:lnTo>
                  <a:pt x="463667" y="544"/>
                </a:lnTo>
                <a:lnTo>
                  <a:pt x="4764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MARTPenAnnotation593"/>
          <p:cNvSpPr/>
          <p:nvPr/>
        </p:nvSpPr>
        <p:spPr>
          <a:xfrm>
            <a:off x="1631880" y="4551480"/>
            <a:ext cx="719280" cy="488880"/>
          </a:xfrm>
          <a:custGeom>
            <a:avLst/>
            <a:gdLst>
              <a:gd name="textAreaLeft" fmla="*/ 0 w 719280"/>
              <a:gd name="textAreaRight" fmla="*/ 719640 w 71928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720091" h="488633">
                <a:moveTo>
                  <a:pt x="0" y="0"/>
                </a:moveTo>
                <a:lnTo>
                  <a:pt x="7381" y="7381"/>
                </a:lnTo>
                <a:lnTo>
                  <a:pt x="17321" y="12770"/>
                </a:lnTo>
                <a:lnTo>
                  <a:pt x="24526" y="20281"/>
                </a:lnTo>
                <a:lnTo>
                  <a:pt x="27781" y="24951"/>
                </a:lnTo>
                <a:lnTo>
                  <a:pt x="36477" y="32679"/>
                </a:lnTo>
                <a:lnTo>
                  <a:pt x="52083" y="44925"/>
                </a:lnTo>
                <a:lnTo>
                  <a:pt x="63153" y="56162"/>
                </a:lnTo>
                <a:lnTo>
                  <a:pt x="74423" y="70681"/>
                </a:lnTo>
                <a:lnTo>
                  <a:pt x="88322" y="84119"/>
                </a:lnTo>
                <a:lnTo>
                  <a:pt x="104024" y="96441"/>
                </a:lnTo>
                <a:lnTo>
                  <a:pt x="160298" y="137274"/>
                </a:lnTo>
                <a:lnTo>
                  <a:pt x="188783" y="157302"/>
                </a:lnTo>
                <a:lnTo>
                  <a:pt x="209951" y="172782"/>
                </a:lnTo>
                <a:lnTo>
                  <a:pt x="232059" y="186647"/>
                </a:lnTo>
                <a:lnTo>
                  <a:pt x="243289" y="193012"/>
                </a:lnTo>
                <a:lnTo>
                  <a:pt x="254585" y="200112"/>
                </a:lnTo>
                <a:lnTo>
                  <a:pt x="265926" y="207703"/>
                </a:lnTo>
                <a:lnTo>
                  <a:pt x="277296" y="215621"/>
                </a:lnTo>
                <a:lnTo>
                  <a:pt x="287734" y="223758"/>
                </a:lnTo>
                <a:lnTo>
                  <a:pt x="297550" y="232040"/>
                </a:lnTo>
                <a:lnTo>
                  <a:pt x="306952" y="240418"/>
                </a:lnTo>
                <a:lnTo>
                  <a:pt x="317982" y="247909"/>
                </a:lnTo>
                <a:lnTo>
                  <a:pt x="330098" y="254808"/>
                </a:lnTo>
                <a:lnTo>
                  <a:pt x="342938" y="261312"/>
                </a:lnTo>
                <a:lnTo>
                  <a:pt x="355308" y="268506"/>
                </a:lnTo>
                <a:lnTo>
                  <a:pt x="367364" y="276159"/>
                </a:lnTo>
                <a:lnTo>
                  <a:pt x="379212" y="284119"/>
                </a:lnTo>
                <a:lnTo>
                  <a:pt x="389968" y="292282"/>
                </a:lnTo>
                <a:lnTo>
                  <a:pt x="399996" y="300582"/>
                </a:lnTo>
                <a:lnTo>
                  <a:pt x="409539" y="308973"/>
                </a:lnTo>
                <a:lnTo>
                  <a:pt x="430302" y="323377"/>
                </a:lnTo>
                <a:lnTo>
                  <a:pt x="452230" y="337081"/>
                </a:lnTo>
                <a:lnTo>
                  <a:pt x="463412" y="344735"/>
                </a:lnTo>
                <a:lnTo>
                  <a:pt x="474676" y="352696"/>
                </a:lnTo>
                <a:lnTo>
                  <a:pt x="486948" y="359908"/>
                </a:lnTo>
                <a:lnTo>
                  <a:pt x="499892" y="366622"/>
                </a:lnTo>
                <a:lnTo>
                  <a:pt x="513284" y="373001"/>
                </a:lnTo>
                <a:lnTo>
                  <a:pt x="535784" y="387711"/>
                </a:lnTo>
                <a:lnTo>
                  <a:pt x="556261" y="402821"/>
                </a:lnTo>
                <a:lnTo>
                  <a:pt x="578062" y="415887"/>
                </a:lnTo>
                <a:lnTo>
                  <a:pt x="597911" y="425504"/>
                </a:lnTo>
                <a:lnTo>
                  <a:pt x="615306" y="433906"/>
                </a:lnTo>
                <a:lnTo>
                  <a:pt x="636761" y="448393"/>
                </a:lnTo>
                <a:lnTo>
                  <a:pt x="652575" y="455826"/>
                </a:lnTo>
                <a:lnTo>
                  <a:pt x="672992" y="465365"/>
                </a:lnTo>
                <a:lnTo>
                  <a:pt x="691107" y="474224"/>
                </a:lnTo>
                <a:lnTo>
                  <a:pt x="707451" y="484799"/>
                </a:lnTo>
                <a:lnTo>
                  <a:pt x="720090" y="4886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MARTPenAnnotation594"/>
          <p:cNvSpPr/>
          <p:nvPr/>
        </p:nvSpPr>
        <p:spPr>
          <a:xfrm>
            <a:off x="1563840" y="5083200"/>
            <a:ext cx="85680" cy="9360"/>
          </a:xfrm>
          <a:custGeom>
            <a:avLst/>
            <a:gdLst>
              <a:gd name="textAreaLeft" fmla="*/ 0 w 85680"/>
              <a:gd name="textAreaRight" fmla="*/ 86040 w 856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85609" h="8469">
                <a:moveTo>
                  <a:pt x="34173" y="0"/>
                </a:moveTo>
                <a:lnTo>
                  <a:pt x="25705" y="8468"/>
                </a:lnTo>
                <a:lnTo>
                  <a:pt x="25670" y="7550"/>
                </a:lnTo>
                <a:lnTo>
                  <a:pt x="25610" y="1182"/>
                </a:lnTo>
                <a:lnTo>
                  <a:pt x="24654" y="789"/>
                </a:lnTo>
                <a:lnTo>
                  <a:pt x="23065" y="526"/>
                </a:lnTo>
                <a:lnTo>
                  <a:pt x="21052" y="351"/>
                </a:lnTo>
                <a:lnTo>
                  <a:pt x="18758" y="234"/>
                </a:lnTo>
                <a:lnTo>
                  <a:pt x="10000" y="31"/>
                </a:lnTo>
                <a:lnTo>
                  <a:pt x="0" y="1"/>
                </a:lnTo>
                <a:lnTo>
                  <a:pt x="856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MARTPenAnnotation595"/>
          <p:cNvSpPr/>
          <p:nvPr/>
        </p:nvSpPr>
        <p:spPr>
          <a:xfrm>
            <a:off x="2103480" y="5022720"/>
            <a:ext cx="93600" cy="300240"/>
          </a:xfrm>
          <a:custGeom>
            <a:avLst/>
            <a:gdLst>
              <a:gd name="textAreaLeft" fmla="*/ 0 w 93600"/>
              <a:gd name="textAreaRight" fmla="*/ 93960 w 9360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94299" h="300038">
                <a:moveTo>
                  <a:pt x="0" y="0"/>
                </a:moveTo>
                <a:lnTo>
                  <a:pt x="4551" y="4551"/>
                </a:lnTo>
                <a:lnTo>
                  <a:pt x="5892" y="6844"/>
                </a:lnTo>
                <a:lnTo>
                  <a:pt x="8731" y="14622"/>
                </a:lnTo>
                <a:lnTo>
                  <a:pt x="10583" y="17368"/>
                </a:lnTo>
                <a:lnTo>
                  <a:pt x="12771" y="20150"/>
                </a:lnTo>
                <a:lnTo>
                  <a:pt x="14229" y="23911"/>
                </a:lnTo>
                <a:lnTo>
                  <a:pt x="15849" y="33169"/>
                </a:lnTo>
                <a:lnTo>
                  <a:pt x="17234" y="38305"/>
                </a:lnTo>
                <a:lnTo>
                  <a:pt x="19109" y="43634"/>
                </a:lnTo>
                <a:lnTo>
                  <a:pt x="21312" y="49092"/>
                </a:lnTo>
                <a:lnTo>
                  <a:pt x="22781" y="55588"/>
                </a:lnTo>
                <a:lnTo>
                  <a:pt x="23760" y="62776"/>
                </a:lnTo>
                <a:lnTo>
                  <a:pt x="24412" y="70426"/>
                </a:lnTo>
                <a:lnTo>
                  <a:pt x="25800" y="77430"/>
                </a:lnTo>
                <a:lnTo>
                  <a:pt x="27678" y="84005"/>
                </a:lnTo>
                <a:lnTo>
                  <a:pt x="29882" y="90293"/>
                </a:lnTo>
                <a:lnTo>
                  <a:pt x="31352" y="97343"/>
                </a:lnTo>
                <a:lnTo>
                  <a:pt x="32331" y="104900"/>
                </a:lnTo>
                <a:lnTo>
                  <a:pt x="32984" y="112796"/>
                </a:lnTo>
                <a:lnTo>
                  <a:pt x="34372" y="119965"/>
                </a:lnTo>
                <a:lnTo>
                  <a:pt x="36250" y="126649"/>
                </a:lnTo>
                <a:lnTo>
                  <a:pt x="46107" y="155615"/>
                </a:lnTo>
                <a:lnTo>
                  <a:pt x="48836" y="162798"/>
                </a:lnTo>
                <a:lnTo>
                  <a:pt x="51608" y="169492"/>
                </a:lnTo>
                <a:lnTo>
                  <a:pt x="54408" y="175860"/>
                </a:lnTo>
                <a:lnTo>
                  <a:pt x="56274" y="182010"/>
                </a:lnTo>
                <a:lnTo>
                  <a:pt x="57519" y="188015"/>
                </a:lnTo>
                <a:lnTo>
                  <a:pt x="58349" y="193923"/>
                </a:lnTo>
                <a:lnTo>
                  <a:pt x="59854" y="200719"/>
                </a:lnTo>
                <a:lnTo>
                  <a:pt x="61810" y="208108"/>
                </a:lnTo>
                <a:lnTo>
                  <a:pt x="64067" y="215891"/>
                </a:lnTo>
                <a:lnTo>
                  <a:pt x="65572" y="222985"/>
                </a:lnTo>
                <a:lnTo>
                  <a:pt x="66575" y="229619"/>
                </a:lnTo>
                <a:lnTo>
                  <a:pt x="67243" y="235946"/>
                </a:lnTo>
                <a:lnTo>
                  <a:pt x="68641" y="241117"/>
                </a:lnTo>
                <a:lnTo>
                  <a:pt x="70526" y="245518"/>
                </a:lnTo>
                <a:lnTo>
                  <a:pt x="72735" y="249403"/>
                </a:lnTo>
                <a:lnTo>
                  <a:pt x="74208" y="253899"/>
                </a:lnTo>
                <a:lnTo>
                  <a:pt x="75190" y="258801"/>
                </a:lnTo>
                <a:lnTo>
                  <a:pt x="75844" y="263974"/>
                </a:lnTo>
                <a:lnTo>
                  <a:pt x="76571" y="272261"/>
                </a:lnTo>
                <a:lnTo>
                  <a:pt x="76765" y="275805"/>
                </a:lnTo>
                <a:lnTo>
                  <a:pt x="77847" y="279120"/>
                </a:lnTo>
                <a:lnTo>
                  <a:pt x="79521" y="282283"/>
                </a:lnTo>
                <a:lnTo>
                  <a:pt x="81589" y="285344"/>
                </a:lnTo>
                <a:lnTo>
                  <a:pt x="83887" y="291284"/>
                </a:lnTo>
                <a:lnTo>
                  <a:pt x="84500" y="294202"/>
                </a:lnTo>
                <a:lnTo>
                  <a:pt x="85861" y="296147"/>
                </a:lnTo>
                <a:lnTo>
                  <a:pt x="87721" y="297444"/>
                </a:lnTo>
                <a:lnTo>
                  <a:pt x="94298" y="3000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MARTPenAnnotation596"/>
          <p:cNvSpPr/>
          <p:nvPr/>
        </p:nvSpPr>
        <p:spPr>
          <a:xfrm>
            <a:off x="2386080" y="5040360"/>
            <a:ext cx="257040" cy="128520"/>
          </a:xfrm>
          <a:custGeom>
            <a:avLst/>
            <a:gdLst>
              <a:gd name="textAreaLeft" fmla="*/ 0 w 257040"/>
              <a:gd name="textAreaRight" fmla="*/ 257400 w 257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57163" h="128579">
                <a:moveTo>
                  <a:pt x="42850" y="0"/>
                </a:moveTo>
                <a:lnTo>
                  <a:pt x="47788" y="0"/>
                </a:lnTo>
                <a:lnTo>
                  <a:pt x="43688" y="0"/>
                </a:lnTo>
                <a:lnTo>
                  <a:pt x="43409" y="953"/>
                </a:lnTo>
                <a:lnTo>
                  <a:pt x="43098" y="4552"/>
                </a:lnTo>
                <a:lnTo>
                  <a:pt x="42960" y="9325"/>
                </a:lnTo>
                <a:lnTo>
                  <a:pt x="42923" y="11932"/>
                </a:lnTo>
                <a:lnTo>
                  <a:pt x="41946" y="14623"/>
                </a:lnTo>
                <a:lnTo>
                  <a:pt x="40342" y="17368"/>
                </a:lnTo>
                <a:lnTo>
                  <a:pt x="38320" y="20152"/>
                </a:lnTo>
                <a:lnTo>
                  <a:pt x="36020" y="22007"/>
                </a:lnTo>
                <a:lnTo>
                  <a:pt x="33534" y="23244"/>
                </a:lnTo>
                <a:lnTo>
                  <a:pt x="30924" y="24069"/>
                </a:lnTo>
                <a:lnTo>
                  <a:pt x="25484" y="27525"/>
                </a:lnTo>
                <a:lnTo>
                  <a:pt x="22700" y="29780"/>
                </a:lnTo>
                <a:lnTo>
                  <a:pt x="19892" y="32236"/>
                </a:lnTo>
                <a:lnTo>
                  <a:pt x="17067" y="34826"/>
                </a:lnTo>
                <a:lnTo>
                  <a:pt x="11388" y="40243"/>
                </a:lnTo>
                <a:lnTo>
                  <a:pt x="1676" y="49774"/>
                </a:lnTo>
                <a:lnTo>
                  <a:pt x="1113" y="51280"/>
                </a:lnTo>
                <a:lnTo>
                  <a:pt x="738" y="53237"/>
                </a:lnTo>
                <a:lnTo>
                  <a:pt x="488" y="55494"/>
                </a:lnTo>
                <a:lnTo>
                  <a:pt x="321" y="57951"/>
                </a:lnTo>
                <a:lnTo>
                  <a:pt x="210" y="60542"/>
                </a:lnTo>
                <a:lnTo>
                  <a:pt x="31" y="66992"/>
                </a:lnTo>
                <a:lnTo>
                  <a:pt x="0" y="72661"/>
                </a:lnTo>
                <a:lnTo>
                  <a:pt x="948" y="75111"/>
                </a:lnTo>
                <a:lnTo>
                  <a:pt x="2533" y="77697"/>
                </a:lnTo>
                <a:lnTo>
                  <a:pt x="4542" y="80373"/>
                </a:lnTo>
                <a:lnTo>
                  <a:pt x="7786" y="82157"/>
                </a:lnTo>
                <a:lnTo>
                  <a:pt x="11854" y="83347"/>
                </a:lnTo>
                <a:lnTo>
                  <a:pt x="16471" y="84140"/>
                </a:lnTo>
                <a:lnTo>
                  <a:pt x="21454" y="85621"/>
                </a:lnTo>
                <a:lnTo>
                  <a:pt x="26681" y="87561"/>
                </a:lnTo>
                <a:lnTo>
                  <a:pt x="32070" y="89807"/>
                </a:lnTo>
                <a:lnTo>
                  <a:pt x="37568" y="92256"/>
                </a:lnTo>
                <a:lnTo>
                  <a:pt x="48757" y="97518"/>
                </a:lnTo>
                <a:lnTo>
                  <a:pt x="65767" y="105835"/>
                </a:lnTo>
                <a:lnTo>
                  <a:pt x="72415" y="108657"/>
                </a:lnTo>
                <a:lnTo>
                  <a:pt x="79705" y="111491"/>
                </a:lnTo>
                <a:lnTo>
                  <a:pt x="87422" y="114332"/>
                </a:lnTo>
                <a:lnTo>
                  <a:pt x="95425" y="116227"/>
                </a:lnTo>
                <a:lnTo>
                  <a:pt x="103617" y="117490"/>
                </a:lnTo>
                <a:lnTo>
                  <a:pt x="111936" y="118332"/>
                </a:lnTo>
                <a:lnTo>
                  <a:pt x="120340" y="119845"/>
                </a:lnTo>
                <a:lnTo>
                  <a:pt x="128800" y="121807"/>
                </a:lnTo>
                <a:lnTo>
                  <a:pt x="137297" y="124067"/>
                </a:lnTo>
                <a:lnTo>
                  <a:pt x="144867" y="125574"/>
                </a:lnTo>
                <a:lnTo>
                  <a:pt x="151819" y="126579"/>
                </a:lnTo>
                <a:lnTo>
                  <a:pt x="158358" y="127248"/>
                </a:lnTo>
                <a:lnTo>
                  <a:pt x="165575" y="127695"/>
                </a:lnTo>
                <a:lnTo>
                  <a:pt x="181215" y="128191"/>
                </a:lnTo>
                <a:lnTo>
                  <a:pt x="215067" y="128553"/>
                </a:lnTo>
                <a:lnTo>
                  <a:pt x="229661" y="128578"/>
                </a:lnTo>
                <a:lnTo>
                  <a:pt x="234066" y="127629"/>
                </a:lnTo>
                <a:lnTo>
                  <a:pt x="244815" y="122694"/>
                </a:lnTo>
                <a:lnTo>
                  <a:pt x="251040" y="121207"/>
                </a:lnTo>
                <a:lnTo>
                  <a:pt x="253080" y="119857"/>
                </a:lnTo>
                <a:lnTo>
                  <a:pt x="254441" y="118005"/>
                </a:lnTo>
                <a:lnTo>
                  <a:pt x="257162" y="1114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MARTPenAnnotation597"/>
          <p:cNvSpPr/>
          <p:nvPr/>
        </p:nvSpPr>
        <p:spPr>
          <a:xfrm>
            <a:off x="2583000" y="5032440"/>
            <a:ext cx="137880" cy="342720"/>
          </a:xfrm>
          <a:custGeom>
            <a:avLst/>
            <a:gdLst>
              <a:gd name="textAreaLeft" fmla="*/ 0 w 137880"/>
              <a:gd name="textAreaRight" fmla="*/ 138240 w 1378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37046" h="342901">
                <a:moveTo>
                  <a:pt x="34175" y="0"/>
                </a:moveTo>
                <a:lnTo>
                  <a:pt x="25612" y="0"/>
                </a:lnTo>
                <a:lnTo>
                  <a:pt x="25606" y="4551"/>
                </a:lnTo>
                <a:lnTo>
                  <a:pt x="24652" y="5892"/>
                </a:lnTo>
                <a:lnTo>
                  <a:pt x="23064" y="6785"/>
                </a:lnTo>
                <a:lnTo>
                  <a:pt x="21053" y="7381"/>
                </a:lnTo>
                <a:lnTo>
                  <a:pt x="19712" y="9683"/>
                </a:lnTo>
                <a:lnTo>
                  <a:pt x="18222" y="17322"/>
                </a:lnTo>
                <a:lnTo>
                  <a:pt x="15020" y="24526"/>
                </a:lnTo>
                <a:lnTo>
                  <a:pt x="12833" y="27781"/>
                </a:lnTo>
                <a:lnTo>
                  <a:pt x="10402" y="36477"/>
                </a:lnTo>
                <a:lnTo>
                  <a:pt x="8370" y="46692"/>
                </a:lnTo>
                <a:lnTo>
                  <a:pt x="6494" y="52083"/>
                </a:lnTo>
                <a:lnTo>
                  <a:pt x="4291" y="57582"/>
                </a:lnTo>
                <a:lnTo>
                  <a:pt x="2823" y="64105"/>
                </a:lnTo>
                <a:lnTo>
                  <a:pt x="1844" y="71312"/>
                </a:lnTo>
                <a:lnTo>
                  <a:pt x="1191" y="78974"/>
                </a:lnTo>
                <a:lnTo>
                  <a:pt x="756" y="85987"/>
                </a:lnTo>
                <a:lnTo>
                  <a:pt x="272" y="98859"/>
                </a:lnTo>
                <a:lnTo>
                  <a:pt x="0" y="121367"/>
                </a:lnTo>
                <a:lnTo>
                  <a:pt x="914" y="128536"/>
                </a:lnTo>
                <a:lnTo>
                  <a:pt x="2476" y="135221"/>
                </a:lnTo>
                <a:lnTo>
                  <a:pt x="11827" y="164188"/>
                </a:lnTo>
                <a:lnTo>
                  <a:pt x="20039" y="188984"/>
                </a:lnTo>
                <a:lnTo>
                  <a:pt x="23799" y="196474"/>
                </a:lnTo>
                <a:lnTo>
                  <a:pt x="28210" y="203373"/>
                </a:lnTo>
                <a:lnTo>
                  <a:pt x="33056" y="209877"/>
                </a:lnTo>
                <a:lnTo>
                  <a:pt x="37239" y="216118"/>
                </a:lnTo>
                <a:lnTo>
                  <a:pt x="40980" y="222184"/>
                </a:lnTo>
                <a:lnTo>
                  <a:pt x="44427" y="228133"/>
                </a:lnTo>
                <a:lnTo>
                  <a:pt x="50797" y="239822"/>
                </a:lnTo>
                <a:lnTo>
                  <a:pt x="62647" y="262850"/>
                </a:lnTo>
                <a:lnTo>
                  <a:pt x="79886" y="297177"/>
                </a:lnTo>
                <a:lnTo>
                  <a:pt x="83699" y="301941"/>
                </a:lnTo>
                <a:lnTo>
                  <a:pt x="88147" y="306069"/>
                </a:lnTo>
                <a:lnTo>
                  <a:pt x="93016" y="309773"/>
                </a:lnTo>
                <a:lnTo>
                  <a:pt x="97215" y="313196"/>
                </a:lnTo>
                <a:lnTo>
                  <a:pt x="100967" y="316430"/>
                </a:lnTo>
                <a:lnTo>
                  <a:pt x="104421" y="319538"/>
                </a:lnTo>
                <a:lnTo>
                  <a:pt x="106723" y="322563"/>
                </a:lnTo>
                <a:lnTo>
                  <a:pt x="110916" y="331371"/>
                </a:lnTo>
                <a:lnTo>
                  <a:pt x="112958" y="334262"/>
                </a:lnTo>
                <a:lnTo>
                  <a:pt x="115272" y="337141"/>
                </a:lnTo>
                <a:lnTo>
                  <a:pt x="117768" y="339061"/>
                </a:lnTo>
                <a:lnTo>
                  <a:pt x="120384" y="340341"/>
                </a:lnTo>
                <a:lnTo>
                  <a:pt x="123080" y="341194"/>
                </a:lnTo>
                <a:lnTo>
                  <a:pt x="125830" y="341763"/>
                </a:lnTo>
                <a:lnTo>
                  <a:pt x="128616" y="342142"/>
                </a:lnTo>
                <a:lnTo>
                  <a:pt x="137045" y="3429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MARTPenAnnotation598"/>
          <p:cNvSpPr/>
          <p:nvPr/>
        </p:nvSpPr>
        <p:spPr>
          <a:xfrm>
            <a:off x="1863720" y="4843440"/>
            <a:ext cx="1044720" cy="45396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045847" h="454340">
                <a:moveTo>
                  <a:pt x="0" y="325755"/>
                </a:moveTo>
                <a:lnTo>
                  <a:pt x="0" y="333136"/>
                </a:lnTo>
                <a:lnTo>
                  <a:pt x="953" y="333534"/>
                </a:lnTo>
                <a:lnTo>
                  <a:pt x="4551" y="333975"/>
                </a:lnTo>
                <a:lnTo>
                  <a:pt x="5892" y="335045"/>
                </a:lnTo>
                <a:lnTo>
                  <a:pt x="6786" y="336711"/>
                </a:lnTo>
                <a:lnTo>
                  <a:pt x="7381" y="338774"/>
                </a:lnTo>
                <a:lnTo>
                  <a:pt x="9683" y="341102"/>
                </a:lnTo>
                <a:lnTo>
                  <a:pt x="32332" y="354469"/>
                </a:lnTo>
                <a:lnTo>
                  <a:pt x="40722" y="362647"/>
                </a:lnTo>
                <a:lnTo>
                  <a:pt x="44293" y="367495"/>
                </a:lnTo>
                <a:lnTo>
                  <a:pt x="53341" y="375421"/>
                </a:lnTo>
                <a:lnTo>
                  <a:pt x="58421" y="378869"/>
                </a:lnTo>
                <a:lnTo>
                  <a:pt x="66605" y="387779"/>
                </a:lnTo>
                <a:lnTo>
                  <a:pt x="70121" y="392822"/>
                </a:lnTo>
                <a:lnTo>
                  <a:pt x="79108" y="400965"/>
                </a:lnTo>
                <a:lnTo>
                  <a:pt x="100094" y="416939"/>
                </a:lnTo>
                <a:lnTo>
                  <a:pt x="118056" y="428574"/>
                </a:lnTo>
                <a:lnTo>
                  <a:pt x="130547" y="437182"/>
                </a:lnTo>
                <a:lnTo>
                  <a:pt x="143773" y="445766"/>
                </a:lnTo>
                <a:lnTo>
                  <a:pt x="147284" y="448625"/>
                </a:lnTo>
                <a:lnTo>
                  <a:pt x="153725" y="451801"/>
                </a:lnTo>
                <a:lnTo>
                  <a:pt x="162706" y="453590"/>
                </a:lnTo>
                <a:lnTo>
                  <a:pt x="179625" y="454339"/>
                </a:lnTo>
                <a:lnTo>
                  <a:pt x="179988" y="442411"/>
                </a:lnTo>
                <a:lnTo>
                  <a:pt x="180020" y="413792"/>
                </a:lnTo>
                <a:lnTo>
                  <a:pt x="177482" y="402665"/>
                </a:lnTo>
                <a:lnTo>
                  <a:pt x="173179" y="391370"/>
                </a:lnTo>
                <a:lnTo>
                  <a:pt x="168091" y="380000"/>
                </a:lnTo>
                <a:lnTo>
                  <a:pt x="159872" y="362888"/>
                </a:lnTo>
                <a:lnTo>
                  <a:pt x="142862" y="328611"/>
                </a:lnTo>
                <a:lnTo>
                  <a:pt x="139695" y="317182"/>
                </a:lnTo>
                <a:lnTo>
                  <a:pt x="137334" y="304800"/>
                </a:lnTo>
                <a:lnTo>
                  <a:pt x="135371" y="297497"/>
                </a:lnTo>
                <a:lnTo>
                  <a:pt x="133110" y="289771"/>
                </a:lnTo>
                <a:lnTo>
                  <a:pt x="130598" y="276108"/>
                </a:lnTo>
                <a:lnTo>
                  <a:pt x="128529" y="262732"/>
                </a:lnTo>
                <a:lnTo>
                  <a:pt x="126643" y="255165"/>
                </a:lnTo>
                <a:lnTo>
                  <a:pt x="124434" y="247262"/>
                </a:lnTo>
                <a:lnTo>
                  <a:pt x="119439" y="233402"/>
                </a:lnTo>
                <a:lnTo>
                  <a:pt x="114997" y="220892"/>
                </a:lnTo>
                <a:lnTo>
                  <a:pt x="113023" y="208982"/>
                </a:lnTo>
                <a:lnTo>
                  <a:pt x="112145" y="197338"/>
                </a:lnTo>
                <a:lnTo>
                  <a:pt x="111755" y="185813"/>
                </a:lnTo>
                <a:lnTo>
                  <a:pt x="111505" y="162893"/>
                </a:lnTo>
                <a:lnTo>
                  <a:pt x="111443" y="108598"/>
                </a:lnTo>
                <a:lnTo>
                  <a:pt x="112396" y="105736"/>
                </a:lnTo>
                <a:lnTo>
                  <a:pt x="117334" y="97158"/>
                </a:lnTo>
                <a:lnTo>
                  <a:pt x="118824" y="91441"/>
                </a:lnTo>
                <a:lnTo>
                  <a:pt x="119780" y="80011"/>
                </a:lnTo>
                <a:lnTo>
                  <a:pt x="119911" y="74295"/>
                </a:lnTo>
                <a:lnTo>
                  <a:pt x="120898" y="71438"/>
                </a:lnTo>
                <a:lnTo>
                  <a:pt x="124535" y="65723"/>
                </a:lnTo>
                <a:lnTo>
                  <a:pt x="126839" y="63818"/>
                </a:lnTo>
                <a:lnTo>
                  <a:pt x="129327" y="62548"/>
                </a:lnTo>
                <a:lnTo>
                  <a:pt x="131938" y="61701"/>
                </a:lnTo>
                <a:lnTo>
                  <a:pt x="137379" y="58220"/>
                </a:lnTo>
                <a:lnTo>
                  <a:pt x="152429" y="45484"/>
                </a:lnTo>
                <a:lnTo>
                  <a:pt x="165921" y="38031"/>
                </a:lnTo>
                <a:lnTo>
                  <a:pt x="197764" y="25184"/>
                </a:lnTo>
                <a:lnTo>
                  <a:pt x="208863" y="20718"/>
                </a:lnTo>
                <a:lnTo>
                  <a:pt x="231510" y="15311"/>
                </a:lnTo>
                <a:lnTo>
                  <a:pt x="242911" y="11568"/>
                </a:lnTo>
                <a:lnTo>
                  <a:pt x="268293" y="9164"/>
                </a:lnTo>
                <a:lnTo>
                  <a:pt x="284024" y="7883"/>
                </a:lnTo>
                <a:lnTo>
                  <a:pt x="309898" y="2759"/>
                </a:lnTo>
                <a:lnTo>
                  <a:pt x="340319" y="818"/>
                </a:lnTo>
                <a:lnTo>
                  <a:pt x="368805" y="242"/>
                </a:lnTo>
                <a:lnTo>
                  <a:pt x="620081" y="0"/>
                </a:lnTo>
                <a:lnTo>
                  <a:pt x="642939" y="2540"/>
                </a:lnTo>
                <a:lnTo>
                  <a:pt x="665799" y="5892"/>
                </a:lnTo>
                <a:lnTo>
                  <a:pt x="688658" y="7381"/>
                </a:lnTo>
                <a:lnTo>
                  <a:pt x="711518" y="8043"/>
                </a:lnTo>
                <a:lnTo>
                  <a:pt x="734378" y="9290"/>
                </a:lnTo>
                <a:lnTo>
                  <a:pt x="757238" y="13019"/>
                </a:lnTo>
                <a:lnTo>
                  <a:pt x="782638" y="15311"/>
                </a:lnTo>
                <a:lnTo>
                  <a:pt x="807897" y="17283"/>
                </a:lnTo>
                <a:lnTo>
                  <a:pt x="839135" y="22795"/>
                </a:lnTo>
                <a:lnTo>
                  <a:pt x="871144" y="25805"/>
                </a:lnTo>
                <a:lnTo>
                  <a:pt x="899150" y="31352"/>
                </a:lnTo>
                <a:lnTo>
                  <a:pt x="926498" y="34372"/>
                </a:lnTo>
                <a:lnTo>
                  <a:pt x="956402" y="39924"/>
                </a:lnTo>
                <a:lnTo>
                  <a:pt x="978174" y="42944"/>
                </a:lnTo>
                <a:lnTo>
                  <a:pt x="997643" y="48496"/>
                </a:lnTo>
                <a:lnTo>
                  <a:pt x="1028597" y="51048"/>
                </a:lnTo>
                <a:lnTo>
                  <a:pt x="1032442" y="52129"/>
                </a:lnTo>
                <a:lnTo>
                  <a:pt x="1045846" y="600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MARTPenAnnotation599"/>
          <p:cNvSpPr/>
          <p:nvPr/>
        </p:nvSpPr>
        <p:spPr>
          <a:xfrm>
            <a:off x="757080" y="5254560"/>
            <a:ext cx="271800" cy="292320"/>
          </a:xfrm>
          <a:custGeom>
            <a:avLst/>
            <a:gdLst>
              <a:gd name="textAreaLeft" fmla="*/ 0 w 271800"/>
              <a:gd name="textAreaRight" fmla="*/ 272160 w 271800"/>
              <a:gd name="textAreaTop" fmla="*/ 0 h 292320"/>
              <a:gd name="textAreaBottom" fmla="*/ 292320 h 292320"/>
            </a:gdLst>
            <a:ahLst/>
            <a:rect l="textAreaLeft" t="textAreaTop" r="textAreaRight" b="textAreaBottom"/>
            <a:pathLst>
              <a:path w="270687" h="291466">
                <a:moveTo>
                  <a:pt x="265747" y="0"/>
                </a:moveTo>
                <a:lnTo>
                  <a:pt x="270686" y="0"/>
                </a:lnTo>
                <a:lnTo>
                  <a:pt x="261270" y="0"/>
                </a:lnTo>
                <a:lnTo>
                  <a:pt x="260858" y="953"/>
                </a:lnTo>
                <a:lnTo>
                  <a:pt x="261535" y="2540"/>
                </a:lnTo>
                <a:lnTo>
                  <a:pt x="262939" y="4551"/>
                </a:lnTo>
                <a:lnTo>
                  <a:pt x="262923" y="6844"/>
                </a:lnTo>
                <a:lnTo>
                  <a:pt x="261959" y="9325"/>
                </a:lnTo>
                <a:lnTo>
                  <a:pt x="258120" y="15601"/>
                </a:lnTo>
                <a:lnTo>
                  <a:pt x="250518" y="23684"/>
                </a:lnTo>
                <a:lnTo>
                  <a:pt x="237048" y="37256"/>
                </a:lnTo>
                <a:lnTo>
                  <a:pt x="228862" y="42911"/>
                </a:lnTo>
                <a:lnTo>
                  <a:pt x="224012" y="45752"/>
                </a:lnTo>
                <a:lnTo>
                  <a:pt x="216084" y="53990"/>
                </a:lnTo>
                <a:lnTo>
                  <a:pt x="209385" y="63048"/>
                </a:lnTo>
                <a:lnTo>
                  <a:pt x="203232" y="70249"/>
                </a:lnTo>
                <a:lnTo>
                  <a:pt x="194783" y="76624"/>
                </a:lnTo>
                <a:lnTo>
                  <a:pt x="189863" y="79658"/>
                </a:lnTo>
                <a:lnTo>
                  <a:pt x="184678" y="83585"/>
                </a:lnTo>
                <a:lnTo>
                  <a:pt x="179316" y="88108"/>
                </a:lnTo>
                <a:lnTo>
                  <a:pt x="173836" y="93029"/>
                </a:lnTo>
                <a:lnTo>
                  <a:pt x="169231" y="98214"/>
                </a:lnTo>
                <a:lnTo>
                  <a:pt x="165208" y="103577"/>
                </a:lnTo>
                <a:lnTo>
                  <a:pt x="161574" y="109056"/>
                </a:lnTo>
                <a:lnTo>
                  <a:pt x="157246" y="114614"/>
                </a:lnTo>
                <a:lnTo>
                  <a:pt x="152455" y="120224"/>
                </a:lnTo>
                <a:lnTo>
                  <a:pt x="147357" y="125869"/>
                </a:lnTo>
                <a:lnTo>
                  <a:pt x="142053" y="130586"/>
                </a:lnTo>
                <a:lnTo>
                  <a:pt x="136612" y="134682"/>
                </a:lnTo>
                <a:lnTo>
                  <a:pt x="131080" y="138366"/>
                </a:lnTo>
                <a:lnTo>
                  <a:pt x="126439" y="142726"/>
                </a:lnTo>
                <a:lnTo>
                  <a:pt x="122393" y="147538"/>
                </a:lnTo>
                <a:lnTo>
                  <a:pt x="118743" y="152652"/>
                </a:lnTo>
                <a:lnTo>
                  <a:pt x="114404" y="157965"/>
                </a:lnTo>
                <a:lnTo>
                  <a:pt x="109607" y="163413"/>
                </a:lnTo>
                <a:lnTo>
                  <a:pt x="104504" y="168950"/>
                </a:lnTo>
                <a:lnTo>
                  <a:pt x="100149" y="174545"/>
                </a:lnTo>
                <a:lnTo>
                  <a:pt x="96294" y="180181"/>
                </a:lnTo>
                <a:lnTo>
                  <a:pt x="92771" y="185844"/>
                </a:lnTo>
                <a:lnTo>
                  <a:pt x="88517" y="190571"/>
                </a:lnTo>
                <a:lnTo>
                  <a:pt x="83776" y="194674"/>
                </a:lnTo>
                <a:lnTo>
                  <a:pt x="78711" y="198363"/>
                </a:lnTo>
                <a:lnTo>
                  <a:pt x="74381" y="202727"/>
                </a:lnTo>
                <a:lnTo>
                  <a:pt x="70543" y="207542"/>
                </a:lnTo>
                <a:lnTo>
                  <a:pt x="67031" y="212656"/>
                </a:lnTo>
                <a:lnTo>
                  <a:pt x="60589" y="220879"/>
                </a:lnTo>
                <a:lnTo>
                  <a:pt x="54551" y="228661"/>
                </a:lnTo>
                <a:lnTo>
                  <a:pt x="51607" y="233403"/>
                </a:lnTo>
                <a:lnTo>
                  <a:pt x="48692" y="238470"/>
                </a:lnTo>
                <a:lnTo>
                  <a:pt x="42914" y="246639"/>
                </a:lnTo>
                <a:lnTo>
                  <a:pt x="40039" y="250151"/>
                </a:lnTo>
                <a:lnTo>
                  <a:pt x="36845" y="256593"/>
                </a:lnTo>
                <a:lnTo>
                  <a:pt x="35993" y="259645"/>
                </a:lnTo>
                <a:lnTo>
                  <a:pt x="32507" y="265576"/>
                </a:lnTo>
                <a:lnTo>
                  <a:pt x="30244" y="268491"/>
                </a:lnTo>
                <a:lnTo>
                  <a:pt x="27783" y="270433"/>
                </a:lnTo>
                <a:lnTo>
                  <a:pt x="25189" y="271729"/>
                </a:lnTo>
                <a:lnTo>
                  <a:pt x="22508" y="272593"/>
                </a:lnTo>
                <a:lnTo>
                  <a:pt x="20720" y="274121"/>
                </a:lnTo>
                <a:lnTo>
                  <a:pt x="19528" y="276092"/>
                </a:lnTo>
                <a:lnTo>
                  <a:pt x="18734" y="278359"/>
                </a:lnTo>
                <a:lnTo>
                  <a:pt x="15311" y="283418"/>
                </a:lnTo>
                <a:lnTo>
                  <a:pt x="9904" y="289876"/>
                </a:lnTo>
                <a:lnTo>
                  <a:pt x="8507" y="290405"/>
                </a:lnTo>
                <a:lnTo>
                  <a:pt x="51" y="291460"/>
                </a:lnTo>
                <a:lnTo>
                  <a:pt x="3" y="291465"/>
                </a:lnTo>
                <a:lnTo>
                  <a:pt x="0" y="291465"/>
                </a:lnTo>
                <a:lnTo>
                  <a:pt x="8572" y="2914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MARTPenAnnotation600"/>
          <p:cNvSpPr/>
          <p:nvPr/>
        </p:nvSpPr>
        <p:spPr>
          <a:xfrm>
            <a:off x="114480" y="5529240"/>
            <a:ext cx="703080" cy="446040"/>
          </a:xfrm>
          <a:custGeom>
            <a:avLst/>
            <a:gdLst>
              <a:gd name="textAreaLeft" fmla="*/ 0 w 703080"/>
              <a:gd name="textAreaRight" fmla="*/ 703440 w 70308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702946" h="445770">
                <a:moveTo>
                  <a:pt x="0" y="154305"/>
                </a:moveTo>
                <a:lnTo>
                  <a:pt x="0" y="161686"/>
                </a:lnTo>
                <a:lnTo>
                  <a:pt x="953" y="162084"/>
                </a:lnTo>
                <a:lnTo>
                  <a:pt x="4551" y="162525"/>
                </a:lnTo>
                <a:lnTo>
                  <a:pt x="5892" y="163595"/>
                </a:lnTo>
                <a:lnTo>
                  <a:pt x="6785" y="165261"/>
                </a:lnTo>
                <a:lnTo>
                  <a:pt x="7381" y="167324"/>
                </a:lnTo>
                <a:lnTo>
                  <a:pt x="10583" y="172157"/>
                </a:lnTo>
                <a:lnTo>
                  <a:pt x="20400" y="183019"/>
                </a:lnTo>
                <a:lnTo>
                  <a:pt x="28693" y="196045"/>
                </a:lnTo>
                <a:lnTo>
                  <a:pt x="37183" y="207419"/>
                </a:lnTo>
                <a:lnTo>
                  <a:pt x="45418" y="216329"/>
                </a:lnTo>
                <a:lnTo>
                  <a:pt x="54476" y="226639"/>
                </a:lnTo>
                <a:lnTo>
                  <a:pt x="61677" y="237571"/>
                </a:lnTo>
                <a:lnTo>
                  <a:pt x="70592" y="248780"/>
                </a:lnTo>
                <a:lnTo>
                  <a:pt x="79952" y="260111"/>
                </a:lnTo>
                <a:lnTo>
                  <a:pt x="87287" y="271498"/>
                </a:lnTo>
                <a:lnTo>
                  <a:pt x="93722" y="282908"/>
                </a:lnTo>
                <a:lnTo>
                  <a:pt x="99757" y="294330"/>
                </a:lnTo>
                <a:lnTo>
                  <a:pt x="105614" y="305756"/>
                </a:lnTo>
                <a:lnTo>
                  <a:pt x="109462" y="312422"/>
                </a:lnTo>
                <a:lnTo>
                  <a:pt x="113932" y="319724"/>
                </a:lnTo>
                <a:lnTo>
                  <a:pt x="118817" y="327449"/>
                </a:lnTo>
                <a:lnTo>
                  <a:pt x="126786" y="341113"/>
                </a:lnTo>
                <a:lnTo>
                  <a:pt x="133502" y="353536"/>
                </a:lnTo>
                <a:lnTo>
                  <a:pt x="145575" y="377033"/>
                </a:lnTo>
                <a:lnTo>
                  <a:pt x="152330" y="388550"/>
                </a:lnTo>
                <a:lnTo>
                  <a:pt x="161682" y="400019"/>
                </a:lnTo>
                <a:lnTo>
                  <a:pt x="173107" y="412635"/>
                </a:lnTo>
                <a:lnTo>
                  <a:pt x="185501" y="425431"/>
                </a:lnTo>
                <a:lnTo>
                  <a:pt x="191347" y="431333"/>
                </a:lnTo>
                <a:lnTo>
                  <a:pt x="193288" y="434240"/>
                </a:lnTo>
                <a:lnTo>
                  <a:pt x="195443" y="440011"/>
                </a:lnTo>
                <a:lnTo>
                  <a:pt x="196971" y="441931"/>
                </a:lnTo>
                <a:lnTo>
                  <a:pt x="198942" y="443211"/>
                </a:lnTo>
                <a:lnTo>
                  <a:pt x="205730" y="445767"/>
                </a:lnTo>
                <a:lnTo>
                  <a:pt x="210288" y="445769"/>
                </a:lnTo>
                <a:lnTo>
                  <a:pt x="211630" y="444817"/>
                </a:lnTo>
                <a:lnTo>
                  <a:pt x="212524" y="443230"/>
                </a:lnTo>
                <a:lnTo>
                  <a:pt x="213960" y="438389"/>
                </a:lnTo>
                <a:lnTo>
                  <a:pt x="208352" y="424698"/>
                </a:lnTo>
                <a:lnTo>
                  <a:pt x="206901" y="417990"/>
                </a:lnTo>
                <a:lnTo>
                  <a:pt x="206084" y="404307"/>
                </a:lnTo>
                <a:lnTo>
                  <a:pt x="205842" y="392739"/>
                </a:lnTo>
                <a:lnTo>
                  <a:pt x="205741" y="319677"/>
                </a:lnTo>
                <a:lnTo>
                  <a:pt x="203201" y="308449"/>
                </a:lnTo>
                <a:lnTo>
                  <a:pt x="199849" y="297109"/>
                </a:lnTo>
                <a:lnTo>
                  <a:pt x="198360" y="285718"/>
                </a:lnTo>
                <a:lnTo>
                  <a:pt x="197698" y="274306"/>
                </a:lnTo>
                <a:lnTo>
                  <a:pt x="197521" y="268596"/>
                </a:lnTo>
                <a:lnTo>
                  <a:pt x="194785" y="257171"/>
                </a:lnTo>
                <a:lnTo>
                  <a:pt x="191346" y="245743"/>
                </a:lnTo>
                <a:lnTo>
                  <a:pt x="189818" y="234314"/>
                </a:lnTo>
                <a:lnTo>
                  <a:pt x="189139" y="222884"/>
                </a:lnTo>
                <a:lnTo>
                  <a:pt x="188958" y="217170"/>
                </a:lnTo>
                <a:lnTo>
                  <a:pt x="186216" y="205740"/>
                </a:lnTo>
                <a:lnTo>
                  <a:pt x="184152" y="200025"/>
                </a:lnTo>
                <a:lnTo>
                  <a:pt x="183728" y="195263"/>
                </a:lnTo>
                <a:lnTo>
                  <a:pt x="184398" y="191135"/>
                </a:lnTo>
                <a:lnTo>
                  <a:pt x="185797" y="187431"/>
                </a:lnTo>
                <a:lnTo>
                  <a:pt x="185777" y="183056"/>
                </a:lnTo>
                <a:lnTo>
                  <a:pt x="182151" y="167799"/>
                </a:lnTo>
                <a:lnTo>
                  <a:pt x="180969" y="156809"/>
                </a:lnTo>
                <a:lnTo>
                  <a:pt x="180443" y="145576"/>
                </a:lnTo>
                <a:lnTo>
                  <a:pt x="180303" y="139913"/>
                </a:lnTo>
                <a:lnTo>
                  <a:pt x="177607" y="128541"/>
                </a:lnTo>
                <a:lnTo>
                  <a:pt x="174187" y="117137"/>
                </a:lnTo>
                <a:lnTo>
                  <a:pt x="172667" y="105718"/>
                </a:lnTo>
                <a:lnTo>
                  <a:pt x="171811" y="93131"/>
                </a:lnTo>
                <a:lnTo>
                  <a:pt x="169071" y="83937"/>
                </a:lnTo>
                <a:lnTo>
                  <a:pt x="165630" y="74453"/>
                </a:lnTo>
                <a:lnTo>
                  <a:pt x="163422" y="60603"/>
                </a:lnTo>
                <a:lnTo>
                  <a:pt x="162985" y="48695"/>
                </a:lnTo>
                <a:lnTo>
                  <a:pt x="162881" y="27414"/>
                </a:lnTo>
                <a:lnTo>
                  <a:pt x="165419" y="23932"/>
                </a:lnTo>
                <a:lnTo>
                  <a:pt x="167430" y="21670"/>
                </a:lnTo>
                <a:lnTo>
                  <a:pt x="168770" y="19209"/>
                </a:lnTo>
                <a:lnTo>
                  <a:pt x="170259" y="13934"/>
                </a:lnTo>
                <a:lnTo>
                  <a:pt x="171609" y="12147"/>
                </a:lnTo>
                <a:lnTo>
                  <a:pt x="173461" y="10956"/>
                </a:lnTo>
                <a:lnTo>
                  <a:pt x="175648" y="10162"/>
                </a:lnTo>
                <a:lnTo>
                  <a:pt x="180619" y="6739"/>
                </a:lnTo>
                <a:lnTo>
                  <a:pt x="183278" y="4492"/>
                </a:lnTo>
                <a:lnTo>
                  <a:pt x="186955" y="2995"/>
                </a:lnTo>
                <a:lnTo>
                  <a:pt x="201233" y="888"/>
                </a:lnTo>
                <a:lnTo>
                  <a:pt x="223124" y="176"/>
                </a:lnTo>
                <a:lnTo>
                  <a:pt x="551833" y="0"/>
                </a:lnTo>
                <a:lnTo>
                  <a:pt x="567204" y="2541"/>
                </a:lnTo>
                <a:lnTo>
                  <a:pt x="583561" y="5892"/>
                </a:lnTo>
                <a:lnTo>
                  <a:pt x="600356" y="7381"/>
                </a:lnTo>
                <a:lnTo>
                  <a:pt x="621325" y="12771"/>
                </a:lnTo>
                <a:lnTo>
                  <a:pt x="636190" y="15201"/>
                </a:lnTo>
                <a:lnTo>
                  <a:pt x="658083" y="16569"/>
                </a:lnTo>
                <a:lnTo>
                  <a:pt x="677997" y="17032"/>
                </a:lnTo>
                <a:lnTo>
                  <a:pt x="681551" y="18022"/>
                </a:lnTo>
                <a:lnTo>
                  <a:pt x="691103" y="23014"/>
                </a:lnTo>
                <a:lnTo>
                  <a:pt x="702945" y="257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MARTPenAnnotation601"/>
          <p:cNvSpPr/>
          <p:nvPr/>
        </p:nvSpPr>
        <p:spPr>
          <a:xfrm>
            <a:off x="482760" y="5675400"/>
            <a:ext cx="342720" cy="214200"/>
          </a:xfrm>
          <a:custGeom>
            <a:avLst/>
            <a:gdLst>
              <a:gd name="textAreaLeft" fmla="*/ 0 w 342720"/>
              <a:gd name="textAreaRight" fmla="*/ 342720 w 34272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342796" h="214313">
                <a:moveTo>
                  <a:pt x="8467" y="0"/>
                </a:moveTo>
                <a:lnTo>
                  <a:pt x="0" y="0"/>
                </a:lnTo>
                <a:lnTo>
                  <a:pt x="95401" y="0"/>
                </a:lnTo>
                <a:lnTo>
                  <a:pt x="104572" y="2540"/>
                </a:lnTo>
                <a:lnTo>
                  <a:pt x="114998" y="5891"/>
                </a:lnTo>
                <a:lnTo>
                  <a:pt x="120445" y="6785"/>
                </a:lnTo>
                <a:lnTo>
                  <a:pt x="125982" y="7381"/>
                </a:lnTo>
                <a:lnTo>
                  <a:pt x="134674" y="10583"/>
                </a:lnTo>
                <a:lnTo>
                  <a:pt x="142664" y="15181"/>
                </a:lnTo>
                <a:lnTo>
                  <a:pt x="152565" y="20399"/>
                </a:lnTo>
                <a:lnTo>
                  <a:pt x="185740" y="37182"/>
                </a:lnTo>
                <a:lnTo>
                  <a:pt x="189514" y="40028"/>
                </a:lnTo>
                <a:lnTo>
                  <a:pt x="192030" y="42878"/>
                </a:lnTo>
                <a:lnTo>
                  <a:pt x="193708" y="45731"/>
                </a:lnTo>
                <a:lnTo>
                  <a:pt x="200651" y="51439"/>
                </a:lnTo>
                <a:lnTo>
                  <a:pt x="205170" y="54295"/>
                </a:lnTo>
                <a:lnTo>
                  <a:pt x="209135" y="58104"/>
                </a:lnTo>
                <a:lnTo>
                  <a:pt x="212731" y="62548"/>
                </a:lnTo>
                <a:lnTo>
                  <a:pt x="216081" y="67416"/>
                </a:lnTo>
                <a:lnTo>
                  <a:pt x="219266" y="71614"/>
                </a:lnTo>
                <a:lnTo>
                  <a:pt x="222342" y="75365"/>
                </a:lnTo>
                <a:lnTo>
                  <a:pt x="225346" y="78818"/>
                </a:lnTo>
                <a:lnTo>
                  <a:pt x="227348" y="82073"/>
                </a:lnTo>
                <a:lnTo>
                  <a:pt x="229573" y="88229"/>
                </a:lnTo>
                <a:lnTo>
                  <a:pt x="230561" y="94140"/>
                </a:lnTo>
                <a:lnTo>
                  <a:pt x="231001" y="99943"/>
                </a:lnTo>
                <a:lnTo>
                  <a:pt x="231196" y="105696"/>
                </a:lnTo>
                <a:lnTo>
                  <a:pt x="231306" y="114291"/>
                </a:lnTo>
                <a:lnTo>
                  <a:pt x="230369" y="118103"/>
                </a:lnTo>
                <a:lnTo>
                  <a:pt x="228792" y="122551"/>
                </a:lnTo>
                <a:lnTo>
                  <a:pt x="226788" y="127420"/>
                </a:lnTo>
                <a:lnTo>
                  <a:pt x="224499" y="130667"/>
                </a:lnTo>
                <a:lnTo>
                  <a:pt x="222021" y="132831"/>
                </a:lnTo>
                <a:lnTo>
                  <a:pt x="211443" y="138417"/>
                </a:lnTo>
                <a:lnTo>
                  <a:pt x="202501" y="143433"/>
                </a:lnTo>
                <a:lnTo>
                  <a:pt x="195352" y="148838"/>
                </a:lnTo>
                <a:lnTo>
                  <a:pt x="191160" y="150661"/>
                </a:lnTo>
                <a:lnTo>
                  <a:pt x="181422" y="152685"/>
                </a:lnTo>
                <a:lnTo>
                  <a:pt x="170743" y="156125"/>
                </a:lnTo>
                <a:lnTo>
                  <a:pt x="165229" y="158376"/>
                </a:lnTo>
                <a:lnTo>
                  <a:pt x="159648" y="159876"/>
                </a:lnTo>
                <a:lnTo>
                  <a:pt x="154022" y="160876"/>
                </a:lnTo>
                <a:lnTo>
                  <a:pt x="148366" y="161544"/>
                </a:lnTo>
                <a:lnTo>
                  <a:pt x="142691" y="161988"/>
                </a:lnTo>
                <a:lnTo>
                  <a:pt x="137002" y="162284"/>
                </a:lnTo>
                <a:lnTo>
                  <a:pt x="122434" y="162701"/>
                </a:lnTo>
                <a:lnTo>
                  <a:pt x="104428" y="162843"/>
                </a:lnTo>
                <a:lnTo>
                  <a:pt x="100064" y="161901"/>
                </a:lnTo>
                <a:lnTo>
                  <a:pt x="92674" y="158316"/>
                </a:lnTo>
                <a:lnTo>
                  <a:pt x="83675" y="156088"/>
                </a:lnTo>
                <a:lnTo>
                  <a:pt x="74278" y="155097"/>
                </a:lnTo>
                <a:lnTo>
                  <a:pt x="63633" y="154539"/>
                </a:lnTo>
                <a:lnTo>
                  <a:pt x="57433" y="154409"/>
                </a:lnTo>
                <a:lnTo>
                  <a:pt x="55399" y="153422"/>
                </a:lnTo>
                <a:lnTo>
                  <a:pt x="54042" y="151811"/>
                </a:lnTo>
                <a:lnTo>
                  <a:pt x="53138" y="149785"/>
                </a:lnTo>
                <a:lnTo>
                  <a:pt x="52134" y="144993"/>
                </a:lnTo>
                <a:lnTo>
                  <a:pt x="51866" y="142382"/>
                </a:lnTo>
                <a:lnTo>
                  <a:pt x="50735" y="140642"/>
                </a:lnTo>
                <a:lnTo>
                  <a:pt x="49028" y="139481"/>
                </a:lnTo>
                <a:lnTo>
                  <a:pt x="43996" y="137618"/>
                </a:lnTo>
                <a:lnTo>
                  <a:pt x="43583" y="136513"/>
                </a:lnTo>
                <a:lnTo>
                  <a:pt x="43002" y="130406"/>
                </a:lnTo>
                <a:lnTo>
                  <a:pt x="42866" y="125268"/>
                </a:lnTo>
                <a:lnTo>
                  <a:pt x="43782" y="122565"/>
                </a:lnTo>
                <a:lnTo>
                  <a:pt x="47340" y="117020"/>
                </a:lnTo>
                <a:lnTo>
                  <a:pt x="50148" y="113095"/>
                </a:lnTo>
                <a:lnTo>
                  <a:pt x="51494" y="112544"/>
                </a:lnTo>
                <a:lnTo>
                  <a:pt x="55530" y="111932"/>
                </a:lnTo>
                <a:lnTo>
                  <a:pt x="57940" y="110816"/>
                </a:lnTo>
                <a:lnTo>
                  <a:pt x="65883" y="105647"/>
                </a:lnTo>
                <a:lnTo>
                  <a:pt x="71450" y="104104"/>
                </a:lnTo>
                <a:lnTo>
                  <a:pt x="79640" y="103418"/>
                </a:lnTo>
                <a:lnTo>
                  <a:pt x="89630" y="103113"/>
                </a:lnTo>
                <a:lnTo>
                  <a:pt x="100419" y="102978"/>
                </a:lnTo>
                <a:lnTo>
                  <a:pt x="105964" y="103895"/>
                </a:lnTo>
                <a:lnTo>
                  <a:pt x="111565" y="105458"/>
                </a:lnTo>
                <a:lnTo>
                  <a:pt x="117204" y="107453"/>
                </a:lnTo>
                <a:lnTo>
                  <a:pt x="122869" y="108782"/>
                </a:lnTo>
                <a:lnTo>
                  <a:pt x="128550" y="109669"/>
                </a:lnTo>
                <a:lnTo>
                  <a:pt x="134242" y="110260"/>
                </a:lnTo>
                <a:lnTo>
                  <a:pt x="139942" y="111607"/>
                </a:lnTo>
                <a:lnTo>
                  <a:pt x="145647" y="113457"/>
                </a:lnTo>
                <a:lnTo>
                  <a:pt x="151356" y="115643"/>
                </a:lnTo>
                <a:lnTo>
                  <a:pt x="157066" y="118052"/>
                </a:lnTo>
                <a:lnTo>
                  <a:pt x="162778" y="120612"/>
                </a:lnTo>
                <a:lnTo>
                  <a:pt x="174205" y="125995"/>
                </a:lnTo>
                <a:lnTo>
                  <a:pt x="219923" y="148601"/>
                </a:lnTo>
                <a:lnTo>
                  <a:pt x="225637" y="152407"/>
                </a:lnTo>
                <a:lnTo>
                  <a:pt x="231353" y="156850"/>
                </a:lnTo>
                <a:lnTo>
                  <a:pt x="237067" y="161716"/>
                </a:lnTo>
                <a:lnTo>
                  <a:pt x="241830" y="165913"/>
                </a:lnTo>
                <a:lnTo>
                  <a:pt x="249662" y="173117"/>
                </a:lnTo>
                <a:lnTo>
                  <a:pt x="253084" y="175418"/>
                </a:lnTo>
                <a:lnTo>
                  <a:pt x="259426" y="177976"/>
                </a:lnTo>
                <a:lnTo>
                  <a:pt x="262450" y="180563"/>
                </a:lnTo>
                <a:lnTo>
                  <a:pt x="265420" y="184193"/>
                </a:lnTo>
                <a:lnTo>
                  <a:pt x="268351" y="188518"/>
                </a:lnTo>
                <a:lnTo>
                  <a:pt x="272211" y="191401"/>
                </a:lnTo>
                <a:lnTo>
                  <a:pt x="276689" y="193323"/>
                </a:lnTo>
                <a:lnTo>
                  <a:pt x="281579" y="194604"/>
                </a:lnTo>
                <a:lnTo>
                  <a:pt x="289553" y="198568"/>
                </a:lnTo>
                <a:lnTo>
                  <a:pt x="296272" y="203505"/>
                </a:lnTo>
                <a:lnTo>
                  <a:pt x="302433" y="208874"/>
                </a:lnTo>
                <a:lnTo>
                  <a:pt x="305410" y="210687"/>
                </a:lnTo>
                <a:lnTo>
                  <a:pt x="311257" y="212701"/>
                </a:lnTo>
                <a:lnTo>
                  <a:pt x="319904" y="213835"/>
                </a:lnTo>
                <a:lnTo>
                  <a:pt x="328498" y="214171"/>
                </a:lnTo>
                <a:lnTo>
                  <a:pt x="342795" y="2143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MARTPenAnnotation602"/>
          <p:cNvSpPr/>
          <p:nvPr/>
        </p:nvSpPr>
        <p:spPr>
          <a:xfrm>
            <a:off x="1023840" y="5786280"/>
            <a:ext cx="66600" cy="17640"/>
          </a:xfrm>
          <a:custGeom>
            <a:avLst/>
            <a:gdLst>
              <a:gd name="textAreaLeft" fmla="*/ 0 w 66600"/>
              <a:gd name="textAreaRight" fmla="*/ 66960 w 666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66533" h="17146">
                <a:moveTo>
                  <a:pt x="8220" y="17145"/>
                </a:moveTo>
                <a:lnTo>
                  <a:pt x="3669" y="17145"/>
                </a:lnTo>
                <a:lnTo>
                  <a:pt x="2329" y="16193"/>
                </a:lnTo>
                <a:lnTo>
                  <a:pt x="1435" y="14605"/>
                </a:lnTo>
                <a:lnTo>
                  <a:pt x="0" y="9764"/>
                </a:lnTo>
                <a:lnTo>
                  <a:pt x="835" y="9367"/>
                </a:lnTo>
                <a:lnTo>
                  <a:pt x="2344" y="9102"/>
                </a:lnTo>
                <a:lnTo>
                  <a:pt x="4303" y="8926"/>
                </a:lnTo>
                <a:lnTo>
                  <a:pt x="7514" y="8808"/>
                </a:lnTo>
                <a:lnTo>
                  <a:pt x="23814" y="8619"/>
                </a:lnTo>
                <a:lnTo>
                  <a:pt x="45277" y="8575"/>
                </a:lnTo>
                <a:lnTo>
                  <a:pt x="48165" y="9527"/>
                </a:lnTo>
                <a:lnTo>
                  <a:pt x="51042" y="11114"/>
                </a:lnTo>
                <a:lnTo>
                  <a:pt x="53913" y="13124"/>
                </a:lnTo>
                <a:lnTo>
                  <a:pt x="56780" y="14465"/>
                </a:lnTo>
                <a:lnTo>
                  <a:pt x="59643" y="15358"/>
                </a:lnTo>
                <a:lnTo>
                  <a:pt x="62505" y="15954"/>
                </a:lnTo>
                <a:lnTo>
                  <a:pt x="64412" y="15399"/>
                </a:lnTo>
                <a:lnTo>
                  <a:pt x="65684" y="14076"/>
                </a:lnTo>
                <a:lnTo>
                  <a:pt x="66532" y="12242"/>
                </a:lnTo>
                <a:lnTo>
                  <a:pt x="66144" y="11018"/>
                </a:lnTo>
                <a:lnTo>
                  <a:pt x="64934" y="10203"/>
                </a:lnTo>
                <a:lnTo>
                  <a:pt x="63174" y="9660"/>
                </a:lnTo>
                <a:lnTo>
                  <a:pt x="61049" y="9297"/>
                </a:lnTo>
                <a:lnTo>
                  <a:pt x="58679" y="9056"/>
                </a:lnTo>
                <a:lnTo>
                  <a:pt x="56147" y="8895"/>
                </a:lnTo>
                <a:lnTo>
                  <a:pt x="53506" y="8788"/>
                </a:lnTo>
                <a:lnTo>
                  <a:pt x="48032" y="8668"/>
                </a:lnTo>
                <a:lnTo>
                  <a:pt x="31063" y="8581"/>
                </a:lnTo>
                <a:lnTo>
                  <a:pt x="28211" y="7626"/>
                </a:lnTo>
                <a:lnTo>
                  <a:pt x="25358" y="6036"/>
                </a:lnTo>
                <a:lnTo>
                  <a:pt x="17294" y="354"/>
                </a:lnTo>
                <a:lnTo>
                  <a:pt x="16174" y="236"/>
                </a:lnTo>
                <a:lnTo>
                  <a:pt x="14475" y="157"/>
                </a:lnTo>
                <a:lnTo>
                  <a:pt x="822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MARTPenAnnotation603"/>
          <p:cNvSpPr/>
          <p:nvPr/>
        </p:nvSpPr>
        <p:spPr>
          <a:xfrm>
            <a:off x="1193760" y="5511960"/>
            <a:ext cx="652680" cy="438120"/>
          </a:xfrm>
          <a:custGeom>
            <a:avLst/>
            <a:gdLst>
              <a:gd name="textAreaLeft" fmla="*/ 0 w 652680"/>
              <a:gd name="textAreaRight" fmla="*/ 653040 w 65268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651511" h="437081">
                <a:moveTo>
                  <a:pt x="0" y="265748"/>
                </a:moveTo>
                <a:lnTo>
                  <a:pt x="0" y="270299"/>
                </a:lnTo>
                <a:lnTo>
                  <a:pt x="953" y="271639"/>
                </a:lnTo>
                <a:lnTo>
                  <a:pt x="2540" y="272533"/>
                </a:lnTo>
                <a:lnTo>
                  <a:pt x="4551" y="273129"/>
                </a:lnTo>
                <a:lnTo>
                  <a:pt x="9326" y="276331"/>
                </a:lnTo>
                <a:lnTo>
                  <a:pt x="11932" y="278518"/>
                </a:lnTo>
                <a:lnTo>
                  <a:pt x="20152" y="290698"/>
                </a:lnTo>
                <a:lnTo>
                  <a:pt x="31462" y="305989"/>
                </a:lnTo>
                <a:lnTo>
                  <a:pt x="37161" y="315700"/>
                </a:lnTo>
                <a:lnTo>
                  <a:pt x="45409" y="323827"/>
                </a:lnTo>
                <a:lnTo>
                  <a:pt x="60762" y="336296"/>
                </a:lnTo>
                <a:lnTo>
                  <a:pt x="77376" y="349516"/>
                </a:lnTo>
                <a:lnTo>
                  <a:pt x="83017" y="353026"/>
                </a:lnTo>
                <a:lnTo>
                  <a:pt x="91824" y="362006"/>
                </a:lnTo>
                <a:lnTo>
                  <a:pt x="95506" y="367067"/>
                </a:lnTo>
                <a:lnTo>
                  <a:pt x="104677" y="375231"/>
                </a:lnTo>
                <a:lnTo>
                  <a:pt x="109790" y="378742"/>
                </a:lnTo>
                <a:lnTo>
                  <a:pt x="118011" y="387722"/>
                </a:lnTo>
                <a:lnTo>
                  <a:pt x="121537" y="392784"/>
                </a:lnTo>
                <a:lnTo>
                  <a:pt x="130534" y="400948"/>
                </a:lnTo>
                <a:lnTo>
                  <a:pt x="147281" y="413951"/>
                </a:lnTo>
                <a:lnTo>
                  <a:pt x="156775" y="422795"/>
                </a:lnTo>
                <a:lnTo>
                  <a:pt x="159762" y="424739"/>
                </a:lnTo>
                <a:lnTo>
                  <a:pt x="165621" y="426898"/>
                </a:lnTo>
                <a:lnTo>
                  <a:pt x="167564" y="428426"/>
                </a:lnTo>
                <a:lnTo>
                  <a:pt x="168859" y="430397"/>
                </a:lnTo>
                <a:lnTo>
                  <a:pt x="169723" y="432664"/>
                </a:lnTo>
                <a:lnTo>
                  <a:pt x="171251" y="434175"/>
                </a:lnTo>
                <a:lnTo>
                  <a:pt x="173223" y="435183"/>
                </a:lnTo>
                <a:lnTo>
                  <a:pt x="179625" y="437080"/>
                </a:lnTo>
                <a:lnTo>
                  <a:pt x="179988" y="425255"/>
                </a:lnTo>
                <a:lnTo>
                  <a:pt x="180020" y="408578"/>
                </a:lnTo>
                <a:lnTo>
                  <a:pt x="175471" y="395486"/>
                </a:lnTo>
                <a:lnTo>
                  <a:pt x="172642" y="384093"/>
                </a:lnTo>
                <a:lnTo>
                  <a:pt x="171980" y="375178"/>
                </a:lnTo>
                <a:lnTo>
                  <a:pt x="171803" y="370134"/>
                </a:lnTo>
                <a:lnTo>
                  <a:pt x="169067" y="359449"/>
                </a:lnTo>
                <a:lnTo>
                  <a:pt x="165629" y="348350"/>
                </a:lnTo>
                <a:lnTo>
                  <a:pt x="164100" y="337067"/>
                </a:lnTo>
                <a:lnTo>
                  <a:pt x="160881" y="325703"/>
                </a:lnTo>
                <a:lnTo>
                  <a:pt x="158689" y="320006"/>
                </a:lnTo>
                <a:lnTo>
                  <a:pt x="157228" y="313349"/>
                </a:lnTo>
                <a:lnTo>
                  <a:pt x="156254" y="306054"/>
                </a:lnTo>
                <a:lnTo>
                  <a:pt x="155604" y="298334"/>
                </a:lnTo>
                <a:lnTo>
                  <a:pt x="152343" y="284676"/>
                </a:lnTo>
                <a:lnTo>
                  <a:pt x="147718" y="272255"/>
                </a:lnTo>
                <a:lnTo>
                  <a:pt x="142488" y="260385"/>
                </a:lnTo>
                <a:lnTo>
                  <a:pt x="139528" y="248759"/>
                </a:lnTo>
                <a:lnTo>
                  <a:pt x="138213" y="237242"/>
                </a:lnTo>
                <a:lnTo>
                  <a:pt x="137628" y="225774"/>
                </a:lnTo>
                <a:lnTo>
                  <a:pt x="136520" y="219096"/>
                </a:lnTo>
                <a:lnTo>
                  <a:pt x="134828" y="211787"/>
                </a:lnTo>
                <a:lnTo>
                  <a:pt x="132748" y="204056"/>
                </a:lnTo>
                <a:lnTo>
                  <a:pt x="130409" y="196998"/>
                </a:lnTo>
                <a:lnTo>
                  <a:pt x="125270" y="184074"/>
                </a:lnTo>
                <a:lnTo>
                  <a:pt x="122351" y="171981"/>
                </a:lnTo>
                <a:lnTo>
                  <a:pt x="120101" y="159303"/>
                </a:lnTo>
                <a:lnTo>
                  <a:pt x="118167" y="151922"/>
                </a:lnTo>
                <a:lnTo>
                  <a:pt x="115926" y="144144"/>
                </a:lnTo>
                <a:lnTo>
                  <a:pt x="113479" y="137054"/>
                </a:lnTo>
                <a:lnTo>
                  <a:pt x="108220" y="124095"/>
                </a:lnTo>
                <a:lnTo>
                  <a:pt x="102708" y="111986"/>
                </a:lnTo>
                <a:lnTo>
                  <a:pt x="97083" y="101207"/>
                </a:lnTo>
                <a:lnTo>
                  <a:pt x="88562" y="88831"/>
                </a:lnTo>
                <a:lnTo>
                  <a:pt x="82858" y="78851"/>
                </a:lnTo>
                <a:lnTo>
                  <a:pt x="79689" y="68065"/>
                </a:lnTo>
                <a:lnTo>
                  <a:pt x="78844" y="62522"/>
                </a:lnTo>
                <a:lnTo>
                  <a:pt x="75364" y="53823"/>
                </a:lnTo>
                <a:lnTo>
                  <a:pt x="71595" y="46781"/>
                </a:lnTo>
                <a:lnTo>
                  <a:pt x="69920" y="40477"/>
                </a:lnTo>
                <a:lnTo>
                  <a:pt x="68977" y="31572"/>
                </a:lnTo>
                <a:lnTo>
                  <a:pt x="67893" y="28669"/>
                </a:lnTo>
                <a:lnTo>
                  <a:pt x="61234" y="18851"/>
                </a:lnTo>
                <a:lnTo>
                  <a:pt x="60553" y="15363"/>
                </a:lnTo>
                <a:lnTo>
                  <a:pt x="60116" y="9914"/>
                </a:lnTo>
                <a:lnTo>
                  <a:pt x="61032" y="9467"/>
                </a:lnTo>
                <a:lnTo>
                  <a:pt x="64591" y="8970"/>
                </a:lnTo>
                <a:lnTo>
                  <a:pt x="66873" y="7885"/>
                </a:lnTo>
                <a:lnTo>
                  <a:pt x="74636" y="2760"/>
                </a:lnTo>
                <a:lnTo>
                  <a:pt x="80162" y="1227"/>
                </a:lnTo>
                <a:lnTo>
                  <a:pt x="97169" y="108"/>
                </a:lnTo>
                <a:lnTo>
                  <a:pt x="390676" y="0"/>
                </a:lnTo>
                <a:lnTo>
                  <a:pt x="407314" y="2540"/>
                </a:lnTo>
                <a:lnTo>
                  <a:pt x="422964" y="5891"/>
                </a:lnTo>
                <a:lnTo>
                  <a:pt x="442619" y="7381"/>
                </a:lnTo>
                <a:lnTo>
                  <a:pt x="461515" y="10583"/>
                </a:lnTo>
                <a:lnTo>
                  <a:pt x="479438" y="14229"/>
                </a:lnTo>
                <a:lnTo>
                  <a:pt x="496929" y="15849"/>
                </a:lnTo>
                <a:lnTo>
                  <a:pt x="516767" y="19109"/>
                </a:lnTo>
                <a:lnTo>
                  <a:pt x="536380" y="22781"/>
                </a:lnTo>
                <a:lnTo>
                  <a:pt x="551446" y="24412"/>
                </a:lnTo>
                <a:lnTo>
                  <a:pt x="567033" y="27678"/>
                </a:lnTo>
                <a:lnTo>
                  <a:pt x="582532" y="31351"/>
                </a:lnTo>
                <a:lnTo>
                  <a:pt x="601968" y="34372"/>
                </a:lnTo>
                <a:lnTo>
                  <a:pt x="618840" y="39924"/>
                </a:lnTo>
                <a:lnTo>
                  <a:pt x="633556" y="42282"/>
                </a:lnTo>
                <a:lnTo>
                  <a:pt x="651510" y="428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MARTPenAnnotation604"/>
          <p:cNvSpPr/>
          <p:nvPr/>
        </p:nvSpPr>
        <p:spPr>
          <a:xfrm>
            <a:off x="1546200" y="5632560"/>
            <a:ext cx="189000" cy="108000"/>
          </a:xfrm>
          <a:custGeom>
            <a:avLst/>
            <a:gdLst>
              <a:gd name="textAreaLeft" fmla="*/ 0 w 189000"/>
              <a:gd name="textAreaRight" fmla="*/ 189360 w 189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88596" h="107787">
                <a:moveTo>
                  <a:pt x="0" y="0"/>
                </a:moveTo>
                <a:lnTo>
                  <a:pt x="0" y="7381"/>
                </a:lnTo>
                <a:lnTo>
                  <a:pt x="952" y="7778"/>
                </a:lnTo>
                <a:lnTo>
                  <a:pt x="6785" y="8415"/>
                </a:lnTo>
                <a:lnTo>
                  <a:pt x="7381" y="8468"/>
                </a:lnTo>
                <a:lnTo>
                  <a:pt x="10583" y="11066"/>
                </a:lnTo>
                <a:lnTo>
                  <a:pt x="16761" y="16789"/>
                </a:lnTo>
                <a:lnTo>
                  <a:pt x="16974" y="19527"/>
                </a:lnTo>
                <a:lnTo>
                  <a:pt x="17031" y="21591"/>
                </a:lnTo>
                <a:lnTo>
                  <a:pt x="16117" y="22967"/>
                </a:lnTo>
                <a:lnTo>
                  <a:pt x="14554" y="23884"/>
                </a:lnTo>
                <a:lnTo>
                  <a:pt x="9754" y="25355"/>
                </a:lnTo>
                <a:lnTo>
                  <a:pt x="6558" y="28097"/>
                </a:lnTo>
                <a:lnTo>
                  <a:pt x="1295" y="33067"/>
                </a:lnTo>
                <a:lnTo>
                  <a:pt x="863" y="34427"/>
                </a:lnTo>
                <a:lnTo>
                  <a:pt x="576" y="36286"/>
                </a:lnTo>
                <a:lnTo>
                  <a:pt x="114" y="41563"/>
                </a:lnTo>
                <a:lnTo>
                  <a:pt x="50" y="44825"/>
                </a:lnTo>
                <a:lnTo>
                  <a:pt x="10" y="50130"/>
                </a:lnTo>
                <a:lnTo>
                  <a:pt x="2544" y="53395"/>
                </a:lnTo>
                <a:lnTo>
                  <a:pt x="4554" y="55599"/>
                </a:lnTo>
                <a:lnTo>
                  <a:pt x="9326" y="60588"/>
                </a:lnTo>
                <a:lnTo>
                  <a:pt x="20151" y="71553"/>
                </a:lnTo>
                <a:lnTo>
                  <a:pt x="23912" y="73419"/>
                </a:lnTo>
                <a:lnTo>
                  <a:pt x="28324" y="74664"/>
                </a:lnTo>
                <a:lnTo>
                  <a:pt x="33170" y="75494"/>
                </a:lnTo>
                <a:lnTo>
                  <a:pt x="38306" y="76999"/>
                </a:lnTo>
                <a:lnTo>
                  <a:pt x="43635" y="78955"/>
                </a:lnTo>
                <a:lnTo>
                  <a:pt x="49092" y="81212"/>
                </a:lnTo>
                <a:lnTo>
                  <a:pt x="53683" y="82717"/>
                </a:lnTo>
                <a:lnTo>
                  <a:pt x="57696" y="83719"/>
                </a:lnTo>
                <a:lnTo>
                  <a:pt x="61324" y="84388"/>
                </a:lnTo>
                <a:lnTo>
                  <a:pt x="64695" y="85786"/>
                </a:lnTo>
                <a:lnTo>
                  <a:pt x="67895" y="87671"/>
                </a:lnTo>
                <a:lnTo>
                  <a:pt x="70981" y="89879"/>
                </a:lnTo>
                <a:lnTo>
                  <a:pt x="73991" y="91352"/>
                </a:lnTo>
                <a:lnTo>
                  <a:pt x="79874" y="92989"/>
                </a:lnTo>
                <a:lnTo>
                  <a:pt x="83730" y="94378"/>
                </a:lnTo>
                <a:lnTo>
                  <a:pt x="88205" y="96256"/>
                </a:lnTo>
                <a:lnTo>
                  <a:pt x="93093" y="98460"/>
                </a:lnTo>
                <a:lnTo>
                  <a:pt x="97305" y="99931"/>
                </a:lnTo>
                <a:lnTo>
                  <a:pt x="101065" y="100910"/>
                </a:lnTo>
                <a:lnTo>
                  <a:pt x="104524" y="101564"/>
                </a:lnTo>
                <a:lnTo>
                  <a:pt x="108735" y="101999"/>
                </a:lnTo>
                <a:lnTo>
                  <a:pt x="113448" y="102289"/>
                </a:lnTo>
                <a:lnTo>
                  <a:pt x="123764" y="102612"/>
                </a:lnTo>
                <a:lnTo>
                  <a:pt x="134698" y="102755"/>
                </a:lnTo>
                <a:lnTo>
                  <a:pt x="139329" y="103746"/>
                </a:lnTo>
                <a:lnTo>
                  <a:pt x="143368" y="105359"/>
                </a:lnTo>
                <a:lnTo>
                  <a:pt x="147014" y="107387"/>
                </a:lnTo>
                <a:lnTo>
                  <a:pt x="150397" y="107786"/>
                </a:lnTo>
                <a:lnTo>
                  <a:pt x="153605" y="107101"/>
                </a:lnTo>
                <a:lnTo>
                  <a:pt x="156696" y="105690"/>
                </a:lnTo>
                <a:lnTo>
                  <a:pt x="159709" y="104750"/>
                </a:lnTo>
                <a:lnTo>
                  <a:pt x="165597" y="103706"/>
                </a:lnTo>
                <a:lnTo>
                  <a:pt x="168500" y="102474"/>
                </a:lnTo>
                <a:lnTo>
                  <a:pt x="171388" y="100701"/>
                </a:lnTo>
                <a:lnTo>
                  <a:pt x="174266" y="98567"/>
                </a:lnTo>
                <a:lnTo>
                  <a:pt x="176185" y="96191"/>
                </a:lnTo>
                <a:lnTo>
                  <a:pt x="177464" y="93655"/>
                </a:lnTo>
                <a:lnTo>
                  <a:pt x="179517" y="87292"/>
                </a:lnTo>
                <a:lnTo>
                  <a:pt x="180638" y="85817"/>
                </a:lnTo>
                <a:lnTo>
                  <a:pt x="182338" y="83881"/>
                </a:lnTo>
                <a:lnTo>
                  <a:pt x="184424" y="81639"/>
                </a:lnTo>
                <a:lnTo>
                  <a:pt x="185814" y="79191"/>
                </a:lnTo>
                <a:lnTo>
                  <a:pt x="186741" y="76606"/>
                </a:lnTo>
                <a:lnTo>
                  <a:pt x="188595" y="685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SMARTPenAnnotation605"/>
          <p:cNvSpPr/>
          <p:nvPr/>
        </p:nvSpPr>
        <p:spPr>
          <a:xfrm>
            <a:off x="1657440" y="5622840"/>
            <a:ext cx="60120" cy="395280"/>
          </a:xfrm>
          <a:custGeom>
            <a:avLst/>
            <a:gdLst>
              <a:gd name="textAreaLeft" fmla="*/ 0 w 60120"/>
              <a:gd name="textAreaRight" fmla="*/ 60480 w 601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59645" h="394324">
                <a:moveTo>
                  <a:pt x="59644" y="25705"/>
                </a:moveTo>
                <a:lnTo>
                  <a:pt x="46625" y="12686"/>
                </a:lnTo>
                <a:lnTo>
                  <a:pt x="45250" y="10358"/>
                </a:lnTo>
                <a:lnTo>
                  <a:pt x="43721" y="5232"/>
                </a:lnTo>
                <a:lnTo>
                  <a:pt x="42508" y="28"/>
                </a:lnTo>
                <a:lnTo>
                  <a:pt x="37951" y="0"/>
                </a:lnTo>
                <a:lnTo>
                  <a:pt x="36609" y="948"/>
                </a:lnTo>
                <a:lnTo>
                  <a:pt x="35715" y="2533"/>
                </a:lnTo>
                <a:lnTo>
                  <a:pt x="34721" y="6834"/>
                </a:lnTo>
                <a:lnTo>
                  <a:pt x="34083" y="17356"/>
                </a:lnTo>
                <a:lnTo>
                  <a:pt x="33973" y="28311"/>
                </a:lnTo>
                <a:lnTo>
                  <a:pt x="33927" y="90281"/>
                </a:lnTo>
                <a:lnTo>
                  <a:pt x="32974" y="97331"/>
                </a:lnTo>
                <a:lnTo>
                  <a:pt x="31387" y="104888"/>
                </a:lnTo>
                <a:lnTo>
                  <a:pt x="29376" y="112784"/>
                </a:lnTo>
                <a:lnTo>
                  <a:pt x="27083" y="120905"/>
                </a:lnTo>
                <a:lnTo>
                  <a:pt x="21995" y="137549"/>
                </a:lnTo>
                <a:lnTo>
                  <a:pt x="20257" y="145987"/>
                </a:lnTo>
                <a:lnTo>
                  <a:pt x="19098" y="154471"/>
                </a:lnTo>
                <a:lnTo>
                  <a:pt x="18326" y="162984"/>
                </a:lnTo>
                <a:lnTo>
                  <a:pt x="16859" y="171517"/>
                </a:lnTo>
                <a:lnTo>
                  <a:pt x="14928" y="180063"/>
                </a:lnTo>
                <a:lnTo>
                  <a:pt x="12688" y="188618"/>
                </a:lnTo>
                <a:lnTo>
                  <a:pt x="11195" y="197179"/>
                </a:lnTo>
                <a:lnTo>
                  <a:pt x="10200" y="205743"/>
                </a:lnTo>
                <a:lnTo>
                  <a:pt x="9536" y="214311"/>
                </a:lnTo>
                <a:lnTo>
                  <a:pt x="9094" y="222880"/>
                </a:lnTo>
                <a:lnTo>
                  <a:pt x="8602" y="240021"/>
                </a:lnTo>
                <a:lnTo>
                  <a:pt x="7519" y="248592"/>
                </a:lnTo>
                <a:lnTo>
                  <a:pt x="5844" y="257164"/>
                </a:lnTo>
                <a:lnTo>
                  <a:pt x="3775" y="265736"/>
                </a:lnTo>
                <a:lnTo>
                  <a:pt x="2395" y="273356"/>
                </a:lnTo>
                <a:lnTo>
                  <a:pt x="1476" y="280340"/>
                </a:lnTo>
                <a:lnTo>
                  <a:pt x="863" y="286902"/>
                </a:lnTo>
                <a:lnTo>
                  <a:pt x="454" y="294134"/>
                </a:lnTo>
                <a:lnTo>
                  <a:pt x="0" y="309789"/>
                </a:lnTo>
                <a:lnTo>
                  <a:pt x="831" y="317012"/>
                </a:lnTo>
                <a:lnTo>
                  <a:pt x="2338" y="323732"/>
                </a:lnTo>
                <a:lnTo>
                  <a:pt x="4295" y="330118"/>
                </a:lnTo>
                <a:lnTo>
                  <a:pt x="5600" y="336279"/>
                </a:lnTo>
                <a:lnTo>
                  <a:pt x="7049" y="348206"/>
                </a:lnTo>
                <a:lnTo>
                  <a:pt x="7694" y="357317"/>
                </a:lnTo>
                <a:lnTo>
                  <a:pt x="7865" y="361080"/>
                </a:lnTo>
                <a:lnTo>
                  <a:pt x="8932" y="364541"/>
                </a:lnTo>
                <a:lnTo>
                  <a:pt x="10596" y="367801"/>
                </a:lnTo>
                <a:lnTo>
                  <a:pt x="12658" y="370926"/>
                </a:lnTo>
                <a:lnTo>
                  <a:pt x="14032" y="373963"/>
                </a:lnTo>
                <a:lnTo>
                  <a:pt x="15560" y="379877"/>
                </a:lnTo>
                <a:lnTo>
                  <a:pt x="16540" y="385542"/>
                </a:lnTo>
                <a:lnTo>
                  <a:pt x="16781" y="3943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MARTPenAnnotation606"/>
          <p:cNvSpPr/>
          <p:nvPr/>
        </p:nvSpPr>
        <p:spPr>
          <a:xfrm>
            <a:off x="2308320" y="5425920"/>
            <a:ext cx="274680" cy="352440"/>
          </a:xfrm>
          <a:custGeom>
            <a:avLst/>
            <a:gdLst>
              <a:gd name="textAreaLeft" fmla="*/ 0 w 274680"/>
              <a:gd name="textAreaRight" fmla="*/ 275040 w 27468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274321" h="351474">
                <a:moveTo>
                  <a:pt x="274320" y="0"/>
                </a:moveTo>
                <a:lnTo>
                  <a:pt x="261604" y="0"/>
                </a:lnTo>
                <a:lnTo>
                  <a:pt x="265014" y="0"/>
                </a:lnTo>
                <a:lnTo>
                  <a:pt x="260980" y="0"/>
                </a:lnTo>
                <a:lnTo>
                  <a:pt x="260664" y="953"/>
                </a:lnTo>
                <a:lnTo>
                  <a:pt x="261406" y="2540"/>
                </a:lnTo>
                <a:lnTo>
                  <a:pt x="262853" y="4551"/>
                </a:lnTo>
                <a:lnTo>
                  <a:pt x="262866" y="5891"/>
                </a:lnTo>
                <a:lnTo>
                  <a:pt x="261922" y="6785"/>
                </a:lnTo>
                <a:lnTo>
                  <a:pt x="260340" y="7381"/>
                </a:lnTo>
                <a:lnTo>
                  <a:pt x="259285" y="8731"/>
                </a:lnTo>
                <a:lnTo>
                  <a:pt x="258582" y="10583"/>
                </a:lnTo>
                <a:lnTo>
                  <a:pt x="258113" y="12770"/>
                </a:lnTo>
                <a:lnTo>
                  <a:pt x="255052" y="17741"/>
                </a:lnTo>
                <a:lnTo>
                  <a:pt x="250517" y="24077"/>
                </a:lnTo>
                <a:lnTo>
                  <a:pt x="245326" y="33244"/>
                </a:lnTo>
                <a:lnTo>
                  <a:pt x="239844" y="41128"/>
                </a:lnTo>
                <a:lnTo>
                  <a:pt x="234233" y="48759"/>
                </a:lnTo>
                <a:lnTo>
                  <a:pt x="228564" y="58501"/>
                </a:lnTo>
                <a:lnTo>
                  <a:pt x="222869" y="69180"/>
                </a:lnTo>
                <a:lnTo>
                  <a:pt x="211452" y="91559"/>
                </a:lnTo>
                <a:lnTo>
                  <a:pt x="207643" y="97234"/>
                </a:lnTo>
                <a:lnTo>
                  <a:pt x="203199" y="102923"/>
                </a:lnTo>
                <a:lnTo>
                  <a:pt x="198331" y="108620"/>
                </a:lnTo>
                <a:lnTo>
                  <a:pt x="193181" y="114324"/>
                </a:lnTo>
                <a:lnTo>
                  <a:pt x="182379" y="125741"/>
                </a:lnTo>
                <a:lnTo>
                  <a:pt x="177783" y="131452"/>
                </a:lnTo>
                <a:lnTo>
                  <a:pt x="173767" y="137165"/>
                </a:lnTo>
                <a:lnTo>
                  <a:pt x="165813" y="149545"/>
                </a:lnTo>
                <a:lnTo>
                  <a:pt x="155927" y="164572"/>
                </a:lnTo>
                <a:lnTo>
                  <a:pt x="150624" y="171627"/>
                </a:lnTo>
                <a:lnTo>
                  <a:pt x="145184" y="178236"/>
                </a:lnTo>
                <a:lnTo>
                  <a:pt x="139652" y="184546"/>
                </a:lnTo>
                <a:lnTo>
                  <a:pt x="134059" y="190659"/>
                </a:lnTo>
                <a:lnTo>
                  <a:pt x="122764" y="202529"/>
                </a:lnTo>
                <a:lnTo>
                  <a:pt x="105696" y="219923"/>
                </a:lnTo>
                <a:lnTo>
                  <a:pt x="100944" y="225673"/>
                </a:lnTo>
                <a:lnTo>
                  <a:pt x="96824" y="231411"/>
                </a:lnTo>
                <a:lnTo>
                  <a:pt x="93124" y="237141"/>
                </a:lnTo>
                <a:lnTo>
                  <a:pt x="88753" y="242867"/>
                </a:lnTo>
                <a:lnTo>
                  <a:pt x="83934" y="248589"/>
                </a:lnTo>
                <a:lnTo>
                  <a:pt x="78816" y="254308"/>
                </a:lnTo>
                <a:lnTo>
                  <a:pt x="74452" y="260027"/>
                </a:lnTo>
                <a:lnTo>
                  <a:pt x="70590" y="265743"/>
                </a:lnTo>
                <a:lnTo>
                  <a:pt x="63758" y="276223"/>
                </a:lnTo>
                <a:lnTo>
                  <a:pt x="57547" y="284056"/>
                </a:lnTo>
                <a:lnTo>
                  <a:pt x="51612" y="290712"/>
                </a:lnTo>
                <a:lnTo>
                  <a:pt x="48696" y="293821"/>
                </a:lnTo>
                <a:lnTo>
                  <a:pt x="46752" y="296845"/>
                </a:lnTo>
                <a:lnTo>
                  <a:pt x="43063" y="305653"/>
                </a:lnTo>
                <a:lnTo>
                  <a:pt x="35634" y="315476"/>
                </a:lnTo>
                <a:lnTo>
                  <a:pt x="27682" y="323743"/>
                </a:lnTo>
                <a:lnTo>
                  <a:pt x="27028" y="324414"/>
                </a:lnTo>
                <a:lnTo>
                  <a:pt x="26591" y="325813"/>
                </a:lnTo>
                <a:lnTo>
                  <a:pt x="25833" y="333018"/>
                </a:lnTo>
                <a:lnTo>
                  <a:pt x="24842" y="333455"/>
                </a:lnTo>
                <a:lnTo>
                  <a:pt x="18347" y="334212"/>
                </a:lnTo>
                <a:lnTo>
                  <a:pt x="17947" y="335203"/>
                </a:lnTo>
                <a:lnTo>
                  <a:pt x="17155" y="342795"/>
                </a:lnTo>
                <a:lnTo>
                  <a:pt x="12597" y="342869"/>
                </a:lnTo>
                <a:lnTo>
                  <a:pt x="11256" y="343832"/>
                </a:lnTo>
                <a:lnTo>
                  <a:pt x="10362" y="345426"/>
                </a:lnTo>
                <a:lnTo>
                  <a:pt x="9765" y="347442"/>
                </a:lnTo>
                <a:lnTo>
                  <a:pt x="8416" y="348785"/>
                </a:lnTo>
                <a:lnTo>
                  <a:pt x="6563" y="349681"/>
                </a:lnTo>
                <a:lnTo>
                  <a:pt x="0" y="3514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SMARTPenAnnotation607"/>
          <p:cNvSpPr/>
          <p:nvPr/>
        </p:nvSpPr>
        <p:spPr>
          <a:xfrm>
            <a:off x="1982880" y="5769000"/>
            <a:ext cx="573120" cy="341280"/>
          </a:xfrm>
          <a:custGeom>
            <a:avLst/>
            <a:gdLst>
              <a:gd name="textAreaLeft" fmla="*/ 0 w 573120"/>
              <a:gd name="textAreaRight" fmla="*/ 573120 w 5731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2302" h="341666">
                <a:moveTo>
                  <a:pt x="8220" y="214312"/>
                </a:moveTo>
                <a:lnTo>
                  <a:pt x="3669" y="214312"/>
                </a:lnTo>
                <a:lnTo>
                  <a:pt x="2328" y="215265"/>
                </a:lnTo>
                <a:lnTo>
                  <a:pt x="1435" y="216853"/>
                </a:lnTo>
                <a:lnTo>
                  <a:pt x="0" y="221694"/>
                </a:lnTo>
                <a:lnTo>
                  <a:pt x="2344" y="224896"/>
                </a:lnTo>
                <a:lnTo>
                  <a:pt x="11610" y="234713"/>
                </a:lnTo>
                <a:lnTo>
                  <a:pt x="13338" y="237437"/>
                </a:lnTo>
                <a:lnTo>
                  <a:pt x="16721" y="245824"/>
                </a:lnTo>
                <a:lnTo>
                  <a:pt x="23333" y="254341"/>
                </a:lnTo>
                <a:lnTo>
                  <a:pt x="31325" y="262897"/>
                </a:lnTo>
                <a:lnTo>
                  <a:pt x="39725" y="272417"/>
                </a:lnTo>
                <a:lnTo>
                  <a:pt x="45400" y="281730"/>
                </a:lnTo>
                <a:lnTo>
                  <a:pt x="51097" y="289678"/>
                </a:lnTo>
                <a:lnTo>
                  <a:pt x="59659" y="299508"/>
                </a:lnTo>
                <a:lnTo>
                  <a:pt x="62515" y="302542"/>
                </a:lnTo>
                <a:lnTo>
                  <a:pt x="75637" y="311363"/>
                </a:lnTo>
                <a:lnTo>
                  <a:pt x="87039" y="320009"/>
                </a:lnTo>
                <a:lnTo>
                  <a:pt x="96449" y="328604"/>
                </a:lnTo>
                <a:lnTo>
                  <a:pt x="99425" y="330511"/>
                </a:lnTo>
                <a:lnTo>
                  <a:pt x="105270" y="332632"/>
                </a:lnTo>
                <a:lnTo>
                  <a:pt x="113916" y="333825"/>
                </a:lnTo>
                <a:lnTo>
                  <a:pt x="115832" y="334945"/>
                </a:lnTo>
                <a:lnTo>
                  <a:pt x="117109" y="336644"/>
                </a:lnTo>
                <a:lnTo>
                  <a:pt x="117960" y="338730"/>
                </a:lnTo>
                <a:lnTo>
                  <a:pt x="119480" y="340120"/>
                </a:lnTo>
                <a:lnTo>
                  <a:pt x="121446" y="341047"/>
                </a:lnTo>
                <a:lnTo>
                  <a:pt x="123709" y="341665"/>
                </a:lnTo>
                <a:lnTo>
                  <a:pt x="125217" y="341124"/>
                </a:lnTo>
                <a:lnTo>
                  <a:pt x="126223" y="339811"/>
                </a:lnTo>
                <a:lnTo>
                  <a:pt x="127837" y="335411"/>
                </a:lnTo>
                <a:lnTo>
                  <a:pt x="128183" y="325145"/>
                </a:lnTo>
                <a:lnTo>
                  <a:pt x="128200" y="322491"/>
                </a:lnTo>
                <a:lnTo>
                  <a:pt x="127259" y="319769"/>
                </a:lnTo>
                <a:lnTo>
                  <a:pt x="123674" y="314205"/>
                </a:lnTo>
                <a:lnTo>
                  <a:pt x="121445" y="306017"/>
                </a:lnTo>
                <a:lnTo>
                  <a:pt x="120455" y="296028"/>
                </a:lnTo>
                <a:lnTo>
                  <a:pt x="120191" y="290697"/>
                </a:lnTo>
                <a:lnTo>
                  <a:pt x="119897" y="279694"/>
                </a:lnTo>
                <a:lnTo>
                  <a:pt x="119767" y="268454"/>
                </a:lnTo>
                <a:lnTo>
                  <a:pt x="118779" y="262789"/>
                </a:lnTo>
                <a:lnTo>
                  <a:pt x="117169" y="257107"/>
                </a:lnTo>
                <a:lnTo>
                  <a:pt x="115143" y="251415"/>
                </a:lnTo>
                <a:lnTo>
                  <a:pt x="113792" y="245715"/>
                </a:lnTo>
                <a:lnTo>
                  <a:pt x="112891" y="240010"/>
                </a:lnTo>
                <a:lnTo>
                  <a:pt x="112291" y="234302"/>
                </a:lnTo>
                <a:lnTo>
                  <a:pt x="110938" y="228591"/>
                </a:lnTo>
                <a:lnTo>
                  <a:pt x="109084" y="222879"/>
                </a:lnTo>
                <a:lnTo>
                  <a:pt x="105436" y="212405"/>
                </a:lnTo>
                <a:lnTo>
                  <a:pt x="103815" y="204575"/>
                </a:lnTo>
                <a:lnTo>
                  <a:pt x="103094" y="195380"/>
                </a:lnTo>
                <a:lnTo>
                  <a:pt x="102773" y="184943"/>
                </a:lnTo>
                <a:lnTo>
                  <a:pt x="102528" y="151918"/>
                </a:lnTo>
                <a:lnTo>
                  <a:pt x="103477" y="148904"/>
                </a:lnTo>
                <a:lnTo>
                  <a:pt x="108411" y="140111"/>
                </a:lnTo>
                <a:lnTo>
                  <a:pt x="111249" y="131473"/>
                </a:lnTo>
                <a:lnTo>
                  <a:pt x="118798" y="121146"/>
                </a:lnTo>
                <a:lnTo>
                  <a:pt x="128937" y="110756"/>
                </a:lnTo>
                <a:lnTo>
                  <a:pt x="131560" y="108127"/>
                </a:lnTo>
                <a:lnTo>
                  <a:pt x="134262" y="106375"/>
                </a:lnTo>
                <a:lnTo>
                  <a:pt x="147982" y="101022"/>
                </a:lnTo>
                <a:lnTo>
                  <a:pt x="157014" y="96334"/>
                </a:lnTo>
                <a:lnTo>
                  <a:pt x="164203" y="91075"/>
                </a:lnTo>
                <a:lnTo>
                  <a:pt x="168406" y="89292"/>
                </a:lnTo>
                <a:lnTo>
                  <a:pt x="183424" y="85830"/>
                </a:lnTo>
                <a:lnTo>
                  <a:pt x="215771" y="73933"/>
                </a:lnTo>
                <a:lnTo>
                  <a:pt x="229370" y="70959"/>
                </a:lnTo>
                <a:lnTo>
                  <a:pt x="242716" y="68685"/>
                </a:lnTo>
                <a:lnTo>
                  <a:pt x="258173" y="64499"/>
                </a:lnTo>
                <a:lnTo>
                  <a:pt x="272028" y="59464"/>
                </a:lnTo>
                <a:lnTo>
                  <a:pt x="285488" y="54051"/>
                </a:lnTo>
                <a:lnTo>
                  <a:pt x="300995" y="48471"/>
                </a:lnTo>
                <a:lnTo>
                  <a:pt x="310084" y="45649"/>
                </a:lnTo>
                <a:lnTo>
                  <a:pt x="330341" y="39973"/>
                </a:lnTo>
                <a:lnTo>
                  <a:pt x="346965" y="34276"/>
                </a:lnTo>
                <a:lnTo>
                  <a:pt x="354065" y="31423"/>
                </a:lnTo>
                <a:lnTo>
                  <a:pt x="362608" y="29521"/>
                </a:lnTo>
                <a:lnTo>
                  <a:pt x="372114" y="28254"/>
                </a:lnTo>
                <a:lnTo>
                  <a:pt x="382261" y="27408"/>
                </a:lnTo>
                <a:lnTo>
                  <a:pt x="398615" y="23929"/>
                </a:lnTo>
                <a:lnTo>
                  <a:pt x="413187" y="20160"/>
                </a:lnTo>
                <a:lnTo>
                  <a:pt x="429187" y="18485"/>
                </a:lnTo>
                <a:lnTo>
                  <a:pt x="443284" y="17741"/>
                </a:lnTo>
                <a:lnTo>
                  <a:pt x="455899" y="16457"/>
                </a:lnTo>
                <a:lnTo>
                  <a:pt x="473712" y="11332"/>
                </a:lnTo>
                <a:lnTo>
                  <a:pt x="491054" y="9390"/>
                </a:lnTo>
                <a:lnTo>
                  <a:pt x="502530" y="8936"/>
                </a:lnTo>
                <a:lnTo>
                  <a:pt x="507305" y="7863"/>
                </a:lnTo>
                <a:lnTo>
                  <a:pt x="519529" y="2753"/>
                </a:lnTo>
                <a:lnTo>
                  <a:pt x="533840" y="816"/>
                </a:lnTo>
                <a:lnTo>
                  <a:pt x="550748" y="107"/>
                </a:lnTo>
                <a:lnTo>
                  <a:pt x="572301" y="3"/>
                </a:lnTo>
                <a:lnTo>
                  <a:pt x="5654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MARTPenAnnotation608"/>
          <p:cNvSpPr/>
          <p:nvPr/>
        </p:nvSpPr>
        <p:spPr>
          <a:xfrm>
            <a:off x="2232000" y="5907240"/>
            <a:ext cx="196920" cy="214200"/>
          </a:xfrm>
          <a:custGeom>
            <a:avLst/>
            <a:gdLst>
              <a:gd name="textAreaLeft" fmla="*/ 0 w 196920"/>
              <a:gd name="textAreaRight" fmla="*/ 197280 w 19692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96781" h="214311">
                <a:moveTo>
                  <a:pt x="0" y="34287"/>
                </a:moveTo>
                <a:lnTo>
                  <a:pt x="54023" y="34287"/>
                </a:lnTo>
                <a:lnTo>
                  <a:pt x="56971" y="33335"/>
                </a:lnTo>
                <a:lnTo>
                  <a:pt x="62785" y="29737"/>
                </a:lnTo>
                <a:lnTo>
                  <a:pt x="66622" y="28395"/>
                </a:lnTo>
                <a:lnTo>
                  <a:pt x="71085" y="27502"/>
                </a:lnTo>
                <a:lnTo>
                  <a:pt x="75965" y="26906"/>
                </a:lnTo>
                <a:lnTo>
                  <a:pt x="80171" y="25556"/>
                </a:lnTo>
                <a:lnTo>
                  <a:pt x="83927" y="23704"/>
                </a:lnTo>
                <a:lnTo>
                  <a:pt x="87384" y="21517"/>
                </a:lnTo>
                <a:lnTo>
                  <a:pt x="91593" y="20059"/>
                </a:lnTo>
                <a:lnTo>
                  <a:pt x="96305" y="19086"/>
                </a:lnTo>
                <a:lnTo>
                  <a:pt x="101351" y="18439"/>
                </a:lnTo>
                <a:lnTo>
                  <a:pt x="105667" y="17054"/>
                </a:lnTo>
                <a:lnTo>
                  <a:pt x="109497" y="15178"/>
                </a:lnTo>
                <a:lnTo>
                  <a:pt x="113003" y="12976"/>
                </a:lnTo>
                <a:lnTo>
                  <a:pt x="116293" y="11507"/>
                </a:lnTo>
                <a:lnTo>
                  <a:pt x="119439" y="10528"/>
                </a:lnTo>
                <a:lnTo>
                  <a:pt x="122488" y="9875"/>
                </a:lnTo>
                <a:lnTo>
                  <a:pt x="126426" y="8487"/>
                </a:lnTo>
                <a:lnTo>
                  <a:pt x="130957" y="6610"/>
                </a:lnTo>
                <a:lnTo>
                  <a:pt x="135882" y="4406"/>
                </a:lnTo>
                <a:lnTo>
                  <a:pt x="140118" y="2936"/>
                </a:lnTo>
                <a:lnTo>
                  <a:pt x="143895" y="1957"/>
                </a:lnTo>
                <a:lnTo>
                  <a:pt x="147365" y="1304"/>
                </a:lnTo>
                <a:lnTo>
                  <a:pt x="150631" y="868"/>
                </a:lnTo>
                <a:lnTo>
                  <a:pt x="153760" y="578"/>
                </a:lnTo>
                <a:lnTo>
                  <a:pt x="159778" y="255"/>
                </a:lnTo>
                <a:lnTo>
                  <a:pt x="165628" y="112"/>
                </a:lnTo>
                <a:lnTo>
                  <a:pt x="184069" y="0"/>
                </a:lnTo>
                <a:lnTo>
                  <a:pt x="185578" y="951"/>
                </a:lnTo>
                <a:lnTo>
                  <a:pt x="186583" y="2538"/>
                </a:lnTo>
                <a:lnTo>
                  <a:pt x="187254" y="4549"/>
                </a:lnTo>
                <a:lnTo>
                  <a:pt x="190539" y="9323"/>
                </a:lnTo>
                <a:lnTo>
                  <a:pt x="195858" y="15597"/>
                </a:lnTo>
                <a:lnTo>
                  <a:pt x="196586" y="21536"/>
                </a:lnTo>
                <a:lnTo>
                  <a:pt x="196780" y="25786"/>
                </a:lnTo>
                <a:lnTo>
                  <a:pt x="195957" y="29572"/>
                </a:lnTo>
                <a:lnTo>
                  <a:pt x="194455" y="33049"/>
                </a:lnTo>
                <a:lnTo>
                  <a:pt x="191199" y="39452"/>
                </a:lnTo>
                <a:lnTo>
                  <a:pt x="189753" y="45473"/>
                </a:lnTo>
                <a:lnTo>
                  <a:pt x="188414" y="49364"/>
                </a:lnTo>
                <a:lnTo>
                  <a:pt x="186570" y="53864"/>
                </a:lnTo>
                <a:lnTo>
                  <a:pt x="184387" y="58768"/>
                </a:lnTo>
                <a:lnTo>
                  <a:pt x="182932" y="62990"/>
                </a:lnTo>
                <a:lnTo>
                  <a:pt x="181962" y="66758"/>
                </a:lnTo>
                <a:lnTo>
                  <a:pt x="181316" y="70222"/>
                </a:lnTo>
                <a:lnTo>
                  <a:pt x="180885" y="74436"/>
                </a:lnTo>
                <a:lnTo>
                  <a:pt x="180597" y="79150"/>
                </a:lnTo>
                <a:lnTo>
                  <a:pt x="180406" y="84199"/>
                </a:lnTo>
                <a:lnTo>
                  <a:pt x="179326" y="88517"/>
                </a:lnTo>
                <a:lnTo>
                  <a:pt x="177653" y="92348"/>
                </a:lnTo>
                <a:lnTo>
                  <a:pt x="175585" y="95854"/>
                </a:lnTo>
                <a:lnTo>
                  <a:pt x="174207" y="100096"/>
                </a:lnTo>
                <a:lnTo>
                  <a:pt x="173288" y="104830"/>
                </a:lnTo>
                <a:lnTo>
                  <a:pt x="172675" y="109891"/>
                </a:lnTo>
                <a:lnTo>
                  <a:pt x="171314" y="115170"/>
                </a:lnTo>
                <a:lnTo>
                  <a:pt x="169455" y="120594"/>
                </a:lnTo>
                <a:lnTo>
                  <a:pt x="167262" y="126115"/>
                </a:lnTo>
                <a:lnTo>
                  <a:pt x="165801" y="130748"/>
                </a:lnTo>
                <a:lnTo>
                  <a:pt x="164826" y="134790"/>
                </a:lnTo>
                <a:lnTo>
                  <a:pt x="164177" y="138436"/>
                </a:lnTo>
                <a:lnTo>
                  <a:pt x="163744" y="142772"/>
                </a:lnTo>
                <a:lnTo>
                  <a:pt x="163455" y="147568"/>
                </a:lnTo>
                <a:lnTo>
                  <a:pt x="163263" y="152670"/>
                </a:lnTo>
                <a:lnTo>
                  <a:pt x="162181" y="157024"/>
                </a:lnTo>
                <a:lnTo>
                  <a:pt x="160508" y="160880"/>
                </a:lnTo>
                <a:lnTo>
                  <a:pt x="158441" y="164402"/>
                </a:lnTo>
                <a:lnTo>
                  <a:pt x="157062" y="168655"/>
                </a:lnTo>
                <a:lnTo>
                  <a:pt x="156143" y="173396"/>
                </a:lnTo>
                <a:lnTo>
                  <a:pt x="155530" y="178461"/>
                </a:lnTo>
                <a:lnTo>
                  <a:pt x="154169" y="181838"/>
                </a:lnTo>
                <a:lnTo>
                  <a:pt x="152310" y="184090"/>
                </a:lnTo>
                <a:lnTo>
                  <a:pt x="150117" y="185590"/>
                </a:lnTo>
                <a:lnTo>
                  <a:pt x="148656" y="187543"/>
                </a:lnTo>
                <a:lnTo>
                  <a:pt x="147681" y="189798"/>
                </a:lnTo>
                <a:lnTo>
                  <a:pt x="146599" y="194843"/>
                </a:lnTo>
                <a:lnTo>
                  <a:pt x="146118" y="200261"/>
                </a:lnTo>
                <a:lnTo>
                  <a:pt x="145904" y="205843"/>
                </a:lnTo>
                <a:lnTo>
                  <a:pt x="145733" y="214266"/>
                </a:lnTo>
                <a:lnTo>
                  <a:pt x="145733" y="214306"/>
                </a:lnTo>
                <a:lnTo>
                  <a:pt x="145732" y="214307"/>
                </a:lnTo>
                <a:lnTo>
                  <a:pt x="145732" y="2143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MARTPenAnnotation609"/>
          <p:cNvSpPr/>
          <p:nvPr/>
        </p:nvSpPr>
        <p:spPr>
          <a:xfrm>
            <a:off x="2705040" y="5425920"/>
            <a:ext cx="281160" cy="282600"/>
          </a:xfrm>
          <a:custGeom>
            <a:avLst/>
            <a:gdLst>
              <a:gd name="textAreaLeft" fmla="*/ 0 w 281160"/>
              <a:gd name="textAreaRight" fmla="*/ 281520 w 281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81702" h="282894">
                <a:moveTo>
                  <a:pt x="7381" y="0"/>
                </a:moveTo>
                <a:lnTo>
                  <a:pt x="2830" y="0"/>
                </a:lnTo>
                <a:lnTo>
                  <a:pt x="1489" y="953"/>
                </a:lnTo>
                <a:lnTo>
                  <a:pt x="596" y="2540"/>
                </a:lnTo>
                <a:lnTo>
                  <a:pt x="0" y="4551"/>
                </a:lnTo>
                <a:lnTo>
                  <a:pt x="555" y="5891"/>
                </a:lnTo>
                <a:lnTo>
                  <a:pt x="1878" y="6785"/>
                </a:lnTo>
                <a:lnTo>
                  <a:pt x="3712" y="7381"/>
                </a:lnTo>
                <a:lnTo>
                  <a:pt x="4935" y="8731"/>
                </a:lnTo>
                <a:lnTo>
                  <a:pt x="5751" y="10583"/>
                </a:lnTo>
                <a:lnTo>
                  <a:pt x="6294" y="12770"/>
                </a:lnTo>
                <a:lnTo>
                  <a:pt x="7609" y="14229"/>
                </a:lnTo>
                <a:lnTo>
                  <a:pt x="9438" y="15201"/>
                </a:lnTo>
                <a:lnTo>
                  <a:pt x="11610" y="15849"/>
                </a:lnTo>
                <a:lnTo>
                  <a:pt x="13058" y="17233"/>
                </a:lnTo>
                <a:lnTo>
                  <a:pt x="14023" y="19109"/>
                </a:lnTo>
                <a:lnTo>
                  <a:pt x="14666" y="21312"/>
                </a:lnTo>
                <a:lnTo>
                  <a:pt x="17922" y="26299"/>
                </a:lnTo>
                <a:lnTo>
                  <a:pt x="25109" y="34463"/>
                </a:lnTo>
                <a:lnTo>
                  <a:pt x="27772" y="37262"/>
                </a:lnTo>
                <a:lnTo>
                  <a:pt x="29548" y="40082"/>
                </a:lnTo>
                <a:lnTo>
                  <a:pt x="31520" y="45754"/>
                </a:lnTo>
                <a:lnTo>
                  <a:pt x="33952" y="48600"/>
                </a:lnTo>
                <a:lnTo>
                  <a:pt x="41733" y="54303"/>
                </a:lnTo>
                <a:lnTo>
                  <a:pt x="49001" y="62552"/>
                </a:lnTo>
                <a:lnTo>
                  <a:pt x="52273" y="67419"/>
                </a:lnTo>
                <a:lnTo>
                  <a:pt x="58448" y="75367"/>
                </a:lnTo>
                <a:lnTo>
                  <a:pt x="61428" y="78820"/>
                </a:lnTo>
                <a:lnTo>
                  <a:pt x="69819" y="85196"/>
                </a:lnTo>
                <a:lnTo>
                  <a:pt x="74724" y="88230"/>
                </a:lnTo>
                <a:lnTo>
                  <a:pt x="82714" y="96681"/>
                </a:lnTo>
                <a:lnTo>
                  <a:pt x="86178" y="101601"/>
                </a:lnTo>
                <a:lnTo>
                  <a:pt x="90392" y="105834"/>
                </a:lnTo>
                <a:lnTo>
                  <a:pt x="95107" y="109609"/>
                </a:lnTo>
                <a:lnTo>
                  <a:pt x="100155" y="113078"/>
                </a:lnTo>
                <a:lnTo>
                  <a:pt x="105425" y="117295"/>
                </a:lnTo>
                <a:lnTo>
                  <a:pt x="110844" y="122012"/>
                </a:lnTo>
                <a:lnTo>
                  <a:pt x="116361" y="127062"/>
                </a:lnTo>
                <a:lnTo>
                  <a:pt x="120992" y="132332"/>
                </a:lnTo>
                <a:lnTo>
                  <a:pt x="125032" y="137752"/>
                </a:lnTo>
                <a:lnTo>
                  <a:pt x="128677" y="143270"/>
                </a:lnTo>
                <a:lnTo>
                  <a:pt x="133013" y="147900"/>
                </a:lnTo>
                <a:lnTo>
                  <a:pt x="137808" y="151941"/>
                </a:lnTo>
                <a:lnTo>
                  <a:pt x="142910" y="155587"/>
                </a:lnTo>
                <a:lnTo>
                  <a:pt x="147263" y="159922"/>
                </a:lnTo>
                <a:lnTo>
                  <a:pt x="151118" y="164717"/>
                </a:lnTo>
                <a:lnTo>
                  <a:pt x="154641" y="169819"/>
                </a:lnTo>
                <a:lnTo>
                  <a:pt x="158894" y="175125"/>
                </a:lnTo>
                <a:lnTo>
                  <a:pt x="163635" y="180568"/>
                </a:lnTo>
                <a:lnTo>
                  <a:pt x="173030" y="190743"/>
                </a:lnTo>
                <a:lnTo>
                  <a:pt x="180380" y="198440"/>
                </a:lnTo>
                <a:lnTo>
                  <a:pt x="184626" y="201825"/>
                </a:lnTo>
                <a:lnTo>
                  <a:pt x="189362" y="205035"/>
                </a:lnTo>
                <a:lnTo>
                  <a:pt x="194424" y="208128"/>
                </a:lnTo>
                <a:lnTo>
                  <a:pt x="202589" y="216644"/>
                </a:lnTo>
                <a:lnTo>
                  <a:pt x="206100" y="221582"/>
                </a:lnTo>
                <a:lnTo>
                  <a:pt x="212540" y="229608"/>
                </a:lnTo>
                <a:lnTo>
                  <a:pt x="218578" y="236351"/>
                </a:lnTo>
                <a:lnTo>
                  <a:pt x="224436" y="242522"/>
                </a:lnTo>
                <a:lnTo>
                  <a:pt x="230215" y="250980"/>
                </a:lnTo>
                <a:lnTo>
                  <a:pt x="233089" y="255903"/>
                </a:lnTo>
                <a:lnTo>
                  <a:pt x="235958" y="259184"/>
                </a:lnTo>
                <a:lnTo>
                  <a:pt x="238824" y="261372"/>
                </a:lnTo>
                <a:lnTo>
                  <a:pt x="244547" y="264755"/>
                </a:lnTo>
                <a:lnTo>
                  <a:pt x="253124" y="271063"/>
                </a:lnTo>
                <a:lnTo>
                  <a:pt x="258840" y="272872"/>
                </a:lnTo>
                <a:lnTo>
                  <a:pt x="260745" y="274308"/>
                </a:lnTo>
                <a:lnTo>
                  <a:pt x="262016" y="276217"/>
                </a:lnTo>
                <a:lnTo>
                  <a:pt x="262863" y="278442"/>
                </a:lnTo>
                <a:lnTo>
                  <a:pt x="264379" y="279925"/>
                </a:lnTo>
                <a:lnTo>
                  <a:pt x="266343" y="280915"/>
                </a:lnTo>
                <a:lnTo>
                  <a:pt x="271065" y="282014"/>
                </a:lnTo>
                <a:lnTo>
                  <a:pt x="279318" y="282719"/>
                </a:lnTo>
                <a:lnTo>
                  <a:pt x="281701" y="2828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MARTPenAnnotation610"/>
          <p:cNvSpPr/>
          <p:nvPr/>
        </p:nvSpPr>
        <p:spPr>
          <a:xfrm>
            <a:off x="2789280" y="5735520"/>
            <a:ext cx="479520" cy="351000"/>
          </a:xfrm>
          <a:custGeom>
            <a:avLst/>
            <a:gdLst>
              <a:gd name="textAreaLeft" fmla="*/ 0 w 479520"/>
              <a:gd name="textAreaRight" fmla="*/ 479880 w 47952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479956" h="351464">
                <a:moveTo>
                  <a:pt x="8468" y="240030"/>
                </a:moveTo>
                <a:lnTo>
                  <a:pt x="0" y="240030"/>
                </a:lnTo>
                <a:lnTo>
                  <a:pt x="10482" y="250614"/>
                </a:lnTo>
                <a:lnTo>
                  <a:pt x="24038" y="264172"/>
                </a:lnTo>
                <a:lnTo>
                  <a:pt x="29697" y="274382"/>
                </a:lnTo>
                <a:lnTo>
                  <a:pt x="37406" y="284922"/>
                </a:lnTo>
                <a:lnTo>
                  <a:pt x="45723" y="294078"/>
                </a:lnTo>
                <a:lnTo>
                  <a:pt x="51378" y="302469"/>
                </a:lnTo>
                <a:lnTo>
                  <a:pt x="57067" y="311595"/>
                </a:lnTo>
                <a:lnTo>
                  <a:pt x="65624" y="322089"/>
                </a:lnTo>
                <a:lnTo>
                  <a:pt x="71336" y="328253"/>
                </a:lnTo>
                <a:lnTo>
                  <a:pt x="74192" y="330278"/>
                </a:lnTo>
                <a:lnTo>
                  <a:pt x="82763" y="334080"/>
                </a:lnTo>
                <a:lnTo>
                  <a:pt x="91336" y="339863"/>
                </a:lnTo>
                <a:lnTo>
                  <a:pt x="99908" y="342953"/>
                </a:lnTo>
                <a:lnTo>
                  <a:pt x="108480" y="348525"/>
                </a:lnTo>
                <a:lnTo>
                  <a:pt x="118217" y="351085"/>
                </a:lnTo>
                <a:lnTo>
                  <a:pt x="132637" y="351463"/>
                </a:lnTo>
                <a:lnTo>
                  <a:pt x="134110" y="350514"/>
                </a:lnTo>
                <a:lnTo>
                  <a:pt x="135092" y="348928"/>
                </a:lnTo>
                <a:lnTo>
                  <a:pt x="136667" y="344091"/>
                </a:lnTo>
                <a:lnTo>
                  <a:pt x="136979" y="335339"/>
                </a:lnTo>
                <a:lnTo>
                  <a:pt x="137046" y="310848"/>
                </a:lnTo>
                <a:lnTo>
                  <a:pt x="136096" y="305339"/>
                </a:lnTo>
                <a:lnTo>
                  <a:pt x="134511" y="299762"/>
                </a:lnTo>
                <a:lnTo>
                  <a:pt x="132502" y="294139"/>
                </a:lnTo>
                <a:lnTo>
                  <a:pt x="131162" y="288485"/>
                </a:lnTo>
                <a:lnTo>
                  <a:pt x="130269" y="282811"/>
                </a:lnTo>
                <a:lnTo>
                  <a:pt x="129674" y="277124"/>
                </a:lnTo>
                <a:lnTo>
                  <a:pt x="128324" y="270474"/>
                </a:lnTo>
                <a:lnTo>
                  <a:pt x="126472" y="263184"/>
                </a:lnTo>
                <a:lnTo>
                  <a:pt x="124285" y="255466"/>
                </a:lnTo>
                <a:lnTo>
                  <a:pt x="121874" y="248416"/>
                </a:lnTo>
                <a:lnTo>
                  <a:pt x="119315" y="241811"/>
                </a:lnTo>
                <a:lnTo>
                  <a:pt x="116656" y="235502"/>
                </a:lnTo>
                <a:lnTo>
                  <a:pt x="114883" y="229392"/>
                </a:lnTo>
                <a:lnTo>
                  <a:pt x="113701" y="223412"/>
                </a:lnTo>
                <a:lnTo>
                  <a:pt x="112914" y="217521"/>
                </a:lnTo>
                <a:lnTo>
                  <a:pt x="111436" y="211690"/>
                </a:lnTo>
                <a:lnTo>
                  <a:pt x="109498" y="205897"/>
                </a:lnTo>
                <a:lnTo>
                  <a:pt x="107254" y="200129"/>
                </a:lnTo>
                <a:lnTo>
                  <a:pt x="105758" y="194379"/>
                </a:lnTo>
                <a:lnTo>
                  <a:pt x="104760" y="188642"/>
                </a:lnTo>
                <a:lnTo>
                  <a:pt x="104095" y="182911"/>
                </a:lnTo>
                <a:lnTo>
                  <a:pt x="100817" y="174004"/>
                </a:lnTo>
                <a:lnTo>
                  <a:pt x="98609" y="170295"/>
                </a:lnTo>
                <a:lnTo>
                  <a:pt x="96156" y="161095"/>
                </a:lnTo>
                <a:lnTo>
                  <a:pt x="95065" y="150655"/>
                </a:lnTo>
                <a:lnTo>
                  <a:pt x="94774" y="145204"/>
                </a:lnTo>
                <a:lnTo>
                  <a:pt x="94451" y="134068"/>
                </a:lnTo>
                <a:lnTo>
                  <a:pt x="94200" y="97483"/>
                </a:lnTo>
                <a:lnTo>
                  <a:pt x="94196" y="91586"/>
                </a:lnTo>
                <a:lnTo>
                  <a:pt x="95148" y="89633"/>
                </a:lnTo>
                <a:lnTo>
                  <a:pt x="96734" y="88330"/>
                </a:lnTo>
                <a:lnTo>
                  <a:pt x="98745" y="87462"/>
                </a:lnTo>
                <a:lnTo>
                  <a:pt x="103518" y="86497"/>
                </a:lnTo>
                <a:lnTo>
                  <a:pt x="115431" y="85771"/>
                </a:lnTo>
                <a:lnTo>
                  <a:pt x="117877" y="84803"/>
                </a:lnTo>
                <a:lnTo>
                  <a:pt x="123134" y="81188"/>
                </a:lnTo>
                <a:lnTo>
                  <a:pt x="131186" y="78946"/>
                </a:lnTo>
                <a:lnTo>
                  <a:pt x="141114" y="77950"/>
                </a:lnTo>
                <a:lnTo>
                  <a:pt x="151877" y="77507"/>
                </a:lnTo>
                <a:lnTo>
                  <a:pt x="156461" y="76436"/>
                </a:lnTo>
                <a:lnTo>
                  <a:pt x="168417" y="71331"/>
                </a:lnTo>
                <a:lnTo>
                  <a:pt x="178299" y="69803"/>
                </a:lnTo>
                <a:lnTo>
                  <a:pt x="191581" y="66583"/>
                </a:lnTo>
                <a:lnTo>
                  <a:pt x="206057" y="62930"/>
                </a:lnTo>
                <a:lnTo>
                  <a:pt x="218840" y="61306"/>
                </a:lnTo>
                <a:lnTo>
                  <a:pt x="230872" y="58045"/>
                </a:lnTo>
                <a:lnTo>
                  <a:pt x="243522" y="54373"/>
                </a:lnTo>
                <a:lnTo>
                  <a:pt x="250895" y="53393"/>
                </a:lnTo>
                <a:lnTo>
                  <a:pt x="258669" y="52741"/>
                </a:lnTo>
                <a:lnTo>
                  <a:pt x="266709" y="51353"/>
                </a:lnTo>
                <a:lnTo>
                  <a:pt x="274926" y="49476"/>
                </a:lnTo>
                <a:lnTo>
                  <a:pt x="283261" y="47271"/>
                </a:lnTo>
                <a:lnTo>
                  <a:pt x="291676" y="44849"/>
                </a:lnTo>
                <a:lnTo>
                  <a:pt x="308646" y="39618"/>
                </a:lnTo>
                <a:lnTo>
                  <a:pt x="323173" y="34118"/>
                </a:lnTo>
                <a:lnTo>
                  <a:pt x="336932" y="28498"/>
                </a:lnTo>
                <a:lnTo>
                  <a:pt x="352572" y="22826"/>
                </a:lnTo>
                <a:lnTo>
                  <a:pt x="366508" y="17130"/>
                </a:lnTo>
                <a:lnTo>
                  <a:pt x="379052" y="12376"/>
                </a:lnTo>
                <a:lnTo>
                  <a:pt x="390977" y="10263"/>
                </a:lnTo>
                <a:lnTo>
                  <a:pt x="402627" y="6784"/>
                </a:lnTo>
                <a:lnTo>
                  <a:pt x="414155" y="3015"/>
                </a:lnTo>
                <a:lnTo>
                  <a:pt x="425628" y="1340"/>
                </a:lnTo>
                <a:lnTo>
                  <a:pt x="437077" y="595"/>
                </a:lnTo>
                <a:lnTo>
                  <a:pt x="450848" y="118"/>
                </a:lnTo>
                <a:lnTo>
                  <a:pt x="47995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MARTPenAnnotation611"/>
          <p:cNvSpPr/>
          <p:nvPr/>
        </p:nvSpPr>
        <p:spPr>
          <a:xfrm>
            <a:off x="3029040" y="5846760"/>
            <a:ext cx="307800" cy="189000"/>
          </a:xfrm>
          <a:custGeom>
            <a:avLst/>
            <a:gdLst>
              <a:gd name="textAreaLeft" fmla="*/ 0 w 307800"/>
              <a:gd name="textAreaRight" fmla="*/ 308160 w 3078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308608" h="188199">
                <a:moveTo>
                  <a:pt x="8570" y="68183"/>
                </a:moveTo>
                <a:lnTo>
                  <a:pt x="29" y="68183"/>
                </a:lnTo>
                <a:lnTo>
                  <a:pt x="0" y="56251"/>
                </a:lnTo>
                <a:lnTo>
                  <a:pt x="952" y="54514"/>
                </a:lnTo>
                <a:lnTo>
                  <a:pt x="2539" y="53355"/>
                </a:lnTo>
                <a:lnTo>
                  <a:pt x="4549" y="52582"/>
                </a:lnTo>
                <a:lnTo>
                  <a:pt x="11930" y="46944"/>
                </a:lnTo>
                <a:lnTo>
                  <a:pt x="17366" y="41916"/>
                </a:lnTo>
                <a:lnTo>
                  <a:pt x="25781" y="33730"/>
                </a:lnTo>
                <a:lnTo>
                  <a:pt x="37158" y="22430"/>
                </a:lnTo>
                <a:lnTo>
                  <a:pt x="45406" y="16733"/>
                </a:lnTo>
                <a:lnTo>
                  <a:pt x="50272" y="13880"/>
                </a:lnTo>
                <a:lnTo>
                  <a:pt x="55421" y="11979"/>
                </a:lnTo>
                <a:lnTo>
                  <a:pt x="60759" y="10711"/>
                </a:lnTo>
                <a:lnTo>
                  <a:pt x="66223" y="9866"/>
                </a:lnTo>
                <a:lnTo>
                  <a:pt x="74834" y="6387"/>
                </a:lnTo>
                <a:lnTo>
                  <a:pt x="78463" y="4125"/>
                </a:lnTo>
                <a:lnTo>
                  <a:pt x="87576" y="1613"/>
                </a:lnTo>
                <a:lnTo>
                  <a:pt x="97024" y="496"/>
                </a:lnTo>
                <a:lnTo>
                  <a:pt x="104398" y="0"/>
                </a:lnTo>
                <a:lnTo>
                  <a:pt x="113390" y="2319"/>
                </a:lnTo>
                <a:lnTo>
                  <a:pt x="125584" y="7018"/>
                </a:lnTo>
                <a:lnTo>
                  <a:pt x="132246" y="12384"/>
                </a:lnTo>
                <a:lnTo>
                  <a:pt x="137515" y="17348"/>
                </a:lnTo>
                <a:lnTo>
                  <a:pt x="140253" y="20005"/>
                </a:lnTo>
                <a:lnTo>
                  <a:pt x="142079" y="23682"/>
                </a:lnTo>
                <a:lnTo>
                  <a:pt x="143296" y="28038"/>
                </a:lnTo>
                <a:lnTo>
                  <a:pt x="144107" y="32847"/>
                </a:lnTo>
                <a:lnTo>
                  <a:pt x="144648" y="37006"/>
                </a:lnTo>
                <a:lnTo>
                  <a:pt x="145009" y="40731"/>
                </a:lnTo>
                <a:lnTo>
                  <a:pt x="145249" y="44166"/>
                </a:lnTo>
                <a:lnTo>
                  <a:pt x="144457" y="48362"/>
                </a:lnTo>
                <a:lnTo>
                  <a:pt x="142976" y="53064"/>
                </a:lnTo>
                <a:lnTo>
                  <a:pt x="141037" y="58103"/>
                </a:lnTo>
                <a:lnTo>
                  <a:pt x="139743" y="62416"/>
                </a:lnTo>
                <a:lnTo>
                  <a:pt x="138881" y="66243"/>
                </a:lnTo>
                <a:lnTo>
                  <a:pt x="138307" y="69747"/>
                </a:lnTo>
                <a:lnTo>
                  <a:pt x="136971" y="73988"/>
                </a:lnTo>
                <a:lnTo>
                  <a:pt x="135128" y="78720"/>
                </a:lnTo>
                <a:lnTo>
                  <a:pt x="132947" y="83780"/>
                </a:lnTo>
                <a:lnTo>
                  <a:pt x="127984" y="94482"/>
                </a:lnTo>
                <a:lnTo>
                  <a:pt x="125326" y="100003"/>
                </a:lnTo>
                <a:lnTo>
                  <a:pt x="122603" y="104636"/>
                </a:lnTo>
                <a:lnTo>
                  <a:pt x="119834" y="108678"/>
                </a:lnTo>
                <a:lnTo>
                  <a:pt x="117036" y="112324"/>
                </a:lnTo>
                <a:lnTo>
                  <a:pt x="115171" y="116660"/>
                </a:lnTo>
                <a:lnTo>
                  <a:pt x="113927" y="121456"/>
                </a:lnTo>
                <a:lnTo>
                  <a:pt x="113098" y="126558"/>
                </a:lnTo>
                <a:lnTo>
                  <a:pt x="110641" y="130912"/>
                </a:lnTo>
                <a:lnTo>
                  <a:pt x="107097" y="134768"/>
                </a:lnTo>
                <a:lnTo>
                  <a:pt x="102830" y="138290"/>
                </a:lnTo>
                <a:lnTo>
                  <a:pt x="99032" y="141591"/>
                </a:lnTo>
                <a:lnTo>
                  <a:pt x="95548" y="144744"/>
                </a:lnTo>
                <a:lnTo>
                  <a:pt x="92273" y="147799"/>
                </a:lnTo>
                <a:lnTo>
                  <a:pt x="90089" y="150788"/>
                </a:lnTo>
                <a:lnTo>
                  <a:pt x="87663" y="156649"/>
                </a:lnTo>
                <a:lnTo>
                  <a:pt x="84045" y="162428"/>
                </a:lnTo>
                <a:lnTo>
                  <a:pt x="81747" y="165303"/>
                </a:lnTo>
                <a:lnTo>
                  <a:pt x="80215" y="168172"/>
                </a:lnTo>
                <a:lnTo>
                  <a:pt x="78512" y="173900"/>
                </a:lnTo>
                <a:lnTo>
                  <a:pt x="77755" y="179620"/>
                </a:lnTo>
                <a:lnTo>
                  <a:pt x="77554" y="182479"/>
                </a:lnTo>
                <a:lnTo>
                  <a:pt x="76467" y="184385"/>
                </a:lnTo>
                <a:lnTo>
                  <a:pt x="74789" y="185656"/>
                </a:lnTo>
                <a:lnTo>
                  <a:pt x="68686" y="188153"/>
                </a:lnTo>
                <a:lnTo>
                  <a:pt x="77869" y="188197"/>
                </a:lnTo>
                <a:lnTo>
                  <a:pt x="97292" y="188198"/>
                </a:lnTo>
                <a:lnTo>
                  <a:pt x="105469" y="185658"/>
                </a:lnTo>
                <a:lnTo>
                  <a:pt x="114502" y="182306"/>
                </a:lnTo>
                <a:lnTo>
                  <a:pt x="121691" y="180816"/>
                </a:lnTo>
                <a:lnTo>
                  <a:pt x="130601" y="177615"/>
                </a:lnTo>
                <a:lnTo>
                  <a:pt x="135644" y="175427"/>
                </a:lnTo>
                <a:lnTo>
                  <a:pt x="146328" y="170457"/>
                </a:lnTo>
                <a:lnTo>
                  <a:pt x="151843" y="167798"/>
                </a:lnTo>
                <a:lnTo>
                  <a:pt x="160512" y="164844"/>
                </a:lnTo>
                <a:lnTo>
                  <a:pt x="169445" y="162578"/>
                </a:lnTo>
                <a:lnTo>
                  <a:pt x="182940" y="158396"/>
                </a:lnTo>
                <a:lnTo>
                  <a:pt x="189587" y="156900"/>
                </a:lnTo>
                <a:lnTo>
                  <a:pt x="195923" y="155903"/>
                </a:lnTo>
                <a:lnTo>
                  <a:pt x="202052" y="155238"/>
                </a:lnTo>
                <a:lnTo>
                  <a:pt x="211402" y="151959"/>
                </a:lnTo>
                <a:lnTo>
                  <a:pt x="215229" y="149751"/>
                </a:lnTo>
                <a:lnTo>
                  <a:pt x="220638" y="148279"/>
                </a:lnTo>
                <a:lnTo>
                  <a:pt x="227101" y="147298"/>
                </a:lnTo>
                <a:lnTo>
                  <a:pt x="234267" y="146644"/>
                </a:lnTo>
                <a:lnTo>
                  <a:pt x="239997" y="146207"/>
                </a:lnTo>
                <a:lnTo>
                  <a:pt x="248904" y="145723"/>
                </a:lnTo>
                <a:lnTo>
                  <a:pt x="253565" y="144641"/>
                </a:lnTo>
                <a:lnTo>
                  <a:pt x="258577" y="142967"/>
                </a:lnTo>
                <a:lnTo>
                  <a:pt x="263824" y="140899"/>
                </a:lnTo>
                <a:lnTo>
                  <a:pt x="268275" y="140473"/>
                </a:lnTo>
                <a:lnTo>
                  <a:pt x="272194" y="141141"/>
                </a:lnTo>
                <a:lnTo>
                  <a:pt x="279089" y="143471"/>
                </a:lnTo>
                <a:lnTo>
                  <a:pt x="288325" y="144782"/>
                </a:lnTo>
                <a:lnTo>
                  <a:pt x="297440" y="145226"/>
                </a:lnTo>
                <a:lnTo>
                  <a:pt x="306753" y="145332"/>
                </a:lnTo>
                <a:lnTo>
                  <a:pt x="308607" y="1453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SMARTPenAnnotation612"/>
          <p:cNvSpPr/>
          <p:nvPr/>
        </p:nvSpPr>
        <p:spPr>
          <a:xfrm>
            <a:off x="1160640" y="6026040"/>
            <a:ext cx="333360" cy="292320"/>
          </a:xfrm>
          <a:custGeom>
            <a:avLst/>
            <a:gdLst>
              <a:gd name="textAreaLeft" fmla="*/ 0 w 333360"/>
              <a:gd name="textAreaRight" fmla="*/ 333720 w 333360"/>
              <a:gd name="textAreaTop" fmla="*/ 0 h 292320"/>
              <a:gd name="textAreaBottom" fmla="*/ 292320 h 292320"/>
            </a:gdLst>
            <a:ahLst/>
            <a:rect l="textAreaLeft" t="textAreaTop" r="textAreaRight" b="textAreaBottom"/>
            <a:pathLst>
              <a:path w="334329" h="291466">
                <a:moveTo>
                  <a:pt x="334328" y="8573"/>
                </a:moveTo>
                <a:lnTo>
                  <a:pt x="329777" y="4022"/>
                </a:lnTo>
                <a:lnTo>
                  <a:pt x="327484" y="2681"/>
                </a:lnTo>
                <a:lnTo>
                  <a:pt x="321611" y="794"/>
                </a:lnTo>
                <a:lnTo>
                  <a:pt x="322040" y="530"/>
                </a:lnTo>
                <a:lnTo>
                  <a:pt x="325022" y="105"/>
                </a:lnTo>
                <a:lnTo>
                  <a:pt x="320672" y="21"/>
                </a:lnTo>
                <a:lnTo>
                  <a:pt x="322861" y="10"/>
                </a:lnTo>
                <a:lnTo>
                  <a:pt x="322873" y="7"/>
                </a:lnTo>
                <a:lnTo>
                  <a:pt x="288564" y="0"/>
                </a:lnTo>
                <a:lnTo>
                  <a:pt x="286674" y="953"/>
                </a:lnTo>
                <a:lnTo>
                  <a:pt x="285414" y="2540"/>
                </a:lnTo>
                <a:lnTo>
                  <a:pt x="284574" y="4551"/>
                </a:lnTo>
                <a:lnTo>
                  <a:pt x="283391" y="11932"/>
                </a:lnTo>
                <a:lnTo>
                  <a:pt x="282272" y="14622"/>
                </a:lnTo>
                <a:lnTo>
                  <a:pt x="276147" y="22959"/>
                </a:lnTo>
                <a:lnTo>
                  <a:pt x="268300" y="31462"/>
                </a:lnTo>
                <a:lnTo>
                  <a:pt x="262755" y="37160"/>
                </a:lnTo>
                <a:lnTo>
                  <a:pt x="254575" y="42868"/>
                </a:lnTo>
                <a:lnTo>
                  <a:pt x="249727" y="45724"/>
                </a:lnTo>
                <a:lnTo>
                  <a:pt x="246495" y="48580"/>
                </a:lnTo>
                <a:lnTo>
                  <a:pt x="244340" y="51437"/>
                </a:lnTo>
                <a:lnTo>
                  <a:pt x="242903" y="54294"/>
                </a:lnTo>
                <a:lnTo>
                  <a:pt x="236227" y="62548"/>
                </a:lnTo>
                <a:lnTo>
                  <a:pt x="226910" y="71614"/>
                </a:lnTo>
                <a:lnTo>
                  <a:pt x="221759" y="75365"/>
                </a:lnTo>
                <a:lnTo>
                  <a:pt x="211907" y="82074"/>
                </a:lnTo>
                <a:lnTo>
                  <a:pt x="204354" y="88229"/>
                </a:lnTo>
                <a:lnTo>
                  <a:pt x="197822" y="96681"/>
                </a:lnTo>
                <a:lnTo>
                  <a:pt x="194746" y="101601"/>
                </a:lnTo>
                <a:lnTo>
                  <a:pt x="188789" y="109609"/>
                </a:lnTo>
                <a:lnTo>
                  <a:pt x="182014" y="117295"/>
                </a:lnTo>
                <a:lnTo>
                  <a:pt x="168442" y="131380"/>
                </a:lnTo>
                <a:lnTo>
                  <a:pt x="161223" y="138719"/>
                </a:lnTo>
                <a:lnTo>
                  <a:pt x="154840" y="147695"/>
                </a:lnTo>
                <a:lnTo>
                  <a:pt x="151804" y="152756"/>
                </a:lnTo>
                <a:lnTo>
                  <a:pt x="143351" y="160919"/>
                </a:lnTo>
                <a:lnTo>
                  <a:pt x="134197" y="167722"/>
                </a:lnTo>
                <a:lnTo>
                  <a:pt x="126953" y="173921"/>
                </a:lnTo>
                <a:lnTo>
                  <a:pt x="117520" y="182766"/>
                </a:lnTo>
                <a:lnTo>
                  <a:pt x="114542" y="184708"/>
                </a:lnTo>
                <a:lnTo>
                  <a:pt x="100378" y="190367"/>
                </a:lnTo>
                <a:lnTo>
                  <a:pt x="91285" y="195098"/>
                </a:lnTo>
                <a:lnTo>
                  <a:pt x="84069" y="200375"/>
                </a:lnTo>
                <a:lnTo>
                  <a:pt x="74651" y="208702"/>
                </a:lnTo>
                <a:lnTo>
                  <a:pt x="65828" y="217201"/>
                </a:lnTo>
                <a:lnTo>
                  <a:pt x="48587" y="234318"/>
                </a:lnTo>
                <a:lnTo>
                  <a:pt x="45727" y="236222"/>
                </a:lnTo>
                <a:lnTo>
                  <a:pt x="37150" y="239854"/>
                </a:lnTo>
                <a:lnTo>
                  <a:pt x="28576" y="245587"/>
                </a:lnTo>
                <a:lnTo>
                  <a:pt x="20003" y="248662"/>
                </a:lnTo>
                <a:lnTo>
                  <a:pt x="10266" y="255866"/>
                </a:lnTo>
                <a:lnTo>
                  <a:pt x="9702" y="257255"/>
                </a:lnTo>
                <a:lnTo>
                  <a:pt x="8722" y="264441"/>
                </a:lnTo>
                <a:lnTo>
                  <a:pt x="7719" y="264876"/>
                </a:lnTo>
                <a:lnTo>
                  <a:pt x="4066" y="265361"/>
                </a:lnTo>
                <a:lnTo>
                  <a:pt x="2711" y="266442"/>
                </a:lnTo>
                <a:lnTo>
                  <a:pt x="1808" y="268116"/>
                </a:lnTo>
                <a:lnTo>
                  <a:pt x="804" y="272515"/>
                </a:lnTo>
                <a:lnTo>
                  <a:pt x="238" y="280347"/>
                </a:lnTo>
                <a:lnTo>
                  <a:pt x="0" y="2914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MARTPenAnnotation613"/>
          <p:cNvSpPr/>
          <p:nvPr/>
        </p:nvSpPr>
        <p:spPr>
          <a:xfrm>
            <a:off x="792000" y="6265800"/>
            <a:ext cx="479520" cy="335160"/>
          </a:xfrm>
          <a:custGeom>
            <a:avLst/>
            <a:gdLst>
              <a:gd name="textAreaLeft" fmla="*/ 0 w 479520"/>
              <a:gd name="textAreaRight" fmla="*/ 479880 w 47952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480061" h="334328">
                <a:moveTo>
                  <a:pt x="0" y="240030"/>
                </a:moveTo>
                <a:lnTo>
                  <a:pt x="0" y="244581"/>
                </a:lnTo>
                <a:lnTo>
                  <a:pt x="952" y="245921"/>
                </a:lnTo>
                <a:lnTo>
                  <a:pt x="2540" y="246815"/>
                </a:lnTo>
                <a:lnTo>
                  <a:pt x="4551" y="247411"/>
                </a:lnTo>
                <a:lnTo>
                  <a:pt x="5891" y="248761"/>
                </a:lnTo>
                <a:lnTo>
                  <a:pt x="6785" y="250613"/>
                </a:lnTo>
                <a:lnTo>
                  <a:pt x="7778" y="255211"/>
                </a:lnTo>
                <a:lnTo>
                  <a:pt x="8219" y="260430"/>
                </a:lnTo>
                <a:lnTo>
                  <a:pt x="9289" y="263155"/>
                </a:lnTo>
                <a:lnTo>
                  <a:pt x="14394" y="271541"/>
                </a:lnTo>
                <a:lnTo>
                  <a:pt x="17282" y="280058"/>
                </a:lnTo>
                <a:lnTo>
                  <a:pt x="21333" y="285761"/>
                </a:lnTo>
                <a:lnTo>
                  <a:pt x="28849" y="291470"/>
                </a:lnTo>
                <a:lnTo>
                  <a:pt x="41250" y="300039"/>
                </a:lnTo>
                <a:lnTo>
                  <a:pt x="44645" y="302896"/>
                </a:lnTo>
                <a:lnTo>
                  <a:pt x="46908" y="305753"/>
                </a:lnTo>
                <a:lnTo>
                  <a:pt x="48417" y="308610"/>
                </a:lnTo>
                <a:lnTo>
                  <a:pt x="49423" y="311468"/>
                </a:lnTo>
                <a:lnTo>
                  <a:pt x="53081" y="317183"/>
                </a:lnTo>
                <a:lnTo>
                  <a:pt x="55390" y="320040"/>
                </a:lnTo>
                <a:lnTo>
                  <a:pt x="57881" y="321945"/>
                </a:lnTo>
                <a:lnTo>
                  <a:pt x="60495" y="323216"/>
                </a:lnTo>
                <a:lnTo>
                  <a:pt x="63190" y="324062"/>
                </a:lnTo>
                <a:lnTo>
                  <a:pt x="68724" y="327543"/>
                </a:lnTo>
                <a:lnTo>
                  <a:pt x="75488" y="332987"/>
                </a:lnTo>
                <a:lnTo>
                  <a:pt x="78953" y="333732"/>
                </a:lnTo>
                <a:lnTo>
                  <a:pt x="93827" y="334317"/>
                </a:lnTo>
                <a:lnTo>
                  <a:pt x="94256" y="334327"/>
                </a:lnTo>
                <a:lnTo>
                  <a:pt x="94294" y="322396"/>
                </a:lnTo>
                <a:lnTo>
                  <a:pt x="91756" y="314420"/>
                </a:lnTo>
                <a:lnTo>
                  <a:pt x="87453" y="305477"/>
                </a:lnTo>
                <a:lnTo>
                  <a:pt x="82365" y="298327"/>
                </a:lnTo>
                <a:lnTo>
                  <a:pt x="80628" y="294135"/>
                </a:lnTo>
                <a:lnTo>
                  <a:pt x="78697" y="284397"/>
                </a:lnTo>
                <a:lnTo>
                  <a:pt x="78182" y="279132"/>
                </a:lnTo>
                <a:lnTo>
                  <a:pt x="77839" y="273719"/>
                </a:lnTo>
                <a:lnTo>
                  <a:pt x="77458" y="262623"/>
                </a:lnTo>
                <a:lnTo>
                  <a:pt x="77288" y="251341"/>
                </a:lnTo>
                <a:lnTo>
                  <a:pt x="76290" y="245665"/>
                </a:lnTo>
                <a:lnTo>
                  <a:pt x="74673" y="239977"/>
                </a:lnTo>
                <a:lnTo>
                  <a:pt x="72642" y="234280"/>
                </a:lnTo>
                <a:lnTo>
                  <a:pt x="71288" y="228577"/>
                </a:lnTo>
                <a:lnTo>
                  <a:pt x="70385" y="222870"/>
                </a:lnTo>
                <a:lnTo>
                  <a:pt x="69783" y="217160"/>
                </a:lnTo>
                <a:lnTo>
                  <a:pt x="66575" y="208276"/>
                </a:lnTo>
                <a:lnTo>
                  <a:pt x="64386" y="204573"/>
                </a:lnTo>
                <a:lnTo>
                  <a:pt x="61953" y="195379"/>
                </a:lnTo>
                <a:lnTo>
                  <a:pt x="60872" y="185895"/>
                </a:lnTo>
                <a:lnTo>
                  <a:pt x="60392" y="178505"/>
                </a:lnTo>
                <a:lnTo>
                  <a:pt x="60121" y="168990"/>
                </a:lnTo>
                <a:lnTo>
                  <a:pt x="59131" y="166000"/>
                </a:lnTo>
                <a:lnTo>
                  <a:pt x="54139" y="157241"/>
                </a:lnTo>
                <a:lnTo>
                  <a:pt x="52636" y="151483"/>
                </a:lnTo>
                <a:lnTo>
                  <a:pt x="53188" y="149566"/>
                </a:lnTo>
                <a:lnTo>
                  <a:pt x="54509" y="148288"/>
                </a:lnTo>
                <a:lnTo>
                  <a:pt x="56342" y="147436"/>
                </a:lnTo>
                <a:lnTo>
                  <a:pt x="57564" y="145916"/>
                </a:lnTo>
                <a:lnTo>
                  <a:pt x="58378" y="143950"/>
                </a:lnTo>
                <a:lnTo>
                  <a:pt x="58921" y="141687"/>
                </a:lnTo>
                <a:lnTo>
                  <a:pt x="62065" y="136632"/>
                </a:lnTo>
                <a:lnTo>
                  <a:pt x="70548" y="126754"/>
                </a:lnTo>
                <a:lnTo>
                  <a:pt x="72749" y="124507"/>
                </a:lnTo>
                <a:lnTo>
                  <a:pt x="76122" y="123010"/>
                </a:lnTo>
                <a:lnTo>
                  <a:pt x="89018" y="119950"/>
                </a:lnTo>
                <a:lnTo>
                  <a:pt x="100247" y="113434"/>
                </a:lnTo>
                <a:lnTo>
                  <a:pt x="115216" y="104519"/>
                </a:lnTo>
                <a:lnTo>
                  <a:pt x="126137" y="95348"/>
                </a:lnTo>
                <a:lnTo>
                  <a:pt x="131716" y="92140"/>
                </a:lnTo>
                <a:lnTo>
                  <a:pt x="142996" y="88577"/>
                </a:lnTo>
                <a:lnTo>
                  <a:pt x="156899" y="81912"/>
                </a:lnTo>
                <a:lnTo>
                  <a:pt x="164606" y="77468"/>
                </a:lnTo>
                <a:lnTo>
                  <a:pt x="172603" y="73553"/>
                </a:lnTo>
                <a:lnTo>
                  <a:pt x="180791" y="69991"/>
                </a:lnTo>
                <a:lnTo>
                  <a:pt x="189107" y="66662"/>
                </a:lnTo>
                <a:lnTo>
                  <a:pt x="205968" y="60426"/>
                </a:lnTo>
                <a:lnTo>
                  <a:pt x="240075" y="48660"/>
                </a:lnTo>
                <a:lnTo>
                  <a:pt x="254655" y="42899"/>
                </a:lnTo>
                <a:lnTo>
                  <a:pt x="268437" y="37164"/>
                </a:lnTo>
                <a:lnTo>
                  <a:pt x="284088" y="31440"/>
                </a:lnTo>
                <a:lnTo>
                  <a:pt x="298029" y="25721"/>
                </a:lnTo>
                <a:lnTo>
                  <a:pt x="304413" y="22862"/>
                </a:lnTo>
                <a:lnTo>
                  <a:pt x="319127" y="19686"/>
                </a:lnTo>
                <a:lnTo>
                  <a:pt x="327051" y="18839"/>
                </a:lnTo>
                <a:lnTo>
                  <a:pt x="335192" y="17322"/>
                </a:lnTo>
                <a:lnTo>
                  <a:pt x="343476" y="15358"/>
                </a:lnTo>
                <a:lnTo>
                  <a:pt x="351857" y="13096"/>
                </a:lnTo>
                <a:lnTo>
                  <a:pt x="366248" y="8043"/>
                </a:lnTo>
                <a:lnTo>
                  <a:pt x="378994" y="3575"/>
                </a:lnTo>
                <a:lnTo>
                  <a:pt x="391009" y="1589"/>
                </a:lnTo>
                <a:lnTo>
                  <a:pt x="402699" y="706"/>
                </a:lnTo>
                <a:lnTo>
                  <a:pt x="414245" y="314"/>
                </a:lnTo>
                <a:lnTo>
                  <a:pt x="438349" y="41"/>
                </a:lnTo>
                <a:lnTo>
                  <a:pt x="4800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MARTPenAnnotation614"/>
          <p:cNvSpPr/>
          <p:nvPr/>
        </p:nvSpPr>
        <p:spPr>
          <a:xfrm>
            <a:off x="1033560" y="6388200"/>
            <a:ext cx="263520" cy="169920"/>
          </a:xfrm>
          <a:custGeom>
            <a:avLst/>
            <a:gdLst>
              <a:gd name="textAreaLeft" fmla="*/ 0 w 263520"/>
              <a:gd name="textAreaRight" fmla="*/ 263880 w 26352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64556" h="170109">
                <a:moveTo>
                  <a:pt x="7380" y="67271"/>
                </a:moveTo>
                <a:lnTo>
                  <a:pt x="2830" y="67271"/>
                </a:lnTo>
                <a:lnTo>
                  <a:pt x="1489" y="66319"/>
                </a:lnTo>
                <a:lnTo>
                  <a:pt x="595" y="64732"/>
                </a:lnTo>
                <a:lnTo>
                  <a:pt x="0" y="62721"/>
                </a:lnTo>
                <a:lnTo>
                  <a:pt x="555" y="61379"/>
                </a:lnTo>
                <a:lnTo>
                  <a:pt x="1878" y="60486"/>
                </a:lnTo>
                <a:lnTo>
                  <a:pt x="3712" y="59890"/>
                </a:lnTo>
                <a:lnTo>
                  <a:pt x="4935" y="58540"/>
                </a:lnTo>
                <a:lnTo>
                  <a:pt x="5750" y="56688"/>
                </a:lnTo>
                <a:lnTo>
                  <a:pt x="6294" y="54501"/>
                </a:lnTo>
                <a:lnTo>
                  <a:pt x="9437" y="49531"/>
                </a:lnTo>
                <a:lnTo>
                  <a:pt x="11609" y="46872"/>
                </a:lnTo>
                <a:lnTo>
                  <a:pt x="14010" y="45099"/>
                </a:lnTo>
                <a:lnTo>
                  <a:pt x="21939" y="41652"/>
                </a:lnTo>
                <a:lnTo>
                  <a:pt x="27503" y="37470"/>
                </a:lnTo>
                <a:lnTo>
                  <a:pt x="30321" y="35974"/>
                </a:lnTo>
                <a:lnTo>
                  <a:pt x="35991" y="34311"/>
                </a:lnTo>
                <a:lnTo>
                  <a:pt x="41686" y="31032"/>
                </a:lnTo>
                <a:lnTo>
                  <a:pt x="47393" y="26400"/>
                </a:lnTo>
                <a:lnTo>
                  <a:pt x="53104" y="21166"/>
                </a:lnTo>
                <a:lnTo>
                  <a:pt x="55960" y="19390"/>
                </a:lnTo>
                <a:lnTo>
                  <a:pt x="61674" y="17416"/>
                </a:lnTo>
                <a:lnTo>
                  <a:pt x="67388" y="13998"/>
                </a:lnTo>
                <a:lnTo>
                  <a:pt x="70246" y="11753"/>
                </a:lnTo>
                <a:lnTo>
                  <a:pt x="75961" y="9259"/>
                </a:lnTo>
                <a:lnTo>
                  <a:pt x="82628" y="7198"/>
                </a:lnTo>
                <a:lnTo>
                  <a:pt x="87073" y="5315"/>
                </a:lnTo>
                <a:lnTo>
                  <a:pt x="91941" y="3107"/>
                </a:lnTo>
                <a:lnTo>
                  <a:pt x="99891" y="654"/>
                </a:lnTo>
                <a:lnTo>
                  <a:pt x="103344" y="0"/>
                </a:lnTo>
                <a:lnTo>
                  <a:pt x="105646" y="516"/>
                </a:lnTo>
                <a:lnTo>
                  <a:pt x="107181" y="1813"/>
                </a:lnTo>
                <a:lnTo>
                  <a:pt x="108204" y="3630"/>
                </a:lnTo>
                <a:lnTo>
                  <a:pt x="109839" y="4841"/>
                </a:lnTo>
                <a:lnTo>
                  <a:pt x="111881" y="5648"/>
                </a:lnTo>
                <a:lnTo>
                  <a:pt x="117452" y="6944"/>
                </a:lnTo>
                <a:lnTo>
                  <a:pt x="122967" y="11720"/>
                </a:lnTo>
                <a:lnTo>
                  <a:pt x="124444" y="14045"/>
                </a:lnTo>
                <a:lnTo>
                  <a:pt x="126083" y="19168"/>
                </a:lnTo>
                <a:lnTo>
                  <a:pt x="126521" y="21867"/>
                </a:lnTo>
                <a:lnTo>
                  <a:pt x="126812" y="24620"/>
                </a:lnTo>
                <a:lnTo>
                  <a:pt x="127007" y="27407"/>
                </a:lnTo>
                <a:lnTo>
                  <a:pt x="127136" y="30217"/>
                </a:lnTo>
                <a:lnTo>
                  <a:pt x="127280" y="35880"/>
                </a:lnTo>
                <a:lnTo>
                  <a:pt x="126366" y="38724"/>
                </a:lnTo>
                <a:lnTo>
                  <a:pt x="124804" y="41572"/>
                </a:lnTo>
                <a:lnTo>
                  <a:pt x="122810" y="44423"/>
                </a:lnTo>
                <a:lnTo>
                  <a:pt x="121481" y="48229"/>
                </a:lnTo>
                <a:lnTo>
                  <a:pt x="120595" y="52671"/>
                </a:lnTo>
                <a:lnTo>
                  <a:pt x="120004" y="57538"/>
                </a:lnTo>
                <a:lnTo>
                  <a:pt x="118658" y="62687"/>
                </a:lnTo>
                <a:lnTo>
                  <a:pt x="116808" y="68026"/>
                </a:lnTo>
                <a:lnTo>
                  <a:pt x="114622" y="73489"/>
                </a:lnTo>
                <a:lnTo>
                  <a:pt x="113165" y="79036"/>
                </a:lnTo>
                <a:lnTo>
                  <a:pt x="112193" y="84640"/>
                </a:lnTo>
                <a:lnTo>
                  <a:pt x="111546" y="90280"/>
                </a:lnTo>
                <a:lnTo>
                  <a:pt x="110161" y="94993"/>
                </a:lnTo>
                <a:lnTo>
                  <a:pt x="108286" y="99087"/>
                </a:lnTo>
                <a:lnTo>
                  <a:pt x="106083" y="102769"/>
                </a:lnTo>
                <a:lnTo>
                  <a:pt x="103662" y="107129"/>
                </a:lnTo>
                <a:lnTo>
                  <a:pt x="98432" y="117054"/>
                </a:lnTo>
                <a:lnTo>
                  <a:pt x="90133" y="133351"/>
                </a:lnTo>
                <a:lnTo>
                  <a:pt x="87314" y="137994"/>
                </a:lnTo>
                <a:lnTo>
                  <a:pt x="84482" y="142043"/>
                </a:lnTo>
                <a:lnTo>
                  <a:pt x="81641" y="145694"/>
                </a:lnTo>
                <a:lnTo>
                  <a:pt x="78795" y="149080"/>
                </a:lnTo>
                <a:lnTo>
                  <a:pt x="75945" y="152291"/>
                </a:lnTo>
                <a:lnTo>
                  <a:pt x="67889" y="161025"/>
                </a:lnTo>
                <a:lnTo>
                  <a:pt x="67536" y="165959"/>
                </a:lnTo>
                <a:lnTo>
                  <a:pt x="66534" y="167353"/>
                </a:lnTo>
                <a:lnTo>
                  <a:pt x="64914" y="168283"/>
                </a:lnTo>
                <a:lnTo>
                  <a:pt x="59172" y="170032"/>
                </a:lnTo>
                <a:lnTo>
                  <a:pt x="63472" y="170108"/>
                </a:lnTo>
                <a:lnTo>
                  <a:pt x="64777" y="169167"/>
                </a:lnTo>
                <a:lnTo>
                  <a:pt x="65648" y="167587"/>
                </a:lnTo>
                <a:lnTo>
                  <a:pt x="67044" y="162758"/>
                </a:lnTo>
                <a:lnTo>
                  <a:pt x="68111" y="162362"/>
                </a:lnTo>
                <a:lnTo>
                  <a:pt x="71837" y="161921"/>
                </a:lnTo>
                <a:lnTo>
                  <a:pt x="74164" y="160851"/>
                </a:lnTo>
                <a:lnTo>
                  <a:pt x="79290" y="157122"/>
                </a:lnTo>
                <a:lnTo>
                  <a:pt x="84743" y="152289"/>
                </a:lnTo>
                <a:lnTo>
                  <a:pt x="87530" y="149668"/>
                </a:lnTo>
                <a:lnTo>
                  <a:pt x="91294" y="147920"/>
                </a:lnTo>
                <a:lnTo>
                  <a:pt x="95707" y="146755"/>
                </a:lnTo>
                <a:lnTo>
                  <a:pt x="100555" y="145977"/>
                </a:lnTo>
                <a:lnTo>
                  <a:pt x="108481" y="142574"/>
                </a:lnTo>
                <a:lnTo>
                  <a:pt x="116132" y="137887"/>
                </a:lnTo>
                <a:lnTo>
                  <a:pt x="120839" y="135304"/>
                </a:lnTo>
                <a:lnTo>
                  <a:pt x="136565" y="127116"/>
                </a:lnTo>
                <a:lnTo>
                  <a:pt x="142081" y="124313"/>
                </a:lnTo>
                <a:lnTo>
                  <a:pt x="146711" y="121492"/>
                </a:lnTo>
                <a:lnTo>
                  <a:pt x="150750" y="118658"/>
                </a:lnTo>
                <a:lnTo>
                  <a:pt x="154395" y="115817"/>
                </a:lnTo>
                <a:lnTo>
                  <a:pt x="158730" y="112970"/>
                </a:lnTo>
                <a:lnTo>
                  <a:pt x="163525" y="110119"/>
                </a:lnTo>
                <a:lnTo>
                  <a:pt x="168627" y="107267"/>
                </a:lnTo>
                <a:lnTo>
                  <a:pt x="179376" y="101557"/>
                </a:lnTo>
                <a:lnTo>
                  <a:pt x="184909" y="98701"/>
                </a:lnTo>
                <a:lnTo>
                  <a:pt x="190503" y="96797"/>
                </a:lnTo>
                <a:lnTo>
                  <a:pt x="196137" y="95527"/>
                </a:lnTo>
                <a:lnTo>
                  <a:pt x="201798" y="94681"/>
                </a:lnTo>
                <a:lnTo>
                  <a:pt x="206525" y="93164"/>
                </a:lnTo>
                <a:lnTo>
                  <a:pt x="214317" y="88939"/>
                </a:lnTo>
                <a:lnTo>
                  <a:pt x="218680" y="86479"/>
                </a:lnTo>
                <a:lnTo>
                  <a:pt x="228609" y="81206"/>
                </a:lnTo>
                <a:lnTo>
                  <a:pt x="236832" y="78227"/>
                </a:lnTo>
                <a:lnTo>
                  <a:pt x="244614" y="76903"/>
                </a:lnTo>
                <a:lnTo>
                  <a:pt x="249356" y="76550"/>
                </a:lnTo>
                <a:lnTo>
                  <a:pt x="254423" y="76315"/>
                </a:lnTo>
                <a:lnTo>
                  <a:pt x="257800" y="75205"/>
                </a:lnTo>
                <a:lnTo>
                  <a:pt x="260052" y="73513"/>
                </a:lnTo>
                <a:lnTo>
                  <a:pt x="264555" y="672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MARTPenAnnotation615"/>
          <p:cNvSpPr/>
          <p:nvPr/>
        </p:nvSpPr>
        <p:spPr>
          <a:xfrm>
            <a:off x="1589040" y="6111720"/>
            <a:ext cx="68400" cy="189000"/>
          </a:xfrm>
          <a:custGeom>
            <a:avLst/>
            <a:gdLst>
              <a:gd name="textAreaLeft" fmla="*/ 0 w 68400"/>
              <a:gd name="textAreaRight" fmla="*/ 68760 w 684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68581" h="188596">
                <a:moveTo>
                  <a:pt x="8572" y="0"/>
                </a:moveTo>
                <a:lnTo>
                  <a:pt x="2" y="0"/>
                </a:lnTo>
                <a:lnTo>
                  <a:pt x="0" y="12770"/>
                </a:lnTo>
                <a:lnTo>
                  <a:pt x="952" y="15182"/>
                </a:lnTo>
                <a:lnTo>
                  <a:pt x="2539" y="17741"/>
                </a:lnTo>
                <a:lnTo>
                  <a:pt x="7380" y="24142"/>
                </a:lnTo>
                <a:lnTo>
                  <a:pt x="7778" y="26572"/>
                </a:lnTo>
                <a:lnTo>
                  <a:pt x="8042" y="30098"/>
                </a:lnTo>
                <a:lnTo>
                  <a:pt x="8219" y="34352"/>
                </a:lnTo>
                <a:lnTo>
                  <a:pt x="9289" y="38141"/>
                </a:lnTo>
                <a:lnTo>
                  <a:pt x="10955" y="41621"/>
                </a:lnTo>
                <a:lnTo>
                  <a:pt x="13018" y="44892"/>
                </a:lnTo>
                <a:lnTo>
                  <a:pt x="14394" y="48026"/>
                </a:lnTo>
                <a:lnTo>
                  <a:pt x="15311" y="51067"/>
                </a:lnTo>
                <a:lnTo>
                  <a:pt x="15922" y="54047"/>
                </a:lnTo>
                <a:lnTo>
                  <a:pt x="16329" y="57939"/>
                </a:lnTo>
                <a:lnTo>
                  <a:pt x="16601" y="62438"/>
                </a:lnTo>
                <a:lnTo>
                  <a:pt x="16782" y="67343"/>
                </a:lnTo>
                <a:lnTo>
                  <a:pt x="17855" y="71566"/>
                </a:lnTo>
                <a:lnTo>
                  <a:pt x="19523" y="75333"/>
                </a:lnTo>
                <a:lnTo>
                  <a:pt x="21588" y="78797"/>
                </a:lnTo>
                <a:lnTo>
                  <a:pt x="22964" y="83012"/>
                </a:lnTo>
                <a:lnTo>
                  <a:pt x="23882" y="87726"/>
                </a:lnTo>
                <a:lnTo>
                  <a:pt x="24494" y="92774"/>
                </a:lnTo>
                <a:lnTo>
                  <a:pt x="25854" y="97092"/>
                </a:lnTo>
                <a:lnTo>
                  <a:pt x="27713" y="100923"/>
                </a:lnTo>
                <a:lnTo>
                  <a:pt x="29905" y="104429"/>
                </a:lnTo>
                <a:lnTo>
                  <a:pt x="31367" y="108672"/>
                </a:lnTo>
                <a:lnTo>
                  <a:pt x="32341" y="113406"/>
                </a:lnTo>
                <a:lnTo>
                  <a:pt x="32990" y="118466"/>
                </a:lnTo>
                <a:lnTo>
                  <a:pt x="34376" y="122793"/>
                </a:lnTo>
                <a:lnTo>
                  <a:pt x="36252" y="126629"/>
                </a:lnTo>
                <a:lnTo>
                  <a:pt x="38455" y="130140"/>
                </a:lnTo>
                <a:lnTo>
                  <a:pt x="39924" y="133432"/>
                </a:lnTo>
                <a:lnTo>
                  <a:pt x="40903" y="136580"/>
                </a:lnTo>
                <a:lnTo>
                  <a:pt x="41556" y="139631"/>
                </a:lnTo>
                <a:lnTo>
                  <a:pt x="42944" y="142617"/>
                </a:lnTo>
                <a:lnTo>
                  <a:pt x="44822" y="145560"/>
                </a:lnTo>
                <a:lnTo>
                  <a:pt x="47026" y="148475"/>
                </a:lnTo>
                <a:lnTo>
                  <a:pt x="48495" y="151371"/>
                </a:lnTo>
                <a:lnTo>
                  <a:pt x="50128" y="157128"/>
                </a:lnTo>
                <a:lnTo>
                  <a:pt x="51516" y="159045"/>
                </a:lnTo>
                <a:lnTo>
                  <a:pt x="53394" y="160323"/>
                </a:lnTo>
                <a:lnTo>
                  <a:pt x="55598" y="161174"/>
                </a:lnTo>
                <a:lnTo>
                  <a:pt x="57068" y="162695"/>
                </a:lnTo>
                <a:lnTo>
                  <a:pt x="58047" y="164661"/>
                </a:lnTo>
                <a:lnTo>
                  <a:pt x="59620" y="170109"/>
                </a:lnTo>
                <a:lnTo>
                  <a:pt x="59892" y="175604"/>
                </a:lnTo>
                <a:lnTo>
                  <a:pt x="59973" y="178713"/>
                </a:lnTo>
                <a:lnTo>
                  <a:pt x="60937" y="180102"/>
                </a:lnTo>
                <a:lnTo>
                  <a:pt x="62532" y="181981"/>
                </a:lnTo>
                <a:lnTo>
                  <a:pt x="68580" y="1885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MARTPenAnnotation616"/>
          <p:cNvSpPr/>
          <p:nvPr/>
        </p:nvSpPr>
        <p:spPr>
          <a:xfrm>
            <a:off x="1460520" y="6275520"/>
            <a:ext cx="496800" cy="282600"/>
          </a:xfrm>
          <a:custGeom>
            <a:avLst/>
            <a:gdLst>
              <a:gd name="textAreaLeft" fmla="*/ 0 w 496800"/>
              <a:gd name="textAreaRight" fmla="*/ 497160 w 4968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97206" h="282884">
                <a:moveTo>
                  <a:pt x="0" y="214303"/>
                </a:moveTo>
                <a:lnTo>
                  <a:pt x="7381" y="214303"/>
                </a:lnTo>
                <a:lnTo>
                  <a:pt x="7778" y="215256"/>
                </a:lnTo>
                <a:lnTo>
                  <a:pt x="8220" y="218854"/>
                </a:lnTo>
                <a:lnTo>
                  <a:pt x="9290" y="220195"/>
                </a:lnTo>
                <a:lnTo>
                  <a:pt x="10955" y="221088"/>
                </a:lnTo>
                <a:lnTo>
                  <a:pt x="13019" y="221684"/>
                </a:lnTo>
                <a:lnTo>
                  <a:pt x="17851" y="224887"/>
                </a:lnTo>
                <a:lnTo>
                  <a:pt x="27567" y="233412"/>
                </a:lnTo>
                <a:lnTo>
                  <a:pt x="29808" y="235615"/>
                </a:lnTo>
                <a:lnTo>
                  <a:pt x="42063" y="243266"/>
                </a:lnTo>
                <a:lnTo>
                  <a:pt x="49810" y="246226"/>
                </a:lnTo>
                <a:lnTo>
                  <a:pt x="53209" y="247015"/>
                </a:lnTo>
                <a:lnTo>
                  <a:pt x="59526" y="250431"/>
                </a:lnTo>
                <a:lnTo>
                  <a:pt x="68437" y="257710"/>
                </a:lnTo>
                <a:lnTo>
                  <a:pt x="71342" y="260386"/>
                </a:lnTo>
                <a:lnTo>
                  <a:pt x="74231" y="262170"/>
                </a:lnTo>
                <a:lnTo>
                  <a:pt x="82849" y="265634"/>
                </a:lnTo>
                <a:lnTo>
                  <a:pt x="91434" y="271316"/>
                </a:lnTo>
                <a:lnTo>
                  <a:pt x="100011" y="274376"/>
                </a:lnTo>
                <a:lnTo>
                  <a:pt x="110941" y="282495"/>
                </a:lnTo>
                <a:lnTo>
                  <a:pt x="125662" y="282876"/>
                </a:lnTo>
                <a:lnTo>
                  <a:pt x="128473" y="282883"/>
                </a:lnTo>
                <a:lnTo>
                  <a:pt x="128554" y="278332"/>
                </a:lnTo>
                <a:lnTo>
                  <a:pt x="127612" y="276039"/>
                </a:lnTo>
                <a:lnTo>
                  <a:pt x="122689" y="268261"/>
                </a:lnTo>
                <a:lnTo>
                  <a:pt x="121203" y="262732"/>
                </a:lnTo>
                <a:lnTo>
                  <a:pt x="120543" y="254560"/>
                </a:lnTo>
                <a:lnTo>
                  <a:pt x="120367" y="249714"/>
                </a:lnTo>
                <a:lnTo>
                  <a:pt x="119297" y="245530"/>
                </a:lnTo>
                <a:lnTo>
                  <a:pt x="115569" y="238342"/>
                </a:lnTo>
                <a:lnTo>
                  <a:pt x="114193" y="234139"/>
                </a:lnTo>
                <a:lnTo>
                  <a:pt x="113276" y="229432"/>
                </a:lnTo>
                <a:lnTo>
                  <a:pt x="112665" y="224389"/>
                </a:lnTo>
                <a:lnTo>
                  <a:pt x="112258" y="219122"/>
                </a:lnTo>
                <a:lnTo>
                  <a:pt x="111986" y="213705"/>
                </a:lnTo>
                <a:lnTo>
                  <a:pt x="111684" y="202608"/>
                </a:lnTo>
                <a:lnTo>
                  <a:pt x="111452" y="164524"/>
                </a:lnTo>
                <a:lnTo>
                  <a:pt x="110496" y="160162"/>
                </a:lnTo>
                <a:lnTo>
                  <a:pt x="106894" y="152776"/>
                </a:lnTo>
                <a:lnTo>
                  <a:pt x="105553" y="148520"/>
                </a:lnTo>
                <a:lnTo>
                  <a:pt x="104659" y="143778"/>
                </a:lnTo>
                <a:lnTo>
                  <a:pt x="104062" y="138712"/>
                </a:lnTo>
                <a:lnTo>
                  <a:pt x="103400" y="130542"/>
                </a:lnTo>
                <a:lnTo>
                  <a:pt x="103105" y="123736"/>
                </a:lnTo>
                <a:lnTo>
                  <a:pt x="102940" y="114549"/>
                </a:lnTo>
                <a:lnTo>
                  <a:pt x="102879" y="100037"/>
                </a:lnTo>
                <a:lnTo>
                  <a:pt x="103828" y="98121"/>
                </a:lnTo>
                <a:lnTo>
                  <a:pt x="105414" y="96844"/>
                </a:lnTo>
                <a:lnTo>
                  <a:pt x="107424" y="95992"/>
                </a:lnTo>
                <a:lnTo>
                  <a:pt x="108763" y="94471"/>
                </a:lnTo>
                <a:lnTo>
                  <a:pt x="109656" y="92505"/>
                </a:lnTo>
                <a:lnTo>
                  <a:pt x="110252" y="90242"/>
                </a:lnTo>
                <a:lnTo>
                  <a:pt x="113453" y="85188"/>
                </a:lnTo>
                <a:lnTo>
                  <a:pt x="115640" y="82506"/>
                </a:lnTo>
                <a:lnTo>
                  <a:pt x="118051" y="80718"/>
                </a:lnTo>
                <a:lnTo>
                  <a:pt x="123270" y="78732"/>
                </a:lnTo>
                <a:lnTo>
                  <a:pt x="125042" y="77250"/>
                </a:lnTo>
                <a:lnTo>
                  <a:pt x="126224" y="75309"/>
                </a:lnTo>
                <a:lnTo>
                  <a:pt x="127012" y="73063"/>
                </a:lnTo>
                <a:lnTo>
                  <a:pt x="129442" y="71566"/>
                </a:lnTo>
                <a:lnTo>
                  <a:pt x="141011" y="68506"/>
                </a:lnTo>
                <a:lnTo>
                  <a:pt x="161468" y="56756"/>
                </a:lnTo>
                <a:lnTo>
                  <a:pt x="172093" y="53795"/>
                </a:lnTo>
                <a:lnTo>
                  <a:pt x="183166" y="51526"/>
                </a:lnTo>
                <a:lnTo>
                  <a:pt x="194437" y="47343"/>
                </a:lnTo>
                <a:lnTo>
                  <a:pt x="208336" y="42309"/>
                </a:lnTo>
                <a:lnTo>
                  <a:pt x="240543" y="31315"/>
                </a:lnTo>
                <a:lnTo>
                  <a:pt x="248944" y="29447"/>
                </a:lnTo>
                <a:lnTo>
                  <a:pt x="257403" y="28200"/>
                </a:lnTo>
                <a:lnTo>
                  <a:pt x="265899" y="27370"/>
                </a:lnTo>
                <a:lnTo>
                  <a:pt x="280420" y="23907"/>
                </a:lnTo>
                <a:lnTo>
                  <a:pt x="309815" y="13923"/>
                </a:lnTo>
                <a:lnTo>
                  <a:pt x="318938" y="12136"/>
                </a:lnTo>
                <a:lnTo>
                  <a:pt x="328830" y="10945"/>
                </a:lnTo>
                <a:lnTo>
                  <a:pt x="339235" y="10151"/>
                </a:lnTo>
                <a:lnTo>
                  <a:pt x="348077" y="9622"/>
                </a:lnTo>
                <a:lnTo>
                  <a:pt x="362981" y="9034"/>
                </a:lnTo>
                <a:lnTo>
                  <a:pt x="386632" y="8703"/>
                </a:lnTo>
                <a:lnTo>
                  <a:pt x="400754" y="6085"/>
                </a:lnTo>
                <a:lnTo>
                  <a:pt x="413380" y="2699"/>
                </a:lnTo>
                <a:lnTo>
                  <a:pt x="425342" y="1194"/>
                </a:lnTo>
                <a:lnTo>
                  <a:pt x="437008" y="526"/>
                </a:lnTo>
                <a:lnTo>
                  <a:pt x="451747" y="149"/>
                </a:lnTo>
                <a:lnTo>
                  <a:pt x="477023" y="0"/>
                </a:lnTo>
                <a:lnTo>
                  <a:pt x="478988" y="949"/>
                </a:lnTo>
                <a:lnTo>
                  <a:pt x="486304" y="5884"/>
                </a:lnTo>
                <a:lnTo>
                  <a:pt x="497205" y="85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MARTPenAnnotation617"/>
          <p:cNvSpPr/>
          <p:nvPr/>
        </p:nvSpPr>
        <p:spPr>
          <a:xfrm>
            <a:off x="1692360" y="6404040"/>
            <a:ext cx="272880" cy="179280"/>
          </a:xfrm>
          <a:custGeom>
            <a:avLst/>
            <a:gdLst>
              <a:gd name="textAreaLeft" fmla="*/ 0 w 272880"/>
              <a:gd name="textAreaRight" fmla="*/ 273240 w 2728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273968" h="180020">
                <a:moveTo>
                  <a:pt x="8220" y="77149"/>
                </a:moveTo>
                <a:lnTo>
                  <a:pt x="839" y="77149"/>
                </a:lnTo>
                <a:lnTo>
                  <a:pt x="442" y="76196"/>
                </a:lnTo>
                <a:lnTo>
                  <a:pt x="0" y="72598"/>
                </a:lnTo>
                <a:lnTo>
                  <a:pt x="835" y="71257"/>
                </a:lnTo>
                <a:lnTo>
                  <a:pt x="2344" y="70363"/>
                </a:lnTo>
                <a:lnTo>
                  <a:pt x="4303" y="69767"/>
                </a:lnTo>
                <a:lnTo>
                  <a:pt x="5609" y="68418"/>
                </a:lnTo>
                <a:lnTo>
                  <a:pt x="6479" y="66566"/>
                </a:lnTo>
                <a:lnTo>
                  <a:pt x="7059" y="64378"/>
                </a:lnTo>
                <a:lnTo>
                  <a:pt x="10244" y="59408"/>
                </a:lnTo>
                <a:lnTo>
                  <a:pt x="12427" y="56749"/>
                </a:lnTo>
                <a:lnTo>
                  <a:pt x="13882" y="54024"/>
                </a:lnTo>
                <a:lnTo>
                  <a:pt x="15499" y="48456"/>
                </a:lnTo>
                <a:lnTo>
                  <a:pt x="16883" y="45638"/>
                </a:lnTo>
                <a:lnTo>
                  <a:pt x="18758" y="42806"/>
                </a:lnTo>
                <a:lnTo>
                  <a:pt x="20960" y="39966"/>
                </a:lnTo>
                <a:lnTo>
                  <a:pt x="23381" y="37121"/>
                </a:lnTo>
                <a:lnTo>
                  <a:pt x="25947" y="34271"/>
                </a:lnTo>
                <a:lnTo>
                  <a:pt x="31339" y="28564"/>
                </a:lnTo>
                <a:lnTo>
                  <a:pt x="36910" y="22853"/>
                </a:lnTo>
                <a:lnTo>
                  <a:pt x="40682" y="19996"/>
                </a:lnTo>
                <a:lnTo>
                  <a:pt x="45101" y="17140"/>
                </a:lnTo>
                <a:lnTo>
                  <a:pt x="49953" y="14283"/>
                </a:lnTo>
                <a:lnTo>
                  <a:pt x="54139" y="11425"/>
                </a:lnTo>
                <a:lnTo>
                  <a:pt x="57883" y="8568"/>
                </a:lnTo>
                <a:lnTo>
                  <a:pt x="61331" y="5711"/>
                </a:lnTo>
                <a:lnTo>
                  <a:pt x="67702" y="2536"/>
                </a:lnTo>
                <a:lnTo>
                  <a:pt x="74661" y="1125"/>
                </a:lnTo>
                <a:lnTo>
                  <a:pt x="79184" y="748"/>
                </a:lnTo>
                <a:lnTo>
                  <a:pt x="91029" y="145"/>
                </a:lnTo>
                <a:lnTo>
                  <a:pt x="108451" y="9"/>
                </a:lnTo>
                <a:lnTo>
                  <a:pt x="114859" y="0"/>
                </a:lnTo>
                <a:lnTo>
                  <a:pt x="117413" y="951"/>
                </a:lnTo>
                <a:lnTo>
                  <a:pt x="122790" y="4548"/>
                </a:lnTo>
                <a:lnTo>
                  <a:pt x="124605" y="6841"/>
                </a:lnTo>
                <a:lnTo>
                  <a:pt x="125815" y="9322"/>
                </a:lnTo>
                <a:lnTo>
                  <a:pt x="127159" y="14618"/>
                </a:lnTo>
                <a:lnTo>
                  <a:pt x="127757" y="20148"/>
                </a:lnTo>
                <a:lnTo>
                  <a:pt x="127916" y="23908"/>
                </a:lnTo>
                <a:lnTo>
                  <a:pt x="128093" y="33167"/>
                </a:lnTo>
                <a:lnTo>
                  <a:pt x="127188" y="38302"/>
                </a:lnTo>
                <a:lnTo>
                  <a:pt x="125632" y="43631"/>
                </a:lnTo>
                <a:lnTo>
                  <a:pt x="123642" y="49089"/>
                </a:lnTo>
                <a:lnTo>
                  <a:pt x="122316" y="54632"/>
                </a:lnTo>
                <a:lnTo>
                  <a:pt x="121431" y="60233"/>
                </a:lnTo>
                <a:lnTo>
                  <a:pt x="120841" y="65871"/>
                </a:lnTo>
                <a:lnTo>
                  <a:pt x="119496" y="71536"/>
                </a:lnTo>
                <a:lnTo>
                  <a:pt x="117646" y="77217"/>
                </a:lnTo>
                <a:lnTo>
                  <a:pt x="115461" y="82909"/>
                </a:lnTo>
                <a:lnTo>
                  <a:pt x="113052" y="88609"/>
                </a:lnTo>
                <a:lnTo>
                  <a:pt x="110493" y="94314"/>
                </a:lnTo>
                <a:lnTo>
                  <a:pt x="105109" y="105733"/>
                </a:lnTo>
                <a:lnTo>
                  <a:pt x="91053" y="134300"/>
                </a:lnTo>
                <a:lnTo>
                  <a:pt x="88207" y="139062"/>
                </a:lnTo>
                <a:lnTo>
                  <a:pt x="85357" y="143189"/>
                </a:lnTo>
                <a:lnTo>
                  <a:pt x="82505" y="146893"/>
                </a:lnTo>
                <a:lnTo>
                  <a:pt x="79651" y="150315"/>
                </a:lnTo>
                <a:lnTo>
                  <a:pt x="76795" y="153548"/>
                </a:lnTo>
                <a:lnTo>
                  <a:pt x="71083" y="159682"/>
                </a:lnTo>
                <a:lnTo>
                  <a:pt x="61348" y="169709"/>
                </a:lnTo>
                <a:lnTo>
                  <a:pt x="55606" y="175482"/>
                </a:lnTo>
                <a:lnTo>
                  <a:pt x="53146" y="176994"/>
                </a:lnTo>
                <a:lnTo>
                  <a:pt x="44893" y="179421"/>
                </a:lnTo>
                <a:lnTo>
                  <a:pt x="42649" y="179984"/>
                </a:lnTo>
                <a:lnTo>
                  <a:pt x="55530" y="180019"/>
                </a:lnTo>
                <a:lnTo>
                  <a:pt x="57857" y="179066"/>
                </a:lnTo>
                <a:lnTo>
                  <a:pt x="65684" y="174127"/>
                </a:lnTo>
                <a:lnTo>
                  <a:pt x="71225" y="172638"/>
                </a:lnTo>
                <a:lnTo>
                  <a:pt x="79402" y="169436"/>
                </a:lnTo>
                <a:lnTo>
                  <a:pt x="84250" y="167248"/>
                </a:lnTo>
                <a:lnTo>
                  <a:pt x="92176" y="164818"/>
                </a:lnTo>
                <a:lnTo>
                  <a:pt x="99826" y="162785"/>
                </a:lnTo>
                <a:lnTo>
                  <a:pt x="104534" y="160910"/>
                </a:lnTo>
                <a:lnTo>
                  <a:pt x="109576" y="158707"/>
                </a:lnTo>
                <a:lnTo>
                  <a:pt x="120260" y="153720"/>
                </a:lnTo>
                <a:lnTo>
                  <a:pt x="142640" y="142756"/>
                </a:lnTo>
                <a:lnTo>
                  <a:pt x="147363" y="140889"/>
                </a:lnTo>
                <a:lnTo>
                  <a:pt x="155152" y="138816"/>
                </a:lnTo>
                <a:lnTo>
                  <a:pt x="159514" y="137310"/>
                </a:lnTo>
                <a:lnTo>
                  <a:pt x="164328" y="135353"/>
                </a:lnTo>
                <a:lnTo>
                  <a:pt x="169442" y="133097"/>
                </a:lnTo>
                <a:lnTo>
                  <a:pt x="180204" y="128050"/>
                </a:lnTo>
                <a:lnTo>
                  <a:pt x="185741" y="125370"/>
                </a:lnTo>
                <a:lnTo>
                  <a:pt x="191337" y="123583"/>
                </a:lnTo>
                <a:lnTo>
                  <a:pt x="196973" y="122393"/>
                </a:lnTo>
                <a:lnTo>
                  <a:pt x="202635" y="121599"/>
                </a:lnTo>
                <a:lnTo>
                  <a:pt x="208315" y="120117"/>
                </a:lnTo>
                <a:lnTo>
                  <a:pt x="214007" y="118177"/>
                </a:lnTo>
                <a:lnTo>
                  <a:pt x="219706" y="115931"/>
                </a:lnTo>
                <a:lnTo>
                  <a:pt x="225411" y="114434"/>
                </a:lnTo>
                <a:lnTo>
                  <a:pt x="231119" y="113435"/>
                </a:lnTo>
                <a:lnTo>
                  <a:pt x="236829" y="112769"/>
                </a:lnTo>
                <a:lnTo>
                  <a:pt x="242541" y="112326"/>
                </a:lnTo>
                <a:lnTo>
                  <a:pt x="248254" y="112031"/>
                </a:lnTo>
                <a:lnTo>
                  <a:pt x="262856" y="111614"/>
                </a:lnTo>
                <a:lnTo>
                  <a:pt x="273967" y="1114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SMARTPenAnnotation618"/>
          <p:cNvSpPr/>
          <p:nvPr/>
        </p:nvSpPr>
        <p:spPr>
          <a:xfrm>
            <a:off x="1511280" y="5622840"/>
            <a:ext cx="1893960" cy="952560"/>
          </a:xfrm>
          <a:custGeom>
            <a:avLst/>
            <a:gdLst>
              <a:gd name="textAreaLeft" fmla="*/ 0 w 1893960"/>
              <a:gd name="textAreaRight" fmla="*/ 1894320 w 189396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1892779" h="951440">
                <a:moveTo>
                  <a:pt x="1834474" y="0"/>
                </a:moveTo>
                <a:lnTo>
                  <a:pt x="1788750" y="0"/>
                </a:lnTo>
                <a:lnTo>
                  <a:pt x="1785894" y="952"/>
                </a:lnTo>
                <a:lnTo>
                  <a:pt x="1777323" y="5891"/>
                </a:lnTo>
                <a:lnTo>
                  <a:pt x="1747996" y="17741"/>
                </a:lnTo>
                <a:lnTo>
                  <a:pt x="1737937" y="22172"/>
                </a:lnTo>
                <a:lnTo>
                  <a:pt x="1710778" y="32250"/>
                </a:lnTo>
                <a:lnTo>
                  <a:pt x="1654437" y="60021"/>
                </a:lnTo>
                <a:lnTo>
                  <a:pt x="1625875" y="75249"/>
                </a:lnTo>
                <a:lnTo>
                  <a:pt x="1597301" y="95964"/>
                </a:lnTo>
                <a:lnTo>
                  <a:pt x="1549518" y="118040"/>
                </a:lnTo>
                <a:lnTo>
                  <a:pt x="1506226" y="147739"/>
                </a:lnTo>
                <a:lnTo>
                  <a:pt x="1472372" y="173619"/>
                </a:lnTo>
                <a:lnTo>
                  <a:pt x="1436399" y="200842"/>
                </a:lnTo>
                <a:lnTo>
                  <a:pt x="1395220" y="228495"/>
                </a:lnTo>
                <a:lnTo>
                  <a:pt x="1354308" y="260274"/>
                </a:lnTo>
                <a:lnTo>
                  <a:pt x="1318793" y="288639"/>
                </a:lnTo>
                <a:lnTo>
                  <a:pt x="1268572" y="315519"/>
                </a:lnTo>
                <a:lnTo>
                  <a:pt x="1228351" y="343057"/>
                </a:lnTo>
                <a:lnTo>
                  <a:pt x="1184973" y="377204"/>
                </a:lnTo>
                <a:lnTo>
                  <a:pt x="1178589" y="382914"/>
                </a:lnTo>
                <a:lnTo>
                  <a:pt x="1161334" y="391799"/>
                </a:lnTo>
                <a:lnTo>
                  <a:pt x="1132740" y="404696"/>
                </a:lnTo>
                <a:lnTo>
                  <a:pt x="1108710" y="420582"/>
                </a:lnTo>
                <a:lnTo>
                  <a:pt x="1093765" y="431718"/>
                </a:lnTo>
                <a:lnTo>
                  <a:pt x="1043696" y="458949"/>
                </a:lnTo>
                <a:lnTo>
                  <a:pt x="977142" y="490255"/>
                </a:lnTo>
                <a:lnTo>
                  <a:pt x="962583" y="499196"/>
                </a:lnTo>
                <a:lnTo>
                  <a:pt x="956033" y="504247"/>
                </a:lnTo>
                <a:lnTo>
                  <a:pt x="938596" y="512399"/>
                </a:lnTo>
                <a:lnTo>
                  <a:pt x="883298" y="533864"/>
                </a:lnTo>
                <a:lnTo>
                  <a:pt x="828984" y="559208"/>
                </a:lnTo>
                <a:lnTo>
                  <a:pt x="772017" y="582353"/>
                </a:lnTo>
                <a:lnTo>
                  <a:pt x="685768" y="611495"/>
                </a:lnTo>
                <a:lnTo>
                  <a:pt x="660044" y="615523"/>
                </a:lnTo>
                <a:lnTo>
                  <a:pt x="605925" y="617120"/>
                </a:lnTo>
                <a:lnTo>
                  <a:pt x="521659" y="617219"/>
                </a:lnTo>
                <a:lnTo>
                  <a:pt x="507733" y="614679"/>
                </a:lnTo>
                <a:lnTo>
                  <a:pt x="495194" y="611328"/>
                </a:lnTo>
                <a:lnTo>
                  <a:pt x="441240" y="601371"/>
                </a:lnTo>
                <a:lnTo>
                  <a:pt x="405832" y="592808"/>
                </a:lnTo>
                <a:lnTo>
                  <a:pt x="376994" y="590808"/>
                </a:lnTo>
                <a:lnTo>
                  <a:pt x="346072" y="584156"/>
                </a:lnTo>
                <a:lnTo>
                  <a:pt x="293225" y="582978"/>
                </a:lnTo>
                <a:lnTo>
                  <a:pt x="237044" y="583884"/>
                </a:lnTo>
                <a:lnTo>
                  <a:pt x="189134" y="593513"/>
                </a:lnTo>
                <a:lnTo>
                  <a:pt x="131414" y="620112"/>
                </a:lnTo>
                <a:lnTo>
                  <a:pt x="108546" y="638358"/>
                </a:lnTo>
                <a:lnTo>
                  <a:pt x="79969" y="665946"/>
                </a:lnTo>
                <a:lnTo>
                  <a:pt x="58179" y="694392"/>
                </a:lnTo>
                <a:lnTo>
                  <a:pt x="32109" y="722950"/>
                </a:lnTo>
                <a:lnTo>
                  <a:pt x="24408" y="734378"/>
                </a:lnTo>
                <a:lnTo>
                  <a:pt x="20350" y="748348"/>
                </a:lnTo>
                <a:lnTo>
                  <a:pt x="17594" y="763129"/>
                </a:lnTo>
                <a:lnTo>
                  <a:pt x="8064" y="788140"/>
                </a:lnTo>
                <a:lnTo>
                  <a:pt x="3561" y="799864"/>
                </a:lnTo>
                <a:lnTo>
                  <a:pt x="433" y="824093"/>
                </a:lnTo>
                <a:lnTo>
                  <a:pt x="21" y="849203"/>
                </a:lnTo>
                <a:lnTo>
                  <a:pt x="0" y="854742"/>
                </a:lnTo>
                <a:lnTo>
                  <a:pt x="939" y="859388"/>
                </a:lnTo>
                <a:lnTo>
                  <a:pt x="11894" y="881332"/>
                </a:lnTo>
                <a:lnTo>
                  <a:pt x="20111" y="893066"/>
                </a:lnTo>
                <a:lnTo>
                  <a:pt x="28578" y="902575"/>
                </a:lnTo>
                <a:lnTo>
                  <a:pt x="41670" y="911425"/>
                </a:lnTo>
                <a:lnTo>
                  <a:pt x="91443" y="937257"/>
                </a:lnTo>
                <a:lnTo>
                  <a:pt x="102849" y="940433"/>
                </a:lnTo>
                <a:lnTo>
                  <a:pt x="143906" y="945291"/>
                </a:lnTo>
                <a:lnTo>
                  <a:pt x="157280" y="948767"/>
                </a:lnTo>
                <a:lnTo>
                  <a:pt x="215581" y="951439"/>
                </a:lnTo>
                <a:lnTo>
                  <a:pt x="265821" y="944157"/>
                </a:lnTo>
                <a:lnTo>
                  <a:pt x="333499" y="934313"/>
                </a:lnTo>
                <a:lnTo>
                  <a:pt x="392496" y="919856"/>
                </a:lnTo>
                <a:lnTo>
                  <a:pt x="482918" y="897245"/>
                </a:lnTo>
                <a:lnTo>
                  <a:pt x="540032" y="876181"/>
                </a:lnTo>
                <a:lnTo>
                  <a:pt x="590298" y="863318"/>
                </a:lnTo>
                <a:lnTo>
                  <a:pt x="640197" y="851605"/>
                </a:lnTo>
                <a:lnTo>
                  <a:pt x="709016" y="837257"/>
                </a:lnTo>
                <a:lnTo>
                  <a:pt x="764895" y="825819"/>
                </a:lnTo>
                <a:lnTo>
                  <a:pt x="816149" y="814388"/>
                </a:lnTo>
                <a:lnTo>
                  <a:pt x="871853" y="802957"/>
                </a:lnTo>
                <a:lnTo>
                  <a:pt x="942981" y="781885"/>
                </a:lnTo>
                <a:lnTo>
                  <a:pt x="1000093" y="764469"/>
                </a:lnTo>
                <a:lnTo>
                  <a:pt x="1051344" y="749529"/>
                </a:lnTo>
                <a:lnTo>
                  <a:pt x="1106341" y="734865"/>
                </a:lnTo>
                <a:lnTo>
                  <a:pt x="1163066" y="718458"/>
                </a:lnTo>
                <a:lnTo>
                  <a:pt x="1221085" y="705092"/>
                </a:lnTo>
                <a:lnTo>
                  <a:pt x="1281511" y="687635"/>
                </a:lnTo>
                <a:lnTo>
                  <a:pt x="1335251" y="670181"/>
                </a:lnTo>
                <a:lnTo>
                  <a:pt x="1390775" y="654281"/>
                </a:lnTo>
                <a:lnTo>
                  <a:pt x="1439419" y="633783"/>
                </a:lnTo>
                <a:lnTo>
                  <a:pt x="1490268" y="611390"/>
                </a:lnTo>
                <a:lnTo>
                  <a:pt x="1539329" y="587670"/>
                </a:lnTo>
                <a:lnTo>
                  <a:pt x="1585709" y="558995"/>
                </a:lnTo>
                <a:lnTo>
                  <a:pt x="1607707" y="545622"/>
                </a:lnTo>
                <a:lnTo>
                  <a:pt x="1658491" y="505380"/>
                </a:lnTo>
                <a:lnTo>
                  <a:pt x="1696419" y="472362"/>
                </a:lnTo>
                <a:lnTo>
                  <a:pt x="1731427" y="443966"/>
                </a:lnTo>
                <a:lnTo>
                  <a:pt x="1754729" y="419518"/>
                </a:lnTo>
                <a:lnTo>
                  <a:pt x="1776238" y="394176"/>
                </a:lnTo>
                <a:lnTo>
                  <a:pt x="1798169" y="368571"/>
                </a:lnTo>
                <a:lnTo>
                  <a:pt x="1816732" y="342886"/>
                </a:lnTo>
                <a:lnTo>
                  <a:pt x="1831757" y="317178"/>
                </a:lnTo>
                <a:lnTo>
                  <a:pt x="1844782" y="291464"/>
                </a:lnTo>
                <a:lnTo>
                  <a:pt x="1858166" y="265747"/>
                </a:lnTo>
                <a:lnTo>
                  <a:pt x="1868164" y="242569"/>
                </a:lnTo>
                <a:lnTo>
                  <a:pt x="1880076" y="213121"/>
                </a:lnTo>
                <a:lnTo>
                  <a:pt x="1890648" y="186631"/>
                </a:lnTo>
                <a:lnTo>
                  <a:pt x="1892778" y="174705"/>
                </a:lnTo>
                <a:lnTo>
                  <a:pt x="1891184" y="163054"/>
                </a:lnTo>
                <a:lnTo>
                  <a:pt x="1888253" y="150573"/>
                </a:lnTo>
                <a:lnTo>
                  <a:pt x="1885651" y="129386"/>
                </a:lnTo>
                <a:lnTo>
                  <a:pt x="1881667" y="120052"/>
                </a:lnTo>
                <a:lnTo>
                  <a:pt x="1858404" y="92886"/>
                </a:lnTo>
                <a:lnTo>
                  <a:pt x="1847014" y="86367"/>
                </a:lnTo>
                <a:lnTo>
                  <a:pt x="1789175" y="60024"/>
                </a:lnTo>
                <a:lnTo>
                  <a:pt x="1773384" y="55252"/>
                </a:lnTo>
                <a:lnTo>
                  <a:pt x="1731461" y="51937"/>
                </a:lnTo>
                <a:lnTo>
                  <a:pt x="1705844" y="56135"/>
                </a:lnTo>
                <a:lnTo>
                  <a:pt x="1654448" y="71599"/>
                </a:lnTo>
                <a:lnTo>
                  <a:pt x="1598465" y="93147"/>
                </a:lnTo>
                <a:lnTo>
                  <a:pt x="1577299" y="10286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MARTPenAnnotation619"/>
          <p:cNvSpPr/>
          <p:nvPr/>
        </p:nvSpPr>
        <p:spPr>
          <a:xfrm>
            <a:off x="169920" y="5418000"/>
            <a:ext cx="1101600" cy="120024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1101102" h="1199637">
                <a:moveTo>
                  <a:pt x="946945" y="1199636"/>
                </a:moveTo>
                <a:lnTo>
                  <a:pt x="955164" y="1199636"/>
                </a:lnTo>
                <a:lnTo>
                  <a:pt x="955413" y="1195085"/>
                </a:lnTo>
                <a:lnTo>
                  <a:pt x="956400" y="1193744"/>
                </a:lnTo>
                <a:lnTo>
                  <a:pt x="958011" y="1192850"/>
                </a:lnTo>
                <a:lnTo>
                  <a:pt x="962341" y="1191857"/>
                </a:lnTo>
                <a:lnTo>
                  <a:pt x="994972" y="1191069"/>
                </a:lnTo>
                <a:lnTo>
                  <a:pt x="1000993" y="1191066"/>
                </a:lnTo>
                <a:lnTo>
                  <a:pt x="1003932" y="1190113"/>
                </a:lnTo>
                <a:lnTo>
                  <a:pt x="1012619" y="1185173"/>
                </a:lnTo>
                <a:lnTo>
                  <a:pt x="1018361" y="1183683"/>
                </a:lnTo>
                <a:lnTo>
                  <a:pt x="1026949" y="1182844"/>
                </a:lnTo>
                <a:lnTo>
                  <a:pt x="1029808" y="1181773"/>
                </a:lnTo>
                <a:lnTo>
                  <a:pt x="1035526" y="1178044"/>
                </a:lnTo>
                <a:lnTo>
                  <a:pt x="1061245" y="1153874"/>
                </a:lnTo>
                <a:lnTo>
                  <a:pt x="1072675" y="1135634"/>
                </a:lnTo>
                <a:lnTo>
                  <a:pt x="1089820" y="1102381"/>
                </a:lnTo>
                <a:lnTo>
                  <a:pt x="1097440" y="1085306"/>
                </a:lnTo>
                <a:lnTo>
                  <a:pt x="1100121" y="1068182"/>
                </a:lnTo>
                <a:lnTo>
                  <a:pt x="1101101" y="1039615"/>
                </a:lnTo>
                <a:lnTo>
                  <a:pt x="1096655" y="1017920"/>
                </a:lnTo>
                <a:lnTo>
                  <a:pt x="1086416" y="985853"/>
                </a:lnTo>
                <a:lnTo>
                  <a:pt x="1082250" y="965795"/>
                </a:lnTo>
                <a:lnTo>
                  <a:pt x="1072308" y="933418"/>
                </a:lnTo>
                <a:lnTo>
                  <a:pt x="1060220" y="899505"/>
                </a:lnTo>
                <a:lnTo>
                  <a:pt x="1043016" y="865290"/>
                </a:lnTo>
                <a:lnTo>
                  <a:pt x="1030655" y="839585"/>
                </a:lnTo>
                <a:lnTo>
                  <a:pt x="1009412" y="805300"/>
                </a:lnTo>
                <a:lnTo>
                  <a:pt x="997098" y="775032"/>
                </a:lnTo>
                <a:lnTo>
                  <a:pt x="982866" y="746485"/>
                </a:lnTo>
                <a:lnTo>
                  <a:pt x="962033" y="715378"/>
                </a:lnTo>
                <a:lnTo>
                  <a:pt x="942314" y="686582"/>
                </a:lnTo>
                <a:lnTo>
                  <a:pt x="924406" y="655402"/>
                </a:lnTo>
                <a:lnTo>
                  <a:pt x="902484" y="626584"/>
                </a:lnTo>
                <a:lnTo>
                  <a:pt x="882442" y="595397"/>
                </a:lnTo>
                <a:lnTo>
                  <a:pt x="859888" y="562026"/>
                </a:lnTo>
                <a:lnTo>
                  <a:pt x="835108" y="532560"/>
                </a:lnTo>
                <a:lnTo>
                  <a:pt x="809668" y="501181"/>
                </a:lnTo>
                <a:lnTo>
                  <a:pt x="784033" y="467753"/>
                </a:lnTo>
                <a:lnTo>
                  <a:pt x="762890" y="433718"/>
                </a:lnTo>
                <a:lnTo>
                  <a:pt x="740010" y="399504"/>
                </a:lnTo>
                <a:lnTo>
                  <a:pt x="712570" y="359701"/>
                </a:lnTo>
                <a:lnTo>
                  <a:pt x="689858" y="328254"/>
                </a:lnTo>
                <a:lnTo>
                  <a:pt x="669688" y="299463"/>
                </a:lnTo>
                <a:lnTo>
                  <a:pt x="646990" y="268179"/>
                </a:lnTo>
                <a:lnTo>
                  <a:pt x="619231" y="231525"/>
                </a:lnTo>
                <a:lnTo>
                  <a:pt x="591064" y="196768"/>
                </a:lnTo>
                <a:lnTo>
                  <a:pt x="561264" y="163338"/>
                </a:lnTo>
                <a:lnTo>
                  <a:pt x="533505" y="134863"/>
                </a:lnTo>
                <a:lnTo>
                  <a:pt x="500788" y="106555"/>
                </a:lnTo>
                <a:lnTo>
                  <a:pt x="472700" y="82618"/>
                </a:lnTo>
                <a:lnTo>
                  <a:pt x="440623" y="59545"/>
                </a:lnTo>
                <a:lnTo>
                  <a:pt x="406770" y="36644"/>
                </a:lnTo>
                <a:lnTo>
                  <a:pt x="378458" y="20619"/>
                </a:lnTo>
                <a:lnTo>
                  <a:pt x="348876" y="8282"/>
                </a:lnTo>
                <a:lnTo>
                  <a:pt x="342492" y="5349"/>
                </a:lnTo>
                <a:lnTo>
                  <a:pt x="327779" y="2092"/>
                </a:lnTo>
                <a:lnTo>
                  <a:pt x="295051" y="0"/>
                </a:lnTo>
                <a:lnTo>
                  <a:pt x="261069" y="540"/>
                </a:lnTo>
                <a:lnTo>
                  <a:pt x="226840" y="6291"/>
                </a:lnTo>
                <a:lnTo>
                  <a:pt x="201133" y="10074"/>
                </a:lnTo>
                <a:lnTo>
                  <a:pt x="183990" y="15622"/>
                </a:lnTo>
                <a:lnTo>
                  <a:pt x="159227" y="29455"/>
                </a:lnTo>
                <a:lnTo>
                  <a:pt x="130770" y="51196"/>
                </a:lnTo>
                <a:lnTo>
                  <a:pt x="115570" y="63425"/>
                </a:lnTo>
                <a:lnTo>
                  <a:pt x="84377" y="98323"/>
                </a:lnTo>
                <a:lnTo>
                  <a:pt x="55457" y="134703"/>
                </a:lnTo>
                <a:lnTo>
                  <a:pt x="44951" y="148165"/>
                </a:lnTo>
                <a:lnTo>
                  <a:pt x="27905" y="177550"/>
                </a:lnTo>
                <a:lnTo>
                  <a:pt x="18418" y="191021"/>
                </a:lnTo>
                <a:lnTo>
                  <a:pt x="11026" y="206532"/>
                </a:lnTo>
                <a:lnTo>
                  <a:pt x="7106" y="222951"/>
                </a:lnTo>
                <a:lnTo>
                  <a:pt x="39" y="256775"/>
                </a:lnTo>
                <a:lnTo>
                  <a:pt x="0" y="273857"/>
                </a:lnTo>
                <a:lnTo>
                  <a:pt x="3186" y="308106"/>
                </a:lnTo>
                <a:lnTo>
                  <a:pt x="4768" y="342388"/>
                </a:lnTo>
                <a:lnTo>
                  <a:pt x="13264" y="376676"/>
                </a:lnTo>
                <a:lnTo>
                  <a:pt x="24115" y="410966"/>
                </a:lnTo>
                <a:lnTo>
                  <a:pt x="41130" y="462401"/>
                </a:lnTo>
                <a:lnTo>
                  <a:pt x="62192" y="505263"/>
                </a:lnTo>
                <a:lnTo>
                  <a:pt x="69851" y="521456"/>
                </a:lnTo>
                <a:lnTo>
                  <a:pt x="87751" y="549913"/>
                </a:lnTo>
                <a:lnTo>
                  <a:pt x="95498" y="565113"/>
                </a:lnTo>
                <a:lnTo>
                  <a:pt x="121515" y="596306"/>
                </a:lnTo>
                <a:lnTo>
                  <a:pt x="153999" y="632011"/>
                </a:lnTo>
                <a:lnTo>
                  <a:pt x="178843" y="668075"/>
                </a:lnTo>
                <a:lnTo>
                  <a:pt x="211478" y="703739"/>
                </a:lnTo>
                <a:lnTo>
                  <a:pt x="238458" y="730135"/>
                </a:lnTo>
                <a:lnTo>
                  <a:pt x="267776" y="753693"/>
                </a:lnTo>
                <a:lnTo>
                  <a:pt x="298989" y="782418"/>
                </a:lnTo>
                <a:lnTo>
                  <a:pt x="327887" y="805296"/>
                </a:lnTo>
                <a:lnTo>
                  <a:pt x="359010" y="833875"/>
                </a:lnTo>
                <a:lnTo>
                  <a:pt x="390437" y="856736"/>
                </a:lnTo>
                <a:lnTo>
                  <a:pt x="405286" y="868166"/>
                </a:lnTo>
                <a:lnTo>
                  <a:pt x="421857" y="885311"/>
                </a:lnTo>
                <a:lnTo>
                  <a:pt x="455063" y="908170"/>
                </a:lnTo>
                <a:lnTo>
                  <a:pt x="474495" y="922776"/>
                </a:lnTo>
                <a:lnTo>
                  <a:pt x="492317" y="935675"/>
                </a:lnTo>
                <a:lnTo>
                  <a:pt x="519957" y="957102"/>
                </a:lnTo>
                <a:lnTo>
                  <a:pt x="552073" y="976045"/>
                </a:lnTo>
                <a:lnTo>
                  <a:pt x="582067" y="991897"/>
                </a:lnTo>
                <a:lnTo>
                  <a:pt x="610816" y="1009235"/>
                </a:lnTo>
                <a:lnTo>
                  <a:pt x="639672" y="1022114"/>
                </a:lnTo>
                <a:lnTo>
                  <a:pt x="666998" y="1033830"/>
                </a:lnTo>
                <a:lnTo>
                  <a:pt x="696384" y="1045317"/>
                </a:lnTo>
                <a:lnTo>
                  <a:pt x="708902" y="1051992"/>
                </a:lnTo>
                <a:lnTo>
                  <a:pt x="727612" y="1065508"/>
                </a:lnTo>
                <a:lnTo>
                  <a:pt x="756512" y="1079091"/>
                </a:lnTo>
                <a:lnTo>
                  <a:pt x="786683" y="1094791"/>
                </a:lnTo>
                <a:lnTo>
                  <a:pt x="804951" y="1108352"/>
                </a:lnTo>
                <a:lnTo>
                  <a:pt x="835466" y="1124985"/>
                </a:lnTo>
                <a:lnTo>
                  <a:pt x="850626" y="1133807"/>
                </a:lnTo>
                <a:lnTo>
                  <a:pt x="861591" y="1137041"/>
                </a:lnTo>
                <a:lnTo>
                  <a:pt x="872815" y="1139431"/>
                </a:lnTo>
                <a:lnTo>
                  <a:pt x="889844" y="1145179"/>
                </a:lnTo>
                <a:lnTo>
                  <a:pt x="906002" y="1148258"/>
                </a:lnTo>
                <a:lnTo>
                  <a:pt x="918198" y="1153827"/>
                </a:lnTo>
                <a:lnTo>
                  <a:pt x="943194" y="1157467"/>
                </a:lnTo>
                <a:lnTo>
                  <a:pt x="952395" y="1162588"/>
                </a:lnTo>
                <a:lnTo>
                  <a:pt x="962362" y="1164982"/>
                </a:lnTo>
                <a:lnTo>
                  <a:pt x="981095" y="1165344"/>
                </a:lnTo>
                <a:lnTo>
                  <a:pt x="981194" y="1160795"/>
                </a:lnTo>
                <a:lnTo>
                  <a:pt x="982160" y="1159454"/>
                </a:lnTo>
                <a:lnTo>
                  <a:pt x="983757" y="1158560"/>
                </a:lnTo>
                <a:lnTo>
                  <a:pt x="988071" y="1157567"/>
                </a:lnTo>
                <a:lnTo>
                  <a:pt x="998380" y="115677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MARTPenAnnotation620"/>
          <p:cNvSpPr/>
          <p:nvPr/>
        </p:nvSpPr>
        <p:spPr>
          <a:xfrm>
            <a:off x="4237200" y="5357880"/>
            <a:ext cx="317160" cy="42840"/>
          </a:xfrm>
          <a:custGeom>
            <a:avLst/>
            <a:gdLst>
              <a:gd name="textAreaLeft" fmla="*/ 0 w 317160"/>
              <a:gd name="textAreaRight" fmla="*/ 317160 w 3171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17183" h="42864">
                <a:moveTo>
                  <a:pt x="0" y="0"/>
                </a:moveTo>
                <a:lnTo>
                  <a:pt x="0" y="4551"/>
                </a:lnTo>
                <a:lnTo>
                  <a:pt x="953" y="5892"/>
                </a:lnTo>
                <a:lnTo>
                  <a:pt x="2540" y="6785"/>
                </a:lnTo>
                <a:lnTo>
                  <a:pt x="6844" y="7778"/>
                </a:lnTo>
                <a:lnTo>
                  <a:pt x="14622" y="8337"/>
                </a:lnTo>
                <a:lnTo>
                  <a:pt x="20151" y="8468"/>
                </a:lnTo>
                <a:lnTo>
                  <a:pt x="23911" y="9455"/>
                </a:lnTo>
                <a:lnTo>
                  <a:pt x="28324" y="11066"/>
                </a:lnTo>
                <a:lnTo>
                  <a:pt x="33170" y="13093"/>
                </a:lnTo>
                <a:lnTo>
                  <a:pt x="38306" y="14444"/>
                </a:lnTo>
                <a:lnTo>
                  <a:pt x="43635" y="15344"/>
                </a:lnTo>
                <a:lnTo>
                  <a:pt x="49092" y="15944"/>
                </a:lnTo>
                <a:lnTo>
                  <a:pt x="54636" y="16345"/>
                </a:lnTo>
                <a:lnTo>
                  <a:pt x="60236" y="16611"/>
                </a:lnTo>
                <a:lnTo>
                  <a:pt x="71539" y="16908"/>
                </a:lnTo>
                <a:lnTo>
                  <a:pt x="100026" y="17114"/>
                </a:lnTo>
                <a:lnTo>
                  <a:pt x="106689" y="18077"/>
                </a:lnTo>
                <a:lnTo>
                  <a:pt x="113989" y="19671"/>
                </a:lnTo>
                <a:lnTo>
                  <a:pt x="121712" y="21687"/>
                </a:lnTo>
                <a:lnTo>
                  <a:pt x="128766" y="23030"/>
                </a:lnTo>
                <a:lnTo>
                  <a:pt x="135374" y="23926"/>
                </a:lnTo>
                <a:lnTo>
                  <a:pt x="141685" y="24523"/>
                </a:lnTo>
                <a:lnTo>
                  <a:pt x="148749" y="24921"/>
                </a:lnTo>
                <a:lnTo>
                  <a:pt x="164218" y="25364"/>
                </a:lnTo>
                <a:lnTo>
                  <a:pt x="202499" y="25687"/>
                </a:lnTo>
                <a:lnTo>
                  <a:pt x="224464" y="25708"/>
                </a:lnTo>
                <a:lnTo>
                  <a:pt x="230606" y="26664"/>
                </a:lnTo>
                <a:lnTo>
                  <a:pt x="235652" y="28254"/>
                </a:lnTo>
                <a:lnTo>
                  <a:pt x="239969" y="30266"/>
                </a:lnTo>
                <a:lnTo>
                  <a:pt x="244752" y="31607"/>
                </a:lnTo>
                <a:lnTo>
                  <a:pt x="249846" y="32502"/>
                </a:lnTo>
                <a:lnTo>
                  <a:pt x="255146" y="33098"/>
                </a:lnTo>
                <a:lnTo>
                  <a:pt x="260585" y="33495"/>
                </a:lnTo>
                <a:lnTo>
                  <a:pt x="266116" y="33760"/>
                </a:lnTo>
                <a:lnTo>
                  <a:pt x="271708" y="33937"/>
                </a:lnTo>
                <a:lnTo>
                  <a:pt x="276389" y="35008"/>
                </a:lnTo>
                <a:lnTo>
                  <a:pt x="280461" y="36673"/>
                </a:lnTo>
                <a:lnTo>
                  <a:pt x="284129" y="38736"/>
                </a:lnTo>
                <a:lnTo>
                  <a:pt x="287527" y="40112"/>
                </a:lnTo>
                <a:lnTo>
                  <a:pt x="290745" y="41029"/>
                </a:lnTo>
                <a:lnTo>
                  <a:pt x="299824" y="42320"/>
                </a:lnTo>
                <a:lnTo>
                  <a:pt x="308547" y="42702"/>
                </a:lnTo>
                <a:lnTo>
                  <a:pt x="317182" y="428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MARTPenAnnotation621"/>
          <p:cNvSpPr/>
          <p:nvPr/>
        </p:nvSpPr>
        <p:spPr>
          <a:xfrm>
            <a:off x="4264200" y="5494320"/>
            <a:ext cx="315720" cy="27000"/>
          </a:xfrm>
          <a:custGeom>
            <a:avLst/>
            <a:gdLst>
              <a:gd name="textAreaLeft" fmla="*/ 0 w 315720"/>
              <a:gd name="textAreaRight" fmla="*/ 316080 w 3157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317183" h="25688">
                <a:moveTo>
                  <a:pt x="0" y="0"/>
                </a:moveTo>
                <a:lnTo>
                  <a:pt x="0" y="7381"/>
                </a:lnTo>
                <a:lnTo>
                  <a:pt x="952" y="7778"/>
                </a:lnTo>
                <a:lnTo>
                  <a:pt x="9324" y="8416"/>
                </a:lnTo>
                <a:lnTo>
                  <a:pt x="17367" y="8526"/>
                </a:lnTo>
                <a:lnTo>
                  <a:pt x="33169" y="8563"/>
                </a:lnTo>
                <a:lnTo>
                  <a:pt x="38305" y="9519"/>
                </a:lnTo>
                <a:lnTo>
                  <a:pt x="43634" y="11109"/>
                </a:lnTo>
                <a:lnTo>
                  <a:pt x="49092" y="13121"/>
                </a:lnTo>
                <a:lnTo>
                  <a:pt x="54635" y="14463"/>
                </a:lnTo>
                <a:lnTo>
                  <a:pt x="60236" y="15357"/>
                </a:lnTo>
                <a:lnTo>
                  <a:pt x="65874" y="15953"/>
                </a:lnTo>
                <a:lnTo>
                  <a:pt x="71539" y="16350"/>
                </a:lnTo>
                <a:lnTo>
                  <a:pt x="77220" y="16615"/>
                </a:lnTo>
                <a:lnTo>
                  <a:pt x="89565" y="16910"/>
                </a:lnTo>
                <a:lnTo>
                  <a:pt x="262878" y="17145"/>
                </a:lnTo>
                <a:lnTo>
                  <a:pt x="267644" y="18098"/>
                </a:lnTo>
                <a:lnTo>
                  <a:pt x="271774" y="19685"/>
                </a:lnTo>
                <a:lnTo>
                  <a:pt x="275480" y="21696"/>
                </a:lnTo>
                <a:lnTo>
                  <a:pt x="278904" y="23036"/>
                </a:lnTo>
                <a:lnTo>
                  <a:pt x="282138" y="23930"/>
                </a:lnTo>
                <a:lnTo>
                  <a:pt x="285247" y="24526"/>
                </a:lnTo>
                <a:lnTo>
                  <a:pt x="291241" y="25188"/>
                </a:lnTo>
                <a:lnTo>
                  <a:pt x="299970" y="25561"/>
                </a:lnTo>
                <a:lnTo>
                  <a:pt x="306903" y="25687"/>
                </a:lnTo>
                <a:lnTo>
                  <a:pt x="308424" y="24744"/>
                </a:lnTo>
                <a:lnTo>
                  <a:pt x="310391" y="23164"/>
                </a:lnTo>
                <a:lnTo>
                  <a:pt x="317182" y="171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MARTPenAnnotation622"/>
          <p:cNvSpPr/>
          <p:nvPr/>
        </p:nvSpPr>
        <p:spPr>
          <a:xfrm>
            <a:off x="5035680" y="5383080"/>
            <a:ext cx="307800" cy="14400"/>
          </a:xfrm>
          <a:custGeom>
            <a:avLst/>
            <a:gdLst>
              <a:gd name="textAreaLeft" fmla="*/ 0 w 307800"/>
              <a:gd name="textAreaRight" fmla="*/ 308160 w 3078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08602" h="13507">
                <a:moveTo>
                  <a:pt x="8563" y="0"/>
                </a:moveTo>
                <a:lnTo>
                  <a:pt x="0" y="0"/>
                </a:lnTo>
                <a:lnTo>
                  <a:pt x="7373" y="0"/>
                </a:lnTo>
                <a:lnTo>
                  <a:pt x="8722" y="953"/>
                </a:lnTo>
                <a:lnTo>
                  <a:pt x="10574" y="2541"/>
                </a:lnTo>
                <a:lnTo>
                  <a:pt x="12761" y="4552"/>
                </a:lnTo>
                <a:lnTo>
                  <a:pt x="15172" y="5892"/>
                </a:lnTo>
                <a:lnTo>
                  <a:pt x="17731" y="6786"/>
                </a:lnTo>
                <a:lnTo>
                  <a:pt x="20391" y="7382"/>
                </a:lnTo>
                <a:lnTo>
                  <a:pt x="24067" y="7779"/>
                </a:lnTo>
                <a:lnTo>
                  <a:pt x="28425" y="8044"/>
                </a:lnTo>
                <a:lnTo>
                  <a:pt x="37393" y="8338"/>
                </a:lnTo>
                <a:lnTo>
                  <a:pt x="48749" y="8503"/>
                </a:lnTo>
                <a:lnTo>
                  <a:pt x="58491" y="8542"/>
                </a:lnTo>
                <a:lnTo>
                  <a:pt x="63756" y="9505"/>
                </a:lnTo>
                <a:lnTo>
                  <a:pt x="69171" y="11099"/>
                </a:lnTo>
                <a:lnTo>
                  <a:pt x="74686" y="13115"/>
                </a:lnTo>
                <a:lnTo>
                  <a:pt x="79315" y="13506"/>
                </a:lnTo>
                <a:lnTo>
                  <a:pt x="83354" y="12814"/>
                </a:lnTo>
                <a:lnTo>
                  <a:pt x="86999" y="11401"/>
                </a:lnTo>
                <a:lnTo>
                  <a:pt x="91334" y="10458"/>
                </a:lnTo>
                <a:lnTo>
                  <a:pt x="96128" y="9830"/>
                </a:lnTo>
                <a:lnTo>
                  <a:pt x="101230" y="9411"/>
                </a:lnTo>
                <a:lnTo>
                  <a:pt x="106536" y="9132"/>
                </a:lnTo>
                <a:lnTo>
                  <a:pt x="117512" y="8822"/>
                </a:lnTo>
                <a:lnTo>
                  <a:pt x="162882" y="8583"/>
                </a:lnTo>
                <a:lnTo>
                  <a:pt x="168593" y="8580"/>
                </a:lnTo>
                <a:lnTo>
                  <a:pt x="174304" y="7625"/>
                </a:lnTo>
                <a:lnTo>
                  <a:pt x="180017" y="6036"/>
                </a:lnTo>
                <a:lnTo>
                  <a:pt x="185731" y="4024"/>
                </a:lnTo>
                <a:lnTo>
                  <a:pt x="191445" y="2683"/>
                </a:lnTo>
                <a:lnTo>
                  <a:pt x="197160" y="1789"/>
                </a:lnTo>
                <a:lnTo>
                  <a:pt x="202874" y="1193"/>
                </a:lnTo>
                <a:lnTo>
                  <a:pt x="207636" y="795"/>
                </a:lnTo>
                <a:lnTo>
                  <a:pt x="211763" y="531"/>
                </a:lnTo>
                <a:lnTo>
                  <a:pt x="219842" y="236"/>
                </a:lnTo>
                <a:lnTo>
                  <a:pt x="245795" y="21"/>
                </a:lnTo>
                <a:lnTo>
                  <a:pt x="30860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MARTPenAnnotation623"/>
          <p:cNvSpPr/>
          <p:nvPr/>
        </p:nvSpPr>
        <p:spPr>
          <a:xfrm>
            <a:off x="5429160" y="5229360"/>
            <a:ext cx="25560" cy="299880"/>
          </a:xfrm>
          <a:custGeom>
            <a:avLst/>
            <a:gdLst>
              <a:gd name="textAreaLeft" fmla="*/ 0 w 25560"/>
              <a:gd name="textAreaRight" fmla="*/ 25920 w 2556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25718" h="300038">
                <a:moveTo>
                  <a:pt x="25717" y="0"/>
                </a:moveTo>
                <a:lnTo>
                  <a:pt x="25717" y="33169"/>
                </a:lnTo>
                <a:lnTo>
                  <a:pt x="24765" y="38305"/>
                </a:lnTo>
                <a:lnTo>
                  <a:pt x="23177" y="43634"/>
                </a:lnTo>
                <a:lnTo>
                  <a:pt x="21166" y="49091"/>
                </a:lnTo>
                <a:lnTo>
                  <a:pt x="19825" y="55588"/>
                </a:lnTo>
                <a:lnTo>
                  <a:pt x="18932" y="62776"/>
                </a:lnTo>
                <a:lnTo>
                  <a:pt x="18336" y="70425"/>
                </a:lnTo>
                <a:lnTo>
                  <a:pt x="17939" y="78383"/>
                </a:lnTo>
                <a:lnTo>
                  <a:pt x="17498" y="94844"/>
                </a:lnTo>
                <a:lnTo>
                  <a:pt x="16428" y="102282"/>
                </a:lnTo>
                <a:lnTo>
                  <a:pt x="14762" y="109145"/>
                </a:lnTo>
                <a:lnTo>
                  <a:pt x="5244" y="138399"/>
                </a:lnTo>
                <a:lnTo>
                  <a:pt x="3496" y="145606"/>
                </a:lnTo>
                <a:lnTo>
                  <a:pt x="2330" y="152316"/>
                </a:lnTo>
                <a:lnTo>
                  <a:pt x="1553" y="158693"/>
                </a:lnTo>
                <a:lnTo>
                  <a:pt x="1035" y="164851"/>
                </a:lnTo>
                <a:lnTo>
                  <a:pt x="690" y="170860"/>
                </a:lnTo>
                <a:lnTo>
                  <a:pt x="306" y="182618"/>
                </a:lnTo>
                <a:lnTo>
                  <a:pt x="40" y="211420"/>
                </a:lnTo>
                <a:lnTo>
                  <a:pt x="0" y="295542"/>
                </a:lnTo>
                <a:lnTo>
                  <a:pt x="952" y="297040"/>
                </a:lnTo>
                <a:lnTo>
                  <a:pt x="2540" y="298039"/>
                </a:lnTo>
                <a:lnTo>
                  <a:pt x="8572" y="30003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MARTPenAnnotation624"/>
          <p:cNvSpPr/>
          <p:nvPr/>
        </p:nvSpPr>
        <p:spPr>
          <a:xfrm>
            <a:off x="5592600" y="5221440"/>
            <a:ext cx="239760" cy="272880"/>
          </a:xfrm>
          <a:custGeom>
            <a:avLst/>
            <a:gdLst>
              <a:gd name="textAreaLeft" fmla="*/ 0 w 239760"/>
              <a:gd name="textAreaRight" fmla="*/ 240120 w 2397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239870" h="274273">
                <a:moveTo>
                  <a:pt x="68462" y="8538"/>
                </a:moveTo>
                <a:lnTo>
                  <a:pt x="56530" y="20469"/>
                </a:lnTo>
                <a:lnTo>
                  <a:pt x="54793" y="24112"/>
                </a:lnTo>
                <a:lnTo>
                  <a:pt x="53634" y="28446"/>
                </a:lnTo>
                <a:lnTo>
                  <a:pt x="52861" y="33239"/>
                </a:lnTo>
                <a:lnTo>
                  <a:pt x="49464" y="41106"/>
                </a:lnTo>
                <a:lnTo>
                  <a:pt x="44778" y="48730"/>
                </a:lnTo>
                <a:lnTo>
                  <a:pt x="42195" y="53430"/>
                </a:lnTo>
                <a:lnTo>
                  <a:pt x="36785" y="63733"/>
                </a:lnTo>
                <a:lnTo>
                  <a:pt x="14160" y="108585"/>
                </a:lnTo>
                <a:lnTo>
                  <a:pt x="12258" y="114288"/>
                </a:lnTo>
                <a:lnTo>
                  <a:pt x="10990" y="119996"/>
                </a:lnTo>
                <a:lnTo>
                  <a:pt x="10145" y="125706"/>
                </a:lnTo>
                <a:lnTo>
                  <a:pt x="8629" y="131417"/>
                </a:lnTo>
                <a:lnTo>
                  <a:pt x="6666" y="137130"/>
                </a:lnTo>
                <a:lnTo>
                  <a:pt x="4405" y="142843"/>
                </a:lnTo>
                <a:lnTo>
                  <a:pt x="2897" y="148557"/>
                </a:lnTo>
                <a:lnTo>
                  <a:pt x="1892" y="154272"/>
                </a:lnTo>
                <a:lnTo>
                  <a:pt x="1222" y="159986"/>
                </a:lnTo>
                <a:lnTo>
                  <a:pt x="776" y="165701"/>
                </a:lnTo>
                <a:lnTo>
                  <a:pt x="477" y="171416"/>
                </a:lnTo>
                <a:lnTo>
                  <a:pt x="147" y="182845"/>
                </a:lnTo>
                <a:lnTo>
                  <a:pt x="0" y="194275"/>
                </a:lnTo>
                <a:lnTo>
                  <a:pt x="913" y="199990"/>
                </a:lnTo>
                <a:lnTo>
                  <a:pt x="2475" y="205705"/>
                </a:lnTo>
                <a:lnTo>
                  <a:pt x="4468" y="211420"/>
                </a:lnTo>
                <a:lnTo>
                  <a:pt x="5797" y="217135"/>
                </a:lnTo>
                <a:lnTo>
                  <a:pt x="6683" y="222850"/>
                </a:lnTo>
                <a:lnTo>
                  <a:pt x="7273" y="228565"/>
                </a:lnTo>
                <a:lnTo>
                  <a:pt x="8619" y="233328"/>
                </a:lnTo>
                <a:lnTo>
                  <a:pt x="12655" y="241159"/>
                </a:lnTo>
                <a:lnTo>
                  <a:pt x="15084" y="247815"/>
                </a:lnTo>
                <a:lnTo>
                  <a:pt x="15732" y="250923"/>
                </a:lnTo>
                <a:lnTo>
                  <a:pt x="18992" y="256917"/>
                </a:lnTo>
                <a:lnTo>
                  <a:pt x="21194" y="259849"/>
                </a:lnTo>
                <a:lnTo>
                  <a:pt x="24568" y="262756"/>
                </a:lnTo>
                <a:lnTo>
                  <a:pt x="28721" y="265647"/>
                </a:lnTo>
                <a:lnTo>
                  <a:pt x="33396" y="268526"/>
                </a:lnTo>
                <a:lnTo>
                  <a:pt x="37465" y="270446"/>
                </a:lnTo>
                <a:lnTo>
                  <a:pt x="44526" y="272579"/>
                </a:lnTo>
                <a:lnTo>
                  <a:pt x="50839" y="273527"/>
                </a:lnTo>
                <a:lnTo>
                  <a:pt x="56819" y="273948"/>
                </a:lnTo>
                <a:lnTo>
                  <a:pt x="62653" y="274136"/>
                </a:lnTo>
                <a:lnTo>
                  <a:pt x="91816" y="274272"/>
                </a:lnTo>
                <a:lnTo>
                  <a:pt x="97366" y="273324"/>
                </a:lnTo>
                <a:lnTo>
                  <a:pt x="102971" y="271740"/>
                </a:lnTo>
                <a:lnTo>
                  <a:pt x="108613" y="269730"/>
                </a:lnTo>
                <a:lnTo>
                  <a:pt x="114280" y="267439"/>
                </a:lnTo>
                <a:lnTo>
                  <a:pt x="119962" y="264958"/>
                </a:lnTo>
                <a:lnTo>
                  <a:pt x="125655" y="262353"/>
                </a:lnTo>
                <a:lnTo>
                  <a:pt x="130403" y="259662"/>
                </a:lnTo>
                <a:lnTo>
                  <a:pt x="134522" y="256917"/>
                </a:lnTo>
                <a:lnTo>
                  <a:pt x="138219" y="254134"/>
                </a:lnTo>
                <a:lnTo>
                  <a:pt x="142589" y="251325"/>
                </a:lnTo>
                <a:lnTo>
                  <a:pt x="147408" y="248501"/>
                </a:lnTo>
                <a:lnTo>
                  <a:pt x="152525" y="245666"/>
                </a:lnTo>
                <a:lnTo>
                  <a:pt x="157842" y="241871"/>
                </a:lnTo>
                <a:lnTo>
                  <a:pt x="163291" y="237436"/>
                </a:lnTo>
                <a:lnTo>
                  <a:pt x="173473" y="228380"/>
                </a:lnTo>
                <a:lnTo>
                  <a:pt x="181174" y="221180"/>
                </a:lnTo>
                <a:lnTo>
                  <a:pt x="211700" y="191020"/>
                </a:lnTo>
                <a:lnTo>
                  <a:pt x="215388" y="185438"/>
                </a:lnTo>
                <a:lnTo>
                  <a:pt x="217848" y="179811"/>
                </a:lnTo>
                <a:lnTo>
                  <a:pt x="219488" y="174155"/>
                </a:lnTo>
                <a:lnTo>
                  <a:pt x="221533" y="168479"/>
                </a:lnTo>
                <a:lnTo>
                  <a:pt x="223849" y="162790"/>
                </a:lnTo>
                <a:lnTo>
                  <a:pt x="226346" y="157092"/>
                </a:lnTo>
                <a:lnTo>
                  <a:pt x="231660" y="145682"/>
                </a:lnTo>
                <a:lnTo>
                  <a:pt x="234411" y="139973"/>
                </a:lnTo>
                <a:lnTo>
                  <a:pt x="236245" y="134261"/>
                </a:lnTo>
                <a:lnTo>
                  <a:pt x="237467" y="128548"/>
                </a:lnTo>
                <a:lnTo>
                  <a:pt x="238282" y="122834"/>
                </a:lnTo>
                <a:lnTo>
                  <a:pt x="238825" y="118073"/>
                </a:lnTo>
                <a:lnTo>
                  <a:pt x="239429" y="110243"/>
                </a:lnTo>
                <a:lnTo>
                  <a:pt x="239590" y="105868"/>
                </a:lnTo>
                <a:lnTo>
                  <a:pt x="239849" y="87700"/>
                </a:lnTo>
                <a:lnTo>
                  <a:pt x="239869" y="84173"/>
                </a:lnTo>
                <a:lnTo>
                  <a:pt x="238932" y="79916"/>
                </a:lnTo>
                <a:lnTo>
                  <a:pt x="237353" y="75173"/>
                </a:lnTo>
                <a:lnTo>
                  <a:pt x="235348" y="70106"/>
                </a:lnTo>
                <a:lnTo>
                  <a:pt x="230581" y="61937"/>
                </a:lnTo>
                <a:lnTo>
                  <a:pt x="225287" y="55131"/>
                </a:lnTo>
                <a:lnTo>
                  <a:pt x="219760" y="48930"/>
                </a:lnTo>
                <a:lnTo>
                  <a:pt x="214128" y="40460"/>
                </a:lnTo>
                <a:lnTo>
                  <a:pt x="211293" y="35534"/>
                </a:lnTo>
                <a:lnTo>
                  <a:pt x="207497" y="32250"/>
                </a:lnTo>
                <a:lnTo>
                  <a:pt x="203062" y="30061"/>
                </a:lnTo>
                <a:lnTo>
                  <a:pt x="198201" y="28602"/>
                </a:lnTo>
                <a:lnTo>
                  <a:pt x="194007" y="26676"/>
                </a:lnTo>
                <a:lnTo>
                  <a:pt x="182601" y="19416"/>
                </a:lnTo>
                <a:lnTo>
                  <a:pt x="177893" y="16742"/>
                </a:lnTo>
                <a:lnTo>
                  <a:pt x="172848" y="14007"/>
                </a:lnTo>
                <a:lnTo>
                  <a:pt x="167580" y="12184"/>
                </a:lnTo>
                <a:lnTo>
                  <a:pt x="162164" y="10968"/>
                </a:lnTo>
                <a:lnTo>
                  <a:pt x="156647" y="10159"/>
                </a:lnTo>
                <a:lnTo>
                  <a:pt x="152017" y="8666"/>
                </a:lnTo>
                <a:lnTo>
                  <a:pt x="147978" y="6718"/>
                </a:lnTo>
                <a:lnTo>
                  <a:pt x="144333" y="4467"/>
                </a:lnTo>
                <a:lnTo>
                  <a:pt x="139045" y="2966"/>
                </a:lnTo>
                <a:lnTo>
                  <a:pt x="132662" y="1966"/>
                </a:lnTo>
                <a:lnTo>
                  <a:pt x="125550" y="1299"/>
                </a:lnTo>
                <a:lnTo>
                  <a:pt x="118903" y="855"/>
                </a:lnTo>
                <a:lnTo>
                  <a:pt x="112567" y="558"/>
                </a:lnTo>
                <a:lnTo>
                  <a:pt x="97087" y="141"/>
                </a:lnTo>
                <a:lnTo>
                  <a:pt x="78773" y="0"/>
                </a:lnTo>
                <a:lnTo>
                  <a:pt x="75336" y="941"/>
                </a:lnTo>
                <a:lnTo>
                  <a:pt x="73045" y="2520"/>
                </a:lnTo>
                <a:lnTo>
                  <a:pt x="71518" y="4527"/>
                </a:lnTo>
                <a:lnTo>
                  <a:pt x="69547" y="5863"/>
                </a:lnTo>
                <a:lnTo>
                  <a:pt x="64816" y="7349"/>
                </a:lnTo>
                <a:lnTo>
                  <a:pt x="63174" y="8698"/>
                </a:lnTo>
                <a:lnTo>
                  <a:pt x="62079" y="10549"/>
                </a:lnTo>
                <a:lnTo>
                  <a:pt x="59889" y="1711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MARTPenAnnotation625"/>
          <p:cNvSpPr/>
          <p:nvPr/>
        </p:nvSpPr>
        <p:spPr>
          <a:xfrm>
            <a:off x="6054840" y="5221440"/>
            <a:ext cx="360360" cy="50760"/>
          </a:xfrm>
          <a:custGeom>
            <a:avLst/>
            <a:gdLst>
              <a:gd name="textAreaLeft" fmla="*/ 0 w 360360"/>
              <a:gd name="textAreaRight" fmla="*/ 360720 w 3603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60046" h="51436">
                <a:moveTo>
                  <a:pt x="0" y="51435"/>
                </a:moveTo>
                <a:lnTo>
                  <a:pt x="7381" y="51435"/>
                </a:lnTo>
                <a:lnTo>
                  <a:pt x="8730" y="50483"/>
                </a:lnTo>
                <a:lnTo>
                  <a:pt x="10583" y="48895"/>
                </a:lnTo>
                <a:lnTo>
                  <a:pt x="12770" y="46885"/>
                </a:lnTo>
                <a:lnTo>
                  <a:pt x="16133" y="45543"/>
                </a:lnTo>
                <a:lnTo>
                  <a:pt x="24950" y="44054"/>
                </a:lnTo>
                <a:lnTo>
                  <a:pt x="29016" y="42705"/>
                </a:lnTo>
                <a:lnTo>
                  <a:pt x="32679" y="40852"/>
                </a:lnTo>
                <a:lnTo>
                  <a:pt x="36074" y="38665"/>
                </a:lnTo>
                <a:lnTo>
                  <a:pt x="40242" y="37206"/>
                </a:lnTo>
                <a:lnTo>
                  <a:pt x="44925" y="36234"/>
                </a:lnTo>
                <a:lnTo>
                  <a:pt x="49953" y="35587"/>
                </a:lnTo>
                <a:lnTo>
                  <a:pt x="55209" y="34202"/>
                </a:lnTo>
                <a:lnTo>
                  <a:pt x="60619" y="32326"/>
                </a:lnTo>
                <a:lnTo>
                  <a:pt x="66130" y="30124"/>
                </a:lnTo>
                <a:lnTo>
                  <a:pt x="79874" y="25136"/>
                </a:lnTo>
                <a:lnTo>
                  <a:pt x="111980" y="14173"/>
                </a:lnTo>
                <a:lnTo>
                  <a:pt x="120374" y="12306"/>
                </a:lnTo>
                <a:lnTo>
                  <a:pt x="128827" y="11061"/>
                </a:lnTo>
                <a:lnTo>
                  <a:pt x="137319" y="10232"/>
                </a:lnTo>
                <a:lnTo>
                  <a:pt x="145839" y="8726"/>
                </a:lnTo>
                <a:lnTo>
                  <a:pt x="154376" y="6770"/>
                </a:lnTo>
                <a:lnTo>
                  <a:pt x="162924" y="4513"/>
                </a:lnTo>
                <a:lnTo>
                  <a:pt x="171481" y="3009"/>
                </a:lnTo>
                <a:lnTo>
                  <a:pt x="180044" y="2006"/>
                </a:lnTo>
                <a:lnTo>
                  <a:pt x="188609" y="1337"/>
                </a:lnTo>
                <a:lnTo>
                  <a:pt x="197177" y="892"/>
                </a:lnTo>
                <a:lnTo>
                  <a:pt x="214317" y="396"/>
                </a:lnTo>
                <a:lnTo>
                  <a:pt x="250390" y="52"/>
                </a:lnTo>
                <a:lnTo>
                  <a:pt x="36004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SMARTPenAnnotation626"/>
          <p:cNvSpPr/>
          <p:nvPr/>
        </p:nvSpPr>
        <p:spPr>
          <a:xfrm>
            <a:off x="6218280" y="5108400"/>
            <a:ext cx="85680" cy="274680"/>
          </a:xfrm>
          <a:custGeom>
            <a:avLst/>
            <a:gdLst>
              <a:gd name="textAreaLeft" fmla="*/ 0 w 85680"/>
              <a:gd name="textAreaRight" fmla="*/ 86040 w 85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85361" h="274290">
                <a:moveTo>
                  <a:pt x="16783" y="8542"/>
                </a:moveTo>
                <a:lnTo>
                  <a:pt x="8563" y="323"/>
                </a:lnTo>
                <a:lnTo>
                  <a:pt x="7493" y="205"/>
                </a:lnTo>
                <a:lnTo>
                  <a:pt x="5827" y="127"/>
                </a:lnTo>
                <a:lnTo>
                  <a:pt x="860" y="0"/>
                </a:lnTo>
                <a:lnTo>
                  <a:pt x="453" y="943"/>
                </a:lnTo>
                <a:lnTo>
                  <a:pt x="0" y="4530"/>
                </a:lnTo>
                <a:lnTo>
                  <a:pt x="832" y="6820"/>
                </a:lnTo>
                <a:lnTo>
                  <a:pt x="2339" y="9299"/>
                </a:lnTo>
                <a:lnTo>
                  <a:pt x="4296" y="11904"/>
                </a:lnTo>
                <a:lnTo>
                  <a:pt x="6470" y="17339"/>
                </a:lnTo>
                <a:lnTo>
                  <a:pt x="7051" y="20122"/>
                </a:lnTo>
                <a:lnTo>
                  <a:pt x="8389" y="21977"/>
                </a:lnTo>
                <a:lnTo>
                  <a:pt x="10235" y="23214"/>
                </a:lnTo>
                <a:lnTo>
                  <a:pt x="12417" y="24038"/>
                </a:lnTo>
                <a:lnTo>
                  <a:pt x="14825" y="25541"/>
                </a:lnTo>
                <a:lnTo>
                  <a:pt x="17383" y="27494"/>
                </a:lnTo>
                <a:lnTo>
                  <a:pt x="20040" y="29749"/>
                </a:lnTo>
                <a:lnTo>
                  <a:pt x="21812" y="33158"/>
                </a:lnTo>
                <a:lnTo>
                  <a:pt x="22993" y="37335"/>
                </a:lnTo>
                <a:lnTo>
                  <a:pt x="23780" y="42025"/>
                </a:lnTo>
                <a:lnTo>
                  <a:pt x="25258" y="46105"/>
                </a:lnTo>
                <a:lnTo>
                  <a:pt x="27195" y="49776"/>
                </a:lnTo>
                <a:lnTo>
                  <a:pt x="29439" y="53176"/>
                </a:lnTo>
                <a:lnTo>
                  <a:pt x="31888" y="57348"/>
                </a:lnTo>
                <a:lnTo>
                  <a:pt x="34473" y="62035"/>
                </a:lnTo>
                <a:lnTo>
                  <a:pt x="39885" y="72322"/>
                </a:lnTo>
                <a:lnTo>
                  <a:pt x="62512" y="117163"/>
                </a:lnTo>
                <a:lnTo>
                  <a:pt x="64414" y="122866"/>
                </a:lnTo>
                <a:lnTo>
                  <a:pt x="65682" y="128573"/>
                </a:lnTo>
                <a:lnTo>
                  <a:pt x="66527" y="134283"/>
                </a:lnTo>
                <a:lnTo>
                  <a:pt x="68043" y="139994"/>
                </a:lnTo>
                <a:lnTo>
                  <a:pt x="70007" y="145707"/>
                </a:lnTo>
                <a:lnTo>
                  <a:pt x="72268" y="151421"/>
                </a:lnTo>
                <a:lnTo>
                  <a:pt x="73775" y="157134"/>
                </a:lnTo>
                <a:lnTo>
                  <a:pt x="74780" y="162849"/>
                </a:lnTo>
                <a:lnTo>
                  <a:pt x="75450" y="168563"/>
                </a:lnTo>
                <a:lnTo>
                  <a:pt x="76849" y="174278"/>
                </a:lnTo>
                <a:lnTo>
                  <a:pt x="78734" y="179992"/>
                </a:lnTo>
                <a:lnTo>
                  <a:pt x="80944" y="185707"/>
                </a:lnTo>
                <a:lnTo>
                  <a:pt x="82417" y="191422"/>
                </a:lnTo>
                <a:lnTo>
                  <a:pt x="83399" y="197137"/>
                </a:lnTo>
                <a:lnTo>
                  <a:pt x="84053" y="202852"/>
                </a:lnTo>
                <a:lnTo>
                  <a:pt x="84490" y="208567"/>
                </a:lnTo>
                <a:lnTo>
                  <a:pt x="84781" y="214282"/>
                </a:lnTo>
                <a:lnTo>
                  <a:pt x="85104" y="225712"/>
                </a:lnTo>
                <a:lnTo>
                  <a:pt x="85356" y="262525"/>
                </a:lnTo>
                <a:lnTo>
                  <a:pt x="85360" y="268426"/>
                </a:lnTo>
                <a:lnTo>
                  <a:pt x="84408" y="270381"/>
                </a:lnTo>
                <a:lnTo>
                  <a:pt x="82821" y="271683"/>
                </a:lnTo>
                <a:lnTo>
                  <a:pt x="76790" y="2742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MARTPenAnnotation627"/>
          <p:cNvSpPr/>
          <p:nvPr/>
        </p:nvSpPr>
        <p:spPr>
          <a:xfrm>
            <a:off x="6072120" y="5408640"/>
            <a:ext cx="385920" cy="17280"/>
          </a:xfrm>
          <a:custGeom>
            <a:avLst/>
            <a:gdLst>
              <a:gd name="textAreaLeft" fmla="*/ 0 w 385920"/>
              <a:gd name="textAreaRight" fmla="*/ 386280 w 3859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85733" h="17136">
                <a:moveTo>
                  <a:pt x="8541" y="8563"/>
                </a:moveTo>
                <a:lnTo>
                  <a:pt x="74" y="8563"/>
                </a:lnTo>
                <a:lnTo>
                  <a:pt x="39" y="9515"/>
                </a:lnTo>
                <a:lnTo>
                  <a:pt x="0" y="13113"/>
                </a:lnTo>
                <a:lnTo>
                  <a:pt x="942" y="14454"/>
                </a:lnTo>
                <a:lnTo>
                  <a:pt x="2523" y="15348"/>
                </a:lnTo>
                <a:lnTo>
                  <a:pt x="7353" y="16782"/>
                </a:lnTo>
                <a:lnTo>
                  <a:pt x="16103" y="17066"/>
                </a:lnTo>
                <a:lnTo>
                  <a:pt x="132986" y="17135"/>
                </a:lnTo>
                <a:lnTo>
                  <a:pt x="139130" y="16183"/>
                </a:lnTo>
                <a:lnTo>
                  <a:pt x="145130" y="14596"/>
                </a:lnTo>
                <a:lnTo>
                  <a:pt x="151036" y="12584"/>
                </a:lnTo>
                <a:lnTo>
                  <a:pt x="157830" y="11243"/>
                </a:lnTo>
                <a:lnTo>
                  <a:pt x="165217" y="10350"/>
                </a:lnTo>
                <a:lnTo>
                  <a:pt x="173000" y="9754"/>
                </a:lnTo>
                <a:lnTo>
                  <a:pt x="181045" y="9357"/>
                </a:lnTo>
                <a:lnTo>
                  <a:pt x="197605" y="8916"/>
                </a:lnTo>
                <a:lnTo>
                  <a:pt x="205069" y="7846"/>
                </a:lnTo>
                <a:lnTo>
                  <a:pt x="211950" y="6180"/>
                </a:lnTo>
                <a:lnTo>
                  <a:pt x="218442" y="4116"/>
                </a:lnTo>
                <a:lnTo>
                  <a:pt x="224675" y="2741"/>
                </a:lnTo>
                <a:lnTo>
                  <a:pt x="230736" y="1824"/>
                </a:lnTo>
                <a:lnTo>
                  <a:pt x="236681" y="1213"/>
                </a:lnTo>
                <a:lnTo>
                  <a:pt x="242549" y="805"/>
                </a:lnTo>
                <a:lnTo>
                  <a:pt x="254150" y="352"/>
                </a:lnTo>
                <a:lnTo>
                  <a:pt x="271392" y="97"/>
                </a:lnTo>
                <a:lnTo>
                  <a:pt x="305718" y="0"/>
                </a:lnTo>
                <a:lnTo>
                  <a:pt x="310482" y="949"/>
                </a:lnTo>
                <a:lnTo>
                  <a:pt x="314610" y="2535"/>
                </a:lnTo>
                <a:lnTo>
                  <a:pt x="318315" y="4544"/>
                </a:lnTo>
                <a:lnTo>
                  <a:pt x="322690" y="5884"/>
                </a:lnTo>
                <a:lnTo>
                  <a:pt x="327511" y="6777"/>
                </a:lnTo>
                <a:lnTo>
                  <a:pt x="332630" y="7372"/>
                </a:lnTo>
                <a:lnTo>
                  <a:pt x="336996" y="7769"/>
                </a:lnTo>
                <a:lnTo>
                  <a:pt x="344386" y="8210"/>
                </a:lnTo>
                <a:lnTo>
                  <a:pt x="353902" y="8458"/>
                </a:lnTo>
                <a:lnTo>
                  <a:pt x="385732" y="85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MARTPenAnnotation628"/>
          <p:cNvSpPr/>
          <p:nvPr/>
        </p:nvSpPr>
        <p:spPr>
          <a:xfrm>
            <a:off x="6629400" y="5135400"/>
            <a:ext cx="299880" cy="136800"/>
          </a:xfrm>
          <a:custGeom>
            <a:avLst/>
            <a:gdLst>
              <a:gd name="textAreaLeft" fmla="*/ 0 w 299880"/>
              <a:gd name="textAreaRight" fmla="*/ 300240 w 299880"/>
              <a:gd name="textAreaTop" fmla="*/ 0 h 136800"/>
              <a:gd name="textAreaBottom" fmla="*/ 137160 h 136800"/>
            </a:gdLst>
            <a:ahLst/>
            <a:rect l="textAreaLeft" t="textAreaTop" r="textAreaRight" b="textAreaBottom"/>
            <a:pathLst>
              <a:path w="300035" h="137129">
                <a:moveTo>
                  <a:pt x="34287" y="0"/>
                </a:moveTo>
                <a:lnTo>
                  <a:pt x="25717" y="0"/>
                </a:lnTo>
                <a:lnTo>
                  <a:pt x="25714" y="41734"/>
                </a:lnTo>
                <a:lnTo>
                  <a:pt x="24762" y="45920"/>
                </a:lnTo>
                <a:lnTo>
                  <a:pt x="23174" y="49663"/>
                </a:lnTo>
                <a:lnTo>
                  <a:pt x="21163" y="53112"/>
                </a:lnTo>
                <a:lnTo>
                  <a:pt x="19822" y="56363"/>
                </a:lnTo>
                <a:lnTo>
                  <a:pt x="18929" y="59483"/>
                </a:lnTo>
                <a:lnTo>
                  <a:pt x="18333" y="62515"/>
                </a:lnTo>
                <a:lnTo>
                  <a:pt x="17936" y="65490"/>
                </a:lnTo>
                <a:lnTo>
                  <a:pt x="17671" y="68425"/>
                </a:lnTo>
                <a:lnTo>
                  <a:pt x="17495" y="71334"/>
                </a:lnTo>
                <a:lnTo>
                  <a:pt x="16425" y="74226"/>
                </a:lnTo>
                <a:lnTo>
                  <a:pt x="14758" y="77107"/>
                </a:lnTo>
                <a:lnTo>
                  <a:pt x="12695" y="79979"/>
                </a:lnTo>
                <a:lnTo>
                  <a:pt x="11320" y="82847"/>
                </a:lnTo>
                <a:lnTo>
                  <a:pt x="10403" y="85712"/>
                </a:lnTo>
                <a:lnTo>
                  <a:pt x="9792" y="88573"/>
                </a:lnTo>
                <a:lnTo>
                  <a:pt x="8432" y="91434"/>
                </a:lnTo>
                <a:lnTo>
                  <a:pt x="6572" y="94294"/>
                </a:lnTo>
                <a:lnTo>
                  <a:pt x="4381" y="97152"/>
                </a:lnTo>
                <a:lnTo>
                  <a:pt x="2920" y="100011"/>
                </a:lnTo>
                <a:lnTo>
                  <a:pt x="1945" y="102869"/>
                </a:lnTo>
                <a:lnTo>
                  <a:pt x="1295" y="105727"/>
                </a:lnTo>
                <a:lnTo>
                  <a:pt x="862" y="108585"/>
                </a:lnTo>
                <a:lnTo>
                  <a:pt x="574" y="111442"/>
                </a:lnTo>
                <a:lnTo>
                  <a:pt x="110" y="118321"/>
                </a:lnTo>
                <a:lnTo>
                  <a:pt x="47" y="121802"/>
                </a:lnTo>
                <a:lnTo>
                  <a:pt x="0" y="128190"/>
                </a:lnTo>
                <a:lnTo>
                  <a:pt x="2537" y="130951"/>
                </a:lnTo>
                <a:lnTo>
                  <a:pt x="4548" y="133021"/>
                </a:lnTo>
                <a:lnTo>
                  <a:pt x="6841" y="134400"/>
                </a:lnTo>
                <a:lnTo>
                  <a:pt x="15597" y="136797"/>
                </a:lnTo>
                <a:lnTo>
                  <a:pt x="23680" y="137088"/>
                </a:lnTo>
                <a:lnTo>
                  <a:pt x="28937" y="137128"/>
                </a:lnTo>
                <a:lnTo>
                  <a:pt x="31673" y="136186"/>
                </a:lnTo>
                <a:lnTo>
                  <a:pt x="37252" y="132600"/>
                </a:lnTo>
                <a:lnTo>
                  <a:pt x="45447" y="130371"/>
                </a:lnTo>
                <a:lnTo>
                  <a:pt x="50300" y="129776"/>
                </a:lnTo>
                <a:lnTo>
                  <a:pt x="55440" y="128428"/>
                </a:lnTo>
                <a:lnTo>
                  <a:pt x="60771" y="126576"/>
                </a:lnTo>
                <a:lnTo>
                  <a:pt x="66230" y="124389"/>
                </a:lnTo>
                <a:lnTo>
                  <a:pt x="71775" y="122931"/>
                </a:lnTo>
                <a:lnTo>
                  <a:pt x="77376" y="121959"/>
                </a:lnTo>
                <a:lnTo>
                  <a:pt x="83016" y="121311"/>
                </a:lnTo>
                <a:lnTo>
                  <a:pt x="88680" y="119927"/>
                </a:lnTo>
                <a:lnTo>
                  <a:pt x="94361" y="118051"/>
                </a:lnTo>
                <a:lnTo>
                  <a:pt x="100054" y="115848"/>
                </a:lnTo>
                <a:lnTo>
                  <a:pt x="105754" y="113427"/>
                </a:lnTo>
                <a:lnTo>
                  <a:pt x="117168" y="108197"/>
                </a:lnTo>
                <a:lnTo>
                  <a:pt x="122877" y="106422"/>
                </a:lnTo>
                <a:lnTo>
                  <a:pt x="128590" y="105238"/>
                </a:lnTo>
                <a:lnTo>
                  <a:pt x="134303" y="104449"/>
                </a:lnTo>
                <a:lnTo>
                  <a:pt x="140017" y="102970"/>
                </a:lnTo>
                <a:lnTo>
                  <a:pt x="145731" y="101032"/>
                </a:lnTo>
                <a:lnTo>
                  <a:pt x="151445" y="98787"/>
                </a:lnTo>
                <a:lnTo>
                  <a:pt x="157160" y="97290"/>
                </a:lnTo>
                <a:lnTo>
                  <a:pt x="162874" y="96293"/>
                </a:lnTo>
                <a:lnTo>
                  <a:pt x="168589" y="95628"/>
                </a:lnTo>
                <a:lnTo>
                  <a:pt x="174304" y="95184"/>
                </a:lnTo>
                <a:lnTo>
                  <a:pt x="180019" y="94889"/>
                </a:lnTo>
                <a:lnTo>
                  <a:pt x="191449" y="94560"/>
                </a:lnTo>
                <a:lnTo>
                  <a:pt x="224669" y="94313"/>
                </a:lnTo>
                <a:lnTo>
                  <a:pt x="241544" y="94301"/>
                </a:lnTo>
                <a:lnTo>
                  <a:pt x="244848" y="95252"/>
                </a:lnTo>
                <a:lnTo>
                  <a:pt x="251059" y="98849"/>
                </a:lnTo>
                <a:lnTo>
                  <a:pt x="256996" y="101083"/>
                </a:lnTo>
                <a:lnTo>
                  <a:pt x="259912" y="101679"/>
                </a:lnTo>
                <a:lnTo>
                  <a:pt x="265692" y="104881"/>
                </a:lnTo>
                <a:lnTo>
                  <a:pt x="268567" y="107068"/>
                </a:lnTo>
                <a:lnTo>
                  <a:pt x="274301" y="109498"/>
                </a:lnTo>
                <a:lnTo>
                  <a:pt x="280977" y="110579"/>
                </a:lnTo>
                <a:lnTo>
                  <a:pt x="290295" y="111058"/>
                </a:lnTo>
                <a:lnTo>
                  <a:pt x="300034" y="11144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SMARTPenAnnotation629"/>
          <p:cNvSpPr/>
          <p:nvPr/>
        </p:nvSpPr>
        <p:spPr>
          <a:xfrm>
            <a:off x="6783480" y="5083200"/>
            <a:ext cx="68040" cy="368280"/>
          </a:xfrm>
          <a:custGeom>
            <a:avLst/>
            <a:gdLst>
              <a:gd name="textAreaLeft" fmla="*/ 0 w 68040"/>
              <a:gd name="textAreaRight" fmla="*/ 68400 w 6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68580" h="368619">
                <a:moveTo>
                  <a:pt x="68579" y="0"/>
                </a:moveTo>
                <a:lnTo>
                  <a:pt x="60360" y="0"/>
                </a:lnTo>
                <a:lnTo>
                  <a:pt x="59290" y="953"/>
                </a:lnTo>
                <a:lnTo>
                  <a:pt x="55561" y="4551"/>
                </a:lnTo>
                <a:lnTo>
                  <a:pt x="54186" y="7797"/>
                </a:lnTo>
                <a:lnTo>
                  <a:pt x="52657" y="16483"/>
                </a:lnTo>
                <a:lnTo>
                  <a:pt x="51297" y="21466"/>
                </a:lnTo>
                <a:lnTo>
                  <a:pt x="49438" y="26693"/>
                </a:lnTo>
                <a:lnTo>
                  <a:pt x="47246" y="32083"/>
                </a:lnTo>
                <a:lnTo>
                  <a:pt x="44832" y="37581"/>
                </a:lnTo>
                <a:lnTo>
                  <a:pt x="39610" y="48770"/>
                </a:lnTo>
                <a:lnTo>
                  <a:pt x="37836" y="54421"/>
                </a:lnTo>
                <a:lnTo>
                  <a:pt x="35866" y="65780"/>
                </a:lnTo>
                <a:lnTo>
                  <a:pt x="34388" y="71476"/>
                </a:lnTo>
                <a:lnTo>
                  <a:pt x="32451" y="77178"/>
                </a:lnTo>
                <a:lnTo>
                  <a:pt x="30206" y="82884"/>
                </a:lnTo>
                <a:lnTo>
                  <a:pt x="25173" y="96845"/>
                </a:lnTo>
                <a:lnTo>
                  <a:pt x="22496" y="104568"/>
                </a:lnTo>
                <a:lnTo>
                  <a:pt x="20712" y="111623"/>
                </a:lnTo>
                <a:lnTo>
                  <a:pt x="19523" y="118230"/>
                </a:lnTo>
                <a:lnTo>
                  <a:pt x="18730" y="124540"/>
                </a:lnTo>
                <a:lnTo>
                  <a:pt x="18202" y="131605"/>
                </a:lnTo>
                <a:lnTo>
                  <a:pt x="17849" y="139171"/>
                </a:lnTo>
                <a:lnTo>
                  <a:pt x="17614" y="147073"/>
                </a:lnTo>
                <a:lnTo>
                  <a:pt x="16505" y="155199"/>
                </a:lnTo>
                <a:lnTo>
                  <a:pt x="14814" y="163474"/>
                </a:lnTo>
                <a:lnTo>
                  <a:pt x="12733" y="171847"/>
                </a:lnTo>
                <a:lnTo>
                  <a:pt x="11346" y="179335"/>
                </a:lnTo>
                <a:lnTo>
                  <a:pt x="10422" y="186232"/>
                </a:lnTo>
                <a:lnTo>
                  <a:pt x="9805" y="192734"/>
                </a:lnTo>
                <a:lnTo>
                  <a:pt x="9394" y="198975"/>
                </a:lnTo>
                <a:lnTo>
                  <a:pt x="9120" y="205040"/>
                </a:lnTo>
                <a:lnTo>
                  <a:pt x="8816" y="217811"/>
                </a:lnTo>
                <a:lnTo>
                  <a:pt x="8572" y="310118"/>
                </a:lnTo>
                <a:lnTo>
                  <a:pt x="7620" y="313425"/>
                </a:lnTo>
                <a:lnTo>
                  <a:pt x="6032" y="316583"/>
                </a:lnTo>
                <a:lnTo>
                  <a:pt x="4021" y="319640"/>
                </a:lnTo>
                <a:lnTo>
                  <a:pt x="3633" y="322631"/>
                </a:lnTo>
                <a:lnTo>
                  <a:pt x="4327" y="325577"/>
                </a:lnTo>
                <a:lnTo>
                  <a:pt x="5742" y="328494"/>
                </a:lnTo>
                <a:lnTo>
                  <a:pt x="5733" y="331391"/>
                </a:lnTo>
                <a:lnTo>
                  <a:pt x="4775" y="334275"/>
                </a:lnTo>
                <a:lnTo>
                  <a:pt x="3183" y="337150"/>
                </a:lnTo>
                <a:lnTo>
                  <a:pt x="1414" y="342884"/>
                </a:lnTo>
                <a:lnTo>
                  <a:pt x="124" y="353259"/>
                </a:lnTo>
                <a:lnTo>
                  <a:pt x="7" y="364199"/>
                </a:lnTo>
                <a:lnTo>
                  <a:pt x="0" y="3686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MARTPenAnnotation630"/>
          <p:cNvSpPr/>
          <p:nvPr/>
        </p:nvSpPr>
        <p:spPr>
          <a:xfrm>
            <a:off x="6989760" y="5032440"/>
            <a:ext cx="797040" cy="403200"/>
          </a:xfrm>
          <a:custGeom>
            <a:avLst/>
            <a:gdLst>
              <a:gd name="textAreaLeft" fmla="*/ 0 w 797040"/>
              <a:gd name="textAreaRight" fmla="*/ 797400 w 79704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796890" h="402898">
                <a:moveTo>
                  <a:pt x="8219" y="240029"/>
                </a:moveTo>
                <a:lnTo>
                  <a:pt x="0" y="240029"/>
                </a:lnTo>
                <a:lnTo>
                  <a:pt x="4302" y="240029"/>
                </a:lnTo>
                <a:lnTo>
                  <a:pt x="5608" y="240982"/>
                </a:lnTo>
                <a:lnTo>
                  <a:pt x="6478" y="242569"/>
                </a:lnTo>
                <a:lnTo>
                  <a:pt x="7446" y="246873"/>
                </a:lnTo>
                <a:lnTo>
                  <a:pt x="7876" y="251961"/>
                </a:lnTo>
                <a:lnTo>
                  <a:pt x="10607" y="259937"/>
                </a:lnTo>
                <a:lnTo>
                  <a:pt x="14996" y="269832"/>
                </a:lnTo>
                <a:lnTo>
                  <a:pt x="20121" y="280580"/>
                </a:lnTo>
                <a:lnTo>
                  <a:pt x="23034" y="289167"/>
                </a:lnTo>
                <a:lnTo>
                  <a:pt x="25281" y="297111"/>
                </a:lnTo>
                <a:lnTo>
                  <a:pt x="29455" y="306991"/>
                </a:lnTo>
                <a:lnTo>
                  <a:pt x="34485" y="317732"/>
                </a:lnTo>
                <a:lnTo>
                  <a:pt x="45475" y="340150"/>
                </a:lnTo>
                <a:lnTo>
                  <a:pt x="53972" y="352668"/>
                </a:lnTo>
                <a:lnTo>
                  <a:pt x="59669" y="361846"/>
                </a:lnTo>
                <a:lnTo>
                  <a:pt x="65376" y="371322"/>
                </a:lnTo>
                <a:lnTo>
                  <a:pt x="73944" y="382013"/>
                </a:lnTo>
                <a:lnTo>
                  <a:pt x="85196" y="394079"/>
                </a:lnTo>
                <a:lnTo>
                  <a:pt x="89421" y="398348"/>
                </a:lnTo>
                <a:lnTo>
                  <a:pt x="91881" y="399868"/>
                </a:lnTo>
                <a:lnTo>
                  <a:pt x="102046" y="402788"/>
                </a:lnTo>
                <a:lnTo>
                  <a:pt x="109857" y="402897"/>
                </a:lnTo>
                <a:lnTo>
                  <a:pt x="110267" y="401947"/>
                </a:lnTo>
                <a:lnTo>
                  <a:pt x="110927" y="393580"/>
                </a:lnTo>
                <a:lnTo>
                  <a:pt x="111058" y="382755"/>
                </a:lnTo>
                <a:lnTo>
                  <a:pt x="111080" y="365186"/>
                </a:lnTo>
                <a:lnTo>
                  <a:pt x="112035" y="358709"/>
                </a:lnTo>
                <a:lnTo>
                  <a:pt x="115637" y="346433"/>
                </a:lnTo>
                <a:lnTo>
                  <a:pt x="117873" y="334627"/>
                </a:lnTo>
                <a:lnTo>
                  <a:pt x="118867" y="323030"/>
                </a:lnTo>
                <a:lnTo>
                  <a:pt x="119309" y="311526"/>
                </a:lnTo>
                <a:lnTo>
                  <a:pt x="119557" y="289789"/>
                </a:lnTo>
                <a:lnTo>
                  <a:pt x="118639" y="281775"/>
                </a:lnTo>
                <a:lnTo>
                  <a:pt x="117075" y="273575"/>
                </a:lnTo>
                <a:lnTo>
                  <a:pt x="115079" y="265250"/>
                </a:lnTo>
                <a:lnTo>
                  <a:pt x="113749" y="257796"/>
                </a:lnTo>
                <a:lnTo>
                  <a:pt x="112863" y="250921"/>
                </a:lnTo>
                <a:lnTo>
                  <a:pt x="112272" y="244433"/>
                </a:lnTo>
                <a:lnTo>
                  <a:pt x="111877" y="237250"/>
                </a:lnTo>
                <a:lnTo>
                  <a:pt x="111439" y="221649"/>
                </a:lnTo>
                <a:lnTo>
                  <a:pt x="111098" y="153080"/>
                </a:lnTo>
                <a:lnTo>
                  <a:pt x="110143" y="145868"/>
                </a:lnTo>
                <a:lnTo>
                  <a:pt x="108553" y="139155"/>
                </a:lnTo>
                <a:lnTo>
                  <a:pt x="105199" y="126616"/>
                </a:lnTo>
                <a:lnTo>
                  <a:pt x="103709" y="114693"/>
                </a:lnTo>
                <a:lnTo>
                  <a:pt x="105587" y="103044"/>
                </a:lnTo>
                <a:lnTo>
                  <a:pt x="108644" y="90564"/>
                </a:lnTo>
                <a:lnTo>
                  <a:pt x="109459" y="83236"/>
                </a:lnTo>
                <a:lnTo>
                  <a:pt x="110364" y="69378"/>
                </a:lnTo>
                <a:lnTo>
                  <a:pt x="110767" y="60044"/>
                </a:lnTo>
                <a:lnTo>
                  <a:pt x="110994" y="49434"/>
                </a:lnTo>
                <a:lnTo>
                  <a:pt x="111978" y="46291"/>
                </a:lnTo>
                <a:lnTo>
                  <a:pt x="116962" y="37316"/>
                </a:lnTo>
                <a:lnTo>
                  <a:pt x="118461" y="31507"/>
                </a:lnTo>
                <a:lnTo>
                  <a:pt x="119814" y="29577"/>
                </a:lnTo>
                <a:lnTo>
                  <a:pt x="121668" y="28290"/>
                </a:lnTo>
                <a:lnTo>
                  <a:pt x="123856" y="27432"/>
                </a:lnTo>
                <a:lnTo>
                  <a:pt x="125316" y="25908"/>
                </a:lnTo>
                <a:lnTo>
                  <a:pt x="126289" y="23939"/>
                </a:lnTo>
                <a:lnTo>
                  <a:pt x="126938" y="21674"/>
                </a:lnTo>
                <a:lnTo>
                  <a:pt x="128322" y="20164"/>
                </a:lnTo>
                <a:lnTo>
                  <a:pt x="130198" y="19158"/>
                </a:lnTo>
                <a:lnTo>
                  <a:pt x="135501" y="17542"/>
                </a:lnTo>
                <a:lnTo>
                  <a:pt x="156664" y="17160"/>
                </a:lnTo>
                <a:lnTo>
                  <a:pt x="241280" y="17144"/>
                </a:lnTo>
                <a:lnTo>
                  <a:pt x="254994" y="14604"/>
                </a:lnTo>
                <a:lnTo>
                  <a:pt x="268392" y="11253"/>
                </a:lnTo>
                <a:lnTo>
                  <a:pt x="292953" y="9366"/>
                </a:lnTo>
                <a:lnTo>
                  <a:pt x="313202" y="8925"/>
                </a:lnTo>
                <a:lnTo>
                  <a:pt x="405819" y="8581"/>
                </a:lnTo>
                <a:lnTo>
                  <a:pt x="425913" y="6036"/>
                </a:lnTo>
                <a:lnTo>
                  <a:pt x="445321" y="2682"/>
                </a:lnTo>
                <a:lnTo>
                  <a:pt x="466646" y="1192"/>
                </a:lnTo>
                <a:lnTo>
                  <a:pt x="488825" y="529"/>
                </a:lnTo>
                <a:lnTo>
                  <a:pt x="550122" y="46"/>
                </a:lnTo>
                <a:lnTo>
                  <a:pt x="650686" y="0"/>
                </a:lnTo>
                <a:lnTo>
                  <a:pt x="668093" y="2539"/>
                </a:lnTo>
                <a:lnTo>
                  <a:pt x="691417" y="6784"/>
                </a:lnTo>
                <a:lnTo>
                  <a:pt x="712933" y="8042"/>
                </a:lnTo>
                <a:lnTo>
                  <a:pt x="728143" y="9289"/>
                </a:lnTo>
                <a:lnTo>
                  <a:pt x="750889" y="15310"/>
                </a:lnTo>
                <a:lnTo>
                  <a:pt x="768854" y="17855"/>
                </a:lnTo>
                <a:lnTo>
                  <a:pt x="787309" y="24901"/>
                </a:lnTo>
                <a:lnTo>
                  <a:pt x="791996" y="25354"/>
                </a:lnTo>
                <a:lnTo>
                  <a:pt x="793627" y="26428"/>
                </a:lnTo>
                <a:lnTo>
                  <a:pt x="794715" y="28096"/>
                </a:lnTo>
                <a:lnTo>
                  <a:pt x="796889" y="342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MARTPenAnnotation631"/>
          <p:cNvSpPr/>
          <p:nvPr/>
        </p:nvSpPr>
        <p:spPr>
          <a:xfrm>
            <a:off x="7264440" y="5108400"/>
            <a:ext cx="204840" cy="284400"/>
          </a:xfrm>
          <a:custGeom>
            <a:avLst/>
            <a:gdLst>
              <a:gd name="textAreaLeft" fmla="*/ 0 w 204840"/>
              <a:gd name="textAreaRight" fmla="*/ 205200 w 20484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205664" h="282883">
                <a:moveTo>
                  <a:pt x="17111" y="25707"/>
                </a:moveTo>
                <a:lnTo>
                  <a:pt x="0" y="25707"/>
                </a:lnTo>
                <a:lnTo>
                  <a:pt x="7350" y="33088"/>
                </a:lnTo>
                <a:lnTo>
                  <a:pt x="10551" y="33750"/>
                </a:lnTo>
                <a:lnTo>
                  <a:pt x="15149" y="34044"/>
                </a:lnTo>
                <a:lnTo>
                  <a:pt x="20366" y="34175"/>
                </a:lnTo>
                <a:lnTo>
                  <a:pt x="23092" y="33257"/>
                </a:lnTo>
                <a:lnTo>
                  <a:pt x="28659" y="29698"/>
                </a:lnTo>
                <a:lnTo>
                  <a:pt x="32430" y="28368"/>
                </a:lnTo>
                <a:lnTo>
                  <a:pt x="36849" y="27481"/>
                </a:lnTo>
                <a:lnTo>
                  <a:pt x="41700" y="26890"/>
                </a:lnTo>
                <a:lnTo>
                  <a:pt x="45886" y="25543"/>
                </a:lnTo>
                <a:lnTo>
                  <a:pt x="49630" y="23693"/>
                </a:lnTo>
                <a:lnTo>
                  <a:pt x="53078" y="21507"/>
                </a:lnTo>
                <a:lnTo>
                  <a:pt x="58234" y="20049"/>
                </a:lnTo>
                <a:lnTo>
                  <a:pt x="64529" y="19078"/>
                </a:lnTo>
                <a:lnTo>
                  <a:pt x="71583" y="18430"/>
                </a:lnTo>
                <a:lnTo>
                  <a:pt x="78191" y="17046"/>
                </a:lnTo>
                <a:lnTo>
                  <a:pt x="84501" y="15171"/>
                </a:lnTo>
                <a:lnTo>
                  <a:pt x="90613" y="12968"/>
                </a:lnTo>
                <a:lnTo>
                  <a:pt x="96593" y="11499"/>
                </a:lnTo>
                <a:lnTo>
                  <a:pt x="102484" y="10520"/>
                </a:lnTo>
                <a:lnTo>
                  <a:pt x="108317" y="9867"/>
                </a:lnTo>
                <a:lnTo>
                  <a:pt x="114110" y="8480"/>
                </a:lnTo>
                <a:lnTo>
                  <a:pt x="119877" y="6602"/>
                </a:lnTo>
                <a:lnTo>
                  <a:pt x="125627" y="4398"/>
                </a:lnTo>
                <a:lnTo>
                  <a:pt x="131366" y="2929"/>
                </a:lnTo>
                <a:lnTo>
                  <a:pt x="137095" y="1949"/>
                </a:lnTo>
                <a:lnTo>
                  <a:pt x="142822" y="1296"/>
                </a:lnTo>
                <a:lnTo>
                  <a:pt x="148543" y="860"/>
                </a:lnTo>
                <a:lnTo>
                  <a:pt x="154263" y="570"/>
                </a:lnTo>
                <a:lnTo>
                  <a:pt x="168873" y="162"/>
                </a:lnTo>
                <a:lnTo>
                  <a:pt x="191270" y="0"/>
                </a:lnTo>
                <a:lnTo>
                  <a:pt x="194177" y="949"/>
                </a:lnTo>
                <a:lnTo>
                  <a:pt x="199947" y="4543"/>
                </a:lnTo>
                <a:lnTo>
                  <a:pt x="201867" y="6835"/>
                </a:lnTo>
                <a:lnTo>
                  <a:pt x="203147" y="9316"/>
                </a:lnTo>
                <a:lnTo>
                  <a:pt x="204569" y="14612"/>
                </a:lnTo>
                <a:lnTo>
                  <a:pt x="205370" y="22949"/>
                </a:lnTo>
                <a:lnTo>
                  <a:pt x="205557" y="28609"/>
                </a:lnTo>
                <a:lnTo>
                  <a:pt x="205663" y="41701"/>
                </a:lnTo>
                <a:lnTo>
                  <a:pt x="204725" y="46847"/>
                </a:lnTo>
                <a:lnTo>
                  <a:pt x="203147" y="52183"/>
                </a:lnTo>
                <a:lnTo>
                  <a:pt x="201143" y="57645"/>
                </a:lnTo>
                <a:lnTo>
                  <a:pt x="198854" y="63192"/>
                </a:lnTo>
                <a:lnTo>
                  <a:pt x="196376" y="68794"/>
                </a:lnTo>
                <a:lnTo>
                  <a:pt x="193771" y="74434"/>
                </a:lnTo>
                <a:lnTo>
                  <a:pt x="191082" y="81052"/>
                </a:lnTo>
                <a:lnTo>
                  <a:pt x="188337" y="88321"/>
                </a:lnTo>
                <a:lnTo>
                  <a:pt x="185555" y="96025"/>
                </a:lnTo>
                <a:lnTo>
                  <a:pt x="181794" y="103066"/>
                </a:lnTo>
                <a:lnTo>
                  <a:pt x="177383" y="109665"/>
                </a:lnTo>
                <a:lnTo>
                  <a:pt x="172537" y="115968"/>
                </a:lnTo>
                <a:lnTo>
                  <a:pt x="167401" y="123029"/>
                </a:lnTo>
                <a:lnTo>
                  <a:pt x="156614" y="138494"/>
                </a:lnTo>
                <a:lnTo>
                  <a:pt x="152023" y="145666"/>
                </a:lnTo>
                <a:lnTo>
                  <a:pt x="148010" y="152352"/>
                </a:lnTo>
                <a:lnTo>
                  <a:pt x="144383" y="158714"/>
                </a:lnTo>
                <a:lnTo>
                  <a:pt x="137812" y="170864"/>
                </a:lnTo>
                <a:lnTo>
                  <a:pt x="125832" y="194186"/>
                </a:lnTo>
                <a:lnTo>
                  <a:pt x="123882" y="199938"/>
                </a:lnTo>
                <a:lnTo>
                  <a:pt x="122582" y="205679"/>
                </a:lnTo>
                <a:lnTo>
                  <a:pt x="121715" y="211411"/>
                </a:lnTo>
                <a:lnTo>
                  <a:pt x="120185" y="217137"/>
                </a:lnTo>
                <a:lnTo>
                  <a:pt x="118212" y="222859"/>
                </a:lnTo>
                <a:lnTo>
                  <a:pt x="115945" y="228580"/>
                </a:lnTo>
                <a:lnTo>
                  <a:pt x="113481" y="233345"/>
                </a:lnTo>
                <a:lnTo>
                  <a:pt x="108203" y="241180"/>
                </a:lnTo>
                <a:lnTo>
                  <a:pt x="105221" y="247838"/>
                </a:lnTo>
                <a:lnTo>
                  <a:pt x="104427" y="250947"/>
                </a:lnTo>
                <a:lnTo>
                  <a:pt x="101003" y="256941"/>
                </a:lnTo>
                <a:lnTo>
                  <a:pt x="98757" y="259873"/>
                </a:lnTo>
                <a:lnTo>
                  <a:pt x="96262" y="265671"/>
                </a:lnTo>
                <a:lnTo>
                  <a:pt x="94528" y="274125"/>
                </a:lnTo>
                <a:lnTo>
                  <a:pt x="94264" y="28288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MARTPenAnnotation632"/>
          <p:cNvSpPr/>
          <p:nvPr/>
        </p:nvSpPr>
        <p:spPr>
          <a:xfrm>
            <a:off x="7272360" y="5229360"/>
            <a:ext cx="446040" cy="17280"/>
          </a:xfrm>
          <a:custGeom>
            <a:avLst/>
            <a:gdLst>
              <a:gd name="textAreaLeft" fmla="*/ 0 w 446040"/>
              <a:gd name="textAreaRight" fmla="*/ 446400 w 4460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445387" h="17146">
                <a:moveTo>
                  <a:pt x="16761" y="17145"/>
                </a:moveTo>
                <a:lnTo>
                  <a:pt x="0" y="17145"/>
                </a:lnTo>
                <a:lnTo>
                  <a:pt x="95623" y="17145"/>
                </a:lnTo>
                <a:lnTo>
                  <a:pt x="103626" y="16192"/>
                </a:lnTo>
                <a:lnTo>
                  <a:pt x="111818" y="14605"/>
                </a:lnTo>
                <a:lnTo>
                  <a:pt x="120137" y="12594"/>
                </a:lnTo>
                <a:lnTo>
                  <a:pt x="129494" y="11253"/>
                </a:lnTo>
                <a:lnTo>
                  <a:pt x="139542" y="10359"/>
                </a:lnTo>
                <a:lnTo>
                  <a:pt x="150049" y="9764"/>
                </a:lnTo>
                <a:lnTo>
                  <a:pt x="169346" y="9102"/>
                </a:lnTo>
                <a:lnTo>
                  <a:pt x="205017" y="8677"/>
                </a:lnTo>
                <a:lnTo>
                  <a:pt x="214655" y="7689"/>
                </a:lnTo>
                <a:lnTo>
                  <a:pt x="224890" y="6079"/>
                </a:lnTo>
                <a:lnTo>
                  <a:pt x="235523" y="4052"/>
                </a:lnTo>
                <a:lnTo>
                  <a:pt x="245470" y="2702"/>
                </a:lnTo>
                <a:lnTo>
                  <a:pt x="254959" y="1801"/>
                </a:lnTo>
                <a:lnTo>
                  <a:pt x="264142" y="1200"/>
                </a:lnTo>
                <a:lnTo>
                  <a:pt x="273122" y="800"/>
                </a:lnTo>
                <a:lnTo>
                  <a:pt x="290719" y="355"/>
                </a:lnTo>
                <a:lnTo>
                  <a:pt x="44538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MARTPenAnnotation633"/>
          <p:cNvSpPr/>
          <p:nvPr/>
        </p:nvSpPr>
        <p:spPr>
          <a:xfrm>
            <a:off x="5086440" y="5564160"/>
            <a:ext cx="2417760" cy="93600"/>
          </a:xfrm>
          <a:custGeom>
            <a:avLst/>
            <a:gdLst>
              <a:gd name="textAreaLeft" fmla="*/ 0 w 2417760"/>
              <a:gd name="textAreaRight" fmla="*/ 2417760 w 24177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2417445" h="94299">
                <a:moveTo>
                  <a:pt x="0" y="94298"/>
                </a:moveTo>
                <a:lnTo>
                  <a:pt x="113140" y="94298"/>
                </a:lnTo>
                <a:lnTo>
                  <a:pt x="129342" y="91758"/>
                </a:lnTo>
                <a:lnTo>
                  <a:pt x="137663" y="89747"/>
                </a:lnTo>
                <a:lnTo>
                  <a:pt x="163026" y="86917"/>
                </a:lnTo>
                <a:lnTo>
                  <a:pt x="231624" y="84842"/>
                </a:lnTo>
                <a:lnTo>
                  <a:pt x="242046" y="83232"/>
                </a:lnTo>
                <a:lnTo>
                  <a:pt x="252803" y="81206"/>
                </a:lnTo>
                <a:lnTo>
                  <a:pt x="286148" y="78354"/>
                </a:lnTo>
                <a:lnTo>
                  <a:pt x="338392" y="76437"/>
                </a:lnTo>
                <a:lnTo>
                  <a:pt x="352277" y="74771"/>
                </a:lnTo>
                <a:lnTo>
                  <a:pt x="366297" y="72707"/>
                </a:lnTo>
                <a:lnTo>
                  <a:pt x="394573" y="67874"/>
                </a:lnTo>
                <a:lnTo>
                  <a:pt x="408781" y="65252"/>
                </a:lnTo>
                <a:lnTo>
                  <a:pt x="437268" y="62339"/>
                </a:lnTo>
                <a:lnTo>
                  <a:pt x="466756" y="60091"/>
                </a:lnTo>
                <a:lnTo>
                  <a:pt x="482621" y="58159"/>
                </a:lnTo>
                <a:lnTo>
                  <a:pt x="515487" y="53471"/>
                </a:lnTo>
                <a:lnTo>
                  <a:pt x="549145" y="48213"/>
                </a:lnTo>
                <a:lnTo>
                  <a:pt x="566122" y="46429"/>
                </a:lnTo>
                <a:lnTo>
                  <a:pt x="634431" y="43567"/>
                </a:lnTo>
                <a:lnTo>
                  <a:pt x="667732" y="42223"/>
                </a:lnTo>
                <a:lnTo>
                  <a:pt x="683279" y="40532"/>
                </a:lnTo>
                <a:lnTo>
                  <a:pt x="698407" y="38451"/>
                </a:lnTo>
                <a:lnTo>
                  <a:pt x="763749" y="34159"/>
                </a:lnTo>
                <a:lnTo>
                  <a:pt x="780629" y="32298"/>
                </a:lnTo>
                <a:lnTo>
                  <a:pt x="797596" y="30105"/>
                </a:lnTo>
                <a:lnTo>
                  <a:pt x="834230" y="27668"/>
                </a:lnTo>
                <a:lnTo>
                  <a:pt x="907524" y="26103"/>
                </a:lnTo>
                <a:lnTo>
                  <a:pt x="944999" y="23349"/>
                </a:lnTo>
                <a:lnTo>
                  <a:pt x="964326" y="21281"/>
                </a:lnTo>
                <a:lnTo>
                  <a:pt x="1018833" y="18370"/>
                </a:lnTo>
                <a:lnTo>
                  <a:pt x="1075730" y="17508"/>
                </a:lnTo>
                <a:lnTo>
                  <a:pt x="1194549" y="17177"/>
                </a:lnTo>
                <a:lnTo>
                  <a:pt x="1234491" y="14619"/>
                </a:lnTo>
                <a:lnTo>
                  <a:pt x="1254476" y="12604"/>
                </a:lnTo>
                <a:lnTo>
                  <a:pt x="1314460" y="9767"/>
                </a:lnTo>
                <a:lnTo>
                  <a:pt x="1374460" y="8926"/>
                </a:lnTo>
                <a:lnTo>
                  <a:pt x="1414464" y="6190"/>
                </a:lnTo>
                <a:lnTo>
                  <a:pt x="1434465" y="4127"/>
                </a:lnTo>
                <a:lnTo>
                  <a:pt x="1499024" y="1223"/>
                </a:lnTo>
                <a:lnTo>
                  <a:pt x="1582260" y="242"/>
                </a:lnTo>
                <a:lnTo>
                  <a:pt x="2018060" y="0"/>
                </a:lnTo>
                <a:lnTo>
                  <a:pt x="2047853" y="2540"/>
                </a:lnTo>
                <a:lnTo>
                  <a:pt x="2062465" y="4551"/>
                </a:lnTo>
                <a:lnTo>
                  <a:pt x="2110336" y="7381"/>
                </a:lnTo>
                <a:lnTo>
                  <a:pt x="2164976" y="9290"/>
                </a:lnTo>
                <a:lnTo>
                  <a:pt x="2178647" y="10956"/>
                </a:lnTo>
                <a:lnTo>
                  <a:pt x="2192524" y="13019"/>
                </a:lnTo>
                <a:lnTo>
                  <a:pt x="2225706" y="15922"/>
                </a:lnTo>
                <a:lnTo>
                  <a:pt x="2236279" y="17283"/>
                </a:lnTo>
                <a:lnTo>
                  <a:pt x="2247138" y="19142"/>
                </a:lnTo>
                <a:lnTo>
                  <a:pt x="2258186" y="21333"/>
                </a:lnTo>
                <a:lnTo>
                  <a:pt x="2278084" y="23769"/>
                </a:lnTo>
                <a:lnTo>
                  <a:pt x="2321905" y="26414"/>
                </a:lnTo>
                <a:lnTo>
                  <a:pt x="2328986" y="28087"/>
                </a:lnTo>
                <a:lnTo>
                  <a:pt x="2335613" y="30155"/>
                </a:lnTo>
                <a:lnTo>
                  <a:pt x="2354040" y="33065"/>
                </a:lnTo>
                <a:lnTo>
                  <a:pt x="2358983" y="34426"/>
                </a:lnTo>
                <a:lnTo>
                  <a:pt x="2363230" y="36286"/>
                </a:lnTo>
                <a:lnTo>
                  <a:pt x="2367014" y="38478"/>
                </a:lnTo>
                <a:lnTo>
                  <a:pt x="2376299" y="40914"/>
                </a:lnTo>
                <a:lnTo>
                  <a:pt x="2381441" y="41564"/>
                </a:lnTo>
                <a:lnTo>
                  <a:pt x="2385822" y="42949"/>
                </a:lnTo>
                <a:lnTo>
                  <a:pt x="2389695" y="44825"/>
                </a:lnTo>
                <a:lnTo>
                  <a:pt x="2398205" y="50130"/>
                </a:lnTo>
                <a:lnTo>
                  <a:pt x="2399856" y="51517"/>
                </a:lnTo>
                <a:lnTo>
                  <a:pt x="2401909" y="53395"/>
                </a:lnTo>
                <a:lnTo>
                  <a:pt x="2407497" y="58701"/>
                </a:lnTo>
                <a:lnTo>
                  <a:pt x="2408908" y="59137"/>
                </a:lnTo>
                <a:lnTo>
                  <a:pt x="2417444" y="600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MARTPenAnnotation634"/>
          <p:cNvSpPr/>
          <p:nvPr/>
        </p:nvSpPr>
        <p:spPr>
          <a:xfrm>
            <a:off x="5754600" y="5700600"/>
            <a:ext cx="223920" cy="368280"/>
          </a:xfrm>
          <a:custGeom>
            <a:avLst/>
            <a:gdLst>
              <a:gd name="textAreaLeft" fmla="*/ 0 w 223920"/>
              <a:gd name="textAreaRight" fmla="*/ 224280 w 2239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22733" h="368618">
                <a:moveTo>
                  <a:pt x="145593" y="0"/>
                </a:moveTo>
                <a:lnTo>
                  <a:pt x="133662" y="0"/>
                </a:lnTo>
                <a:lnTo>
                  <a:pt x="131924" y="953"/>
                </a:lnTo>
                <a:lnTo>
                  <a:pt x="130765" y="2541"/>
                </a:lnTo>
                <a:lnTo>
                  <a:pt x="129992" y="4551"/>
                </a:lnTo>
                <a:lnTo>
                  <a:pt x="128525" y="5892"/>
                </a:lnTo>
                <a:lnTo>
                  <a:pt x="126595" y="6785"/>
                </a:lnTo>
                <a:lnTo>
                  <a:pt x="120957" y="8730"/>
                </a:lnTo>
                <a:lnTo>
                  <a:pt x="116786" y="10583"/>
                </a:lnTo>
                <a:lnTo>
                  <a:pt x="112101" y="12771"/>
                </a:lnTo>
                <a:lnTo>
                  <a:pt x="108025" y="15182"/>
                </a:lnTo>
                <a:lnTo>
                  <a:pt x="104355" y="17741"/>
                </a:lnTo>
                <a:lnTo>
                  <a:pt x="97737" y="23125"/>
                </a:lnTo>
                <a:lnTo>
                  <a:pt x="91621" y="28693"/>
                </a:lnTo>
                <a:lnTo>
                  <a:pt x="82824" y="37183"/>
                </a:lnTo>
                <a:lnTo>
                  <a:pt x="77055" y="45418"/>
                </a:lnTo>
                <a:lnTo>
                  <a:pt x="71317" y="56381"/>
                </a:lnTo>
                <a:lnTo>
                  <a:pt x="68453" y="63305"/>
                </a:lnTo>
                <a:lnTo>
                  <a:pt x="65592" y="70779"/>
                </a:lnTo>
                <a:lnTo>
                  <a:pt x="61779" y="77666"/>
                </a:lnTo>
                <a:lnTo>
                  <a:pt x="57332" y="84162"/>
                </a:lnTo>
                <a:lnTo>
                  <a:pt x="52462" y="90398"/>
                </a:lnTo>
                <a:lnTo>
                  <a:pt x="48263" y="97413"/>
                </a:lnTo>
                <a:lnTo>
                  <a:pt x="44512" y="104947"/>
                </a:lnTo>
                <a:lnTo>
                  <a:pt x="41058" y="112828"/>
                </a:lnTo>
                <a:lnTo>
                  <a:pt x="37803" y="120938"/>
                </a:lnTo>
                <a:lnTo>
                  <a:pt x="31646" y="137570"/>
                </a:lnTo>
                <a:lnTo>
                  <a:pt x="28671" y="145054"/>
                </a:lnTo>
                <a:lnTo>
                  <a:pt x="25735" y="151947"/>
                </a:lnTo>
                <a:lnTo>
                  <a:pt x="22825" y="158448"/>
                </a:lnTo>
                <a:lnTo>
                  <a:pt x="20885" y="165640"/>
                </a:lnTo>
                <a:lnTo>
                  <a:pt x="19592" y="173292"/>
                </a:lnTo>
                <a:lnTo>
                  <a:pt x="18730" y="181251"/>
                </a:lnTo>
                <a:lnTo>
                  <a:pt x="17203" y="188461"/>
                </a:lnTo>
                <a:lnTo>
                  <a:pt x="15232" y="195174"/>
                </a:lnTo>
                <a:lnTo>
                  <a:pt x="12966" y="201553"/>
                </a:lnTo>
                <a:lnTo>
                  <a:pt x="10502" y="207711"/>
                </a:lnTo>
                <a:lnTo>
                  <a:pt x="7908" y="213722"/>
                </a:lnTo>
                <a:lnTo>
                  <a:pt x="5225" y="219634"/>
                </a:lnTo>
                <a:lnTo>
                  <a:pt x="3437" y="225480"/>
                </a:lnTo>
                <a:lnTo>
                  <a:pt x="2245" y="231283"/>
                </a:lnTo>
                <a:lnTo>
                  <a:pt x="1450" y="237056"/>
                </a:lnTo>
                <a:lnTo>
                  <a:pt x="567" y="248551"/>
                </a:lnTo>
                <a:lnTo>
                  <a:pt x="174" y="260010"/>
                </a:lnTo>
                <a:lnTo>
                  <a:pt x="0" y="271452"/>
                </a:lnTo>
                <a:lnTo>
                  <a:pt x="2463" y="282888"/>
                </a:lnTo>
                <a:lnTo>
                  <a:pt x="6732" y="293368"/>
                </a:lnTo>
                <a:lnTo>
                  <a:pt x="13538" y="304623"/>
                </a:lnTo>
                <a:lnTo>
                  <a:pt x="15465" y="310966"/>
                </a:lnTo>
                <a:lnTo>
                  <a:pt x="17883" y="313991"/>
                </a:lnTo>
                <a:lnTo>
                  <a:pt x="21401" y="316960"/>
                </a:lnTo>
                <a:lnTo>
                  <a:pt x="25651" y="319891"/>
                </a:lnTo>
                <a:lnTo>
                  <a:pt x="29436" y="322799"/>
                </a:lnTo>
                <a:lnTo>
                  <a:pt x="36183" y="328568"/>
                </a:lnTo>
                <a:lnTo>
                  <a:pt x="40268" y="330488"/>
                </a:lnTo>
                <a:lnTo>
                  <a:pt x="44896" y="331768"/>
                </a:lnTo>
                <a:lnTo>
                  <a:pt x="49887" y="332622"/>
                </a:lnTo>
                <a:lnTo>
                  <a:pt x="54166" y="333190"/>
                </a:lnTo>
                <a:lnTo>
                  <a:pt x="57972" y="333570"/>
                </a:lnTo>
                <a:lnTo>
                  <a:pt x="64740" y="333990"/>
                </a:lnTo>
                <a:lnTo>
                  <a:pt x="70924" y="334178"/>
                </a:lnTo>
                <a:lnTo>
                  <a:pt x="84310" y="334283"/>
                </a:lnTo>
                <a:lnTo>
                  <a:pt x="89498" y="333346"/>
                </a:lnTo>
                <a:lnTo>
                  <a:pt x="94861" y="331768"/>
                </a:lnTo>
                <a:lnTo>
                  <a:pt x="100342" y="329764"/>
                </a:lnTo>
                <a:lnTo>
                  <a:pt x="105901" y="327475"/>
                </a:lnTo>
                <a:lnTo>
                  <a:pt x="111511" y="324997"/>
                </a:lnTo>
                <a:lnTo>
                  <a:pt x="117157" y="322392"/>
                </a:lnTo>
                <a:lnTo>
                  <a:pt x="122825" y="320656"/>
                </a:lnTo>
                <a:lnTo>
                  <a:pt x="128510" y="319498"/>
                </a:lnTo>
                <a:lnTo>
                  <a:pt x="134205" y="318726"/>
                </a:lnTo>
                <a:lnTo>
                  <a:pt x="139905" y="316307"/>
                </a:lnTo>
                <a:lnTo>
                  <a:pt x="145611" y="312789"/>
                </a:lnTo>
                <a:lnTo>
                  <a:pt x="151320" y="308539"/>
                </a:lnTo>
                <a:lnTo>
                  <a:pt x="156079" y="304752"/>
                </a:lnTo>
                <a:lnTo>
                  <a:pt x="160203" y="301275"/>
                </a:lnTo>
                <a:lnTo>
                  <a:pt x="163906" y="298005"/>
                </a:lnTo>
                <a:lnTo>
                  <a:pt x="168280" y="294873"/>
                </a:lnTo>
                <a:lnTo>
                  <a:pt x="173100" y="291832"/>
                </a:lnTo>
                <a:lnTo>
                  <a:pt x="178218" y="288852"/>
                </a:lnTo>
                <a:lnTo>
                  <a:pt x="182583" y="285913"/>
                </a:lnTo>
                <a:lnTo>
                  <a:pt x="186446" y="283001"/>
                </a:lnTo>
                <a:lnTo>
                  <a:pt x="189973" y="280107"/>
                </a:lnTo>
                <a:lnTo>
                  <a:pt x="196433" y="271812"/>
                </a:lnTo>
                <a:lnTo>
                  <a:pt x="202478" y="262728"/>
                </a:lnTo>
                <a:lnTo>
                  <a:pt x="208341" y="255516"/>
                </a:lnTo>
                <a:lnTo>
                  <a:pt x="214121" y="246595"/>
                </a:lnTo>
                <a:lnTo>
                  <a:pt x="218912" y="237233"/>
                </a:lnTo>
                <a:lnTo>
                  <a:pt x="221988" y="226001"/>
                </a:lnTo>
                <a:lnTo>
                  <a:pt x="222409" y="223318"/>
                </a:lnTo>
                <a:lnTo>
                  <a:pt x="222679" y="213834"/>
                </a:lnTo>
                <a:lnTo>
                  <a:pt x="222732" y="207339"/>
                </a:lnTo>
                <a:lnTo>
                  <a:pt x="220200" y="203911"/>
                </a:lnTo>
                <a:lnTo>
                  <a:pt x="218191" y="201662"/>
                </a:lnTo>
                <a:lnTo>
                  <a:pt x="215899" y="200165"/>
                </a:lnTo>
                <a:lnTo>
                  <a:pt x="210813" y="198500"/>
                </a:lnTo>
                <a:lnTo>
                  <a:pt x="205377" y="197760"/>
                </a:lnTo>
                <a:lnTo>
                  <a:pt x="199787" y="197431"/>
                </a:lnTo>
                <a:lnTo>
                  <a:pt x="194127" y="197284"/>
                </a:lnTo>
                <a:lnTo>
                  <a:pt x="172471" y="197178"/>
                </a:lnTo>
                <a:lnTo>
                  <a:pt x="168274" y="198127"/>
                </a:lnTo>
                <a:lnTo>
                  <a:pt x="164524" y="199712"/>
                </a:lnTo>
                <a:lnTo>
                  <a:pt x="157817" y="204014"/>
                </a:lnTo>
                <a:lnTo>
                  <a:pt x="151661" y="209100"/>
                </a:lnTo>
                <a:lnTo>
                  <a:pt x="145750" y="214536"/>
                </a:lnTo>
                <a:lnTo>
                  <a:pt x="137067" y="222952"/>
                </a:lnTo>
                <a:lnTo>
                  <a:pt x="125600" y="234328"/>
                </a:lnTo>
                <a:lnTo>
                  <a:pt x="119880" y="242576"/>
                </a:lnTo>
                <a:lnTo>
                  <a:pt x="114162" y="251639"/>
                </a:lnTo>
                <a:lnTo>
                  <a:pt x="108447" y="258842"/>
                </a:lnTo>
                <a:lnTo>
                  <a:pt x="102731" y="267759"/>
                </a:lnTo>
                <a:lnTo>
                  <a:pt x="99873" y="272803"/>
                </a:lnTo>
                <a:lnTo>
                  <a:pt x="96698" y="283489"/>
                </a:lnTo>
                <a:lnTo>
                  <a:pt x="95852" y="289005"/>
                </a:lnTo>
                <a:lnTo>
                  <a:pt x="92371" y="297674"/>
                </a:lnTo>
                <a:lnTo>
                  <a:pt x="90109" y="301320"/>
                </a:lnTo>
                <a:lnTo>
                  <a:pt x="87596" y="310450"/>
                </a:lnTo>
                <a:lnTo>
                  <a:pt x="86479" y="319905"/>
                </a:lnTo>
                <a:lnTo>
                  <a:pt x="85850" y="330583"/>
                </a:lnTo>
                <a:lnTo>
                  <a:pt x="85664" y="339780"/>
                </a:lnTo>
                <a:lnTo>
                  <a:pt x="85596" y="354296"/>
                </a:lnTo>
                <a:lnTo>
                  <a:pt x="86545" y="357165"/>
                </a:lnTo>
                <a:lnTo>
                  <a:pt x="93364" y="367487"/>
                </a:lnTo>
                <a:lnTo>
                  <a:pt x="94158" y="3686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MARTPenAnnotation635"/>
          <p:cNvSpPr/>
          <p:nvPr/>
        </p:nvSpPr>
        <p:spPr>
          <a:xfrm>
            <a:off x="5078520" y="5160960"/>
            <a:ext cx="942840" cy="368280"/>
          </a:xfrm>
          <a:custGeom>
            <a:avLst/>
            <a:gdLst>
              <a:gd name="textAreaLeft" fmla="*/ 0 w 942840"/>
              <a:gd name="textAreaRight" fmla="*/ 943200 w 942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942976" h="368618">
                <a:moveTo>
                  <a:pt x="0" y="368617"/>
                </a:moveTo>
                <a:lnTo>
                  <a:pt x="28969" y="368617"/>
                </a:lnTo>
                <a:lnTo>
                  <a:pt x="31696" y="367665"/>
                </a:lnTo>
                <a:lnTo>
                  <a:pt x="40083" y="362725"/>
                </a:lnTo>
                <a:lnTo>
                  <a:pt x="45755" y="361236"/>
                </a:lnTo>
                <a:lnTo>
                  <a:pt x="54303" y="360398"/>
                </a:lnTo>
                <a:lnTo>
                  <a:pt x="57157" y="359328"/>
                </a:lnTo>
                <a:lnTo>
                  <a:pt x="65725" y="354223"/>
                </a:lnTo>
                <a:lnTo>
                  <a:pt x="84561" y="347284"/>
                </a:lnTo>
                <a:lnTo>
                  <a:pt x="100171" y="337874"/>
                </a:lnTo>
                <a:lnTo>
                  <a:pt x="126127" y="330243"/>
                </a:lnTo>
                <a:lnTo>
                  <a:pt x="148669" y="319797"/>
                </a:lnTo>
                <a:lnTo>
                  <a:pt x="177176" y="305720"/>
                </a:lnTo>
                <a:lnTo>
                  <a:pt x="191140" y="297483"/>
                </a:lnTo>
                <a:lnTo>
                  <a:pt x="206871" y="288425"/>
                </a:lnTo>
                <a:lnTo>
                  <a:pt x="231792" y="277017"/>
                </a:lnTo>
                <a:lnTo>
                  <a:pt x="248752" y="267263"/>
                </a:lnTo>
                <a:lnTo>
                  <a:pt x="268354" y="259119"/>
                </a:lnTo>
                <a:lnTo>
                  <a:pt x="288813" y="251371"/>
                </a:lnTo>
                <a:lnTo>
                  <a:pt x="307432" y="241578"/>
                </a:lnTo>
                <a:lnTo>
                  <a:pt x="327772" y="230875"/>
                </a:lnTo>
                <a:lnTo>
                  <a:pt x="474356" y="157159"/>
                </a:lnTo>
                <a:lnTo>
                  <a:pt x="497210" y="148271"/>
                </a:lnTo>
                <a:lnTo>
                  <a:pt x="521020" y="140193"/>
                </a:lnTo>
                <a:lnTo>
                  <a:pt x="547477" y="130252"/>
                </a:lnTo>
                <a:lnTo>
                  <a:pt x="572571" y="119485"/>
                </a:lnTo>
                <a:lnTo>
                  <a:pt x="597376" y="108349"/>
                </a:lnTo>
                <a:lnTo>
                  <a:pt x="624276" y="97050"/>
                </a:lnTo>
                <a:lnTo>
                  <a:pt x="649566" y="88218"/>
                </a:lnTo>
                <a:lnTo>
                  <a:pt x="673506" y="80165"/>
                </a:lnTo>
                <a:lnTo>
                  <a:pt x="696846" y="70236"/>
                </a:lnTo>
                <a:lnTo>
                  <a:pt x="719919" y="62014"/>
                </a:lnTo>
                <a:lnTo>
                  <a:pt x="742874" y="55184"/>
                </a:lnTo>
                <a:lnTo>
                  <a:pt x="776265" y="45984"/>
                </a:lnTo>
                <a:lnTo>
                  <a:pt x="805632" y="37225"/>
                </a:lnTo>
                <a:lnTo>
                  <a:pt x="827006" y="31467"/>
                </a:lnTo>
                <a:lnTo>
                  <a:pt x="851358" y="22870"/>
                </a:lnTo>
                <a:lnTo>
                  <a:pt x="882545" y="11431"/>
                </a:lnTo>
                <a:lnTo>
                  <a:pt x="901998" y="3810"/>
                </a:lnTo>
                <a:lnTo>
                  <a:pt x="926866" y="501"/>
                </a:lnTo>
                <a:lnTo>
                  <a:pt x="94297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MARTPenAnnotation636"/>
          <p:cNvSpPr/>
          <p:nvPr/>
        </p:nvSpPr>
        <p:spPr>
          <a:xfrm>
            <a:off x="5180040" y="5083200"/>
            <a:ext cx="334800" cy="17280"/>
          </a:xfrm>
          <a:custGeom>
            <a:avLst/>
            <a:gdLst>
              <a:gd name="textAreaLeft" fmla="*/ 0 w 334800"/>
              <a:gd name="textAreaRight" fmla="*/ 335160 w 3348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34329" h="17146">
                <a:moveTo>
                  <a:pt x="0" y="17145"/>
                </a:moveTo>
                <a:lnTo>
                  <a:pt x="84459" y="17145"/>
                </a:lnTo>
                <a:lnTo>
                  <a:pt x="89644" y="16193"/>
                </a:lnTo>
                <a:lnTo>
                  <a:pt x="95005" y="14605"/>
                </a:lnTo>
                <a:lnTo>
                  <a:pt x="100484" y="12595"/>
                </a:lnTo>
                <a:lnTo>
                  <a:pt x="106042" y="11253"/>
                </a:lnTo>
                <a:lnTo>
                  <a:pt x="111652" y="10360"/>
                </a:lnTo>
                <a:lnTo>
                  <a:pt x="117297" y="9764"/>
                </a:lnTo>
                <a:lnTo>
                  <a:pt x="122966" y="9367"/>
                </a:lnTo>
                <a:lnTo>
                  <a:pt x="128650" y="9102"/>
                </a:lnTo>
                <a:lnTo>
                  <a:pt x="140045" y="8808"/>
                </a:lnTo>
                <a:lnTo>
                  <a:pt x="151460" y="8677"/>
                </a:lnTo>
                <a:lnTo>
                  <a:pt x="157171" y="7690"/>
                </a:lnTo>
                <a:lnTo>
                  <a:pt x="162883" y="6079"/>
                </a:lnTo>
                <a:lnTo>
                  <a:pt x="168596" y="4053"/>
                </a:lnTo>
                <a:lnTo>
                  <a:pt x="174310" y="2702"/>
                </a:lnTo>
                <a:lnTo>
                  <a:pt x="180024" y="1801"/>
                </a:lnTo>
                <a:lnTo>
                  <a:pt x="185739" y="1201"/>
                </a:lnTo>
                <a:lnTo>
                  <a:pt x="191453" y="801"/>
                </a:lnTo>
                <a:lnTo>
                  <a:pt x="197168" y="534"/>
                </a:lnTo>
                <a:lnTo>
                  <a:pt x="208598" y="238"/>
                </a:lnTo>
                <a:lnTo>
                  <a:pt x="33432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MARTPenAnnotation637"/>
          <p:cNvSpPr/>
          <p:nvPr/>
        </p:nvSpPr>
        <p:spPr>
          <a:xfrm>
            <a:off x="5668920" y="4921200"/>
            <a:ext cx="206280" cy="239760"/>
          </a:xfrm>
          <a:custGeom>
            <a:avLst/>
            <a:gdLst>
              <a:gd name="textAreaLeft" fmla="*/ 0 w 206280"/>
              <a:gd name="textAreaRight" fmla="*/ 206640 w 2062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05623" h="240030">
                <a:moveTo>
                  <a:pt x="197168" y="8571"/>
                </a:moveTo>
                <a:lnTo>
                  <a:pt x="197168" y="1190"/>
                </a:lnTo>
                <a:lnTo>
                  <a:pt x="196216" y="793"/>
                </a:lnTo>
                <a:lnTo>
                  <a:pt x="190383" y="156"/>
                </a:lnTo>
                <a:lnTo>
                  <a:pt x="184076" y="1"/>
                </a:lnTo>
                <a:lnTo>
                  <a:pt x="181224" y="0"/>
                </a:lnTo>
                <a:lnTo>
                  <a:pt x="175828" y="4550"/>
                </a:lnTo>
                <a:lnTo>
                  <a:pt x="172464" y="5890"/>
                </a:lnTo>
                <a:lnTo>
                  <a:pt x="168316" y="6784"/>
                </a:lnTo>
                <a:lnTo>
                  <a:pt x="163646" y="7380"/>
                </a:lnTo>
                <a:lnTo>
                  <a:pt x="159580" y="7777"/>
                </a:lnTo>
                <a:lnTo>
                  <a:pt x="155917" y="8042"/>
                </a:lnTo>
                <a:lnTo>
                  <a:pt x="152523" y="8218"/>
                </a:lnTo>
                <a:lnTo>
                  <a:pt x="146211" y="8414"/>
                </a:lnTo>
                <a:lnTo>
                  <a:pt x="134762" y="8524"/>
                </a:lnTo>
                <a:lnTo>
                  <a:pt x="29879" y="8571"/>
                </a:lnTo>
                <a:lnTo>
                  <a:pt x="28492" y="9524"/>
                </a:lnTo>
                <a:lnTo>
                  <a:pt x="27568" y="11111"/>
                </a:lnTo>
                <a:lnTo>
                  <a:pt x="26083" y="15952"/>
                </a:lnTo>
                <a:lnTo>
                  <a:pt x="25826" y="21342"/>
                </a:lnTo>
                <a:lnTo>
                  <a:pt x="25728" y="41815"/>
                </a:lnTo>
                <a:lnTo>
                  <a:pt x="25721" y="53134"/>
                </a:lnTo>
                <a:lnTo>
                  <a:pt x="24767" y="57330"/>
                </a:lnTo>
                <a:lnTo>
                  <a:pt x="23179" y="62032"/>
                </a:lnTo>
                <a:lnTo>
                  <a:pt x="21168" y="67072"/>
                </a:lnTo>
                <a:lnTo>
                  <a:pt x="19827" y="71384"/>
                </a:lnTo>
                <a:lnTo>
                  <a:pt x="18337" y="78716"/>
                </a:lnTo>
                <a:lnTo>
                  <a:pt x="16987" y="82956"/>
                </a:lnTo>
                <a:lnTo>
                  <a:pt x="15135" y="87689"/>
                </a:lnTo>
                <a:lnTo>
                  <a:pt x="12948" y="92749"/>
                </a:lnTo>
                <a:lnTo>
                  <a:pt x="11489" y="98027"/>
                </a:lnTo>
                <a:lnTo>
                  <a:pt x="10517" y="103451"/>
                </a:lnTo>
                <a:lnTo>
                  <a:pt x="9870" y="108972"/>
                </a:lnTo>
                <a:lnTo>
                  <a:pt x="9437" y="114558"/>
                </a:lnTo>
                <a:lnTo>
                  <a:pt x="9149" y="120186"/>
                </a:lnTo>
                <a:lnTo>
                  <a:pt x="8957" y="125844"/>
                </a:lnTo>
                <a:lnTo>
                  <a:pt x="7877" y="130568"/>
                </a:lnTo>
                <a:lnTo>
                  <a:pt x="6204" y="134670"/>
                </a:lnTo>
                <a:lnTo>
                  <a:pt x="2757" y="141768"/>
                </a:lnTo>
                <a:lnTo>
                  <a:pt x="1226" y="148097"/>
                </a:lnTo>
                <a:lnTo>
                  <a:pt x="545" y="154085"/>
                </a:lnTo>
                <a:lnTo>
                  <a:pt x="3" y="162831"/>
                </a:lnTo>
                <a:lnTo>
                  <a:pt x="1" y="162872"/>
                </a:lnTo>
                <a:lnTo>
                  <a:pt x="0" y="162874"/>
                </a:lnTo>
                <a:lnTo>
                  <a:pt x="0" y="162875"/>
                </a:lnTo>
                <a:lnTo>
                  <a:pt x="4551" y="162876"/>
                </a:lnTo>
                <a:lnTo>
                  <a:pt x="5892" y="161923"/>
                </a:lnTo>
                <a:lnTo>
                  <a:pt x="6786" y="160336"/>
                </a:lnTo>
                <a:lnTo>
                  <a:pt x="7382" y="158325"/>
                </a:lnTo>
                <a:lnTo>
                  <a:pt x="10584" y="153551"/>
                </a:lnTo>
                <a:lnTo>
                  <a:pt x="12771" y="150944"/>
                </a:lnTo>
                <a:lnTo>
                  <a:pt x="16134" y="148254"/>
                </a:lnTo>
                <a:lnTo>
                  <a:pt x="20281" y="145508"/>
                </a:lnTo>
                <a:lnTo>
                  <a:pt x="24951" y="142725"/>
                </a:lnTo>
                <a:lnTo>
                  <a:pt x="29969" y="139917"/>
                </a:lnTo>
                <a:lnTo>
                  <a:pt x="40625" y="134257"/>
                </a:lnTo>
                <a:lnTo>
                  <a:pt x="45181" y="132367"/>
                </a:lnTo>
                <a:lnTo>
                  <a:pt x="49171" y="131107"/>
                </a:lnTo>
                <a:lnTo>
                  <a:pt x="52783" y="130266"/>
                </a:lnTo>
                <a:lnTo>
                  <a:pt x="57097" y="128754"/>
                </a:lnTo>
                <a:lnTo>
                  <a:pt x="61877" y="126793"/>
                </a:lnTo>
                <a:lnTo>
                  <a:pt x="66969" y="124533"/>
                </a:lnTo>
                <a:lnTo>
                  <a:pt x="77707" y="119482"/>
                </a:lnTo>
                <a:lnTo>
                  <a:pt x="83238" y="116802"/>
                </a:lnTo>
                <a:lnTo>
                  <a:pt x="87877" y="115015"/>
                </a:lnTo>
                <a:lnTo>
                  <a:pt x="91922" y="113824"/>
                </a:lnTo>
                <a:lnTo>
                  <a:pt x="95571" y="113030"/>
                </a:lnTo>
                <a:lnTo>
                  <a:pt x="99909" y="112500"/>
                </a:lnTo>
                <a:lnTo>
                  <a:pt x="104706" y="112147"/>
                </a:lnTo>
                <a:lnTo>
                  <a:pt x="109810" y="111912"/>
                </a:lnTo>
                <a:lnTo>
                  <a:pt x="120560" y="111650"/>
                </a:lnTo>
                <a:lnTo>
                  <a:pt x="142983" y="111483"/>
                </a:lnTo>
                <a:lnTo>
                  <a:pt x="147710" y="112421"/>
                </a:lnTo>
                <a:lnTo>
                  <a:pt x="151813" y="114000"/>
                </a:lnTo>
                <a:lnTo>
                  <a:pt x="155501" y="116004"/>
                </a:lnTo>
                <a:lnTo>
                  <a:pt x="169794" y="123376"/>
                </a:lnTo>
                <a:lnTo>
                  <a:pt x="174156" y="126066"/>
                </a:lnTo>
                <a:lnTo>
                  <a:pt x="178017" y="128811"/>
                </a:lnTo>
                <a:lnTo>
                  <a:pt x="181544" y="131594"/>
                </a:lnTo>
                <a:lnTo>
                  <a:pt x="184847" y="133448"/>
                </a:lnTo>
                <a:lnTo>
                  <a:pt x="191057" y="135510"/>
                </a:lnTo>
                <a:lnTo>
                  <a:pt x="193094" y="137012"/>
                </a:lnTo>
                <a:lnTo>
                  <a:pt x="194452" y="138966"/>
                </a:lnTo>
                <a:lnTo>
                  <a:pt x="196913" y="144629"/>
                </a:lnTo>
                <a:lnTo>
                  <a:pt x="201182" y="153497"/>
                </a:lnTo>
                <a:lnTo>
                  <a:pt x="202702" y="157576"/>
                </a:lnTo>
                <a:lnTo>
                  <a:pt x="204390" y="164648"/>
                </a:lnTo>
                <a:lnTo>
                  <a:pt x="205140" y="170966"/>
                </a:lnTo>
                <a:lnTo>
                  <a:pt x="205474" y="176949"/>
                </a:lnTo>
                <a:lnTo>
                  <a:pt x="205622" y="182783"/>
                </a:lnTo>
                <a:lnTo>
                  <a:pt x="204709" y="184720"/>
                </a:lnTo>
                <a:lnTo>
                  <a:pt x="203148" y="186011"/>
                </a:lnTo>
                <a:lnTo>
                  <a:pt x="201155" y="186872"/>
                </a:lnTo>
                <a:lnTo>
                  <a:pt x="196400" y="190368"/>
                </a:lnTo>
                <a:lnTo>
                  <a:pt x="193798" y="192635"/>
                </a:lnTo>
                <a:lnTo>
                  <a:pt x="192064" y="195097"/>
                </a:lnTo>
                <a:lnTo>
                  <a:pt x="190137" y="200374"/>
                </a:lnTo>
                <a:lnTo>
                  <a:pt x="187718" y="203115"/>
                </a:lnTo>
                <a:lnTo>
                  <a:pt x="184201" y="205895"/>
                </a:lnTo>
                <a:lnTo>
                  <a:pt x="179951" y="208700"/>
                </a:lnTo>
                <a:lnTo>
                  <a:pt x="176165" y="210571"/>
                </a:lnTo>
                <a:lnTo>
                  <a:pt x="172688" y="211818"/>
                </a:lnTo>
                <a:lnTo>
                  <a:pt x="169418" y="212649"/>
                </a:lnTo>
                <a:lnTo>
                  <a:pt x="165333" y="214155"/>
                </a:lnTo>
                <a:lnTo>
                  <a:pt x="160705" y="216112"/>
                </a:lnTo>
                <a:lnTo>
                  <a:pt x="155715" y="218370"/>
                </a:lnTo>
                <a:lnTo>
                  <a:pt x="150482" y="219874"/>
                </a:lnTo>
                <a:lnTo>
                  <a:pt x="145089" y="220877"/>
                </a:lnTo>
                <a:lnTo>
                  <a:pt x="139589" y="221546"/>
                </a:lnTo>
                <a:lnTo>
                  <a:pt x="134017" y="222944"/>
                </a:lnTo>
                <a:lnTo>
                  <a:pt x="128398" y="224829"/>
                </a:lnTo>
                <a:lnTo>
                  <a:pt x="122746" y="227038"/>
                </a:lnTo>
                <a:lnTo>
                  <a:pt x="117074" y="228511"/>
                </a:lnTo>
                <a:lnTo>
                  <a:pt x="111387" y="229492"/>
                </a:lnTo>
                <a:lnTo>
                  <a:pt x="105690" y="230147"/>
                </a:lnTo>
                <a:lnTo>
                  <a:pt x="99036" y="230583"/>
                </a:lnTo>
                <a:lnTo>
                  <a:pt x="91741" y="230874"/>
                </a:lnTo>
                <a:lnTo>
                  <a:pt x="84021" y="231068"/>
                </a:lnTo>
                <a:lnTo>
                  <a:pt x="77922" y="232150"/>
                </a:lnTo>
                <a:lnTo>
                  <a:pt x="72903" y="233824"/>
                </a:lnTo>
                <a:lnTo>
                  <a:pt x="68604" y="235892"/>
                </a:lnTo>
                <a:lnTo>
                  <a:pt x="63835" y="237271"/>
                </a:lnTo>
                <a:lnTo>
                  <a:pt x="58749" y="238190"/>
                </a:lnTo>
                <a:lnTo>
                  <a:pt x="53454" y="238803"/>
                </a:lnTo>
                <a:lnTo>
                  <a:pt x="48971" y="239211"/>
                </a:lnTo>
                <a:lnTo>
                  <a:pt x="45030" y="239484"/>
                </a:lnTo>
                <a:lnTo>
                  <a:pt x="41450" y="239665"/>
                </a:lnTo>
                <a:lnTo>
                  <a:pt x="34932" y="239867"/>
                </a:lnTo>
                <a:lnTo>
                  <a:pt x="17146" y="2400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MARTPenAnnotation638"/>
          <p:cNvSpPr/>
          <p:nvPr/>
        </p:nvSpPr>
        <p:spPr>
          <a:xfrm>
            <a:off x="6458040" y="5168880"/>
            <a:ext cx="411120" cy="266760"/>
          </a:xfrm>
          <a:custGeom>
            <a:avLst/>
            <a:gdLst>
              <a:gd name="textAreaLeft" fmla="*/ 0 w 411120"/>
              <a:gd name="textAreaRight" fmla="*/ 411480 w 4111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411475" h="265749">
                <a:moveTo>
                  <a:pt x="25714" y="265748"/>
                </a:moveTo>
                <a:lnTo>
                  <a:pt x="0" y="265748"/>
                </a:lnTo>
                <a:lnTo>
                  <a:pt x="4548" y="265748"/>
                </a:lnTo>
                <a:lnTo>
                  <a:pt x="6841" y="264795"/>
                </a:lnTo>
                <a:lnTo>
                  <a:pt x="14618" y="258904"/>
                </a:lnTo>
                <a:lnTo>
                  <a:pt x="23908" y="251126"/>
                </a:lnTo>
                <a:lnTo>
                  <a:pt x="33167" y="245597"/>
                </a:lnTo>
                <a:lnTo>
                  <a:pt x="43631" y="239964"/>
                </a:lnTo>
                <a:lnTo>
                  <a:pt x="54633" y="233333"/>
                </a:lnTo>
                <a:lnTo>
                  <a:pt x="60233" y="228898"/>
                </a:lnTo>
                <a:lnTo>
                  <a:pt x="65872" y="224036"/>
                </a:lnTo>
                <a:lnTo>
                  <a:pt x="72488" y="217937"/>
                </a:lnTo>
                <a:lnTo>
                  <a:pt x="94501" y="196654"/>
                </a:lnTo>
                <a:lnTo>
                  <a:pt x="107403" y="183922"/>
                </a:lnTo>
                <a:lnTo>
                  <a:pt x="115416" y="176907"/>
                </a:lnTo>
                <a:lnTo>
                  <a:pt x="124568" y="169373"/>
                </a:lnTo>
                <a:lnTo>
                  <a:pt x="134479" y="161493"/>
                </a:lnTo>
                <a:lnTo>
                  <a:pt x="143944" y="154334"/>
                </a:lnTo>
                <a:lnTo>
                  <a:pt x="162081" y="141301"/>
                </a:lnTo>
                <a:lnTo>
                  <a:pt x="188356" y="123253"/>
                </a:lnTo>
                <a:lnTo>
                  <a:pt x="197960" y="117411"/>
                </a:lnTo>
                <a:lnTo>
                  <a:pt x="208172" y="111612"/>
                </a:lnTo>
                <a:lnTo>
                  <a:pt x="218790" y="105840"/>
                </a:lnTo>
                <a:lnTo>
                  <a:pt x="228727" y="100088"/>
                </a:lnTo>
                <a:lnTo>
                  <a:pt x="247387" y="88616"/>
                </a:lnTo>
                <a:lnTo>
                  <a:pt x="282650" y="65729"/>
                </a:lnTo>
                <a:lnTo>
                  <a:pt x="299928" y="54295"/>
                </a:lnTo>
                <a:lnTo>
                  <a:pt x="308536" y="49532"/>
                </a:lnTo>
                <a:lnTo>
                  <a:pt x="317132" y="45404"/>
                </a:lnTo>
                <a:lnTo>
                  <a:pt x="325720" y="41699"/>
                </a:lnTo>
                <a:lnTo>
                  <a:pt x="340342" y="35043"/>
                </a:lnTo>
                <a:lnTo>
                  <a:pt x="359285" y="25941"/>
                </a:lnTo>
                <a:lnTo>
                  <a:pt x="370182" y="20102"/>
                </a:lnTo>
                <a:lnTo>
                  <a:pt x="381673" y="12412"/>
                </a:lnTo>
                <a:lnTo>
                  <a:pt x="388070" y="10279"/>
                </a:lnTo>
                <a:lnTo>
                  <a:pt x="397027" y="9078"/>
                </a:lnTo>
                <a:lnTo>
                  <a:pt x="398986" y="7957"/>
                </a:lnTo>
                <a:lnTo>
                  <a:pt x="400292" y="6257"/>
                </a:lnTo>
                <a:lnTo>
                  <a:pt x="401163" y="4172"/>
                </a:lnTo>
                <a:lnTo>
                  <a:pt x="402696" y="2781"/>
                </a:lnTo>
                <a:lnTo>
                  <a:pt x="404670" y="1854"/>
                </a:lnTo>
                <a:lnTo>
                  <a:pt x="411472" y="1"/>
                </a:lnTo>
                <a:lnTo>
                  <a:pt x="411474" y="1"/>
                </a:lnTo>
                <a:lnTo>
                  <a:pt x="40290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MARTPenAnnotation639"/>
          <p:cNvSpPr/>
          <p:nvPr/>
        </p:nvSpPr>
        <p:spPr>
          <a:xfrm>
            <a:off x="6594480" y="4765680"/>
            <a:ext cx="420840" cy="171360"/>
          </a:xfrm>
          <a:custGeom>
            <a:avLst/>
            <a:gdLst>
              <a:gd name="textAreaLeft" fmla="*/ 0 w 420840"/>
              <a:gd name="textAreaRight" fmla="*/ 421200 w 420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419949" h="171334">
                <a:moveTo>
                  <a:pt x="8468" y="85608"/>
                </a:moveTo>
                <a:lnTo>
                  <a:pt x="8468" y="78226"/>
                </a:lnTo>
                <a:lnTo>
                  <a:pt x="7516" y="77830"/>
                </a:lnTo>
                <a:lnTo>
                  <a:pt x="3918" y="77388"/>
                </a:lnTo>
                <a:lnTo>
                  <a:pt x="2577" y="76318"/>
                </a:lnTo>
                <a:lnTo>
                  <a:pt x="1683" y="74652"/>
                </a:lnTo>
                <a:lnTo>
                  <a:pt x="690" y="70261"/>
                </a:lnTo>
                <a:lnTo>
                  <a:pt x="249" y="65134"/>
                </a:lnTo>
                <a:lnTo>
                  <a:pt x="0" y="61444"/>
                </a:lnTo>
                <a:lnTo>
                  <a:pt x="2482" y="58041"/>
                </a:lnTo>
                <a:lnTo>
                  <a:pt x="4477" y="55800"/>
                </a:lnTo>
                <a:lnTo>
                  <a:pt x="6760" y="52401"/>
                </a:lnTo>
                <a:lnTo>
                  <a:pt x="9234" y="48229"/>
                </a:lnTo>
                <a:lnTo>
                  <a:pt x="11836" y="43544"/>
                </a:lnTo>
                <a:lnTo>
                  <a:pt x="15476" y="39468"/>
                </a:lnTo>
                <a:lnTo>
                  <a:pt x="19808" y="35798"/>
                </a:lnTo>
                <a:lnTo>
                  <a:pt x="24601" y="32398"/>
                </a:lnTo>
                <a:lnTo>
                  <a:pt x="29701" y="29180"/>
                </a:lnTo>
                <a:lnTo>
                  <a:pt x="35006" y="26082"/>
                </a:lnTo>
                <a:lnTo>
                  <a:pt x="40447" y="23063"/>
                </a:lnTo>
                <a:lnTo>
                  <a:pt x="51574" y="17170"/>
                </a:lnTo>
                <a:lnTo>
                  <a:pt x="62869" y="12328"/>
                </a:lnTo>
                <a:lnTo>
                  <a:pt x="80890" y="8650"/>
                </a:lnTo>
                <a:lnTo>
                  <a:pt x="88182" y="6680"/>
                </a:lnTo>
                <a:lnTo>
                  <a:pt x="95901" y="4414"/>
                </a:lnTo>
                <a:lnTo>
                  <a:pt x="102951" y="2904"/>
                </a:lnTo>
                <a:lnTo>
                  <a:pt x="115866" y="1226"/>
                </a:lnTo>
                <a:lnTo>
                  <a:pt x="127955" y="480"/>
                </a:lnTo>
                <a:lnTo>
                  <a:pt x="142932" y="59"/>
                </a:lnTo>
                <a:lnTo>
                  <a:pt x="146688" y="0"/>
                </a:lnTo>
                <a:lnTo>
                  <a:pt x="150144" y="914"/>
                </a:lnTo>
                <a:lnTo>
                  <a:pt x="159561" y="5797"/>
                </a:lnTo>
                <a:lnTo>
                  <a:pt x="168383" y="8620"/>
                </a:lnTo>
                <a:lnTo>
                  <a:pt x="174156" y="12656"/>
                </a:lnTo>
                <a:lnTo>
                  <a:pt x="179897" y="17625"/>
                </a:lnTo>
                <a:lnTo>
                  <a:pt x="182762" y="20283"/>
                </a:lnTo>
                <a:lnTo>
                  <a:pt x="184672" y="23008"/>
                </a:lnTo>
                <a:lnTo>
                  <a:pt x="185944" y="25777"/>
                </a:lnTo>
                <a:lnTo>
                  <a:pt x="186793" y="28576"/>
                </a:lnTo>
                <a:lnTo>
                  <a:pt x="187359" y="31394"/>
                </a:lnTo>
                <a:lnTo>
                  <a:pt x="187736" y="34225"/>
                </a:lnTo>
                <a:lnTo>
                  <a:pt x="187988" y="37065"/>
                </a:lnTo>
                <a:lnTo>
                  <a:pt x="188155" y="40864"/>
                </a:lnTo>
                <a:lnTo>
                  <a:pt x="188342" y="50164"/>
                </a:lnTo>
                <a:lnTo>
                  <a:pt x="187439" y="55311"/>
                </a:lnTo>
                <a:lnTo>
                  <a:pt x="185884" y="60647"/>
                </a:lnTo>
                <a:lnTo>
                  <a:pt x="183896" y="66110"/>
                </a:lnTo>
                <a:lnTo>
                  <a:pt x="180665" y="70704"/>
                </a:lnTo>
                <a:lnTo>
                  <a:pt x="176606" y="74719"/>
                </a:lnTo>
                <a:lnTo>
                  <a:pt x="171996" y="78349"/>
                </a:lnTo>
                <a:lnTo>
                  <a:pt x="167969" y="82673"/>
                </a:lnTo>
                <a:lnTo>
                  <a:pt x="164332" y="87461"/>
                </a:lnTo>
                <a:lnTo>
                  <a:pt x="160955" y="92558"/>
                </a:lnTo>
                <a:lnTo>
                  <a:pt x="157751" y="96909"/>
                </a:lnTo>
                <a:lnTo>
                  <a:pt x="154663" y="100762"/>
                </a:lnTo>
                <a:lnTo>
                  <a:pt x="151651" y="104283"/>
                </a:lnTo>
                <a:lnTo>
                  <a:pt x="147738" y="108535"/>
                </a:lnTo>
                <a:lnTo>
                  <a:pt x="134083" y="122669"/>
                </a:lnTo>
                <a:lnTo>
                  <a:pt x="126844" y="130019"/>
                </a:lnTo>
                <a:lnTo>
                  <a:pt x="122628" y="133313"/>
                </a:lnTo>
                <a:lnTo>
                  <a:pt x="117912" y="136461"/>
                </a:lnTo>
                <a:lnTo>
                  <a:pt x="112863" y="139513"/>
                </a:lnTo>
                <a:lnTo>
                  <a:pt x="108545" y="142499"/>
                </a:lnTo>
                <a:lnTo>
                  <a:pt x="104714" y="145443"/>
                </a:lnTo>
                <a:lnTo>
                  <a:pt x="101207" y="148358"/>
                </a:lnTo>
                <a:lnTo>
                  <a:pt x="97916" y="151254"/>
                </a:lnTo>
                <a:lnTo>
                  <a:pt x="91720" y="157011"/>
                </a:lnTo>
                <a:lnTo>
                  <a:pt x="78775" y="169636"/>
                </a:lnTo>
                <a:lnTo>
                  <a:pt x="77247" y="170202"/>
                </a:lnTo>
                <a:lnTo>
                  <a:pt x="68873" y="171289"/>
                </a:lnTo>
                <a:lnTo>
                  <a:pt x="80442" y="171329"/>
                </a:lnTo>
                <a:lnTo>
                  <a:pt x="117569" y="171333"/>
                </a:lnTo>
                <a:lnTo>
                  <a:pt x="128712" y="168793"/>
                </a:lnTo>
                <a:lnTo>
                  <a:pt x="134351" y="166782"/>
                </a:lnTo>
                <a:lnTo>
                  <a:pt x="141920" y="164489"/>
                </a:lnTo>
                <a:lnTo>
                  <a:pt x="169824" y="156711"/>
                </a:lnTo>
                <a:lnTo>
                  <a:pt x="187814" y="151182"/>
                </a:lnTo>
                <a:lnTo>
                  <a:pt x="196612" y="149326"/>
                </a:lnTo>
                <a:lnTo>
                  <a:pt x="205336" y="148090"/>
                </a:lnTo>
                <a:lnTo>
                  <a:pt x="214008" y="147264"/>
                </a:lnTo>
                <a:lnTo>
                  <a:pt x="222647" y="145762"/>
                </a:lnTo>
                <a:lnTo>
                  <a:pt x="231264" y="143808"/>
                </a:lnTo>
                <a:lnTo>
                  <a:pt x="239867" y="141553"/>
                </a:lnTo>
                <a:lnTo>
                  <a:pt x="248458" y="139097"/>
                </a:lnTo>
                <a:lnTo>
                  <a:pt x="275156" y="131090"/>
                </a:lnTo>
                <a:lnTo>
                  <a:pt x="295906" y="125507"/>
                </a:lnTo>
                <a:lnTo>
                  <a:pt x="304868" y="122685"/>
                </a:lnTo>
                <a:lnTo>
                  <a:pt x="312748" y="119851"/>
                </a:lnTo>
                <a:lnTo>
                  <a:pt x="319907" y="117009"/>
                </a:lnTo>
                <a:lnTo>
                  <a:pt x="327537" y="115114"/>
                </a:lnTo>
                <a:lnTo>
                  <a:pt x="335480" y="113851"/>
                </a:lnTo>
                <a:lnTo>
                  <a:pt x="343633" y="113009"/>
                </a:lnTo>
                <a:lnTo>
                  <a:pt x="350974" y="112448"/>
                </a:lnTo>
                <a:lnTo>
                  <a:pt x="357773" y="112074"/>
                </a:lnTo>
                <a:lnTo>
                  <a:pt x="370407" y="111658"/>
                </a:lnTo>
                <a:lnTo>
                  <a:pt x="382373" y="111473"/>
                </a:lnTo>
                <a:lnTo>
                  <a:pt x="387278" y="112376"/>
                </a:lnTo>
                <a:lnTo>
                  <a:pt x="398732" y="117246"/>
                </a:lnTo>
                <a:lnTo>
                  <a:pt x="405121" y="118719"/>
                </a:lnTo>
                <a:lnTo>
                  <a:pt x="407206" y="120065"/>
                </a:lnTo>
                <a:lnTo>
                  <a:pt x="408596" y="121914"/>
                </a:lnTo>
                <a:lnTo>
                  <a:pt x="409523" y="124099"/>
                </a:lnTo>
                <a:lnTo>
                  <a:pt x="413092" y="129067"/>
                </a:lnTo>
                <a:lnTo>
                  <a:pt x="415377" y="131726"/>
                </a:lnTo>
                <a:lnTo>
                  <a:pt x="416901" y="134450"/>
                </a:lnTo>
                <a:lnTo>
                  <a:pt x="417917" y="137220"/>
                </a:lnTo>
                <a:lnTo>
                  <a:pt x="419948" y="14561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MARTPenAnnotation640"/>
          <p:cNvSpPr/>
          <p:nvPr/>
        </p:nvSpPr>
        <p:spPr>
          <a:xfrm>
            <a:off x="5686560" y="5683320"/>
            <a:ext cx="471240" cy="334800"/>
          </a:xfrm>
          <a:custGeom>
            <a:avLst/>
            <a:gdLst>
              <a:gd name="textAreaLeft" fmla="*/ 0 w 471240"/>
              <a:gd name="textAreaRight" fmla="*/ 471600 w 47124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471488" h="334318">
                <a:moveTo>
                  <a:pt x="0" y="334317"/>
                </a:moveTo>
                <a:lnTo>
                  <a:pt x="0" y="326936"/>
                </a:lnTo>
                <a:lnTo>
                  <a:pt x="4550" y="321546"/>
                </a:lnTo>
                <a:lnTo>
                  <a:pt x="6843" y="320088"/>
                </a:lnTo>
                <a:lnTo>
                  <a:pt x="14621" y="317083"/>
                </a:lnTo>
                <a:lnTo>
                  <a:pt x="25784" y="308017"/>
                </a:lnTo>
                <a:lnTo>
                  <a:pt x="32414" y="301673"/>
                </a:lnTo>
                <a:lnTo>
                  <a:pt x="74444" y="259863"/>
                </a:lnTo>
                <a:lnTo>
                  <a:pt x="81062" y="254201"/>
                </a:lnTo>
                <a:lnTo>
                  <a:pt x="88331" y="248521"/>
                </a:lnTo>
                <a:lnTo>
                  <a:pt x="96035" y="242830"/>
                </a:lnTo>
                <a:lnTo>
                  <a:pt x="104028" y="236178"/>
                </a:lnTo>
                <a:lnTo>
                  <a:pt x="112214" y="228886"/>
                </a:lnTo>
                <a:lnTo>
                  <a:pt x="128930" y="213164"/>
                </a:lnTo>
                <a:lnTo>
                  <a:pt x="171495" y="171289"/>
                </a:lnTo>
                <a:lnTo>
                  <a:pt x="180052" y="163720"/>
                </a:lnTo>
                <a:lnTo>
                  <a:pt x="188615" y="156767"/>
                </a:lnTo>
                <a:lnTo>
                  <a:pt x="260535" y="102502"/>
                </a:lnTo>
                <a:lnTo>
                  <a:pt x="280576" y="88096"/>
                </a:lnTo>
                <a:lnTo>
                  <a:pt x="289920" y="81586"/>
                </a:lnTo>
                <a:lnTo>
                  <a:pt x="299960" y="75342"/>
                </a:lnTo>
                <a:lnTo>
                  <a:pt x="310463" y="69275"/>
                </a:lnTo>
                <a:lnTo>
                  <a:pt x="321276" y="63324"/>
                </a:lnTo>
                <a:lnTo>
                  <a:pt x="331341" y="57453"/>
                </a:lnTo>
                <a:lnTo>
                  <a:pt x="350145" y="45849"/>
                </a:lnTo>
                <a:lnTo>
                  <a:pt x="359160" y="41040"/>
                </a:lnTo>
                <a:lnTo>
                  <a:pt x="368027" y="36881"/>
                </a:lnTo>
                <a:lnTo>
                  <a:pt x="376797" y="33156"/>
                </a:lnTo>
                <a:lnTo>
                  <a:pt x="385500" y="28768"/>
                </a:lnTo>
                <a:lnTo>
                  <a:pt x="394160" y="23937"/>
                </a:lnTo>
                <a:lnTo>
                  <a:pt x="402790" y="18813"/>
                </a:lnTo>
                <a:lnTo>
                  <a:pt x="414920" y="13118"/>
                </a:lnTo>
                <a:lnTo>
                  <a:pt x="429644" y="7372"/>
                </a:lnTo>
                <a:lnTo>
                  <a:pt x="439555" y="3270"/>
                </a:lnTo>
                <a:lnTo>
                  <a:pt x="452207" y="421"/>
                </a:lnTo>
                <a:lnTo>
                  <a:pt x="466086" y="27"/>
                </a:lnTo>
                <a:lnTo>
                  <a:pt x="469887" y="0"/>
                </a:lnTo>
                <a:lnTo>
                  <a:pt x="470420" y="949"/>
                </a:lnTo>
                <a:lnTo>
                  <a:pt x="471487" y="856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MARTPenAnnotation641"/>
          <p:cNvSpPr/>
          <p:nvPr/>
        </p:nvSpPr>
        <p:spPr>
          <a:xfrm>
            <a:off x="5994360" y="5813280"/>
            <a:ext cx="300240" cy="419400"/>
          </a:xfrm>
          <a:custGeom>
            <a:avLst/>
            <a:gdLst>
              <a:gd name="textAreaLeft" fmla="*/ 0 w 300240"/>
              <a:gd name="textAreaRight" fmla="*/ 300600 w 300240"/>
              <a:gd name="textAreaTop" fmla="*/ 0 h 419400"/>
              <a:gd name="textAreaBottom" fmla="*/ 419760 h 419400"/>
            </a:gdLst>
            <a:ahLst/>
            <a:rect l="textAreaLeft" t="textAreaTop" r="textAreaRight" b="textAreaBottom"/>
            <a:pathLst>
              <a:path w="298658" h="418716">
                <a:moveTo>
                  <a:pt x="180023" y="58670"/>
                </a:moveTo>
                <a:lnTo>
                  <a:pt x="175473" y="58670"/>
                </a:lnTo>
                <a:lnTo>
                  <a:pt x="174132" y="57718"/>
                </a:lnTo>
                <a:lnTo>
                  <a:pt x="173238" y="56130"/>
                </a:lnTo>
                <a:lnTo>
                  <a:pt x="171804" y="51289"/>
                </a:lnTo>
                <a:lnTo>
                  <a:pt x="171555" y="45900"/>
                </a:lnTo>
                <a:lnTo>
                  <a:pt x="172473" y="44441"/>
                </a:lnTo>
                <a:lnTo>
                  <a:pt x="174037" y="43469"/>
                </a:lnTo>
                <a:lnTo>
                  <a:pt x="176032" y="42822"/>
                </a:lnTo>
                <a:lnTo>
                  <a:pt x="180790" y="39561"/>
                </a:lnTo>
                <a:lnTo>
                  <a:pt x="183391" y="37359"/>
                </a:lnTo>
                <a:lnTo>
                  <a:pt x="187031" y="35890"/>
                </a:lnTo>
                <a:lnTo>
                  <a:pt x="196155" y="34258"/>
                </a:lnTo>
                <a:lnTo>
                  <a:pt x="199350" y="32870"/>
                </a:lnTo>
                <a:lnTo>
                  <a:pt x="201480" y="30993"/>
                </a:lnTo>
                <a:lnTo>
                  <a:pt x="202900" y="28789"/>
                </a:lnTo>
                <a:lnTo>
                  <a:pt x="209558" y="23799"/>
                </a:lnTo>
                <a:lnTo>
                  <a:pt x="217915" y="18407"/>
                </a:lnTo>
                <a:lnTo>
                  <a:pt x="224804" y="12835"/>
                </a:lnTo>
                <a:lnTo>
                  <a:pt x="231041" y="9724"/>
                </a:lnTo>
                <a:lnTo>
                  <a:pt x="237940" y="7389"/>
                </a:lnTo>
                <a:lnTo>
                  <a:pt x="242447" y="5433"/>
                </a:lnTo>
                <a:lnTo>
                  <a:pt x="251582" y="1672"/>
                </a:lnTo>
                <a:lnTo>
                  <a:pt x="258817" y="0"/>
                </a:lnTo>
                <a:lnTo>
                  <a:pt x="262080" y="506"/>
                </a:lnTo>
                <a:lnTo>
                  <a:pt x="271223" y="4818"/>
                </a:lnTo>
                <a:lnTo>
                  <a:pt x="280306" y="6758"/>
                </a:lnTo>
                <a:lnTo>
                  <a:pt x="281168" y="6917"/>
                </a:lnTo>
                <a:lnTo>
                  <a:pt x="281743" y="7975"/>
                </a:lnTo>
                <a:lnTo>
                  <a:pt x="282382" y="11691"/>
                </a:lnTo>
                <a:lnTo>
                  <a:pt x="282826" y="24591"/>
                </a:lnTo>
                <a:lnTo>
                  <a:pt x="282880" y="40403"/>
                </a:lnTo>
                <a:lnTo>
                  <a:pt x="280347" y="53409"/>
                </a:lnTo>
                <a:lnTo>
                  <a:pt x="278338" y="60878"/>
                </a:lnTo>
                <a:lnTo>
                  <a:pt x="276047" y="67762"/>
                </a:lnTo>
                <a:lnTo>
                  <a:pt x="270961" y="80491"/>
                </a:lnTo>
                <a:lnTo>
                  <a:pt x="267318" y="87505"/>
                </a:lnTo>
                <a:lnTo>
                  <a:pt x="262984" y="95038"/>
                </a:lnTo>
                <a:lnTo>
                  <a:pt x="258190" y="102918"/>
                </a:lnTo>
                <a:lnTo>
                  <a:pt x="254043" y="110076"/>
                </a:lnTo>
                <a:lnTo>
                  <a:pt x="246893" y="123110"/>
                </a:lnTo>
                <a:lnTo>
                  <a:pt x="238001" y="132712"/>
                </a:lnTo>
                <a:lnTo>
                  <a:pt x="232962" y="136607"/>
                </a:lnTo>
                <a:lnTo>
                  <a:pt x="224824" y="146014"/>
                </a:lnTo>
                <a:lnTo>
                  <a:pt x="218032" y="155592"/>
                </a:lnTo>
                <a:lnTo>
                  <a:pt x="211839" y="163024"/>
                </a:lnTo>
                <a:lnTo>
                  <a:pt x="203371" y="172042"/>
                </a:lnTo>
                <a:lnTo>
                  <a:pt x="194210" y="180496"/>
                </a:lnTo>
                <a:lnTo>
                  <a:pt x="183698" y="186206"/>
                </a:lnTo>
                <a:lnTo>
                  <a:pt x="175502" y="192555"/>
                </a:lnTo>
                <a:lnTo>
                  <a:pt x="171465" y="195819"/>
                </a:lnTo>
                <a:lnTo>
                  <a:pt x="171452" y="188449"/>
                </a:lnTo>
                <a:lnTo>
                  <a:pt x="172404" y="188051"/>
                </a:lnTo>
                <a:lnTo>
                  <a:pt x="180776" y="187414"/>
                </a:lnTo>
                <a:lnTo>
                  <a:pt x="183383" y="187362"/>
                </a:lnTo>
                <a:lnTo>
                  <a:pt x="191359" y="184764"/>
                </a:lnTo>
                <a:lnTo>
                  <a:pt x="200301" y="181387"/>
                </a:lnTo>
                <a:lnTo>
                  <a:pt x="207450" y="179886"/>
                </a:lnTo>
                <a:lnTo>
                  <a:pt x="216343" y="176679"/>
                </a:lnTo>
                <a:lnTo>
                  <a:pt x="221381" y="174490"/>
                </a:lnTo>
                <a:lnTo>
                  <a:pt x="229519" y="172058"/>
                </a:lnTo>
                <a:lnTo>
                  <a:pt x="236312" y="170977"/>
                </a:lnTo>
                <a:lnTo>
                  <a:pt x="242505" y="170497"/>
                </a:lnTo>
                <a:lnTo>
                  <a:pt x="250973" y="170284"/>
                </a:lnTo>
                <a:lnTo>
                  <a:pt x="255898" y="170227"/>
                </a:lnTo>
                <a:lnTo>
                  <a:pt x="261087" y="171141"/>
                </a:lnTo>
                <a:lnTo>
                  <a:pt x="266450" y="172704"/>
                </a:lnTo>
                <a:lnTo>
                  <a:pt x="271931" y="174697"/>
                </a:lnTo>
                <a:lnTo>
                  <a:pt x="280561" y="179453"/>
                </a:lnTo>
                <a:lnTo>
                  <a:pt x="284196" y="182054"/>
                </a:lnTo>
                <a:lnTo>
                  <a:pt x="286619" y="184741"/>
                </a:lnTo>
                <a:lnTo>
                  <a:pt x="288235" y="187485"/>
                </a:lnTo>
                <a:lnTo>
                  <a:pt x="289311" y="190267"/>
                </a:lnTo>
                <a:lnTo>
                  <a:pt x="293048" y="195898"/>
                </a:lnTo>
                <a:lnTo>
                  <a:pt x="295378" y="198732"/>
                </a:lnTo>
                <a:lnTo>
                  <a:pt x="296931" y="202527"/>
                </a:lnTo>
                <a:lnTo>
                  <a:pt x="298657" y="211824"/>
                </a:lnTo>
                <a:lnTo>
                  <a:pt x="296885" y="222306"/>
                </a:lnTo>
                <a:lnTo>
                  <a:pt x="293874" y="233315"/>
                </a:lnTo>
                <a:lnTo>
                  <a:pt x="292536" y="244557"/>
                </a:lnTo>
                <a:lnTo>
                  <a:pt x="291226" y="251175"/>
                </a:lnTo>
                <a:lnTo>
                  <a:pt x="289401" y="258444"/>
                </a:lnTo>
                <a:lnTo>
                  <a:pt x="287232" y="266148"/>
                </a:lnTo>
                <a:lnTo>
                  <a:pt x="283881" y="273189"/>
                </a:lnTo>
                <a:lnTo>
                  <a:pt x="275077" y="286092"/>
                </a:lnTo>
                <a:lnTo>
                  <a:pt x="270063" y="292200"/>
                </a:lnTo>
                <a:lnTo>
                  <a:pt x="264814" y="298176"/>
                </a:lnTo>
                <a:lnTo>
                  <a:pt x="259411" y="304066"/>
                </a:lnTo>
                <a:lnTo>
                  <a:pt x="248326" y="315690"/>
                </a:lnTo>
                <a:lnTo>
                  <a:pt x="242704" y="321457"/>
                </a:lnTo>
                <a:lnTo>
                  <a:pt x="236098" y="327206"/>
                </a:lnTo>
                <a:lnTo>
                  <a:pt x="228836" y="332944"/>
                </a:lnTo>
                <a:lnTo>
                  <a:pt x="221137" y="338674"/>
                </a:lnTo>
                <a:lnTo>
                  <a:pt x="215053" y="343447"/>
                </a:lnTo>
                <a:lnTo>
                  <a:pt x="205751" y="351290"/>
                </a:lnTo>
                <a:lnTo>
                  <a:pt x="200033" y="355668"/>
                </a:lnTo>
                <a:lnTo>
                  <a:pt x="193363" y="360491"/>
                </a:lnTo>
                <a:lnTo>
                  <a:pt x="186059" y="365612"/>
                </a:lnTo>
                <a:lnTo>
                  <a:pt x="179285" y="369978"/>
                </a:lnTo>
                <a:lnTo>
                  <a:pt x="172863" y="373841"/>
                </a:lnTo>
                <a:lnTo>
                  <a:pt x="166677" y="377369"/>
                </a:lnTo>
                <a:lnTo>
                  <a:pt x="154724" y="383829"/>
                </a:lnTo>
                <a:lnTo>
                  <a:pt x="148870" y="386885"/>
                </a:lnTo>
                <a:lnTo>
                  <a:pt x="143061" y="388923"/>
                </a:lnTo>
                <a:lnTo>
                  <a:pt x="137285" y="390281"/>
                </a:lnTo>
                <a:lnTo>
                  <a:pt x="131528" y="391187"/>
                </a:lnTo>
                <a:lnTo>
                  <a:pt x="125786" y="392743"/>
                </a:lnTo>
                <a:lnTo>
                  <a:pt x="120053" y="394732"/>
                </a:lnTo>
                <a:lnTo>
                  <a:pt x="114325" y="397012"/>
                </a:lnTo>
                <a:lnTo>
                  <a:pt x="108602" y="398531"/>
                </a:lnTo>
                <a:lnTo>
                  <a:pt x="102882" y="399544"/>
                </a:lnTo>
                <a:lnTo>
                  <a:pt x="97163" y="400220"/>
                </a:lnTo>
                <a:lnTo>
                  <a:pt x="91446" y="401622"/>
                </a:lnTo>
                <a:lnTo>
                  <a:pt x="85729" y="403510"/>
                </a:lnTo>
                <a:lnTo>
                  <a:pt x="80013" y="405721"/>
                </a:lnTo>
                <a:lnTo>
                  <a:pt x="74297" y="407195"/>
                </a:lnTo>
                <a:lnTo>
                  <a:pt x="68581" y="408177"/>
                </a:lnTo>
                <a:lnTo>
                  <a:pt x="62866" y="408832"/>
                </a:lnTo>
                <a:lnTo>
                  <a:pt x="57151" y="410222"/>
                </a:lnTo>
                <a:lnTo>
                  <a:pt x="51436" y="412100"/>
                </a:lnTo>
                <a:lnTo>
                  <a:pt x="45721" y="414305"/>
                </a:lnTo>
                <a:lnTo>
                  <a:pt x="40006" y="415776"/>
                </a:lnTo>
                <a:lnTo>
                  <a:pt x="34291" y="416755"/>
                </a:lnTo>
                <a:lnTo>
                  <a:pt x="28575" y="417409"/>
                </a:lnTo>
                <a:lnTo>
                  <a:pt x="19686" y="418134"/>
                </a:lnTo>
                <a:lnTo>
                  <a:pt x="12559" y="418457"/>
                </a:lnTo>
                <a:lnTo>
                  <a:pt x="0" y="41871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MARTPenAnnotation642"/>
          <p:cNvSpPr/>
          <p:nvPr/>
        </p:nvSpPr>
        <p:spPr>
          <a:xfrm>
            <a:off x="7623000" y="5529240"/>
            <a:ext cx="189000" cy="25560"/>
          </a:xfrm>
          <a:custGeom>
            <a:avLst/>
            <a:gdLst>
              <a:gd name="textAreaLeft" fmla="*/ 0 w 189000"/>
              <a:gd name="textAreaRight" fmla="*/ 189360 w 1890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88492" h="25718">
                <a:moveTo>
                  <a:pt x="8468" y="25717"/>
                </a:moveTo>
                <a:lnTo>
                  <a:pt x="0" y="25717"/>
                </a:lnTo>
                <a:lnTo>
                  <a:pt x="4477" y="25717"/>
                </a:lnTo>
                <a:lnTo>
                  <a:pt x="5808" y="24765"/>
                </a:lnTo>
                <a:lnTo>
                  <a:pt x="6695" y="23178"/>
                </a:lnTo>
                <a:lnTo>
                  <a:pt x="8365" y="17498"/>
                </a:lnTo>
                <a:lnTo>
                  <a:pt x="12988" y="17250"/>
                </a:lnTo>
                <a:lnTo>
                  <a:pt x="20390" y="17176"/>
                </a:lnTo>
                <a:lnTo>
                  <a:pt x="23084" y="16213"/>
                </a:lnTo>
                <a:lnTo>
                  <a:pt x="25832" y="14619"/>
                </a:lnTo>
                <a:lnTo>
                  <a:pt x="28616" y="12603"/>
                </a:lnTo>
                <a:lnTo>
                  <a:pt x="31425" y="11260"/>
                </a:lnTo>
                <a:lnTo>
                  <a:pt x="34251" y="10364"/>
                </a:lnTo>
                <a:lnTo>
                  <a:pt x="37086" y="9767"/>
                </a:lnTo>
                <a:lnTo>
                  <a:pt x="42777" y="9104"/>
                </a:lnTo>
                <a:lnTo>
                  <a:pt x="45628" y="8926"/>
                </a:lnTo>
                <a:lnTo>
                  <a:pt x="53877" y="8730"/>
                </a:lnTo>
                <a:lnTo>
                  <a:pt x="95755" y="8575"/>
                </a:lnTo>
                <a:lnTo>
                  <a:pt x="99997" y="7622"/>
                </a:lnTo>
                <a:lnTo>
                  <a:pt x="104730" y="6034"/>
                </a:lnTo>
                <a:lnTo>
                  <a:pt x="109790" y="4023"/>
                </a:lnTo>
                <a:lnTo>
                  <a:pt x="114116" y="2682"/>
                </a:lnTo>
                <a:lnTo>
                  <a:pt x="117952" y="1788"/>
                </a:lnTo>
                <a:lnTo>
                  <a:pt x="121463" y="1192"/>
                </a:lnTo>
                <a:lnTo>
                  <a:pt x="124756" y="795"/>
                </a:lnTo>
                <a:lnTo>
                  <a:pt x="127903" y="530"/>
                </a:lnTo>
                <a:lnTo>
                  <a:pt x="130954" y="353"/>
                </a:lnTo>
                <a:lnTo>
                  <a:pt x="139423" y="157"/>
                </a:lnTo>
                <a:lnTo>
                  <a:pt x="18849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MARTPenAnnotation643"/>
          <p:cNvSpPr/>
          <p:nvPr/>
        </p:nvSpPr>
        <p:spPr>
          <a:xfrm>
            <a:off x="7589880" y="5607000"/>
            <a:ext cx="239760" cy="15840"/>
          </a:xfrm>
          <a:custGeom>
            <a:avLst/>
            <a:gdLst>
              <a:gd name="textAreaLeft" fmla="*/ 0 w 239760"/>
              <a:gd name="textAreaRight" fmla="*/ 240120 w 2397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39924" h="17115">
                <a:moveTo>
                  <a:pt x="17038" y="8572"/>
                </a:moveTo>
                <a:lnTo>
                  <a:pt x="0" y="8572"/>
                </a:lnTo>
                <a:lnTo>
                  <a:pt x="2480" y="11113"/>
                </a:lnTo>
                <a:lnTo>
                  <a:pt x="4476" y="13123"/>
                </a:lnTo>
                <a:lnTo>
                  <a:pt x="6758" y="14464"/>
                </a:lnTo>
                <a:lnTo>
                  <a:pt x="9232" y="15357"/>
                </a:lnTo>
                <a:lnTo>
                  <a:pt x="15496" y="16791"/>
                </a:lnTo>
                <a:lnTo>
                  <a:pt x="21132" y="17040"/>
                </a:lnTo>
                <a:lnTo>
                  <a:pt x="33385" y="17114"/>
                </a:lnTo>
                <a:lnTo>
                  <a:pt x="38413" y="16172"/>
                </a:lnTo>
                <a:lnTo>
                  <a:pt x="43671" y="14591"/>
                </a:lnTo>
                <a:lnTo>
                  <a:pt x="49081" y="12585"/>
                </a:lnTo>
                <a:lnTo>
                  <a:pt x="53639" y="11247"/>
                </a:lnTo>
                <a:lnTo>
                  <a:pt x="57631" y="10355"/>
                </a:lnTo>
                <a:lnTo>
                  <a:pt x="61245" y="9761"/>
                </a:lnTo>
                <a:lnTo>
                  <a:pt x="64607" y="9365"/>
                </a:lnTo>
                <a:lnTo>
                  <a:pt x="70882" y="8924"/>
                </a:lnTo>
                <a:lnTo>
                  <a:pt x="79386" y="8729"/>
                </a:lnTo>
                <a:lnTo>
                  <a:pt x="84321" y="8677"/>
                </a:lnTo>
                <a:lnTo>
                  <a:pt x="89515" y="7689"/>
                </a:lnTo>
                <a:lnTo>
                  <a:pt x="94884" y="6078"/>
                </a:lnTo>
                <a:lnTo>
                  <a:pt x="100367" y="4053"/>
                </a:lnTo>
                <a:lnTo>
                  <a:pt x="104976" y="2701"/>
                </a:lnTo>
                <a:lnTo>
                  <a:pt x="109001" y="1801"/>
                </a:lnTo>
                <a:lnTo>
                  <a:pt x="112636" y="1200"/>
                </a:lnTo>
                <a:lnTo>
                  <a:pt x="116965" y="800"/>
                </a:lnTo>
                <a:lnTo>
                  <a:pt x="121756" y="533"/>
                </a:lnTo>
                <a:lnTo>
                  <a:pt x="132159" y="237"/>
                </a:lnTo>
                <a:lnTo>
                  <a:pt x="181442" y="2"/>
                </a:lnTo>
                <a:lnTo>
                  <a:pt x="215836" y="0"/>
                </a:lnTo>
                <a:lnTo>
                  <a:pt x="219103" y="952"/>
                </a:lnTo>
                <a:lnTo>
                  <a:pt x="222233" y="2540"/>
                </a:lnTo>
                <a:lnTo>
                  <a:pt x="229549" y="7381"/>
                </a:lnTo>
                <a:lnTo>
                  <a:pt x="231102" y="7778"/>
                </a:lnTo>
                <a:lnTo>
                  <a:pt x="235367" y="8219"/>
                </a:lnTo>
                <a:lnTo>
                  <a:pt x="239923" y="85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MARTPenAnnotation644"/>
          <p:cNvSpPr/>
          <p:nvPr/>
        </p:nvSpPr>
        <p:spPr>
          <a:xfrm>
            <a:off x="7907400" y="5365800"/>
            <a:ext cx="179280" cy="27000"/>
          </a:xfrm>
          <a:custGeom>
            <a:avLst/>
            <a:gdLst>
              <a:gd name="textAreaLeft" fmla="*/ 0 w 179280"/>
              <a:gd name="textAreaRight" fmla="*/ 179640 w 1792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80024" h="25687">
                <a:moveTo>
                  <a:pt x="0" y="17144"/>
                </a:moveTo>
                <a:lnTo>
                  <a:pt x="7382" y="17144"/>
                </a:lnTo>
                <a:lnTo>
                  <a:pt x="8731" y="18097"/>
                </a:lnTo>
                <a:lnTo>
                  <a:pt x="10582" y="19685"/>
                </a:lnTo>
                <a:lnTo>
                  <a:pt x="15850" y="24526"/>
                </a:lnTo>
                <a:lnTo>
                  <a:pt x="19109" y="25188"/>
                </a:lnTo>
                <a:lnTo>
                  <a:pt x="23732" y="25482"/>
                </a:lnTo>
                <a:lnTo>
                  <a:pt x="28964" y="25613"/>
                </a:lnTo>
                <a:lnTo>
                  <a:pt x="37263" y="25686"/>
                </a:lnTo>
                <a:lnTo>
                  <a:pt x="39130" y="24744"/>
                </a:lnTo>
                <a:lnTo>
                  <a:pt x="40374" y="23163"/>
                </a:lnTo>
                <a:lnTo>
                  <a:pt x="41204" y="21157"/>
                </a:lnTo>
                <a:lnTo>
                  <a:pt x="42708" y="19820"/>
                </a:lnTo>
                <a:lnTo>
                  <a:pt x="44666" y="18928"/>
                </a:lnTo>
                <a:lnTo>
                  <a:pt x="46921" y="18333"/>
                </a:lnTo>
                <a:lnTo>
                  <a:pt x="51970" y="17673"/>
                </a:lnTo>
                <a:lnTo>
                  <a:pt x="54649" y="17497"/>
                </a:lnTo>
                <a:lnTo>
                  <a:pt x="62706" y="17301"/>
                </a:lnTo>
                <a:lnTo>
                  <a:pt x="78850" y="17175"/>
                </a:lnTo>
                <a:lnTo>
                  <a:pt x="82094" y="16213"/>
                </a:lnTo>
                <a:lnTo>
                  <a:pt x="85209" y="14619"/>
                </a:lnTo>
                <a:lnTo>
                  <a:pt x="88239" y="12603"/>
                </a:lnTo>
                <a:lnTo>
                  <a:pt x="92164" y="11260"/>
                </a:lnTo>
                <a:lnTo>
                  <a:pt x="96684" y="10363"/>
                </a:lnTo>
                <a:lnTo>
                  <a:pt x="108527" y="8926"/>
                </a:lnTo>
                <a:lnTo>
                  <a:pt x="112687" y="8729"/>
                </a:lnTo>
                <a:lnTo>
                  <a:pt x="118663" y="8642"/>
                </a:lnTo>
                <a:lnTo>
                  <a:pt x="148845" y="8573"/>
                </a:lnTo>
                <a:lnTo>
                  <a:pt x="150665" y="7620"/>
                </a:lnTo>
                <a:lnTo>
                  <a:pt x="151878" y="6032"/>
                </a:lnTo>
                <a:lnTo>
                  <a:pt x="152687" y="4022"/>
                </a:lnTo>
                <a:lnTo>
                  <a:pt x="154179" y="2681"/>
                </a:lnTo>
                <a:lnTo>
                  <a:pt x="156126" y="1788"/>
                </a:lnTo>
                <a:lnTo>
                  <a:pt x="158377" y="1192"/>
                </a:lnTo>
                <a:lnTo>
                  <a:pt x="163417" y="530"/>
                </a:lnTo>
                <a:lnTo>
                  <a:pt x="171311" y="9"/>
                </a:lnTo>
                <a:lnTo>
                  <a:pt x="1800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MARTPenAnnotation645"/>
          <p:cNvSpPr/>
          <p:nvPr/>
        </p:nvSpPr>
        <p:spPr>
          <a:xfrm>
            <a:off x="8147160" y="5221440"/>
            <a:ext cx="179280" cy="299880"/>
          </a:xfrm>
          <a:custGeom>
            <a:avLst/>
            <a:gdLst>
              <a:gd name="textAreaLeft" fmla="*/ 0 w 179280"/>
              <a:gd name="textAreaRight" fmla="*/ 179640 w 1792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179553" h="300039">
                <a:moveTo>
                  <a:pt x="128587" y="8573"/>
                </a:moveTo>
                <a:lnTo>
                  <a:pt x="133526" y="8573"/>
                </a:lnTo>
                <a:lnTo>
                  <a:pt x="57252" y="8573"/>
                </a:lnTo>
                <a:lnTo>
                  <a:pt x="54361" y="7620"/>
                </a:lnTo>
                <a:lnTo>
                  <a:pt x="51480" y="6033"/>
                </a:lnTo>
                <a:lnTo>
                  <a:pt x="48608" y="4022"/>
                </a:lnTo>
                <a:lnTo>
                  <a:pt x="45740" y="2681"/>
                </a:lnTo>
                <a:lnTo>
                  <a:pt x="42876" y="1787"/>
                </a:lnTo>
                <a:lnTo>
                  <a:pt x="40014" y="1192"/>
                </a:lnTo>
                <a:lnTo>
                  <a:pt x="37154" y="794"/>
                </a:lnTo>
                <a:lnTo>
                  <a:pt x="34294" y="530"/>
                </a:lnTo>
                <a:lnTo>
                  <a:pt x="25762" y="3"/>
                </a:lnTo>
                <a:lnTo>
                  <a:pt x="25721" y="1"/>
                </a:lnTo>
                <a:lnTo>
                  <a:pt x="25720" y="0"/>
                </a:lnTo>
                <a:lnTo>
                  <a:pt x="25718" y="0"/>
                </a:lnTo>
                <a:lnTo>
                  <a:pt x="25718" y="20400"/>
                </a:lnTo>
                <a:lnTo>
                  <a:pt x="28257" y="28434"/>
                </a:lnTo>
                <a:lnTo>
                  <a:pt x="31609" y="37403"/>
                </a:lnTo>
                <a:lnTo>
                  <a:pt x="33099" y="44563"/>
                </a:lnTo>
                <a:lnTo>
                  <a:pt x="33760" y="50921"/>
                </a:lnTo>
                <a:lnTo>
                  <a:pt x="34054" y="57875"/>
                </a:lnTo>
                <a:lnTo>
                  <a:pt x="34259" y="78789"/>
                </a:lnTo>
                <a:lnTo>
                  <a:pt x="34289" y="101145"/>
                </a:lnTo>
                <a:lnTo>
                  <a:pt x="35243" y="101720"/>
                </a:lnTo>
                <a:lnTo>
                  <a:pt x="38841" y="102359"/>
                </a:lnTo>
                <a:lnTo>
                  <a:pt x="40182" y="103482"/>
                </a:lnTo>
                <a:lnTo>
                  <a:pt x="41075" y="105183"/>
                </a:lnTo>
                <a:lnTo>
                  <a:pt x="41671" y="107269"/>
                </a:lnTo>
                <a:lnTo>
                  <a:pt x="43020" y="108661"/>
                </a:lnTo>
                <a:lnTo>
                  <a:pt x="44873" y="109588"/>
                </a:lnTo>
                <a:lnTo>
                  <a:pt x="49471" y="110619"/>
                </a:lnTo>
                <a:lnTo>
                  <a:pt x="54689" y="111076"/>
                </a:lnTo>
                <a:lnTo>
                  <a:pt x="59909" y="111370"/>
                </a:lnTo>
                <a:lnTo>
                  <a:pt x="64092" y="111410"/>
                </a:lnTo>
                <a:lnTo>
                  <a:pt x="66541" y="110469"/>
                </a:lnTo>
                <a:lnTo>
                  <a:pt x="71801" y="106882"/>
                </a:lnTo>
                <a:lnTo>
                  <a:pt x="75490" y="105545"/>
                </a:lnTo>
                <a:lnTo>
                  <a:pt x="79855" y="104653"/>
                </a:lnTo>
                <a:lnTo>
                  <a:pt x="84668" y="104059"/>
                </a:lnTo>
                <a:lnTo>
                  <a:pt x="88831" y="103663"/>
                </a:lnTo>
                <a:lnTo>
                  <a:pt x="92558" y="103398"/>
                </a:lnTo>
                <a:lnTo>
                  <a:pt x="95996" y="103222"/>
                </a:lnTo>
                <a:lnTo>
                  <a:pt x="102355" y="103026"/>
                </a:lnTo>
                <a:lnTo>
                  <a:pt x="114199" y="102901"/>
                </a:lnTo>
                <a:lnTo>
                  <a:pt x="138817" y="102873"/>
                </a:lnTo>
                <a:lnTo>
                  <a:pt x="142076" y="103824"/>
                </a:lnTo>
                <a:lnTo>
                  <a:pt x="145199" y="105412"/>
                </a:lnTo>
                <a:lnTo>
                  <a:pt x="148235" y="107422"/>
                </a:lnTo>
                <a:lnTo>
                  <a:pt x="151211" y="109714"/>
                </a:lnTo>
                <a:lnTo>
                  <a:pt x="154147" y="112196"/>
                </a:lnTo>
                <a:lnTo>
                  <a:pt x="157058" y="114802"/>
                </a:lnTo>
                <a:lnTo>
                  <a:pt x="158997" y="117492"/>
                </a:lnTo>
                <a:lnTo>
                  <a:pt x="162680" y="125829"/>
                </a:lnTo>
                <a:lnTo>
                  <a:pt x="166918" y="131489"/>
                </a:lnTo>
                <a:lnTo>
                  <a:pt x="171975" y="137180"/>
                </a:lnTo>
                <a:lnTo>
                  <a:pt x="174659" y="140030"/>
                </a:lnTo>
                <a:lnTo>
                  <a:pt x="176446" y="143836"/>
                </a:lnTo>
                <a:lnTo>
                  <a:pt x="178433" y="153145"/>
                </a:lnTo>
                <a:lnTo>
                  <a:pt x="178963" y="158294"/>
                </a:lnTo>
                <a:lnTo>
                  <a:pt x="179316" y="163632"/>
                </a:lnTo>
                <a:lnTo>
                  <a:pt x="179552" y="169096"/>
                </a:lnTo>
                <a:lnTo>
                  <a:pt x="178756" y="173691"/>
                </a:lnTo>
                <a:lnTo>
                  <a:pt x="175332" y="181336"/>
                </a:lnTo>
                <a:lnTo>
                  <a:pt x="168050" y="195546"/>
                </a:lnTo>
                <a:lnTo>
                  <a:pt x="166325" y="200849"/>
                </a:lnTo>
                <a:lnTo>
                  <a:pt x="165176" y="206290"/>
                </a:lnTo>
                <a:lnTo>
                  <a:pt x="164410" y="211821"/>
                </a:lnTo>
                <a:lnTo>
                  <a:pt x="162946" y="217414"/>
                </a:lnTo>
                <a:lnTo>
                  <a:pt x="161019" y="223048"/>
                </a:lnTo>
                <a:lnTo>
                  <a:pt x="158781" y="228709"/>
                </a:lnTo>
                <a:lnTo>
                  <a:pt x="156336" y="234388"/>
                </a:lnTo>
                <a:lnTo>
                  <a:pt x="151081" y="245777"/>
                </a:lnTo>
                <a:lnTo>
                  <a:pt x="145569" y="254649"/>
                </a:lnTo>
                <a:lnTo>
                  <a:pt x="142767" y="258349"/>
                </a:lnTo>
                <a:lnTo>
                  <a:pt x="138992" y="261768"/>
                </a:lnTo>
                <a:lnTo>
                  <a:pt x="134572" y="264999"/>
                </a:lnTo>
                <a:lnTo>
                  <a:pt x="129720" y="268106"/>
                </a:lnTo>
                <a:lnTo>
                  <a:pt x="125533" y="271130"/>
                </a:lnTo>
                <a:lnTo>
                  <a:pt x="121788" y="274098"/>
                </a:lnTo>
                <a:lnTo>
                  <a:pt x="118340" y="277030"/>
                </a:lnTo>
                <a:lnTo>
                  <a:pt x="115088" y="279937"/>
                </a:lnTo>
                <a:lnTo>
                  <a:pt x="108935" y="285706"/>
                </a:lnTo>
                <a:lnTo>
                  <a:pt x="105009" y="288579"/>
                </a:lnTo>
                <a:lnTo>
                  <a:pt x="100487" y="291446"/>
                </a:lnTo>
                <a:lnTo>
                  <a:pt x="95566" y="294310"/>
                </a:lnTo>
                <a:lnTo>
                  <a:pt x="91333" y="296219"/>
                </a:lnTo>
                <a:lnTo>
                  <a:pt x="87559" y="297492"/>
                </a:lnTo>
                <a:lnTo>
                  <a:pt x="84089" y="298340"/>
                </a:lnTo>
                <a:lnTo>
                  <a:pt x="80824" y="298906"/>
                </a:lnTo>
                <a:lnTo>
                  <a:pt x="77696" y="299283"/>
                </a:lnTo>
                <a:lnTo>
                  <a:pt x="74656" y="299535"/>
                </a:lnTo>
                <a:lnTo>
                  <a:pt x="71678" y="299702"/>
                </a:lnTo>
                <a:lnTo>
                  <a:pt x="65830" y="299888"/>
                </a:lnTo>
                <a:lnTo>
                  <a:pt x="9916" y="300038"/>
                </a:lnTo>
                <a:lnTo>
                  <a:pt x="4419" y="295487"/>
                </a:lnTo>
                <a:lnTo>
                  <a:pt x="0" y="2914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MARTPenAnnotation646"/>
          <p:cNvSpPr/>
          <p:nvPr/>
        </p:nvSpPr>
        <p:spPr>
          <a:xfrm>
            <a:off x="8429760" y="5254560"/>
            <a:ext cx="7920" cy="223920"/>
          </a:xfrm>
          <a:custGeom>
            <a:avLst/>
            <a:gdLst>
              <a:gd name="textAreaLeft" fmla="*/ 0 w 7920"/>
              <a:gd name="textAreaRight" fmla="*/ 8280 w 792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8573" h="222886">
                <a:moveTo>
                  <a:pt x="8572" y="0"/>
                </a:moveTo>
                <a:lnTo>
                  <a:pt x="9" y="0"/>
                </a:lnTo>
                <a:lnTo>
                  <a:pt x="0" y="147284"/>
                </a:lnTo>
                <a:lnTo>
                  <a:pt x="952" y="151529"/>
                </a:lnTo>
                <a:lnTo>
                  <a:pt x="2540" y="156264"/>
                </a:lnTo>
                <a:lnTo>
                  <a:pt x="4550" y="161326"/>
                </a:lnTo>
                <a:lnTo>
                  <a:pt x="5891" y="165653"/>
                </a:lnTo>
                <a:lnTo>
                  <a:pt x="6784" y="169491"/>
                </a:lnTo>
                <a:lnTo>
                  <a:pt x="7381" y="173001"/>
                </a:lnTo>
                <a:lnTo>
                  <a:pt x="7778" y="176294"/>
                </a:lnTo>
                <a:lnTo>
                  <a:pt x="8042" y="179442"/>
                </a:lnTo>
                <a:lnTo>
                  <a:pt x="8219" y="182493"/>
                </a:lnTo>
                <a:lnTo>
                  <a:pt x="8415" y="188423"/>
                </a:lnTo>
                <a:lnTo>
                  <a:pt x="8541" y="199991"/>
                </a:lnTo>
                <a:lnTo>
                  <a:pt x="8572" y="2228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SMARTPenAnnotation647"/>
          <p:cNvSpPr/>
          <p:nvPr/>
        </p:nvSpPr>
        <p:spPr>
          <a:xfrm>
            <a:off x="8369280" y="5332320"/>
            <a:ext cx="196920" cy="17640"/>
          </a:xfrm>
          <a:custGeom>
            <a:avLst/>
            <a:gdLst>
              <a:gd name="textAreaLeft" fmla="*/ 0 w 196920"/>
              <a:gd name="textAreaRight" fmla="*/ 197280 w 1969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97168" h="17146">
                <a:moveTo>
                  <a:pt x="0" y="17145"/>
                </a:moveTo>
                <a:lnTo>
                  <a:pt x="7382" y="17145"/>
                </a:lnTo>
                <a:lnTo>
                  <a:pt x="8731" y="16192"/>
                </a:lnTo>
                <a:lnTo>
                  <a:pt x="10583" y="14605"/>
                </a:lnTo>
                <a:lnTo>
                  <a:pt x="15850" y="9763"/>
                </a:lnTo>
                <a:lnTo>
                  <a:pt x="18186" y="9366"/>
                </a:lnTo>
                <a:lnTo>
                  <a:pt x="21649" y="9102"/>
                </a:lnTo>
                <a:lnTo>
                  <a:pt x="29624" y="8808"/>
                </a:lnTo>
                <a:lnTo>
                  <a:pt x="36345" y="8677"/>
                </a:lnTo>
                <a:lnTo>
                  <a:pt x="50033" y="8603"/>
                </a:lnTo>
                <a:lnTo>
                  <a:pt x="55263" y="7640"/>
                </a:lnTo>
                <a:lnTo>
                  <a:pt x="60654" y="6046"/>
                </a:lnTo>
                <a:lnTo>
                  <a:pt x="66154" y="4030"/>
                </a:lnTo>
                <a:lnTo>
                  <a:pt x="70773" y="2687"/>
                </a:lnTo>
                <a:lnTo>
                  <a:pt x="74804" y="1791"/>
                </a:lnTo>
                <a:lnTo>
                  <a:pt x="78444" y="1194"/>
                </a:lnTo>
                <a:lnTo>
                  <a:pt x="82776" y="796"/>
                </a:lnTo>
                <a:lnTo>
                  <a:pt x="87569" y="531"/>
                </a:lnTo>
                <a:lnTo>
                  <a:pt x="97975" y="236"/>
                </a:lnTo>
                <a:lnTo>
                  <a:pt x="148097" y="2"/>
                </a:lnTo>
                <a:lnTo>
                  <a:pt x="1971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MARTPenAnnotation648"/>
          <p:cNvSpPr/>
          <p:nvPr/>
        </p:nvSpPr>
        <p:spPr>
          <a:xfrm>
            <a:off x="8361360" y="5494320"/>
            <a:ext cx="189000" cy="27000"/>
          </a:xfrm>
          <a:custGeom>
            <a:avLst/>
            <a:gdLst>
              <a:gd name="textAreaLeft" fmla="*/ 0 w 189000"/>
              <a:gd name="textAreaRight" fmla="*/ 189360 w 189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88597" h="25719">
                <a:moveTo>
                  <a:pt x="0" y="25718"/>
                </a:moveTo>
                <a:lnTo>
                  <a:pt x="12772" y="25718"/>
                </a:lnTo>
                <a:lnTo>
                  <a:pt x="15182" y="24765"/>
                </a:lnTo>
                <a:lnTo>
                  <a:pt x="17742" y="23178"/>
                </a:lnTo>
                <a:lnTo>
                  <a:pt x="24142" y="18336"/>
                </a:lnTo>
                <a:lnTo>
                  <a:pt x="26573" y="17939"/>
                </a:lnTo>
                <a:lnTo>
                  <a:pt x="30098" y="17675"/>
                </a:lnTo>
                <a:lnTo>
                  <a:pt x="34353" y="17498"/>
                </a:lnTo>
                <a:lnTo>
                  <a:pt x="38143" y="16428"/>
                </a:lnTo>
                <a:lnTo>
                  <a:pt x="41621" y="14763"/>
                </a:lnTo>
                <a:lnTo>
                  <a:pt x="44893" y="12699"/>
                </a:lnTo>
                <a:lnTo>
                  <a:pt x="48979" y="11324"/>
                </a:lnTo>
                <a:lnTo>
                  <a:pt x="53608" y="10407"/>
                </a:lnTo>
                <a:lnTo>
                  <a:pt x="58598" y="9795"/>
                </a:lnTo>
                <a:lnTo>
                  <a:pt x="62879" y="9388"/>
                </a:lnTo>
                <a:lnTo>
                  <a:pt x="66684" y="9116"/>
                </a:lnTo>
                <a:lnTo>
                  <a:pt x="70173" y="8935"/>
                </a:lnTo>
                <a:lnTo>
                  <a:pt x="73453" y="7861"/>
                </a:lnTo>
                <a:lnTo>
                  <a:pt x="76591" y="6194"/>
                </a:lnTo>
                <a:lnTo>
                  <a:pt x="79636" y="4129"/>
                </a:lnTo>
                <a:lnTo>
                  <a:pt x="83571" y="2753"/>
                </a:lnTo>
                <a:lnTo>
                  <a:pt x="88099" y="1835"/>
                </a:lnTo>
                <a:lnTo>
                  <a:pt x="93023" y="1223"/>
                </a:lnTo>
                <a:lnTo>
                  <a:pt x="97259" y="816"/>
                </a:lnTo>
                <a:lnTo>
                  <a:pt x="101034" y="544"/>
                </a:lnTo>
                <a:lnTo>
                  <a:pt x="104504" y="363"/>
                </a:lnTo>
                <a:lnTo>
                  <a:pt x="110899" y="161"/>
                </a:lnTo>
                <a:lnTo>
                  <a:pt x="122394" y="48"/>
                </a:lnTo>
                <a:lnTo>
                  <a:pt x="166079" y="0"/>
                </a:lnTo>
                <a:lnTo>
                  <a:pt x="167870" y="953"/>
                </a:lnTo>
                <a:lnTo>
                  <a:pt x="169064" y="2540"/>
                </a:lnTo>
                <a:lnTo>
                  <a:pt x="169859" y="4551"/>
                </a:lnTo>
                <a:lnTo>
                  <a:pt x="171342" y="5892"/>
                </a:lnTo>
                <a:lnTo>
                  <a:pt x="173284" y="6785"/>
                </a:lnTo>
                <a:lnTo>
                  <a:pt x="175530" y="7381"/>
                </a:lnTo>
                <a:lnTo>
                  <a:pt x="180566" y="8043"/>
                </a:lnTo>
                <a:lnTo>
                  <a:pt x="188596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MARTPenAnnotation649"/>
          <p:cNvSpPr/>
          <p:nvPr/>
        </p:nvSpPr>
        <p:spPr>
          <a:xfrm>
            <a:off x="8558280" y="5237280"/>
            <a:ext cx="179280" cy="266760"/>
          </a:xfrm>
          <a:custGeom>
            <a:avLst/>
            <a:gdLst>
              <a:gd name="textAreaLeft" fmla="*/ 0 w 179280"/>
              <a:gd name="textAreaRight" fmla="*/ 179640 w 1792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80012" h="265748">
                <a:moveTo>
                  <a:pt x="42852" y="17144"/>
                </a:moveTo>
                <a:lnTo>
                  <a:pt x="47402" y="17144"/>
                </a:lnTo>
                <a:lnTo>
                  <a:pt x="48743" y="16192"/>
                </a:lnTo>
                <a:lnTo>
                  <a:pt x="49636" y="14605"/>
                </a:lnTo>
                <a:lnTo>
                  <a:pt x="51071" y="9763"/>
                </a:lnTo>
                <a:lnTo>
                  <a:pt x="55870" y="4374"/>
                </a:lnTo>
                <a:lnTo>
                  <a:pt x="58775" y="1296"/>
                </a:lnTo>
                <a:lnTo>
                  <a:pt x="60135" y="864"/>
                </a:lnTo>
                <a:lnTo>
                  <a:pt x="64186" y="383"/>
                </a:lnTo>
                <a:lnTo>
                  <a:pt x="69162" y="170"/>
                </a:lnTo>
                <a:lnTo>
                  <a:pt x="77318" y="50"/>
                </a:lnTo>
                <a:lnTo>
                  <a:pt x="105720" y="0"/>
                </a:lnTo>
                <a:lnTo>
                  <a:pt x="108576" y="952"/>
                </a:lnTo>
                <a:lnTo>
                  <a:pt x="111433" y="2539"/>
                </a:lnTo>
                <a:lnTo>
                  <a:pt x="114291" y="4550"/>
                </a:lnTo>
                <a:lnTo>
                  <a:pt x="117147" y="5891"/>
                </a:lnTo>
                <a:lnTo>
                  <a:pt x="120005" y="6784"/>
                </a:lnTo>
                <a:lnTo>
                  <a:pt x="122862" y="7380"/>
                </a:lnTo>
                <a:lnTo>
                  <a:pt x="125720" y="8730"/>
                </a:lnTo>
                <a:lnTo>
                  <a:pt x="128577" y="10582"/>
                </a:lnTo>
                <a:lnTo>
                  <a:pt x="131434" y="12769"/>
                </a:lnTo>
                <a:lnTo>
                  <a:pt x="134291" y="15180"/>
                </a:lnTo>
                <a:lnTo>
                  <a:pt x="137149" y="17740"/>
                </a:lnTo>
                <a:lnTo>
                  <a:pt x="140007" y="20399"/>
                </a:lnTo>
                <a:lnTo>
                  <a:pt x="141911" y="23124"/>
                </a:lnTo>
                <a:lnTo>
                  <a:pt x="144028" y="28692"/>
                </a:lnTo>
                <a:lnTo>
                  <a:pt x="147509" y="34341"/>
                </a:lnTo>
                <a:lnTo>
                  <a:pt x="149771" y="37181"/>
                </a:lnTo>
                <a:lnTo>
                  <a:pt x="151278" y="40980"/>
                </a:lnTo>
                <a:lnTo>
                  <a:pt x="152284" y="45417"/>
                </a:lnTo>
                <a:lnTo>
                  <a:pt x="152953" y="50280"/>
                </a:lnTo>
                <a:lnTo>
                  <a:pt x="153699" y="58224"/>
                </a:lnTo>
                <a:lnTo>
                  <a:pt x="154029" y="65882"/>
                </a:lnTo>
                <a:lnTo>
                  <a:pt x="154242" y="86321"/>
                </a:lnTo>
                <a:lnTo>
                  <a:pt x="154259" y="91836"/>
                </a:lnTo>
                <a:lnTo>
                  <a:pt x="153318" y="97419"/>
                </a:lnTo>
                <a:lnTo>
                  <a:pt x="151739" y="103046"/>
                </a:lnTo>
                <a:lnTo>
                  <a:pt x="149733" y="108702"/>
                </a:lnTo>
                <a:lnTo>
                  <a:pt x="147444" y="114378"/>
                </a:lnTo>
                <a:lnTo>
                  <a:pt x="144965" y="120066"/>
                </a:lnTo>
                <a:lnTo>
                  <a:pt x="139670" y="131468"/>
                </a:lnTo>
                <a:lnTo>
                  <a:pt x="119984" y="171451"/>
                </a:lnTo>
                <a:lnTo>
                  <a:pt x="117134" y="177165"/>
                </a:lnTo>
                <a:lnTo>
                  <a:pt x="114280" y="181927"/>
                </a:lnTo>
                <a:lnTo>
                  <a:pt x="111426" y="186055"/>
                </a:lnTo>
                <a:lnTo>
                  <a:pt x="108571" y="189759"/>
                </a:lnTo>
                <a:lnTo>
                  <a:pt x="105714" y="194133"/>
                </a:lnTo>
                <a:lnTo>
                  <a:pt x="102858" y="198955"/>
                </a:lnTo>
                <a:lnTo>
                  <a:pt x="100000" y="204074"/>
                </a:lnTo>
                <a:lnTo>
                  <a:pt x="97144" y="208439"/>
                </a:lnTo>
                <a:lnTo>
                  <a:pt x="94286" y="212301"/>
                </a:lnTo>
                <a:lnTo>
                  <a:pt x="91428" y="215829"/>
                </a:lnTo>
                <a:lnTo>
                  <a:pt x="88571" y="219133"/>
                </a:lnTo>
                <a:lnTo>
                  <a:pt x="85714" y="222289"/>
                </a:lnTo>
                <a:lnTo>
                  <a:pt x="80000" y="228335"/>
                </a:lnTo>
                <a:lnTo>
                  <a:pt x="74284" y="234197"/>
                </a:lnTo>
                <a:lnTo>
                  <a:pt x="71427" y="236141"/>
                </a:lnTo>
                <a:lnTo>
                  <a:pt x="68569" y="237437"/>
                </a:lnTo>
                <a:lnTo>
                  <a:pt x="65711" y="238301"/>
                </a:lnTo>
                <a:lnTo>
                  <a:pt x="62854" y="239829"/>
                </a:lnTo>
                <a:lnTo>
                  <a:pt x="59996" y="241801"/>
                </a:lnTo>
                <a:lnTo>
                  <a:pt x="57139" y="244068"/>
                </a:lnTo>
                <a:lnTo>
                  <a:pt x="54282" y="245579"/>
                </a:lnTo>
                <a:lnTo>
                  <a:pt x="51424" y="246587"/>
                </a:lnTo>
                <a:lnTo>
                  <a:pt x="48566" y="247259"/>
                </a:lnTo>
                <a:lnTo>
                  <a:pt x="45709" y="247706"/>
                </a:lnTo>
                <a:lnTo>
                  <a:pt x="42852" y="248005"/>
                </a:lnTo>
                <a:lnTo>
                  <a:pt x="39994" y="248204"/>
                </a:lnTo>
                <a:lnTo>
                  <a:pt x="37137" y="248336"/>
                </a:lnTo>
                <a:lnTo>
                  <a:pt x="31421" y="248484"/>
                </a:lnTo>
                <a:lnTo>
                  <a:pt x="28565" y="247571"/>
                </a:lnTo>
                <a:lnTo>
                  <a:pt x="25707" y="246009"/>
                </a:lnTo>
                <a:lnTo>
                  <a:pt x="22849" y="244016"/>
                </a:lnTo>
                <a:lnTo>
                  <a:pt x="19992" y="242687"/>
                </a:lnTo>
                <a:lnTo>
                  <a:pt x="17134" y="241801"/>
                </a:lnTo>
                <a:lnTo>
                  <a:pt x="14277" y="241210"/>
                </a:lnTo>
                <a:lnTo>
                  <a:pt x="12372" y="239864"/>
                </a:lnTo>
                <a:lnTo>
                  <a:pt x="11102" y="238014"/>
                </a:lnTo>
                <a:lnTo>
                  <a:pt x="10255" y="235829"/>
                </a:lnTo>
                <a:lnTo>
                  <a:pt x="8738" y="234371"/>
                </a:lnTo>
                <a:lnTo>
                  <a:pt x="6774" y="233400"/>
                </a:lnTo>
                <a:lnTo>
                  <a:pt x="4513" y="232752"/>
                </a:lnTo>
                <a:lnTo>
                  <a:pt x="3005" y="231368"/>
                </a:lnTo>
                <a:lnTo>
                  <a:pt x="1999" y="229493"/>
                </a:lnTo>
                <a:lnTo>
                  <a:pt x="883" y="224869"/>
                </a:lnTo>
                <a:lnTo>
                  <a:pt x="254" y="216910"/>
                </a:lnTo>
                <a:lnTo>
                  <a:pt x="24" y="207398"/>
                </a:lnTo>
                <a:lnTo>
                  <a:pt x="0" y="201680"/>
                </a:lnTo>
                <a:lnTo>
                  <a:pt x="949" y="200176"/>
                </a:lnTo>
                <a:lnTo>
                  <a:pt x="2534" y="199173"/>
                </a:lnTo>
                <a:lnTo>
                  <a:pt x="4543" y="198504"/>
                </a:lnTo>
                <a:lnTo>
                  <a:pt x="5882" y="197106"/>
                </a:lnTo>
                <a:lnTo>
                  <a:pt x="6775" y="195221"/>
                </a:lnTo>
                <a:lnTo>
                  <a:pt x="7371" y="193012"/>
                </a:lnTo>
                <a:lnTo>
                  <a:pt x="8720" y="191539"/>
                </a:lnTo>
                <a:lnTo>
                  <a:pt x="10573" y="190558"/>
                </a:lnTo>
                <a:lnTo>
                  <a:pt x="12760" y="189903"/>
                </a:lnTo>
                <a:lnTo>
                  <a:pt x="17731" y="186636"/>
                </a:lnTo>
                <a:lnTo>
                  <a:pt x="20389" y="184431"/>
                </a:lnTo>
                <a:lnTo>
                  <a:pt x="23115" y="182962"/>
                </a:lnTo>
                <a:lnTo>
                  <a:pt x="28682" y="181328"/>
                </a:lnTo>
                <a:lnTo>
                  <a:pt x="32453" y="180893"/>
                </a:lnTo>
                <a:lnTo>
                  <a:pt x="36871" y="180603"/>
                </a:lnTo>
                <a:lnTo>
                  <a:pt x="45909" y="180280"/>
                </a:lnTo>
                <a:lnTo>
                  <a:pt x="56351" y="180098"/>
                </a:lnTo>
                <a:lnTo>
                  <a:pt x="71323" y="180032"/>
                </a:lnTo>
                <a:lnTo>
                  <a:pt x="74215" y="180981"/>
                </a:lnTo>
                <a:lnTo>
                  <a:pt x="77095" y="182566"/>
                </a:lnTo>
                <a:lnTo>
                  <a:pt x="79969" y="184575"/>
                </a:lnTo>
                <a:lnTo>
                  <a:pt x="83789" y="185915"/>
                </a:lnTo>
                <a:lnTo>
                  <a:pt x="88240" y="186808"/>
                </a:lnTo>
                <a:lnTo>
                  <a:pt x="93114" y="187404"/>
                </a:lnTo>
                <a:lnTo>
                  <a:pt x="97315" y="188752"/>
                </a:lnTo>
                <a:lnTo>
                  <a:pt x="101067" y="190605"/>
                </a:lnTo>
                <a:lnTo>
                  <a:pt x="104522" y="192793"/>
                </a:lnTo>
                <a:lnTo>
                  <a:pt x="107779" y="195203"/>
                </a:lnTo>
                <a:lnTo>
                  <a:pt x="110901" y="197762"/>
                </a:lnTo>
                <a:lnTo>
                  <a:pt x="113935" y="200421"/>
                </a:lnTo>
                <a:lnTo>
                  <a:pt x="116911" y="203147"/>
                </a:lnTo>
                <a:lnTo>
                  <a:pt x="122757" y="208715"/>
                </a:lnTo>
                <a:lnTo>
                  <a:pt x="131403" y="217204"/>
                </a:lnTo>
                <a:lnTo>
                  <a:pt x="134272" y="219097"/>
                </a:lnTo>
                <a:lnTo>
                  <a:pt x="137136" y="220359"/>
                </a:lnTo>
                <a:lnTo>
                  <a:pt x="139998" y="221201"/>
                </a:lnTo>
                <a:lnTo>
                  <a:pt x="142858" y="222715"/>
                </a:lnTo>
                <a:lnTo>
                  <a:pt x="145717" y="224676"/>
                </a:lnTo>
                <a:lnTo>
                  <a:pt x="148576" y="226937"/>
                </a:lnTo>
                <a:lnTo>
                  <a:pt x="150483" y="229396"/>
                </a:lnTo>
                <a:lnTo>
                  <a:pt x="151753" y="231988"/>
                </a:lnTo>
                <a:lnTo>
                  <a:pt x="152600" y="234668"/>
                </a:lnTo>
                <a:lnTo>
                  <a:pt x="156081" y="240187"/>
                </a:lnTo>
                <a:lnTo>
                  <a:pt x="158343" y="242992"/>
                </a:lnTo>
                <a:lnTo>
                  <a:pt x="159851" y="245814"/>
                </a:lnTo>
                <a:lnTo>
                  <a:pt x="161526" y="251490"/>
                </a:lnTo>
                <a:lnTo>
                  <a:pt x="162926" y="253385"/>
                </a:lnTo>
                <a:lnTo>
                  <a:pt x="164811" y="254648"/>
                </a:lnTo>
                <a:lnTo>
                  <a:pt x="167020" y="255490"/>
                </a:lnTo>
                <a:lnTo>
                  <a:pt x="168493" y="257004"/>
                </a:lnTo>
                <a:lnTo>
                  <a:pt x="169475" y="258966"/>
                </a:lnTo>
                <a:lnTo>
                  <a:pt x="170130" y="261226"/>
                </a:lnTo>
                <a:lnTo>
                  <a:pt x="171519" y="262733"/>
                </a:lnTo>
                <a:lnTo>
                  <a:pt x="173397" y="263737"/>
                </a:lnTo>
                <a:lnTo>
                  <a:pt x="180011" y="26574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SMARTPenAnnotation650"/>
          <p:cNvSpPr/>
          <p:nvPr/>
        </p:nvSpPr>
        <p:spPr>
          <a:xfrm>
            <a:off x="8790120" y="5108400"/>
            <a:ext cx="333360" cy="352440"/>
          </a:xfrm>
          <a:custGeom>
            <a:avLst/>
            <a:gdLst>
              <a:gd name="textAreaLeft" fmla="*/ 0 w 333360"/>
              <a:gd name="textAreaRight" fmla="*/ 333720 w 33336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334329" h="351364">
                <a:moveTo>
                  <a:pt x="0" y="291464"/>
                </a:moveTo>
                <a:lnTo>
                  <a:pt x="7382" y="298845"/>
                </a:lnTo>
                <a:lnTo>
                  <a:pt x="8044" y="302047"/>
                </a:lnTo>
                <a:lnTo>
                  <a:pt x="8221" y="304234"/>
                </a:lnTo>
                <a:lnTo>
                  <a:pt x="9291" y="306645"/>
                </a:lnTo>
                <a:lnTo>
                  <a:pt x="15923" y="315606"/>
                </a:lnTo>
                <a:lnTo>
                  <a:pt x="25805" y="325820"/>
                </a:lnTo>
                <a:lnTo>
                  <a:pt x="29884" y="329911"/>
                </a:lnTo>
                <a:lnTo>
                  <a:pt x="31353" y="332335"/>
                </a:lnTo>
                <a:lnTo>
                  <a:pt x="32986" y="337568"/>
                </a:lnTo>
                <a:lnTo>
                  <a:pt x="34373" y="339345"/>
                </a:lnTo>
                <a:lnTo>
                  <a:pt x="36251" y="340530"/>
                </a:lnTo>
                <a:lnTo>
                  <a:pt x="41557" y="342431"/>
                </a:lnTo>
                <a:lnTo>
                  <a:pt x="50130" y="350238"/>
                </a:lnTo>
                <a:lnTo>
                  <a:pt x="53395" y="350923"/>
                </a:lnTo>
                <a:lnTo>
                  <a:pt x="58702" y="351363"/>
                </a:lnTo>
                <a:lnTo>
                  <a:pt x="61968" y="348883"/>
                </a:lnTo>
                <a:lnTo>
                  <a:pt x="67274" y="344081"/>
                </a:lnTo>
                <a:lnTo>
                  <a:pt x="67710" y="342734"/>
                </a:lnTo>
                <a:lnTo>
                  <a:pt x="68409" y="333729"/>
                </a:lnTo>
                <a:lnTo>
                  <a:pt x="68546" y="322779"/>
                </a:lnTo>
                <a:lnTo>
                  <a:pt x="69511" y="319960"/>
                </a:lnTo>
                <a:lnTo>
                  <a:pt x="73121" y="314289"/>
                </a:lnTo>
                <a:lnTo>
                  <a:pt x="75361" y="306053"/>
                </a:lnTo>
                <a:lnTo>
                  <a:pt x="76357" y="296043"/>
                </a:lnTo>
                <a:lnTo>
                  <a:pt x="76799" y="285244"/>
                </a:lnTo>
                <a:lnTo>
                  <a:pt x="75965" y="279697"/>
                </a:lnTo>
                <a:lnTo>
                  <a:pt x="74455" y="274094"/>
                </a:lnTo>
                <a:lnTo>
                  <a:pt x="72497" y="268454"/>
                </a:lnTo>
                <a:lnTo>
                  <a:pt x="71191" y="262789"/>
                </a:lnTo>
                <a:lnTo>
                  <a:pt x="70321" y="257107"/>
                </a:lnTo>
                <a:lnTo>
                  <a:pt x="69741" y="251414"/>
                </a:lnTo>
                <a:lnTo>
                  <a:pt x="69354" y="245714"/>
                </a:lnTo>
                <a:lnTo>
                  <a:pt x="69097" y="240009"/>
                </a:lnTo>
                <a:lnTo>
                  <a:pt x="68810" y="228590"/>
                </a:lnTo>
                <a:lnTo>
                  <a:pt x="68682" y="217165"/>
                </a:lnTo>
                <a:lnTo>
                  <a:pt x="67696" y="210499"/>
                </a:lnTo>
                <a:lnTo>
                  <a:pt x="66086" y="203197"/>
                </a:lnTo>
                <a:lnTo>
                  <a:pt x="64060" y="195472"/>
                </a:lnTo>
                <a:lnTo>
                  <a:pt x="61757" y="189369"/>
                </a:lnTo>
                <a:lnTo>
                  <a:pt x="56657" y="180048"/>
                </a:lnTo>
                <a:lnTo>
                  <a:pt x="53757" y="170191"/>
                </a:lnTo>
                <a:lnTo>
                  <a:pt x="51515" y="159460"/>
                </a:lnTo>
                <a:lnTo>
                  <a:pt x="49583" y="153931"/>
                </a:lnTo>
                <a:lnTo>
                  <a:pt x="44897" y="143661"/>
                </a:lnTo>
                <a:lnTo>
                  <a:pt x="39640" y="135921"/>
                </a:lnTo>
                <a:lnTo>
                  <a:pt x="36668" y="126766"/>
                </a:lnTo>
                <a:lnTo>
                  <a:pt x="35876" y="121658"/>
                </a:lnTo>
                <a:lnTo>
                  <a:pt x="32455" y="113442"/>
                </a:lnTo>
                <a:lnTo>
                  <a:pt x="28713" y="106615"/>
                </a:lnTo>
                <a:lnTo>
                  <a:pt x="27049" y="100406"/>
                </a:lnTo>
                <a:lnTo>
                  <a:pt x="26113" y="91556"/>
                </a:lnTo>
                <a:lnTo>
                  <a:pt x="25835" y="82901"/>
                </a:lnTo>
                <a:lnTo>
                  <a:pt x="25719" y="53023"/>
                </a:lnTo>
                <a:lnTo>
                  <a:pt x="28259" y="49600"/>
                </a:lnTo>
                <a:lnTo>
                  <a:pt x="30269" y="47354"/>
                </a:lnTo>
                <a:lnTo>
                  <a:pt x="32562" y="45856"/>
                </a:lnTo>
                <a:lnTo>
                  <a:pt x="41292" y="42796"/>
                </a:lnTo>
                <a:lnTo>
                  <a:pt x="50420" y="38705"/>
                </a:lnTo>
                <a:lnTo>
                  <a:pt x="58287" y="36251"/>
                </a:lnTo>
                <a:lnTo>
                  <a:pt x="65910" y="34209"/>
                </a:lnTo>
                <a:lnTo>
                  <a:pt x="75648" y="30125"/>
                </a:lnTo>
                <a:lnTo>
                  <a:pt x="81865" y="28656"/>
                </a:lnTo>
                <a:lnTo>
                  <a:pt x="88867" y="27676"/>
                </a:lnTo>
                <a:lnTo>
                  <a:pt x="96392" y="27023"/>
                </a:lnTo>
                <a:lnTo>
                  <a:pt x="102362" y="25634"/>
                </a:lnTo>
                <a:lnTo>
                  <a:pt x="111534" y="21552"/>
                </a:lnTo>
                <a:lnTo>
                  <a:pt x="121325" y="19103"/>
                </a:lnTo>
                <a:lnTo>
                  <a:pt x="126604" y="18450"/>
                </a:lnTo>
                <a:lnTo>
                  <a:pt x="132981" y="17062"/>
                </a:lnTo>
                <a:lnTo>
                  <a:pt x="140089" y="15184"/>
                </a:lnTo>
                <a:lnTo>
                  <a:pt x="147686" y="12980"/>
                </a:lnTo>
                <a:lnTo>
                  <a:pt x="154655" y="11510"/>
                </a:lnTo>
                <a:lnTo>
                  <a:pt x="161206" y="10531"/>
                </a:lnTo>
                <a:lnTo>
                  <a:pt x="167478" y="9878"/>
                </a:lnTo>
                <a:lnTo>
                  <a:pt x="173564" y="9442"/>
                </a:lnTo>
                <a:lnTo>
                  <a:pt x="179528" y="9152"/>
                </a:lnTo>
                <a:lnTo>
                  <a:pt x="185408" y="8958"/>
                </a:lnTo>
                <a:lnTo>
                  <a:pt x="191233" y="7877"/>
                </a:lnTo>
                <a:lnTo>
                  <a:pt x="197021" y="6203"/>
                </a:lnTo>
                <a:lnTo>
                  <a:pt x="202785" y="4135"/>
                </a:lnTo>
                <a:lnTo>
                  <a:pt x="209486" y="2756"/>
                </a:lnTo>
                <a:lnTo>
                  <a:pt x="216810" y="1837"/>
                </a:lnTo>
                <a:lnTo>
                  <a:pt x="224551" y="1225"/>
                </a:lnTo>
                <a:lnTo>
                  <a:pt x="231615" y="816"/>
                </a:lnTo>
                <a:lnTo>
                  <a:pt x="244546" y="362"/>
                </a:lnTo>
                <a:lnTo>
                  <a:pt x="282760" y="31"/>
                </a:lnTo>
                <a:lnTo>
                  <a:pt x="318771" y="0"/>
                </a:lnTo>
                <a:lnTo>
                  <a:pt x="321099" y="952"/>
                </a:lnTo>
                <a:lnTo>
                  <a:pt x="322652" y="2539"/>
                </a:lnTo>
                <a:lnTo>
                  <a:pt x="323687" y="4550"/>
                </a:lnTo>
                <a:lnTo>
                  <a:pt x="325328" y="5890"/>
                </a:lnTo>
                <a:lnTo>
                  <a:pt x="327376" y="6784"/>
                </a:lnTo>
                <a:lnTo>
                  <a:pt x="329693" y="7380"/>
                </a:lnTo>
                <a:lnTo>
                  <a:pt x="331238" y="8729"/>
                </a:lnTo>
                <a:lnTo>
                  <a:pt x="332268" y="10582"/>
                </a:lnTo>
                <a:lnTo>
                  <a:pt x="334328" y="17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MARTPenAnnotation651"/>
          <p:cNvSpPr/>
          <p:nvPr/>
        </p:nvSpPr>
        <p:spPr>
          <a:xfrm>
            <a:off x="8901000" y="5211720"/>
            <a:ext cx="120600" cy="244440"/>
          </a:xfrm>
          <a:custGeom>
            <a:avLst/>
            <a:gdLst>
              <a:gd name="textAreaLeft" fmla="*/ 0 w 120600"/>
              <a:gd name="textAreaRight" fmla="*/ 120960 w 1206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19867" h="244867">
                <a:moveTo>
                  <a:pt x="0" y="25716"/>
                </a:moveTo>
                <a:lnTo>
                  <a:pt x="0" y="18335"/>
                </a:lnTo>
                <a:lnTo>
                  <a:pt x="953" y="17938"/>
                </a:lnTo>
                <a:lnTo>
                  <a:pt x="4551" y="17497"/>
                </a:lnTo>
                <a:lnTo>
                  <a:pt x="6844" y="16427"/>
                </a:lnTo>
                <a:lnTo>
                  <a:pt x="9325" y="14761"/>
                </a:lnTo>
                <a:lnTo>
                  <a:pt x="11932" y="12697"/>
                </a:lnTo>
                <a:lnTo>
                  <a:pt x="14622" y="11322"/>
                </a:lnTo>
                <a:lnTo>
                  <a:pt x="17368" y="10405"/>
                </a:lnTo>
                <a:lnTo>
                  <a:pt x="20151" y="9794"/>
                </a:lnTo>
                <a:lnTo>
                  <a:pt x="23912" y="9386"/>
                </a:lnTo>
                <a:lnTo>
                  <a:pt x="28325" y="9115"/>
                </a:lnTo>
                <a:lnTo>
                  <a:pt x="33170" y="8933"/>
                </a:lnTo>
                <a:lnTo>
                  <a:pt x="36401" y="7860"/>
                </a:lnTo>
                <a:lnTo>
                  <a:pt x="38555" y="6192"/>
                </a:lnTo>
                <a:lnTo>
                  <a:pt x="39991" y="4128"/>
                </a:lnTo>
                <a:lnTo>
                  <a:pt x="41901" y="2751"/>
                </a:lnTo>
                <a:lnTo>
                  <a:pt x="44127" y="1834"/>
                </a:lnTo>
                <a:lnTo>
                  <a:pt x="46563" y="1222"/>
                </a:lnTo>
                <a:lnTo>
                  <a:pt x="49139" y="814"/>
                </a:lnTo>
                <a:lnTo>
                  <a:pt x="51810" y="542"/>
                </a:lnTo>
                <a:lnTo>
                  <a:pt x="54543" y="361"/>
                </a:lnTo>
                <a:lnTo>
                  <a:pt x="62659" y="160"/>
                </a:lnTo>
                <a:lnTo>
                  <a:pt x="105697" y="0"/>
                </a:lnTo>
                <a:lnTo>
                  <a:pt x="108565" y="952"/>
                </a:lnTo>
                <a:lnTo>
                  <a:pt x="111429" y="2539"/>
                </a:lnTo>
                <a:lnTo>
                  <a:pt x="118319" y="7380"/>
                </a:lnTo>
                <a:lnTo>
                  <a:pt x="119262" y="13122"/>
                </a:lnTo>
                <a:lnTo>
                  <a:pt x="119513" y="17320"/>
                </a:lnTo>
                <a:lnTo>
                  <a:pt x="119792" y="24524"/>
                </a:lnTo>
                <a:lnTo>
                  <a:pt x="119866" y="27779"/>
                </a:lnTo>
                <a:lnTo>
                  <a:pt x="118963" y="30902"/>
                </a:lnTo>
                <a:lnTo>
                  <a:pt x="115420" y="36911"/>
                </a:lnTo>
                <a:lnTo>
                  <a:pt x="114095" y="41752"/>
                </a:lnTo>
                <a:lnTo>
                  <a:pt x="113210" y="47837"/>
                </a:lnTo>
                <a:lnTo>
                  <a:pt x="112622" y="54751"/>
                </a:lnTo>
                <a:lnTo>
                  <a:pt x="111276" y="60313"/>
                </a:lnTo>
                <a:lnTo>
                  <a:pt x="109427" y="64973"/>
                </a:lnTo>
                <a:lnTo>
                  <a:pt x="107241" y="69032"/>
                </a:lnTo>
                <a:lnTo>
                  <a:pt x="104832" y="74596"/>
                </a:lnTo>
                <a:lnTo>
                  <a:pt x="102273" y="81162"/>
                </a:lnTo>
                <a:lnTo>
                  <a:pt x="99615" y="88398"/>
                </a:lnTo>
                <a:lnTo>
                  <a:pt x="97842" y="95126"/>
                </a:lnTo>
                <a:lnTo>
                  <a:pt x="96661" y="101518"/>
                </a:lnTo>
                <a:lnTo>
                  <a:pt x="95873" y="107683"/>
                </a:lnTo>
                <a:lnTo>
                  <a:pt x="94396" y="114651"/>
                </a:lnTo>
                <a:lnTo>
                  <a:pt x="92458" y="122154"/>
                </a:lnTo>
                <a:lnTo>
                  <a:pt x="90213" y="130013"/>
                </a:lnTo>
                <a:lnTo>
                  <a:pt x="88718" y="137157"/>
                </a:lnTo>
                <a:lnTo>
                  <a:pt x="87719" y="143825"/>
                </a:lnTo>
                <a:lnTo>
                  <a:pt x="87055" y="150175"/>
                </a:lnTo>
                <a:lnTo>
                  <a:pt x="85659" y="156314"/>
                </a:lnTo>
                <a:lnTo>
                  <a:pt x="83776" y="162311"/>
                </a:lnTo>
                <a:lnTo>
                  <a:pt x="81569" y="168215"/>
                </a:lnTo>
                <a:lnTo>
                  <a:pt x="79144" y="174055"/>
                </a:lnTo>
                <a:lnTo>
                  <a:pt x="76575" y="179854"/>
                </a:lnTo>
                <a:lnTo>
                  <a:pt x="71180" y="191377"/>
                </a:lnTo>
                <a:lnTo>
                  <a:pt x="65608" y="202848"/>
                </a:lnTo>
                <a:lnTo>
                  <a:pt x="63741" y="207622"/>
                </a:lnTo>
                <a:lnTo>
                  <a:pt x="62497" y="211756"/>
                </a:lnTo>
                <a:lnTo>
                  <a:pt x="61113" y="218891"/>
                </a:lnTo>
                <a:lnTo>
                  <a:pt x="60499" y="225237"/>
                </a:lnTo>
                <a:lnTo>
                  <a:pt x="60227" y="231232"/>
                </a:lnTo>
                <a:lnTo>
                  <a:pt x="60153" y="234164"/>
                </a:lnTo>
                <a:lnTo>
                  <a:pt x="59153" y="236119"/>
                </a:lnTo>
                <a:lnTo>
                  <a:pt x="57533" y="237422"/>
                </a:lnTo>
                <a:lnTo>
                  <a:pt x="55500" y="238291"/>
                </a:lnTo>
                <a:lnTo>
                  <a:pt x="55097" y="238870"/>
                </a:lnTo>
                <a:lnTo>
                  <a:pt x="55782" y="239256"/>
                </a:lnTo>
                <a:lnTo>
                  <a:pt x="57190" y="239514"/>
                </a:lnTo>
                <a:lnTo>
                  <a:pt x="58129" y="240638"/>
                </a:lnTo>
                <a:lnTo>
                  <a:pt x="58756" y="242340"/>
                </a:lnTo>
                <a:lnTo>
                  <a:pt x="59172" y="244427"/>
                </a:lnTo>
                <a:lnTo>
                  <a:pt x="59451" y="244866"/>
                </a:lnTo>
                <a:lnTo>
                  <a:pt x="59637" y="244206"/>
                </a:lnTo>
                <a:lnTo>
                  <a:pt x="59934" y="240854"/>
                </a:lnTo>
                <a:lnTo>
                  <a:pt x="59006" y="240578"/>
                </a:lnTo>
                <a:lnTo>
                  <a:pt x="57435" y="240395"/>
                </a:lnTo>
                <a:lnTo>
                  <a:pt x="51435" y="2400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MARTPenAnnotation652"/>
          <p:cNvSpPr/>
          <p:nvPr/>
        </p:nvSpPr>
        <p:spPr>
          <a:xfrm>
            <a:off x="8926560" y="5280120"/>
            <a:ext cx="206280" cy="9360"/>
          </a:xfrm>
          <a:custGeom>
            <a:avLst/>
            <a:gdLst>
              <a:gd name="textAreaLeft" fmla="*/ 0 w 206280"/>
              <a:gd name="textAreaRight" fmla="*/ 206640 w 2062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205737" h="8573">
                <a:moveTo>
                  <a:pt x="8569" y="8572"/>
                </a:moveTo>
                <a:lnTo>
                  <a:pt x="0" y="8572"/>
                </a:lnTo>
                <a:lnTo>
                  <a:pt x="61328" y="8572"/>
                </a:lnTo>
                <a:lnTo>
                  <a:pt x="66600" y="7620"/>
                </a:lnTo>
                <a:lnTo>
                  <a:pt x="72975" y="6032"/>
                </a:lnTo>
                <a:lnTo>
                  <a:pt x="80081" y="4022"/>
                </a:lnTo>
                <a:lnTo>
                  <a:pt x="85771" y="2681"/>
                </a:lnTo>
                <a:lnTo>
                  <a:pt x="90518" y="1787"/>
                </a:lnTo>
                <a:lnTo>
                  <a:pt x="94634" y="1191"/>
                </a:lnTo>
                <a:lnTo>
                  <a:pt x="99284" y="794"/>
                </a:lnTo>
                <a:lnTo>
                  <a:pt x="104287" y="529"/>
                </a:lnTo>
                <a:lnTo>
                  <a:pt x="109530" y="353"/>
                </a:lnTo>
                <a:lnTo>
                  <a:pt x="137519" y="70"/>
                </a:lnTo>
                <a:lnTo>
                  <a:pt x="2057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MARTPenAnnotation653"/>
          <p:cNvSpPr/>
          <p:nvPr/>
        </p:nvSpPr>
        <p:spPr>
          <a:xfrm>
            <a:off x="7993080" y="5589720"/>
            <a:ext cx="1130400" cy="9360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1131418" h="93935">
                <a:moveTo>
                  <a:pt x="0" y="93934"/>
                </a:moveTo>
                <a:lnTo>
                  <a:pt x="0" y="86553"/>
                </a:lnTo>
                <a:lnTo>
                  <a:pt x="952" y="86156"/>
                </a:lnTo>
                <a:lnTo>
                  <a:pt x="8731" y="85432"/>
                </a:lnTo>
                <a:lnTo>
                  <a:pt x="117193" y="85362"/>
                </a:lnTo>
                <a:lnTo>
                  <a:pt x="128603" y="82822"/>
                </a:lnTo>
                <a:lnTo>
                  <a:pt x="134313" y="80811"/>
                </a:lnTo>
                <a:lnTo>
                  <a:pt x="160552" y="77981"/>
                </a:lnTo>
                <a:lnTo>
                  <a:pt x="187907" y="77142"/>
                </a:lnTo>
                <a:lnTo>
                  <a:pt x="205434" y="74406"/>
                </a:lnTo>
                <a:lnTo>
                  <a:pt x="214109" y="72343"/>
                </a:lnTo>
                <a:lnTo>
                  <a:pt x="239970" y="69439"/>
                </a:lnTo>
                <a:lnTo>
                  <a:pt x="249515" y="68079"/>
                </a:lnTo>
                <a:lnTo>
                  <a:pt x="259689" y="66220"/>
                </a:lnTo>
                <a:lnTo>
                  <a:pt x="270281" y="64028"/>
                </a:lnTo>
                <a:lnTo>
                  <a:pt x="292210" y="61592"/>
                </a:lnTo>
                <a:lnTo>
                  <a:pt x="314656" y="59558"/>
                </a:lnTo>
                <a:lnTo>
                  <a:pt x="325976" y="57681"/>
                </a:lnTo>
                <a:lnTo>
                  <a:pt x="337332" y="55478"/>
                </a:lnTo>
                <a:lnTo>
                  <a:pt x="360111" y="53030"/>
                </a:lnTo>
                <a:lnTo>
                  <a:pt x="383886" y="50990"/>
                </a:lnTo>
                <a:lnTo>
                  <a:pt x="396895" y="49112"/>
                </a:lnTo>
                <a:lnTo>
                  <a:pt x="424048" y="44486"/>
                </a:lnTo>
                <a:lnTo>
                  <a:pt x="494498" y="30954"/>
                </a:lnTo>
                <a:lnTo>
                  <a:pt x="509688" y="29088"/>
                </a:lnTo>
                <a:lnTo>
                  <a:pt x="558371" y="25508"/>
                </a:lnTo>
                <a:lnTo>
                  <a:pt x="575130" y="23552"/>
                </a:lnTo>
                <a:lnTo>
                  <a:pt x="592018" y="21295"/>
                </a:lnTo>
                <a:lnTo>
                  <a:pt x="623481" y="18788"/>
                </a:lnTo>
                <a:lnTo>
                  <a:pt x="653340" y="16721"/>
                </a:lnTo>
                <a:lnTo>
                  <a:pt x="667971" y="14836"/>
                </a:lnTo>
                <a:lnTo>
                  <a:pt x="682486" y="12627"/>
                </a:lnTo>
                <a:lnTo>
                  <a:pt x="713855" y="10173"/>
                </a:lnTo>
                <a:lnTo>
                  <a:pt x="745894" y="9082"/>
                </a:lnTo>
                <a:lnTo>
                  <a:pt x="776009" y="8597"/>
                </a:lnTo>
                <a:lnTo>
                  <a:pt x="805268" y="5842"/>
                </a:lnTo>
                <a:lnTo>
                  <a:pt x="819738" y="3773"/>
                </a:lnTo>
                <a:lnTo>
                  <a:pt x="848515" y="1475"/>
                </a:lnTo>
                <a:lnTo>
                  <a:pt x="876228" y="454"/>
                </a:lnTo>
                <a:lnTo>
                  <a:pt x="901245" y="0"/>
                </a:lnTo>
                <a:lnTo>
                  <a:pt x="927604" y="2338"/>
                </a:lnTo>
                <a:lnTo>
                  <a:pt x="941300" y="4295"/>
                </a:lnTo>
                <a:lnTo>
                  <a:pt x="974228" y="7050"/>
                </a:lnTo>
                <a:lnTo>
                  <a:pt x="984766" y="8389"/>
                </a:lnTo>
                <a:lnTo>
                  <a:pt x="995601" y="10234"/>
                </a:lnTo>
                <a:lnTo>
                  <a:pt x="1006633" y="12416"/>
                </a:lnTo>
                <a:lnTo>
                  <a:pt x="1023973" y="14841"/>
                </a:lnTo>
                <a:lnTo>
                  <a:pt x="1038982" y="16872"/>
                </a:lnTo>
                <a:lnTo>
                  <a:pt x="1046984" y="18747"/>
                </a:lnTo>
                <a:lnTo>
                  <a:pt x="1055178" y="20950"/>
                </a:lnTo>
                <a:lnTo>
                  <a:pt x="1069360" y="23397"/>
                </a:lnTo>
                <a:lnTo>
                  <a:pt x="1082013" y="25437"/>
                </a:lnTo>
                <a:lnTo>
                  <a:pt x="1088055" y="27314"/>
                </a:lnTo>
                <a:lnTo>
                  <a:pt x="1093987" y="29518"/>
                </a:lnTo>
                <a:lnTo>
                  <a:pt x="1103119" y="31968"/>
                </a:lnTo>
                <a:lnTo>
                  <a:pt x="1122758" y="33755"/>
                </a:lnTo>
                <a:lnTo>
                  <a:pt x="1131417" y="33924"/>
                </a:lnTo>
                <a:lnTo>
                  <a:pt x="1122998" y="339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MARTPenAnnotation654"/>
          <p:cNvSpPr/>
          <p:nvPr/>
        </p:nvSpPr>
        <p:spPr>
          <a:xfrm>
            <a:off x="8300880" y="5718240"/>
            <a:ext cx="265320" cy="239760"/>
          </a:xfrm>
          <a:custGeom>
            <a:avLst/>
            <a:gdLst>
              <a:gd name="textAreaLeft" fmla="*/ 0 w 265320"/>
              <a:gd name="textAreaRight" fmla="*/ 265680 w 2653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65600" h="239997">
                <a:moveTo>
                  <a:pt x="85725" y="34256"/>
                </a:moveTo>
                <a:lnTo>
                  <a:pt x="77506" y="34256"/>
                </a:lnTo>
                <a:lnTo>
                  <a:pt x="77257" y="29706"/>
                </a:lnTo>
                <a:lnTo>
                  <a:pt x="78175" y="28365"/>
                </a:lnTo>
                <a:lnTo>
                  <a:pt x="79739" y="27471"/>
                </a:lnTo>
                <a:lnTo>
                  <a:pt x="81735" y="26875"/>
                </a:lnTo>
                <a:lnTo>
                  <a:pt x="83065" y="25526"/>
                </a:lnTo>
                <a:lnTo>
                  <a:pt x="83951" y="23674"/>
                </a:lnTo>
                <a:lnTo>
                  <a:pt x="84543" y="21486"/>
                </a:lnTo>
                <a:lnTo>
                  <a:pt x="86842" y="20028"/>
                </a:lnTo>
                <a:lnTo>
                  <a:pt x="94476" y="18408"/>
                </a:lnTo>
                <a:lnTo>
                  <a:pt x="101679" y="15147"/>
                </a:lnTo>
                <a:lnTo>
                  <a:pt x="104934" y="12945"/>
                </a:lnTo>
                <a:lnTo>
                  <a:pt x="109009" y="11476"/>
                </a:lnTo>
                <a:lnTo>
                  <a:pt x="113629" y="10497"/>
                </a:lnTo>
                <a:lnTo>
                  <a:pt x="118616" y="9844"/>
                </a:lnTo>
                <a:lnTo>
                  <a:pt x="123845" y="8457"/>
                </a:lnTo>
                <a:lnTo>
                  <a:pt x="129236" y="6578"/>
                </a:lnTo>
                <a:lnTo>
                  <a:pt x="134734" y="4375"/>
                </a:lnTo>
                <a:lnTo>
                  <a:pt x="140305" y="2905"/>
                </a:lnTo>
                <a:lnTo>
                  <a:pt x="145925" y="1926"/>
                </a:lnTo>
                <a:lnTo>
                  <a:pt x="151576" y="1273"/>
                </a:lnTo>
                <a:lnTo>
                  <a:pt x="157249" y="837"/>
                </a:lnTo>
                <a:lnTo>
                  <a:pt x="162935" y="547"/>
                </a:lnTo>
                <a:lnTo>
                  <a:pt x="174333" y="224"/>
                </a:lnTo>
                <a:lnTo>
                  <a:pt x="202885" y="0"/>
                </a:lnTo>
                <a:lnTo>
                  <a:pt x="206694" y="941"/>
                </a:lnTo>
                <a:lnTo>
                  <a:pt x="209235" y="2521"/>
                </a:lnTo>
                <a:lnTo>
                  <a:pt x="210927" y="4527"/>
                </a:lnTo>
                <a:lnTo>
                  <a:pt x="213008" y="5865"/>
                </a:lnTo>
                <a:lnTo>
                  <a:pt x="220487" y="8699"/>
                </a:lnTo>
                <a:lnTo>
                  <a:pt x="225947" y="12737"/>
                </a:lnTo>
                <a:lnTo>
                  <a:pt x="227785" y="15148"/>
                </a:lnTo>
                <a:lnTo>
                  <a:pt x="229009" y="17708"/>
                </a:lnTo>
                <a:lnTo>
                  <a:pt x="230369" y="23091"/>
                </a:lnTo>
                <a:lnTo>
                  <a:pt x="230974" y="28659"/>
                </a:lnTo>
                <a:lnTo>
                  <a:pt x="230183" y="32430"/>
                </a:lnTo>
                <a:lnTo>
                  <a:pt x="228702" y="36849"/>
                </a:lnTo>
                <a:lnTo>
                  <a:pt x="226763" y="41700"/>
                </a:lnTo>
                <a:lnTo>
                  <a:pt x="224519" y="45886"/>
                </a:lnTo>
                <a:lnTo>
                  <a:pt x="219483" y="53078"/>
                </a:lnTo>
                <a:lnTo>
                  <a:pt x="214071" y="59449"/>
                </a:lnTo>
                <a:lnTo>
                  <a:pt x="211293" y="62481"/>
                </a:lnTo>
                <a:lnTo>
                  <a:pt x="208490" y="64502"/>
                </a:lnTo>
                <a:lnTo>
                  <a:pt x="202835" y="66749"/>
                </a:lnTo>
                <a:lnTo>
                  <a:pt x="197147" y="70287"/>
                </a:lnTo>
                <a:lnTo>
                  <a:pt x="194296" y="72564"/>
                </a:lnTo>
                <a:lnTo>
                  <a:pt x="191443" y="74082"/>
                </a:lnTo>
                <a:lnTo>
                  <a:pt x="185733" y="75769"/>
                </a:lnTo>
                <a:lnTo>
                  <a:pt x="180021" y="76519"/>
                </a:lnTo>
                <a:lnTo>
                  <a:pt x="173143" y="77001"/>
                </a:lnTo>
                <a:lnTo>
                  <a:pt x="164888" y="77103"/>
                </a:lnTo>
                <a:lnTo>
                  <a:pt x="162995" y="77118"/>
                </a:lnTo>
                <a:lnTo>
                  <a:pt x="167463" y="77118"/>
                </a:lnTo>
                <a:lnTo>
                  <a:pt x="168792" y="76166"/>
                </a:lnTo>
                <a:lnTo>
                  <a:pt x="169679" y="74578"/>
                </a:lnTo>
                <a:lnTo>
                  <a:pt x="170269" y="72567"/>
                </a:lnTo>
                <a:lnTo>
                  <a:pt x="171615" y="71227"/>
                </a:lnTo>
                <a:lnTo>
                  <a:pt x="173465" y="70333"/>
                </a:lnTo>
                <a:lnTo>
                  <a:pt x="178060" y="69341"/>
                </a:lnTo>
                <a:lnTo>
                  <a:pt x="186232" y="68703"/>
                </a:lnTo>
                <a:lnTo>
                  <a:pt x="192976" y="68593"/>
                </a:lnTo>
                <a:lnTo>
                  <a:pt x="216926" y="68549"/>
                </a:lnTo>
                <a:lnTo>
                  <a:pt x="219864" y="69501"/>
                </a:lnTo>
                <a:lnTo>
                  <a:pt x="225670" y="73098"/>
                </a:lnTo>
                <a:lnTo>
                  <a:pt x="231425" y="75332"/>
                </a:lnTo>
                <a:lnTo>
                  <a:pt x="234293" y="75927"/>
                </a:lnTo>
                <a:lnTo>
                  <a:pt x="240021" y="79129"/>
                </a:lnTo>
                <a:lnTo>
                  <a:pt x="245741" y="83728"/>
                </a:lnTo>
                <a:lnTo>
                  <a:pt x="251458" y="88946"/>
                </a:lnTo>
                <a:lnTo>
                  <a:pt x="254316" y="92623"/>
                </a:lnTo>
                <a:lnTo>
                  <a:pt x="257174" y="96980"/>
                </a:lnTo>
                <a:lnTo>
                  <a:pt x="260032" y="101790"/>
                </a:lnTo>
                <a:lnTo>
                  <a:pt x="261938" y="105949"/>
                </a:lnTo>
                <a:lnTo>
                  <a:pt x="264054" y="113109"/>
                </a:lnTo>
                <a:lnTo>
                  <a:pt x="264995" y="119467"/>
                </a:lnTo>
                <a:lnTo>
                  <a:pt x="265412" y="125468"/>
                </a:lnTo>
                <a:lnTo>
                  <a:pt x="265599" y="131310"/>
                </a:lnTo>
                <a:lnTo>
                  <a:pt x="264696" y="134201"/>
                </a:lnTo>
                <a:lnTo>
                  <a:pt x="261152" y="139954"/>
                </a:lnTo>
                <a:lnTo>
                  <a:pt x="258942" y="145685"/>
                </a:lnTo>
                <a:lnTo>
                  <a:pt x="258355" y="148547"/>
                </a:lnTo>
                <a:lnTo>
                  <a:pt x="255160" y="154268"/>
                </a:lnTo>
                <a:lnTo>
                  <a:pt x="250565" y="159985"/>
                </a:lnTo>
                <a:lnTo>
                  <a:pt x="245347" y="165701"/>
                </a:lnTo>
                <a:lnTo>
                  <a:pt x="237313" y="171416"/>
                </a:lnTo>
                <a:lnTo>
                  <a:pt x="232504" y="174273"/>
                </a:lnTo>
                <a:lnTo>
                  <a:pt x="224620" y="179988"/>
                </a:lnTo>
                <a:lnTo>
                  <a:pt x="221185" y="182846"/>
                </a:lnTo>
                <a:lnTo>
                  <a:pt x="216988" y="184751"/>
                </a:lnTo>
                <a:lnTo>
                  <a:pt x="212286" y="186021"/>
                </a:lnTo>
                <a:lnTo>
                  <a:pt x="207247" y="186868"/>
                </a:lnTo>
                <a:lnTo>
                  <a:pt x="201982" y="188385"/>
                </a:lnTo>
                <a:lnTo>
                  <a:pt x="196568" y="190348"/>
                </a:lnTo>
                <a:lnTo>
                  <a:pt x="191053" y="192611"/>
                </a:lnTo>
                <a:lnTo>
                  <a:pt x="185472" y="194118"/>
                </a:lnTo>
                <a:lnTo>
                  <a:pt x="179845" y="195124"/>
                </a:lnTo>
                <a:lnTo>
                  <a:pt x="174189" y="195793"/>
                </a:lnTo>
                <a:lnTo>
                  <a:pt x="168514" y="197193"/>
                </a:lnTo>
                <a:lnTo>
                  <a:pt x="162825" y="199078"/>
                </a:lnTo>
                <a:lnTo>
                  <a:pt x="157128" y="201288"/>
                </a:lnTo>
                <a:lnTo>
                  <a:pt x="152377" y="202760"/>
                </a:lnTo>
                <a:lnTo>
                  <a:pt x="144559" y="204397"/>
                </a:lnTo>
                <a:lnTo>
                  <a:pt x="140188" y="204833"/>
                </a:lnTo>
                <a:lnTo>
                  <a:pt x="135368" y="205124"/>
                </a:lnTo>
                <a:lnTo>
                  <a:pt x="124934" y="205448"/>
                </a:lnTo>
                <a:lnTo>
                  <a:pt x="113946" y="205591"/>
                </a:lnTo>
                <a:lnTo>
                  <a:pt x="109302" y="206582"/>
                </a:lnTo>
                <a:lnTo>
                  <a:pt x="101602" y="210223"/>
                </a:lnTo>
                <a:lnTo>
                  <a:pt x="97262" y="211575"/>
                </a:lnTo>
                <a:lnTo>
                  <a:pt x="92464" y="212476"/>
                </a:lnTo>
                <a:lnTo>
                  <a:pt x="87361" y="213077"/>
                </a:lnTo>
                <a:lnTo>
                  <a:pt x="82053" y="213477"/>
                </a:lnTo>
                <a:lnTo>
                  <a:pt x="76609" y="213745"/>
                </a:lnTo>
                <a:lnTo>
                  <a:pt x="62387" y="214120"/>
                </a:lnTo>
                <a:lnTo>
                  <a:pt x="44497" y="214247"/>
                </a:lnTo>
                <a:lnTo>
                  <a:pt x="40142" y="215210"/>
                </a:lnTo>
                <a:lnTo>
                  <a:pt x="32763" y="218820"/>
                </a:lnTo>
                <a:lnTo>
                  <a:pt x="27805" y="221656"/>
                </a:lnTo>
                <a:lnTo>
                  <a:pt x="24106" y="222321"/>
                </a:lnTo>
                <a:lnTo>
                  <a:pt x="21785" y="222497"/>
                </a:lnTo>
                <a:lnTo>
                  <a:pt x="19286" y="223568"/>
                </a:lnTo>
                <a:lnTo>
                  <a:pt x="12171" y="228673"/>
                </a:lnTo>
                <a:lnTo>
                  <a:pt x="6743" y="233420"/>
                </a:lnTo>
                <a:lnTo>
                  <a:pt x="0" y="2399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iscrimina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scriminant 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4a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4ac &gt;0, there are two real solu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4ac = 0, there is one real solu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4ac &lt;0, there are NO real solu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MARTPenAnnotation516"/>
          <p:cNvSpPr/>
          <p:nvPr/>
        </p:nvSpPr>
        <p:spPr>
          <a:xfrm>
            <a:off x="7032600" y="3146400"/>
            <a:ext cx="1731960" cy="3168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731646" h="32544">
                <a:moveTo>
                  <a:pt x="0" y="8573"/>
                </a:moveTo>
                <a:lnTo>
                  <a:pt x="0" y="105"/>
                </a:lnTo>
                <a:lnTo>
                  <a:pt x="53105" y="0"/>
                </a:lnTo>
                <a:lnTo>
                  <a:pt x="151563" y="0"/>
                </a:lnTo>
                <a:lnTo>
                  <a:pt x="158192" y="953"/>
                </a:lnTo>
                <a:lnTo>
                  <a:pt x="165469" y="2540"/>
                </a:lnTo>
                <a:lnTo>
                  <a:pt x="173177" y="4551"/>
                </a:lnTo>
                <a:lnTo>
                  <a:pt x="180222" y="5892"/>
                </a:lnTo>
                <a:lnTo>
                  <a:pt x="186823" y="6785"/>
                </a:lnTo>
                <a:lnTo>
                  <a:pt x="199237" y="7778"/>
                </a:lnTo>
                <a:lnTo>
                  <a:pt x="249309" y="8526"/>
                </a:lnTo>
                <a:lnTo>
                  <a:pt x="321570" y="8572"/>
                </a:lnTo>
                <a:lnTo>
                  <a:pt x="328680" y="9524"/>
                </a:lnTo>
                <a:lnTo>
                  <a:pt x="336278" y="11112"/>
                </a:lnTo>
                <a:lnTo>
                  <a:pt x="344200" y="13123"/>
                </a:lnTo>
                <a:lnTo>
                  <a:pt x="352339" y="14464"/>
                </a:lnTo>
                <a:lnTo>
                  <a:pt x="360623" y="15357"/>
                </a:lnTo>
                <a:lnTo>
                  <a:pt x="376494" y="16351"/>
                </a:lnTo>
                <a:lnTo>
                  <a:pt x="429170" y="17098"/>
                </a:lnTo>
                <a:lnTo>
                  <a:pt x="702665" y="17145"/>
                </a:lnTo>
                <a:lnTo>
                  <a:pt x="712283" y="18098"/>
                </a:lnTo>
                <a:lnTo>
                  <a:pt x="722506" y="19685"/>
                </a:lnTo>
                <a:lnTo>
                  <a:pt x="733130" y="21696"/>
                </a:lnTo>
                <a:lnTo>
                  <a:pt x="743071" y="23036"/>
                </a:lnTo>
                <a:lnTo>
                  <a:pt x="752556" y="23930"/>
                </a:lnTo>
                <a:lnTo>
                  <a:pt x="770715" y="24923"/>
                </a:lnTo>
                <a:lnTo>
                  <a:pt x="818832" y="25613"/>
                </a:lnTo>
                <a:lnTo>
                  <a:pt x="1405527" y="25718"/>
                </a:lnTo>
                <a:lnTo>
                  <a:pt x="1415173" y="26670"/>
                </a:lnTo>
                <a:lnTo>
                  <a:pt x="1425413" y="28257"/>
                </a:lnTo>
                <a:lnTo>
                  <a:pt x="1436051" y="30269"/>
                </a:lnTo>
                <a:lnTo>
                  <a:pt x="1445999" y="31609"/>
                </a:lnTo>
                <a:lnTo>
                  <a:pt x="1455490" y="32503"/>
                </a:lnTo>
                <a:lnTo>
                  <a:pt x="1474607" y="32543"/>
                </a:lnTo>
                <a:lnTo>
                  <a:pt x="1485039" y="31221"/>
                </a:lnTo>
                <a:lnTo>
                  <a:pt x="1495803" y="29386"/>
                </a:lnTo>
                <a:lnTo>
                  <a:pt x="1505837" y="28163"/>
                </a:lnTo>
                <a:lnTo>
                  <a:pt x="1515384" y="27348"/>
                </a:lnTo>
                <a:lnTo>
                  <a:pt x="1533611" y="26442"/>
                </a:lnTo>
                <a:lnTo>
                  <a:pt x="1587649" y="25760"/>
                </a:lnTo>
                <a:lnTo>
                  <a:pt x="1725532" y="25718"/>
                </a:lnTo>
                <a:lnTo>
                  <a:pt x="1727570" y="24765"/>
                </a:lnTo>
                <a:lnTo>
                  <a:pt x="1728928" y="23178"/>
                </a:lnTo>
                <a:lnTo>
                  <a:pt x="1731645" y="171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MARTPenAnnotation517"/>
          <p:cNvSpPr/>
          <p:nvPr/>
        </p:nvSpPr>
        <p:spPr>
          <a:xfrm>
            <a:off x="7932600" y="2435400"/>
            <a:ext cx="33480" cy="1164960"/>
          </a:xfrm>
          <a:custGeom>
            <a:avLst/>
            <a:gdLst>
              <a:gd name="textAreaLeft" fmla="*/ 0 w 33480"/>
              <a:gd name="textAreaRight" fmla="*/ 33840 w 33480"/>
              <a:gd name="textAreaTop" fmla="*/ 0 h 1164960"/>
              <a:gd name="textAreaBottom" fmla="*/ 1165320 h 1164960"/>
            </a:gdLst>
            <a:ahLst/>
            <a:rect l="textAreaLeft" t="textAreaTop" r="textAreaRight" b="textAreaBottom"/>
            <a:pathLst>
              <a:path w="34282" h="1165862">
                <a:moveTo>
                  <a:pt x="25718" y="0"/>
                </a:moveTo>
                <a:lnTo>
                  <a:pt x="25718" y="28693"/>
                </a:lnTo>
                <a:lnTo>
                  <a:pt x="26671" y="32464"/>
                </a:lnTo>
                <a:lnTo>
                  <a:pt x="28257" y="36883"/>
                </a:lnTo>
                <a:lnTo>
                  <a:pt x="30269" y="41734"/>
                </a:lnTo>
                <a:lnTo>
                  <a:pt x="31610" y="45920"/>
                </a:lnTo>
                <a:lnTo>
                  <a:pt x="32503" y="49664"/>
                </a:lnTo>
                <a:lnTo>
                  <a:pt x="33497" y="57316"/>
                </a:lnTo>
                <a:lnTo>
                  <a:pt x="34221" y="88848"/>
                </a:lnTo>
                <a:lnTo>
                  <a:pt x="34281" y="117193"/>
                </a:lnTo>
                <a:lnTo>
                  <a:pt x="33332" y="122896"/>
                </a:lnTo>
                <a:lnTo>
                  <a:pt x="31746" y="128604"/>
                </a:lnTo>
                <a:lnTo>
                  <a:pt x="29737" y="134313"/>
                </a:lnTo>
                <a:lnTo>
                  <a:pt x="28397" y="140978"/>
                </a:lnTo>
                <a:lnTo>
                  <a:pt x="27504" y="148278"/>
                </a:lnTo>
                <a:lnTo>
                  <a:pt x="26513" y="163056"/>
                </a:lnTo>
                <a:lnTo>
                  <a:pt x="26071" y="175975"/>
                </a:lnTo>
                <a:lnTo>
                  <a:pt x="25001" y="183039"/>
                </a:lnTo>
                <a:lnTo>
                  <a:pt x="23335" y="190606"/>
                </a:lnTo>
                <a:lnTo>
                  <a:pt x="21272" y="198508"/>
                </a:lnTo>
                <a:lnTo>
                  <a:pt x="19897" y="206634"/>
                </a:lnTo>
                <a:lnTo>
                  <a:pt x="18980" y="214909"/>
                </a:lnTo>
                <a:lnTo>
                  <a:pt x="17960" y="231723"/>
                </a:lnTo>
                <a:lnTo>
                  <a:pt x="17307" y="265800"/>
                </a:lnTo>
                <a:lnTo>
                  <a:pt x="16264" y="282916"/>
                </a:lnTo>
                <a:lnTo>
                  <a:pt x="14653" y="291481"/>
                </a:lnTo>
                <a:lnTo>
                  <a:pt x="12627" y="300048"/>
                </a:lnTo>
                <a:lnTo>
                  <a:pt x="11276" y="308618"/>
                </a:lnTo>
                <a:lnTo>
                  <a:pt x="10375" y="317188"/>
                </a:lnTo>
                <a:lnTo>
                  <a:pt x="9373" y="334330"/>
                </a:lnTo>
                <a:lnTo>
                  <a:pt x="8811" y="360999"/>
                </a:lnTo>
                <a:lnTo>
                  <a:pt x="8574" y="501372"/>
                </a:lnTo>
                <a:lnTo>
                  <a:pt x="7621" y="512366"/>
                </a:lnTo>
                <a:lnTo>
                  <a:pt x="6033" y="523505"/>
                </a:lnTo>
                <a:lnTo>
                  <a:pt x="4023" y="534741"/>
                </a:lnTo>
                <a:lnTo>
                  <a:pt x="4329" y="557385"/>
                </a:lnTo>
                <a:lnTo>
                  <a:pt x="5743" y="568758"/>
                </a:lnTo>
                <a:lnTo>
                  <a:pt x="4775" y="591554"/>
                </a:lnTo>
                <a:lnTo>
                  <a:pt x="3184" y="602967"/>
                </a:lnTo>
                <a:lnTo>
                  <a:pt x="2123" y="614386"/>
                </a:lnTo>
                <a:lnTo>
                  <a:pt x="1416" y="625808"/>
                </a:lnTo>
                <a:lnTo>
                  <a:pt x="420" y="660087"/>
                </a:lnTo>
                <a:lnTo>
                  <a:pt x="83" y="705804"/>
                </a:lnTo>
                <a:lnTo>
                  <a:pt x="1008" y="717234"/>
                </a:lnTo>
                <a:lnTo>
                  <a:pt x="2578" y="728664"/>
                </a:lnTo>
                <a:lnTo>
                  <a:pt x="4576" y="740093"/>
                </a:lnTo>
                <a:lnTo>
                  <a:pt x="5908" y="752476"/>
                </a:lnTo>
                <a:lnTo>
                  <a:pt x="6796" y="765493"/>
                </a:lnTo>
                <a:lnTo>
                  <a:pt x="6831" y="791704"/>
                </a:lnTo>
                <a:lnTo>
                  <a:pt x="5507" y="804028"/>
                </a:lnTo>
                <a:lnTo>
                  <a:pt x="3671" y="816054"/>
                </a:lnTo>
                <a:lnTo>
                  <a:pt x="2447" y="827881"/>
                </a:lnTo>
                <a:lnTo>
                  <a:pt x="1632" y="839576"/>
                </a:lnTo>
                <a:lnTo>
                  <a:pt x="726" y="862730"/>
                </a:lnTo>
                <a:lnTo>
                  <a:pt x="144" y="906099"/>
                </a:lnTo>
                <a:lnTo>
                  <a:pt x="29" y="947015"/>
                </a:lnTo>
                <a:lnTo>
                  <a:pt x="971" y="957099"/>
                </a:lnTo>
                <a:lnTo>
                  <a:pt x="2554" y="966678"/>
                </a:lnTo>
                <a:lnTo>
                  <a:pt x="4560" y="975922"/>
                </a:lnTo>
                <a:lnTo>
                  <a:pt x="5898" y="985896"/>
                </a:lnTo>
                <a:lnTo>
                  <a:pt x="6790" y="996354"/>
                </a:lnTo>
                <a:lnTo>
                  <a:pt x="7383" y="1007136"/>
                </a:lnTo>
                <a:lnTo>
                  <a:pt x="8733" y="1017182"/>
                </a:lnTo>
                <a:lnTo>
                  <a:pt x="10584" y="1026736"/>
                </a:lnTo>
                <a:lnTo>
                  <a:pt x="12772" y="1035963"/>
                </a:lnTo>
                <a:lnTo>
                  <a:pt x="14229" y="1044973"/>
                </a:lnTo>
                <a:lnTo>
                  <a:pt x="15202" y="1053836"/>
                </a:lnTo>
                <a:lnTo>
                  <a:pt x="15850" y="1062602"/>
                </a:lnTo>
                <a:lnTo>
                  <a:pt x="16761" y="1084042"/>
                </a:lnTo>
                <a:lnTo>
                  <a:pt x="15937" y="1091313"/>
                </a:lnTo>
                <a:lnTo>
                  <a:pt x="14435" y="1099017"/>
                </a:lnTo>
                <a:lnTo>
                  <a:pt x="12482" y="1107011"/>
                </a:lnTo>
                <a:lnTo>
                  <a:pt x="11179" y="1113292"/>
                </a:lnTo>
                <a:lnTo>
                  <a:pt x="10310" y="1118433"/>
                </a:lnTo>
                <a:lnTo>
                  <a:pt x="9345" y="1126684"/>
                </a:lnTo>
                <a:lnTo>
                  <a:pt x="8916" y="1133526"/>
                </a:lnTo>
                <a:lnTo>
                  <a:pt x="7849" y="1137637"/>
                </a:lnTo>
                <a:lnTo>
                  <a:pt x="6186" y="1142282"/>
                </a:lnTo>
                <a:lnTo>
                  <a:pt x="1222" y="1154324"/>
                </a:lnTo>
                <a:lnTo>
                  <a:pt x="161" y="1163683"/>
                </a:lnTo>
                <a:lnTo>
                  <a:pt x="0" y="11658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MARTPenAnnotation518"/>
          <p:cNvSpPr/>
          <p:nvPr/>
        </p:nvSpPr>
        <p:spPr>
          <a:xfrm>
            <a:off x="7418520" y="2571840"/>
            <a:ext cx="957240" cy="890640"/>
          </a:xfrm>
          <a:custGeom>
            <a:avLst/>
            <a:gdLst>
              <a:gd name="textAreaLeft" fmla="*/ 0 w 957240"/>
              <a:gd name="textAreaRight" fmla="*/ 957600 w 95724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956977" h="891178">
                <a:moveTo>
                  <a:pt x="17146" y="0"/>
                </a:moveTo>
                <a:lnTo>
                  <a:pt x="8678" y="0"/>
                </a:lnTo>
                <a:lnTo>
                  <a:pt x="8573" y="25894"/>
                </a:lnTo>
                <a:lnTo>
                  <a:pt x="8573" y="87286"/>
                </a:lnTo>
                <a:lnTo>
                  <a:pt x="7621" y="90576"/>
                </a:lnTo>
                <a:lnTo>
                  <a:pt x="2681" y="100709"/>
                </a:lnTo>
                <a:lnTo>
                  <a:pt x="354" y="121647"/>
                </a:lnTo>
                <a:lnTo>
                  <a:pt x="31" y="144460"/>
                </a:lnTo>
                <a:lnTo>
                  <a:pt x="0" y="262997"/>
                </a:lnTo>
                <a:lnTo>
                  <a:pt x="954" y="267724"/>
                </a:lnTo>
                <a:lnTo>
                  <a:pt x="5892" y="279879"/>
                </a:lnTo>
                <a:lnTo>
                  <a:pt x="10584" y="300571"/>
                </a:lnTo>
                <a:lnTo>
                  <a:pt x="15202" y="314800"/>
                </a:lnTo>
                <a:lnTo>
                  <a:pt x="17842" y="338000"/>
                </a:lnTo>
                <a:lnTo>
                  <a:pt x="23880" y="360206"/>
                </a:lnTo>
                <a:lnTo>
                  <a:pt x="25355" y="382936"/>
                </a:lnTo>
                <a:lnTo>
                  <a:pt x="25611" y="400059"/>
                </a:lnTo>
                <a:lnTo>
                  <a:pt x="28211" y="411484"/>
                </a:lnTo>
                <a:lnTo>
                  <a:pt x="32489" y="426086"/>
                </a:lnTo>
                <a:lnTo>
                  <a:pt x="35006" y="449422"/>
                </a:lnTo>
                <a:lnTo>
                  <a:pt x="41029" y="471644"/>
                </a:lnTo>
                <a:lnTo>
                  <a:pt x="43574" y="494191"/>
                </a:lnTo>
                <a:lnTo>
                  <a:pt x="48682" y="509435"/>
                </a:lnTo>
                <a:lnTo>
                  <a:pt x="51572" y="526017"/>
                </a:lnTo>
                <a:lnTo>
                  <a:pt x="60094" y="554199"/>
                </a:lnTo>
                <a:lnTo>
                  <a:pt x="66622" y="572351"/>
                </a:lnTo>
                <a:lnTo>
                  <a:pt x="69275" y="594272"/>
                </a:lnTo>
                <a:lnTo>
                  <a:pt x="74396" y="605869"/>
                </a:lnTo>
                <a:lnTo>
                  <a:pt x="77864" y="630636"/>
                </a:lnTo>
                <a:lnTo>
                  <a:pt x="90802" y="654467"/>
                </a:lnTo>
                <a:lnTo>
                  <a:pt x="92744" y="661714"/>
                </a:lnTo>
                <a:lnTo>
                  <a:pt x="95167" y="664980"/>
                </a:lnTo>
                <a:lnTo>
                  <a:pt x="106727" y="675080"/>
                </a:lnTo>
                <a:lnTo>
                  <a:pt x="124614" y="699272"/>
                </a:lnTo>
                <a:lnTo>
                  <a:pt x="128363" y="708418"/>
                </a:lnTo>
                <a:lnTo>
                  <a:pt x="137681" y="720042"/>
                </a:lnTo>
                <a:lnTo>
                  <a:pt x="162892" y="745806"/>
                </a:lnTo>
                <a:lnTo>
                  <a:pt x="191454" y="774382"/>
                </a:lnTo>
                <a:lnTo>
                  <a:pt x="219234" y="794384"/>
                </a:lnTo>
                <a:lnTo>
                  <a:pt x="225390" y="800100"/>
                </a:lnTo>
                <a:lnTo>
                  <a:pt x="228365" y="802005"/>
                </a:lnTo>
                <a:lnTo>
                  <a:pt x="237103" y="805638"/>
                </a:lnTo>
                <a:lnTo>
                  <a:pt x="263956" y="823117"/>
                </a:lnTo>
                <a:lnTo>
                  <a:pt x="285276" y="840118"/>
                </a:lnTo>
                <a:lnTo>
                  <a:pt x="290196" y="842971"/>
                </a:lnTo>
                <a:lnTo>
                  <a:pt x="300745" y="846141"/>
                </a:lnTo>
                <a:lnTo>
                  <a:pt x="311782" y="848503"/>
                </a:lnTo>
                <a:lnTo>
                  <a:pt x="328706" y="854235"/>
                </a:lnTo>
                <a:lnTo>
                  <a:pt x="351492" y="859194"/>
                </a:lnTo>
                <a:lnTo>
                  <a:pt x="366083" y="863858"/>
                </a:lnTo>
                <a:lnTo>
                  <a:pt x="374159" y="865902"/>
                </a:lnTo>
                <a:lnTo>
                  <a:pt x="392326" y="872435"/>
                </a:lnTo>
                <a:lnTo>
                  <a:pt x="409311" y="875089"/>
                </a:lnTo>
                <a:lnTo>
                  <a:pt x="423961" y="880209"/>
                </a:lnTo>
                <a:lnTo>
                  <a:pt x="451401" y="883678"/>
                </a:lnTo>
                <a:lnTo>
                  <a:pt x="466595" y="888787"/>
                </a:lnTo>
                <a:lnTo>
                  <a:pt x="494457" y="891177"/>
                </a:lnTo>
                <a:lnTo>
                  <a:pt x="505826" y="888838"/>
                </a:lnTo>
                <a:lnTo>
                  <a:pt x="517229" y="885576"/>
                </a:lnTo>
                <a:lnTo>
                  <a:pt x="545609" y="883196"/>
                </a:lnTo>
                <a:lnTo>
                  <a:pt x="555548" y="883069"/>
                </a:lnTo>
                <a:lnTo>
                  <a:pt x="559913" y="882082"/>
                </a:lnTo>
                <a:lnTo>
                  <a:pt x="571560" y="877096"/>
                </a:lnTo>
                <a:lnTo>
                  <a:pt x="592080" y="872388"/>
                </a:lnTo>
                <a:lnTo>
                  <a:pt x="606279" y="867768"/>
                </a:lnTo>
                <a:lnTo>
                  <a:pt x="614262" y="865734"/>
                </a:lnTo>
                <a:lnTo>
                  <a:pt x="628515" y="859234"/>
                </a:lnTo>
                <a:lnTo>
                  <a:pt x="655234" y="842886"/>
                </a:lnTo>
                <a:lnTo>
                  <a:pt x="674859" y="831517"/>
                </a:lnTo>
                <a:lnTo>
                  <a:pt x="687639" y="822955"/>
                </a:lnTo>
                <a:lnTo>
                  <a:pt x="700950" y="814386"/>
                </a:lnTo>
                <a:lnTo>
                  <a:pt x="713981" y="802957"/>
                </a:lnTo>
                <a:lnTo>
                  <a:pt x="726680" y="785636"/>
                </a:lnTo>
                <a:lnTo>
                  <a:pt x="747464" y="769020"/>
                </a:lnTo>
                <a:lnTo>
                  <a:pt x="765335" y="745101"/>
                </a:lnTo>
                <a:lnTo>
                  <a:pt x="784997" y="723031"/>
                </a:lnTo>
                <a:lnTo>
                  <a:pt x="799993" y="696864"/>
                </a:lnTo>
                <a:lnTo>
                  <a:pt x="842963" y="611504"/>
                </a:lnTo>
                <a:lnTo>
                  <a:pt x="851536" y="589809"/>
                </a:lnTo>
                <a:lnTo>
                  <a:pt x="862013" y="563721"/>
                </a:lnTo>
                <a:lnTo>
                  <a:pt x="867610" y="540224"/>
                </a:lnTo>
                <a:lnTo>
                  <a:pt x="880346" y="505621"/>
                </a:lnTo>
                <a:lnTo>
                  <a:pt x="887800" y="485623"/>
                </a:lnTo>
                <a:lnTo>
                  <a:pt x="891385" y="462976"/>
                </a:lnTo>
                <a:lnTo>
                  <a:pt x="898107" y="437774"/>
                </a:lnTo>
                <a:lnTo>
                  <a:pt x="900174" y="426023"/>
                </a:lnTo>
                <a:lnTo>
                  <a:pt x="905741" y="407746"/>
                </a:lnTo>
                <a:lnTo>
                  <a:pt x="908765" y="385608"/>
                </a:lnTo>
                <a:lnTo>
                  <a:pt x="915298" y="360579"/>
                </a:lnTo>
                <a:lnTo>
                  <a:pt x="919217" y="340518"/>
                </a:lnTo>
                <a:lnTo>
                  <a:pt x="923872" y="319016"/>
                </a:lnTo>
                <a:lnTo>
                  <a:pt x="925444" y="294684"/>
                </a:lnTo>
                <a:lnTo>
                  <a:pt x="928199" y="283053"/>
                </a:lnTo>
                <a:lnTo>
                  <a:pt x="931646" y="271534"/>
                </a:lnTo>
                <a:lnTo>
                  <a:pt x="933859" y="246076"/>
                </a:lnTo>
                <a:lnTo>
                  <a:pt x="934297" y="218364"/>
                </a:lnTo>
                <a:lnTo>
                  <a:pt x="936896" y="206270"/>
                </a:lnTo>
                <a:lnTo>
                  <a:pt x="940274" y="194545"/>
                </a:lnTo>
                <a:lnTo>
                  <a:pt x="942442" y="171496"/>
                </a:lnTo>
                <a:lnTo>
                  <a:pt x="942870" y="148599"/>
                </a:lnTo>
                <a:lnTo>
                  <a:pt x="945469" y="137164"/>
                </a:lnTo>
                <a:lnTo>
                  <a:pt x="954898" y="114300"/>
                </a:lnTo>
                <a:lnTo>
                  <a:pt x="955687" y="108585"/>
                </a:lnTo>
                <a:lnTo>
                  <a:pt x="954150" y="92392"/>
                </a:lnTo>
                <a:lnTo>
                  <a:pt x="955188" y="88265"/>
                </a:lnTo>
                <a:lnTo>
                  <a:pt x="956832" y="84560"/>
                </a:lnTo>
                <a:lnTo>
                  <a:pt x="956976" y="80186"/>
                </a:lnTo>
                <a:lnTo>
                  <a:pt x="952150" y="55185"/>
                </a:lnTo>
                <a:lnTo>
                  <a:pt x="951627" y="40122"/>
                </a:lnTo>
                <a:lnTo>
                  <a:pt x="950648" y="37226"/>
                </a:lnTo>
                <a:lnTo>
                  <a:pt x="945672" y="28598"/>
                </a:lnTo>
                <a:lnTo>
                  <a:pt x="942985" y="17189"/>
                </a:lnTo>
                <a:lnTo>
                  <a:pt x="935596" y="17148"/>
                </a:lnTo>
                <a:lnTo>
                  <a:pt x="935198" y="18100"/>
                </a:lnTo>
                <a:lnTo>
                  <a:pt x="934403" y="257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MARTPenAnnotation519"/>
          <p:cNvSpPr/>
          <p:nvPr/>
        </p:nvSpPr>
        <p:spPr>
          <a:xfrm>
            <a:off x="8605800" y="3668760"/>
            <a:ext cx="63360" cy="925560"/>
          </a:xfrm>
          <a:custGeom>
            <a:avLst/>
            <a:gdLst>
              <a:gd name="textAreaLeft" fmla="*/ 0 w 63360"/>
              <a:gd name="textAreaRight" fmla="*/ 63720 w 63360"/>
              <a:gd name="textAreaTop" fmla="*/ 0 h 925560"/>
              <a:gd name="textAreaBottom" fmla="*/ 925920 h 925560"/>
            </a:gdLst>
            <a:ahLst/>
            <a:rect l="textAreaLeft" t="textAreaTop" r="textAreaRight" b="textAreaBottom"/>
            <a:pathLst>
              <a:path w="64452" h="925832">
                <a:moveTo>
                  <a:pt x="64451" y="0"/>
                </a:moveTo>
                <a:lnTo>
                  <a:pt x="55909" y="0"/>
                </a:lnTo>
                <a:lnTo>
                  <a:pt x="55878" y="36344"/>
                </a:lnTo>
                <a:lnTo>
                  <a:pt x="54926" y="40422"/>
                </a:lnTo>
                <a:lnTo>
                  <a:pt x="53338" y="45046"/>
                </a:lnTo>
                <a:lnTo>
                  <a:pt x="51327" y="50033"/>
                </a:lnTo>
                <a:lnTo>
                  <a:pt x="49987" y="54311"/>
                </a:lnTo>
                <a:lnTo>
                  <a:pt x="48100" y="65834"/>
                </a:lnTo>
                <a:lnTo>
                  <a:pt x="46589" y="80890"/>
                </a:lnTo>
                <a:lnTo>
                  <a:pt x="44923" y="86312"/>
                </a:lnTo>
                <a:lnTo>
                  <a:pt x="42859" y="91832"/>
                </a:lnTo>
                <a:lnTo>
                  <a:pt x="41484" y="97416"/>
                </a:lnTo>
                <a:lnTo>
                  <a:pt x="39548" y="114378"/>
                </a:lnTo>
                <a:lnTo>
                  <a:pt x="38894" y="139716"/>
                </a:lnTo>
                <a:lnTo>
                  <a:pt x="38765" y="167405"/>
                </a:lnTo>
                <a:lnTo>
                  <a:pt x="37802" y="174468"/>
                </a:lnTo>
                <a:lnTo>
                  <a:pt x="36207" y="182035"/>
                </a:lnTo>
                <a:lnTo>
                  <a:pt x="34192" y="189937"/>
                </a:lnTo>
                <a:lnTo>
                  <a:pt x="32848" y="198062"/>
                </a:lnTo>
                <a:lnTo>
                  <a:pt x="30957" y="223151"/>
                </a:lnTo>
                <a:lnTo>
                  <a:pt x="29444" y="248681"/>
                </a:lnTo>
                <a:lnTo>
                  <a:pt x="27778" y="257228"/>
                </a:lnTo>
                <a:lnTo>
                  <a:pt x="25715" y="265783"/>
                </a:lnTo>
                <a:lnTo>
                  <a:pt x="24339" y="274344"/>
                </a:lnTo>
                <a:lnTo>
                  <a:pt x="22811" y="291476"/>
                </a:lnTo>
                <a:lnTo>
                  <a:pt x="21451" y="300045"/>
                </a:lnTo>
                <a:lnTo>
                  <a:pt x="19592" y="308615"/>
                </a:lnTo>
                <a:lnTo>
                  <a:pt x="17400" y="317186"/>
                </a:lnTo>
                <a:lnTo>
                  <a:pt x="15938" y="325758"/>
                </a:lnTo>
                <a:lnTo>
                  <a:pt x="14315" y="342902"/>
                </a:lnTo>
                <a:lnTo>
                  <a:pt x="13593" y="362586"/>
                </a:lnTo>
                <a:lnTo>
                  <a:pt x="12320" y="383082"/>
                </a:lnTo>
                <a:lnTo>
                  <a:pt x="10646" y="392548"/>
                </a:lnTo>
                <a:lnTo>
                  <a:pt x="8578" y="401717"/>
                </a:lnTo>
                <a:lnTo>
                  <a:pt x="7201" y="411639"/>
                </a:lnTo>
                <a:lnTo>
                  <a:pt x="5668" y="432823"/>
                </a:lnTo>
                <a:lnTo>
                  <a:pt x="4806" y="461620"/>
                </a:lnTo>
                <a:lnTo>
                  <a:pt x="3733" y="471577"/>
                </a:lnTo>
                <a:lnTo>
                  <a:pt x="2065" y="482024"/>
                </a:lnTo>
                <a:lnTo>
                  <a:pt x="0" y="492800"/>
                </a:lnTo>
                <a:lnTo>
                  <a:pt x="245" y="512393"/>
                </a:lnTo>
                <a:lnTo>
                  <a:pt x="1645" y="521618"/>
                </a:lnTo>
                <a:lnTo>
                  <a:pt x="3614" y="548254"/>
                </a:lnTo>
                <a:lnTo>
                  <a:pt x="4075" y="568154"/>
                </a:lnTo>
                <a:lnTo>
                  <a:pt x="4421" y="634002"/>
                </a:lnTo>
                <a:lnTo>
                  <a:pt x="5381" y="643649"/>
                </a:lnTo>
                <a:lnTo>
                  <a:pt x="6974" y="653889"/>
                </a:lnTo>
                <a:lnTo>
                  <a:pt x="8988" y="664526"/>
                </a:lnTo>
                <a:lnTo>
                  <a:pt x="10330" y="674475"/>
                </a:lnTo>
                <a:lnTo>
                  <a:pt x="11821" y="693150"/>
                </a:lnTo>
                <a:lnTo>
                  <a:pt x="13173" y="702130"/>
                </a:lnTo>
                <a:lnTo>
                  <a:pt x="15024" y="710974"/>
                </a:lnTo>
                <a:lnTo>
                  <a:pt x="17213" y="719728"/>
                </a:lnTo>
                <a:lnTo>
                  <a:pt x="18671" y="728421"/>
                </a:lnTo>
                <a:lnTo>
                  <a:pt x="20291" y="745701"/>
                </a:lnTo>
                <a:lnTo>
                  <a:pt x="21204" y="771494"/>
                </a:lnTo>
                <a:lnTo>
                  <a:pt x="22465" y="799918"/>
                </a:lnTo>
                <a:lnTo>
                  <a:pt x="24077" y="807599"/>
                </a:lnTo>
                <a:lnTo>
                  <a:pt x="26106" y="815577"/>
                </a:lnTo>
                <a:lnTo>
                  <a:pt x="27458" y="822801"/>
                </a:lnTo>
                <a:lnTo>
                  <a:pt x="29360" y="842069"/>
                </a:lnTo>
                <a:lnTo>
                  <a:pt x="30876" y="859843"/>
                </a:lnTo>
                <a:lnTo>
                  <a:pt x="32542" y="865647"/>
                </a:lnTo>
                <a:lnTo>
                  <a:pt x="34606" y="871420"/>
                </a:lnTo>
                <a:lnTo>
                  <a:pt x="35982" y="876222"/>
                </a:lnTo>
                <a:lnTo>
                  <a:pt x="37918" y="887531"/>
                </a:lnTo>
                <a:lnTo>
                  <a:pt x="38712" y="914371"/>
                </a:lnTo>
                <a:lnTo>
                  <a:pt x="38731" y="924133"/>
                </a:lnTo>
                <a:lnTo>
                  <a:pt x="39684" y="924699"/>
                </a:lnTo>
                <a:lnTo>
                  <a:pt x="41272" y="925076"/>
                </a:lnTo>
                <a:lnTo>
                  <a:pt x="47305" y="9258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MARTPenAnnotation520"/>
          <p:cNvSpPr/>
          <p:nvPr/>
        </p:nvSpPr>
        <p:spPr>
          <a:xfrm>
            <a:off x="8292960" y="4089240"/>
            <a:ext cx="779760" cy="7920"/>
          </a:xfrm>
          <a:custGeom>
            <a:avLst/>
            <a:gdLst>
              <a:gd name="textAreaLeft" fmla="*/ 0 w 779760"/>
              <a:gd name="textAreaRight" fmla="*/ 780120 w 7797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80067" h="8573">
                <a:moveTo>
                  <a:pt x="8541" y="0"/>
                </a:moveTo>
                <a:lnTo>
                  <a:pt x="0" y="0"/>
                </a:lnTo>
                <a:lnTo>
                  <a:pt x="36903" y="0"/>
                </a:lnTo>
                <a:lnTo>
                  <a:pt x="40784" y="953"/>
                </a:lnTo>
                <a:lnTo>
                  <a:pt x="45277" y="2540"/>
                </a:lnTo>
                <a:lnTo>
                  <a:pt x="50176" y="4551"/>
                </a:lnTo>
                <a:lnTo>
                  <a:pt x="55347" y="5891"/>
                </a:lnTo>
                <a:lnTo>
                  <a:pt x="60701" y="6785"/>
                </a:lnTo>
                <a:lnTo>
                  <a:pt x="66174" y="7381"/>
                </a:lnTo>
                <a:lnTo>
                  <a:pt x="71728" y="7778"/>
                </a:lnTo>
                <a:lnTo>
                  <a:pt x="77335" y="8043"/>
                </a:lnTo>
                <a:lnTo>
                  <a:pt x="88647" y="8337"/>
                </a:lnTo>
                <a:lnTo>
                  <a:pt x="287444" y="8572"/>
                </a:lnTo>
                <a:lnTo>
                  <a:pt x="298299" y="7620"/>
                </a:lnTo>
                <a:lnTo>
                  <a:pt x="309346" y="6033"/>
                </a:lnTo>
                <a:lnTo>
                  <a:pt x="320520" y="4022"/>
                </a:lnTo>
                <a:lnTo>
                  <a:pt x="331779" y="2681"/>
                </a:lnTo>
                <a:lnTo>
                  <a:pt x="343096" y="1788"/>
                </a:lnTo>
                <a:lnTo>
                  <a:pt x="354451" y="1192"/>
                </a:lnTo>
                <a:lnTo>
                  <a:pt x="377226" y="530"/>
                </a:lnTo>
                <a:lnTo>
                  <a:pt x="457173" y="31"/>
                </a:lnTo>
                <a:lnTo>
                  <a:pt x="668229" y="0"/>
                </a:lnTo>
                <a:lnTo>
                  <a:pt x="675981" y="953"/>
                </a:lnTo>
                <a:lnTo>
                  <a:pt x="683053" y="2540"/>
                </a:lnTo>
                <a:lnTo>
                  <a:pt x="689674" y="4551"/>
                </a:lnTo>
                <a:lnTo>
                  <a:pt x="696945" y="5891"/>
                </a:lnTo>
                <a:lnTo>
                  <a:pt x="704650" y="6785"/>
                </a:lnTo>
                <a:lnTo>
                  <a:pt x="712644" y="7381"/>
                </a:lnTo>
                <a:lnTo>
                  <a:pt x="719877" y="7778"/>
                </a:lnTo>
                <a:lnTo>
                  <a:pt x="732996" y="8219"/>
                </a:lnTo>
                <a:lnTo>
                  <a:pt x="750096" y="8503"/>
                </a:lnTo>
                <a:lnTo>
                  <a:pt x="780066" y="85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MARTPenAnnotation521"/>
          <p:cNvSpPr/>
          <p:nvPr/>
        </p:nvSpPr>
        <p:spPr>
          <a:xfrm>
            <a:off x="8798040" y="4064040"/>
            <a:ext cx="85680" cy="76320"/>
          </a:xfrm>
          <a:custGeom>
            <a:avLst/>
            <a:gdLst>
              <a:gd name="textAreaLeft" fmla="*/ 0 w 85680"/>
              <a:gd name="textAreaRight" fmla="*/ 86040 w 856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85713" h="76767">
                <a:moveTo>
                  <a:pt x="0" y="33903"/>
                </a:moveTo>
                <a:lnTo>
                  <a:pt x="0" y="26523"/>
                </a:lnTo>
                <a:lnTo>
                  <a:pt x="1906" y="25173"/>
                </a:lnTo>
                <a:lnTo>
                  <a:pt x="5081" y="23321"/>
                </a:lnTo>
                <a:lnTo>
                  <a:pt x="14762" y="18055"/>
                </a:lnTo>
                <a:lnTo>
                  <a:pt x="16509" y="16670"/>
                </a:lnTo>
                <a:lnTo>
                  <a:pt x="18626" y="14795"/>
                </a:lnTo>
                <a:lnTo>
                  <a:pt x="20990" y="12592"/>
                </a:lnTo>
                <a:lnTo>
                  <a:pt x="23518" y="11123"/>
                </a:lnTo>
                <a:lnTo>
                  <a:pt x="26156" y="10144"/>
                </a:lnTo>
                <a:lnTo>
                  <a:pt x="28868" y="9491"/>
                </a:lnTo>
                <a:lnTo>
                  <a:pt x="30676" y="8104"/>
                </a:lnTo>
                <a:lnTo>
                  <a:pt x="31880" y="6226"/>
                </a:lnTo>
                <a:lnTo>
                  <a:pt x="32684" y="4022"/>
                </a:lnTo>
                <a:lnTo>
                  <a:pt x="34172" y="2553"/>
                </a:lnTo>
                <a:lnTo>
                  <a:pt x="36116" y="1573"/>
                </a:lnTo>
                <a:lnTo>
                  <a:pt x="38365" y="920"/>
                </a:lnTo>
                <a:lnTo>
                  <a:pt x="40816" y="485"/>
                </a:lnTo>
                <a:lnTo>
                  <a:pt x="43404" y="194"/>
                </a:lnTo>
                <a:lnTo>
                  <a:pt x="46081" y="0"/>
                </a:lnTo>
                <a:lnTo>
                  <a:pt x="48818" y="824"/>
                </a:lnTo>
                <a:lnTo>
                  <a:pt x="51595" y="2326"/>
                </a:lnTo>
                <a:lnTo>
                  <a:pt x="59516" y="7843"/>
                </a:lnTo>
                <a:lnTo>
                  <a:pt x="59679" y="8910"/>
                </a:lnTo>
                <a:lnTo>
                  <a:pt x="59789" y="10574"/>
                </a:lnTo>
                <a:lnTo>
                  <a:pt x="59965" y="15537"/>
                </a:lnTo>
                <a:lnTo>
                  <a:pt x="60004" y="28583"/>
                </a:lnTo>
                <a:lnTo>
                  <a:pt x="59053" y="31309"/>
                </a:lnTo>
                <a:lnTo>
                  <a:pt x="57466" y="34079"/>
                </a:lnTo>
                <a:lnTo>
                  <a:pt x="55456" y="36878"/>
                </a:lnTo>
                <a:lnTo>
                  <a:pt x="53163" y="38744"/>
                </a:lnTo>
                <a:lnTo>
                  <a:pt x="50682" y="39988"/>
                </a:lnTo>
                <a:lnTo>
                  <a:pt x="48076" y="40817"/>
                </a:lnTo>
                <a:lnTo>
                  <a:pt x="45386" y="42323"/>
                </a:lnTo>
                <a:lnTo>
                  <a:pt x="42640" y="44279"/>
                </a:lnTo>
                <a:lnTo>
                  <a:pt x="39856" y="46536"/>
                </a:lnTo>
                <a:lnTo>
                  <a:pt x="37048" y="48040"/>
                </a:lnTo>
                <a:lnTo>
                  <a:pt x="34224" y="49043"/>
                </a:lnTo>
                <a:lnTo>
                  <a:pt x="26216" y="50931"/>
                </a:lnTo>
                <a:lnTo>
                  <a:pt x="25097" y="50970"/>
                </a:lnTo>
                <a:lnTo>
                  <a:pt x="17512" y="51045"/>
                </a:lnTo>
                <a:lnTo>
                  <a:pt x="12703" y="51048"/>
                </a:lnTo>
                <a:lnTo>
                  <a:pt x="11326" y="50095"/>
                </a:lnTo>
                <a:lnTo>
                  <a:pt x="10408" y="48508"/>
                </a:lnTo>
                <a:lnTo>
                  <a:pt x="9796" y="46498"/>
                </a:lnTo>
                <a:lnTo>
                  <a:pt x="10341" y="45157"/>
                </a:lnTo>
                <a:lnTo>
                  <a:pt x="11656" y="44263"/>
                </a:lnTo>
                <a:lnTo>
                  <a:pt x="13486" y="43668"/>
                </a:lnTo>
                <a:lnTo>
                  <a:pt x="14706" y="42318"/>
                </a:lnTo>
                <a:lnTo>
                  <a:pt x="15519" y="40465"/>
                </a:lnTo>
                <a:lnTo>
                  <a:pt x="16061" y="38278"/>
                </a:lnTo>
                <a:lnTo>
                  <a:pt x="17375" y="36820"/>
                </a:lnTo>
                <a:lnTo>
                  <a:pt x="19204" y="35848"/>
                </a:lnTo>
                <a:lnTo>
                  <a:pt x="21375" y="35200"/>
                </a:lnTo>
                <a:lnTo>
                  <a:pt x="22822" y="33815"/>
                </a:lnTo>
                <a:lnTo>
                  <a:pt x="23788" y="31940"/>
                </a:lnTo>
                <a:lnTo>
                  <a:pt x="24431" y="29737"/>
                </a:lnTo>
                <a:lnTo>
                  <a:pt x="26765" y="28268"/>
                </a:lnTo>
                <a:lnTo>
                  <a:pt x="30226" y="27289"/>
                </a:lnTo>
                <a:lnTo>
                  <a:pt x="40367" y="25718"/>
                </a:lnTo>
                <a:lnTo>
                  <a:pt x="42151" y="25589"/>
                </a:lnTo>
                <a:lnTo>
                  <a:pt x="44293" y="25503"/>
                </a:lnTo>
                <a:lnTo>
                  <a:pt x="46673" y="25446"/>
                </a:lnTo>
                <a:lnTo>
                  <a:pt x="49214" y="26360"/>
                </a:lnTo>
                <a:lnTo>
                  <a:pt x="51859" y="27922"/>
                </a:lnTo>
                <a:lnTo>
                  <a:pt x="58398" y="32722"/>
                </a:lnTo>
                <a:lnTo>
                  <a:pt x="59887" y="34069"/>
                </a:lnTo>
                <a:lnTo>
                  <a:pt x="67248" y="41180"/>
                </a:lnTo>
                <a:lnTo>
                  <a:pt x="67692" y="42565"/>
                </a:lnTo>
                <a:lnTo>
                  <a:pt x="67988" y="44440"/>
                </a:lnTo>
                <a:lnTo>
                  <a:pt x="68185" y="46643"/>
                </a:lnTo>
                <a:lnTo>
                  <a:pt x="68316" y="49064"/>
                </a:lnTo>
                <a:lnTo>
                  <a:pt x="68463" y="54294"/>
                </a:lnTo>
                <a:lnTo>
                  <a:pt x="67550" y="57022"/>
                </a:lnTo>
                <a:lnTo>
                  <a:pt x="65988" y="59793"/>
                </a:lnTo>
                <a:lnTo>
                  <a:pt x="61189" y="66534"/>
                </a:lnTo>
                <a:lnTo>
                  <a:pt x="60796" y="68040"/>
                </a:lnTo>
                <a:lnTo>
                  <a:pt x="60533" y="69996"/>
                </a:lnTo>
                <a:lnTo>
                  <a:pt x="60358" y="72253"/>
                </a:lnTo>
                <a:lnTo>
                  <a:pt x="59289" y="73757"/>
                </a:lnTo>
                <a:lnTo>
                  <a:pt x="57624" y="74760"/>
                </a:lnTo>
                <a:lnTo>
                  <a:pt x="52658" y="76370"/>
                </a:lnTo>
                <a:lnTo>
                  <a:pt x="51298" y="76502"/>
                </a:lnTo>
                <a:lnTo>
                  <a:pt x="49438" y="76590"/>
                </a:lnTo>
                <a:lnTo>
                  <a:pt x="44833" y="76688"/>
                </a:lnTo>
                <a:lnTo>
                  <a:pt x="39611" y="76731"/>
                </a:lnTo>
                <a:lnTo>
                  <a:pt x="37838" y="75790"/>
                </a:lnTo>
                <a:lnTo>
                  <a:pt x="36655" y="74211"/>
                </a:lnTo>
                <a:lnTo>
                  <a:pt x="34757" y="69382"/>
                </a:lnTo>
                <a:lnTo>
                  <a:pt x="33649" y="68034"/>
                </a:lnTo>
                <a:lnTo>
                  <a:pt x="31957" y="66182"/>
                </a:lnTo>
                <a:lnTo>
                  <a:pt x="29878" y="63995"/>
                </a:lnTo>
                <a:lnTo>
                  <a:pt x="29444" y="60632"/>
                </a:lnTo>
                <a:lnTo>
                  <a:pt x="30106" y="56485"/>
                </a:lnTo>
                <a:lnTo>
                  <a:pt x="31501" y="51816"/>
                </a:lnTo>
                <a:lnTo>
                  <a:pt x="32431" y="47750"/>
                </a:lnTo>
                <a:lnTo>
                  <a:pt x="33051" y="44087"/>
                </a:lnTo>
                <a:lnTo>
                  <a:pt x="33464" y="40693"/>
                </a:lnTo>
                <a:lnTo>
                  <a:pt x="34692" y="37477"/>
                </a:lnTo>
                <a:lnTo>
                  <a:pt x="36463" y="34381"/>
                </a:lnTo>
                <a:lnTo>
                  <a:pt x="38596" y="31364"/>
                </a:lnTo>
                <a:lnTo>
                  <a:pt x="40971" y="28401"/>
                </a:lnTo>
                <a:lnTo>
                  <a:pt x="43506" y="25473"/>
                </a:lnTo>
                <a:lnTo>
                  <a:pt x="46149" y="22568"/>
                </a:lnTo>
                <a:lnTo>
                  <a:pt x="48864" y="20631"/>
                </a:lnTo>
                <a:lnTo>
                  <a:pt x="51626" y="19340"/>
                </a:lnTo>
                <a:lnTo>
                  <a:pt x="58352" y="17269"/>
                </a:lnTo>
                <a:lnTo>
                  <a:pt x="59856" y="17099"/>
                </a:lnTo>
                <a:lnTo>
                  <a:pt x="61811" y="16985"/>
                </a:lnTo>
                <a:lnTo>
                  <a:pt x="66525" y="16859"/>
                </a:lnTo>
                <a:lnTo>
                  <a:pt x="84063" y="16763"/>
                </a:lnTo>
                <a:lnTo>
                  <a:pt x="84617" y="17714"/>
                </a:lnTo>
                <a:lnTo>
                  <a:pt x="84987" y="19300"/>
                </a:lnTo>
                <a:lnTo>
                  <a:pt x="85233" y="21311"/>
                </a:lnTo>
                <a:lnTo>
                  <a:pt x="85397" y="23603"/>
                </a:lnTo>
                <a:lnTo>
                  <a:pt x="85507" y="26084"/>
                </a:lnTo>
                <a:lnTo>
                  <a:pt x="85628" y="31381"/>
                </a:lnTo>
                <a:lnTo>
                  <a:pt x="85712" y="45378"/>
                </a:lnTo>
                <a:lnTo>
                  <a:pt x="84764" y="48220"/>
                </a:lnTo>
                <a:lnTo>
                  <a:pt x="83179" y="51068"/>
                </a:lnTo>
                <a:lnTo>
                  <a:pt x="81170" y="53919"/>
                </a:lnTo>
                <a:lnTo>
                  <a:pt x="78878" y="56773"/>
                </a:lnTo>
                <a:lnTo>
                  <a:pt x="76398" y="59627"/>
                </a:lnTo>
                <a:lnTo>
                  <a:pt x="73793" y="62483"/>
                </a:lnTo>
                <a:lnTo>
                  <a:pt x="72056" y="65339"/>
                </a:lnTo>
                <a:lnTo>
                  <a:pt x="70897" y="68196"/>
                </a:lnTo>
                <a:lnTo>
                  <a:pt x="68580" y="767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SMARTPenAnnotation522"/>
          <p:cNvSpPr/>
          <p:nvPr/>
        </p:nvSpPr>
        <p:spPr>
          <a:xfrm>
            <a:off x="8472600" y="4089240"/>
            <a:ext cx="479160" cy="505080"/>
          </a:xfrm>
          <a:custGeom>
            <a:avLst/>
            <a:gdLst>
              <a:gd name="textAreaLeft" fmla="*/ 0 w 479160"/>
              <a:gd name="textAreaRight" fmla="*/ 479520 w 4791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480061" h="505779">
                <a:moveTo>
                  <a:pt x="0" y="505778"/>
                </a:moveTo>
                <a:lnTo>
                  <a:pt x="7382" y="505778"/>
                </a:lnTo>
                <a:lnTo>
                  <a:pt x="7779" y="504825"/>
                </a:lnTo>
                <a:lnTo>
                  <a:pt x="8220" y="501227"/>
                </a:lnTo>
                <a:lnTo>
                  <a:pt x="9289" y="498934"/>
                </a:lnTo>
                <a:lnTo>
                  <a:pt x="14394" y="491156"/>
                </a:lnTo>
                <a:lnTo>
                  <a:pt x="17283" y="482819"/>
                </a:lnTo>
                <a:lnTo>
                  <a:pt x="22795" y="474316"/>
                </a:lnTo>
                <a:lnTo>
                  <a:pt x="27680" y="460370"/>
                </a:lnTo>
                <a:lnTo>
                  <a:pt x="31352" y="451306"/>
                </a:lnTo>
                <a:lnTo>
                  <a:pt x="34373" y="439896"/>
                </a:lnTo>
                <a:lnTo>
                  <a:pt x="39924" y="425826"/>
                </a:lnTo>
                <a:lnTo>
                  <a:pt x="41556" y="418491"/>
                </a:lnTo>
                <a:lnTo>
                  <a:pt x="44823" y="412056"/>
                </a:lnTo>
                <a:lnTo>
                  <a:pt x="52016" y="400538"/>
                </a:lnTo>
                <a:lnTo>
                  <a:pt x="54680" y="395613"/>
                </a:lnTo>
                <a:lnTo>
                  <a:pt x="57639" y="385060"/>
                </a:lnTo>
                <a:lnTo>
                  <a:pt x="58428" y="379580"/>
                </a:lnTo>
                <a:lnTo>
                  <a:pt x="61846" y="370950"/>
                </a:lnTo>
                <a:lnTo>
                  <a:pt x="69125" y="358196"/>
                </a:lnTo>
                <a:lnTo>
                  <a:pt x="77314" y="344892"/>
                </a:lnTo>
                <a:lnTo>
                  <a:pt x="80118" y="341371"/>
                </a:lnTo>
                <a:lnTo>
                  <a:pt x="81987" y="337118"/>
                </a:lnTo>
                <a:lnTo>
                  <a:pt x="85570" y="322983"/>
                </a:lnTo>
                <a:lnTo>
                  <a:pt x="91288" y="312340"/>
                </a:lnTo>
                <a:lnTo>
                  <a:pt x="94359" y="303153"/>
                </a:lnTo>
                <a:lnTo>
                  <a:pt x="100878" y="294399"/>
                </a:lnTo>
                <a:lnTo>
                  <a:pt x="106112" y="288642"/>
                </a:lnTo>
                <a:lnTo>
                  <a:pt x="107889" y="285773"/>
                </a:lnTo>
                <a:lnTo>
                  <a:pt x="111342" y="277184"/>
                </a:lnTo>
                <a:lnTo>
                  <a:pt x="120560" y="265749"/>
                </a:lnTo>
                <a:lnTo>
                  <a:pt x="132669" y="253126"/>
                </a:lnTo>
                <a:lnTo>
                  <a:pt x="134166" y="250666"/>
                </a:lnTo>
                <a:lnTo>
                  <a:pt x="135829" y="245392"/>
                </a:lnTo>
                <a:lnTo>
                  <a:pt x="136765" y="237068"/>
                </a:lnTo>
                <a:lnTo>
                  <a:pt x="137850" y="234245"/>
                </a:lnTo>
                <a:lnTo>
                  <a:pt x="141594" y="228569"/>
                </a:lnTo>
                <a:lnTo>
                  <a:pt x="150807" y="217164"/>
                </a:lnTo>
                <a:lnTo>
                  <a:pt x="154222" y="208596"/>
                </a:lnTo>
                <a:lnTo>
                  <a:pt x="161550" y="198861"/>
                </a:lnTo>
                <a:lnTo>
                  <a:pt x="167035" y="193119"/>
                </a:lnTo>
                <a:lnTo>
                  <a:pt x="168507" y="190658"/>
                </a:lnTo>
                <a:lnTo>
                  <a:pt x="171531" y="182645"/>
                </a:lnTo>
                <a:lnTo>
                  <a:pt x="177083" y="174238"/>
                </a:lnTo>
                <a:lnTo>
                  <a:pt x="180105" y="165714"/>
                </a:lnTo>
                <a:lnTo>
                  <a:pt x="186608" y="157156"/>
                </a:lnTo>
                <a:lnTo>
                  <a:pt x="191840" y="151445"/>
                </a:lnTo>
                <a:lnTo>
                  <a:pt x="193616" y="148588"/>
                </a:lnTo>
                <a:lnTo>
                  <a:pt x="197067" y="140017"/>
                </a:lnTo>
                <a:lnTo>
                  <a:pt x="201251" y="134302"/>
                </a:lnTo>
                <a:lnTo>
                  <a:pt x="203699" y="132397"/>
                </a:lnTo>
                <a:lnTo>
                  <a:pt x="206285" y="131128"/>
                </a:lnTo>
                <a:lnTo>
                  <a:pt x="208961" y="130281"/>
                </a:lnTo>
                <a:lnTo>
                  <a:pt x="210745" y="128764"/>
                </a:lnTo>
                <a:lnTo>
                  <a:pt x="211934" y="126800"/>
                </a:lnTo>
                <a:lnTo>
                  <a:pt x="212727" y="124539"/>
                </a:lnTo>
                <a:lnTo>
                  <a:pt x="214208" y="123031"/>
                </a:lnTo>
                <a:lnTo>
                  <a:pt x="216148" y="122026"/>
                </a:lnTo>
                <a:lnTo>
                  <a:pt x="218394" y="121355"/>
                </a:lnTo>
                <a:lnTo>
                  <a:pt x="219891" y="119956"/>
                </a:lnTo>
                <a:lnTo>
                  <a:pt x="220890" y="118071"/>
                </a:lnTo>
                <a:lnTo>
                  <a:pt x="221997" y="113436"/>
                </a:lnTo>
                <a:lnTo>
                  <a:pt x="222490" y="108201"/>
                </a:lnTo>
                <a:lnTo>
                  <a:pt x="223575" y="106424"/>
                </a:lnTo>
                <a:lnTo>
                  <a:pt x="225250" y="105239"/>
                </a:lnTo>
                <a:lnTo>
                  <a:pt x="227319" y="104450"/>
                </a:lnTo>
                <a:lnTo>
                  <a:pt x="234782" y="98787"/>
                </a:lnTo>
                <a:lnTo>
                  <a:pt x="236532" y="96338"/>
                </a:lnTo>
                <a:lnTo>
                  <a:pt x="238475" y="91077"/>
                </a:lnTo>
                <a:lnTo>
                  <a:pt x="239947" y="89293"/>
                </a:lnTo>
                <a:lnTo>
                  <a:pt x="241879" y="88104"/>
                </a:lnTo>
                <a:lnTo>
                  <a:pt x="244121" y="87311"/>
                </a:lnTo>
                <a:lnTo>
                  <a:pt x="249151" y="83890"/>
                </a:lnTo>
                <a:lnTo>
                  <a:pt x="251826" y="81644"/>
                </a:lnTo>
                <a:lnTo>
                  <a:pt x="253609" y="79194"/>
                </a:lnTo>
                <a:lnTo>
                  <a:pt x="257071" y="71196"/>
                </a:lnTo>
                <a:lnTo>
                  <a:pt x="261256" y="65615"/>
                </a:lnTo>
                <a:lnTo>
                  <a:pt x="263706" y="63746"/>
                </a:lnTo>
                <a:lnTo>
                  <a:pt x="266291" y="62500"/>
                </a:lnTo>
                <a:lnTo>
                  <a:pt x="268967" y="61669"/>
                </a:lnTo>
                <a:lnTo>
                  <a:pt x="274481" y="58206"/>
                </a:lnTo>
                <a:lnTo>
                  <a:pt x="289409" y="44855"/>
                </a:lnTo>
                <a:lnTo>
                  <a:pt x="304118" y="30208"/>
                </a:lnTo>
                <a:lnTo>
                  <a:pt x="306567" y="28711"/>
                </a:lnTo>
                <a:lnTo>
                  <a:pt x="314566" y="25652"/>
                </a:lnTo>
                <a:lnTo>
                  <a:pt x="325803" y="16568"/>
                </a:lnTo>
                <a:lnTo>
                  <a:pt x="328644" y="13903"/>
                </a:lnTo>
                <a:lnTo>
                  <a:pt x="331491" y="12126"/>
                </a:lnTo>
                <a:lnTo>
                  <a:pt x="341210" y="9041"/>
                </a:lnTo>
                <a:lnTo>
                  <a:pt x="346950" y="8711"/>
                </a:lnTo>
                <a:lnTo>
                  <a:pt x="348458" y="7712"/>
                </a:lnTo>
                <a:lnTo>
                  <a:pt x="349462" y="6094"/>
                </a:lnTo>
                <a:lnTo>
                  <a:pt x="350132" y="4063"/>
                </a:lnTo>
                <a:lnTo>
                  <a:pt x="351532" y="2708"/>
                </a:lnTo>
                <a:lnTo>
                  <a:pt x="353417" y="1806"/>
                </a:lnTo>
                <a:lnTo>
                  <a:pt x="358052" y="802"/>
                </a:lnTo>
                <a:lnTo>
                  <a:pt x="372701" y="31"/>
                </a:lnTo>
                <a:lnTo>
                  <a:pt x="397653" y="0"/>
                </a:lnTo>
                <a:lnTo>
                  <a:pt x="399405" y="953"/>
                </a:lnTo>
                <a:lnTo>
                  <a:pt x="400573" y="2540"/>
                </a:lnTo>
                <a:lnTo>
                  <a:pt x="401351" y="4551"/>
                </a:lnTo>
                <a:lnTo>
                  <a:pt x="402823" y="5891"/>
                </a:lnTo>
                <a:lnTo>
                  <a:pt x="404756" y="6785"/>
                </a:lnTo>
                <a:lnTo>
                  <a:pt x="410152" y="8219"/>
                </a:lnTo>
                <a:lnTo>
                  <a:pt x="418061" y="14394"/>
                </a:lnTo>
                <a:lnTo>
                  <a:pt x="427046" y="16783"/>
                </a:lnTo>
                <a:lnTo>
                  <a:pt x="427572" y="17856"/>
                </a:lnTo>
                <a:lnTo>
                  <a:pt x="428486" y="24494"/>
                </a:lnTo>
                <a:lnTo>
                  <a:pt x="433134" y="29906"/>
                </a:lnTo>
                <a:lnTo>
                  <a:pt x="435442" y="31367"/>
                </a:lnTo>
                <a:lnTo>
                  <a:pt x="440544" y="32991"/>
                </a:lnTo>
                <a:lnTo>
                  <a:pt x="442286" y="34376"/>
                </a:lnTo>
                <a:lnTo>
                  <a:pt x="443448" y="36253"/>
                </a:lnTo>
                <a:lnTo>
                  <a:pt x="444738" y="40877"/>
                </a:lnTo>
                <a:lnTo>
                  <a:pt x="445312" y="46108"/>
                </a:lnTo>
                <a:lnTo>
                  <a:pt x="446417" y="47884"/>
                </a:lnTo>
                <a:lnTo>
                  <a:pt x="448107" y="49068"/>
                </a:lnTo>
                <a:lnTo>
                  <a:pt x="450185" y="49856"/>
                </a:lnTo>
                <a:lnTo>
                  <a:pt x="451571" y="51335"/>
                </a:lnTo>
                <a:lnTo>
                  <a:pt x="452495" y="53274"/>
                </a:lnTo>
                <a:lnTo>
                  <a:pt x="453521" y="57967"/>
                </a:lnTo>
                <a:lnTo>
                  <a:pt x="453978" y="63228"/>
                </a:lnTo>
                <a:lnTo>
                  <a:pt x="458784" y="76096"/>
                </a:lnTo>
                <a:lnTo>
                  <a:pt x="461692" y="87423"/>
                </a:lnTo>
                <a:lnTo>
                  <a:pt x="462754" y="102717"/>
                </a:lnTo>
                <a:lnTo>
                  <a:pt x="462808" y="105626"/>
                </a:lnTo>
                <a:lnTo>
                  <a:pt x="463796" y="108517"/>
                </a:lnTo>
                <a:lnTo>
                  <a:pt x="467433" y="114270"/>
                </a:lnTo>
                <a:lnTo>
                  <a:pt x="469685" y="122542"/>
                </a:lnTo>
                <a:lnTo>
                  <a:pt x="470954" y="135369"/>
                </a:lnTo>
                <a:lnTo>
                  <a:pt x="471382" y="148236"/>
                </a:lnTo>
                <a:lnTo>
                  <a:pt x="471488" y="258373"/>
                </a:lnTo>
                <a:lnTo>
                  <a:pt x="474028" y="267550"/>
                </a:lnTo>
                <a:lnTo>
                  <a:pt x="477379" y="277979"/>
                </a:lnTo>
                <a:lnTo>
                  <a:pt x="478869" y="288964"/>
                </a:lnTo>
                <a:lnTo>
                  <a:pt x="479530" y="300196"/>
                </a:lnTo>
                <a:lnTo>
                  <a:pt x="479825" y="311538"/>
                </a:lnTo>
                <a:lnTo>
                  <a:pt x="480060" y="457083"/>
                </a:lnTo>
                <a:lnTo>
                  <a:pt x="479108" y="459980"/>
                </a:lnTo>
                <a:lnTo>
                  <a:pt x="471508" y="471458"/>
                </a:lnTo>
                <a:lnTo>
                  <a:pt x="471491" y="471482"/>
                </a:lnTo>
                <a:lnTo>
                  <a:pt x="471491" y="471484"/>
                </a:lnTo>
                <a:lnTo>
                  <a:pt x="471488" y="471487"/>
                </a:lnTo>
                <a:lnTo>
                  <a:pt x="471488" y="47148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MARTPenAnnotation523"/>
          <p:cNvSpPr/>
          <p:nvPr/>
        </p:nvSpPr>
        <p:spPr>
          <a:xfrm>
            <a:off x="7007400" y="5494320"/>
            <a:ext cx="1739880" cy="34920"/>
          </a:xfrm>
          <a:custGeom>
            <a:avLst/>
            <a:gdLst>
              <a:gd name="textAreaLeft" fmla="*/ 0 w 1739880"/>
              <a:gd name="textAreaRight" fmla="*/ 1740240 w 173988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740218" h="34291">
                <a:moveTo>
                  <a:pt x="0" y="8573"/>
                </a:moveTo>
                <a:lnTo>
                  <a:pt x="11931" y="8573"/>
                </a:lnTo>
                <a:lnTo>
                  <a:pt x="14621" y="9525"/>
                </a:lnTo>
                <a:lnTo>
                  <a:pt x="17368" y="11113"/>
                </a:lnTo>
                <a:lnTo>
                  <a:pt x="20151" y="13123"/>
                </a:lnTo>
                <a:lnTo>
                  <a:pt x="22959" y="14464"/>
                </a:lnTo>
                <a:lnTo>
                  <a:pt x="25783" y="15358"/>
                </a:lnTo>
                <a:lnTo>
                  <a:pt x="31461" y="16351"/>
                </a:lnTo>
                <a:lnTo>
                  <a:pt x="83016" y="17136"/>
                </a:lnTo>
                <a:lnTo>
                  <a:pt x="117170" y="17144"/>
                </a:lnTo>
                <a:lnTo>
                  <a:pt x="122881" y="18097"/>
                </a:lnTo>
                <a:lnTo>
                  <a:pt x="128593" y="19685"/>
                </a:lnTo>
                <a:lnTo>
                  <a:pt x="134306" y="21696"/>
                </a:lnTo>
                <a:lnTo>
                  <a:pt x="140972" y="23036"/>
                </a:lnTo>
                <a:lnTo>
                  <a:pt x="148274" y="23930"/>
                </a:lnTo>
                <a:lnTo>
                  <a:pt x="164007" y="23970"/>
                </a:lnTo>
                <a:lnTo>
                  <a:pt x="172203" y="22648"/>
                </a:lnTo>
                <a:lnTo>
                  <a:pt x="180524" y="20814"/>
                </a:lnTo>
                <a:lnTo>
                  <a:pt x="188929" y="19591"/>
                </a:lnTo>
                <a:lnTo>
                  <a:pt x="197391" y="18775"/>
                </a:lnTo>
                <a:lnTo>
                  <a:pt x="215364" y="17870"/>
                </a:lnTo>
                <a:lnTo>
                  <a:pt x="269119" y="17241"/>
                </a:lnTo>
                <a:lnTo>
                  <a:pt x="308535" y="16212"/>
                </a:lnTo>
                <a:lnTo>
                  <a:pt x="319038" y="14618"/>
                </a:lnTo>
                <a:lnTo>
                  <a:pt x="329849" y="12603"/>
                </a:lnTo>
                <a:lnTo>
                  <a:pt x="340866" y="11259"/>
                </a:lnTo>
                <a:lnTo>
                  <a:pt x="352022" y="10364"/>
                </a:lnTo>
                <a:lnTo>
                  <a:pt x="375529" y="9368"/>
                </a:lnTo>
                <a:lnTo>
                  <a:pt x="426885" y="8730"/>
                </a:lnTo>
                <a:lnTo>
                  <a:pt x="474001" y="8604"/>
                </a:lnTo>
                <a:lnTo>
                  <a:pt x="485545" y="7641"/>
                </a:lnTo>
                <a:lnTo>
                  <a:pt x="497051" y="6046"/>
                </a:lnTo>
                <a:lnTo>
                  <a:pt x="508533" y="4031"/>
                </a:lnTo>
                <a:lnTo>
                  <a:pt x="520949" y="2687"/>
                </a:lnTo>
                <a:lnTo>
                  <a:pt x="533990" y="1792"/>
                </a:lnTo>
                <a:lnTo>
                  <a:pt x="560226" y="796"/>
                </a:lnTo>
                <a:lnTo>
                  <a:pt x="610654" y="158"/>
                </a:lnTo>
                <a:lnTo>
                  <a:pt x="1532740" y="0"/>
                </a:lnTo>
                <a:lnTo>
                  <a:pt x="1542844" y="953"/>
                </a:lnTo>
                <a:lnTo>
                  <a:pt x="1553391" y="2540"/>
                </a:lnTo>
                <a:lnTo>
                  <a:pt x="1564231" y="4551"/>
                </a:lnTo>
                <a:lnTo>
                  <a:pt x="1574315" y="5892"/>
                </a:lnTo>
                <a:lnTo>
                  <a:pt x="1583897" y="6785"/>
                </a:lnTo>
                <a:lnTo>
                  <a:pt x="1602162" y="7778"/>
                </a:lnTo>
                <a:lnTo>
                  <a:pt x="1653687" y="8526"/>
                </a:lnTo>
                <a:lnTo>
                  <a:pt x="1659671" y="8542"/>
                </a:lnTo>
                <a:lnTo>
                  <a:pt x="1665565" y="9504"/>
                </a:lnTo>
                <a:lnTo>
                  <a:pt x="1671398" y="11099"/>
                </a:lnTo>
                <a:lnTo>
                  <a:pt x="1677193" y="13114"/>
                </a:lnTo>
                <a:lnTo>
                  <a:pt x="1682962" y="14458"/>
                </a:lnTo>
                <a:lnTo>
                  <a:pt x="1688712" y="15354"/>
                </a:lnTo>
                <a:lnTo>
                  <a:pt x="1694450" y="15950"/>
                </a:lnTo>
                <a:lnTo>
                  <a:pt x="1699228" y="17302"/>
                </a:lnTo>
                <a:lnTo>
                  <a:pt x="1703366" y="19154"/>
                </a:lnTo>
                <a:lnTo>
                  <a:pt x="1707077" y="21342"/>
                </a:lnTo>
                <a:lnTo>
                  <a:pt x="1710505" y="22801"/>
                </a:lnTo>
                <a:lnTo>
                  <a:pt x="1713741" y="23773"/>
                </a:lnTo>
                <a:lnTo>
                  <a:pt x="1716851" y="24421"/>
                </a:lnTo>
                <a:lnTo>
                  <a:pt x="1725780" y="25334"/>
                </a:lnTo>
                <a:lnTo>
                  <a:pt x="1728687" y="26414"/>
                </a:lnTo>
                <a:lnTo>
                  <a:pt x="1731578" y="28087"/>
                </a:lnTo>
                <a:lnTo>
                  <a:pt x="1740217" y="342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MARTPenAnnotation524"/>
          <p:cNvSpPr/>
          <p:nvPr/>
        </p:nvSpPr>
        <p:spPr>
          <a:xfrm>
            <a:off x="7658280" y="5022720"/>
            <a:ext cx="171360" cy="952560"/>
          </a:xfrm>
          <a:custGeom>
            <a:avLst/>
            <a:gdLst>
              <a:gd name="textAreaLeft" fmla="*/ 0 w 171360"/>
              <a:gd name="textAreaRight" fmla="*/ 171720 w 17136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171451" h="951548">
                <a:moveTo>
                  <a:pt x="171450" y="0"/>
                </a:moveTo>
                <a:lnTo>
                  <a:pt x="171450" y="20150"/>
                </a:lnTo>
                <a:lnTo>
                  <a:pt x="170498" y="22959"/>
                </a:lnTo>
                <a:lnTo>
                  <a:pt x="166899" y="28619"/>
                </a:lnTo>
                <a:lnTo>
                  <a:pt x="164665" y="36849"/>
                </a:lnTo>
                <a:lnTo>
                  <a:pt x="163113" y="63202"/>
                </a:lnTo>
                <a:lnTo>
                  <a:pt x="162982" y="74444"/>
                </a:lnTo>
                <a:lnTo>
                  <a:pt x="160384" y="85791"/>
                </a:lnTo>
                <a:lnTo>
                  <a:pt x="157006" y="98136"/>
                </a:lnTo>
                <a:lnTo>
                  <a:pt x="154152" y="120200"/>
                </a:lnTo>
                <a:lnTo>
                  <a:pt x="150109" y="133114"/>
                </a:lnTo>
                <a:lnTo>
                  <a:pt x="147029" y="155646"/>
                </a:lnTo>
                <a:lnTo>
                  <a:pt x="143769" y="172046"/>
                </a:lnTo>
                <a:lnTo>
                  <a:pt x="139144" y="188860"/>
                </a:lnTo>
                <a:lnTo>
                  <a:pt x="133915" y="205857"/>
                </a:lnTo>
                <a:lnTo>
                  <a:pt x="130166" y="231492"/>
                </a:lnTo>
                <a:lnTo>
                  <a:pt x="129289" y="251158"/>
                </a:lnTo>
                <a:lnTo>
                  <a:pt x="127946" y="271646"/>
                </a:lnTo>
                <a:lnTo>
                  <a:pt x="124175" y="290276"/>
                </a:lnTo>
                <a:lnTo>
                  <a:pt x="108448" y="354727"/>
                </a:lnTo>
                <a:lnTo>
                  <a:pt x="104523" y="384187"/>
                </a:lnTo>
                <a:lnTo>
                  <a:pt x="101065" y="404747"/>
                </a:lnTo>
                <a:lnTo>
                  <a:pt x="97304" y="425632"/>
                </a:lnTo>
                <a:lnTo>
                  <a:pt x="94236" y="454408"/>
                </a:lnTo>
                <a:lnTo>
                  <a:pt x="90142" y="475644"/>
                </a:lnTo>
                <a:lnTo>
                  <a:pt x="87034" y="504469"/>
                </a:lnTo>
                <a:lnTo>
                  <a:pt x="86113" y="531107"/>
                </a:lnTo>
                <a:lnTo>
                  <a:pt x="85759" y="590277"/>
                </a:lnTo>
                <a:lnTo>
                  <a:pt x="81184" y="616857"/>
                </a:lnTo>
                <a:lnTo>
                  <a:pt x="78347" y="642829"/>
                </a:lnTo>
                <a:lnTo>
                  <a:pt x="77506" y="668623"/>
                </a:lnTo>
                <a:lnTo>
                  <a:pt x="77183" y="720087"/>
                </a:lnTo>
                <a:lnTo>
                  <a:pt x="72611" y="745806"/>
                </a:lnTo>
                <a:lnTo>
                  <a:pt x="69376" y="774206"/>
                </a:lnTo>
                <a:lnTo>
                  <a:pt x="68737" y="803805"/>
                </a:lnTo>
                <a:lnTo>
                  <a:pt x="68684" y="810189"/>
                </a:lnTo>
                <a:lnTo>
                  <a:pt x="66086" y="822364"/>
                </a:lnTo>
                <a:lnTo>
                  <a:pt x="62709" y="834125"/>
                </a:lnTo>
                <a:lnTo>
                  <a:pt x="59855" y="851456"/>
                </a:lnTo>
                <a:lnTo>
                  <a:pt x="55812" y="862930"/>
                </a:lnTo>
                <a:lnTo>
                  <a:pt x="51348" y="879927"/>
                </a:lnTo>
                <a:lnTo>
                  <a:pt x="47268" y="889871"/>
                </a:lnTo>
                <a:lnTo>
                  <a:pt x="42780" y="904933"/>
                </a:lnTo>
                <a:lnTo>
                  <a:pt x="38698" y="911145"/>
                </a:lnTo>
                <a:lnTo>
                  <a:pt x="33709" y="917081"/>
                </a:lnTo>
                <a:lnTo>
                  <a:pt x="27296" y="924101"/>
                </a:lnTo>
                <a:lnTo>
                  <a:pt x="21635" y="929869"/>
                </a:lnTo>
                <a:lnTo>
                  <a:pt x="20138" y="932332"/>
                </a:lnTo>
                <a:lnTo>
                  <a:pt x="18474" y="937610"/>
                </a:lnTo>
                <a:lnTo>
                  <a:pt x="17078" y="939398"/>
                </a:lnTo>
                <a:lnTo>
                  <a:pt x="15196" y="940590"/>
                </a:lnTo>
                <a:lnTo>
                  <a:pt x="12988" y="941385"/>
                </a:lnTo>
                <a:lnTo>
                  <a:pt x="11516" y="942867"/>
                </a:lnTo>
                <a:lnTo>
                  <a:pt x="10535" y="944808"/>
                </a:lnTo>
                <a:lnTo>
                  <a:pt x="9880" y="947054"/>
                </a:lnTo>
                <a:lnTo>
                  <a:pt x="8492" y="948552"/>
                </a:lnTo>
                <a:lnTo>
                  <a:pt x="6614" y="949550"/>
                </a:lnTo>
                <a:lnTo>
                  <a:pt x="0" y="9515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MARTPenAnnotation525"/>
          <p:cNvSpPr/>
          <p:nvPr/>
        </p:nvSpPr>
        <p:spPr>
          <a:xfrm>
            <a:off x="7264440" y="4979880"/>
            <a:ext cx="479520" cy="317520"/>
          </a:xfrm>
          <a:custGeom>
            <a:avLst/>
            <a:gdLst>
              <a:gd name="textAreaLeft" fmla="*/ 0 w 479520"/>
              <a:gd name="textAreaRight" fmla="*/ 479880 w 479520"/>
              <a:gd name="textAreaTop" fmla="*/ 0 h 317520"/>
              <a:gd name="textAreaBottom" fmla="*/ 317520 h 317520"/>
            </a:gdLst>
            <a:ahLst/>
            <a:rect l="textAreaLeft" t="textAreaTop" r="textAreaRight" b="textAreaBottom"/>
            <a:pathLst>
              <a:path w="480061" h="317150">
                <a:moveTo>
                  <a:pt x="0" y="8573"/>
                </a:moveTo>
                <a:lnTo>
                  <a:pt x="4551" y="8573"/>
                </a:lnTo>
                <a:lnTo>
                  <a:pt x="5891" y="9525"/>
                </a:lnTo>
                <a:lnTo>
                  <a:pt x="6785" y="11113"/>
                </a:lnTo>
                <a:lnTo>
                  <a:pt x="8219" y="15954"/>
                </a:lnTo>
                <a:lnTo>
                  <a:pt x="9289" y="16351"/>
                </a:lnTo>
                <a:lnTo>
                  <a:pt x="13018" y="16792"/>
                </a:lnTo>
                <a:lnTo>
                  <a:pt x="14394" y="17862"/>
                </a:lnTo>
                <a:lnTo>
                  <a:pt x="15310" y="19528"/>
                </a:lnTo>
                <a:lnTo>
                  <a:pt x="16330" y="23919"/>
                </a:lnTo>
                <a:lnTo>
                  <a:pt x="16782" y="29046"/>
                </a:lnTo>
                <a:lnTo>
                  <a:pt x="17856" y="31746"/>
                </a:lnTo>
                <a:lnTo>
                  <a:pt x="21588" y="37287"/>
                </a:lnTo>
                <a:lnTo>
                  <a:pt x="23882" y="45465"/>
                </a:lnTo>
                <a:lnTo>
                  <a:pt x="24901" y="54497"/>
                </a:lnTo>
                <a:lnTo>
                  <a:pt x="25355" y="61686"/>
                </a:lnTo>
                <a:lnTo>
                  <a:pt x="25556" y="70596"/>
                </a:lnTo>
                <a:lnTo>
                  <a:pt x="25717" y="169818"/>
                </a:lnTo>
                <a:lnTo>
                  <a:pt x="26670" y="174173"/>
                </a:lnTo>
                <a:lnTo>
                  <a:pt x="30268" y="181550"/>
                </a:lnTo>
                <a:lnTo>
                  <a:pt x="32502" y="190544"/>
                </a:lnTo>
                <a:lnTo>
                  <a:pt x="33098" y="195610"/>
                </a:lnTo>
                <a:lnTo>
                  <a:pt x="34448" y="199938"/>
                </a:lnTo>
                <a:lnTo>
                  <a:pt x="38488" y="207290"/>
                </a:lnTo>
                <a:lnTo>
                  <a:pt x="40918" y="216271"/>
                </a:lnTo>
                <a:lnTo>
                  <a:pt x="41566" y="221333"/>
                </a:lnTo>
                <a:lnTo>
                  <a:pt x="44826" y="229498"/>
                </a:lnTo>
                <a:lnTo>
                  <a:pt x="48497" y="236302"/>
                </a:lnTo>
                <a:lnTo>
                  <a:pt x="50129" y="242500"/>
                </a:lnTo>
                <a:lnTo>
                  <a:pt x="50854" y="250971"/>
                </a:lnTo>
                <a:lnTo>
                  <a:pt x="51048" y="255896"/>
                </a:lnTo>
                <a:lnTo>
                  <a:pt x="52129" y="260132"/>
                </a:lnTo>
                <a:lnTo>
                  <a:pt x="55871" y="267380"/>
                </a:lnTo>
                <a:lnTo>
                  <a:pt x="63332" y="276814"/>
                </a:lnTo>
                <a:lnTo>
                  <a:pt x="65081" y="279793"/>
                </a:lnTo>
                <a:lnTo>
                  <a:pt x="67025" y="285642"/>
                </a:lnTo>
                <a:lnTo>
                  <a:pt x="69448" y="288536"/>
                </a:lnTo>
                <a:lnTo>
                  <a:pt x="77221" y="294290"/>
                </a:lnTo>
                <a:lnTo>
                  <a:pt x="84485" y="297484"/>
                </a:lnTo>
                <a:lnTo>
                  <a:pt x="93930" y="299281"/>
                </a:lnTo>
                <a:lnTo>
                  <a:pt x="96909" y="299533"/>
                </a:lnTo>
                <a:lnTo>
                  <a:pt x="99849" y="300654"/>
                </a:lnTo>
                <a:lnTo>
                  <a:pt x="108536" y="305829"/>
                </a:lnTo>
                <a:lnTo>
                  <a:pt x="117143" y="308739"/>
                </a:lnTo>
                <a:lnTo>
                  <a:pt x="122866" y="312795"/>
                </a:lnTo>
                <a:lnTo>
                  <a:pt x="126678" y="314257"/>
                </a:lnTo>
                <a:lnTo>
                  <a:pt x="140192" y="316316"/>
                </a:lnTo>
                <a:lnTo>
                  <a:pt x="151605" y="316926"/>
                </a:lnTo>
                <a:lnTo>
                  <a:pt x="173011" y="317149"/>
                </a:lnTo>
                <a:lnTo>
                  <a:pt x="181986" y="314628"/>
                </a:lnTo>
                <a:lnTo>
                  <a:pt x="192324" y="311284"/>
                </a:lnTo>
                <a:lnTo>
                  <a:pt x="203270" y="309799"/>
                </a:lnTo>
                <a:lnTo>
                  <a:pt x="211944" y="306598"/>
                </a:lnTo>
                <a:lnTo>
                  <a:pt x="215591" y="304412"/>
                </a:lnTo>
                <a:lnTo>
                  <a:pt x="224723" y="301982"/>
                </a:lnTo>
                <a:lnTo>
                  <a:pt x="235132" y="299949"/>
                </a:lnTo>
                <a:lnTo>
                  <a:pt x="246108" y="295871"/>
                </a:lnTo>
                <a:lnTo>
                  <a:pt x="257336" y="290883"/>
                </a:lnTo>
                <a:lnTo>
                  <a:pt x="267724" y="285491"/>
                </a:lnTo>
                <a:lnTo>
                  <a:pt x="279879" y="277101"/>
                </a:lnTo>
                <a:lnTo>
                  <a:pt x="294170" y="268582"/>
                </a:lnTo>
                <a:lnTo>
                  <a:pt x="305813" y="260025"/>
                </a:lnTo>
                <a:lnTo>
                  <a:pt x="315621" y="254315"/>
                </a:lnTo>
                <a:lnTo>
                  <a:pt x="326331" y="246061"/>
                </a:lnTo>
                <a:lnTo>
                  <a:pt x="336488" y="236996"/>
                </a:lnTo>
                <a:lnTo>
                  <a:pt x="344178" y="229791"/>
                </a:lnTo>
                <a:lnTo>
                  <a:pt x="358413" y="220381"/>
                </a:lnTo>
                <a:lnTo>
                  <a:pt x="366622" y="211929"/>
                </a:lnTo>
                <a:lnTo>
                  <a:pt x="370145" y="207009"/>
                </a:lnTo>
                <a:lnTo>
                  <a:pt x="379139" y="199002"/>
                </a:lnTo>
                <a:lnTo>
                  <a:pt x="384204" y="195532"/>
                </a:lnTo>
                <a:lnTo>
                  <a:pt x="387581" y="191315"/>
                </a:lnTo>
                <a:lnTo>
                  <a:pt x="389832" y="186599"/>
                </a:lnTo>
                <a:lnTo>
                  <a:pt x="391333" y="181549"/>
                </a:lnTo>
                <a:lnTo>
                  <a:pt x="393286" y="176278"/>
                </a:lnTo>
                <a:lnTo>
                  <a:pt x="395541" y="170858"/>
                </a:lnTo>
                <a:lnTo>
                  <a:pt x="397996" y="165341"/>
                </a:lnTo>
                <a:lnTo>
                  <a:pt x="401538" y="160710"/>
                </a:lnTo>
                <a:lnTo>
                  <a:pt x="410554" y="153024"/>
                </a:lnTo>
                <a:lnTo>
                  <a:pt x="413720" y="148689"/>
                </a:lnTo>
                <a:lnTo>
                  <a:pt x="417238" y="138791"/>
                </a:lnTo>
                <a:lnTo>
                  <a:pt x="420081" y="134438"/>
                </a:lnTo>
                <a:lnTo>
                  <a:pt x="428320" y="127060"/>
                </a:lnTo>
                <a:lnTo>
                  <a:pt x="431280" y="123759"/>
                </a:lnTo>
                <a:lnTo>
                  <a:pt x="433252" y="120606"/>
                </a:lnTo>
                <a:lnTo>
                  <a:pt x="436396" y="113610"/>
                </a:lnTo>
                <a:lnTo>
                  <a:pt x="440968" y="104151"/>
                </a:lnTo>
                <a:lnTo>
                  <a:pt x="446176" y="96137"/>
                </a:lnTo>
                <a:lnTo>
                  <a:pt x="448898" y="92666"/>
                </a:lnTo>
                <a:lnTo>
                  <a:pt x="450713" y="88448"/>
                </a:lnTo>
                <a:lnTo>
                  <a:pt x="452729" y="78680"/>
                </a:lnTo>
                <a:lnTo>
                  <a:pt x="456166" y="70529"/>
                </a:lnTo>
                <a:lnTo>
                  <a:pt x="459915" y="63731"/>
                </a:lnTo>
                <a:lnTo>
                  <a:pt x="461582" y="57535"/>
                </a:lnTo>
                <a:lnTo>
                  <a:pt x="462519" y="48692"/>
                </a:lnTo>
                <a:lnTo>
                  <a:pt x="463604" y="45796"/>
                </a:lnTo>
                <a:lnTo>
                  <a:pt x="468728" y="37170"/>
                </a:lnTo>
                <a:lnTo>
                  <a:pt x="471622" y="28582"/>
                </a:lnTo>
                <a:lnTo>
                  <a:pt x="478760" y="18839"/>
                </a:lnTo>
                <a:lnTo>
                  <a:pt x="479483" y="15358"/>
                </a:lnTo>
                <a:lnTo>
                  <a:pt x="480009" y="6628"/>
                </a:lnTo>
                <a:lnTo>
                  <a:pt x="48006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20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-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-3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1-6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MARTPenAnnotation505"/>
          <p:cNvSpPr/>
          <p:nvPr/>
        </p:nvSpPr>
        <p:spPr>
          <a:xfrm>
            <a:off x="1836720" y="3086280"/>
            <a:ext cx="1020960" cy="25200"/>
          </a:xfrm>
          <a:custGeom>
            <a:avLst/>
            <a:gdLst>
              <a:gd name="textAreaLeft" fmla="*/ 0 w 1020960"/>
              <a:gd name="textAreaRight" fmla="*/ 1021320 w 10209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020129" h="25718">
                <a:moveTo>
                  <a:pt x="0" y="0"/>
                </a:moveTo>
                <a:lnTo>
                  <a:pt x="57932" y="0"/>
                </a:lnTo>
                <a:lnTo>
                  <a:pt x="62434" y="952"/>
                </a:lnTo>
                <a:lnTo>
                  <a:pt x="66388" y="2539"/>
                </a:lnTo>
                <a:lnTo>
                  <a:pt x="69976" y="4551"/>
                </a:lnTo>
                <a:lnTo>
                  <a:pt x="73321" y="5891"/>
                </a:lnTo>
                <a:lnTo>
                  <a:pt x="76503" y="6785"/>
                </a:lnTo>
                <a:lnTo>
                  <a:pt x="79577" y="7380"/>
                </a:lnTo>
                <a:lnTo>
                  <a:pt x="88073" y="8043"/>
                </a:lnTo>
                <a:lnTo>
                  <a:pt x="117681" y="8526"/>
                </a:lnTo>
                <a:lnTo>
                  <a:pt x="237173" y="8572"/>
                </a:lnTo>
                <a:lnTo>
                  <a:pt x="243841" y="9525"/>
                </a:lnTo>
                <a:lnTo>
                  <a:pt x="251143" y="11112"/>
                </a:lnTo>
                <a:lnTo>
                  <a:pt x="258869" y="13123"/>
                </a:lnTo>
                <a:lnTo>
                  <a:pt x="266877" y="14464"/>
                </a:lnTo>
                <a:lnTo>
                  <a:pt x="275073" y="15357"/>
                </a:lnTo>
                <a:lnTo>
                  <a:pt x="283394" y="15953"/>
                </a:lnTo>
                <a:lnTo>
                  <a:pt x="300261" y="16615"/>
                </a:lnTo>
                <a:lnTo>
                  <a:pt x="329821" y="17040"/>
                </a:lnTo>
                <a:lnTo>
                  <a:pt x="384928" y="17135"/>
                </a:lnTo>
                <a:lnTo>
                  <a:pt x="393779" y="16186"/>
                </a:lnTo>
                <a:lnTo>
                  <a:pt x="402537" y="14601"/>
                </a:lnTo>
                <a:lnTo>
                  <a:pt x="411233" y="12591"/>
                </a:lnTo>
                <a:lnTo>
                  <a:pt x="419888" y="11252"/>
                </a:lnTo>
                <a:lnTo>
                  <a:pt x="428515" y="10358"/>
                </a:lnTo>
                <a:lnTo>
                  <a:pt x="437124" y="9763"/>
                </a:lnTo>
                <a:lnTo>
                  <a:pt x="456850" y="9101"/>
                </a:lnTo>
                <a:lnTo>
                  <a:pt x="505931" y="8642"/>
                </a:lnTo>
                <a:lnTo>
                  <a:pt x="860461" y="8572"/>
                </a:lnTo>
                <a:lnTo>
                  <a:pt x="869868" y="9525"/>
                </a:lnTo>
                <a:lnTo>
                  <a:pt x="878045" y="11112"/>
                </a:lnTo>
                <a:lnTo>
                  <a:pt x="885400" y="13123"/>
                </a:lnTo>
                <a:lnTo>
                  <a:pt x="894114" y="14464"/>
                </a:lnTo>
                <a:lnTo>
                  <a:pt x="903734" y="15357"/>
                </a:lnTo>
                <a:lnTo>
                  <a:pt x="913957" y="15953"/>
                </a:lnTo>
                <a:lnTo>
                  <a:pt x="932936" y="16615"/>
                </a:lnTo>
                <a:lnTo>
                  <a:pt x="970228" y="17075"/>
                </a:lnTo>
                <a:lnTo>
                  <a:pt x="995400" y="17135"/>
                </a:lnTo>
                <a:lnTo>
                  <a:pt x="998880" y="18091"/>
                </a:lnTo>
                <a:lnTo>
                  <a:pt x="1002153" y="19681"/>
                </a:lnTo>
                <a:lnTo>
                  <a:pt x="1011507" y="25686"/>
                </a:lnTo>
                <a:lnTo>
                  <a:pt x="1020128" y="257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MARTPenAnnotation506"/>
          <p:cNvSpPr/>
          <p:nvPr/>
        </p:nvSpPr>
        <p:spPr>
          <a:xfrm>
            <a:off x="3228840" y="3051000"/>
            <a:ext cx="82800" cy="360360"/>
          </a:xfrm>
          <a:custGeom>
            <a:avLst/>
            <a:gdLst>
              <a:gd name="textAreaLeft" fmla="*/ 0 w 82800"/>
              <a:gd name="textAreaRight" fmla="*/ 83160 w 82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82092" h="360045">
                <a:moveTo>
                  <a:pt x="4938" y="0"/>
                </a:moveTo>
                <a:lnTo>
                  <a:pt x="388" y="4551"/>
                </a:lnTo>
                <a:lnTo>
                  <a:pt x="0" y="6844"/>
                </a:lnTo>
                <a:lnTo>
                  <a:pt x="694" y="9325"/>
                </a:lnTo>
                <a:lnTo>
                  <a:pt x="2109" y="11931"/>
                </a:lnTo>
                <a:lnTo>
                  <a:pt x="3681" y="17368"/>
                </a:lnTo>
                <a:lnTo>
                  <a:pt x="4690" y="28619"/>
                </a:lnTo>
                <a:lnTo>
                  <a:pt x="5725" y="31462"/>
                </a:lnTo>
                <a:lnTo>
                  <a:pt x="7368" y="34309"/>
                </a:lnTo>
                <a:lnTo>
                  <a:pt x="9416" y="37160"/>
                </a:lnTo>
                <a:lnTo>
                  <a:pt x="11691" y="45408"/>
                </a:lnTo>
                <a:lnTo>
                  <a:pt x="12298" y="50274"/>
                </a:lnTo>
                <a:lnTo>
                  <a:pt x="13655" y="54471"/>
                </a:lnTo>
                <a:lnTo>
                  <a:pt x="15512" y="58222"/>
                </a:lnTo>
                <a:lnTo>
                  <a:pt x="17702" y="61674"/>
                </a:lnTo>
                <a:lnTo>
                  <a:pt x="20136" y="70591"/>
                </a:lnTo>
                <a:lnTo>
                  <a:pt x="22171" y="80903"/>
                </a:lnTo>
                <a:lnTo>
                  <a:pt x="24046" y="86320"/>
                </a:lnTo>
                <a:lnTo>
                  <a:pt x="26250" y="91837"/>
                </a:lnTo>
                <a:lnTo>
                  <a:pt x="28698" y="103046"/>
                </a:lnTo>
                <a:lnTo>
                  <a:pt x="29350" y="108702"/>
                </a:lnTo>
                <a:lnTo>
                  <a:pt x="30738" y="115330"/>
                </a:lnTo>
                <a:lnTo>
                  <a:pt x="32616" y="122607"/>
                </a:lnTo>
                <a:lnTo>
                  <a:pt x="34820" y="130315"/>
                </a:lnTo>
                <a:lnTo>
                  <a:pt x="36289" y="137359"/>
                </a:lnTo>
                <a:lnTo>
                  <a:pt x="37269" y="143960"/>
                </a:lnTo>
                <a:lnTo>
                  <a:pt x="37922" y="150266"/>
                </a:lnTo>
                <a:lnTo>
                  <a:pt x="39310" y="157327"/>
                </a:lnTo>
                <a:lnTo>
                  <a:pt x="41188" y="164892"/>
                </a:lnTo>
                <a:lnTo>
                  <a:pt x="43392" y="172793"/>
                </a:lnTo>
                <a:lnTo>
                  <a:pt x="44862" y="179965"/>
                </a:lnTo>
                <a:lnTo>
                  <a:pt x="45842" y="186652"/>
                </a:lnTo>
                <a:lnTo>
                  <a:pt x="46495" y="193014"/>
                </a:lnTo>
                <a:lnTo>
                  <a:pt x="47883" y="200113"/>
                </a:lnTo>
                <a:lnTo>
                  <a:pt x="49760" y="207704"/>
                </a:lnTo>
                <a:lnTo>
                  <a:pt x="51965" y="215622"/>
                </a:lnTo>
                <a:lnTo>
                  <a:pt x="53434" y="222805"/>
                </a:lnTo>
                <a:lnTo>
                  <a:pt x="54414" y="229499"/>
                </a:lnTo>
                <a:lnTo>
                  <a:pt x="55067" y="235867"/>
                </a:lnTo>
                <a:lnTo>
                  <a:pt x="56455" y="242017"/>
                </a:lnTo>
                <a:lnTo>
                  <a:pt x="58333" y="248022"/>
                </a:lnTo>
                <a:lnTo>
                  <a:pt x="60537" y="253930"/>
                </a:lnTo>
                <a:lnTo>
                  <a:pt x="62007" y="259774"/>
                </a:lnTo>
                <a:lnTo>
                  <a:pt x="62987" y="265575"/>
                </a:lnTo>
                <a:lnTo>
                  <a:pt x="63640" y="271348"/>
                </a:lnTo>
                <a:lnTo>
                  <a:pt x="65028" y="277101"/>
                </a:lnTo>
                <a:lnTo>
                  <a:pt x="66905" y="282841"/>
                </a:lnTo>
                <a:lnTo>
                  <a:pt x="69110" y="288573"/>
                </a:lnTo>
                <a:lnTo>
                  <a:pt x="71559" y="297482"/>
                </a:lnTo>
                <a:lnTo>
                  <a:pt x="73600" y="305569"/>
                </a:lnTo>
                <a:lnTo>
                  <a:pt x="75478" y="310393"/>
                </a:lnTo>
                <a:lnTo>
                  <a:pt x="77682" y="315513"/>
                </a:lnTo>
                <a:lnTo>
                  <a:pt x="80131" y="323743"/>
                </a:lnTo>
                <a:lnTo>
                  <a:pt x="81510" y="333731"/>
                </a:lnTo>
                <a:lnTo>
                  <a:pt x="81919" y="342723"/>
                </a:lnTo>
                <a:lnTo>
                  <a:pt x="82076" y="353244"/>
                </a:lnTo>
                <a:lnTo>
                  <a:pt x="82091" y="3600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MARTPenAnnotation507"/>
          <p:cNvSpPr/>
          <p:nvPr/>
        </p:nvSpPr>
        <p:spPr>
          <a:xfrm>
            <a:off x="3139920" y="2975040"/>
            <a:ext cx="325440" cy="179280"/>
          </a:xfrm>
          <a:custGeom>
            <a:avLst/>
            <a:gdLst>
              <a:gd name="textAreaLeft" fmla="*/ 0 w 325440"/>
              <a:gd name="textAreaRight" fmla="*/ 325800 w 32544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325323" h="179863">
                <a:moveTo>
                  <a:pt x="0" y="111293"/>
                </a:moveTo>
                <a:lnTo>
                  <a:pt x="0" y="99361"/>
                </a:lnTo>
                <a:lnTo>
                  <a:pt x="952" y="96671"/>
                </a:lnTo>
                <a:lnTo>
                  <a:pt x="4551" y="91141"/>
                </a:lnTo>
                <a:lnTo>
                  <a:pt x="6844" y="88333"/>
                </a:lnTo>
                <a:lnTo>
                  <a:pt x="9325" y="85509"/>
                </a:lnTo>
                <a:lnTo>
                  <a:pt x="11932" y="82674"/>
                </a:lnTo>
                <a:lnTo>
                  <a:pt x="13669" y="78878"/>
                </a:lnTo>
                <a:lnTo>
                  <a:pt x="14828" y="74443"/>
                </a:lnTo>
                <a:lnTo>
                  <a:pt x="15600" y="69581"/>
                </a:lnTo>
                <a:lnTo>
                  <a:pt x="18020" y="65388"/>
                </a:lnTo>
                <a:lnTo>
                  <a:pt x="21539" y="61639"/>
                </a:lnTo>
                <a:lnTo>
                  <a:pt x="25789" y="58188"/>
                </a:lnTo>
                <a:lnTo>
                  <a:pt x="31480" y="53982"/>
                </a:lnTo>
                <a:lnTo>
                  <a:pt x="45424" y="44229"/>
                </a:lnTo>
                <a:lnTo>
                  <a:pt x="52190" y="39913"/>
                </a:lnTo>
                <a:lnTo>
                  <a:pt x="58606" y="36084"/>
                </a:lnTo>
                <a:lnTo>
                  <a:pt x="64788" y="32579"/>
                </a:lnTo>
                <a:lnTo>
                  <a:pt x="71767" y="29289"/>
                </a:lnTo>
                <a:lnTo>
                  <a:pt x="79277" y="26144"/>
                </a:lnTo>
                <a:lnTo>
                  <a:pt x="87141" y="23094"/>
                </a:lnTo>
                <a:lnTo>
                  <a:pt x="103499" y="17166"/>
                </a:lnTo>
                <a:lnTo>
                  <a:pt x="137284" y="5599"/>
                </a:lnTo>
                <a:lnTo>
                  <a:pt x="145815" y="3683"/>
                </a:lnTo>
                <a:lnTo>
                  <a:pt x="154360" y="2405"/>
                </a:lnTo>
                <a:lnTo>
                  <a:pt x="162914" y="1553"/>
                </a:lnTo>
                <a:lnTo>
                  <a:pt x="170522" y="986"/>
                </a:lnTo>
                <a:lnTo>
                  <a:pt x="177499" y="607"/>
                </a:lnTo>
                <a:lnTo>
                  <a:pt x="184055" y="355"/>
                </a:lnTo>
                <a:lnTo>
                  <a:pt x="206935" y="0"/>
                </a:lnTo>
                <a:lnTo>
                  <a:pt x="215109" y="902"/>
                </a:lnTo>
                <a:lnTo>
                  <a:pt x="223416" y="2457"/>
                </a:lnTo>
                <a:lnTo>
                  <a:pt x="231812" y="4445"/>
                </a:lnTo>
                <a:lnTo>
                  <a:pt x="240266" y="5771"/>
                </a:lnTo>
                <a:lnTo>
                  <a:pt x="248760" y="6655"/>
                </a:lnTo>
                <a:lnTo>
                  <a:pt x="257280" y="7244"/>
                </a:lnTo>
                <a:lnTo>
                  <a:pt x="264865" y="8589"/>
                </a:lnTo>
                <a:lnTo>
                  <a:pt x="271826" y="10439"/>
                </a:lnTo>
                <a:lnTo>
                  <a:pt x="278373" y="12624"/>
                </a:lnTo>
                <a:lnTo>
                  <a:pt x="288186" y="17593"/>
                </a:lnTo>
                <a:lnTo>
                  <a:pt x="292136" y="20251"/>
                </a:lnTo>
                <a:lnTo>
                  <a:pt x="296675" y="23928"/>
                </a:lnTo>
                <a:lnTo>
                  <a:pt x="301606" y="28285"/>
                </a:lnTo>
                <a:lnTo>
                  <a:pt x="306798" y="33094"/>
                </a:lnTo>
                <a:lnTo>
                  <a:pt x="310260" y="37253"/>
                </a:lnTo>
                <a:lnTo>
                  <a:pt x="312567" y="40978"/>
                </a:lnTo>
                <a:lnTo>
                  <a:pt x="314106" y="44413"/>
                </a:lnTo>
                <a:lnTo>
                  <a:pt x="318355" y="53311"/>
                </a:lnTo>
                <a:lnTo>
                  <a:pt x="320822" y="58351"/>
                </a:lnTo>
                <a:lnTo>
                  <a:pt x="322466" y="62663"/>
                </a:lnTo>
                <a:lnTo>
                  <a:pt x="323562" y="66490"/>
                </a:lnTo>
                <a:lnTo>
                  <a:pt x="324293" y="69994"/>
                </a:lnTo>
                <a:lnTo>
                  <a:pt x="324780" y="74235"/>
                </a:lnTo>
                <a:lnTo>
                  <a:pt x="325105" y="78968"/>
                </a:lnTo>
                <a:lnTo>
                  <a:pt x="325322" y="84028"/>
                </a:lnTo>
                <a:lnTo>
                  <a:pt x="324513" y="88354"/>
                </a:lnTo>
                <a:lnTo>
                  <a:pt x="323022" y="92190"/>
                </a:lnTo>
                <a:lnTo>
                  <a:pt x="321076" y="95700"/>
                </a:lnTo>
                <a:lnTo>
                  <a:pt x="316373" y="104680"/>
                </a:lnTo>
                <a:lnTo>
                  <a:pt x="305593" y="125967"/>
                </a:lnTo>
                <a:lnTo>
                  <a:pt x="301836" y="130601"/>
                </a:lnTo>
                <a:lnTo>
                  <a:pt x="297426" y="134642"/>
                </a:lnTo>
                <a:lnTo>
                  <a:pt x="292582" y="138289"/>
                </a:lnTo>
                <a:lnTo>
                  <a:pt x="288400" y="142625"/>
                </a:lnTo>
                <a:lnTo>
                  <a:pt x="284659" y="147421"/>
                </a:lnTo>
                <a:lnTo>
                  <a:pt x="281213" y="152523"/>
                </a:lnTo>
                <a:lnTo>
                  <a:pt x="276057" y="156877"/>
                </a:lnTo>
                <a:lnTo>
                  <a:pt x="269763" y="160732"/>
                </a:lnTo>
                <a:lnTo>
                  <a:pt x="262710" y="164255"/>
                </a:lnTo>
                <a:lnTo>
                  <a:pt x="256103" y="166603"/>
                </a:lnTo>
                <a:lnTo>
                  <a:pt x="249792" y="168169"/>
                </a:lnTo>
                <a:lnTo>
                  <a:pt x="243681" y="169213"/>
                </a:lnTo>
                <a:lnTo>
                  <a:pt x="237701" y="170861"/>
                </a:lnTo>
                <a:lnTo>
                  <a:pt x="231810" y="172912"/>
                </a:lnTo>
                <a:lnTo>
                  <a:pt x="225978" y="175232"/>
                </a:lnTo>
                <a:lnTo>
                  <a:pt x="220184" y="176779"/>
                </a:lnTo>
                <a:lnTo>
                  <a:pt x="214417" y="177810"/>
                </a:lnTo>
                <a:lnTo>
                  <a:pt x="208667" y="178498"/>
                </a:lnTo>
                <a:lnTo>
                  <a:pt x="199739" y="179262"/>
                </a:lnTo>
                <a:lnTo>
                  <a:pt x="191643" y="179601"/>
                </a:lnTo>
                <a:lnTo>
                  <a:pt x="170923" y="179819"/>
                </a:lnTo>
                <a:lnTo>
                  <a:pt x="153037" y="179862"/>
                </a:lnTo>
                <a:lnTo>
                  <a:pt x="149650" y="178913"/>
                </a:lnTo>
                <a:lnTo>
                  <a:pt x="141284" y="173979"/>
                </a:lnTo>
                <a:lnTo>
                  <a:pt x="137430" y="171141"/>
                </a:lnTo>
                <a:lnTo>
                  <a:pt x="131631" y="165644"/>
                </a:lnTo>
                <a:lnTo>
                  <a:pt x="128623" y="162761"/>
                </a:lnTo>
                <a:lnTo>
                  <a:pt x="128598" y="158187"/>
                </a:lnTo>
                <a:lnTo>
                  <a:pt x="129547" y="156843"/>
                </a:lnTo>
                <a:lnTo>
                  <a:pt x="131132" y="155947"/>
                </a:lnTo>
                <a:lnTo>
                  <a:pt x="135433" y="154951"/>
                </a:lnTo>
                <a:lnTo>
                  <a:pt x="143416" y="154312"/>
                </a:lnTo>
                <a:lnTo>
                  <a:pt x="145733" y="1541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MARTPenAnnotation508"/>
          <p:cNvSpPr/>
          <p:nvPr/>
        </p:nvSpPr>
        <p:spPr>
          <a:xfrm>
            <a:off x="3525840" y="3000240"/>
            <a:ext cx="93600" cy="171720"/>
          </a:xfrm>
          <a:custGeom>
            <a:avLst/>
            <a:gdLst>
              <a:gd name="textAreaLeft" fmla="*/ 0 w 93600"/>
              <a:gd name="textAreaRight" fmla="*/ 93960 w 9360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93934" h="171416">
                <a:moveTo>
                  <a:pt x="0" y="0"/>
                </a:moveTo>
                <a:lnTo>
                  <a:pt x="7382" y="0"/>
                </a:lnTo>
                <a:lnTo>
                  <a:pt x="8731" y="952"/>
                </a:lnTo>
                <a:lnTo>
                  <a:pt x="10583" y="2539"/>
                </a:lnTo>
                <a:lnTo>
                  <a:pt x="12771" y="4551"/>
                </a:lnTo>
                <a:lnTo>
                  <a:pt x="14229" y="6844"/>
                </a:lnTo>
                <a:lnTo>
                  <a:pt x="17234" y="15574"/>
                </a:lnTo>
                <a:lnTo>
                  <a:pt x="19110" y="19908"/>
                </a:lnTo>
                <a:lnTo>
                  <a:pt x="23733" y="29803"/>
                </a:lnTo>
                <a:lnTo>
                  <a:pt x="28963" y="40551"/>
                </a:lnTo>
                <a:lnTo>
                  <a:pt x="30739" y="45131"/>
                </a:lnTo>
                <a:lnTo>
                  <a:pt x="31923" y="49137"/>
                </a:lnTo>
                <a:lnTo>
                  <a:pt x="32712" y="52761"/>
                </a:lnTo>
                <a:lnTo>
                  <a:pt x="34191" y="57081"/>
                </a:lnTo>
                <a:lnTo>
                  <a:pt x="36129" y="61866"/>
                </a:lnTo>
                <a:lnTo>
                  <a:pt x="38374" y="66962"/>
                </a:lnTo>
                <a:lnTo>
                  <a:pt x="43407" y="77703"/>
                </a:lnTo>
                <a:lnTo>
                  <a:pt x="54401" y="100121"/>
                </a:lnTo>
                <a:lnTo>
                  <a:pt x="57222" y="104847"/>
                </a:lnTo>
                <a:lnTo>
                  <a:pt x="60056" y="108950"/>
                </a:lnTo>
                <a:lnTo>
                  <a:pt x="62897" y="112638"/>
                </a:lnTo>
                <a:lnTo>
                  <a:pt x="64792" y="117002"/>
                </a:lnTo>
                <a:lnTo>
                  <a:pt x="66055" y="121816"/>
                </a:lnTo>
                <a:lnTo>
                  <a:pt x="66897" y="126931"/>
                </a:lnTo>
                <a:lnTo>
                  <a:pt x="68411" y="131293"/>
                </a:lnTo>
                <a:lnTo>
                  <a:pt x="70372" y="135153"/>
                </a:lnTo>
                <a:lnTo>
                  <a:pt x="72632" y="138680"/>
                </a:lnTo>
                <a:lnTo>
                  <a:pt x="75092" y="141983"/>
                </a:lnTo>
                <a:lnTo>
                  <a:pt x="77684" y="145138"/>
                </a:lnTo>
                <a:lnTo>
                  <a:pt x="80365" y="148193"/>
                </a:lnTo>
                <a:lnTo>
                  <a:pt x="82151" y="151183"/>
                </a:lnTo>
                <a:lnTo>
                  <a:pt x="83343" y="154128"/>
                </a:lnTo>
                <a:lnTo>
                  <a:pt x="85255" y="161149"/>
                </a:lnTo>
                <a:lnTo>
                  <a:pt x="88056" y="164649"/>
                </a:lnTo>
                <a:lnTo>
                  <a:pt x="93933" y="171052"/>
                </a:lnTo>
                <a:lnTo>
                  <a:pt x="91596" y="171273"/>
                </a:lnTo>
                <a:lnTo>
                  <a:pt x="86885" y="171415"/>
                </a:lnTo>
                <a:lnTo>
                  <a:pt x="86499" y="170474"/>
                </a:lnTo>
                <a:lnTo>
                  <a:pt x="86069" y="166888"/>
                </a:lnTo>
                <a:lnTo>
                  <a:pt x="85002" y="163646"/>
                </a:lnTo>
                <a:lnTo>
                  <a:pt x="83338" y="159580"/>
                </a:lnTo>
                <a:lnTo>
                  <a:pt x="81276" y="154964"/>
                </a:lnTo>
                <a:lnTo>
                  <a:pt x="78950" y="150934"/>
                </a:lnTo>
                <a:lnTo>
                  <a:pt x="76445" y="147295"/>
                </a:lnTo>
                <a:lnTo>
                  <a:pt x="68580" y="1371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MARTPenAnnotation509"/>
          <p:cNvSpPr/>
          <p:nvPr/>
        </p:nvSpPr>
        <p:spPr>
          <a:xfrm>
            <a:off x="3757680" y="2914560"/>
            <a:ext cx="196920" cy="222480"/>
          </a:xfrm>
          <a:custGeom>
            <a:avLst/>
            <a:gdLst>
              <a:gd name="textAreaLeft" fmla="*/ 0 w 196920"/>
              <a:gd name="textAreaRight" fmla="*/ 197280 w 19692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97155" h="221544">
                <a:moveTo>
                  <a:pt x="77139" y="0"/>
                </a:moveTo>
                <a:lnTo>
                  <a:pt x="31416" y="45724"/>
                </a:lnTo>
                <a:lnTo>
                  <a:pt x="28560" y="49532"/>
                </a:lnTo>
                <a:lnTo>
                  <a:pt x="25703" y="53976"/>
                </a:lnTo>
                <a:lnTo>
                  <a:pt x="22846" y="58844"/>
                </a:lnTo>
                <a:lnTo>
                  <a:pt x="19989" y="63994"/>
                </a:lnTo>
                <a:lnTo>
                  <a:pt x="14274" y="74797"/>
                </a:lnTo>
                <a:lnTo>
                  <a:pt x="5702" y="91588"/>
                </a:lnTo>
                <a:lnTo>
                  <a:pt x="3797" y="97254"/>
                </a:lnTo>
                <a:lnTo>
                  <a:pt x="2527" y="102936"/>
                </a:lnTo>
                <a:lnTo>
                  <a:pt x="1680" y="108629"/>
                </a:lnTo>
                <a:lnTo>
                  <a:pt x="1116" y="114329"/>
                </a:lnTo>
                <a:lnTo>
                  <a:pt x="739" y="120034"/>
                </a:lnTo>
                <a:lnTo>
                  <a:pt x="321" y="130501"/>
                </a:lnTo>
                <a:lnTo>
                  <a:pt x="135" y="138328"/>
                </a:lnTo>
                <a:lnTo>
                  <a:pt x="0" y="168946"/>
                </a:lnTo>
                <a:lnTo>
                  <a:pt x="948" y="173590"/>
                </a:lnTo>
                <a:lnTo>
                  <a:pt x="2533" y="177639"/>
                </a:lnTo>
                <a:lnTo>
                  <a:pt x="4542" y="181291"/>
                </a:lnTo>
                <a:lnTo>
                  <a:pt x="6774" y="187888"/>
                </a:lnTo>
                <a:lnTo>
                  <a:pt x="7369" y="190981"/>
                </a:lnTo>
                <a:lnTo>
                  <a:pt x="9671" y="193996"/>
                </a:lnTo>
                <a:lnTo>
                  <a:pt x="13111" y="196958"/>
                </a:lnTo>
                <a:lnTo>
                  <a:pt x="17308" y="199885"/>
                </a:lnTo>
                <a:lnTo>
                  <a:pt x="21060" y="202789"/>
                </a:lnTo>
                <a:lnTo>
                  <a:pt x="24513" y="205678"/>
                </a:lnTo>
                <a:lnTo>
                  <a:pt x="27767" y="208556"/>
                </a:lnTo>
                <a:lnTo>
                  <a:pt x="30890" y="210474"/>
                </a:lnTo>
                <a:lnTo>
                  <a:pt x="36899" y="212607"/>
                </a:lnTo>
                <a:lnTo>
                  <a:pt x="42745" y="216094"/>
                </a:lnTo>
                <a:lnTo>
                  <a:pt x="45637" y="218358"/>
                </a:lnTo>
                <a:lnTo>
                  <a:pt x="51391" y="220872"/>
                </a:lnTo>
                <a:lnTo>
                  <a:pt x="54259" y="221543"/>
                </a:lnTo>
                <a:lnTo>
                  <a:pt x="58076" y="221038"/>
                </a:lnTo>
                <a:lnTo>
                  <a:pt x="62525" y="219748"/>
                </a:lnTo>
                <a:lnTo>
                  <a:pt x="67397" y="217936"/>
                </a:lnTo>
                <a:lnTo>
                  <a:pt x="71597" y="216728"/>
                </a:lnTo>
                <a:lnTo>
                  <a:pt x="75349" y="215923"/>
                </a:lnTo>
                <a:lnTo>
                  <a:pt x="78804" y="215386"/>
                </a:lnTo>
                <a:lnTo>
                  <a:pt x="83012" y="214076"/>
                </a:lnTo>
                <a:lnTo>
                  <a:pt x="87722" y="212250"/>
                </a:lnTo>
                <a:lnTo>
                  <a:pt x="92767" y="210080"/>
                </a:lnTo>
                <a:lnTo>
                  <a:pt x="103452" y="205128"/>
                </a:lnTo>
                <a:lnTo>
                  <a:pt x="108969" y="202475"/>
                </a:lnTo>
                <a:lnTo>
                  <a:pt x="114552" y="198801"/>
                </a:lnTo>
                <a:lnTo>
                  <a:pt x="120178" y="194446"/>
                </a:lnTo>
                <a:lnTo>
                  <a:pt x="125834" y="189638"/>
                </a:lnTo>
                <a:lnTo>
                  <a:pt x="132463" y="185480"/>
                </a:lnTo>
                <a:lnTo>
                  <a:pt x="139739" y="181756"/>
                </a:lnTo>
                <a:lnTo>
                  <a:pt x="147448" y="178321"/>
                </a:lnTo>
                <a:lnTo>
                  <a:pt x="153539" y="174125"/>
                </a:lnTo>
                <a:lnTo>
                  <a:pt x="158553" y="169423"/>
                </a:lnTo>
                <a:lnTo>
                  <a:pt x="162847" y="164384"/>
                </a:lnTo>
                <a:lnTo>
                  <a:pt x="166663" y="160072"/>
                </a:lnTo>
                <a:lnTo>
                  <a:pt x="173443" y="152740"/>
                </a:lnTo>
                <a:lnTo>
                  <a:pt x="177537" y="149452"/>
                </a:lnTo>
                <a:lnTo>
                  <a:pt x="182171" y="146307"/>
                </a:lnTo>
                <a:lnTo>
                  <a:pt x="197154" y="1371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MARTPenAnnotation510"/>
          <p:cNvSpPr/>
          <p:nvPr/>
        </p:nvSpPr>
        <p:spPr>
          <a:xfrm>
            <a:off x="3971880" y="2847960"/>
            <a:ext cx="103320" cy="341280"/>
          </a:xfrm>
          <a:custGeom>
            <a:avLst/>
            <a:gdLst>
              <a:gd name="textAreaLeft" fmla="*/ 0 w 103320"/>
              <a:gd name="textAreaRight" fmla="*/ 103680 w 103320"/>
              <a:gd name="textAreaTop" fmla="*/ 0 h 341280"/>
              <a:gd name="textAreaBottom" fmla="*/ 341280 h 341280"/>
            </a:gdLst>
            <a:ahLst/>
            <a:rect l="textAreaLeft" t="textAreaTop" r="textAreaRight" b="textAreaBottom"/>
            <a:pathLst>
              <a:path w="102870" h="341679">
                <a:moveTo>
                  <a:pt x="8571" y="15922"/>
                </a:moveTo>
                <a:lnTo>
                  <a:pt x="8571" y="11372"/>
                </a:lnTo>
                <a:lnTo>
                  <a:pt x="7619" y="10031"/>
                </a:lnTo>
                <a:lnTo>
                  <a:pt x="6031" y="9137"/>
                </a:lnTo>
                <a:lnTo>
                  <a:pt x="1190" y="7703"/>
                </a:lnTo>
                <a:lnTo>
                  <a:pt x="793" y="6633"/>
                </a:lnTo>
                <a:lnTo>
                  <a:pt x="103" y="0"/>
                </a:lnTo>
                <a:lnTo>
                  <a:pt x="3" y="9408"/>
                </a:lnTo>
                <a:lnTo>
                  <a:pt x="0" y="23737"/>
                </a:lnTo>
                <a:lnTo>
                  <a:pt x="2539" y="34001"/>
                </a:lnTo>
                <a:lnTo>
                  <a:pt x="4549" y="39405"/>
                </a:lnTo>
                <a:lnTo>
                  <a:pt x="6843" y="44912"/>
                </a:lnTo>
                <a:lnTo>
                  <a:pt x="9324" y="50489"/>
                </a:lnTo>
                <a:lnTo>
                  <a:pt x="11930" y="56112"/>
                </a:lnTo>
                <a:lnTo>
                  <a:pt x="14620" y="62718"/>
                </a:lnTo>
                <a:lnTo>
                  <a:pt x="17366" y="69979"/>
                </a:lnTo>
                <a:lnTo>
                  <a:pt x="20149" y="77678"/>
                </a:lnTo>
                <a:lnTo>
                  <a:pt x="22958" y="84716"/>
                </a:lnTo>
                <a:lnTo>
                  <a:pt x="25782" y="91312"/>
                </a:lnTo>
                <a:lnTo>
                  <a:pt x="28618" y="97615"/>
                </a:lnTo>
                <a:lnTo>
                  <a:pt x="31461" y="104674"/>
                </a:lnTo>
                <a:lnTo>
                  <a:pt x="37159" y="120137"/>
                </a:lnTo>
                <a:lnTo>
                  <a:pt x="39060" y="128262"/>
                </a:lnTo>
                <a:lnTo>
                  <a:pt x="40327" y="136535"/>
                </a:lnTo>
                <a:lnTo>
                  <a:pt x="41172" y="144909"/>
                </a:lnTo>
                <a:lnTo>
                  <a:pt x="42687" y="153348"/>
                </a:lnTo>
                <a:lnTo>
                  <a:pt x="44650" y="161832"/>
                </a:lnTo>
                <a:lnTo>
                  <a:pt x="46911" y="170346"/>
                </a:lnTo>
                <a:lnTo>
                  <a:pt x="49371" y="177926"/>
                </a:lnTo>
                <a:lnTo>
                  <a:pt x="51964" y="184885"/>
                </a:lnTo>
                <a:lnTo>
                  <a:pt x="54644" y="191429"/>
                </a:lnTo>
                <a:lnTo>
                  <a:pt x="57384" y="198650"/>
                </a:lnTo>
                <a:lnTo>
                  <a:pt x="62968" y="214292"/>
                </a:lnTo>
                <a:lnTo>
                  <a:pt x="65791" y="221511"/>
                </a:lnTo>
                <a:lnTo>
                  <a:pt x="68625" y="228229"/>
                </a:lnTo>
                <a:lnTo>
                  <a:pt x="71467" y="234613"/>
                </a:lnTo>
                <a:lnTo>
                  <a:pt x="73362" y="241726"/>
                </a:lnTo>
                <a:lnTo>
                  <a:pt x="74625" y="249326"/>
                </a:lnTo>
                <a:lnTo>
                  <a:pt x="75467" y="257250"/>
                </a:lnTo>
                <a:lnTo>
                  <a:pt x="76028" y="264437"/>
                </a:lnTo>
                <a:lnTo>
                  <a:pt x="76402" y="271134"/>
                </a:lnTo>
                <a:lnTo>
                  <a:pt x="76652" y="277504"/>
                </a:lnTo>
                <a:lnTo>
                  <a:pt x="77771" y="282702"/>
                </a:lnTo>
                <a:lnTo>
                  <a:pt x="79469" y="287121"/>
                </a:lnTo>
                <a:lnTo>
                  <a:pt x="81554" y="291019"/>
                </a:lnTo>
                <a:lnTo>
                  <a:pt x="83871" y="300430"/>
                </a:lnTo>
                <a:lnTo>
                  <a:pt x="84900" y="310011"/>
                </a:lnTo>
                <a:lnTo>
                  <a:pt x="85358" y="317443"/>
                </a:lnTo>
                <a:lnTo>
                  <a:pt x="86432" y="320759"/>
                </a:lnTo>
                <a:lnTo>
                  <a:pt x="88101" y="323922"/>
                </a:lnTo>
                <a:lnTo>
                  <a:pt x="90166" y="326983"/>
                </a:lnTo>
                <a:lnTo>
                  <a:pt x="92495" y="329024"/>
                </a:lnTo>
                <a:lnTo>
                  <a:pt x="95001" y="330384"/>
                </a:lnTo>
                <a:lnTo>
                  <a:pt x="97623" y="331291"/>
                </a:lnTo>
                <a:lnTo>
                  <a:pt x="99372" y="332848"/>
                </a:lnTo>
                <a:lnTo>
                  <a:pt x="100537" y="334839"/>
                </a:lnTo>
                <a:lnTo>
                  <a:pt x="102869" y="3416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SMARTPenAnnotation511"/>
          <p:cNvSpPr/>
          <p:nvPr/>
        </p:nvSpPr>
        <p:spPr>
          <a:xfrm>
            <a:off x="4075200" y="2906640"/>
            <a:ext cx="264960" cy="204840"/>
          </a:xfrm>
          <a:custGeom>
            <a:avLst/>
            <a:gdLst>
              <a:gd name="textAreaLeft" fmla="*/ 0 w 264960"/>
              <a:gd name="textAreaRight" fmla="*/ 265320 w 26496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65736" h="205706">
                <a:moveTo>
                  <a:pt x="128575" y="25683"/>
                </a:moveTo>
                <a:lnTo>
                  <a:pt x="149813" y="4444"/>
                </a:lnTo>
                <a:lnTo>
                  <a:pt x="152259" y="2951"/>
                </a:lnTo>
                <a:lnTo>
                  <a:pt x="160488" y="555"/>
                </a:lnTo>
                <a:lnTo>
                  <a:pt x="162726" y="0"/>
                </a:lnTo>
                <a:lnTo>
                  <a:pt x="162824" y="4526"/>
                </a:lnTo>
                <a:lnTo>
                  <a:pt x="161885" y="5863"/>
                </a:lnTo>
                <a:lnTo>
                  <a:pt x="160307" y="6755"/>
                </a:lnTo>
                <a:lnTo>
                  <a:pt x="158302" y="7349"/>
                </a:lnTo>
                <a:lnTo>
                  <a:pt x="156966" y="8698"/>
                </a:lnTo>
                <a:lnTo>
                  <a:pt x="156075" y="10549"/>
                </a:lnTo>
                <a:lnTo>
                  <a:pt x="155480" y="12736"/>
                </a:lnTo>
                <a:lnTo>
                  <a:pt x="152281" y="17706"/>
                </a:lnTo>
                <a:lnTo>
                  <a:pt x="150094" y="20365"/>
                </a:lnTo>
                <a:lnTo>
                  <a:pt x="142584" y="25859"/>
                </a:lnTo>
                <a:lnTo>
                  <a:pt x="137914" y="28658"/>
                </a:lnTo>
                <a:lnTo>
                  <a:pt x="133848" y="32429"/>
                </a:lnTo>
                <a:lnTo>
                  <a:pt x="130186" y="36847"/>
                </a:lnTo>
                <a:lnTo>
                  <a:pt x="126791" y="41698"/>
                </a:lnTo>
                <a:lnTo>
                  <a:pt x="122623" y="45885"/>
                </a:lnTo>
                <a:lnTo>
                  <a:pt x="117940" y="49628"/>
                </a:lnTo>
                <a:lnTo>
                  <a:pt x="112912" y="53076"/>
                </a:lnTo>
                <a:lnTo>
                  <a:pt x="107656" y="57280"/>
                </a:lnTo>
                <a:lnTo>
                  <a:pt x="102246" y="61988"/>
                </a:lnTo>
                <a:lnTo>
                  <a:pt x="96735" y="67031"/>
                </a:lnTo>
                <a:lnTo>
                  <a:pt x="91156" y="71346"/>
                </a:lnTo>
                <a:lnTo>
                  <a:pt x="85532" y="75175"/>
                </a:lnTo>
                <a:lnTo>
                  <a:pt x="79877" y="78680"/>
                </a:lnTo>
                <a:lnTo>
                  <a:pt x="75155" y="81969"/>
                </a:lnTo>
                <a:lnTo>
                  <a:pt x="67368" y="88164"/>
                </a:lnTo>
                <a:lnTo>
                  <a:pt x="63005" y="91149"/>
                </a:lnTo>
                <a:lnTo>
                  <a:pt x="58192" y="94092"/>
                </a:lnTo>
                <a:lnTo>
                  <a:pt x="53078" y="97006"/>
                </a:lnTo>
                <a:lnTo>
                  <a:pt x="44856" y="102785"/>
                </a:lnTo>
                <a:lnTo>
                  <a:pt x="38026" y="108528"/>
                </a:lnTo>
                <a:lnTo>
                  <a:pt x="31816" y="114255"/>
                </a:lnTo>
                <a:lnTo>
                  <a:pt x="22965" y="122835"/>
                </a:lnTo>
                <a:lnTo>
                  <a:pt x="14310" y="131409"/>
                </a:lnTo>
                <a:lnTo>
                  <a:pt x="11441" y="133314"/>
                </a:lnTo>
                <a:lnTo>
                  <a:pt x="5712" y="135432"/>
                </a:lnTo>
                <a:lnTo>
                  <a:pt x="3804" y="136948"/>
                </a:lnTo>
                <a:lnTo>
                  <a:pt x="2532" y="138912"/>
                </a:lnTo>
                <a:lnTo>
                  <a:pt x="1118" y="143634"/>
                </a:lnTo>
                <a:lnTo>
                  <a:pt x="490" y="148908"/>
                </a:lnTo>
                <a:lnTo>
                  <a:pt x="17" y="154909"/>
                </a:lnTo>
                <a:lnTo>
                  <a:pt x="0" y="158681"/>
                </a:lnTo>
                <a:lnTo>
                  <a:pt x="949" y="160068"/>
                </a:lnTo>
                <a:lnTo>
                  <a:pt x="2534" y="160993"/>
                </a:lnTo>
                <a:lnTo>
                  <a:pt x="4542" y="161610"/>
                </a:lnTo>
                <a:lnTo>
                  <a:pt x="9315" y="164835"/>
                </a:lnTo>
                <a:lnTo>
                  <a:pt x="15588" y="170115"/>
                </a:lnTo>
                <a:lnTo>
                  <a:pt x="21526" y="173377"/>
                </a:lnTo>
                <a:lnTo>
                  <a:pt x="29563" y="177050"/>
                </a:lnTo>
                <a:lnTo>
                  <a:pt x="36310" y="178682"/>
                </a:lnTo>
                <a:lnTo>
                  <a:pt x="41347" y="179117"/>
                </a:lnTo>
                <a:lnTo>
                  <a:pt x="47563" y="179407"/>
                </a:lnTo>
                <a:lnTo>
                  <a:pt x="68969" y="179873"/>
                </a:lnTo>
                <a:lnTo>
                  <a:pt x="88371" y="179954"/>
                </a:lnTo>
                <a:lnTo>
                  <a:pt x="95105" y="180917"/>
                </a:lnTo>
                <a:lnTo>
                  <a:pt x="101499" y="182513"/>
                </a:lnTo>
                <a:lnTo>
                  <a:pt x="107667" y="184528"/>
                </a:lnTo>
                <a:lnTo>
                  <a:pt x="113684" y="185872"/>
                </a:lnTo>
                <a:lnTo>
                  <a:pt x="119600" y="186768"/>
                </a:lnTo>
                <a:lnTo>
                  <a:pt x="125449" y="187366"/>
                </a:lnTo>
                <a:lnTo>
                  <a:pt x="131254" y="187764"/>
                </a:lnTo>
                <a:lnTo>
                  <a:pt x="137028" y="188029"/>
                </a:lnTo>
                <a:lnTo>
                  <a:pt x="149477" y="188324"/>
                </a:lnTo>
                <a:lnTo>
                  <a:pt x="164535" y="188455"/>
                </a:lnTo>
                <a:lnTo>
                  <a:pt x="171598" y="189443"/>
                </a:lnTo>
                <a:lnTo>
                  <a:pt x="178212" y="191053"/>
                </a:lnTo>
                <a:lnTo>
                  <a:pt x="184526" y="193080"/>
                </a:lnTo>
                <a:lnTo>
                  <a:pt x="191594" y="194431"/>
                </a:lnTo>
                <a:lnTo>
                  <a:pt x="199163" y="195331"/>
                </a:lnTo>
                <a:lnTo>
                  <a:pt x="207066" y="195932"/>
                </a:lnTo>
                <a:lnTo>
                  <a:pt x="214240" y="197285"/>
                </a:lnTo>
                <a:lnTo>
                  <a:pt x="220927" y="199139"/>
                </a:lnTo>
                <a:lnTo>
                  <a:pt x="227291" y="201328"/>
                </a:lnTo>
                <a:lnTo>
                  <a:pt x="233438" y="202787"/>
                </a:lnTo>
                <a:lnTo>
                  <a:pt x="239442" y="203760"/>
                </a:lnTo>
                <a:lnTo>
                  <a:pt x="245349" y="204408"/>
                </a:lnTo>
                <a:lnTo>
                  <a:pt x="250239" y="204840"/>
                </a:lnTo>
                <a:lnTo>
                  <a:pt x="254452" y="205129"/>
                </a:lnTo>
                <a:lnTo>
                  <a:pt x="265735" y="2057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MARTPenAnnotation512"/>
          <p:cNvSpPr/>
          <p:nvPr/>
        </p:nvSpPr>
        <p:spPr>
          <a:xfrm>
            <a:off x="4564080" y="2940120"/>
            <a:ext cx="196920" cy="176040"/>
          </a:xfrm>
          <a:custGeom>
            <a:avLst/>
            <a:gdLst>
              <a:gd name="textAreaLeft" fmla="*/ 0 w 196920"/>
              <a:gd name="textAreaRight" fmla="*/ 197280 w 19692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95660" h="176164">
                <a:moveTo>
                  <a:pt x="58660" y="8467"/>
                </a:moveTo>
                <a:lnTo>
                  <a:pt x="58660" y="1087"/>
                </a:lnTo>
                <a:lnTo>
                  <a:pt x="57708" y="690"/>
                </a:lnTo>
                <a:lnTo>
                  <a:pt x="51875" y="52"/>
                </a:lnTo>
                <a:lnTo>
                  <a:pt x="51279" y="0"/>
                </a:lnTo>
                <a:lnTo>
                  <a:pt x="50882" y="917"/>
                </a:lnTo>
                <a:lnTo>
                  <a:pt x="50441" y="4477"/>
                </a:lnTo>
                <a:lnTo>
                  <a:pt x="49371" y="5807"/>
                </a:lnTo>
                <a:lnTo>
                  <a:pt x="47705" y="6694"/>
                </a:lnTo>
                <a:lnTo>
                  <a:pt x="45642" y="7285"/>
                </a:lnTo>
                <a:lnTo>
                  <a:pt x="44267" y="8632"/>
                </a:lnTo>
                <a:lnTo>
                  <a:pt x="43349" y="10482"/>
                </a:lnTo>
                <a:lnTo>
                  <a:pt x="42738" y="12668"/>
                </a:lnTo>
                <a:lnTo>
                  <a:pt x="40425" y="15078"/>
                </a:lnTo>
                <a:lnTo>
                  <a:pt x="36979" y="17637"/>
                </a:lnTo>
                <a:lnTo>
                  <a:pt x="32776" y="20296"/>
                </a:lnTo>
                <a:lnTo>
                  <a:pt x="29022" y="23973"/>
                </a:lnTo>
                <a:lnTo>
                  <a:pt x="25567" y="28329"/>
                </a:lnTo>
                <a:lnTo>
                  <a:pt x="22310" y="33139"/>
                </a:lnTo>
                <a:lnTo>
                  <a:pt x="19187" y="37297"/>
                </a:lnTo>
                <a:lnTo>
                  <a:pt x="16152" y="41022"/>
                </a:lnTo>
                <a:lnTo>
                  <a:pt x="13177" y="44458"/>
                </a:lnTo>
                <a:lnTo>
                  <a:pt x="11193" y="47702"/>
                </a:lnTo>
                <a:lnTo>
                  <a:pt x="9870" y="50816"/>
                </a:lnTo>
                <a:lnTo>
                  <a:pt x="8989" y="53845"/>
                </a:lnTo>
                <a:lnTo>
                  <a:pt x="7448" y="57769"/>
                </a:lnTo>
                <a:lnTo>
                  <a:pt x="5469" y="62290"/>
                </a:lnTo>
                <a:lnTo>
                  <a:pt x="3197" y="67209"/>
                </a:lnTo>
                <a:lnTo>
                  <a:pt x="1682" y="72394"/>
                </a:lnTo>
                <a:lnTo>
                  <a:pt x="673" y="77755"/>
                </a:lnTo>
                <a:lnTo>
                  <a:pt x="0" y="83234"/>
                </a:lnTo>
                <a:lnTo>
                  <a:pt x="503" y="88792"/>
                </a:lnTo>
                <a:lnTo>
                  <a:pt x="1792" y="94402"/>
                </a:lnTo>
                <a:lnTo>
                  <a:pt x="3603" y="100047"/>
                </a:lnTo>
                <a:lnTo>
                  <a:pt x="4810" y="105716"/>
                </a:lnTo>
                <a:lnTo>
                  <a:pt x="5616" y="111400"/>
                </a:lnTo>
                <a:lnTo>
                  <a:pt x="6152" y="117094"/>
                </a:lnTo>
                <a:lnTo>
                  <a:pt x="7462" y="121843"/>
                </a:lnTo>
                <a:lnTo>
                  <a:pt x="9289" y="125961"/>
                </a:lnTo>
                <a:lnTo>
                  <a:pt x="11458" y="129659"/>
                </a:lnTo>
                <a:lnTo>
                  <a:pt x="13857" y="133077"/>
                </a:lnTo>
                <a:lnTo>
                  <a:pt x="16409" y="136308"/>
                </a:lnTo>
                <a:lnTo>
                  <a:pt x="19063" y="139415"/>
                </a:lnTo>
                <a:lnTo>
                  <a:pt x="21785" y="143390"/>
                </a:lnTo>
                <a:lnTo>
                  <a:pt x="24552" y="147946"/>
                </a:lnTo>
                <a:lnTo>
                  <a:pt x="27349" y="152888"/>
                </a:lnTo>
                <a:lnTo>
                  <a:pt x="31119" y="157136"/>
                </a:lnTo>
                <a:lnTo>
                  <a:pt x="35537" y="160920"/>
                </a:lnTo>
                <a:lnTo>
                  <a:pt x="40387" y="164395"/>
                </a:lnTo>
                <a:lnTo>
                  <a:pt x="44573" y="166712"/>
                </a:lnTo>
                <a:lnTo>
                  <a:pt x="48316" y="168256"/>
                </a:lnTo>
                <a:lnTo>
                  <a:pt x="51764" y="169286"/>
                </a:lnTo>
                <a:lnTo>
                  <a:pt x="55968" y="169972"/>
                </a:lnTo>
                <a:lnTo>
                  <a:pt x="60675" y="170430"/>
                </a:lnTo>
                <a:lnTo>
                  <a:pt x="65719" y="170735"/>
                </a:lnTo>
                <a:lnTo>
                  <a:pt x="70986" y="171891"/>
                </a:lnTo>
                <a:lnTo>
                  <a:pt x="76402" y="173614"/>
                </a:lnTo>
                <a:lnTo>
                  <a:pt x="81919" y="175715"/>
                </a:lnTo>
                <a:lnTo>
                  <a:pt x="87501" y="176163"/>
                </a:lnTo>
                <a:lnTo>
                  <a:pt x="93127" y="175510"/>
                </a:lnTo>
                <a:lnTo>
                  <a:pt x="98784" y="174121"/>
                </a:lnTo>
                <a:lnTo>
                  <a:pt x="104459" y="173196"/>
                </a:lnTo>
                <a:lnTo>
                  <a:pt x="110148" y="172579"/>
                </a:lnTo>
                <a:lnTo>
                  <a:pt x="115846" y="172168"/>
                </a:lnTo>
                <a:lnTo>
                  <a:pt x="121549" y="169989"/>
                </a:lnTo>
                <a:lnTo>
                  <a:pt x="127256" y="166631"/>
                </a:lnTo>
                <a:lnTo>
                  <a:pt x="132966" y="162487"/>
                </a:lnTo>
                <a:lnTo>
                  <a:pt x="138678" y="158772"/>
                </a:lnTo>
                <a:lnTo>
                  <a:pt x="144390" y="155343"/>
                </a:lnTo>
                <a:lnTo>
                  <a:pt x="150104" y="152105"/>
                </a:lnTo>
                <a:lnTo>
                  <a:pt x="155817" y="148041"/>
                </a:lnTo>
                <a:lnTo>
                  <a:pt x="161532" y="143426"/>
                </a:lnTo>
                <a:lnTo>
                  <a:pt x="167247" y="138445"/>
                </a:lnTo>
                <a:lnTo>
                  <a:pt x="176136" y="130370"/>
                </a:lnTo>
                <a:lnTo>
                  <a:pt x="179840" y="126883"/>
                </a:lnTo>
                <a:lnTo>
                  <a:pt x="183262" y="122654"/>
                </a:lnTo>
                <a:lnTo>
                  <a:pt x="186496" y="117929"/>
                </a:lnTo>
                <a:lnTo>
                  <a:pt x="189604" y="112875"/>
                </a:lnTo>
                <a:lnTo>
                  <a:pt x="191676" y="107600"/>
                </a:lnTo>
                <a:lnTo>
                  <a:pt x="193058" y="102178"/>
                </a:lnTo>
                <a:lnTo>
                  <a:pt x="193978" y="96659"/>
                </a:lnTo>
                <a:lnTo>
                  <a:pt x="194592" y="91074"/>
                </a:lnTo>
                <a:lnTo>
                  <a:pt x="195002" y="85446"/>
                </a:lnTo>
                <a:lnTo>
                  <a:pt x="195275" y="79789"/>
                </a:lnTo>
                <a:lnTo>
                  <a:pt x="195578" y="68423"/>
                </a:lnTo>
                <a:lnTo>
                  <a:pt x="195659" y="62726"/>
                </a:lnTo>
                <a:lnTo>
                  <a:pt x="193808" y="57022"/>
                </a:lnTo>
                <a:lnTo>
                  <a:pt x="190669" y="51315"/>
                </a:lnTo>
                <a:lnTo>
                  <a:pt x="186671" y="45605"/>
                </a:lnTo>
                <a:lnTo>
                  <a:pt x="183053" y="40846"/>
                </a:lnTo>
                <a:lnTo>
                  <a:pt x="179689" y="36721"/>
                </a:lnTo>
                <a:lnTo>
                  <a:pt x="176493" y="33018"/>
                </a:lnTo>
                <a:lnTo>
                  <a:pt x="173411" y="29597"/>
                </a:lnTo>
                <a:lnTo>
                  <a:pt x="167446" y="23256"/>
                </a:lnTo>
                <a:lnTo>
                  <a:pt x="162617" y="21184"/>
                </a:lnTo>
                <a:lnTo>
                  <a:pt x="156539" y="19803"/>
                </a:lnTo>
                <a:lnTo>
                  <a:pt x="149631" y="18882"/>
                </a:lnTo>
                <a:lnTo>
                  <a:pt x="143120" y="18268"/>
                </a:lnTo>
                <a:lnTo>
                  <a:pt x="136874" y="17859"/>
                </a:lnTo>
                <a:lnTo>
                  <a:pt x="130806" y="17586"/>
                </a:lnTo>
                <a:lnTo>
                  <a:pt x="124855" y="16451"/>
                </a:lnTo>
                <a:lnTo>
                  <a:pt x="118982" y="14743"/>
                </a:lnTo>
                <a:lnTo>
                  <a:pt x="113162" y="12651"/>
                </a:lnTo>
                <a:lnTo>
                  <a:pt x="108330" y="11256"/>
                </a:lnTo>
                <a:lnTo>
                  <a:pt x="104156" y="10327"/>
                </a:lnTo>
                <a:lnTo>
                  <a:pt x="100421" y="9707"/>
                </a:lnTo>
                <a:lnTo>
                  <a:pt x="96978" y="9294"/>
                </a:lnTo>
                <a:lnTo>
                  <a:pt x="93731" y="9019"/>
                </a:lnTo>
                <a:lnTo>
                  <a:pt x="90613" y="8835"/>
                </a:lnTo>
                <a:lnTo>
                  <a:pt x="82069" y="8631"/>
                </a:lnTo>
                <a:lnTo>
                  <a:pt x="67233" y="84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MARTPenAnnotation513"/>
          <p:cNvSpPr/>
          <p:nvPr/>
        </p:nvSpPr>
        <p:spPr>
          <a:xfrm>
            <a:off x="4836960" y="2932200"/>
            <a:ext cx="557280" cy="204840"/>
          </a:xfrm>
          <a:custGeom>
            <a:avLst/>
            <a:gdLst>
              <a:gd name="textAreaLeft" fmla="*/ 0 w 557280"/>
              <a:gd name="textAreaRight" fmla="*/ 557640 w 557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557213" h="205235">
                <a:moveTo>
                  <a:pt x="0" y="0"/>
                </a:moveTo>
                <a:lnTo>
                  <a:pt x="4551" y="0"/>
                </a:lnTo>
                <a:lnTo>
                  <a:pt x="5891" y="952"/>
                </a:lnTo>
                <a:lnTo>
                  <a:pt x="6785" y="2540"/>
                </a:lnTo>
                <a:lnTo>
                  <a:pt x="8219" y="7380"/>
                </a:lnTo>
                <a:lnTo>
                  <a:pt x="21238" y="15181"/>
                </a:lnTo>
                <a:lnTo>
                  <a:pt x="27854" y="20399"/>
                </a:lnTo>
                <a:lnTo>
                  <a:pt x="30952" y="24077"/>
                </a:lnTo>
                <a:lnTo>
                  <a:pt x="33970" y="28434"/>
                </a:lnTo>
                <a:lnTo>
                  <a:pt x="36934" y="33243"/>
                </a:lnTo>
                <a:lnTo>
                  <a:pt x="50208" y="53665"/>
                </a:lnTo>
                <a:lnTo>
                  <a:pt x="54427" y="60541"/>
                </a:lnTo>
                <a:lnTo>
                  <a:pt x="58192" y="67031"/>
                </a:lnTo>
                <a:lnTo>
                  <a:pt x="64915" y="79321"/>
                </a:lnTo>
                <a:lnTo>
                  <a:pt x="74056" y="96951"/>
                </a:lnTo>
                <a:lnTo>
                  <a:pt x="88551" y="125703"/>
                </a:lnTo>
                <a:lnTo>
                  <a:pt x="90466" y="131427"/>
                </a:lnTo>
                <a:lnTo>
                  <a:pt x="91743" y="137148"/>
                </a:lnTo>
                <a:lnTo>
                  <a:pt x="92595" y="142867"/>
                </a:lnTo>
                <a:lnTo>
                  <a:pt x="94115" y="147632"/>
                </a:lnTo>
                <a:lnTo>
                  <a:pt x="96081" y="151761"/>
                </a:lnTo>
                <a:lnTo>
                  <a:pt x="98343" y="155466"/>
                </a:lnTo>
                <a:lnTo>
                  <a:pt x="99853" y="158889"/>
                </a:lnTo>
                <a:lnTo>
                  <a:pt x="101529" y="165232"/>
                </a:lnTo>
                <a:lnTo>
                  <a:pt x="102274" y="171226"/>
                </a:lnTo>
                <a:lnTo>
                  <a:pt x="102605" y="177065"/>
                </a:lnTo>
                <a:lnTo>
                  <a:pt x="102860" y="188089"/>
                </a:lnTo>
                <a:lnTo>
                  <a:pt x="102867" y="183894"/>
                </a:lnTo>
                <a:lnTo>
                  <a:pt x="101916" y="181651"/>
                </a:lnTo>
                <a:lnTo>
                  <a:pt x="98318" y="176618"/>
                </a:lnTo>
                <a:lnTo>
                  <a:pt x="93545" y="171207"/>
                </a:lnTo>
                <a:lnTo>
                  <a:pt x="90938" y="168430"/>
                </a:lnTo>
                <a:lnTo>
                  <a:pt x="89200" y="165627"/>
                </a:lnTo>
                <a:lnTo>
                  <a:pt x="87270" y="159972"/>
                </a:lnTo>
                <a:lnTo>
                  <a:pt x="85802" y="156178"/>
                </a:lnTo>
                <a:lnTo>
                  <a:pt x="83872" y="151743"/>
                </a:lnTo>
                <a:lnTo>
                  <a:pt x="81632" y="146882"/>
                </a:lnTo>
                <a:lnTo>
                  <a:pt x="80139" y="140784"/>
                </a:lnTo>
                <a:lnTo>
                  <a:pt x="79143" y="133861"/>
                </a:lnTo>
                <a:lnTo>
                  <a:pt x="78480" y="126388"/>
                </a:lnTo>
                <a:lnTo>
                  <a:pt x="78990" y="119501"/>
                </a:lnTo>
                <a:lnTo>
                  <a:pt x="80283" y="113005"/>
                </a:lnTo>
                <a:lnTo>
                  <a:pt x="82097" y="106769"/>
                </a:lnTo>
                <a:lnTo>
                  <a:pt x="83306" y="99754"/>
                </a:lnTo>
                <a:lnTo>
                  <a:pt x="84113" y="92220"/>
                </a:lnTo>
                <a:lnTo>
                  <a:pt x="84650" y="84340"/>
                </a:lnTo>
                <a:lnTo>
                  <a:pt x="85961" y="77182"/>
                </a:lnTo>
                <a:lnTo>
                  <a:pt x="87788" y="70504"/>
                </a:lnTo>
                <a:lnTo>
                  <a:pt x="89957" y="64148"/>
                </a:lnTo>
                <a:lnTo>
                  <a:pt x="93309" y="58005"/>
                </a:lnTo>
                <a:lnTo>
                  <a:pt x="97448" y="52005"/>
                </a:lnTo>
                <a:lnTo>
                  <a:pt x="102113" y="46100"/>
                </a:lnTo>
                <a:lnTo>
                  <a:pt x="106176" y="41210"/>
                </a:lnTo>
                <a:lnTo>
                  <a:pt x="109836" y="36998"/>
                </a:lnTo>
                <a:lnTo>
                  <a:pt x="113229" y="33238"/>
                </a:lnTo>
                <a:lnTo>
                  <a:pt x="119539" y="26520"/>
                </a:lnTo>
                <a:lnTo>
                  <a:pt x="122555" y="23395"/>
                </a:lnTo>
                <a:lnTo>
                  <a:pt x="125519" y="19407"/>
                </a:lnTo>
                <a:lnTo>
                  <a:pt x="128447" y="14842"/>
                </a:lnTo>
                <a:lnTo>
                  <a:pt x="131351" y="9895"/>
                </a:lnTo>
                <a:lnTo>
                  <a:pt x="135192" y="6596"/>
                </a:lnTo>
                <a:lnTo>
                  <a:pt x="139658" y="4398"/>
                </a:lnTo>
                <a:lnTo>
                  <a:pt x="149701" y="1954"/>
                </a:lnTo>
                <a:lnTo>
                  <a:pt x="165111" y="579"/>
                </a:lnTo>
                <a:lnTo>
                  <a:pt x="172760" y="257"/>
                </a:lnTo>
                <a:lnTo>
                  <a:pt x="181875" y="2654"/>
                </a:lnTo>
                <a:lnTo>
                  <a:pt x="191323" y="6894"/>
                </a:lnTo>
                <a:lnTo>
                  <a:pt x="198698" y="11954"/>
                </a:lnTo>
                <a:lnTo>
                  <a:pt x="201997" y="15589"/>
                </a:lnTo>
                <a:lnTo>
                  <a:pt x="205150" y="19918"/>
                </a:lnTo>
                <a:lnTo>
                  <a:pt x="208204" y="24708"/>
                </a:lnTo>
                <a:lnTo>
                  <a:pt x="211193" y="30760"/>
                </a:lnTo>
                <a:lnTo>
                  <a:pt x="214138" y="37651"/>
                </a:lnTo>
                <a:lnTo>
                  <a:pt x="217054" y="45103"/>
                </a:lnTo>
                <a:lnTo>
                  <a:pt x="219950" y="51976"/>
                </a:lnTo>
                <a:lnTo>
                  <a:pt x="225708" y="64693"/>
                </a:lnTo>
                <a:lnTo>
                  <a:pt x="234305" y="82562"/>
                </a:lnTo>
                <a:lnTo>
                  <a:pt x="236213" y="88379"/>
                </a:lnTo>
                <a:lnTo>
                  <a:pt x="237486" y="94161"/>
                </a:lnTo>
                <a:lnTo>
                  <a:pt x="238334" y="99922"/>
                </a:lnTo>
                <a:lnTo>
                  <a:pt x="238899" y="106619"/>
                </a:lnTo>
                <a:lnTo>
                  <a:pt x="239276" y="113942"/>
                </a:lnTo>
                <a:lnTo>
                  <a:pt x="239695" y="128746"/>
                </a:lnTo>
                <a:lnTo>
                  <a:pt x="239881" y="141675"/>
                </a:lnTo>
                <a:lnTo>
                  <a:pt x="240883" y="147790"/>
                </a:lnTo>
                <a:lnTo>
                  <a:pt x="242504" y="153771"/>
                </a:lnTo>
                <a:lnTo>
                  <a:pt x="244536" y="159664"/>
                </a:lnTo>
                <a:lnTo>
                  <a:pt x="245892" y="164545"/>
                </a:lnTo>
                <a:lnTo>
                  <a:pt x="246796" y="168751"/>
                </a:lnTo>
                <a:lnTo>
                  <a:pt x="247398" y="172508"/>
                </a:lnTo>
                <a:lnTo>
                  <a:pt x="248752" y="175966"/>
                </a:lnTo>
                <a:lnTo>
                  <a:pt x="252796" y="182346"/>
                </a:lnTo>
                <a:lnTo>
                  <a:pt x="257769" y="188358"/>
                </a:lnTo>
                <a:lnTo>
                  <a:pt x="263154" y="194204"/>
                </a:lnTo>
                <a:lnTo>
                  <a:pt x="268722" y="199978"/>
                </a:lnTo>
                <a:lnTo>
                  <a:pt x="272493" y="201898"/>
                </a:lnTo>
                <a:lnTo>
                  <a:pt x="285950" y="204602"/>
                </a:lnTo>
                <a:lnTo>
                  <a:pt x="293141" y="205234"/>
                </a:lnTo>
                <a:lnTo>
                  <a:pt x="296393" y="204450"/>
                </a:lnTo>
                <a:lnTo>
                  <a:pt x="306471" y="198796"/>
                </a:lnTo>
                <a:lnTo>
                  <a:pt x="315915" y="193764"/>
                </a:lnTo>
                <a:lnTo>
                  <a:pt x="331941" y="185575"/>
                </a:lnTo>
                <a:lnTo>
                  <a:pt x="337499" y="181819"/>
                </a:lnTo>
                <a:lnTo>
                  <a:pt x="343109" y="177410"/>
                </a:lnTo>
                <a:lnTo>
                  <a:pt x="348755" y="172566"/>
                </a:lnTo>
                <a:lnTo>
                  <a:pt x="354423" y="168384"/>
                </a:lnTo>
                <a:lnTo>
                  <a:pt x="360107" y="164643"/>
                </a:lnTo>
                <a:lnTo>
                  <a:pt x="365802" y="161197"/>
                </a:lnTo>
                <a:lnTo>
                  <a:pt x="371502" y="156994"/>
                </a:lnTo>
                <a:lnTo>
                  <a:pt x="377208" y="152288"/>
                </a:lnTo>
                <a:lnTo>
                  <a:pt x="382917" y="147245"/>
                </a:lnTo>
                <a:lnTo>
                  <a:pt x="394341" y="136562"/>
                </a:lnTo>
                <a:lnTo>
                  <a:pt x="400054" y="131046"/>
                </a:lnTo>
                <a:lnTo>
                  <a:pt x="404815" y="125464"/>
                </a:lnTo>
                <a:lnTo>
                  <a:pt x="408942" y="119838"/>
                </a:lnTo>
                <a:lnTo>
                  <a:pt x="412645" y="114182"/>
                </a:lnTo>
                <a:lnTo>
                  <a:pt x="415114" y="108506"/>
                </a:lnTo>
                <a:lnTo>
                  <a:pt x="416760" y="102817"/>
                </a:lnTo>
                <a:lnTo>
                  <a:pt x="417858" y="97120"/>
                </a:lnTo>
                <a:lnTo>
                  <a:pt x="419542" y="92369"/>
                </a:lnTo>
                <a:lnTo>
                  <a:pt x="421618" y="88249"/>
                </a:lnTo>
                <a:lnTo>
                  <a:pt x="423953" y="84550"/>
                </a:lnTo>
                <a:lnTo>
                  <a:pt x="426463" y="80179"/>
                </a:lnTo>
                <a:lnTo>
                  <a:pt x="431792" y="70242"/>
                </a:lnTo>
                <a:lnTo>
                  <a:pt x="432641" y="65878"/>
                </a:lnTo>
                <a:lnTo>
                  <a:pt x="432255" y="62016"/>
                </a:lnTo>
                <a:lnTo>
                  <a:pt x="431045" y="58489"/>
                </a:lnTo>
                <a:lnTo>
                  <a:pt x="430239" y="54233"/>
                </a:lnTo>
                <a:lnTo>
                  <a:pt x="429701" y="49490"/>
                </a:lnTo>
                <a:lnTo>
                  <a:pt x="429342" y="44423"/>
                </a:lnTo>
                <a:lnTo>
                  <a:pt x="428150" y="40093"/>
                </a:lnTo>
                <a:lnTo>
                  <a:pt x="426404" y="36254"/>
                </a:lnTo>
                <a:lnTo>
                  <a:pt x="424287" y="32741"/>
                </a:lnTo>
                <a:lnTo>
                  <a:pt x="421923" y="29447"/>
                </a:lnTo>
                <a:lnTo>
                  <a:pt x="416756" y="23247"/>
                </a:lnTo>
                <a:lnTo>
                  <a:pt x="414045" y="21213"/>
                </a:lnTo>
                <a:lnTo>
                  <a:pt x="408492" y="18953"/>
                </a:lnTo>
                <a:lnTo>
                  <a:pt x="400011" y="17680"/>
                </a:lnTo>
                <a:lnTo>
                  <a:pt x="391778" y="19923"/>
                </a:lnTo>
                <a:lnTo>
                  <a:pt x="382721" y="23142"/>
                </a:lnTo>
                <a:lnTo>
                  <a:pt x="371315" y="25907"/>
                </a:lnTo>
                <a:lnTo>
                  <a:pt x="361561" y="29929"/>
                </a:lnTo>
                <a:lnTo>
                  <a:pt x="357246" y="33287"/>
                </a:lnTo>
                <a:lnTo>
                  <a:pt x="353416" y="37432"/>
                </a:lnTo>
                <a:lnTo>
                  <a:pt x="349911" y="42099"/>
                </a:lnTo>
                <a:lnTo>
                  <a:pt x="347574" y="46164"/>
                </a:lnTo>
                <a:lnTo>
                  <a:pt x="346016" y="49826"/>
                </a:lnTo>
                <a:lnTo>
                  <a:pt x="344977" y="53220"/>
                </a:lnTo>
                <a:lnTo>
                  <a:pt x="343333" y="57387"/>
                </a:lnTo>
                <a:lnTo>
                  <a:pt x="341283" y="62070"/>
                </a:lnTo>
                <a:lnTo>
                  <a:pt x="336467" y="72354"/>
                </a:lnTo>
                <a:lnTo>
                  <a:pt x="331151" y="83275"/>
                </a:lnTo>
                <a:lnTo>
                  <a:pt x="329352" y="88854"/>
                </a:lnTo>
                <a:lnTo>
                  <a:pt x="328153" y="94478"/>
                </a:lnTo>
                <a:lnTo>
                  <a:pt x="327354" y="100133"/>
                </a:lnTo>
                <a:lnTo>
                  <a:pt x="327773" y="105808"/>
                </a:lnTo>
                <a:lnTo>
                  <a:pt x="329006" y="111496"/>
                </a:lnTo>
                <a:lnTo>
                  <a:pt x="330780" y="117193"/>
                </a:lnTo>
                <a:lnTo>
                  <a:pt x="332915" y="121943"/>
                </a:lnTo>
                <a:lnTo>
                  <a:pt x="335291" y="126063"/>
                </a:lnTo>
                <a:lnTo>
                  <a:pt x="337827" y="129762"/>
                </a:lnTo>
                <a:lnTo>
                  <a:pt x="341423" y="134133"/>
                </a:lnTo>
                <a:lnTo>
                  <a:pt x="345725" y="138952"/>
                </a:lnTo>
                <a:lnTo>
                  <a:pt x="354633" y="148434"/>
                </a:lnTo>
                <a:lnTo>
                  <a:pt x="361767" y="155823"/>
                </a:lnTo>
                <a:lnTo>
                  <a:pt x="365956" y="159126"/>
                </a:lnTo>
                <a:lnTo>
                  <a:pt x="375690" y="165338"/>
                </a:lnTo>
                <a:lnTo>
                  <a:pt x="383826" y="171273"/>
                </a:lnTo>
                <a:lnTo>
                  <a:pt x="391569" y="177086"/>
                </a:lnTo>
                <a:lnTo>
                  <a:pt x="401361" y="182845"/>
                </a:lnTo>
                <a:lnTo>
                  <a:pt x="409523" y="186039"/>
                </a:lnTo>
                <a:lnTo>
                  <a:pt x="417278" y="187459"/>
                </a:lnTo>
                <a:lnTo>
                  <a:pt x="432354" y="188258"/>
                </a:lnTo>
                <a:lnTo>
                  <a:pt x="443300" y="188445"/>
                </a:lnTo>
                <a:lnTo>
                  <a:pt x="454515" y="185988"/>
                </a:lnTo>
                <a:lnTo>
                  <a:pt x="465849" y="182674"/>
                </a:lnTo>
                <a:lnTo>
                  <a:pt x="477237" y="181201"/>
                </a:lnTo>
                <a:lnTo>
                  <a:pt x="482941" y="178903"/>
                </a:lnTo>
                <a:lnTo>
                  <a:pt x="488648" y="175466"/>
                </a:lnTo>
                <a:lnTo>
                  <a:pt x="494358" y="171270"/>
                </a:lnTo>
                <a:lnTo>
                  <a:pt x="501022" y="167520"/>
                </a:lnTo>
                <a:lnTo>
                  <a:pt x="508322" y="164067"/>
                </a:lnTo>
                <a:lnTo>
                  <a:pt x="523101" y="157691"/>
                </a:lnTo>
                <a:lnTo>
                  <a:pt x="536019" y="151682"/>
                </a:lnTo>
                <a:lnTo>
                  <a:pt x="545571" y="145836"/>
                </a:lnTo>
                <a:lnTo>
                  <a:pt x="557212" y="1371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MARTPenAnnotation514"/>
          <p:cNvSpPr/>
          <p:nvPr/>
        </p:nvSpPr>
        <p:spPr>
          <a:xfrm>
            <a:off x="5661000" y="2932200"/>
            <a:ext cx="419040" cy="204840"/>
          </a:xfrm>
          <a:custGeom>
            <a:avLst/>
            <a:gdLst>
              <a:gd name="textAreaLeft" fmla="*/ 0 w 419040"/>
              <a:gd name="textAreaRight" fmla="*/ 419400 w 4190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420053" h="205613">
                <a:moveTo>
                  <a:pt x="0" y="8572"/>
                </a:moveTo>
                <a:lnTo>
                  <a:pt x="0" y="16792"/>
                </a:lnTo>
                <a:lnTo>
                  <a:pt x="2540" y="22068"/>
                </a:lnTo>
                <a:lnTo>
                  <a:pt x="4551" y="26142"/>
                </a:lnTo>
                <a:lnTo>
                  <a:pt x="6844" y="29810"/>
                </a:lnTo>
                <a:lnTo>
                  <a:pt x="9325" y="33208"/>
                </a:lnTo>
                <a:lnTo>
                  <a:pt x="11932" y="36426"/>
                </a:lnTo>
                <a:lnTo>
                  <a:pt x="14622" y="40476"/>
                </a:lnTo>
                <a:lnTo>
                  <a:pt x="17368" y="45082"/>
                </a:lnTo>
                <a:lnTo>
                  <a:pt x="20152" y="50057"/>
                </a:lnTo>
                <a:lnTo>
                  <a:pt x="25784" y="60665"/>
                </a:lnTo>
                <a:lnTo>
                  <a:pt x="37160" y="82997"/>
                </a:lnTo>
                <a:lnTo>
                  <a:pt x="40966" y="88669"/>
                </a:lnTo>
                <a:lnTo>
                  <a:pt x="45409" y="94355"/>
                </a:lnTo>
                <a:lnTo>
                  <a:pt x="50275" y="100050"/>
                </a:lnTo>
                <a:lnTo>
                  <a:pt x="54472" y="106705"/>
                </a:lnTo>
                <a:lnTo>
                  <a:pt x="58222" y="113999"/>
                </a:lnTo>
                <a:lnTo>
                  <a:pt x="64929" y="128771"/>
                </a:lnTo>
                <a:lnTo>
                  <a:pt x="74060" y="147798"/>
                </a:lnTo>
                <a:lnTo>
                  <a:pt x="79906" y="159668"/>
                </a:lnTo>
                <a:lnTo>
                  <a:pt x="83750" y="164547"/>
                </a:lnTo>
                <a:lnTo>
                  <a:pt x="88219" y="168753"/>
                </a:lnTo>
                <a:lnTo>
                  <a:pt x="93103" y="172510"/>
                </a:lnTo>
                <a:lnTo>
                  <a:pt x="96359" y="176919"/>
                </a:lnTo>
                <a:lnTo>
                  <a:pt x="98529" y="181763"/>
                </a:lnTo>
                <a:lnTo>
                  <a:pt x="99976" y="186898"/>
                </a:lnTo>
                <a:lnTo>
                  <a:pt x="101893" y="190321"/>
                </a:lnTo>
                <a:lnTo>
                  <a:pt x="104124" y="192603"/>
                </a:lnTo>
                <a:lnTo>
                  <a:pt x="111814" y="198355"/>
                </a:lnTo>
                <a:lnTo>
                  <a:pt x="119535" y="205307"/>
                </a:lnTo>
                <a:lnTo>
                  <a:pt x="124423" y="205612"/>
                </a:lnTo>
                <a:lnTo>
                  <a:pt x="125812" y="204702"/>
                </a:lnTo>
                <a:lnTo>
                  <a:pt x="126737" y="203143"/>
                </a:lnTo>
                <a:lnTo>
                  <a:pt x="127765" y="198870"/>
                </a:lnTo>
                <a:lnTo>
                  <a:pt x="128222" y="193797"/>
                </a:lnTo>
                <a:lnTo>
                  <a:pt x="129296" y="190158"/>
                </a:lnTo>
                <a:lnTo>
                  <a:pt x="130965" y="185827"/>
                </a:lnTo>
                <a:lnTo>
                  <a:pt x="133030" y="181034"/>
                </a:lnTo>
                <a:lnTo>
                  <a:pt x="134407" y="174982"/>
                </a:lnTo>
                <a:lnTo>
                  <a:pt x="135324" y="168089"/>
                </a:lnTo>
                <a:lnTo>
                  <a:pt x="135936" y="160637"/>
                </a:lnTo>
                <a:lnTo>
                  <a:pt x="136344" y="153764"/>
                </a:lnTo>
                <a:lnTo>
                  <a:pt x="136798" y="141047"/>
                </a:lnTo>
                <a:lnTo>
                  <a:pt x="137871" y="134988"/>
                </a:lnTo>
                <a:lnTo>
                  <a:pt x="139539" y="129045"/>
                </a:lnTo>
                <a:lnTo>
                  <a:pt x="141604" y="123177"/>
                </a:lnTo>
                <a:lnTo>
                  <a:pt x="142980" y="117360"/>
                </a:lnTo>
                <a:lnTo>
                  <a:pt x="143897" y="111578"/>
                </a:lnTo>
                <a:lnTo>
                  <a:pt x="144509" y="105817"/>
                </a:lnTo>
                <a:lnTo>
                  <a:pt x="145869" y="100072"/>
                </a:lnTo>
                <a:lnTo>
                  <a:pt x="147729" y="94337"/>
                </a:lnTo>
                <a:lnTo>
                  <a:pt x="149921" y="88609"/>
                </a:lnTo>
                <a:lnTo>
                  <a:pt x="151382" y="82885"/>
                </a:lnTo>
                <a:lnTo>
                  <a:pt x="152357" y="77164"/>
                </a:lnTo>
                <a:lnTo>
                  <a:pt x="153006" y="71445"/>
                </a:lnTo>
                <a:lnTo>
                  <a:pt x="153439" y="66680"/>
                </a:lnTo>
                <a:lnTo>
                  <a:pt x="153728" y="62551"/>
                </a:lnTo>
                <a:lnTo>
                  <a:pt x="153921" y="58845"/>
                </a:lnTo>
                <a:lnTo>
                  <a:pt x="154134" y="52188"/>
                </a:lnTo>
                <a:lnTo>
                  <a:pt x="154272" y="44704"/>
                </a:lnTo>
                <a:lnTo>
                  <a:pt x="155235" y="44090"/>
                </a:lnTo>
                <a:lnTo>
                  <a:pt x="161683" y="43024"/>
                </a:lnTo>
                <a:lnTo>
                  <a:pt x="164887" y="45474"/>
                </a:lnTo>
                <a:lnTo>
                  <a:pt x="169485" y="49738"/>
                </a:lnTo>
                <a:lnTo>
                  <a:pt x="174705" y="54808"/>
                </a:lnTo>
                <a:lnTo>
                  <a:pt x="177430" y="58446"/>
                </a:lnTo>
                <a:lnTo>
                  <a:pt x="180199" y="62777"/>
                </a:lnTo>
                <a:lnTo>
                  <a:pt x="182997" y="67569"/>
                </a:lnTo>
                <a:lnTo>
                  <a:pt x="185815" y="71716"/>
                </a:lnTo>
                <a:lnTo>
                  <a:pt x="188647" y="75433"/>
                </a:lnTo>
                <a:lnTo>
                  <a:pt x="191487" y="78863"/>
                </a:lnTo>
                <a:lnTo>
                  <a:pt x="194333" y="83055"/>
                </a:lnTo>
                <a:lnTo>
                  <a:pt x="197183" y="87755"/>
                </a:lnTo>
                <a:lnTo>
                  <a:pt x="200035" y="92793"/>
                </a:lnTo>
                <a:lnTo>
                  <a:pt x="205745" y="103471"/>
                </a:lnTo>
                <a:lnTo>
                  <a:pt x="208601" y="108986"/>
                </a:lnTo>
                <a:lnTo>
                  <a:pt x="212410" y="114567"/>
                </a:lnTo>
                <a:lnTo>
                  <a:pt x="216854" y="120193"/>
                </a:lnTo>
                <a:lnTo>
                  <a:pt x="221722" y="125848"/>
                </a:lnTo>
                <a:lnTo>
                  <a:pt x="225920" y="131524"/>
                </a:lnTo>
                <a:lnTo>
                  <a:pt x="229671" y="137212"/>
                </a:lnTo>
                <a:lnTo>
                  <a:pt x="233124" y="142910"/>
                </a:lnTo>
                <a:lnTo>
                  <a:pt x="237331" y="148613"/>
                </a:lnTo>
                <a:lnTo>
                  <a:pt x="242041" y="154320"/>
                </a:lnTo>
                <a:lnTo>
                  <a:pt x="251401" y="164789"/>
                </a:lnTo>
                <a:lnTo>
                  <a:pt x="258736" y="172617"/>
                </a:lnTo>
                <a:lnTo>
                  <a:pt x="262979" y="176038"/>
                </a:lnTo>
                <a:lnTo>
                  <a:pt x="272772" y="182379"/>
                </a:lnTo>
                <a:lnTo>
                  <a:pt x="283474" y="185832"/>
                </a:lnTo>
                <a:lnTo>
                  <a:pt x="294581" y="187367"/>
                </a:lnTo>
                <a:lnTo>
                  <a:pt x="305868" y="188049"/>
                </a:lnTo>
                <a:lnTo>
                  <a:pt x="318381" y="188433"/>
                </a:lnTo>
                <a:lnTo>
                  <a:pt x="321792" y="187534"/>
                </a:lnTo>
                <a:lnTo>
                  <a:pt x="328121" y="183996"/>
                </a:lnTo>
                <a:lnTo>
                  <a:pt x="334109" y="179248"/>
                </a:lnTo>
                <a:lnTo>
                  <a:pt x="337039" y="176648"/>
                </a:lnTo>
                <a:lnTo>
                  <a:pt x="339945" y="173011"/>
                </a:lnTo>
                <a:lnTo>
                  <a:pt x="342835" y="168680"/>
                </a:lnTo>
                <a:lnTo>
                  <a:pt x="345714" y="163888"/>
                </a:lnTo>
                <a:lnTo>
                  <a:pt x="348587" y="158789"/>
                </a:lnTo>
                <a:lnTo>
                  <a:pt x="354317" y="148043"/>
                </a:lnTo>
                <a:lnTo>
                  <a:pt x="362898" y="131282"/>
                </a:lnTo>
                <a:lnTo>
                  <a:pt x="365758" y="124669"/>
                </a:lnTo>
                <a:lnTo>
                  <a:pt x="368616" y="117403"/>
                </a:lnTo>
                <a:lnTo>
                  <a:pt x="371474" y="109701"/>
                </a:lnTo>
                <a:lnTo>
                  <a:pt x="374332" y="102661"/>
                </a:lnTo>
                <a:lnTo>
                  <a:pt x="377189" y="96063"/>
                </a:lnTo>
                <a:lnTo>
                  <a:pt x="382905" y="83652"/>
                </a:lnTo>
                <a:lnTo>
                  <a:pt x="388620" y="71786"/>
                </a:lnTo>
                <a:lnTo>
                  <a:pt x="390525" y="65954"/>
                </a:lnTo>
                <a:lnTo>
                  <a:pt x="391795" y="60162"/>
                </a:lnTo>
                <a:lnTo>
                  <a:pt x="392642" y="54395"/>
                </a:lnTo>
                <a:lnTo>
                  <a:pt x="394159" y="49598"/>
                </a:lnTo>
                <a:lnTo>
                  <a:pt x="396122" y="45448"/>
                </a:lnTo>
                <a:lnTo>
                  <a:pt x="398384" y="41728"/>
                </a:lnTo>
                <a:lnTo>
                  <a:pt x="399892" y="37344"/>
                </a:lnTo>
                <a:lnTo>
                  <a:pt x="400897" y="32516"/>
                </a:lnTo>
                <a:lnTo>
                  <a:pt x="401567" y="27392"/>
                </a:lnTo>
                <a:lnTo>
                  <a:pt x="402967" y="23024"/>
                </a:lnTo>
                <a:lnTo>
                  <a:pt x="404852" y="19159"/>
                </a:lnTo>
                <a:lnTo>
                  <a:pt x="407061" y="15630"/>
                </a:lnTo>
                <a:lnTo>
                  <a:pt x="408534" y="12325"/>
                </a:lnTo>
                <a:lnTo>
                  <a:pt x="410171" y="6113"/>
                </a:lnTo>
                <a:lnTo>
                  <a:pt x="411560" y="4075"/>
                </a:lnTo>
                <a:lnTo>
                  <a:pt x="413438" y="2716"/>
                </a:lnTo>
                <a:lnTo>
                  <a:pt x="4200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MARTPenAnnotation515"/>
          <p:cNvSpPr/>
          <p:nvPr/>
        </p:nvSpPr>
        <p:spPr>
          <a:xfrm>
            <a:off x="6157800" y="2917800"/>
            <a:ext cx="917640" cy="485640"/>
          </a:xfrm>
          <a:custGeom>
            <a:avLst/>
            <a:gdLst>
              <a:gd name="textAreaLeft" fmla="*/ 0 w 917640"/>
              <a:gd name="textAreaRight" fmla="*/ 918000 w 91764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917096" h="484817">
                <a:moveTo>
                  <a:pt x="162716" y="13491"/>
                </a:moveTo>
                <a:lnTo>
                  <a:pt x="162716" y="6110"/>
                </a:lnTo>
                <a:lnTo>
                  <a:pt x="161763" y="5713"/>
                </a:lnTo>
                <a:lnTo>
                  <a:pt x="155334" y="5023"/>
                </a:lnTo>
                <a:lnTo>
                  <a:pt x="149945" y="398"/>
                </a:lnTo>
                <a:lnTo>
                  <a:pt x="147535" y="0"/>
                </a:lnTo>
                <a:lnTo>
                  <a:pt x="144975" y="687"/>
                </a:lnTo>
                <a:lnTo>
                  <a:pt x="139591" y="3990"/>
                </a:lnTo>
                <a:lnTo>
                  <a:pt x="125833" y="13872"/>
                </a:lnTo>
                <a:lnTo>
                  <a:pt x="107973" y="22176"/>
                </a:lnTo>
                <a:lnTo>
                  <a:pt x="93618" y="28781"/>
                </a:lnTo>
                <a:lnTo>
                  <a:pt x="80888" y="38066"/>
                </a:lnTo>
                <a:lnTo>
                  <a:pt x="68881" y="51083"/>
                </a:lnTo>
                <a:lnTo>
                  <a:pt x="57193" y="65441"/>
                </a:lnTo>
                <a:lnTo>
                  <a:pt x="45650" y="78172"/>
                </a:lnTo>
                <a:lnTo>
                  <a:pt x="34169" y="92720"/>
                </a:lnTo>
                <a:lnTo>
                  <a:pt x="23669" y="107759"/>
                </a:lnTo>
                <a:lnTo>
                  <a:pt x="15827" y="120793"/>
                </a:lnTo>
                <a:lnTo>
                  <a:pt x="9167" y="135476"/>
                </a:lnTo>
                <a:lnTo>
                  <a:pt x="3984" y="150574"/>
                </a:lnTo>
                <a:lnTo>
                  <a:pt x="1681" y="163634"/>
                </a:lnTo>
                <a:lnTo>
                  <a:pt x="657" y="175788"/>
                </a:lnTo>
                <a:lnTo>
                  <a:pt x="81" y="190801"/>
                </a:lnTo>
                <a:lnTo>
                  <a:pt x="0" y="194563"/>
                </a:lnTo>
                <a:lnTo>
                  <a:pt x="898" y="198023"/>
                </a:lnTo>
                <a:lnTo>
                  <a:pt x="4437" y="204407"/>
                </a:lnTo>
                <a:lnTo>
                  <a:pt x="11784" y="213357"/>
                </a:lnTo>
                <a:lnTo>
                  <a:pt x="15422" y="215315"/>
                </a:lnTo>
                <a:lnTo>
                  <a:pt x="24544" y="217490"/>
                </a:lnTo>
                <a:lnTo>
                  <a:pt x="49769" y="219078"/>
                </a:lnTo>
                <a:lnTo>
                  <a:pt x="55033" y="217224"/>
                </a:lnTo>
                <a:lnTo>
                  <a:pt x="82824" y="199905"/>
                </a:lnTo>
                <a:lnTo>
                  <a:pt x="99886" y="186305"/>
                </a:lnTo>
                <a:lnTo>
                  <a:pt x="111296" y="175705"/>
                </a:lnTo>
                <a:lnTo>
                  <a:pt x="134144" y="153377"/>
                </a:lnTo>
                <a:lnTo>
                  <a:pt x="143032" y="142020"/>
                </a:lnTo>
                <a:lnTo>
                  <a:pt x="150158" y="129670"/>
                </a:lnTo>
                <a:lnTo>
                  <a:pt x="156499" y="114656"/>
                </a:lnTo>
                <a:lnTo>
                  <a:pt x="159953" y="100998"/>
                </a:lnTo>
                <a:lnTo>
                  <a:pt x="161487" y="89530"/>
                </a:lnTo>
                <a:lnTo>
                  <a:pt x="162170" y="81259"/>
                </a:lnTo>
                <a:lnTo>
                  <a:pt x="159933" y="71867"/>
                </a:lnTo>
                <a:lnTo>
                  <a:pt x="155859" y="58410"/>
                </a:lnTo>
                <a:lnTo>
                  <a:pt x="155287" y="54867"/>
                </a:lnTo>
                <a:lnTo>
                  <a:pt x="152111" y="48390"/>
                </a:lnTo>
                <a:lnTo>
                  <a:pt x="145684" y="39367"/>
                </a:lnTo>
                <a:lnTo>
                  <a:pt x="145577" y="53839"/>
                </a:lnTo>
                <a:lnTo>
                  <a:pt x="145574" y="59363"/>
                </a:lnTo>
                <a:lnTo>
                  <a:pt x="151462" y="77515"/>
                </a:lnTo>
                <a:lnTo>
                  <a:pt x="152952" y="88301"/>
                </a:lnTo>
                <a:lnTo>
                  <a:pt x="156154" y="99444"/>
                </a:lnTo>
                <a:lnTo>
                  <a:pt x="160752" y="110747"/>
                </a:lnTo>
                <a:lnTo>
                  <a:pt x="165970" y="122121"/>
                </a:lnTo>
                <a:lnTo>
                  <a:pt x="168925" y="133526"/>
                </a:lnTo>
                <a:lnTo>
                  <a:pt x="171190" y="144945"/>
                </a:lnTo>
                <a:lnTo>
                  <a:pt x="175372" y="156370"/>
                </a:lnTo>
                <a:lnTo>
                  <a:pt x="178773" y="161131"/>
                </a:lnTo>
                <a:lnTo>
                  <a:pt x="195380" y="175616"/>
                </a:lnTo>
                <a:lnTo>
                  <a:pt x="211079" y="190557"/>
                </a:lnTo>
                <a:lnTo>
                  <a:pt x="225553" y="204930"/>
                </a:lnTo>
                <a:lnTo>
                  <a:pt x="228419" y="206839"/>
                </a:lnTo>
                <a:lnTo>
                  <a:pt x="234145" y="208961"/>
                </a:lnTo>
                <a:lnTo>
                  <a:pt x="237005" y="208574"/>
                </a:lnTo>
                <a:lnTo>
                  <a:pt x="239864" y="207364"/>
                </a:lnTo>
                <a:lnTo>
                  <a:pt x="248439" y="201110"/>
                </a:lnTo>
                <a:lnTo>
                  <a:pt x="251297" y="198577"/>
                </a:lnTo>
                <a:lnTo>
                  <a:pt x="259870" y="185912"/>
                </a:lnTo>
                <a:lnTo>
                  <a:pt x="268126" y="175530"/>
                </a:lnTo>
                <a:lnTo>
                  <a:pt x="277192" y="164565"/>
                </a:lnTo>
                <a:lnTo>
                  <a:pt x="284397" y="153343"/>
                </a:lnTo>
                <a:lnTo>
                  <a:pt x="290773" y="142005"/>
                </a:lnTo>
                <a:lnTo>
                  <a:pt x="293807" y="136314"/>
                </a:lnTo>
                <a:lnTo>
                  <a:pt x="297179" y="122371"/>
                </a:lnTo>
                <a:lnTo>
                  <a:pt x="298078" y="114653"/>
                </a:lnTo>
                <a:lnTo>
                  <a:pt x="298677" y="106649"/>
                </a:lnTo>
                <a:lnTo>
                  <a:pt x="299077" y="98457"/>
                </a:lnTo>
                <a:lnTo>
                  <a:pt x="299343" y="90137"/>
                </a:lnTo>
                <a:lnTo>
                  <a:pt x="302179" y="75813"/>
                </a:lnTo>
                <a:lnTo>
                  <a:pt x="305662" y="63097"/>
                </a:lnTo>
                <a:lnTo>
                  <a:pt x="307210" y="51095"/>
                </a:lnTo>
                <a:lnTo>
                  <a:pt x="308081" y="38179"/>
                </a:lnTo>
                <a:lnTo>
                  <a:pt x="308439" y="30832"/>
                </a:lnTo>
                <a:lnTo>
                  <a:pt x="308448" y="95329"/>
                </a:lnTo>
                <a:lnTo>
                  <a:pt x="310988" y="109871"/>
                </a:lnTo>
                <a:lnTo>
                  <a:pt x="312999" y="117749"/>
                </a:lnTo>
                <a:lnTo>
                  <a:pt x="314339" y="125859"/>
                </a:lnTo>
                <a:lnTo>
                  <a:pt x="315233" y="134123"/>
                </a:lnTo>
                <a:lnTo>
                  <a:pt x="315829" y="142489"/>
                </a:lnTo>
                <a:lnTo>
                  <a:pt x="318131" y="149972"/>
                </a:lnTo>
                <a:lnTo>
                  <a:pt x="325769" y="163367"/>
                </a:lnTo>
                <a:lnTo>
                  <a:pt x="336229" y="177067"/>
                </a:lnTo>
                <a:lnTo>
                  <a:pt x="345360" y="187158"/>
                </a:lnTo>
                <a:lnTo>
                  <a:pt x="358649" y="196181"/>
                </a:lnTo>
                <a:lnTo>
                  <a:pt x="369177" y="199461"/>
                </a:lnTo>
                <a:lnTo>
                  <a:pt x="396024" y="201855"/>
                </a:lnTo>
                <a:lnTo>
                  <a:pt x="401122" y="201932"/>
                </a:lnTo>
                <a:lnTo>
                  <a:pt x="411866" y="199477"/>
                </a:lnTo>
                <a:lnTo>
                  <a:pt x="417399" y="197489"/>
                </a:lnTo>
                <a:lnTo>
                  <a:pt x="428626" y="190200"/>
                </a:lnTo>
                <a:lnTo>
                  <a:pt x="445657" y="177926"/>
                </a:lnTo>
                <a:lnTo>
                  <a:pt x="451355" y="174550"/>
                </a:lnTo>
                <a:lnTo>
                  <a:pt x="460228" y="165717"/>
                </a:lnTo>
                <a:lnTo>
                  <a:pt x="468298" y="155442"/>
                </a:lnTo>
                <a:lnTo>
                  <a:pt x="478235" y="144525"/>
                </a:lnTo>
                <a:lnTo>
                  <a:pt x="481647" y="137994"/>
                </a:lnTo>
                <a:lnTo>
                  <a:pt x="485438" y="123118"/>
                </a:lnTo>
                <a:lnTo>
                  <a:pt x="489663" y="109522"/>
                </a:lnTo>
                <a:lnTo>
                  <a:pt x="493763" y="96176"/>
                </a:lnTo>
                <a:lnTo>
                  <a:pt x="494857" y="88617"/>
                </a:lnTo>
                <a:lnTo>
                  <a:pt x="496071" y="73550"/>
                </a:lnTo>
                <a:lnTo>
                  <a:pt x="496612" y="60504"/>
                </a:lnTo>
                <a:lnTo>
                  <a:pt x="496915" y="47000"/>
                </a:lnTo>
                <a:lnTo>
                  <a:pt x="497005" y="32415"/>
                </a:lnTo>
                <a:lnTo>
                  <a:pt x="496065" y="28012"/>
                </a:lnTo>
                <a:lnTo>
                  <a:pt x="490253" y="14101"/>
                </a:lnTo>
                <a:lnTo>
                  <a:pt x="488501" y="5077"/>
                </a:lnTo>
                <a:lnTo>
                  <a:pt x="488480" y="9516"/>
                </a:lnTo>
                <a:lnTo>
                  <a:pt x="489429" y="11793"/>
                </a:lnTo>
                <a:lnTo>
                  <a:pt x="497797" y="24832"/>
                </a:lnTo>
                <a:lnTo>
                  <a:pt x="502141" y="33772"/>
                </a:lnTo>
                <a:lnTo>
                  <a:pt x="505539" y="45111"/>
                </a:lnTo>
                <a:lnTo>
                  <a:pt x="509709" y="54849"/>
                </a:lnTo>
                <a:lnTo>
                  <a:pt x="514738" y="68067"/>
                </a:lnTo>
                <a:lnTo>
                  <a:pt x="517412" y="75593"/>
                </a:lnTo>
                <a:lnTo>
                  <a:pt x="521100" y="83467"/>
                </a:lnTo>
                <a:lnTo>
                  <a:pt x="525463" y="91574"/>
                </a:lnTo>
                <a:lnTo>
                  <a:pt x="530277" y="99836"/>
                </a:lnTo>
                <a:lnTo>
                  <a:pt x="534439" y="108202"/>
                </a:lnTo>
                <a:lnTo>
                  <a:pt x="538166" y="116636"/>
                </a:lnTo>
                <a:lnTo>
                  <a:pt x="541604" y="125117"/>
                </a:lnTo>
                <a:lnTo>
                  <a:pt x="547963" y="142160"/>
                </a:lnTo>
                <a:lnTo>
                  <a:pt x="559806" y="176384"/>
                </a:lnTo>
                <a:lnTo>
                  <a:pt x="562697" y="185904"/>
                </a:lnTo>
                <a:lnTo>
                  <a:pt x="568451" y="206641"/>
                </a:lnTo>
                <a:lnTo>
                  <a:pt x="585623" y="273672"/>
                </a:lnTo>
                <a:lnTo>
                  <a:pt x="587528" y="284100"/>
                </a:lnTo>
                <a:lnTo>
                  <a:pt x="588800" y="293910"/>
                </a:lnTo>
                <a:lnTo>
                  <a:pt x="589646" y="303306"/>
                </a:lnTo>
                <a:lnTo>
                  <a:pt x="591164" y="312429"/>
                </a:lnTo>
                <a:lnTo>
                  <a:pt x="593128" y="321368"/>
                </a:lnTo>
                <a:lnTo>
                  <a:pt x="595389" y="330184"/>
                </a:lnTo>
                <a:lnTo>
                  <a:pt x="596897" y="338920"/>
                </a:lnTo>
                <a:lnTo>
                  <a:pt x="597903" y="347601"/>
                </a:lnTo>
                <a:lnTo>
                  <a:pt x="598573" y="356246"/>
                </a:lnTo>
                <a:lnTo>
                  <a:pt x="599019" y="364866"/>
                </a:lnTo>
                <a:lnTo>
                  <a:pt x="599516" y="382065"/>
                </a:lnTo>
                <a:lnTo>
                  <a:pt x="597196" y="396694"/>
                </a:lnTo>
                <a:lnTo>
                  <a:pt x="593943" y="409545"/>
                </a:lnTo>
                <a:lnTo>
                  <a:pt x="592497" y="421608"/>
                </a:lnTo>
                <a:lnTo>
                  <a:pt x="589314" y="433318"/>
                </a:lnTo>
                <a:lnTo>
                  <a:pt x="584726" y="444873"/>
                </a:lnTo>
                <a:lnTo>
                  <a:pt x="579510" y="456359"/>
                </a:lnTo>
                <a:lnTo>
                  <a:pt x="575834" y="461136"/>
                </a:lnTo>
                <a:lnTo>
                  <a:pt x="558785" y="475647"/>
                </a:lnTo>
                <a:lnTo>
                  <a:pt x="555350" y="478758"/>
                </a:lnTo>
                <a:lnTo>
                  <a:pt x="551154" y="480831"/>
                </a:lnTo>
                <a:lnTo>
                  <a:pt x="537100" y="483749"/>
                </a:lnTo>
                <a:lnTo>
                  <a:pt x="515736" y="484816"/>
                </a:lnTo>
                <a:lnTo>
                  <a:pt x="505034" y="482366"/>
                </a:lnTo>
                <a:lnTo>
                  <a:pt x="482641" y="473032"/>
                </a:lnTo>
                <a:lnTo>
                  <a:pt x="470127" y="464823"/>
                </a:lnTo>
                <a:lnTo>
                  <a:pt x="460387" y="456358"/>
                </a:lnTo>
                <a:lnTo>
                  <a:pt x="451469" y="443266"/>
                </a:lnTo>
                <a:lnTo>
                  <a:pt x="448213" y="432785"/>
                </a:lnTo>
                <a:lnTo>
                  <a:pt x="446766" y="421776"/>
                </a:lnTo>
                <a:lnTo>
                  <a:pt x="446123" y="410533"/>
                </a:lnTo>
                <a:lnTo>
                  <a:pt x="445836" y="396647"/>
                </a:lnTo>
                <a:lnTo>
                  <a:pt x="445761" y="388943"/>
                </a:lnTo>
                <a:lnTo>
                  <a:pt x="447615" y="381902"/>
                </a:lnTo>
                <a:lnTo>
                  <a:pt x="454755" y="368999"/>
                </a:lnTo>
                <a:lnTo>
                  <a:pt x="469485" y="346474"/>
                </a:lnTo>
                <a:lnTo>
                  <a:pt x="475814" y="338349"/>
                </a:lnTo>
                <a:lnTo>
                  <a:pt x="482891" y="330076"/>
                </a:lnTo>
                <a:lnTo>
                  <a:pt x="490465" y="321702"/>
                </a:lnTo>
                <a:lnTo>
                  <a:pt x="498373" y="312310"/>
                </a:lnTo>
                <a:lnTo>
                  <a:pt x="514779" y="291714"/>
                </a:lnTo>
                <a:lnTo>
                  <a:pt x="523154" y="281840"/>
                </a:lnTo>
                <a:lnTo>
                  <a:pt x="531595" y="272401"/>
                </a:lnTo>
                <a:lnTo>
                  <a:pt x="540081" y="263250"/>
                </a:lnTo>
                <a:lnTo>
                  <a:pt x="550500" y="254292"/>
                </a:lnTo>
                <a:lnTo>
                  <a:pt x="562208" y="245462"/>
                </a:lnTo>
                <a:lnTo>
                  <a:pt x="574777" y="236718"/>
                </a:lnTo>
                <a:lnTo>
                  <a:pt x="587918" y="228032"/>
                </a:lnTo>
                <a:lnTo>
                  <a:pt x="615219" y="210760"/>
                </a:lnTo>
                <a:lnTo>
                  <a:pt x="629168" y="201201"/>
                </a:lnTo>
                <a:lnTo>
                  <a:pt x="643229" y="191018"/>
                </a:lnTo>
                <a:lnTo>
                  <a:pt x="657365" y="180420"/>
                </a:lnTo>
                <a:lnTo>
                  <a:pt x="671552" y="171449"/>
                </a:lnTo>
                <a:lnTo>
                  <a:pt x="700015" y="156402"/>
                </a:lnTo>
                <a:lnTo>
                  <a:pt x="728540" y="143364"/>
                </a:lnTo>
                <a:lnTo>
                  <a:pt x="756141" y="131220"/>
                </a:lnTo>
                <a:lnTo>
                  <a:pt x="781107" y="119472"/>
                </a:lnTo>
                <a:lnTo>
                  <a:pt x="816583" y="102149"/>
                </a:lnTo>
                <a:lnTo>
                  <a:pt x="837181" y="93217"/>
                </a:lnTo>
                <a:lnTo>
                  <a:pt x="864843" y="82833"/>
                </a:lnTo>
                <a:lnTo>
                  <a:pt x="890687" y="75342"/>
                </a:lnTo>
                <a:lnTo>
                  <a:pt x="898374" y="71778"/>
                </a:lnTo>
                <a:lnTo>
                  <a:pt x="901757" y="69494"/>
                </a:lnTo>
                <a:lnTo>
                  <a:pt x="908055" y="66956"/>
                </a:lnTo>
                <a:lnTo>
                  <a:pt x="917095" y="649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 basic concepts about quadratic equa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factoring, complete the square, and the quadratic formula to solve quadratic equa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 the discrimin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ve problems involving the quadratic equa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ge 184-189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-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dratic, a=3, f(-2)=1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Neit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Neit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)Lin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) Quadratic, a=1/5, f(-2)=4/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) quadratic, a= -3, f(-2)= -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) quadratic, a= 5, f(-2) ≈ 22.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ge 184-189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7-2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) Vertex (1, 2); a= -3, f(x)=-3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6x-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) Vertex (-2, -5), a=5, f(x)=5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20x+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) Vertex (4, 5), a= -2, f(x)=-2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6x-2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) Vertex (-3, -5), a= ½, f(x)=1/2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3x-1/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) Vertex (-5, -7/4), a=3/4, f(x)=3/4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5/2x+1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) Vertex (4, 0), a= -5, f(x)=-5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40x-8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ge 184-189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-3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) (0, 6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6) (1/2, ½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) (3, -9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) (1, 7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) (1, -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) (1/6, -23/1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) (0, 10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) (0, -1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3) (1/3, -35/1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) (-1/8, 81/8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) (1.9, -5.6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1126"/>
          <p:cNvSpPr/>
          <p:nvPr/>
        </p:nvSpPr>
        <p:spPr>
          <a:xfrm>
            <a:off x="2308320" y="1525680"/>
            <a:ext cx="112680" cy="1928880"/>
          </a:xfrm>
          <a:custGeom>
            <a:avLst/>
            <a:gdLst>
              <a:gd name="textAreaLeft" fmla="*/ 0 w 112680"/>
              <a:gd name="textAreaRight" fmla="*/ 113040 w 112680"/>
              <a:gd name="textAreaTop" fmla="*/ 0 h 1928880"/>
              <a:gd name="textAreaBottom" fmla="*/ 1929240 h 1928880"/>
            </a:gdLst>
            <a:ahLst/>
            <a:rect l="textAreaLeft" t="textAreaTop" r="textAreaRight" b="textAreaBottom"/>
            <a:pathLst>
              <a:path w="111339" h="1928813">
                <a:moveTo>
                  <a:pt x="59903" y="0"/>
                </a:moveTo>
                <a:lnTo>
                  <a:pt x="59903" y="13018"/>
                </a:lnTo>
                <a:lnTo>
                  <a:pt x="60855" y="15346"/>
                </a:lnTo>
                <a:lnTo>
                  <a:pt x="62443" y="17851"/>
                </a:lnTo>
                <a:lnTo>
                  <a:pt x="64454" y="20473"/>
                </a:lnTo>
                <a:lnTo>
                  <a:pt x="66747" y="23173"/>
                </a:lnTo>
                <a:lnTo>
                  <a:pt x="69228" y="25926"/>
                </a:lnTo>
                <a:lnTo>
                  <a:pt x="71835" y="28714"/>
                </a:lnTo>
                <a:lnTo>
                  <a:pt x="73572" y="31525"/>
                </a:lnTo>
                <a:lnTo>
                  <a:pt x="75503" y="37188"/>
                </a:lnTo>
                <a:lnTo>
                  <a:pt x="76845" y="51440"/>
                </a:lnTo>
                <a:lnTo>
                  <a:pt x="77044" y="80010"/>
                </a:lnTo>
                <a:lnTo>
                  <a:pt x="77998" y="81915"/>
                </a:lnTo>
                <a:lnTo>
                  <a:pt x="79586" y="83185"/>
                </a:lnTo>
                <a:lnTo>
                  <a:pt x="81598" y="84031"/>
                </a:lnTo>
                <a:lnTo>
                  <a:pt x="82939" y="85548"/>
                </a:lnTo>
                <a:lnTo>
                  <a:pt x="83833" y="87512"/>
                </a:lnTo>
                <a:lnTo>
                  <a:pt x="84429" y="89774"/>
                </a:lnTo>
                <a:lnTo>
                  <a:pt x="87631" y="94827"/>
                </a:lnTo>
                <a:lnTo>
                  <a:pt x="89818" y="97508"/>
                </a:lnTo>
                <a:lnTo>
                  <a:pt x="91276" y="100247"/>
                </a:lnTo>
                <a:lnTo>
                  <a:pt x="92897" y="105832"/>
                </a:lnTo>
                <a:lnTo>
                  <a:pt x="94079" y="118330"/>
                </a:lnTo>
                <a:lnTo>
                  <a:pt x="96682" y="121806"/>
                </a:lnTo>
                <a:lnTo>
                  <a:pt x="98710" y="124066"/>
                </a:lnTo>
                <a:lnTo>
                  <a:pt x="100062" y="126526"/>
                </a:lnTo>
                <a:lnTo>
                  <a:pt x="101564" y="131798"/>
                </a:lnTo>
                <a:lnTo>
                  <a:pt x="102765" y="182631"/>
                </a:lnTo>
                <a:lnTo>
                  <a:pt x="103717" y="184619"/>
                </a:lnTo>
                <a:lnTo>
                  <a:pt x="105305" y="185944"/>
                </a:lnTo>
                <a:lnTo>
                  <a:pt x="107316" y="186828"/>
                </a:lnTo>
                <a:lnTo>
                  <a:pt x="108657" y="188369"/>
                </a:lnTo>
                <a:lnTo>
                  <a:pt x="109550" y="190349"/>
                </a:lnTo>
                <a:lnTo>
                  <a:pt x="110543" y="195089"/>
                </a:lnTo>
                <a:lnTo>
                  <a:pt x="111338" y="251813"/>
                </a:lnTo>
                <a:lnTo>
                  <a:pt x="110386" y="254552"/>
                </a:lnTo>
                <a:lnTo>
                  <a:pt x="108798" y="257332"/>
                </a:lnTo>
                <a:lnTo>
                  <a:pt x="106787" y="260137"/>
                </a:lnTo>
                <a:lnTo>
                  <a:pt x="104553" y="265794"/>
                </a:lnTo>
                <a:lnTo>
                  <a:pt x="103118" y="277186"/>
                </a:lnTo>
                <a:lnTo>
                  <a:pt x="102775" y="302895"/>
                </a:lnTo>
                <a:lnTo>
                  <a:pt x="100867" y="305752"/>
                </a:lnTo>
                <a:lnTo>
                  <a:pt x="97690" y="308610"/>
                </a:lnTo>
                <a:lnTo>
                  <a:pt x="93667" y="311467"/>
                </a:lnTo>
                <a:lnTo>
                  <a:pt x="90985" y="314325"/>
                </a:lnTo>
                <a:lnTo>
                  <a:pt x="89196" y="317182"/>
                </a:lnTo>
                <a:lnTo>
                  <a:pt x="86327" y="324061"/>
                </a:lnTo>
                <a:lnTo>
                  <a:pt x="85639" y="354081"/>
                </a:lnTo>
                <a:lnTo>
                  <a:pt x="84680" y="356069"/>
                </a:lnTo>
                <a:lnTo>
                  <a:pt x="83089" y="357394"/>
                </a:lnTo>
                <a:lnTo>
                  <a:pt x="81075" y="358278"/>
                </a:lnTo>
                <a:lnTo>
                  <a:pt x="79733" y="359819"/>
                </a:lnTo>
                <a:lnTo>
                  <a:pt x="78838" y="361799"/>
                </a:lnTo>
                <a:lnTo>
                  <a:pt x="77843" y="366539"/>
                </a:lnTo>
                <a:lnTo>
                  <a:pt x="77079" y="388650"/>
                </a:lnTo>
                <a:lnTo>
                  <a:pt x="76116" y="391497"/>
                </a:lnTo>
                <a:lnTo>
                  <a:pt x="74522" y="394348"/>
                </a:lnTo>
                <a:lnTo>
                  <a:pt x="72506" y="397201"/>
                </a:lnTo>
                <a:lnTo>
                  <a:pt x="70210" y="400056"/>
                </a:lnTo>
                <a:lnTo>
                  <a:pt x="67727" y="402911"/>
                </a:lnTo>
                <a:lnTo>
                  <a:pt x="61449" y="409787"/>
                </a:lnTo>
                <a:lnTo>
                  <a:pt x="60933" y="411304"/>
                </a:lnTo>
                <a:lnTo>
                  <a:pt x="60106" y="420582"/>
                </a:lnTo>
                <a:lnTo>
                  <a:pt x="59943" y="427036"/>
                </a:lnTo>
                <a:lnTo>
                  <a:pt x="57381" y="430458"/>
                </a:lnTo>
                <a:lnTo>
                  <a:pt x="55364" y="432705"/>
                </a:lnTo>
                <a:lnTo>
                  <a:pt x="54020" y="435155"/>
                </a:lnTo>
                <a:lnTo>
                  <a:pt x="52525" y="440417"/>
                </a:lnTo>
                <a:lnTo>
                  <a:pt x="51685" y="448734"/>
                </a:lnTo>
                <a:lnTo>
                  <a:pt x="50614" y="451556"/>
                </a:lnTo>
                <a:lnTo>
                  <a:pt x="48948" y="454390"/>
                </a:lnTo>
                <a:lnTo>
                  <a:pt x="43981" y="461231"/>
                </a:lnTo>
                <a:lnTo>
                  <a:pt x="40761" y="464706"/>
                </a:lnTo>
                <a:lnTo>
                  <a:pt x="38569" y="466966"/>
                </a:lnTo>
                <a:lnTo>
                  <a:pt x="37108" y="469426"/>
                </a:lnTo>
                <a:lnTo>
                  <a:pt x="35484" y="474699"/>
                </a:lnTo>
                <a:lnTo>
                  <a:pt x="34236" y="490433"/>
                </a:lnTo>
                <a:lnTo>
                  <a:pt x="34219" y="492690"/>
                </a:lnTo>
                <a:lnTo>
                  <a:pt x="33255" y="495148"/>
                </a:lnTo>
                <a:lnTo>
                  <a:pt x="31661" y="497738"/>
                </a:lnTo>
                <a:lnTo>
                  <a:pt x="26808" y="504189"/>
                </a:lnTo>
                <a:lnTo>
                  <a:pt x="26144" y="507611"/>
                </a:lnTo>
                <a:lnTo>
                  <a:pt x="25967" y="509857"/>
                </a:lnTo>
                <a:lnTo>
                  <a:pt x="24896" y="512307"/>
                </a:lnTo>
                <a:lnTo>
                  <a:pt x="23230" y="514893"/>
                </a:lnTo>
                <a:lnTo>
                  <a:pt x="21167" y="517569"/>
                </a:lnTo>
                <a:lnTo>
                  <a:pt x="18875" y="523083"/>
                </a:lnTo>
                <a:lnTo>
                  <a:pt x="17584" y="531542"/>
                </a:lnTo>
                <a:lnTo>
                  <a:pt x="17403" y="534384"/>
                </a:lnTo>
                <a:lnTo>
                  <a:pt x="16329" y="536278"/>
                </a:lnTo>
                <a:lnTo>
                  <a:pt x="14661" y="537541"/>
                </a:lnTo>
                <a:lnTo>
                  <a:pt x="12597" y="538383"/>
                </a:lnTo>
                <a:lnTo>
                  <a:pt x="11221" y="539897"/>
                </a:lnTo>
                <a:lnTo>
                  <a:pt x="10303" y="541859"/>
                </a:lnTo>
                <a:lnTo>
                  <a:pt x="9284" y="546578"/>
                </a:lnTo>
                <a:lnTo>
                  <a:pt x="8830" y="551851"/>
                </a:lnTo>
                <a:lnTo>
                  <a:pt x="7757" y="553638"/>
                </a:lnTo>
                <a:lnTo>
                  <a:pt x="6089" y="554829"/>
                </a:lnTo>
                <a:lnTo>
                  <a:pt x="4024" y="555624"/>
                </a:lnTo>
                <a:lnTo>
                  <a:pt x="3601" y="557106"/>
                </a:lnTo>
                <a:lnTo>
                  <a:pt x="4271" y="559046"/>
                </a:lnTo>
                <a:lnTo>
                  <a:pt x="5670" y="561292"/>
                </a:lnTo>
                <a:lnTo>
                  <a:pt x="7224" y="566328"/>
                </a:lnTo>
                <a:lnTo>
                  <a:pt x="8419" y="580888"/>
                </a:lnTo>
                <a:lnTo>
                  <a:pt x="8466" y="595583"/>
                </a:lnTo>
                <a:lnTo>
                  <a:pt x="7514" y="598033"/>
                </a:lnTo>
                <a:lnTo>
                  <a:pt x="5927" y="600618"/>
                </a:lnTo>
                <a:lnTo>
                  <a:pt x="1087" y="607061"/>
                </a:lnTo>
                <a:lnTo>
                  <a:pt x="425" y="610482"/>
                </a:lnTo>
                <a:lnTo>
                  <a:pt x="0" y="620439"/>
                </a:lnTo>
                <a:lnTo>
                  <a:pt x="918" y="623176"/>
                </a:lnTo>
                <a:lnTo>
                  <a:pt x="2482" y="625953"/>
                </a:lnTo>
                <a:lnTo>
                  <a:pt x="4477" y="628757"/>
                </a:lnTo>
                <a:lnTo>
                  <a:pt x="6695" y="634412"/>
                </a:lnTo>
                <a:lnTo>
                  <a:pt x="8118" y="645804"/>
                </a:lnTo>
                <a:lnTo>
                  <a:pt x="8468" y="697239"/>
                </a:lnTo>
                <a:lnTo>
                  <a:pt x="9421" y="700093"/>
                </a:lnTo>
                <a:lnTo>
                  <a:pt x="11008" y="702949"/>
                </a:lnTo>
                <a:lnTo>
                  <a:pt x="13019" y="705805"/>
                </a:lnTo>
                <a:lnTo>
                  <a:pt x="15253" y="711518"/>
                </a:lnTo>
                <a:lnTo>
                  <a:pt x="16688" y="722947"/>
                </a:lnTo>
                <a:lnTo>
                  <a:pt x="17010" y="740092"/>
                </a:lnTo>
                <a:lnTo>
                  <a:pt x="17972" y="742949"/>
                </a:lnTo>
                <a:lnTo>
                  <a:pt x="19567" y="745807"/>
                </a:lnTo>
                <a:lnTo>
                  <a:pt x="21582" y="748665"/>
                </a:lnTo>
                <a:lnTo>
                  <a:pt x="23821" y="754380"/>
                </a:lnTo>
                <a:lnTo>
                  <a:pt x="25259" y="765810"/>
                </a:lnTo>
                <a:lnTo>
                  <a:pt x="25582" y="782955"/>
                </a:lnTo>
                <a:lnTo>
                  <a:pt x="26545" y="785812"/>
                </a:lnTo>
                <a:lnTo>
                  <a:pt x="28139" y="788670"/>
                </a:lnTo>
                <a:lnTo>
                  <a:pt x="30155" y="791527"/>
                </a:lnTo>
                <a:lnTo>
                  <a:pt x="32394" y="797242"/>
                </a:lnTo>
                <a:lnTo>
                  <a:pt x="33831" y="808672"/>
                </a:lnTo>
                <a:lnTo>
                  <a:pt x="34176" y="834390"/>
                </a:lnTo>
                <a:lnTo>
                  <a:pt x="35132" y="837247"/>
                </a:lnTo>
                <a:lnTo>
                  <a:pt x="36722" y="840105"/>
                </a:lnTo>
                <a:lnTo>
                  <a:pt x="38733" y="842962"/>
                </a:lnTo>
                <a:lnTo>
                  <a:pt x="40969" y="848677"/>
                </a:lnTo>
                <a:lnTo>
                  <a:pt x="42405" y="860107"/>
                </a:lnTo>
                <a:lnTo>
                  <a:pt x="42758" y="920084"/>
                </a:lnTo>
                <a:lnTo>
                  <a:pt x="42758" y="928678"/>
                </a:lnTo>
                <a:lnTo>
                  <a:pt x="43711" y="931538"/>
                </a:lnTo>
                <a:lnTo>
                  <a:pt x="45298" y="934398"/>
                </a:lnTo>
                <a:lnTo>
                  <a:pt x="50139" y="941280"/>
                </a:lnTo>
                <a:lnTo>
                  <a:pt x="50801" y="944762"/>
                </a:lnTo>
                <a:lnTo>
                  <a:pt x="51330" y="988697"/>
                </a:lnTo>
                <a:lnTo>
                  <a:pt x="52282" y="991554"/>
                </a:lnTo>
                <a:lnTo>
                  <a:pt x="53870" y="994411"/>
                </a:lnTo>
                <a:lnTo>
                  <a:pt x="58711" y="1001289"/>
                </a:lnTo>
                <a:lnTo>
                  <a:pt x="59373" y="1004770"/>
                </a:lnTo>
                <a:lnTo>
                  <a:pt x="59900" y="1040139"/>
                </a:lnTo>
                <a:lnTo>
                  <a:pt x="58949" y="1042041"/>
                </a:lnTo>
                <a:lnTo>
                  <a:pt x="57362" y="1043309"/>
                </a:lnTo>
                <a:lnTo>
                  <a:pt x="55351" y="1044154"/>
                </a:lnTo>
                <a:lnTo>
                  <a:pt x="54011" y="1045670"/>
                </a:lnTo>
                <a:lnTo>
                  <a:pt x="53117" y="1047633"/>
                </a:lnTo>
                <a:lnTo>
                  <a:pt x="52125" y="1052355"/>
                </a:lnTo>
                <a:lnTo>
                  <a:pt x="51435" y="1065952"/>
                </a:lnTo>
                <a:lnTo>
                  <a:pt x="52353" y="1068774"/>
                </a:lnTo>
                <a:lnTo>
                  <a:pt x="53917" y="1071609"/>
                </a:lnTo>
                <a:lnTo>
                  <a:pt x="58720" y="1078450"/>
                </a:lnTo>
                <a:lnTo>
                  <a:pt x="59377" y="1081926"/>
                </a:lnTo>
                <a:lnTo>
                  <a:pt x="59900" y="1109910"/>
                </a:lnTo>
                <a:lnTo>
                  <a:pt x="58949" y="1112368"/>
                </a:lnTo>
                <a:lnTo>
                  <a:pt x="57362" y="1114958"/>
                </a:lnTo>
                <a:lnTo>
                  <a:pt x="55351" y="1117638"/>
                </a:lnTo>
                <a:lnTo>
                  <a:pt x="54963" y="1119424"/>
                </a:lnTo>
                <a:lnTo>
                  <a:pt x="55657" y="1120615"/>
                </a:lnTo>
                <a:lnTo>
                  <a:pt x="57073" y="1121409"/>
                </a:lnTo>
                <a:lnTo>
                  <a:pt x="58016" y="1122891"/>
                </a:lnTo>
                <a:lnTo>
                  <a:pt x="59064" y="1127077"/>
                </a:lnTo>
                <a:lnTo>
                  <a:pt x="59654" y="1134789"/>
                </a:lnTo>
                <a:lnTo>
                  <a:pt x="60690" y="1136574"/>
                </a:lnTo>
                <a:lnTo>
                  <a:pt x="62333" y="1137763"/>
                </a:lnTo>
                <a:lnTo>
                  <a:pt x="64380" y="1138556"/>
                </a:lnTo>
                <a:lnTo>
                  <a:pt x="65745" y="1140037"/>
                </a:lnTo>
                <a:lnTo>
                  <a:pt x="66655" y="1141977"/>
                </a:lnTo>
                <a:lnTo>
                  <a:pt x="68116" y="1147384"/>
                </a:lnTo>
                <a:lnTo>
                  <a:pt x="68369" y="1152871"/>
                </a:lnTo>
                <a:lnTo>
                  <a:pt x="69357" y="1155296"/>
                </a:lnTo>
                <a:lnTo>
                  <a:pt x="70968" y="1157864"/>
                </a:lnTo>
                <a:lnTo>
                  <a:pt x="72995" y="1160530"/>
                </a:lnTo>
                <a:lnTo>
                  <a:pt x="75247" y="1166031"/>
                </a:lnTo>
                <a:lnTo>
                  <a:pt x="76692" y="1172772"/>
                </a:lnTo>
                <a:lnTo>
                  <a:pt x="75858" y="1174278"/>
                </a:lnTo>
                <a:lnTo>
                  <a:pt x="72392" y="1178491"/>
                </a:lnTo>
                <a:lnTo>
                  <a:pt x="71086" y="1180948"/>
                </a:lnTo>
                <a:lnTo>
                  <a:pt x="69636" y="1186218"/>
                </a:lnTo>
                <a:lnTo>
                  <a:pt x="68577" y="1203038"/>
                </a:lnTo>
                <a:lnTo>
                  <a:pt x="69496" y="1205885"/>
                </a:lnTo>
                <a:lnTo>
                  <a:pt x="71061" y="1208736"/>
                </a:lnTo>
                <a:lnTo>
                  <a:pt x="73057" y="1211589"/>
                </a:lnTo>
                <a:lnTo>
                  <a:pt x="75274" y="1217299"/>
                </a:lnTo>
                <a:lnTo>
                  <a:pt x="76814" y="1225691"/>
                </a:lnTo>
                <a:lnTo>
                  <a:pt x="77045" y="1254473"/>
                </a:lnTo>
                <a:lnTo>
                  <a:pt x="76094" y="1257320"/>
                </a:lnTo>
                <a:lnTo>
                  <a:pt x="74507" y="1260171"/>
                </a:lnTo>
                <a:lnTo>
                  <a:pt x="72496" y="1263024"/>
                </a:lnTo>
                <a:lnTo>
                  <a:pt x="70263" y="1268734"/>
                </a:lnTo>
                <a:lnTo>
                  <a:pt x="68828" y="1275610"/>
                </a:lnTo>
                <a:lnTo>
                  <a:pt x="69663" y="1277126"/>
                </a:lnTo>
                <a:lnTo>
                  <a:pt x="73131" y="1281352"/>
                </a:lnTo>
                <a:lnTo>
                  <a:pt x="74437" y="1283812"/>
                </a:lnTo>
                <a:lnTo>
                  <a:pt x="75887" y="1289085"/>
                </a:lnTo>
                <a:lnTo>
                  <a:pt x="77047" y="1335616"/>
                </a:lnTo>
                <a:lnTo>
                  <a:pt x="74508" y="1339097"/>
                </a:lnTo>
                <a:lnTo>
                  <a:pt x="72497" y="1341359"/>
                </a:lnTo>
                <a:lnTo>
                  <a:pt x="71156" y="1343819"/>
                </a:lnTo>
                <a:lnTo>
                  <a:pt x="69667" y="1349093"/>
                </a:lnTo>
                <a:lnTo>
                  <a:pt x="68476" y="1409100"/>
                </a:lnTo>
                <a:lnTo>
                  <a:pt x="68475" y="1511273"/>
                </a:lnTo>
                <a:lnTo>
                  <a:pt x="65936" y="1519719"/>
                </a:lnTo>
                <a:lnTo>
                  <a:pt x="62584" y="1528871"/>
                </a:lnTo>
                <a:lnTo>
                  <a:pt x="60697" y="1539378"/>
                </a:lnTo>
                <a:lnTo>
                  <a:pt x="59904" y="1599405"/>
                </a:lnTo>
                <a:lnTo>
                  <a:pt x="59903" y="1664730"/>
                </a:lnTo>
                <a:lnTo>
                  <a:pt x="62443" y="1673647"/>
                </a:lnTo>
                <a:lnTo>
                  <a:pt x="65794" y="1683008"/>
                </a:lnTo>
                <a:lnTo>
                  <a:pt x="67946" y="1696778"/>
                </a:lnTo>
                <a:lnTo>
                  <a:pt x="68473" y="1755738"/>
                </a:lnTo>
                <a:lnTo>
                  <a:pt x="68475" y="1772015"/>
                </a:lnTo>
                <a:lnTo>
                  <a:pt x="69428" y="1776656"/>
                </a:lnTo>
                <a:lnTo>
                  <a:pt x="71015" y="1780702"/>
                </a:lnTo>
                <a:lnTo>
                  <a:pt x="73026" y="1784352"/>
                </a:lnTo>
                <a:lnTo>
                  <a:pt x="75260" y="1793488"/>
                </a:lnTo>
                <a:lnTo>
                  <a:pt x="77980" y="1848647"/>
                </a:lnTo>
                <a:lnTo>
                  <a:pt x="79574" y="1853461"/>
                </a:lnTo>
                <a:lnTo>
                  <a:pt x="82933" y="1862938"/>
                </a:lnTo>
                <a:lnTo>
                  <a:pt x="84824" y="1874580"/>
                </a:lnTo>
                <a:lnTo>
                  <a:pt x="85266" y="1884389"/>
                </a:lnTo>
                <a:lnTo>
                  <a:pt x="84432" y="1888719"/>
                </a:lnTo>
                <a:lnTo>
                  <a:pt x="79659" y="1899364"/>
                </a:lnTo>
                <a:lnTo>
                  <a:pt x="77822" y="1908551"/>
                </a:lnTo>
                <a:lnTo>
                  <a:pt x="77392" y="1914410"/>
                </a:lnTo>
                <a:lnTo>
                  <a:pt x="78230" y="1916353"/>
                </a:lnTo>
                <a:lnTo>
                  <a:pt x="79741" y="1917649"/>
                </a:lnTo>
                <a:lnTo>
                  <a:pt x="81701" y="1918512"/>
                </a:lnTo>
                <a:lnTo>
                  <a:pt x="83007" y="1920040"/>
                </a:lnTo>
                <a:lnTo>
                  <a:pt x="83878" y="1922012"/>
                </a:lnTo>
                <a:lnTo>
                  <a:pt x="85620" y="1928812"/>
                </a:lnTo>
                <a:lnTo>
                  <a:pt x="85620" y="1920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ge 184-189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7-5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7) f(x) = 2(x-2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8) f(x) = -1/2(x+1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+1/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9) f(x) = -3(x+1.5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+8.75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0) f(x) = -10(x-0.25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+6.625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1) f(x) = (x-2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2) f(x) = -2(x+1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3) f(x) = 1/2(x-2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4) f(x)=1/2(x+2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5) f(x) = -2(x+1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6) f(x) = 2(x-1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7) f(x) = -3(x-2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+6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8) f(x) = -3(x-1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ge 184-189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6, 6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457200" y="2160720"/>
            <a:ext cx="4038480" cy="340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2"/>
          <a:stretch/>
        </p:blipFill>
        <p:spPr>
          <a:xfrm>
            <a:off x="4648320" y="2160720"/>
            <a:ext cx="4038480" cy="340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ge 184-189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8, 69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457200" y="2160720"/>
            <a:ext cx="4038480" cy="34048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"/>
          <p:cNvPicPr/>
          <p:nvPr/>
        </p:nvPicPr>
        <p:blipFill>
          <a:blip r:embed="rId2"/>
          <a:stretch/>
        </p:blipFill>
        <p:spPr>
          <a:xfrm>
            <a:off x="4648320" y="2160720"/>
            <a:ext cx="4038480" cy="340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ge 184-189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1889280" y="1600200"/>
            <a:ext cx="536544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8:06:15Z</dcterms:created>
  <dc:creator>nuhs</dc:creator>
  <dc:description/>
  <dc:language>en-US</dc:language>
  <cp:lastModifiedBy>Ameena</cp:lastModifiedBy>
  <dcterms:modified xsi:type="dcterms:W3CDTF">2009-10-21T19:09:18Z</dcterms:modified>
  <cp:revision>36</cp:revision>
  <dc:subject/>
  <dc:title>3.2: Quadratic Equations and Problem Solving</dc:title>
</cp:coreProperties>
</file>